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923-64BE-406D-AD8D-809FDB68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829-BB35-4959-A68F-32621752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7A5-34D7-4BA8-BC91-50FF1F66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529-8402-4C15-906A-C19CCCA1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94A-35E1-47C2-A3C6-BEB2AD7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C49-6E79-4D67-A9B6-F10BEF76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3A6-C9B6-4785-A04B-DA31D9B0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E9B-C55F-499A-9E3B-386F0295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87C-6FD3-4B6E-9115-B772FD3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385-589C-41BF-8FE0-91802116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0FA-6495-4AF6-AF43-43326FF3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337-4AB2-4FD6-A1B1-1A066A2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7577-F2E9-44E0-9411-AF2E39ECF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jybz.com/guohua/G5-02.htm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&#27777;&#22253;&#26149;&#183;&#38634;" TargetMode="External"/><Relationship Id="rId4" Type="http://schemas.openxmlformats.org/officeDocument/2006/relationships/hyperlink" Target="file:///&#27777;&#22253;&#26149;&#183;&#38634;" TargetMode="External"/><Relationship Id="rId5" Type="http://schemas.openxmlformats.org/officeDocument/2006/relationships/hyperlink" Target="file:///&#27777;&#22253;&#26149;&#183;&#38634;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file:///K12CENTER000002-0000000000078211.swf" TargetMode="External"/><Relationship Id="rId17" Type="http://schemas.openxmlformats.org/officeDocument/2006/relationships/image" Target="../media/image3.jpe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189080"/>
          <a:ext cx="9144000" cy="5032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Picture 15" descr="G5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986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 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方正超粗黑简体"/>
                <a:ea typeface="方正超粗黑简体"/>
                <a:hlinkClick r:id="rId3"/>
              </a:rPr>
              <a:t>沁园春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方正超粗黑简体"/>
                <a:ea typeface="方正超粗黑简体"/>
                <a:hlinkClick r:id="rId4"/>
              </a:rPr>
              <a:t>·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方正超粗黑简体"/>
                <a:ea typeface="方正超粗黑简体"/>
                <a:hlinkClick r:id="rId5"/>
              </a:rPr>
              <a:t>雪</a:t>
            </a:r>
            <a:r>
              <a:rPr b="0" lang="zh-CN" sz="48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：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：作者为什么要以长城、黄河、山、原这些景来写北国风光？为什么不用别的景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让你介绍家乡麻城你会怎么介绍？（选一两处有代表性的地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景物能代表北国风光，形象非常雄伟，可以象征我们伟大的祖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雪纷飞时的景象我们已经看见了，那么雪后初晴又是怎样的景色呢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词人把北国风光比成少女，用了比喻修辞，这景象是作者看到的吗？由哪句话表现出来？    由“须晴日”表现出是作者想象的，此处写景是虚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：作者在写了眼前的实景之后，为什么还要写想象中的虚景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当时我工农红军反“围剿”成功，但革命仍未完全胜利，然而作者的眼中已看到了祖国山河的美好，作为领导全中国走向胜利的伟大领袖，此时已经在对未来憧憬了，革命胜利后的祖国将会更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总结上阕，字里行间表达作者怎样的思想感情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热爱祖国河山   结构上总分  描写景物方法虚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析下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词人为引出对历史人物的评论用了一个过渡句，请同学们读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：过渡句有什么作用？（承上启下）哪句承上，哪句启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词中写到了哪几位历史人物？（板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毛主席对历代帝王的美中不足用了一个词表明态度，请问是哪个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这些人物不愧为民族英雄，但毕竟已经成为过去，决定民族命运主宰祖国山河的人是谁？词中是怎么说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下阕评论历史人物的目的是什么？是不是为了赞美这些人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英雄人物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秦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始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汉武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021"/>
          <p:cNvPicPr/>
          <p:nvPr/>
        </p:nvPicPr>
        <p:blipFill>
          <a:blip r:embed="rId1"/>
          <a:stretch/>
        </p:blipFill>
        <p:spPr>
          <a:xfrm>
            <a:off x="1523880" y="1523880"/>
            <a:ext cx="3019680" cy="466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11470426361920090_small"/>
          <p:cNvPicPr/>
          <p:nvPr/>
        </p:nvPicPr>
        <p:blipFill>
          <a:blip r:embed="rId2"/>
          <a:stretch/>
        </p:blipFill>
        <p:spPr>
          <a:xfrm>
            <a:off x="4572000" y="2057400"/>
            <a:ext cx="4038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英雄人物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太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宋太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0771"/>
          <p:cNvPicPr/>
          <p:nvPr/>
        </p:nvPicPr>
        <p:blipFill>
          <a:blip r:embed="rId1"/>
          <a:stretch/>
        </p:blipFill>
        <p:spPr>
          <a:xfrm>
            <a:off x="2209680" y="1600200"/>
            <a:ext cx="2249640" cy="463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30"/>
          <p:cNvPicPr/>
          <p:nvPr/>
        </p:nvPicPr>
        <p:blipFill>
          <a:blip r:embed="rId2"/>
          <a:stretch/>
        </p:blipFill>
        <p:spPr>
          <a:xfrm>
            <a:off x="5257800" y="2819520"/>
            <a:ext cx="2840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阕评论历史人物的目的是什么？是不是为了赞美这些人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毛泽东的伟岸身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古论今，为了与现代的英雄人物作对比，以此引出作者的政治抱负，并赞颂当今英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Img227055662"/>
          <p:cNvPicPr/>
          <p:nvPr/>
        </p:nvPicPr>
        <p:blipFill>
          <a:blip r:embed="rId1"/>
          <a:stretch/>
        </p:blipFill>
        <p:spPr>
          <a:xfrm>
            <a:off x="1523880" y="2209680"/>
            <a:ext cx="2443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总结全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首词由写北国风光很自然的引出对历史人物的评论，赞颂了当代英雄。把赞美、赞颂与描写、议论、抒情巧妙的结合在一起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7"/>
          <p:cNvSpPr/>
          <p:nvPr/>
        </p:nvSpPr>
        <p:spPr>
          <a:xfrm>
            <a:off x="4334040" y="449568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北国风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g00030"/>
          <p:cNvPicPr/>
          <p:nvPr/>
        </p:nvPicPr>
        <p:blipFill>
          <a:blip r:embed="rId17"/>
          <a:stretch/>
        </p:blipFill>
        <p:spPr>
          <a:xfrm>
            <a:off x="2133720" y="1981080"/>
            <a:ext cx="5048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沁园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冰封    雪飘    （总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阕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描写北国风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长城 惟  大河 顿（分写）描写、议论、抒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爱祖国河山      山 舞    原 驰（实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   红装素裹  （虚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秦皇  汉武  略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宗  宋祖  稍逊    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阕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评论历史人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成吉思汗   只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赞颂当今英雄     数  风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毛泽东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毛泽东（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华文新魏"/>
              </a:rPr>
              <a:t>1893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～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华文新魏"/>
              </a:rPr>
              <a:t>1976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）：伟大的马克思主义者，无产阶级革命家、战略家和理论家，中国共产党、中国人民解放军和中华人民共和国的主要缔造者和领导人。湖南湘潭人。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华文新魏"/>
              </a:rPr>
              <a:t>1893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年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华文新魏"/>
              </a:rPr>
              <a:t>12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月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华文新魏"/>
              </a:rPr>
              <a:t>26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日生于一个农民家庭。辛亥革命爆发后在起义的新军中当了半年兵。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华文新魏"/>
              </a:rPr>
              <a:t>1914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～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华文新魏"/>
              </a:rPr>
              <a:t>1918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年，在湖南第一师范学校求学。毕业前夕和蔡和森等组织革命团体新民学会。五四运动前后接触和接受马克思主义，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华文新魏"/>
              </a:rPr>
              <a:t>1920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华文新魏"/>
              </a:rPr>
              <a:t>年，在湖南创建共产主义组织。 </a:t>
            </a:r>
            <a:br>
              <a:rPr sz="2000"/>
            </a:br>
            <a:r>
              <a:rPr b="0" lang="zh-CN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m1"/>
          <p:cNvPicPr/>
          <p:nvPr/>
        </p:nvPicPr>
        <p:blipFill>
          <a:blip r:embed="rId1"/>
          <a:stretch/>
        </p:blipFill>
        <p:spPr>
          <a:xfrm>
            <a:off x="1066680" y="1752480"/>
            <a:ext cx="201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沁园春写作背景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3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年，中华苏维埃共和国临时政府在江西瑞金成立，被选为主席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3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年，被补选为中共中央政治局委员。从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3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年底起，同朱德领导红一方面军战胜了国民党军队的多次“围剿”。以王明为代表的“左”倾路线领导集团进入中央革命根据地以后，将毛泽东排斥于党和红军的领导之外，他们执行不同的战略和政策，导致第五次反“围剿”战争失败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月，参加红一方面军长征。长征途中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3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月中共中央政治局在贵州召开扩大会议（即遵义会议），确立了以毛泽东为代表的新的中央领导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月，中共中央和红一方面军到达陕北，结束长征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沁园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雪一词写作的时间就在此时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此时的毛泽东意气风发，对革命的胜利充满了必胜的信心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月，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论反对日本帝国主义的策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报告，阐明了抗日民族统一战线政策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3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月，红四方面军和红二方面军经过长征到达甘肃境内，先后同红一方面军会师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0.75584 L 0.15 -0.67815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教学目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认真品味作品，体会作者的伟大的胸襟和坚定的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理解诗词写景和议论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以读促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提问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一）问：作者是在什么时候，什么地点写的这首诗词？（请一名同学读预习提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教师总结：这首词写于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936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年，当时我工农红军粉碎了国民党反动派的连续“围剿”，毛泽东同志于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936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年在陕北看大雪时写下了这首热情歌颂祖国山河，歌颂当代革命英雄的壮丽诗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上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：哪几句总写了北国风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三句总写了北方的雪景：一望无垠的大地，大雪飘飞，如此景象应是十分壮观啊。注意：“千里”“万里”的含义并非实指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示雪景图片，就图片评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那个词能表现出作者的立足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望（登高远眺），还表现了作者顶天立地的形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作者望到了什么？请用原文回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长城怎样，大河怎样？（惟、顿）理解表达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惟：表达准确，除此之外，其他一切都不见了。  顿：突出天寒地冻，表达出结冰速度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这样的情况下，山怎样，原怎样？“山舞银蛇，原驰蜡象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问：这两句话是什么意思？用了什么修辞方法？（比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学生回答，教师总结：这两个比喻把原本不动的景物写活了，给人以动态之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问：作者为什么能写出这样的景物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明确：①视觉因素。站得高看得远，看到山势起伏有动感。②精神因素。作者精神振奋，意气风发，因而在他心目中大自然也生气勃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理解“欲与天公试比高”一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两句把静景化为动景，这里再用拟人把群山高原的顽强性格体现了出来，这更是表现了中华民族不屈不挠的斗争精神和英雄气概。这不由使我想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杨礼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赞美北方农民的一句话“我赞美白杨树，就因为它不但象征了北方的农民，尤其象征了今天我们民族解放斗争中所不可缺的朴质、坚强，力求上进的精神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7-03-02T07:20:2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