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gif" ContentType="image/gif"/>
  <Override PartName="/ppt/media/image9.gif" ContentType="image/gif"/>
  <Override PartName="/ppt/media/image7.gif" ContentType="image/gif"/>
  <Override PartName="/ppt/media/image5.jpeg" ContentType="image/jpeg"/>
  <Override PartName="/ppt/media/image11.png" ContentType="image/png"/>
  <Override PartName="/ppt/media/%E8%92%8B%E5%A4%A7%E4%B8%BA%E3%80%8A%E5%8C%97%E5%9B%BD%E4%B9%8B%E6%98%A5%E3%80%8B.wav" ContentType="audio/x-wav"/>
  <Override PartName="/ppt/media/image19.png" ContentType="image/png"/>
  <Override PartName="/ppt/media/image1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4.jpeg" ContentType="image/jpeg"/>
  <Override PartName="/ppt/media/image8.gif" ContentType="image/gi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B9A-DEDD-4E4C-8B21-44E96BFE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EE45-FF83-49CD-86AC-0A947C76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624-C1A7-4036-BD7C-9955E447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19C-E84F-4F66-9F10-50ED6B11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62B-F5BC-4165-A584-17621A08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3BDC-9179-4297-8340-06626E62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9B8-B96F-4937-9B06-373069FD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0E7-A05F-4BD9-AE26-E752BD79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54E1-AC49-46D8-A5B1-E7A5FB36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EE7-1827-4C39-94F0-0C243E9C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4268-2060-49EF-8B36-CC43F15E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4EC6-BCCE-4791-A98C-1C4AD8B2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1790-33E9-4FAA-8C4D-78D6E1498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57,5,&#24187;&#28783;&#29255; 5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&#33931;&#22823;&#20026;&#12298;&#21271;&#22269;&#20043;&#26149;&#12299;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file:///tmp/home/.config/libreoffice/4/user/gallery/&#33931;&#22823;&#20026;&#12298;&#21271;&#22269;&#20043;&#26149;&#12299;.wav" TargetMode="External"/><Relationship Id="rId3" Type="http://schemas.microsoft.com/office/2007/relationships/media" Target="file:///tmp/home/.config/libreoffice/4/user/gallery/&#33931;&#22823;&#20026;&#12298;&#21271;&#22269;&#20043;&#26149;&#12299;.wav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56000" y="-1104840"/>
            <a:ext cx="44272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迷你简黄草"/>
                <a:ea typeface="迷你简黄草"/>
              </a:rPr>
              <a:t>沁园春 </a:t>
            </a:r>
            <a:r>
              <a:rPr b="0" lang="en-US" sz="5400" spc="-1" strike="noStrike">
                <a:solidFill>
                  <a:srgbClr val="ffff00"/>
                </a:solidFill>
                <a:latin typeface="迷你简黄草"/>
                <a:ea typeface="迷你简黄草"/>
              </a:rPr>
              <a:t>· </a:t>
            </a:r>
            <a:r>
              <a:rPr b="0" lang="zh-CN" sz="5400" spc="-1" strike="noStrike">
                <a:solidFill>
                  <a:srgbClr val="ffff00"/>
                </a:solidFill>
                <a:latin typeface="迷你简黄草"/>
                <a:ea typeface="迷你简黄草"/>
              </a:rPr>
              <a:t>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56000" y="549360"/>
            <a:ext cx="44402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22572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赏析上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9372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概括词上阕的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描写北国雪景，赞美祖国壮丽河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上阕描写北国雪景，哪几句是总写？哪几句是分写？分写的内容有一个什么字总领？它领起的内容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北国风光——万里雪飘”是总写，“望长城内外——分外妖娆”是分写。分写的内容由“望”字总领，领起的内容到“欲与天公试比高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要词句的品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从修辞、字词、含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义等方面考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09480" y="685800"/>
            <a:ext cx="266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5160" y="1219320"/>
            <a:ext cx="911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北国雪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2209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实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42670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虚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1447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总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详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3716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千里冰封、万里雪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2819520"/>
            <a:ext cx="5181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望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长城、黄河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山脉、高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43434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看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红装    素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54100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抒发了词作者对祖国壮丽山河的热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09600" y="96840"/>
            <a:ext cx="155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赏析下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、有感情地朗读下阕，概括主要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评价历代英雄，抒发诗人的抱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、诗人是怎样由上阕对祖国山河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赞美转入对历史人物的评点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江山如此——竞折腰”，承上启下的过渡句。“娇”是一种女性美，正与“红装素裹，分外妖娆”相照应。“引无数英雄竞折腰”引出下文。“竞”字写尽了英雄之间激烈的斗争，写尽英雄之间的相继崛起，“折腰”的形象，最能概括每一个英雄人物的奋斗动机和奋斗姿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332640" y="-150840"/>
            <a:ext cx="4862880" cy="2360520"/>
            <a:chOff x="332640" y="-150840"/>
            <a:chExt cx="4862880" cy="236052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756720" y="-150840"/>
              <a:ext cx="443880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332640" y="-53280"/>
              <a:ext cx="1277640" cy="721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宋太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181480" y="0"/>
            <a:ext cx="3962520" cy="2362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464160" y="2476440"/>
            <a:ext cx="2679840" cy="4381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2362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到底“引”出了哪些英雄人物？这些英雄人物有何共性？诗人用哪个词对他们作了总的评价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理解、品味这个字的丰富含义。作者这样写的目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56272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共性：功业显赫的封建帝王，对中国历史发展产生过重大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04920" y="228600"/>
            <a:ext cx="1295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惜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2590920"/>
            <a:ext cx="914400" cy="304560"/>
          </a:xfrm>
          <a:custGeom>
            <a:avLst/>
            <a:gdLst>
              <a:gd name="textAreaLeft" fmla="*/ 142920 w 914400"/>
              <a:gd name="textAreaRight" fmla="*/ 800280 w 9144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685800"/>
            <a:ext cx="304560" cy="41148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5335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、肯定这些英雄人物的功绩，他们在中国历史上的巨大影响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2057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、委婉的批评了他们的不足，批评他们短于“文治”，在政治、思想、文化方面建树不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3581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、“惜”字包含后来居上的伟大气概，体现了无产阶级的革命英雄必将胜过前人的坚强信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51055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295280"/>
            <a:ext cx="20574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皇汉武， 略输文采； 唐宗宋祖， 稍逊风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代天骄， 成吉思汗；只识弯弓射大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486400"/>
            <a:ext cx="97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目的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陪衬当代英雄，为下文歌颂无产阶级英雄作铺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-483840" y="2057400"/>
            <a:ext cx="11552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江山如此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200" y="1371600"/>
            <a:ext cx="1399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引无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英雄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竞折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190512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3048120"/>
            <a:ext cx="838080" cy="380880"/>
          </a:xfrm>
          <a:custGeom>
            <a:avLst/>
            <a:gdLst>
              <a:gd name="textAreaLeft" fmla="*/ 279360 w 838080"/>
              <a:gd name="textAreaRight" fmla="*/ 718560 w 838080"/>
              <a:gd name="textAreaTop" fmla="*/ 21780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429"/>
                </a:moveTo>
                <a:lnTo>
                  <a:pt x="12343" y="15429"/>
                </a:lnTo>
                <a:lnTo>
                  <a:pt x="12343" y="7200"/>
                </a:lnTo>
                <a:lnTo>
                  <a:pt x="9257" y="7200"/>
                </a:lnTo>
                <a:lnTo>
                  <a:pt x="15429" y="0"/>
                </a:lnTo>
                <a:lnTo>
                  <a:pt x="21600" y="7200"/>
                </a:lnTo>
                <a:lnTo>
                  <a:pt x="18514" y="7200"/>
                </a:lnTo>
                <a:lnTo>
                  <a:pt x="185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371600" y="4494960"/>
            <a:ext cx="838080" cy="381240"/>
          </a:xfrm>
          <a:custGeom>
            <a:avLst/>
            <a:gdLst>
              <a:gd name="textAreaLeft" fmla="*/ 279360 w 838080"/>
              <a:gd name="textAreaRight" fmla="*/ 718560 w 838080"/>
              <a:gd name="textAreaTop" fmla="*/ 217800 h 381240"/>
              <a:gd name="textAreaBottom" fmla="*/ 3268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29"/>
                </a:moveTo>
                <a:lnTo>
                  <a:pt x="12343" y="15429"/>
                </a:lnTo>
                <a:lnTo>
                  <a:pt x="12343" y="7200"/>
                </a:lnTo>
                <a:lnTo>
                  <a:pt x="9257" y="7200"/>
                </a:lnTo>
                <a:lnTo>
                  <a:pt x="15429" y="0"/>
                </a:lnTo>
                <a:lnTo>
                  <a:pt x="21600" y="7200"/>
                </a:lnTo>
                <a:lnTo>
                  <a:pt x="18514" y="7200"/>
                </a:lnTo>
                <a:lnTo>
                  <a:pt x="185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3828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秦皇、汉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2514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唐宗、宋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3429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吉思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1828800"/>
            <a:ext cx="75960" cy="1981080"/>
          </a:xfrm>
          <a:custGeom>
            <a:avLst/>
            <a:gdLst>
              <a:gd name="textAreaLeft" fmla="*/ 48600 w 75960"/>
              <a:gd name="textAreaRight" fmla="*/ 76320 w 759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1600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输文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2514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逊风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00600" y="3352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识弯弓射大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23623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短于“文治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29400" y="1905120"/>
            <a:ext cx="609480" cy="2514600"/>
          </a:xfrm>
          <a:custGeom>
            <a:avLst/>
            <a:gdLst>
              <a:gd name="textAreaLeft" fmla="*/ 0 w 609480"/>
              <a:gd name="textAreaRight" fmla="*/ 219960 w 6094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49528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5181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今朝风流人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40720" y="5105520"/>
            <a:ext cx="488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38880" y="46483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文韬武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6461280"/>
            <a:ext cx="129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ea typeface="华文行楷"/>
                <a:hlinkClick r:id="rId2"/>
              </a:rPr>
              <a:t>返回首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228600"/>
            <a:ext cx="4800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归纳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2536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总结全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、这首词的写景、议论和抒情是怎样结合在一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这首词是一首雄壮的抒情诗。它的抒情是与写景、议论有机结合、浑然一体的。上片写景，大气磅礴、气象雄浑，而又寓情于景，句句洋溢着热爱祖国山河的豪情，“须晴日，看红装素裹，分外妖娆”三句，更是赞美之情溢于言表。下片议论，即上片之景而生情，由祖国河山的壮丽，想到无数英雄为之倾倒，并对历代英雄加以评说而寓情于议，蕴含诗人对祖国的深情，以及充满自信的情怀。“俱往矣”由评论历史人物落到赞扬当代风流人物，使全词的思想境界达到高峰，点明主题，抒发了诗人的豪情壮志。 景中含情，议中寓情，具有极强的感染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、这首词语言上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言非常凝练、贴切、极富表现力，节奏鲜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咏雪诗句集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38840" y="139068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王安石《梅花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42200" y="134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遥知不是雪，为有暗香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04040" y="21614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孤舟蓑笠翁，独钓寒江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11920" y="225108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柳宗元《江雪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15040" y="31694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欲渡黄河冰塞川，将登太行雪满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11920" y="361944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李白《行路难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30520" y="413316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窗含西岭千秋雪，门泊东吴万里船。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19760" y="4729680"/>
            <a:ext cx="13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杜甫《绝句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80680" y="52747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忽如一夜春风来，千树万树梨花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73920" y="5924520"/>
            <a:ext cx="13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岑参《白雪歌送武判官归京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8929800" cy="4221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0686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3132000" y="2133720"/>
            <a:ext cx="2880000" cy="208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再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zoom dir="out"/>
    <p:sndAc>
      <p:stSnd>
        <p:snd r:embed="rId3" name="%E8%92%8B%E5%A4%A7%E4%B8%BA%E3%80%8A%E5%8C%97%E5%9B%BD%E4%B9%8B%E6%98%A5%E3%80%8B.wav"/>
      </p:stSnd>
    </p:sndAc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4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57600" y="0"/>
            <a:ext cx="5486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沁园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》写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。遵义会议确立了毛泽东同志在全党的领导地位。毛泽东同志率领长征部队胜利到达陕北之后，领导全党展开了反抗日本帝国主义的伟大斗争。在陕北清涧县，毛泽东同志曾于一场大雪之后攀登到海拔千米、白雪覆盖的塬上视察地形，欣赏“北国风光”，过后写下了这首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24200" cy="4800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04920" y="5105520"/>
            <a:ext cx="327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9898"/>
                <a:gd name="adj2" fmla="val 1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写作背景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228600"/>
            <a:ext cx="3200400" cy="91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作者简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8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371600"/>
            <a:ext cx="8763120" cy="4494240"/>
            <a:chOff x="0" y="1371600"/>
            <a:chExt cx="8763120" cy="4494240"/>
          </a:xfrm>
        </p:grpSpPr>
        <p:grpSp>
          <p:nvGrpSpPr>
            <p:cNvPr id="50" name=""/>
            <p:cNvGrpSpPr/>
            <p:nvPr/>
          </p:nvGrpSpPr>
          <p:grpSpPr>
            <a:xfrm>
              <a:off x="4320" y="1390680"/>
              <a:ext cx="8754120" cy="4454280"/>
              <a:chOff x="4320" y="1390680"/>
              <a:chExt cx="8754120" cy="4454280"/>
            </a:xfrm>
          </p:grpSpPr>
          <p:sp>
            <p:nvSpPr>
              <p:cNvPr id="51" name=""/>
              <p:cNvSpPr/>
              <p:nvPr/>
            </p:nvSpPr>
            <p:spPr>
              <a:xfrm>
                <a:off x="4320" y="1390680"/>
                <a:ext cx="8754120" cy="44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毛泽东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字润之，笔名子任。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893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年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2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月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6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日生于湖南湘潭韶山冲一个农民家庭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   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中国人民的领袖，马克思主义者，伟大的无产阶级革命家、战略家和理论家，中国共产党、中国人民解放军和中华人民共和国的主要缔造者和领导人，诗人，书法家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 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中国共产党中央军事委员会主席（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936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～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976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），中国共产党中央政治局主席（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943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～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945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）和中央委员会主席（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945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～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976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），中华人民共和国中央人民政府主席（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949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～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954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）和中华人民共和国主席（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954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～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959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）。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976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年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9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月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9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日在北京逝世。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320" y="1390680"/>
                <a:ext cx="8754120" cy="44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1371600"/>
              <a:ext cx="8763120" cy="4494240"/>
            </a:xfrm>
            <a:prstGeom prst="rect">
              <a:avLst/>
            </a:prstGeom>
            <a:noFill/>
            <a:ln w="9360">
              <a:solidFill>
                <a:srgbClr val="a28c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6019920"/>
            <a:ext cx="1523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57400" y="228600"/>
            <a:ext cx="4876920" cy="82512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隶书"/>
                <a:ea typeface="隶书"/>
              </a:rPr>
              <a:t>温故而知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21932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词，又称长短句。最初称为“曲词”，是配音乐的。后来逐渐跟音乐分离，成为诗的一种。一首词称为一阕；词若有上下两段，就称为上下阕。词可以没有题目，如果有，写在词牌的后面，比如今天学习的课文，“沁园春”是词牌名，雪，就是这首词的题目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3000" y="1981080"/>
            <a:ext cx="7086600" cy="5077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华文中宋"/>
              </a:rPr>
              <a:t>沁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  <a:ea typeface="华文中宋"/>
              </a:rPr>
              <a:t>园春       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华文中宋"/>
              </a:rPr>
              <a:t>莽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  <a:ea typeface="华文中宋"/>
              </a:rPr>
              <a:t>莽          素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华文中宋"/>
              </a:rPr>
              <a:t>裹</a:t>
            </a:r>
            <a:r>
              <a:rPr b="1" lang="en-US" sz="3600" spc="-1" strike="noStrike">
                <a:solidFill>
                  <a:srgbClr val="cc9900"/>
                </a:solidFill>
                <a:latin typeface="Times New Roman"/>
                <a:ea typeface="华文中宋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  <a:ea typeface="华文中宋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Times New Roman"/>
                <a:ea typeface="华文中宋"/>
              </a:rPr>
              <a:t>妖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华文中宋"/>
              </a:rPr>
              <a:t>娆</a:t>
            </a:r>
            <a:r>
              <a:rPr b="1" lang="en-US" sz="3600" spc="-1" strike="noStrike">
                <a:solidFill>
                  <a:srgbClr val="cc9900"/>
                </a:solidFill>
                <a:latin typeface="Times New Roman"/>
                <a:ea typeface="华文中宋"/>
              </a:rPr>
              <a:t>               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华文中宋"/>
              </a:rPr>
              <a:t>逊</a:t>
            </a:r>
            <a:r>
              <a:rPr b="1" lang="en-US" sz="3600" spc="-1" strike="noStrike">
                <a:solidFill>
                  <a:srgbClr val="cc9900"/>
                </a:solidFill>
                <a:latin typeface="Times New Roman"/>
                <a:ea typeface="华文中宋"/>
              </a:rPr>
              <a:t>      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华文中宋"/>
              </a:rPr>
              <a:t>分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  <a:ea typeface="华文中宋"/>
              </a:rPr>
              <a:t>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  <a:ea typeface="华文中宋"/>
              </a:rPr>
              <a:t>                                                                                 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Times New Roman"/>
                <a:ea typeface="华文中宋"/>
              </a:rPr>
              <a:t>成吉思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华文中宋"/>
              </a:rPr>
              <a:t>汗</a:t>
            </a:r>
            <a:r>
              <a:rPr b="1" lang="en-US" sz="3600" spc="-1" strike="noStrike">
                <a:solidFill>
                  <a:srgbClr val="cc9900"/>
                </a:solidFill>
                <a:latin typeface="Times New Roman"/>
                <a:ea typeface="华文中宋"/>
              </a:rPr>
              <a:t>     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华文中宋"/>
              </a:rPr>
              <a:t>数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  <a:ea typeface="华文中宋"/>
              </a:rPr>
              <a:t>风流人物    今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华文中宋"/>
              </a:rPr>
              <a:t>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447920"/>
            <a:ext cx="9144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qì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3200400"/>
            <a:ext cx="14475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r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876920"/>
            <a:ext cx="26668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h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57200"/>
            <a:ext cx="647712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读一读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447920"/>
            <a:ext cx="20574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mǎ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1447920"/>
            <a:ext cx="16002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gu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3200400"/>
            <a:ext cx="1447920" cy="147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xù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3124080"/>
            <a:ext cx="10666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fè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4876920"/>
            <a:ext cx="16765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sh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517356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86600" y="4876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zh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ā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380880" y="304920"/>
            <a:ext cx="8305920" cy="1828440"/>
            <a:chOff x="380880" y="304920"/>
            <a:chExt cx="8305920" cy="1828440"/>
          </a:xfrm>
        </p:grpSpPr>
        <p:grpSp>
          <p:nvGrpSpPr>
            <p:cNvPr id="71" name=""/>
            <p:cNvGrpSpPr/>
            <p:nvPr/>
          </p:nvGrpSpPr>
          <p:grpSpPr>
            <a:xfrm>
              <a:off x="457200" y="461160"/>
              <a:ext cx="8153280" cy="1546920"/>
              <a:chOff x="457200" y="461160"/>
              <a:chExt cx="8153280" cy="1546920"/>
            </a:xfrm>
          </p:grpSpPr>
          <p:pic>
            <p:nvPicPr>
              <p:cNvPr id="7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942240" y="496800"/>
                <a:ext cx="1668240" cy="146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461160"/>
                <a:ext cx="1752480" cy="147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66880" y="496800"/>
                <a:ext cx="1905120" cy="144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57200" y="496800"/>
                <a:ext cx="1790640" cy="1511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" name=""/>
            <p:cNvSpPr/>
            <p:nvPr/>
          </p:nvSpPr>
          <p:spPr>
            <a:xfrm>
              <a:off x="380880" y="304920"/>
              <a:ext cx="830592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0880" y="2133360"/>
              <a:ext cx="830592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 txBox="1"/>
          <p:nvPr/>
        </p:nvSpPr>
        <p:spPr>
          <a:xfrm>
            <a:off x="304920" y="3200400"/>
            <a:ext cx="84582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欣赏朗读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51280" y="476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50120" y="228600"/>
            <a:ext cx="1941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北国风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千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冰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万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雪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长城内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余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莽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河上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滔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银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蜡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欲与天公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试比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须晴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红装素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分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妖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71560" y="380880"/>
            <a:ext cx="2061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江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如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多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无数英雄竞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折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秦皇汉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输文采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唐宗宋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逊风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一代天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成吉思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识弯弓射大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数风流人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还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今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0" idx="0"/>
            <a:endCxn id="80" idx="0"/>
          </p:cNvCxnSpPr>
          <p:nvPr/>
        </p:nvCxnSpPr>
        <p:spPr>
          <a:xfrm>
            <a:off x="2020680" y="2282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80" idx="0"/>
            <a:endCxn id="80" idx="0"/>
          </p:cNvCxnSpPr>
          <p:nvPr/>
        </p:nvCxnSpPr>
        <p:spPr>
          <a:xfrm>
            <a:off x="2020680" y="2282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/>
          <p:nvPr/>
        </p:nvCxnSpPr>
        <p:spPr>
          <a:xfrm flipH="1">
            <a:off x="1258560" y="333000"/>
            <a:ext cx="720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/>
          <p:nvPr/>
        </p:nvCxnSpPr>
        <p:spPr>
          <a:xfrm flipH="1">
            <a:off x="971280" y="1628280"/>
            <a:ext cx="720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/>
          <p:nvPr/>
        </p:nvCxnSpPr>
        <p:spPr>
          <a:xfrm flipH="1">
            <a:off x="1258560" y="764640"/>
            <a:ext cx="720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/>
          <p:nvPr/>
        </p:nvCxnSpPr>
        <p:spPr>
          <a:xfrm flipH="1">
            <a:off x="1186560" y="1196640"/>
            <a:ext cx="723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/>
          <p:nvPr/>
        </p:nvCxnSpPr>
        <p:spPr>
          <a:xfrm flipH="1">
            <a:off x="1186560" y="2060280"/>
            <a:ext cx="723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/>
          <p:nvPr/>
        </p:nvCxnSpPr>
        <p:spPr>
          <a:xfrm flipH="1">
            <a:off x="1258560" y="2491920"/>
            <a:ext cx="720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/>
          <p:nvPr/>
        </p:nvCxnSpPr>
        <p:spPr>
          <a:xfrm flipH="1">
            <a:off x="1186560" y="2923920"/>
            <a:ext cx="723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/>
          <p:nvPr/>
        </p:nvCxnSpPr>
        <p:spPr>
          <a:xfrm flipH="1">
            <a:off x="826200" y="3357360"/>
            <a:ext cx="723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/>
          <p:nvPr/>
        </p:nvCxnSpPr>
        <p:spPr>
          <a:xfrm flipH="1">
            <a:off x="899280" y="3789000"/>
            <a:ext cx="723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"/>
          <p:cNvCxnSpPr/>
          <p:nvPr/>
        </p:nvCxnSpPr>
        <p:spPr>
          <a:xfrm flipH="1">
            <a:off x="4571640" y="1773000"/>
            <a:ext cx="720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"/>
          <p:cNvCxnSpPr/>
          <p:nvPr/>
        </p:nvCxnSpPr>
        <p:spPr>
          <a:xfrm flipH="1">
            <a:off x="4211280" y="4797000"/>
            <a:ext cx="720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/>
          <p:nvPr/>
        </p:nvCxnSpPr>
        <p:spPr>
          <a:xfrm flipH="1">
            <a:off x="4571640" y="2204640"/>
            <a:ext cx="720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/>
          <p:nvPr/>
        </p:nvCxnSpPr>
        <p:spPr>
          <a:xfrm flipH="1">
            <a:off x="1907280" y="4220640"/>
            <a:ext cx="723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/>
          <p:nvPr/>
        </p:nvCxnSpPr>
        <p:spPr>
          <a:xfrm flipH="1">
            <a:off x="899280" y="4652640"/>
            <a:ext cx="723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 flipH="1">
            <a:off x="826200" y="5084280"/>
            <a:ext cx="723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/>
          <p:nvPr/>
        </p:nvCxnSpPr>
        <p:spPr>
          <a:xfrm flipH="1">
            <a:off x="1186560" y="5516280"/>
            <a:ext cx="723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/>
          <p:nvPr/>
        </p:nvCxnSpPr>
        <p:spPr>
          <a:xfrm flipH="1">
            <a:off x="4571640" y="475920"/>
            <a:ext cx="720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/>
          <p:nvPr/>
        </p:nvCxnSpPr>
        <p:spPr>
          <a:xfrm flipH="1">
            <a:off x="4211280" y="907560"/>
            <a:ext cx="720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/>
          <p:nvPr/>
        </p:nvCxnSpPr>
        <p:spPr>
          <a:xfrm flipH="1">
            <a:off x="4211280" y="1341000"/>
            <a:ext cx="720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/>
          <p:nvPr/>
        </p:nvCxnSpPr>
        <p:spPr>
          <a:xfrm flipH="1">
            <a:off x="4571640" y="2636640"/>
            <a:ext cx="720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" name=""/>
          <p:cNvCxnSpPr/>
          <p:nvPr/>
        </p:nvCxnSpPr>
        <p:spPr>
          <a:xfrm flipH="1">
            <a:off x="4571640" y="3068280"/>
            <a:ext cx="720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" name=""/>
          <p:cNvCxnSpPr/>
          <p:nvPr/>
        </p:nvCxnSpPr>
        <p:spPr>
          <a:xfrm flipH="1">
            <a:off x="4571640" y="3499920"/>
            <a:ext cx="720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/>
          <p:nvPr/>
        </p:nvCxnSpPr>
        <p:spPr>
          <a:xfrm flipH="1">
            <a:off x="4571640" y="3860280"/>
            <a:ext cx="720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/>
          <p:nvPr/>
        </p:nvCxnSpPr>
        <p:spPr>
          <a:xfrm flipH="1">
            <a:off x="5218920" y="3860280"/>
            <a:ext cx="723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"/>
          <p:cNvCxnSpPr/>
          <p:nvPr/>
        </p:nvCxnSpPr>
        <p:spPr>
          <a:xfrm flipH="1">
            <a:off x="4211280" y="4365360"/>
            <a:ext cx="720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" name=""/>
          <p:cNvCxnSpPr/>
          <p:nvPr/>
        </p:nvCxnSpPr>
        <p:spPr>
          <a:xfrm flipH="1">
            <a:off x="4500360" y="5229000"/>
            <a:ext cx="720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4560480" y="60404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气势磅礴、雄浑激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118280" y="2368440"/>
            <a:ext cx="73188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19920" y="2975040"/>
            <a:ext cx="7318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04240" y="1676520"/>
            <a:ext cx="100332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沁园春●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5800" y="2590920"/>
            <a:ext cx="54612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九三六年二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9775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685800"/>
            <a:ext cx="266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2565360"/>
            <a:ext cx="14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实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4941720"/>
            <a:ext cx="183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1773360"/>
            <a:ext cx="13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总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70920" y="341460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0560" y="1773360"/>
            <a:ext cx="38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里冰封、万里雪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0" y="3414600"/>
            <a:ext cx="57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望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长城、黄河、山脉、高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40040" y="5013360"/>
            <a:ext cx="50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看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红装    素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87280" y="2852640"/>
            <a:ext cx="144720" cy="2521080"/>
          </a:xfrm>
          <a:custGeom>
            <a:avLst/>
            <a:gdLst>
              <a:gd name="textAreaLeft" fmla="*/ 92520 w 144720"/>
              <a:gd name="textAreaRight" fmla="*/ 145080 w 14472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1989000"/>
            <a:ext cx="73080" cy="1727280"/>
          </a:xfrm>
          <a:custGeom>
            <a:avLst/>
            <a:gdLst>
              <a:gd name="textAreaLeft" fmla="*/ 46800 w 73080"/>
              <a:gd name="textAreaRight" fmla="*/ 73440 w 7308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54936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（上阕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描北国雪景，赞壮丽山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55640" y="259236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84360" y="3456000"/>
            <a:ext cx="693720" cy="576360"/>
          </a:xfrm>
          <a:custGeom>
            <a:avLst/>
            <a:gdLst>
              <a:gd name="textAreaLeft" fmla="*/ 231120 w 693720"/>
              <a:gd name="textAreaRight" fmla="*/ 594720 w 693720"/>
              <a:gd name="textAreaTop" fmla="*/ 329400 h 576360"/>
              <a:gd name="textAreaBottom" fmla="*/ 494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5429"/>
                </a:moveTo>
                <a:lnTo>
                  <a:pt x="12343" y="15429"/>
                </a:lnTo>
                <a:lnTo>
                  <a:pt x="12343" y="7200"/>
                </a:lnTo>
                <a:lnTo>
                  <a:pt x="9257" y="7200"/>
                </a:lnTo>
                <a:lnTo>
                  <a:pt x="15429" y="0"/>
                </a:lnTo>
                <a:lnTo>
                  <a:pt x="21600" y="7200"/>
                </a:lnTo>
                <a:lnTo>
                  <a:pt x="18514" y="7200"/>
                </a:lnTo>
                <a:lnTo>
                  <a:pt x="185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584360" y="4463280"/>
            <a:ext cx="662040" cy="655560"/>
          </a:xfrm>
          <a:custGeom>
            <a:avLst/>
            <a:gdLst>
              <a:gd name="textAreaLeft" fmla="*/ 220680 w 662040"/>
              <a:gd name="textAreaRight" fmla="*/ 567720 w 662040"/>
              <a:gd name="textAreaTop" fmla="*/ 374400 h 655560"/>
              <a:gd name="textAreaBottom" fmla="*/ 561600 h 655560"/>
            </a:gdLst>
            <a:ahLst/>
            <a:rect l="textAreaLeft" t="textAreaTop" r="textAreaRight" b="textAreaBottom"/>
            <a:pathLst>
              <a:path w="21600" h="21600">
                <a:moveTo>
                  <a:pt x="0" y="15429"/>
                </a:moveTo>
                <a:lnTo>
                  <a:pt x="12343" y="15429"/>
                </a:lnTo>
                <a:lnTo>
                  <a:pt x="12343" y="7200"/>
                </a:lnTo>
                <a:lnTo>
                  <a:pt x="9257" y="7200"/>
                </a:lnTo>
                <a:lnTo>
                  <a:pt x="15429" y="0"/>
                </a:lnTo>
                <a:lnTo>
                  <a:pt x="21600" y="7200"/>
                </a:lnTo>
                <a:lnTo>
                  <a:pt x="18514" y="7200"/>
                </a:lnTo>
                <a:lnTo>
                  <a:pt x="185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50960" y="17272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秦皇、汉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50960" y="2647800"/>
            <a:ext cx="22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唐宗、宋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0960" y="3672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成吉思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75000" y="1943280"/>
            <a:ext cx="69840" cy="1957320"/>
          </a:xfrm>
          <a:custGeom>
            <a:avLst/>
            <a:gdLst>
              <a:gd name="textAreaLeft" fmla="*/ 44640 w 69840"/>
              <a:gd name="textAreaRight" fmla="*/ 69840 w 69840"/>
              <a:gd name="textAreaTop" fmla="*/ 50760 h 1957320"/>
              <a:gd name="textAreaBottom" fmla="*/ 1906560 h 195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1916280"/>
            <a:ext cx="142920" cy="2160360"/>
          </a:xfrm>
          <a:custGeom>
            <a:avLst/>
            <a:gdLst>
              <a:gd name="textAreaLeft" fmla="*/ 0 w 142920"/>
              <a:gd name="textAreaRight" fmla="*/ 51480 w 14292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36560" y="51958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9560" y="5327640"/>
            <a:ext cx="28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今朝风流人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77080" y="5348160"/>
            <a:ext cx="488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33040" y="404640"/>
            <a:ext cx="3725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（下阕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评历史英雄      抒政治抱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11800" y="1197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（过渡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江山如此多娇，引无数英雄竞折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lmF</cp:lastModifiedBy>
  <dcterms:modified xsi:type="dcterms:W3CDTF">2011-08-23T13:22:28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56</vt:lpwstr>
  </property>
  <property fmtid="{D5CDD505-2E9C-101B-9397-08002B2CF9AE}" pid="3" name="Version">
    <vt:r8>1</vt:r8>
  </property>
</Properties>
</file>