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042C-68EC-4D01-96BA-788BD2C4E349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29C3-8E7C-4949-9BD4-BD7BDEA2583A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4B5-4350-41E6-933E-AD218C57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AAE-D388-45A8-A074-765725C7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EAF-8A93-4E4D-8748-810D851D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AC35-E62F-4C2A-81CA-838E8C4A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8B1-2009-4C9D-8E2F-1126D458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DFFD-FDAF-40D6-9AD0-7D6E404E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A85-F789-4D4F-B60B-D791AD71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A06-7B81-418E-A1F6-BFBBD31B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11E-25AE-447E-8DED-E048B7E4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AC1-E1BC-48DE-B360-A8BB528E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E44-0950-4D06-B55D-65D46549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7A4-1A34-4E88-AC9B-ABEE4800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99C0-A42E-4C7D-81C2-8A748E957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hyperlink" Target="http://image.baidu.com/i?ct=503316480&amp;z=521718153&amp;tn=baiduimagedetail&amp;word=&#27721;&#27494;&#24093;&amp;in=1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6"/>
          <p:cNvPicPr/>
          <p:nvPr/>
        </p:nvPicPr>
        <p:blipFill>
          <a:blip r:embed="rId1"/>
          <a:srcRect l="0" t="10656" r="2502" b="245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523880" y="1295280"/>
            <a:ext cx="65534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698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沁园春  雪</a:t>
            </a:r>
            <a:endParaRPr b="1" lang="en-US" sz="6600" spc="1" strike="noStrike">
              <a:ln w="6984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5334120" y="3886200"/>
            <a:ext cx="20574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49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毛泽东</a:t>
            </a:r>
            <a:endParaRPr b="1" lang="en-US" sz="2400" spc="1" strike="noStrike">
              <a:ln w="349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083840" y="4587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一九三六年二月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沁园春雪之歌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7" presetSubtype="8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" nodeType="afterEffect" fill="hold" presetClass="entr" presetID="17" presetSubtype="8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5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8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046160" y="1778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词的上阕主要写了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993960" y="685800"/>
            <a:ext cx="23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词的上阕如何描写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14680" y="228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描写北国雪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412280" y="1125360"/>
            <a:ext cx="161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北国风光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千里冰封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万里雪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城内外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惟余莽莽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河上下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顿失滔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山舞银蛇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驰蜡象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欲与天公试比高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须晴日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看红装素裹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分外妖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3635280" y="12682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3564000" y="2421000"/>
            <a:ext cx="457200" cy="2361960"/>
          </a:xfrm>
          <a:custGeom>
            <a:avLst/>
            <a:gdLst>
              <a:gd name="textAreaLeft" fmla="*/ 0 w 457200"/>
              <a:gd name="textAreaRight" fmla="*/ 164880 w 45720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492360" y="4941720"/>
            <a:ext cx="457200" cy="1143000"/>
          </a:xfrm>
          <a:custGeom>
            <a:avLst/>
            <a:gdLst>
              <a:gd name="textAreaLeft" fmla="*/ 0 w 457200"/>
              <a:gd name="textAreaRight" fmla="*/ 16488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862440" y="1268280"/>
            <a:ext cx="10335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总 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994560" y="2492280"/>
            <a:ext cx="97272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具  体 描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933720" y="4653000"/>
            <a:ext cx="10335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展开想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5653440" y="134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雄伟壮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5653440" y="2421000"/>
            <a:ext cx="103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形象鲜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动静结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生机勃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5653440" y="501336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先实后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意境壮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583200" y="60958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上阕表现了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5343480" y="609588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赞美祖国大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河山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表达对祖国的热爱之情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7451640" y="2349360"/>
            <a:ext cx="457200" cy="2362320"/>
          </a:xfrm>
          <a:custGeom>
            <a:avLst/>
            <a:gdLst>
              <a:gd name="textAreaLeft" fmla="*/ 0 w 457200"/>
              <a:gd name="textAreaRight" fmla="*/ 16488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7524720" y="4869000"/>
            <a:ext cx="457200" cy="1143000"/>
          </a:xfrm>
          <a:custGeom>
            <a:avLst/>
            <a:gdLst>
              <a:gd name="textAreaLeft" fmla="*/ 0 w 457200"/>
              <a:gd name="textAreaRight" fmla="*/ 16488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7919280" y="306864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7947720" y="501336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08"/>
          <p:cNvPicPr/>
          <p:nvPr/>
        </p:nvPicPr>
        <p:blipFill>
          <a:blip r:embed="rId1"/>
          <a:srcRect l="3790" t="11575" r="5294" b="236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1066680" y="3124080"/>
            <a:ext cx="728676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507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引无数英雄竞折腰。</a:t>
            </a:r>
            <a:endParaRPr b="1" lang="en-US" sz="6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9" name="WordArt 2"/>
          <p:cNvSpPr txBox="1"/>
          <p:nvPr/>
        </p:nvSpPr>
        <p:spPr>
          <a:xfrm>
            <a:off x="1143000" y="1447920"/>
            <a:ext cx="6629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507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江山如此多娇，</a:t>
            </a:r>
            <a:endParaRPr b="1" lang="en-US" sz="6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 advTm="4000"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7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50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7" nodeType="afterEffect" fill="hold" presetClass="entr" presetID="17" presetSubtype="8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雪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qinwang"/>
          <p:cNvPicPr/>
          <p:nvPr/>
        </p:nvPicPr>
        <p:blipFill>
          <a:blip r:embed="rId2"/>
          <a:stretch/>
        </p:blipFill>
        <p:spPr>
          <a:xfrm>
            <a:off x="6948360" y="0"/>
            <a:ext cx="1930680" cy="3382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7-2-1"/>
          <p:cNvPicPr/>
          <p:nvPr/>
        </p:nvPicPr>
        <p:blipFill>
          <a:blip r:embed="rId3"/>
          <a:stretch/>
        </p:blipFill>
        <p:spPr>
          <a:xfrm>
            <a:off x="0" y="0"/>
            <a:ext cx="2084400" cy="270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mz1"/>
          <p:cNvPicPr/>
          <p:nvPr/>
        </p:nvPicPr>
        <p:blipFill>
          <a:blip r:embed="rId4"/>
          <a:stretch/>
        </p:blipFill>
        <p:spPr>
          <a:xfrm>
            <a:off x="0" y="4292640"/>
            <a:ext cx="2400480" cy="2565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6229440" y="1222200"/>
            <a:ext cx="54936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516720" y="0"/>
            <a:ext cx="54936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16"/>
          <p:cNvSpPr txBox="1"/>
          <p:nvPr/>
        </p:nvSpPr>
        <p:spPr>
          <a:xfrm rot="5400000">
            <a:off x="-228600" y="1460160"/>
            <a:ext cx="6858000" cy="5752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442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大雕。              </a:t>
            </a:r>
            <a:endParaRPr b="1" lang="en-US" sz="5400" spc="1" strike="noStrike">
              <a:ln w="442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442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只识弯弓射     </a:t>
            </a:r>
            <a:endParaRPr b="1" lang="en-US" sz="5400" spc="1" strike="noStrike">
              <a:ln w="442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442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成吉思汗，     </a:t>
            </a:r>
            <a:endParaRPr b="1" lang="en-US" sz="5400" spc="1" strike="noStrike">
              <a:ln w="442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442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一代天骄，     </a:t>
            </a:r>
            <a:endParaRPr b="1" lang="en-US" sz="5400" spc="1" strike="noStrike">
              <a:ln w="442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442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稍逊风骚。     </a:t>
            </a:r>
            <a:endParaRPr b="1" lang="en-US" sz="5400" spc="1" strike="noStrike">
              <a:ln w="442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442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唐宗宋祖，     </a:t>
            </a:r>
            <a:endParaRPr b="1" lang="en-US" sz="5400" spc="1" strike="noStrike">
              <a:ln w="442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07" name="Picture 18" descr="u=1362273778,1103370088&amp;gp=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20000" y="3933720"/>
            <a:ext cx="2124000" cy="2924280"/>
          </a:xfrm>
          <a:prstGeom prst="rect">
            <a:avLst/>
          </a:prstGeom>
          <a:ln w="0">
            <a:noFill/>
          </a:ln>
        </p:spPr>
      </p:pic>
      <p:sp>
        <p:nvSpPr>
          <p:cNvPr id="108" name="WordArt 19"/>
          <p:cNvSpPr txBox="1"/>
          <p:nvPr/>
        </p:nvSpPr>
        <p:spPr>
          <a:xfrm rot="5400000">
            <a:off x="4833720" y="2448000"/>
            <a:ext cx="5473440" cy="1676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442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略输文采。</a:t>
            </a:r>
            <a:endParaRPr b="1" lang="en-US" sz="5400" spc="1" strike="noStrike">
              <a:ln w="442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442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5400" spc="1" strike="noStrike">
                <a:ln w="442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惜秦皇汉武</a:t>
            </a:r>
            <a:endParaRPr b="1" lang="en-US" sz="5400" spc="1" strike="noStrike">
              <a:ln w="442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7" presetSubtype="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4" nodeType="afterEffect" fill="hold" presetClass="entr" presetID="17" presetSubtype="2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10"/>
          <p:cNvPicPr/>
          <p:nvPr/>
        </p:nvPicPr>
        <p:blipFill>
          <a:blip r:embed="rId1"/>
          <a:srcRect l="3790" t="11575" r="10974" b="115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7"/>
          <p:cNvSpPr txBox="1"/>
          <p:nvPr/>
        </p:nvSpPr>
        <p:spPr>
          <a:xfrm rot="5400000">
            <a:off x="1828440" y="-75960"/>
            <a:ext cx="5790960" cy="7467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442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还看今朝。     </a:t>
            </a:r>
            <a:endParaRPr b="1" lang="en-US" sz="6000" spc="1" strike="noStrike">
              <a:ln w="442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442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                               </a:t>
            </a:r>
            <a:endParaRPr b="1" lang="en-US" sz="6000" spc="1" strike="noStrike">
              <a:ln w="442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442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数风流人物     </a:t>
            </a:r>
            <a:endParaRPr b="1" lang="en-US" sz="6000" spc="1" strike="noStrike">
              <a:ln w="442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442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               </a:t>
            </a:r>
            <a:endParaRPr b="1" lang="en-US" sz="6000" spc="1" strike="noStrike">
              <a:ln w="442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442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俱往矣，          </a:t>
            </a:r>
            <a:endParaRPr b="1" lang="en-US" sz="6000" spc="1" strike="noStrike">
              <a:ln w="442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p:transition spd="slow" advTm="15000">
    <p:zoom dir="in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7" presetSubtype="2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1" nodeType="afterEffect" fill="hold" presetClass="entr" presetID="4" presetSubtype="3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732720" y="2133720"/>
            <a:ext cx="103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词精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褒有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732720" y="486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明主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89080" y="14292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下阕写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247000" y="1015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议论历史人物，歌颂当今英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79280" y="5589720"/>
            <a:ext cx="57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表现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228600" y="6095880"/>
            <a:ext cx="99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评析千秋历史功过，高度赞颂当今无产阶级和革命人民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179280" y="2205000"/>
            <a:ext cx="23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如何写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3562560" y="620640"/>
            <a:ext cx="167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江山如此多娇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无数英雄竞折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始皇汉武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略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采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唐宗宋祖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稍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风骚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代天骄，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吉思汗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识弯弓射大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俱往矣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风流人物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看今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6095880" y="91440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5"/>
          <p:cNvSpPr/>
          <p:nvPr/>
        </p:nvSpPr>
        <p:spPr>
          <a:xfrm>
            <a:off x="6095880" y="1676520"/>
            <a:ext cx="304920" cy="2743200"/>
          </a:xfrm>
          <a:custGeom>
            <a:avLst/>
            <a:gdLst>
              <a:gd name="textAreaLeft" fmla="*/ 0 w 304920"/>
              <a:gd name="textAreaRight" fmla="*/ 11016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6095880" y="457200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631200" y="1000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承上启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ubRRectCallout"/>
          <p:cNvSpPr/>
          <p:nvPr/>
        </p:nvSpPr>
        <p:spPr>
          <a:xfrm>
            <a:off x="0" y="333360"/>
            <a:ext cx="8893080" cy="1523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惜”中含褒：肯定他们都是中华豪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惜”中带批：批评他们短于文治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惜”中露信：自信今天的无产阶级革命英雄必将胜过人 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0"/>
            <a:ext cx="86932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练习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沁园春  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首写于（            ）年（      ）月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中 “沁园春”是（              ），“雪”    是（            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的上一节又称（      ），词的下一节又称（          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首词上阕描写（                                                 ）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阕评论千秋历史，赞颂（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首词的上阕总写雪景的句子是（                         ）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到的景物有（       ）（       ）（        ）（      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        ）句运用了拟人的方法。展开  想象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景的句子是（                                                         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阕评古论今，起承上启下作用的句子是（            ）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到的历史人物有（           ）（              ）（     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）（       ）。词中的“风流人物”是指（       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743200" y="13716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411280" y="882720"/>
            <a:ext cx="6048360" cy="35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、</a:t>
            </a:r>
            <a:r>
              <a:rPr b="1" lang="zh-CN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朗读这首词</a:t>
            </a:r>
            <a:r>
              <a:rPr b="1" lang="en-US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感悟诗歌内容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、了解写景、议论、抒情的表达方式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、体会诗人宽广的胸怀，坚定的信心和为中华民族建功立业的伟大抱负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-262080" y="1052640"/>
            <a:ext cx="2374920" cy="458136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学习目标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雪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1042920" y="620640"/>
            <a:ext cx="41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背景材料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58920" y="2133720"/>
            <a:ext cx="70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619280" y="2565360"/>
            <a:ext cx="33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900000" y="1700280"/>
            <a:ext cx="8064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毛泽东同志率长征部队胜利到达陕北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毛泽东登上海拔千米、白雪覆盖的塬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欣赏“北国风光”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词里抒发了对祖国壮丽河山的热爱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达了当今革命英雄空前伟大的抱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无比坚定的决心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雪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526200" y="352440"/>
            <a:ext cx="12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沁园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雪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九三六年二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39640" y="1197000"/>
            <a:ext cx="78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北国风光，千里冰封，万里雪飘。望长城内外，惟余莽莽；大河上下，顿失滔滔。山舞银蛇，原驰蜡象，欲与天公试比高。须晴日，看红装素裹，分外妖娆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江山如此多娇，引无数英雄竞折腰。惜秦皇汉武，略输文采；唐宗宋祖，稍逊风骚。一代天骄，成吉思汗，只识弯弓射大雕。俱往矣，数风流人物，还看今朝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xue2"/>
          <p:cNvPicPr/>
          <p:nvPr/>
        </p:nvPicPr>
        <p:blipFill>
          <a:blip r:embed="rId1">
            <a:lum contrast="-38000"/>
          </a:blip>
          <a:stretch/>
        </p:blipFill>
        <p:spPr>
          <a:xfrm>
            <a:off x="0" y="0"/>
            <a:ext cx="9220320" cy="71229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0" y="162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27280" y="260280"/>
            <a:ext cx="31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979640" y="836640"/>
            <a:ext cx="4897440" cy="82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全词包含两个内容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描绘壮丽河山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抒发个人情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从词中找出能扣住以上内容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个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望” 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         “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惜”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fg0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 rot="5400000">
            <a:off x="799920" y="1028520"/>
            <a:ext cx="5181480" cy="4495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507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万里雪飘。</a:t>
            </a:r>
            <a:endParaRPr b="1" lang="en-US" sz="6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507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千里冰封，</a:t>
            </a:r>
            <a:endParaRPr b="1" lang="en-US" sz="6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9" name="WordArt 4"/>
          <p:cNvSpPr txBox="1"/>
          <p:nvPr/>
        </p:nvSpPr>
        <p:spPr>
          <a:xfrm rot="5400000">
            <a:off x="4907880" y="2863800"/>
            <a:ext cx="5645160" cy="113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507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北国风光，</a:t>
            </a:r>
            <a:endParaRPr b="1" lang="en-US" sz="8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1258920" y="6021360"/>
            <a:ext cx="71280" cy="71640"/>
          </a:xfrm>
          <a:custGeom>
            <a:avLst/>
            <a:gdLst>
              <a:gd name="textAreaLeft" fmla="*/ 0 w 71280"/>
              <a:gd name="textAreaRight" fmla="*/ 25560 w 71280"/>
              <a:gd name="textAreaTop" fmla="*/ 1800 h 71640"/>
              <a:gd name="textAreaBottom" fmla="*/ 6984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19937956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5"/>
          <p:cNvSpPr txBox="1"/>
          <p:nvPr/>
        </p:nvSpPr>
        <p:spPr>
          <a:xfrm rot="5400000">
            <a:off x="1073160" y="-533520"/>
            <a:ext cx="6858000" cy="7925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507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顿失滔滔。</a:t>
            </a:r>
            <a:endParaRPr b="1" lang="en-US" sz="8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507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大河上下，</a:t>
            </a:r>
            <a:endParaRPr b="1" lang="en-US" sz="8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507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惟余莽莽。</a:t>
            </a:r>
            <a:endParaRPr b="1" lang="en-US" sz="8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507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8000" spc="1" strike="noStrike">
                <a:ln w="507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望长城内外，</a:t>
            </a:r>
            <a:endParaRPr b="1" lang="en-US" sz="8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med" advTm="7000"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01"/>
          <p:cNvPicPr/>
          <p:nvPr/>
        </p:nvPicPr>
        <p:blipFill>
          <a:blip r:embed="rId1"/>
          <a:srcRect l="0" t="3714" r="264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WordArt 2"/>
          <p:cNvSpPr txBox="1"/>
          <p:nvPr/>
        </p:nvSpPr>
        <p:spPr>
          <a:xfrm rot="5400000">
            <a:off x="3809520" y="1828440"/>
            <a:ext cx="5486400" cy="350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507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原驰蜡象，</a:t>
            </a:r>
            <a:endParaRPr b="1" lang="en-US" sz="6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507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山舞银蛇，</a:t>
            </a:r>
            <a:endParaRPr b="1" lang="en-US" sz="6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5" name="WordArt 3"/>
          <p:cNvSpPr txBox="1"/>
          <p:nvPr/>
        </p:nvSpPr>
        <p:spPr>
          <a:xfrm rot="5400000">
            <a:off x="-38160" y="2857320"/>
            <a:ext cx="548640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507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欲天公试比高。</a:t>
            </a:r>
            <a:endParaRPr b="1" lang="en-US" sz="6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 advTm="7000">
    <p:zoom dir="in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6" presetSubtype="42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500"/>
                            </p:stCondLst>
                            <p:childTnLst>
                              <p:par>
                                <p:cTn id="89" nodeType="afterEffect" fill="hold" presetClass="entr" presetID="17" presetSubtype="2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6000"/>
                            </p:stCondLst>
                            <p:childTnLst>
                              <p:par>
                                <p:cTn id="96" nodeType="afterEffect" fill="hold" presetClass="entr" presetID="17" presetSubtype="2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a"/>
          <p:cNvPicPr/>
          <p:nvPr/>
        </p:nvPicPr>
        <p:blipFill>
          <a:blip r:embed="rId1"/>
          <a:srcRect l="0" t="10656" r="2641" b="8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WordArt 2"/>
          <p:cNvSpPr txBox="1"/>
          <p:nvPr/>
        </p:nvSpPr>
        <p:spPr>
          <a:xfrm rot="5400000">
            <a:off x="1904760" y="152280"/>
            <a:ext cx="5334120" cy="6705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507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分外妖娆。</a:t>
            </a:r>
            <a:endParaRPr b="1" lang="en-US" sz="6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507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6000" spc="1" strike="noStrike">
                <a:ln w="507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看红装素裹，</a:t>
            </a:r>
            <a:endParaRPr b="1" lang="en-US" sz="6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507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须晴日，   </a:t>
            </a:r>
            <a:endParaRPr b="1" lang="en-US" sz="6000" spc="1" strike="noStrike">
              <a:ln w="507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 advTm="6000">
    <p:zoom dir="in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7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3" nodeType="afterEffect" fill="hold" presetClass="entr" presetID="17" presetSubtype="2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8T08:45:50Z</dcterms:created>
  <dc:creator>shw</dc:creator>
  <dc:description/>
  <dc:language>en-US</dc:language>
  <cp:lastModifiedBy>Administrator</cp:lastModifiedBy>
  <dcterms:modified xsi:type="dcterms:W3CDTF">2015-12-28T07:27:51Z</dcterms:modified>
  <cp:revision>74</cp:revision>
  <dc:subject/>
  <dc:title>PowerPoint 演示文稿</dc:title>
</cp:coreProperties>
</file>