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自定义放映1" id="0">
      <p:sldLst>
        <p:sld r:id="rId5"/>
        <p:sld r:id="rId6"/>
        <p:sld r:id="rId7"/>
      </p:sldLst>
    </p:custShow>
    <p:custShow name="自定义放映2" id="1">
      <p:sldLst>
        <p:sld r:id="rId8"/>
      </p:sldLst>
    </p:custShow>
    <p:custShow name="自定义放映3" id="2">
      <p:sldLst>
        <p:sld r:id="rId9"/>
      </p:sldLst>
    </p:custShow>
    <p:custShow name="自定义放映4" id="3">
      <p:sldLst>
        <p:sld r:id="rId10"/>
        <p:sld r:id="rId11"/>
      </p:sldLst>
    </p:custShow>
    <p:custShow name="自定义放映5" id="4">
      <p:sldLst>
        <p:sld r:id="rId12"/>
      </p:sldLst>
    </p:custShow>
    <p:custShow name="自定义放映6" id="5">
      <p:sldLst>
        <p:sld r:id="rId13"/>
      </p:sldLst>
    </p:custShow>
    <p:custShow name="自定义放映7" id="6">
      <p:sldLst>
        <p:sld r:id="rId14"/>
        <p:sld r:id="rId15"/>
      </p:sldLst>
    </p:custShow>
    <p:custShow name="自定义放映8" id="7">
      <p:sldLst>
        <p:sld r:id="rId16"/>
        <p:sld r:id="rId17"/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B1D-034C-4327-87B1-5CD1BA34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D1B-7206-448A-9B93-AB4B9A47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F5F-76C6-4D6B-B5E1-239399DC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7BB-AADE-4E35-8148-14E0C62C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682-5B33-4C08-97CB-051D8B5E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905-D322-4838-82B3-2107D055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B32-6CAA-4A2A-BE70-9191EE3E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834-526F-4778-92CE-8B18A513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30A-EFE9-48A7-AE57-41751731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32F-25EC-4E86-82A0-3008539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E8E-A854-4E7A-B1F0-6D31ADF3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6C7-5923-4D96-88F5-DEF7B0D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5741-D571-4596-80A8-265EE85663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tmp/home/.config/libreoffice/4/user/gallery/ricochet.wav" TargetMode="External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ricochet.wav" TargetMode="External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hyperlink" Target="file:///tmp/home/.config/libreoffice/4/user/gallery/ricochet.wav" TargetMode="External"/><Relationship Id="rId5" Type="http://schemas.openxmlformats.org/officeDocument/2006/relationships/hyperlink" Target="file:///tmp/home/.config/libreoffice/4/user/gallery/ricochet.wav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ricochet.wav" TargetMode="External"/><Relationship Id="rId3" Type="http://schemas.openxmlformats.org/officeDocument/2006/relationships/hyperlink" Target="file:///tmp/home/.config/libreoffice/4/user/gallery/ricochet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489000">
            <a:off x="609120" y="914400"/>
            <a:ext cx="5410440" cy="32004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沁园春  长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3300"/>
                </a:solidFill>
                <a:uFillTx/>
                <a:latin typeface="Times New Roman"/>
                <a:ea typeface="华文中宋"/>
              </a:rPr>
              <a:t>内容理解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990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起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2209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看”（写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752480"/>
            <a:ext cx="304560" cy="1295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00680" y="15238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山上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03320" y="2819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鱼（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天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8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江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752480"/>
            <a:ext cx="609840" cy="0"/>
          </a:xfrm>
          <a:prstGeom prst="line">
            <a:avLst/>
          </a:prstGeom>
          <a:ln w="2844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2209680"/>
            <a:ext cx="609480" cy="0"/>
          </a:xfrm>
          <a:prstGeom prst="line">
            <a:avLst/>
          </a:prstGeom>
          <a:ln w="2844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2590920"/>
            <a:ext cx="609480" cy="0"/>
          </a:xfrm>
          <a:prstGeom prst="line">
            <a:avLst/>
          </a:prstGeom>
          <a:ln w="2844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2844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0944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树（远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9440" y="19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船（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9440" y="23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鹰（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水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75248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83440" y="17524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问”：谁主沉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述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5200" y="21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铺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34800" y="1195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小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8440" y="3581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换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5200" y="48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中宋"/>
              </a:rPr>
              <a:t>铺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11120" y="43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结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32240" y="36576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携游”所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14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写文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4572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论国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5029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蔑权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击中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71000" y="48769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忆”（言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83440" y="4952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记”：浪</a:t>
            </a:r>
            <a:r>
              <a:rPr b="1" lang="zh-CN" sz="2400" spc="-1" strike="noStrike">
                <a:solidFill>
                  <a:srgbClr val="ff0066"/>
                </a:solidFill>
                <a:latin typeface="方正魏碑简体"/>
              </a:rPr>
              <a:t>遏飞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方正魏碑简体"/>
              </a:rPr>
              <a:t>（抒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26708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42670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1880" y="2514600"/>
            <a:ext cx="0" cy="1752480"/>
          </a:xfrm>
          <a:prstGeom prst="line">
            <a:avLst/>
          </a:prstGeom>
          <a:ln w="284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743200"/>
            <a:ext cx="0" cy="2057400"/>
          </a:xfrm>
          <a:prstGeom prst="line">
            <a:avLst/>
          </a:prstGeom>
          <a:ln w="284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600200" y="1295280"/>
            <a:ext cx="1295280" cy="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295280"/>
            <a:ext cx="0" cy="25909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886200"/>
            <a:ext cx="1600200" cy="0"/>
          </a:xfrm>
          <a:prstGeom prst="line">
            <a:avLst/>
          </a:prstGeom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5920" y="10666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独立”所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523880"/>
            <a:ext cx="1371600" cy="4191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029200"/>
            <a:ext cx="2895480" cy="11430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1219320"/>
            <a:ext cx="99036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艺  术  特  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36360" y="1676520"/>
            <a:ext cx="1896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政治与艺术的统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情与景的交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057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万山红遍，层林尽染  </a:t>
            </a:r>
            <a:r>
              <a:rPr b="1" lang="zh-CN" sz="2400" spc="-1" strike="noStrike" u="sng">
                <a:solidFill>
                  <a:srgbClr val="ff9966"/>
                </a:solidFill>
                <a:uFillTx/>
                <a:latin typeface="Times New Roman"/>
              </a:rPr>
              <a:t>（象 征）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星火燎源的革命火炬</a:t>
            </a: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666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漫江碧透，百舸争流  </a:t>
            </a:r>
            <a:r>
              <a:rPr b="1" lang="zh-CN" sz="2400" spc="-1" strike="noStrike" u="sng">
                <a:solidFill>
                  <a:srgbClr val="ff9966"/>
                </a:solidFill>
                <a:uFillTx/>
                <a:latin typeface="Times New Roman"/>
              </a:rPr>
              <a:t>（象征）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波澜壮阔的革命潮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352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鹰击长空，鱼翔浅底  </a:t>
            </a:r>
            <a:r>
              <a:rPr b="1" lang="zh-CN" sz="2400" spc="-1" strike="noStrike" u="sng">
                <a:solidFill>
                  <a:srgbClr val="ff9966"/>
                </a:solidFill>
                <a:uFillTx/>
                <a:latin typeface="Times New Roman"/>
              </a:rPr>
              <a:t>（象征）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争取自由的革命理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32160" y="403848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中流击水，浪遏飞舟  </a:t>
            </a:r>
            <a:r>
              <a:rPr b="1" lang="zh-CN" sz="2400" spc="-1" strike="noStrike" u="sng">
                <a:solidFill>
                  <a:srgbClr val="ff6600"/>
                </a:solidFill>
                <a:uFillTx/>
                <a:latin typeface="Times New Roman"/>
              </a:rPr>
              <a:t>（象征）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勇往直前的革命理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77240" y="1120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5029200"/>
            <a:ext cx="335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革命的政治内容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完美的艺术统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1600200"/>
            <a:ext cx="0" cy="457200"/>
          </a:xfrm>
          <a:prstGeom prst="line">
            <a:avLst/>
          </a:prstGeom>
          <a:ln w="316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1600200"/>
            <a:ext cx="0" cy="457200"/>
          </a:xfrm>
          <a:prstGeom prst="line">
            <a:avLst/>
          </a:prstGeom>
          <a:ln w="316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1447920"/>
            <a:ext cx="1143000" cy="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447920"/>
            <a:ext cx="1143000" cy="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4572000"/>
            <a:ext cx="0" cy="990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5562720"/>
            <a:ext cx="990720" cy="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5562720"/>
            <a:ext cx="990720" cy="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620120" y="4495680"/>
            <a:ext cx="0" cy="106704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1520" y="1066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95200" y="114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交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95280" y="2666880"/>
            <a:ext cx="2819520" cy="2438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5335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意境描述  审美创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1981080"/>
            <a:ext cx="4343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描述思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什么时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什么地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主人公看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主人公联想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、回答了什么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895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时代背景出发，充分联想和想象，以叙述、描写为主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左右，写出意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380880"/>
            <a:ext cx="6095880" cy="5334120"/>
          </a:xfrm>
          <a:prstGeom prst="rect">
            <a:avLst/>
          </a:prstGeom>
          <a:solidFill>
            <a:srgbClr val="99cc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80880"/>
            <a:ext cx="6172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92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年深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湘江橘子洲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英姿勃发的青年毛泽东卓然特立：远眺，近看，仰望，俯视。湘江浩漫，滚滚流去。岳麓山上，枫林似火，仿佛万千工农高擎的革命火炬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江面，千帆竞发，激起无数浪花，也触发诗人万丈豪情，无限遐想：谁是辽阔天地的主宰呢？是他们，是那些激扬文字的热血青年，是那些指点江山的革命者，是那些中流击水的勇士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只有他们，才是中国革命的主宰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2"/>
          </p:cNvPr>
          <p:cNvSpPr/>
          <p:nvPr/>
        </p:nvSpPr>
        <p:spPr>
          <a:xfrm>
            <a:off x="914400" y="3733920"/>
            <a:ext cx="457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3"/>
          </p:cNvPr>
          <p:cNvSpPr/>
          <p:nvPr/>
        </p:nvSpPr>
        <p:spPr>
          <a:xfrm>
            <a:off x="914400" y="4648320"/>
            <a:ext cx="457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2"/>
          </p:cNvPr>
          <p:cNvSpPr/>
          <p:nvPr/>
        </p:nvSpPr>
        <p:spPr>
          <a:xfrm>
            <a:off x="1523880" y="3733920"/>
            <a:ext cx="609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"/>
          </p:cNvPr>
          <p:cNvSpPr/>
          <p:nvPr/>
        </p:nvSpPr>
        <p:spPr>
          <a:xfrm>
            <a:off x="1523880" y="4419720"/>
            <a:ext cx="6098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/>
          </p:cNvPr>
          <p:cNvSpPr/>
          <p:nvPr/>
        </p:nvSpPr>
        <p:spPr>
          <a:xfrm>
            <a:off x="1523880" y="5029200"/>
            <a:ext cx="609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/>
          </p:cNvPr>
          <p:cNvSpPr/>
          <p:nvPr/>
        </p:nvSpPr>
        <p:spPr>
          <a:xfrm>
            <a:off x="1523880" y="5791320"/>
            <a:ext cx="6098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2"/>
          </p:cNvPr>
          <p:cNvSpPr/>
          <p:nvPr/>
        </p:nvSpPr>
        <p:spPr>
          <a:xfrm>
            <a:off x="1143000" y="33526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3"/>
          </p:cNvPr>
          <p:cNvSpPr/>
          <p:nvPr/>
        </p:nvSpPr>
        <p:spPr>
          <a:xfrm>
            <a:off x="1143000" y="426708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4"/>
          </p:cNvPr>
          <p:cNvSpPr/>
          <p:nvPr/>
        </p:nvSpPr>
        <p:spPr>
          <a:xfrm>
            <a:off x="1143000" y="51814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30492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巩固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600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  </a:t>
            </a:r>
            <a:r>
              <a:rPr b="0" lang="zh-CN" sz="44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４、写出这首词的韵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971800"/>
            <a:ext cx="708660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提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这首词的韵脚依次为：头、流、由、浮、游、稠、遒、候、舟（注意：这个词牌首句不押韵，故“秋”属“添叶”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30492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中宋"/>
              </a:rPr>
              <a:t>巩固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37160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       </a:t>
            </a:r>
            <a:r>
              <a:rPr b="0" lang="zh-CN" sz="4000" spc="-1" strike="noStrike">
                <a:solidFill>
                  <a:srgbClr val="6666ff"/>
                </a:solidFill>
                <a:latin typeface="Times New Roman"/>
                <a:ea typeface="华文中宋"/>
              </a:rPr>
              <a:t>５、课后修改《意境描述》，定稿誊清，早读交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62320" y="2286000"/>
            <a:ext cx="4038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再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沁园春</a:t>
            </a: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•</a:t>
            </a: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长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143000"/>
            <a:ext cx="54864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1295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导入新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1200" y="1752480"/>
            <a:ext cx="17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体裁及背景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04920" y="228600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朗读欣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0640" y="2841480"/>
            <a:ext cx="16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章法结构分析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03120" y="345132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内容理解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4920" y="403848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艺术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73840" y="4594320"/>
            <a:ext cx="22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意境描述   审美创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20760" y="518148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1975680" y="571500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600000">
            <a:off x="2057040" y="762120"/>
            <a:ext cx="388764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沁园春 雪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19320" y="13716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沁园春</a:t>
            </a: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·</a:t>
            </a: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长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36576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方正舒体"/>
              </a:rPr>
              <a:t>毛泽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380880"/>
            <a:ext cx="662940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方正黄草简体"/>
              </a:rPr>
              <a:t>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黄草简体"/>
              </a:rPr>
              <a:t>沁园春</a:t>
            </a: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方正黄草简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黄草简体"/>
              </a:rPr>
              <a:t>长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                                     </a:t>
            </a:r>
            <a:r>
              <a:rPr b="1" lang="zh-CN" sz="2000" spc="-1" strike="noStrike">
                <a:solidFill>
                  <a:srgbClr val="ff66cc"/>
                </a:solidFill>
                <a:latin typeface="Times New Roman"/>
              </a:rPr>
              <a:t>（一九二五年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独立寒秋，湘江北去，橘子洲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看万山红遍，层林尽染；漫江碧透，百舸争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鹰击长空，鱼翔浅底，万类霜天竞自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怅寥廓，问苍茫大地，谁主沉浮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携来百侣曾游。忆往昔峥嵘岁月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恰同学少年，风华正茂；书生意气，挥斥方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指点江山，激扬文字，粪土当年万户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曾记否，到中流击水，浪遏飞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53352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体裁及背景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98108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沁园春”，词牌名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长沙”，词的题目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Y103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80880"/>
            <a:ext cx="85341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     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沁园春</a:t>
            </a: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方正黄草简体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                                                </a:t>
            </a:r>
            <a:r>
              <a:rPr b="1" lang="zh-CN" sz="2000" spc="-1" strike="noStrike">
                <a:solidFill>
                  <a:srgbClr val="ff66cc"/>
                </a:solidFill>
                <a:latin typeface="Times New Roman"/>
                <a:ea typeface="华文中宋"/>
              </a:rPr>
              <a:t>（一九二五年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    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独立寒秋，湘江北去，橘子洲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看万山红遍，层林尽染；漫江碧透，百舸争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鹰击长空，鱼翔浅底，万类霜天竞自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怅寥廓，问苍茫大地，谁主沉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携来百侣曾游。忆往昔峥嵘岁月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恰同学少年，风华正茂；书生意气，挥斥方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指点江山，激扬文字，粪土当年万户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曾记否，到中流击水，浪遏飞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286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华文中宋"/>
              </a:rPr>
              <a:t>章法结构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666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方正魏碑简体"/>
                <a:ea typeface="方正黄草简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方正魏碑简体"/>
              </a:rPr>
              <a:t>独立寒秋，湘江北去，橘子洲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5812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方正魏碑简体"/>
                <a:ea typeface="方正黄草简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看万山红遍，层林尽染；漫江碧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百舸争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鹰击长空，鱼翔浅底，万类霜天竞自由</a:t>
            </a:r>
            <a:r>
              <a:rPr b="1" lang="zh-CN" sz="2400" spc="-1" strike="noStrike">
                <a:solidFill>
                  <a:srgbClr val="6600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5410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方正魏碑简体"/>
                <a:ea typeface="方正黄草简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方正魏碑简体"/>
              </a:rPr>
              <a:t>怅寥廓，问苍茫大地，谁主沉浮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12952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华文中宋"/>
              </a:rPr>
              <a:t>上           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133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起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铺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876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286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3300"/>
                </a:solidFill>
                <a:uFillTx/>
                <a:latin typeface="Times New Roman"/>
                <a:ea typeface="华文中宋"/>
              </a:rPr>
              <a:t>章法结构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2666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方正魏碑简体"/>
              </a:rPr>
              <a:t>携来百侣曾游。忆往昔峥嵘岁月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65760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方正魏碑简体"/>
                <a:ea typeface="方正黄草简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恰同学少年，风华正茂；书生意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挥斥方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指点江山，激扬文字，粪土当年万户侯。</a:t>
            </a:r>
            <a:r>
              <a:rPr b="0" lang="zh-CN" sz="2400" spc="-1" strike="noStrike">
                <a:solidFill>
                  <a:srgbClr val="ff33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4100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方正魏碑简体"/>
                <a:ea typeface="方正黄草简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曾记否 到中流击水，浪遏飞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12952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华文中宋"/>
              </a:rPr>
              <a:t>下           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133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换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铺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952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结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9T02:53:27Z</dcterms:created>
  <dc:creator>dzp</dc:creator>
  <dc:description/>
  <dc:language>en-US</dc:language>
  <cp:lastModifiedBy>dzp</cp:lastModifiedBy>
  <dcterms:modified xsi:type="dcterms:W3CDTF">2001-05-28T09:00:53Z</dcterms:modified>
  <cp:revision>99</cp:revision>
  <dc:subject/>
  <dc:title>PowerPoint 演示文稿</dc:title>
</cp:coreProperties>
</file>