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1.jpeg" ContentType="image/jpeg"/>
  <Override PartName="/ppt/media/image4.gif" ContentType="image/gif"/>
  <Override PartName="/ppt/media/image3.jpeg" ContentType="image/jpeg"/>
  <Override PartName="/ppt/media/image30.jpeg" ContentType="image/jpeg"/>
  <Override PartName="/ppt/media/image24.jpeg" ContentType="image/jpeg"/>
  <Override PartName="/ppt/media/image26.jpeg" ContentType="image/jpeg"/>
  <Override PartName="/ppt/media/image5.jpeg" ContentType="image/jpeg"/>
  <Override PartName="/ppt/media/image11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2.png" ContentType="image/png"/>
  <Override PartName="/ppt/media/image20.gif" ContentType="image/gif"/>
  <Override PartName="/ppt/media/image13.jpeg" ContentType="image/jpeg"/>
  <Override PartName="/ppt/media/image2.gif" ContentType="image/gif"/>
  <Override PartName="/ppt/media/image25.gif" ContentType="image/gif"/>
  <Override PartName="/ppt/media/image7.gif" ContentType="image/gif"/>
  <Override PartName="/ppt/media/image29.jpeg" ContentType="image/jpeg"/>
  <Override PartName="/ppt/media/image18.jpeg" ContentType="image/jpeg"/>
  <Override PartName="/ppt/media/image22.gif" ContentType="image/gif"/>
  <Override PartName="/ppt/media/image31.jpeg" ContentType="image/jpeg"/>
  <Override PartName="/ppt/media/image14.gif" ContentType="image/gif"/>
  <Override PartName="/ppt/media/image15.jpeg" ContentType="image/jpeg"/>
  <Override PartName="/ppt/media/image16.gif" ContentType="image/gif"/>
  <Override PartName="/ppt/media/image17.jpeg" ContentType="image/jpeg"/>
  <Override PartName="/ppt/media/image23.gif" ContentType="image/gif"/>
  <Override PartName="/ppt/media/image19.gif" ContentType="image/gif"/>
  <Override PartName="/ppt/media/image6.gif" ContentType="image/gi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0FB6-C41D-4073-9F18-31343A64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FCE4-5CAA-401E-988F-1FCA53E7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37F1-BDDB-4EB1-9922-E02D4A06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AC1-671F-4C28-8096-6A20284F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106-718F-4557-811A-D6FCBD4F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0FA-D584-4903-B367-DD3D008A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7F86-AF00-4FC4-A32C-50E0E073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F55-3D6A-4C4B-A90D-7C13138C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09AC-E885-4E14-A9BB-8AB46A54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80D8-DCBB-4D01-AA07-91053FF7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3E20-CDA4-4E70-9C61-73BE3750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90B-B5D8-4324-8E59-B2BA26A7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56CB-27BD-4BAD-B98D-2828F5010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" Target="slide3.xm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image" Target="../media/image6.gif"/><Relationship Id="rId4" Type="http://schemas.openxmlformats.org/officeDocument/2006/relationships/slide" Target="slide5.xml"/><Relationship Id="rId5" Type="http://schemas.openxmlformats.org/officeDocument/2006/relationships/image" Target="../media/image7.gif"/><Relationship Id="rId6" Type="http://schemas.openxmlformats.org/officeDocument/2006/relationships/slide" Target="slide12.xml"/><Relationship Id="rId7" Type="http://schemas.openxmlformats.org/officeDocument/2006/relationships/image" Target="../media/image8.gif"/><Relationship Id="rId8" Type="http://schemas.openxmlformats.org/officeDocument/2006/relationships/slide" Target="slide6.xml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3.xml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22087739_182940087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1122087739_182940087" descr=""/>
          <p:cNvPicPr/>
          <p:nvPr/>
        </p:nvPicPr>
        <p:blipFill>
          <a:blip r:embed="rId3"/>
          <a:stretch/>
        </p:blipFill>
        <p:spPr>
          <a:xfrm>
            <a:off x="4800600" y="236232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1122087739_182940087" descr=""/>
          <p:cNvPicPr/>
          <p:nvPr/>
        </p:nvPicPr>
        <p:blipFill>
          <a:blip r:embed="rId4"/>
          <a:stretch/>
        </p:blipFill>
        <p:spPr>
          <a:xfrm>
            <a:off x="2971800" y="228600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1122087739_182940087" descr=""/>
          <p:cNvPicPr/>
          <p:nvPr/>
        </p:nvPicPr>
        <p:blipFill>
          <a:blip r:embed="rId5"/>
          <a:stretch/>
        </p:blipFill>
        <p:spPr>
          <a:xfrm>
            <a:off x="990720" y="2286000"/>
            <a:ext cx="1904760" cy="952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99"/>
                </a:solidFill>
                <a:latin typeface="华文行楷"/>
                <a:ea typeface="华文行楷"/>
              </a:rPr>
              <a:t>言情词三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1122087739_182940087" descr=""/>
          <p:cNvPicPr/>
          <p:nvPr/>
        </p:nvPicPr>
        <p:blipFill>
          <a:blip r:embed="rId6"/>
          <a:stretch/>
        </p:blipFill>
        <p:spPr>
          <a:xfrm>
            <a:off x="2895480" y="320040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1122087739_182940087" descr=""/>
          <p:cNvPicPr/>
          <p:nvPr/>
        </p:nvPicPr>
        <p:blipFill>
          <a:blip r:embed="rId7"/>
          <a:stretch/>
        </p:blipFill>
        <p:spPr>
          <a:xfrm>
            <a:off x="990720" y="4114800"/>
            <a:ext cx="190476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1122087739_182940087" descr=""/>
          <p:cNvPicPr/>
          <p:nvPr/>
        </p:nvPicPr>
        <p:blipFill>
          <a:blip r:embed="rId8"/>
          <a:stretch/>
        </p:blipFill>
        <p:spPr>
          <a:xfrm>
            <a:off x="990720" y="3200400"/>
            <a:ext cx="190476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1122087739_182940087" descr=""/>
          <p:cNvPicPr/>
          <p:nvPr/>
        </p:nvPicPr>
        <p:blipFill>
          <a:blip r:embed="rId9"/>
          <a:stretch/>
        </p:blipFill>
        <p:spPr>
          <a:xfrm>
            <a:off x="4800600" y="152388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50" name="1122087739_182940087" descr=""/>
          <p:cNvPicPr/>
          <p:nvPr/>
        </p:nvPicPr>
        <p:blipFill>
          <a:blip r:embed="rId10"/>
          <a:stretch/>
        </p:blipFill>
        <p:spPr>
          <a:xfrm>
            <a:off x="2895480" y="137160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51" name="1122087739_182940087" descr=""/>
          <p:cNvPicPr/>
          <p:nvPr/>
        </p:nvPicPr>
        <p:blipFill>
          <a:blip r:embed="rId11"/>
          <a:stretch/>
        </p:blipFill>
        <p:spPr>
          <a:xfrm>
            <a:off x="990720" y="1371600"/>
            <a:ext cx="1904760" cy="952560"/>
          </a:xfrm>
          <a:prstGeom prst="rect">
            <a:avLst/>
          </a:prstGeom>
          <a:ln w="0">
            <a:noFill/>
          </a:ln>
        </p:spPr>
      </p:pic>
      <p:pic>
        <p:nvPicPr>
          <p:cNvPr id="52" name="1122087739_182940087" descr=""/>
          <p:cNvPicPr/>
          <p:nvPr/>
        </p:nvPicPr>
        <p:blipFill>
          <a:blip r:embed="rId12"/>
          <a:stretch/>
        </p:blipFill>
        <p:spPr>
          <a:xfrm>
            <a:off x="4724280" y="3276720"/>
            <a:ext cx="19051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三是比中有兴。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三个喻体都分别是一个相对独立的景物描写，都是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江南暮春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时节所特有的景色。因而，它们除了用来作形象的比喻以外，还共同构成了一个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春去夏来的境界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。而这样的境界，与“闲愁”又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非常和谐浑融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2005716324447190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49528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美  人：</a:t>
            </a:r>
            <a:r>
              <a:rPr b="1" lang="en-US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以理解为作者的</a:t>
            </a:r>
            <a:r>
              <a:rPr b="1" lang="en-US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政治理想，闲愁</a:t>
            </a:r>
            <a:r>
              <a:rPr b="1" lang="en-US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就是作者执著追求而理想终究不能实现的苦闷。那么这首悲歌，实际是</a:t>
            </a:r>
            <a:r>
              <a:rPr b="1" lang="en-US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士不遇</a:t>
            </a:r>
            <a:r>
              <a:rPr b="1" lang="en-US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浩叹。</a:t>
            </a:r>
            <a:r>
              <a:rPr b="0" lang="en-US" sz="9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4EDD755514BC70579D618B4867C44A4E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05600" y="5619600"/>
            <a:ext cx="1238400" cy="1238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60621082393149" descr=""/>
          <p:cNvPicPr/>
          <p:nvPr/>
        </p:nvPicPr>
        <p:blipFill>
          <a:blip r:embed="rId2"/>
          <a:stretch/>
        </p:blipFill>
        <p:spPr>
          <a:xfrm>
            <a:off x="3048120" y="5334120"/>
            <a:ext cx="6095880" cy="1523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言情词的精品</a:t>
            </a:r>
            <a:r>
              <a:rPr b="1" lang="en-US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词作把</a:t>
            </a:r>
            <a:r>
              <a:rPr b="1" lang="en-US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单相思</a:t>
            </a:r>
            <a:r>
              <a:rPr b="1" lang="en-US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这种人们多少都有过体验而不易说清楚的情感活动，表现得</a:t>
            </a:r>
            <a:r>
              <a:rPr b="1" lang="en-US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惟妙惟肖</a:t>
            </a:r>
            <a:r>
              <a:rPr b="1" lang="en-US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给读者以极深刻的印象，具有极强的艺术感染力。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造语精工，巧用博喻</a:t>
            </a:r>
            <a:r>
              <a:rPr b="1" lang="en-US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最突出的表现是最后几句。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52280"/>
            <a:ext cx="5867280" cy="11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鉴赏要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over dir="r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华文楷体"/>
              </a:rPr>
              <a:t>爱情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华文楷体"/>
              </a:rPr>
              <a:t>是人们生活的重要部分。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华文楷体"/>
              </a:rPr>
              <a:t>抒写爱情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华文楷体"/>
              </a:rPr>
              <a:t>，反映在封建礼教统治下，人们对爱情的热烈追求，对幸福生活的向往，以及遭到迫害、受到挫折时的悲愁与哀怨，也就成为婉约词的重要内容。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981080" y="1905120"/>
            <a:ext cx="510552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ccffff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課外擴展</a:t>
            </a:r>
            <a:endParaRPr b="0" lang="en-US" sz="1800" spc="1" strike="noStrike">
              <a:ln cap="rnd" w="9360">
                <a:solidFill>
                  <a:srgbClr val="ccffff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  <p:sp>
        <p:nvSpPr>
          <p:cNvPr id="91" name=""/>
          <p:cNvSpPr/>
          <p:nvPr/>
        </p:nvSpPr>
        <p:spPr>
          <a:xfrm>
            <a:off x="5992200" y="0"/>
            <a:ext cx="26182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华文楷体"/>
              </a:rPr>
              <a:t>言情词特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华文行楷"/>
              </a:rPr>
              <a:t>它首先表现在对爱情的大胆追求与歌颂。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华文楷体"/>
              </a:rPr>
              <a:t>敦煌曲子词《菩萨蛮》的作者，大胆坦率而又委婉曲折地写出“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华文楷体"/>
              </a:rPr>
              <a:t>枕前发尽千般愿，要休且待青山烂……”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华文楷体"/>
              </a:rPr>
              <a:t>表达了爱情永恒不变的心愿。冯延巳的《长命女》，写夫妻祝酒陈愿，地久天长，永不分离。韦庄的《思帝乡》“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华文楷体"/>
              </a:rPr>
              <a:t>妾拟将身嫁与，一生休。纵被无情弃，不能羞。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华文楷体"/>
              </a:rPr>
              <a:t>”歌颂了天真少女对爱情的热烈追求。李清照的名作《醉花阴》“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华文楷体"/>
              </a:rPr>
              <a:t>薄雾浓云愁永昼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华文楷体"/>
              </a:rPr>
              <a:t>”，是对爱情的表露，抒写她美满幸福的爱情生活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多情的词人，往往通过抒写离愁别恨，歌颂爱情的真挚。</a:t>
            </a:r>
            <a:r>
              <a:rPr b="1" lang="en-US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“西城杨柳弄春柔。动离忧，泪难收。犹记多情，曾为系归舟。……”（秦观《江城子》）离歌一曲，动人心魄。柳永的名作《雨霖铃》，抒写了浓烈感人的游子离情。“执手相看泪眼，竟无语凝咽。”淋漓尽致地描绘出与情人阔别、流落江湖的痛苦心境。苏轼的《江城子》“十年生死两茫茫”，抒写了他对亡妻“不思量，自难忘”的一片真情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华文楷体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华文楷体"/>
              </a:rPr>
              <a:t>从别后，忆相逢，几回魂梦与君同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华文楷体"/>
              </a:rPr>
              <a:t>”（晏几道《鹧鸪天》）写当日的相亲相爱，别后的相思相忆，凄婉哀怨而又妩媚风流，轻柔自然。欧阳修的《踏莎行》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华文楷体"/>
              </a:rPr>
              <a:t>候馆梅残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华文楷体"/>
              </a:rPr>
              <a:t>”、《蝶恋花》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华文楷体"/>
              </a:rPr>
              <a:t>庭院深深深几许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华文楷体"/>
              </a:rPr>
              <a:t>”等抒情小词，虽是儿女私情、离愁别绪，写得清丽婉媚，情深意长。“夜夜相思更漏残，伤心明月凭阑干，想君思我锦衾 寒……。”（韦庄《浣溪沙》）写爱情生活的回忆，离别相思的痛苦，洋溢着真情实感。</a:t>
            </a:r>
            <a:br>
              <a:rPr sz="900"/>
            </a:b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4952520"/>
            <a:ext cx="9144000" cy="2925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华文楷体"/>
              </a:rPr>
              <a:t>作家们把肺腑中的真情，悲愁与欢愉，通过抒情的婉约词，曲折细腻透露出来，赢得古今无数读者同情与共鸣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005112022424562068" descr="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47920" y="609480"/>
            <a:ext cx="556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600" y="457200"/>
            <a:ext cx="8534520" cy="312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ccffcc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言情詞の含義</a:t>
            </a:r>
            <a:endParaRPr b="0" lang="en-US" sz="1800" spc="1" strike="noStrike">
              <a:ln cap="rnd" w="936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ccffcc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2743200"/>
            <a:ext cx="91440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华文行楷"/>
              </a:rPr>
              <a:t>  </a:t>
            </a:r>
            <a:r>
              <a:rPr b="1" lang="en-US" sz="7200" spc="-1" strike="noStrike">
                <a:solidFill>
                  <a:srgbClr val="ffff00"/>
                </a:solidFill>
                <a:latin typeface="Arial"/>
                <a:ea typeface="华文行楷"/>
              </a:rPr>
              <a:t>言情词</a:t>
            </a:r>
            <a:r>
              <a:rPr b="1" lang="en-US" sz="7200" spc="-1" strike="noStrike">
                <a:solidFill>
                  <a:srgbClr val="ffff00"/>
                </a:solidFill>
                <a:latin typeface="Arial"/>
                <a:ea typeface="华文行楷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华文行楷"/>
              </a:rPr>
              <a:t>    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华文行楷"/>
              </a:rPr>
              <a:t>是婉约词的传统题材，也是婉约词的主要特点。它以情动人，道尽人间的悲欢离合，喜怒哀乐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90920" y="9907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  <a:ea typeface="华文彩云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1981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方正舒体"/>
              </a:rPr>
              <a:t>诗文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4800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鉴赏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3276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  <a:ea typeface="华文行楷"/>
              </a:rPr>
              <a:t>基本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45017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447920" y="990720"/>
            <a:ext cx="961920" cy="761760"/>
          </a:xfrm>
          <a:prstGeom prst="rect">
            <a:avLst/>
          </a:prstGeom>
          <a:ln w="0">
            <a:noFill/>
          </a:ln>
        </p:spPr>
      </p:pic>
      <p:pic>
        <p:nvPicPr>
          <p:cNvPr id="62" name="02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19520" y="198108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63" name="4C70BBA977B88F3DF7393CB7443DAF2A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24280" y="4648320"/>
            <a:ext cx="943200" cy="1009440"/>
          </a:xfrm>
          <a:prstGeom prst="rect">
            <a:avLst/>
          </a:prstGeom>
          <a:ln w="0">
            <a:noFill/>
          </a:ln>
        </p:spPr>
      </p:pic>
      <p:pic>
        <p:nvPicPr>
          <p:cNvPr id="64" name="7EE309D6BE3AC2674D94CC2E6E45547E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038480" y="3124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65" name="060621082523596" descr=""/>
          <p:cNvPicPr/>
          <p:nvPr/>
        </p:nvPicPr>
        <p:blipFill>
          <a:blip r:embed="rId10"/>
          <a:stretch/>
        </p:blipFill>
        <p:spPr>
          <a:xfrm>
            <a:off x="0" y="5810400"/>
            <a:ext cx="333360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060621082523595" descr=""/>
          <p:cNvPicPr/>
          <p:nvPr/>
        </p:nvPicPr>
        <p:blipFill>
          <a:blip r:embed="rId11"/>
          <a:stretch/>
        </p:blipFill>
        <p:spPr>
          <a:xfrm>
            <a:off x="4686480" y="0"/>
            <a:ext cx="4457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1629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贺铸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1052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125)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字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方回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号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庆湖遗老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卫州共城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河南辉县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。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貌奇丑，色青黑而有英气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陆游《老学庵笔记》卷八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因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为人秉性刚直，仕途不得志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始为武弁，后得苏轼的引荐，改任文职，一直沉沦下僚。官终太平州通判，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8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岁致仕，退居吴下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苏州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贺铸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博学强记，藏书丰富，精通音律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所作词有五百多首，今存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86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阕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含残篇断句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在北宋词人中，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存词数量仅次于苏轼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贺铸也是跟苏门关系密切的北宋婉约派名家之一。贺铸词的风格多样，其中有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少数豪放词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可视为苏轼豪放词的继响，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南宋爱国词的先声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其词集《东山词》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名《东山寓声乐府》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又名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贺方回词》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122087862_188049792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45720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青  玉  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</a:t>
            </a:r>
            <a:r>
              <a:rPr b="1" lang="en-US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凌波不过横塘路，但目送、芳尘去。锦瑟华年谁与度？月桥花榭，琐窗朱户，只有春知处。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飞云冉冉蘅皋暮，彩笔新题断肠句。若问闲愁都几许？一川烟草，满城风絮，梅子黄时雨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103104" descr=""/>
          <p:cNvPicPr/>
          <p:nvPr/>
        </p:nvPicPr>
        <p:blipFill>
          <a:blip r:embed="rId2"/>
          <a:stretch/>
        </p:blipFill>
        <p:spPr>
          <a:xfrm rot="5400000">
            <a:off x="7953120" y="566712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103104" descr=""/>
          <p:cNvPicPr/>
          <p:nvPr/>
        </p:nvPicPr>
        <p:blipFill>
          <a:blip r:embed="rId3"/>
          <a:stretch/>
        </p:blipFill>
        <p:spPr>
          <a:xfrm rot="5400000">
            <a:off x="7953480" y="420048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73" name="103104" descr=""/>
          <p:cNvPicPr/>
          <p:nvPr/>
        </p:nvPicPr>
        <p:blipFill>
          <a:blip r:embed="rId4"/>
          <a:stretch/>
        </p:blipFill>
        <p:spPr>
          <a:xfrm rot="5400000">
            <a:off x="7953120" y="275256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74" name="103104" descr=""/>
          <p:cNvPicPr/>
          <p:nvPr/>
        </p:nvPicPr>
        <p:blipFill>
          <a:blip r:embed="rId5"/>
          <a:stretch/>
        </p:blipFill>
        <p:spPr>
          <a:xfrm rot="5400000">
            <a:off x="7953120" y="130464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103104" descr=""/>
          <p:cNvPicPr/>
          <p:nvPr/>
        </p:nvPicPr>
        <p:blipFill>
          <a:blip r:embed="rId6"/>
          <a:stretch/>
        </p:blipFill>
        <p:spPr>
          <a:xfrm rot="5400000">
            <a:off x="7953480" y="-142920"/>
            <a:ext cx="1428480" cy="9525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华文行楷"/>
                <a:ea typeface="华文行楷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凌波不过横塘路，但目送、芳尘去。</a:t>
            </a:r>
            <a:r>
              <a:rPr b="1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“凌波”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即“凌波仙子”，在此是指抒情主体所倾慕的人。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“不过横塘路”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她总是不从我的住地横塘这边经过。</a:t>
            </a:r>
            <a:r>
              <a:rPr b="1" lang="en-US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“但目送、芳尘去”</a:t>
            </a:r>
            <a:r>
              <a:rPr b="1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，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每次都只能用目光送她远去。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“芳尘”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她的长裙扬起的芳香的烟尘。</a:t>
            </a:r>
            <a:r>
              <a:rPr b="1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锦瑟华年谁与度</a:t>
            </a:r>
            <a:r>
              <a:rPr b="1" lang="en-US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?</a:t>
            </a:r>
            <a:r>
              <a:rPr b="1" lang="en-US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月桥花院，琐窗朱户，只有春知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她那美妙的青春年华，究竟要和谁一起度过呢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名花何属呢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她对我有没有意思呢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哎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!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才晓得。</a:t>
            </a: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华文行楷"/>
                <a:ea typeface="华文行楷"/>
              </a:rPr>
              <a:t>  </a:t>
            </a:r>
            <a:r>
              <a:rPr b="1" lang="en-US" sz="4200" spc="-1" strike="noStrike">
                <a:solidFill>
                  <a:srgbClr val="ffff00"/>
                </a:solidFill>
                <a:latin typeface="华文行楷"/>
                <a:ea typeface="华文行楷"/>
              </a:rPr>
              <a:t>飞云冉冉蘅皋暮</a:t>
            </a:r>
            <a:r>
              <a:rPr b="1" lang="en-US" sz="4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描绘了一个自吐心曲的处所。 </a:t>
            </a:r>
            <a:r>
              <a:rPr b="1" lang="en-US" sz="4200" spc="-1" strike="noStrike">
                <a:solidFill>
                  <a:srgbClr val="ffff00"/>
                </a:solidFill>
                <a:latin typeface="华文行楷"/>
                <a:ea typeface="华文行楷"/>
              </a:rPr>
              <a:t>彩笔新题断肠句</a:t>
            </a:r>
            <a:r>
              <a:rPr b="1" lang="en-US" sz="4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用犹如江淹曾在梦中得到郭璞授予的富于才华的彩笔来写情诗，来倾注令人悲欲断肠的“</a:t>
            </a:r>
            <a:r>
              <a:rPr b="1" lang="en-US" sz="4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闲愁</a:t>
            </a:r>
            <a:r>
              <a:rPr b="1" lang="en-US" sz="4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”。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200" spc="-1" strike="noStrike">
                <a:solidFill>
                  <a:srgbClr val="ffff00"/>
                </a:solidFill>
                <a:latin typeface="华文行楷"/>
                <a:ea typeface="华文行楷"/>
              </a:rPr>
              <a:t>若问闲愁都几许</a:t>
            </a:r>
            <a:r>
              <a:rPr b="1" lang="en-US" sz="4200" spc="-1" strike="noStrike">
                <a:solidFill>
                  <a:srgbClr val="ffff00"/>
                </a:solidFill>
                <a:latin typeface="华文行楷"/>
                <a:ea typeface="华文行楷"/>
              </a:rPr>
              <a:t>?</a:t>
            </a:r>
            <a:r>
              <a:rPr b="1" lang="en-US" sz="4200" spc="-1" strike="noStrike">
                <a:solidFill>
                  <a:srgbClr val="ffff00"/>
                </a:solidFill>
                <a:latin typeface="华文行楷"/>
                <a:ea typeface="华文行楷"/>
              </a:rPr>
              <a:t>一川烟草，满城风絮，梅子黄时雨。</a:t>
            </a:r>
            <a:r>
              <a:rPr b="1" lang="en-US" sz="4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这闲愁共有多少呢</a:t>
            </a:r>
            <a:r>
              <a:rPr b="1" lang="en-US" sz="4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1" lang="en-US" sz="4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回答是：多到无法计量，多到好比广阔平原上的茂密如烟的春草，好比江南暮春时节满城飘飞的柳绵，好比梅子黄时的连月不停的毛毛细雨。</a:t>
            </a:r>
            <a:r>
              <a:rPr b="0" lang="en-US" sz="4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一是设喻精当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。“闲愁”是抽象的事物，通过这三个比喻，显得非常形象，非常具体可感，给人以极其鲜明的印象。而且春草、飞絮、黄梅雨都给人以愁丝连绵不断的联想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2005112061818347" descr=""/>
          <p:cNvPicPr/>
          <p:nvPr/>
        </p:nvPicPr>
        <p:blipFill>
          <a:blip r:embed="rId2"/>
          <a:stretch/>
        </p:blipFill>
        <p:spPr>
          <a:xfrm>
            <a:off x="5591160" y="5334120"/>
            <a:ext cx="355284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20051120611748714" descr=""/>
          <p:cNvPicPr/>
          <p:nvPr/>
        </p:nvPicPr>
        <p:blipFill>
          <a:blip r:embed="rId2"/>
          <a:stretch/>
        </p:blipFill>
        <p:spPr>
          <a:xfrm>
            <a:off x="5181480" y="5105520"/>
            <a:ext cx="3962520" cy="17524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二是巧用博喻（用多个喻体来比喻同一个本体）：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成功运用博喻，可以更加鲜明更加强烈地突出所要表现的事物的本质特征。三个喻体都有一个共同的突出的特征，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即多到无法计量，而且还在发展变化，越来越多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1:03:19Z</dcterms:created>
  <dc:creator/>
  <dc:description/>
  <dc:language>en-US</dc:language>
  <cp:lastModifiedBy>zmj</cp:lastModifiedBy>
  <dcterms:modified xsi:type="dcterms:W3CDTF">2011-12-20T11:03:26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