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14A-DBCF-4803-A994-746AEB58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9AB-1712-4FD8-B1AD-1711FFE8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CB3-6BD4-4422-9BD4-5A315AE1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310-EC97-4648-8F8F-D54D4EBE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37D1-9429-40A2-BC76-E96A8BCA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900E-4BF6-41C6-9B8E-2AEA0A19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FE2C-7F4C-432D-860F-8DE886A3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7378-6888-4BBF-AA79-83B68796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AE83-6250-47CB-B91B-30C1B40F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E68E-D325-45B9-9853-4FCCF54F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6A2F-1C2D-499A-B927-B7BBC359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90B-474D-496B-B395-4557DE2D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BC9F-917D-448F-959D-65F0446F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845B-84CE-44CA-8AD6-AE1E68AB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D609-0730-42C0-9829-44C93175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FB42-A35B-4715-9603-1EA7AB7E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2B6D-27A5-47F5-AB87-C33FB385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093-C736-4E7E-A1F5-AF99E113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9A3-678D-4162-B4EA-B843C88F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27E-915A-4A8C-9820-80DC5921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896-9272-4EC2-A18B-EA30E3F8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42D-7C6B-4387-AC0D-FF5E3720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BB0-5943-4C21-BE76-DF5E845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788-F683-48D4-B0A3-F3DF26D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1952-19D3-4C92-AF7A-587629103C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5993-8937-4867-8449-CEF6A92254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f198.com/Article/Print.asp?ArticleID=24067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33480" y="907920"/>
            <a:ext cx="913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华文楷体"/>
              </a:rPr>
              <a:t>青玉案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  <a:ea typeface="华文楷体"/>
              </a:rPr>
              <a:t>·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华文楷体"/>
              </a:rPr>
              <a:t>元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42100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华文楷体"/>
                <a:ea typeface="华文楷体"/>
              </a:rPr>
              <a:t>东风夜放花千树，更吹落，星如雨。宝马雕车香满路。凤箫声动，玉壶光转，一夜鱼龙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华文楷体"/>
                <a:ea typeface="华文楷体"/>
              </a:rPr>
              <a:t>蛾儿雪柳黄金缕，笑语盈盈暗香去。众里寻他千百度，蓦然回首，那人却在，灯火阑珊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0" y="1052640"/>
            <a:ext cx="914400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  </a:t>
            </a:r>
            <a:r>
              <a:rPr b="1" lang="en-US" sz="4000" spc="-1" strike="noStrike">
                <a:solidFill>
                  <a:srgbClr val="ff0066"/>
                </a:solidFill>
                <a:latin typeface="华文楷体"/>
                <a:ea typeface="华文楷体"/>
              </a:rPr>
              <a:t>2.“</a:t>
            </a:r>
            <a:r>
              <a:rPr b="1" lang="zh-CN" sz="4000" spc="-1" strike="noStrike">
                <a:solidFill>
                  <a:srgbClr val="ff0066"/>
                </a:solidFill>
                <a:latin typeface="华文楷体"/>
                <a:ea typeface="华文楷体"/>
              </a:rPr>
              <a:t>宝马雕车香满路”“笑语盈盈暗香去”这两句用了什么修辞手法，有什么表达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60" y="3357720"/>
            <a:ext cx="914400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楷体"/>
              </a:rPr>
              <a:t>这两句用了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宋体"/>
                <a:ea typeface="华文楷体"/>
              </a:rPr>
              <a:t>借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楷体"/>
              </a:rPr>
              <a:t>的手法，这样写含蓄而又生动，这些女子的欢闹与下文在“灯火阑珊处”的“那人”形成鲜明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  <a:ea typeface="华文楷体"/>
              </a:rPr>
              <a:t>对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楷体"/>
              </a:rPr>
              <a:t>，突出了后者的可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3480" y="620280"/>
            <a:ext cx="9141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3.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上片主要从哪些方面具体描写元宵节的？采用了什么方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3480" y="2636640"/>
            <a:ext cx="914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。修辞多样：夸张、比喻、借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。多角度的描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a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。多感官的感受：视觉、嗅觉、听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b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。不同的对象：灯、焰火、星、车马、月亮、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077320" y="4876920"/>
            <a:ext cx="738000" cy="1716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19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楷体"/>
              </a:rPr>
              <a:t>下片写了元宵佳节哪两种人？她们各自有怎样的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04760" y="2852640"/>
            <a:ext cx="912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盛妆的贵族女子和“那人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群女像：追寻热闹，追求虚荣；“那人”自甘淡泊，不同流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00720" y="1052640"/>
            <a:ext cx="453708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楷体"/>
              </a:rPr>
              <a:t>表现“那人”自甘淡泊、不同流俗的品格，寄托了词人的理想人格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华文楷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楷体"/>
              </a:rPr>
              <a:t>不同流俗，志怀高远，别有所求的志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920" y="189000"/>
            <a:ext cx="5762520" cy="5180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08000" y="208080"/>
            <a:ext cx="5737320" cy="516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940360" y="765000"/>
            <a:ext cx="29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风夜放花千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元宵节的晚上，春风轻拂，到处张灯结彩，焰火璀璨，像千树的繁花怒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4920" y="208080"/>
            <a:ext cx="5840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诗词，理解句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更吹落，星如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华文楷体"/>
                <a:ea typeface="华文楷体"/>
              </a:rPr>
              <a:t>又如漫天的星斗被风吹落，化作了晶莹的雨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546720" cy="468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03640" y="1555920"/>
            <a:ext cx="34988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5080" y="333360"/>
            <a:ext cx="3898800" cy="6191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宝马雕车香满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游玩的人，熙熙攘攘，比肩接踵，骏马、彩车来来往往，路上弥漫着一种让人兴奋不已的香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00720" y="189000"/>
            <a:ext cx="4224240" cy="6337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427640" y="333360"/>
            <a:ext cx="4271760" cy="6335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12392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凤箫声动，玉壶光转，一夜鱼龙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凤箫声声，歌声阵阵，月儿西沉，天色渐亮，舞彩灯的人兴味盎然，还在舞个不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4160" y="120600"/>
            <a:ext cx="3814560" cy="648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284720" y="3860640"/>
            <a:ext cx="46101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蛾儿雪柳黄金缕，笑语盈盈暗香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那些姑娘，肌肤如雪，身段婀娜，走起路来，似弱柳扶风，头上戴的、身上穿的，华美无比；她的笑容是那么迷人，声音是那么悦耳，她款款而去，只留下令人迷惘的心醉的淡淡的幽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众里寻他千百度，蓦然回首，那人却在，灯火阑珊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熙熙攘攘的人群中，一遍又一遍地寻找那个意中人，却怎么也看不到她，就在几乎绝望的时候，无意中一回头，发现她竟然在灯火稀疏的暗处悄然独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品味内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5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1" lang="en-US" sz="4000" spc="-1" strike="noStrike">
                <a:solidFill>
                  <a:srgbClr val="ff0066"/>
                </a:solidFill>
                <a:latin typeface="华文楷体"/>
                <a:ea typeface="华文楷体"/>
              </a:rPr>
              <a:t>1.“</a:t>
            </a:r>
            <a:r>
              <a:rPr b="1" lang="zh-CN" sz="4000" spc="-1" strike="noStrike">
                <a:solidFill>
                  <a:srgbClr val="ff0066"/>
                </a:solidFill>
                <a:latin typeface="华文楷体"/>
                <a:ea typeface="华文楷体"/>
              </a:rPr>
              <a:t>东风夜放花千树，更吹落、星如雨”这两句用了什么修辞手法，有什么表达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933720"/>
            <a:ext cx="9144000" cy="149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宋体"/>
                <a:ea typeface="华文楷体"/>
              </a:rPr>
              <a:t>  </a:t>
            </a: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华文楷体"/>
              </a:rPr>
              <a:t> </a:t>
            </a: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华文楷体"/>
              </a:rPr>
              <a:t>这两句都用了</a:t>
            </a:r>
            <a:r>
              <a:rPr b="1" lang="zh-CN" sz="4600" spc="-1" strike="noStrike">
                <a:solidFill>
                  <a:srgbClr val="ff0000"/>
                </a:solidFill>
                <a:latin typeface="宋体"/>
                <a:ea typeface="华文楷体"/>
              </a:rPr>
              <a:t>暗喻</a:t>
            </a: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华文楷体"/>
              </a:rPr>
              <a:t>的修辞手法，形象生动地表现了</a:t>
            </a:r>
            <a:r>
              <a:rPr b="1" lang="zh-CN" sz="4600" spc="-1" strike="noStrike">
                <a:solidFill>
                  <a:srgbClr val="ff0000"/>
                </a:solidFill>
                <a:latin typeface="宋体"/>
                <a:ea typeface="华文楷体"/>
              </a:rPr>
              <a:t>元宵之夜张灯结彩，烟花怒放的喜庆景象</a:t>
            </a: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华文楷体"/>
              </a:rPr>
              <a:t>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2:59:10Z</dcterms:created>
  <dc:creator>LENOVO-B9B16E97邓桂堂</dc:creator>
  <dc:description/>
  <cp:keywords/>
  <dc:language>en-US</dc:language>
  <cp:lastModifiedBy>zmj</cp:lastModifiedBy>
  <cp:lastPrinted>1899-12-30T00:00:00Z</cp:lastPrinted>
  <dcterms:modified xsi:type="dcterms:W3CDTF">2009-11-26T05:32:40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