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19.wmf" ContentType="image/x-wmf"/>
  <Override PartName="/ppt/media/image17.wmf" ContentType="image/x-wmf"/>
  <Override PartName="/ppt/media/image22.jpeg" ContentType="image/jpeg"/>
  <Override PartName="/ppt/media/image1.jpeg" ContentType="image/jpeg"/>
  <Override PartName="/ppt/media/image2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E9A-08EA-4918-AF4C-AACD0F7C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7E7-D230-4957-9DC4-21EE178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0D1-8439-4099-A1C3-FE0C6D34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2C2-34E8-4738-AD4C-DF83023D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B49-76C7-4067-98FE-FE750BD5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6F1C-B0E1-4C82-97FE-A1E73D50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7E1-7D1F-4CDA-8505-4252AAF1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A17-70E7-49B7-A411-EE48FE5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845-4CC5-453E-AD69-80B078F7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CD1D-84A2-4EDE-849D-1453B765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05EC-80FE-4854-B9D0-2E3DD68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263-CA8D-4E20-8719-94C0006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94F-CC42-4781-A804-0E9A47E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4286-9501-47D9-B643-C322025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471B-C236-4F04-9A67-F67187E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FE4F-0466-496F-AC1B-36D7BF6B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B4E-BE18-4593-B224-81BED802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477-1189-43C7-8D13-166707C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BBB-9E5F-4C3F-BB90-7F1B370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1E9-0B28-4355-8802-BFDB767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7DC-B460-411F-9277-2DFC393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796-4CD5-46D5-AE55-9DC9960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6D2-92B5-4F29-951C-555347E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359-2F56-4650-86A7-E478C60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C5AD-EBBE-4291-A1AA-032BCB488BF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CFD1-64C0-4748-BDFA-EA3BC02CF5E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gtpw.com/ReadNews.asp?NewsID=51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tour.com/snapshot/2006-2-5/snapshot_31903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clady.com.cn/style/sj/hy/0601/69850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f198.com/Article/Print.asp?ArticleID=24067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unt-tai.cn/taishan/wencui/lishigushi/xinqiji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5400000">
            <a:off x="0" y="213336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辛弃疾词三首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943600"/>
            <a:ext cx="9144000" cy="764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广东省阳西县第一中学 涂坤林  制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2410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1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辛弃疾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比陆游小十五岁，出生时北方久已沦陷于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女真人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之手。他的祖父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辛赞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虽在金国任职，却一直希望有机会“投衅而起，以纾君父所不共戴天之愤”，并常常带着辛弃疾“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登高望远，指画山河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”（《美芹十论》），同时，辛弃疾也不断亲眼目睹汉人在女真人统治下所受的屈辱与痛苦，这一切使他在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青少年时代就立下了恢复中原、报国雪耻的志向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。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而另一方面，正由于辛弃疾是在金人统治下的北方长大的，他也较少受到使人一味循规蹈矩的传统文化教育，在他身上，有一种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燕赵奇士的侠义之气。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绍兴三十一年（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1161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金主完颜亮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大举南侵，在其后方的汉族人民由于不堪金人严苛压榨，奋起反抗。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22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岁的辛弃疾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也聚集了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千人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参加由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耿京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领导的一支声势浩大的起义军，并担任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掌书记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当金人内部矛盾爆发，完颜亮在前线为部下所杀，金军向北撤退时，辛弃疾于绍兴三十二年（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1162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奉命南下与南宋朝廷联络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在他完成使命归来的途中，听到耿京被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叛徒张安国所杀、义军溃散的消息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便率领五十多人袭击敌营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把叛徒擒拿带回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建康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交给南宋朝廷处决。辛弃疾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惊人的勇敢和果断，使他名重一时，“壮声英概，懦士为之兴起，圣天子一见三叹息”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（洪迈《稼轩记》）。宋高宗便任命他为江阴签判，从此开始了他在南宋的仕宦生涯，这时他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才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23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岁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辛弃疾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初来南方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对朝廷的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怯懦和畏缩并不了解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加上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宋高宗赵构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曾赞许过他的英勇行为，不久后即位的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宋孝宗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度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表现出想要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恢复失地、报仇雪耻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锐气，所以在他南宋任职前一时期中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曾热情洋溢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地写了不少有关抗金北伐的建议，像著名的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美芹十论》、《九议》等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尽管这些建议书在当时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深受人们称赞，广为传诵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但已经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愿意再打仗的朝廷却反映冷淡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只是对辛弃疾在建议书中所表现出的实际才干很感兴趣，于是先后把他派到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江西、湖北、湖南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等地担任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转运使、安抚使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一类重要地方官职，去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治理荒政、整顿治安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这显然与辛弃疾的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理想大相径庭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虽然他干得很出色，但由于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深感岁月流驰、人生短暂而壮志难酬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内心却越来越感到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压抑和痛苦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r>
              <a:rPr b="0" lang="zh-CN" sz="2000" spc="-1" strike="noStrike">
                <a:solidFill>
                  <a:srgbClr val="ffffe1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ffffe1"/>
                </a:solidFill>
                <a:latin typeface="华文楷体"/>
                <a:ea typeface="华文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983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然而现实对辛弃疾是严酷的。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他虽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有出色的才干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他的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豪迈倔强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性格和执着北伐的热情，却使他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难以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在畏缩而圆滑、又嫉贤妒能的官场上立足。他也意识到自己“刚拙自信，年来不为众人所容”（《论盗贼札子》），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所以早已做好了归隐的准备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并在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江西上饶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带湖畔修建了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园榭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以便离职后定居。果然，淳熙八年（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181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冬，辛弃疾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42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岁时，因受到弹劾而被免职，归居上饶。此后二十年间，他除了有两年一度出任福建提点刑狱和安抚使外，大部分时间都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在乡闲居。</a:t>
            </a:r>
            <a:r>
              <a:rPr b="0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辛弃疾一向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很羡慕啸傲山林的隐逸高人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闲居乡野同他的人生观并非没有契合之处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；而且，由于过去的地位，他的生活也尽可以过得颇为奢华。但是，作为一个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热血男儿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、一个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风云人物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在正是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大有作为的壮年被迫离开政治舞台，这又使他难以忍受。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所以，他常常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面尽情赏玩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着山水田园风光和其中的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恬静之趣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面心灵深处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又不停地涌起波澜，时而为一生的理想所激动，时而因现实的无情而愤怒和灰心，时而又强自宽慰，作旷达之想，在这种感情起伏中度过了后半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宁宗嘉泰三年（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203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，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主张北伐的韩侂胄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起用主战派人士，已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64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岁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辛弃疾被任为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绍兴知府兼浙东安抚使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年迈的词人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精神为之一振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第二年，他晋见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宋宁宗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激昂慷慨地说了一番金国“必乱必亡”（《建炎以来朝野杂记》乙集），并亲自到前线镇江任职。 </a:t>
            </a:r>
            <a:br>
              <a:rPr sz="3600"/>
            </a:b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　　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但他又一次受到了沉重打击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在一些谏官的攻击下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被迫离职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于开禧元年（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1205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）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重回故宅闲居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虽然后两年都曾被召任职，无奈年老多病，身体衰弱，终于在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开禧三年秋天溘然长逝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71800" y="19810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202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在辛弃疾生活的时代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南宋朝廷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始终存在着对金妥协屈服和坚决抗金收复中原的所谓“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和战之争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”。辛弃疾是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坚定的主战派，他有将人相之才，智勇兼备。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他一生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以气节自负，以功业自许，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抗金复国之志，始终如一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但偏安的南宋小朝廷长期都是由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主和派把持朝政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对主战派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多般排挤打击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对辛弃疾这样的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爱国志士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始终都不敢放手使用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使他怀抱利器，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生不得重用，抱憾而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406520"/>
            <a:ext cx="9144000" cy="277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辛弃疾是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南宋爱国词派的代表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是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两宋豪放词派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代表，是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宋词的集大成者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有《稼轩长短句》四卷。他流传至今的词作计有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620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多首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数量居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两宋词家之冠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他的词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继承和发展了苏轼的豪放风格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把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爱国词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的创作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推向顶峰。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他的词唱出了那个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时代的最强音，充满着同仇敌忾的爱国热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90920" y="15228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成就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         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同时辛弃疾也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吸取婉约词的蕴藉细腻的长处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兼容众体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吸取各家之长。在以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豪雄英伟之气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为主调的同时，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也不乏妩媚、清丽、委婉之作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兼有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俚俗幽默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之调，形成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以豪放沉郁为主调的多样化的艺术风格</a:t>
            </a:r>
            <a:r>
              <a:rPr b="1" lang="zh-CN" sz="48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“足以领袖一代，雄视百家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成就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青玉案</a:t>
            </a:r>
            <a:r>
              <a:rPr b="1" lang="zh-CN" sz="66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·</a:t>
            </a:r>
            <a:r>
              <a:rPr b="1" lang="zh-CN" sz="66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元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01800"/>
            <a:ext cx="9144000" cy="992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东风夜放花千树，更吹落，星如雨。宝马雕车香满路。凤箫声动，玉壶光转，一夜鱼龙舞。</a:t>
            </a:r>
            <a:r>
              <a:rPr b="1" lang="zh-CN" sz="52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   蛾儿雪柳黄金缕，笑语盈盈暗香去。</a:t>
            </a:r>
            <a:r>
              <a:rPr b="1" lang="zh-CN" sz="5900" spc="-1" strike="noStrike">
                <a:solidFill>
                  <a:srgbClr val="ffffe1"/>
                </a:solidFill>
                <a:latin typeface="华文楷体"/>
                <a:ea typeface="华文楷体"/>
              </a:rPr>
              <a:t>众里寻他千百度，蓦然回首，那人却在，灯火阑珊处。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3657240" y="327636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京口北固亭怀古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6590880" y="323856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永遇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sp>
        <p:nvSpPr>
          <p:cNvPr id="102" name=""/>
          <p:cNvSpPr/>
          <p:nvPr/>
        </p:nvSpPr>
        <p:spPr>
          <a:xfrm>
            <a:off x="231840" y="1752480"/>
            <a:ext cx="546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38680" y="152280"/>
            <a:ext cx="3048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旧知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486400" y="3809880"/>
            <a:ext cx="325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元夕节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752480" y="0"/>
            <a:ext cx="12191760" cy="9372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1360" y="934920"/>
            <a:ext cx="786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东风夜放花千树，更吹落 、星如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27000"/>
            <a:ext cx="9144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宝马  雕车  香  满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凤箫声动，玉壶光转，一夜鱼龙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68360" y="4292640"/>
          <a:ext cx="3478320" cy="17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292640"/>
                    <a:ext cx="34783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64440" y="2208240"/>
          <a:ext cx="2160360" cy="382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4440" y="2208240"/>
                    <a:ext cx="216036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989640"/>
            <a:ext cx="9144000" cy="764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蛾儿雪柳黄金缕，笑语盈盈暗香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39840" y="22320"/>
          <a:ext cx="2487600" cy="58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22320"/>
                    <a:ext cx="248760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91320" y="4495680"/>
          <a:ext cx="1550880" cy="14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4495680"/>
                    <a:ext cx="155088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514600" y="2023200"/>
            <a:ext cx="6629400" cy="1008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e1"/>
                </a:solidFill>
                <a:latin typeface="华文隶书"/>
                <a:ea typeface="华文隶书"/>
              </a:rPr>
              <a:t>众里寻他千百度，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0161720" cy="7621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833000" y="0"/>
            <a:ext cx="4752360" cy="7696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e1"/>
                </a:solidFill>
                <a:latin typeface="Arial"/>
                <a:ea typeface="华文楷体"/>
              </a:rPr>
              <a:t>众里寻他千百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楷体"/>
              </a:rPr>
              <a:t>蓦然回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楷体"/>
              </a:rPr>
              <a:t>那人却在灯火阑珊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学习表现手法，分析表达效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1.“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东风夜放花千树，更吹落、星如雨”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这两句用了什么修辞手法，有什么表达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556000"/>
            <a:ext cx="9144000" cy="2196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   </a:t>
            </a: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提示：</a:t>
            </a:r>
            <a:r>
              <a:rPr b="1" lang="zh-CN" sz="4600" spc="-1" strike="noStrike">
                <a:solidFill>
                  <a:srgbClr val="ffffe1"/>
                </a:solidFill>
                <a:latin typeface="宋体"/>
                <a:ea typeface="华文楷体"/>
              </a:rPr>
              <a:t>这两句都用了</a:t>
            </a: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暗喻</a:t>
            </a:r>
            <a:r>
              <a:rPr b="1" lang="zh-CN" sz="4600" spc="-1" strike="noStrike">
                <a:solidFill>
                  <a:srgbClr val="ffffe1"/>
                </a:solidFill>
                <a:latin typeface="宋体"/>
                <a:ea typeface="华文楷体"/>
              </a:rPr>
              <a:t>的修辞手法，前句把繁多的灯火</a:t>
            </a: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比作</a:t>
            </a:r>
            <a:r>
              <a:rPr b="1" lang="zh-CN" sz="4600" spc="-1" strike="noStrike">
                <a:solidFill>
                  <a:srgbClr val="ffffe1"/>
                </a:solidFill>
                <a:latin typeface="宋体"/>
                <a:ea typeface="华文楷体"/>
              </a:rPr>
              <a:t>千树花，后句把满天的烟花</a:t>
            </a: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比作似</a:t>
            </a:r>
            <a:r>
              <a:rPr b="1" lang="zh-CN" sz="4600" spc="-1" strike="noStrike">
                <a:solidFill>
                  <a:srgbClr val="ffffe1"/>
                </a:solidFill>
                <a:latin typeface="宋体"/>
                <a:ea typeface="华文楷体"/>
              </a:rPr>
              <a:t>雨点般落下的星星，极为形象的</a:t>
            </a: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渲染</a:t>
            </a:r>
            <a:r>
              <a:rPr b="1" lang="zh-CN" sz="4600" spc="-1" strike="noStrike">
                <a:solidFill>
                  <a:srgbClr val="ffffe1"/>
                </a:solidFill>
                <a:latin typeface="宋体"/>
                <a:ea typeface="华文楷体"/>
              </a:rPr>
              <a:t>了元宵之夜张灯结彩，烟花怒放的喜庆景象。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2.“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宝马雕车香满路”“笑语盈盈暗香去”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这两句用了什么修辞手法，有什么表达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57400"/>
            <a:ext cx="9144000" cy="2836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提示：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这两句用了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借代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的手法，“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香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”“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暗香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”均是借体香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来指代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那些打扮得花枝招展，争相去看灯、戏耍的女子，这样写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含蓄而又生动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，这些女子的欢闹与下文在“灯火阑珊处”的“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那人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”形成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鲜明的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对比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，突出了后者的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华文楷体"/>
              </a:rPr>
              <a:t>可贵</a:t>
            </a:r>
            <a:r>
              <a:rPr b="1" lang="zh-CN" sz="4400" spc="-1" strike="noStrike">
                <a:solidFill>
                  <a:srgbClr val="ffffe1"/>
                </a:solidFill>
                <a:latin typeface="宋体"/>
                <a:ea typeface="华文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5248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e1"/>
                </a:solidFill>
                <a:latin typeface="华文行楷"/>
                <a:ea typeface="华文行楷"/>
              </a:rPr>
              <a:t>                     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西江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明月别枝惊鹊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清风半夜鸣蝉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稻花香里说丰年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听取蛙声一片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七八个星天外，两三点雨山前。旧时茅店社林边，路转溪桥忽见。</a:t>
            </a:r>
            <a:r>
              <a:rPr b="1" lang="zh-CN" sz="5400" spc="-1" strike="noStrike">
                <a:solidFill>
                  <a:srgbClr val="ffffe1"/>
                </a:solidFill>
                <a:latin typeface="华文楷体"/>
                <a:ea typeface="华文楷体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问题：上片描写了元宵佳节</a:t>
            </a: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怎样的场面？</a:t>
            </a:r>
            <a:r>
              <a:rPr b="1" lang="zh-CN" sz="42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主要从</a:t>
            </a: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哪些方面</a:t>
            </a:r>
            <a:r>
              <a:rPr b="1" lang="zh-CN" sz="42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展开具体描写的？采用了</a:t>
            </a: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什么方法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描写了元宵佳节的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热闹场面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花千树”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夸张手法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写花灯之多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;“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星如雨”用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比喻手法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写烟花之盛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;“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宝马雕车”写观灯的贵族女性的华贵，“香满路”写观花灯和烟花的贵族女性之众多。    “凤箫声动，玉壶光转，一夜鱼龙舞”用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动、转、舞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三个动词写舞灯之欢，运用了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铺陈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排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手法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渲染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元宵节的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热闹气氛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077320" y="4876920"/>
            <a:ext cx="738000" cy="1716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Arial"/>
                <a:ea typeface="华文楷体"/>
              </a:rPr>
              <a:t>下片写了元宵佳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哪两种人？</a:t>
            </a:r>
            <a:r>
              <a:rPr b="1" lang="zh-CN" sz="4000" spc="-1" strike="noStrike">
                <a:solidFill>
                  <a:srgbClr val="ffffe1"/>
                </a:solidFill>
                <a:latin typeface="Arial"/>
                <a:ea typeface="华文楷体"/>
              </a:rPr>
              <a:t>从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哪些方面</a:t>
            </a:r>
            <a:r>
              <a:rPr b="1" lang="zh-CN" sz="4000" spc="-1" strike="noStrike">
                <a:solidFill>
                  <a:srgbClr val="ffffe1"/>
                </a:solidFill>
                <a:latin typeface="Arial"/>
                <a:ea typeface="华文楷体"/>
              </a:rPr>
              <a:t>来写？表现了她们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各自怎样的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95280"/>
            <a:ext cx="9144000" cy="2044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是写盛妆的贵族女子，二是写作者心中关切的“那人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写贵族女子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三个方面进行：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是她的服饰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她们戴着蛾儿、雪柳、黄金缕从，表现她们妆扮的华贵和高贵的身份。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是写她们的欢声笑语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用“笑语盈盈”表现她们节日之欢。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是写她们纷纷离开后，衣香还在空中飘散。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通过这些描写，进一步具体表现元宵佳节的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繁华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写“那人”着墨不多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既没写她的服饰，也没有写她的表情，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只写了她所在的环境，是一个僻静的角落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但我们可以想象到她的表情，感受到她的品性，作者就是要表现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她的自甘淡泊，不同流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    </a:t>
            </a:r>
            <a:r>
              <a:rPr b="1" lang="zh-CN" sz="38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你觉得词中的“那人”是作者的</a:t>
            </a: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意中人</a:t>
            </a:r>
            <a:r>
              <a:rPr b="1" lang="zh-CN" sz="38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，还是作者</a:t>
            </a: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理想人格的化身？</a:t>
            </a:r>
            <a:r>
              <a:rPr b="1" lang="zh-CN" sz="3800" spc="-1" strike="noStrike">
                <a:solidFill>
                  <a:srgbClr val="ffffe1"/>
                </a:solidFill>
                <a:latin typeface="Times New Roman"/>
                <a:ea typeface="华文楷体"/>
              </a:rPr>
              <a:t>作者要借此表达</a:t>
            </a:r>
            <a:r>
              <a:rPr b="1" lang="zh-CN" sz="3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怎样的思想感情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828800"/>
            <a:ext cx="9144000" cy="1556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题临安邸   林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山外青山楼外楼，西湖歌舞几时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暖风熏得游人醉，直把杭州作汴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354480"/>
            <a:ext cx="914400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e1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ffe1"/>
                </a:solidFill>
                <a:latin typeface="Arial"/>
                <a:ea typeface="华文楷体"/>
              </a:rPr>
              <a:t>当时祖国的半壁江山处在侵略者铁蹄的蹂躏之下，但南宋小朝廷置沦陷的中原故土于不顾，夜夜笙歌，醉生梦死，偏安江南一隅，对力主恢复中原的爱国志士排挤打击。作者在《青玉案》一词中借盛妆丽服、一夜狂欢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楷体"/>
              </a:rPr>
              <a:t>贵族女子讽刺</a:t>
            </a:r>
            <a:r>
              <a:rPr b="1" lang="zh-CN" sz="3200" spc="-1" strike="noStrike">
                <a:solidFill>
                  <a:srgbClr val="ffffe1"/>
                </a:solidFill>
                <a:latin typeface="Arial"/>
                <a:ea typeface="华文楷体"/>
              </a:rPr>
              <a:t>歌舞升平、不思恢复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楷体"/>
              </a:rPr>
              <a:t>南宋朝廷</a:t>
            </a:r>
            <a:r>
              <a:rPr b="1" lang="zh-CN" sz="3200" spc="-1" strike="noStrike">
                <a:solidFill>
                  <a:srgbClr val="ffffe1"/>
                </a:solidFill>
                <a:latin typeface="Arial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楷体"/>
              </a:rPr>
              <a:t>借“那人”</a:t>
            </a:r>
            <a:r>
              <a:rPr b="1" lang="zh-CN" sz="3200" spc="-1" strike="noStrike">
                <a:solidFill>
                  <a:srgbClr val="ffffe1"/>
                </a:solidFill>
                <a:latin typeface="Arial"/>
                <a:ea typeface="华文楷体"/>
              </a:rPr>
              <a:t>表明自己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楷体"/>
              </a:rPr>
              <a:t>不愿与主和派同流合污的政治立场和自甘淡泊的理想人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这首词在描写和抒情上有什么特点？属于什么风格？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33520"/>
            <a:ext cx="9144000" cy="2994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托寓手法。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借对元宵盛况的描写，表现那人自甘淡泊、不同流俗的品格，寄托作者不同流俗的理想人格，表明不与媚敌求荣的主和派同流合污、坚持抗敌报国的正义立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善于铺陈。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从花灯之多、烟花之盛、游人之众、舞灯之欢等方面表现元宵佳节的繁华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对比手法。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将世俗之人在元宵佳节上的表现与“那人”的表现进行对比，表现了“那人”自甘淡泊、不同流俗的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豪放、婉约兼具。</a:t>
            </a:r>
            <a:r>
              <a:rPr b="1" lang="zh-CN" sz="2800" spc="-1" strike="noStrike">
                <a:solidFill>
                  <a:srgbClr val="ffffe1"/>
                </a:solidFill>
                <a:latin typeface="华文楷体"/>
                <a:ea typeface="华文楷体"/>
              </a:rPr>
              <a:t>写的是元宵灯会的盛况，写花灯、烟花、龙灯，写贵族妇女的盛妆丽服和欢声笑语，形式上是婉约的。但表达的是不同流俗的政治理想，可谓寄劲于婉，寓刚于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比较李清照的《永遇乐》和辛弃疾的《青玉案》在立意和表现手法上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相同之处：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都以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元宵灯节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为描写对象，但目的都不在表现节日的繁华热闹，渲染欢乐的气氛。都运用了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对比手法</a:t>
            </a:r>
            <a:r>
              <a:rPr b="1" lang="zh-CN" sz="36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同之处：辛词只写了今年元宵的盛况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没有回顾过去的元宵，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李词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没有直接写今年元宵的繁华热闹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而重点回忆昔日元宵的盛况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因为二者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立意不同，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李词旨在表达身世之悲和家园之慨，而辛词则旨在表现不同流俗的理想追求，表达对奉行投降政策的南宋朝廷的不满，表达自己的政治操守和高洁人格。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表现手法上</a:t>
            </a:r>
            <a:r>
              <a:rPr b="1" lang="zh-CN" sz="32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李词有今与昔的对比，也有我与人的对比；而辛词则只有世俗女子与“那人”的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9144000" cy="2168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《青玉案》借对元宵盛况的描写，表现“那人”自甘淡泊、不同流俗的品格，寄托了词人的理想人格——不同流俗，志怀高远，别有所求的志向。其政治含义就是不与媚敌求荣的主和派同流合污，坚持抗敌报国的正义立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3719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华文楷体"/>
              </a:rPr>
              <a:t>　</a:t>
            </a:r>
            <a:r>
              <a:rPr b="0" lang="zh-CN" sz="3600" spc="-1" strike="noStrike">
                <a:solidFill>
                  <a:srgbClr val="003399"/>
                </a:solidFill>
                <a:latin typeface="华文楷体"/>
                <a:ea typeface="华文楷体"/>
              </a:rPr>
              <a:t>　</a:t>
            </a:r>
            <a:r>
              <a:rPr b="1" lang="zh-TW" sz="4800" spc="-1" strike="noStrike">
                <a:solidFill>
                  <a:srgbClr val="ffffe1"/>
                </a:solidFill>
                <a:latin typeface="华文行楷"/>
                <a:ea typeface="华文楷体"/>
              </a:rPr>
              <a:t>古今成大事業大學問者，必經過三種境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e1"/>
                </a:solidFill>
                <a:latin typeface="华文行楷"/>
                <a:ea typeface="华文楷体"/>
              </a:rPr>
              <a:t>「昨夜西風凋碧樹，獨上高樓，望盡天涯路。」此第一境也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e1"/>
                </a:solidFill>
                <a:latin typeface="华文行楷"/>
                <a:ea typeface="华文楷体"/>
              </a:rPr>
              <a:t>「衣帶漸寬終不悔，為伊消得人憔悴。」此第二境也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e1"/>
                </a:solidFill>
                <a:latin typeface="华文行楷"/>
                <a:ea typeface="华文楷体"/>
              </a:rPr>
              <a:t>「眾裡尋他千百度，驀然回首，那人卻在、燈火闌珊處。」此第三境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99"/>
                </a:solidFill>
                <a:latin typeface="Arial"/>
                <a:ea typeface="华文楷体"/>
              </a:rPr>
              <a:t>王國維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华文楷体"/>
              </a:rPr>
              <a:t>《</a:t>
            </a:r>
            <a:r>
              <a:rPr b="0" lang="zh-TW" sz="1800" spc="-1" strike="noStrike">
                <a:solidFill>
                  <a:srgbClr val="003399"/>
                </a:solidFill>
                <a:latin typeface="Arial"/>
                <a:ea typeface="华文楷体"/>
              </a:rPr>
              <a:t>人間詞話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华文楷体"/>
              </a:rPr>
              <a:t>》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  <a:ea typeface="华文楷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372600" cy="747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e1"/>
                </a:solidFill>
                <a:latin typeface="华文楷体"/>
                <a:ea typeface="华文楷体"/>
              </a:rPr>
              <a:t>丑奴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e1"/>
                </a:solidFill>
                <a:latin typeface="华文楷体"/>
                <a:ea typeface="华文楷体"/>
              </a:rPr>
              <a:t>	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少年不识愁滋味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爱上层楼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爱上层楼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为赋新词强说愁</a:t>
            </a:r>
            <a:r>
              <a:rPr b="1" lang="zh-CN" sz="6600" spc="-1" strike="noStrike">
                <a:solidFill>
                  <a:srgbClr val="ffff00"/>
                </a:solidFill>
                <a:latin typeface="华文楷体"/>
                <a:ea typeface="华文楷体"/>
              </a:rPr>
              <a:t>.</a:t>
            </a:r>
            <a:r>
              <a:rPr b="1" lang="zh-CN" sz="7200" spc="-1" strike="noStrike">
                <a:solidFill>
                  <a:srgbClr val="ffffe1"/>
                </a:solidFill>
                <a:latin typeface="华文楷体"/>
                <a:ea typeface="华文楷体"/>
              </a:rPr>
              <a:t>   </a:t>
            </a:r>
            <a:r>
              <a:rPr b="1" lang="zh-CN" sz="7200" spc="-1" strike="noStrike">
                <a:solidFill>
                  <a:srgbClr val="ffffe1"/>
                </a:solidFill>
                <a:latin typeface="华文楷体"/>
                <a:ea typeface="华文楷体"/>
              </a:rPr>
              <a:t>	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而今识得愁滋味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欲说还休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欲说还休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却道天凉好个秋</a:t>
            </a:r>
            <a:r>
              <a:rPr b="1" lang="zh-CN" sz="66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7166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千古江山，英雄无觅，孙仲谋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凭谁问：廉颇老矣，尚能饭否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何处望神州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满眼风光北固楼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千古兴亡多少事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悠悠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尽长江滚滚流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青山遮不住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毕竟东流去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把吴钩看了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栏干拍遍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无人会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登临意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明月别枝惊鹊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清风半夜鸣蝉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稻花香里说丰年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听取蛙声一片</a:t>
            </a:r>
            <a:r>
              <a:rPr b="1" lang="zh-CN" sz="4000" spc="-1" strike="noStrike">
                <a:solidFill>
                  <a:srgbClr val="ffffe1"/>
                </a:solidFill>
                <a:latin typeface="华文楷体"/>
                <a:ea typeface="华文楷体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50720"/>
            <a:ext cx="914400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e1"/>
                </a:solidFill>
                <a:latin typeface="Arial"/>
              </a:rPr>
              <a:t>王国维</a:t>
            </a:r>
            <a:r>
              <a:rPr b="1" lang="zh-CN" sz="7200" spc="-1" strike="noStrike">
                <a:solidFill>
                  <a:srgbClr val="ffffe1"/>
                </a:solidFill>
                <a:latin typeface="Arial"/>
              </a:rPr>
              <a:t>&lt;&lt;</a:t>
            </a:r>
            <a:r>
              <a:rPr b="1" lang="zh-CN" sz="7200" spc="-1" strike="noStrike">
                <a:solidFill>
                  <a:srgbClr val="ffffe1"/>
                </a:solidFill>
                <a:latin typeface="Arial"/>
              </a:rPr>
              <a:t>人间词话</a:t>
            </a:r>
            <a:r>
              <a:rPr b="1" lang="zh-CN" sz="7200" spc="-1" strike="noStrike">
                <a:solidFill>
                  <a:srgbClr val="ffffe1"/>
                </a:solidFill>
                <a:latin typeface="Arial"/>
              </a:rPr>
              <a:t>&gt;&gt;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21381600">
            <a:off x="311040" y="2592360"/>
            <a:ext cx="845820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东坡之词旷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,</a:t>
            </a: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稼轩之词豪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.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37560" y="762120"/>
            <a:ext cx="2649240" cy="502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e1"/>
                </a:solidFill>
                <a:latin typeface="Times New Roman"/>
                <a:ea typeface="隶书"/>
              </a:rPr>
              <a:t>铁板铜琶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继东坡</a:t>
            </a:r>
            <a:r>
              <a:rPr b="0" lang="zh-CN" sz="5400" spc="-1" strike="noStrike">
                <a:solidFill>
                  <a:srgbClr val="ffffe1"/>
                </a:solidFill>
                <a:latin typeface="Times New Roman"/>
                <a:ea typeface="隶书"/>
              </a:rPr>
              <a:t>高唱大江东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134640" y="762120"/>
            <a:ext cx="2649240" cy="502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美芹悲</a:t>
            </a:r>
            <a:r>
              <a:rPr b="0" lang="zh-CN" sz="5400" spc="-1" strike="noStrike">
                <a:solidFill>
                  <a:srgbClr val="ffffe1"/>
                </a:solidFill>
                <a:latin typeface="Times New Roman"/>
                <a:ea typeface="隶书"/>
              </a:rPr>
              <a:t>黍冀南宋莫随鸿雁南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2932920" y="1790640"/>
            <a:ext cx="30481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作者简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0400" y="0"/>
            <a:ext cx="5943600" cy="277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辛弃疾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字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幼安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号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稼轩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历城人（山东济南人），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南宋爱国词人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一生主张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抗金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，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渴望恢复中原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在词人中，他是个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英雄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其词抒写力图恢复国家统一的爱国热情，倾诉壮志难酬的悲愤。著有词集</a:t>
            </a:r>
            <a:r>
              <a:rPr b="1" lang="zh-CN" sz="4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稼轩长短句》</a:t>
            </a:r>
            <a:r>
              <a:rPr b="1" lang="zh-CN" sz="4400" spc="-1" strike="noStrike">
                <a:solidFill>
                  <a:srgbClr val="ffffe1"/>
                </a:solidFill>
                <a:latin typeface="华文楷体"/>
                <a:ea typeface="华文楷体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581280" y="4419720"/>
            <a:ext cx="47246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平经历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1:52:09Z</dcterms:created>
  <dc:creator>sdjiajia</dc:creator>
  <dc:description/>
  <dc:language>en-US</dc:language>
  <cp:lastModifiedBy>Lenovo User</cp:lastModifiedBy>
  <dcterms:modified xsi:type="dcterms:W3CDTF">2008-06-03T01:52:10Z</dcterms:modified>
  <cp:revision>184</cp:revision>
  <dc:subject/>
  <dc:title>PowerPoint 演示文稿</dc:title>
</cp:coreProperties>
</file>