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B97-50F4-4720-9467-5BC26C65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261-5D7E-43E3-B881-675363C7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2BD-3870-4774-9A5C-36E6597B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2E8-C7D0-4C80-9BA1-F8B49173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D77-1FB5-4177-86EE-7F6D78C9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C34-157B-4B5D-9526-C70A276D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379-49EB-44F4-8433-32B822C4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143-CE39-40B5-B321-EC918119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488-9CDA-4A19-BFC6-06C82C51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C08-9CCA-441C-83AB-8CAE079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99F-C109-4DF7-AF6E-7F08197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22E-5ECC-4642-8109-388895D3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A687-3378-4E7F-9770-19E90CE9EE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145" descr="D:\rh\photo\屈原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169" descr="D:\rh\photo\郭沫若.bmp"/>
          <p:cNvPicPr/>
          <p:nvPr/>
        </p:nvPicPr>
        <p:blipFill>
          <a:blip r:embed="rId1"/>
          <a:stretch/>
        </p:blipFill>
        <p:spPr>
          <a:xfrm>
            <a:off x="152280" y="457200"/>
            <a:ext cx="3936960" cy="62485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7170"/>
          <p:cNvSpPr/>
          <p:nvPr/>
        </p:nvSpPr>
        <p:spPr>
          <a:xfrm>
            <a:off x="4191120" y="533520"/>
            <a:ext cx="43434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郭沫若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: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作家、诗人、历史学家、剧作家、考古学家、古文字学家、社会活动家。原名开贞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代表作：诗集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女神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历史剧 ：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屈原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棠棣之花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虎符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高渐离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南冠草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8193"/>
          <p:cNvSpPr/>
          <p:nvPr/>
        </p:nvSpPr>
        <p:spPr>
          <a:xfrm>
            <a:off x="838080" y="685800"/>
            <a:ext cx="74678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全剧分为五幕      “橘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                  “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受诬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                  “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招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                   “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被囚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                  “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雷电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课文节选的是第五幕的第二场，是全剧的高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圆角矩形标注 8195"/>
          <p:cNvSpPr/>
          <p:nvPr/>
        </p:nvSpPr>
        <p:spPr>
          <a:xfrm>
            <a:off x="2057400" y="4343400"/>
            <a:ext cx="6095880" cy="2209680"/>
          </a:xfrm>
          <a:prstGeom prst="wedgeRoundRectCallout">
            <a:avLst>
              <a:gd name="adj1" fmla="val -4972"/>
              <a:gd name="adj2" fmla="val -643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历史研究是“实事求是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历史剧创作是“失事求是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0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6858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幼圆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把握历史剧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屈原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的现实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9219"/>
          <p:cNvSpPr/>
          <p:nvPr/>
        </p:nvSpPr>
        <p:spPr>
          <a:xfrm>
            <a:off x="533520" y="26668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通过屈原的内心独白“雷电颂”的分析，认识屈原为正义和光明而战斗不屈的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9220"/>
          <p:cNvSpPr/>
          <p:nvPr/>
        </p:nvSpPr>
        <p:spPr>
          <a:xfrm>
            <a:off x="990720" y="42670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了解历史剧的艺术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cb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099"/>
          <p:cNvSpPr/>
          <p:nvPr/>
        </p:nvSpPr>
        <p:spPr>
          <a:xfrm>
            <a:off x="22860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雷电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4100"/>
          <p:cNvSpPr/>
          <p:nvPr/>
        </p:nvSpPr>
        <p:spPr>
          <a:xfrm>
            <a:off x="1752480" y="2286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左大括号 4101"/>
          <p:cNvSpPr/>
          <p:nvPr/>
        </p:nvSpPr>
        <p:spPr>
          <a:xfrm>
            <a:off x="3276720" y="160020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4104"/>
          <p:cNvSpPr/>
          <p:nvPr/>
        </p:nvSpPr>
        <p:spPr>
          <a:xfrm>
            <a:off x="3657600" y="914400"/>
            <a:ext cx="5257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奸佞神殿密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屈原激愤独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婵娟悲壮献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劝诱－献身－火葬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4105"/>
          <p:cNvSpPr/>
          <p:nvPr/>
        </p:nvSpPr>
        <p:spPr>
          <a:xfrm>
            <a:off x="685800" y="1828800"/>
            <a:ext cx="54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2049"/>
          <p:cNvSpPr/>
          <p:nvPr/>
        </p:nvSpPr>
        <p:spPr>
          <a:xfrm>
            <a:off x="152280" y="228600"/>
            <a:ext cx="868680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黑暗势力           光明力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（秦国）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    （楚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张仪         国王       屈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南后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婵娟              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靳尚            河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郑詹伊        卫士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子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宋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圆角矩形标注 2050"/>
          <p:cNvSpPr/>
          <p:nvPr/>
        </p:nvSpPr>
        <p:spPr>
          <a:xfrm>
            <a:off x="457200" y="762120"/>
            <a:ext cx="3962520" cy="2743200"/>
          </a:xfrm>
          <a:prstGeom prst="wedgeRoundRectCallout">
            <a:avLst>
              <a:gd name="adj1" fmla="val 55407"/>
              <a:gd name="adj2" fmla="val 931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邪恶、阴暗、卖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蒙面、诡谲地登场、怕“惹出乱子”，战战兢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椭圆形标注 2057"/>
          <p:cNvSpPr/>
          <p:nvPr/>
        </p:nvSpPr>
        <p:spPr>
          <a:xfrm>
            <a:off x="228600" y="3733920"/>
            <a:ext cx="4038480" cy="2819160"/>
          </a:xfrm>
          <a:prstGeom prst="wedgeEllipseCallout">
            <a:avLst>
              <a:gd name="adj1" fmla="val 4953"/>
              <a:gd name="adj2" fmla="val -764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这帮魑魅正是国民党反动派对外妥协，对内专制的象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3073"/>
          <p:cNvSpPr/>
          <p:nvPr/>
        </p:nvSpPr>
        <p:spPr>
          <a:xfrm>
            <a:off x="-228600" y="0"/>
            <a:ext cx="868680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黑暗势力           光明力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（秦国）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    （楚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张仪         国王       屈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南后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婵娟              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靳尚            河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郑詹伊        卫士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子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宋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圆角矩形标注 3074"/>
          <p:cNvSpPr/>
          <p:nvPr/>
        </p:nvSpPr>
        <p:spPr>
          <a:xfrm>
            <a:off x="1066680" y="533520"/>
            <a:ext cx="2438640" cy="685800"/>
          </a:xfrm>
          <a:prstGeom prst="wedgeRoundRectCallout">
            <a:avLst>
              <a:gd name="adj1" fmla="val 83592"/>
              <a:gd name="adj2" fmla="val 14560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狠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圆角矩形标注 3076"/>
          <p:cNvSpPr/>
          <p:nvPr/>
        </p:nvSpPr>
        <p:spPr>
          <a:xfrm>
            <a:off x="1219320" y="1371600"/>
            <a:ext cx="2209680" cy="685800"/>
          </a:xfrm>
          <a:prstGeom prst="wedgeRoundRectCallout">
            <a:avLst>
              <a:gd name="adj1" fmla="val 90518"/>
              <a:gd name="adj2" fmla="val 13356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阴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圆角矩形标注 3077"/>
          <p:cNvSpPr/>
          <p:nvPr/>
        </p:nvSpPr>
        <p:spPr>
          <a:xfrm>
            <a:off x="1295280" y="2362320"/>
            <a:ext cx="2362320" cy="761760"/>
          </a:xfrm>
          <a:prstGeom prst="wedgeRoundRectCallout">
            <a:avLst>
              <a:gd name="adj1" fmla="val 79837"/>
              <a:gd name="adj2" fmla="val 8416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伪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线形标注 3(无边框) 3078"/>
          <p:cNvSpPr/>
          <p:nvPr/>
        </p:nvSpPr>
        <p:spPr>
          <a:xfrm>
            <a:off x="685800" y="3276720"/>
            <a:ext cx="35812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60" y="1620"/>
                </a:moveTo>
                <a:lnTo>
                  <a:pt x="-2891" y="1620"/>
                </a:lnTo>
                <a:lnTo>
                  <a:pt x="-2891" y="-16740"/>
                </a:lnTo>
                <a:lnTo>
                  <a:pt x="345" y="-2673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楚国统治阶级内部相互威胁利诱、狼狈为奸的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线形标注 3(带强调线) 3082"/>
          <p:cNvSpPr/>
          <p:nvPr/>
        </p:nvSpPr>
        <p:spPr>
          <a:xfrm>
            <a:off x="650880" y="5105520"/>
            <a:ext cx="453060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63" y="1705"/>
                </a:moveTo>
                <a:lnTo>
                  <a:pt x="-2369" y="1705"/>
                </a:lnTo>
                <a:lnTo>
                  <a:pt x="-2369" y="-7413"/>
                </a:lnTo>
                <a:lnTo>
                  <a:pt x="-151" y="-12718"/>
                </a:lnTo>
              </a:path>
              <a:path w="21600" h="21600">
                <a:moveTo>
                  <a:pt x="-363" y="0"/>
                </a:moveTo>
                <a:lnTo>
                  <a:pt x="-363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深刻而具体地象征重庆为中心的国统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5121"/>
          <p:cNvSpPr/>
          <p:nvPr/>
        </p:nvSpPr>
        <p:spPr>
          <a:xfrm>
            <a:off x="152280" y="2286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光明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（楚国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屈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婵娟              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河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卫士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圆角矩形标注 5124"/>
          <p:cNvSpPr/>
          <p:nvPr/>
        </p:nvSpPr>
        <p:spPr>
          <a:xfrm>
            <a:off x="2895480" y="2057400"/>
            <a:ext cx="5105520" cy="990720"/>
          </a:xfrm>
          <a:prstGeom prst="wedgeRoundRectCallout">
            <a:avLst>
              <a:gd name="adj1" fmla="val -63712"/>
              <a:gd name="adj2" fmla="val -3253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真、善、美的化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线形标注 3 5125"/>
          <p:cNvSpPr/>
          <p:nvPr/>
        </p:nvSpPr>
        <p:spPr>
          <a:xfrm>
            <a:off x="3200400" y="557280"/>
            <a:ext cx="3708360" cy="11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44" y="2178"/>
                </a:moveTo>
                <a:lnTo>
                  <a:pt x="32243" y="2178"/>
                </a:lnTo>
                <a:lnTo>
                  <a:pt x="32243" y="34427"/>
                </a:lnTo>
                <a:lnTo>
                  <a:pt x="29256" y="35758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烘托屈原正气凛然、英勇无畏的形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圆角矩形标注 5126"/>
          <p:cNvSpPr/>
          <p:nvPr/>
        </p:nvSpPr>
        <p:spPr>
          <a:xfrm>
            <a:off x="2895480" y="3733920"/>
            <a:ext cx="5562720" cy="2743200"/>
          </a:xfrm>
          <a:prstGeom prst="wedgeRoundRectCallout">
            <a:avLst>
              <a:gd name="adj1" fmla="val -57106"/>
              <a:gd name="adj2" fmla="val -4311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层士兵、汉北人民的代表，在他身上体现了人民群众的爱国精神，也体现了正义的感召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6T04:48:46Z</dcterms:created>
  <dc:creator>xuzheng</dc:creator>
  <dc:description/>
  <dc:language>en-US</dc:language>
  <cp:lastModifiedBy>win7-64</cp:lastModifiedBy>
  <dcterms:modified xsi:type="dcterms:W3CDTF">2017-07-11T05:59:05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