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19F-BB95-4D64-851A-8B2B2E71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3C6-1BAC-4D00-B0A2-03D321F9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732-AEA5-4859-8EEE-9CF3DAD4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B15-A720-4306-B014-1E8FCA1C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E867-4C28-47C0-9B97-8351FA10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C34B-70EC-48A8-8F2C-EA4547CD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7129-232C-4FAD-9A14-D79BFB46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5A3A-898B-44E2-9213-CAA9322F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E0B2-86C9-45C8-936A-ABC57698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B76E-0EFD-417D-8493-8AE68A87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9BE7-C186-40C3-A61E-0C58264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09A-8306-460E-BEA4-A0535D3C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C8B0-0E1F-4C5A-90B9-C07F1D5D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21D3-6027-4F0C-BBCA-7175A5C7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0614-0C82-4FBE-8515-7C5935B7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97FF-0F0C-4C60-B414-E0F18A2E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CCF4-D85C-4535-9AEB-4812F215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F5D-8F91-4284-9DE4-60CD7FA4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3AE-22FC-468D-9CBE-FCA21B73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C9B-CBDD-45A6-8E4D-908CA21A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A4B-6598-4C6F-9A85-492B012F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093-8112-45BE-A28B-FF7A87B7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166-AB62-4BFB-A933-72836F94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494-18FE-4F39-B89C-5BB5F388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245E-76E3-43BE-80B0-245CC76DBCE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8DE6-1935-4552-A121-6955E2FD4B3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rcRect l="43915" t="58439" r="41703" b="14598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4280" y="0"/>
            <a:ext cx="441972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《劝学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人教版语文必修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天津市第五十四中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王金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905120" y="18288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三、说模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33520" y="1828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沉潜往复，从容含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—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熊十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-152280" y="-141120"/>
            <a:ext cx="9296280" cy="6999120"/>
          </a:xfrm>
          <a:prstGeom prst="rect">
            <a:avLst/>
          </a:prstGeom>
          <a:ln w="0">
            <a:noFill/>
          </a:ln>
        </p:spPr>
      </p:pic>
      <p:sp>
        <p:nvSpPr>
          <p:cNvPr id="290" name="未知"/>
          <p:cNvSpPr/>
          <p:nvPr/>
        </p:nvSpPr>
        <p:spPr>
          <a:xfrm>
            <a:off x="3048120" y="4419720"/>
            <a:ext cx="76176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未知"/>
          <p:cNvSpPr/>
          <p:nvPr/>
        </p:nvSpPr>
        <p:spPr>
          <a:xfrm flipH="1">
            <a:off x="5257800" y="4495680"/>
            <a:ext cx="169920" cy="198144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04920" y="2666880"/>
            <a:ext cx="2782440" cy="1143000"/>
            <a:chOff x="304920" y="2666880"/>
            <a:chExt cx="2782440" cy="1143000"/>
          </a:xfrm>
        </p:grpSpPr>
        <p:sp>
          <p:nvSpPr>
            <p:cNvPr id="293" name=""/>
            <p:cNvSpPr/>
            <p:nvPr/>
          </p:nvSpPr>
          <p:spPr>
            <a:xfrm>
              <a:off x="569520" y="2666880"/>
              <a:ext cx="2286000" cy="11430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920" y="2895480"/>
              <a:ext cx="278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知人论世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未知"/>
          <p:cNvSpPr/>
          <p:nvPr/>
        </p:nvSpPr>
        <p:spPr>
          <a:xfrm flipH="1" flipV="1" rot="6445800">
            <a:off x="4064400" y="3039120"/>
            <a:ext cx="2154240" cy="45720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未知"/>
          <p:cNvSpPr/>
          <p:nvPr/>
        </p:nvSpPr>
        <p:spPr>
          <a:xfrm flipH="1" flipV="1" rot="14979600">
            <a:off x="2839320" y="3218040"/>
            <a:ext cx="1981080" cy="7596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未知"/>
          <p:cNvSpPr/>
          <p:nvPr/>
        </p:nvSpPr>
        <p:spPr>
          <a:xfrm flipV="1" rot="14980200">
            <a:off x="2602080" y="3569040"/>
            <a:ext cx="1439640" cy="39744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143000" y="1371600"/>
            <a:ext cx="2971440" cy="1143000"/>
            <a:chOff x="1143000" y="1371600"/>
            <a:chExt cx="2971440" cy="1143000"/>
          </a:xfrm>
        </p:grpSpPr>
        <p:sp>
          <p:nvSpPr>
            <p:cNvPr id="299" name=""/>
            <p:cNvSpPr/>
            <p:nvPr/>
          </p:nvSpPr>
          <p:spPr>
            <a:xfrm>
              <a:off x="1421280" y="1371600"/>
              <a:ext cx="2404800" cy="11430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000" y="160020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诵读圈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029200" y="1371600"/>
            <a:ext cx="2666520" cy="1066680"/>
            <a:chOff x="5029200" y="1371600"/>
            <a:chExt cx="2666520" cy="1066680"/>
          </a:xfrm>
        </p:grpSpPr>
        <p:sp>
          <p:nvSpPr>
            <p:cNvPr id="302" name=""/>
            <p:cNvSpPr/>
            <p:nvPr/>
          </p:nvSpPr>
          <p:spPr>
            <a:xfrm>
              <a:off x="5279040" y="1371600"/>
              <a:ext cx="2157840" cy="106668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29200" y="1584720"/>
              <a:ext cx="26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勾画批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91320" y="2514600"/>
            <a:ext cx="2971440" cy="1143000"/>
            <a:chOff x="5791320" y="2514600"/>
            <a:chExt cx="2971440" cy="1143000"/>
          </a:xfrm>
        </p:grpSpPr>
        <p:sp>
          <p:nvSpPr>
            <p:cNvPr id="305" name=""/>
            <p:cNvSpPr/>
            <p:nvPr/>
          </p:nvSpPr>
          <p:spPr>
            <a:xfrm>
              <a:off x="6069600" y="2514600"/>
              <a:ext cx="2404800" cy="11430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91320" y="274320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探究拓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未知"/>
          <p:cNvSpPr/>
          <p:nvPr/>
        </p:nvSpPr>
        <p:spPr>
          <a:xfrm flipH="1" flipV="1" rot="6445800">
            <a:off x="5028840" y="3504960"/>
            <a:ext cx="1295640" cy="53352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27800" y="4419720"/>
            <a:ext cx="1563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沉潜往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从容含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190512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838080"/>
            <a:ext cx="1600200" cy="381240"/>
          </a:xfrm>
          <a:prstGeom prst="rightArrow">
            <a:avLst>
              <a:gd name="adj1" fmla="val 50000"/>
              <a:gd name="adj2" fmla="val 10493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1600200"/>
            <a:ext cx="380880" cy="1066680"/>
          </a:xfrm>
          <a:prstGeom prst="downArrow">
            <a:avLst>
              <a:gd name="adj1" fmla="val 50000"/>
              <a:gd name="adj2" fmla="val 7001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133720" y="175248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四、说设计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-152280" y="-141120"/>
            <a:ext cx="9296280" cy="6999120"/>
          </a:xfrm>
          <a:prstGeom prst="rect">
            <a:avLst/>
          </a:prstGeom>
          <a:ln w="0">
            <a:noFill/>
          </a:ln>
        </p:spPr>
      </p:pic>
      <p:sp>
        <p:nvSpPr>
          <p:cNvPr id="314" name="未知"/>
          <p:cNvSpPr/>
          <p:nvPr/>
        </p:nvSpPr>
        <p:spPr>
          <a:xfrm>
            <a:off x="3048120" y="4419720"/>
            <a:ext cx="76176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未知"/>
          <p:cNvSpPr/>
          <p:nvPr/>
        </p:nvSpPr>
        <p:spPr>
          <a:xfrm flipH="1">
            <a:off x="5257800" y="4495680"/>
            <a:ext cx="169920" cy="198144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28600" y="2438280"/>
            <a:ext cx="2971440" cy="2407680"/>
            <a:chOff x="228600" y="2438280"/>
            <a:chExt cx="2971440" cy="2407680"/>
          </a:xfrm>
        </p:grpSpPr>
        <p:sp>
          <p:nvSpPr>
            <p:cNvPr id="317" name=""/>
            <p:cNvSpPr/>
            <p:nvPr/>
          </p:nvSpPr>
          <p:spPr>
            <a:xfrm>
              <a:off x="511200" y="2438280"/>
              <a:ext cx="2441160" cy="240768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" y="2919600"/>
              <a:ext cx="297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知人论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荀子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未知"/>
          <p:cNvSpPr/>
          <p:nvPr/>
        </p:nvSpPr>
        <p:spPr>
          <a:xfrm flipH="1" flipV="1" rot="6445800">
            <a:off x="4064400" y="3039120"/>
            <a:ext cx="2154240" cy="45720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未知"/>
          <p:cNvSpPr/>
          <p:nvPr/>
        </p:nvSpPr>
        <p:spPr>
          <a:xfrm flipV="1" rot="14980200">
            <a:off x="2570040" y="3107520"/>
            <a:ext cx="2266920" cy="8568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未知"/>
          <p:cNvSpPr/>
          <p:nvPr/>
        </p:nvSpPr>
        <p:spPr>
          <a:xfrm flipV="1" rot="14980200">
            <a:off x="2602080" y="3569040"/>
            <a:ext cx="1439640" cy="39744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43000" y="0"/>
            <a:ext cx="2971440" cy="2318760"/>
            <a:chOff x="1143000" y="0"/>
            <a:chExt cx="2971440" cy="2318760"/>
          </a:xfrm>
        </p:grpSpPr>
        <p:sp>
          <p:nvSpPr>
            <p:cNvPr id="323" name=""/>
            <p:cNvSpPr/>
            <p:nvPr/>
          </p:nvSpPr>
          <p:spPr>
            <a:xfrm>
              <a:off x="1421280" y="0"/>
              <a:ext cx="2404800" cy="231876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43000" y="463680"/>
              <a:ext cx="297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反复诵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做圈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343400" y="228600"/>
            <a:ext cx="2971440" cy="2176200"/>
            <a:chOff x="4343400" y="228600"/>
            <a:chExt cx="2971440" cy="2176200"/>
          </a:xfrm>
        </p:grpSpPr>
        <p:sp>
          <p:nvSpPr>
            <p:cNvPr id="326" name=""/>
            <p:cNvSpPr/>
            <p:nvPr/>
          </p:nvSpPr>
          <p:spPr>
            <a:xfrm>
              <a:off x="4621680" y="228600"/>
              <a:ext cx="2404800" cy="21762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43400" y="663840"/>
              <a:ext cx="297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勾画批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不可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867280" y="2057400"/>
            <a:ext cx="3124080" cy="2361600"/>
            <a:chOff x="5867280" y="2057400"/>
            <a:chExt cx="3124080" cy="2361600"/>
          </a:xfrm>
        </p:grpSpPr>
        <p:sp>
          <p:nvSpPr>
            <p:cNvPr id="329" name=""/>
            <p:cNvSpPr/>
            <p:nvPr/>
          </p:nvSpPr>
          <p:spPr>
            <a:xfrm>
              <a:off x="6159960" y="2057400"/>
              <a:ext cx="2528280" cy="23616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67280" y="2529720"/>
              <a:ext cx="312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四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合作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加拓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未知"/>
          <p:cNvSpPr/>
          <p:nvPr/>
        </p:nvSpPr>
        <p:spPr>
          <a:xfrm flipH="1" flipV="1" rot="6445800">
            <a:off x="5028840" y="3504960"/>
            <a:ext cx="1295640" cy="53352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58080" y="4343400"/>
            <a:ext cx="241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教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7200" y="152280"/>
            <a:ext cx="781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知人论世说荀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预设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钟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荀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公元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8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况字卿，战国末期赵国人。我国古代的思想家、教育家，是先秦朴素唯物主义思想的代表人物。他反对迷信天命鬼神，提出“制天命而用之”的人定胜天的思想。他强调教育和礼法的作用，主张治理天下既要靠“法制”，又要重视教化兼用“礼”治，强调“行”对于“知”的必要性和后天学习的重要性，认为后天环境和教育可以改变人的本性。其散文说理透彻，气势雄浑，语言质朴，句法简练缜密，多排比，善譬喻。《荀子》一书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其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为荀子所著，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或为其门人弟子所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21210000">
            <a:off x="1298520" y="3744720"/>
            <a:ext cx="7845480" cy="3112920"/>
          </a:xfrm>
          <a:prstGeom prst="cloudCallout">
            <a:avLst>
              <a:gd name="adj1" fmla="val 26800"/>
              <a:gd name="adj2" fmla="val -98083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Verdana"/>
                <a:ea typeface="黑体"/>
              </a:rPr>
              <a:t>引导学生在阅读文学作品时努力做到知人论世，通过介绍有关资料，让学生了解与作品有关的作家经历、时代背景、创作动机以及作品的社会影响等，以加深对作品的理解。此环节的设置看似套路，但必不可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90720" y="304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反复诵读做圈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预设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钟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出诵读教学理念。让学生在诵读中体味，在诵读中积累，在诵读中欣赏。读出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出意，读出味，读出情，读出神，读得如闻其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见其人，如临其境。在反复诵读的基础上，圈点勾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未知"/>
          <p:cNvSpPr/>
          <p:nvPr/>
        </p:nvSpPr>
        <p:spPr>
          <a:xfrm>
            <a:off x="3124080" y="4876920"/>
            <a:ext cx="76212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未知"/>
          <p:cNvSpPr/>
          <p:nvPr/>
        </p:nvSpPr>
        <p:spPr>
          <a:xfrm flipH="1">
            <a:off x="5181480" y="4876920"/>
            <a:ext cx="16992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95440" y="5105520"/>
            <a:ext cx="729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圈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未知"/>
          <p:cNvSpPr/>
          <p:nvPr/>
        </p:nvSpPr>
        <p:spPr>
          <a:xfrm flipV="1" rot="14980200">
            <a:off x="2907360" y="4636080"/>
            <a:ext cx="1440000" cy="39672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未知"/>
          <p:cNvSpPr/>
          <p:nvPr/>
        </p:nvSpPr>
        <p:spPr>
          <a:xfrm flipH="1" flipV="1" rot="6445800">
            <a:off x="4800600" y="4494960"/>
            <a:ext cx="1295280" cy="53352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未知"/>
          <p:cNvSpPr/>
          <p:nvPr/>
        </p:nvSpPr>
        <p:spPr>
          <a:xfrm flipH="1" rot="6446400">
            <a:off x="4097520" y="4586760"/>
            <a:ext cx="604800" cy="24444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638680" y="3352680"/>
            <a:ext cx="2971440" cy="1295280"/>
            <a:chOff x="5638680" y="3352680"/>
            <a:chExt cx="2971440" cy="1295280"/>
          </a:xfrm>
        </p:grpSpPr>
        <p:sp>
          <p:nvSpPr>
            <p:cNvPr id="343" name=""/>
            <p:cNvSpPr/>
            <p:nvPr/>
          </p:nvSpPr>
          <p:spPr>
            <a:xfrm>
              <a:off x="5921280" y="3352680"/>
              <a:ext cx="2441160" cy="129528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680" y="361152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疑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124080" y="3048120"/>
            <a:ext cx="2971440" cy="1371240"/>
            <a:chOff x="3124080" y="3048120"/>
            <a:chExt cx="2971440" cy="1371240"/>
          </a:xfrm>
        </p:grpSpPr>
        <p:sp>
          <p:nvSpPr>
            <p:cNvPr id="346" name=""/>
            <p:cNvSpPr/>
            <p:nvPr/>
          </p:nvSpPr>
          <p:spPr>
            <a:xfrm>
              <a:off x="3406680" y="3048120"/>
              <a:ext cx="2441160" cy="137124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24080" y="332208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好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3124080"/>
            <a:ext cx="2971440" cy="1523880"/>
            <a:chOff x="685800" y="3124080"/>
            <a:chExt cx="2971440" cy="1523880"/>
          </a:xfrm>
        </p:grpSpPr>
        <p:sp>
          <p:nvSpPr>
            <p:cNvPr id="349" name=""/>
            <p:cNvSpPr/>
            <p:nvPr/>
          </p:nvSpPr>
          <p:spPr>
            <a:xfrm>
              <a:off x="968400" y="3124080"/>
              <a:ext cx="2441160" cy="152388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5800" y="342864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生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2438280"/>
            <a:ext cx="2971440" cy="1523880"/>
            <a:chOff x="0" y="2438280"/>
            <a:chExt cx="2971440" cy="1523880"/>
          </a:xfrm>
        </p:grpSpPr>
        <p:sp>
          <p:nvSpPr>
            <p:cNvPr id="352" name=""/>
            <p:cNvSpPr/>
            <p:nvPr/>
          </p:nvSpPr>
          <p:spPr>
            <a:xfrm>
              <a:off x="282600" y="2438280"/>
              <a:ext cx="2441160" cy="152388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274284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生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矩形标注 12"/>
          <p:cNvSpPr/>
          <p:nvPr/>
        </p:nvSpPr>
        <p:spPr>
          <a:xfrm>
            <a:off x="2286000" y="228600"/>
            <a:ext cx="5181480" cy="2362320"/>
          </a:xfrm>
          <a:prstGeom prst="wedgeRectCallout">
            <a:avLst>
              <a:gd name="adj1" fmla="val -41666"/>
              <a:gd name="adj2" fmla="val 69018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初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90920" y="106668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生字、生词要明义、知例，也就是要求学生借助工具书查找实词、虚词的含义，并能联系生活和所学举出例词、例句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标注 12"/>
          <p:cNvSpPr/>
          <p:nvPr/>
        </p:nvSpPr>
        <p:spPr>
          <a:xfrm>
            <a:off x="2743200" y="3276720"/>
            <a:ext cx="6629400" cy="2895480"/>
          </a:xfrm>
          <a:prstGeom prst="wedgeRectCallout">
            <a:avLst>
              <a:gd name="adj1" fmla="val -5601"/>
              <a:gd name="adj2" fmla="val -74125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“劝”，劝勉，如“劝业场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“已”，停止，如“鞠躬尽瘁，死而后已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“暴”，晒，如“贵有恒，何必三更睡五更起；最无益，只怕一日暴十日寒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“过”，过失，如《神雕侠侣》里杨过的名字“人非圣贤，孰能无过；过而能改，善莫大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390600">
            <a:off x="4182840" y="3885840"/>
            <a:ext cx="4960800" cy="2971800"/>
          </a:xfrm>
          <a:prstGeom prst="cloudCallout">
            <a:avLst>
              <a:gd name="adj1" fmla="val -107694"/>
              <a:gd name="adj2" fmla="val -87699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Verdana"/>
                <a:ea typeface="华文新魏"/>
              </a:rPr>
              <a:t>让学生觉得文言离我们的生活并不遥远，他是一种活在自己身边的文化。另一方面，温故而知新，减少学生对文言的为难情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2514600"/>
            <a:ext cx="2971440" cy="1371240"/>
            <a:chOff x="0" y="2514600"/>
            <a:chExt cx="2971440" cy="1371240"/>
          </a:xfrm>
        </p:grpSpPr>
        <p:sp>
          <p:nvSpPr>
            <p:cNvPr id="360" name=""/>
            <p:cNvSpPr/>
            <p:nvPr/>
          </p:nvSpPr>
          <p:spPr>
            <a:xfrm>
              <a:off x="282600" y="2514600"/>
              <a:ext cx="2441160" cy="137124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278856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好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标注 12"/>
          <p:cNvSpPr/>
          <p:nvPr/>
        </p:nvSpPr>
        <p:spPr>
          <a:xfrm>
            <a:off x="2209680" y="152280"/>
            <a:ext cx="5486400" cy="1219320"/>
          </a:xfrm>
          <a:prstGeom prst="wedgeRectCallout">
            <a:avLst>
              <a:gd name="adj1" fmla="val -59490"/>
              <a:gd name="adj2" fmla="val 133856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求知表意、解深意、找手法、明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初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标注 12"/>
          <p:cNvSpPr/>
          <p:nvPr/>
        </p:nvSpPr>
        <p:spPr>
          <a:xfrm>
            <a:off x="2514600" y="2286000"/>
            <a:ext cx="6629400" cy="3124080"/>
          </a:xfrm>
          <a:prstGeom prst="wedgeRectCallout">
            <a:avLst>
              <a:gd name="adj1" fmla="val -15231"/>
              <a:gd name="adj2" fmla="val -82671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“青，取之于蓝而青于蓝；冰，水为之而寒于水。”意思是说青色染料是从蓝色染料中提取出来的，却比蓝色的颜色更深；冰是水遇冷后凝结起来的，却比水冷。通过学习前人积累的知识，博学深思，加以总结提炼，就能够超越前人，后来居上。运用了比喻的修辞手法。说明学习可以提高自己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初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"/>
          <p:cNvSpPr/>
          <p:nvPr/>
        </p:nvSpPr>
        <p:spPr>
          <a:xfrm rot="390600">
            <a:off x="4182840" y="3885840"/>
            <a:ext cx="4960800" cy="2971800"/>
          </a:xfrm>
          <a:prstGeom prst="cloudCallout">
            <a:avLst>
              <a:gd name="adj1" fmla="val -98398"/>
              <a:gd name="adj2" fmla="val -68064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Verdana"/>
                <a:ea typeface="华文新魏"/>
              </a:rPr>
              <a:t>圈点好句，精读细品，把握语言特点，感受文言之美。——词句警人，余香满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-228600" y="2590920"/>
            <a:ext cx="2971440" cy="1294920"/>
            <a:chOff x="-228600" y="2590920"/>
            <a:chExt cx="2971440" cy="1294920"/>
          </a:xfrm>
        </p:grpSpPr>
        <p:sp>
          <p:nvSpPr>
            <p:cNvPr id="366" name=""/>
            <p:cNvSpPr/>
            <p:nvPr/>
          </p:nvSpPr>
          <p:spPr>
            <a:xfrm>
              <a:off x="54000" y="2590920"/>
              <a:ext cx="2441160" cy="129492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-228600" y="284976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疑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标注 12"/>
          <p:cNvSpPr/>
          <p:nvPr/>
        </p:nvSpPr>
        <p:spPr>
          <a:xfrm>
            <a:off x="990720" y="228600"/>
            <a:ext cx="5562360" cy="914400"/>
          </a:xfrm>
          <a:prstGeom prst="wedgeRectCallout">
            <a:avLst>
              <a:gd name="adj1" fmla="val -48888"/>
              <a:gd name="adj2" fmla="val 217884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在自己有疑惑、不理解的地方做圈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初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标注 12"/>
          <p:cNvSpPr/>
          <p:nvPr/>
        </p:nvSpPr>
        <p:spPr>
          <a:xfrm>
            <a:off x="2057400" y="2133720"/>
            <a:ext cx="6781680" cy="2666880"/>
          </a:xfrm>
          <a:prstGeom prst="wedgeRectCallout">
            <a:avLst>
              <a:gd name="adj1" fmla="val -16222"/>
              <a:gd name="adj2" fmla="val -94819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：开篇八个字独成一段，作者想要表达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章的题目叫“劝学”，那么下面的内容应围绕学习展开，但第二自然段却在说青、蓝、冰、水、木、金，是否偏离主题？若不是，它们与主题有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初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 rot="390600">
            <a:off x="3809520" y="4343400"/>
            <a:ext cx="4961160" cy="2133720"/>
          </a:xfrm>
          <a:prstGeom prst="cloudCallout">
            <a:avLst>
              <a:gd name="adj1" fmla="val -112666"/>
              <a:gd name="adj2" fmla="val -105824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Verdana"/>
                <a:ea typeface="楷体_GB2312"/>
              </a:rPr>
              <a:t>学起于思，思源于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9296280" cy="6999120"/>
          </a:xfrm>
          <a:prstGeom prst="rect">
            <a:avLst/>
          </a:prstGeom>
          <a:ln w="0">
            <a:noFill/>
          </a:ln>
        </p:spPr>
      </p:pic>
      <p:sp>
        <p:nvSpPr>
          <p:cNvPr id="153" name="未知"/>
          <p:cNvSpPr/>
          <p:nvPr/>
        </p:nvSpPr>
        <p:spPr>
          <a:xfrm>
            <a:off x="3708360" y="4292640"/>
            <a:ext cx="30492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 flipH="1">
            <a:off x="4800600" y="4191120"/>
            <a:ext cx="16992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140360" y="4292640"/>
            <a:ext cx="57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课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 flipV="1" rot="14980200">
            <a:off x="3068280" y="3700440"/>
            <a:ext cx="685800" cy="91440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 flipV="1" rot="6446400">
            <a:off x="3612960" y="3243600"/>
            <a:ext cx="1841760" cy="22860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3581280"/>
            <a:ext cx="2430000" cy="1143000"/>
            <a:chOff x="457200" y="3581280"/>
            <a:chExt cx="2430000" cy="1143000"/>
          </a:xfrm>
        </p:grpSpPr>
        <p:sp>
          <p:nvSpPr>
            <p:cNvPr id="159" name=""/>
            <p:cNvSpPr/>
            <p:nvPr/>
          </p:nvSpPr>
          <p:spPr>
            <a:xfrm>
              <a:off x="547560" y="3581280"/>
              <a:ext cx="2339640" cy="11430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200" y="3809880"/>
              <a:ext cx="240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教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09480" y="2438280"/>
            <a:ext cx="2782800" cy="1143000"/>
            <a:chOff x="609480" y="2438280"/>
            <a:chExt cx="2782800" cy="1143000"/>
          </a:xfrm>
        </p:grpSpPr>
        <p:sp>
          <p:nvSpPr>
            <p:cNvPr id="162" name=""/>
            <p:cNvSpPr/>
            <p:nvPr/>
          </p:nvSpPr>
          <p:spPr>
            <a:xfrm>
              <a:off x="874080" y="2438280"/>
              <a:ext cx="2286000" cy="11430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80" y="2666880"/>
              <a:ext cx="278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学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未知"/>
          <p:cNvSpPr/>
          <p:nvPr/>
        </p:nvSpPr>
        <p:spPr>
          <a:xfrm flipH="1" flipV="1" rot="6445800">
            <a:off x="4003560" y="3083400"/>
            <a:ext cx="1925640" cy="61128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 flipH="1" flipV="1" rot="14979600">
            <a:off x="2839320" y="3218040"/>
            <a:ext cx="1981080" cy="7596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 flipV="1" rot="14980200">
            <a:off x="2907000" y="3568680"/>
            <a:ext cx="1439640" cy="39708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43000" y="1371600"/>
            <a:ext cx="2971440" cy="1143000"/>
            <a:chOff x="1143000" y="1371600"/>
            <a:chExt cx="2971440" cy="1143000"/>
          </a:xfrm>
        </p:grpSpPr>
        <p:sp>
          <p:nvSpPr>
            <p:cNvPr id="168" name=""/>
            <p:cNvSpPr/>
            <p:nvPr/>
          </p:nvSpPr>
          <p:spPr>
            <a:xfrm>
              <a:off x="1421280" y="1371600"/>
              <a:ext cx="2404800" cy="11430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160020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模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276720" y="1295280"/>
            <a:ext cx="2971440" cy="1143000"/>
            <a:chOff x="3276720" y="1295280"/>
            <a:chExt cx="2971440" cy="1143000"/>
          </a:xfrm>
        </p:grpSpPr>
        <p:sp>
          <p:nvSpPr>
            <p:cNvPr id="171" name=""/>
            <p:cNvSpPr/>
            <p:nvPr/>
          </p:nvSpPr>
          <p:spPr>
            <a:xfrm>
              <a:off x="3555000" y="1295280"/>
              <a:ext cx="2404800" cy="11430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76720" y="152388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设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05520" y="1676520"/>
            <a:ext cx="2666520" cy="1066680"/>
            <a:chOff x="5105520" y="1676520"/>
            <a:chExt cx="2666520" cy="1066680"/>
          </a:xfrm>
        </p:grpSpPr>
        <p:sp>
          <p:nvSpPr>
            <p:cNvPr id="174" name=""/>
            <p:cNvSpPr/>
            <p:nvPr/>
          </p:nvSpPr>
          <p:spPr>
            <a:xfrm>
              <a:off x="5355360" y="1676520"/>
              <a:ext cx="2157840" cy="106668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05520" y="1889640"/>
              <a:ext cx="26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板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57800" y="2590920"/>
            <a:ext cx="2971440" cy="1143000"/>
            <a:chOff x="5257800" y="2590920"/>
            <a:chExt cx="2971440" cy="1143000"/>
          </a:xfrm>
        </p:grpSpPr>
        <p:sp>
          <p:nvSpPr>
            <p:cNvPr id="177" name=""/>
            <p:cNvSpPr/>
            <p:nvPr/>
          </p:nvSpPr>
          <p:spPr>
            <a:xfrm>
              <a:off x="5536080" y="2590920"/>
              <a:ext cx="2404800" cy="11430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281952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评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715000" y="3657600"/>
            <a:ext cx="2971440" cy="1143000"/>
            <a:chOff x="5715000" y="3657600"/>
            <a:chExt cx="2971440" cy="1143000"/>
          </a:xfrm>
        </p:grpSpPr>
        <p:sp>
          <p:nvSpPr>
            <p:cNvPr id="180" name=""/>
            <p:cNvSpPr/>
            <p:nvPr/>
          </p:nvSpPr>
          <p:spPr>
            <a:xfrm>
              <a:off x="5993280" y="3657600"/>
              <a:ext cx="2404800" cy="11430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3886200"/>
              <a:ext cx="29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开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未知"/>
          <p:cNvSpPr/>
          <p:nvPr/>
        </p:nvSpPr>
        <p:spPr>
          <a:xfrm flipH="1" flipV="1" rot="6445800">
            <a:off x="5065920" y="3618360"/>
            <a:ext cx="762120" cy="114300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未知"/>
          <p:cNvSpPr/>
          <p:nvPr/>
        </p:nvSpPr>
        <p:spPr>
          <a:xfrm flipH="1" flipV="1" rot="6445800">
            <a:off x="4540680" y="3431880"/>
            <a:ext cx="1087560" cy="68580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457200"/>
            <a:ext cx="830556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三、勾画批注不可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预设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钟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君子曰：学不可以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标注 12"/>
          <p:cNvSpPr/>
          <p:nvPr/>
        </p:nvSpPr>
        <p:spPr>
          <a:xfrm>
            <a:off x="2362320" y="3048120"/>
            <a:ext cx="6095880" cy="1295280"/>
          </a:xfrm>
          <a:prstGeom prst="wedgeRectCallout">
            <a:avLst>
              <a:gd name="adj1" fmla="val -35574"/>
              <a:gd name="adj2" fmla="val -106861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初中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“首句标目，点明题旨”，是古诗文常见的写法，阅读时应重点勾画批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4191120"/>
            <a:ext cx="7543800" cy="116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批注：提出问题（是什么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不可以已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76212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齐读第二段之后，勾画出文中的五个比喻句，并分析其含义和内在联系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标注 12"/>
          <p:cNvSpPr/>
          <p:nvPr/>
        </p:nvSpPr>
        <p:spPr>
          <a:xfrm>
            <a:off x="1066680" y="1676520"/>
            <a:ext cx="7772400" cy="4267080"/>
          </a:xfrm>
          <a:prstGeom prst="wedgeRectCallout">
            <a:avLst>
              <a:gd name="adj1" fmla="val -449"/>
              <a:gd name="adj2" fmla="val -66518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初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，取之于蓝，而青于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，水为之，而寒于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直中绳，輮以为轮，其曲中规。虽有槁暴，不复挺者，輮使之然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受绳则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就砺则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：说明事物经过一定的变化可以得到提高和发展，并且能够改变原来的状态。比喻人可以通过学习来提高自己、改变自己。所以“学不可以已”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1447920" y="5410080"/>
            <a:ext cx="7696080" cy="113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批注：为什么“学不可以已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的意义——提高自己，发展自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609480"/>
            <a:ext cx="72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齐读第三段之后，勾画出本段中的五个比喻句，并分析其含义和内在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标注 12"/>
          <p:cNvSpPr/>
          <p:nvPr/>
        </p:nvSpPr>
        <p:spPr>
          <a:xfrm>
            <a:off x="533520" y="1828800"/>
            <a:ext cx="7772400" cy="3733920"/>
          </a:xfrm>
          <a:prstGeom prst="wedgeRectCallout">
            <a:avLst>
              <a:gd name="adj1" fmla="val -5393"/>
              <a:gd name="adj2" fmla="val -5977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吾尝跂而望矣，不如登高之博见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登高而招，臂非加长也，而见者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顺风而呼，声非加疾也，而闻者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假舆马者，非利足也，而致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假舟楫者，非能水也，而绝江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总结：阐明学习的重要作用。这一段运用比喻，从三个侧面证明只要善于学习，善假于物，就能使人成为有才德的君子。正因为学习有这样重要的作用，所以“学不可以已”，不可放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209680" y="5410080"/>
            <a:ext cx="6934320" cy="116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批注：为什么“学不可以已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的作用——弥补不足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66680" y="228600"/>
            <a:ext cx="61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齐读第四段之后，勾画出本段中的十个比喻句，并分析其含义和内在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标注 12"/>
          <p:cNvSpPr/>
          <p:nvPr/>
        </p:nvSpPr>
        <p:spPr>
          <a:xfrm>
            <a:off x="533520" y="1523880"/>
            <a:ext cx="7772400" cy="3733920"/>
          </a:xfrm>
          <a:prstGeom prst="wedgeRectCallout">
            <a:avLst>
              <a:gd name="adj1" fmla="val -5393"/>
              <a:gd name="adj2" fmla="val -5977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土成山，风雨兴焉②积水成渊，蛟龙生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积跬步，无以至千里④不积小流，无以成江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骐骥一跃，不能十步⑥驽马十驾，功在不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锲而舍之，朽木不折 ⑧锲而不舍，金石可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蚓无爪牙之利…用心一也⑩蟹六跪而二螯…用心躁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：全段由强调 “积”，到论证“不舍”，最后归结到“用心”。 一层层递进，表明学习的方法和应有的态度。进一步证明“学不可以已”，不可松散，不可半途而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2"/>
          <p:cNvSpPr/>
          <p:nvPr/>
        </p:nvSpPr>
        <p:spPr>
          <a:xfrm>
            <a:off x="1143000" y="5334120"/>
            <a:ext cx="8001000" cy="116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批注：学习的方法和态度——积累、坚持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专心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76212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合作探究加拓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预设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钟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10666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综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中主要运用了比喻的论证方法，本文在设喻的运用上有哪些特点？请学生四人小组合作讨论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243828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大量生活中常见的事情或现象比喻，把抽象的道理说得明白具体、生动、深入浅出。这些比喻的运用灵活多样，生动形象，增强了表达效果，使论证更有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喻方式多样。有类比、对比、正面、反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喻与说理结合紧密，形式十分灵活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理隐于比喻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设喻，后引出道理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设喻，后引出道      理，再设喻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 rot="390600">
            <a:off x="2361960" y="2971800"/>
            <a:ext cx="6400800" cy="4070520"/>
          </a:xfrm>
          <a:prstGeom prst="cloudCallout">
            <a:avLst>
              <a:gd name="adj1" fmla="val -76217"/>
              <a:gd name="adj2" fmla="val -73217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一篇说理性很强的文章，如果驾驭不好，是很容易正襟危坐，流于枯燥和单调的。但本文却形象清新，脍炙人口，千百年来为人们传诵不衰。最重要的是它把深奥的道理寓于大量浅显贴切的比喻中，铺锦列绣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全文多达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比喻</a:t>
            </a:r>
            <a:r>
              <a:rPr b="1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。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学习本文应重点掌握这种论证方法。</a:t>
            </a:r>
            <a:r>
              <a:rPr b="1" lang="zh-CN" sz="20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0880" y="45720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是从哪几个角度论述中心论点的？写出本文的论证提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第一句提出全文的中心论点：学不可以已。中心论点是本文的文眼，接着围绕这个中心论点分三段从学习的意义、学习的作用、学习的态度和方法三个层面展开论述，体现本文的思想性和逻辑性，气盛言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"/>
          <p:cNvSpPr/>
          <p:nvPr/>
        </p:nvSpPr>
        <p:spPr>
          <a:xfrm rot="390600">
            <a:off x="2742840" y="3886200"/>
            <a:ext cx="6400800" cy="2622600"/>
          </a:xfrm>
          <a:prstGeom prst="cloudCallout">
            <a:avLst>
              <a:gd name="adj1" fmla="val -73291"/>
              <a:gd name="adj2" fmla="val -108546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让学生按照荀子论说的逻辑关系理解文章的中心论点与分论点，学习清晰有力、有逻辑地表达自己的思想和见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28600" y="3808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荀子主张“学不可以已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学当然指学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他到底劝人们学什么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讨论归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144792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子博学而日参省乎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知明而行无过矣”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做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善成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神明自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圣心备焉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高人的品德修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：历史和现实无数的事实证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立德才能立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尚德才能治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5"/>
          <p:cNvSpPr/>
          <p:nvPr/>
        </p:nvSpPr>
        <p:spPr>
          <a:xfrm rot="390600">
            <a:off x="2742840" y="3886200"/>
            <a:ext cx="6400800" cy="2622600"/>
          </a:xfrm>
          <a:prstGeom prst="cloudCallout">
            <a:avLst>
              <a:gd name="adj1" fmla="val -73291"/>
              <a:gd name="adj2" fmla="val -108546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起于思，思源于疑。培养学生质疑探究的能力。完成单元教学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533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劝学》告诉了我们哪些道理？完成句子“《劝学》告诉我＿＿＿＿＿＿＿＿＿＿＿”。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19051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学生根据自己的理解，谈自己的所想所得。可以引用，可以设喻，也可以自拟。参考答案：《劝学》告诉我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玉不琢，不成器；人不学，不知道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《劝学》告诉我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他山之石，可以攻玉”，所以要“善假于物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《劝学》告诉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生有涯而知无涯，要活到老学到老，“学不可以已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5"/>
          <p:cNvSpPr/>
          <p:nvPr/>
        </p:nvSpPr>
        <p:spPr>
          <a:xfrm rot="390600">
            <a:off x="2057040" y="2666520"/>
            <a:ext cx="7086600" cy="3803760"/>
          </a:xfrm>
          <a:prstGeom prst="cloudCallout">
            <a:avLst>
              <a:gd name="adj1" fmla="val -72407"/>
              <a:gd name="adj2" fmla="val -62217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学生及时总结的习惯，把作者的观点吸收、内化。同时，这也是一个创新性的活动，既能引导学生对已学知识的活学活用，又能培养学生的逻辑思维能力和写作能力，也是对学生情感、态度、价值观的一次熏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057400" y="175248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五、说板书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584440" y="1219320"/>
            <a:ext cx="820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3600" y="2590920"/>
            <a:ext cx="103428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分析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08120" y="4038480"/>
            <a:ext cx="820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怎样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51320" y="4038480"/>
            <a:ext cx="103428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84440" y="2590920"/>
            <a:ext cx="820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为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52320" y="1219320"/>
            <a:ext cx="12474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学不可以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28640" y="2209680"/>
            <a:ext cx="12474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学习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28640" y="3276720"/>
            <a:ext cx="12474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学习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43680" y="4038480"/>
            <a:ext cx="16743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学习的方法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66320" y="1981080"/>
            <a:ext cx="103428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提高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改变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86280" y="3200400"/>
            <a:ext cx="146088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弥补自己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71960" y="3886200"/>
            <a:ext cx="60732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积累、坚持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专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03600" y="1219320"/>
            <a:ext cx="103428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提出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657600" y="228600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21337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18288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327672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182880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327672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08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8672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5105520"/>
            <a:ext cx="2057400" cy="137376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比喻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81480" y="5334120"/>
            <a:ext cx="20574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铺锦列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气盛言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86200" y="2286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劝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095880" y="685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荀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16002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一、说教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676520" y="1219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黑体"/>
              </a:rPr>
              <a:t>六、说评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95280" y="333360"/>
            <a:ext cx="1728720" cy="459720"/>
          </a:xfrm>
          <a:prstGeom prst="rect">
            <a:avLst/>
          </a:prstGeom>
          <a:solidFill>
            <a:srgbClr val="ffef66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评价建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未知"/>
          <p:cNvSpPr/>
          <p:nvPr/>
        </p:nvSpPr>
        <p:spPr>
          <a:xfrm>
            <a:off x="3635280" y="4292640"/>
            <a:ext cx="30492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未知"/>
          <p:cNvSpPr/>
          <p:nvPr/>
        </p:nvSpPr>
        <p:spPr>
          <a:xfrm flipH="1">
            <a:off x="4906800" y="4292640"/>
            <a:ext cx="16992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未知"/>
          <p:cNvSpPr/>
          <p:nvPr/>
        </p:nvSpPr>
        <p:spPr>
          <a:xfrm flipV="1" rot="14980200">
            <a:off x="3250800" y="3606480"/>
            <a:ext cx="706320" cy="50328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未知"/>
          <p:cNvSpPr/>
          <p:nvPr/>
        </p:nvSpPr>
        <p:spPr>
          <a:xfrm flipH="1" flipV="1" rot="6445800">
            <a:off x="4872600" y="3703320"/>
            <a:ext cx="717480" cy="45720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6"/>
          <p:cNvSpPr/>
          <p:nvPr/>
        </p:nvSpPr>
        <p:spPr>
          <a:xfrm flipH="1" flipV="1">
            <a:off x="4427640" y="278100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未知"/>
          <p:cNvSpPr/>
          <p:nvPr/>
        </p:nvSpPr>
        <p:spPr>
          <a:xfrm rot="18840000">
            <a:off x="3697920" y="3007440"/>
            <a:ext cx="366480" cy="10666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未知"/>
          <p:cNvSpPr/>
          <p:nvPr/>
        </p:nvSpPr>
        <p:spPr>
          <a:xfrm flipH="1" rot="12060000">
            <a:off x="4786560" y="2781000"/>
            <a:ext cx="142920" cy="122544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75800" y="4149720"/>
            <a:ext cx="485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高中语文课程标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》必修课程的评价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11280" y="1700280"/>
            <a:ext cx="3239640" cy="1728360"/>
            <a:chOff x="611280" y="1700280"/>
            <a:chExt cx="3239640" cy="1728360"/>
          </a:xfrm>
        </p:grpSpPr>
        <p:sp>
          <p:nvSpPr>
            <p:cNvPr id="433" name=""/>
            <p:cNvSpPr/>
            <p:nvPr/>
          </p:nvSpPr>
          <p:spPr>
            <a:xfrm>
              <a:off x="731880" y="1700280"/>
              <a:ext cx="3119040" cy="172836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1280" y="2045880"/>
              <a:ext cx="3209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826920" y="217476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点考察阅读不太艰深的文言文的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500720" y="476280"/>
            <a:ext cx="4318560" cy="2880720"/>
            <a:chOff x="4500720" y="476280"/>
            <a:chExt cx="4318560" cy="2880720"/>
          </a:xfrm>
        </p:grpSpPr>
        <p:sp>
          <p:nvSpPr>
            <p:cNvPr id="437" name=""/>
            <p:cNvSpPr/>
            <p:nvPr/>
          </p:nvSpPr>
          <p:spPr>
            <a:xfrm>
              <a:off x="4661280" y="476280"/>
              <a:ext cx="4158000" cy="288072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00720" y="1052280"/>
              <a:ext cx="42786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076720" y="98100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考察学生能否了解文化背景，感受中华文化精神，用历史眼光和现代观念审视作品的内容和思想倾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-152280" y="-141120"/>
            <a:ext cx="9296280" cy="6999120"/>
          </a:xfrm>
          <a:prstGeom prst="rect">
            <a:avLst/>
          </a:prstGeom>
          <a:ln w="0">
            <a:noFill/>
          </a:ln>
        </p:spPr>
      </p:pic>
      <p:sp>
        <p:nvSpPr>
          <p:cNvPr id="441" name="未知"/>
          <p:cNvSpPr/>
          <p:nvPr/>
        </p:nvSpPr>
        <p:spPr>
          <a:xfrm>
            <a:off x="3048120" y="4419720"/>
            <a:ext cx="76176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未知"/>
          <p:cNvSpPr/>
          <p:nvPr/>
        </p:nvSpPr>
        <p:spPr>
          <a:xfrm flipH="1">
            <a:off x="5257800" y="4495680"/>
            <a:ext cx="169920" cy="198144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未知"/>
          <p:cNvSpPr/>
          <p:nvPr/>
        </p:nvSpPr>
        <p:spPr>
          <a:xfrm flipH="1" flipV="1" rot="6445800">
            <a:off x="4064400" y="3039120"/>
            <a:ext cx="2154240" cy="45720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未知"/>
          <p:cNvSpPr/>
          <p:nvPr/>
        </p:nvSpPr>
        <p:spPr>
          <a:xfrm flipV="1" rot="14980200">
            <a:off x="2570040" y="3107520"/>
            <a:ext cx="2266920" cy="8568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未知"/>
          <p:cNvSpPr/>
          <p:nvPr/>
        </p:nvSpPr>
        <p:spPr>
          <a:xfrm flipV="1" rot="14980200">
            <a:off x="2602080" y="3569040"/>
            <a:ext cx="1439640" cy="39744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09480" y="1143000"/>
            <a:ext cx="2971440" cy="2318760"/>
            <a:chOff x="609480" y="1143000"/>
            <a:chExt cx="2971440" cy="2318760"/>
          </a:xfrm>
        </p:grpSpPr>
        <p:sp>
          <p:nvSpPr>
            <p:cNvPr id="447" name=""/>
            <p:cNvSpPr/>
            <p:nvPr/>
          </p:nvSpPr>
          <p:spPr>
            <a:xfrm>
              <a:off x="887760" y="1143000"/>
              <a:ext cx="2404800" cy="231876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9480" y="1606680"/>
              <a:ext cx="297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正确断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819520" y="533520"/>
            <a:ext cx="3123720" cy="2361240"/>
            <a:chOff x="2819520" y="533520"/>
            <a:chExt cx="3123720" cy="2361240"/>
          </a:xfrm>
        </p:grpSpPr>
        <p:sp>
          <p:nvSpPr>
            <p:cNvPr id="450" name=""/>
            <p:cNvSpPr/>
            <p:nvPr/>
          </p:nvSpPr>
          <p:spPr>
            <a:xfrm>
              <a:off x="3112200" y="533520"/>
              <a:ext cx="2527920" cy="236124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19520" y="1005480"/>
              <a:ext cx="312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情诵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未知"/>
          <p:cNvSpPr/>
          <p:nvPr/>
        </p:nvSpPr>
        <p:spPr>
          <a:xfrm flipH="1" flipV="1" rot="6445800">
            <a:off x="5028840" y="3504960"/>
            <a:ext cx="1295640" cy="53352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358080" y="4343400"/>
            <a:ext cx="241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课堂评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334120" y="1143000"/>
            <a:ext cx="3123720" cy="2361600"/>
            <a:chOff x="5334120" y="1143000"/>
            <a:chExt cx="3123720" cy="2361600"/>
          </a:xfrm>
        </p:grpSpPr>
        <p:sp>
          <p:nvSpPr>
            <p:cNvPr id="455" name=""/>
            <p:cNvSpPr/>
            <p:nvPr/>
          </p:nvSpPr>
          <p:spPr>
            <a:xfrm>
              <a:off x="5626800" y="1143000"/>
              <a:ext cx="2527920" cy="23616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34120" y="1615320"/>
              <a:ext cx="312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检查学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981080" y="10666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黑体"/>
              </a:rPr>
              <a:t>七、说开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95280" y="333360"/>
            <a:ext cx="3960720" cy="459720"/>
          </a:xfrm>
          <a:prstGeom prst="rect">
            <a:avLst/>
          </a:prstGeom>
          <a:solidFill>
            <a:srgbClr val="ffef66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程资源开发与利用的建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>
            <a:off x="3635280" y="4292640"/>
            <a:ext cx="30492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未知"/>
          <p:cNvSpPr/>
          <p:nvPr/>
        </p:nvSpPr>
        <p:spPr>
          <a:xfrm flipH="1">
            <a:off x="4906800" y="4292640"/>
            <a:ext cx="16992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未知"/>
          <p:cNvSpPr/>
          <p:nvPr/>
        </p:nvSpPr>
        <p:spPr>
          <a:xfrm flipV="1" rot="14980200">
            <a:off x="3250800" y="3606480"/>
            <a:ext cx="706320" cy="50328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未知"/>
          <p:cNvSpPr/>
          <p:nvPr/>
        </p:nvSpPr>
        <p:spPr>
          <a:xfrm flipH="1" flipV="1" rot="6445800">
            <a:off x="4872600" y="3703320"/>
            <a:ext cx="717480" cy="45720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6"/>
          <p:cNvSpPr/>
          <p:nvPr/>
        </p:nvSpPr>
        <p:spPr>
          <a:xfrm flipH="1" flipV="1">
            <a:off x="4191120" y="281916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未知"/>
          <p:cNvSpPr/>
          <p:nvPr/>
        </p:nvSpPr>
        <p:spPr>
          <a:xfrm rot="18840000">
            <a:off x="3581640" y="2970720"/>
            <a:ext cx="366840" cy="12826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未知"/>
          <p:cNvSpPr/>
          <p:nvPr/>
        </p:nvSpPr>
        <p:spPr>
          <a:xfrm flipH="1" rot="12775800">
            <a:off x="4952160" y="2971440"/>
            <a:ext cx="217440" cy="115416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81640" y="4294080"/>
            <a:ext cx="127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程资源开发与利用的建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62320" y="3276720"/>
            <a:ext cx="1008000" cy="1009440"/>
          </a:xfrm>
          <a:prstGeom prst="ellipse">
            <a:avLst/>
          </a:prstGeom>
          <a:gradFill rotWithShape="0">
            <a:gsLst>
              <a:gs pos="0">
                <a:srgbClr val="fc9e74"/>
              </a:gs>
              <a:gs pos="50000">
                <a:srgbClr val="ffffff"/>
              </a:gs>
              <a:gs pos="100000">
                <a:srgbClr val="fc9e74"/>
              </a:gs>
            </a:gsLst>
            <a:lin ang="5400000"/>
          </a:gradFill>
          <a:ln w="28440">
            <a:solidFill>
              <a:srgbClr val="fc93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38280" y="35053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教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1905120"/>
            <a:ext cx="1008000" cy="1009440"/>
          </a:xfrm>
          <a:prstGeom prst="ellipse">
            <a:avLst/>
          </a:prstGeom>
          <a:gradFill rotWithShape="0">
            <a:gsLst>
              <a:gs pos="0">
                <a:srgbClr val="fc9e74"/>
              </a:gs>
              <a:gs pos="50000">
                <a:srgbClr val="ffffff"/>
              </a:gs>
              <a:gs pos="100000">
                <a:srgbClr val="fc9e74"/>
              </a:gs>
            </a:gsLst>
            <a:lin ang="5400000"/>
          </a:gradFill>
          <a:ln w="28440">
            <a:solidFill>
              <a:srgbClr val="fc93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2286000"/>
            <a:ext cx="1008000" cy="1009800"/>
          </a:xfrm>
          <a:prstGeom prst="ellipse">
            <a:avLst/>
          </a:prstGeom>
          <a:gradFill rotWithShape="0">
            <a:gsLst>
              <a:gs pos="0">
                <a:srgbClr val="fc9e74"/>
              </a:gs>
              <a:gs pos="50000">
                <a:srgbClr val="ffffff"/>
              </a:gs>
              <a:gs pos="100000">
                <a:srgbClr val="fc9e74"/>
              </a:gs>
            </a:gsLst>
            <a:lin ang="5400000"/>
          </a:gradFill>
          <a:ln w="28440">
            <a:solidFill>
              <a:srgbClr val="fc93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22096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教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90920" y="25146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7800" y="2209680"/>
            <a:ext cx="1143000" cy="1009800"/>
          </a:xfrm>
          <a:prstGeom prst="ellipse">
            <a:avLst/>
          </a:prstGeom>
          <a:gradFill rotWithShape="0">
            <a:gsLst>
              <a:gs pos="0">
                <a:srgbClr val="fc9e74"/>
              </a:gs>
              <a:gs pos="50000">
                <a:srgbClr val="ffffff"/>
              </a:gs>
              <a:gs pos="100000">
                <a:srgbClr val="fc9e74"/>
              </a:gs>
            </a:gsLst>
            <a:lin ang="5400000"/>
          </a:gradFill>
          <a:ln w="28440">
            <a:solidFill>
              <a:srgbClr val="fc93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19720" y="1905120"/>
            <a:ext cx="1008000" cy="1009440"/>
          </a:xfrm>
          <a:prstGeom prst="ellipse">
            <a:avLst/>
          </a:prstGeom>
          <a:gradFill rotWithShape="0">
            <a:gsLst>
              <a:gs pos="0">
                <a:srgbClr val="fc9e74"/>
              </a:gs>
              <a:gs pos="50000">
                <a:srgbClr val="ffffff"/>
              </a:gs>
              <a:gs pos="100000">
                <a:srgbClr val="fc9e74"/>
              </a:gs>
            </a:gsLst>
            <a:lin ang="5400000"/>
          </a:gradFill>
          <a:ln w="28440">
            <a:solidFill>
              <a:srgbClr val="fc93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2514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媒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343400" y="20574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工具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6"/>
          <p:cNvSpPr/>
          <p:nvPr/>
        </p:nvSpPr>
        <p:spPr>
          <a:xfrm flipH="1" flipV="1">
            <a:off x="4800600" y="29714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3200400"/>
            <a:ext cx="1008000" cy="1009800"/>
          </a:xfrm>
          <a:prstGeom prst="ellipse">
            <a:avLst/>
          </a:prstGeom>
          <a:gradFill rotWithShape="0">
            <a:gsLst>
              <a:gs pos="0">
                <a:srgbClr val="fc9e74"/>
              </a:gs>
              <a:gs pos="50000">
                <a:srgbClr val="ffffff"/>
              </a:gs>
              <a:gs pos="100000">
                <a:srgbClr val="fc9e74"/>
              </a:gs>
            </a:gsLst>
            <a:lin ang="5400000"/>
          </a:gradFill>
          <a:ln w="28440">
            <a:solidFill>
              <a:srgbClr val="fc93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386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录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28600" y="12193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可以怡情，可以博彩，可以长才。它能够改变人的精神面貌，充实人的灵魂世界，成就人的道德学问，提升人的人生境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2"/>
          <p:cNvSpPr/>
          <p:nvPr/>
        </p:nvSpPr>
        <p:spPr>
          <a:xfrm>
            <a:off x="1828800" y="4114800"/>
            <a:ext cx="4800600" cy="141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锲而舍之，朽木不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锲而不舍，金石可镂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819520" y="2133720"/>
            <a:ext cx="3352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谢谢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5800" y="4724280"/>
            <a:ext cx="3960720" cy="792360"/>
          </a:xfrm>
          <a:prstGeom prst="cube">
            <a:avLst>
              <a:gd name="adj" fmla="val 35296"/>
            </a:avLst>
          </a:prstGeom>
          <a:solidFill>
            <a:srgbClr val="ffef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1557360"/>
            <a:ext cx="3960720" cy="792000"/>
          </a:xfrm>
          <a:prstGeom prst="cube">
            <a:avLst>
              <a:gd name="adj" fmla="val 35296"/>
            </a:avLst>
          </a:prstGeom>
          <a:solidFill>
            <a:srgbClr val="ffef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6200" y="2349360"/>
            <a:ext cx="3960720" cy="792360"/>
          </a:xfrm>
          <a:prstGeom prst="cube">
            <a:avLst>
              <a:gd name="adj" fmla="val 35296"/>
            </a:avLst>
          </a:prstGeom>
          <a:solidFill>
            <a:srgbClr val="ffef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3141720"/>
            <a:ext cx="3960720" cy="792000"/>
          </a:xfrm>
          <a:prstGeom prst="cube">
            <a:avLst>
              <a:gd name="adj" fmla="val 35296"/>
            </a:avLst>
          </a:prstGeom>
          <a:solidFill>
            <a:srgbClr val="ffef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962520"/>
            <a:ext cx="3960720" cy="792000"/>
          </a:xfrm>
          <a:prstGeom prst="cube">
            <a:avLst>
              <a:gd name="adj" fmla="val 35296"/>
            </a:avLst>
          </a:prstGeom>
          <a:solidFill>
            <a:srgbClr val="ffef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98560" y="5121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必修一   记叙散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709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必修四   人物传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6200" y="35020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必修三   议论性散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42940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必修二   写景记游散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1917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必修五   抒情散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95280" y="476280"/>
            <a:ext cx="2087640" cy="520560"/>
          </a:xfrm>
          <a:prstGeom prst="rect">
            <a:avLst/>
          </a:prstGeom>
          <a:solidFill>
            <a:srgbClr val="ffef6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例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49482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烛之武退秦师》《荆轲刺秦王》《鸿门宴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80000" y="4149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兰亭集序》《赤壁赋》《游褒禅山记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3357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寡人之于国也》《劝学》《过秦论》《师说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56360" y="2565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廉颇蔺相如列传》《苏武传》《张衡传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484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归去来兮辞》    《滕王阁序》       《逍遥游》《陈情表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0920" y="1844640"/>
            <a:ext cx="0" cy="338472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057400"/>
            <a:ext cx="36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照文体特征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6019920"/>
            <a:ext cx="309564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古文阅读的初始基础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740720" y="260280"/>
            <a:ext cx="1150920" cy="1168200"/>
            <a:chOff x="7740720" y="260280"/>
            <a:chExt cx="1150920" cy="1168200"/>
          </a:xfrm>
        </p:grpSpPr>
        <p:sp>
          <p:nvSpPr>
            <p:cNvPr id="206" name=""/>
            <p:cNvSpPr/>
            <p:nvPr/>
          </p:nvSpPr>
          <p:spPr>
            <a:xfrm>
              <a:off x="7783560" y="260280"/>
              <a:ext cx="1108080" cy="116820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40720" y="493920"/>
              <a:ext cx="114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必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课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4956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657600" y="4191120"/>
            <a:ext cx="1980720" cy="1675800"/>
            <a:chOff x="3657600" y="4191120"/>
            <a:chExt cx="1980720" cy="1675800"/>
          </a:xfrm>
        </p:grpSpPr>
        <p:sp>
          <p:nvSpPr>
            <p:cNvPr id="214" name=""/>
            <p:cNvSpPr/>
            <p:nvPr/>
          </p:nvSpPr>
          <p:spPr>
            <a:xfrm>
              <a:off x="3731040" y="4191120"/>
              <a:ext cx="1907280" cy="16758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57600" y="4526280"/>
              <a:ext cx="196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记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962520" y="2514600"/>
            <a:ext cx="1980720" cy="1676160"/>
            <a:chOff x="3962520" y="2514600"/>
            <a:chExt cx="1980720" cy="1676160"/>
          </a:xfrm>
        </p:grpSpPr>
        <p:sp>
          <p:nvSpPr>
            <p:cNvPr id="217" name=""/>
            <p:cNvSpPr/>
            <p:nvPr/>
          </p:nvSpPr>
          <p:spPr>
            <a:xfrm>
              <a:off x="4035960" y="2514600"/>
              <a:ext cx="1907280" cy="167616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2520" y="2849760"/>
              <a:ext cx="196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议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191120" y="838080"/>
            <a:ext cx="1980720" cy="1676160"/>
            <a:chOff x="4191120" y="838080"/>
            <a:chExt cx="1980720" cy="1676160"/>
          </a:xfrm>
        </p:grpSpPr>
        <p:sp>
          <p:nvSpPr>
            <p:cNvPr id="220" name=""/>
            <p:cNvSpPr/>
            <p:nvPr/>
          </p:nvSpPr>
          <p:spPr>
            <a:xfrm>
              <a:off x="4264560" y="838080"/>
              <a:ext cx="1907280" cy="167616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91120" y="1173240"/>
              <a:ext cx="196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抒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81080" y="4191120"/>
            <a:ext cx="1981080" cy="1675800"/>
            <a:chOff x="1981080" y="4191120"/>
            <a:chExt cx="1981080" cy="1675800"/>
          </a:xfrm>
        </p:grpSpPr>
        <p:sp>
          <p:nvSpPr>
            <p:cNvPr id="223" name=""/>
            <p:cNvSpPr/>
            <p:nvPr/>
          </p:nvSpPr>
          <p:spPr>
            <a:xfrm>
              <a:off x="2054520" y="4191120"/>
              <a:ext cx="1907640" cy="16758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4526280"/>
              <a:ext cx="196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景状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38280" y="2514600"/>
            <a:ext cx="1981080" cy="1676160"/>
            <a:chOff x="2438280" y="2514600"/>
            <a:chExt cx="1981080" cy="1676160"/>
          </a:xfrm>
        </p:grpSpPr>
        <p:sp>
          <p:nvSpPr>
            <p:cNvPr id="226" name=""/>
            <p:cNvSpPr/>
            <p:nvPr/>
          </p:nvSpPr>
          <p:spPr>
            <a:xfrm>
              <a:off x="2511720" y="2514600"/>
              <a:ext cx="1907640" cy="167616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38280" y="2849760"/>
              <a:ext cx="196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理论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43200" y="762120"/>
            <a:ext cx="1980720" cy="1675800"/>
            <a:chOff x="2743200" y="762120"/>
            <a:chExt cx="1980720" cy="1675800"/>
          </a:xfrm>
        </p:grpSpPr>
        <p:sp>
          <p:nvSpPr>
            <p:cNvPr id="229" name=""/>
            <p:cNvSpPr/>
            <p:nvPr/>
          </p:nvSpPr>
          <p:spPr>
            <a:xfrm>
              <a:off x="2816640" y="762120"/>
              <a:ext cx="1907280" cy="167580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3200" y="1097280"/>
              <a:ext cx="196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感怀生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V="1">
            <a:off x="41911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943600" y="2666880"/>
            <a:ext cx="2895120" cy="1676160"/>
            <a:chOff x="5943600" y="2666880"/>
            <a:chExt cx="2895120" cy="1676160"/>
          </a:xfrm>
        </p:grpSpPr>
        <p:sp>
          <p:nvSpPr>
            <p:cNvPr id="233" name=""/>
            <p:cNvSpPr/>
            <p:nvPr/>
          </p:nvSpPr>
          <p:spPr>
            <a:xfrm>
              <a:off x="6051240" y="2666880"/>
              <a:ext cx="2787480" cy="167616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3002040"/>
              <a:ext cx="2868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由外而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由浅入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V="1">
            <a:off x="403848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未知"/>
          <p:cNvSpPr/>
          <p:nvPr/>
        </p:nvSpPr>
        <p:spPr>
          <a:xfrm>
            <a:off x="3708360" y="4292640"/>
            <a:ext cx="30492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 flipH="1">
            <a:off x="4952880" y="4267080"/>
            <a:ext cx="169920" cy="198144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 flipV="1" rot="14980200">
            <a:off x="3250800" y="3606480"/>
            <a:ext cx="706320" cy="50328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 flipH="1" flipV="1" rot="6445800">
            <a:off x="4942800" y="3543840"/>
            <a:ext cx="793800" cy="60984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4183200" y="4205160"/>
            <a:ext cx="5331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必修三内容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 flipH="1" flipV="1">
            <a:off x="4114800" y="29714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8080" y="2971800"/>
            <a:ext cx="2430360" cy="1143000"/>
            <a:chOff x="838080" y="2971800"/>
            <a:chExt cx="2430360" cy="1143000"/>
          </a:xfrm>
        </p:grpSpPr>
        <p:sp>
          <p:nvSpPr>
            <p:cNvPr id="243" name=""/>
            <p:cNvSpPr/>
            <p:nvPr/>
          </p:nvSpPr>
          <p:spPr>
            <a:xfrm>
              <a:off x="928440" y="2971800"/>
              <a:ext cx="2340000" cy="114300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3200400"/>
              <a:ext cx="240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阅读鉴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286000" y="1981080"/>
            <a:ext cx="2430000" cy="1143000"/>
            <a:chOff x="2286000" y="1981080"/>
            <a:chExt cx="2430000" cy="1143000"/>
          </a:xfrm>
        </p:grpSpPr>
        <p:sp>
          <p:nvSpPr>
            <p:cNvPr id="246" name=""/>
            <p:cNvSpPr/>
            <p:nvPr/>
          </p:nvSpPr>
          <p:spPr>
            <a:xfrm>
              <a:off x="2376360" y="1981080"/>
              <a:ext cx="2339640" cy="114300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6000" y="2209680"/>
              <a:ext cx="24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达交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343400" y="1981080"/>
            <a:ext cx="2430000" cy="1143000"/>
            <a:chOff x="4343400" y="1981080"/>
            <a:chExt cx="2430000" cy="1143000"/>
          </a:xfrm>
        </p:grpSpPr>
        <p:sp>
          <p:nvSpPr>
            <p:cNvPr id="249" name=""/>
            <p:cNvSpPr/>
            <p:nvPr/>
          </p:nvSpPr>
          <p:spPr>
            <a:xfrm>
              <a:off x="4433760" y="1981080"/>
              <a:ext cx="2339640" cy="114300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43400" y="2209680"/>
              <a:ext cx="24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梳理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638680" y="2971800"/>
            <a:ext cx="2430360" cy="1143000"/>
            <a:chOff x="5638680" y="2971800"/>
            <a:chExt cx="2430360" cy="1143000"/>
          </a:xfrm>
        </p:grpSpPr>
        <p:sp>
          <p:nvSpPr>
            <p:cNvPr id="252" name=""/>
            <p:cNvSpPr/>
            <p:nvPr/>
          </p:nvSpPr>
          <p:spPr>
            <a:xfrm>
              <a:off x="5729040" y="2971800"/>
              <a:ext cx="2340000" cy="114300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5400000"/>
            </a:gradFill>
            <a:ln w="255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38680" y="3200400"/>
              <a:ext cx="240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名著导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80880" y="914400"/>
            <a:ext cx="28958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古文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议论性散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质疑解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4800600" y="29718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云形 13"/>
          <p:cNvSpPr/>
          <p:nvPr/>
        </p:nvSpPr>
        <p:spPr>
          <a:xfrm>
            <a:off x="2971800" y="0"/>
            <a:ext cx="2595600" cy="2376360"/>
          </a:xfrm>
          <a:custGeom>
            <a:avLst/>
            <a:gdLst>
              <a:gd name="textAreaLeft" fmla="*/ 357480 w 2595600"/>
              <a:gd name="textAreaRight" fmla="*/ 2053440 w 2595600"/>
              <a:gd name="textAreaTop" fmla="*/ 358920 h 2376360"/>
              <a:gd name="textAreaBottom" fmla="*/ 1907640 h 2376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云形 13"/>
          <p:cNvSpPr/>
          <p:nvPr/>
        </p:nvSpPr>
        <p:spPr>
          <a:xfrm>
            <a:off x="0" y="990720"/>
            <a:ext cx="3124080" cy="2438280"/>
          </a:xfrm>
          <a:custGeom>
            <a:avLst/>
            <a:gdLst>
              <a:gd name="textAreaLeft" fmla="*/ 430560 w 3124080"/>
              <a:gd name="textAreaRight" fmla="*/ 2471400 w 3124080"/>
              <a:gd name="textAreaTop" fmla="*/ 367920 h 2438280"/>
              <a:gd name="textAreaBottom" fmla="*/ 1957320 h 24382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762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议论文写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1143000"/>
            <a:ext cx="8534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劝学》作为《荀子》的开篇之作，是一篇论述学习的重要意义，劝导人们以正确的目的、态度和方法去学习的散文。该文反映了荀子在学习问题上的观点和精彩斐然的论证艺术。荀子的文章素有“诸子大成”的美称——“铺锦列绣”、“气盛言宜” 。《劝学》还是一篇具有浓厚人文特色的文章。它肯定后天学习的重要性。从开头到结尾始终把“人”放在重要的位置上进行论述，“人”实际上是它反复咏唱的主旋律。《劝学》里“博学而日参省乎己”“善假于物”的君子给我留下了极其深刻的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我选择这篇文章说课的原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86000" y="20574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二、说学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87560" y="3500280"/>
            <a:ext cx="54936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05440" y="4221000"/>
            <a:ext cx="50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学情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2421600">
            <a:off x="4321080" y="3284280"/>
            <a:ext cx="2737080" cy="2225520"/>
          </a:xfrm>
          <a:custGeom>
            <a:avLst/>
            <a:gdLst>
              <a:gd name="textAreaLeft" fmla="*/ 643320 w 2737080"/>
              <a:gd name="textAreaRight" fmla="*/ 2091960 w 2737080"/>
              <a:gd name="textAreaTop" fmla="*/ 261720 h 2225520"/>
              <a:gd name="textAreaBottom" fmla="*/ 1396080 h 2225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40440" y="5057640"/>
            <a:ext cx="1170720" cy="354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929120" y="5084640"/>
            <a:ext cx="1170720" cy="354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40240" y="2826720"/>
            <a:ext cx="437760" cy="259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723560" y="2350440"/>
            <a:ext cx="291960" cy="230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70" y="1160"/>
                </a:moveTo>
                <a:arcTo wR="10800" hR="10800" stAng="-3791901" swAng="3791901"/>
                <a:lnTo>
                  <a:pt x="10800" y="10800"/>
                </a:lnTo>
                <a:close/>
              </a:path>
              <a:path fill="none" w="21600" h="21600">
                <a:moveTo>
                  <a:pt x="15670" y="1160"/>
                </a:moveTo>
                <a:arcTo wR="10800" hR="10800" stAng="-3791901" swAng="379190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21354600">
            <a:off x="1726920" y="2992320"/>
            <a:ext cx="2766960" cy="2376720"/>
          </a:xfrm>
          <a:custGeom>
            <a:avLst/>
            <a:gdLst>
              <a:gd name="textAreaLeft" fmla="*/ 650160 w 2766960"/>
              <a:gd name="textAreaRight" fmla="*/ 2115000 w 2766960"/>
              <a:gd name="textAreaTop" fmla="*/ 279360 h 2376720"/>
              <a:gd name="textAreaBottom" fmla="*/ 1490760 h 2376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已具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知识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4617000">
            <a:off x="518400" y="965160"/>
            <a:ext cx="1049400" cy="208764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lin ang="786000"/>
          </a:gradFill>
          <a:ln w="0">
            <a:noFill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掌握了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定数量的文言知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890200">
            <a:off x="1846080" y="-168120"/>
            <a:ext cx="1104840" cy="236232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17471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接触过议论性散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能背诵、会翻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"/>
          <p:cNvCxnSpPr/>
          <p:nvPr/>
        </p:nvCxnSpPr>
        <p:spPr>
          <a:xfrm>
            <a:off x="1368000" y="2421000"/>
            <a:ext cx="1399320" cy="645120"/>
          </a:xfrm>
          <a:prstGeom prst="straightConnector1">
            <a:avLst/>
          </a:prstGeom>
          <a:ln w="28440">
            <a:solidFill>
              <a:srgbClr val="6699ff"/>
            </a:solidFill>
            <a:miter/>
          </a:ln>
        </p:spPr>
      </p:cxnSp>
      <p:cxnSp>
        <p:nvCxnSpPr>
          <p:cNvPr id="272" name=""/>
          <p:cNvCxnSpPr>
            <a:stCxn id="273" idx="7"/>
            <a:endCxn id="268" idx="0"/>
          </p:cNvCxnSpPr>
          <p:nvPr/>
        </p:nvCxnSpPr>
        <p:spPr>
          <a:xfrm flipH="1">
            <a:off x="3049200" y="2542680"/>
            <a:ext cx="84960" cy="691560"/>
          </a:xfrm>
          <a:prstGeom prst="straightConnector1">
            <a:avLst/>
          </a:prstGeom>
          <a:ln w="28440">
            <a:solidFill>
              <a:srgbClr val="6699ff"/>
            </a:solidFill>
            <a:miter/>
          </a:ln>
        </p:spPr>
      </p:cxnSp>
      <p:sp>
        <p:nvSpPr>
          <p:cNvPr id="274" name=""/>
          <p:cNvSpPr/>
          <p:nvPr/>
        </p:nvSpPr>
        <p:spPr>
          <a:xfrm rot="2100600">
            <a:off x="4229280" y="969840"/>
            <a:ext cx="2836800" cy="18432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17471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知识的储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方法技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的掌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是零散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263" idx="0"/>
          </p:cNvCxnSpPr>
          <p:nvPr/>
        </p:nvCxnSpPr>
        <p:spPr>
          <a:xfrm flipH="1" flipV="1">
            <a:off x="6121080" y="2994840"/>
            <a:ext cx="148320" cy="731160"/>
          </a:xfrm>
          <a:prstGeom prst="straightConnector1">
            <a:avLst/>
          </a:prstGeom>
          <a:ln w="28440">
            <a:solidFill>
              <a:srgbClr val="6699ff"/>
            </a:solidFill>
            <a:miter/>
          </a:ln>
        </p:spPr>
      </p:cxnSp>
      <p:cxnSp>
        <p:nvCxnSpPr>
          <p:cNvPr id="276" name=""/>
          <p:cNvCxnSpPr>
            <a:stCxn id="270" idx="6"/>
            <a:endCxn id="268" idx="0"/>
          </p:cNvCxnSpPr>
          <p:nvPr/>
        </p:nvCxnSpPr>
        <p:spPr>
          <a:xfrm>
            <a:off x="2319480" y="1558440"/>
            <a:ext cx="730800" cy="1675800"/>
          </a:xfrm>
          <a:prstGeom prst="straightConnector1">
            <a:avLst/>
          </a:prstGeom>
          <a:ln w="28440">
            <a:solidFill>
              <a:srgbClr val="6699ff"/>
            </a:solidFill>
            <a:miter/>
          </a:ln>
        </p:spPr>
      </p:cxnSp>
      <p:sp>
        <p:nvSpPr>
          <p:cNvPr id="277" name=""/>
          <p:cNvSpPr/>
          <p:nvPr/>
        </p:nvSpPr>
        <p:spPr>
          <a:xfrm rot="2100600">
            <a:off x="5962320" y="304920"/>
            <a:ext cx="2100240" cy="137772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鉴赏能力较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500600">
            <a:off x="6513120" y="1703520"/>
            <a:ext cx="2394000" cy="179208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lin ang="3900000"/>
          </a:gradFill>
          <a:ln w="0">
            <a:noFill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作品构思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选材、语言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表现手法的精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借鉴吸收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63" idx="0"/>
          </p:cNvCxnSpPr>
          <p:nvPr/>
        </p:nvCxnSpPr>
        <p:spPr>
          <a:xfrm flipV="1">
            <a:off x="6269040" y="1483560"/>
            <a:ext cx="776880" cy="2242440"/>
          </a:xfrm>
          <a:prstGeom prst="straightConnector1">
            <a:avLst/>
          </a:prstGeom>
          <a:ln w="28440">
            <a:solidFill>
              <a:srgbClr val="6699ff"/>
            </a:solidFill>
            <a:miter/>
          </a:ln>
        </p:spPr>
      </p:cxnSp>
      <p:cxnSp>
        <p:nvCxnSpPr>
          <p:cNvPr id="280" name=""/>
          <p:cNvCxnSpPr/>
          <p:nvPr/>
        </p:nvCxnSpPr>
        <p:spPr>
          <a:xfrm flipV="1">
            <a:off x="6049800" y="3428280"/>
            <a:ext cx="1215360" cy="275400"/>
          </a:xfrm>
          <a:prstGeom prst="straightConnector1">
            <a:avLst/>
          </a:prstGeom>
          <a:ln w="28440">
            <a:solidFill>
              <a:srgbClr val="6699ff"/>
            </a:solidFill>
            <a:miter/>
          </a:ln>
        </p:spPr>
      </p:cxnSp>
      <p:cxnSp>
        <p:nvCxnSpPr>
          <p:cNvPr id="281" name=""/>
          <p:cNvCxnSpPr/>
          <p:nvPr/>
        </p:nvCxnSpPr>
        <p:spPr>
          <a:xfrm>
            <a:off x="1368000" y="2421000"/>
            <a:ext cx="1399320" cy="645120"/>
          </a:xfrm>
          <a:prstGeom prst="straightConnector1">
            <a:avLst/>
          </a:prstGeom>
          <a:ln w="28440">
            <a:solidFill>
              <a:srgbClr val="6699ff"/>
            </a:solidFill>
            <a:miter/>
          </a:ln>
        </p:spPr>
      </p:cxnSp>
      <p:cxnSp>
        <p:nvCxnSpPr>
          <p:cNvPr id="282" name=""/>
          <p:cNvCxnSpPr/>
          <p:nvPr/>
        </p:nvCxnSpPr>
        <p:spPr>
          <a:xfrm>
            <a:off x="1368000" y="2421000"/>
            <a:ext cx="1399320" cy="645120"/>
          </a:xfrm>
          <a:prstGeom prst="straightConnector1">
            <a:avLst/>
          </a:prstGeom>
          <a:ln w="28440">
            <a:solidFill>
              <a:srgbClr val="6699ff"/>
            </a:solidFill>
            <a:miter/>
          </a:ln>
        </p:spPr>
      </p:cxnSp>
      <p:cxnSp>
        <p:nvCxnSpPr>
          <p:cNvPr id="283" name=""/>
          <p:cNvCxnSpPr/>
          <p:nvPr/>
        </p:nvCxnSpPr>
        <p:spPr>
          <a:xfrm>
            <a:off x="1368000" y="2421000"/>
            <a:ext cx="1399320" cy="645120"/>
          </a:xfrm>
          <a:prstGeom prst="straightConnector1">
            <a:avLst/>
          </a:prstGeom>
          <a:ln w="28440">
            <a:solidFill>
              <a:srgbClr val="6699ff"/>
            </a:solidFill>
            <a:miter/>
          </a:ln>
        </p:spPr>
      </p:cxnSp>
      <p:sp>
        <p:nvSpPr>
          <p:cNvPr id="284" name=""/>
          <p:cNvSpPr/>
          <p:nvPr/>
        </p:nvSpPr>
        <p:spPr>
          <a:xfrm rot="4617000">
            <a:off x="518400" y="965160"/>
            <a:ext cx="1049400" cy="208764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lin ang="786000"/>
          </a:gradFill>
          <a:ln w="0">
            <a:noFill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掌握了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定数量的文言知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/>
          <p:nvPr/>
        </p:nvCxnSpPr>
        <p:spPr>
          <a:xfrm>
            <a:off x="1368000" y="2421000"/>
            <a:ext cx="1399320" cy="645120"/>
          </a:xfrm>
          <a:prstGeom prst="straightConnector1">
            <a:avLst/>
          </a:prstGeom>
          <a:ln w="28440">
            <a:solidFill>
              <a:srgbClr val="6699ff"/>
            </a:solidFill>
            <a:miter/>
          </a:ln>
        </p:spPr>
      </p:cxnSp>
      <p:sp>
        <p:nvSpPr>
          <p:cNvPr id="273" name=""/>
          <p:cNvSpPr/>
          <p:nvPr/>
        </p:nvSpPr>
        <p:spPr>
          <a:xfrm rot="9319200">
            <a:off x="2517480" y="1110960"/>
            <a:ext cx="2355840" cy="131904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掌握了一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阅读和欣赏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685800"/>
            <a:ext cx="86104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教材和学情，我拟定以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继续积累文言实词、虚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本文比喻论证的方法，提高学生围绕中心论点    合理论证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了解荀子的学习观，并且能够运用到自己的学习生活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喻论证、围绕中心论点论证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教学重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荀子的学习观，树立正确的学习态度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教学难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6-08T00:23:47Z</dcterms:modified>
  <cp:revision>5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