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22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.jpeg" ContentType="image/jpeg"/>
  <Override PartName="/ppt/media/image27.gif" ContentType="image/gif"/>
  <Override PartName="/ppt/media/image18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909C-4DBE-4642-A6C8-99CE40BD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45F4-632D-4C83-84F3-307BAA2A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F791-0634-4EDE-86E7-5E0E2AEF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1292-80B8-4498-926F-A0AF2DED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291E-A3E0-445D-B947-CA0507C9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27AA-203A-492C-B64C-1916AFFF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9242-0111-475A-8B19-A6EBD5AD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11E4-698F-49B8-986E-9C00B40F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B567-45C1-4379-A6F8-FA3CFF50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69F3-F4DA-4FD8-A19A-5C7DE031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751C-5F14-496D-AB55-FD2CD396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BAD4-6966-4731-ADAC-6422F99B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CA79-3B96-4B12-ABF4-427CA0F8D6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500720" y="54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0010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6432480" cy="48387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知识运用（独立思考并口头回答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1557360"/>
            <a:ext cx="633708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阅读下面一首诗，按要求回答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饮湖上初晴后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苏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水光潋滟晴方好，山色空蒙雨亦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欲把西湖比西子，淡妆浓抹总相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１，请展开想象描述一下诗一、二两句所描绘的意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２，请从修辞的角度赏析诗三、四两句的妙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03280" y="476280"/>
            <a:ext cx="6193080" cy="792000"/>
          </a:xfrm>
          <a:custGeom>
            <a:avLst/>
            <a:gdLst>
              <a:gd name="textAreaLeft" fmla="*/ 93240 w 6193080"/>
              <a:gd name="textAreaRight" fmla="*/ 6099840 w 619308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16883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65235" y="21600"/>
                </a:lnTo>
                <a:arcTo wR="3600" hR="3600" stAng="10800000" swAng="5400000"/>
                <a:lnTo>
                  <a:pt x="168835" y="3600"/>
                </a:lnTo>
                <a:arcTo wR="3600" hR="3600" stAng="5400000" swAng="5400000"/>
                <a:close/>
              </a:path>
            </a:pathLst>
          </a:custGeom>
          <a:solidFill>
            <a:srgbClr val="ff9900">
              <a:alpha val="18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596360" y="1989000"/>
            <a:ext cx="576000" cy="3745080"/>
          </a:xfrm>
          <a:custGeom>
            <a:avLst/>
            <a:gdLst>
              <a:gd name="textAreaLeft" fmla="*/ 67680 w 576000"/>
              <a:gd name="textAreaRight" fmla="*/ 508320 w 576000"/>
              <a:gd name="textAreaTop" fmla="*/ 67680 h 3745080"/>
              <a:gd name="textAreaBottom" fmla="*/ 3677400 h 3745080"/>
            </a:gdLst>
            <a:ahLst/>
            <a:rect l="textAreaLeft" t="textAreaTop" r="textAreaRight" b="textAreaBottom"/>
            <a:pathLst>
              <a:path w="21600" h="140366">
                <a:moveTo>
                  <a:pt x="3600" y="0"/>
                </a:moveTo>
                <a:arcTo wR="3600" hR="3600" stAng="0" swAng="5400000"/>
                <a:lnTo>
                  <a:pt x="0" y="136766"/>
                </a:lnTo>
                <a:arcTo wR="3600" hR="3600" stAng="16200000" swAng="5400000"/>
                <a:lnTo>
                  <a:pt x="18000" y="140366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ff3300">
              <a:alpha val="6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84360" y="4292640"/>
            <a:ext cx="2303280" cy="1930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580000" y="620640"/>
            <a:ext cx="2879640" cy="2232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28880" y="665280"/>
            <a:ext cx="440676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阅读下面一首诗，按要求回答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山　　　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杜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远上寒山石径斜，白云生处有人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停车坐爱枫林晚，霜叶红于二月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注释：坐，在本诗中是“因为”之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１，“一切景语皆情语”，请结合本诗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相关语句谈谈你对这句话的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２，“于”字在本诗中用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相当精妙，有人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可以改为“似”，请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谈你的看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05120" y="2060640"/>
            <a:ext cx="9118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黑体"/>
              </a:rPr>
              <a:t>　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能力迁移（思考并动笔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564000" y="907920"/>
            <a:ext cx="4678200" cy="4678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562200" y="906480"/>
            <a:ext cx="4678560" cy="4678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94760" y="619560"/>
            <a:ext cx="1801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99cc00"/>
                </a:solidFill>
                <a:latin typeface="方正姚体"/>
                <a:ea typeface="方正姚体"/>
              </a:rPr>
              <a:t>西湖</a:t>
            </a:r>
            <a:r>
              <a:rPr b="1" lang="zh-CN" sz="3200" spc="-1" strike="noStrike">
                <a:solidFill>
                  <a:srgbClr val="99cc00"/>
                </a:solidFill>
                <a:latin typeface="方正姚体"/>
                <a:ea typeface="方正姚体"/>
              </a:rPr>
              <a:t>10</a:t>
            </a:r>
            <a:r>
              <a:rPr b="1" lang="zh-CN" sz="3200" spc="-1" strike="noStrike">
                <a:solidFill>
                  <a:srgbClr val="99cc00"/>
                </a:solidFill>
                <a:latin typeface="方正姚体"/>
                <a:ea typeface="方正姚体"/>
              </a:rPr>
              <a:t>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、苏堤春晓</a:t>
            </a:r>
            <a:br>
              <a:rPr sz="3200"/>
            </a:br>
            <a:r>
              <a:rPr b="0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、曲苑风荷</a:t>
            </a:r>
            <a:br>
              <a:rPr sz="3200"/>
            </a:br>
            <a:r>
              <a:rPr b="0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、平湖秋月</a:t>
            </a:r>
            <a:br>
              <a:rPr sz="3200"/>
            </a:br>
            <a:r>
              <a:rPr b="0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、断桥残雪</a:t>
            </a:r>
            <a:br>
              <a:rPr sz="3200"/>
            </a:br>
            <a:r>
              <a:rPr b="0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、柳浪闻莺</a:t>
            </a:r>
            <a:br>
              <a:rPr sz="3200"/>
            </a:br>
            <a:r>
              <a:rPr b="0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、花港观鱼</a:t>
            </a:r>
            <a:br>
              <a:rPr sz="3200"/>
            </a:br>
            <a:r>
              <a:rPr b="0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7</a:t>
            </a:r>
            <a:r>
              <a:rPr b="0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、雷峰夕照</a:t>
            </a:r>
            <a:br>
              <a:rPr sz="3200"/>
            </a:br>
            <a:r>
              <a:rPr b="0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8</a:t>
            </a:r>
            <a:r>
              <a:rPr b="0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、双峰插云</a:t>
            </a:r>
            <a:br>
              <a:rPr sz="3200"/>
            </a:br>
            <a:r>
              <a:rPr b="0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9</a:t>
            </a:r>
            <a:r>
              <a:rPr b="0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、南屏晚钟</a:t>
            </a:r>
            <a:br>
              <a:rPr sz="3200"/>
            </a:br>
            <a:r>
              <a:rPr b="0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10</a:t>
            </a:r>
            <a:r>
              <a:rPr b="0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、三潭印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562200" y="906480"/>
            <a:ext cx="4678560" cy="4678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562200" y="906480"/>
            <a:ext cx="4678560" cy="4678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562200" y="906480"/>
            <a:ext cx="4678560" cy="4678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562200" y="906480"/>
            <a:ext cx="4678560" cy="4678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3562200" y="906480"/>
            <a:ext cx="4678560" cy="4678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3564000" y="907920"/>
            <a:ext cx="4678200" cy="4678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3564000" y="907920"/>
            <a:ext cx="4678200" cy="4678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3562200" y="906480"/>
            <a:ext cx="4678560" cy="4678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3562200" y="906480"/>
            <a:ext cx="467856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867280" y="765000"/>
            <a:ext cx="2063880" cy="2808360"/>
          </a:xfrm>
          <a:prstGeom prst="rect">
            <a:avLst/>
          </a:prstGeom>
          <a:ln w="28440">
            <a:solidFill>
              <a:srgbClr val="339966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6443640" y="3716280"/>
            <a:ext cx="1871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隶书"/>
              </a:rPr>
              <a:t>白居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99"/>
                </a:solidFill>
                <a:latin typeface="Arial"/>
              </a:rPr>
              <a:t>(772</a:t>
            </a:r>
            <a:r>
              <a:rPr b="1" lang="zh-CN" sz="1600" spc="-1" strike="noStrike">
                <a:solidFill>
                  <a:srgbClr val="009999"/>
                </a:solidFill>
                <a:latin typeface="Arial"/>
              </a:rPr>
              <a:t>－</a:t>
            </a:r>
            <a:r>
              <a:rPr b="1" lang="zh-CN" sz="1600" spc="-1" strike="noStrike">
                <a:solidFill>
                  <a:srgbClr val="009999"/>
                </a:solidFill>
                <a:latin typeface="Arial"/>
              </a:rPr>
              <a:t>84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003640" y="4365720"/>
            <a:ext cx="3457800" cy="1812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11280" y="549360"/>
            <a:ext cx="5111640" cy="5400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32000" y="765000"/>
            <a:ext cx="4321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白居易，字乐天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号香山居士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下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今陕西省渭南县境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人。因直言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谏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贬江州司马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移忠州刺史。杜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而后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白居易是我国古代一位杰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的现实主义诗人。他所生活的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十多年里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正是安史之乱后各种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盾冲突急剧发展的时期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也正是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朝走向衰微的时期。错综复杂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社会现实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在白居易诗中得到了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全面的反映。今存白居易诗近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千首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数量之多在唐代诗人中首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一指。著有《白氏长庆集》七十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卷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代表作品：《长恨歌》《琵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行》《赋得古原草送别》《买炭翁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《暮江吟》《长恨歌》《琵琶行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《白牡丹》《问刘十九》《宫词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435640" y="4724280"/>
            <a:ext cx="3035160" cy="1727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059280" y="1052640"/>
            <a:ext cx="3240000" cy="1271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2707920"/>
            <a:ext cx="8209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华文新魏"/>
              </a:rPr>
              <a:t>了解西湖的美景，热爱祖国的山山水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华文新魏"/>
              </a:rPr>
              <a:t>想象本诗展现的美丽画面，品味诗人传神精当的语言，感悟诗人融入的思想感情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华文新魏"/>
              </a:rPr>
              <a:t>提高对写景抒情诗的鉴赏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55640" y="765000"/>
            <a:ext cx="1150920" cy="17272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050920" y="836640"/>
            <a:ext cx="6407280" cy="5256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03280" y="692280"/>
            <a:ext cx="1800360" cy="5327640"/>
          </a:xfrm>
          <a:prstGeom prst="verticalScroll">
            <a:avLst>
              <a:gd name="adj" fmla="val 12500"/>
            </a:avLst>
          </a:prstGeom>
          <a:solidFill>
            <a:srgbClr val="ffcc99">
              <a:alpha val="1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63280" y="836280"/>
            <a:ext cx="107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阅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基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35280" y="980640"/>
            <a:ext cx="3600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朗读诗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弄懂诗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理解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品味语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想象感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700360" y="620640"/>
            <a:ext cx="3456000" cy="6555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朗读提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95640" y="3429000"/>
            <a:ext cx="86364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11640" y="2565360"/>
            <a:ext cx="79200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42920" y="1557360"/>
            <a:ext cx="7129440" cy="4535640"/>
          </a:xfrm>
          <a:prstGeom prst="foldedCorner">
            <a:avLst>
              <a:gd name="adj" fmla="val 12500"/>
            </a:avLst>
          </a:prstGeom>
          <a:solidFill>
            <a:srgbClr val="ffcc99">
              <a:alpha val="12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95280" y="333360"/>
            <a:ext cx="3889440" cy="4772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116000" y="1628640"/>
            <a:ext cx="7129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钱塘湖春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居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孤山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寺北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贾亭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水面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初平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脚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处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莺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争暖树，谁家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燕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啄春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乱花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渐欲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迷人眼，浅草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能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马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爱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湖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不足，绿杨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阴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沙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堤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56678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348000" y="1484280"/>
            <a:ext cx="5329440" cy="4186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700360" y="620640"/>
            <a:ext cx="3456000" cy="655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口头独立完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99640" y="155700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作者选取了哪些景物来描写西湖早春风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请品味颔联“争”字传神之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请展开想象描绘一下颈联所展现的画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诗的最后两句用了怎样的表达方式？表现了诗人怎样的思想感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2881440" cy="2087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11280" y="3284640"/>
            <a:ext cx="3671640" cy="2879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780000" y="691920"/>
            <a:ext cx="4789440" cy="55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黑体"/>
              </a:rPr>
              <a:t>从思想内容的角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理解作者所抒发的情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黑体"/>
              </a:rPr>
              <a:t>从塑造形象的角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体会诗人的形象和所咏之物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黑体"/>
              </a:rPr>
              <a:t>从语言的角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抓住诗眼；抓住修饰语；抓住特殊词（叠词、拟声词、表颜色的词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黑体"/>
              </a:rPr>
              <a:t>从表达技巧的角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表现手法——或托物言志或情景交融，或联想想象，或虚实结合，或动静结合等；表达方式——记叙、描写、议论、抒情（直接抒情、间接抒情）；修辞方法——比喻、拟人、对偶等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58920" y="981000"/>
            <a:ext cx="1965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Arial"/>
                <a:ea typeface="隶书"/>
              </a:rPr>
              <a:t>归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诗歌鉴赏的一般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508720" y="5157720"/>
            <a:ext cx="2952720" cy="1152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484360" y="476280"/>
            <a:ext cx="4535640" cy="100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700360" y="404640"/>
            <a:ext cx="410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99"/>
                </a:solidFill>
                <a:latin typeface="Arial"/>
                <a:ea typeface="隶书"/>
              </a:rPr>
              <a:t>补　　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Arial"/>
                <a:ea typeface="方正姚体"/>
              </a:rPr>
              <a:t>解答诗歌鉴赏题的基本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307044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33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精读诗作（这是基础）。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</a:rPr>
              <a:t>诵读全诗，要抓住所描写的意象，整体上准确把握其主要内容，感悟作者蕴含的情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33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知人论世（这是关键）。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</a:rPr>
              <a:t>只有了解作者的生平、经历、思想等，结合作者所处的人生阶段、时代特点等因素，才能准确把握诗歌的旨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33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审题寻点（这是核心）。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</a:rPr>
              <a:t>分析题目要求，明白该题是要鉴赏修辞手法还是抒情方式；是鉴赏表现手法还是诗人的感情，从而确定解题的范围，寻找答题思路的切入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33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组织答案（这是重点）。</a:t>
            </a:r>
            <a:r>
              <a:rPr b="1" lang="zh-CN" sz="2000" spc="-1" strike="noStrike">
                <a:solidFill>
                  <a:srgbClr val="663300"/>
                </a:solidFill>
                <a:latin typeface="Arial"/>
              </a:rPr>
              <a:t>用简洁明了的语言回答问题，答题要点要到位，语言力求诗化。答题规范要注意以下三点：一是要根据题意问号数，弄清有几个问题，从而确定答题的层次。最忌讳眉毛胡子一把抓；二是要根据分值确定是简答还是分析，最忌讳繁简失调；三是分析题要有观点、有分析，最忌讳不切实际的架空分析或者观点不明。要在句中尽量输入关键词，让阅卷老师一目了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4:23:58Z</dcterms:created>
  <dc:creator>微软用户</dc:creator>
  <dc:description/>
  <dc:language>en-US</dc:language>
  <cp:lastModifiedBy>微软用户</cp:lastModifiedBy>
  <dcterms:modified xsi:type="dcterms:W3CDTF">2007-12-02T16:10:15Z</dcterms:modified>
  <cp:revision>14</cp:revision>
  <dc:subject/>
  <dc:title>幻灯片 1</dc:title>
</cp:coreProperties>
</file>