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14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2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</p:sldMasterIdLst>
  <p:sldIdLst>
    <p:sldId id="256" r:id="rId88"/>
    <p:sldId id="257" r:id="rId89"/>
    <p:sldId id="258" r:id="rId90"/>
    <p:sldId id="259" r:id="rId91"/>
    <p:sldId id="260" r:id="rId92"/>
    <p:sldId id="261" r:id="rId93"/>
    <p:sldId id="262" r:id="rId94"/>
    <p:sldId id="263" r:id="rId95"/>
    <p:sldId id="264" r:id="rId96"/>
    <p:sldId id="265" r:id="rId97"/>
    <p:sldId id="266" r:id="rId98"/>
    <p:sldId id="267" r:id="rId99"/>
    <p:sldId id="268" r:id="rId100"/>
    <p:sldId id="269" r:id="rId101"/>
    <p:sldId id="270" r:id="rId102"/>
    <p:sldId id="271" r:id="rId103"/>
    <p:sldId id="272" r:id="rId104"/>
    <p:sldId id="273" r:id="rId105"/>
    <p:sldId id="274" r:id="rId106"/>
    <p:sldId id="275" r:id="rId107"/>
    <p:sldId id="276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" Target="slides/slide1.xml"/><Relationship Id="rId89" Type="http://schemas.openxmlformats.org/officeDocument/2006/relationships/slide" Target="slides/slide2.xml"/><Relationship Id="rId90" Type="http://schemas.openxmlformats.org/officeDocument/2006/relationships/slide" Target="slides/slide3.xml"/><Relationship Id="rId91" Type="http://schemas.openxmlformats.org/officeDocument/2006/relationships/slide" Target="slides/slide4.xml"/><Relationship Id="rId92" Type="http://schemas.openxmlformats.org/officeDocument/2006/relationships/slide" Target="slides/slide5.xml"/><Relationship Id="rId93" Type="http://schemas.openxmlformats.org/officeDocument/2006/relationships/slide" Target="slides/slide6.xml"/><Relationship Id="rId94" Type="http://schemas.openxmlformats.org/officeDocument/2006/relationships/slide" Target="slides/slide7.xml"/><Relationship Id="rId95" Type="http://schemas.openxmlformats.org/officeDocument/2006/relationships/slide" Target="slides/slide8.xml"/><Relationship Id="rId96" Type="http://schemas.openxmlformats.org/officeDocument/2006/relationships/slide" Target="slides/slide9.xml"/><Relationship Id="rId97" Type="http://schemas.openxmlformats.org/officeDocument/2006/relationships/slide" Target="slides/slide10.xml"/><Relationship Id="rId98" Type="http://schemas.openxmlformats.org/officeDocument/2006/relationships/slide" Target="slides/slide11.xml"/><Relationship Id="rId99" Type="http://schemas.openxmlformats.org/officeDocument/2006/relationships/slide" Target="slides/slide12.xml"/><Relationship Id="rId100" Type="http://schemas.openxmlformats.org/officeDocument/2006/relationships/slide" Target="slides/slide13.xml"/><Relationship Id="rId101" Type="http://schemas.openxmlformats.org/officeDocument/2006/relationships/slide" Target="slides/slide14.xml"/><Relationship Id="rId102" Type="http://schemas.openxmlformats.org/officeDocument/2006/relationships/slide" Target="slides/slide15.xml"/><Relationship Id="rId103" Type="http://schemas.openxmlformats.org/officeDocument/2006/relationships/slide" Target="slides/slide16.xml"/><Relationship Id="rId104" Type="http://schemas.openxmlformats.org/officeDocument/2006/relationships/slide" Target="slides/slide17.xml"/><Relationship Id="rId105" Type="http://schemas.openxmlformats.org/officeDocument/2006/relationships/slide" Target="slides/slide18.xml"/><Relationship Id="rId106" Type="http://schemas.openxmlformats.org/officeDocument/2006/relationships/slide" Target="slides/slide19.xml"/><Relationship Id="rId107" Type="http://schemas.openxmlformats.org/officeDocument/2006/relationships/slide" Target="slides/slide20.xml"/><Relationship Id="rId108" Type="http://schemas.openxmlformats.org/officeDocument/2006/relationships/slide" Target="slides/slide21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D0F-5124-424F-ACCC-236F344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B78CDFA-36E7-454C-88E9-51CF3456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51EDFFC-4212-463B-AF86-3F03A5EA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05E45DC-FD6A-42C2-86FA-6926123C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861BC1A-FF70-4A64-9BF9-52641FE1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E2922CC-AD6A-474A-BDB3-E7E740A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71FFE7A-FB09-4FFC-B56A-F9C3FC62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C24996D-4D4F-441C-BD27-5DE56D9B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86C6E17-9C18-4E6E-956F-7638802B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4D0CBB4-6F0E-4A8B-A5C5-B4FAB2FB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C5B0501-5BC5-4AD4-8F9E-098D8B7B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745-B9FE-4533-A907-6C387FC4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4D930ED-92DC-4F31-9ED6-4C00AF63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37BDBD3-9504-47D7-AF5B-50881000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15AAC35-948B-4EF3-84A0-B93D168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61ADC8E-181E-4127-A845-F649401F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BA2BFDE-0752-4725-A231-4B0D6C38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A6E8D33-5EDF-4CA5-930A-D373D31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FB5F140-D327-4EB8-AC3F-3A57C11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678F0EA-93C6-4470-AAD1-488D59A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326B205-4ACC-46A4-BE8A-07DA013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575AB25-735A-4EF5-A5F9-0DB3037D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950-2E85-425F-B7A0-C4E749DC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2CE581-F6C7-4671-A879-3F43E9DA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9F9BEFA-6378-4AB7-89A6-FB0E4D0F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5CE8E57-1F46-4558-95D8-E847057E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36A85C-0EB0-4442-AB71-0CD9CF10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D158214-5658-4C5D-B735-E0A69AAA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EBE2316-68AC-4F5D-AEC1-6426994F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14950E3-C799-4C54-AB57-4E6A9D4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85DE1E1-8D3E-4832-913C-1D7A2F7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A3BB24E-EACD-42C7-A5D5-34A8F853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2F21A32-3855-4938-A9DE-2B57957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A22-67C2-4CA3-8D97-8F330E3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CF67A8E-C5F8-45A7-A739-2E9C8030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43FD22F-D675-4251-8BC1-29931AD0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FDE8CB3-25D2-4D2C-9B21-18262CF9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1B5-DDC0-48CC-B191-B0927317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410-93DD-428F-B4FF-9AF451CB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24A-595E-4BB1-953D-17BE168C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399-875A-4945-B7C4-636169B3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AC8-3855-411D-B285-80276184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0753-A7EB-41BF-AB94-BB845DFF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136-C018-4F8E-BF4F-241F7E77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34DC-FD3A-493E-BD93-BDCE50AA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1BCE-87CE-46D7-8CC1-ECF2589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1BC7-6186-406A-8B71-2914CB6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D240-2506-46A2-8AE8-E43A512C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A990-E696-4688-A1CF-C516E786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7639-C165-4300-84F3-33A0F5E6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9191-DBC3-4EC2-9042-6EFA048D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EF58-9824-4BC6-AC7D-65489DF4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2289-EE00-4723-AC61-18F4512C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BCA9-7BFD-4CCF-AEE9-57E8816B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B4D7-23DF-46C3-A956-0726E99E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EDD0-4FCD-4706-9ED9-200A3D8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A1A0-CCCA-4279-9655-A043EF3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C195-9213-4809-99A8-6AFAF3B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332E-C4FA-412A-92C2-11A6D7BB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DEBF-172B-49DB-954F-4153C46A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4573-4EEE-417A-B1D2-1E52173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3FC3-EE5B-4BAB-B53E-A77E440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5FE8-1285-4A2C-908F-DAA39B8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6BE3-3A74-4AAB-98BC-1F0A0BFE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0208-DAC6-4485-AB3F-AAA1F51B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72BD-A667-401B-A60D-7D314A7D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5ED5A-067B-4AC3-A7F0-69B8E9BB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5586-54F6-4935-B8A4-EC98C05F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A79C-C617-4D35-9E6F-929BFE7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105E-DC8C-471D-941C-7948D807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D578-3693-4918-8A87-2DDD0B96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722E-F514-46AF-98DF-97FA098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D2838-D096-43F5-8EF0-6A94EF17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8E69-7B22-4F1A-AF53-B78AE67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1EF5-CFD7-4E1F-8437-3BC269F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AD28-5E57-4BA7-AA79-254F476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2A60-9FED-4DBF-8895-A48618DC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8BB3-C26F-49DE-A9FA-0B50FD6A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BB232-9937-4874-BB8A-26028C98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EEFA-0DF7-4EF9-B0DA-76E08955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0C4E-A5F2-4E02-976E-21A69499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B5A7-C7B5-4937-9DDD-6FB98A58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54DC4-7C67-4979-B37C-7078AD6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603D-F0A7-4B61-AAC8-EC372695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BB617-39AF-4734-98D0-E8F9675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9CAB-D007-4CAB-B857-5666616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8EA9-DE25-47CB-BD9F-547F4842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82F3-847C-4213-954D-92309542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8BA15-D59A-4CCC-8A87-F605BB42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EB503-D632-4CBB-B9F2-7EDF0CC5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44DF-BD47-4975-8F24-3151A8D0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B4E58-93C0-4FD4-AF25-DA61A687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EB11-7F19-4133-A22E-8F187594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8E3A-65F7-49E8-B75C-1D527FB2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1E2B-8439-42E5-AE6A-85F31CD5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CDEA0-454C-4CA5-BA76-E0006271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1E4F6-553A-4174-A988-4A9F621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49DCF-B44C-4329-BF9C-D92D732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47BD-46DB-474E-B8FC-39B1EEB4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9CF21-2C7E-4EAD-8702-FDED711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CCEED-C075-463F-A62F-D83222CF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178F-5758-4094-B900-191DA069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E44EA-B417-4709-A3A9-77F419BE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BE42-1F1A-4F98-8AB0-9BF7F5DB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3E50-4216-4EF0-9924-9DA2AC3C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BC159-910D-4C9A-A377-077F1BEC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4D4C-0917-4C61-A5AA-5146682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FD46D-AB99-4C21-82DD-FEB17D97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B9D6D-3CBD-4C66-AE07-7CB71233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6028-037E-4A73-AE23-BFF5ED1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C985D-2E1C-411F-8D2B-DD924BA4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CEC9A-C03C-4909-AB3B-9D5DC420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2F59-E68D-4727-ACF3-52BB07CB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A3E02-322C-42FB-B6F8-B4676ACF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CF2A1-FA22-4E95-836A-CF833CEA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1A303-2A20-4A3C-9537-26FA4CB1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03A44-E47F-456C-83C8-74175B0D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4399-5D79-4BE4-825E-822CA67A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A0C4C-C8A3-4E9D-AECF-6941CFB5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0DE7A-292D-4136-B94D-F925558C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B2B9-5644-4C25-A017-D45C8BB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5F04B-8E99-433B-8947-4A21CBB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E486-FEE6-49D0-9240-E795377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5ABC-1488-4292-A02E-C9CBE988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C682-1213-42CE-A314-10B7E0B6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3B3CF-D369-45AB-97AB-07E56BD2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9BF50-DFB8-4D13-8AA7-245D0382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52671-69D6-4B2F-A9F7-37E60A29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4BF1E-6661-42CB-949B-4439AC09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14C7B-9110-462F-BC7A-772CE513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8EEEE-6F3F-417E-B18F-A806731E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EB264-75AC-402D-86C6-50EFDE68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3F808-88B5-444E-9E3A-A81525D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F808C-9496-47A9-8A12-D3BC51B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8DBF9-0E67-4357-A1D4-DAB00D0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0969-E45B-4A12-A8B9-1989720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4DFC5-6B59-4506-8752-4EA4F41C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75C7F-A141-42D7-8CD5-5251418F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3D1D4-F01F-4E97-B53C-9C270019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6C1AB-214E-421A-88E5-5B3D0637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4E9A9-EF67-4641-9E74-89E8385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B8470-1165-4772-A598-B5460357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5623D-5AD9-4CE6-A905-FD0A2740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CE606-0E4C-463D-8C3F-3DCEC16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54E22-3A9C-4CC8-8125-5C42A725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D518E-E7CD-4585-885A-C0C59D8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63BED-0AA6-4822-9667-912D753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502E2-BC52-4456-AD14-49489966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EDC3C-FC3E-48B7-A3DC-538786E9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50528-998D-4FDA-986E-C50F88A0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E09CE-EE12-4E2A-8DF9-B5E388A1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81F07-A881-49F4-8BC1-08953128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91286-0791-4F17-83FA-EF313132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A332F-ED86-4ADC-A9C8-BB8E554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5E9B5-D1F1-4B86-BE46-B31193B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B991B-BC90-4B67-B473-32321FAC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B62F9-681E-4B64-BD37-5EF6F68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710CC-96AC-4B1A-AF90-46C17D2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098E5-DFF5-40B8-BC08-4A9DF695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DEBC1-602A-410A-985F-9225FE58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86FD4-73E6-474E-AAC4-8871546D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BB960-E208-479C-A712-082937C9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0224A-4C7A-41B8-B7AC-707A5952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B8BB6-5AEA-420D-83A8-6884C52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E771F-2E61-4DAB-B468-81246E57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58242-550D-4E96-B94F-71BF842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05A76-7705-4B10-B3B7-F08761B2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7AD8D-8142-4210-A9C3-8B4F8447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E4EF0-16E4-4825-94C7-90F9D70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6E82E-CBED-47E9-B5F8-ACD89ED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A942-46AD-4DF7-B8B2-5D4FBBBC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61C66-AE10-4355-AF8B-9CAE19C9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62706-5619-4610-BB63-B4B97CC5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E0908-11B8-4915-B3A5-9E5C55F5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61C88-A7BA-47A5-8A00-4A39634A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03DC3-7AD7-4B6B-9F02-3812388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B6B76-3FC6-4A71-A4D7-F4BAFC63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E2D22-11BD-4993-9652-4BCED5EE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67AB4-82FD-482D-B811-1755F651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9A68D-2571-4AC9-BA03-0E2145B6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B93EF-30A4-41ED-8E94-BB510CA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9120C-7B67-4FEA-902F-783D784F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F215C-2AE4-4735-9CDF-195F77C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9CB30-04F3-4DA3-A814-B75F7B10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CB56D-4029-44FC-A0ED-D7F2D2B7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98307-6B75-4FAC-8489-DC057535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75D4E-268E-4D69-AC7E-E847F13A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410EB-EE65-4BAA-BA32-99A73DD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ED0D2-D1D5-494F-B019-A57B261E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7D159-7931-45AF-9075-79E1FFE7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59BFD-CBC1-429F-B377-D3128EBD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7E1B5-EF2D-4227-AFC8-47D4186E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56917-4348-4E1C-89B4-BA9B5FAD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0C992-AC79-44A3-A3A0-AED71CF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56EB1-4603-419F-BD6A-BBDE421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47AC4-4693-4643-8242-1BAB78DB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792F5-788C-4D6A-AAF1-4F290EBA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51C59-3A7F-41D2-B970-BED1DCC7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852B9-5D0D-4545-94D9-78B42011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9F7B0-15CD-4897-B2A9-79E74F68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12826-FCBC-4338-BE71-86358F64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74614-D7B8-4594-B7AA-0B0283CF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AA4B07-00DF-4393-89A2-10CF2175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E46CE-82ED-40D9-B65A-223AA0E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770E4-2A97-4D15-9E2C-3C83965A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34582-A9F8-4265-8A44-0BD0FF74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BD27E-8511-4730-BF54-0AEE041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238E1-6E1F-4D37-9517-EFD3308E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E4FEE-A0F4-49DF-852D-61BD68DC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264F5-082F-4E93-97A3-F869834B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F56E1-C6B3-4797-A356-1CF2D98B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54CE9-8912-4CA1-9DD4-C245FCFD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CEB6E-2FCF-49DC-84D1-FD57BC75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361EC-1EE5-4E9B-A233-1CAAFF31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69F3C-8EE0-4C2A-B39D-C1864400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E302E-7AB3-4C65-AAB1-492E1A3B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0911C-7AD3-45A7-8182-1249978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D28CB-88E1-4AF8-BB2A-7E78F04F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3A4C3-68AC-4BAA-AC3B-1C66D59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95313-F2A1-4523-8796-FEC71EAC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FFC07-2D02-473E-8C31-3E0FFA16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5DB52-35CE-4EBA-BB39-8783A1F7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F46E8-ACDC-4171-B6E1-F587EF23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C3420-A5B7-4096-8ADF-8BE39E95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C507A-AB00-4637-A24B-142BC9A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1B08F4-6C2B-4C0A-8CBF-C4D74630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817AD-8F2B-4B74-8454-F6E0F61A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25323-AEDD-46B7-A7FC-E3B8EFE0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6484D-5CCF-4A08-80E7-8374DA8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A8A86-8F24-422A-AFEE-BF7BC38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DCF3C-8AD8-4601-80A7-C27EEAA0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5609D-9830-4925-832D-6714EF2B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220C8-AD86-4EB7-B485-CBC98255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C9DBC-009E-4674-BC5B-351641D5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DC466-9F82-4150-B188-6366AA25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FF534-ABEB-4C56-907D-7EC13A55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DCA0B-3F8B-44AB-B07B-CACF4513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395A9-29B1-42EE-854A-50D53BAF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B9AE0A-B5CE-4DB8-B54B-A635023B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F6675-B98E-437A-A776-5D10DD3F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1C272-5B09-4021-B0C5-63C97B0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EDCBD-E10C-42D7-99FB-690A4E0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09859-CC07-461B-BFB3-7E943B5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74E3F-5B2D-4C3C-9E38-9220E60E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34443-2FC5-44A3-9F2B-706EC1B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01F87-E4B3-45D2-B417-33374CF5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786B3-047A-431A-87B3-9BEAF358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A177E-9D3E-49BE-B32B-CEFF741F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75B82-FB30-4688-B15E-1B5FAC5D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1B1A8-F9D3-4874-8E13-7B2BB16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2D924-4F5A-48B8-8382-FC351D6F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496BF-39F0-4C36-9003-B7C59D07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E0760-3149-4C8B-8A6F-3D1EE75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83BFD-BD55-418D-987F-16812C7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38508B-A9C8-4775-B522-A3EB212A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A671B-34FB-4531-AA1D-9DB532E1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DDD27-09B8-406D-A601-CE545585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254EF-595D-4D59-BF69-3ED042E8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459C3-E2A5-48EF-ABE9-FBAD4FDC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0B57A-2FF9-456B-9FC5-4D1C0AA0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B870B-3000-45FD-8E6D-FE67B7B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BC519-8CF0-426F-B695-6B430A03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4CC6D-6A29-4C21-8F48-0D5CF326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0A003-9CC4-45E1-A8BA-8868C264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D5D82-5B9D-4ED8-952E-318C6F0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FEFCD-7942-4E50-BF04-EB51D5D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D050D-7B30-4C66-90A2-FCB8919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77063-5912-4F9B-90AE-B3A1143C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9BD5DA-D127-4CFF-BF76-1922BD24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88F71-CFCB-4045-A3C8-2C4A26A3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C215D-D522-497A-B10D-4977A40B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27A4F-5EC9-4457-95CD-2CC32A3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7A39F-A503-4EB3-92FB-0DFA38EB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0FD81-523E-402E-9EB8-6CBA462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8604D-2A90-47B4-9962-819EBDA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A53BC6-77EE-4899-876F-F3ABD094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BC280-5E66-4A86-9FAD-5716B3A1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F387E-19BC-40F2-9ABF-40B1240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F628F-5EFE-4E19-BBAC-A7F9944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D810EA-2065-43E5-8D09-5E241993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18E4D-F113-4AF1-BD95-46F65EEA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E9838-A2B6-4F4D-9313-354A8E21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69F08A-5E80-433A-B5AA-1BF04D89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BD08DE-1D4B-47ED-97A5-D615F0F3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34FE13-241C-4D0B-A42B-1F5C691A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E8935-E468-44B2-9817-36037A9D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50F2D0-DE94-44E6-A01F-1ECD0DFD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3818C8-EDE1-41E8-BEFB-64E7D412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EE2D29-6494-411A-8A19-6F171C2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78ACA-3EFE-4F76-BD86-744237A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0472DF-51F9-42C7-A6F2-6B17057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93AAE-B320-4641-BFF0-86380A1C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39035A-4945-4FA3-8478-DF3CF621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1711A-FD80-4EC9-ABC0-A94A9C1B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738D26-90E8-4B71-9264-CEDC9931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C9BE32-D375-4012-823D-F1476C1E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6048EC-70DF-46E2-8EE5-AC44D353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F157C7-FD67-4902-AD96-39839017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CA3C53-57F0-4754-ABD8-8D8A2618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9AF646-39F3-4318-B319-FE938AE5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75C68B-0D66-4017-9DC7-F849CD1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D454E-5743-4C68-A8B4-2882FFA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9F94F2-1CF1-435E-BA1C-2763CBD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E6A485-A754-4295-922B-F708A9FD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DA367C-C716-4127-BA02-0433ED6B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77D58B-12D2-4D2A-94C8-1C0FF2DD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B1797D-ED3B-4604-9BD2-36E050CC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1EBE5E-F4A4-4A59-9EDF-C5E17EC9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456E9-3027-4008-8550-B4C0C53A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849DB2-E036-45D4-83A2-6445E652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CF04B6-E1DB-4DA8-AC9B-59479810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1D92E9-7B09-40BD-A7BE-79BEAB13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AE7BF0-570F-4EF6-9847-ABC2768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02D4E5-3516-4C94-92AF-59033457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F3B8BD-C1D0-4857-8A86-3241BFA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6B6D0A-CAE9-413E-9304-D207D79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39BFB6-8F45-4A05-81D8-2B6E9110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36C213-39F5-46C4-8FB1-E95BD96B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83CA63-16A4-47C7-82BD-33005779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5023C1-88FA-4AA9-8E24-70A0FF06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99712-B142-4BFC-9931-F7C5B00C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81D8B4-84E5-4BF3-99B0-1EF005E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D4CD6B-1CD9-4FF6-AC12-40A311B7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7762C6-6157-4BBD-ABC6-D61633E8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C22535-18C7-448F-B62F-E5CA942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169F8F-07B6-40F0-A8A4-391069D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C88C0B-D68A-46D4-BCCD-E045E30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DB2FBD-23D4-4A8F-96B0-AE56144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75C245-F06B-4554-B4B6-C9B6F04D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C9C599-CD46-4BA6-A11E-21B91705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5EE762-93A0-420D-95F2-616D537C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52CAA8-2B71-4036-A8A1-6A25CDAA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08E9A7-5894-4D13-9C44-5E8F88A6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434785-4848-4330-B824-02F781D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B1EA53-959B-4436-8D18-C5335128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B3F3C6-A336-4605-A07E-5C7C446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9C763C-679F-4599-8DC7-B71F29C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906755-7D07-47B7-ADE7-C0526C4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E40549-2A65-41C6-BFD5-D8F7A78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CDA3A9-7B8D-4119-887B-922439A0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56736D-C57B-4B2D-A93D-26C7E8F8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D4E96D-556E-4E22-8001-1F7C1620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474FEC-9F80-4718-BD24-A02DCF6F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4C93C0-27DC-4BE1-A08E-466F26C7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B15E38-8F93-46D9-A1A1-7CA89E8D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6456BA-E111-4F52-B843-97BBC6BC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D8A2F6-0636-4876-ABFA-7A223727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D18CD4-ADC8-4139-97B1-D22B24E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709DC5-7DA3-4612-8E41-D7624EA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CEA220-68CB-4C3B-82CF-20939DF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E61064-AF10-4621-A01A-A0E5D08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589001-EB1A-4E60-A33D-D16E1F4C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2DB787-906E-4A3B-8B59-FE68E659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3C979F-B84E-44EF-AC31-EE7D8269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01E220-E196-451C-8C60-24E721BE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8890F9-E37D-455C-823A-F57D907D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862C40-69CA-42CA-80C6-D1394FC6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6472DF-EB95-4C0D-A333-56D5CBAF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2822CB-73A0-4569-8585-5301F7E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C7C639-1535-405B-97E6-EDC1D4A7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176E65-08DF-41F1-BFA6-7E8CA07F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38697F-F517-46AD-B1F5-D2F5A04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926424-981F-45F2-8299-787C61FB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D38017-A677-401D-8861-D9101630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1F51EA-5775-4057-A4D0-3E6FA7D7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FE5A47-F740-4989-991B-03F34CE2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D74B0A-7E25-42D0-B998-A8E27FFD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D941A5-B6E5-4742-AF90-7317D903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06AA47-A48D-4298-89C0-99692C40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0C5E4F-8133-47EE-BE78-3D780049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148CDD-48D4-4FD4-869B-A1E475D4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B295B5-0AEF-4F77-B0B7-76184A9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A24700-56E1-419B-96D0-420938C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27F045-71D9-4FED-9402-E2EC253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192A4B-2B46-4B15-A9D6-13E300C6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8B62D3-71EA-4FB2-A34C-D8BBA5F9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ED138D-C5C9-4CCB-BEB9-451106CC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41082E-A022-4965-934E-07620211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14E5DD-66A8-4898-86E0-9430B1C3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AD07AA-AC0D-420F-89FC-E15C661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742E97-EF8F-42FC-BD5C-B9F4D9F4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95AD22-2DA2-4D71-87BB-BE23AA17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CC3EB5-F73B-4DCD-A238-182520B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59FE54-EB26-40FD-B984-DEE7BEFF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0F3234-1AB7-4882-B4FF-91109E0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668F19-D58C-402A-B2DD-B7A06B3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FBABA2-9A1D-48FB-B2FF-9C754ED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627013-3AF9-4E2B-94DD-77A2E811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AC1F64-FCF9-4CED-96CB-0EAEE9E6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58A88C-3161-44A0-9C38-833ECD6C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406EBB-3FFD-4C30-8DCA-970ACE74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FD6110-96D0-41AC-B141-E9BB4042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FE5EFF-9C87-4D41-BBC5-3B4F892B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9AB169-E9B9-4531-BBF8-1FB10262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34CDBC-1EE7-4683-A8B3-B5414AE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D695A7-872E-410C-A8C9-9806510D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D5B3F4-414C-445D-8953-30ADF3D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4A6BC0-2998-46FC-AF19-FB0721C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42DC46-84F1-4AC9-82F2-D6ECAC25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F545DD-0531-4B73-A70D-93454E7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DBA7E8-49D9-4DB4-9B5D-3A13552D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4FD45A-53FF-44F0-B4CC-6E33E474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2BF1D3-5FCA-4603-AC92-A442A62C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64FB6A-5C9D-4F35-B677-2AB1D887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A2E827-2F13-4B9E-96AC-659F9FD3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642E64-2A9D-46CE-8ADD-7243F1A1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87E042-5259-4E6B-BFD5-A392E03B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5B714A-F688-4B8F-B6B9-32A332D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7F8532-680E-4B86-8D81-6BEBA1F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A6D037-D1B4-4AF5-BAE7-082984A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3B01C4-920D-4EF4-BDD8-4CCD6F6F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D902FD-B756-4EE4-940E-EBDC1858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3BEC5D-2D82-4288-B254-AC3FFFBD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9EDB37-7C3E-4906-87EB-6ECC5A03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98D7ED-5A97-4C53-9F6E-3BF1FDA8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8ABD3F-E5B8-4707-BC76-FEFF7B08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DD4318-9275-43ED-BE62-3E9A291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E5A47C-C44C-45B5-8542-B40F635F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D579D7-5B4B-4F7A-9E27-C04AAAC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9EC31B-FB6C-4701-9BD7-773ED1B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0A9FBE-C457-4302-B7F5-EFC096F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1120D0-F0BC-4FEF-9672-06F5AA8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251BEC-A234-4C1D-8E50-5B3365FC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9D88F2-D3AF-4EE0-90C5-6A8D1C6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39980D-B843-4CA8-85C7-AB5413D3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3756BE-0CA1-46EC-9DC7-1381F572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11ED7C-9193-42A7-8FF1-ADCC61BF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F64D5B-D6F5-4DAF-86BE-FADA64D6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E9E60E-8CFA-4869-B40F-727AA584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3C6A77-A748-4C20-A247-EC504A63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15DEF0-EA7D-441C-AD7E-CABF89B3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9C9DA9-004B-495A-98AE-B5806946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8DAF22-E2D5-46E8-9BBF-A2EA4604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E5E3DB-5042-4F62-9F79-7EC36288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685D83-AC02-442A-A331-8F2F8BE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FA8F4D-055A-4BC9-8ECA-4669EFE6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398919-A1F5-4B4F-BC7C-CA48E7AC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4806FE-6A39-4512-8AE2-3641A506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1736D5-A904-4880-AA0C-94AB60AF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8A75C5-CC04-4FDC-B110-D3A027C7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400594-02B2-458C-B073-CFEC3C8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F94AF7-BA68-4525-B5E6-3EEA476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B1DB3A-1FC3-4D7F-9F8A-EDF545DC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1E330E-1C9B-4AF9-A376-1DB84BFE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B57883-7F12-480C-9E2C-14795CE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FBA308-109F-48CF-BA91-586FE69C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86265C-AA2A-4754-910C-379D7AE2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AEA572-230D-40D3-9372-797DC5F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25DCE3-F8BD-4228-8FC1-9EDE2BE2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1DCCFB-D6E3-4410-B687-834AB684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3B2E57-3967-4A74-B34A-1DC7968D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FF9329-E54C-4201-92EC-9679B0E0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FF0C62-4F37-410F-A04A-FF1EE631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666F14-F7D3-4B8C-A62F-5CDAE92E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44ED97-D976-4106-B6FF-78A632AF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5E3337-A560-4B69-8BF4-23027D3F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D027EC-9ED0-465F-8515-A08466C7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44F44C-3C2B-4F13-AEA3-65975D7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E01EE2-C682-48BE-8B3C-087C35B2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73B245-AB94-41A5-B39C-2C922FC7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6E9944-7977-4792-B232-65B25C20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9B6766-C649-4960-B741-D71FCF03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FF4BFF-B1F3-4AC0-A497-D1AE89A7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BF79E4-4202-44D2-A770-3BBB5365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F57BF2-AE4B-4C90-8B52-BE8CE60F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DF53F4-1772-4F30-A883-C66A415F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510291-95A3-49CC-8669-00A520C7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C8E767-138C-4BA8-B9BF-724494B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11749A-6FAB-45D9-8857-DD4460F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C39049-AD91-4768-9B63-099A4BB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A4A01C-35DA-4511-8ADD-B2502CC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6D0510-2AAB-4AB8-A17D-77005138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2C13CD-F857-4245-A81D-DB1853D8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4C3BE3-1BCB-4AE9-81F9-7D9CC36F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6D7E44-53BE-47D8-8687-34A9E4E5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F22D6A-18EA-40E3-9B7E-BFDDFA70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AE6C87-BCA9-4018-9644-444E4948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C936EF-A0E9-4F22-898F-6BA3CA93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300743-1642-4E76-B830-279B2B6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852E9A-FD09-4295-BEAF-0B68F49F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51722F-5EF4-4CE4-9D2A-21FF794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16BB71-26C6-4653-8093-25E6680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DF9CAB-7630-4423-8987-D90A3302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46ECD2-07D7-4D6E-8B37-16A9557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AFAC78-79D8-45A3-862F-C526253A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2A5EDD-67EF-488D-9422-3CAAB214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38FF04-634F-4790-8CB6-8D9AA2D3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F70FC0-521A-45F0-B958-D14594A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296077-B4CF-41A4-B0D2-4B4AC3FD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EC6E7F-0B5C-4FA4-A9C0-D9DC6D4C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C36F29-9683-47CE-9D34-CA7CEB09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CA9329-FB45-4799-9188-AC18664A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4446AA-2462-4FF7-9CE3-0EE6A11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26082F-54F3-49C8-ACD8-F2856AE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E093D6-BA4F-4F0D-BC64-D99AF94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F0B6A6-6DF3-47EA-903B-A1BDAF6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50C0D5-5DF2-43F5-93B3-0CF1E89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232088-6BC3-4825-B4D1-7C890D2C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536D1C-FDF2-4475-9A10-5551A902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9CA006-A34F-4CAB-BF08-D8ADB7ED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0D8C6F-8E7E-454F-A051-828EFA5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B6C9D2-6D5B-4AF9-9351-4B590DA2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B68DD9-1E0D-4D44-87CC-DCDF4D3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461FD4-AB00-44F1-BE48-C8EBC0FD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DE82D3-93F2-46F5-9950-0A3EED06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8D17B4-6981-4E49-8068-03D095A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8BE1CD-8B40-4A17-A96E-24B6AF4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290CE5-8C87-43E1-B1A7-AF7263DF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841D29-EF6C-4B28-AA19-5166997B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5E98A1-10EC-4705-8BB6-2870721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9458B1-3CEF-48AE-91AB-F02B28F2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7D3DF5-AF4A-4FB5-AD35-89FFA876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CA0FB4-D274-4B9C-851A-D7677F2C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9E6B86-2043-4E1E-AF54-37CF8A46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221871-8D4C-488C-A92D-08BD36A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BD9D62-0DA1-4BF2-AA89-7BD95F5E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4D6680-6B44-48DC-B9F8-EAE3221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ABDFEE-50C4-460F-AF1E-65B2C5FF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A3F733-94DB-4A29-9E08-05C063D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53B648-1FFC-4406-935F-74B1ADFD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89A748-2160-46C9-AB1E-2DE1E6FA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602B44-829C-4452-BB2C-BE764B8E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BA10F5-5512-4354-BA5C-F62F2FE9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A1083A-50A1-4C60-BA1F-AAB6A575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50538D-8B54-4932-BE6B-60D7055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56B2A5-4350-43FE-85FF-5155BF06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44352A-1ABD-49E7-A011-14854EC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30256C-E31D-48EF-8D82-988BB16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B7FCB2-6427-4A8F-8B5E-6DF737C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235AE3-EB0D-4CEE-8516-54789E6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A10BC2-D90B-4882-966C-71E84FC4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A35DA1-0532-4A00-BA36-127029F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421150-BA48-45D8-B0A8-E2EDE225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DD40EA-2231-4A90-8B41-040C437A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A27BFA-1C4E-47C9-B0B3-5B2FF260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BC8432-DC3F-47D5-8678-7E89FEEF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9557B8F-ABE4-47DB-A75B-8F14E1D4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C751C6-B957-4D4F-AD29-665FF0A9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67B8C83-3252-4C72-B26E-8537278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C05774C-E48B-4FD2-A569-FFA0D2EA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D87FF0-F6E2-4194-8348-159E997F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D7EF31E-4F56-4231-AD4F-0EF2722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B431F6-39D5-40A3-AC9B-D9C3FE8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DB43FB-5604-49D0-BA89-DAB245D6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41B898-7652-4DDE-8892-7EE62F03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3E763A-15FD-40FB-83FC-827183EA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3E56FD-025C-4352-A6A5-1E73E6AA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EED30E-079B-4524-9AAC-D7221C60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0C1765-9A88-4332-9B0B-B1C0B12C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7DF250-D80B-47E0-BA02-24FDEB92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4DDB4C-49FC-441A-ADD9-FD69678E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CC3D1B-333E-4647-B4DC-2C5F01C4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9D45C2-1589-46F8-8DB6-1BC4FDE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5B8A34-5DE9-4F8D-80F5-3B9FA99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EC4009-E9A9-4B73-8C44-BAB94E5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7C0312-78F7-4B3F-A299-612A0ED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8A8230-CFEE-4420-8E28-83A9FC9D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34D394-2746-4DD7-9C74-A2FCE758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C71987-CFCB-4778-8BB2-3BDEB6E3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5C85B5-826E-4D0E-8E51-BE98840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70A015-C5DC-4194-8E4C-9E0085D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DFDD5BD-BDFC-46D1-BABB-4E099C0A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E4AC1E-2FE7-4219-9C06-EEB6DDD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B954A5-CF65-45D5-9DCF-A56FDFD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69BF19-9EB8-4093-90C2-B86539C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68C445-8002-4B81-B654-C816C6A2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0E6A138-CC79-47EA-AED3-C677ABA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46E8AD-8443-46A6-8D7D-87AD30D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BF28CF-7D85-4FDC-88F3-F7333C88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BE73D1-0AC4-489B-A306-14E4DD01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B1B02A-F2DD-4764-BAB3-C03EACFC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A84B72-5A15-44C1-A7ED-B210A525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ED1D1C-A2A7-4FF6-81A2-7FE484F0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4A7F80-E4ED-4623-BE01-F95B8DD4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42870E-3EA4-4804-9458-B93FE69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F9D048-F11B-4E2A-8042-F7E82DC2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409961-86A8-4ADC-9361-4C68157B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86F498-A350-4267-A072-2DFB3091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C19789-FE98-468B-8132-8B7DBE5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6165DF-B52A-46E1-B1FA-1A32C9A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F0D6C7-541B-4F89-82F8-672E6B62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7C968D-8BA3-4857-A0BB-F6CFB209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526FA6-7D0C-413D-B158-E1B86964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F77A05-0EEE-466B-8995-1BE724EA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AA2B38-7C5E-45C0-9A59-9779301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841389-B07E-4455-A0BF-9BA8E553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EB28BD-99A5-4F3C-AE6D-C5A8FAD3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44FB487-B60B-4498-985C-50524EA0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754995A-F1AD-48EE-BD3D-CFEEE1A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78C614E-8EEA-4CDC-91D1-07006B64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2F1265-C6C8-44A2-9193-EA9FD37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A67B11-6767-4B1A-A140-B7B836C9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273BED7-0103-4BE5-96E2-202396AA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795AFD-2961-485D-A752-8E7DC2D2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BDF001-8BA2-4951-B9B4-6D114C27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2639A5-0EA7-48E3-98B0-F70D542C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98D944-4BF6-42F8-B435-98AC37ED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C9BA78-8207-40A5-87F1-6BCDB01D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2B6614-C743-4E50-9CEA-A0DB8F4B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A803A1-85B0-415D-B0DD-6C311B4F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C721A3-87D2-42C0-B3AC-64AFE44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AA35AB-F884-4C2F-AFE5-6DE775BC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017AA1-6625-4948-99DE-2B23CB3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0A4855-C470-4F3D-BCB1-D4E195EA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D85E1A-EAE6-4793-A601-D4547482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EC779BF-288E-4B94-8572-8F551049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89567C3-813D-4C63-B1A1-1DE80DD6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B618C41-7536-43BF-BB5B-8A5DE529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AC703C-5C39-445F-A276-961A58B1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110119-AF07-43F9-A9ED-58645D69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B60624-9C81-4724-B7A0-33BE50B8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39C334-FEE0-49BD-8D70-EE48B46D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E59A080-2181-4A34-803A-485F02D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2863432-392D-43E3-A99F-9321878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3C1B536-045C-4D6C-95A5-14FAEECD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B880FD2-FCFC-4EDE-915C-C4862768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319388-19C5-418E-B985-B039DA5A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273354D-564F-46AB-AABB-75E1B7C9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430BB4-64B0-4EC2-91F5-4391ECD7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C53EE1D-528C-4FE0-B26B-5F65FDE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17C194-135A-4E0D-A232-A9947F7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2469BC-4A22-4B3B-87ED-3EC0715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83E937-C674-46AA-A828-10D41E9B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BD757A-DFAA-4FDE-8D72-9A6C1EB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F2A1007-07C6-4528-A403-FEB8AD2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3B6B384-EAEC-41DB-9855-26160BF8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24121D-9B67-4FC5-AEC8-479BB190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15E8CA-FEB2-481C-9647-190B3099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3C51916-298F-4043-9E87-360995FE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2C7742-EB84-4C06-BCAA-85F29F23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A0B0997-9416-404F-9FA3-3C85AC65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E3F7ED-7C88-4511-A86E-BDF1ED1B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F4D08E2-A48C-428F-AE83-C8B11859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CA8CB3B-AAE7-49E4-A27B-BEB4B247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78D0005-BF49-437A-A09C-189CD963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D23277-0EB4-4011-A70E-20990406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5FCEDA-AE8F-4593-AA33-7ABEE4C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3B29FC-8767-43A8-ACF3-94BD593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9118CAB-68B7-4A70-8898-2AA8410D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43B6466-3441-47CE-AAE2-736F8485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98DE312-8FF1-4597-9132-C05B96CA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C139369-54C2-4D44-BA3C-073F0346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69904A-67A5-456B-8795-C8F9B53A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CBDD52E-72E3-44C8-A187-87ED77BE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9580C4D-0C87-4178-A858-6D19826A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26B9D31-FCC8-43D4-BA91-35D98400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082D1A-D5DA-4DB1-93C8-6B4350A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279C28F-9500-4724-A423-8890E224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D9DB4D-90AA-4FFE-BDDA-24EF74D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3565CC-A94B-4686-A6E6-990193C4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F0120A5-E80C-4001-95C7-70EB9D6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35BC95-2429-497D-9358-8E5C6664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6C9536-F3CF-46D5-8B38-DC6912BD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0BB9C7-B9B1-4C62-A4CC-3353CCE4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3F3624-DD93-4C1F-8EDF-447BECB8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170116B-E764-4631-9D58-2675047C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68CDA0-3EB3-4A94-8513-6755ACF6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0027D1A-8B79-4F99-8A8F-E0546B5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7C6DBA7-E6C2-450F-87BE-92CF09A1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13E94F4-82E5-450B-AD7F-9A5B07B8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CF8DC7-82C4-4C4D-83B3-0760C48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446DBE-5FA2-4AFD-BDD5-BCBA36A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14E8901-EA14-4246-8744-5D2A6CF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50D2A15-40DF-4845-B11B-F7D12059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4350E76-9B7B-47BB-959D-0175B8FE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E49F483-6A65-4F8F-BE56-1778A967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936838-13B4-48A2-BB78-4051E446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D949E37-AA65-4E1A-832E-9AFF825C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1DBCAD-C353-4F3F-9D96-F4261E37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BD39CEA-2076-4974-B81E-F055B20E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BBFB7C4-6575-43CF-B752-7B721C58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E17536-B0B4-4C73-99D4-B7F0049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F25F669-FE98-47C9-8A75-5DE4A76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32A13D-74E1-44C5-BCE5-473A2C62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D7C6DC6-493A-4BA7-9F10-AC0A121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9C7A4EB-A0AC-40EC-995D-DE1E3C79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53342A-D003-46B9-BF6E-A232F36F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075086-5DCA-453E-B172-28A86DA3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18B281-2144-4228-B220-46FBAFBE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5ECEEB-697B-40DE-BCD2-0F282A19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3BA06E-C230-482B-97B4-249E3C0F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6F4B9ED-48E7-4BF3-9AF0-74021F64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815AB72-2337-47A6-B18C-DBDE6CC9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629CA0-4E24-4014-9193-79CAE78D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3BA97E2-1346-4050-A418-43460771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411F449-9D1A-4607-A37C-6DA5D889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77A53FA-E1E9-49F6-9B96-893044EF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434FA0-C5A5-462E-A90F-B80D6C2E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477BB0-DF4A-4300-9091-72D55880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0E4114-CBE1-4438-8801-AB57A9D2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691290-A313-424F-A808-C02091C0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48DE156-1F19-49C9-AFBB-707BD2B0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EA012C2-D11F-464E-A694-FB52FAC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5CBE72-4707-45B6-9166-7FD30383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5CE8523-4A43-41AE-A122-45E33614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4AB7CA-1BE2-49EB-81A0-4E26CB40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C931241-B6BF-4E94-8564-A6B189D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0BAEA0-E6DA-4FBD-9B48-68FC92A1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6B996E-240E-4381-B3A1-5F1FC25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B2D9302-5A05-4E23-91B0-0FA1DD1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B492C88-FE1B-41B9-AEAF-15475BF6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AA782C0-213B-448C-8FC4-B2386FDC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B3E9403-DBC6-4C36-9CA5-5D8142F6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F4FC79-8CF9-4707-810F-6BFB89A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88F54D2-235A-4902-ACC3-7FD37CEC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2E26DD2-9EEA-49EA-AFBA-F1D1A229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29C8736-A66C-4087-B3B8-24959682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A60A927-D24A-41E0-AF88-D65C552B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BB3ABB-D016-49F0-B0D1-2AE75BA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A884B56-B8C5-4ACF-81AC-8723EC9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E4EBEF8-2EEF-4D0B-8830-AABBE9F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A5EBEEA-542E-4340-BC8D-BDCB131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84F6051-A8EC-45D8-8EC0-79FE80F7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90E5F88-B440-421B-B38A-886B511A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6B3B4B6-3A40-4D43-9569-80611C10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F884761-26A6-4F6E-8319-00F28CAC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499362E-F1DA-411F-A8E9-4D1A7B21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0895A80-EDD5-4031-9BF6-DB8750A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DEEEE42-3975-4AD7-9783-BE10549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E97771F-9DB3-4A08-9DA5-5FF2854B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C4B1152-8DA9-411A-AFE5-EA240D97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5970A7A-55CB-4A98-9E42-3DCB730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368936B-4F61-4E48-B126-8B14F5B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123D83-951E-4ECE-993F-8E55AE80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A8E136F-4FDA-496D-AA76-30C157E1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5C34A75-36CD-42E3-AF15-461ECA04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FBA5510-D3E2-4731-A14B-10B764E5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E13160E-4E4C-407E-8D11-7DB58C01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42EF718-C328-439F-BF47-E99D0064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D259FD-1FE5-432B-B9F1-4DCAE474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ACE8827-3DB2-4022-AE5A-9FBDF6B0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AAEE180-948E-4761-A03C-3BC18BB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D4EFE41-DA24-4512-9C16-F7BBD96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AEE367F-2B13-4C01-8E14-709DCFB8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FB197F9-E2DC-4F60-8635-9F49E13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DD1038C-596A-46A6-85D1-F9D60AC1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85043C0-E50A-429E-BAAA-F8D70AEC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20ED034-F5A1-45F6-87F9-B6CF5D1D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7EA8E74-449A-4F8A-ABCA-C069107C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8B38C58-E7BF-4745-B3D6-19B2103A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A9225EA-1301-44F0-8320-FD0AF5BB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4917984-9F36-4270-A46B-D6235564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59B8332-3D76-4540-82B3-2A0B2DF9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80D4120-2409-406B-9954-5975B6A8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3C84E2E-D7A2-469B-B57C-823444B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00DAAC-92D4-4E54-80E8-1F2BCEA3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3B735F7-6BA2-47AA-9492-C0E1771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FD024B0-C8EE-4D10-BBB1-3772E7BF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93CB84E-CBC2-4CE5-9F57-05C60521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5C921F6-E0E8-45FA-A1F1-DAE22E94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F2B302B-E8CB-4C73-819F-B0EC0A84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96F7FB7-D44A-47BA-9211-F048C06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D2EE8EF-21E2-404E-8B06-42684C09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9850A1D-6193-4A51-A917-9F2D751E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E6BF167-83C0-4A23-B0F3-52A3D635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FC1FC5D-356C-4AAA-9B59-49800B08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EE6DE5D-B060-467B-927B-271ABBC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16ADFAA-C715-4FB2-B0F2-2857E99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E288CD5-EE32-4DF7-9DA3-0A9CB05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3CD316-8D02-4230-BB33-91965ED4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4801487-0C82-4FC8-A974-82F57092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B365082-13FE-494C-AE98-F200255C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51B1604-5179-4A08-A8C1-18716AFB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83F6A3E-479A-4B75-80E0-A36FD7E3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22E3586-C0A8-45FE-80E3-E00FB2C9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BCC2389-6832-48F6-8382-C2A589DE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095418C-9D2C-477B-BCFC-42F74DF0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499C435-26E2-4EB9-87B4-61F599BF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6A7E3C6-F083-467D-855F-8CAFCE9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917466E-1B10-4463-8604-04CD378D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E7D7F81-139D-412B-8B00-2994A099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4182D81-0C39-44F6-880C-9C213FF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03409FE-7BB1-4ACB-BB38-725449C5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BE42952-EF73-4738-A156-6320F28C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CC614F9-5230-4461-977F-C005406F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BC0F92F-6A44-4ACD-8C29-14EBAA07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5C52489-88C8-4E3B-8F89-3C6AE64F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41582AD-2915-4EB0-88FE-4B6631DD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9B991F9-DF30-4943-989F-3C19068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DC0BB54-3A4E-4C9B-A2AE-5B6B61F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83977FC-61CB-4F51-8D5A-F3EFF67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68698A5-86B7-4D49-AAF0-2387F78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9B8D98C-9AFB-4846-8706-029DE6B9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D15EF9C-8C50-4E44-A4B4-43B754B3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A9A0805-05FA-4783-ADD8-4DE2AA99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D22C70B-B40A-457B-A5CB-65B729C9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BF8E63E-25A9-40D9-A91F-9CB88338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ACB7168-0EFD-4DC2-9E70-FC74D9B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C25B10A-276F-4847-8BE8-7C9FE001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A5A06AA-AEFF-4582-B490-3C97C2CF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37467E0-214F-4BDD-89FC-CE4803EB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FE01B77-0829-492D-A8E4-FC7F63F6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4BB590-19DE-4F8A-ABB6-EFD24649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7DF3622-5546-4C0C-9A2D-4671559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07BADBF-8F6C-41F4-AA40-9849410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C6AF5AB-810D-405D-A856-8F11EA6D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2228241-39EC-4D7B-9A90-C2A5B0A4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B74E31C-FD9D-40B1-96C7-10F9D036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BE9F9E4-73E6-4E26-89E6-B45CCAC5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E48427D-025D-4F90-BB5D-3575CCAB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D6ABA63-B5DA-4C0E-A9A0-77BA5668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3C212A0-B731-403F-A5C2-0CF97CA6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DAF91D1-0010-4D3F-9B25-93178B6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DC42B9B-7F52-4FAD-A88C-087CDE4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C01AFB6-FB72-4CCA-8A6E-4F33C67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40A783C-7484-494E-B099-E5C891C0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4BF06CC-D3F3-49AE-B87A-F17EFB6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DDACCB-96EB-422A-A5A9-203F9687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8EE0A48-B605-44F8-92B9-3E1092D5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D93E5D6-9E32-4C3C-96AC-75C5DDD2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5618835-D8F3-4C64-9657-E28E0A22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0B17951-1E16-48DB-911A-2A1696BB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3E07F18-B3F6-4FC4-BE7F-22BD64CD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0C55E8B-A1D0-4B86-80F0-406DC0D5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4D8DFF6-3845-4E16-9966-D6B416C0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EF03872-ED00-42A0-BFBF-DE435D41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B467952-93BD-4D80-97F5-6819CDE6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71148F5-4838-4141-B6B3-7D0FB070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D2F41F-B1E3-4620-BA4A-7B44C3D4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FBD6AAF-CBD4-4AB1-869E-0DB3F694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70825A0-08B4-4067-90B4-AB682F97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EC0B969-548B-4ED8-B031-41D1AC6A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D2AA7F4-8374-469F-AAC6-11227C7C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C4EAFA0-3A0E-47B5-BBE4-43832A7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350AE11-A34A-46F7-916B-875E9481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2A9136B-BF0D-4064-B374-C1CDBDCC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60B3C99-C64D-4B42-AD12-A222199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003B6A3-795A-4D8D-9D9B-78185120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8230A7E-E88A-41CF-AC6B-B74C5C0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EC5C3A-2492-47EB-9AA7-15F17FAF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3C63DCC-1EC6-4DA0-85C6-08A0B60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D3BCFEA-2BCC-492C-BD2A-4131D33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3A50A0E-D4D0-4A55-A72E-E21116F8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5D18C38-0EB5-40EB-922E-28FAB437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E8A17AF-5FE6-42A7-ABF5-4B80AB06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6E55C4A-EC75-4190-B2D3-BE9F43D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EC0923E-C0B9-48CA-B539-50F701D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E3A0614-5252-4AA9-B6D8-976200B7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A530D66-96E7-46B4-BB50-8EFA1E07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38BE01B-E8D2-48BB-A7D4-9361D77B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F5975E0-9CD0-4D24-ABFD-034DA307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87157E5-FE0D-48A4-A463-23DE7F5B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3C09720-6F22-4DD3-8FE0-F4D504D8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627B0E1-4496-43EB-B71E-62AFDEBB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A559EF3-74EA-45F9-926D-41ACA8CC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18210ED-2EDD-42FB-8DA0-8CAE8D18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68AA10A-5B65-4378-AA20-29E36EF6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612A5D4-8026-40B9-A9DD-E3C32A1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DEF1351-E6D2-47F4-BDA3-47C2A7F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4AA6D21-8D40-48B5-98ED-722CE84C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33F08AF-D371-4846-9A48-0EA6D395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5663609-7AF8-4B04-9FE3-79D6B020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F452200-DB5B-4C4E-9E3E-78A6AA2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7AA019E-994D-47A6-8E24-B64CBF89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4043C42-C728-40ED-9C97-361BA19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531BBC3-05B8-4FF8-B8AD-755D422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5B87254-D9D6-4B15-87F1-6933715A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E745D97-48B0-4C68-8B18-EE538892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B2E0FDA-F8D6-40BD-845E-D451C4E9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A144EB7-A23F-4920-9832-9C192898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6FD573E-AC18-4C8D-ACC2-19D644EE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651347E-431F-4065-AAE2-152CF0AD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F60BB10-0B38-4853-8A86-71DCF9F1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66573A7-367B-4DA7-9447-F03D66DE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E5E3223-F201-4249-ACE7-D99F0D6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F98D5D4-669C-4737-98E7-52DBAD6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B0D4811-4EB2-4316-8466-7F530D3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2E5CDFE-7A48-4A2B-B193-16A3978B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52897AA-3209-4AFA-9F0E-67B8CD22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28FC0D-01AC-491B-8784-CFFD0788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A2E5DC-75EA-42D8-8BA5-EB756100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9FC392A-C7F1-4608-98D4-B82BB40E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B9D334C-457E-400A-AA7B-453BFA71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67ACA9-3DE4-46B6-80D2-330E5D4B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5719691-9FA6-47A4-9251-1AD0687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08B7484-39BA-4159-9379-47ABD5BC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C5299B6-C9DA-44FE-B687-4FE5B46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1831600-A4BA-416C-82B4-76F5246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EB4B4BB-D442-47B4-BF53-B6740A3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9FB60A3-2A89-4A41-B09B-C700646F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91F31FC-5052-40E3-9C0F-E1BE7F45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6D193A-66A2-4DBA-9DDC-81330E9A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638DA33-0A7F-4FAE-A5B8-6C078FAD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A6E8B3E-E9C0-4159-BE5A-01E8547C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EAB3F4B-D60B-4725-B59F-E31981A1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8EAB72B-8DAB-4C86-935E-3B56698A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A39B34B-D200-41CD-8BE0-7F7A07D4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F152320-E493-40D6-9482-8B2CDC0E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EC96CAF-F447-499A-B2A8-18B4C1F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FB32F59-6C39-4BC3-ADCC-03C87E91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0DA6ECD-ADE5-4D58-9E7C-4B7C59B8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AB65055-A138-4667-B4FD-1BB9C7BC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0D60178-A660-4570-AB2B-88FBB8F0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5D2E4A2-479F-4ACB-BFCD-619597E6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7FB1A9F-E17F-4DD1-8942-17D1F30B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8F96690-D387-4114-BE85-CDB7E1A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3C9B06D-009B-40B9-9924-7D662F15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212D36E-DAC6-4D53-BAC0-B4EADD37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36A639D-8BE1-423B-8C38-B989DF8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42F6C39-1BB2-4193-B37F-FED6645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0B00918-2517-4622-A2C1-C35675D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7923949-C262-4814-931B-D520887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5328248-254F-4C3E-B14F-D6C782F3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ED0-CAFF-47FF-82AA-936D08E0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88CDC3-DF26-4328-A81B-E16F8CEC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0879F91-D9F6-44A9-9F1A-D92A3278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C8FB84B-B9B2-40AB-9963-F01A56F3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D19A660-8C9F-4626-B4DC-F87652D8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1B0DBEC-6B1A-4E97-A54F-5E9925E8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B7E359F-AACA-4D25-9198-6AC2DB9F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AF5DF9D-5BC8-4C40-A624-F1A29AA7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88D0A6B-8FF6-413C-B416-C5175C6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0EE8D84-996E-4525-BCAB-8E1417A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FD5C308-004E-4465-99C3-5CB538D8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595-CE0B-47AF-B501-111D3DA3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A0AA1FD-8D6C-4709-B96A-3E6BF71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02B2187-3156-4C08-AB8E-58BD604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ECBAA14-1841-48C4-AB0A-0C30D4E6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745A432-4FB4-4265-A6A4-08A5C69E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1403823-E26E-4784-B87F-066C7570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1EB1BEE-4FF2-4471-95A4-4D335EC7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11197DD-F978-4726-B512-8F6C5942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A33E844-5820-4172-879D-B2DA8C8F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171B8AC-0F4A-428E-9491-A7F2B15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ACE7D23-2095-4EE1-AE7A-A8546608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59B-95F1-4A57-8300-5DB6E65A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90392E0-B2A4-4EA6-BCC9-3D4D3D1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72C87CB-FD48-465F-B461-F8377C09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F848EA8-57B3-478F-8EC8-3EC70FEC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CAD04F6-AD8D-4DE6-A8F8-33CA723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BF83C9F-8FC0-4AB0-BC8B-A35D825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DA15AC4-6021-4DFB-BAE5-8D8D9956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D3064D0-4E81-4E88-92C1-0995DF18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ADFBEEC-1FB9-4DB4-8B61-657331CF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AD2FA08-F1D6-4161-840B-00F5D1F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5ACEAEB-A9BB-4549-AE6C-DB80FFB4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53.xml"/><Relationship Id="rId6" Type="http://schemas.openxmlformats.org/officeDocument/2006/relationships/slideLayout" Target="../slideLayouts/slideLayout554.xml"/><Relationship Id="rId7" Type="http://schemas.openxmlformats.org/officeDocument/2006/relationships/slideLayout" Target="../slideLayouts/slideLayout555.xml"/><Relationship Id="rId8" Type="http://schemas.openxmlformats.org/officeDocument/2006/relationships/slideLayout" Target="../slideLayouts/slideLayout556.xml"/><Relationship Id="rId9" Type="http://schemas.openxmlformats.org/officeDocument/2006/relationships/slideLayout" Target="../slideLayouts/slideLayout557.xml"/><Relationship Id="rId10" Type="http://schemas.openxmlformats.org/officeDocument/2006/relationships/slideLayout" Target="../slideLayouts/slideLayout558.xml"/><Relationship Id="rId11" Type="http://schemas.openxmlformats.org/officeDocument/2006/relationships/slideLayout" Target="../slideLayouts/slideLayout559.xml"/><Relationship Id="rId12" Type="http://schemas.openxmlformats.org/officeDocument/2006/relationships/slideLayout" Target="../slideLayouts/slideLayout560.xml"/><Relationship Id="rId13" Type="http://schemas.openxmlformats.org/officeDocument/2006/relationships/slideLayout" Target="../slideLayouts/slideLayout561.xml"/><Relationship Id="rId14" Type="http://schemas.openxmlformats.org/officeDocument/2006/relationships/slideLayout" Target="../slideLayouts/slideLayout562.xml"/><Relationship Id="rId15" Type="http://schemas.openxmlformats.org/officeDocument/2006/relationships/slideLayout" Target="../slideLayouts/slideLayout563.xml"/><Relationship Id="rId16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77.xml"/><Relationship Id="rId6" Type="http://schemas.openxmlformats.org/officeDocument/2006/relationships/slideLayout" Target="../slideLayouts/slideLayout578.xml"/><Relationship Id="rId7" Type="http://schemas.openxmlformats.org/officeDocument/2006/relationships/slideLayout" Target="../slideLayouts/slideLayout579.xml"/><Relationship Id="rId8" Type="http://schemas.openxmlformats.org/officeDocument/2006/relationships/slideLayout" Target="../slideLayouts/slideLayout580.xml"/><Relationship Id="rId9" Type="http://schemas.openxmlformats.org/officeDocument/2006/relationships/slideLayout" Target="../slideLayouts/slideLayout581.xml"/><Relationship Id="rId10" Type="http://schemas.openxmlformats.org/officeDocument/2006/relationships/slideLayout" Target="../slideLayouts/slideLayout582.xml"/><Relationship Id="rId11" Type="http://schemas.openxmlformats.org/officeDocument/2006/relationships/slideLayout" Target="../slideLayouts/slideLayout583.xml"/><Relationship Id="rId12" Type="http://schemas.openxmlformats.org/officeDocument/2006/relationships/slideLayout" Target="../slideLayouts/slideLayout584.xml"/><Relationship Id="rId13" Type="http://schemas.openxmlformats.org/officeDocument/2006/relationships/slideLayout" Target="../slideLayouts/slideLayout585.xml"/><Relationship Id="rId14" Type="http://schemas.openxmlformats.org/officeDocument/2006/relationships/slideLayout" Target="../slideLayouts/slideLayout586.xml"/><Relationship Id="rId15" Type="http://schemas.openxmlformats.org/officeDocument/2006/relationships/slideLayout" Target="../slideLayouts/slideLayout587.xml"/><Relationship Id="rId16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01.xml"/><Relationship Id="rId6" Type="http://schemas.openxmlformats.org/officeDocument/2006/relationships/slideLayout" Target="../slideLayouts/slideLayout602.xml"/><Relationship Id="rId7" Type="http://schemas.openxmlformats.org/officeDocument/2006/relationships/slideLayout" Target="../slideLayouts/slideLayout603.xml"/><Relationship Id="rId8" Type="http://schemas.openxmlformats.org/officeDocument/2006/relationships/slideLayout" Target="../slideLayouts/slideLayout604.xml"/><Relationship Id="rId9" Type="http://schemas.openxmlformats.org/officeDocument/2006/relationships/slideLayout" Target="../slideLayouts/slideLayout605.xml"/><Relationship Id="rId10" Type="http://schemas.openxmlformats.org/officeDocument/2006/relationships/slideLayout" Target="../slideLayouts/slideLayout606.xml"/><Relationship Id="rId11" Type="http://schemas.openxmlformats.org/officeDocument/2006/relationships/slideLayout" Target="../slideLayouts/slideLayout607.xml"/><Relationship Id="rId12" Type="http://schemas.openxmlformats.org/officeDocument/2006/relationships/slideLayout" Target="../slideLayouts/slideLayout608.xml"/><Relationship Id="rId13" Type="http://schemas.openxmlformats.org/officeDocument/2006/relationships/slideLayout" Target="../slideLayouts/slideLayout609.xml"/><Relationship Id="rId14" Type="http://schemas.openxmlformats.org/officeDocument/2006/relationships/slideLayout" Target="../slideLayouts/slideLayout610.xml"/><Relationship Id="rId15" Type="http://schemas.openxmlformats.org/officeDocument/2006/relationships/slideLayout" Target="../slideLayouts/slideLayout611.xml"/><Relationship Id="rId16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13.xml"/><Relationship Id="rId6" Type="http://schemas.openxmlformats.org/officeDocument/2006/relationships/slideLayout" Target="../slideLayouts/slideLayout614.xml"/><Relationship Id="rId7" Type="http://schemas.openxmlformats.org/officeDocument/2006/relationships/slideLayout" Target="../slideLayouts/slideLayout615.xml"/><Relationship Id="rId8" Type="http://schemas.openxmlformats.org/officeDocument/2006/relationships/slideLayout" Target="../slideLayouts/slideLayout616.xml"/><Relationship Id="rId9" Type="http://schemas.openxmlformats.org/officeDocument/2006/relationships/slideLayout" Target="../slideLayouts/slideLayout617.xml"/><Relationship Id="rId10" Type="http://schemas.openxmlformats.org/officeDocument/2006/relationships/slideLayout" Target="../slideLayouts/slideLayout618.xml"/><Relationship Id="rId11" Type="http://schemas.openxmlformats.org/officeDocument/2006/relationships/slideLayout" Target="../slideLayouts/slideLayout619.xml"/><Relationship Id="rId12" Type="http://schemas.openxmlformats.org/officeDocument/2006/relationships/slideLayout" Target="../slideLayouts/slideLayout620.xml"/><Relationship Id="rId13" Type="http://schemas.openxmlformats.org/officeDocument/2006/relationships/slideLayout" Target="../slideLayouts/slideLayout621.xml"/><Relationship Id="rId14" Type="http://schemas.openxmlformats.org/officeDocument/2006/relationships/slideLayout" Target="../slideLayouts/slideLayout622.xml"/><Relationship Id="rId15" Type="http://schemas.openxmlformats.org/officeDocument/2006/relationships/slideLayout" Target="../slideLayouts/slideLayout623.xml"/><Relationship Id="rId16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25.xml"/><Relationship Id="rId6" Type="http://schemas.openxmlformats.org/officeDocument/2006/relationships/slideLayout" Target="../slideLayouts/slideLayout626.xml"/><Relationship Id="rId7" Type="http://schemas.openxmlformats.org/officeDocument/2006/relationships/slideLayout" Target="../slideLayouts/slideLayout627.xml"/><Relationship Id="rId8" Type="http://schemas.openxmlformats.org/officeDocument/2006/relationships/slideLayout" Target="../slideLayouts/slideLayout628.xml"/><Relationship Id="rId9" Type="http://schemas.openxmlformats.org/officeDocument/2006/relationships/slideLayout" Target="../slideLayouts/slideLayout629.xml"/><Relationship Id="rId10" Type="http://schemas.openxmlformats.org/officeDocument/2006/relationships/slideLayout" Target="../slideLayouts/slideLayout630.xml"/><Relationship Id="rId11" Type="http://schemas.openxmlformats.org/officeDocument/2006/relationships/slideLayout" Target="../slideLayouts/slideLayout631.xml"/><Relationship Id="rId12" Type="http://schemas.openxmlformats.org/officeDocument/2006/relationships/slideLayout" Target="../slideLayouts/slideLayout632.xml"/><Relationship Id="rId13" Type="http://schemas.openxmlformats.org/officeDocument/2006/relationships/slideLayout" Target="../slideLayouts/slideLayout633.xml"/><Relationship Id="rId14" Type="http://schemas.openxmlformats.org/officeDocument/2006/relationships/slideLayout" Target="../slideLayouts/slideLayout634.xml"/><Relationship Id="rId15" Type="http://schemas.openxmlformats.org/officeDocument/2006/relationships/slideLayout" Target="../slideLayouts/slideLayout635.xml"/><Relationship Id="rId16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09.xml"/><Relationship Id="rId6" Type="http://schemas.openxmlformats.org/officeDocument/2006/relationships/slideLayout" Target="../slideLayouts/slideLayout710.xml"/><Relationship Id="rId7" Type="http://schemas.openxmlformats.org/officeDocument/2006/relationships/slideLayout" Target="../slideLayouts/slideLayout711.xml"/><Relationship Id="rId8" Type="http://schemas.openxmlformats.org/officeDocument/2006/relationships/slideLayout" Target="../slideLayouts/slideLayout712.xml"/><Relationship Id="rId9" Type="http://schemas.openxmlformats.org/officeDocument/2006/relationships/slideLayout" Target="../slideLayouts/slideLayout713.xml"/><Relationship Id="rId10" Type="http://schemas.openxmlformats.org/officeDocument/2006/relationships/slideLayout" Target="../slideLayouts/slideLayout714.xml"/><Relationship Id="rId11" Type="http://schemas.openxmlformats.org/officeDocument/2006/relationships/slideLayout" Target="../slideLayouts/slideLayout715.xml"/><Relationship Id="rId12" Type="http://schemas.openxmlformats.org/officeDocument/2006/relationships/slideLayout" Target="../slideLayouts/slideLayout716.xml"/><Relationship Id="rId13" Type="http://schemas.openxmlformats.org/officeDocument/2006/relationships/slideLayout" Target="../slideLayouts/slideLayout717.xml"/><Relationship Id="rId14" Type="http://schemas.openxmlformats.org/officeDocument/2006/relationships/slideLayout" Target="../slideLayouts/slideLayout718.xml"/><Relationship Id="rId15" Type="http://schemas.openxmlformats.org/officeDocument/2006/relationships/slideLayout" Target="../slideLayouts/slideLayout719.xml"/><Relationship Id="rId16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21.xml"/><Relationship Id="rId6" Type="http://schemas.openxmlformats.org/officeDocument/2006/relationships/slideLayout" Target="../slideLayouts/slideLayout722.xml"/><Relationship Id="rId7" Type="http://schemas.openxmlformats.org/officeDocument/2006/relationships/slideLayout" Target="../slideLayouts/slideLayout723.xml"/><Relationship Id="rId8" Type="http://schemas.openxmlformats.org/officeDocument/2006/relationships/slideLayout" Target="../slideLayouts/slideLayout724.xml"/><Relationship Id="rId9" Type="http://schemas.openxmlformats.org/officeDocument/2006/relationships/slideLayout" Target="../slideLayouts/slideLayout725.xml"/><Relationship Id="rId10" Type="http://schemas.openxmlformats.org/officeDocument/2006/relationships/slideLayout" Target="../slideLayouts/slideLayout726.xml"/><Relationship Id="rId11" Type="http://schemas.openxmlformats.org/officeDocument/2006/relationships/slideLayout" Target="../slideLayouts/slideLayout727.xml"/><Relationship Id="rId12" Type="http://schemas.openxmlformats.org/officeDocument/2006/relationships/slideLayout" Target="../slideLayouts/slideLayout728.xml"/><Relationship Id="rId13" Type="http://schemas.openxmlformats.org/officeDocument/2006/relationships/slideLayout" Target="../slideLayouts/slideLayout729.xml"/><Relationship Id="rId14" Type="http://schemas.openxmlformats.org/officeDocument/2006/relationships/slideLayout" Target="../slideLayouts/slideLayout730.xml"/><Relationship Id="rId15" Type="http://schemas.openxmlformats.org/officeDocument/2006/relationships/slideLayout" Target="../slideLayouts/slideLayout731.xml"/><Relationship Id="rId16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33.xml"/><Relationship Id="rId6" Type="http://schemas.openxmlformats.org/officeDocument/2006/relationships/slideLayout" Target="../slideLayouts/slideLayout734.xml"/><Relationship Id="rId7" Type="http://schemas.openxmlformats.org/officeDocument/2006/relationships/slideLayout" Target="../slideLayouts/slideLayout735.xml"/><Relationship Id="rId8" Type="http://schemas.openxmlformats.org/officeDocument/2006/relationships/slideLayout" Target="../slideLayouts/slideLayout736.xml"/><Relationship Id="rId9" Type="http://schemas.openxmlformats.org/officeDocument/2006/relationships/slideLayout" Target="../slideLayouts/slideLayout737.xml"/><Relationship Id="rId10" Type="http://schemas.openxmlformats.org/officeDocument/2006/relationships/slideLayout" Target="../slideLayouts/slideLayout738.xml"/><Relationship Id="rId11" Type="http://schemas.openxmlformats.org/officeDocument/2006/relationships/slideLayout" Target="../slideLayouts/slideLayout739.xml"/><Relationship Id="rId12" Type="http://schemas.openxmlformats.org/officeDocument/2006/relationships/slideLayout" Target="../slideLayouts/slideLayout740.xml"/><Relationship Id="rId13" Type="http://schemas.openxmlformats.org/officeDocument/2006/relationships/slideLayout" Target="../slideLayouts/slideLayout741.xml"/><Relationship Id="rId14" Type="http://schemas.openxmlformats.org/officeDocument/2006/relationships/slideLayout" Target="../slideLayouts/slideLayout742.xml"/><Relationship Id="rId15" Type="http://schemas.openxmlformats.org/officeDocument/2006/relationships/slideLayout" Target="../slideLayouts/slideLayout743.xml"/><Relationship Id="rId16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45.xml"/><Relationship Id="rId6" Type="http://schemas.openxmlformats.org/officeDocument/2006/relationships/slideLayout" Target="../slideLayouts/slideLayout746.xml"/><Relationship Id="rId7" Type="http://schemas.openxmlformats.org/officeDocument/2006/relationships/slideLayout" Target="../slideLayouts/slideLayout747.xml"/><Relationship Id="rId8" Type="http://schemas.openxmlformats.org/officeDocument/2006/relationships/slideLayout" Target="../slideLayouts/slideLayout748.xml"/><Relationship Id="rId9" Type="http://schemas.openxmlformats.org/officeDocument/2006/relationships/slideLayout" Target="../slideLayouts/slideLayout749.xml"/><Relationship Id="rId10" Type="http://schemas.openxmlformats.org/officeDocument/2006/relationships/slideLayout" Target="../slideLayouts/slideLayout750.xml"/><Relationship Id="rId11" Type="http://schemas.openxmlformats.org/officeDocument/2006/relationships/slideLayout" Target="../slideLayouts/slideLayout751.xml"/><Relationship Id="rId12" Type="http://schemas.openxmlformats.org/officeDocument/2006/relationships/slideLayout" Target="../slideLayouts/slideLayout752.xml"/><Relationship Id="rId13" Type="http://schemas.openxmlformats.org/officeDocument/2006/relationships/slideLayout" Target="../slideLayouts/slideLayout753.xml"/><Relationship Id="rId14" Type="http://schemas.openxmlformats.org/officeDocument/2006/relationships/slideLayout" Target="../slideLayouts/slideLayout754.xml"/><Relationship Id="rId15" Type="http://schemas.openxmlformats.org/officeDocument/2006/relationships/slideLayout" Target="../slideLayouts/slideLayout755.xml"/><Relationship Id="rId16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57.xml"/><Relationship Id="rId6" Type="http://schemas.openxmlformats.org/officeDocument/2006/relationships/slideLayout" Target="../slideLayouts/slideLayout758.xml"/><Relationship Id="rId7" Type="http://schemas.openxmlformats.org/officeDocument/2006/relationships/slideLayout" Target="../slideLayouts/slideLayout759.xml"/><Relationship Id="rId8" Type="http://schemas.openxmlformats.org/officeDocument/2006/relationships/slideLayout" Target="../slideLayouts/slideLayout760.xml"/><Relationship Id="rId9" Type="http://schemas.openxmlformats.org/officeDocument/2006/relationships/slideLayout" Target="../slideLayouts/slideLayout761.xml"/><Relationship Id="rId10" Type="http://schemas.openxmlformats.org/officeDocument/2006/relationships/slideLayout" Target="../slideLayouts/slideLayout762.xml"/><Relationship Id="rId11" Type="http://schemas.openxmlformats.org/officeDocument/2006/relationships/slideLayout" Target="../slideLayouts/slideLayout763.xml"/><Relationship Id="rId12" Type="http://schemas.openxmlformats.org/officeDocument/2006/relationships/slideLayout" Target="../slideLayouts/slideLayout764.xml"/><Relationship Id="rId13" Type="http://schemas.openxmlformats.org/officeDocument/2006/relationships/slideLayout" Target="../slideLayouts/slideLayout765.xml"/><Relationship Id="rId14" Type="http://schemas.openxmlformats.org/officeDocument/2006/relationships/slideLayout" Target="../slideLayouts/slideLayout766.xml"/><Relationship Id="rId15" Type="http://schemas.openxmlformats.org/officeDocument/2006/relationships/slideLayout" Target="../slideLayouts/slideLayout767.xml"/><Relationship Id="rId16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81.xml"/><Relationship Id="rId6" Type="http://schemas.openxmlformats.org/officeDocument/2006/relationships/slideLayout" Target="../slideLayouts/slideLayout782.xml"/><Relationship Id="rId7" Type="http://schemas.openxmlformats.org/officeDocument/2006/relationships/slideLayout" Target="../slideLayouts/slideLayout783.xml"/><Relationship Id="rId8" Type="http://schemas.openxmlformats.org/officeDocument/2006/relationships/slideLayout" Target="../slideLayouts/slideLayout784.xml"/><Relationship Id="rId9" Type="http://schemas.openxmlformats.org/officeDocument/2006/relationships/slideLayout" Target="../slideLayouts/slideLayout785.xml"/><Relationship Id="rId10" Type="http://schemas.openxmlformats.org/officeDocument/2006/relationships/slideLayout" Target="../slideLayouts/slideLayout786.xml"/><Relationship Id="rId11" Type="http://schemas.openxmlformats.org/officeDocument/2006/relationships/slideLayout" Target="../slideLayouts/slideLayout787.xml"/><Relationship Id="rId12" Type="http://schemas.openxmlformats.org/officeDocument/2006/relationships/slideLayout" Target="../slideLayouts/slideLayout788.xml"/><Relationship Id="rId13" Type="http://schemas.openxmlformats.org/officeDocument/2006/relationships/slideLayout" Target="../slideLayouts/slideLayout789.xml"/><Relationship Id="rId14" Type="http://schemas.openxmlformats.org/officeDocument/2006/relationships/slideLayout" Target="../slideLayouts/slideLayout790.xml"/><Relationship Id="rId15" Type="http://schemas.openxmlformats.org/officeDocument/2006/relationships/slideLayout" Target="../slideLayouts/slideLayout791.xml"/><Relationship Id="rId16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93.xml"/><Relationship Id="rId6" Type="http://schemas.openxmlformats.org/officeDocument/2006/relationships/slideLayout" Target="../slideLayouts/slideLayout794.xml"/><Relationship Id="rId7" Type="http://schemas.openxmlformats.org/officeDocument/2006/relationships/slideLayout" Target="../slideLayouts/slideLayout795.xml"/><Relationship Id="rId8" Type="http://schemas.openxmlformats.org/officeDocument/2006/relationships/slideLayout" Target="../slideLayouts/slideLayout796.xml"/><Relationship Id="rId9" Type="http://schemas.openxmlformats.org/officeDocument/2006/relationships/slideLayout" Target="../slideLayouts/slideLayout797.xml"/><Relationship Id="rId10" Type="http://schemas.openxmlformats.org/officeDocument/2006/relationships/slideLayout" Target="../slideLayouts/slideLayout798.xml"/><Relationship Id="rId11" Type="http://schemas.openxmlformats.org/officeDocument/2006/relationships/slideLayout" Target="../slideLayouts/slideLayout799.xml"/><Relationship Id="rId12" Type="http://schemas.openxmlformats.org/officeDocument/2006/relationships/slideLayout" Target="../slideLayouts/slideLayout800.xml"/><Relationship Id="rId13" Type="http://schemas.openxmlformats.org/officeDocument/2006/relationships/slideLayout" Target="../slideLayouts/slideLayout801.xml"/><Relationship Id="rId14" Type="http://schemas.openxmlformats.org/officeDocument/2006/relationships/slideLayout" Target="../slideLayouts/slideLayout802.xml"/><Relationship Id="rId15" Type="http://schemas.openxmlformats.org/officeDocument/2006/relationships/slideLayout" Target="../slideLayouts/slideLayout803.xml"/><Relationship Id="rId16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05.xml"/><Relationship Id="rId6" Type="http://schemas.openxmlformats.org/officeDocument/2006/relationships/slideLayout" Target="../slideLayouts/slideLayout806.xml"/><Relationship Id="rId7" Type="http://schemas.openxmlformats.org/officeDocument/2006/relationships/slideLayout" Target="../slideLayouts/slideLayout807.xml"/><Relationship Id="rId8" Type="http://schemas.openxmlformats.org/officeDocument/2006/relationships/slideLayout" Target="../slideLayouts/slideLayout808.xml"/><Relationship Id="rId9" Type="http://schemas.openxmlformats.org/officeDocument/2006/relationships/slideLayout" Target="../slideLayouts/slideLayout809.xml"/><Relationship Id="rId10" Type="http://schemas.openxmlformats.org/officeDocument/2006/relationships/slideLayout" Target="../slideLayouts/slideLayout810.xml"/><Relationship Id="rId11" Type="http://schemas.openxmlformats.org/officeDocument/2006/relationships/slideLayout" Target="../slideLayouts/slideLayout811.xml"/><Relationship Id="rId12" Type="http://schemas.openxmlformats.org/officeDocument/2006/relationships/slideLayout" Target="../slideLayouts/slideLayout812.xml"/><Relationship Id="rId13" Type="http://schemas.openxmlformats.org/officeDocument/2006/relationships/slideLayout" Target="../slideLayouts/slideLayout813.xml"/><Relationship Id="rId14" Type="http://schemas.openxmlformats.org/officeDocument/2006/relationships/slideLayout" Target="../slideLayouts/slideLayout814.xml"/><Relationship Id="rId15" Type="http://schemas.openxmlformats.org/officeDocument/2006/relationships/slideLayout" Target="../slideLayouts/slideLayout815.xml"/><Relationship Id="rId16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17.xml"/><Relationship Id="rId6" Type="http://schemas.openxmlformats.org/officeDocument/2006/relationships/slideLayout" Target="../slideLayouts/slideLayout818.xml"/><Relationship Id="rId7" Type="http://schemas.openxmlformats.org/officeDocument/2006/relationships/slideLayout" Target="../slideLayouts/slideLayout819.xml"/><Relationship Id="rId8" Type="http://schemas.openxmlformats.org/officeDocument/2006/relationships/slideLayout" Target="../slideLayouts/slideLayout820.xml"/><Relationship Id="rId9" Type="http://schemas.openxmlformats.org/officeDocument/2006/relationships/slideLayout" Target="../slideLayouts/slideLayout821.xml"/><Relationship Id="rId10" Type="http://schemas.openxmlformats.org/officeDocument/2006/relationships/slideLayout" Target="../slideLayouts/slideLayout822.xml"/><Relationship Id="rId11" Type="http://schemas.openxmlformats.org/officeDocument/2006/relationships/slideLayout" Target="../slideLayouts/slideLayout823.xml"/><Relationship Id="rId12" Type="http://schemas.openxmlformats.org/officeDocument/2006/relationships/slideLayout" Target="../slideLayouts/slideLayout824.xml"/><Relationship Id="rId13" Type="http://schemas.openxmlformats.org/officeDocument/2006/relationships/slideLayout" Target="../slideLayouts/slideLayout825.xml"/><Relationship Id="rId14" Type="http://schemas.openxmlformats.org/officeDocument/2006/relationships/slideLayout" Target="../slideLayouts/slideLayout826.xml"/><Relationship Id="rId15" Type="http://schemas.openxmlformats.org/officeDocument/2006/relationships/slideLayout" Target="../slideLayouts/slideLayout827.xml"/><Relationship Id="rId16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29.xml"/><Relationship Id="rId6" Type="http://schemas.openxmlformats.org/officeDocument/2006/relationships/slideLayout" Target="../slideLayouts/slideLayout830.xml"/><Relationship Id="rId7" Type="http://schemas.openxmlformats.org/officeDocument/2006/relationships/slideLayout" Target="../slideLayouts/slideLayout831.xml"/><Relationship Id="rId8" Type="http://schemas.openxmlformats.org/officeDocument/2006/relationships/slideLayout" Target="../slideLayouts/slideLayout832.xml"/><Relationship Id="rId9" Type="http://schemas.openxmlformats.org/officeDocument/2006/relationships/slideLayout" Target="../slideLayouts/slideLayout833.xml"/><Relationship Id="rId10" Type="http://schemas.openxmlformats.org/officeDocument/2006/relationships/slideLayout" Target="../slideLayouts/slideLayout834.xml"/><Relationship Id="rId11" Type="http://schemas.openxmlformats.org/officeDocument/2006/relationships/slideLayout" Target="../slideLayouts/slideLayout835.xml"/><Relationship Id="rId12" Type="http://schemas.openxmlformats.org/officeDocument/2006/relationships/slideLayout" Target="../slideLayouts/slideLayout836.xml"/><Relationship Id="rId13" Type="http://schemas.openxmlformats.org/officeDocument/2006/relationships/slideLayout" Target="../slideLayouts/slideLayout837.xml"/><Relationship Id="rId14" Type="http://schemas.openxmlformats.org/officeDocument/2006/relationships/slideLayout" Target="../slideLayouts/slideLayout838.xml"/><Relationship Id="rId15" Type="http://schemas.openxmlformats.org/officeDocument/2006/relationships/slideLayout" Target="../slideLayouts/slideLayout839.xml"/><Relationship Id="rId16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41.xml"/><Relationship Id="rId6" Type="http://schemas.openxmlformats.org/officeDocument/2006/relationships/slideLayout" Target="../slideLayouts/slideLayout842.xml"/><Relationship Id="rId7" Type="http://schemas.openxmlformats.org/officeDocument/2006/relationships/slideLayout" Target="../slideLayouts/slideLayout843.xml"/><Relationship Id="rId8" Type="http://schemas.openxmlformats.org/officeDocument/2006/relationships/slideLayout" Target="../slideLayouts/slideLayout844.xml"/><Relationship Id="rId9" Type="http://schemas.openxmlformats.org/officeDocument/2006/relationships/slideLayout" Target="../slideLayouts/slideLayout845.xml"/><Relationship Id="rId10" Type="http://schemas.openxmlformats.org/officeDocument/2006/relationships/slideLayout" Target="../slideLayouts/slideLayout846.xml"/><Relationship Id="rId11" Type="http://schemas.openxmlformats.org/officeDocument/2006/relationships/slideLayout" Target="../slideLayouts/slideLayout847.xml"/><Relationship Id="rId12" Type="http://schemas.openxmlformats.org/officeDocument/2006/relationships/slideLayout" Target="../slideLayouts/slideLayout848.xml"/><Relationship Id="rId13" Type="http://schemas.openxmlformats.org/officeDocument/2006/relationships/slideLayout" Target="../slideLayouts/slideLayout849.xml"/><Relationship Id="rId14" Type="http://schemas.openxmlformats.org/officeDocument/2006/relationships/slideLayout" Target="../slideLayouts/slideLayout850.xml"/><Relationship Id="rId15" Type="http://schemas.openxmlformats.org/officeDocument/2006/relationships/slideLayout" Target="../slideLayouts/slideLayout851.xml"/><Relationship Id="rId16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3.xml"/><Relationship Id="rId6" Type="http://schemas.openxmlformats.org/officeDocument/2006/relationships/slideLayout" Target="../slideLayouts/slideLayout854.xml"/><Relationship Id="rId7" Type="http://schemas.openxmlformats.org/officeDocument/2006/relationships/slideLayout" Target="../slideLayouts/slideLayout855.xml"/><Relationship Id="rId8" Type="http://schemas.openxmlformats.org/officeDocument/2006/relationships/slideLayout" Target="../slideLayouts/slideLayout856.xml"/><Relationship Id="rId9" Type="http://schemas.openxmlformats.org/officeDocument/2006/relationships/slideLayout" Target="../slideLayouts/slideLayout857.xml"/><Relationship Id="rId10" Type="http://schemas.openxmlformats.org/officeDocument/2006/relationships/slideLayout" Target="../slideLayouts/slideLayout858.xml"/><Relationship Id="rId11" Type="http://schemas.openxmlformats.org/officeDocument/2006/relationships/slideLayout" Target="../slideLayouts/slideLayout859.xml"/><Relationship Id="rId12" Type="http://schemas.openxmlformats.org/officeDocument/2006/relationships/slideLayout" Target="../slideLayouts/slideLayout860.xml"/><Relationship Id="rId13" Type="http://schemas.openxmlformats.org/officeDocument/2006/relationships/slideLayout" Target="../slideLayouts/slideLayout861.xml"/><Relationship Id="rId14" Type="http://schemas.openxmlformats.org/officeDocument/2006/relationships/slideLayout" Target="../slideLayouts/slideLayout862.xml"/><Relationship Id="rId15" Type="http://schemas.openxmlformats.org/officeDocument/2006/relationships/slideLayout" Target="../slideLayouts/slideLayout863.xml"/><Relationship Id="rId16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65.xml"/><Relationship Id="rId6" Type="http://schemas.openxmlformats.org/officeDocument/2006/relationships/slideLayout" Target="../slideLayouts/slideLayout866.xml"/><Relationship Id="rId7" Type="http://schemas.openxmlformats.org/officeDocument/2006/relationships/slideLayout" Target="../slideLayouts/slideLayout867.xml"/><Relationship Id="rId8" Type="http://schemas.openxmlformats.org/officeDocument/2006/relationships/slideLayout" Target="../slideLayouts/slideLayout868.xml"/><Relationship Id="rId9" Type="http://schemas.openxmlformats.org/officeDocument/2006/relationships/slideLayout" Target="../slideLayouts/slideLayout869.xml"/><Relationship Id="rId10" Type="http://schemas.openxmlformats.org/officeDocument/2006/relationships/slideLayout" Target="../slideLayouts/slideLayout870.xml"/><Relationship Id="rId11" Type="http://schemas.openxmlformats.org/officeDocument/2006/relationships/slideLayout" Target="../slideLayouts/slideLayout871.xml"/><Relationship Id="rId12" Type="http://schemas.openxmlformats.org/officeDocument/2006/relationships/slideLayout" Target="../slideLayouts/slideLayout872.xml"/><Relationship Id="rId13" Type="http://schemas.openxmlformats.org/officeDocument/2006/relationships/slideLayout" Target="../slideLayouts/slideLayout873.xml"/><Relationship Id="rId14" Type="http://schemas.openxmlformats.org/officeDocument/2006/relationships/slideLayout" Target="../slideLayouts/slideLayout874.xml"/><Relationship Id="rId15" Type="http://schemas.openxmlformats.org/officeDocument/2006/relationships/slideLayout" Target="../slideLayouts/slideLayout875.xml"/><Relationship Id="rId16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77.xml"/><Relationship Id="rId6" Type="http://schemas.openxmlformats.org/officeDocument/2006/relationships/slideLayout" Target="../slideLayouts/slideLayout878.xml"/><Relationship Id="rId7" Type="http://schemas.openxmlformats.org/officeDocument/2006/relationships/slideLayout" Target="../slideLayouts/slideLayout879.xml"/><Relationship Id="rId8" Type="http://schemas.openxmlformats.org/officeDocument/2006/relationships/slideLayout" Target="../slideLayouts/slideLayout880.xml"/><Relationship Id="rId9" Type="http://schemas.openxmlformats.org/officeDocument/2006/relationships/slideLayout" Target="../slideLayouts/slideLayout881.xml"/><Relationship Id="rId10" Type="http://schemas.openxmlformats.org/officeDocument/2006/relationships/slideLayout" Target="../slideLayouts/slideLayout882.xml"/><Relationship Id="rId11" Type="http://schemas.openxmlformats.org/officeDocument/2006/relationships/slideLayout" Target="../slideLayouts/slideLayout883.xml"/><Relationship Id="rId12" Type="http://schemas.openxmlformats.org/officeDocument/2006/relationships/slideLayout" Target="../slideLayouts/slideLayout884.xml"/><Relationship Id="rId13" Type="http://schemas.openxmlformats.org/officeDocument/2006/relationships/slideLayout" Target="../slideLayouts/slideLayout885.xml"/><Relationship Id="rId14" Type="http://schemas.openxmlformats.org/officeDocument/2006/relationships/slideLayout" Target="../slideLayouts/slideLayout886.xml"/><Relationship Id="rId15" Type="http://schemas.openxmlformats.org/officeDocument/2006/relationships/slideLayout" Target="../slideLayouts/slideLayout887.xml"/><Relationship Id="rId16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89.xml"/><Relationship Id="rId6" Type="http://schemas.openxmlformats.org/officeDocument/2006/relationships/slideLayout" Target="../slideLayouts/slideLayout890.xml"/><Relationship Id="rId7" Type="http://schemas.openxmlformats.org/officeDocument/2006/relationships/slideLayout" Target="../slideLayouts/slideLayout891.xml"/><Relationship Id="rId8" Type="http://schemas.openxmlformats.org/officeDocument/2006/relationships/slideLayout" Target="../slideLayouts/slideLayout892.xml"/><Relationship Id="rId9" Type="http://schemas.openxmlformats.org/officeDocument/2006/relationships/slideLayout" Target="../slideLayouts/slideLayout893.xml"/><Relationship Id="rId10" Type="http://schemas.openxmlformats.org/officeDocument/2006/relationships/slideLayout" Target="../slideLayouts/slideLayout894.xml"/><Relationship Id="rId11" Type="http://schemas.openxmlformats.org/officeDocument/2006/relationships/slideLayout" Target="../slideLayouts/slideLayout895.xml"/><Relationship Id="rId12" Type="http://schemas.openxmlformats.org/officeDocument/2006/relationships/slideLayout" Target="../slideLayouts/slideLayout896.xml"/><Relationship Id="rId13" Type="http://schemas.openxmlformats.org/officeDocument/2006/relationships/slideLayout" Target="../slideLayouts/slideLayout897.xml"/><Relationship Id="rId14" Type="http://schemas.openxmlformats.org/officeDocument/2006/relationships/slideLayout" Target="../slideLayouts/slideLayout898.xml"/><Relationship Id="rId15" Type="http://schemas.openxmlformats.org/officeDocument/2006/relationships/slideLayout" Target="../slideLayouts/slideLayout899.xml"/><Relationship Id="rId16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01.xml"/><Relationship Id="rId6" Type="http://schemas.openxmlformats.org/officeDocument/2006/relationships/slideLayout" Target="../slideLayouts/slideLayout902.xml"/><Relationship Id="rId7" Type="http://schemas.openxmlformats.org/officeDocument/2006/relationships/slideLayout" Target="../slideLayouts/slideLayout903.xml"/><Relationship Id="rId8" Type="http://schemas.openxmlformats.org/officeDocument/2006/relationships/slideLayout" Target="../slideLayouts/slideLayout904.xml"/><Relationship Id="rId9" Type="http://schemas.openxmlformats.org/officeDocument/2006/relationships/slideLayout" Target="../slideLayouts/slideLayout905.xml"/><Relationship Id="rId10" Type="http://schemas.openxmlformats.org/officeDocument/2006/relationships/slideLayout" Target="../slideLayouts/slideLayout906.xml"/><Relationship Id="rId11" Type="http://schemas.openxmlformats.org/officeDocument/2006/relationships/slideLayout" Target="../slideLayouts/slideLayout907.xml"/><Relationship Id="rId12" Type="http://schemas.openxmlformats.org/officeDocument/2006/relationships/slideLayout" Target="../slideLayouts/slideLayout908.xml"/><Relationship Id="rId13" Type="http://schemas.openxmlformats.org/officeDocument/2006/relationships/slideLayout" Target="../slideLayouts/slideLayout909.xml"/><Relationship Id="rId14" Type="http://schemas.openxmlformats.org/officeDocument/2006/relationships/slideLayout" Target="../slideLayouts/slideLayout910.xml"/><Relationship Id="rId15" Type="http://schemas.openxmlformats.org/officeDocument/2006/relationships/slideLayout" Target="../slideLayouts/slideLayout911.xml"/><Relationship Id="rId16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13.xml"/><Relationship Id="rId6" Type="http://schemas.openxmlformats.org/officeDocument/2006/relationships/slideLayout" Target="../slideLayouts/slideLayout914.xml"/><Relationship Id="rId7" Type="http://schemas.openxmlformats.org/officeDocument/2006/relationships/slideLayout" Target="../slideLayouts/slideLayout915.xml"/><Relationship Id="rId8" Type="http://schemas.openxmlformats.org/officeDocument/2006/relationships/slideLayout" Target="../slideLayouts/slideLayout916.xml"/><Relationship Id="rId9" Type="http://schemas.openxmlformats.org/officeDocument/2006/relationships/slideLayout" Target="../slideLayouts/slideLayout917.xml"/><Relationship Id="rId10" Type="http://schemas.openxmlformats.org/officeDocument/2006/relationships/slideLayout" Target="../slideLayouts/slideLayout918.xml"/><Relationship Id="rId11" Type="http://schemas.openxmlformats.org/officeDocument/2006/relationships/slideLayout" Target="../slideLayouts/slideLayout919.xml"/><Relationship Id="rId12" Type="http://schemas.openxmlformats.org/officeDocument/2006/relationships/slideLayout" Target="../slideLayouts/slideLayout920.xml"/><Relationship Id="rId13" Type="http://schemas.openxmlformats.org/officeDocument/2006/relationships/slideLayout" Target="../slideLayouts/slideLayout921.xml"/><Relationship Id="rId14" Type="http://schemas.openxmlformats.org/officeDocument/2006/relationships/slideLayout" Target="../slideLayouts/slideLayout922.xml"/><Relationship Id="rId15" Type="http://schemas.openxmlformats.org/officeDocument/2006/relationships/slideLayout" Target="../slideLayouts/slideLayout923.xml"/><Relationship Id="rId16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25.xml"/><Relationship Id="rId6" Type="http://schemas.openxmlformats.org/officeDocument/2006/relationships/slideLayout" Target="../slideLayouts/slideLayout926.xml"/><Relationship Id="rId7" Type="http://schemas.openxmlformats.org/officeDocument/2006/relationships/slideLayout" Target="../slideLayouts/slideLayout927.xml"/><Relationship Id="rId8" Type="http://schemas.openxmlformats.org/officeDocument/2006/relationships/slideLayout" Target="../slideLayouts/slideLayout928.xml"/><Relationship Id="rId9" Type="http://schemas.openxmlformats.org/officeDocument/2006/relationships/slideLayout" Target="../slideLayouts/slideLayout929.xml"/><Relationship Id="rId10" Type="http://schemas.openxmlformats.org/officeDocument/2006/relationships/slideLayout" Target="../slideLayouts/slideLayout930.xml"/><Relationship Id="rId11" Type="http://schemas.openxmlformats.org/officeDocument/2006/relationships/slideLayout" Target="../slideLayouts/slideLayout931.xml"/><Relationship Id="rId12" Type="http://schemas.openxmlformats.org/officeDocument/2006/relationships/slideLayout" Target="../slideLayouts/slideLayout932.xml"/><Relationship Id="rId13" Type="http://schemas.openxmlformats.org/officeDocument/2006/relationships/slideLayout" Target="../slideLayouts/slideLayout933.xml"/><Relationship Id="rId14" Type="http://schemas.openxmlformats.org/officeDocument/2006/relationships/slideLayout" Target="../slideLayouts/slideLayout934.xml"/><Relationship Id="rId15" Type="http://schemas.openxmlformats.org/officeDocument/2006/relationships/slideLayout" Target="../slideLayouts/slideLayout935.xml"/><Relationship Id="rId16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37.xml"/><Relationship Id="rId6" Type="http://schemas.openxmlformats.org/officeDocument/2006/relationships/slideLayout" Target="../slideLayouts/slideLayout938.xml"/><Relationship Id="rId7" Type="http://schemas.openxmlformats.org/officeDocument/2006/relationships/slideLayout" Target="../slideLayouts/slideLayout939.xml"/><Relationship Id="rId8" Type="http://schemas.openxmlformats.org/officeDocument/2006/relationships/slideLayout" Target="../slideLayouts/slideLayout940.xml"/><Relationship Id="rId9" Type="http://schemas.openxmlformats.org/officeDocument/2006/relationships/slideLayout" Target="../slideLayouts/slideLayout941.xml"/><Relationship Id="rId10" Type="http://schemas.openxmlformats.org/officeDocument/2006/relationships/slideLayout" Target="../slideLayouts/slideLayout942.xml"/><Relationship Id="rId11" Type="http://schemas.openxmlformats.org/officeDocument/2006/relationships/slideLayout" Target="../slideLayouts/slideLayout943.xml"/><Relationship Id="rId12" Type="http://schemas.openxmlformats.org/officeDocument/2006/relationships/slideLayout" Target="../slideLayouts/slideLayout944.xml"/><Relationship Id="rId13" Type="http://schemas.openxmlformats.org/officeDocument/2006/relationships/slideLayout" Target="../slideLayouts/slideLayout945.xml"/><Relationship Id="rId14" Type="http://schemas.openxmlformats.org/officeDocument/2006/relationships/slideLayout" Target="../slideLayouts/slideLayout946.xml"/><Relationship Id="rId15" Type="http://schemas.openxmlformats.org/officeDocument/2006/relationships/slideLayout" Target="../slideLayouts/slideLayout947.xml"/><Relationship Id="rId16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49.xml"/><Relationship Id="rId6" Type="http://schemas.openxmlformats.org/officeDocument/2006/relationships/slideLayout" Target="../slideLayouts/slideLayout950.xml"/><Relationship Id="rId7" Type="http://schemas.openxmlformats.org/officeDocument/2006/relationships/slideLayout" Target="../slideLayouts/slideLayout951.xml"/><Relationship Id="rId8" Type="http://schemas.openxmlformats.org/officeDocument/2006/relationships/slideLayout" Target="../slideLayouts/slideLayout952.xml"/><Relationship Id="rId9" Type="http://schemas.openxmlformats.org/officeDocument/2006/relationships/slideLayout" Target="../slideLayouts/slideLayout953.xml"/><Relationship Id="rId10" Type="http://schemas.openxmlformats.org/officeDocument/2006/relationships/slideLayout" Target="../slideLayouts/slideLayout954.xml"/><Relationship Id="rId11" Type="http://schemas.openxmlformats.org/officeDocument/2006/relationships/slideLayout" Target="../slideLayouts/slideLayout955.xml"/><Relationship Id="rId12" Type="http://schemas.openxmlformats.org/officeDocument/2006/relationships/slideLayout" Target="../slideLayouts/slideLayout956.xml"/><Relationship Id="rId13" Type="http://schemas.openxmlformats.org/officeDocument/2006/relationships/slideLayout" Target="../slideLayouts/slideLayout957.xml"/><Relationship Id="rId14" Type="http://schemas.openxmlformats.org/officeDocument/2006/relationships/slideLayout" Target="../slideLayouts/slideLayout958.xml"/><Relationship Id="rId15" Type="http://schemas.openxmlformats.org/officeDocument/2006/relationships/slideLayout" Target="../slideLayouts/slideLayout959.xml"/><Relationship Id="rId16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61.xml"/><Relationship Id="rId6" Type="http://schemas.openxmlformats.org/officeDocument/2006/relationships/slideLayout" Target="../slideLayouts/slideLayout962.xml"/><Relationship Id="rId7" Type="http://schemas.openxmlformats.org/officeDocument/2006/relationships/slideLayout" Target="../slideLayouts/slideLayout963.xml"/><Relationship Id="rId8" Type="http://schemas.openxmlformats.org/officeDocument/2006/relationships/slideLayout" Target="../slideLayouts/slideLayout964.xml"/><Relationship Id="rId9" Type="http://schemas.openxmlformats.org/officeDocument/2006/relationships/slideLayout" Target="../slideLayouts/slideLayout965.xml"/><Relationship Id="rId10" Type="http://schemas.openxmlformats.org/officeDocument/2006/relationships/slideLayout" Target="../slideLayouts/slideLayout966.xml"/><Relationship Id="rId11" Type="http://schemas.openxmlformats.org/officeDocument/2006/relationships/slideLayout" Target="../slideLayouts/slideLayout967.xml"/><Relationship Id="rId12" Type="http://schemas.openxmlformats.org/officeDocument/2006/relationships/slideLayout" Target="../slideLayouts/slideLayout968.xml"/><Relationship Id="rId13" Type="http://schemas.openxmlformats.org/officeDocument/2006/relationships/slideLayout" Target="../slideLayouts/slideLayout969.xml"/><Relationship Id="rId14" Type="http://schemas.openxmlformats.org/officeDocument/2006/relationships/slideLayout" Target="../slideLayouts/slideLayout970.xml"/><Relationship Id="rId15" Type="http://schemas.openxmlformats.org/officeDocument/2006/relationships/slideLayout" Target="../slideLayouts/slideLayout971.xml"/><Relationship Id="rId16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73.xml"/><Relationship Id="rId6" Type="http://schemas.openxmlformats.org/officeDocument/2006/relationships/slideLayout" Target="../slideLayouts/slideLayout974.xml"/><Relationship Id="rId7" Type="http://schemas.openxmlformats.org/officeDocument/2006/relationships/slideLayout" Target="../slideLayouts/slideLayout975.xml"/><Relationship Id="rId8" Type="http://schemas.openxmlformats.org/officeDocument/2006/relationships/slideLayout" Target="../slideLayouts/slideLayout976.xml"/><Relationship Id="rId9" Type="http://schemas.openxmlformats.org/officeDocument/2006/relationships/slideLayout" Target="../slideLayouts/slideLayout977.xml"/><Relationship Id="rId10" Type="http://schemas.openxmlformats.org/officeDocument/2006/relationships/slideLayout" Target="../slideLayouts/slideLayout978.xml"/><Relationship Id="rId11" Type="http://schemas.openxmlformats.org/officeDocument/2006/relationships/slideLayout" Target="../slideLayouts/slideLayout979.xml"/><Relationship Id="rId12" Type="http://schemas.openxmlformats.org/officeDocument/2006/relationships/slideLayout" Target="../slideLayouts/slideLayout980.xml"/><Relationship Id="rId13" Type="http://schemas.openxmlformats.org/officeDocument/2006/relationships/slideLayout" Target="../slideLayouts/slideLayout981.xml"/><Relationship Id="rId14" Type="http://schemas.openxmlformats.org/officeDocument/2006/relationships/slideLayout" Target="../slideLayouts/slideLayout982.xml"/><Relationship Id="rId15" Type="http://schemas.openxmlformats.org/officeDocument/2006/relationships/slideLayout" Target="../slideLayouts/slideLayout983.xml"/><Relationship Id="rId16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85.xml"/><Relationship Id="rId6" Type="http://schemas.openxmlformats.org/officeDocument/2006/relationships/slideLayout" Target="../slideLayouts/slideLayout986.xml"/><Relationship Id="rId7" Type="http://schemas.openxmlformats.org/officeDocument/2006/relationships/slideLayout" Target="../slideLayouts/slideLayout987.xml"/><Relationship Id="rId8" Type="http://schemas.openxmlformats.org/officeDocument/2006/relationships/slideLayout" Target="../slideLayouts/slideLayout988.xml"/><Relationship Id="rId9" Type="http://schemas.openxmlformats.org/officeDocument/2006/relationships/slideLayout" Target="../slideLayouts/slideLayout989.xml"/><Relationship Id="rId10" Type="http://schemas.openxmlformats.org/officeDocument/2006/relationships/slideLayout" Target="../slideLayouts/slideLayout990.xml"/><Relationship Id="rId11" Type="http://schemas.openxmlformats.org/officeDocument/2006/relationships/slideLayout" Target="../slideLayouts/slideLayout991.xml"/><Relationship Id="rId12" Type="http://schemas.openxmlformats.org/officeDocument/2006/relationships/slideLayout" Target="../slideLayouts/slideLayout992.xml"/><Relationship Id="rId13" Type="http://schemas.openxmlformats.org/officeDocument/2006/relationships/slideLayout" Target="../slideLayouts/slideLayout993.xml"/><Relationship Id="rId14" Type="http://schemas.openxmlformats.org/officeDocument/2006/relationships/slideLayout" Target="../slideLayouts/slideLayout994.xml"/><Relationship Id="rId15" Type="http://schemas.openxmlformats.org/officeDocument/2006/relationships/slideLayout" Target="../slideLayouts/slideLayout995.xml"/><Relationship Id="rId16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97.xml"/><Relationship Id="rId6" Type="http://schemas.openxmlformats.org/officeDocument/2006/relationships/slideLayout" Target="../slideLayouts/slideLayout998.xml"/><Relationship Id="rId7" Type="http://schemas.openxmlformats.org/officeDocument/2006/relationships/slideLayout" Target="../slideLayouts/slideLayout999.xml"/><Relationship Id="rId8" Type="http://schemas.openxmlformats.org/officeDocument/2006/relationships/slideLayout" Target="../slideLayouts/slideLayout1000.xml"/><Relationship Id="rId9" Type="http://schemas.openxmlformats.org/officeDocument/2006/relationships/slideLayout" Target="../slideLayouts/slideLayout1001.xml"/><Relationship Id="rId10" Type="http://schemas.openxmlformats.org/officeDocument/2006/relationships/slideLayout" Target="../slideLayouts/slideLayout1002.xml"/><Relationship Id="rId11" Type="http://schemas.openxmlformats.org/officeDocument/2006/relationships/slideLayout" Target="../slideLayouts/slideLayout1003.xml"/><Relationship Id="rId12" Type="http://schemas.openxmlformats.org/officeDocument/2006/relationships/slideLayout" Target="../slideLayouts/slideLayout1004.xml"/><Relationship Id="rId13" Type="http://schemas.openxmlformats.org/officeDocument/2006/relationships/slideLayout" Target="../slideLayouts/slideLayout1005.xml"/><Relationship Id="rId14" Type="http://schemas.openxmlformats.org/officeDocument/2006/relationships/slideLayout" Target="../slideLayouts/slideLayout1006.xml"/><Relationship Id="rId15" Type="http://schemas.openxmlformats.org/officeDocument/2006/relationships/slideLayout" Target="../slideLayouts/slideLayout1007.xml"/><Relationship Id="rId16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009.xml"/><Relationship Id="rId6" Type="http://schemas.openxmlformats.org/officeDocument/2006/relationships/slideLayout" Target="../slideLayouts/slideLayout1010.xml"/><Relationship Id="rId7" Type="http://schemas.openxmlformats.org/officeDocument/2006/relationships/slideLayout" Target="../slideLayouts/slideLayout1011.xml"/><Relationship Id="rId8" Type="http://schemas.openxmlformats.org/officeDocument/2006/relationships/slideLayout" Target="../slideLayouts/slideLayout1012.xml"/><Relationship Id="rId9" Type="http://schemas.openxmlformats.org/officeDocument/2006/relationships/slideLayout" Target="../slideLayouts/slideLayout1013.xml"/><Relationship Id="rId10" Type="http://schemas.openxmlformats.org/officeDocument/2006/relationships/slideLayout" Target="../slideLayouts/slideLayout1014.xml"/><Relationship Id="rId11" Type="http://schemas.openxmlformats.org/officeDocument/2006/relationships/slideLayout" Target="../slideLayouts/slideLayout1015.xml"/><Relationship Id="rId12" Type="http://schemas.openxmlformats.org/officeDocument/2006/relationships/slideLayout" Target="../slideLayouts/slideLayout1016.xml"/><Relationship Id="rId13" Type="http://schemas.openxmlformats.org/officeDocument/2006/relationships/slideLayout" Target="../slideLayouts/slideLayout1017.xml"/><Relationship Id="rId14" Type="http://schemas.openxmlformats.org/officeDocument/2006/relationships/slideLayout" Target="../slideLayouts/slideLayout1018.xml"/><Relationship Id="rId15" Type="http://schemas.openxmlformats.org/officeDocument/2006/relationships/slideLayout" Target="../slideLayouts/slideLayout1019.xml"/><Relationship Id="rId16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6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314A-76B4-4348-9DBD-472CC076FA4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6E5E-A4AE-44A8-845B-5C432B88B2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E7D4-D3F9-4761-91CA-56142AF8570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0E6B-9866-46B7-BDC7-88D5746CF19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D3CD-EE4D-4F24-AC8B-2E9CA4EFFF4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CC0D-E25D-4623-81B6-A486A598370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48B-FD3D-432B-ABF5-4FC04F1C651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66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3196-F811-4C04-8489-918C3053940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71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BEA5-0B04-4DB9-80B4-7F33DD0D22C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75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52A2-2A1B-4B0D-A49A-457E0884F67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79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324A-5007-4878-9C5F-81E68EC5857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3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6333-E133-4F1B-A704-BB0001FF05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8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E3DD-E487-4B4D-B766-FE78D75CEA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92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F1D-3C28-44F9-93D1-09995CAA87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96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FC3-74B7-4551-8150-0E47EAA162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1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B3F0-B79F-4680-B2DD-ED5D1BDCF0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5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E04E-5159-4902-8223-98A1445DCF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9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2FA5-BD2E-465D-8A27-BBB50C4BF22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13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14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AF63-C008-4F9F-A201-AAA6AAF519C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18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F85-A91E-41C0-95C5-58FE01AF1F4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2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2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149B-9FFC-42B2-BEF1-B2A9E48C97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6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6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5B49-12DA-4BF1-B1BD-A77CE5954E9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31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1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95C-A77C-4EE3-929C-0A4E7C1A6A6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5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7E8-0FAC-464B-8015-55811D40C42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9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71E2-EF56-43C8-9666-4E9CD46352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43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44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dt" idx="7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sldNum" idx="8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2770-167E-4E94-B1CB-EEFC0A9CDF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48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48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dt" idx="8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sldNum" idx="8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6587-5C43-4FBF-B8E3-B9ACEACC06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52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dt" idx="8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sldNum" idx="8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3803-E4FE-47E4-984B-ABD491B41A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56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57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dt" idx="8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sldNum" idx="9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FC50-AA25-441F-AAF7-169F0E4D1F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1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1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dt" idx="9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 type="sldNum" idx="9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548-A454-476D-A264-2064CCC43B8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5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5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dt" idx="9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 type="sldNum" idx="9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857-4181-4595-AF77-88AEB5587DA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9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9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dt" idx="9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 type="sldNum" idx="9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CAE-BB8C-4BD2-9334-CC06DA0A317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74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74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dt" idx="10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sldNum" idx="10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2C0-FF95-4640-AD53-1F08EA520AE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78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78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78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dt" idx="10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 type="sldNum" idx="10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D49-5C94-4E5C-8C9B-22436796A01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82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82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dt" idx="10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 type="sldNum" idx="10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371D-784F-4391-AAD7-02B14D58F46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86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87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87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dt" idx="10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ftr" idx="1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 type="sldNum" idx="11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520-6BE7-4E59-8BFF-6EBE26B226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91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91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91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1"/>
          <p:cNvSpPr>
            <a:spLocks noGrp="1"/>
          </p:cNvSpPr>
          <p:nvPr>
            <p:ph type="dt" idx="11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 type="sldNum" idx="11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CD7-1909-4096-8D7D-50BFD44D9B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95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95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70C1-2D63-46CE-A9B8-0696F413DCC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5"/>
    <p:sldLayoutId id="2147484248" r:id="rId6"/>
    <p:sldLayoutId id="2147484249" r:id="rId7"/>
    <p:sldLayoutId id="2147484250" r:id="rId8"/>
    <p:sldLayoutId id="2147484251" r:id="rId9"/>
    <p:sldLayoutId id="2147484252" r:id="rId10"/>
    <p:sldLayoutId id="2147484253" r:id="rId11"/>
    <p:sldLayoutId id="2147484254" r:id="rId12"/>
    <p:sldLayoutId id="2147484255" r:id="rId13"/>
    <p:sldLayoutId id="2147484256" r:id="rId14"/>
    <p:sldLayoutId id="2147484257" r:id="rId15"/>
    <p:sldLayoutId id="2147484258" r:id="rId16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99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99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00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dt" idx="11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sldNum" idx="12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782-2525-4113-AFC2-C2F54ECE48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0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0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04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dt" idx="12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 type="sldNum" idx="12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5467-956E-420F-A947-44682663EC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5"/>
    <p:sldLayoutId id="2147484274" r:id="rId6"/>
    <p:sldLayoutId id="2147484275" r:id="rId7"/>
    <p:sldLayoutId id="2147484276" r:id="rId8"/>
    <p:sldLayoutId id="2147484277" r:id="rId9"/>
    <p:sldLayoutId id="2147484278" r:id="rId10"/>
    <p:sldLayoutId id="2147484279" r:id="rId11"/>
    <p:sldLayoutId id="2147484280" r:id="rId12"/>
    <p:sldLayoutId id="2147484281" r:id="rId13"/>
    <p:sldLayoutId id="2147484282" r:id="rId14"/>
    <p:sldLayoutId id="2147484283" r:id="rId15"/>
    <p:sldLayoutId id="2147484284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08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08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dt" idx="12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 type="sldNum" idx="12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B865-5853-4B58-9C0B-D90A7F21C56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12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12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dt" idx="12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sldNum" idx="12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0D5A-6261-4019-B6A9-99CD2E50E7A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5"/>
    <p:sldLayoutId id="2147484300" r:id="rId6"/>
    <p:sldLayoutId id="2147484301" r:id="rId7"/>
    <p:sldLayoutId id="2147484302" r:id="rId8"/>
    <p:sldLayoutId id="2147484303" r:id="rId9"/>
    <p:sldLayoutId id="2147484304" r:id="rId10"/>
    <p:sldLayoutId id="2147484305" r:id="rId11"/>
    <p:sldLayoutId id="2147484306" r:id="rId12"/>
    <p:sldLayoutId id="2147484307" r:id="rId13"/>
    <p:sldLayoutId id="2147484308" r:id="rId14"/>
    <p:sldLayoutId id="2147484309" r:id="rId15"/>
    <p:sldLayoutId id="2147484310" r:id="rId16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17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17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dt" idx="13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sldNum" idx="13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D495-28B9-4AAB-8EB5-CB9751BD8C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5"/>
    <p:sldLayoutId id="2147484313" r:id="rId6"/>
    <p:sldLayoutId id="2147484314" r:id="rId7"/>
    <p:sldLayoutId id="2147484315" r:id="rId8"/>
    <p:sldLayoutId id="2147484316" r:id="rId9"/>
    <p:sldLayoutId id="2147484317" r:id="rId10"/>
    <p:sldLayoutId id="2147484318" r:id="rId11"/>
    <p:sldLayoutId id="2147484319" r:id="rId12"/>
    <p:sldLayoutId id="2147484320" r:id="rId13"/>
    <p:sldLayoutId id="2147484321" r:id="rId14"/>
    <p:sldLayoutId id="2147484322" r:id="rId15"/>
    <p:sldLayoutId id="2147484323" r:id="rId16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21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1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dt" idx="13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 type="sldNum" idx="13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2EF-E095-4E97-8BB0-4C25D51D67E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5"/>
    <p:sldLayoutId id="2147484326" r:id="rId6"/>
    <p:sldLayoutId id="2147484327" r:id="rId7"/>
    <p:sldLayoutId id="2147484328" r:id="rId8"/>
    <p:sldLayoutId id="2147484329" r:id="rId9"/>
    <p:sldLayoutId id="2147484330" r:id="rId10"/>
    <p:sldLayoutId id="2147484331" r:id="rId11"/>
    <p:sldLayoutId id="2147484332" r:id="rId12"/>
    <p:sldLayoutId id="2147484333" r:id="rId13"/>
    <p:sldLayoutId id="2147484334" r:id="rId14"/>
    <p:sldLayoutId id="2147484335" r:id="rId15"/>
    <p:sldLayoutId id="2147484336" r:id="rId16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25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25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5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dt" idx="13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 type="sldNum" idx="1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C546-427F-4B93-81E4-D798669BFDA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29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0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dt" idx="13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 type="sldNum" idx="1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9F8-D79D-4799-944F-F92BE760518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34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34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4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dt" idx="14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 type="sldNum" idx="14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84F1-4EEB-41AC-8259-87F535B942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38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38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8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1"/>
          <p:cNvSpPr>
            <a:spLocks noGrp="1"/>
          </p:cNvSpPr>
          <p:nvPr>
            <p:ph type="dt" idx="14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 type="ftr" idx="14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 type="sldNum" idx="14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4172-D99D-435B-B39A-F37C778BEAA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42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43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dt" idx="14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 type="ftr" idx="14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 type="sldNum" idx="15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E85E-BB8E-478D-AF71-4433CFB808D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47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47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dt" idx="15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 type="ftr" idx="15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 type="sldNum" idx="15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97A5-003B-489F-980D-3199284AED6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51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51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51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1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FCB-7ABE-4E7A-A866-703B114CB55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5"/>
    <p:sldLayoutId id="2147484417" r:id="rId6"/>
    <p:sldLayoutId id="2147484418" r:id="rId7"/>
    <p:sldLayoutId id="2147484419" r:id="rId8"/>
    <p:sldLayoutId id="2147484420" r:id="rId9"/>
    <p:sldLayoutId id="2147484421" r:id="rId10"/>
    <p:sldLayoutId id="2147484422" r:id="rId11"/>
    <p:sldLayoutId id="2147484423" r:id="rId12"/>
    <p:sldLayoutId id="2147484424" r:id="rId13"/>
    <p:sldLayoutId id="2147484425" r:id="rId14"/>
    <p:sldLayoutId id="2147484426" r:id="rId15"/>
    <p:sldLayoutId id="2147484427" r:id="rId16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55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55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55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dt" idx="15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ftr" idx="15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 type="sldNum" idx="15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BE7-1D63-4909-A18E-5080C4DE07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5"/>
    <p:sldLayoutId id="2147484430" r:id="rId6"/>
    <p:sldLayoutId id="2147484431" r:id="rId7"/>
    <p:sldLayoutId id="2147484432" r:id="rId8"/>
    <p:sldLayoutId id="2147484433" r:id="rId9"/>
    <p:sldLayoutId id="2147484434" r:id="rId10"/>
    <p:sldLayoutId id="2147484435" r:id="rId11"/>
    <p:sldLayoutId id="2147484436" r:id="rId12"/>
    <p:sldLayoutId id="2147484437" r:id="rId13"/>
    <p:sldLayoutId id="2147484438" r:id="rId14"/>
    <p:sldLayoutId id="2147484439" r:id="rId15"/>
    <p:sldLayoutId id="2147484440" r:id="rId16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60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60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60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dt" idx="16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 type="ftr" idx="16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 type="sldNum" idx="16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DF0-C95E-4E6F-A1FF-9629C3653D8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5"/>
    <p:sldLayoutId id="2147484443" r:id="rId6"/>
    <p:sldLayoutId id="2147484444" r:id="rId7"/>
    <p:sldLayoutId id="2147484445" r:id="rId8"/>
    <p:sldLayoutId id="2147484446" r:id="rId9"/>
    <p:sldLayoutId id="2147484447" r:id="rId10"/>
    <p:sldLayoutId id="2147484448" r:id="rId11"/>
    <p:sldLayoutId id="2147484449" r:id="rId12"/>
    <p:sldLayoutId id="2147484450" r:id="rId13"/>
    <p:sldLayoutId id="2147484451" r:id="rId14"/>
    <p:sldLayoutId id="2147484452" r:id="rId15"/>
    <p:sldLayoutId id="2147484453" r:id="rId16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64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64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64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dt" idx="16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 type="ftr" idx="16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 type="sldNum" idx="16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E6FD-CC37-4BBA-8971-15CF31BA037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5"/>
    <p:sldLayoutId id="2147484456" r:id="rId6"/>
    <p:sldLayoutId id="2147484457" r:id="rId7"/>
    <p:sldLayoutId id="2147484458" r:id="rId8"/>
    <p:sldLayoutId id="2147484459" r:id="rId9"/>
    <p:sldLayoutId id="2147484460" r:id="rId10"/>
    <p:sldLayoutId id="2147484461" r:id="rId11"/>
    <p:sldLayoutId id="2147484462" r:id="rId12"/>
    <p:sldLayoutId id="2147484463" r:id="rId13"/>
    <p:sldLayoutId id="2147484464" r:id="rId14"/>
    <p:sldLayoutId id="2147484465" r:id="rId15"/>
    <p:sldLayoutId id="2147484466" r:id="rId16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68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68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68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1"/>
          <p:cNvSpPr>
            <a:spLocks noGrp="1"/>
          </p:cNvSpPr>
          <p:nvPr>
            <p:ph type="dt" idx="16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ftr" idx="16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 type="sldNum" idx="16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F73-AF49-4496-A43F-000B041B2F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5"/>
    <p:sldLayoutId id="2147484469" r:id="rId6"/>
    <p:sldLayoutId id="2147484470" r:id="rId7"/>
    <p:sldLayoutId id="2147484471" r:id="rId8"/>
    <p:sldLayoutId id="2147484472" r:id="rId9"/>
    <p:sldLayoutId id="2147484473" r:id="rId10"/>
    <p:sldLayoutId id="2147484474" r:id="rId11"/>
    <p:sldLayoutId id="2147484475" r:id="rId12"/>
    <p:sldLayoutId id="2147484476" r:id="rId13"/>
    <p:sldLayoutId id="2147484477" r:id="rId14"/>
    <p:sldLayoutId id="2147484478" r:id="rId15"/>
    <p:sldLayoutId id="2147484479" r:id="rId16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72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73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3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dt" idx="16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 type="ftr" idx="17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 type="sldNum" idx="17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676-4AFE-40FA-8245-DD48E4A14F4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77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77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7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1"/>
          <p:cNvSpPr>
            <a:spLocks noGrp="1"/>
          </p:cNvSpPr>
          <p:nvPr>
            <p:ph type="dt" idx="17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 type="ftr" idx="17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 type="sldNum" idx="17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E59E-3D75-4788-B677-089C49704A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5"/>
    <p:sldLayoutId id="2147484495" r:id="rId6"/>
    <p:sldLayoutId id="2147484496" r:id="rId7"/>
    <p:sldLayoutId id="2147484497" r:id="rId8"/>
    <p:sldLayoutId id="2147484498" r:id="rId9"/>
    <p:sldLayoutId id="2147484499" r:id="rId10"/>
    <p:sldLayoutId id="2147484500" r:id="rId11"/>
    <p:sldLayoutId id="2147484501" r:id="rId12"/>
    <p:sldLayoutId id="2147484502" r:id="rId13"/>
    <p:sldLayoutId id="2147484503" r:id="rId14"/>
    <p:sldLayoutId id="2147484504" r:id="rId15"/>
    <p:sldLayoutId id="2147484505" r:id="rId16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81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81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1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dt" idx="17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 type="ftr" idx="17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 type="sldNum" idx="17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7332-5F41-4CCE-87B1-87FA72AA86B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5"/>
    <p:sldLayoutId id="2147484508" r:id="rId6"/>
    <p:sldLayoutId id="2147484509" r:id="rId7"/>
    <p:sldLayoutId id="2147484510" r:id="rId8"/>
    <p:sldLayoutId id="2147484511" r:id="rId9"/>
    <p:sldLayoutId id="2147484512" r:id="rId10"/>
    <p:sldLayoutId id="2147484513" r:id="rId11"/>
    <p:sldLayoutId id="2147484514" r:id="rId12"/>
    <p:sldLayoutId id="2147484515" r:id="rId13"/>
    <p:sldLayoutId id="2147484516" r:id="rId14"/>
    <p:sldLayoutId id="2147484517" r:id="rId15"/>
    <p:sldLayoutId id="2147484518" r:id="rId16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85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85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6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1"/>
          <p:cNvSpPr>
            <a:spLocks noGrp="1"/>
          </p:cNvSpPr>
          <p:nvPr>
            <p:ph type="dt" idx="17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 type="ftr" idx="17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 type="sldNum" idx="18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2F57-94FB-4293-B0D4-6744572B9A6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5"/>
    <p:sldLayoutId id="2147484521" r:id="rId6"/>
    <p:sldLayoutId id="2147484522" r:id="rId7"/>
    <p:sldLayoutId id="2147484523" r:id="rId8"/>
    <p:sldLayoutId id="2147484524" r:id="rId9"/>
    <p:sldLayoutId id="2147484525" r:id="rId10"/>
    <p:sldLayoutId id="2147484526" r:id="rId11"/>
    <p:sldLayoutId id="2147484527" r:id="rId12"/>
    <p:sldLayoutId id="2147484528" r:id="rId13"/>
    <p:sldLayoutId id="2147484529" r:id="rId14"/>
    <p:sldLayoutId id="2147484530" r:id="rId15"/>
    <p:sldLayoutId id="2147484531" r:id="rId16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90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90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90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dt" idx="18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 type="ftr" idx="18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 type="sldNum" idx="18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4D40-E06E-4F7F-A0B4-4DF4F4AE7B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5"/>
    <p:sldLayoutId id="2147484534" r:id="rId6"/>
    <p:sldLayoutId id="2147484535" r:id="rId7"/>
    <p:sldLayoutId id="2147484536" r:id="rId8"/>
    <p:sldLayoutId id="2147484537" r:id="rId9"/>
    <p:sldLayoutId id="2147484538" r:id="rId10"/>
    <p:sldLayoutId id="2147484539" r:id="rId11"/>
    <p:sldLayoutId id="2147484540" r:id="rId12"/>
    <p:sldLayoutId id="2147484541" r:id="rId13"/>
    <p:sldLayoutId id="2147484542" r:id="rId14"/>
    <p:sldLayoutId id="2147484543" r:id="rId15"/>
    <p:sldLayoutId id="2147484544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94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94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94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1"/>
          <p:cNvSpPr>
            <a:spLocks noGrp="1"/>
          </p:cNvSpPr>
          <p:nvPr>
            <p:ph type="dt" idx="18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 type="ftr" idx="18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 type="sldNum" idx="18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3DBB-0F28-4F61-98F6-23BABC19B31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5"/>
    <p:sldLayoutId id="2147484547" r:id="rId6"/>
    <p:sldLayoutId id="2147484548" r:id="rId7"/>
    <p:sldLayoutId id="2147484549" r:id="rId8"/>
    <p:sldLayoutId id="2147484550" r:id="rId9"/>
    <p:sldLayoutId id="2147484551" r:id="rId10"/>
    <p:sldLayoutId id="2147484552" r:id="rId11"/>
    <p:sldLayoutId id="2147484553" r:id="rId12"/>
    <p:sldLayoutId id="2147484554" r:id="rId13"/>
    <p:sldLayoutId id="2147484555" r:id="rId14"/>
    <p:sldLayoutId id="2147484556" r:id="rId15"/>
    <p:sldLayoutId id="2147484557" r:id="rId16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98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98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98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dt" idx="18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 type="ftr" idx="18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 type="sldNum" idx="18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5D4B-A4CC-485D-819B-CDCFB425729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5"/>
    <p:sldLayoutId id="2147484560" r:id="rId6"/>
    <p:sldLayoutId id="2147484561" r:id="rId7"/>
    <p:sldLayoutId id="2147484562" r:id="rId8"/>
    <p:sldLayoutId id="2147484563" r:id="rId9"/>
    <p:sldLayoutId id="2147484564" r:id="rId10"/>
    <p:sldLayoutId id="2147484565" r:id="rId11"/>
    <p:sldLayoutId id="2147484566" r:id="rId12"/>
    <p:sldLayoutId id="2147484567" r:id="rId13"/>
    <p:sldLayoutId id="2147484568" r:id="rId14"/>
    <p:sldLayoutId id="2147484569" r:id="rId15"/>
    <p:sldLayoutId id="2147484570" r:id="rId16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03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03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03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1"/>
          <p:cNvSpPr>
            <a:spLocks noGrp="1"/>
          </p:cNvSpPr>
          <p:nvPr>
            <p:ph type="dt" idx="19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ftr" idx="19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 type="sldNum" idx="19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44C6-8910-49A7-932F-45EFED3AE4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5"/>
    <p:sldLayoutId id="2147484573" r:id="rId6"/>
    <p:sldLayoutId id="2147484574" r:id="rId7"/>
    <p:sldLayoutId id="2147484575" r:id="rId8"/>
    <p:sldLayoutId id="2147484576" r:id="rId9"/>
    <p:sldLayoutId id="2147484577" r:id="rId10"/>
    <p:sldLayoutId id="2147484578" r:id="rId11"/>
    <p:sldLayoutId id="2147484579" r:id="rId12"/>
    <p:sldLayoutId id="2147484580" r:id="rId13"/>
    <p:sldLayoutId id="2147484581" r:id="rId14"/>
    <p:sldLayoutId id="2147484582" r:id="rId15"/>
    <p:sldLayoutId id="2147484583" r:id="rId16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07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07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07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dt" idx="1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ftr" idx="1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1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B419-1FEE-48ED-A88E-F87908C06C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5"/>
    <p:sldLayoutId id="2147484586" r:id="rId6"/>
    <p:sldLayoutId id="2147484587" r:id="rId7"/>
    <p:sldLayoutId id="2147484588" r:id="rId8"/>
    <p:sldLayoutId id="2147484589" r:id="rId9"/>
    <p:sldLayoutId id="2147484590" r:id="rId10"/>
    <p:sldLayoutId id="2147484591" r:id="rId11"/>
    <p:sldLayoutId id="2147484592" r:id="rId12"/>
    <p:sldLayoutId id="2147484593" r:id="rId13"/>
    <p:sldLayoutId id="2147484594" r:id="rId14"/>
    <p:sldLayoutId id="2147484595" r:id="rId15"/>
    <p:sldLayoutId id="2147484596" r:id="rId16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11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11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1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1"/>
          <p:cNvSpPr>
            <a:spLocks noGrp="1"/>
          </p:cNvSpPr>
          <p:nvPr>
            <p:ph type="dt" idx="19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ftr" idx="19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 type="sldNum" idx="19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D76-BA11-4F08-B92D-8C62F455F1E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5"/>
    <p:sldLayoutId id="2147484599" r:id="rId6"/>
    <p:sldLayoutId id="2147484600" r:id="rId7"/>
    <p:sldLayoutId id="2147484601" r:id="rId8"/>
    <p:sldLayoutId id="2147484602" r:id="rId9"/>
    <p:sldLayoutId id="2147484603" r:id="rId10"/>
    <p:sldLayoutId id="2147484604" r:id="rId11"/>
    <p:sldLayoutId id="2147484605" r:id="rId12"/>
    <p:sldLayoutId id="2147484606" r:id="rId13"/>
    <p:sldLayoutId id="2147484607" r:id="rId14"/>
    <p:sldLayoutId id="2147484608" r:id="rId15"/>
    <p:sldLayoutId id="2147484609" r:id="rId16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15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16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6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1"/>
          <p:cNvSpPr>
            <a:spLocks noGrp="1"/>
          </p:cNvSpPr>
          <p:nvPr>
            <p:ph type="dt" idx="19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ftr" idx="20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 type="sldNum" idx="20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35A3-E299-48B6-89C7-708742D0E08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5"/>
    <p:sldLayoutId id="2147484612" r:id="rId6"/>
    <p:sldLayoutId id="2147484613" r:id="rId7"/>
    <p:sldLayoutId id="2147484614" r:id="rId8"/>
    <p:sldLayoutId id="2147484615" r:id="rId9"/>
    <p:sldLayoutId id="2147484616" r:id="rId10"/>
    <p:sldLayoutId id="2147484617" r:id="rId11"/>
    <p:sldLayoutId id="2147484618" r:id="rId12"/>
    <p:sldLayoutId id="2147484619" r:id="rId13"/>
    <p:sldLayoutId id="2147484620" r:id="rId14"/>
    <p:sldLayoutId id="2147484621" r:id="rId15"/>
    <p:sldLayoutId id="2147484622" r:id="rId16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1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202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203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204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1"/>
          <p:cNvSpPr>
            <a:spLocks noGrp="1"/>
          </p:cNvSpPr>
          <p:nvPr>
            <p:ph type="dt" idx="20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 type="ftr" idx="20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 type="sldNum" idx="20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D965-93AC-4B4C-A013-AE32880ED5A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5"/>
    <p:sldLayoutId id="2147484625" r:id="rId6"/>
    <p:sldLayoutId id="2147484626" r:id="rId7"/>
    <p:sldLayoutId id="2147484627" r:id="rId8"/>
    <p:sldLayoutId id="2147484628" r:id="rId9"/>
    <p:sldLayoutId id="2147484629" r:id="rId10"/>
    <p:sldLayoutId id="2147484630" r:id="rId11"/>
    <p:sldLayoutId id="2147484631" r:id="rId12"/>
    <p:sldLayoutId id="2147484632" r:id="rId13"/>
    <p:sldLayoutId id="2147484633" r:id="rId14"/>
    <p:sldLayoutId id="2147484634" r:id="rId15"/>
    <p:sldLayoutId id="2147484635" r:id="rId16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4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245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247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1"/>
          <p:cNvSpPr>
            <a:spLocks noGrp="1"/>
          </p:cNvSpPr>
          <p:nvPr>
            <p:ph type="dt" idx="20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ftr" idx="20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 type="sldNum" idx="20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1FD8-09FF-4A7C-B0E6-0ED19039D4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5"/>
    <p:sldLayoutId id="2147484638" r:id="rId6"/>
    <p:sldLayoutId id="2147484639" r:id="rId7"/>
    <p:sldLayoutId id="2147484640" r:id="rId8"/>
    <p:sldLayoutId id="2147484641" r:id="rId9"/>
    <p:sldLayoutId id="2147484642" r:id="rId10"/>
    <p:sldLayoutId id="2147484643" r:id="rId11"/>
    <p:sldLayoutId id="2147484644" r:id="rId12"/>
    <p:sldLayoutId id="2147484645" r:id="rId13"/>
    <p:sldLayoutId id="2147484646" r:id="rId14"/>
    <p:sldLayoutId id="2147484647" r:id="rId15"/>
    <p:sldLayoutId id="2147484648" r:id="rId16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7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288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289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290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1"/>
          <p:cNvSpPr>
            <a:spLocks noGrp="1"/>
          </p:cNvSpPr>
          <p:nvPr>
            <p:ph type="dt" idx="20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 type="ftr" idx="20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 type="sldNum" idx="21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BC26-6F9C-4348-9CFE-9FD5163698D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5"/>
    <p:sldLayoutId id="2147484651" r:id="rId6"/>
    <p:sldLayoutId id="2147484652" r:id="rId7"/>
    <p:sldLayoutId id="2147484653" r:id="rId8"/>
    <p:sldLayoutId id="2147484654" r:id="rId9"/>
    <p:sldLayoutId id="2147484655" r:id="rId10"/>
    <p:sldLayoutId id="2147484656" r:id="rId11"/>
    <p:sldLayoutId id="2147484657" r:id="rId12"/>
    <p:sldLayoutId id="2147484658" r:id="rId13"/>
    <p:sldLayoutId id="2147484659" r:id="rId14"/>
    <p:sldLayoutId id="2147484660" r:id="rId15"/>
    <p:sldLayoutId id="2147484661" r:id="rId16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33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33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33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1"/>
          <p:cNvSpPr>
            <a:spLocks noGrp="1"/>
          </p:cNvSpPr>
          <p:nvPr>
            <p:ph type="dt" idx="2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 type="ftr" idx="2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 type="sldNum" idx="21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FD8E-F729-4349-A9C2-05D95CB34E4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5"/>
    <p:sldLayoutId id="2147484664" r:id="rId6"/>
    <p:sldLayoutId id="2147484665" r:id="rId7"/>
    <p:sldLayoutId id="2147484666" r:id="rId8"/>
    <p:sldLayoutId id="2147484667" r:id="rId9"/>
    <p:sldLayoutId id="2147484668" r:id="rId10"/>
    <p:sldLayoutId id="2147484669" r:id="rId11"/>
    <p:sldLayoutId id="2147484670" r:id="rId12"/>
    <p:sldLayoutId id="2147484671" r:id="rId13"/>
    <p:sldLayoutId id="2147484672" r:id="rId14"/>
    <p:sldLayoutId id="2147484673" r:id="rId15"/>
    <p:sldLayoutId id="2147484674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3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374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375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376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1"/>
          <p:cNvSpPr>
            <a:spLocks noGrp="1"/>
          </p:cNvSpPr>
          <p:nvPr>
            <p:ph type="dt" idx="2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 type="ftr" idx="2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3"/>
          <p:cNvSpPr>
            <a:spLocks noGrp="1"/>
          </p:cNvSpPr>
          <p:nvPr>
            <p:ph type="sldNum" idx="21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66EC-2C9C-46D3-B22A-C0288029948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5"/>
    <p:sldLayoutId id="2147484677" r:id="rId6"/>
    <p:sldLayoutId id="2147484678" r:id="rId7"/>
    <p:sldLayoutId id="2147484679" r:id="rId8"/>
    <p:sldLayoutId id="2147484680" r:id="rId9"/>
    <p:sldLayoutId id="2147484681" r:id="rId10"/>
    <p:sldLayoutId id="2147484682" r:id="rId11"/>
    <p:sldLayoutId id="2147484683" r:id="rId12"/>
    <p:sldLayoutId id="2147484684" r:id="rId13"/>
    <p:sldLayoutId id="2147484685" r:id="rId14"/>
    <p:sldLayoutId id="2147484686" r:id="rId15"/>
    <p:sldLayoutId id="2147484687" r:id="rId16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6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417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19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1"/>
          <p:cNvSpPr>
            <a:spLocks noGrp="1"/>
          </p:cNvSpPr>
          <p:nvPr>
            <p:ph type="dt" idx="2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ftr" idx="2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 type="sldNum" idx="21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A4C1-F441-434E-9704-1FD11413CC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5"/>
    <p:sldLayoutId id="2147484690" r:id="rId6"/>
    <p:sldLayoutId id="2147484691" r:id="rId7"/>
    <p:sldLayoutId id="2147484692" r:id="rId8"/>
    <p:sldLayoutId id="2147484693" r:id="rId9"/>
    <p:sldLayoutId id="2147484694" r:id="rId10"/>
    <p:sldLayoutId id="2147484695" r:id="rId11"/>
    <p:sldLayoutId id="2147484696" r:id="rId12"/>
    <p:sldLayoutId id="2147484697" r:id="rId13"/>
    <p:sldLayoutId id="2147484698" r:id="rId14"/>
    <p:sldLayoutId id="2147484699" r:id="rId15"/>
    <p:sldLayoutId id="2147484700" r:id="rId16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9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460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461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62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1"/>
          <p:cNvSpPr>
            <a:spLocks noGrp="1"/>
          </p:cNvSpPr>
          <p:nvPr>
            <p:ph type="dt" idx="2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 type="ftr" idx="2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PlaceHolder 3"/>
          <p:cNvSpPr>
            <a:spLocks noGrp="1"/>
          </p:cNvSpPr>
          <p:nvPr>
            <p:ph type="sldNum" idx="22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8BAD-CFB0-4F7C-BD66-DD4CD2E18D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5"/>
    <p:sldLayoutId id="2147484703" r:id="rId6"/>
    <p:sldLayoutId id="2147484704" r:id="rId7"/>
    <p:sldLayoutId id="2147484705" r:id="rId8"/>
    <p:sldLayoutId id="2147484706" r:id="rId9"/>
    <p:sldLayoutId id="2147484707" r:id="rId10"/>
    <p:sldLayoutId id="2147484708" r:id="rId11"/>
    <p:sldLayoutId id="2147484709" r:id="rId12"/>
    <p:sldLayoutId id="2147484710" r:id="rId13"/>
    <p:sldLayoutId id="2147484711" r:id="rId14"/>
    <p:sldLayoutId id="2147484712" r:id="rId15"/>
    <p:sldLayoutId id="2147484713" r:id="rId16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2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503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504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505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dt" idx="2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 type="ftr" idx="2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 type="sldNum" idx="22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FAC8-FBC6-492A-A5DA-FE0882AE44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5"/>
    <p:sldLayoutId id="2147484716" r:id="rId6"/>
    <p:sldLayoutId id="2147484717" r:id="rId7"/>
    <p:sldLayoutId id="2147484718" r:id="rId8"/>
    <p:sldLayoutId id="2147484719" r:id="rId9"/>
    <p:sldLayoutId id="2147484720" r:id="rId10"/>
    <p:sldLayoutId id="2147484721" r:id="rId11"/>
    <p:sldLayoutId id="2147484722" r:id="rId12"/>
    <p:sldLayoutId id="2147484723" r:id="rId13"/>
    <p:sldLayoutId id="2147484724" r:id="rId14"/>
    <p:sldLayoutId id="2147484725" r:id="rId15"/>
    <p:sldLayoutId id="2147484726" r:id="rId16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5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546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547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548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1"/>
          <p:cNvSpPr>
            <a:spLocks noGrp="1"/>
          </p:cNvSpPr>
          <p:nvPr>
            <p:ph type="dt" idx="2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ftr" idx="2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22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5066-6D94-494E-973D-9746451E84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5"/>
    <p:sldLayoutId id="2147484729" r:id="rId6"/>
    <p:sldLayoutId id="2147484730" r:id="rId7"/>
    <p:sldLayoutId id="2147484731" r:id="rId8"/>
    <p:sldLayoutId id="2147484732" r:id="rId9"/>
    <p:sldLayoutId id="2147484733" r:id="rId10"/>
    <p:sldLayoutId id="2147484734" r:id="rId11"/>
    <p:sldLayoutId id="2147484735" r:id="rId12"/>
    <p:sldLayoutId id="2147484736" r:id="rId13"/>
    <p:sldLayoutId id="2147484737" r:id="rId14"/>
    <p:sldLayoutId id="2147484738" r:id="rId15"/>
    <p:sldLayoutId id="2147484739" r:id="rId16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589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590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591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1"/>
          <p:cNvSpPr>
            <a:spLocks noGrp="1"/>
          </p:cNvSpPr>
          <p:nvPr>
            <p:ph type="dt" idx="2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 type="ftr" idx="2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 type="sldNum" idx="23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99F4-F317-4FD9-B660-2CC696F548E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5"/>
    <p:sldLayoutId id="2147484742" r:id="rId6"/>
    <p:sldLayoutId id="2147484743" r:id="rId7"/>
    <p:sldLayoutId id="2147484744" r:id="rId8"/>
    <p:sldLayoutId id="2147484745" r:id="rId9"/>
    <p:sldLayoutId id="2147484746" r:id="rId10"/>
    <p:sldLayoutId id="2147484747" r:id="rId11"/>
    <p:sldLayoutId id="2147484748" r:id="rId12"/>
    <p:sldLayoutId id="2147484749" r:id="rId13"/>
    <p:sldLayoutId id="2147484750" r:id="rId14"/>
    <p:sldLayoutId id="2147484751" r:id="rId15"/>
    <p:sldLayoutId id="2147484752" r:id="rId16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 type="dt" idx="2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 type="ftr" idx="2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5"/>
          <p:cNvSpPr>
            <a:spLocks noGrp="1"/>
          </p:cNvSpPr>
          <p:nvPr>
            <p:ph type="sldNum" idx="2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071B-56AD-40B8-B31D-E230E8D80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1284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180280" y="792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3724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23" name="文本框 1"/>
          <p:cNvSpPr/>
          <p:nvPr/>
        </p:nvSpPr>
        <p:spPr>
          <a:xfrm>
            <a:off x="3373560" y="646920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2D4-A2CF-4486-968D-80986DFA317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文本框 1"/>
          <p:cNvSpPr/>
          <p:nvPr/>
        </p:nvSpPr>
        <p:spPr>
          <a:xfrm>
            <a:off x="6480" y="4237200"/>
            <a:ext cx="9102600" cy="156816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2066760" y="4373640"/>
            <a:ext cx="50104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驱遣我们的想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直接连接符 5"/>
          <p:cNvSpPr/>
          <p:nvPr/>
        </p:nvSpPr>
        <p:spPr>
          <a:xfrm>
            <a:off x="2536920" y="5164200"/>
            <a:ext cx="4070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Rectangle 5"/>
          <p:cNvSpPr/>
          <p:nvPr/>
        </p:nvSpPr>
        <p:spPr>
          <a:xfrm>
            <a:off x="689040" y="1162080"/>
            <a:ext cx="74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阅读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—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自然段，说说作者是如何论证欣赏文艺作品需要驱遣想象力的，作者在论证的过程中运用了哪些论证方法，请简要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文本框 6147"/>
          <p:cNvSpPr/>
          <p:nvPr/>
        </p:nvSpPr>
        <p:spPr>
          <a:xfrm>
            <a:off x="581040" y="1085760"/>
            <a:ext cx="798192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作者以赏析王维的诗句“大漠孤烟直，长河落日圆”入手，首先以纯理性思考的方式对诗句进行赏析，如“疑问：大漠上也许有几处地方聚集着人，难道不会有几缕的炊烟吗？”这样的赏析全然得不到诗句中所蕴藏的壮景与情感，换句话说，这是不驱遣想象力的结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文本框 6147"/>
          <p:cNvSpPr/>
          <p:nvPr/>
        </p:nvSpPr>
        <p:spPr>
          <a:xfrm>
            <a:off x="581040" y="1168560"/>
            <a:ext cx="798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同时又论述在想象中睁开眼睛来看这十个文字所构成的画面，便能感受到诗中静寂的境界。作者通过举例论证与对比论证，得出了结论：“像这样驱遣着想象来看，这一幅图画就显现在眼前了。同时也就接触了作者的意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Rectangle 5"/>
          <p:cNvSpPr/>
          <p:nvPr/>
        </p:nvSpPr>
        <p:spPr>
          <a:xfrm>
            <a:off x="541440" y="674640"/>
            <a:ext cx="76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根据前面的探究，总结本文的论证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文本框 1"/>
          <p:cNvSpPr/>
          <p:nvPr/>
        </p:nvSpPr>
        <p:spPr>
          <a:xfrm>
            <a:off x="455760" y="1566720"/>
            <a:ext cx="78516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首先通过论述作者、读者以及文字之间的联系来明确读者欣赏文艺作品的本质，即“接触作者的所见所感”，然后以赏析王维诗句为例，从正反两个角度论述了驱遣想象力的重要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Rectangle 5"/>
          <p:cNvSpPr/>
          <p:nvPr/>
        </p:nvSpPr>
        <p:spPr>
          <a:xfrm>
            <a:off x="681120" y="1496880"/>
            <a:ext cx="70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中有许多句子，都有十分深刻的文艺观，它们或有十分深刻的内蕴，或有写作值得借鉴的实用价值，请阅读下面几句，谈谈你对它们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0" name="Group 19"/>
          <p:cNvGrpSpPr/>
          <p:nvPr/>
        </p:nvGrpSpPr>
        <p:grpSpPr>
          <a:xfrm>
            <a:off x="268200" y="430200"/>
            <a:ext cx="2319120" cy="700200"/>
            <a:chOff x="268200" y="430200"/>
            <a:chExt cx="2319120" cy="700200"/>
          </a:xfrm>
        </p:grpSpPr>
        <p:pic>
          <p:nvPicPr>
            <p:cNvPr id="371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268200" y="43020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2" name="文本框 2"/>
            <p:cNvSpPr/>
            <p:nvPr/>
          </p:nvSpPr>
          <p:spPr>
            <a:xfrm>
              <a:off x="804600" y="506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文本框 6147"/>
          <p:cNvSpPr/>
          <p:nvPr/>
        </p:nvSpPr>
        <p:spPr>
          <a:xfrm>
            <a:off x="461880" y="639720"/>
            <a:ext cx="8140680" cy="7275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    ①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文艺的创作决不是随便取许多文字来集合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文本框 6147"/>
          <p:cNvSpPr/>
          <p:nvPr/>
        </p:nvSpPr>
        <p:spPr>
          <a:xfrm>
            <a:off x="473040" y="2103480"/>
            <a:ext cx="814068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任何一篇文艺作品，都是文字集合起来的，但是这是一种有着内在逻辑顺序的结合，具有文本表现中的一般技法，既表现了内容也传递着作者的思想感情。因此，这样的文章绝不可能随意拼凑，须由作者有意识有目的有逻辑地创造，而在完成时又符合自然的特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文本框 6147"/>
          <p:cNvSpPr/>
          <p:nvPr/>
        </p:nvSpPr>
        <p:spPr>
          <a:xfrm>
            <a:off x="685800" y="582480"/>
            <a:ext cx="7209000" cy="7275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sz="3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sz="3000" spc="-1" strike="noStrike">
                <a:solidFill>
                  <a:srgbClr val="000000"/>
                </a:solidFill>
                <a:latin typeface="黑体"/>
                <a:ea typeface="黑体"/>
              </a:rPr>
              <a:t>作者着手创作，必然对于人生先有所见，先有所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矩形 3"/>
          <p:cNvSpPr/>
          <p:nvPr/>
        </p:nvSpPr>
        <p:spPr>
          <a:xfrm>
            <a:off x="546120" y="2124000"/>
            <a:ext cx="773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见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字也可理解为见识、见解，没有思考与见解，纵然下笔也只能写就平庸文章，难见深度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感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是体悟与情感，倘若下笔无情感寄寓其中，写出来的文字必是冷冰冰的。这也提示了我们在写作之前要学会多观察，多积累；同时要多思考，多感悟，这样才能写出优秀文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文本框 6147"/>
          <p:cNvSpPr/>
          <p:nvPr/>
        </p:nvSpPr>
        <p:spPr>
          <a:xfrm>
            <a:off x="430200" y="566640"/>
            <a:ext cx="7977240" cy="825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假如死盯着文字而不能从文字看出一幅图画来，就感受不到这种愉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文本框 6147"/>
          <p:cNvSpPr/>
          <p:nvPr/>
        </p:nvSpPr>
        <p:spPr>
          <a:xfrm>
            <a:off x="512640" y="2354400"/>
            <a:ext cx="783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艺作品一般都具有形象性，尤其是诗歌、散文等文艺作品，形象性尤其突出，且情感表达也尤其浓烈。这些情感常常寄寓在形象之中，所谓“言不尽意，立象以尽意”，就是此道理。因此，想要理解一篇文艺作品，就必须把握其情感，必须通过想象还原形象的描述，进而去体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 220"/>
          <p:cNvSpPr/>
          <p:nvPr/>
        </p:nvSpPr>
        <p:spPr>
          <a:xfrm>
            <a:off x="330120" y="733320"/>
            <a:ext cx="2571840" cy="622440"/>
          </a:xfrm>
          <a:custGeom>
            <a:avLst/>
            <a:gdLst>
              <a:gd name="textAreaLeft" fmla="*/ 0 w 2571840"/>
              <a:gd name="textAreaRight" fmla="*/ 2572200 w 25718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7" y="0"/>
                </a:lnTo>
                <a:lnTo>
                  <a:pt x="21600" y="10800"/>
                </a:lnTo>
                <a:lnTo>
                  <a:pt x="189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黑体"/>
                <a:ea typeface="黑体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文本框 1"/>
          <p:cNvSpPr/>
          <p:nvPr/>
        </p:nvSpPr>
        <p:spPr>
          <a:xfrm>
            <a:off x="601560" y="1785960"/>
            <a:ext cx="794088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文章以王维的诗句“大漠孤烟直，长河落日圆”为例，论证了想象力于鉴赏文学作品的重要性，你能在读过的诗或散文中，再举一个例子来论证作者的观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文本框 6147"/>
          <p:cNvSpPr/>
          <p:nvPr/>
        </p:nvSpPr>
        <p:spPr>
          <a:xfrm>
            <a:off x="268200" y="1566720"/>
            <a:ext cx="8301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用两手攀着上面，两脚再向上缩；他肥胖的身子向左微倾，显出努力的样子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文本框 1"/>
          <p:cNvSpPr/>
          <p:nvPr/>
        </p:nvSpPr>
        <p:spPr>
          <a:xfrm>
            <a:off x="3070080" y="7509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朱自清先生的《背影》为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3" name="图片 2" descr=""/>
          <p:cNvPicPr/>
          <p:nvPr/>
        </p:nvPicPr>
        <p:blipFill>
          <a:blip r:embed="rId1"/>
          <a:stretch/>
        </p:blipFill>
        <p:spPr>
          <a:xfrm>
            <a:off x="2152800" y="2965320"/>
            <a:ext cx="4671720" cy="29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文本框 4"/>
          <p:cNvSpPr/>
          <p:nvPr/>
        </p:nvSpPr>
        <p:spPr>
          <a:xfrm>
            <a:off x="573120" y="1830240"/>
            <a:ext cx="786744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357120" indent="-357120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能够把握作者的主要观点，理清作者的论证思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能够品味文中意蕴深刻的语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理解文章内容，学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欣赏文艺作品的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6" name="Group 19"/>
          <p:cNvGrpSpPr/>
          <p:nvPr/>
        </p:nvGrpSpPr>
        <p:grpSpPr>
          <a:xfrm>
            <a:off x="198360" y="538200"/>
            <a:ext cx="2319120" cy="700200"/>
            <a:chOff x="198360" y="538200"/>
            <a:chExt cx="2319120" cy="700200"/>
          </a:xfrm>
        </p:grpSpPr>
        <p:pic>
          <p:nvPicPr>
            <p:cNvPr id="367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98360" y="53820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8" name="文本框 2"/>
            <p:cNvSpPr/>
            <p:nvPr/>
          </p:nvSpPr>
          <p:spPr>
            <a:xfrm>
              <a:off x="734760" y="61452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9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文本框 6147"/>
          <p:cNvSpPr/>
          <p:nvPr/>
        </p:nvSpPr>
        <p:spPr>
          <a:xfrm>
            <a:off x="480960" y="612720"/>
            <a:ext cx="785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段描述父亲攀爬月台背影的文字，能因我们的想象力变得更生动。他的身子微胖，我们可以想象两手上攀时定费了不少劲，甚至青筋凸起；还是因为胖，我们可以想象腿并不是缩了一次，而似是挣扎缩了好几次；更是因为想象，身子微微一倾，这形象便如拍照一般在脑中定格。有了想象中还原的这一幕，父亲的形象真切起来，切实地打动了读者的心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5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372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7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8" name="文本框 2"/>
          <p:cNvSpPr/>
          <p:nvPr/>
        </p:nvSpPr>
        <p:spPr>
          <a:xfrm>
            <a:off x="905040" y="2017800"/>
            <a:ext cx="3281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作者与读者关系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文本框 3"/>
          <p:cNvSpPr/>
          <p:nvPr/>
        </p:nvSpPr>
        <p:spPr>
          <a:xfrm>
            <a:off x="3735360" y="2017800"/>
            <a:ext cx="18828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作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写文字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文本框 6"/>
          <p:cNvSpPr/>
          <p:nvPr/>
        </p:nvSpPr>
        <p:spPr>
          <a:xfrm>
            <a:off x="6664320" y="2017800"/>
            <a:ext cx="1884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读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读文字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文本框 8"/>
          <p:cNvSpPr/>
          <p:nvPr/>
        </p:nvSpPr>
        <p:spPr>
          <a:xfrm>
            <a:off x="5618160" y="2133720"/>
            <a:ext cx="1046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所感所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文本框 9"/>
          <p:cNvSpPr/>
          <p:nvPr/>
        </p:nvSpPr>
        <p:spPr>
          <a:xfrm>
            <a:off x="927000" y="3713040"/>
            <a:ext cx="369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读者欣赏文艺作品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文本框 10"/>
          <p:cNvSpPr/>
          <p:nvPr/>
        </p:nvSpPr>
        <p:spPr>
          <a:xfrm>
            <a:off x="2543040" y="4230720"/>
            <a:ext cx="5158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读者—（读）文字—（想象）画面—感悟意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左右箭头 11"/>
          <p:cNvSpPr/>
          <p:nvPr/>
        </p:nvSpPr>
        <p:spPr>
          <a:xfrm>
            <a:off x="5319720" y="2579760"/>
            <a:ext cx="1677960" cy="75960"/>
          </a:xfrm>
          <a:prstGeom prst="leftRightArrow">
            <a:avLst>
              <a:gd name="adj1" fmla="val 50000"/>
              <a:gd name="adj2" fmla="val 5011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左大括号 12"/>
          <p:cNvSpPr/>
          <p:nvPr/>
        </p:nvSpPr>
        <p:spPr>
          <a:xfrm>
            <a:off x="471600" y="2219400"/>
            <a:ext cx="431640" cy="1842840"/>
          </a:xfrm>
          <a:custGeom>
            <a:avLst/>
            <a:gdLst>
              <a:gd name="textAreaLeft" fmla="*/ 275760 w 431640"/>
              <a:gd name="textAreaRight" fmla="*/ 432000 w 431640"/>
              <a:gd name="textAreaTop" fmla="*/ 70560 h 1842840"/>
              <a:gd name="textAreaBottom" fmla="*/ 1772280 h 184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3"/>
                  <a:pt x="10800" y="2645"/>
                </a:cubicBezTo>
                <a:lnTo>
                  <a:pt x="10800" y="8275"/>
                </a:lnTo>
                <a:cubicBezTo>
                  <a:pt x="10800" y="9598"/>
                  <a:pt x="5400" y="10920"/>
                  <a:pt x="0" y="10920"/>
                </a:cubicBezTo>
                <a:cubicBezTo>
                  <a:pt x="5400" y="10920"/>
                  <a:pt x="10800" y="12243"/>
                  <a:pt x="10800" y="13565"/>
                </a:cubicBezTo>
                <a:lnTo>
                  <a:pt x="10800" y="18955"/>
                </a:lnTo>
                <a:cubicBezTo>
                  <a:pt x="10800" y="2027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26262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0" name="图片 3" descr=""/>
          <p:cNvPicPr/>
          <p:nvPr/>
        </p:nvPicPr>
        <p:blipFill>
          <a:blip r:embed="rId1"/>
          <a:srcRect l="0" t="4291" r="0" b="4565"/>
          <a:stretch/>
        </p:blipFill>
        <p:spPr>
          <a:xfrm>
            <a:off x="722160" y="1411200"/>
            <a:ext cx="7851960" cy="4265640"/>
          </a:xfrm>
          <a:prstGeom prst="rect">
            <a:avLst/>
          </a:prstGeom>
          <a:ln w="0">
            <a:noFill/>
          </a:ln>
        </p:spPr>
      </p:pic>
      <p:grpSp>
        <p:nvGrpSpPr>
          <p:cNvPr id="3681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3682" name="Picture 18" descr="未标题-1"/>
            <p:cNvPicPr/>
            <p:nvPr/>
          </p:nvPicPr>
          <p:blipFill>
            <a:blip r:embed="rId2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3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4" name="Rectangle 5"/>
          <p:cNvSpPr/>
          <p:nvPr/>
        </p:nvSpPr>
        <p:spPr>
          <a:xfrm>
            <a:off x="1149480" y="1846440"/>
            <a:ext cx="704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年以来的语文课堂上，我们已学习了不少经典篇目，它们大多都具有很高的文学价值。说说欣赏这些文艺作品，我们应该注意些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5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368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7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8" name="Rectangle 5"/>
          <p:cNvSpPr/>
          <p:nvPr/>
        </p:nvSpPr>
        <p:spPr>
          <a:xfrm>
            <a:off x="431640" y="1582560"/>
            <a:ext cx="50770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【叶圣陶】（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1894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—1988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，原名叶绍钧，字秉臣、圣陶，生于江苏苏州，现代作家、教育家。有“优秀的语言艺术家”之称，终身致力于出版及语文的教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9" name="Picture 6" descr=""/>
          <p:cNvPicPr/>
          <p:nvPr/>
        </p:nvPicPr>
        <p:blipFill>
          <a:blip r:embed="rId2"/>
          <a:stretch/>
        </p:blipFill>
        <p:spPr>
          <a:xfrm>
            <a:off x="5450040" y="1616040"/>
            <a:ext cx="2835000" cy="6802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0" name="Group 19"/>
          <p:cNvGrpSpPr/>
          <p:nvPr/>
        </p:nvGrpSpPr>
        <p:grpSpPr>
          <a:xfrm>
            <a:off x="133200" y="396720"/>
            <a:ext cx="2319120" cy="700200"/>
            <a:chOff x="133200" y="396720"/>
            <a:chExt cx="2319120" cy="700200"/>
          </a:xfrm>
        </p:grpSpPr>
        <p:pic>
          <p:nvPicPr>
            <p:cNvPr id="369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33200" y="3967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2" name="文本框 2"/>
            <p:cNvSpPr/>
            <p:nvPr/>
          </p:nvSpPr>
          <p:spPr>
            <a:xfrm>
              <a:off x="669600" y="4730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Rectangle 5"/>
          <p:cNvSpPr/>
          <p:nvPr/>
        </p:nvSpPr>
        <p:spPr>
          <a:xfrm>
            <a:off x="933480" y="1254240"/>
            <a:ext cx="66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阅读全文，在文中找出能表达作者观点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文本框 1"/>
          <p:cNvSpPr/>
          <p:nvPr/>
        </p:nvSpPr>
        <p:spPr>
          <a:xfrm>
            <a:off x="654120" y="2541600"/>
            <a:ext cx="7866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文字是一道桥梁。通过了这一道桥梁，读者才和作者会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作者想做到的是：写下来的文字正好传达出他的所见所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矩形 1"/>
          <p:cNvSpPr/>
          <p:nvPr/>
        </p:nvSpPr>
        <p:spPr>
          <a:xfrm>
            <a:off x="936720" y="1343160"/>
            <a:ext cx="69278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就读者的方面说，他们要通过文字去接触作者的所见所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像这样驱遣着想象来看，这一幅图画就显现在眼前了。同时也就接触了作者的意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Rectangle 5"/>
          <p:cNvSpPr/>
          <p:nvPr/>
        </p:nvSpPr>
        <p:spPr>
          <a:xfrm>
            <a:off x="663480" y="900000"/>
            <a:ext cx="6791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综合上述观点，结合文题总结作者在全文中所表达的中心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文本框 1"/>
          <p:cNvSpPr/>
          <p:nvPr/>
        </p:nvSpPr>
        <p:spPr>
          <a:xfrm>
            <a:off x="760320" y="2478240"/>
            <a:ext cx="726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欣赏文艺作品，要学着驱遣自己的想象力，通过文字去接触作者的所见所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Rectangle 5"/>
          <p:cNvSpPr/>
          <p:nvPr/>
        </p:nvSpPr>
        <p:spPr>
          <a:xfrm>
            <a:off x="458640" y="1279440"/>
            <a:ext cx="714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作者要论述如何鉴赏文艺作品，为什么在开篇大篇幅论述作者、读者以及文字之间的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9" name="图片 1" descr=""/>
          <p:cNvPicPr/>
          <p:nvPr/>
        </p:nvPicPr>
        <p:blipFill>
          <a:blip r:embed="rId1"/>
          <a:stretch/>
        </p:blipFill>
        <p:spPr>
          <a:xfrm>
            <a:off x="3809880" y="2919240"/>
            <a:ext cx="4469040" cy="5900760"/>
          </a:xfrm>
          <a:prstGeom prst="rect">
            <a:avLst/>
          </a:prstGeom>
          <a:ln w="0">
            <a:noFill/>
          </a:ln>
        </p:spPr>
      </p:pic>
      <p:grpSp>
        <p:nvGrpSpPr>
          <p:cNvPr id="3700" name="Group 19"/>
          <p:cNvGrpSpPr/>
          <p:nvPr/>
        </p:nvGrpSpPr>
        <p:grpSpPr>
          <a:xfrm>
            <a:off x="101520" y="419040"/>
            <a:ext cx="2319120" cy="700200"/>
            <a:chOff x="101520" y="419040"/>
            <a:chExt cx="2319120" cy="700200"/>
          </a:xfrm>
        </p:grpSpPr>
        <p:pic>
          <p:nvPicPr>
            <p:cNvPr id="3701" name="Picture 18" descr="未标题-1"/>
            <p:cNvPicPr/>
            <p:nvPr/>
          </p:nvPicPr>
          <p:blipFill>
            <a:blip r:embed="rId2"/>
            <a:stretch/>
          </p:blipFill>
          <p:spPr>
            <a:xfrm>
              <a:off x="101520" y="41904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2" name="文本框 2"/>
            <p:cNvSpPr/>
            <p:nvPr/>
          </p:nvSpPr>
          <p:spPr>
            <a:xfrm>
              <a:off x="637920" y="49536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文本框 2"/>
          <p:cNvSpPr/>
          <p:nvPr/>
        </p:nvSpPr>
        <p:spPr>
          <a:xfrm>
            <a:off x="461880" y="819000"/>
            <a:ext cx="80899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论述如何鉴赏文艺作品，首先要认识到文艺作品的本质，即什么是文艺作品的问题。以文字为载体，作者想要传达的所见所感，读者想要接触的作者的所见所感，就是文艺作品的本质。因此，论述作者、读者以及文字之间的联系是为了明确文艺作品的本质，是表达中心观点的前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  </dc:creator>
  <dc:description/>
  <cp:keywords/>
  <dc:language>en-US</dc:language>
  <cp:lastModifiedBy>微软用户</cp:lastModifiedBy>
  <dcterms:modified xsi:type="dcterms:W3CDTF">2018-11-16T01:35:33Z</dcterms:modified>
  <cp:revision>238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