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070-C7D1-4FAC-973A-D880CE5E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BBC-9EF5-436B-86C8-A777830E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1B2-6D03-40B3-AC23-93AF93BA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2F3-6113-4807-B327-C3E2D796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82E-1B8A-48F6-91FD-8767890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545-5122-4257-8DEE-78D2300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150-D221-4A9C-BA0A-EEF4EAAD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E2F-318F-4529-B3B2-F14361F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A06-038E-4B26-9DBE-DABA2F8F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747-142B-41A8-B356-4A1F9AA1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0C9-8885-4479-BE46-A9AC633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C59-4456-4883-B091-5AFB4F74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6741-FA71-4300-8ABE-A61036C47C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1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11.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5" descr="1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3" descr="13..jpg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5" descr="1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内容占位符 3" descr="15.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内容占位符 3" descr="16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内容占位符 3" descr="17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内容占位符 3" descr="18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内容占位符 3" descr="19.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2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3" descr="21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内容占位符 3" descr="22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内容占位符 3" descr="23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内容占位符 3" descr="2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内容占位符 3" descr="25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3.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4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内容占位符 3" descr="5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内容占位符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8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3" descr="8..jpg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3" descr="10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1:51:15Z</dcterms:created>
  <dc:creator>xbany</dc:creator>
  <dc:description/>
  <dc:language>en-US</dc:language>
  <cp:lastModifiedBy>xbany</cp:lastModifiedBy>
  <dcterms:modified xsi:type="dcterms:W3CDTF">2018-08-13T12:23:08Z</dcterms:modified>
  <cp:revision>9</cp:revision>
  <dc:subject/>
  <dc:title>幻灯片 1</dc:title>
</cp:coreProperties>
</file>