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61.xml" ContentType="application/vnd.openxmlformats-officedocument.theme+xml"/>
  <Override PartName="/ppt/theme/theme19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77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</p:sldMasterIdLst>
  <p:sldIdLst>
    <p:sldId id="256" r:id="rId79"/>
    <p:sldId id="257" r:id="rId80"/>
    <p:sldId id="258" r:id="rId81"/>
    <p:sldId id="259" r:id="rId82"/>
    <p:sldId id="260" r:id="rId83"/>
    <p:sldId id="261" r:id="rId84"/>
    <p:sldId id="262" r:id="rId85"/>
    <p:sldId id="263" r:id="rId86"/>
    <p:sldId id="264" r:id="rId87"/>
    <p:sldId id="265" r:id="rId88"/>
    <p:sldId id="266" r:id="rId89"/>
    <p:sldId id="267" r:id="rId90"/>
    <p:sldId id="268" r:id="rId91"/>
    <p:sldId id="269" r:id="rId92"/>
    <p:sldId id="270" r:id="rId93"/>
    <p:sldId id="271" r:id="rId94"/>
    <p:sldId id="272" r:id="rId95"/>
    <p:sldId id="273" r:id="rId96"/>
    <p:sldId id="274" r:id="rId97"/>
    <p:sldId id="275" r:id="rId98"/>
    <p:sldId id="276" r:id="rId99"/>
    <p:sldId id="277" r:id="rId100"/>
    <p:sldId id="278" r:id="rId101"/>
    <p:sldId id="279" r:id="rId102"/>
    <p:sldId id="280" r:id="rId103"/>
    <p:sldId id="281" r:id="rId104"/>
    <p:sldId id="282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" Target="slides/slide1.xml"/><Relationship Id="rId80" Type="http://schemas.openxmlformats.org/officeDocument/2006/relationships/slide" Target="slides/slide2.xml"/><Relationship Id="rId81" Type="http://schemas.openxmlformats.org/officeDocument/2006/relationships/slide" Target="slides/slide3.xml"/><Relationship Id="rId82" Type="http://schemas.openxmlformats.org/officeDocument/2006/relationships/slide" Target="slides/slide4.xml"/><Relationship Id="rId83" Type="http://schemas.openxmlformats.org/officeDocument/2006/relationships/slide" Target="slides/slide5.xml"/><Relationship Id="rId84" Type="http://schemas.openxmlformats.org/officeDocument/2006/relationships/slide" Target="slides/slide6.xml"/><Relationship Id="rId85" Type="http://schemas.openxmlformats.org/officeDocument/2006/relationships/slide" Target="slides/slide7.xml"/><Relationship Id="rId86" Type="http://schemas.openxmlformats.org/officeDocument/2006/relationships/slide" Target="slides/slide8.xml"/><Relationship Id="rId87" Type="http://schemas.openxmlformats.org/officeDocument/2006/relationships/slide" Target="slides/slide9.xml"/><Relationship Id="rId88" Type="http://schemas.openxmlformats.org/officeDocument/2006/relationships/slide" Target="slides/slide10.xml"/><Relationship Id="rId89" Type="http://schemas.openxmlformats.org/officeDocument/2006/relationships/slide" Target="slides/slide11.xml"/><Relationship Id="rId90" Type="http://schemas.openxmlformats.org/officeDocument/2006/relationships/slide" Target="slides/slide12.xml"/><Relationship Id="rId91" Type="http://schemas.openxmlformats.org/officeDocument/2006/relationships/slide" Target="slides/slide13.xml"/><Relationship Id="rId92" Type="http://schemas.openxmlformats.org/officeDocument/2006/relationships/slide" Target="slides/slide14.xml"/><Relationship Id="rId93" Type="http://schemas.openxmlformats.org/officeDocument/2006/relationships/slide" Target="slides/slide15.xml"/><Relationship Id="rId94" Type="http://schemas.openxmlformats.org/officeDocument/2006/relationships/slide" Target="slides/slide16.xml"/><Relationship Id="rId95" Type="http://schemas.openxmlformats.org/officeDocument/2006/relationships/slide" Target="slides/slide17.xml"/><Relationship Id="rId96" Type="http://schemas.openxmlformats.org/officeDocument/2006/relationships/slide" Target="slides/slide18.xml"/><Relationship Id="rId97" Type="http://schemas.openxmlformats.org/officeDocument/2006/relationships/slide" Target="slides/slide19.xml"/><Relationship Id="rId98" Type="http://schemas.openxmlformats.org/officeDocument/2006/relationships/slide" Target="slides/slide20.xml"/><Relationship Id="rId99" Type="http://schemas.openxmlformats.org/officeDocument/2006/relationships/slide" Target="slides/slide21.xml"/><Relationship Id="rId100" Type="http://schemas.openxmlformats.org/officeDocument/2006/relationships/slide" Target="slides/slide22.xml"/><Relationship Id="rId101" Type="http://schemas.openxmlformats.org/officeDocument/2006/relationships/slide" Target="slides/slide23.xml"/><Relationship Id="rId102" Type="http://schemas.openxmlformats.org/officeDocument/2006/relationships/slide" Target="slides/slide24.xml"/><Relationship Id="rId103" Type="http://schemas.openxmlformats.org/officeDocument/2006/relationships/slide" Target="slides/slide25.xml"/><Relationship Id="rId104" Type="http://schemas.openxmlformats.org/officeDocument/2006/relationships/slide" Target="slides/slide26.xml"/><Relationship Id="rId105" Type="http://schemas.openxmlformats.org/officeDocument/2006/relationships/slide" Target="slides/slide27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CCE4F-76B6-47EE-8315-6EA3124D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04E99-60E7-4E2A-A306-B14590D0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E9341-F2D5-4E97-8DEA-108D65FA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463F0-214B-4C37-9440-2346C11F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91B0B-D967-4DCD-B280-B7E08EC4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BF74-7F35-4FF9-9242-034E2C98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C95AD-6561-422C-80C3-F9B2065E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1852E-3B22-4301-B463-8A87A3E2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1C210-F5E0-45E8-AACF-06C924B3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C3D0-492B-4132-9852-5BA20400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F28C3-3083-4BE6-B1E4-D49E7FEE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8E2B6-49AC-47D9-8DB0-D6144A31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AC360-0535-46C3-860E-E8DEA0A2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E6C8E-C58D-498D-B3CE-3F7342A7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7BC6F-D238-41C9-B15A-A4ECFDB5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08911-41EC-458E-A2BB-05B894BA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DE97F-91BD-4E9B-8808-5D7D0AC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4896C-2E3C-4941-BB6A-241ABC00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27EBC-D0F9-4331-B539-ED47F32D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D2DB6-4EAD-4D4A-8BD9-A52F3E92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4830B-1DEA-42BE-AF01-EE038BD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37CE9-3388-4491-A454-08CFDFA6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061B1-6051-4BAE-8197-9D3DCCF6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05AEC-4151-42D7-976C-AAFFAE8D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6D276-6542-43A4-9BC7-E9E0FED6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D7FD4-8795-488F-BCA0-1A2C50C3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2084A-2A5C-4688-AB15-2CD5C150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CE789-B06C-41AB-9678-F7652F63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9EA46-C76C-40B0-A5E9-8B2429BA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E79A2-C273-4D16-A18A-392D29D3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49C1E-1CCF-4AF2-B34A-148EBBF9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ACE1D-35A3-4FE4-B3A0-1AA91C24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7A322-303E-4FD8-AA19-D9661633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520A9-CA06-4F79-9B76-3EA07DE3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35E8D-1DCA-4336-B875-2DBE8D6A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802FE-3897-4151-9868-8B2A8AD2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5AF8B-FB17-4EFF-A11B-5A40B24E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838B5-1B9F-49A6-BC7D-6E5F2B6E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07AB7-D858-4AD3-BF15-5A9186C3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A3FBE-65F6-43F1-8B4F-170ADC3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8306B-3FCA-4598-B059-40A2598D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B823B-51C9-47E9-B02D-BB38B236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250EC-68D8-4A24-8348-F840AE20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3A272-A6A3-4F85-A019-23A2FE59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10AF5-B80B-42E1-81EA-A10840E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83B7D-5B2B-43EE-9123-E1CE3F5D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8BB17-C0D1-4733-BE8E-7C986DB5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037DF-3799-496E-9956-8DEEAF17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ECC99-A799-40D5-99EC-AF2AF6EF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26553-FABE-448F-9550-65A6104B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1772A-A260-4777-B62C-029C5A16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D99D3-18EA-4123-986A-2057A956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99C45-C2B7-4436-A830-0706A8BD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2FDD5-263B-4FF1-9FED-BF6EC10E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66FD0-AE99-47F5-A774-7664BEE3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5E72F-E878-4EFE-9E5A-53FD65E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B448E-7064-4F58-90B4-DCE7FCA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8E873-7CE1-4134-8A93-1F0F85FA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D7A17-7D11-470F-B9D2-93FB8EFD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B810D-5F0B-4804-B8B3-0EFB4C2E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3EF29-666B-49C1-A912-D999E181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8219E-5663-4141-9DEA-73E5BEA8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6DA34-4519-423D-9368-A962B5CB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5CE15-9E2D-4A00-8165-988B146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A7942-1005-45C1-AB39-7A1F0FBD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BF05C-B514-4525-B8BA-8AD87C49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57792-CCF0-4A22-AC70-A10DC4C3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6E42F-2F0E-44F0-9C97-49DB528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38C04-56D2-4E72-8DEA-B5675E38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91E08-1680-4DD3-B169-C46251D8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D09C0-B5B7-4520-9C94-5ADC754C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CB178-FADE-421C-A4A3-341847DF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F9D67-1903-424B-BF28-91AA18AE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EEF93-FB67-49C0-98F2-9C0C95E4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9A5B0-BCC0-450E-88BB-ACEA6CBA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2BE71-3F4A-4BA9-8F47-4CDC1BA6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67611-CAAF-4C11-9DEF-0220C1B5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F36E9-534E-4D50-A8AD-425A84E6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FB02B-69F9-459E-8D06-17D0412E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EADB0-2FB1-41EE-847D-EEC057CF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9CF75-4BC9-4350-B072-64B51C1D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DCAAC-4FED-4E1C-9F7F-8D36E0A4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B4BE8-DEAE-4ABB-A6AE-C37E1251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23F03-A7DA-46E9-A601-157BB85D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443E2-E878-4CC9-95BE-E70B8B11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834CA-AC0D-4823-BB80-7D48F94A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B2D61-CF68-4E9D-AF61-FEF420F3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ECC45-0448-4C32-9855-922F12C0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10C64-A42F-42AF-BC43-EE711654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4219D-C5C2-4DE1-8DF4-D481F137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6451B-55B1-46BA-B77E-33C43DDB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0244A-777C-4480-996D-C3814EE7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61C0B-6152-41CA-8310-2D6373A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F3D09-BB55-4018-BDFF-193D5F2D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94531-C604-42F1-AFC7-273448C3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98604-B304-4899-9191-04055552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58D0A-F722-496D-9B11-F3AE5FE4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F8C89-4010-44A9-B781-B8ECAC78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2F605-6C2D-4046-BB7E-E3FF0247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53B72-7C42-4AA8-BDD9-88CFE39D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E9602-8570-4A89-A293-9F9AB62A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F6430-3344-415F-98B6-2F9D616C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2F654-AE67-4346-AFAA-4BA21C75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44AEE-0919-482E-A2C1-DA72C63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9AC000-497E-4CAB-9157-9828A224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05113-52D2-47C8-9EE3-98A04A3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4C7E3-FEF2-4430-A279-29721CEC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1573C-B78D-4B5A-9235-407C4B92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2F7A5-3DD8-48D1-AC62-80713FE5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398B49-115E-4E3E-8FE7-4292EAE6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6610E-FBF4-4431-9C63-C8A1B6E5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EDC72-C244-4396-B266-5DD014DB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0AB0E-A4EF-46C6-8240-9BB5D5BD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F227C-AB98-4FC2-A4CC-E23C5942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672BE-14B5-4592-8B59-8E5F9CD8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BEF4B-A6DF-4B0D-B32D-71D486B4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B1E61-8CE9-4C43-90D3-A42C335E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24513-37E8-4495-915A-6EB486AB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9F5E2-84F4-4804-ACA3-E805769B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48C35-8EA8-466F-B6A3-F2BE8C0A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7B93E-C022-43E0-9295-6E257057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5DE5A-C305-4B30-BD6C-24C3BA0F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7C02A-EF95-44AF-B5FB-5C5C0DC1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1C5A8-0E12-4522-B655-9B9C00E1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041EF-4768-4E56-AAF8-C830A529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9D59C-9BC9-4AD5-94DA-3CB4A811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494F1-C671-4F6C-86B2-4008E071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27176-C30C-4B7D-A8A6-7772C27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5D78C-1CF9-4693-9607-97A39D6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32954D-BD57-435D-A3F5-442B0017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6E57A-A758-4337-A0E2-1C0D9F7E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18D1A-374A-4831-8977-D3AB150D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8E5E9-3D47-4E39-8ECB-C1195574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2E0309-B4F9-496D-8EC5-64B01189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B8C2B-8500-4B3D-B269-EAE0D708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DFC5A-2DCB-489C-BC48-0086F9D5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AAD63B-BBC6-4415-86BB-06A712B4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22C2C-77FB-4226-8357-A78C3FFD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069A3-43A9-45A5-A2E5-A097C8C9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C7702F-E2DB-41CF-8E39-796747DC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117C70-F9DF-4000-A217-7A0446E9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853-7F84-4612-ABB2-05BBB526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348A1-96A4-46D4-B20B-2DF31BFB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4CFFF-899E-47E2-993F-1A3FE969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E1B58B-A491-4A98-AE70-9F199B4D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DA5A33-D265-4379-8F3E-E7CE4943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A1C5EE-8BD5-481E-8C01-6A7755C9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E436C-4355-44F8-9FBE-88CDFDD0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AE3DBF-AD7A-4923-82EC-A0831532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C82D0-6353-495E-BABD-51A45C7A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A011C-79E4-42AD-A329-C5210E18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C11BA-100A-439C-A587-58CDE3A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1A5-4484-4331-B6B6-D376789A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C3AA7-4F9F-4A31-BAB6-EA9EB6EF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A6B188-AF31-40A2-9289-3DDE44F7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158029-5DB3-4A1C-9611-3CC20480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1EAC4-1F8F-48D7-B6FE-0CDB4797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F05A5-D171-46FA-AD35-9731E3CB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4AA-887E-47C5-A2BB-DC16A6D0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71A02-7644-4F32-AA6B-74BA1490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A1A5D-925F-419A-830D-90D1E775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CF6C1-6DA2-4A46-9EEE-EC0E0DD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7FE-C147-4C0D-A6D5-046EB638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FB64E-80FF-4F05-9816-104C1E8D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B1459-EF6D-43C9-B276-765BB178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718C6A-C37D-4D5E-AFC3-81AA7680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6712D-90CB-4534-A837-DF4A34DF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26EEF-8B78-48FD-B051-05FBD7E8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6DC120-7898-4762-83F7-C98DE556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7D5F4C-AF82-4449-AF47-95D07415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659CC-1757-4755-9E97-640A9EE6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1C6A48-FA1A-452F-90EA-3DE26CE6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6600EA-32DA-43E9-AC55-B320E5B3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3FC-5A89-418F-8CA1-F43DE664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FA1FA-E84F-490A-BB84-3DBC3CC3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FE285-1F6C-4F2E-8D72-07540319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B44DCC-8129-4BBC-8FFC-228918A8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CDEC3B-7B8E-4031-A0E3-91CE8E0F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1D0D1-DDF1-4715-9DE6-4050B7B3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C3C12-25DC-4DC0-A2C2-337AEAD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7A8F1E-982E-4BB9-8542-2F387418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1E6C0-DAF8-4059-9108-C88D760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51135-2C53-4BC0-861B-439DE587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59ED39-E1CF-4D23-90C8-1B98BD87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129-4DF2-4205-B733-2A56ADF9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90989C-192A-4083-AE73-4F32BFCC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A77B7B-96B7-4DB7-83E7-84E294AB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66F1D6-A9AC-4946-976D-A97BD8EC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86D8B2-B59D-4E9F-BE7D-3BCC6186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133685-0DFB-4CC7-9DE5-4EC1CFCD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560395-2E01-48D5-BE3A-F4076B7A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58040D-E6E1-46F9-9306-B2852E47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7B80B1-4D40-459E-92C0-F0422651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7BA305-1F35-47B1-9DD9-D9D685CB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71DA55-BAAD-4A0A-887D-4868A36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CB5-178D-4A75-A44F-12E00F15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D8684-5441-45B4-85A7-0BD85DCA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DF5482-529F-4242-A8D5-A8E11D6D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B78D81-7F43-4119-8C5A-A0096C88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7BD56A-B106-4F6E-B968-507C70C9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768073-A2FD-4AE4-AAA6-1DAF665A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83C8E7-DFF3-4BDF-9B35-2FA5E363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74F5F0-3394-4C5F-9042-DC9C27EE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7E266A-6C7A-43F1-9D31-95BE2DD1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F65434-862A-490C-AB08-667A6FC3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AFC2F6-DCA8-4D11-B580-730A3042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298-DE56-4F01-97F9-2BD0A9BA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21D6B8-A2E2-46B0-B05E-150223E5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82352C-BE2E-4759-9A77-8173C1C6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8860DA-5E73-4B25-9E3F-0ADA4C2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935D16-95EA-498E-8EDD-238849BE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CA78B6-4FEA-40C1-A2AE-CDBB7F6C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11BAE2-268C-4084-8008-B9511390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AF18AC-D04D-4187-A8F7-A6F500D5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FB2906-5BD8-487B-917B-BCDE7E6B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4D22FB-5B72-49D2-B20B-10975728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F9F13E-E4DE-440F-9B47-D82A68D6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89B-572C-40A7-920B-ED709834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C0FF4E-EE1C-42AE-809E-1BB01B70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858492-5016-4945-8759-3190B62F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7924E9-69F1-4127-AD7C-561933F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CA2FED-C0F6-4C96-9CE3-292DFFD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85E86B-CADC-4999-88CC-C8D6E791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E15FCA-5314-448D-8FF0-52D42745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8689C5-23FB-41E0-85D2-D43B6D2B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F380AD-7479-4898-93A2-ADBE055C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802B98-5DF4-468A-A8AA-DEB01560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6D0F0E-C129-4E47-A377-B4617E79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D7B-D161-4E08-A205-E54ADF2F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C82E9A-911C-40D4-A82D-513352A8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CCDA02-E9C0-4AD4-B8D3-CC6C629A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EC625E-5C59-429B-BCED-613944DC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BBF6EC-2DFA-4E32-A0E0-3987FE30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6B34E1-6731-4C6E-A2EC-1609C108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897413-FAC9-4606-A4E9-338FDA1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D7E27A-840E-4CF4-B26C-41F7CABD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F93214-F33E-4AF4-9027-86C95771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D3DFF2-7276-4F5E-A633-B6F68043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DB7811-4ECB-4390-9EB4-217917EA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CE8-5536-47AB-8BD5-5C35EF86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649C97-2055-48A4-8ACD-B529C37A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12D90C-6557-4EE1-8B83-0ECB2787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A8E2AB-033B-466E-A1DD-EEB06946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F87A20-12E4-45ED-A79B-407B4F55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EB252C-75BE-4877-B508-987755B5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C70250-9EF9-4C9A-9E9F-776D39C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125F12-CB26-4662-AB27-CCB48074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40CCA3-1405-43E3-AAAA-65392022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0B146F-21EF-4E9B-B9E9-005A8C40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B4119E-65AD-45C0-AB58-18126D8F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EEF-AD27-430B-8AC9-8E9A44EB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83932D-010D-448C-809E-C6B750A3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7545CC-7896-441B-9163-A17E6BE6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22B895-B857-4A9B-92C5-3E0EE931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683F6A-5E6A-4336-8976-D9ADA482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4475F3-DC8E-42FC-830B-91D22891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E0F995-20BE-4B9C-AA9A-79642E9C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D3E50C-05BA-46BB-B3E1-E83C3547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11E740-455D-4762-9F7D-2B03E7EB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57451B-7272-4A58-9934-442601E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E4F5EC-237F-4B54-AF39-D7FC2D32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F697-F2C1-4E8A-AC7F-582E7344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191E0C-62BE-4D06-A1A7-8FE38D93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47F4B9-389D-4172-9B77-BA7F6AFF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BB7DEF-8A70-42C0-A900-25D56A51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D40F7B-54AF-4E47-A089-47D2CA6E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64F30C-0E98-458A-AB5D-E83C1FA9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7944C8-8D26-40DB-BE1A-AF1F2D1E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3004B2-A811-4388-9051-720D527E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B26F82-4294-4517-9B69-DBE51D96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078B4A-E667-44D2-8F92-47583F94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C71A0A-F228-493E-BE0E-22D6ADE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CE88-BF70-49E9-B379-651C6646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53716A-A99C-4379-A2C0-1FBEC63A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3EA2FD-BF32-48CD-A629-F35AF8D0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7A6AD8-43E5-478D-BD86-F83B795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864BCF-184D-4410-96E2-2282E096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BE883F-5786-4512-B047-99ECB493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80A576-CFF0-4E9C-9C9D-B4C167F6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53079F-B4A2-4F7F-BC9E-914E8FBB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637C90-EC28-4C5B-B6A6-D05549B3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4938DA-C131-47A1-8738-480B652E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BA7346-5634-41ED-AF49-8AB16B01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69A1-EC9D-48E2-9C02-1A2D79C0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ED60A5-1E05-4E69-A99D-D35A8E1B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A64BEE-0102-4EF8-A3E2-3BE389F7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40C4B0-F5B7-4C84-A088-E7A8E43F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56F835-24BD-44E9-AF96-3EBDFD8A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C79FD9-04CF-4F52-90EB-ECB1AB22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D8E6A5-21EF-4C0E-AC33-0ABA6210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31DAB9-8A96-4501-A86A-E0DD83DE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FD82B4-0622-405E-8A05-29048795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B29A72-E628-4D4A-964A-CFF7843C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B93454-D405-4679-A771-07205234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E0E1-EC2A-4C14-B8F2-F353C50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071F6F-2938-45B2-BAC9-D3A7DEE8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9F90DF-3463-4424-B03B-FF5F7EBF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C2CA90-A262-449C-A641-D11CE8F6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653898-0B60-4250-A619-51D53D72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5EA98B-1D7D-4113-8B26-A4BA35A7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E1BF4C-6857-43B5-B614-F601FD67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F136F7-C707-44C4-AE1C-FD07BFE3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58E125-6A89-49BC-9B5C-C3C37EB4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9ED305-1440-42A3-B483-D54F91E2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7C9F50-190E-4CF0-8A2F-D42F4651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3A93-8986-416D-AA34-67DAF91D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D445DF-9F46-4E1E-8EE6-020B09EF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D4E65C-6F3D-4BB1-89FE-1C3F1729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4CA5EA-6873-4C0E-A19E-F1E39C5B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C94B6E-6151-41A0-923A-CFD3F876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C2D3F3-8D91-43BF-A218-5ED27B13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556935-E2F6-423E-B50F-1E3AA1F9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C80201-0A0C-49EC-9C48-B1E888B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90D2BE-3D95-4BE8-8095-1EDEFBC1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D37D51-93F3-45AD-93F6-6FF55070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B2C9C2-D36D-4C56-A51D-2BF88A48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F34C-B351-4E78-9348-11C177C1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BD0C66-8F37-485F-A6DD-B601666C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E5F6B8-FFDE-46F1-803D-47D61C2B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A5EF0E-BC3B-4B1B-BD47-86CCE9CA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0B525F-4686-49B3-A3A3-A5257688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A6DB37-7CF5-47F0-8DA7-AA2D093B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EDBBC3-1E3B-4AF6-8544-B0698FF7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2292EB-3EF2-4E0A-AFA9-EBCCE690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75DF1C-5E52-4630-868D-CCA8E646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A03783-7C00-4478-AA12-51A3838D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2E094E-B14F-44A0-8662-7D75146E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2F80-8865-4210-8D49-1D6A2246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1F7347-9F4A-44C1-BC02-9B523D17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DD7F70-5D18-45B0-8D89-15169D74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9E1535-67E4-444F-92EC-08F8ADED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F84-9D4B-4B8B-9979-ADA942F4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6E04BD-C71C-4A64-B9D0-2F04BADF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80929B-A603-4AC4-A67F-96B6878C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987BD8-CFD0-45B4-B12F-7C31993D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303FE4-4524-4F0D-BE6E-7BD29538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AE9992-1C12-4E50-A403-39B7C953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16FD-50C5-4641-8644-8C6AD340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9BE14D-FCC6-4FAA-BE45-7253255D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B3E634-49BE-4116-8A3B-1D06842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B15296-02A8-4A9D-83F6-D3BE7C28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49AF15-BC14-4278-825A-8DA423CA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95823A-849C-4682-908A-C9CE51EE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484D33-161B-4347-B9D0-5DB9F62C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E6D75F-C51C-4585-A97C-7C2E3C43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5B8AEF-13F6-4633-A0DE-E9470050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085BF8-B1FA-4E93-B28D-EE732D0C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ED5675-B8AE-41AB-A4B3-F9F28DB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3CE7-88D2-48C8-9755-FF1B6962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B7162D-C77C-4DD2-BC4F-B43E6114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9CC42A-D08A-4E4E-A2C1-AF57008B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78C461-2A0A-458C-827C-E7892E9A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309ADA-CEAB-4144-8A60-CBA56A74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9FE882-7AA6-4DC4-B896-8ADAE77C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FCEDA2-8B70-4B4C-A8C4-B8B06A8B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B8BEBD-414C-4A45-8F86-E626F604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A976D3-4CB5-4BA9-894A-696DFBC2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327520-71FE-425F-BAD8-AFD3F678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20B78D-D129-4AA5-AC7C-91038098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38EA-EA1A-42E8-B4B7-09A2BAA4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F6D202-D1EE-4F38-8586-A2A78872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9DE47C-A21C-4D9F-8D71-43456072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1DCEA0-06E7-4F82-91B2-7F0CD20D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DD0F74-CA6A-4AE4-96A5-E21B94C7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74F13F-3D8F-4234-8DE7-7FA93108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6B3EB3-6A17-4A1B-A14A-0FB9B9F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C0B430-22C0-4D5E-AC1A-9261CAE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E053C0-AE97-4B13-A3EC-3F68AA70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09D178-B5BB-4EED-88C1-5DB495E9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D40B7C-1DD6-4917-A200-F2FDBD7D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66F5-8B23-4F8D-9D0A-42CF7D13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618F33-D995-4BEB-B9E9-3733664B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5772CE-599B-4E68-BCB3-D65F6864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27BE6A-87DF-48B6-8797-70C1D647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DE4500-ED89-450A-811A-28132C03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AA0C39-6EF9-40CF-8B84-3ABC965E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FCEB78-CD3C-475F-BA9C-C41207B6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AF026B-68F3-47E8-A18E-A97F7E05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DF8644-36DA-45C9-816E-7BCB59C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65DC9A-B529-4772-B92F-A7108BB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E17040-C554-4169-94E5-ACCB4998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3D2D-934B-4B6C-91A7-D7C17505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948B02-36D8-4C29-959A-8031B46D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03E5B1-3D98-4BBD-B2BA-E9DFD301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72D1E2-5105-4D85-B4B9-79003E0F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B683B5-4F8D-4FDE-A69F-F296C54B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B4E05A-791D-41F5-A1B2-9187BA4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D9BE94-F630-40A0-8E6E-D76BEF46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1F9524-8710-4A30-8040-656C8E69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647723-69FB-4766-9B1A-AFCD7B22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F2222C-419C-4668-AA1A-4752A713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1527AC-6A32-4934-8281-B2E61FB0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56EB-FF43-42CD-9A53-D856E963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6B1E2B-F840-4365-9450-6E3A9BA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F312CE-D9FC-4B2C-940B-B3A8A4BE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32333F-178A-49AC-B301-CF80F2E9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877A52-6C74-402D-82E8-DEB961CA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159230-9A80-4F2C-9E62-2C4B5843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964AD5-D18C-44E8-8263-13D3BF3D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461134-78D1-4CBE-BDDB-8CC890CF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5232C6-A38A-40A6-A498-F0A81C88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354B89-6DE3-4016-9BE6-1D7D13EC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DE2246-E465-4C4A-A88B-A918BA6B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173B9-C1F5-4E8D-B2AB-BE4601B4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691850-B00C-4898-8325-B23BDD63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1E7FFB-4A30-4A92-9CCA-FA344103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7EB8FE4-F015-4A26-BEC2-D2C1EE7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4C5EE2-1475-40D3-A6C0-155D151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02E131-37C6-44F5-935F-E5EB78F3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800658-574C-4A4B-A938-6B16C51B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BA4D8D-044C-4B90-BE80-F3B65090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9466D4-3F40-4894-986E-4715168E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A7CC91-8697-43B8-B9B5-250130CB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440E06-D829-4B93-856F-8A16FA71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EF11-AF66-441F-9FFB-AFA21056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8F328C-F12E-4F8E-81E5-32D4ED65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15E1EE-D0E8-42E4-A59D-B7E4B1EC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8365E5-0033-48F6-86D3-01D1BA47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2A8645-3277-4BF1-86C5-56AD688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B888A7-7540-4DD1-96B9-4ADCF5C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C4CA89-5F1C-4FF1-A496-40F12C83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32BF37-5AFB-4487-8369-08289618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28C2D3-AED6-42B2-8532-543EABBE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1CB60A-603B-449E-A057-DF26EB1D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BC8061-76B2-4A52-BDE9-B0036500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A6811-B17F-4899-BA1B-14559E0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258B53-DCF7-42D9-8DDF-6E2AD803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0A9156-FA24-4361-9F6F-4E89E214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2B1D7B-4655-4E1F-963F-576A14B4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D164D6-FC4D-4019-8DC3-94A9FBC2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C58A1C7-FC56-4B64-B4B9-BCC3DD0B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ACC9CC-0209-45AF-9B86-CB730C39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13FE5A-74FB-4ED5-9890-66FEA2CA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2E924B-6FC8-4EAB-823D-80B91ECA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70C949E-5CAB-4DCE-BFF0-EE3295CB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9874F5-7FCB-456C-8688-1C5A94DA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9B30-EF74-4551-9E06-5B01CFF9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665E87-9ABC-44F7-9C3F-9A3B911D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35B1F1-B107-4A49-B64D-A37DFD4A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030BBED-22F3-4114-92E2-D470D976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0FA5309-07FC-4D6C-B186-29D13352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A9A657-BEC0-4554-8C8A-5364AD57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FA1E6C1-9D5E-4A68-90F3-AACB66FA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96652C-5B1A-41F3-ADC3-5F28E6FF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41EC7F-46F4-47CF-8DEE-EBE4DE3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66CA42-86D9-4412-B90A-EB0F8A57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243FB7-D39F-4A22-8003-56F4F535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8390-70A7-4554-B9F4-B15A2A0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7AF73E-C9C7-4305-8D31-E9A469FF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763DD4-CC8E-42E7-8E0C-2D4CAB6D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30F194-9FF6-4CA0-A8D8-7484A06F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E8DCDB5-5F04-4268-A788-54EA1485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B28AE02-E780-465F-AA58-C92983D7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4F30BDE-65E8-46C7-9FAA-9008E448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7F5BA7-5024-4603-8FAB-E31174D3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3E3D76-4FB2-4790-AC97-0082C920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0842C4-3574-48BB-B944-775EAF11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BB3E0A8-1752-49C0-B1D1-A43990A3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61483-59F6-4531-8B59-3FB40DAE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C0CB19-8602-4296-9953-6BE239A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702EE4-8AA5-420C-8525-429D71C4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884A32B-02F0-4899-94E5-FA328B5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E5FB861-54BD-4909-A3E3-2AB317CE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B0237BE-45BE-4FB7-8112-73C06D06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4A67F43-51AC-4B0D-84E7-B28C944F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C1C872E-CF28-454D-9204-9FD050B7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015B2E4-5B25-4D47-AF59-803180D9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39A5805-EAF5-4923-99AA-1E47CDCB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2D7954-4966-4106-97D4-28484727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0D38-15F4-4DCF-941A-C7806935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95698EC-25FE-4AF4-A8B3-39D2ABC6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C1D2724-5B65-43BF-A933-23511BD3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4447D64-B391-4EAA-88D8-3E68D65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464FAC-825F-4E16-9AD4-8CD624B7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D96FD3-B04A-4DB8-AD1E-0CB84560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170626A-5983-4978-8C76-B55EBBB6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DC1DE1-3795-4298-8CA4-E851B796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2508F09-D771-4D10-9392-AB3DBF9F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86A398D-FF1B-4E30-8FF0-E6ACE558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6090630-6DC9-41D7-BA3B-7650BD5D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73EFA-063D-4103-96B8-CAC8246A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983834-06DA-4A4E-B36F-64A1DC80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BD7996-820D-4978-BA1F-2657E63F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DB8481-9279-4038-B64D-2BEBBAC6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466759-050E-4AA4-A256-0FB0B7A2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7C6873F-630D-4D7B-8B05-C5742223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919544-4E89-44A2-858C-CC2DFC6A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B7CAE2-3D89-4438-B1F4-7D45FA79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B1291E-1FDD-4E87-BD9B-C7CA6174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1A0A70-3ABB-4B4B-A305-A5E71314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F41462-25C9-486C-B999-91AAD5B5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871E-736A-4332-8FBA-37D2956F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458048-965F-48C6-9FB6-2FF7218F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A54C6F-6182-4E29-9A11-391B5EFA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E0CD29-989A-439C-A609-D613399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611EA5-A073-4A12-95EE-78E791B5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0F5C4A6-703D-4F3E-92C2-2A16FC7C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EA4E9F5-BDB2-4D70-A435-07A67FE6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344CE3B-A868-4366-9AFD-76A7C23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9A0403C-05F5-44B6-993B-800611A8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B6DB73-C48E-40E2-9D20-9A705F78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316C687-EA12-4153-9FE9-5B088A31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7AE5-8D7E-4567-87E9-D32BBFEF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AE1426-DFA8-4128-91BC-516588C5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44CB-D8C2-4C1C-88A4-815AA691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8F9A982-295C-4A27-A6DA-41425F48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F4E8291-85D6-41FE-AE71-AADAA0CA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EDCBA48-C59E-4AB3-A67F-3774A61E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07054D7-558E-4442-88D2-F9841FDE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3CA9B8-FB29-4FAB-8272-21E85A1C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8C6332B-B549-4292-924B-38ABB0BC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AA83DBA-B4E9-4633-90FB-A6D1A3E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1146-D254-4149-AF17-27D0036E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BB9F4D-97BC-47E0-BEB5-46D7126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F5B4C1-9853-4797-9F8B-6B3D50E9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81C4AAC-4989-4AF8-B26D-C3DEA8B0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10A1630-62D1-45E4-9063-855326AF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0D64EB4-3791-4C7F-92AC-7D6E7F5F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849D316-415D-4A72-8247-A7D7FE0C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6C8325-08A0-4B96-987A-C095CBA1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808557-8847-4498-8962-EE2B2C72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A9A475-C9A1-4010-A889-E68191A1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4D3625-23A6-4F82-94E5-E86F3E1C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DE80-91DC-43CE-90DA-AA5C99B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00DB8F-A7D5-4A46-9E3D-CB30605F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1E0E58-8375-4102-B6EC-477855C4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1D53402-EB88-4704-861E-C76D7FE4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A994CAD-020D-4712-B69A-75AD4753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6DA197-FE13-43A9-B602-167421EA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B19B281-392C-4473-AC6A-D525DC8F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712AE71-6C78-4F65-ABBB-B0D37B84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D84775-FDEF-4F3F-A322-E1650510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EC1C7D8-4C52-4351-9E10-9EB8F470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6E1ED3-B3D3-433C-BB8C-A9F27B45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C630E-94F6-4C62-B987-3887A98E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85EF0F-0D6F-45E5-9B5F-B68E77B0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3585D0-67C7-48DF-8AA7-B90141B2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722868-5324-4AA4-B8F8-9A9928B9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5A4878-626F-4FA7-9B73-7314CDDD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77BDA78-DDB7-476F-8093-56D56BC9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D099B51-6378-4719-9056-AB12680A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5A3267-16BF-4003-8527-4BA4B8AF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419E4C-467F-4F8F-80BB-9C136336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1EEE54-3B20-4372-B684-A13AC688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581DBF2-CE25-4686-B1F2-2A9AEBD0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AF872-C747-4855-8876-25F426BC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098DE9-9B15-40AB-805D-2D9CAF8E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2922B6-D018-4492-95D5-210B2A7A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23EB9D4-A96A-412D-81AE-C27AA650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92F2A42-4F46-4ECE-8BAB-9F0796FC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27B5C5-CEAF-41CE-AB6B-02DECF97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919B44F-BA8E-477A-ACF4-2FED7E39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7214DB-3BEB-4F0B-9A47-FDC7202A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932AA5D-E8B5-43F0-AB17-26B53C4F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C1762E-7D8A-4002-8DCE-F4B4FFE3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C5BD21-4FB1-4256-B526-3415B48A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6D30-6C3A-4A2B-A408-EFFBA251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FC9FE9-020A-4AE0-9366-280309F7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BAEF439-E63C-4E52-935A-C5DD8C4B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4AB9F0-F546-4593-AD29-EE21681F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3A3F3FA-6F69-4358-B59F-0722D131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8F33FC9-67D3-425E-968C-83237CE2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1E2EC0-08EA-4426-AF43-B59F6F7C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C055C90-D304-4B58-9669-5A8D776F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10B631-3725-4BD6-BF18-F5F94246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0CF9E6-7DFC-4D67-A9D5-8A62687D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9128685-7A54-4DD1-AF15-EB672398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F4C3-B90C-4221-B75F-CCB6298B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E0729F3-22D2-4745-9DF0-AFF66356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31FD76E-9DE6-4568-A73C-0C88237A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779BB93-8D3A-4B06-91FD-D5F9EBFE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C12A0FA-4686-4264-B868-4ACDF994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469FE14-7AC6-40F3-991D-8F213C83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02ED9DE-81B8-4816-B9A5-31C897A5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3EDF2C5-7F71-4634-8E23-595F4076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5BFF60A-0772-4869-A57F-C672F443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C7EF71-2B3C-4DB3-80B4-FF125D98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B4CA26E-E93B-4301-A4B5-B00FF046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67E6F-EE7A-4018-8FC3-71297F4A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E3A36AB-C1A1-4988-BA64-FC0C756B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E86A1EA-C131-45D3-AB1E-FB1E96D7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C791628-25CF-4B51-87E0-14BA190D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5A7475C-AA2C-4C7C-8BC3-7BFAED46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70E2668-7148-4C90-988D-CB7F51B3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49B7D9D-1855-4A53-B236-66C66C54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D7E465-1C54-4B6B-87A9-FF8E0657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398F717-5D03-41B0-851A-7DD5EF41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01DC06-A391-4539-BFE3-9D7127FF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32B8E88-2927-4D0F-A166-290383D0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B592-A883-457C-A7BB-EDA5415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7043FB-DE99-4800-843B-6F919DCB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A316982-F754-454B-AA8C-B5F45FE9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C9CFD2-6A4F-4A66-BB83-7E2B3AF5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7EDE233-9460-4A75-9994-6D67177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4D19F28-D7B3-4002-879F-ECEB77CF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F797DBA-55D0-4A86-9654-6812EBF9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FD70E32-5EF6-4996-B1DB-05F09D2D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FAC2B87-28B8-4CA8-99BB-9DDDE36B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2769B99-8BF5-4AE7-9F39-A3109C00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D497C50-6B9B-4DA7-8215-52E56D08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25251-C0C7-4F4C-A57E-EA50F3C7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6A8093-2D21-4956-AF7C-9E1344F7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5A9C4C2-90F0-48A7-8ABD-5DE132F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E498605-3C8D-4FE3-9DD7-2F6D2096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9EFCB58-7E27-4666-85C4-2E73DB67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67CB436-06EF-41F7-9CDA-3BAECC9A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C2C418E-A4C6-4F4A-AAFF-FD4DE08F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E934E41-015D-4A7C-ACFB-D875639E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A3DF873-5D17-47E4-AE0C-5178ED12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F2B2751-41A9-4140-811F-648CB862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D5455D7-A28E-4A83-91D4-65409CC9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FE4E-1FE3-4E8E-B319-E54884DB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7ACF886-3199-416A-A331-C442ADD9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04FA5B6-E392-493C-857D-07B2E14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CC0F612-0EF8-42AA-86B0-3394B947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1C29E92-F832-4B34-A805-C246C971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0FEF5F6-4A2A-4AA9-BCA9-51C01A09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2B69976-CF2C-4996-9089-29CC24B6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2F1ADA-3AA2-4967-AA5B-7481259C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7020292-FCD1-4EB8-941F-F88F00D2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9723EAE-B5B5-43A5-993D-8A1C7C74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E1299B-75E8-4BE7-9A7D-43DEC11A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B0AF0-8621-4247-98CB-BCA66CE1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8F5B10-578C-4837-8C07-728A635E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15B58EB-15C7-477D-B109-A06C931C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530B237-7FB0-4B09-B44C-E92E7364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3233D9E-20D8-4776-A39A-CEBA6730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C7C19A1-6D72-4C3A-AC4F-740F9889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05212AA-F40A-441B-BDDF-905146A8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DB726D6-5819-4285-AF36-80C01FEC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42C7341-A8A0-444E-B37F-A570B1BD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B629017-A167-400E-98A6-41BE50F1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E0B128E-48FF-48BD-9F21-19F7542C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35E54-03F2-424B-AE31-A8E7FB30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912854-90D7-42F8-8FE9-5F011BCC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A00A4B-7CB3-43DF-9B6E-1DA84B9C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C2C254A-7275-4D56-9E3A-3B5B9F38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46C3724-1A97-4E4D-AED0-7696FD00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1AFA8F2-CEB7-4FC1-94B7-45B576D0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E3CEAC-0B0A-4386-877E-8D1E1F72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0B39AF7-C34C-4E22-ACE0-2597EB17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42D8CBB-721D-4E2A-8D74-D6555207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401A7CE-03A8-4A8C-AD49-5811DC4E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B94199D-4DD5-4ACA-971E-572ADBB5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9A10-BB78-445E-A828-806D1AE0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3415EF2-B291-46A7-B67E-ECC77E43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B9DD385-62CA-40DB-8B1A-8E196EEB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EB39CD3-38BC-4385-892B-9045477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F68B691-A9C9-4E92-BBA2-CAF4D3AB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F325FB2-251B-44F5-979B-ADB40CB8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190D348-1DFD-41A7-9C86-9DCEBB0A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0B2E895-8764-4E20-9661-1909AC6F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FF4D684-F186-449B-B168-108270CC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A6430C4-E1A4-4D78-9219-885C944F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02F3A22-6F1E-4165-9CE2-2DF51917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703D9-569F-4901-9F49-2F80EE33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EB8DEF0-2A75-4330-BF23-D3B1A7A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9E0B4BF-6773-4C65-A151-B87202ED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F5558AC-2529-41CE-BF0E-E3BBEFBF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5C2BE89-5CC3-4DBC-A82C-F79D70D9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923AFA6-8A44-4FDF-8DF8-78B3EB2C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A5BB181-9A17-496B-BC00-232D2487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48DFD58-FC52-4055-99A4-CDB58A8A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6360580-992B-4CAF-979B-E181564E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4D2A2D5-97E7-4253-B9D4-23AF97C8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C460F9C-984F-4825-B593-8B7ADE95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427C-3B6A-48BD-AD01-90AF5B60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6FEFD56-C9BB-4FC0-96A6-50FDA08E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237CC32-D922-49F7-ACA8-50396ECA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60BFDD4-41FA-41AB-9CE5-C71607E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5A9BA28-329F-4B0F-B54B-39C92C4D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443C27A-9A72-469E-A036-5011A07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ACC1A9F-877F-47AA-9A85-F1C96E36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C7A44EE-C07C-4C85-9A12-5CEAEC00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867AC54-8190-4481-B675-11D94D5B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D348924-641D-40A5-9D39-D9A6F780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93C5D-24EE-4289-9E7B-A567A960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1DF34-C4AD-40EB-99B8-3FDE439A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95C1AAE-8EF0-4CC6-83F2-A5494BA8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E497A62-90EB-4831-8C63-08703363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C22B916-C6E2-4B57-A23D-9852F7DA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42D844D-5FF9-4C22-A3C3-F7862CF5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67890C6-5EDA-4DF5-A28B-C611B69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F4561C6-3511-443C-AD14-4D0E890F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EAF668C-4C78-4A1D-8F4C-FA1F00B7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1828760-C7B8-488B-A820-8568334A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777811E-FE89-4733-A737-DFE7B61D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38A82-B82E-4300-B84A-9D6E9C76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D40221F-E561-4882-821B-FB596C45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7DE413F-1621-49EB-881E-26A5179A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AF2687C-09D0-4C05-A8A4-723C952A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1120E8A-6D8A-4110-84CF-7435D5F9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4D73462-B034-4500-A4C1-7EB356B1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484FA7C-BE87-41C3-A70A-92A343E0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25A1731-B530-471F-B596-578D12CA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97E23F9-FAE5-46E5-A283-A6A523D3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39C7D4E-12A1-494B-B7C8-76673A0D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D93F8AC-C898-4F2E-B763-9E53906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5A21-601A-4C1C-8845-6D2B65CE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386C949-8717-48AC-8751-AC4B59C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72DAB0D-C2CA-4642-AEB5-9BB5BE7B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C96ADAB-89EC-4175-A9A3-F9E08158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4A6A495-3576-4CE3-A0B8-4BABDC4D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560DF02-16D7-4272-8A84-495F463A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0576FD8-050E-480F-B634-DD81CEE2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03E44E2-1096-44D8-9142-3DB9BA71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C75CB06-55CD-40F7-9F23-894EAE37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FA384FB-149A-46AC-AE53-B145C56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153C629-61B2-402C-AA1D-CA6EF53C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E7ABB-C0A1-4E6A-876F-F0749CD1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5751F1E-0F54-4768-AC37-5EE26F2C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30C1971-2EF1-43E3-BCFB-5DD85847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2F81DE3-BD7E-4221-B85F-89018E3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914B230-3650-4709-B3DE-2A054E1B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969A359-AC75-4FCE-B68B-53950BE2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701FDAC-6848-4ADB-A340-958AB4FA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86454CD-C16F-4836-B2F3-0B409CAF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FBE5498-0050-44EF-A25D-A244D33B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B32787C-EFBF-4EE6-8B02-ECB2CED9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EB576C7-7066-4B92-A2C5-BD89B673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02B9A-8D43-44B1-9170-BEFD4BFE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6E82489-6DD2-4426-AF57-8E054C0A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10461E7-3432-4C77-BB42-9D1AE9F1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7B5FC41-1080-4393-AFFC-1CE751B1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F67BF68-D25B-4BDC-A1F2-F0117321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F770B82-FB40-41A8-8190-8AB334A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3091AE4-E4C0-4B80-BD7E-3090F576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B77002D-2E9B-4795-BD43-6EDAF383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E093352-BD3F-4474-8273-38A3F491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CAC42FF-FA43-48F5-AED5-59F38903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741A996-D2DA-46D5-857D-532A9FD9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D2F3F-0A19-4147-85CD-49412CF5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BE668D1-C426-488E-A78B-EE7B0C38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46D91B1-984F-41C9-98A0-891914A0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A9D073D-8799-4607-AF58-D0FE59AF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BB23B87-B93E-4674-AF14-93972BD5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4663971-4D65-4F2C-84B6-9344C53E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D4B7D38-8562-4025-ACCA-D4F7CD6B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E9AB550-4F59-44B4-983B-0DD0E6EC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18AEA1C-2F04-4F2C-8AE6-98D1D7F5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716CE91-6330-4824-9F25-A1869C6E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8259AB7-0626-4D1E-B04F-997188D8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F1699-52EA-4AFD-9D76-686D18EA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660953B-59D4-4F00-B564-FE7499E3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3D19A39-A071-4F38-B797-2BC2EE23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D10A8FC-9E0E-463E-9A35-0376934C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3ECEFBD-E485-4153-8BEC-57781645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57E72DE-58D9-4798-9865-702EA5EF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F0E4F79-E2DB-4BF9-88B0-EB959D16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46CF492-BC1A-415B-BAE0-2EDDA940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39F31BE-E20A-4591-99BF-33E4B71F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0809C3D-1F25-487D-AF31-DB4A8A57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90EA5B9-C9CC-40A0-A053-99116CC8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FD2E7-2BD0-4B57-BE3A-88599E2B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BC7BF7C-DC9D-411E-A836-22BCBDAB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BDA2DF5-3CF7-48DF-B4D9-228D9685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73945A1-7B9E-4E66-94A6-839914B4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638D40F-4332-4777-9DF0-AAC5A16E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A5F839C-BC09-4A54-81B2-AF70F403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DD726F9-3397-4F96-A961-6E5781B7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96BBBF6-2B62-4DB9-B532-932790BA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530CCDA-1997-4038-A1D4-92A54FD9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ECA25FC-3105-4980-B4BA-DF497159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C5617FF-1070-4649-AE9B-D6C1A4D7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7BB54-0B4A-4899-96B2-B79EDE23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30C51EA-A1A4-469E-91B3-3C57A444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3E36313-BA75-46B3-85A0-9FEA59C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832ADF9-1D27-41A8-B0BF-C4E84116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251294D-39FD-427E-9502-6740597B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9770418-3256-4291-A1B7-42F10DCA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BCC4F96-D956-428D-BB78-5B7FB58A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7B66804-B1FB-4987-B8F2-D82F57D7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FC12F4D-0624-4AEB-A202-D5AE9E35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53DDB01-DDEF-47A0-AED9-BCE5EA8B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1F73288-8E9A-4EBA-BDAB-93466D7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68639-6C9A-46B1-902B-7D4AA1C8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B17AF64-B159-4D4E-A55F-8336B70C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80856D8-6E6F-45A3-87B8-CB9D7A0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7A81C13-9D58-4E66-A510-5EC4FE16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F7F92AD-E8F7-4B52-AF3F-C2734E0D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EBB1D0B-0DCE-484E-A9BB-89F3C33B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6BC1C16-F771-4AB7-AE84-3E31F852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E03D341-11FA-4855-8432-38D09BAF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CE9694F-072C-4890-B0D1-0DCEF302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FF2B4AD-795A-4EA8-9E87-AA963D49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E490D52-D742-4BB1-81EA-BE74A75A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B864F-4B40-4DE2-B29B-32D7053C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79FA7D3-FB87-4649-8293-D58BD903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458C001-E1DB-43BC-BC57-822A00AC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E819DB3-9153-4C54-A773-25AF37CB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9766257-7640-435B-B265-D10A772E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25792B9-57C5-40FA-B207-879221C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1FB11C8-BC29-4578-ACD2-50BD1F4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824D799-ABAC-4CD6-B35B-11544508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35AD641-5384-466A-92B7-5F4DE2F0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4860BD9-3078-4C71-8A54-85884B0A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590B15C-A867-4F32-B77A-EF1AB18A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01BD9-FCF2-45EC-8D5F-8294568D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F29BDDC-0AD4-438B-87B6-769CA8D4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AD9C2CB-F62C-4768-A075-28790B28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4F4CC9F-CEB4-4107-87ED-18C49F44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8AED1CE-48AC-4813-A2F6-20065FA0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BA5197B-E601-437B-90C1-BC13906C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78FB24E-267A-4683-B431-38770C81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EC20DAA-A567-4CFB-9821-8B504442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9DD6E78-CE95-4E0E-899E-51437CBA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CDF26B2-1EE6-4735-BD24-D8790A00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E89677B-D966-40D1-A7D1-F12FF28E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11F9-B3B2-4212-8865-6D6A6497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7A8ED7C-6CDF-47DF-937B-1A01B113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AF84EA2-534C-45DD-A668-1B94B86E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65DAFBA-E0A2-41CB-A40D-D7408899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904E24F-5E3C-40B8-B4C0-5B80B404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DAA0F2C-9D2F-4CBB-8F6A-103951FD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0E1B652-B630-46B3-A943-0825D221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98335BD-0C06-4D62-81E7-13348E1C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00ED558-F6B8-48FB-A33F-753AB966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7E57E8C-BD1F-4860-B852-6BB4F615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1740AAC-2523-4ADA-9F24-5C6F4B58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7E3E-A7F4-4211-A4AE-26F34B8F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669CAC9-5A3F-480E-989F-7BA6D365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55F784B-2D76-4E6D-804E-49EBC35B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0AC657E-BE79-4803-9E3C-5E9A7E73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462572C-D64D-4A84-99AD-80AE5566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7F052A9-EBF2-4715-B5DE-4CE29FDF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A20F697-C337-4CE7-9379-E4B4624D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81033C7-76AF-47A1-8C4F-78B50E3B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68D0077-6524-4316-8CCC-C6BBE53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1552220-FDB5-4DB2-8D9A-15A2129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1EC2620-9DCF-49ED-BC0A-B2F0A08D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FE050-F346-4B70-ADDB-CB6EB8A1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8AE21CF-2247-45E4-9D29-F053212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5A8C69C-E98B-4B26-8947-A33DBB3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4387C9A-1B09-4F73-8237-09FD43A0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0BAA1C0-3D03-4941-9A1F-D66216F8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16D72AA-B010-4787-8260-39231557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F7DD5-0C61-4705-ADC6-41EE8356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DCDC3-F610-4C9D-869D-3545991E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EA86-27A4-4377-A62A-AB4BE930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0A80A-294C-4A79-B148-7CEF2F51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46B7-A94F-476A-B94E-AC1EF6DD32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09E8-2464-4A0F-AD12-D31B643DF1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4572-62CC-435B-9750-F3C31DF463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628E-63B4-4360-BE76-9E421C7627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61B9-7BCE-4D64-BF45-E048210BBB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6F9C-A673-4C20-AF4F-AE56781495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652E-FF64-449C-8828-D5E541F7E9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6D51-8B11-4340-A6BE-D24D69EF3A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2B48-E47E-4E2D-BA60-8C5771C5CB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B800-B1E2-46F1-89F9-7843E48410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22458PICkZz_1024"/>
          <p:cNvPicPr/>
          <p:nvPr/>
        </p:nvPicPr>
        <p:blipFill>
          <a:blip r:embed="rId2"/>
          <a:srcRect l="0" t="0" r="63075" b="84212"/>
          <a:stretch/>
        </p:blipFill>
        <p:spPr>
          <a:xfrm>
            <a:off x="0" y="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41" name="图片 54280" descr="优翼不带字1"/>
          <p:cNvPicPr/>
          <p:nvPr/>
        </p:nvPicPr>
        <p:blipFill>
          <a:blip r:embed="rId3"/>
          <a:srcRect l="4714" t="3498" r="17937" b="6200"/>
          <a:stretch/>
        </p:blipFill>
        <p:spPr>
          <a:xfrm>
            <a:off x="8234280" y="0"/>
            <a:ext cx="909720" cy="407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22458PICkZz_1024"/>
          <p:cNvPicPr/>
          <p:nvPr/>
        </p:nvPicPr>
        <p:blipFill>
          <a:blip r:embed="rId4"/>
          <a:srcRect l="0" t="0" r="20148" b="82820"/>
          <a:stretch/>
        </p:blipFill>
        <p:spPr>
          <a:xfrm>
            <a:off x="0" y="6550200"/>
            <a:ext cx="9144000" cy="3506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3414600" y="651816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方正大黑_GBK"/>
              </a:rPr>
              <a:t>www.youyi100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2F90-E081-4DE0-95C0-CB6DC4AF24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1A23-99CC-4BC2-ADBE-4E4AA4214B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04A2-7B3A-43EE-A8BE-021CC563FE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3C24-E738-4C2D-B714-2A0EF0689A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67B0-A821-4CF6-A656-A90CF1E1F1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78C9-B45E-43C2-B571-8EAF47B545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A472-0EB7-4E5C-9522-74F951E430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7FB6-D263-46E4-9F99-C77F476DD5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7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7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C51B-ABBD-4A7C-A205-46A8599D49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3206-2BDE-487B-A3E7-D4DE01487E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9F37-E2AE-4064-97C5-A637289D68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7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8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DA73-542F-4AAD-BDD6-C29A357824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8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8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CB31-CC8A-475D-945A-5CCA75F5DF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 type="dt" idx="8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 type="sldNum" idx="8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868E-1BDD-48B1-9C10-8BE5E58CBC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8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9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67F6-FFFF-471A-8056-58CCE9FB12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dt" idx="9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ftr" idx="9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 type="sldNum" idx="9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6310-9C30-4AD0-8970-912EA1C044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CC58-026B-44A3-8058-FFA52CE0AF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 type="dt" idx="9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 type="ftr" idx="9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 type="sldNum" idx="9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B5CA-7D83-4F8B-94AB-5F0A946DF5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0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0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A136-EBDD-47B7-94D8-B1E80011C6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7F1C-28B2-4CDC-9FD5-A18EADAFA5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 type="dt" idx="10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 type="ftr" idx="10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 type="sldNum" idx="10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16CB-A7A4-40EA-AEE9-4F59388D11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0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0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A895-1764-4746-B538-54DBCF69F4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10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11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11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6C2B-E8CB-46E9-8098-439E012F5C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 type="dt" idx="11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 type="sldNum" idx="11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C793-C7AA-49E7-880C-F9BD18AF75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 type="dt" idx="11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 type="ftr" idx="1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 type="sldNum" idx="11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0F06-A4F7-473B-BD54-2C63D3533B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1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2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3946-A6C0-4BFD-8690-E0B1BE593A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 type="dt" idx="12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 type="sldNum" idx="12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BF01-0ECD-47A5-A582-D5C5975854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 type="dt" idx="12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 type="sldNum" idx="12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1118-16B5-4B68-A7F1-6EB4919CDD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 type="dt" idx="12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 type="sldNum" idx="12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6CC8-879F-4932-B9F6-C1332B6335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 type="dt" idx="13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 type="sldNum" idx="13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DEDA-0D5B-43C6-8991-163A5F186C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7A20-F8A7-4FDF-A403-B940854522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B5B6-7FD0-49D6-96EF-DD1087D390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 type="dt" idx="13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5"/>
          <p:cNvSpPr>
            <a:spLocks noGrp="1"/>
          </p:cNvSpPr>
          <p:nvPr>
            <p:ph type="sldNum" idx="13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8E28-5A1C-48DB-9CA1-FC1C008DD7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 type="dt" idx="13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 type="sldNum" idx="14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7FB4-FC97-461B-B813-DADBBC2B04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 type="dt" idx="14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5"/>
          <p:cNvSpPr>
            <a:spLocks noGrp="1"/>
          </p:cNvSpPr>
          <p:nvPr>
            <p:ph type="sldNum" idx="14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9B41-8369-4BEF-B7D6-C56B10212A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 type="dt" idx="14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 type="ftr" idx="14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 type="sldNum" idx="14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21D8-A9F5-431E-81F0-B8F8419128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 type="dt" idx="14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 type="ftr" idx="14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 type="sldNum" idx="15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B85D-05D4-4EBC-A6A5-AA30D715BF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 type="dt" idx="15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 type="ftr" idx="15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 type="sldNum" idx="15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5F1F-9BBF-468B-9E14-91121591C8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 type="dt" idx="15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 type="ftr" idx="15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 type="sldNum" idx="15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B260-9F12-46C6-8D92-AE87027EDC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 type="dt" idx="15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 type="ftr" idx="15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 type="sldNum" idx="15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7FA6-8A41-4A2E-955E-E344FD3612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8B84-FDF2-464B-AD4D-53192D024D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 type="dt" idx="16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 type="ftr" idx="16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5"/>
          <p:cNvSpPr>
            <a:spLocks noGrp="1"/>
          </p:cNvSpPr>
          <p:nvPr>
            <p:ph type="sldNum" idx="16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FBF1-6E6D-4240-A584-B0C0E5CD32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 type="dt" idx="16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 type="ftr" idx="16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 type="sldNum" idx="16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7069-566E-44AA-847D-6DC9EA7097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 type="dt" idx="16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 type="ftr" idx="16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 type="sldNum" idx="16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26DA-7A07-4A6F-BABA-E5E43B7628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 type="dt" idx="16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 type="ftr" idx="17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5"/>
          <p:cNvSpPr>
            <a:spLocks noGrp="1"/>
          </p:cNvSpPr>
          <p:nvPr>
            <p:ph type="sldNum" idx="17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9249-FA99-48B0-9B89-F62C5D8EDE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29AF-6B2C-4413-B498-BF6000D7E6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dt" idx="17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ftr" idx="17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5"/>
          <p:cNvSpPr>
            <a:spLocks noGrp="1"/>
          </p:cNvSpPr>
          <p:nvPr>
            <p:ph type="sldNum" idx="17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DB46-4B97-4B5C-8D40-E8C28F88EA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 type="dt" idx="17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 type="ftr" idx="17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 type="sldNum" idx="18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ACF5-5661-46C2-A38E-CBEA447258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 type="dt" idx="18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 type="ftr" idx="18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5"/>
          <p:cNvSpPr>
            <a:spLocks noGrp="1"/>
          </p:cNvSpPr>
          <p:nvPr>
            <p:ph type="sldNum" idx="18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4694-86D8-4682-BEAA-1466BD080D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dt" idx="18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 type="ftr" idx="18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 type="sldNum" idx="18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29BA-E4D2-49D0-8141-E90A4CBAAE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4E8F-6C5C-4A74-AB6A-BC3F7EFD64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 type="dt" idx="18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 type="ftr" idx="18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5"/>
          <p:cNvSpPr>
            <a:spLocks noGrp="1"/>
          </p:cNvSpPr>
          <p:nvPr>
            <p:ph type="sldNum" idx="18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2C0B-E205-4747-BB44-36DA7D7205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 type="dt" idx="19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 type="ftr" idx="19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5"/>
          <p:cNvSpPr>
            <a:spLocks noGrp="1"/>
          </p:cNvSpPr>
          <p:nvPr>
            <p:ph type="sldNum" idx="19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00BB-E0BE-4560-AAD4-BFE582DC23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 type="dt" idx="19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 type="ftr" idx="19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 type="sldNum" idx="19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0AB8-F8C0-4195-8C1F-5E9EA6D7CA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 type="dt" idx="19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4"/>
          <p:cNvSpPr>
            <a:spLocks noGrp="1"/>
          </p:cNvSpPr>
          <p:nvPr>
            <p:ph type="ftr" idx="19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5"/>
          <p:cNvSpPr>
            <a:spLocks noGrp="1"/>
          </p:cNvSpPr>
          <p:nvPr>
            <p:ph type="sldNum" idx="19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A408-F849-433A-992F-AA17D0C96D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 type="dt" idx="19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 type="ftr" idx="20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 type="sldNum" idx="20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4CFD-D8DB-4B6D-B178-571F9F62D4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 type="dt" idx="20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PlaceHolder 4"/>
          <p:cNvSpPr>
            <a:spLocks noGrp="1"/>
          </p:cNvSpPr>
          <p:nvPr>
            <p:ph type="ftr" idx="20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5"/>
          <p:cNvSpPr>
            <a:spLocks noGrp="1"/>
          </p:cNvSpPr>
          <p:nvPr>
            <p:ph type="sldNum" idx="20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CE9A-6C5F-47A9-9895-3B50542509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 type="dt" idx="20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 type="ftr" idx="20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 type="sldNum" idx="20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B4B8-A02E-49BE-97A5-F897A52932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 type="dt" idx="20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4"/>
          <p:cNvSpPr>
            <a:spLocks noGrp="1"/>
          </p:cNvSpPr>
          <p:nvPr>
            <p:ph type="ftr" idx="20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5"/>
          <p:cNvSpPr>
            <a:spLocks noGrp="1"/>
          </p:cNvSpPr>
          <p:nvPr>
            <p:ph type="sldNum" idx="21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3CA1-60AB-4A87-AE45-37AF5AC05F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0499-8662-473C-B5C9-98E3901D0F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0" name="矩形 4" descr=""/>
          <p:cNvPicPr/>
          <p:nvPr/>
        </p:nvPicPr>
        <p:blipFill>
          <a:blip r:embed="rId2"/>
          <a:stretch/>
        </p:blipFill>
        <p:spPr>
          <a:xfrm>
            <a:off x="1463760" y="695160"/>
            <a:ext cx="6327720" cy="1401840"/>
          </a:xfrm>
          <a:prstGeom prst="rect">
            <a:avLst/>
          </a:prstGeom>
          <a:ln w="0">
            <a:noFill/>
          </a:ln>
        </p:spPr>
      </p:pic>
      <p:pic>
        <p:nvPicPr>
          <p:cNvPr id="3141" name="矩形 6" descr=""/>
          <p:cNvPicPr/>
          <p:nvPr/>
        </p:nvPicPr>
        <p:blipFill>
          <a:blip r:embed="rId3"/>
          <a:stretch/>
        </p:blipFill>
        <p:spPr>
          <a:xfrm>
            <a:off x="3127320" y="1987560"/>
            <a:ext cx="2975040" cy="1139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Rectangle 5"/>
          <p:cNvSpPr/>
          <p:nvPr/>
        </p:nvSpPr>
        <p:spPr>
          <a:xfrm>
            <a:off x="528480" y="1338120"/>
            <a:ext cx="79678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作者要论述如何鉴赏文艺作品，为什么在开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大篇幅论述作者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读者以及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之间的联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1" name="图片 1" descr=""/>
          <p:cNvPicPr/>
          <p:nvPr/>
        </p:nvPicPr>
        <p:blipFill>
          <a:blip r:embed="rId1"/>
          <a:stretch/>
        </p:blipFill>
        <p:spPr>
          <a:xfrm>
            <a:off x="5300640" y="2611440"/>
            <a:ext cx="3618000" cy="3884760"/>
          </a:xfrm>
          <a:prstGeom prst="rect">
            <a:avLst/>
          </a:prstGeom>
          <a:ln w="0">
            <a:noFill/>
          </a:ln>
        </p:spPr>
      </p:pic>
      <p:pic>
        <p:nvPicPr>
          <p:cNvPr id="3162" name="矩形 6" descr=""/>
          <p:cNvPicPr/>
          <p:nvPr/>
        </p:nvPicPr>
        <p:blipFill>
          <a:blip r:embed="rId2"/>
          <a:stretch/>
        </p:blipFill>
        <p:spPr>
          <a:xfrm>
            <a:off x="665280" y="237960"/>
            <a:ext cx="7064280" cy="188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文本框 2"/>
          <p:cNvSpPr/>
          <p:nvPr/>
        </p:nvSpPr>
        <p:spPr>
          <a:xfrm>
            <a:off x="568440" y="228600"/>
            <a:ext cx="8089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要论述如何鉴赏文艺作品，首先要认识到文艺作品的本质，即什么是文艺作品的问题。以文字为载体，作者想要传达的所见所感，读者想要接触的作者的所见所感，就是文艺作品的本质。因此，论述作者、读者以及文字之间的联系是为了明确文艺作品的本质，是表达中心观点的前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Rectangle 5"/>
          <p:cNvSpPr/>
          <p:nvPr/>
        </p:nvSpPr>
        <p:spPr>
          <a:xfrm>
            <a:off x="696960" y="441360"/>
            <a:ext cx="79884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阅读第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自然段，说说作者是如何论证欣赏文艺作品需要驱遣想象力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作者在论证的过程中运用了哪些论证方法？请简要分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3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3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3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文本框 6147"/>
          <p:cNvSpPr/>
          <p:nvPr/>
        </p:nvSpPr>
        <p:spPr>
          <a:xfrm>
            <a:off x="277920" y="676440"/>
            <a:ext cx="84978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以赏析王维的诗句“大漠孤烟直，长河落日圆”入手，首先以纯理性思考的方式对诗句进行赏析，如“疑问：大漠上也许有几处地方聚集着人，难道不会有几缕的炊烟吗？”这样的赏析全然得不到诗句中所蕴藏的壮景与情感，换句话说，这是不驱遣想象力的结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文本框 6147"/>
          <p:cNvSpPr/>
          <p:nvPr/>
        </p:nvSpPr>
        <p:spPr>
          <a:xfrm>
            <a:off x="833400" y="360360"/>
            <a:ext cx="79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同时又论述在想象中睁开眼睛来看这十个文字所构成的画面，便能感受到诗中静寂的境界。作者通过举例论证与对比论证，得出了结论：“像这样驱遣着想象来看，这一幅图画就显现在眼前了。同时也就接触了作者的意境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Rectangle 5"/>
          <p:cNvSpPr/>
          <p:nvPr/>
        </p:nvSpPr>
        <p:spPr>
          <a:xfrm>
            <a:off x="1298520" y="747720"/>
            <a:ext cx="580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总结本文的论证思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文本框 1"/>
          <p:cNvSpPr/>
          <p:nvPr/>
        </p:nvSpPr>
        <p:spPr>
          <a:xfrm>
            <a:off x="411120" y="2143080"/>
            <a:ext cx="8123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首先通过论述作者、读者以及文字之间的联系来明确读者欣赏文艺作品的本质，即“接触作者的所见所感”，然后以赏析王维诗句为例，从正反两个角度论述了驱遣想象力的重要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Rectangle 5"/>
          <p:cNvSpPr/>
          <p:nvPr/>
        </p:nvSpPr>
        <p:spPr>
          <a:xfrm>
            <a:off x="603360" y="1743120"/>
            <a:ext cx="7935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文中有许多句子，都有十分深刻的文艺观，它们或有十分深刻的内蕴，或有写作值得借鉴的实用价值，请阅读下面几句，谈谈你对它们的理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0" name="矩形 5" descr=""/>
          <p:cNvPicPr/>
          <p:nvPr/>
        </p:nvPicPr>
        <p:blipFill>
          <a:blip r:embed="rId1"/>
          <a:stretch/>
        </p:blipFill>
        <p:spPr>
          <a:xfrm>
            <a:off x="878040" y="401760"/>
            <a:ext cx="7083360" cy="19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文本框 6147"/>
          <p:cNvSpPr/>
          <p:nvPr/>
        </p:nvSpPr>
        <p:spPr>
          <a:xfrm>
            <a:off x="468360" y="0"/>
            <a:ext cx="81406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sz="40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sz="4000" spc="-1" strike="noStrike">
                <a:solidFill>
                  <a:srgbClr val="ff0000"/>
                </a:solidFill>
                <a:latin typeface="黑体"/>
                <a:ea typeface="黑体"/>
              </a:rPr>
              <a:t>文艺的创作决不是随便取许多文字来集合在一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文本框 6147"/>
          <p:cNvSpPr/>
          <p:nvPr/>
        </p:nvSpPr>
        <p:spPr>
          <a:xfrm>
            <a:off x="270000" y="1666800"/>
            <a:ext cx="8569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任何一篇文艺作品，都是文字集合起来的，但是这是一种有着内在逻辑顺序的结合，具有文本表现中的一般技法，既表现了内容也传递着作者的思想感情。因此，这样的文章绝不可能随意拼凑，须由作者有意识有目的有逻辑地创造，而在完成时又符合自然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文本框 6147"/>
          <p:cNvSpPr/>
          <p:nvPr/>
        </p:nvSpPr>
        <p:spPr>
          <a:xfrm>
            <a:off x="441360" y="360360"/>
            <a:ext cx="8140680" cy="80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sz="3600" spc="-1" strike="noStrike">
                <a:solidFill>
                  <a:srgbClr val="ff0000"/>
                </a:solidFill>
                <a:latin typeface="黑体"/>
                <a:ea typeface="黑体"/>
              </a:rPr>
              <a:t>作者着手创作，必然对于人生先有所见，先有所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文本框 6147"/>
          <p:cNvSpPr/>
          <p:nvPr/>
        </p:nvSpPr>
        <p:spPr>
          <a:xfrm>
            <a:off x="376200" y="1760400"/>
            <a:ext cx="822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在创造之前无所见，这个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见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字，可指代材料，无见便会巧妇难为无米之炊，不可能有所创造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见”字也可理解为见识、见解，没有思考与见解，纵然下笔也只能写就平庸文章，难见深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文本框 2"/>
          <p:cNvSpPr/>
          <p:nvPr/>
        </p:nvSpPr>
        <p:spPr>
          <a:xfrm>
            <a:off x="399960" y="1089000"/>
            <a:ext cx="812664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感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体悟与情感，倘若下笔无情感寄寓其中，写出来的文字必是冷冰冰的。这也提示了我们在写作之前要学会多观察，多积累；同时要多思考，多感悟，这样才能写出优秀文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文本框 4"/>
          <p:cNvSpPr/>
          <p:nvPr/>
        </p:nvSpPr>
        <p:spPr>
          <a:xfrm>
            <a:off x="638280" y="1647720"/>
            <a:ext cx="781056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把握作者的主要观点，理清作者的论证思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味文中意蕴深刻的语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理解文章内容，学习欣赏文艺作品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4" name="矩形 6" descr=""/>
          <p:cNvPicPr/>
          <p:nvPr/>
        </p:nvPicPr>
        <p:blipFill>
          <a:blip r:embed="rId1"/>
          <a:stretch/>
        </p:blipFill>
        <p:spPr>
          <a:xfrm>
            <a:off x="1755720" y="347760"/>
            <a:ext cx="4011840" cy="20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6" name="图片 2" descr=""/>
          <p:cNvPicPr/>
          <p:nvPr/>
        </p:nvPicPr>
        <p:blipFill>
          <a:blip r:embed="rId1"/>
          <a:stretch/>
        </p:blipFill>
        <p:spPr>
          <a:xfrm>
            <a:off x="4718160" y="808200"/>
            <a:ext cx="3843360" cy="5221080"/>
          </a:xfrm>
          <a:prstGeom prst="rect">
            <a:avLst/>
          </a:prstGeom>
          <a:ln w="0">
            <a:noFill/>
          </a:ln>
        </p:spPr>
      </p:pic>
      <p:sp>
        <p:nvSpPr>
          <p:cNvPr id="3177" name="矩形 3"/>
          <p:cNvSpPr/>
          <p:nvPr/>
        </p:nvSpPr>
        <p:spPr>
          <a:xfrm>
            <a:off x="457200" y="1251000"/>
            <a:ext cx="3160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sz="4400" spc="-1" strike="noStrike">
                <a:solidFill>
                  <a:srgbClr val="0000ff"/>
                </a:solidFill>
                <a:latin typeface="黑体"/>
                <a:ea typeface="黑体"/>
              </a:rPr>
              <a:t>假如死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黑体"/>
                <a:ea typeface="黑体"/>
              </a:rPr>
              <a:t>着文字而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黑体"/>
                <a:ea typeface="黑体"/>
              </a:rPr>
              <a:t>能从文字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黑体"/>
                <a:ea typeface="黑体"/>
              </a:rPr>
              <a:t>出一幅图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黑体"/>
                <a:ea typeface="黑体"/>
              </a:rPr>
              <a:t>来，就感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黑体"/>
                <a:ea typeface="黑体"/>
              </a:rPr>
              <a:t>不到这种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ff"/>
                </a:solidFill>
                <a:latin typeface="黑体"/>
                <a:ea typeface="黑体"/>
              </a:rPr>
              <a:t>快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文本框 6147"/>
          <p:cNvSpPr/>
          <p:nvPr/>
        </p:nvSpPr>
        <p:spPr>
          <a:xfrm>
            <a:off x="371520" y="291960"/>
            <a:ext cx="84088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艺作品一般都具有形象性，尤其是诗歌、散文等文艺作品，形象性尤其突出，且情感表达也尤其浓烈。这些情感常常寄寓在形象之中，所谓“言不尽意，立象以尽意”，就是此道理。因此，想要理解一篇文艺作品，就必须把握其情感，必须通过想象还原形象的描述，进而去体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文本框 1"/>
          <p:cNvSpPr/>
          <p:nvPr/>
        </p:nvSpPr>
        <p:spPr>
          <a:xfrm>
            <a:off x="601560" y="1785960"/>
            <a:ext cx="7940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文章以王维的诗句“大漠孤烟直，长河落日圆”为例，论证了想象力于鉴赏文学作品的重要性，你能在读过的诗或散文中，再举一个例子来论证作者的观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0" name="矩形 3" descr=""/>
          <p:cNvPicPr/>
          <p:nvPr/>
        </p:nvPicPr>
        <p:blipFill>
          <a:blip r:embed="rId1"/>
          <a:stretch/>
        </p:blipFill>
        <p:spPr>
          <a:xfrm>
            <a:off x="1547640" y="195120"/>
            <a:ext cx="3640320" cy="195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文本框 6147"/>
          <p:cNvSpPr/>
          <p:nvPr/>
        </p:nvSpPr>
        <p:spPr>
          <a:xfrm>
            <a:off x="244440" y="1405080"/>
            <a:ext cx="830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他用两手攀着上面，两脚再向上缩；他肥胖的身子向左微倾，显出努力的样子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文本框 1"/>
          <p:cNvSpPr/>
          <p:nvPr/>
        </p:nvSpPr>
        <p:spPr>
          <a:xfrm>
            <a:off x="4186800" y="270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比如以朱自清先生的《背影》为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3" name="图片 2" descr=""/>
          <p:cNvPicPr/>
          <p:nvPr/>
        </p:nvPicPr>
        <p:blipFill>
          <a:blip r:embed="rId1"/>
          <a:stretch/>
        </p:blipFill>
        <p:spPr>
          <a:xfrm>
            <a:off x="3670200" y="3591000"/>
            <a:ext cx="4757760" cy="300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文本框 6147"/>
          <p:cNvSpPr/>
          <p:nvPr/>
        </p:nvSpPr>
        <p:spPr>
          <a:xfrm>
            <a:off x="476280" y="10540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段描述父亲攀爬月台背影的文字，能因我们的想象力变得更生动。他的身子微胖，我们可以想象两手上攀时定费了不少劲，甚至青筋凸起；还是因为胖，我们可以想象腿并不是缩了一次，而似是挣扎缩了好几次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文本框 6147"/>
          <p:cNvSpPr/>
          <p:nvPr/>
        </p:nvSpPr>
        <p:spPr>
          <a:xfrm>
            <a:off x="587520" y="1636560"/>
            <a:ext cx="79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是因为想象，身子微微一倾，这形象便如拍照一般在脑中定格。有了想象中还原的这一幕，父亲的形象真切起来，切实地打动了读者的心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文本框 2"/>
          <p:cNvSpPr/>
          <p:nvPr/>
        </p:nvSpPr>
        <p:spPr>
          <a:xfrm>
            <a:off x="2735280" y="2203560"/>
            <a:ext cx="200988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作者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读者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文本框 3"/>
          <p:cNvSpPr/>
          <p:nvPr/>
        </p:nvSpPr>
        <p:spPr>
          <a:xfrm>
            <a:off x="4344840" y="2109960"/>
            <a:ext cx="188280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写文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文本框 6"/>
          <p:cNvSpPr/>
          <p:nvPr/>
        </p:nvSpPr>
        <p:spPr>
          <a:xfrm>
            <a:off x="6956280" y="2004840"/>
            <a:ext cx="188460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读文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文本框 8"/>
          <p:cNvSpPr/>
          <p:nvPr/>
        </p:nvSpPr>
        <p:spPr>
          <a:xfrm>
            <a:off x="6108840" y="2066760"/>
            <a:ext cx="104616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所感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文本框 9"/>
          <p:cNvSpPr/>
          <p:nvPr/>
        </p:nvSpPr>
        <p:spPr>
          <a:xfrm>
            <a:off x="2681280" y="4656240"/>
            <a:ext cx="216864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读者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文艺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文本框 10"/>
          <p:cNvSpPr/>
          <p:nvPr/>
        </p:nvSpPr>
        <p:spPr>
          <a:xfrm>
            <a:off x="4662360" y="4314960"/>
            <a:ext cx="412452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者 —（读）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想象）画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悟意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左右箭头 11"/>
          <p:cNvSpPr/>
          <p:nvPr/>
        </p:nvSpPr>
        <p:spPr>
          <a:xfrm>
            <a:off x="6060960" y="2606760"/>
            <a:ext cx="1293840" cy="44280"/>
          </a:xfrm>
          <a:prstGeom prst="leftRightArrow">
            <a:avLst>
              <a:gd name="adj1" fmla="val 50000"/>
              <a:gd name="adj2" fmla="val 5018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左大括号 12"/>
          <p:cNvSpPr/>
          <p:nvPr/>
        </p:nvSpPr>
        <p:spPr>
          <a:xfrm>
            <a:off x="2133720" y="2359080"/>
            <a:ext cx="622080" cy="3471840"/>
          </a:xfrm>
          <a:custGeom>
            <a:avLst/>
            <a:gdLst>
              <a:gd name="textAreaLeft" fmla="*/ 397440 w 622080"/>
              <a:gd name="textAreaRight" fmla="*/ 622440 w 622080"/>
              <a:gd name="textAreaTop" fmla="*/ 16200 h 3471840"/>
              <a:gd name="textAreaBottom" fmla="*/ 3455640 h 34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2"/>
                  <a:pt x="10800" y="323"/>
                </a:cubicBezTo>
                <a:lnTo>
                  <a:pt x="10800" y="10477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2"/>
                  <a:pt x="10800" y="11123"/>
                </a:cubicBezTo>
                <a:lnTo>
                  <a:pt x="10800" y="21277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4" name="矩形 13" descr=""/>
          <p:cNvPicPr/>
          <p:nvPr/>
        </p:nvPicPr>
        <p:blipFill>
          <a:blip r:embed="rId1"/>
          <a:stretch/>
        </p:blipFill>
        <p:spPr>
          <a:xfrm>
            <a:off x="133200" y="-60480"/>
            <a:ext cx="4597560" cy="1481400"/>
          </a:xfrm>
          <a:prstGeom prst="rect">
            <a:avLst/>
          </a:prstGeom>
          <a:ln w="0">
            <a:noFill/>
          </a:ln>
        </p:spPr>
      </p:pic>
      <p:sp>
        <p:nvSpPr>
          <p:cNvPr id="3195" name="TextBox 14"/>
          <p:cNvSpPr/>
          <p:nvPr/>
        </p:nvSpPr>
        <p:spPr>
          <a:xfrm>
            <a:off x="429480" y="2093760"/>
            <a:ext cx="139932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驱遣我们的想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6" name="Picture 2" descr="C:\Users\Administrator\Desktop\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7" name="矩形 2" descr=""/>
          <p:cNvPicPr/>
          <p:nvPr/>
        </p:nvPicPr>
        <p:blipFill>
          <a:blip r:embed="rId2"/>
          <a:stretch/>
        </p:blipFill>
        <p:spPr>
          <a:xfrm>
            <a:off x="2523960" y="1305000"/>
            <a:ext cx="3846600" cy="42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Rectangle 5"/>
          <p:cNvSpPr/>
          <p:nvPr/>
        </p:nvSpPr>
        <p:spPr>
          <a:xfrm>
            <a:off x="431640" y="1077840"/>
            <a:ext cx="55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叶圣陶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894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198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，原名叶绍钧，字秉臣、圣陶，生于江苏苏州，现代作家、教育家。有“优秀的语言艺术家”之称，终身致力于出版及语文的教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6" name="矩形 5" descr=""/>
          <p:cNvPicPr/>
          <p:nvPr/>
        </p:nvPicPr>
        <p:blipFill>
          <a:blip r:embed="rId1"/>
          <a:stretch/>
        </p:blipFill>
        <p:spPr>
          <a:xfrm>
            <a:off x="2090880" y="-36360"/>
            <a:ext cx="3760560" cy="1218960"/>
          </a:xfrm>
          <a:prstGeom prst="rect">
            <a:avLst/>
          </a:prstGeom>
          <a:ln w="0">
            <a:noFill/>
          </a:ln>
        </p:spPr>
      </p:pic>
      <p:pic>
        <p:nvPicPr>
          <p:cNvPr id="3147" name="Picture 7" descr="C:\Users\Administrator\Desktop\123.jpg"/>
          <p:cNvPicPr/>
          <p:nvPr/>
        </p:nvPicPr>
        <p:blipFill>
          <a:blip r:embed="rId2"/>
          <a:stretch/>
        </p:blipFill>
        <p:spPr>
          <a:xfrm>
            <a:off x="5727600" y="2136600"/>
            <a:ext cx="3230640" cy="372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8" name="矩形 1" descr=""/>
          <p:cNvPicPr/>
          <p:nvPr/>
        </p:nvPicPr>
        <p:blipFill>
          <a:blip r:embed="rId1"/>
          <a:stretch/>
        </p:blipFill>
        <p:spPr>
          <a:xfrm>
            <a:off x="706320" y="182520"/>
            <a:ext cx="7066080" cy="1895400"/>
          </a:xfrm>
          <a:prstGeom prst="rect">
            <a:avLst/>
          </a:prstGeom>
          <a:ln w="0">
            <a:noFill/>
          </a:ln>
        </p:spPr>
      </p:pic>
      <p:sp>
        <p:nvSpPr>
          <p:cNvPr id="3149" name="Rectangle 1"/>
          <p:cNvSpPr/>
          <p:nvPr/>
        </p:nvSpPr>
        <p:spPr>
          <a:xfrm>
            <a:off x="1636200" y="1576800"/>
            <a:ext cx="487152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桥堍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契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海啸      歌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驱遣      苟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旷远      拘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3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Rectangle 5"/>
          <p:cNvSpPr/>
          <p:nvPr/>
        </p:nvSpPr>
        <p:spPr>
          <a:xfrm>
            <a:off x="1379520" y="1501920"/>
            <a:ext cx="678348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你能在文中找出表达作者观点的句子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1" name="矩形 6" descr=""/>
          <p:cNvPicPr/>
          <p:nvPr/>
        </p:nvPicPr>
        <p:blipFill>
          <a:blip r:embed="rId1"/>
          <a:stretch/>
        </p:blipFill>
        <p:spPr>
          <a:xfrm>
            <a:off x="1914480" y="-281160"/>
            <a:ext cx="4815000" cy="2597400"/>
          </a:xfrm>
          <a:prstGeom prst="rect">
            <a:avLst/>
          </a:prstGeom>
          <a:ln w="0">
            <a:noFill/>
          </a:ln>
        </p:spPr>
      </p:pic>
      <p:pic>
        <p:nvPicPr>
          <p:cNvPr id="3152" name="矩形 7" descr=""/>
          <p:cNvPicPr/>
          <p:nvPr/>
        </p:nvPicPr>
        <p:blipFill>
          <a:blip r:embed="rId2"/>
          <a:stretch/>
        </p:blipFill>
        <p:spPr>
          <a:xfrm>
            <a:off x="384120" y="5084640"/>
            <a:ext cx="8766360" cy="112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3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Rectangle 5"/>
          <p:cNvSpPr/>
          <p:nvPr/>
        </p:nvSpPr>
        <p:spPr>
          <a:xfrm>
            <a:off x="620640" y="2576520"/>
            <a:ext cx="81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在全文中找出能表达作者观点的句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文本框 1"/>
          <p:cNvSpPr/>
          <p:nvPr/>
        </p:nvSpPr>
        <p:spPr>
          <a:xfrm>
            <a:off x="316080" y="4044960"/>
            <a:ext cx="8032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5" name="矩形 4" descr=""/>
          <p:cNvPicPr/>
          <p:nvPr/>
        </p:nvPicPr>
        <p:blipFill>
          <a:blip r:embed="rId1"/>
          <a:stretch/>
        </p:blipFill>
        <p:spPr>
          <a:xfrm>
            <a:off x="1676520" y="414360"/>
            <a:ext cx="4383000" cy="325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矩形 1"/>
          <p:cNvSpPr/>
          <p:nvPr/>
        </p:nvSpPr>
        <p:spPr>
          <a:xfrm>
            <a:off x="768240" y="939960"/>
            <a:ext cx="79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文字是一道桥梁。通过了这一道桥梁，读者才和作者会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作者想做到的是：写下来的文字正好传达出他的所见所感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文本框 2"/>
          <p:cNvSpPr/>
          <p:nvPr/>
        </p:nvSpPr>
        <p:spPr>
          <a:xfrm>
            <a:off x="652320" y="630360"/>
            <a:ext cx="79725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就读者的方面说，他们要通过文字去接触作者的所见所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像这样驱遣着想象来看，这一幅图画就显现在眼前了。同时也就接触了作者的意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Rectangle 5"/>
          <p:cNvSpPr/>
          <p:nvPr/>
        </p:nvSpPr>
        <p:spPr>
          <a:xfrm>
            <a:off x="514440" y="349200"/>
            <a:ext cx="814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综合上述观点，结合文题总结作者在全文中所表达的中心观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文本框 1"/>
          <p:cNvSpPr/>
          <p:nvPr/>
        </p:nvSpPr>
        <p:spPr>
          <a:xfrm>
            <a:off x="501480" y="3090960"/>
            <a:ext cx="80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欣赏文艺作品，要学着驱遣自己的想象力，通过文字去接触作者的所见所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User</dc:creator>
  <dc:description/>
  <cp:keywords/>
  <dc:language>en-US</dc:language>
  <cp:lastModifiedBy>Administrator</cp:lastModifiedBy>
  <dcterms:modified xsi:type="dcterms:W3CDTF">2018-09-12T03:58:22Z</dcterms:modified>
  <cp:revision>2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