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BB60-4C3F-41C2-9D0E-DE7E969DE2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C550-42C4-4287-8DC3-25E081938D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299-1EEB-4A95-A922-4C73B62E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8A8-DA87-4012-9659-A2703352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3BD-6077-420D-94D1-9B71F943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095-C4BD-4605-9FEA-B6AEA07A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F903-97C9-45A2-89FB-3C16D367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43FF-3FC9-4300-BF7B-B983D6CF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6F45-987C-48AE-A85E-54E29DBC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37EB-19A6-447A-B347-33D1D208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E303-3F46-4ABA-AFE7-6B57173B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B80A-D56E-4D4E-A213-85796CC0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5632-AD34-4333-876D-65047A7D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4A6-9EF9-4E1D-8626-99A87869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BA7F-3320-40AA-905C-8E3B9935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1C08-D594-4BB6-B93A-D3712867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A130-68A1-48D5-AD81-DD187062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7157-0913-4648-A572-67FC74FC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E6B5-8030-41E9-9A05-04327B99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10FE-75DD-4086-8E94-62042138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2456-F6D3-41BF-9FCE-8E772034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649FA-51D5-48A2-9AF4-9C250B62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7708-C25E-4941-B84D-F04510C5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3910-1453-48E7-B61F-9FC76F16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316-9C35-4403-9F74-F41FBD63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135E-BBA9-49BF-B21F-9E669C90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3D3B-25FE-4EBA-B85F-34C4290F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A0AC-6EB8-45DA-BAF9-33A6B84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5644-6D02-4DBC-8E28-0AF310F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FCE5-A117-4219-9638-C573EAE8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A8B3-9426-4A08-85AD-E502FB97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5F21-556C-4626-87E6-C1D9411D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8082-CA1B-48AE-B18C-45D0640F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EA8E-BA10-4701-9CA3-33D8252D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5EA5-0401-495D-85BF-A2962878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859-F201-4AD8-9327-CB6D2A5D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5F05C-1CEE-4F69-A980-FACDF810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17A8-91A0-4C82-8B25-B44A1AE4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E266-86CB-4965-80B9-5292880E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74E4C-C330-42D3-9E59-1DD51C67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9EE4-CF7F-4072-9DFC-6F60AFD8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76F27-6083-46F9-80C5-7C86ECC0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43FF6-BADC-45AA-B5F0-4829C068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B126-6D03-4383-B55A-29B43E99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F00A-1BB0-4AFF-9EDC-2793A6C5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9D2-CA2A-40DD-8CDC-E2632E19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103-F204-4BA6-B51B-DE6EC4FE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73A-1DB9-4917-BEEA-7B819CF6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E5D-5145-4D11-A10F-148049CE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5ED-3DD5-46B1-AF50-02644E5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E128-12FD-4FAD-83C3-1E6139CEFD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18CA-58C5-4E80-A61C-7D812759B6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amboo"/>
          <p:cNvPicPr/>
          <p:nvPr/>
        </p:nvPicPr>
        <p:blipFill>
          <a:blip r:embed="rId3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94BE-E392-4780-A2EF-E77F28710F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bamboo"/>
          <p:cNvPicPr/>
          <p:nvPr/>
        </p:nvPicPr>
        <p:blipFill>
          <a:blip r:embed="rId3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68F0-62C6-40DC-BC09-EC4882F34E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" Target="slide25.xml"/><Relationship Id="rId4" Type="http://schemas.openxmlformats.org/officeDocument/2006/relationships/image" Target="../media/image11.jpeg"/><Relationship Id="rId5" Type="http://schemas.openxmlformats.org/officeDocument/2006/relationships/slide" Target="slide26.xml"/><Relationship Id="rId6" Type="http://schemas.openxmlformats.org/officeDocument/2006/relationships/image" Target="../media/image12.gif"/><Relationship Id="rId7" Type="http://schemas.openxmlformats.org/officeDocument/2006/relationships/slide" Target="slide27.xml"/><Relationship Id="rId8" Type="http://schemas.openxmlformats.org/officeDocument/2006/relationships/image" Target="../media/image13.jpeg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33680" y="-64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隶书"/>
                <a:ea typeface="华文隶书"/>
              </a:rPr>
              <a:t>义务教育课程标准实验教科书             </a:t>
            </a:r>
            <a:r>
              <a:rPr b="1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人教版小学语文四年级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矩形 4" descr=""/>
          <p:cNvPicPr/>
          <p:nvPr/>
        </p:nvPicPr>
        <p:blipFill>
          <a:blip r:embed="rId3"/>
          <a:stretch/>
        </p:blipFill>
        <p:spPr>
          <a:xfrm>
            <a:off x="476280" y="1311120"/>
            <a:ext cx="1712880" cy="39801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6572160" y="5699160"/>
            <a:ext cx="23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华文隶书"/>
                <a:ea typeface="华文隶书"/>
              </a:rPr>
              <a:t>达州职业技术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华文隶书"/>
                <a:ea typeface="华文隶书"/>
              </a:rPr>
              <a:t>师范系</a:t>
            </a:r>
            <a:r>
              <a:rPr b="1" lang="zh-CN" sz="2000" spc="-1" strike="noStrike">
                <a:solidFill>
                  <a:srgbClr val="00b050"/>
                </a:solidFill>
                <a:latin typeface="华文隶书"/>
                <a:ea typeface="华文隶书"/>
              </a:rPr>
              <a:t>09</a:t>
            </a:r>
            <a:r>
              <a:rPr b="1" lang="zh-CN" sz="2000" spc="-1" strike="noStrike">
                <a:solidFill>
                  <a:srgbClr val="00b050"/>
                </a:solidFill>
                <a:latin typeface="华文隶书"/>
                <a:ea typeface="华文隶书"/>
              </a:rPr>
              <a:t>语文专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华文隶书"/>
                <a:ea typeface="华文隶书"/>
              </a:rPr>
              <a:t>刘      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2"/>
          <p:cNvSpPr/>
          <p:nvPr/>
        </p:nvSpPr>
        <p:spPr>
          <a:xfrm>
            <a:off x="69840" y="2228760"/>
            <a:ext cx="824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读了课文你有什么话想说说吗？的疑问，你的感受，你的收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360" y="1000080"/>
            <a:ext cx="73216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课文结尾的省略号省略的是什么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把你想到的讲给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1.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小鸟为火苗唱歌之后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,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小鸟对火苗说道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2.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火苗听了小鸟的歌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,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想起了难忘的往事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3.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火苗听了小鸟的歌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,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说道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80880" y="1905120"/>
            <a:ext cx="77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真正的朋友是离别后的牵挂，是彼此间的珍爱，是有诺必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5"/>
          <p:cNvSpPr/>
          <p:nvPr/>
        </p:nvSpPr>
        <p:spPr>
          <a:xfrm>
            <a:off x="2643120" y="21420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50"/>
                </a:solidFill>
                <a:latin typeface="华文隶书"/>
                <a:ea typeface="华文隶书"/>
              </a:rPr>
              <a:t>课文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2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:\洪和田玉的个人创作\洪和田玉的\新建文件夹1\去年的树\W020100902384612547093.jpg"/>
          <p:cNvPicPr/>
          <p:nvPr/>
        </p:nvPicPr>
        <p:blipFill>
          <a:blip r:embed="rId2"/>
          <a:stretch/>
        </p:blipFill>
        <p:spPr>
          <a:xfrm>
            <a:off x="0" y="-73080"/>
            <a:ext cx="4572000" cy="693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H:\洪和田玉的个人创作\洪和田玉的\新建文件夹1\去年的树\W020100902384612077415.jpg"/>
          <p:cNvPicPr/>
          <p:nvPr/>
        </p:nvPicPr>
        <p:blipFill>
          <a:blip r:embed="rId3"/>
          <a:stretch/>
        </p:blipFill>
        <p:spPr>
          <a:xfrm>
            <a:off x="4572000" y="-65160"/>
            <a:ext cx="4572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:\洪和田玉的个人创作\洪和田玉的\新建文件夹1\去年的树\W020100902384611752771.jpg"/>
          <p:cNvPicPr/>
          <p:nvPr/>
        </p:nvPicPr>
        <p:blipFill>
          <a:blip r:embed="rId2"/>
          <a:stretch/>
        </p:blipFill>
        <p:spPr>
          <a:xfrm>
            <a:off x="0" y="0"/>
            <a:ext cx="45244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50920" y="838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鸟儿到南方去之前答应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春天，鸟儿从南方飞回来却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鸟儿在火柴点燃的煤油灯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，因为它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50920" y="1922400"/>
            <a:ext cx="47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明年春天回来给它唱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01480" y="30034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好朋友树不见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18960" y="4083120"/>
            <a:ext cx="45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唱起了去年唱过的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46120" y="4659480"/>
            <a:ext cx="43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思念树这个好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2800440" y="21420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50"/>
                </a:solidFill>
                <a:latin typeface="华文隶书"/>
                <a:ea typeface="华文隶书"/>
              </a:rPr>
              <a:t>课堂讨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1295280"/>
            <a:ext cx="785808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作为读者，你肯定还有很多话想说，你想对谁说呢？把自己想说的话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我想对小鸟说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我想对大树说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我想对作者说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我想对伐木工人说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240" y="137772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课文为什么取名为《去年的树》而不是《今年的树》或《小鸟和树》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3029040"/>
            <a:ext cx="75438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比较 《去年的树》与《今年的树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提问：今年还有树吗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比较《去年的树》与《小鸟与树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5"/>
          <p:cNvSpPr/>
          <p:nvPr/>
        </p:nvSpPr>
        <p:spPr>
          <a:xfrm>
            <a:off x="2786040" y="21420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50"/>
                </a:solidFill>
                <a:latin typeface="华文隶书"/>
                <a:ea typeface="华文隶书"/>
              </a:rPr>
              <a:t>导语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3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800440" y="21420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50"/>
                </a:solidFill>
                <a:latin typeface="华文隶书"/>
                <a:ea typeface="华文隶书"/>
              </a:rPr>
              <a:t>板书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96720" y="3076560"/>
            <a:ext cx="2768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	</a:t>
            </a: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去年的树 </a:t>
            </a: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2066760" y="1852560"/>
            <a:ext cx="287640" cy="3021120"/>
          </a:xfrm>
          <a:custGeom>
            <a:avLst/>
            <a:gdLst>
              <a:gd name="textAreaLeft" fmla="*/ 183960 w 287640"/>
              <a:gd name="textAreaRight" fmla="*/ 288000 w 287640"/>
              <a:gd name="textAreaTop" fmla="*/ 78480 h 3021120"/>
              <a:gd name="textAreaBottom" fmla="*/ 2942640 h 302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3002040" y="2860560"/>
            <a:ext cx="0" cy="1297080"/>
          </a:xfrm>
          <a:prstGeom prst="line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u=2198473263,3514198191&amp;gp=-40[1]"/>
          <p:cNvPicPr/>
          <p:nvPr/>
        </p:nvPicPr>
        <p:blipFill>
          <a:blip r:embed="rId2"/>
          <a:stretch/>
        </p:blipFill>
        <p:spPr>
          <a:xfrm>
            <a:off x="2643120" y="2068560"/>
            <a:ext cx="863640" cy="622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54400" y="170820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06f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54400" y="2571840"/>
            <a:ext cx="736560" cy="936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154400" y="3579840"/>
            <a:ext cx="8636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FamilyPicture847717"/>
          <p:cNvPicPr/>
          <p:nvPr/>
        </p:nvPicPr>
        <p:blipFill>
          <a:blip r:embed="rId9"/>
          <a:stretch/>
        </p:blipFill>
        <p:spPr>
          <a:xfrm>
            <a:off x="2570040" y="4156200"/>
            <a:ext cx="822600" cy="11444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2"/>
          <p:cNvSpPr/>
          <p:nvPr/>
        </p:nvSpPr>
        <p:spPr>
          <a:xfrm>
            <a:off x="3017520" y="3076560"/>
            <a:ext cx="729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 flipH="1">
            <a:off x="5306400" y="1852560"/>
            <a:ext cx="144360" cy="302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3794040" y="2139840"/>
            <a:ext cx="144720" cy="237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961600" y="3076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友情深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2296800" y="2790720"/>
            <a:ext cx="729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2309400" y="3505320"/>
            <a:ext cx="72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457200" y="304920"/>
            <a:ext cx="2362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b0f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四次对话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b0f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124080" y="1746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与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大树2"/>
          <p:cNvPicPr/>
          <p:nvPr/>
        </p:nvPicPr>
        <p:blipFill>
          <a:blip r:embed="rId2"/>
          <a:stretch/>
        </p:blipFill>
        <p:spPr>
          <a:xfrm>
            <a:off x="5967360" y="1523880"/>
            <a:ext cx="1033560" cy="990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3124080" y="30924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与树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u=1801405177,1088114174&amp;gp=0"/>
          <p:cNvPicPr/>
          <p:nvPr/>
        </p:nvPicPr>
        <p:blipFill>
          <a:blip r:embed="rId3"/>
          <a:stretch/>
        </p:blipFill>
        <p:spPr>
          <a:xfrm>
            <a:off x="5929200" y="2793960"/>
            <a:ext cx="1143000" cy="9320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3124080" y="42609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与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u=2164948680,2671052680&amp;gp=0"/>
          <p:cNvPicPr/>
          <p:nvPr/>
        </p:nvPicPr>
        <p:blipFill>
          <a:blip r:embed="rId4"/>
          <a:stretch/>
        </p:blipFill>
        <p:spPr>
          <a:xfrm>
            <a:off x="6157800" y="3886200"/>
            <a:ext cx="771480" cy="981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9"/>
          <p:cNvSpPr/>
          <p:nvPr/>
        </p:nvSpPr>
        <p:spPr>
          <a:xfrm>
            <a:off x="2971800" y="5486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与小女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" descr="u=2915746720,2790551712&amp;gp=3"/>
          <p:cNvPicPr/>
          <p:nvPr/>
        </p:nvPicPr>
        <p:blipFill>
          <a:blip r:embed="rId5"/>
          <a:stretch/>
        </p:blipFill>
        <p:spPr>
          <a:xfrm>
            <a:off x="6072120" y="51814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"/>
          <p:cNvPicPr/>
          <p:nvPr/>
        </p:nvPicPr>
        <p:blipFill>
          <a:blip r:embed="rId6"/>
          <a:stretch/>
        </p:blipFill>
        <p:spPr>
          <a:xfrm>
            <a:off x="1981080" y="1600200"/>
            <a:ext cx="1067040" cy="787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/>
          <p:cNvPicPr/>
          <p:nvPr/>
        </p:nvPicPr>
        <p:blipFill>
          <a:blip r:embed="rId7"/>
          <a:stretch/>
        </p:blipFill>
        <p:spPr>
          <a:xfrm>
            <a:off x="1905120" y="2971800"/>
            <a:ext cx="1066680" cy="787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"/>
          <p:cNvPicPr/>
          <p:nvPr/>
        </p:nvPicPr>
        <p:blipFill>
          <a:blip r:embed="rId8"/>
          <a:stretch/>
        </p:blipFill>
        <p:spPr>
          <a:xfrm>
            <a:off x="1905120" y="4191120"/>
            <a:ext cx="1066680" cy="787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9"/>
          <a:stretch/>
        </p:blipFill>
        <p:spPr>
          <a:xfrm>
            <a:off x="1828800" y="5410080"/>
            <a:ext cx="1066680" cy="7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85840" y="1889640"/>
            <a:ext cx="756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树对鸟儿说：“再见了，小鸟！明年春天请你再回来，还唱歌给我听。” </a:t>
            </a:r>
            <a:br>
              <a:rPr sz="3600"/>
            </a:b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鸟儿说：“好的，我明年春天一定回来，给你唱歌，请等着我吧！”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124080" y="3747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与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大树2"/>
          <p:cNvPicPr/>
          <p:nvPr/>
        </p:nvPicPr>
        <p:blipFill>
          <a:blip r:embed="rId2"/>
          <a:stretch/>
        </p:blipFill>
        <p:spPr>
          <a:xfrm>
            <a:off x="5324400" y="285840"/>
            <a:ext cx="1033560" cy="990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2286000" y="457200"/>
            <a:ext cx="8380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71280" y="1981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“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立在这儿的那棵树，到什么地方去了呀？”鸟儿问树根。</a:t>
            </a:r>
            <a:br>
              <a:rPr sz="3600"/>
            </a:b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树根回答：“伐木人用斧子把它砍倒，拉到山谷里去了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124080" y="5270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与树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u=1801405177,1088114174&amp;gp=0"/>
          <p:cNvPicPr/>
          <p:nvPr/>
        </p:nvPicPr>
        <p:blipFill>
          <a:blip r:embed="rId2"/>
          <a:stretch/>
        </p:blipFill>
        <p:spPr>
          <a:xfrm>
            <a:off x="5929200" y="353880"/>
            <a:ext cx="1143000" cy="932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2209680" y="533520"/>
            <a:ext cx="990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71280" y="1995480"/>
            <a:ext cx="785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她问大门：“门先生，我的好朋友树在哪儿，您知道吗？”</a:t>
            </a:r>
            <a:br>
              <a:rPr sz="3600"/>
            </a:b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　　门回答说：“树么在厂子里给切成细条条儿，做成火柴，运到那边的村子里卖掉了。”</a:t>
            </a: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195720" y="6033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与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u=2164948680,2671052680&amp;gp=0"/>
          <p:cNvPicPr/>
          <p:nvPr/>
        </p:nvPicPr>
        <p:blipFill>
          <a:blip r:embed="rId2"/>
          <a:stretch/>
        </p:blipFill>
        <p:spPr>
          <a:xfrm>
            <a:off x="5443560" y="44784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3"/>
          <a:stretch/>
        </p:blipFill>
        <p:spPr>
          <a:xfrm>
            <a:off x="2128680" y="457200"/>
            <a:ext cx="10670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42920" y="20574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问女孩：“小姑娘，请告诉我，你知道火柴在哪儿吗？”</a:t>
            </a:r>
            <a:br>
              <a:rPr sz="3600"/>
            </a:b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　　小女孩回答说：“火柴已经用光了，可是，火柴点燃的火，还在这盏灯里亮着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009960" y="609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与小女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u=2915746720,2790551712&amp;gp=3"/>
          <p:cNvPicPr/>
          <p:nvPr/>
        </p:nvPicPr>
        <p:blipFill>
          <a:blip r:embed="rId2"/>
          <a:stretch/>
        </p:blipFill>
        <p:spPr>
          <a:xfrm>
            <a:off x="6086520" y="3571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1943280" y="533520"/>
            <a:ext cx="10666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-285840" y="2952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“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门先生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,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我的好朋友——树在哪儿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,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您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道吗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-285840" y="18316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“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立在这儿的那棵树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,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到什么地方去了呢</a:t>
            </a: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?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-285840" y="436464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“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小姑娘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,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请告诉我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,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你知道火柴在哪里吗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?”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1905120" y="4572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隶书"/>
              </a:rPr>
              <a:t>三次问话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10666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5406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14200" y="128592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奇怪地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问树根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:“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站在这儿的那棵树，到什么地方去了呀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焦急地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问门先生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:“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门先生，我的好朋友树在哪儿，你知道吗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鸟儿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难过地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问小女孩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:“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小姑娘，请告诉我，你知道火柴在哪儿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5"/>
          <p:cNvSpPr/>
          <p:nvPr/>
        </p:nvSpPr>
        <p:spPr>
          <a:xfrm>
            <a:off x="2643120" y="21420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50"/>
                </a:solidFill>
                <a:latin typeface="华文隶书"/>
                <a:ea typeface="华文隶书"/>
              </a:rPr>
              <a:t>教师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214200" y="319032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本文作者是日本女作家新美南吉。课文是一则童话故事。同学们想不想学习这篇关于小鸟和大树之间纯美友谊的童话故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279720" y="1125360"/>
            <a:ext cx="8351640" cy="40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这对朝夕相处的伙伴分别时是那样难分难舍，因为他们是（            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小鸟历尽艰辛，百折不挠地寻找大 树，因为他们是（             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如今，面对已化为灯火的大树，他还是遵守诺言深情地唱起去年的歌，因为他们是——（             ）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183200" y="15685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好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706920" y="270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好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397240" y="42829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好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252360" y="1603440"/>
            <a:ext cx="72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本文通过记叙鸟儿四处寻访它的朋友──树的经过，赞扬了鸟儿信守诺言、珍惜友情的品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u=3386941045,3666796418&amp;gp=1"/>
          <p:cNvPicPr/>
          <p:nvPr/>
        </p:nvPicPr>
        <p:blipFill>
          <a:blip r:embed="rId2"/>
          <a:stretch/>
        </p:blipFill>
        <p:spPr>
          <a:xfrm>
            <a:off x="1835280" y="585720"/>
            <a:ext cx="4346280" cy="6315120"/>
          </a:xfrm>
          <a:prstGeom prst="rect">
            <a:avLst/>
          </a:prstGeom>
          <a:ln w="0">
            <a:noFill/>
          </a:ln>
        </p:spPr>
      </p:pic>
      <p:pic>
        <p:nvPicPr>
          <p:cNvPr id="286" name="WordArt 3" descr=""/>
          <p:cNvPicPr/>
          <p:nvPr/>
        </p:nvPicPr>
        <p:blipFill>
          <a:blip r:embed="rId3"/>
          <a:stretch/>
        </p:blipFill>
        <p:spPr>
          <a:xfrm>
            <a:off x="433440" y="4511520"/>
            <a:ext cx="75769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5"/>
          <p:cNvSpPr/>
          <p:nvPr/>
        </p:nvSpPr>
        <p:spPr>
          <a:xfrm>
            <a:off x="2643120" y="21420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50"/>
                </a:solidFill>
                <a:latin typeface="华文隶书"/>
                <a:ea typeface="华文隶书"/>
              </a:rPr>
              <a:t>拓展阅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2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5"/>
          <p:cNvSpPr/>
          <p:nvPr/>
        </p:nvSpPr>
        <p:spPr>
          <a:xfrm>
            <a:off x="0" y="357120"/>
            <a:ext cx="8072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幸福的时候需要忠诚的友谊，患难的时刻尤其需要。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--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（古罗马）塞涅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友谊是人生最大的快乐。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--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（英）休谟友谊—是使青春丰富多彩的，清纯的生命的旋律，是无比美丽的青春赞歌。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--           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（日）池田大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与朋友交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,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言而有信。 －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(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春秋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)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子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真正的朋友不把友谊挂在口上，他们并不为了友谊而互相要求点什么，而是彼此为对方做一切办得到的事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－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(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俄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)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别林斯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5"/>
          <p:cNvSpPr/>
          <p:nvPr/>
        </p:nvSpPr>
        <p:spPr>
          <a:xfrm>
            <a:off x="2643120" y="21420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50"/>
                </a:solidFill>
                <a:latin typeface="华文隶书"/>
                <a:ea typeface="华文隶书"/>
              </a:rPr>
              <a:t>作业布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2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428760" y="1727280"/>
            <a:ext cx="820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1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、阅读新美南吉的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《狐狸阿权》   《小狐狸买手套》    《白蝴蝶 》      《花木村和盗贼》         《蜗牛的悲哀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2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、把学完课文的感受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3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  <p:sp>
        <p:nvSpPr>
          <p:cNvPr id="294" name="WordArt 13"/>
          <p:cNvSpPr txBox="1"/>
          <p:nvPr/>
        </p:nvSpPr>
        <p:spPr>
          <a:xfrm>
            <a:off x="-252360" y="530280"/>
            <a:ext cx="820908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衷心感谢各位领导、专家、同仁光临指导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295" name="WordArt 14"/>
          <p:cNvSpPr txBox="1"/>
          <p:nvPr/>
        </p:nvSpPr>
        <p:spPr>
          <a:xfrm>
            <a:off x="7221600" y="5448240"/>
            <a:ext cx="17431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隶书"/>
              </a:rPr>
              <a:t>谢谢！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图片1"/>
          <p:cNvPicPr/>
          <p:nvPr/>
        </p:nvPicPr>
        <p:blipFill>
          <a:blip r:embed="rId2">
            <a:lum contras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 rot="5400000">
            <a:off x="-601200" y="2696040"/>
            <a:ext cx="4321440" cy="1465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隶书"/>
              </a:rPr>
              <a:t>小鸟和大树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/>
          <p:cNvSpPr/>
          <p:nvPr/>
        </p:nvSpPr>
        <p:spPr>
          <a:xfrm>
            <a:off x="2800440" y="21420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50"/>
                </a:solidFill>
                <a:latin typeface="华文隶书"/>
                <a:ea typeface="华文隶书"/>
              </a:rPr>
              <a:t>认读识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2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57120" y="1643040"/>
            <a:ext cx="8208360" cy="4462560"/>
            <a:chOff x="357120" y="1643040"/>
            <a:chExt cx="8208360" cy="4462560"/>
          </a:xfrm>
        </p:grpSpPr>
        <p:cxnSp>
          <p:nvCxnSpPr>
            <p:cNvPr id="185" name="_s52228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451120" y="24368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52229"/>
            <p:cNvCxnSpPr>
              <a:stCxn id="189" idx="0"/>
              <a:endCxn id="187" idx="2"/>
            </p:cNvCxnSpPr>
            <p:nvPr/>
          </p:nvCxnSpPr>
          <p:spPr>
            <a:xfrm flipV="1">
              <a:off x="4461480" y="342720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52230"/>
            <p:cNvCxnSpPr>
              <a:stCxn id="191" idx="0"/>
              <a:endCxn id="187" idx="2"/>
            </p:cNvCxnSpPr>
            <p:nvPr/>
          </p:nvCxnSpPr>
          <p:spPr>
            <a:xfrm flipH="1" flipV="1" rot="5400000">
              <a:off x="2578320" y="24372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7" name="_s52231"/>
            <p:cNvSpPr/>
            <p:nvPr/>
          </p:nvSpPr>
          <p:spPr>
            <a:xfrm>
              <a:off x="3229920" y="1643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400" spc="-1" strike="noStrike">
                  <a:solidFill>
                    <a:srgbClr val="ff0000"/>
                  </a:solidFill>
                  <a:latin typeface="Arial"/>
                </a:rPr>
                <a:t>融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2232"/>
            <p:cNvSpPr/>
            <p:nvPr/>
          </p:nvSpPr>
          <p:spPr>
            <a:xfrm>
              <a:off x="357120" y="4320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Arial"/>
                </a:rPr>
                <a:t>剩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2233"/>
            <p:cNvSpPr/>
            <p:nvPr/>
          </p:nvSpPr>
          <p:spPr>
            <a:xfrm>
              <a:off x="3229920" y="4320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Arial"/>
                </a:rPr>
                <a:t>伐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2234"/>
            <p:cNvSpPr/>
            <p:nvPr/>
          </p:nvSpPr>
          <p:spPr>
            <a:xfrm>
              <a:off x="6103080" y="4320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Arial"/>
                </a:rPr>
                <a:t>煤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5"/>
          <p:cNvSpPr/>
          <p:nvPr/>
        </p:nvSpPr>
        <p:spPr>
          <a:xfrm>
            <a:off x="3924360" y="149688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r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5119560" y="257184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5068800" y="17859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714240" y="422100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shè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2195640" y="4643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2195640" y="5516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4211640" y="4149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f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6715080" y="4292640"/>
            <a:ext cx="12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méi</a:t>
            </a: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5076720" y="544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5000760" y="4643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5"/>
          <p:cNvSpPr/>
          <p:nvPr/>
        </p:nvSpPr>
        <p:spPr>
          <a:xfrm>
            <a:off x="8028000" y="4643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8028000" y="54291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华文隶书"/>
                <a:ea typeface="华文隶书"/>
              </a:rPr>
              <a:t>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8"/>
          <p:cNvSpPr/>
          <p:nvPr/>
        </p:nvSpPr>
        <p:spPr>
          <a:xfrm>
            <a:off x="0" y="2120760"/>
            <a:ext cx="8572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寒冷     必须    原野    森林    融化  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伐木    砍倒     山谷    火柴    一盏  煤油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知道    已经    点燃    盯着    唱歌   眼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5"/>
          <p:cNvSpPr/>
          <p:nvPr/>
        </p:nvSpPr>
        <p:spPr>
          <a:xfrm>
            <a:off x="2643120" y="21420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50"/>
                </a:solidFill>
                <a:latin typeface="华文隶书"/>
                <a:ea typeface="华文隶书"/>
              </a:rPr>
              <a:t>朗读感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2" descr="图片1.jpg"/>
          <p:cNvPicPr/>
          <p:nvPr/>
        </p:nvPicPr>
        <p:blipFill>
          <a:blip r:embed="rId2"/>
          <a:stretch/>
        </p:blipFill>
        <p:spPr>
          <a:xfrm>
            <a:off x="2706840" y="1322280"/>
            <a:ext cx="3809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0" y="1557360"/>
            <a:ext cx="80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   </a:t>
            </a:r>
            <a:r>
              <a:rPr b="1" lang="zh-CN" sz="3600" spc="-1" strike="noStrike">
                <a:solidFill>
                  <a:srgbClr val="00b0f0"/>
                </a:solidFill>
                <a:latin typeface="华文隶书"/>
                <a:ea typeface="华文隶书"/>
              </a:rPr>
              <a:t>默读课文，把小鸟与树之间让人感动的部分或句子用波浪线画下来，反复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9-PRO</cp:lastModifiedBy>
  <dcterms:modified xsi:type="dcterms:W3CDTF">2011-05-05T05:01:4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