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gif" ContentType="image/gif"/>
  <Override PartName="/ppt/media/image10.jpeg" ContentType="image/jpeg"/>
  <Override PartName="/ppt/media/image19.jpeg" ContentType="image/jpeg"/>
  <Override PartName="/ppt/media/click.wav" ContentType="audio/x-wav"/>
  <Override PartName="/ppt/media/image13.gif" ContentType="image/gif"/>
  <Override PartName="/ppt/media/image22.png" ContentType="image/png"/>
  <Override PartName="/ppt/media/image17.gif" ContentType="image/gif"/>
  <Override PartName="/ppt/media/image7.png" ContentType="image/png"/>
  <Override PartName="/ppt/media/image1.jpeg" ContentType="image/jpeg"/>
  <Override PartName="/ppt/media/image18.jpeg" ContentType="image/jpeg"/>
  <Override PartName="/ppt/media/image8.gif" ContentType="image/gif"/>
  <Override PartName="/ppt/media/wind.wav" ContentType="audio/x-wav"/>
  <Override PartName="/ppt/media/image9.gif" ContentType="image/gif"/>
  <Override PartName="/ppt/media/image16.jpeg" ContentType="image/jpeg"/>
  <Override PartName="/ppt/media/image24.gif" ContentType="image/gif"/>
  <Override PartName="/ppt/media/image27.png" ContentType="image/png"/>
  <Override PartName="/ppt/media/image26.jpeg" ContentType="image/jpeg"/>
  <Override PartName="/ppt/media/image28.jpeg" ContentType="image/jpeg"/>
  <Override PartName="/ppt/media/image29.jpeg" ContentType="image/jpeg"/>
  <Override PartName="/ppt/media/image5.png" ContentType="image/png"/>
  <Override PartName="/ppt/media/image30.gif" ContentType="image/gif"/>
  <Override PartName="/ppt/media/image14.jpeg" ContentType="image/jpeg"/>
  <Override PartName="/ppt/media/image31.png" ContentType="image/png"/>
  <Override PartName="/ppt/media/image11.gif" ContentType="image/gif"/>
  <Override PartName="/ppt/media/chimes.wav" ContentType="audio/x-wav"/>
  <Override PartName="/ppt/media/image6.gif" ContentType="image/gif"/>
  <Override PartName="/ppt/media/image3.jpeg" ContentType="image/jpeg"/>
  <Override PartName="/ppt/media/coin.wav" ContentType="audio/x-wav"/>
  <Override PartName="/ppt/media/image20.gif" ContentType="image/gif"/>
  <Override PartName="/ppt/media/image2.png" ContentType="image/png"/>
  <Override PartName="/ppt/media/image4.png" ContentType="image/png"/>
  <Override PartName="/ppt/media/image12.jpeg" ContentType="image/jpeg"/>
  <Override PartName="/ppt/media/type.wav" ContentType="audio/x-wav"/>
  <Override PartName="/ppt/media/breeze.wav" ContentType="audio/x-wav"/>
  <Override PartName="/ppt/media/image25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5D7-194A-4920-B2CD-4130D43A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226-2C87-4DA8-BB39-7E132220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251D-3E16-48E3-9FD1-8F77D0ED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A285-D623-4AD9-BF84-27643381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CC4-559C-4CD9-BA5B-7C8C63AB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AA29-3A08-46B1-9BEB-FA9D2D52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BE41-4E20-4A96-8D49-71CF75FE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7228-5EF4-4C55-9066-C675FA59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D9A3-B806-437A-A1A0-E02124C9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76E-188E-4037-AF99-0F7701BB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C699-89E7-4631-B4D5-7E9C0F50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3AC-677E-422A-9CCD-98C5C16A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B336-41F3-4FAA-84F4-F1F071179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n.rd.yahoo.com/home/imgsearch/imgdetail/*http://cn.imagesearch.yahoo.com/search/cn_imgdtl?p=%BF%CB&#161;&amp;n=16307f4351ae464f9b1f38a5b9ec8c16&amp;act=detail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gif"/><Relationship Id="rId3" Type="http://schemas.openxmlformats.org/officeDocument/2006/relationships/audio" Target="../media/coin.wav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audio" Target="../media/click.wav"/><Relationship Id="rId7" Type="http://schemas.openxmlformats.org/officeDocument/2006/relationships/audio" Target="../media/coin.wav"/><Relationship Id="rId8" Type="http://schemas.openxmlformats.org/officeDocument/2006/relationships/audio" Target="../media/chimes.wav"/><Relationship Id="rId9" Type="http://schemas.openxmlformats.org/officeDocument/2006/relationships/audio" Target="../media/breeze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coin.wav"/><Relationship Id="rId4" Type="http://schemas.openxmlformats.org/officeDocument/2006/relationships/audio" Target="../media/breez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audio" Target="../media/coin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audio" Target="../media/coin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wind.wav"/><Relationship Id="rId23" Type="http://schemas.openxmlformats.org/officeDocument/2006/relationships/audio" Target="../media/breeze.wav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403280" y="1604880"/>
            <a:ext cx="3962520" cy="1557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2060"/>
                </a:solidFill>
                <a:latin typeface="Comic Sans MS"/>
                <a:ea typeface="楷体_GB2312"/>
              </a:rPr>
              <a:t>奇妙的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 rot="20141400">
            <a:off x="6772320" y="51084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Monotype Corsiva"/>
              </a:rPr>
              <a:t>cl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783400" y="3645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Microsoft Sans Serif"/>
              </a:rPr>
              <a:t>谈家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矩形 1" descr=""/>
          <p:cNvPicPr/>
          <p:nvPr/>
        </p:nvPicPr>
        <p:blipFill>
          <a:blip r:embed="rId2"/>
          <a:stretch/>
        </p:blipFill>
        <p:spPr>
          <a:xfrm>
            <a:off x="5048280" y="1450800"/>
            <a:ext cx="3475080" cy="1862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oi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16307f4351ae464f9b1f38a5b9ec8c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228600"/>
            <a:ext cx="3581280" cy="30481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285840" y="166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8584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1_2-1-9-276_2003021684910"/>
          <p:cNvPicPr/>
          <p:nvPr/>
        </p:nvPicPr>
        <p:blipFill>
          <a:blip r:embed="rId3"/>
          <a:stretch/>
        </p:blipFill>
        <p:spPr>
          <a:xfrm>
            <a:off x="5257800" y="342900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1_2-1-13_20020104214511"/>
          <p:cNvPicPr/>
          <p:nvPr/>
        </p:nvPicPr>
        <p:blipFill>
          <a:blip r:embed="rId4"/>
          <a:stretch/>
        </p:blipFill>
        <p:spPr>
          <a:xfrm>
            <a:off x="228600" y="228600"/>
            <a:ext cx="482292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oin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val 2"/>
          <p:cNvSpPr/>
          <p:nvPr/>
        </p:nvSpPr>
        <p:spPr>
          <a:xfrm>
            <a:off x="457200" y="228600"/>
            <a:ext cx="2808360" cy="216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3"/>
          <p:cNvSpPr/>
          <p:nvPr/>
        </p:nvSpPr>
        <p:spPr>
          <a:xfrm>
            <a:off x="1979640" y="2997360"/>
            <a:ext cx="2952720" cy="20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809880" y="5202360"/>
            <a:ext cx="1800360" cy="165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7010280" y="5202360"/>
            <a:ext cx="1800360" cy="165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6"/>
          <p:cNvSpPr/>
          <p:nvPr/>
        </p:nvSpPr>
        <p:spPr>
          <a:xfrm>
            <a:off x="3492360" y="260280"/>
            <a:ext cx="3095640" cy="22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39640" y="83664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苏格兰黑面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排出卵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708360" y="9079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芬多席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羊提供乳腺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2340000" y="2492280"/>
            <a:ext cx="576360" cy="505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2484360" y="2421000"/>
            <a:ext cx="432000" cy="576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1"/>
          <p:cNvSpPr/>
          <p:nvPr/>
        </p:nvSpPr>
        <p:spPr>
          <a:xfrm flipH="1">
            <a:off x="3924000" y="2492280"/>
            <a:ext cx="647640" cy="576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971640" y="2637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去细胞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4500720" y="2781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取细胞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2484360" y="321300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换核卵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去核卵细胞与乳腺细胞核组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5"/>
          <p:cNvSpPr/>
          <p:nvPr/>
        </p:nvSpPr>
        <p:spPr>
          <a:xfrm>
            <a:off x="3059280" y="5084640"/>
            <a:ext cx="649080" cy="649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979640" y="537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  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4038480" y="54100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另一只母羊的子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5724360" y="6021360"/>
            <a:ext cx="1152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5940360" y="5373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产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7236000" y="5562720"/>
            <a:ext cx="1655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克隆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ree"/>
          <p:cNvSpPr/>
          <p:nvPr/>
        </p:nvSpPr>
        <p:spPr>
          <a:xfrm>
            <a:off x="0" y="4724280"/>
            <a:ext cx="2133720" cy="213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23" descr="D:\图片\卡通图\200410416291534051.gif"/>
          <p:cNvPicPr/>
          <p:nvPr/>
        </p:nvPicPr>
        <p:blipFill>
          <a:blip r:embed="rId2"/>
          <a:stretch/>
        </p:blipFill>
        <p:spPr>
          <a:xfrm>
            <a:off x="7162920" y="-380880"/>
            <a:ext cx="236196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oin.wav"/>
      </p:stSnd>
    </p:sndAc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026" descr="200431814117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027"/>
          <p:cNvSpPr/>
          <p:nvPr/>
        </p:nvSpPr>
        <p:spPr>
          <a:xfrm>
            <a:off x="152280" y="3049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克隆技术给人们带来了哪些好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28"/>
          <p:cNvSpPr/>
          <p:nvPr/>
        </p:nvSpPr>
        <p:spPr>
          <a:xfrm>
            <a:off x="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使“高附加值的牲畜”有效地繁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29"/>
          <p:cNvSpPr/>
          <p:nvPr/>
        </p:nvSpPr>
        <p:spPr>
          <a:xfrm>
            <a:off x="0" y="2819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使自身“不能繁殖后代”和“已濒临绝种”的生物“扩大繁殖”和得到“保护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30"/>
          <p:cNvSpPr/>
          <p:nvPr/>
        </p:nvSpPr>
        <p:spPr>
          <a:xfrm>
            <a:off x="0" y="42670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对于研究癌生物学、研究免疫学、研究人的寿命等有不可低估的作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coin.wav"/>
      </p:stSnd>
    </p:sndAc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380880" y="83808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课文中运用了哪些说明方法？请举例说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66680" y="2438280"/>
            <a:ext cx="74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方正舒体"/>
                <a:ea typeface="方正舒体"/>
              </a:rPr>
              <a:t>举例子     下定义   作诠释      列数字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5" descr="zao5"/>
          <p:cNvPicPr/>
          <p:nvPr/>
        </p:nvPicPr>
        <p:blipFill>
          <a:blip r:embed="rId1"/>
          <a:stretch/>
        </p:blipFill>
        <p:spPr>
          <a:xfrm>
            <a:off x="1835280" y="4581360"/>
            <a:ext cx="6933960" cy="1905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C:\Documents and Settings\tongfang\My Documents\My Pictures\255.gif"/>
          <p:cNvPicPr/>
          <p:nvPr/>
        </p:nvPicPr>
        <p:blipFill>
          <a:blip r:embed="rId2"/>
          <a:stretch/>
        </p:blipFill>
        <p:spPr>
          <a:xfrm>
            <a:off x="6858000" y="0"/>
            <a:ext cx="21337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oin.wav"/>
      </p:stSnd>
    </p:sndAc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\\T8223\图片\卡通图\背景.gif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79250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1143000" y="3049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理解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533520" y="1143000"/>
            <a:ext cx="5715000" cy="533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685800" y="135576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有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克隆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的讨论提醒人们，科技进步是一首悲喜交集的进行曲。科技越发展，对社会的渗透越广泛深入，就越有可能引起许多有关的伦理、道德和法律等问题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oin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\\T8223\图片\风米插画系列\2002731144052.jpg"/>
          <p:cNvPicPr/>
          <p:nvPr/>
        </p:nvPicPr>
        <p:blipFill>
          <a:blip r:embed="rId1"/>
          <a:stretch/>
        </p:blipFill>
        <p:spPr>
          <a:xfrm>
            <a:off x="152280" y="76320"/>
            <a:ext cx="9144000" cy="79246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0" y="838080"/>
            <a:ext cx="6629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我国克隆技术处于世界领先位置，山东曹县诞生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克隆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受到生物科学界的好评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意大利有一位妇科医生声称已成功克隆出一名女婴，受到各国科学家批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0" y="304920"/>
            <a:ext cx="3505320" cy="1652400"/>
            <a:chOff x="0" y="304920"/>
            <a:chExt cx="3505320" cy="1652400"/>
          </a:xfrm>
        </p:grpSpPr>
        <p:pic>
          <p:nvPicPr>
            <p:cNvPr id="172" name="Picture 5" descr="GIF127"/>
            <p:cNvPicPr/>
            <p:nvPr/>
          </p:nvPicPr>
          <p:blipFill>
            <a:blip r:embed="rId2"/>
            <a:stretch/>
          </p:blipFill>
          <p:spPr>
            <a:xfrm>
              <a:off x="1447920" y="768240"/>
              <a:ext cx="2057400" cy="60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Object 6" descr=""/>
            <p:cNvPicPr/>
            <p:nvPr/>
          </p:nvPicPr>
          <p:blipFill>
            <a:blip r:embed="rId3"/>
            <a:stretch/>
          </p:blipFill>
          <p:spPr>
            <a:xfrm>
              <a:off x="0" y="304920"/>
              <a:ext cx="2286000" cy="1652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  <p:sndAc>
      <p:stSnd>
        <p:snd r:embed="rId4" name="coin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026" descr="\\T8223\图片\卡通图\背景.gif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79250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027"/>
          <p:cNvSpPr/>
          <p:nvPr/>
        </p:nvSpPr>
        <p:spPr>
          <a:xfrm>
            <a:off x="1143000" y="3049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理解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028"/>
          <p:cNvSpPr/>
          <p:nvPr/>
        </p:nvSpPr>
        <p:spPr>
          <a:xfrm>
            <a:off x="533520" y="1143000"/>
            <a:ext cx="5715000" cy="533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029"/>
          <p:cNvSpPr/>
          <p:nvPr/>
        </p:nvSpPr>
        <p:spPr>
          <a:xfrm>
            <a:off x="685800" y="1355760"/>
            <a:ext cx="5486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有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克隆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的讨论提醒人们，科技进步是一首悲喜交集的进行曲。科技越发展，对社会的渗透越广泛深入，就越有可能引起许多有关的伦理、道德和法律等问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oin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5"/>
          <p:cNvSpPr/>
          <p:nvPr/>
        </p:nvSpPr>
        <p:spPr>
          <a:xfrm>
            <a:off x="380880" y="2666880"/>
            <a:ext cx="7696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6600" spc="-1" strike="noStrike">
                <a:solidFill>
                  <a:srgbClr val="000000"/>
                </a:solidFill>
                <a:latin typeface="隶书"/>
                <a:ea typeface="隶书"/>
              </a:rPr>
              <a:t>、假如你是一个克隆专家，你最想克隆什么？为什么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WordArt 10"/>
          <p:cNvSpPr txBox="1"/>
          <p:nvPr/>
        </p:nvSpPr>
        <p:spPr>
          <a:xfrm>
            <a:off x="533520" y="-152280"/>
            <a:ext cx="4190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奇思妙想</a:t>
            </a:r>
            <a:endParaRPr b="0" lang="en-US" sz="2400" spc="1" strike="noStrike">
              <a:ln w="12600">
                <a:solidFill>
                  <a:srgbClr val="ff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coin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026" descr="D:\图片\电脑制作美图\200311171827026264.jpg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028"/>
          <p:cNvSpPr/>
          <p:nvPr/>
        </p:nvSpPr>
        <p:spPr>
          <a:xfrm>
            <a:off x="2286000" y="1676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oin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:\图片\背景图片（卡通）\006.jpg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452880" y="533520"/>
            <a:ext cx="195552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华文行楷"/>
                <a:ea typeface="华文行楷"/>
              </a:rPr>
              <a:t>要攀高峰还从实践寻天梯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325320" y="609480"/>
            <a:ext cx="261828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宋体"/>
                <a:ea typeface="华文行楷"/>
              </a:rPr>
              <a:t>欲破难关须向书中求巨斧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oin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sunwuko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oin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D:\蒋春霞\picture\烟花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2209680" y="24382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WordArt 5"/>
          <p:cNvSpPr txBox="1"/>
          <p:nvPr/>
        </p:nvSpPr>
        <p:spPr>
          <a:xfrm>
            <a:off x="1066680" y="3429000"/>
            <a:ext cx="6705720" cy="31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87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solidFill>
                  <a:srgbClr val="ffff66"/>
                </a:solidFill>
                <a:latin typeface="华文彩云"/>
              </a:rPr>
              <a:t>感谢光临指导</a:t>
            </a:r>
            <a:endParaRPr b="1" lang="en-US" sz="4400" spc="-1" strike="noStrike">
              <a:ln w="0">
                <a:noFill/>
              </a:ln>
              <a:solidFill>
                <a:srgbClr val="ffff66"/>
              </a:solidFill>
              <a:latin typeface="华文彩云"/>
              <a:ea typeface="华文彩云"/>
            </a:endParaRPr>
          </a:p>
        </p:txBody>
      </p:sp>
      <p:pic>
        <p:nvPicPr>
          <p:cNvPr id="189" name="人鬼情未了.mp3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oin.wav"/>
      </p:stSnd>
    </p:sndAc>
  </p:transition>
  <p:timing>
    <p:tnLst>
      <p:par>
        <p:cTn id="357" dur="indefinite" restart="never" nodeType="tmRoot">
          <p:childTnLst>
            <p:seq>
              <p:cTn id="358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无标题"/>
          <p:cNvPicPr/>
          <p:nvPr/>
        </p:nvPicPr>
        <p:blipFill>
          <a:blip r:embed="rId1"/>
          <a:stretch/>
        </p:blipFill>
        <p:spPr>
          <a:xfrm>
            <a:off x="468360" y="0"/>
            <a:ext cx="5867280" cy="4952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685800" y="5104080"/>
            <a:ext cx="8151120" cy="1434600"/>
            <a:chOff x="685800" y="5104080"/>
            <a:chExt cx="8151120" cy="1434600"/>
          </a:xfrm>
        </p:grpSpPr>
        <p:sp>
          <p:nvSpPr>
            <p:cNvPr id="49" name="Rectangle 5"/>
            <p:cNvSpPr/>
            <p:nvPr/>
          </p:nvSpPr>
          <p:spPr>
            <a:xfrm>
              <a:off x="685800" y="551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685800" y="5104080"/>
              <a:ext cx="8151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Times New Roman"/>
                  <a:ea typeface="华文隶书"/>
                </a:rPr>
                <a:t>生物学家谈家桢    复旦大学教授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9900"/>
                  </a:solidFill>
                  <a:latin typeface="Times New Roman"/>
                  <a:ea typeface="华文隶书"/>
                </a:rPr>
                <a:t>获得首届上海市教育功臣的殊荣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Rectangle 7"/>
          <p:cNvSpPr/>
          <p:nvPr/>
        </p:nvSpPr>
        <p:spPr>
          <a:xfrm>
            <a:off x="-2124000" y="400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0"/>
          <p:cNvGrpSpPr/>
          <p:nvPr/>
        </p:nvGrpSpPr>
        <p:grpSpPr>
          <a:xfrm>
            <a:off x="6400800" y="1765800"/>
            <a:ext cx="2286000" cy="1922400"/>
            <a:chOff x="6400800" y="1765800"/>
            <a:chExt cx="2286000" cy="1922400"/>
          </a:xfrm>
        </p:grpSpPr>
        <p:sp>
          <p:nvSpPr>
            <p:cNvPr id="55" name="Rectangle 11"/>
            <p:cNvSpPr/>
            <p:nvPr/>
          </p:nvSpPr>
          <p:spPr>
            <a:xfrm>
              <a:off x="6400800" y="2419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2"/>
            <p:cNvSpPr/>
            <p:nvPr/>
          </p:nvSpPr>
          <p:spPr>
            <a:xfrm>
              <a:off x="6400800" y="1765800"/>
              <a:ext cx="22860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6600"/>
                  </a:solidFill>
                  <a:latin typeface="华文隶书"/>
                  <a:ea typeface="华文隶书"/>
                </a:rPr>
                <a:t>从事遗传学教学和研究逾</a:t>
              </a:r>
              <a:r>
                <a:rPr b="1" lang="en-US" sz="4000" spc="-1" strike="noStrike">
                  <a:solidFill>
                    <a:srgbClr val="cc6600"/>
                  </a:solidFill>
                  <a:latin typeface="华文隶书"/>
                  <a:ea typeface="华文隶书"/>
                </a:rPr>
                <a:t>70</a:t>
              </a:r>
              <a:r>
                <a:rPr b="1" lang="zh-CN" sz="4000" spc="-1" strike="noStrike">
                  <a:solidFill>
                    <a:srgbClr val="cc6600"/>
                  </a:solidFill>
                  <a:latin typeface="华文隶书"/>
                  <a:ea typeface="华文隶书"/>
                </a:rPr>
                <a:t>年，是我国遗传学发展的奠基人之一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  <p:sndAc>
      <p:stSnd>
        <p:snd r:embed="rId2" name="coi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26"/>
          <p:cNvSpPr/>
          <p:nvPr/>
        </p:nvSpPr>
        <p:spPr>
          <a:xfrm>
            <a:off x="1295280" y="304920"/>
            <a:ext cx="731520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ff"/>
                </a:solidFill>
                <a:latin typeface="Microsoft Sans Serif"/>
                <a:ea typeface="黑体"/>
              </a:rPr>
              <a:t> </a:t>
            </a:r>
            <a:r>
              <a:rPr b="1" lang="zh-CN" sz="5400" spc="-1" strike="noStrike">
                <a:solidFill>
                  <a:srgbClr val="cc00ff"/>
                </a:solidFill>
                <a:latin typeface="Microsoft Sans Serif"/>
                <a:ea typeface="黑体"/>
              </a:rPr>
              <a:t>学习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Microsoft Sans Serif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Microsoft Sans Serif"/>
              </a:rPr>
              <a:t>、掌握课文中的字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Microsoft Sans Serif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Microsoft Sans Serif"/>
              </a:rPr>
              <a:t>、把握课文的说明顺序、说明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Microsoft Sans Serif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Microsoft Sans Serif"/>
              </a:rPr>
              <a:t>、了解高新科技给人类的生活、     生产、生存和发展所带来的种种革命性变化，激发科学创新意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jgzj3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8" descr="13"/>
          <p:cNvPicPr/>
          <p:nvPr/>
        </p:nvPicPr>
        <p:blipFill>
          <a:blip r:embed="rId2"/>
          <a:stretch/>
        </p:blipFill>
        <p:spPr>
          <a:xfrm>
            <a:off x="6694560" y="5029200"/>
            <a:ext cx="244944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oi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609480" y="457200"/>
            <a:ext cx="85345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ff"/>
                </a:solidFill>
                <a:latin typeface="Microsoft Sans Serif"/>
                <a:ea typeface="黑体"/>
              </a:rPr>
              <a:t>  </a:t>
            </a:r>
            <a:r>
              <a:rPr b="1" lang="zh-CN" sz="4800" spc="-1" strike="noStrike">
                <a:solidFill>
                  <a:srgbClr val="cc00ff"/>
                </a:solidFill>
                <a:latin typeface="Microsoft Sans Serif"/>
                <a:ea typeface="黑体"/>
              </a:rPr>
              <a:t>根据拼音写出相应的词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Sans Serif"/>
              </a:rPr>
              <a:t>两    （            ）             开</a:t>
            </a:r>
            <a:r>
              <a:rPr b="1" lang="zh-CN" sz="3600" spc="-1" strike="noStrike">
                <a:solidFill>
                  <a:srgbClr val="0000ff"/>
                </a:solidFill>
                <a:latin typeface="Microsoft Sans Serif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Microsoft Sans Serif"/>
              </a:rPr>
              <a:t>（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Sans Serif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Microsoft Sans Serif"/>
              </a:rPr>
              <a:t>胎（            ）             分</a:t>
            </a:r>
            <a:r>
              <a:rPr b="1" lang="zh-CN" sz="3600" spc="-1" strike="noStrike">
                <a:solidFill>
                  <a:srgbClr val="0000ff"/>
                </a:solidFill>
                <a:latin typeface="Microsoft Sans Serif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Microsoft Sans Serif"/>
              </a:rPr>
              <a:t>（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Sans Serif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Microsoft Sans Serif"/>
              </a:rPr>
              <a:t>乳（            ）             </a:t>
            </a:r>
            <a:r>
              <a:rPr b="1" lang="zh-CN" sz="3600" spc="-1" strike="noStrike">
                <a:solidFill>
                  <a:srgbClr val="0000ff"/>
                </a:solidFill>
                <a:latin typeface="Microsoft Sans Serif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Microsoft Sans Serif"/>
              </a:rPr>
              <a:t>临（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Sans Serif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Microsoft Sans Serif"/>
              </a:rPr>
              <a:t>（            ）             </a:t>
            </a:r>
            <a:r>
              <a:rPr b="1" lang="zh-CN" sz="3600" spc="-1" strike="noStrike">
                <a:solidFill>
                  <a:srgbClr val="0000ff"/>
                </a:solidFill>
                <a:latin typeface="Microsoft Sans Serif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Microsoft Sans Serif"/>
              </a:rPr>
              <a:t>（ 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Sans Serif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Microsoft Sans Serif"/>
              </a:rPr>
              <a:t>（              ）                     （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514600" y="1523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icrosoft Sans Serif"/>
              </a:rPr>
              <a:t>q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1219320" y="1447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 Narrow"/>
              </a:rPr>
              <a:t>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6172200" y="1447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 Narrow"/>
              </a:rPr>
              <a:t>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2"/>
          <p:cNvSpPr/>
          <p:nvPr/>
        </p:nvSpPr>
        <p:spPr>
          <a:xfrm>
            <a:off x="60948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 Narrow"/>
              </a:rPr>
              <a:t>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172200" y="2286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 Narrow"/>
              </a:rPr>
              <a:t>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4"/>
          <p:cNvSpPr/>
          <p:nvPr/>
        </p:nvSpPr>
        <p:spPr>
          <a:xfrm>
            <a:off x="6094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 Narrow"/>
              </a:rPr>
              <a:t>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5"/>
          <p:cNvSpPr/>
          <p:nvPr/>
        </p:nvSpPr>
        <p:spPr>
          <a:xfrm>
            <a:off x="5562720" y="3124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 Narrow"/>
              </a:rPr>
              <a:t>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609480" y="3962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 Narrow"/>
              </a:rPr>
              <a:t>匍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5638680" y="3962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 Narrow"/>
              </a:rPr>
              <a:t>囊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8"/>
          <p:cNvSpPr/>
          <p:nvPr/>
        </p:nvSpPr>
        <p:spPr>
          <a:xfrm>
            <a:off x="609480" y="4800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 Narrow"/>
              </a:rPr>
              <a:t>蟾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571500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 Narrow"/>
              </a:rPr>
              <a:t>繁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0"/>
          <p:cNvSpPr/>
          <p:nvPr/>
        </p:nvSpPr>
        <p:spPr>
          <a:xfrm>
            <a:off x="7391520" y="1371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p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2438280" y="2209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pēi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3"/>
          <p:cNvSpPr/>
          <p:nvPr/>
        </p:nvSpPr>
        <p:spPr>
          <a:xfrm>
            <a:off x="7315200" y="2286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4"/>
          <p:cNvSpPr/>
          <p:nvPr/>
        </p:nvSpPr>
        <p:spPr>
          <a:xfrm>
            <a:off x="2514600" y="3124080"/>
            <a:ext cx="6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bǔ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5"/>
          <p:cNvSpPr/>
          <p:nvPr/>
        </p:nvSpPr>
        <p:spPr>
          <a:xfrm>
            <a:off x="716292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bī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7"/>
          <p:cNvSpPr/>
          <p:nvPr/>
        </p:nvSpPr>
        <p:spPr>
          <a:xfrm>
            <a:off x="2133720" y="3962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ú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f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8"/>
          <p:cNvSpPr/>
          <p:nvPr/>
        </p:nvSpPr>
        <p:spPr>
          <a:xfrm>
            <a:off x="6858000" y="39625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áng p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ē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9"/>
          <p:cNvSpPr/>
          <p:nvPr/>
        </p:nvSpPr>
        <p:spPr>
          <a:xfrm>
            <a:off x="1905120" y="4724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0"/>
          <p:cNvSpPr/>
          <p:nvPr/>
        </p:nvSpPr>
        <p:spPr>
          <a:xfrm>
            <a:off x="7238880" y="47242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án y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ǎ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1"/>
          <p:cNvSpPr/>
          <p:nvPr/>
        </p:nvSpPr>
        <p:spPr>
          <a:xfrm>
            <a:off x="1905120" y="4724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á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o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33" descr="\\T8223\图片\背景\88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26"/>
          <p:cNvSpPr/>
          <p:nvPr/>
        </p:nvSpPr>
        <p:spPr>
          <a:xfrm>
            <a:off x="0" y="457200"/>
            <a:ext cx="914400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黑体"/>
              </a:rPr>
              <a:t>说说下面词语的意思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拍案叫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繁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就绪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夭亡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相安无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濒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7"/>
          <p:cNvSpPr/>
          <p:nvPr/>
        </p:nvSpPr>
        <p:spPr>
          <a:xfrm>
            <a:off x="3048120" y="1066680"/>
            <a:ext cx="5486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拍桌子叫好。形容非常赞赏。案：桌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28"/>
          <p:cNvSpPr/>
          <p:nvPr/>
        </p:nvSpPr>
        <p:spPr>
          <a:xfrm>
            <a:off x="2362320" y="2209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逐渐增多或增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29"/>
          <p:cNvSpPr/>
          <p:nvPr/>
        </p:nvSpPr>
        <p:spPr>
          <a:xfrm>
            <a:off x="2514600" y="2819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事情安排妥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30"/>
          <p:cNvSpPr/>
          <p:nvPr/>
        </p:nvSpPr>
        <p:spPr>
          <a:xfrm>
            <a:off x="2666880" y="3429000"/>
            <a:ext cx="297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短命，夭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31"/>
          <p:cNvSpPr/>
          <p:nvPr/>
        </p:nvSpPr>
        <p:spPr>
          <a:xfrm>
            <a:off x="2895480" y="403848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彼此和平相处，没有冲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32"/>
          <p:cNvSpPr/>
          <p:nvPr/>
        </p:nvSpPr>
        <p:spPr>
          <a:xfrm>
            <a:off x="2209680" y="4648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接近，临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036" descr="C:\Documents and Settings\tongfang\My Documents\My Pictures\book3.gif"/>
          <p:cNvPicPr/>
          <p:nvPr/>
        </p:nvPicPr>
        <p:blipFill>
          <a:blip r:embed="rId2"/>
          <a:stretch/>
        </p:blipFill>
        <p:spPr>
          <a:xfrm>
            <a:off x="7162920" y="4648320"/>
            <a:ext cx="167616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oin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666880" y="3049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小组讨论下列预习问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28600" y="1676520"/>
            <a:ext cx="83818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克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课文中提到了哪些克隆的事例？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请按顺序把它们列出来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克隆技术给人们带来了哪些好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课文中运用了哪些说明方法？请举例说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D:\吴英\课件\素材\5.gif"/>
          <p:cNvPicPr/>
          <p:nvPr/>
        </p:nvPicPr>
        <p:blipFill>
          <a:blip r:embed="rId1"/>
          <a:stretch/>
        </p:blipFill>
        <p:spPr>
          <a:xfrm>
            <a:off x="228600" y="0"/>
            <a:ext cx="175248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oi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2527920" y="1066680"/>
            <a:ext cx="41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克隆，是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_x000b__x000c_"/>
              </a:rPr>
              <a:t>Clone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的译音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827440" y="228600"/>
            <a:ext cx="32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克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447920" y="220968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最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7"/>
          <p:cNvSpPr/>
          <p:nvPr/>
        </p:nvSpPr>
        <p:spPr>
          <a:xfrm>
            <a:off x="20574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048120" y="2057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无性繁殖（生物靠自身的一分为二或自身的一部分的扩大来繁衍后代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219320" y="37339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时至今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36232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276720" y="3886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凡来自一个祖先，经过无性繁殖出的一群个体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5" descr="D:\蒋春霞\picture\picture\蒋春霞\二丫\doghouse.gif"/>
          <p:cNvPicPr/>
          <p:nvPr/>
        </p:nvPicPr>
        <p:blipFill>
          <a:blip r:embed="rId2"/>
          <a:stretch/>
        </p:blipFill>
        <p:spPr>
          <a:xfrm>
            <a:off x="7543800" y="5181480"/>
            <a:ext cx="1600200" cy="167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D:\蒋春霞\picture\picture\蒋春霞\二丫\doghouse.gif"/>
          <p:cNvPicPr/>
          <p:nvPr/>
        </p:nvPicPr>
        <p:blipFill>
          <a:blip r:embed="rId3"/>
          <a:stretch/>
        </p:blipFill>
        <p:spPr>
          <a:xfrm>
            <a:off x="6705720" y="5562720"/>
            <a:ext cx="10666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oin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762120" y="228600"/>
            <a:ext cx="3200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143000" y="2286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课文中提到了哪些克隆的事例？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请按顺序把它们列出来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133720" y="16002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细   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57200" y="2514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   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457200" y="3048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仙人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57200" y="3733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草  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1905120" y="2819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2133720" y="304812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植  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6095880" y="16002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鲫   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 flipV="1">
            <a:off x="6172200" y="2207520"/>
            <a:ext cx="13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蟾   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6172200" y="2819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黑斑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6019920" y="3429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鲤鲫鱼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6156360" y="45086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灰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6227640" y="5661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绵羊“多利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5651640" y="1916280"/>
            <a:ext cx="576000" cy="3889080"/>
          </a:xfrm>
          <a:custGeom>
            <a:avLst/>
            <a:gdLst>
              <a:gd name="textAreaLeft" fmla="*/ 367920 w 576000"/>
              <a:gd name="textAreaRight" fmla="*/ 576000 w 576000"/>
              <a:gd name="textAreaTop" fmla="*/ 101160 h 3889080"/>
              <a:gd name="textAreaBottom" fmla="*/ 3787920 h 38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680640" y="2492280"/>
            <a:ext cx="1826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动    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819520" y="2438280"/>
            <a:ext cx="0" cy="685800"/>
          </a:xfrm>
          <a:prstGeom prst="line">
            <a:avLst/>
          </a:prstGeom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3657600" y="335268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WordArt 22"/>
          <p:cNvSpPr txBox="1"/>
          <p:nvPr/>
        </p:nvSpPr>
        <p:spPr>
          <a:xfrm>
            <a:off x="3059280" y="2349360"/>
            <a:ext cx="1296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低级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4" name="WordArt 23"/>
          <p:cNvSpPr txBox="1"/>
          <p:nvPr/>
        </p:nvSpPr>
        <p:spPr>
          <a:xfrm>
            <a:off x="3203640" y="3716280"/>
            <a:ext cx="13906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高级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7308720" y="1557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华文隶书"/>
              </a:rPr>
              <a:t>（鱼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7236000" y="2276640"/>
            <a:ext cx="26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华文隶书"/>
              </a:rPr>
              <a:t>（两栖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7559640" y="3213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华文隶书"/>
              </a:rPr>
              <a:t>（异种鱼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7812000" y="4581360"/>
            <a:ext cx="15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华文隶书"/>
              </a:rPr>
              <a:t>（哺乳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9" descr="D:\吴英\课件\素材\71.gif"/>
          <p:cNvPicPr/>
          <p:nvPr/>
        </p:nvPicPr>
        <p:blipFill>
          <a:blip r:embed="rId2"/>
          <a:stretch/>
        </p:blipFill>
        <p:spPr>
          <a:xfrm>
            <a:off x="0" y="4800600"/>
            <a:ext cx="2438280" cy="1851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oin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2:37:12Z</dcterms:created>
  <dc:creator/>
  <dc:description>第一PPT模板网-WWW.1PPT.COM
</dc:description>
  <dc:language>en-US</dc:language>
  <cp:lastModifiedBy>Administrator</cp:lastModifiedBy>
  <dcterms:modified xsi:type="dcterms:W3CDTF">2017-07-31T01:47:49Z</dcterms:modified>
  <cp:revision>41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