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EDA-0AE3-44E3-B693-0BDE087F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33F-E02B-437D-A0CE-D2F26DA9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6E5-F490-4414-B9FD-6CADCD52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635-72C4-4CAD-96A1-30825F70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00A-A1D3-41BB-9089-B02DD003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B79-361E-4887-A737-9BE1AC00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3EF-530F-4D72-BF01-244B69A6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007-2314-4512-AB0A-58EF3076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C83-E8FB-44E5-BDFA-402A02CD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048-47DB-46A2-AEB7-A1B3F09B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A32-7A96-4E22-B554-F4046669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D4E-49A5-4C29-8FF0-EEC4126A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70BD-2D03-4996-AA5A-5DA99F2C3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0044229305917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0" y="9144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</a:rPr>
              <a:t>奇妙的超低温世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4648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楷体"/>
              </a:rPr>
              <a:t>叶永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阅读全文，思考问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这篇文章为什么要用小标题的结构方式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266688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一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篇文章所写的内容相对而言比较零碎，涉及面广，用小标题可以让文章结构清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二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标题可以起到提示下文内容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本文的思路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68580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部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阐明什么叫超低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部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在超低温状态下的种种特殊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三部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阐述一种特殊的超低温现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超导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四部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阐述超低温现象的多种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五部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超低温技术的运用前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42670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0" y="41148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本文是按什么顺序进行说明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5029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明确：逻辑顺序，人们的认知规律，即人们对超低温的认识、探索及应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152388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冷有一个极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最低的温度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273.16℃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叫做“绝对零度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本文运用了哪些说明方法？试举例说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934320" y="20574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3200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世界上不可能再有比绝对零度更低的温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7010280" y="36576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诠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0" y="4572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地球上，最冷的地方要算是北极和南极。在南极，最低气温达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90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7010280" y="5486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列数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鲜花在液态空气中浸一下，就变得像玻璃一样脆，一摆动，便叮当叮当直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858000" y="7621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打比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182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金属在超低温世界中也变得面目全非：水银在常温下，是闪耀着银光的液体。可是如果你把水银温度计伸进液态空气，水银柱一下子就冻得像一根大头针似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029200" y="5562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858000" y="36576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举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人物１"/>
          <p:cNvPicPr/>
          <p:nvPr/>
        </p:nvPicPr>
        <p:blipFill>
          <a:blip r:embed="rId1"/>
          <a:stretch/>
        </p:blipFill>
        <p:spPr>
          <a:xfrm>
            <a:off x="7391520" y="4495680"/>
            <a:ext cx="1181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液态氦的这种怪脾气，叫做“超导现象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553080" y="609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打比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28600" y="1371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筛选信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）世界上，冷、热有没有极限？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0" y="3581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）空气变成液态是多少度？什么颜色？液态空气有什么奇妙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facelogo200412120205[1]"/>
          <p:cNvPicPr/>
          <p:nvPr/>
        </p:nvPicPr>
        <p:blipFill>
          <a:blip r:embed="rId1"/>
          <a:stretch/>
        </p:blipFill>
        <p:spPr>
          <a:xfrm>
            <a:off x="7086600" y="4495680"/>
            <a:ext cx="1930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38088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）金属在超低温世界中有哪些奇妙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8088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４）什么叫超流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57200" y="2590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什么叫超导现象？它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images[56]"/>
          <p:cNvPicPr/>
          <p:nvPr/>
        </p:nvPicPr>
        <p:blipFill>
          <a:blip r:embed="rId1"/>
          <a:stretch/>
        </p:blipFill>
        <p:spPr>
          <a:xfrm>
            <a:off x="5105520" y="3429000"/>
            <a:ext cx="2127240" cy="3429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80880" y="3581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超低温现象对人类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57200" y="4572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请你谈谈超低温现象的诱人前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语言的准确与生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举例说明本文语言的准确与严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….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世界上的电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四分之一的损耗在输电线路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铌、锌、铝、钽、锂、锡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纯金属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金，在超低温时也都具有超性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今他们正在努力寻找一种金属或合金，使他在室温或稍低于室温的温度下，就能显示出超导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语言的准确与生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举例说明本文语言的生动与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在经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-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秒钟后，再放回温水，金鱼竟然复活，摆动着它那轻纱般的尾巴，悠然自得的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奇怪的是氦本是一种无色无味的惰性气体，在超低温下会变成无色液体，而这种液体竟是会“爬”的液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5:07:45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