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camera.wav" ContentType="audio/x-wav"/>
  <Override PartName="/ppt/media/image7.jpeg" ContentType="image/jpeg"/>
  <Override PartName="/ppt/media/image6.png" ContentType="image/png"/>
  <Override PartName="/ppt/media/image5.jpeg" ContentType="image/jpeg"/>
  <Override PartName="/ppt/media/drumroll.wav" ContentType="audio/x-wav"/>
  <Override PartName="/ppt/media/image3.jpeg" ContentType="image/jpeg"/>
  <Override PartName="/ppt/media/type.wav" ContentType="audio/x-wav"/>
  <Override PartName="/ppt/media/image17.png" ContentType="image/png"/>
  <Override PartName="/ppt/media/chimes.wav" ContentType="audio/x-wav"/>
  <Override PartName="/ppt/media/image16.jpeg" ContentType="image/jpeg"/>
  <Override PartName="/ppt/media/image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0.png" ContentType="image/png"/>
  <Override PartName="/ppt/media/glass.wav" ContentType="audio/x-wav"/>
  <Override PartName="/ppt/media/image18.jpeg" ContentType="image/jpeg"/>
  <Override PartName="/ppt/media/image14.jpeg" ContentType="image/jpeg"/>
  <Override PartName="/ppt/media/image13.jpeg" ContentType="image/jpeg"/>
  <Override PartName="/ppt/media/image12.jpeg" ContentType="image/jpeg"/>
  <Override PartName="/ppt/media/image11.jpeg" ContentType="image/jpeg"/>
  <Override PartName="/ppt/media/image9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2AB2-B060-44F6-A02F-827375454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49CB-AA49-4B7A-85C5-EB1900CB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EC03-7F28-47C2-BE15-084A323B5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DA6F-A0D3-43CB-8746-F0A8D5612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22BC-CF0F-4F37-8F53-0BEE44A2E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EEB4-1437-4E2C-B18B-5D0A55A9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3E87-40C8-440C-9A13-54D96402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7DCB-B2C3-46DD-8BD9-08FC3D79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54A1-4FCD-4D8A-844C-9F1F28D4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91A2-843E-47A6-9215-8F6C65B0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1093-12D2-4914-8897-5E40AA96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58E1-E9BE-4B8D-AEDD-CE7FFDAC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6FB1-4C8C-486E-A1F6-725BE55C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188C-4C0D-42DE-A66F-BD8B5579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5749-FD61-4B7D-89B5-F99D30FB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6661-F21A-4EFF-A4D1-9551AC016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A3AD-B9D8-47B1-97DC-E9A8685FF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2EC5-9E98-4690-BAD7-2F8C61F5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3D85-3A40-4A3D-AF95-AB5BE8CB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2854-54DE-4A5D-A973-C33F2CC2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194E-9FE2-413B-A914-5CB860A4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0689-F33F-4296-B5AD-A0CBAEB5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AA4B-48EB-4C08-9FAE-8AD7A7EF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3B78-3171-4171-8476-E8D34640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FF7A-7C4B-4A06-B208-4F669CF50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917A-F03B-4C00-AE23-D8749B69A6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hyperlink" Target="http://image.baidu.com/i?ct=503316480&amp;z=991647451&amp;tn=baiduimagedetail&amp;word=&#38271;&#24449;&amp;in=69" TargetMode="External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oolxxyw.com/Article/Class8/Class80/Class105/200509/5419.html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type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drumroll.wav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glass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66"/>
                </a:solidFill>
                <a:latin typeface="华文隶书"/>
                <a:ea typeface="华文隶书"/>
              </a:rPr>
              <a:t>七  律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矩形 3"/>
          <p:cNvSpPr/>
          <p:nvPr/>
        </p:nvSpPr>
        <p:spPr>
          <a:xfrm>
            <a:off x="5778000" y="692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毛泽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G:\长征\U1075P1T63D2624F1724DT200608011136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440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380880" y="2209680"/>
            <a:ext cx="87631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初读，读准字音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  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逶迤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  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 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   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磅礴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 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   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云崖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(     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   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岷山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(     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再读， 解释词义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  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等闲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     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逶迤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    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细浪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    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云崖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    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磅礴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    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开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译读，感悟诗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4773600" y="1676520"/>
            <a:ext cx="113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ēiyí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4a4a48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6649920" y="1676520"/>
            <a:ext cx="16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p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á</a:t>
            </a: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ngb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ó </a:t>
            </a:r>
            <a:r>
              <a:rPr b="0" lang="en-US" sz="2400" spc="-1" strike="noStrike">
                <a:solidFill>
                  <a:srgbClr val="4a4a48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306080" y="2733840"/>
            <a:ext cx="7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y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á </a:t>
            </a:r>
            <a:r>
              <a:rPr b="0" lang="en-US" sz="2400" spc="-1" strike="noStrike">
                <a:solidFill>
                  <a:srgbClr val="4a4a48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4025520" y="2733840"/>
            <a:ext cx="9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m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í</a:t>
            </a: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n</a:t>
            </a:r>
            <a:r>
              <a:rPr b="0" lang="en-US" sz="2400" spc="-1" strike="noStrike">
                <a:solidFill>
                  <a:srgbClr val="4a4a48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G:\长征\U1075P1T63D2624F1724DT200608011136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440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1371600" y="1676520"/>
            <a:ext cx="70102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红军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不怕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远征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难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万水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千山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只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等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闲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五岭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逶迤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腾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细浪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乌蒙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磅礴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走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泥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丸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金沙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水拍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云崖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暖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大渡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桥横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铁索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寒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更喜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岷山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千里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雪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三军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过后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尽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开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颜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七律长征朗诵（好）.mp3" descr=""/>
          <p:cNvPicPr/>
          <p:nvPr/>
        </p:nvPicPr>
        <p:blipFill>
          <a:blip r:embed="rId2"/>
          <a:stretch/>
        </p:blipFill>
        <p:spPr>
          <a:xfrm>
            <a:off x="0" y="1447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8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E:\李云峰\图片\中国近现代史\毛泽东长征手迹.gif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G:\长征\U1075P1T63D2624F1724DT2006080111364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宋体"/>
              </a:rPr>
              <a:t>品味诗歌画面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创设问题情境：七律长征为我们展示了红军在长征途中克服困难的雄壮图画，请你各用一句话概括每幅画面的主要内容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交流评价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选择你最喜欢的一个画面，说说为什么喜欢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581280" y="342900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971800" y="4359240"/>
            <a:ext cx="6458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腾越五岭、疾跨乌蒙、巧度金沙江、飞夺泸定河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喜踏岷山雪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7" descr="G:\长征\U1075P1T63D2624F1724DT200608011136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G:\长征\U1075P1T63D2624F1724DT200608011136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440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jinshajiang"/>
          <p:cNvPicPr/>
          <p:nvPr/>
        </p:nvPicPr>
        <p:blipFill>
          <a:blip r:embed="rId2"/>
          <a:stretch/>
        </p:blipFill>
        <p:spPr>
          <a:xfrm>
            <a:off x="2590920" y="3657600"/>
            <a:ext cx="2560680" cy="3200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daduqiao"/>
          <p:cNvPicPr/>
          <p:nvPr/>
        </p:nvPicPr>
        <p:blipFill>
          <a:blip r:embed="rId3"/>
          <a:stretch/>
        </p:blipFill>
        <p:spPr>
          <a:xfrm>
            <a:off x="0" y="3657600"/>
            <a:ext cx="2610000" cy="3200400"/>
          </a:xfrm>
          <a:prstGeom prst="rect">
            <a:avLst/>
          </a:prstGeom>
          <a:ln w="0">
            <a:noFill/>
          </a:ln>
        </p:spPr>
      </p:pic>
      <p:grpSp>
        <p:nvGrpSpPr>
          <p:cNvPr id="146" name="Group 7"/>
          <p:cNvGrpSpPr/>
          <p:nvPr/>
        </p:nvGrpSpPr>
        <p:grpSpPr>
          <a:xfrm>
            <a:off x="5181480" y="3695760"/>
            <a:ext cx="3962520" cy="3162240"/>
            <a:chOff x="5181480" y="3695760"/>
            <a:chExt cx="3962520" cy="3162240"/>
          </a:xfrm>
        </p:grpSpPr>
        <p:pic>
          <p:nvPicPr>
            <p:cNvPr id="147" name="Picture 8" descr="E:\roger\李云峰 在 史地组 (192.168.3.20) 上\图片\中国近现代史\水草地.jpg"/>
            <p:cNvPicPr/>
            <p:nvPr/>
          </p:nvPicPr>
          <p:blipFill>
            <a:blip r:embed="rId4"/>
            <a:stretch/>
          </p:blipFill>
          <p:spPr>
            <a:xfrm>
              <a:off x="5181480" y="3695760"/>
              <a:ext cx="3962520" cy="312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9"/>
            <p:cNvSpPr/>
            <p:nvPr/>
          </p:nvSpPr>
          <p:spPr>
            <a:xfrm>
              <a:off x="6729480" y="6400800"/>
              <a:ext cx="183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9" name="Group 10"/>
          <p:cNvGrpSpPr/>
          <p:nvPr/>
        </p:nvGrpSpPr>
        <p:grpSpPr>
          <a:xfrm>
            <a:off x="0" y="1371600"/>
            <a:ext cx="3753000" cy="2560680"/>
            <a:chOff x="0" y="1371600"/>
            <a:chExt cx="3753000" cy="2560680"/>
          </a:xfrm>
        </p:grpSpPr>
        <p:pic>
          <p:nvPicPr>
            <p:cNvPr id="150" name="Picture 11" descr="E:\roger\李云峰 在 史地组 (192.168.3.20) 上\图片\中国近现代史\大雪山.jpg"/>
            <p:cNvPicPr/>
            <p:nvPr/>
          </p:nvPicPr>
          <p:blipFill>
            <a:blip r:embed="rId5"/>
            <a:stretch/>
          </p:blipFill>
          <p:spPr>
            <a:xfrm>
              <a:off x="0" y="1371600"/>
              <a:ext cx="3753000" cy="232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12"/>
            <p:cNvSpPr/>
            <p:nvPr/>
          </p:nvSpPr>
          <p:spPr>
            <a:xfrm>
              <a:off x="1505880" y="3475440"/>
              <a:ext cx="1836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2" name="Picture 14" descr="http://t0.baidu.com/it/u=2657831023,3346620168&amp;gp=1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733920" y="1447920"/>
            <a:ext cx="335268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互动分析结构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09480" y="3580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首联：开宗明义，提出全篇的中心思想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颔联：承“千山”，以五岭、乌蒙为代表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颈联：承“万水”，以金沙、大渡为典型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尾联：总结全诗，突出越过岷山的喜悦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4" descr="G:\长征\U1075P1T63D2624F1724DT200608011136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http://www.coolxxyw.com/Article/UploadFiles/200509/2005091923262344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G:\长征\U1075P1T63D2624F1724DT20060801113648.jpg"/>
          <p:cNvPicPr/>
          <p:nvPr/>
        </p:nvPicPr>
        <p:blipFill>
          <a:blip r:embed="rId3"/>
          <a:stretch/>
        </p:blipFill>
        <p:spPr>
          <a:xfrm>
            <a:off x="0" y="0"/>
            <a:ext cx="9144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G:\长征\U1075P1T63D2624F1724DT200608011136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4400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"/>
          <p:cNvSpPr/>
          <p:nvPr/>
        </p:nvSpPr>
        <p:spPr>
          <a:xfrm>
            <a:off x="3979440" y="1447920"/>
            <a:ext cx="27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品味诗的语言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（课后练习二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739160" y="1981080"/>
            <a:ext cx="39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五岭逶迤腾</a:t>
            </a:r>
            <a:r>
              <a:rPr b="1" lang="zh-CN" sz="2800" spc="-1" strike="noStrike">
                <a:solidFill>
                  <a:srgbClr val="ffff00"/>
                </a:solidFill>
                <a:latin typeface="幼圆"/>
                <a:ea typeface="幼圆"/>
              </a:rPr>
              <a:t>细浪</a:t>
            </a: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，乌蒙磅礴走</a:t>
            </a:r>
            <a:r>
              <a:rPr b="1" lang="zh-CN" sz="2800" spc="-1" strike="noStrike">
                <a:solidFill>
                  <a:srgbClr val="ffff00"/>
                </a:solidFill>
                <a:latin typeface="幼圆"/>
                <a:ea typeface="幼圆"/>
              </a:rPr>
              <a:t>泥丸</a:t>
            </a: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1723320" y="3581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金沙水拍云崖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暖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，大渡桥横铁索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寒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1629720" y="5105520"/>
            <a:ext cx="373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更喜岷山千里雪，三军过后尽开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152280" y="249876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看似矛盾，其实是一种反衬手法，作者把绵延不断的五岭和巍峨高大的乌蒙分别比作“细浪”和“泥丸”，极言其小，是为了突出表现红军敢于战胜一切困难的高大形象和伟大气魄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0" y="4038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幼圆"/>
                <a:ea typeface="幼圆"/>
              </a:rPr>
              <a:t>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幼圆"/>
              </a:rPr>
              <a:t>“</a:t>
            </a:r>
            <a:r>
              <a:rPr b="1" lang="zh-CN" sz="2000" spc="-1" strike="noStrike">
                <a:solidFill>
                  <a:srgbClr val="ffff00"/>
                </a:solidFill>
                <a:latin typeface="幼圆"/>
                <a:ea typeface="幼圆"/>
              </a:rPr>
              <a:t>暖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幼圆"/>
              </a:rPr>
              <a:t>”</a:t>
            </a:r>
            <a:r>
              <a:rPr b="1" lang="zh-CN" sz="2000" spc="-1" strike="noStrike">
                <a:solidFill>
                  <a:srgbClr val="ffff00"/>
                </a:solidFill>
                <a:latin typeface="幼圆"/>
                <a:ea typeface="幼圆"/>
              </a:rPr>
              <a:t>既写出了</a:t>
            </a:r>
            <a:r>
              <a:rPr b="1" lang="en-US" sz="2000" spc="-1" strike="noStrike">
                <a:solidFill>
                  <a:srgbClr val="ffff00"/>
                </a:solidFill>
                <a:latin typeface="幼圆"/>
                <a:ea typeface="幼圆"/>
              </a:rPr>
              <a:t>5</a:t>
            </a:r>
            <a:r>
              <a:rPr b="1" lang="zh-CN" sz="2000" spc="-1" strike="noStrike">
                <a:solidFill>
                  <a:srgbClr val="ffff00"/>
                </a:solidFill>
                <a:latin typeface="幼圆"/>
                <a:ea typeface="幼圆"/>
              </a:rPr>
              <a:t>月春暖的金沙江风高浪急、暖气蒸腾的实景，又烘托出红军战士渡江脱险的喜悦心情和一片沸腾的景象。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幼圆"/>
              </a:rPr>
              <a:t>“</a:t>
            </a:r>
            <a:r>
              <a:rPr b="1" lang="zh-CN" sz="2000" spc="-1" strike="noStrike">
                <a:solidFill>
                  <a:srgbClr val="ffff00"/>
                </a:solidFill>
                <a:latin typeface="幼圆"/>
                <a:ea typeface="幼圆"/>
              </a:rPr>
              <a:t>寒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幼圆"/>
              </a:rPr>
              <a:t>”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既烘托出泸定桥险恶的形势，又描绘出红军战士浴血奋战，飞夺泸定，令敌人胆寒的壮烈情景。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152280" y="5715000"/>
            <a:ext cx="88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这是因为作者坚信红二、红四方面军能战胜天险、冲破敌人围追堵截，粉碎张国焘的阴谋分裂活动，完成长征的任务，与红一方面军会师，从而充分表达了毛泽东对红二、红四方面军广大指战员的殷切希望和无比信任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G:\长征\U1075P1T63D2624F1724DT200608011136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440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3"/>
          <p:cNvSpPr/>
          <p:nvPr/>
        </p:nvSpPr>
        <p:spPr>
          <a:xfrm>
            <a:off x="3799440" y="1539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当堂训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838080" y="2438280"/>
            <a:ext cx="76201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背诵全诗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默写全诗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写一篇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读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长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有感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0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字左右）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D:\语文吕\1.1\长征图片\长征.gif"/>
          <p:cNvPicPr/>
          <p:nvPr/>
        </p:nvPicPr>
        <p:blipFill>
          <a:blip r:embed="rId1"/>
          <a:stretch/>
        </p:blipFill>
        <p:spPr>
          <a:xfrm>
            <a:off x="990720" y="457200"/>
            <a:ext cx="6675480" cy="12463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D:\语文吕\1.1\长征图片\毛泽东.jpg"/>
          <p:cNvPicPr/>
          <p:nvPr/>
        </p:nvPicPr>
        <p:blipFill>
          <a:blip r:embed="rId2"/>
          <a:stretch/>
        </p:blipFill>
        <p:spPr>
          <a:xfrm>
            <a:off x="0" y="1981080"/>
            <a:ext cx="2874960" cy="4038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D:\语文吕\1.1\长征图片\周恩来.jpg"/>
          <p:cNvPicPr/>
          <p:nvPr/>
        </p:nvPicPr>
        <p:blipFill>
          <a:blip r:embed="rId3"/>
          <a:stretch/>
        </p:blipFill>
        <p:spPr>
          <a:xfrm>
            <a:off x="2819520" y="1981080"/>
            <a:ext cx="3085920" cy="4114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D:\语文吕\1.1\长征图片\朱德.jpg"/>
          <p:cNvPicPr/>
          <p:nvPr/>
        </p:nvPicPr>
        <p:blipFill>
          <a:blip r:embed="rId4"/>
          <a:stretch/>
        </p:blipFill>
        <p:spPr>
          <a:xfrm>
            <a:off x="5925960" y="1981080"/>
            <a:ext cx="3168720" cy="41148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0"/>
          <p:cNvSpPr/>
          <p:nvPr/>
        </p:nvSpPr>
        <p:spPr>
          <a:xfrm>
            <a:off x="588960" y="60958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毛泽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3759840" y="6110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周恩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7246440" y="6095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朱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244040" y="930240"/>
            <a:ext cx="1278000" cy="642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伟大领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3030.mp3" descr=""/>
          <p:cNvPicPr/>
          <p:nvPr/>
        </p:nvPicPr>
        <p:blipFill>
          <a:blip r:embed="rId5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302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5" dur="1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G:\长征70周年\424521.jpg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E:\roger\李云峰 在 史地组 (192.168.3.20) 上\图片\中国近现代史\长征地图.jpg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3"/>
          <p:cNvSpPr/>
          <p:nvPr/>
        </p:nvSpPr>
        <p:spPr>
          <a:xfrm>
            <a:off x="7848720" y="6095880"/>
            <a:ext cx="838080" cy="457200"/>
          </a:xfrm>
          <a:prstGeom prst="wedgeRectCallout">
            <a:avLst>
              <a:gd name="adj1" fmla="val -85226"/>
              <a:gd name="adj2" fmla="val -47569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瑞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4114800" y="5791320"/>
            <a:ext cx="838080" cy="457200"/>
          </a:xfrm>
          <a:prstGeom prst="wedgeRectCallout">
            <a:avLst>
              <a:gd name="adj1" fmla="val -53787"/>
              <a:gd name="adj2" fmla="val -132291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遵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2362320" y="6248520"/>
            <a:ext cx="1143000" cy="457200"/>
          </a:xfrm>
          <a:prstGeom prst="wedgeRectCallout">
            <a:avLst>
              <a:gd name="adj1" fmla="val -47083"/>
              <a:gd name="adj2" fmla="val -14375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金沙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2895480" y="3962520"/>
            <a:ext cx="1143000" cy="457200"/>
          </a:xfrm>
          <a:prstGeom prst="wedgeRectCallout">
            <a:avLst>
              <a:gd name="adj1" fmla="val -90277"/>
              <a:gd name="adj2" fmla="val -28125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大渡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AutoShape 7"/>
          <p:cNvSpPr/>
          <p:nvPr/>
        </p:nvSpPr>
        <p:spPr>
          <a:xfrm>
            <a:off x="609480" y="3200400"/>
            <a:ext cx="1143000" cy="457200"/>
          </a:xfrm>
          <a:prstGeom prst="wedgeRectCallout">
            <a:avLst>
              <a:gd name="adj1" fmla="val 97361"/>
              <a:gd name="adj2" fmla="val 71875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大雪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AutoShape 8"/>
          <p:cNvSpPr/>
          <p:nvPr/>
        </p:nvSpPr>
        <p:spPr>
          <a:xfrm>
            <a:off x="1066680" y="2438280"/>
            <a:ext cx="1143000" cy="457200"/>
          </a:xfrm>
          <a:prstGeom prst="wedgeRectCallout">
            <a:avLst>
              <a:gd name="adj1" fmla="val 97361"/>
              <a:gd name="adj2" fmla="val 71875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水草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AutoShape 9"/>
          <p:cNvSpPr/>
          <p:nvPr/>
        </p:nvSpPr>
        <p:spPr>
          <a:xfrm>
            <a:off x="5638680" y="1295280"/>
            <a:ext cx="1143000" cy="457200"/>
          </a:xfrm>
          <a:prstGeom prst="wedgeRectCallout">
            <a:avLst>
              <a:gd name="adj1" fmla="val -130277"/>
              <a:gd name="adj2" fmla="val -78125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吴起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AutoShape 10"/>
          <p:cNvSpPr/>
          <p:nvPr/>
        </p:nvSpPr>
        <p:spPr>
          <a:xfrm>
            <a:off x="2133720" y="1143000"/>
            <a:ext cx="838080" cy="457200"/>
          </a:xfrm>
          <a:prstGeom prst="wedgeRectCallout">
            <a:avLst>
              <a:gd name="adj1" fmla="val 108333"/>
              <a:gd name="adj2" fmla="val 76041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会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AutoShape 11"/>
          <p:cNvSpPr/>
          <p:nvPr/>
        </p:nvSpPr>
        <p:spPr>
          <a:xfrm>
            <a:off x="6781680" y="4724280"/>
            <a:ext cx="2362320" cy="609840"/>
          </a:xfrm>
          <a:prstGeom prst="wedgeEllipseCallout">
            <a:avLst>
              <a:gd name="adj1" fmla="val -19287"/>
              <a:gd name="adj2" fmla="val 17083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红一方面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AutoShape 12"/>
          <p:cNvSpPr/>
          <p:nvPr/>
        </p:nvSpPr>
        <p:spPr>
          <a:xfrm>
            <a:off x="4495680" y="3581280"/>
            <a:ext cx="2362320" cy="533520"/>
          </a:xfrm>
          <a:prstGeom prst="wedgeEllipseCallout">
            <a:avLst>
              <a:gd name="adj1" fmla="val -19287"/>
              <a:gd name="adj2" fmla="val 14523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红二方面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AutoShape 13"/>
          <p:cNvSpPr/>
          <p:nvPr/>
        </p:nvSpPr>
        <p:spPr>
          <a:xfrm>
            <a:off x="3962520" y="2514600"/>
            <a:ext cx="2514600" cy="609480"/>
          </a:xfrm>
          <a:prstGeom prst="wedgeEllipseCallout">
            <a:avLst>
              <a:gd name="adj1" fmla="val -45393"/>
              <a:gd name="adj2" fmla="val 10833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红四方面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14" descr="G:\长征\U1075P1T63D2624F1724DT2006080111364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G:\长征\U1075P1T63D2624F1724DT200608011136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G:\长征70周年\开国元勋子女江西瑞金启程 重走长征路.jpg"/>
          <p:cNvPicPr/>
          <p:nvPr/>
        </p:nvPicPr>
        <p:blipFill>
          <a:blip r:embed="rId2"/>
          <a:stretch/>
        </p:blipFill>
        <p:spPr>
          <a:xfrm>
            <a:off x="990720" y="1371600"/>
            <a:ext cx="6858000" cy="46213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2651760" y="614052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开国元勋子女江西瑞金启程，重走长征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Arial"/>
              </a:rPr>
              <a:t>七律    长征</a:t>
            </a:r>
            <a:r>
              <a:rPr b="1" lang="zh-CN" sz="2000" spc="-1" strike="noStrike">
                <a:solidFill>
                  <a:srgbClr val="ffcc66"/>
                </a:solidFill>
                <a:latin typeface="Arial"/>
              </a:rPr>
              <a:t>毛泽东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体会红军长征中的英雄气概和革命乐观主义精神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关键字词的含义及其饱含的感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毛主席诗词的创作风格，艺术的概括和夸张的手法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4" descr="G:\长征\U1075P1T63D2624F1724DT200608011136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认识长征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28240" y="205740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长征是中国革命史上惊天动地的壮举，给我们留下了宝贵的精神财富。毛主席曾经说过：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长征是历史记录上的第一次，长征是宣告书，长征是宣传队，长征是播种机”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4" descr="G:\长征\U1075P1T63D2624F1724DT200608011136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440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228600" y="3657600"/>
            <a:ext cx="89154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长征准备阶段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1934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月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日～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934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月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日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长征失利阶段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1934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日～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935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日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长征转折阶段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1935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日～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935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4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日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坚持北上和南下分裂阶段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1935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月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4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935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月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发展巩固和南下受挫阶段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1935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9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日～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936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日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6.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大会师阶段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1936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日～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936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日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026" descr="G:\长征\U1075P1T63D2624F1724DT200608011136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440000"/>
          </a:xfrm>
          <a:prstGeom prst="rect">
            <a:avLst/>
          </a:prstGeom>
          <a:ln w="0">
            <a:noFill/>
          </a:ln>
        </p:spPr>
      </p:pic>
      <p:sp>
        <p:nvSpPr>
          <p:cNvPr id="116" name="WordArt 1028"/>
          <p:cNvSpPr txBox="1"/>
          <p:nvPr/>
        </p:nvSpPr>
        <p:spPr>
          <a:xfrm>
            <a:off x="3124080" y="1523880"/>
            <a:ext cx="28576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长征的原因</a:t>
            </a:r>
            <a:endParaRPr b="1" lang="en-US" sz="44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7" name="Rectangle 1029"/>
          <p:cNvSpPr/>
          <p:nvPr/>
        </p:nvSpPr>
        <p:spPr>
          <a:xfrm>
            <a:off x="304920" y="2362320"/>
            <a:ext cx="41907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红军第五次反“围剿”的失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王明的左倾冒险主义错误路线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在党中央占统治地位，抛弃了毛泽东的军事路线，使红军处处挨打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8" name="Group 1030"/>
          <p:cNvGrpSpPr/>
          <p:nvPr/>
        </p:nvGrpSpPr>
        <p:grpSpPr>
          <a:xfrm>
            <a:off x="5410080" y="2286000"/>
            <a:ext cx="2870280" cy="4190760"/>
            <a:chOff x="5410080" y="2286000"/>
            <a:chExt cx="2870280" cy="4190760"/>
          </a:xfrm>
        </p:grpSpPr>
        <p:pic>
          <p:nvPicPr>
            <p:cNvPr id="119" name="Picture 1031" descr="E:\roger\李云峰 在 史地组 (192.168.3.20) 上\图片\中国近现代史\王明.jpg"/>
            <p:cNvPicPr/>
            <p:nvPr/>
          </p:nvPicPr>
          <p:blipFill>
            <a:blip r:embed="rId4"/>
            <a:stretch/>
          </p:blipFill>
          <p:spPr>
            <a:xfrm>
              <a:off x="5410080" y="2286000"/>
              <a:ext cx="2870280" cy="41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032"/>
            <p:cNvSpPr/>
            <p:nvPr/>
          </p:nvSpPr>
          <p:spPr>
            <a:xfrm>
              <a:off x="5963760" y="5887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</a:rPr>
                <a:t>王明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宋体"/>
              </a:rPr>
              <a:t>整体感知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讲述你所了解的长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了解长征这段历史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朗诵全诗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自主质疑，合作释疑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自由朗读，体会诗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试读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4" descr="G:\长征\U1075P1T63D2624F1724DT200608011136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G:\长征\U1075P1T63D2624F1724DT200608011136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440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D:\吴英\图片\mzd.jpg"/>
          <p:cNvPicPr/>
          <p:nvPr/>
        </p:nvPicPr>
        <p:blipFill>
          <a:blip r:embed="rId2"/>
          <a:stretch/>
        </p:blipFill>
        <p:spPr>
          <a:xfrm>
            <a:off x="0" y="1371600"/>
            <a:ext cx="3868560" cy="54864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"/>
          <p:cNvSpPr/>
          <p:nvPr/>
        </p:nvSpPr>
        <p:spPr>
          <a:xfrm>
            <a:off x="3962520" y="1828800"/>
            <a:ext cx="51814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这首诗写于</a:t>
            </a: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1935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年</a:t>
            </a: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月，当时毛泽东率领中央红军越过岷山，长征即将结束。回顾长征一年来红军所战胜的无数艰难险阻，他满怀喜悦的战斗豪情，以极其轻松的笔调写下了这首气壮山河的伟大诗篇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3T12:16:16Z</dcterms:created>
  <dc:creator/>
  <dc:description>第一PPT模板网-WWW.1PPT.COM
</dc:description>
  <dc:language>en-US</dc:language>
  <cp:lastModifiedBy>Administrator</cp:lastModifiedBy>
  <dcterms:modified xsi:type="dcterms:W3CDTF">2017-08-01T06:10:29Z</dcterms:modified>
  <cp:revision>21</cp:revision>
  <dc:subject>第一PPT模板网-WWW.1PPT.COM</dc:subject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