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0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2.gif" ContentType="image/gif"/>
  <Override PartName="/ppt/media/image2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CBC45-BB17-4C2D-9398-EB348E1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9C6A4-D2D1-4647-ACBA-37B340A0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7374A-167B-44F8-BF1B-3E0FFC5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358E8-1E98-4013-A1E4-22BC382D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F41FA-8E34-4AE0-8E61-31AD949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17863-5BB3-4C56-8CAF-1DFE274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B94B3-A456-498C-B387-453DEDB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CCCBF-A914-4F27-98D1-8130384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BEE1A-61AD-425D-9E2F-A58CE33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6D22F-16CF-496D-9DCA-561B2E6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16700-F210-4385-B4B4-E785DCFB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1835F-B7CA-49AB-AA04-142A690B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FAC25-A5E0-47BC-8E5B-6543D61E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53C9E-4C26-446F-AC1B-A3C3E1A7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AF4A5-8033-41B5-AB40-470F9A47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9D8E8-3188-4F22-9CAB-2FFE7746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07A80-0404-4CAF-8AAB-0558158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7EF96-7B57-4D8D-90DE-95D866D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539AC-9FA7-4DBC-94A0-0DA2A28F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D9412-160C-46FC-8F45-85CCEE5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08A31-D82F-4E0B-9354-59F8A08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EC7C0-15AE-434C-8B3B-F151CA9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74ABD-7B3E-4845-9CF2-BE549C31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2FDF2-8608-420E-8F84-23BCE44E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6B9CD-58DB-4869-949B-94B9E72F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22653-0224-4333-858B-F2079A9F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9070D-D71A-4857-A2D0-0DD79C9E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82A34-39EF-4A8D-8EF4-8DA7655C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654CC-8BEB-4547-97BB-D0683797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C145A-3B86-426E-BAA8-D5F4C470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F5BD7-A099-4BC6-A488-5E412C5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580F1-7C82-4682-B966-3E23C1B8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F176D-A7D6-4E6A-8783-7C315A2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BAA81-FE0C-479B-B54F-2B2D639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590E3-1C4C-4ACD-B6EF-11379E37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2F83F-0C51-474E-AC37-FA08AE23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499FB0-C0F3-474B-A00F-E3813D90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3AC8DF-E2AD-4A1B-8CAA-A71D985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59530-6E48-4B03-8BBD-F2B69E73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F9D32F-9C3E-40B7-9627-456C2183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A0EB74-CBC2-48F0-AC73-8861A32C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E8B3C-A1FD-4609-8F3C-A70191D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D2B5B-99F0-4585-9EA6-1EE790F0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79C1A-240B-4C47-BF1E-FDD8600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5E845-8C7D-42BB-8A76-F4606FF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2BE35-E812-419A-B1BE-AB57EC10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2DB47-0BAA-473E-9AAF-4EB5B09A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1D230-A5EA-4FA0-88D3-5CC441FF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D5554-7D07-471E-98B2-91ACFCE1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1048D3-F644-4B0B-9C59-BBAC3620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78D03-51E0-44B1-819C-837FB9A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EB7AC-FEB3-41F2-B1F9-DD4FD00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77E18C-7322-4EF1-91EF-CB14DF1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24A010-08F5-4F25-A526-010BAF3C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C2260-417C-466E-A65E-9A7E293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A01B8-37C6-4B61-98E2-C986A37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2C0E0-3916-4F95-A548-80C0E39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72CD0-03BB-4514-B0F6-B9A4F5C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DC84B-8AB6-452B-ACB8-EE6E1BDB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C021B5-6570-42E2-8CAE-3EC537FE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6E6CE4-50DE-4FF2-88F2-1A327A0A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41E72C-9C3D-4FCD-9161-F47AA3F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2C845-5E81-4FE4-ADF5-4EC2325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4CFDE5-E24C-4A0C-B704-60D1305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56771-53BD-421C-A0D9-9B43C40C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9EB5AA-29C2-44BB-A02B-C40751B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6021E9-18FD-40F4-8231-51FF5EF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370D9E-DF74-4C79-847A-CA17F9C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7E346F-8D39-45B8-8D79-CC40273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704F04-90F7-4CA1-AAF3-090CFA6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C22A9-DBB9-4A99-ADC2-D0412796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60F2D9-2E19-4B73-97D4-8DEBD576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29D35-F5BD-4679-AD0C-DA39B8CE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5DEA3-FB70-4FD9-81CF-FA35F74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32235-8BA0-4C8E-A6D4-EAEB8C8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7C584B-0616-4800-9287-9EBCEE61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17170-79E2-4587-AC03-BEB48F7D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A15092-4836-4C3B-9CAA-F47B0615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FE4A5E-9A53-4176-9DB1-C0C9109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EA03E0-CDD3-4951-80E8-EF11381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908677-3226-45F1-8476-17AAEBA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F5A635-CAE0-4560-81B7-E1C1A749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EE6FC8-9B9D-4B79-B6E5-5F0B4AF6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8C29F3-0B50-4551-BDAD-22F92F57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隶书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隶书"/>
              </a:rPr>
              <a:t>南京市上新河中学    徐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0017-07EF-45CE-8152-8239ECD31C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隶书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隶书"/>
              </a:rPr>
              <a:t>南京市上新河中学    徐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8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6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7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0F39-A9F5-4D81-8D5E-DBA4BCFF3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8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5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8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PlaceHolder 3"/>
          <p:cNvSpPr>
            <a:spLocks noGrp="1"/>
          </p:cNvSpPr>
          <p:nvPr>
            <p:ph type="ftr" idx="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083-377E-438F-81A0-29098BA492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44B8-11FB-4CE1-BD24-6ED0EF8C15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1FD7-E365-4927-974B-7E7619BCF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0D11-3E34-4FDA-9A75-5C80DBBF92C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2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AB73-C316-4308-9E3F-3311DF815F4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0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646600" y="4359240"/>
            <a:ext cx="3497400" cy="24987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52280" y="457200"/>
            <a:ext cx="8153640" cy="0"/>
          </a:xfrm>
          <a:prstGeom prst="line">
            <a:avLst/>
          </a:prstGeom>
          <a:ln w="38160">
            <a:solidFill>
              <a:srgbClr val="d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52280"/>
            <a:ext cx="0" cy="6019920"/>
          </a:xfrm>
          <a:prstGeom prst="line">
            <a:avLst/>
          </a:prstGeom>
          <a:ln w="38160">
            <a:solidFill>
              <a:srgbClr val="d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9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thywater.maidee.com/zuopin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41360" y="228600"/>
            <a:ext cx="6292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将 进 酒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李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9144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676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 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元７６２年秋，病骨支离的李白什么都不需要了，惟要酒，酒。他一生醉得太多了，但这是最后一次。他举杯邀月，却发现月在水里，他悠悠忽忽扑进水中，抱月而眠。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谁像他这样认真又天真一生？连死都是一首诗，一首醉酒的诗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看来，李白天生为诗酒而来，为后人读诗酒篇而来。今天我们就来读他的劝酒诗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------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0584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2133720" y="1752480"/>
            <a:ext cx="43434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将进酒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0" y="152856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此诗，约作于天宝十一载，即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安史之乱前四五年光景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当时唐玄宗耽于女色，先后将政事交给奸相李林甫和杨国忠，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官场一片黑暗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豪门贵族只顾寻欢作乐，不以国事为念，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社会腐败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了无以复加的地步。诗人对此极为不满，却又无力改变这种状况，只能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借酒销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“但愿长醉不复醒”。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380880" y="1600200"/>
            <a:ext cx="712944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此时距李白被唐玄宗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“赐金放还”已有八年之久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由于受到排挤，李白离开长安，开始了以东鲁、梁国为中心的第二次漫游。当时，他曾多次与友人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岑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嵩山另一好友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元丹丘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颍阳山居为客。他们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登高畅饮，对酒当歌，畅抒满腔不平之情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此作就是他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咏酒抒情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佳作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2205000" y="1844640"/>
            <a:ext cx="476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195640" y="1844640"/>
            <a:ext cx="476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067280" y="4005360"/>
            <a:ext cx="13618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6" name=""/>
          <p:cNvSpPr/>
          <p:nvPr/>
        </p:nvSpPr>
        <p:spPr>
          <a:xfrm>
            <a:off x="8012880" y="563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朗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476360" y="1197000"/>
            <a:ext cx="5904000" cy="2524320"/>
          </a:xfrm>
          <a:prstGeom prst="rect">
            <a:avLst/>
          </a:prstGeom>
          <a:solidFill>
            <a:srgbClr val="ffffff">
              <a:alpha val="58000"/>
            </a:srgbClr>
          </a:solidFill>
          <a:ln w="19080">
            <a:solidFill>
              <a:srgbClr val="007a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cc"/>
                </a:solidFill>
                <a:latin typeface="Arial"/>
                <a:ea typeface="黑体"/>
              </a:rPr>
              <a:t>了解一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微软雅黑"/>
              </a:rPr>
              <a:t>将进酒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”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--------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原是汉乐府的曲名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将，读</a:t>
            </a:r>
            <a:r>
              <a:rPr b="1" lang="zh-CN" sz="24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qiāng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“请”“愿”的意思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关于“将”字的这一含义， “将进酒”意      即“劝酒歌”， 多以饮酒放歌为内容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57200" y="852480"/>
            <a:ext cx="236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字音：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500280"/>
            <a:ext cx="9144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      樽     烹      岑       馔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裘     沽     恣      谑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9640" y="2565360"/>
            <a:ext cx="1513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qiā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97080" y="2565360"/>
            <a:ext cx="122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zū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564000" y="2565360"/>
            <a:ext cx="151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ē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2565360"/>
            <a:ext cx="1728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é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05440" y="2565360"/>
            <a:ext cx="23385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4360" y="4581360"/>
            <a:ext cx="115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qi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68360" y="4581360"/>
            <a:ext cx="129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gū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37080" y="4726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zì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21440" y="47260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xu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3021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你没看见吗？黄河之水是由天上而来。波涛滚滚奔向东海，永不回头。你没看见吗？可悲的是高堂明镜照见了白发，早晨如青丝般乌黑，傍晚白得如雪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4920" y="225360"/>
            <a:ext cx="46814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君不见黄河之水天上来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奔流到海不复回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君不见高堂明镜悲白发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朝如青丝暮成雪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95280" y="620640"/>
            <a:ext cx="7993080" cy="520560"/>
          </a:xfrm>
          <a:prstGeom prst="rect">
            <a:avLst/>
          </a:prstGeom>
          <a:solidFill>
            <a:srgbClr val="ffffff">
              <a:alpha val="76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君不见黄河之水天上来，奔流到海不复回！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4000" y="1341360"/>
            <a:ext cx="7848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微软雅黑"/>
                <a:ea typeface="微软雅黑"/>
              </a:rPr>
              <a:t>流水文化：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《论语》子在川上曰：“逝者如斯夫，不舍昼夜 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汉乐府《长歌行》：百川东到海，何时复西归，少壮不努力老大徒伤悲。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0364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3141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悲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：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楷体_GB2312"/>
              </a:rPr>
              <a:t>对青春已逝，年华不在的感慨；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5280" y="3573360"/>
            <a:ext cx="69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微软雅黑"/>
              </a:rPr>
              <a:t>手法表达：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比兴（黄河）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夸张（黄河之水天上来）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4581360"/>
            <a:ext cx="7991640" cy="520560"/>
          </a:xfrm>
          <a:prstGeom prst="rect">
            <a:avLst/>
          </a:prstGeom>
          <a:solidFill>
            <a:srgbClr val="ffffff">
              <a:alpha val="45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君不见高堂明镜悲白发，朝如青丝暮成雪！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3236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微软雅黑"/>
              </a:rPr>
              <a:t>反衬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076720" y="5661000"/>
            <a:ext cx="4334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84360" y="6021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微软雅黑"/>
              </a:rPr>
              <a:t>悲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楷体_GB2312"/>
              </a:rPr>
              <a:t>：以黄河的伟大永恒衬托生命的渺小脆弱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979640" y="907920"/>
            <a:ext cx="468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微软雅黑"/>
              </a:rPr>
              <a:t>悲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39152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掀开中国文坛的红盖头，酒香随清风徐来。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在中国文学史上，诗与酒相从相随，几乎有一种天生的缘分。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中国诗人大多爱喝酒。多少诗人因酒忘却人世的痛苦忧愁，因酒在自由的时空中尽情翱翔，因酒而丢掉面具口吐真言，因酒而成就传世佳作。且听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------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6360" y="1484280"/>
            <a:ext cx="91440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人生得意时，要尽情地寻欢作乐，别让金杯玉露，空对天上明月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天地造就我的才干，必有它的用处，即使千金耗尽，还会重新再来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烹羊宰牛，且图眼前欢乐，应该痛痛快快一口气喝它三百杯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90240" y="189000"/>
            <a:ext cx="1230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生得意须尽欢，莫使金樽空对月。天生我材必有用，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千金散尽还复来。烹羊宰牛且为乐，会须一饮三百杯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4651200"/>
            <a:ext cx="914400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556000" y="162864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765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3640" y="98100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solidFill>
            <a:srgbClr val="ffffff">
              <a:alpha val="53000"/>
            </a:srgbClr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天生我材必有用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千金散尽还复来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6920" y="1197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乐观自信，肯定人生，肯定自我，透露出一种怀才不遇而又渴望用世的积极的本质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4360" y="213372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微软雅黑"/>
              </a:rPr>
              <a:t>评价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表面豪爽，暗藏忧愁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2924280"/>
            <a:ext cx="42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Comic Sans MS"/>
                <a:ea typeface="MS UI Gothic"/>
              </a:rPr>
              <a:t>Tip:</a:t>
            </a: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      </a:t>
            </a: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《行路难》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金樽清酒斗十千，玉盘珍馐值万钱，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停杯投箸不能食，拔剑四顾心茫然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欲度黄河冰塞川，将登太行雪满山，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闲来垂钓碧溪上，忽复乘舟梦日边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行路难，行路难；多歧路，今安在？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长风破浪会有时，直挂云帆济沧海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763640" y="1268280"/>
            <a:ext cx="4753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259560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岑勋先生，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丘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先生，快快喝酒吧，杯儿不要停！让我为你们唱一曲，请你们侧耳仔细听：钟鸣鼓响饮食如玉，何足珍贵？我只愿长醉享乐，不愿醒来受罪！古来圣贤，生活恐怕都寂寞，世上唯有喝酒的人芳名永驻。古时陈王曹植曾在平乐观宴饮寻欢，斗酒十千不嫌贵，任性地享乐一番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088640" y="0"/>
            <a:ext cx="35946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岑夫子，丹丘生，将进酒，杯莫停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与君歌一曲，请君为我倾耳听：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钟鼓馔玉不足贵，但愿长醉不复醒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古来圣贤皆寂寞，惟有饮者留其名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陈王昔时宴平乐，斗酒十千恣欢谑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solidFill>
            <a:srgbClr val="ffffff">
              <a:alpha val="52000"/>
            </a:srgbClr>
          </a:solidFill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钟鼓馔玉不足贵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但愿长醉不愿醒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79640" y="981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48428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不羡慕达官贵人的生活，实际是对权贵们的一种蔑视，不随波逐流的叛逆性格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012000" y="1052640"/>
            <a:ext cx="288720" cy="504720"/>
          </a:xfrm>
          <a:prstGeom prst="downArrow">
            <a:avLst>
              <a:gd name="adj1" fmla="val 50000"/>
              <a:gd name="adj2" fmla="val 4370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35640" y="1628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难言的惆怅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solidFill>
            <a:srgbClr val="ffffff">
              <a:alpha val="53000"/>
            </a:srgbClr>
          </a:solidFill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古来圣贤皆寂寞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惟有饮者留其名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5640" y="3068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cc"/>
                </a:solidFill>
                <a:latin typeface="Arial"/>
                <a:ea typeface="微软雅黑"/>
              </a:rPr>
              <a:t>问题一：圣贤有可能指的是哪些人呢？他们寂寞的含义是什么？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5280" y="3500280"/>
            <a:ext cx="705636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孔子、孟子、屈原、贾谊之流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孔子、孟子，奔走列国宣扬自己的学说，施行仁政，却一直得不到任何一个国君的任用；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屈原、贾谊，理想、抱负一直不为人所理解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4581360"/>
            <a:ext cx="9144000" cy="58140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陈王昔时宴平乐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斗酒十千恣欢谑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5280" y="5805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cc"/>
                </a:solidFill>
                <a:latin typeface="Arial"/>
                <a:ea typeface="微软雅黑"/>
              </a:rPr>
              <a:t>陈王：</a:t>
            </a:r>
            <a:r>
              <a:rPr b="1" lang="zh-CN" sz="1600" spc="-1" strike="noStrike">
                <a:solidFill>
                  <a:srgbClr val="3366cc"/>
                </a:solidFill>
                <a:latin typeface="Arial"/>
                <a:ea typeface="微软雅黑"/>
              </a:rPr>
              <a:t>三国时候的曹植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43280" y="6021360"/>
            <a:ext cx="863640" cy="73080"/>
          </a:xfrm>
          <a:prstGeom prst="rightArrow">
            <a:avLst>
              <a:gd name="adj1" fmla="val 50000"/>
              <a:gd name="adj2" fmla="val 2954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5373720"/>
            <a:ext cx="41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用以自比，一样的才思敏捷， 一样的遭人妒忌排挤，有志难展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既是对陈王昔时宴饮的倾慕，更是对现实遭遇的愤恨与控诉。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619280" y="1413000"/>
            <a:ext cx="525636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愤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14716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主人啊，为何说缺少银钱？直接沽取醇酒，咱对饮个醉意绵绵，这一匹名贵的五花马，这一件价值千金的皮裘，叫孩儿们拿去换美酒吧，我与你喝个大醉，同销万古长愁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0" y="122400"/>
            <a:ext cx="9372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主人何为言少钱，径须沽取对君酌。五花马，千金裘，呼儿将出换美酒，与尔同销万古愁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                 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主人何为言少钱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径须沽取对君酌。 </a:t>
            </a:r>
            <a:br>
              <a:rPr sz="2400"/>
            </a:b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                 五花马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千金裘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呼儿将出换美酒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55640" y="1773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些很多人苦苦追求的东西到了李白这里却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微软雅黑"/>
              </a:rPr>
              <a:t>抵不过一碗美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酒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在李白的眼中充满着鄙视之情。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与尔同销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微软雅黑"/>
              </a:rPr>
              <a:t>万古愁。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436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cc"/>
                </a:solidFill>
                <a:latin typeface="Arial"/>
                <a:ea typeface="微软雅黑"/>
              </a:rPr>
              <a:t>其中的“万古愁”的内涵是什么？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692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908000" y="501336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怀才不遇，可以说是封建时代多数才人的共同命运，所以说是“万古愁”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71640" y="4797360"/>
            <a:ext cx="504720" cy="792360"/>
          </a:xfrm>
          <a:custGeom>
            <a:avLst/>
            <a:gdLst>
              <a:gd name="textAreaLeft" fmla="*/ 67320 w 504720"/>
              <a:gd name="textAreaRight" fmla="*/ 437400 w 50472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187280" y="1413000"/>
            <a:ext cx="6048720" cy="39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微软雅黑"/>
              </a:rPr>
              <a:t>狂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559800" y="195120"/>
            <a:ext cx="759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cc00"/>
                </a:solidFill>
                <a:latin typeface="华文新魏"/>
                <a:ea typeface="华文新魏"/>
              </a:rPr>
              <a:t>品读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1413000"/>
            <a:ext cx="89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将进酒》感情奔放，气势雄浑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折低回，跌宕起伏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请总结诗歌中包含了那些情感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212400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rcRect l="11812" t="21745" r="46170" b="14076"/>
          <a:stretch/>
        </p:blipFill>
        <p:spPr>
          <a:xfrm>
            <a:off x="6227640" y="3500280"/>
            <a:ext cx="29718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5003640" y="14130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君不见高堂明镜悲白发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076720" y="2421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微软雅黑"/>
              </a:rPr>
              <a:t>人生得意须尽欢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92720" y="3429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076720" y="3429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但愿长醉不愿醒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48360" y="4581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与尔同销万古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492280" y="1052640"/>
            <a:ext cx="150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492280" y="2077920"/>
            <a:ext cx="96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84360" y="3068640"/>
            <a:ext cx="120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84360" y="4221000"/>
            <a:ext cx="11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-36360" y="350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6948360" y="5505480"/>
            <a:ext cx="2195640" cy="1352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520560" y="1844640"/>
            <a:ext cx="700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君不见黄河之水天上来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奔流到海不复回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君不见高堂明镜悲白发，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朝如青丝暮成雪。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39240" y="170028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532720" y="2492280"/>
            <a:ext cx="0" cy="584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88000" y="3306600"/>
            <a:ext cx="110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悲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02" name=""/>
          <p:cNvSpPr/>
          <p:nvPr/>
        </p:nvSpPr>
        <p:spPr>
          <a:xfrm>
            <a:off x="559800" y="195120"/>
            <a:ext cx="759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cc00"/>
                </a:solidFill>
                <a:latin typeface="华文新魏"/>
                <a:ea typeface="华文新魏"/>
              </a:rPr>
              <a:t>品读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-36360" y="17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324000" y="1773360"/>
            <a:ext cx="982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生得意须尽欢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莫使金樽空对月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天生我材必有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千金散尽还复来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烹羊宰牛且为乐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会须一饮三百杯。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岑夫子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丹丘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将进酒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杯莫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与君歌一曲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请君为我倾耳听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352000" y="170028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352000" y="3284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707320" y="2481120"/>
            <a:ext cx="0" cy="5860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750160" y="41385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73560" y="1730520"/>
            <a:ext cx="11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欢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12" name=""/>
          <p:cNvSpPr/>
          <p:nvPr/>
        </p:nvSpPr>
        <p:spPr>
          <a:xfrm>
            <a:off x="559800" y="195120"/>
            <a:ext cx="759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cc00"/>
                </a:solidFill>
                <a:latin typeface="华文新魏"/>
                <a:ea typeface="华文新魏"/>
              </a:rPr>
              <a:t>品读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3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对酒当歌，人生几何。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劝君更尽一杯酒，西出阳关无故人。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葡萄美酒夜光杯，欲饮琵琶马上催。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53334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诗    “酒”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590920" y="5791320"/>
            <a:ext cx="1295280" cy="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-36360" y="2201760"/>
            <a:ext cx="650880" cy="6508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612720" y="1549440"/>
            <a:ext cx="68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钟鼓馔玉不足贵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但愿长醉不用醒。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古来圣贤皆寂寞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惟有饮者留其名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陈王昔时宴平乐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斗酒十千恣欢谑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51640" y="1052640"/>
            <a:ext cx="13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27960" y="26528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527960" y="4321080"/>
            <a:ext cx="14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834320" y="183348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77160" y="349092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905600" y="517680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41440" y="2924280"/>
            <a:ext cx="45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24" name=""/>
          <p:cNvSpPr/>
          <p:nvPr/>
        </p:nvSpPr>
        <p:spPr>
          <a:xfrm>
            <a:off x="559800" y="195120"/>
            <a:ext cx="759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cc00"/>
                </a:solidFill>
                <a:latin typeface="华文新魏"/>
                <a:ea typeface="华文新魏"/>
              </a:rPr>
              <a:t>品读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-11160" y="4797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503280" y="176544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主人何为言少钱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径须沽取对君酌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五花马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千金裘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呼儿将出换美酒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与尔同销万古愁。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02280" y="105264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91480" y="2276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77080" y="350028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04000" y="49417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216920" y="17733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215120" y="30369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224840" y="421164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96720" y="5516640"/>
            <a:ext cx="496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37" name=""/>
          <p:cNvSpPr/>
          <p:nvPr/>
        </p:nvSpPr>
        <p:spPr>
          <a:xfrm>
            <a:off x="559800" y="195120"/>
            <a:ext cx="759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cc00"/>
                </a:solidFill>
                <a:latin typeface="华文新魏"/>
                <a:ea typeface="华文新魏"/>
              </a:rPr>
              <a:t>品读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 flipV="1">
            <a:off x="108000" y="836640"/>
            <a:ext cx="3456000" cy="1440"/>
          </a:xfrm>
          <a:prstGeom prst="line">
            <a:avLst/>
          </a:prstGeom>
          <a:ln w="381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250920" y="44280"/>
            <a:ext cx="259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4d4d4d">
                      <a:alpha val="50000"/>
                    </a:srgbClr>
                  </a:outerShdw>
                </a:effectLst>
                <a:latin typeface="华文行楷"/>
              </a:rPr>
              <a:t>情感脉络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07932" dir="18900000" blurRad="0" rotWithShape="0">
                  <a:srgbClr val="4d4d4d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40" name=""/>
          <p:cNvSpPr/>
          <p:nvPr/>
        </p:nvSpPr>
        <p:spPr>
          <a:xfrm>
            <a:off x="324000" y="47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3200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84720" y="4581360"/>
            <a:ext cx="11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101080" y="2637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9280" y="2205000"/>
            <a:ext cx="8137800" cy="3971880"/>
          </a:xfrm>
          <a:custGeom>
            <a:avLst/>
            <a:gdLst/>
            <a:ahLst/>
            <a:rect l="l" t="t" r="r" b="b"/>
            <a:pathLst>
              <a:path w="5217" h="2563">
                <a:moveTo>
                  <a:pt x="0" y="2003"/>
                </a:moveTo>
                <a:cubicBezTo>
                  <a:pt x="95" y="2283"/>
                  <a:pt x="190" y="2563"/>
                  <a:pt x="545" y="2230"/>
                </a:cubicBezTo>
                <a:cubicBezTo>
                  <a:pt x="900" y="1897"/>
                  <a:pt x="1580" y="14"/>
                  <a:pt x="2132" y="7"/>
                </a:cubicBezTo>
                <a:cubicBezTo>
                  <a:pt x="2684" y="0"/>
                  <a:pt x="3342" y="2064"/>
                  <a:pt x="3856" y="2185"/>
                </a:cubicBezTo>
                <a:cubicBezTo>
                  <a:pt x="4370" y="2306"/>
                  <a:pt x="4990" y="975"/>
                  <a:pt x="5217" y="733"/>
                </a:cubicBezTo>
              </a:path>
            </a:pathLst>
          </a:custGeom>
          <a:noFill/>
          <a:ln w="349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solidFill>
            <a:srgbClr val="ffffff">
              <a:alpha val="47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你认为《将进酒》这首诗的全篇主旨是哪一句？为什么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26920" y="2852640"/>
            <a:ext cx="7993080" cy="1922400"/>
          </a:xfrm>
          <a:prstGeom prst="rect">
            <a:avLst/>
          </a:prstGeom>
          <a:solidFill>
            <a:srgbClr val="4d4d4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钟鼓馔玉不足贵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但愿长醉不愿醒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4640" y="1916280"/>
            <a:ext cx="3289680" cy="459720"/>
          </a:xfrm>
          <a:prstGeom prst="rect">
            <a:avLst/>
          </a:prstGeom>
          <a:solidFill>
            <a:srgbClr val="ffffff">
              <a:alpha val="44000"/>
            </a:srgbClr>
          </a:solidFill>
          <a:ln w="284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表现了诗人对权贵的鄙弃和蔑视的态度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7451640" y="501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33548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选出本诗中你最喜欢的一句，谈谈为什么喜欢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9" dur="268137" fill="hold"/>
                                        <p:tgtEl>
                                          <p:spTgt spid="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李白的身上浸透着儒家思想的血液，他平生的追求有两个，一是追求精神自由，二是建立丰功伟业。追求精神自由导致他的一系列行为：反抗传统，蔑视权贵，理想超出于王法所规定的社会等级秩序之外；建立丰功伟业，又使他与传统妥协，求助于权贵，回到王法所规定的社会秩序之中。但现实中又不可能同时占有以上二者。他的梦碎了，于是，他开始纵酒，他开始狂歌，开始了永远没有尽头的愁苦。文中他以圣贤自称，以喝酒排解内心的苦闷，以纵酒来对抗现实的龌龊，以精神的旷达来张扬自己的个性。因为他是谪仙人，所以他必定拥有恣情傲物的权利。酒是引子，愁是血液，狂是脊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520" y="304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归纳总结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、收集有关写“酒”的古诗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、完成文后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、背诵全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837720" y="2133360"/>
            <a:ext cx="67820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唐代的天才诗人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尤为突出。他自称“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酒中仙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，时人也号之曰“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酒圣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。古时酒店都爱挂上“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太白遗风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、“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太白世家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的招牌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6091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酒”    诗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1066680"/>
            <a:ext cx="1295280" cy="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478400" y="1483920"/>
            <a:ext cx="4665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李白一斗诗百篇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长安市上酒家眠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天子呼来不上船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自称臣是酒中仙。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杜甫《饮中八仙歌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35733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3544920"/>
            <a:ext cx="2771640" cy="33130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3657600" y="0"/>
            <a:ext cx="330984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李白与酒</a:t>
            </a:r>
            <a:endParaRPr b="1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1" name=""/>
          <p:cNvSpPr/>
          <p:nvPr/>
        </p:nvSpPr>
        <p:spPr>
          <a:xfrm>
            <a:off x="3124080" y="1295280"/>
            <a:ext cx="5545080" cy="2311560"/>
          </a:xfrm>
          <a:prstGeom prst="rect">
            <a:avLst/>
          </a:prstGeom>
          <a:solidFill>
            <a:srgbClr val="cccc00">
              <a:alpha val="55000"/>
            </a:srgbClr>
          </a:solidFill>
          <a:ln w="28440">
            <a:solidFill>
              <a:srgbClr val="cc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郭沫若生前曾做过统计，李白流传下来的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500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首诗作中，有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70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首写到饮酒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矛盾与浪漫，使李白爱酒成为必然。在矛盾中坚持浪漫，以浪漫去对抗矛盾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李白从小抱有“辅弼天下”的志向，但一直不得志他把时代投射的假相当作真实的感觉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并以为可在这种环境中去实现自己的理想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.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他张扬自我，豪放不羁，洒脱乐观，如一位飘逸不群的仙人出于浊世而不染。无论有几多矛盾几度挫折，他仍有着“天生我材必有用”的豁达  </a:t>
            </a: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酒成了诗人最好的解脱，，也成了诗人在雄心壮志破灭后的最大安慰。但自始至终，李白诗歌中在写酒时都在言志或写壮志难酬后的悲慨、消沉、失落、苦恼，都是诗人那一颗积极用世之心的具体体现。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2"/>
          <a:srcRect l="0" t="0" r="0" b="61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219320" y="1676520"/>
            <a:ext cx="698472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饮中八仙歌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杜甫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李白斗酒诗百篇，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长安市上酒家眠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天子呼来不上船，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自称臣是酒中仙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-190440" y="33480"/>
            <a:ext cx="9524880" cy="67910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609120" y="1452600"/>
            <a:ext cx="800100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抽刀断水水更流，举杯销愁愁更愁。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花间一壶酒，独酌无相亲。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举杯邀明月，对影成三人。 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657600" y="0"/>
            <a:ext cx="54864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字太白，号青莲居士。少年即显露才华，吟诗作赋，博学广览。从二十五岁起离川，长期在各地漫游，对社会生活多所体验。其间曾因吴钧等推荐，于天宝初供奉翰林。但在政治上不受重视。又受权贵谗毁，仅一年余即离开长安，政治抱负未能实现，使他对当时政治腐败，获得较深认识。天宝三载，在洛阳与诗人杜甫结交。安史之乱中，怀着平乱的志愿，曾为永王幕僚，因兵败牵累，流放夜郎。中途遇赦东还，晚年飘泊困苦，卒于当途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12952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78" name="libai4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G</cp:lastModifiedBy>
  <dcterms:modified xsi:type="dcterms:W3CDTF">2011-12-06T18:17:1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