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1E7-2180-4ED9-BE8E-DFEF15B7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313-B488-442C-AB71-29B9554B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6AF-5227-42E9-A252-99E6EC7B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D52-A48A-4E0B-AD2B-A91308D8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E06-86C4-458B-8FB9-564A41E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DCD-F8AE-4EF6-992C-FA1C179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C56-4C76-419C-974F-CF2CC19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E66-B186-4886-87D8-BF924D9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1AC-D7F9-48AA-B6FF-3F6634E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FE2-04E8-43CD-817C-AB8E531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C8F-66D9-4293-A1FC-FE921099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C99-75C8-48DF-898F-E2BB737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089E-5245-48F4-90A9-F96D45E51C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111.mpga" TargetMode="External"/><Relationship Id="rId3" Type="http://schemas.openxmlformats.org/officeDocument/2006/relationships/hyperlink" Target="file:///&#23558;&#36827;&#37202;.mpga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7150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ibai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00988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李白行吟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572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中国文学史上，诗与酒相从相随，几乎有一种天生的缘分。中国诗人大多爱喝酒。多少诗人因酒忘却人世的痛苦忧愁，因酒在自由的时空中尽情翱翔，因酒而丢掉面具口吐真言，因酒而成就传世佳作。唐代的天才诗人李白尤为突出。他是“诗仙”，又自称是“酒中仙”，时人也号之曰“酒圣”。古时酒店都爱挂上“太白遗风”、“太白世家”的招牌。直至现在，还有沿用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6778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以诗意的发展变化划分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219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河汹涌壮阔、势不可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828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生之易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129528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447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叹人生时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趁兴致，及时行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心的自信和豪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666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酒中有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意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4267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酒后激愤吐真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圣贤鸣不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3962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80988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客为主命买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486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昂贵之物“换美酒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1055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0292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诗人的悲之重、欢之浓和愤激之深的集中表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8600"/>
            <a:ext cx="228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83808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李白是“诗仙“，也是著名的“酒仙”。在诗文中哪些内容说明李白不愧于“酒仙”这个称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897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  “人生得意须尽欢，莫使金樽空对月。”“烹羊宰牛且为乐，会须一饮三百杯。”“五花马，千金裘，呼儿将出换美酒，与尔同销万古愁。”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733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李白一生多不得志，借酒浇愁，及时行乐，是他无奈的选择。在夸张的语言的背后，是痛饮豪迈的李白，是纵情享用美酒的李白，所以时人称李白为“酒中仙”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8600"/>
            <a:ext cx="228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将“钟鼓馔玉不足贵，但愿长醉不复醒”跟“安能摧眉折腰事权贵，使我不得开心颜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梦游天姥吟留别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做一比较，说说二者在内容和表现手法上有什么不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83000"/>
            <a:ext cx="815328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内容上相同的是，都表现了诗人对权贵的鄙弃和蔑视的态度；所不同的是，前者所谓“开心颜”包含着个人对精神自由的追求，而后者所谓“长醉不复醒”显得消极一些。总起来说，前者于愤激中略见昂扬，后者于愤激中略见低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在表达形式上二者有明显的不同。前者是直白，锋芒直指“权贵”；后者是曲达，以“钟鼓馔玉”借代权贵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228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人说到“古来圣贤皆寂寞，惟有饮者留其名”时，为什么单举曹植为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析：首先要正确理解“古来”二句的意思：“圣贤”，不是单指孔孟，也包括所有“抱利器而无所施”的贤能之士；“饮者”，决非一般酒徒，而是“圣贤”中逃之于醉乡的人。说圣贤“寂寞”，并非贬抑，不过是“千秋万岁名，寂寞身后事”之意；说饮者“留名”，固属偏激之辞，表现了诗人的狂放，但既在酒宴上，自然要强调饮酒的意义，也是可以理解的。这样来解释这两句，则诗人以曹植为例的意图就昭然若揭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9528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答案要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曹植很有才干，但遭兄、侄猜忌，终不得用。李白钦佩他的才干，同情他的遭遇，借以自况，故用为例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诗人好用夸张写法，这同他的浪漫气质和狂放性格有关，所以不使人感到言过其实。试从这首诗中举几个例子加以说明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62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例一：“朝如青丝暮成雪”：这种感受是许多老年人都有的，但由诗人说出，其意义却非同寻常，形象地表达了诗人政治上的失落感。诗人在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岁上“辞亲去国，仗剑远游”，是“以当世之务自负”的，欲以布衣取卿相之位。如今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过去了，他已满头白发，功业上却毫无成就。回首往事，难免有人生短促之叹，也表达了怀才不遇的苦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8600"/>
            <a:ext cx="228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08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例二：“会须一饮三百杯”：“一饮三百杯”在历史上是有记载的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详见“补充注释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李白仰慕古人的大度，有效法之意。在《襄阳歌》里他曾写道：“鸬鹚杓，鹦鹉杯，百年三万六千日，一日须倾三百杯。”这里是重申其意。这种夸张，跟故意张大其辞是有区别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92480"/>
            <a:ext cx="9144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例三：“与尔同销万古愁”：愁若止于一身，那是毫无意义的。诗人叹“古来圣贤皆寂寞”，为陈思王曹植的遭遇抱不平，都表现了愁的深广。用历史的眼光看，“抱利器而无所施”的贤能之士古代有，今日有，则将来一定还有——这样的愁情唯“万古愁”一语足以当之。这种夸张，也不是故意张大其辞，可以使人信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sh3-4-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48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057400"/>
            <a:ext cx="4724280" cy="916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读背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作业：阅读《语文读本》李白诗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ibai3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394160" cy="6324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5400000">
            <a:off x="6590880" y="2628720"/>
            <a:ext cx="21333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7042"/>
                <a:gd name="adj2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2578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作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李岱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609480"/>
            <a:ext cx="69343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饮 中 八 仙 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杜 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286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  白  一  斗  诗  百  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2004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  安  市  上  酒  家  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114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  子  呼  来  不  上  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4952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  称  臣  是  酒  中  仙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094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7150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68580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玩读李白诗作，就能闻到一股浓浓的酒味。诗人的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下独酌》有“花间一壶酒，独酌无相亲。  举杯邀明月，对影成三人。”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《叙赠江阳宰陆调》有“大笑同一醉，取乐平生年”。《赠刘都史》有“高谈满四座，一日倾千觞”。《训岑勋见寻就元丹邱对酒相待以诗见招》有“开颜酌美酒，乐极忽成醉”。《月下独酌四》之三有“醉后失天地，兀然就孤枕，不知有吾身，此乐最为甚”。李白是因醉酒致疾致命的，就连升天的灵魂都带着醉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b007%5B1%5D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36232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[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李白与酒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idu" descr=""/>
          <p:cNvPicPr/>
          <p:nvPr/>
        </p:nvPicPr>
        <p:blipFill>
          <a:blip r:embed="rId1"/>
          <a:stretch/>
        </p:blipFill>
        <p:spPr>
          <a:xfrm>
            <a:off x="3505320" y="0"/>
            <a:ext cx="42195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91440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99"/>
                </a:solidFill>
                <a:latin typeface="华文新魏"/>
                <a:ea typeface="华文新魏"/>
              </a:rPr>
              <a:t>将 进 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李  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sh3-4-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228600"/>
            <a:ext cx="7848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检查预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指出下面加线字的读音有错的一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uàn)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zì)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jiāng)  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xuè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面通假字中有错的一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径须沽酒（沽：酤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所守或匪亲（匪：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与尔同消万古愁（尔：你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卒廷见相如（廷：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解释下面“将”的意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进酒（         ）②呼儿将出换美酒（         ）③爷娘闻女来，出郭相扶将（          ）④王侯将相宁有种乎（      ）⑤ 彼所将中国人不过十五六万（           ）⑥一车炭，千余斤，宫使驱将不得惜（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943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请；②拿；③扶持；④带兵的人；⑤带领； ⑥助，在动词后，没实在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828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380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背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914400"/>
            <a:ext cx="8534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《将进酒》是汉乐府旧题，李白这首诗虽用了旧题，却能跳出前人窠臼，自创新意，把饮酒和对黑暗现实的批判结合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这首诗是一首劝酒歌，大约作于唐玄宗天宝十一年，即安史之乱前四五年光景。当时唐玄宗耽于女色，先后将政事交给奸相李林甫和杨国忠，官场一片黑暗，豪门贵族只顾寻欢作乐，不以国事为念，社会腐败到了无以复加的地步。诗人对此极为不满，但他又无力改变这种状况，只能用消极的办法进行反抗，借酒销愁，“但愿长醉不复醒。”诗人借题发挥，尽吐郁积在胸中的不平之气，这种反抗方式，跟《梦游天姥吟留别》中借寻仙表现不事权贵的意志的写法颇为相似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5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13716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听朗诵思考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4956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全诗的感情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诗意的发展变化划分层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1523880" y="2590920"/>
            <a:ext cx="1828800" cy="914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朗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457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0"/>
            <a:ext cx="79246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这是一首极为豪放的咏酒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诗人的狂醉之态与句俱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几乎能让人闻见阵阵酒香。而吟诵数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倾泻又会感到有悲壮之气隐伏其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狂放之中并不缺乏深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228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2004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曲调一唱三叹，回环往复，富于强烈的艺术感染力，塑造了具有鲜明个性的诗人自我形象，是历代传诵不绝的浪漫主义抒情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9064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全诗的感情基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1828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激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8954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读，觉得它豪气十足，但弄清诗人感情发展的脉络以后，就会看出诗人的愤激之情是占主导地位的。确切地说，豪放只是它的外壳，而内核则是愤激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3:16:09Z</dcterms:created>
  <dc:creator>zhulan</dc:creator>
  <dc:description/>
  <dc:language>en-US</dc:language>
  <cp:lastModifiedBy>罗炜锋</cp:lastModifiedBy>
  <dcterms:modified xsi:type="dcterms:W3CDTF">2003-10-16T02:58:56Z</dcterms:modified>
  <cp:revision>84</cp:revision>
  <dc:subject/>
  <dc:title>PowerPoint 演示文稿</dc:title>
</cp:coreProperties>
</file>