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gif" ContentType="image/gif"/>
  <Override PartName="/ppt/media/image1.jpeg" ContentType="image/jpeg"/>
  <Override PartName="/ppt/media/image4.gif" ContentType="image/gif"/>
  <Override PartName="/ppt/media/image18.jpeg" ContentType="image/jpeg"/>
  <Override PartName="/ppt/media/image6.png" ContentType="image/png"/>
  <Override PartName="/ppt/media/image3.gif" ContentType="image/gif"/>
  <Override PartName="/ppt/media/image17.png" ContentType="image/png"/>
  <Override PartName="/ppt/media/image15.jpeg" ContentType="image/jpeg"/>
  <Override PartName="/ppt/media/image14.png" ContentType="image/png"/>
  <Override PartName="/ppt/media/image5.gif" ContentType="image/gi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581-1D53-4EE8-8BB5-474821F3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49A-0F32-4AC5-B36B-18A266F7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67D-0A2E-4951-AD63-FB289E79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A02-D611-4E82-B1FE-13B8444B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7F0-5BD7-48A7-A5E0-DADF59DE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9B4-B79A-495A-8F77-E3A3D9A5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2C5-874C-4DA7-ACA4-E24F84F2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F54-7E33-441B-8B42-553BB736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35F-606B-4CE1-B2E4-C63DAF89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319-1F63-4EDA-A9E4-DF959B4B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79F-9BEC-4600-B602-AFB39C52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7FE-C889-49BD-86EE-5A69C56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9933-CA08-4D0A-B6A4-7A761EF470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5.jpeg"/><Relationship Id="rId3" Type="http://schemas.openxmlformats.org/officeDocument/2006/relationships/slide" Target="slide1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" Target="slide1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" Target="slide1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gif"/><Relationship Id="rId3" Type="http://schemas.openxmlformats.org/officeDocument/2006/relationships/image" Target="../media/image13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5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" Target="slide22.xml"/><Relationship Id="rId4" Type="http://schemas.openxmlformats.org/officeDocument/2006/relationships/image" Target="../media/image21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" Target="slide1.xml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5000" y="1844640"/>
            <a:ext cx="4762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5640" y="1844640"/>
            <a:ext cx="4762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67280" y="4005360"/>
            <a:ext cx="13618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595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黑体"/>
              </a:rPr>
              <a:t>岑勋先生呵，丹邱先生呵，快快进酒吧，杯儿不要停！让我为你们唱一曲，请你们侧耳仔细听：钟鸣鼓响饮食如玉，何足珍贵？我只愿长醉享乐，不愿醒来受罪！古来圣贤，生活恐怕都寂寞，世上唯有酒徒，他们却芳名永驻。古时陈王曹植曾在平乐观宴饮寻欢，斗酒十千不嫌贵，任性地享乐一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15320" y="0"/>
            <a:ext cx="7416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岑夫子，丹丘生，将进酒，杯莫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与君歌一曲，请君为我倾耳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钟鼓馔玉不足贵，但愿长醉不复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古来圣贤皆寂寞，惟有饮者留其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陈王昔时宴平乐，斗酒十千恣欢谑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168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黑体"/>
              </a:rPr>
              <a:t>主人呵，为何说我少银钱？直接沽取醇酒，咱对饮个醉意绵绵，这一匹名贵的五花马，这一件价值千金的皮裘，叫孩儿们拿去换美酒吧，我与你喝个大醉，同销万古长愁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22400"/>
            <a:ext cx="9372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主人何为言少钱，径须沽取对君酌。五花马，千金裘，呼儿将出换美酒，与尔同销万古愁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54840" y="289080"/>
            <a:ext cx="197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情感脉络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13000"/>
            <a:ext cx="89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将进酒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感情奔放，气势雄浑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曲折低回，跌宕起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请你找出诗中带有情感色彩的字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284720" y="4149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rcRect l="11812" t="21745" r="46170" b="14076"/>
          <a:stretch/>
        </p:blipFill>
        <p:spPr>
          <a:xfrm>
            <a:off x="6227640" y="3500280"/>
            <a:ext cx="29718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6360" y="3500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3462" t="52539" r="11073" b="12357"/>
          <a:stretch/>
        </p:blipFill>
        <p:spPr>
          <a:xfrm>
            <a:off x="6948360" y="5505480"/>
            <a:ext cx="2195640" cy="1352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4840" y="289080"/>
            <a:ext cx="197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情感脉络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0560" y="1844640"/>
            <a:ext cx="700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君不见黄河之水天上来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奔流到海不复回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君不见高堂明镜悲白发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朝如青丝暮成雪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39240" y="170028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32720" y="2492280"/>
            <a:ext cx="0" cy="5842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306600"/>
            <a:ext cx="110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6360" y="177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4840" y="289080"/>
            <a:ext cx="197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情感脉络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773360"/>
            <a:ext cx="982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生得意须尽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莫使金樽空对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天生我材必有用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千金散尽还复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烹羊宰牛且为乐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会须一饮三百杯。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岑夫子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丹丘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将进酒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杯莫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与君歌一曲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请君为我倾耳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52000" y="170028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52000" y="32846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07320" y="2481120"/>
            <a:ext cx="0" cy="5860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750160" y="41385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3560" y="1730520"/>
            <a:ext cx="11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15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6360" y="2201760"/>
            <a:ext cx="650880" cy="650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4840" y="289080"/>
            <a:ext cx="197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情感脉络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4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2720" y="1549440"/>
            <a:ext cx="68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钟鼓馔玉不足贵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但愿长醉不愿醒。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古来圣贤皆寂寞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惟有饮者留其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陈王昔时宴平乐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斗酒十千恣欢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51640" y="1052640"/>
            <a:ext cx="13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27960" y="265284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27960" y="4321080"/>
            <a:ext cx="144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34320" y="183348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77160" y="349092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05600" y="5176800"/>
            <a:ext cx="0" cy="5572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440" y="2924280"/>
            <a:ext cx="45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1480" y="2781360"/>
            <a:ext cx="7898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怀才不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150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11160" y="4797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54840" y="289080"/>
            <a:ext cx="197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情感脉络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5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3280" y="1765440"/>
            <a:ext cx="88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主人何为言少钱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径须沽取对君酌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五花马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千金裘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呼儿将出换美酒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与尔同销万古愁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02280" y="105264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91480" y="22766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3500280"/>
            <a:ext cx="8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0" y="4941720"/>
            <a:ext cx="88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16920" y="17733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15120" y="30369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24840" y="4211640"/>
            <a:ext cx="0" cy="5572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720" y="5516640"/>
            <a:ext cx="496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1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00720" y="4807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00000" y="4940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8423280" y="328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800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77760"/>
            <a:ext cx="23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情感脉络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rcRect l="28899" t="23807" r="13956" b="10188"/>
          <a:stretch/>
        </p:blipFill>
        <p:spPr>
          <a:xfrm rot="20968200">
            <a:off x="0" y="1701720"/>
            <a:ext cx="9178920" cy="4533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09800" y="41562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46520" y="1052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40400" y="407664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21760" y="2565360"/>
            <a:ext cx="11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0" y="-3636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873880" y="71280"/>
            <a:ext cx="96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6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-108000" y="260280"/>
            <a:ext cx="39528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15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归纳小结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125360"/>
            <a:ext cx="134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2565360"/>
            <a:ext cx="134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400536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5591160"/>
            <a:ext cx="17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9800" y="21225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61080" y="356400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61080" y="5249880"/>
            <a:ext cx="0" cy="5572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48428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君不见高堂明镜悲白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7080" y="272088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人生得意须尽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98560" y="57405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与尔同销万古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414972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但愿长醉不愿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5734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7380360" y="1413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7451640" y="2852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7524720" y="414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752472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150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29604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5280" y="3357720"/>
            <a:ext cx="98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钟鼓馔玉不足贵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但愿长醉不愿醒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95920" y="465300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表现了诗人对权贵的鄙弃和蔑视的态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154152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你认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将进酒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这首诗的全篇主旨是哪一句？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66560" y="15415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9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归纳小结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150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81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7280" y="-532080"/>
            <a:ext cx="3200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Times New Roman"/>
              </a:rPr>
              <a:t>                   </a:t>
            </a:r>
            <a:r>
              <a:rPr b="1" lang="zh-CN" sz="4400" spc="-1" strike="noStrike">
                <a:solidFill>
                  <a:srgbClr val="ccccff"/>
                </a:solidFill>
                <a:latin typeface="Times New Roman"/>
              </a:rPr>
              <a:t>李白与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79640" y="9079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李白斗酒诗百篇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长安市上酒家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天子呼来不上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自称臣是酒中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隶书"/>
                <a:ea typeface="隶书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杜甫</a:t>
            </a:r>
            <a:r>
              <a:rPr b="1" lang="en-US" sz="2000" spc="-1" strike="noStrike">
                <a:solidFill>
                  <a:srgbClr val="ffffff"/>
                </a:solidFill>
                <a:latin typeface="隶书"/>
                <a:ea typeface="隶书"/>
              </a:rPr>
              <a:t>《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饮中八仙歌</a:t>
            </a:r>
            <a:r>
              <a:rPr b="1" lang="en-US" sz="2000" spc="-1" strike="noStrike">
                <a:solidFill>
                  <a:srgbClr val="ffffff"/>
                </a:solidFill>
                <a:latin typeface="隶书"/>
                <a:ea typeface="隶书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  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金樽清酒斗十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玉盘珍馐值万钱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停杯投箸不能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拔剑四顾心茫然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隶书"/>
                <a:ea typeface="隶书"/>
              </a:rPr>
              <a:t>—— 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李白</a:t>
            </a:r>
            <a:r>
              <a:rPr b="1" lang="en-US" sz="2000" spc="-1" strike="noStrike">
                <a:solidFill>
                  <a:srgbClr val="ffffff"/>
                </a:solidFill>
                <a:latin typeface="隶书"/>
                <a:ea typeface="隶书"/>
              </a:rPr>
              <a:t>《</a:t>
            </a:r>
            <a:r>
              <a:rPr b="1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行路难 </a:t>
            </a:r>
            <a:r>
              <a:rPr b="1" lang="en-US" sz="2000" spc="-1" strike="noStrike">
                <a:solidFill>
                  <a:srgbClr val="ffffff"/>
                </a:solidFill>
                <a:latin typeface="隶书"/>
                <a:ea typeface="隶书"/>
              </a:rPr>
              <a:t>》 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8380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12682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8305920" y="64008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18160" y="10800"/>
                </a:moveTo>
                <a:lnTo>
                  <a:pt x="32173" y="3794"/>
                </a:lnTo>
                <a:lnTo>
                  <a:pt x="3217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" dur="1" fill="hold"/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扩展练习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81000"/>
            <a:ext cx="46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试将“钟鼓馔玉不足贵，但愿长醉不愿醒”跟“安能摧眉折腰事权贵，使我不得开心颜”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梦游天姥吟留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做一比较，说说二者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的感情和表现手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有什么不同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932360" y="3703680"/>
            <a:ext cx="42116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150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扩展练习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5" name=""/>
          <p:cNvSpPr/>
          <p:nvPr/>
        </p:nvSpPr>
        <p:spPr>
          <a:xfrm>
            <a:off x="-420840" y="1557360"/>
            <a:ext cx="266076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钟鼓馔玉不足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但愿长醉不愿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49240" y="1557360"/>
            <a:ext cx="21121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安能摧眉折腰事权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使我不得开心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34160" y="1327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愤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5440" y="2300400"/>
            <a:ext cx="729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昂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88040" y="2309760"/>
            <a:ext cx="127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低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96360" y="479736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6200" y="1700280"/>
            <a:ext cx="0" cy="165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6680" y="4581360"/>
            <a:ext cx="729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委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5440" y="4581360"/>
            <a:ext cx="7290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直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8680" y="336708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不愿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62600" y="1566720"/>
            <a:ext cx="7290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安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076720" y="1403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059280" y="3789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5076720" y="3736800"/>
            <a:ext cx="792360" cy="721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7594560" y="836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482920" y="170028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75280" y="170028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150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扩展练习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4367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杜甫曾赞扬李白：“李白斗酒诗百篇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安市上酒家眠。天子呼来不上船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称臣是酒中仙。” 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中八仙歌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进酒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哪些诗句说明李白无愧于“酒中仙”这个称号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150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03280" y="1662120"/>
            <a:ext cx="83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生得意须尽欢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莫使金樽空对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烹羊宰牛且为乐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须一饮三百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进酒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杯莫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愿长醉不愿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径须沽取对君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花马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千金裘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呼儿将出换美酒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尔同销万古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29604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0" y="234936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0" y="292428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0" y="350028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>
            <a:off x="0" y="414972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0" y="472428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0" y="5300640"/>
            <a:ext cx="539640" cy="720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扩展练习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0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150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rcRect l="9730" t="0" r="1168" b="0"/>
          <a:stretch/>
        </p:blipFill>
        <p:spPr>
          <a:xfrm>
            <a:off x="0" y="3141720"/>
            <a:ext cx="9144000" cy="3744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747360" y="857160"/>
            <a:ext cx="2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134136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谪仙人李白纵酒高歌 ：“但愿长醉不愿醒”，为何他才高八斗却嗜酒如命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　李白借酒抒万丈豪情，李白用酒写万古柔情。李白因酒越发洒脱飘逸，酒因李白更加酣畅淋漓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431120" y="6480"/>
            <a:ext cx="1677960" cy="39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9000" y="549360"/>
            <a:ext cx="576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404640"/>
            <a:ext cx="1116000" cy="9255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1258920" y="471600"/>
            <a:ext cx="180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华文行楷"/>
              </a:rPr>
              <a:t>拓展思考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19080" y="44280"/>
            <a:ext cx="39528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1500" autoRev="1" fill="hold"/>
                                        <p:tgtEl>
                                          <p:spTgt spid="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1500" autoRev="1" fill="hold"/>
                                        <p:tgtEl>
                                          <p:spTgt spid="2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431640" y="0"/>
            <a:ext cx="961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187280" y="442800"/>
            <a:ext cx="820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很想走近李白，走近他飞扬的人生，从他的诗里，从他的酒中，但李白是那样遥不可及，因为他是仙，酒仙加诗仙。李白所创造的岂止半个盛唐？李白也许天生就是为喝酒为写诗而生的，没有李白中国的诗坛何以灿烂，没有李白中国的酒哪有诗情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是酒壮了他的豪情，是诗添了他的浪漫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“天若不爱酒，酒星不在天。地若不爱酒，地应无黄泉”、“百年三万六千日，一日须倾三百杯”、“天子呼来不上船”、“天生我材必有用，千金散尽还复来”、“安能摧眉折腰事权贵，使我不得开心颜。”、“古来圣贤皆寂寞，惟有饮者留其名。”这是何等自在，！“君爱身后名，我爱眼前酒。饮酒眼前乐，虚名何处有？”“唯愿当歌对酒时，月光长照金樽里”、“人生难得须尽欢，莫使金樽空对月。”这是何等的洒脱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29760" y="6296040"/>
            <a:ext cx="48564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900000" y="0"/>
            <a:ext cx="395280" cy="35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6084720" y="4564080"/>
          <a:ext cx="305928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4564080"/>
                    <a:ext cx="305928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研究：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从下列两句诗中，你看出了诗人思想上的什么特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2743200"/>
            <a:ext cx="900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天生我材必有用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但愿长醉不愿醒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297180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3352680"/>
            <a:ext cx="161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矛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探究艺术手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541800" y="1125360"/>
            <a:ext cx="92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君不见，黄河之水天上来，奔流到海不复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君不见，高堂明镜悲白发，朝如青丝暮成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24360" y="2924280"/>
            <a:ext cx="325440" cy="2519280"/>
          </a:xfrm>
          <a:custGeom>
            <a:avLst/>
            <a:gdLst>
              <a:gd name="textAreaLeft" fmla="*/ 0 w 325440"/>
              <a:gd name="textAreaRight" fmla="*/ 117360 w 325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85080" y="981000"/>
            <a:ext cx="1768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比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反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2637000"/>
            <a:ext cx="81532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饮三百杯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斗酒千金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万古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黄河之水天上来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朝如青丝暮成雪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27640" y="3789360"/>
            <a:ext cx="893448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豪放的性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豪放飘逸的诗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16360" y="3068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夸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580536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句式错落有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2209680"/>
            <a:ext cx="896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体会诗人强烈的感情。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         </a:t>
            </a: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重难点</a:t>
            </a: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在诵读、品味的过程中</a:t>
            </a: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了解李白诗歌的浪漫主义特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29760" y="629604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119700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9440" y="30312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4200" spc="-1" strike="noStrike">
                <a:solidFill>
                  <a:srgbClr val="ffcc00"/>
                </a:solidFill>
                <a:latin typeface="华文新魏"/>
                <a:ea typeface="华文新魏"/>
              </a:rPr>
              <a:t>教学目标：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49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1960" y="115920"/>
            <a:ext cx="312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cc00"/>
                </a:solidFill>
                <a:latin typeface="华文新魏"/>
                <a:ea typeface="华文新魏"/>
              </a:rPr>
              <a:t>作者简介：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80880" y="836640"/>
            <a:ext cx="2535480" cy="1440"/>
          </a:xfrm>
          <a:prstGeom prst="line">
            <a:avLst/>
          </a:prstGeom>
          <a:ln w="93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37080" y="266076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李白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(701—762)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字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太白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号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青莲居士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素有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诗仙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之称。李白是继屈原之后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我国古代最伟大的浪漫主义诗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15800" y="1268280"/>
          <a:ext cx="2716200" cy="518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5800" y="1268280"/>
                    <a:ext cx="271620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50920" y="98100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1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6920" y="0"/>
            <a:ext cx="56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写作背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97000"/>
            <a:ext cx="644364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qiāng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请、劝）进酒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即“劝酒歌”。此诗约作于天宝十一载（</a:t>
            </a:r>
            <a:r>
              <a:rPr b="1" lang="en-US" sz="3200" spc="-1" strike="noStrike">
                <a:solidFill>
                  <a:srgbClr val="ff66ff"/>
                </a:solidFill>
                <a:latin typeface="黑体"/>
                <a:ea typeface="黑体"/>
              </a:rPr>
              <a:t>752</a:t>
            </a: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，距诗人被唐玄宗“赐金放还”已达八年之久。他当时与友人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岑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到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元丹丘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家里做客，三人登高饮宴。人生快事莫若置酒会友，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正值作者怀才不遇之际，于是将满腔的不合时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借酒兴诗情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来了一次淋漓尽致的抒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335640" y="0"/>
            <a:ext cx="2808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38480" y="20019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240" y="117360"/>
            <a:ext cx="903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李白解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果把中国古典文学的世界比成浩瀚的苍穹，那么李白就是其中的最璀璨的一颗巨星；如果把中国古典诗歌比成巍峨的山峦，那么李白就是诗歌群峰中不可逾越的珠穆朗玛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潮平两岸阔，风正一帆悬”。盛唐气象的宏阔、豪迈、自信化为生命的汁液，构建了李白的骨架，哺育了李白的血肉，盛唐的气象的魅力集中在李白的身上四溢充盈，喷薄而出！可谓“天精地气，一时凑泊；大千造化，集于一身”。李白舌灿莲花，笔挟风云，简直就是才气、自信、豪迈、飘逸的代名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333360"/>
            <a:ext cx="236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朗读  注意以下字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500280"/>
            <a:ext cx="9144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将      樽     烹      岑       馔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裘     沽     恣      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2565360"/>
            <a:ext cx="1513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iā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97080" y="2565360"/>
            <a:ext cx="1224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z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2565360"/>
            <a:ext cx="151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ē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92720" y="2565360"/>
            <a:ext cx="1728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05440" y="2565360"/>
            <a:ext cx="23385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zhu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1152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í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4581360"/>
            <a:ext cx="1295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7080" y="47260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zì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21440" y="47260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uè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5280" cy="353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11822" t="0" r="0" b="0"/>
          <a:stretch/>
        </p:blipFill>
        <p:spPr>
          <a:xfrm>
            <a:off x="6084720" y="0"/>
            <a:ext cx="3059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21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你没看见吗？黄河之水是由天上而来。波涛滚滚奔向东海，永不回头。你没看见吗？可悲的是高堂明镜照见了白发，早晨如青丝般乌黑，傍晚白得如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800600" cy="5105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920" y="225360"/>
            <a:ext cx="46814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君不见黄河之水天上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奔流到海不复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君不见高堂明镜悲白发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朝如青丝暮成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0" y="1484280"/>
            <a:ext cx="91440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人生得意时，要尽情地寻欢作乐，别让金杯玉露，空对天上明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天地造就我的才干，必有它的用处，即使千金耗尽，还会重新再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烹羊宰牛，且图眼前欢乐，应该痛痛快快一口气喝它三百杯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90240" y="189000"/>
            <a:ext cx="1230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人生得意须尽欢，莫使金樽空对月。天生我材必有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千金散尽还复来。烹羊宰牛且为乐，会须一饮三百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肖平</dc:creator>
  <dc:description/>
  <dc:language>en-US</dc:language>
  <cp:lastModifiedBy>china</cp:lastModifiedBy>
  <dcterms:modified xsi:type="dcterms:W3CDTF">2012-12-15T13:18:19Z</dcterms:modified>
  <cp:revision>786</cp:revision>
  <dc:subject/>
  <dc:title>PowerPoint Presentation</dc:title>
</cp:coreProperties>
</file>