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CC5-796A-4C40-BB89-87628B4E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154-1EDA-470B-BBF9-7144A7F9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1AC-4737-4EC5-8086-D8D22683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C1A-A4C0-44C5-B200-9763BDA9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BC0-75B8-49FE-8100-8CE11C1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D85-5FCB-45EB-BB6B-20F3BB3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020-67C2-449B-9143-632D89D9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FB5-342F-4C8B-8B91-6FF01C4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651-321A-439F-B321-45BA0F36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255-A366-473E-BBC0-FDC407D9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929-3F2E-4F76-B2E2-4FD4146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ACC-859B-4A24-9BD7-29A452D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FFC-DC31-45AA-A5EA-8037F6A65A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4"/>
          <p:cNvSpPr/>
          <p:nvPr/>
        </p:nvSpPr>
        <p:spPr>
          <a:xfrm>
            <a:off x="3351600" y="2060640"/>
            <a:ext cx="20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清 明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dministrator\桌面\mh_001_bbs.chinfun.com_副本.png"/>
          <p:cNvPicPr/>
          <p:nvPr/>
        </p:nvPicPr>
        <p:blipFill>
          <a:blip r:embed="rId2"/>
          <a:stretch/>
        </p:blipFill>
        <p:spPr>
          <a:xfrm>
            <a:off x="-158760" y="0"/>
            <a:ext cx="3090960" cy="175572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2124000" y="1916280"/>
            <a:ext cx="540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仪大隶书简"/>
                <a:ea typeface="汉仪大隶书简"/>
              </a:rPr>
              <a:t>清明时节雨纷纷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仪大隶书简"/>
                <a:ea typeface="汉仪大隶书简"/>
              </a:rPr>
              <a:t>路上行人欲断魂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仪大隶书简"/>
                <a:ea typeface="汉仪大隶书简"/>
              </a:rPr>
              <a:t>借问酒家何处有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汉仪大隶书简"/>
                <a:ea typeface="汉仪大隶书简"/>
              </a:rPr>
              <a:t>牧童遥指杏花村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istrator\桌面\mh_001_bbs.chinfun.com_副本.png"/>
          <p:cNvPicPr/>
          <p:nvPr/>
        </p:nvPicPr>
        <p:blipFill>
          <a:blip r:embed="rId2"/>
          <a:stretch/>
        </p:blipFill>
        <p:spPr>
          <a:xfrm>
            <a:off x="5321160" y="12600"/>
            <a:ext cx="388944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istrator\桌面\mh_006_bbs.chinfun.com_副本.png"/>
          <p:cNvPicPr/>
          <p:nvPr/>
        </p:nvPicPr>
        <p:blipFill>
          <a:blip r:embed="rId2"/>
          <a:stretch/>
        </p:blipFill>
        <p:spPr>
          <a:xfrm>
            <a:off x="6659640" y="3789360"/>
            <a:ext cx="2400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Administrator\桌面\mh_005_bbs.chinfun.com_副本.png"/>
          <p:cNvPicPr/>
          <p:nvPr/>
        </p:nvPicPr>
        <p:blipFill>
          <a:blip r:embed="rId2"/>
          <a:stretch/>
        </p:blipFill>
        <p:spPr>
          <a:xfrm>
            <a:off x="6729480" y="6480"/>
            <a:ext cx="2414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12:26Z</dcterms:created>
  <dc:creator>微软用户</dc:creator>
  <dc:description/>
  <dc:language>en-US</dc:language>
  <cp:lastModifiedBy>wuhan</cp:lastModifiedBy>
  <dcterms:modified xsi:type="dcterms:W3CDTF">2019-02-19T04:20:32Z</dcterms:modified>
  <cp:revision>12</cp:revision>
  <dc:subject/>
  <dc:title>PowerPoint 演示文稿</dc:title>
</cp:coreProperties>
</file>