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C68-1DE2-4CE7-A1E1-83968201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562-9CF7-4767-957E-1D81A1CB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F17-5A3B-4D03-967F-440FE3E8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BCE-B3C9-457A-A670-C2F91836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9C7-F0C6-4707-8388-4E0F67E1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A1E-4141-4EFA-B0D5-5AF1C02E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124-1556-4320-98F4-5E7A467A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2B0-AEE9-4B51-91EA-12DBEEAC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3C4-D2F6-44B7-8F15-6F024314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C87-7082-4A20-AA87-41D275C5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A2E-CE86-4895-A89C-4D5A6D75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3D4-93FA-45C1-A29B-57302E2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3569-AF84-41FE-A7F7-7E13B6FD36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07384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282680" y="836640"/>
            <a:ext cx="640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新魏"/>
              </a:rPr>
              <a:t>青海高原一株柳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533520" y="205740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干旱和寒冷绝不宽容任何一条绿色的生命活到一岁。然而，这株柳树却造就了一个不可思议的奇迹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1066680" y="6095880"/>
            <a:ext cx="762120" cy="357480"/>
          </a:xfrm>
          <a:custGeom>
            <a:avLst/>
            <a:gdLst>
              <a:gd name="textAreaLeft" fmla="*/ 23040 w 762120"/>
              <a:gd name="textAreaRight" fmla="*/ 739080 w 762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46025" h="21600">
                <a:moveTo>
                  <a:pt x="0" y="0"/>
                </a:moveTo>
                <a:lnTo>
                  <a:pt x="46025" y="0"/>
                </a:lnTo>
                <a:lnTo>
                  <a:pt x="46025" y="21600"/>
                </a:lnTo>
                <a:lnTo>
                  <a:pt x="0" y="21600"/>
                </a:lnTo>
                <a:close/>
              </a:path>
              <a:path fill="lightenLess" w="46025" h="21600">
                <a:moveTo>
                  <a:pt x="0" y="0"/>
                </a:moveTo>
                <a:lnTo>
                  <a:pt x="46025" y="0"/>
                </a:lnTo>
                <a:lnTo>
                  <a:pt x="44625" y="1400"/>
                </a:lnTo>
                <a:lnTo>
                  <a:pt x="1400" y="1400"/>
                </a:lnTo>
                <a:close/>
              </a:path>
              <a:path fill="darken" w="46025" h="21600">
                <a:moveTo>
                  <a:pt x="46025" y="0"/>
                </a:moveTo>
                <a:lnTo>
                  <a:pt x="46025" y="21600"/>
                </a:lnTo>
                <a:lnTo>
                  <a:pt x="44625" y="20200"/>
                </a:lnTo>
                <a:lnTo>
                  <a:pt x="44625" y="1400"/>
                </a:lnTo>
                <a:close/>
              </a:path>
              <a:path fill="darkenLess" w="46025" h="21600">
                <a:moveTo>
                  <a:pt x="46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5" y="20200"/>
                </a:lnTo>
                <a:close/>
              </a:path>
              <a:path fill="lighten" w="46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神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4419720" y="2666880"/>
            <a:ext cx="609480" cy="152640"/>
            <a:chOff x="4419720" y="2666880"/>
            <a:chExt cx="609480" cy="152640"/>
          </a:xfrm>
        </p:grpSpPr>
        <p:sp>
          <p:nvSpPr>
            <p:cNvPr id="85" name="Oval 10"/>
            <p:cNvSpPr/>
            <p:nvPr/>
          </p:nvSpPr>
          <p:spPr>
            <a:xfrm>
              <a:off x="4419720" y="26668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11"/>
            <p:cNvSpPr/>
            <p:nvPr/>
          </p:nvSpPr>
          <p:spPr>
            <a:xfrm>
              <a:off x="4876920" y="26668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18288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660033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Calibri"/>
              </a:rPr>
              <a:t>）“干旱和寒冷绝不宽容任何一条绿色的生命活到一岁。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7200" y="3124080"/>
            <a:ext cx="74674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是啊，环境是多么恶劣，青海高原是青藏高原的一部分，被称为世界屋脊，它平均海拔三千米以上，在青海高原，有的地方夏秋两季连续干旱，一滴雨也不下，年平均气温很低，最冷的时候达到零下二十多度。在这样的环境中，这株柳树竟然活了下来，真是一个奇迹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523880" y="10666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99cc00"/>
                </a:solidFill>
                <a:latin typeface="隶书"/>
              </a:rPr>
              <a:t>学生反馈</a:t>
            </a:r>
            <a:endParaRPr b="1" lang="en-US" sz="1800" spc="1" strike="noStrike">
              <a:ln w="9360">
                <a:solidFill>
                  <a:srgbClr val="800080"/>
                </a:solidFill>
                <a:round/>
              </a:ln>
              <a:solidFill>
                <a:srgbClr val="99cc00"/>
              </a:solidFill>
              <a:latin typeface="隶书"/>
              <a:ea typeface="隶书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80880" y="16765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唱唱"/>
          <p:cNvPicPr/>
          <p:nvPr/>
        </p:nvPicPr>
        <p:blipFill>
          <a:blip r:embed="rId1"/>
          <a:stretch/>
        </p:blipFill>
        <p:spPr>
          <a:xfrm>
            <a:off x="228600" y="555480"/>
            <a:ext cx="11905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57200" y="16765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长到这样粗的一株柳树，经历过多少虐杀生灵的高原风雪，冻死过多少次又复苏过来；经历过多少场铺天盖地的雷轰电击，被劈断了枝干又重新抽出了新条。它无疑经受过一次又一次摧毁，却能够一回又一回起死回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990720" y="617220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神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50"/>
          <p:cNvGrpSpPr/>
          <p:nvPr/>
        </p:nvGrpSpPr>
        <p:grpSpPr>
          <a:xfrm>
            <a:off x="2819520" y="2895480"/>
            <a:ext cx="4190760" cy="1371600"/>
            <a:chOff x="2819520" y="2895480"/>
            <a:chExt cx="4190760" cy="1371600"/>
          </a:xfrm>
        </p:grpSpPr>
        <p:sp>
          <p:nvSpPr>
            <p:cNvPr id="96" name="Oval 8"/>
            <p:cNvSpPr/>
            <p:nvPr/>
          </p:nvSpPr>
          <p:spPr>
            <a:xfrm>
              <a:off x="4267080" y="2895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2819520" y="2895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11"/>
            <p:cNvSpPr/>
            <p:nvPr/>
          </p:nvSpPr>
          <p:spPr>
            <a:xfrm>
              <a:off x="3276720" y="2895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3809880" y="2895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4800600" y="2895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4"/>
            <p:cNvSpPr/>
            <p:nvPr/>
          </p:nvSpPr>
          <p:spPr>
            <a:xfrm>
              <a:off x="5334120" y="2895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15"/>
            <p:cNvSpPr/>
            <p:nvPr/>
          </p:nvSpPr>
          <p:spPr>
            <a:xfrm>
              <a:off x="5867280" y="2895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6324480" y="2895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6858000" y="2895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49"/>
            <p:cNvGrpSpPr/>
            <p:nvPr/>
          </p:nvGrpSpPr>
          <p:grpSpPr>
            <a:xfrm>
              <a:off x="2819520" y="4114800"/>
              <a:ext cx="2666880" cy="152280"/>
              <a:chOff x="2819520" y="4114800"/>
              <a:chExt cx="2666880" cy="152280"/>
            </a:xfrm>
          </p:grpSpPr>
          <p:sp>
            <p:nvSpPr>
              <p:cNvPr id="106" name="Oval 18"/>
              <p:cNvSpPr/>
              <p:nvPr/>
            </p:nvSpPr>
            <p:spPr>
              <a:xfrm>
                <a:off x="2819520" y="4114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Oval 19"/>
              <p:cNvSpPr/>
              <p:nvPr/>
            </p:nvSpPr>
            <p:spPr>
              <a:xfrm>
                <a:off x="3276720" y="4114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Oval 20"/>
              <p:cNvSpPr/>
              <p:nvPr/>
            </p:nvSpPr>
            <p:spPr>
              <a:xfrm>
                <a:off x="3809880" y="411480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Oval 21"/>
              <p:cNvSpPr/>
              <p:nvPr/>
            </p:nvSpPr>
            <p:spPr>
              <a:xfrm>
                <a:off x="4343400" y="4114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Oval 22"/>
              <p:cNvSpPr/>
              <p:nvPr/>
            </p:nvSpPr>
            <p:spPr>
              <a:xfrm>
                <a:off x="4876920" y="4114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Oval 23"/>
              <p:cNvSpPr/>
              <p:nvPr/>
            </p:nvSpPr>
            <p:spPr>
              <a:xfrm>
                <a:off x="5334120" y="4114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2" name="Oval 24"/>
            <p:cNvSpPr/>
            <p:nvPr/>
          </p:nvSpPr>
          <p:spPr>
            <a:xfrm>
              <a:off x="5867280" y="41148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25"/>
            <p:cNvSpPr/>
            <p:nvPr/>
          </p:nvSpPr>
          <p:spPr>
            <a:xfrm>
              <a:off x="6324480" y="41148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26"/>
            <p:cNvSpPr/>
            <p:nvPr/>
          </p:nvSpPr>
          <p:spPr>
            <a:xfrm>
              <a:off x="6858000" y="4114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AutoShape 46"/>
          <p:cNvSpPr/>
          <p:nvPr/>
        </p:nvSpPr>
        <p:spPr>
          <a:xfrm>
            <a:off x="3962520" y="617220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启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89"/>
          <p:cNvGrpSpPr/>
          <p:nvPr/>
        </p:nvGrpSpPr>
        <p:grpSpPr>
          <a:xfrm>
            <a:off x="685800" y="3505320"/>
            <a:ext cx="6858000" cy="1371600"/>
            <a:chOff x="685800" y="3505320"/>
            <a:chExt cx="6858000" cy="1371600"/>
          </a:xfrm>
        </p:grpSpPr>
        <p:grpSp>
          <p:nvGrpSpPr>
            <p:cNvPr id="117" name="Group 51"/>
            <p:cNvGrpSpPr/>
            <p:nvPr/>
          </p:nvGrpSpPr>
          <p:grpSpPr>
            <a:xfrm>
              <a:off x="685800" y="3505320"/>
              <a:ext cx="5257800" cy="152280"/>
              <a:chOff x="685800" y="3505320"/>
              <a:chExt cx="5257800" cy="152280"/>
            </a:xfrm>
          </p:grpSpPr>
          <p:sp>
            <p:nvSpPr>
              <p:cNvPr id="118" name="Oval 27"/>
              <p:cNvSpPr/>
              <p:nvPr/>
            </p:nvSpPr>
            <p:spPr>
              <a:xfrm>
                <a:off x="685800" y="3505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Oval 31"/>
              <p:cNvSpPr/>
              <p:nvPr/>
            </p:nvSpPr>
            <p:spPr>
              <a:xfrm>
                <a:off x="2743200" y="3505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Oval 32"/>
              <p:cNvSpPr/>
              <p:nvPr/>
            </p:nvSpPr>
            <p:spPr>
              <a:xfrm>
                <a:off x="1752480" y="3505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Oval 33"/>
              <p:cNvSpPr/>
              <p:nvPr/>
            </p:nvSpPr>
            <p:spPr>
              <a:xfrm>
                <a:off x="3276720" y="3505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Oval 34"/>
              <p:cNvSpPr/>
              <p:nvPr/>
            </p:nvSpPr>
            <p:spPr>
              <a:xfrm>
                <a:off x="2286000" y="3505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Oval 35"/>
              <p:cNvSpPr/>
              <p:nvPr/>
            </p:nvSpPr>
            <p:spPr>
              <a:xfrm>
                <a:off x="1219320" y="3505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Oval 36"/>
              <p:cNvSpPr/>
              <p:nvPr/>
            </p:nvSpPr>
            <p:spPr>
              <a:xfrm>
                <a:off x="3809880" y="3505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Oval 37"/>
              <p:cNvSpPr/>
              <p:nvPr/>
            </p:nvSpPr>
            <p:spPr>
              <a:xfrm>
                <a:off x="4800600" y="3505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Oval 38"/>
              <p:cNvSpPr/>
              <p:nvPr/>
            </p:nvSpPr>
            <p:spPr>
              <a:xfrm>
                <a:off x="4343400" y="3505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Oval 39"/>
              <p:cNvSpPr/>
              <p:nvPr/>
            </p:nvSpPr>
            <p:spPr>
              <a:xfrm>
                <a:off x="5257800" y="3505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Oval 40"/>
              <p:cNvSpPr/>
              <p:nvPr/>
            </p:nvSpPr>
            <p:spPr>
              <a:xfrm>
                <a:off x="5791320" y="3505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" name="Oval 53"/>
            <p:cNvSpPr/>
            <p:nvPr/>
          </p:nvSpPr>
          <p:spPr>
            <a:xfrm>
              <a:off x="76212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54"/>
            <p:cNvSpPr/>
            <p:nvPr/>
          </p:nvSpPr>
          <p:spPr>
            <a:xfrm>
              <a:off x="281952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val 55"/>
            <p:cNvSpPr/>
            <p:nvPr/>
          </p:nvSpPr>
          <p:spPr>
            <a:xfrm>
              <a:off x="182880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56"/>
            <p:cNvSpPr/>
            <p:nvPr/>
          </p:nvSpPr>
          <p:spPr>
            <a:xfrm>
              <a:off x="3352680" y="47242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57"/>
            <p:cNvSpPr/>
            <p:nvPr/>
          </p:nvSpPr>
          <p:spPr>
            <a:xfrm>
              <a:off x="236232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58"/>
            <p:cNvSpPr/>
            <p:nvPr/>
          </p:nvSpPr>
          <p:spPr>
            <a:xfrm>
              <a:off x="1295280" y="47242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val 59"/>
            <p:cNvSpPr/>
            <p:nvPr/>
          </p:nvSpPr>
          <p:spPr>
            <a:xfrm>
              <a:off x="388620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Oval 60"/>
            <p:cNvSpPr/>
            <p:nvPr/>
          </p:nvSpPr>
          <p:spPr>
            <a:xfrm>
              <a:off x="487692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Oval 61"/>
            <p:cNvSpPr/>
            <p:nvPr/>
          </p:nvSpPr>
          <p:spPr>
            <a:xfrm>
              <a:off x="441972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Oval 62"/>
            <p:cNvSpPr/>
            <p:nvPr/>
          </p:nvSpPr>
          <p:spPr>
            <a:xfrm>
              <a:off x="533412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Oval 63"/>
            <p:cNvSpPr/>
            <p:nvPr/>
          </p:nvSpPr>
          <p:spPr>
            <a:xfrm>
              <a:off x="5867280" y="47242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Oval 86"/>
            <p:cNvSpPr/>
            <p:nvPr/>
          </p:nvSpPr>
          <p:spPr>
            <a:xfrm>
              <a:off x="6324480" y="47242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val 87"/>
            <p:cNvSpPr/>
            <p:nvPr/>
          </p:nvSpPr>
          <p:spPr>
            <a:xfrm>
              <a:off x="739152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Oval 88"/>
            <p:cNvSpPr/>
            <p:nvPr/>
          </p:nvSpPr>
          <p:spPr>
            <a:xfrm>
              <a:off x="685800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AutoShape 90"/>
          <p:cNvSpPr/>
          <p:nvPr/>
        </p:nvSpPr>
        <p:spPr>
          <a:xfrm>
            <a:off x="25146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赞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93"/>
          <p:cNvSpPr/>
          <p:nvPr/>
        </p:nvSpPr>
        <p:spPr>
          <a:xfrm>
            <a:off x="54100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外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80880" y="1828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660033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Calibri"/>
              </a:rPr>
              <a:t>）它无疑经受过一次又一次摧毁，却能够一回又一回起死回生。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0880" y="3200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66"/>
                </a:solidFill>
                <a:latin typeface="Calibri"/>
                <a:ea typeface="黑体"/>
              </a:rPr>
              <a:t>从“一次又一次，一回又一回”你体会到了什么？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57200" y="4495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让我们用赞美的语气再来读一读第五自然段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1523880" y="10666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99cc00"/>
                </a:solidFill>
                <a:latin typeface="隶书"/>
              </a:rPr>
              <a:t>学生反馈</a:t>
            </a:r>
            <a:endParaRPr b="1" lang="en-US" sz="1800" spc="1" strike="noStrike">
              <a:ln w="9360">
                <a:solidFill>
                  <a:srgbClr val="800080"/>
                </a:solidFill>
                <a:round/>
              </a:ln>
              <a:solidFill>
                <a:srgbClr val="99cc00"/>
              </a:solidFill>
              <a:latin typeface="隶书"/>
              <a:ea typeface="隶书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80880" y="16765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114800" y="2286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4876920" y="2286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5334120" y="2286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5715000" y="2286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1447920" y="2819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1828800" y="2819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2209680" y="2819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2666880" y="2819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3048120" y="2819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7" descr="唱唱"/>
          <p:cNvPicPr/>
          <p:nvPr/>
        </p:nvPicPr>
        <p:blipFill>
          <a:blip r:embed="rId1"/>
          <a:stretch/>
        </p:blipFill>
        <p:spPr>
          <a:xfrm>
            <a:off x="304920" y="623880"/>
            <a:ext cx="11142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447920"/>
            <a:ext cx="7619760" cy="192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长到这样粗的一株柳树，经历过多少虐杀生灵的高原风雪，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冻死过多少次又复苏过来；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经历过多少场铺天盖地的雷轰电击，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被劈断了枝干又重新抽出了新条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它无疑经受过一次又一次摧毁，却能够一回又一回起死回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WordArt 3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066680" y="60958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神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46"/>
          <p:cNvSpPr/>
          <p:nvPr/>
        </p:nvSpPr>
        <p:spPr>
          <a:xfrm>
            <a:off x="39625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启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90"/>
          <p:cNvSpPr/>
          <p:nvPr/>
        </p:nvSpPr>
        <p:spPr>
          <a:xfrm>
            <a:off x="2514600" y="60958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赞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93"/>
          <p:cNvSpPr/>
          <p:nvPr/>
        </p:nvSpPr>
        <p:spPr>
          <a:xfrm>
            <a:off x="5410080" y="60958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外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457200" y="14479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长到这样粗的一株柳树，经历过多少虐杀生灵的高原风雪，冻死过多少次又复苏过来；经历过多少场铺天盖地的雷轰电击，被劈断了枝干又重新抽出了新条。它无疑经受过一次又一次摧毁，却能够一回又一回起死回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WordArt 3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066680" y="60958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神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46"/>
          <p:cNvSpPr/>
          <p:nvPr/>
        </p:nvSpPr>
        <p:spPr>
          <a:xfrm>
            <a:off x="3962520" y="60958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启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90"/>
          <p:cNvSpPr/>
          <p:nvPr/>
        </p:nvSpPr>
        <p:spPr>
          <a:xfrm>
            <a:off x="2514600" y="60958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赞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93"/>
          <p:cNvSpPr/>
          <p:nvPr/>
        </p:nvSpPr>
        <p:spPr>
          <a:xfrm>
            <a:off x="5410080" y="60958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外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852280" y="2286000"/>
            <a:ext cx="362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这是一株</a:t>
            </a:r>
            <a:r>
              <a:rPr b="1" lang="zh-CN" sz="4800" spc="-1" strike="noStrike" u="sng">
                <a:solidFill>
                  <a:srgbClr val="006600"/>
                </a:solidFill>
                <a:uFillTx/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的柳树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056120" y="377352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顽强不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屈不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坚韧不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4343400" y="60199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神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514600" y="60199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外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6095880" y="6019920"/>
            <a:ext cx="738360" cy="380880"/>
          </a:xfrm>
          <a:custGeom>
            <a:avLst/>
            <a:gdLst>
              <a:gd name="textAreaLeft" fmla="*/ 24480 w 738360"/>
              <a:gd name="textAreaRight" fmla="*/ 713880 w 738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1854" h="21600">
                <a:moveTo>
                  <a:pt x="0" y="0"/>
                </a:moveTo>
                <a:lnTo>
                  <a:pt x="41854" y="0"/>
                </a:lnTo>
                <a:lnTo>
                  <a:pt x="41854" y="21600"/>
                </a:lnTo>
                <a:lnTo>
                  <a:pt x="0" y="21600"/>
                </a:lnTo>
                <a:close/>
              </a:path>
              <a:path fill="lightenLess" w="41854" h="21600">
                <a:moveTo>
                  <a:pt x="0" y="0"/>
                </a:moveTo>
                <a:lnTo>
                  <a:pt x="41854" y="0"/>
                </a:lnTo>
                <a:lnTo>
                  <a:pt x="40454" y="1400"/>
                </a:lnTo>
                <a:lnTo>
                  <a:pt x="1400" y="1400"/>
                </a:lnTo>
                <a:close/>
              </a:path>
              <a:path fill="darken" w="41854" h="21600">
                <a:moveTo>
                  <a:pt x="41854" y="0"/>
                </a:moveTo>
                <a:lnTo>
                  <a:pt x="41854" y="21600"/>
                </a:lnTo>
                <a:lnTo>
                  <a:pt x="40454" y="20200"/>
                </a:lnTo>
                <a:lnTo>
                  <a:pt x="40454" y="1400"/>
                </a:lnTo>
                <a:close/>
              </a:path>
              <a:path fill="darkenLess" w="41854" h="21600">
                <a:moveTo>
                  <a:pt x="41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54" y="20200"/>
                </a:lnTo>
                <a:close/>
              </a:path>
              <a:path fill="lighten" w="41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赞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5"/>
          <p:cNvSpPr txBox="1"/>
          <p:nvPr/>
        </p:nvSpPr>
        <p:spPr>
          <a:xfrm>
            <a:off x="1905120" y="15429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cc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隶书"/>
              </a:rPr>
              <a:t>拓展延伸</a:t>
            </a:r>
            <a:endParaRPr b="1" lang="en-US" sz="1800" spc="1" strike="noStrike">
              <a:ln w="9360">
                <a:solidFill>
                  <a:srgbClr val="ff6600"/>
                </a:solidFill>
                <a:round/>
              </a:ln>
              <a:gradFill rotWithShape="0">
                <a:gsLst>
                  <a:gs pos="0">
                    <a:srgbClr val="ff9933"/>
                  </a:gs>
                  <a:gs pos="50000">
                    <a:srgbClr val="ffccff"/>
                  </a:gs>
                  <a:gs pos="100000">
                    <a:srgbClr val="ff9933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57200" y="2209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7" descr="观察"/>
          <p:cNvPicPr/>
          <p:nvPr/>
        </p:nvPicPr>
        <p:blipFill>
          <a:blip r:embed="rId1"/>
          <a:stretch/>
        </p:blipFill>
        <p:spPr>
          <a:xfrm>
            <a:off x="304920" y="928800"/>
            <a:ext cx="1390680" cy="11286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380880" y="2819520"/>
            <a:ext cx="54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33520" y="274320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题是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海高原一株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作者为什么又用大量的笔墨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到家乡灞河的柳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5" descr="20090508174628340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0" y="615528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黑体"/>
              </a:rPr>
              <a:t>灞河位于陕西西安市城东。灞桥两岸，筑堤五里，栽柳万株，每当春意盎然、春风扑面之际，柳絮漫天飞舞，烟雾蒙蒙，成了当地一大景观。灞水、灞柳、灞亭，古往今来，无数文人墨客为之倾倒，诗情才气在这个地方表现得淋漓尽致。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0" descr="图片1三代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04920" y="15238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a50021"/>
                </a:solidFill>
                <a:latin typeface="Calibri"/>
              </a:rPr>
              <a:t>自由读课文第八节，说说你是怎样理解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a50021"/>
                </a:solidFill>
                <a:latin typeface="Calibri"/>
              </a:rPr>
              <a:t>同是一株柳</a:t>
            </a:r>
            <a:r>
              <a:rPr b="1" lang="en-US" sz="3200" spc="-1" strike="noStrike">
                <a:solidFill>
                  <a:srgbClr val="a50021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a50021"/>
                </a:solidFill>
                <a:latin typeface="Calibri"/>
              </a:rPr>
              <a:t>相差何远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a50021"/>
                </a:solidFill>
                <a:latin typeface="Calibri"/>
              </a:rPr>
              <a:t>这句话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80880" y="29415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）平原和水边的柳树生活的道路和命运又是怎样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80880" y="416088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）这株柳树的生活道路和命运又是怎样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2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2067120" y="2438280"/>
            <a:ext cx="45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这是一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神奇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的柳树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神奇到令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望而生畏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的柳树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它伫立在青海高原上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4"/>
          <p:cNvSpPr/>
          <p:nvPr/>
        </p:nvSpPr>
        <p:spPr>
          <a:xfrm>
            <a:off x="1676520" y="6248520"/>
            <a:ext cx="1143000" cy="357120"/>
          </a:xfrm>
          <a:custGeom>
            <a:avLst/>
            <a:gdLst>
              <a:gd name="textAreaLeft" fmla="*/ 23040 w 1143000"/>
              <a:gd name="textAreaRight" fmla="*/ 1119960 w 1143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9085" h="21600">
                <a:moveTo>
                  <a:pt x="0" y="0"/>
                </a:moveTo>
                <a:lnTo>
                  <a:pt x="69085" y="0"/>
                </a:lnTo>
                <a:lnTo>
                  <a:pt x="69085" y="21600"/>
                </a:lnTo>
                <a:lnTo>
                  <a:pt x="0" y="21600"/>
                </a:lnTo>
                <a:close/>
              </a:path>
              <a:path fill="lightenLess" w="69085" h="21600">
                <a:moveTo>
                  <a:pt x="0" y="0"/>
                </a:moveTo>
                <a:lnTo>
                  <a:pt x="69085" y="0"/>
                </a:lnTo>
                <a:lnTo>
                  <a:pt x="67685" y="1400"/>
                </a:lnTo>
                <a:lnTo>
                  <a:pt x="1400" y="1400"/>
                </a:lnTo>
                <a:close/>
              </a:path>
              <a:path fill="darken" w="69085" h="21600">
                <a:moveTo>
                  <a:pt x="69085" y="0"/>
                </a:moveTo>
                <a:lnTo>
                  <a:pt x="69085" y="21600"/>
                </a:lnTo>
                <a:lnTo>
                  <a:pt x="67685" y="20200"/>
                </a:lnTo>
                <a:lnTo>
                  <a:pt x="67685" y="1400"/>
                </a:lnTo>
                <a:close/>
              </a:path>
              <a:path fill="darkenLess" w="69085" h="21600">
                <a:moveTo>
                  <a:pt x="69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5" y="20200"/>
                </a:lnTo>
                <a:close/>
              </a:path>
              <a:path fill="lighten" w="69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外    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6"/>
          <p:cNvSpPr/>
          <p:nvPr/>
        </p:nvSpPr>
        <p:spPr>
          <a:xfrm>
            <a:off x="4367160" y="6248520"/>
            <a:ext cx="1042920" cy="35712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38" h="21600">
                <a:moveTo>
                  <a:pt x="0" y="0"/>
                </a:moveTo>
                <a:lnTo>
                  <a:pt x="63038" y="0"/>
                </a:lnTo>
                <a:lnTo>
                  <a:pt x="63038" y="21600"/>
                </a:lnTo>
                <a:lnTo>
                  <a:pt x="0" y="21600"/>
                </a:lnTo>
                <a:close/>
              </a:path>
              <a:path fill="lightenLess" w="63038" h="21600">
                <a:moveTo>
                  <a:pt x="0" y="0"/>
                </a:moveTo>
                <a:lnTo>
                  <a:pt x="63038" y="0"/>
                </a:lnTo>
                <a:lnTo>
                  <a:pt x="61638" y="1400"/>
                </a:lnTo>
                <a:lnTo>
                  <a:pt x="1400" y="1400"/>
                </a:lnTo>
                <a:close/>
              </a:path>
              <a:path fill="darken" w="63038" h="21600">
                <a:moveTo>
                  <a:pt x="63038" y="0"/>
                </a:moveTo>
                <a:lnTo>
                  <a:pt x="63038" y="21600"/>
                </a:lnTo>
                <a:lnTo>
                  <a:pt x="61638" y="20200"/>
                </a:lnTo>
                <a:lnTo>
                  <a:pt x="61638" y="1400"/>
                </a:lnTo>
                <a:close/>
              </a:path>
              <a:path fill="darkenLess" w="63038" h="21600">
                <a:moveTo>
                  <a:pt x="6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38" y="20200"/>
                </a:lnTo>
                <a:close/>
              </a:path>
              <a:path fill="lighten" w="6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生长经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28"/>
          <p:cNvSpPr/>
          <p:nvPr/>
        </p:nvSpPr>
        <p:spPr>
          <a:xfrm>
            <a:off x="5662440" y="6248520"/>
            <a:ext cx="1043280" cy="357120"/>
          </a:xfrm>
          <a:custGeom>
            <a:avLst/>
            <a:gdLst>
              <a:gd name="textAreaLeft" fmla="*/ 23040 w 1043280"/>
              <a:gd name="textAreaRight" fmla="*/ 1020240 w 10432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60" h="21600">
                <a:moveTo>
                  <a:pt x="0" y="0"/>
                </a:moveTo>
                <a:lnTo>
                  <a:pt x="63060" y="0"/>
                </a:lnTo>
                <a:lnTo>
                  <a:pt x="63060" y="21600"/>
                </a:lnTo>
                <a:lnTo>
                  <a:pt x="0" y="21600"/>
                </a:lnTo>
                <a:close/>
              </a:path>
              <a:path fill="lightenLess" w="63060" h="21600">
                <a:moveTo>
                  <a:pt x="0" y="0"/>
                </a:moveTo>
                <a:lnTo>
                  <a:pt x="63060" y="0"/>
                </a:lnTo>
                <a:lnTo>
                  <a:pt x="61660" y="1400"/>
                </a:lnTo>
                <a:lnTo>
                  <a:pt x="1400" y="1400"/>
                </a:lnTo>
                <a:close/>
              </a:path>
              <a:path fill="darken" w="63060" h="21600">
                <a:moveTo>
                  <a:pt x="63060" y="0"/>
                </a:moveTo>
                <a:lnTo>
                  <a:pt x="63060" y="21600"/>
                </a:lnTo>
                <a:lnTo>
                  <a:pt x="61660" y="20200"/>
                </a:lnTo>
                <a:lnTo>
                  <a:pt x="61660" y="1400"/>
                </a:lnTo>
                <a:close/>
              </a:path>
              <a:path fill="darkenLess" w="63060" h="21600">
                <a:moveTo>
                  <a:pt x="63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60" y="20200"/>
                </a:lnTo>
                <a:close/>
              </a:path>
              <a:path fill="lighten" w="63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拓   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3071880" y="6248520"/>
            <a:ext cx="1042920" cy="35712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38" h="21600">
                <a:moveTo>
                  <a:pt x="0" y="0"/>
                </a:moveTo>
                <a:lnTo>
                  <a:pt x="63038" y="0"/>
                </a:lnTo>
                <a:lnTo>
                  <a:pt x="63038" y="21600"/>
                </a:lnTo>
                <a:lnTo>
                  <a:pt x="0" y="21600"/>
                </a:lnTo>
                <a:close/>
              </a:path>
              <a:path fill="lightenLess" w="63038" h="21600">
                <a:moveTo>
                  <a:pt x="0" y="0"/>
                </a:moveTo>
                <a:lnTo>
                  <a:pt x="63038" y="0"/>
                </a:lnTo>
                <a:lnTo>
                  <a:pt x="61638" y="1400"/>
                </a:lnTo>
                <a:lnTo>
                  <a:pt x="1400" y="1400"/>
                </a:lnTo>
                <a:close/>
              </a:path>
              <a:path fill="darken" w="63038" h="21600">
                <a:moveTo>
                  <a:pt x="63038" y="0"/>
                </a:moveTo>
                <a:lnTo>
                  <a:pt x="63038" y="21600"/>
                </a:lnTo>
                <a:lnTo>
                  <a:pt x="61638" y="20200"/>
                </a:lnTo>
                <a:lnTo>
                  <a:pt x="61638" y="1400"/>
                </a:lnTo>
                <a:close/>
              </a:path>
              <a:path fill="darkenLess" w="63038" h="21600">
                <a:moveTo>
                  <a:pt x="6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38" y="20200"/>
                </a:lnTo>
                <a:close/>
              </a:path>
              <a:path fill="lighten" w="6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生长环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"/>
          <p:cNvSpPr/>
          <p:nvPr/>
        </p:nvSpPr>
        <p:spPr>
          <a:xfrm>
            <a:off x="533520" y="2286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命运给予它的几乎是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九十九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条死亡之路，它却在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一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线希望中成就了一片绿阴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WordArt 8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8088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       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命运给予它的几乎九十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一片绿荫”这句话是写柳树的但又不仅仅在写柳树。你从中又得到什么启示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80880" y="317016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a50021"/>
                </a:solidFill>
                <a:latin typeface="Calibri"/>
              </a:rPr>
              <a:t>我们在恶劣的环境中，不要被困难吓倒，要发扬抗争精神，坚强不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9480" y="50292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  <a:ea typeface="隶书"/>
              </a:rPr>
              <a:t>同学们有感情地齐读这一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04920" y="22860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660033"/>
                </a:solidFill>
                <a:latin typeface="Calibri"/>
              </a:rPr>
              <a:t>这篇课文的题目是</a:t>
            </a:r>
            <a:r>
              <a:rPr b="1" lang="en-US" sz="3200" spc="-1" strike="noStrike">
                <a:solidFill>
                  <a:srgbClr val="660033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660033"/>
                </a:solidFill>
                <a:latin typeface="Calibri"/>
              </a:rPr>
              <a:t>青海高原一株柳</a:t>
            </a:r>
            <a:r>
              <a:rPr b="1" lang="en-US" sz="3200" spc="-1" strike="noStrike">
                <a:solidFill>
                  <a:srgbClr val="660033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660033"/>
                </a:solidFill>
                <a:latin typeface="Calibri"/>
              </a:rPr>
              <a:t>，作者借柳树来赞美具有这种精神的人，我相信学了这篇课文之后，同学们一定会在自己的心中种下这株柳树。</a:t>
            </a:r>
            <a:r>
              <a:rPr b="0" lang="zh-CN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2209680" y="1371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隶书"/>
              </a:rPr>
              <a:t>课文总结</a:t>
            </a:r>
            <a:endParaRPr b="1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457200" y="1981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书与笔"/>
          <p:cNvPicPr/>
          <p:nvPr/>
        </p:nvPicPr>
        <p:blipFill>
          <a:blip r:embed="rId1"/>
          <a:stretch/>
        </p:blipFill>
        <p:spPr>
          <a:xfrm>
            <a:off x="914400" y="1066680"/>
            <a:ext cx="10098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85800" y="2438280"/>
            <a:ext cx="73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alibri"/>
              </a:rPr>
              <a:t>①</a:t>
            </a:r>
            <a:r>
              <a:rPr b="1" lang="zh-CN" sz="2800" spc="-1" strike="noStrike">
                <a:solidFill>
                  <a:srgbClr val="003300"/>
                </a:solidFill>
                <a:latin typeface="Calibri"/>
              </a:rPr>
              <a:t>（     ）只有百分之一的希望，我们（     ）要付出百分之百的努力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580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alibri"/>
              </a:rPr>
              <a:t>②</a:t>
            </a:r>
            <a:r>
              <a:rPr b="1" lang="zh-CN" sz="2800" spc="-1" strike="noStrike">
                <a:solidFill>
                  <a:srgbClr val="003300"/>
                </a:solidFill>
                <a:latin typeface="Calibri"/>
              </a:rPr>
              <a:t>（      ）扼住命运咽喉的人，（       ）能创造生命的奇迹！</a:t>
            </a:r>
            <a:r>
              <a:rPr b="1" lang="zh-CN" sz="32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5800" y="47242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alibri"/>
              </a:rPr>
              <a:t>③</a:t>
            </a:r>
            <a:r>
              <a:rPr b="1" lang="zh-CN" sz="2800" spc="-1" strike="noStrike">
                <a:solidFill>
                  <a:srgbClr val="003300"/>
                </a:solidFill>
                <a:latin typeface="Calibri"/>
              </a:rPr>
              <a:t>（      ）遇到怎样的困难，我们（      ）要勇敢面对，成为生活的强者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5800" y="1600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Calibri"/>
                <a:ea typeface="隶书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WordArt 6"/>
          <p:cNvSpPr txBox="1"/>
          <p:nvPr/>
        </p:nvSpPr>
        <p:spPr>
          <a:xfrm>
            <a:off x="1828800" y="838080"/>
            <a:ext cx="1981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练一练</a:t>
            </a:r>
            <a:endParaRPr b="1" lang="en-US" sz="1800" spc="1" strike="noStrike">
              <a:ln w="9360">
                <a:solidFill>
                  <a:srgbClr val="ff66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8" descr="小练笔"/>
          <p:cNvPicPr/>
          <p:nvPr/>
        </p:nvPicPr>
        <p:blipFill>
          <a:blip r:embed="rId1"/>
          <a:stretch/>
        </p:blipFill>
        <p:spPr>
          <a:xfrm>
            <a:off x="838080" y="609480"/>
            <a:ext cx="676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41400" y="1981080"/>
            <a:ext cx="4665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株柳树大约有两合抱粗，浓密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树叶覆盖出百十余平方米的树阴。树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树枝呈现出生铁铁锭的色泽，粗实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坚硬。叶子如此之绿，绿得苍郁，绿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深沉，自然使人感到高寒和缺水对生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颜色的独特锻铸。它巍巍然撑立在高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上，给人以生命伟力的强大感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838080" y="6095880"/>
            <a:ext cx="762120" cy="357480"/>
          </a:xfrm>
          <a:custGeom>
            <a:avLst/>
            <a:gdLst>
              <a:gd name="textAreaLeft" fmla="*/ 23040 w 762120"/>
              <a:gd name="textAreaRight" fmla="*/ 739080 w 762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46025" h="21600">
                <a:moveTo>
                  <a:pt x="0" y="0"/>
                </a:moveTo>
                <a:lnTo>
                  <a:pt x="46025" y="0"/>
                </a:lnTo>
                <a:lnTo>
                  <a:pt x="46025" y="21600"/>
                </a:lnTo>
                <a:lnTo>
                  <a:pt x="0" y="21600"/>
                </a:lnTo>
                <a:close/>
              </a:path>
              <a:path fill="lightenLess" w="46025" h="21600">
                <a:moveTo>
                  <a:pt x="0" y="0"/>
                </a:moveTo>
                <a:lnTo>
                  <a:pt x="46025" y="0"/>
                </a:lnTo>
                <a:lnTo>
                  <a:pt x="44625" y="1400"/>
                </a:lnTo>
                <a:lnTo>
                  <a:pt x="1400" y="1400"/>
                </a:lnTo>
                <a:close/>
              </a:path>
              <a:path fill="darken" w="46025" h="21600">
                <a:moveTo>
                  <a:pt x="46025" y="0"/>
                </a:moveTo>
                <a:lnTo>
                  <a:pt x="46025" y="21600"/>
                </a:lnTo>
                <a:lnTo>
                  <a:pt x="44625" y="20200"/>
                </a:lnTo>
                <a:lnTo>
                  <a:pt x="44625" y="1400"/>
                </a:lnTo>
                <a:close/>
              </a:path>
              <a:path fill="darkenLess" w="46025" h="21600">
                <a:moveTo>
                  <a:pt x="46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5" y="20200"/>
                </a:lnTo>
                <a:close/>
              </a:path>
              <a:path fill="lighten" w="46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神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2286000" y="60958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生长环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962520" y="60958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生长经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5638680" y="60958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启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7086600" y="60958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赞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52280" y="9907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295280" y="2057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99"/>
                </a:solidFill>
                <a:latin typeface="Calibri"/>
              </a:rPr>
              <a:t>这株柳树大约有两合抱粗，浓密的树叶覆盖出百十余平方米的树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2209680" y="6019920"/>
            <a:ext cx="1043280" cy="357120"/>
          </a:xfrm>
          <a:custGeom>
            <a:avLst/>
            <a:gdLst>
              <a:gd name="textAreaLeft" fmla="*/ 23040 w 1043280"/>
              <a:gd name="textAreaRight" fmla="*/ 1020240 w 10432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60" h="21600">
                <a:moveTo>
                  <a:pt x="0" y="0"/>
                </a:moveTo>
                <a:lnTo>
                  <a:pt x="63060" y="0"/>
                </a:lnTo>
                <a:lnTo>
                  <a:pt x="63060" y="21600"/>
                </a:lnTo>
                <a:lnTo>
                  <a:pt x="0" y="21600"/>
                </a:lnTo>
                <a:close/>
              </a:path>
              <a:path fill="lightenLess" w="63060" h="21600">
                <a:moveTo>
                  <a:pt x="0" y="0"/>
                </a:moveTo>
                <a:lnTo>
                  <a:pt x="63060" y="0"/>
                </a:lnTo>
                <a:lnTo>
                  <a:pt x="61660" y="1400"/>
                </a:lnTo>
                <a:lnTo>
                  <a:pt x="1400" y="1400"/>
                </a:lnTo>
                <a:close/>
              </a:path>
              <a:path fill="darken" w="63060" h="21600">
                <a:moveTo>
                  <a:pt x="63060" y="0"/>
                </a:moveTo>
                <a:lnTo>
                  <a:pt x="63060" y="21600"/>
                </a:lnTo>
                <a:lnTo>
                  <a:pt x="61660" y="20200"/>
                </a:lnTo>
                <a:lnTo>
                  <a:pt x="61660" y="1400"/>
                </a:lnTo>
                <a:close/>
              </a:path>
              <a:path fill="darkenLess" w="63060" h="21600">
                <a:moveTo>
                  <a:pt x="63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60" y="20200"/>
                </a:lnTo>
                <a:close/>
              </a:path>
              <a:path fill="lighten" w="63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外    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457200" y="1143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WordArt 13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914400" y="2590920"/>
            <a:ext cx="60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树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干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和树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枝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呈现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生铁铁锭的色泽，粗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而坚硬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2209680" y="6019920"/>
            <a:ext cx="1043280" cy="357120"/>
          </a:xfrm>
          <a:custGeom>
            <a:avLst/>
            <a:gdLst>
              <a:gd name="textAreaLeft" fmla="*/ 23040 w 1043280"/>
              <a:gd name="textAreaRight" fmla="*/ 1020240 w 10432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60" h="21600">
                <a:moveTo>
                  <a:pt x="0" y="0"/>
                </a:moveTo>
                <a:lnTo>
                  <a:pt x="63060" y="0"/>
                </a:lnTo>
                <a:lnTo>
                  <a:pt x="63060" y="21600"/>
                </a:lnTo>
                <a:lnTo>
                  <a:pt x="0" y="21600"/>
                </a:lnTo>
                <a:close/>
              </a:path>
              <a:path fill="lightenLess" w="63060" h="21600">
                <a:moveTo>
                  <a:pt x="0" y="0"/>
                </a:moveTo>
                <a:lnTo>
                  <a:pt x="63060" y="0"/>
                </a:lnTo>
                <a:lnTo>
                  <a:pt x="61660" y="1400"/>
                </a:lnTo>
                <a:lnTo>
                  <a:pt x="1400" y="1400"/>
                </a:lnTo>
                <a:close/>
              </a:path>
              <a:path fill="darken" w="63060" h="21600">
                <a:moveTo>
                  <a:pt x="63060" y="0"/>
                </a:moveTo>
                <a:lnTo>
                  <a:pt x="63060" y="21600"/>
                </a:lnTo>
                <a:lnTo>
                  <a:pt x="61660" y="20200"/>
                </a:lnTo>
                <a:lnTo>
                  <a:pt x="61660" y="1400"/>
                </a:lnTo>
                <a:close/>
              </a:path>
              <a:path fill="darkenLess" w="63060" h="21600">
                <a:moveTo>
                  <a:pt x="63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60" y="20200"/>
                </a:lnTo>
                <a:close/>
              </a:path>
              <a:path fill="lighten" w="63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外    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57200" y="1143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66680" y="2209680"/>
            <a:ext cx="563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叶</a:t>
            </a:r>
            <a:r>
              <a:rPr b="1" lang="zh-CN" sz="4000" spc="-1" strike="noStrike">
                <a:solidFill>
                  <a:srgbClr val="009900"/>
                </a:solidFill>
                <a:latin typeface="Calibri"/>
              </a:rPr>
              <a:t>子如此之绿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alibri"/>
              </a:rPr>
              <a:t>绿的苍郁，绿的深沉，自然使人感到高寒和缺水对生命颜色的独特锻铸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209680" y="6019920"/>
            <a:ext cx="1043280" cy="357120"/>
          </a:xfrm>
          <a:custGeom>
            <a:avLst/>
            <a:gdLst>
              <a:gd name="textAreaLeft" fmla="*/ 23040 w 1043280"/>
              <a:gd name="textAreaRight" fmla="*/ 1020240 w 10432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60" h="21600">
                <a:moveTo>
                  <a:pt x="0" y="0"/>
                </a:moveTo>
                <a:lnTo>
                  <a:pt x="63060" y="0"/>
                </a:lnTo>
                <a:lnTo>
                  <a:pt x="63060" y="21600"/>
                </a:lnTo>
                <a:lnTo>
                  <a:pt x="0" y="21600"/>
                </a:lnTo>
                <a:close/>
              </a:path>
              <a:path fill="lightenLess" w="63060" h="21600">
                <a:moveTo>
                  <a:pt x="0" y="0"/>
                </a:moveTo>
                <a:lnTo>
                  <a:pt x="63060" y="0"/>
                </a:lnTo>
                <a:lnTo>
                  <a:pt x="61660" y="1400"/>
                </a:lnTo>
                <a:lnTo>
                  <a:pt x="1400" y="1400"/>
                </a:lnTo>
                <a:close/>
              </a:path>
              <a:path fill="darken" w="63060" h="21600">
                <a:moveTo>
                  <a:pt x="63060" y="0"/>
                </a:moveTo>
                <a:lnTo>
                  <a:pt x="63060" y="21600"/>
                </a:lnTo>
                <a:lnTo>
                  <a:pt x="61660" y="20200"/>
                </a:lnTo>
                <a:lnTo>
                  <a:pt x="61660" y="1400"/>
                </a:lnTo>
                <a:close/>
              </a:path>
              <a:path fill="darkenLess" w="63060" h="21600">
                <a:moveTo>
                  <a:pt x="63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60" y="20200"/>
                </a:lnTo>
                <a:close/>
              </a:path>
              <a:path fill="lighten" w="63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外    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57200" y="1143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6002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青海高原一株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371600" y="24382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它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巍巍然撑立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在高原之上，给人以生命伟力的强大感召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2209680" y="6019920"/>
            <a:ext cx="1043280" cy="357120"/>
          </a:xfrm>
          <a:custGeom>
            <a:avLst/>
            <a:gdLst>
              <a:gd name="textAreaLeft" fmla="*/ 23040 w 1043280"/>
              <a:gd name="textAreaRight" fmla="*/ 1020240 w 10432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60" h="21600">
                <a:moveTo>
                  <a:pt x="0" y="0"/>
                </a:moveTo>
                <a:lnTo>
                  <a:pt x="63060" y="0"/>
                </a:lnTo>
                <a:lnTo>
                  <a:pt x="63060" y="21600"/>
                </a:lnTo>
                <a:lnTo>
                  <a:pt x="0" y="21600"/>
                </a:lnTo>
                <a:close/>
              </a:path>
              <a:path fill="lightenLess" w="63060" h="21600">
                <a:moveTo>
                  <a:pt x="0" y="0"/>
                </a:moveTo>
                <a:lnTo>
                  <a:pt x="63060" y="0"/>
                </a:lnTo>
                <a:lnTo>
                  <a:pt x="61660" y="1400"/>
                </a:lnTo>
                <a:lnTo>
                  <a:pt x="1400" y="1400"/>
                </a:lnTo>
                <a:close/>
              </a:path>
              <a:path fill="darken" w="63060" h="21600">
                <a:moveTo>
                  <a:pt x="63060" y="0"/>
                </a:moveTo>
                <a:lnTo>
                  <a:pt x="63060" y="21600"/>
                </a:lnTo>
                <a:lnTo>
                  <a:pt x="61660" y="20200"/>
                </a:lnTo>
                <a:lnTo>
                  <a:pt x="61660" y="1400"/>
                </a:lnTo>
                <a:close/>
              </a:path>
              <a:path fill="darkenLess" w="63060" h="21600">
                <a:moveTo>
                  <a:pt x="63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60" y="20200"/>
                </a:lnTo>
                <a:close/>
              </a:path>
              <a:path fill="lighten" w="63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外    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图片2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9"/>
          <p:cNvSpPr/>
          <p:nvPr/>
        </p:nvSpPr>
        <p:spPr>
          <a:xfrm>
            <a:off x="1219320" y="685800"/>
            <a:ext cx="716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大标宋简体"/>
                <a:ea typeface="方正大标宋简体"/>
              </a:rPr>
              <a:t>深邃的蓝天  凝滞的云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大标宋简体"/>
                <a:ea typeface="方正大标宋简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大标宋简体"/>
                <a:ea typeface="方正大标宋简体"/>
              </a:rPr>
              <a:t>  </a:t>
            </a:r>
            <a:r>
              <a:rPr b="0" lang="zh-CN" sz="4800" spc="-1" strike="noStrike">
                <a:solidFill>
                  <a:srgbClr val="ff0000"/>
                </a:solidFill>
                <a:latin typeface="方正大标宋简体"/>
                <a:ea typeface="方正大标宋简体"/>
              </a:rPr>
              <a:t>广袤无垠     青草覆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图片3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2"/>
          <p:cNvSpPr/>
          <p:nvPr/>
        </p:nvSpPr>
        <p:spPr>
          <a:xfrm>
            <a:off x="-152280" y="12193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方正大标宋简体"/>
                <a:ea typeface="方正大标宋简体"/>
              </a:rPr>
              <a:t>     </a:t>
            </a:r>
            <a:r>
              <a:rPr b="0" lang="zh-CN" sz="4800" spc="-1" strike="noStrike">
                <a:solidFill>
                  <a:srgbClr val="ff3300"/>
                </a:solidFill>
                <a:latin typeface="方正大标宋简体"/>
                <a:ea typeface="方正大标宋简体"/>
              </a:rPr>
              <a:t>寸草不生、青石嶙峋的山峰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7772400" y="5867280"/>
            <a:ext cx="762120" cy="357480"/>
          </a:xfrm>
          <a:custGeom>
            <a:avLst/>
            <a:gdLst>
              <a:gd name="textAreaLeft" fmla="*/ 23040 w 762120"/>
              <a:gd name="textAreaRight" fmla="*/ 739080 w 762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46025" h="21600">
                <a:moveTo>
                  <a:pt x="0" y="0"/>
                </a:moveTo>
                <a:lnTo>
                  <a:pt x="46025" y="0"/>
                </a:lnTo>
                <a:lnTo>
                  <a:pt x="46025" y="21600"/>
                </a:lnTo>
                <a:lnTo>
                  <a:pt x="0" y="21600"/>
                </a:lnTo>
                <a:close/>
              </a:path>
              <a:path fill="lightenLess" w="46025" h="21600">
                <a:moveTo>
                  <a:pt x="0" y="0"/>
                </a:moveTo>
                <a:lnTo>
                  <a:pt x="46025" y="0"/>
                </a:lnTo>
                <a:lnTo>
                  <a:pt x="44625" y="1400"/>
                </a:lnTo>
                <a:lnTo>
                  <a:pt x="1400" y="1400"/>
                </a:lnTo>
                <a:close/>
              </a:path>
              <a:path fill="darken" w="46025" h="21600">
                <a:moveTo>
                  <a:pt x="46025" y="0"/>
                </a:moveTo>
                <a:lnTo>
                  <a:pt x="46025" y="21600"/>
                </a:lnTo>
                <a:lnTo>
                  <a:pt x="44625" y="20200"/>
                </a:lnTo>
                <a:lnTo>
                  <a:pt x="44625" y="1400"/>
                </a:lnTo>
                <a:close/>
              </a:path>
              <a:path fill="darkenLess" w="46025" h="21600">
                <a:moveTo>
                  <a:pt x="46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5" y="20200"/>
                </a:lnTo>
                <a:close/>
              </a:path>
              <a:path fill="lighten" w="46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神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2T00:50:55Z</dcterms:created>
  <dc:creator/>
  <dc:description>第一PPT模板网-WWW.1PPT.COM
</dc:description>
  <dc:language>en-US</dc:language>
  <cp:lastModifiedBy>Administrator</cp:lastModifiedBy>
  <dcterms:modified xsi:type="dcterms:W3CDTF">2017-08-17T08:22:03Z</dcterms:modified>
  <cp:revision>4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