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7AD-BBEE-4A67-BFB0-34F84DE1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4D5-840A-40A2-BB2C-56EE93BD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C4B-526C-402C-8648-1FF538D7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A1A-D714-4C6B-9E41-5D2D28A0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52F-7FC6-4CEC-A50B-7D8830CE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7A3-36FF-436F-98D3-9B24AADE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B45-2866-46B5-930F-17D0658A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7C3-ACB2-4948-ADFC-EA1C052F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529-865A-461A-8EBB-9318A940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77B-3DCE-43AA-8C2B-534B9FFE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F06-02FE-4D15-8C22-13BF7AA1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9BC-A461-45E3-9170-AE73DD77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63BE-6A94-40B1-B7C8-4DA51F3A1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-1,9,&#24187;&#28783;&#29255; 9" TargetMode="External"/><Relationship Id="rId6" Type="http://schemas.openxmlformats.org/officeDocument/2006/relationships/hyperlink" Target="-1,10,&#24187;&#28783;&#29255; 10" TargetMode="External"/><Relationship Id="rId7" Type="http://schemas.openxmlformats.org/officeDocument/2006/relationships/hyperlink" Target="-1,11,&#24187;&#28783;&#29255; 11" TargetMode="External"/><Relationship Id="rId8" Type="http://schemas.openxmlformats.org/officeDocument/2006/relationships/hyperlink" Target="-1,12,&#24187;&#28783;&#29255; 12" TargetMode="External"/><Relationship Id="rId9" Type="http://schemas.openxmlformats.org/officeDocument/2006/relationships/hyperlink" Target="-1,12,&#24187;&#28783;&#29255; 12" TargetMode="External"/><Relationship Id="rId10" Type="http://schemas.openxmlformats.org/officeDocument/2006/relationships/hyperlink" Target="-1,13,&#24187;&#28783;&#29255; 13" TargetMode="External"/><Relationship Id="rId11" Type="http://schemas.openxmlformats.org/officeDocument/2006/relationships/hyperlink" Target="269,13,&#24187;&#28783;&#29255; 13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09021717591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4024440" y="16286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华文隶书"/>
                <a:ea typeface="华文隶书"/>
              </a:rPr>
              <a:t>青海高原一株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3深邃的蓝天tou1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0" y="40464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青海长云暗雪山</a:t>
            </a: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孤城遥望玉门关。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军行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千里黄云白日曛，北风吹雁雪纷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董大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漠孤烟直，长河落日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至塞上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09328-00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50920" y="69228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我站在这里，目力所及，背后是连绵的铁铸一样的青山，近处是呈现着赭红色的起伏的原地，根本看不到任何一棵树。没有树族的原野显得尤其简洁而开阔，也显得异常的苍茫。</a:t>
            </a:r>
            <a:r>
              <a:rPr b="0" lang="zh-CN" sz="1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liutou1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9506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50920" y="476280"/>
            <a:ext cx="871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这是一株神奇的柳树</a:t>
            </a:r>
            <a:r>
              <a:rPr b="1" lang="en-US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神奇到令我望而生畏的柳树，它伫立在青海高原上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liushu"/>
          <p:cNvPicPr/>
          <p:nvPr/>
        </p:nvPicPr>
        <p:blipFill>
          <a:blip r:embed="rId1"/>
          <a:stretch/>
        </p:blipFill>
        <p:spPr>
          <a:xfrm>
            <a:off x="0" y="-1324080"/>
            <a:ext cx="9144000" cy="8182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-34920" y="-52560"/>
            <a:ext cx="9144000" cy="1008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株柳树大约有两合抱粗，浓密的树叶覆盖出百十余平方米的树阴。树干和树枝呈现出生铁铁锭的色泽，粗实而坚硬。叶子如此之绿，绿得苍郁，绿得深沉，自然使人感到高寒和缺水对生命颜色的独特锻铸。它巍巍然撑立在高原之上，给人以生命伟力的强大感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68360" y="90792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株柳树大约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两合抱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浓密的树叶覆盖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百十余平方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树阴。树干和树枝呈现出生铁铁锭的色泽，粗实而坚硬。叶子如此之绿，绿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苍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绿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深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自然使人感到高寒和缺水对生命颜色的独特锻铸。它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巍巍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撑立在高原之上，给人以生命伟力的强大感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iutou1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9506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50920" y="476280"/>
            <a:ext cx="871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这是一株神奇的柳树</a:t>
            </a:r>
            <a:r>
              <a:rPr b="1" lang="en-US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神奇到令我望而生畏的柳树，它伫立在青海高原上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白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436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干旱　严寒　风雪　雷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青海高原上的这一株柳树，为保存生命却要付出怎样难以相信想象的艰苦卓绝的努力？</a:t>
            </a:r>
            <a:br>
              <a:rPr sz="3600"/>
            </a:b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快速默读６－７自然段，找找这株柳树面临着哪些困境和苦难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六、七自然段中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哪些词语、句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让你感受到这株柳树生存的艰辛呢？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252720" y="-36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展开想像的翅膀，想一想这株柳它会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6000" y="1268280"/>
            <a:ext cx="892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 烈日炙烤着大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连续半年不见一滴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厚实的土层渐渐裂出了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株柳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刺骨的寒风刮过人们的脸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它植物早已被风雪吞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株柳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一声惊雷在天空乍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闪电无情地劈下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株柳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iutou1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9506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50920" y="476280"/>
            <a:ext cx="871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这是一株神奇的柳树</a:t>
            </a:r>
            <a:r>
              <a:rPr b="1" lang="en-US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神奇到令我望而生畏的柳树，它伫立在青海高原上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kuang092"/>
          <p:cNvPicPr/>
          <p:nvPr/>
        </p:nvPicPr>
        <p:blipFill>
          <a:blip r:embed="rId1"/>
          <a:stretch/>
        </p:blipFill>
        <p:spPr>
          <a:xfrm>
            <a:off x="-228600" y="-19080"/>
            <a:ext cx="9372600" cy="6877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11280" y="1413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面对这些自然灾害和磨难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它无疑经受过一次又一次摧毁，却能够一回又一回起死回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4920" y="24922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              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这靠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liuto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89000"/>
            <a:ext cx="8604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锭    锻铸    撑立     伫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邃　  凝滞    巍巍然   神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艰苦卓绝   起死回生    不可思议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而生畏   广袤无垠    青草覆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寸草不生   青石嶙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23640" y="69228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面对一场场虐杀生灵的高原风雪，它挺过来了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是一种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精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２、历经一场场铺天盖地的雷轰电击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挺过来了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是一种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精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３、经受一次又一次摧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挺过来了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是一种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精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kuang092"/>
          <p:cNvPicPr/>
          <p:nvPr/>
        </p:nvPicPr>
        <p:blipFill>
          <a:blip r:embed="rId1"/>
          <a:stretch/>
        </p:blipFill>
        <p:spPr>
          <a:xfrm>
            <a:off x="-228600" y="-19080"/>
            <a:ext cx="9372600" cy="6877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755640" y="2205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种多么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顽强的精神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598415800487387410"/>
          <p:cNvPicPr/>
          <p:nvPr/>
        </p:nvPicPr>
        <p:blipFill>
          <a:blip r:embed="rId1"/>
          <a:stretch/>
        </p:blipFill>
        <p:spPr>
          <a:xfrm>
            <a:off x="0" y="-92160"/>
            <a:ext cx="9756720" cy="7334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851280" y="3500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同一粒柳絮，如果它落在适宜它生长的江南，它的生长历程会怎样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家乡水边的柳树却极易生长，随手折一条柳枝插下去，就发芽，就生长，三两年便成为一株婀娜多姿、风情万种的柳树了；漫天飞扬的柳絮飘落到沙滩上，便急骤冒出一片又一片芦苇一样的柳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585d117650e1755bb251b9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4572000" y="5305320"/>
            <a:ext cx="4572000" cy="1557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江边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雍裕之（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袅袅古堤边，青青一树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若为丝不断，留取系郎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26770245319416"/>
          <p:cNvPicPr/>
          <p:nvPr/>
        </p:nvPicPr>
        <p:blipFill>
          <a:blip r:embed="rId1"/>
          <a:stretch/>
        </p:blipFill>
        <p:spPr>
          <a:xfrm>
            <a:off x="250920" y="333360"/>
            <a:ext cx="3887640" cy="331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liushu"/>
          <p:cNvPicPr/>
          <p:nvPr/>
        </p:nvPicPr>
        <p:blipFill>
          <a:blip r:embed="rId2"/>
          <a:stretch/>
        </p:blipFill>
        <p:spPr>
          <a:xfrm>
            <a:off x="4356000" y="333360"/>
            <a:ext cx="4464000" cy="3311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0" y="414972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当灞河柳正在享受着雨露、沐浴着阳光的时候，青海高原上的这株柳树却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-252360" y="2276640"/>
            <a:ext cx="9396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同是一种柳树，生活的道路和命运相差何远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1280" y="1196640"/>
            <a:ext cx="853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403280" y="2852640"/>
            <a:ext cx="58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11592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这株柳树没有抱怨命运，也没有畏怯生存之危险和艰难，而是聚合全部身心之力与生存环境抗争，以超乎想象的毅力和韧劲生存下来，终于造成了高原上的一方壮丽的风景。命运给予它的几乎是九十九条死亡之路，它却在一线希望之中成就了一片绿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403280" y="2852640"/>
            <a:ext cx="58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189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这株柳树没有抱怨命运，也没有畏怯生存之危险和艰难，而是聚合全部身心之力与生存环境抗争，以超乎想象的毅力和韧劲生存下来，终于造成了高原上的一方壮丽的风景。命运给予它的几乎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九十九条死亡之路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，它却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一线希望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之中成就了一片绿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5342040"/>
            <a:ext cx="92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靠什么成就了这一片绿阴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468360" y="69228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黑体"/>
              </a:rPr>
              <a:t>命运给予它的几乎是九十九条死亡之路，它却在一线希望之中成就了一片绿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0920" y="3284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（这句话仅仅在写柳树吗？你从中得到了什么启示呢？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79280" y="0"/>
            <a:ext cx="8713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初读感悟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朗读第一、二段，你能发现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u=2305751261,537915135&amp;fm=3&amp;gp=31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司马迁"/>
          <p:cNvPicPr/>
          <p:nvPr/>
        </p:nvPicPr>
        <p:blipFill>
          <a:blip r:embed="rId2"/>
          <a:stretch/>
        </p:blipFill>
        <p:spPr>
          <a:xfrm>
            <a:off x="0" y="0"/>
            <a:ext cx="419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5201280" y="1700280"/>
            <a:ext cx="31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宝剑锋从磨砺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梅花香自苦寒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228600" y="2422440"/>
            <a:ext cx="7315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     ）只有百分之一的希望，我们（     ）要付出百分之百的努力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28600" y="356544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      ）扼住命运咽喉的人，（       ）能创造生命的奇迹！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04920" y="46926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      ）遇到怎样的困难，我们（      ）要勇敢面对，成为生活的强者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04920" y="158436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隶书"/>
              </a:rPr>
              <a:t>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2438280" y="990720"/>
            <a:ext cx="1981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隶书"/>
              </a:rPr>
              <a:t>小练笔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57200" y="15238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小练笔"/>
          <p:cNvPicPr/>
          <p:nvPr/>
        </p:nvPicPr>
        <p:blipFill>
          <a:blip r:embed="rId1"/>
          <a:stretch/>
        </p:blipFill>
        <p:spPr>
          <a:xfrm>
            <a:off x="1752480" y="609480"/>
            <a:ext cx="676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007510131265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0" y="54936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哪怕只有百分之一的希望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们也要付出百分之百的努力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只有扼住命运咽喉的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才能创造生命的奇迹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管遇到怎样的困难，我们都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勇敢面对，成为生活的强者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愿，它能成为你生命中的一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宝贵的财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1905120" y="15429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ccff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隶书"/>
              </a:rPr>
              <a:t>拓展延伸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9933"/>
                  </a:gs>
                  <a:gs pos="50000">
                    <a:srgbClr val="ffccff"/>
                  </a:gs>
                  <a:gs pos="100000">
                    <a:srgbClr val="ff9933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457200" y="22096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观察"/>
          <p:cNvPicPr/>
          <p:nvPr/>
        </p:nvPicPr>
        <p:blipFill>
          <a:blip r:embed="rId1"/>
          <a:stretch/>
        </p:blipFill>
        <p:spPr>
          <a:xfrm>
            <a:off x="685800" y="1238400"/>
            <a:ext cx="100980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380880" y="2819520"/>
            <a:ext cx="54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33520" y="274320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题是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青海高原一株柳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作者为什么又用大量的笔墨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到家乡灞河的柳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liutou1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9506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250920" y="476280"/>
            <a:ext cx="8713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这是一株神奇的柳树</a:t>
            </a:r>
            <a:r>
              <a:rPr b="1" lang="en-US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神奇到令我望而生畏的柳树，它伫立在青海高原上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请问这株柳树神奇在哪里？作者为什么会对它产生望而生畏的感觉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iuto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79280" y="549360"/>
            <a:ext cx="871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这是一株神奇的柳树</a:t>
            </a:r>
            <a:r>
              <a:rPr b="1" lang="en-US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神奇到令我望而生畏的柳树，它伫立在青海高原上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84360" y="458136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找一下这株柳树的生存环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3深邃的蓝天tou1"/>
          <p:cNvPicPr/>
          <p:nvPr/>
        </p:nvPicPr>
        <p:blipFill>
          <a:blip r:embed="rId1"/>
          <a:stretch/>
        </p:blipFill>
        <p:spPr>
          <a:xfrm>
            <a:off x="4284720" y="3141720"/>
            <a:ext cx="4859280" cy="371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21怪石嶙峋寸草不生tou"/>
          <p:cNvPicPr/>
          <p:nvPr/>
        </p:nvPicPr>
        <p:blipFill>
          <a:blip r:embed="rId2"/>
          <a:stretch/>
        </p:blipFill>
        <p:spPr>
          <a:xfrm>
            <a:off x="0" y="3213000"/>
            <a:ext cx="4284720" cy="364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2怪石371321tou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314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1广袤无垠tou"/>
          <p:cNvPicPr/>
          <p:nvPr/>
        </p:nvPicPr>
        <p:blipFill>
          <a:blip r:embed="rId4"/>
          <a:stretch/>
        </p:blipFill>
        <p:spPr>
          <a:xfrm>
            <a:off x="0" y="0"/>
            <a:ext cx="4356000" cy="328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24000" y="404640"/>
            <a:ext cx="84247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青海高原，每走一处，面对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广袤无垠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、青草覆盖的原野，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/>
              </a:rPr>
              <a:t>寸草不生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/>
              </a:rPr>
              <a:t>青石嶙峋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山峰，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/>
              </a:rPr>
              <a:t>深邃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蓝天和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"/>
              </a:rPr>
              <a:t>凝滞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云团，心头便弥漫着古典边塞诗词的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"/>
              </a:rPr>
              <a:t>悲壮和苍凉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7704000" y="6308640"/>
            <a:ext cx="1440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下一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8731839464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95280" y="54936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广袤无垠、青草覆盖的原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1980340530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5759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寸草不生、青石嶙峋的山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2087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凝滞的云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无标题"/>
          <p:cNvPicPr/>
          <p:nvPr/>
        </p:nvPicPr>
        <p:blipFill>
          <a:blip r:embed="rId1"/>
          <a:stretch/>
        </p:blipFill>
        <p:spPr>
          <a:xfrm>
            <a:off x="4211640" y="3500280"/>
            <a:ext cx="4932360" cy="3357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4211640" y="3500280"/>
            <a:ext cx="2087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凝滞的云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55504e19x917a8e79538a&amp;690"/>
          <p:cNvPicPr/>
          <p:nvPr/>
        </p:nvPicPr>
        <p:blipFill>
          <a:blip r:embed="rId2"/>
          <a:stretch/>
        </p:blipFill>
        <p:spPr>
          <a:xfrm>
            <a:off x="0" y="3500280"/>
            <a:ext cx="4211640" cy="3357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0" y="34290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深邃的蓝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1198034053091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3500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140360" y="0"/>
            <a:ext cx="52196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寸草不生、青石嶙峋的山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200873183946454"/>
          <p:cNvPicPr/>
          <p:nvPr/>
        </p:nvPicPr>
        <p:blipFill>
          <a:blip r:embed="rId4"/>
          <a:stretch/>
        </p:blipFill>
        <p:spPr>
          <a:xfrm>
            <a:off x="0" y="0"/>
            <a:ext cx="4211640" cy="3500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0" y="260280"/>
            <a:ext cx="32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广袤无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青草覆盖的原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8:58:37Z</dcterms:created>
  <dc:creator/>
  <dc:description>第一PPT模板网-WWW.1PPT.COM
</dc:description>
  <dc:language>en-US</dc:language>
  <cp:lastModifiedBy>Administrator</cp:lastModifiedBy>
  <dcterms:modified xsi:type="dcterms:W3CDTF">2017-08-17T08:25:14Z</dcterms:modified>
  <cp:revision>74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