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gif" ContentType="image/gif"/>
  <Override PartName="/ppt/media/image21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gif" ContentType="image/gif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12.png" ContentType="image/png"/>
  <Override PartName="/ppt/media/image13.jpeg" ContentType="image/jpeg"/>
  <Override PartName="/ppt/media/image18.gif" ContentType="image/gif"/>
  <Override PartName="/ppt/media/image20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2692-3BCD-430F-9557-DB734AF10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FB58-51D0-4CCE-9C97-A91991A16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183F-30FA-4453-A190-F72C57D73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558D-808E-4336-958D-09B0B0EBC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976A-0AD3-45F8-9C28-6DE920689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E65E-6D0B-4746-8C53-78342BC63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A6A4-FB36-46AA-9EDC-6D8102608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FC6D-E9A3-4654-B550-87FB0BCAF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F9EB-09CA-471E-B3F3-E57A8B32C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B572-CBC2-4816-8ACD-FF5B1927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670E-608A-46FC-867B-B0531E15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838B-4522-4E60-B958-A68B5DCF5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E0039-8227-4CC8-A865-11740EA015F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.png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gi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abe2"/>
            </a:gs>
            <a:gs pos="100000">
              <a:srgbClr val="4c4f6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  <a:ea typeface="黑体"/>
              </a:rPr>
              <a:t>《</a:t>
            </a:r>
            <a:r>
              <a:rPr b="1" lang="zh-CN" sz="4400" spc="-1" strike="noStrike">
                <a:solidFill>
                  <a:srgbClr val="ffff99"/>
                </a:solidFill>
                <a:latin typeface="Times New Roman"/>
                <a:ea typeface="黑体"/>
              </a:rPr>
              <a:t>七根火柴</a:t>
            </a:r>
            <a:r>
              <a:rPr b="1" lang="en-US" sz="4400" spc="-1" strike="noStrike">
                <a:solidFill>
                  <a:srgbClr val="ffff99"/>
                </a:solidFill>
                <a:latin typeface="Times New Roman"/>
                <a:ea typeface="黑体"/>
              </a:rPr>
              <a:t>》</a:t>
            </a:r>
            <a:r>
              <a:rPr b="1" lang="zh-CN" sz="4400" spc="-1" strike="noStrike">
                <a:solidFill>
                  <a:srgbClr val="ffff99"/>
                </a:solidFill>
                <a:latin typeface="Times New Roman"/>
                <a:ea typeface="黑体"/>
              </a:rPr>
              <a:t>说课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图片 2051" descr="E:\工作资料\多媒体资料\说课资料\STRIPE1.GIF"/>
          <p:cNvPicPr/>
          <p:nvPr/>
        </p:nvPicPr>
        <p:blipFill>
          <a:blip r:embed="rId1"/>
          <a:stretch/>
        </p:blipFill>
        <p:spPr>
          <a:xfrm>
            <a:off x="1219320" y="1905120"/>
            <a:ext cx="6858000" cy="11160"/>
          </a:xfrm>
          <a:prstGeom prst="rect">
            <a:avLst/>
          </a:prstGeom>
          <a:ln w="0">
            <a:noFill/>
          </a:ln>
        </p:spPr>
      </p:pic>
      <p:pic>
        <p:nvPicPr>
          <p:cNvPr id="43" name="图片 2052" descr="E:\工作资料\多媒体资料\说课资料\STRIPE1.GIF"/>
          <p:cNvPicPr/>
          <p:nvPr/>
        </p:nvPicPr>
        <p:blipFill>
          <a:blip r:embed="rId2"/>
          <a:stretch/>
        </p:blipFill>
        <p:spPr>
          <a:xfrm>
            <a:off x="1295280" y="4800600"/>
            <a:ext cx="6858000" cy="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第二课时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归纳层次划分、段意及小说主题 </a:t>
            </a:r>
            <a:r>
              <a:rPr b="1" lang="en-US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→</a:t>
            </a:r>
            <a:r>
              <a:rPr b="1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分析本文的写作特色      </a:t>
            </a:r>
            <a:r>
              <a:rPr b="1" lang="en-US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→</a:t>
            </a:r>
            <a:r>
              <a:rPr b="1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仿读训练</a:t>
            </a:r>
            <a:r>
              <a:rPr b="1" lang="en-US" sz="32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阅读课外短篇小说</a:t>
            </a:r>
            <a:r>
              <a:rPr b="1" lang="en-US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丰碑</a:t>
            </a:r>
            <a:r>
              <a:rPr b="1" lang="en-US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》 →</a:t>
            </a:r>
            <a:r>
              <a:rPr b="1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小结全文 </a:t>
            </a:r>
            <a:r>
              <a:rPr b="1" lang="en-US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→</a:t>
            </a:r>
            <a:r>
              <a:rPr b="1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布置作业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图片 14339" descr="E:\工作资料\多媒体资料\说课资料\E_040.GIF"/>
          <p:cNvPicPr/>
          <p:nvPr/>
        </p:nvPicPr>
        <p:blipFill>
          <a:blip r:embed="rId2"/>
          <a:stretch/>
        </p:blipFill>
        <p:spPr>
          <a:xfrm>
            <a:off x="5181480" y="236232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82" name="图片 14341" descr="E:\工作资料\多媒体资料\说课资料\Ar_004.gif"/>
          <p:cNvPicPr/>
          <p:nvPr/>
        </p:nvPicPr>
        <p:blipFill>
          <a:blip r:embed="rId3"/>
          <a:stretch/>
        </p:blipFill>
        <p:spPr>
          <a:xfrm>
            <a:off x="7391520" y="5486400"/>
            <a:ext cx="46836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分析本文的写作特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有一条清晰的“物”线，即“七根火柴”贯穿全文情节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②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体现了“以小见大”的写作手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③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自然环境的描写起到了很好的烘托作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④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几个典型比喻句的贴切使用，为文章增色不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⑤“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卢进勇”这个人物起到穿针引线推动情节发展和烘托主人公的作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⑥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作者故意不交待主人公的名字，正是作者的匠心所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图片 15363" descr="E:\工作资料\多媒体资料\说课资料\Ar_004.gif"/>
          <p:cNvPicPr/>
          <p:nvPr/>
        </p:nvPicPr>
        <p:blipFill>
          <a:blip r:embed="rId2"/>
          <a:stretch/>
        </p:blipFill>
        <p:spPr>
          <a:xfrm>
            <a:off x="7696080" y="5715000"/>
            <a:ext cx="468360" cy="549360"/>
          </a:xfrm>
          <a:prstGeom prst="rect">
            <a:avLst/>
          </a:prstGeom>
          <a:ln w="0">
            <a:noFill/>
          </a:ln>
        </p:spPr>
      </p:pic>
      <p:pic>
        <p:nvPicPr>
          <p:cNvPr id="86" name="图片 15365" descr="E:\工作资料\多媒体资料\说课资料\STRIPE1.GIF"/>
          <p:cNvPicPr/>
          <p:nvPr/>
        </p:nvPicPr>
        <p:blipFill>
          <a:blip r:embed="rId3"/>
          <a:stretch/>
        </p:blipFill>
        <p:spPr>
          <a:xfrm>
            <a:off x="1219320" y="1523880"/>
            <a:ext cx="6858000" cy="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讨论思考题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①</a:t>
            </a:r>
            <a:r>
              <a:rPr b="1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本文的主人公是谁？为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②</a:t>
            </a:r>
            <a:r>
              <a:rPr b="1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读完本文最让你感动的人是谁？为什么？这个人物最让你感动的地方是课文中哪些段落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图片 13315" descr="E:\工作资料\多媒体资料\说课资料\Ar_004.gif"/>
          <p:cNvPicPr/>
          <p:nvPr/>
        </p:nvPicPr>
        <p:blipFill>
          <a:blip r:embed="rId2"/>
          <a:stretch/>
        </p:blipFill>
        <p:spPr>
          <a:xfrm>
            <a:off x="7467480" y="5486400"/>
            <a:ext cx="46836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16391" descr="D:\WIN98ZB\Application Data\Microsoft\Media Catalog\Bj_053.jpg"/>
          <p:cNvPicPr/>
          <p:nvPr/>
        </p:nvPicPr>
        <p:blipFill>
          <a:blip r:embed="rId1"/>
          <a:stretch/>
        </p:blipFill>
        <p:spPr>
          <a:xfrm>
            <a:off x="1752480" y="3657600"/>
            <a:ext cx="6324840" cy="3200400"/>
          </a:xfrm>
          <a:prstGeom prst="rect">
            <a:avLst/>
          </a:prstGeom>
          <a:ln w="0">
            <a:noFill/>
          </a:ln>
        </p:spPr>
      </p:pic>
      <p:pic>
        <p:nvPicPr>
          <p:cNvPr id="91" name="图片 16390" descr="H:\课件图片素材\背景素材\BJ_049.JPG"/>
          <p:cNvPicPr/>
          <p:nvPr/>
        </p:nvPicPr>
        <p:blipFill>
          <a:blip r:embed="rId2"/>
          <a:stretch/>
        </p:blipFill>
        <p:spPr>
          <a:xfrm>
            <a:off x="228600" y="304920"/>
            <a:ext cx="3733920" cy="2489040"/>
          </a:xfrm>
          <a:prstGeom prst="rect">
            <a:avLst/>
          </a:prstGeom>
          <a:ln w="0">
            <a:noFill/>
          </a:ln>
        </p:spPr>
      </p:pic>
      <p:pic>
        <p:nvPicPr>
          <p:cNvPr id="92" name="图片 16389" descr="E:\工作资料\多媒体资料\说课资料\钟.gif"/>
          <p:cNvPicPr/>
          <p:nvPr/>
        </p:nvPicPr>
        <p:blipFill>
          <a:blip r:embed="rId3"/>
          <a:stretch/>
        </p:blipFill>
        <p:spPr>
          <a:xfrm>
            <a:off x="6019920" y="838080"/>
            <a:ext cx="2193840" cy="12574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五、教学预期效果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希望学生通过学习这篇课文，能理解、掌握并学习运用本文几种明显的写作手法，如以小见大揭示主题的手法、以环境描写衬托人物和情节的手法等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图片 16387" descr="E:\工作资料\多媒体资料\说课资料\Ar_004.gif"/>
          <p:cNvPicPr/>
          <p:nvPr/>
        </p:nvPicPr>
        <p:blipFill>
          <a:blip r:embed="rId4"/>
          <a:stretch/>
        </p:blipFill>
        <p:spPr>
          <a:xfrm>
            <a:off x="7543800" y="5486400"/>
            <a:ext cx="46836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六、板书设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一、开端：对火柴的渴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环境描写）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七根火柴（线索）  二、发展、高潮：献火柴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感人情景。（肖像、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作、语言描写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 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三、结尾：火柴发挥了作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无名战士：对革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无限忠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小                  见                     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直接连接符 17411"/>
          <p:cNvSpPr/>
          <p:nvPr/>
        </p:nvSpPr>
        <p:spPr>
          <a:xfrm>
            <a:off x="1828800" y="3200400"/>
            <a:ext cx="0" cy="2286000"/>
          </a:xfrm>
          <a:prstGeom prst="line">
            <a:avLst/>
          </a:prstGeom>
          <a:ln cap="sq" w="12600">
            <a:solidFill>
              <a:srgbClr val="ffffff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直接连接符 17412"/>
          <p:cNvSpPr/>
          <p:nvPr/>
        </p:nvSpPr>
        <p:spPr>
          <a:xfrm>
            <a:off x="2057400" y="5791320"/>
            <a:ext cx="1523880" cy="0"/>
          </a:xfrm>
          <a:prstGeom prst="line">
            <a:avLst/>
          </a:prstGeom>
          <a:ln cap="sq" w="12600">
            <a:solidFill>
              <a:srgbClr val="ffffff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直接连接符 17413"/>
          <p:cNvSpPr/>
          <p:nvPr/>
        </p:nvSpPr>
        <p:spPr>
          <a:xfrm>
            <a:off x="4038480" y="5791320"/>
            <a:ext cx="1676520" cy="0"/>
          </a:xfrm>
          <a:prstGeom prst="line">
            <a:avLst/>
          </a:prstGeom>
          <a:ln cap="sq" w="12600">
            <a:solidFill>
              <a:srgbClr val="ffffff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直接连接符 17414"/>
          <p:cNvSpPr/>
          <p:nvPr/>
        </p:nvSpPr>
        <p:spPr>
          <a:xfrm flipV="1">
            <a:off x="6553080" y="5409720"/>
            <a:ext cx="0" cy="381240"/>
          </a:xfrm>
          <a:prstGeom prst="line">
            <a:avLst/>
          </a:prstGeom>
          <a:ln cap="sq" w="12600">
            <a:solidFill>
              <a:srgbClr val="ffffff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直接连接符 17415"/>
          <p:cNvSpPr/>
          <p:nvPr/>
        </p:nvSpPr>
        <p:spPr>
          <a:xfrm>
            <a:off x="6248520" y="5791320"/>
            <a:ext cx="304560" cy="0"/>
          </a:xfrm>
          <a:prstGeom prst="line">
            <a:avLst/>
          </a:prstGeom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左大括号 17416"/>
          <p:cNvSpPr/>
          <p:nvPr/>
        </p:nvSpPr>
        <p:spPr>
          <a:xfrm>
            <a:off x="3505320" y="2057400"/>
            <a:ext cx="152280" cy="2209680"/>
          </a:xfrm>
          <a:custGeom>
            <a:avLst/>
            <a:gdLst>
              <a:gd name="textAreaLeft" fmla="*/ 97200 w 152280"/>
              <a:gd name="textAreaRight" fmla="*/ 152640 w 15228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2856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谢  谢  ！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图片 19462" descr="E:\工作资料\多媒体资料\说课资料\reng4.gif"/>
          <p:cNvPicPr/>
          <p:nvPr/>
        </p:nvPicPr>
        <p:blipFill>
          <a:blip r:embed="rId2"/>
          <a:stretch/>
        </p:blipFill>
        <p:spPr>
          <a:xfrm>
            <a:off x="1219320" y="7621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19463" descr="E:\工作资料\多媒体资料\说课资料\E_049.GIF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7696080" y="5867280"/>
            <a:ext cx="365400" cy="3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8195" descr="D:\WIN98ZB\Application Data\Microsoft\Media Catalog\Bj_023.jpg"/>
          <p:cNvPicPr/>
          <p:nvPr/>
        </p:nvPicPr>
        <p:blipFill>
          <a:blip r:embed="rId1"/>
          <a:stretch/>
        </p:blipFill>
        <p:spPr>
          <a:xfrm>
            <a:off x="2666880" y="2286000"/>
            <a:ext cx="6858000" cy="4572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说课内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一、关于教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二、教学方法及教学手段的运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三、学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四、教学程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五、教学预期效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六、板书设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图片 8196" descr="E:\工作资料\多媒体资料\说课资料\Ar_104.gif"/>
          <p:cNvPicPr/>
          <p:nvPr/>
        </p:nvPicPr>
        <p:blipFill>
          <a:blip r:embed="rId2"/>
          <a:stretch/>
        </p:blipFill>
        <p:spPr>
          <a:xfrm>
            <a:off x="3124080" y="3200400"/>
            <a:ext cx="514440" cy="514440"/>
          </a:xfrm>
          <a:prstGeom prst="rect">
            <a:avLst/>
          </a:prstGeom>
          <a:ln w="0">
            <a:noFill/>
          </a:ln>
        </p:spPr>
      </p:pic>
      <p:pic>
        <p:nvPicPr>
          <p:cNvPr id="48" name="图片 8197" descr="E:\工作资料\多媒体资料\说课资料\Ar_104.gif"/>
          <p:cNvPicPr/>
          <p:nvPr/>
        </p:nvPicPr>
        <p:blipFill>
          <a:blip r:embed="rId3"/>
          <a:stretch/>
        </p:blipFill>
        <p:spPr>
          <a:xfrm>
            <a:off x="7162920" y="2590920"/>
            <a:ext cx="514080" cy="514080"/>
          </a:xfrm>
          <a:prstGeom prst="rect">
            <a:avLst/>
          </a:prstGeom>
          <a:ln w="0">
            <a:noFill/>
          </a:ln>
        </p:spPr>
      </p:pic>
      <p:pic>
        <p:nvPicPr>
          <p:cNvPr id="49" name="图片 8198" descr="E:\工作资料\多媒体资料\说课资料\Ar_104.gif"/>
          <p:cNvPicPr/>
          <p:nvPr/>
        </p:nvPicPr>
        <p:blipFill>
          <a:blip r:embed="rId4"/>
          <a:stretch/>
        </p:blipFill>
        <p:spPr>
          <a:xfrm>
            <a:off x="3962520" y="2057400"/>
            <a:ext cx="514080" cy="514440"/>
          </a:xfrm>
          <a:prstGeom prst="rect">
            <a:avLst/>
          </a:prstGeom>
          <a:ln w="0">
            <a:noFill/>
          </a:ln>
        </p:spPr>
      </p:pic>
      <p:pic>
        <p:nvPicPr>
          <p:cNvPr id="50" name="图片 8199" descr="E:\工作资料\多媒体资料\说课资料\Ar_104.gif"/>
          <p:cNvPicPr/>
          <p:nvPr/>
        </p:nvPicPr>
        <p:blipFill>
          <a:blip r:embed="rId5"/>
          <a:stretch/>
        </p:blipFill>
        <p:spPr>
          <a:xfrm>
            <a:off x="3886200" y="3809880"/>
            <a:ext cx="514440" cy="514440"/>
          </a:xfrm>
          <a:prstGeom prst="rect">
            <a:avLst/>
          </a:prstGeom>
          <a:ln w="0">
            <a:noFill/>
          </a:ln>
        </p:spPr>
      </p:pic>
      <p:pic>
        <p:nvPicPr>
          <p:cNvPr id="51" name="图片 8200" descr="E:\工作资料\多媒体资料\说课资料\Ar_104.gif"/>
          <p:cNvPicPr/>
          <p:nvPr/>
        </p:nvPicPr>
        <p:blipFill>
          <a:blip r:embed="rId6"/>
          <a:stretch/>
        </p:blipFill>
        <p:spPr>
          <a:xfrm>
            <a:off x="4648320" y="4343400"/>
            <a:ext cx="514080" cy="514440"/>
          </a:xfrm>
          <a:prstGeom prst="rect">
            <a:avLst/>
          </a:prstGeom>
          <a:ln w="0">
            <a:noFill/>
          </a:ln>
        </p:spPr>
      </p:pic>
      <p:pic>
        <p:nvPicPr>
          <p:cNvPr id="52" name="图片 8201" descr="E:\工作资料\多媒体资料\说课资料\Ar_104.gif"/>
          <p:cNvPicPr/>
          <p:nvPr/>
        </p:nvPicPr>
        <p:blipFill>
          <a:blip r:embed="rId7"/>
          <a:stretch/>
        </p:blipFill>
        <p:spPr>
          <a:xfrm>
            <a:off x="3886200" y="4952880"/>
            <a:ext cx="51444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一、关于教材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、教材在本单元所处的位置及其特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、教学目标 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、教学的重点和难点 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、教材处理 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图片 9219" descr="E:\工作资料\多媒体资料\说课资料\Ar_004.gif"/>
          <p:cNvPicPr/>
          <p:nvPr/>
        </p:nvPicPr>
        <p:blipFill>
          <a:blip r:embed="rId2"/>
          <a:stretch/>
        </p:blipFill>
        <p:spPr>
          <a:xfrm>
            <a:off x="7391520" y="5486400"/>
            <a:ext cx="468360" cy="549360"/>
          </a:xfrm>
          <a:prstGeom prst="rect">
            <a:avLst/>
          </a:prstGeom>
          <a:ln w="0">
            <a:noFill/>
          </a:ln>
        </p:spPr>
      </p:pic>
      <p:pic>
        <p:nvPicPr>
          <p:cNvPr id="56" name="图片 9220" descr="E:\工作资料\多媒体资料\说课资料\Ar_104.gif"/>
          <p:cNvPicPr/>
          <p:nvPr/>
        </p:nvPicPr>
        <p:blipFill>
          <a:blip r:embed="rId3"/>
          <a:stretch/>
        </p:blipFill>
        <p:spPr>
          <a:xfrm>
            <a:off x="3962520" y="2514600"/>
            <a:ext cx="514080" cy="514440"/>
          </a:xfrm>
          <a:prstGeom prst="rect">
            <a:avLst/>
          </a:prstGeom>
          <a:ln w="0">
            <a:noFill/>
          </a:ln>
        </p:spPr>
      </p:pic>
      <p:pic>
        <p:nvPicPr>
          <p:cNvPr id="57" name="图片 9221" descr="E:\工作资料\多媒体资料\说课资料\Ar_104.gif"/>
          <p:cNvPicPr/>
          <p:nvPr/>
        </p:nvPicPr>
        <p:blipFill>
          <a:blip r:embed="rId4"/>
          <a:stretch/>
        </p:blipFill>
        <p:spPr>
          <a:xfrm>
            <a:off x="3962520" y="3733920"/>
            <a:ext cx="514080" cy="514080"/>
          </a:xfrm>
          <a:prstGeom prst="rect">
            <a:avLst/>
          </a:prstGeom>
          <a:ln w="0">
            <a:noFill/>
          </a:ln>
        </p:spPr>
      </p:pic>
      <p:pic>
        <p:nvPicPr>
          <p:cNvPr id="58" name="图片 9222" descr="E:\工作资料\多媒体资料\说课资料\Ar_104.gif"/>
          <p:cNvPicPr/>
          <p:nvPr/>
        </p:nvPicPr>
        <p:blipFill>
          <a:blip r:embed="rId5"/>
          <a:stretch/>
        </p:blipFill>
        <p:spPr>
          <a:xfrm>
            <a:off x="5181480" y="3124080"/>
            <a:ext cx="51444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教学的重点和难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⑴</a:t>
            </a:r>
            <a:r>
              <a:rPr b="1" lang="zh-CN" sz="36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重点：理解写作手法方面的特点，并仿读课外小说；进行人物描写片断的仿写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⑵</a:t>
            </a:r>
            <a:r>
              <a:rPr b="1" lang="zh-CN" sz="36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难点：理解好“卢进勇这个人物的作用”和“主人公为什么是无名氏”两个问题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图片 25603" descr="E:\工作资料\多媒体资料\说课资料\Ar_004.gif"/>
          <p:cNvPicPr/>
          <p:nvPr/>
        </p:nvPicPr>
        <p:blipFill>
          <a:blip r:embed="rId2"/>
          <a:stretch/>
        </p:blipFill>
        <p:spPr>
          <a:xfrm>
            <a:off x="7620120" y="5791320"/>
            <a:ext cx="46836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09480" y="380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⑴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思想教育目标：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学习红军战士无限忠于革命事业，不惜献出自己的一切，甚至生命的崇高思想品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⑵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知识传授目标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①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字词积累：瘸、翕、漉、擎、贮、蓦、篝；吝惜、庆幸、蹒跚、酸涩、呆滞、惶惑、依偎、月朗星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②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阅读理解：主人公是谁？卢进勇这个人物的作用？主人公为什么是无名的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③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写作手法的认知理解：以“物”为线索安排情节；以小见大表现主题；烘托手法的运用；比喻修辞的使用及作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⑶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能力训练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①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概括能力：列出简明提纲并复述故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②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知识迁移能力：阅读写法上相类似的一篇课外小说，进行仿读训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③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仿写能力：要求以动作描写为主，辅以语言描写，进行人物片断描写；仿写比喻句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图片 23555" descr="E:\工作资料\多媒体资料\说课资料\Ar_004.gif"/>
          <p:cNvPicPr/>
          <p:nvPr/>
        </p:nvPicPr>
        <p:blipFill>
          <a:blip r:embed="rId2"/>
          <a:stretch/>
        </p:blipFill>
        <p:spPr>
          <a:xfrm>
            <a:off x="7696080" y="6019920"/>
            <a:ext cx="46836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教材处理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imes New Roman"/>
              </a:rPr>
              <a:t>⑴</a:t>
            </a:r>
            <a:r>
              <a:rPr b="0" lang="zh-CN" sz="2800" spc="-1" strike="noStrike">
                <a:solidFill>
                  <a:srgbClr val="ff33cc"/>
                </a:solidFill>
                <a:latin typeface="Times New Roman"/>
              </a:rPr>
              <a:t>课时安排：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两课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imes New Roman"/>
              </a:rPr>
              <a:t>⑵</a:t>
            </a:r>
            <a:r>
              <a:rPr b="0" lang="zh-CN" sz="2800" spc="-1" strike="noStrike">
                <a:solidFill>
                  <a:srgbClr val="ff33cc"/>
                </a:solidFill>
                <a:latin typeface="Times New Roman"/>
              </a:rPr>
              <a:t>教学设想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生字词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——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学生预习时解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分段，归纳段意、主题思想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——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略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分析人物形象及其描写方法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                                                 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重点组织教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                            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比较阅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右大括号 24579"/>
          <p:cNvSpPr/>
          <p:nvPr/>
        </p:nvSpPr>
        <p:spPr>
          <a:xfrm>
            <a:off x="5257800" y="4038480"/>
            <a:ext cx="228600" cy="1067040"/>
          </a:xfrm>
          <a:custGeom>
            <a:avLst/>
            <a:gdLst>
              <a:gd name="textAreaLeft" fmla="*/ 0 w 228600"/>
              <a:gd name="textAreaRight" fmla="*/ 8244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cap="sq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图片 24580" descr="E:\工作资料\多媒体资料\说课资料\Ar_004.gif"/>
          <p:cNvPicPr/>
          <p:nvPr/>
        </p:nvPicPr>
        <p:blipFill>
          <a:blip r:embed="rId2"/>
          <a:stretch/>
        </p:blipFill>
        <p:spPr>
          <a:xfrm>
            <a:off x="7543800" y="5715000"/>
            <a:ext cx="46836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二、教学方法及教学手段的运用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①</a:t>
            </a:r>
            <a:r>
              <a:rPr b="0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提问法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——</a:t>
            </a:r>
            <a:r>
              <a:rPr b="0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逐步引导，逐渐深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②</a:t>
            </a:r>
            <a:r>
              <a:rPr b="0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讨论法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——</a:t>
            </a:r>
            <a:r>
              <a:rPr b="0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积极参与，总结规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③</a:t>
            </a:r>
            <a:r>
              <a:rPr b="0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比较法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——</a:t>
            </a:r>
            <a:r>
              <a:rPr b="0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抓住特色，求同化异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④</a:t>
            </a:r>
            <a:r>
              <a:rPr b="0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练习法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——</a:t>
            </a:r>
            <a:r>
              <a:rPr b="0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学生实践，巩固提高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录音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投影机       直观性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油印资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右大括号 10243"/>
          <p:cNvSpPr/>
          <p:nvPr/>
        </p:nvSpPr>
        <p:spPr>
          <a:xfrm>
            <a:off x="2971800" y="4495680"/>
            <a:ext cx="228600" cy="1371600"/>
          </a:xfrm>
          <a:custGeom>
            <a:avLst/>
            <a:gdLst>
              <a:gd name="textAreaLeft" fmla="*/ 0 w 228600"/>
              <a:gd name="textAreaRight" fmla="*/ 8244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1260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图片 10244" descr="E:\工作资料\多媒体资料\说课资料\Ar_004.gif"/>
          <p:cNvPicPr/>
          <p:nvPr/>
        </p:nvPicPr>
        <p:blipFill>
          <a:blip r:embed="rId2"/>
          <a:stretch/>
        </p:blipFill>
        <p:spPr>
          <a:xfrm>
            <a:off x="7391520" y="5486400"/>
            <a:ext cx="46836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图片 11269" descr="C:\My Documents\凌霄花.JPG"/>
          <p:cNvPicPr/>
          <p:nvPr/>
        </p:nvPicPr>
        <p:blipFill>
          <a:blip r:embed="rId1"/>
          <a:stretch/>
        </p:blipFill>
        <p:spPr>
          <a:xfrm>
            <a:off x="762120" y="609480"/>
            <a:ext cx="7619760" cy="56390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三、学法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反刍式教学法” 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     “</a:t>
            </a:r>
            <a:r>
              <a:rPr b="1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仿读</a:t>
            </a:r>
            <a:r>
              <a:rPr b="1" lang="en-US" sz="32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自读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                </a:t>
            </a:r>
            <a:r>
              <a:rPr b="1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举一反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系统论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     “</a:t>
            </a:r>
            <a:r>
              <a:rPr b="1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整体大于部分之和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                </a:t>
            </a:r>
            <a:r>
              <a:rPr b="1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整体效应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图片 11268" descr="E:\工作资料\多媒体资料\说课资料\读书郎.gif"/>
          <p:cNvPicPr/>
          <p:nvPr/>
        </p:nvPicPr>
        <p:blipFill>
          <a:blip r:embed="rId2"/>
          <a:stretch/>
        </p:blipFill>
        <p:spPr>
          <a:xfrm>
            <a:off x="7543800" y="510552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四、教学程序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第一课时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导入新课 </a:t>
            </a:r>
            <a:r>
              <a:rPr b="1" lang="en-US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→</a:t>
            </a:r>
            <a:r>
              <a:rPr b="1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读字解词，检查预习 </a:t>
            </a:r>
            <a:r>
              <a:rPr b="1" lang="en-US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→</a:t>
            </a:r>
            <a:r>
              <a:rPr b="1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听课文朗读录音 </a:t>
            </a:r>
            <a:r>
              <a:rPr b="1" lang="en-US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→</a:t>
            </a:r>
            <a:r>
              <a:rPr b="1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快速阅读课文 </a:t>
            </a:r>
            <a:r>
              <a:rPr b="1" lang="en-US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→</a:t>
            </a:r>
            <a:r>
              <a:rPr b="1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讨论、编写故事提纲，并复述故事</a:t>
            </a:r>
            <a:r>
              <a:rPr b="1" lang="en-US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→</a:t>
            </a:r>
            <a:r>
              <a:rPr b="1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讨论思考题      </a:t>
            </a:r>
            <a:r>
              <a:rPr b="1" lang="en-US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→</a:t>
            </a:r>
            <a:r>
              <a:rPr b="1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重点研读</a:t>
            </a:r>
            <a:r>
              <a:rPr b="1" lang="en-US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14</a:t>
            </a:r>
            <a:r>
              <a:rPr b="1" lang="en-US" sz="32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—</a:t>
            </a:r>
            <a:r>
              <a:rPr b="1" lang="en-US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21</a:t>
            </a:r>
            <a:r>
              <a:rPr b="1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自然段 </a:t>
            </a:r>
            <a:r>
              <a:rPr b="1" lang="en-US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→</a:t>
            </a:r>
            <a:r>
              <a:rPr b="1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仿写练习</a:t>
            </a:r>
            <a:r>
              <a:rPr b="1" lang="en-US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→</a:t>
            </a:r>
            <a:r>
              <a:rPr b="1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布置作业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图片 12291" descr="E:\工作资料\多媒体资料\说课资料\E_040.GIF"/>
          <p:cNvPicPr/>
          <p:nvPr/>
        </p:nvPicPr>
        <p:blipFill>
          <a:blip r:embed="rId2"/>
          <a:stretch/>
        </p:blipFill>
        <p:spPr>
          <a:xfrm>
            <a:off x="2743200" y="41148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79" name="图片 12294" descr="E:\工作资料\多媒体资料\说课资料\Ar_001.gif"/>
          <p:cNvPicPr/>
          <p:nvPr/>
        </p:nvPicPr>
        <p:blipFill>
          <a:blip r:embed="rId3"/>
          <a:stretch/>
        </p:blipFill>
        <p:spPr>
          <a:xfrm>
            <a:off x="7543800" y="5486400"/>
            <a:ext cx="46836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3T06:53:31Z</dcterms:created>
  <dc:creator>2222a</dc:creator>
  <dc:description/>
  <dc:language>en-US</dc:language>
  <cp:lastModifiedBy>admin</cp:lastModifiedBy>
  <dcterms:modified xsi:type="dcterms:W3CDTF">2019-04-24T08:59:51Z</dcterms:modified>
  <cp:revision>10</cp:revision>
  <dc:subject/>
  <dc:title>《七根火柴》说课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612</vt:lpwstr>
  </property>
</Properties>
</file>