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878-E914-49C7-A492-7EFADC17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32F-C716-428F-B50C-3FE76BC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6AF-A748-4B73-AE05-1348681D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F44-7A8F-4A18-9920-533D6323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CF2-1801-4914-9200-A1D5BF8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222-6C4C-466F-ADF0-C336513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2F5-2CD9-4398-A1CC-D238EEF8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990-4253-44A8-9CCF-479ED948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AD7-9019-43E3-8535-946EA80D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4F2-3644-4BF9-A9FC-39511CC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47C-5651-48D3-83D2-DD7795B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5C7-8C19-4412-B728-9BEF9DC1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20A9-EE4A-4E29-8170-008BDE013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177155"/>
          <p:cNvSpPr/>
          <p:nvPr/>
        </p:nvSpPr>
        <p:spPr>
          <a:xfrm>
            <a:off x="3174840" y="1295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钦  差 大 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文本占位符 178179" descr="D:\云课件\钦差大臣\2.JPG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文本占位符 180227" descr="D:\云课件\钦差大臣\IT.JPG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文本占位符 179203" descr="D:\云课件\钦差大臣\3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4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文本占位符 181251" descr="D:\云课件\钦差大臣\GU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文本占位符 182275" descr="D:\云课件\钦差大臣\4.JPG"/>
          <p:cNvPicPr/>
          <p:nvPr/>
        </p:nvPicPr>
        <p:blipFill>
          <a:blip r:embed="rId1"/>
          <a:stretch/>
        </p:blipFill>
        <p:spPr>
          <a:xfrm>
            <a:off x="2362320" y="0"/>
            <a:ext cx="43750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76129"/>
          <p:cNvSpPr/>
          <p:nvPr/>
        </p:nvSpPr>
        <p:spPr>
          <a:xfrm>
            <a:off x="3177720" y="100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钦  差 大 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176130"/>
          <p:cNvSpPr/>
          <p:nvPr/>
        </p:nvSpPr>
        <p:spPr>
          <a:xfrm>
            <a:off x="97488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176131"/>
          <p:cNvSpPr/>
          <p:nvPr/>
        </p:nvSpPr>
        <p:spPr>
          <a:xfrm>
            <a:off x="3058560" y="709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说你所知道的钦差大臣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76132"/>
          <p:cNvSpPr/>
          <p:nvPr/>
        </p:nvSpPr>
        <p:spPr>
          <a:xfrm>
            <a:off x="382680" y="1316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76133"/>
          <p:cNvSpPr/>
          <p:nvPr/>
        </p:nvSpPr>
        <p:spPr>
          <a:xfrm>
            <a:off x="460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76134"/>
          <p:cNvSpPr/>
          <p:nvPr/>
        </p:nvSpPr>
        <p:spPr>
          <a:xfrm>
            <a:off x="136440" y="2171880"/>
            <a:ext cx="89614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图片 176135" descr="http://cmr.myrice.com/mjjy/51203.jpg"/>
          <p:cNvPicPr/>
          <p:nvPr/>
        </p:nvPicPr>
        <p:blipFill>
          <a:blip r:embed="rId2"/>
          <a:stretch/>
        </p:blipFill>
        <p:spPr>
          <a:xfrm>
            <a:off x="0" y="1523880"/>
            <a:ext cx="2138400" cy="31244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76136"/>
          <p:cNvSpPr/>
          <p:nvPr/>
        </p:nvSpPr>
        <p:spPr>
          <a:xfrm>
            <a:off x="3488400" y="1600200"/>
            <a:ext cx="4478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戈里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俄国批判现实主义文学奠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之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生于乌克兰一个中等地主家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中学毕业后，在十二月党人运动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下，抱着“为人类服务”的美好愿望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彼得堡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当上一个小官吏，薪俸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薄，生活艰苦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初，他辞去职务，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门从事写作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间，是果戈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176137"/>
          <p:cNvSpPr/>
          <p:nvPr/>
        </p:nvSpPr>
        <p:spPr>
          <a:xfrm>
            <a:off x="1757520" y="4626000"/>
            <a:ext cx="543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作旺盛时期，有中短篇小说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狄康卡近乡夜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尔格拉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彼得堡故事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篇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外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狂人日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。其重大代表作喜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钦差大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长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死魂灵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部等，但他后期脱离了祖国进步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界的影响，在创作上产生腐朽没落的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76138"/>
          <p:cNvSpPr/>
          <p:nvPr/>
        </p:nvSpPr>
        <p:spPr>
          <a:xfrm>
            <a:off x="5521680" y="114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钦差：皇帝派遣外出办理重大事件的官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68961"/>
          <p:cNvSpPr/>
          <p:nvPr/>
        </p:nvSpPr>
        <p:spPr>
          <a:xfrm>
            <a:off x="1180080" y="2509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作小故事及时代背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68962"/>
          <p:cNvSpPr/>
          <p:nvPr/>
        </p:nvSpPr>
        <p:spPr>
          <a:xfrm>
            <a:off x="2051640" y="685800"/>
            <a:ext cx="5529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835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秋天，果戈里去拜访普希金。两人谈了一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文学创作上的问题。接着，普希金讲了一个笑话，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他亲身经历的事。他说：“两年前，我到喀山一带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集材料，准备写一部关于普加乔夫的历史著作。路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奥伦堡附近的一个小县城时，那里的县长听说我是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得堡去的，把我当作皇上派去的‘钦差大臣’，拼命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承巴结我，还向我行贿。想象一下当时他们的丑态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我一再声明自己不是什么‘钦差大臣’，等他们弄清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真相，对我的态度立刻不同了，象变成另外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似的。”“竟然会有这种事！真可笑。” “是啊，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的事也许在我们专制的俄国不知发生了多少次。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起来，这真是个喜剧素材呢！” “对呀！我马上回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写个剧本，把这种丑恶的事写进去，把官场中的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态统统揭露出来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69985"/>
          <p:cNvSpPr/>
          <p:nvPr/>
        </p:nvSpPr>
        <p:spPr>
          <a:xfrm>
            <a:off x="1637280" y="228600"/>
            <a:ext cx="58086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835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底，果戈理根据普希金提供的素材，写成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五幕讽刺喜剧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钦差大臣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836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年初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彼得堡大剧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正上演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钦差大臣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，这是个讽刺喜剧，剧本写得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彩极了，演员的表演也非常出色，观众完全被征服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不时爆发一阵阵欢快的笑声和热烈的掌声。 这时，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一个豪华包厢里站起来一个人，他是沙皇尼古拉一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只听他恨恨地对身边的王公大臣说：“这叫什么戏！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感到它在用鞭子抽打我们的脸，其中把我抽打得最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害。”说罢，他出了包厢，气呼呼地回到了宫中。贵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大臣们早就感到不痛快了，戏好象专门讽刺他们似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沙皇走了，他们一个个都溜掉了。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钦差大臣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艺术形象全面批判了俄国社会中的丑恶，所以才遭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沙皇的痛恨。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 他们写文章恶毒攻击作者，还威胁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把果戈理流放到西伯利亚。果戈理不得不离开俄国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逃亡到意大利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71009" descr="http://www.pep.com.cn/images/200304/pic_19394.jpg"/>
          <p:cNvPicPr/>
          <p:nvPr/>
        </p:nvPicPr>
        <p:blipFill>
          <a:blip r:embed="rId1"/>
          <a:stretch/>
        </p:blipFill>
        <p:spPr>
          <a:xfrm>
            <a:off x="0" y="0"/>
            <a:ext cx="520848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71010"/>
          <p:cNvSpPr/>
          <p:nvPr/>
        </p:nvSpPr>
        <p:spPr>
          <a:xfrm>
            <a:off x="0" y="4495680"/>
            <a:ext cx="518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71011"/>
          <p:cNvSpPr/>
          <p:nvPr/>
        </p:nvSpPr>
        <p:spPr>
          <a:xfrm>
            <a:off x="750240" y="19692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71012"/>
          <p:cNvSpPr/>
          <p:nvPr/>
        </p:nvSpPr>
        <p:spPr>
          <a:xfrm>
            <a:off x="6092640" y="0"/>
            <a:ext cx="2527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剧情简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市长召集手下开会，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钦差大臣要来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于是这些人个个心惊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战，因为他们平时作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多端，唯恐被戳穿后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到处罚。这时，有个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得堡的小官吏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</a:rPr>
              <a:t>赫列斯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Unicode MS"/>
              </a:rPr>
              <a:t>可夫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路过小县城。官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们以为他就是钦差大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71013"/>
          <p:cNvSpPr/>
          <p:nvPr/>
        </p:nvSpPr>
        <p:spPr>
          <a:xfrm>
            <a:off x="1091880" y="30492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国舞台上演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钦差大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71014"/>
          <p:cNvSpPr/>
          <p:nvPr/>
        </p:nvSpPr>
        <p:spPr>
          <a:xfrm>
            <a:off x="1686240" y="4267080"/>
            <a:ext cx="5301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争先恐后地奉迎巴结。县长把他请进家里，甚至把女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许配给他。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</a:rPr>
              <a:t>赫列斯达可夫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当初莫名其妙，后来索性假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真唱，官吏们排着队向他行贿。</a:t>
            </a:r>
            <a:r>
              <a:rPr b="1" lang="zh-CN" sz="2800" spc="-1" strike="noStrike">
                <a:solidFill>
                  <a:srgbClr val="ff3300"/>
                </a:solidFill>
                <a:latin typeface="Arial Unicode MS"/>
              </a:rPr>
              <a:t>赫列斯达可夫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捞了一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钱之后偷偷溜了，县长明白自己上了当，正要派人追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 Unicode MS"/>
              </a:rPr>
              <a:t>赫列斯达可夫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，这时真正的钦差大臣到了。官僚们听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这个消息面面相觑，个个呆若木鸡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72033"/>
          <p:cNvSpPr/>
          <p:nvPr/>
        </p:nvSpPr>
        <p:spPr>
          <a:xfrm>
            <a:off x="657360" y="304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注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72034"/>
          <p:cNvSpPr/>
          <p:nvPr/>
        </p:nvSpPr>
        <p:spPr>
          <a:xfrm>
            <a:off x="946080" y="914400"/>
            <a:ext cx="63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钦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72035"/>
          <p:cNvSpPr/>
          <p:nvPr/>
        </p:nvSpPr>
        <p:spPr>
          <a:xfrm>
            <a:off x="1119600" y="914400"/>
            <a:ext cx="76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īn  chāi            xián             júe                     sì  d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72036"/>
          <p:cNvSpPr/>
          <p:nvPr/>
        </p:nvSpPr>
        <p:spPr>
          <a:xfrm>
            <a:off x="746280" y="1338120"/>
            <a:ext cx="12474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解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奉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载难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来运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乞白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肆无忌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造谣生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鸡犬不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挑拨是非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俏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72037"/>
          <p:cNvSpPr/>
          <p:nvPr/>
        </p:nvSpPr>
        <p:spPr>
          <a:xfrm>
            <a:off x="4460760" y="1752480"/>
            <a:ext cx="167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告诉（敬辞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容机会难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机到来，命运好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纠缠个没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意妄为，没有一点顾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迷惑群众捏造消息滋生事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骚扰得连鸡狗都不得安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搬弄是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容貌或装束、举止或说话）活泼风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72038"/>
          <p:cNvSpPr/>
          <p:nvPr/>
        </p:nvSpPr>
        <p:spPr>
          <a:xfrm>
            <a:off x="2035080" y="562932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本文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喜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那无价值的撕破给人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73057"/>
          <p:cNvSpPr/>
          <p:nvPr/>
        </p:nvSpPr>
        <p:spPr>
          <a:xfrm>
            <a:off x="3094560" y="252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快速阅读课文，划出最精彩的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173058"/>
          <p:cNvSpPr/>
          <p:nvPr/>
        </p:nvSpPr>
        <p:spPr>
          <a:xfrm>
            <a:off x="3526560" y="8064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讨论文章脉络，理清故事结构和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73059"/>
          <p:cNvSpPr/>
          <p:nvPr/>
        </p:nvSpPr>
        <p:spPr>
          <a:xfrm>
            <a:off x="3873960" y="31496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分角色朗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内容，注意对话时人物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73060"/>
          <p:cNvSpPr/>
          <p:nvPr/>
        </p:nvSpPr>
        <p:spPr>
          <a:xfrm>
            <a:off x="4330800" y="3605040"/>
            <a:ext cx="5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朗读后思考：假钦差如何嘲笑市长和官员们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划出有关词段，体会作者生动形象的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73061"/>
          <p:cNvSpPr/>
          <p:nvPr/>
        </p:nvSpPr>
        <p:spPr>
          <a:xfrm>
            <a:off x="1762560" y="4521240"/>
            <a:ext cx="54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匹灰色的阉马       坏蛋            好酒贪杯的酒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戴便帽的猪         满身是葱臭      地地道道的莫凡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173062"/>
          <p:cNvSpPr/>
          <p:nvPr/>
        </p:nvSpPr>
        <p:spPr>
          <a:xfrm>
            <a:off x="1913040" y="535788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市长和官员们得知上了假钦差的当后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表现？根据课文内容，用自己的话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173063"/>
          <p:cNvSpPr/>
          <p:nvPr/>
        </p:nvSpPr>
        <p:spPr>
          <a:xfrm>
            <a:off x="762120" y="6035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173064"/>
          <p:cNvSpPr/>
          <p:nvPr/>
        </p:nvSpPr>
        <p:spPr>
          <a:xfrm>
            <a:off x="2706120" y="1244520"/>
            <a:ext cx="32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第八场）：大家发现“钦差”真相，丑态百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73065"/>
          <p:cNvSpPr/>
          <p:nvPr/>
        </p:nvSpPr>
        <p:spPr>
          <a:xfrm>
            <a:off x="3215520" y="170172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哑场）：真钦差到，大家丑态百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73066"/>
          <p:cNvSpPr/>
          <p:nvPr/>
        </p:nvSpPr>
        <p:spPr>
          <a:xfrm>
            <a:off x="3063600" y="6141960"/>
            <a:ext cx="11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捶胸顿足，暴露自我，互相埋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173067"/>
          <p:cNvSpPr/>
          <p:nvPr/>
        </p:nvSpPr>
        <p:spPr>
          <a:xfrm>
            <a:off x="2071080" y="223344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题：围绕假钦差被识破的中心事件，体现达官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的厚颜无耻，揭露沙俄制度的腐朽荒唐的本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74081"/>
          <p:cNvSpPr/>
          <p:nvPr/>
        </p:nvSpPr>
        <p:spPr>
          <a:xfrm>
            <a:off x="457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174082"/>
          <p:cNvSpPr/>
          <p:nvPr/>
        </p:nvSpPr>
        <p:spPr>
          <a:xfrm>
            <a:off x="457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174083"/>
          <p:cNvSpPr/>
          <p:nvPr/>
        </p:nvSpPr>
        <p:spPr>
          <a:xfrm>
            <a:off x="1618560" y="4809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真的意识到自己的荒唐可笑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174084"/>
          <p:cNvSpPr/>
          <p:nvPr/>
        </p:nvSpPr>
        <p:spPr>
          <a:xfrm>
            <a:off x="2503440" y="9381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戏剧为什么在市长和官员们听到真钦差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的消息的时候就落幕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74085"/>
          <p:cNvSpPr/>
          <p:nvPr/>
        </p:nvSpPr>
        <p:spPr>
          <a:xfrm>
            <a:off x="1656720" y="1874880"/>
            <a:ext cx="503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发人深省，突出戏剧的讽刺效果，活现腐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官僚的丑陋嘴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74086"/>
          <p:cNvSpPr/>
          <p:nvPr/>
        </p:nvSpPr>
        <p:spPr>
          <a:xfrm>
            <a:off x="304920" y="2895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假如真钦差到了，他们会有什么表现？他们前后不同表现有否内在联系？他们是怎样的一伙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74087"/>
          <p:cNvSpPr/>
          <p:nvPr/>
        </p:nvSpPr>
        <p:spPr>
          <a:xfrm>
            <a:off x="2507760" y="408456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趋炎附势、阿谀奉承、乐此不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74088"/>
          <p:cNvSpPr/>
          <p:nvPr/>
        </p:nvSpPr>
        <p:spPr>
          <a:xfrm>
            <a:off x="3128040" y="451944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表现蕴含相同个性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势利、见风使舵、阿谀奉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74089"/>
          <p:cNvSpPr/>
          <p:nvPr/>
        </p:nvSpPr>
        <p:spPr>
          <a:xfrm>
            <a:off x="3466800" y="497844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腐朽堕落、贪污成性、媚上欺下、阿谀奉承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74090"/>
          <p:cNvSpPr/>
          <p:nvPr/>
        </p:nvSpPr>
        <p:spPr>
          <a:xfrm>
            <a:off x="3313800" y="555300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你印象最深的是什么？假如“哑场”中的每人都对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钦差说了一段话，请自选并模拟一个人物回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75105"/>
          <p:cNvSpPr/>
          <p:nvPr/>
        </p:nvSpPr>
        <p:spPr>
          <a:xfrm>
            <a:off x="3498480" y="30492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钦差大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演出图片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175109" descr="D:\云课件\钦差大臣\5.JPG"/>
          <p:cNvPicPr/>
          <p:nvPr/>
        </p:nvPicPr>
        <p:blipFill>
          <a:blip r:embed="rId1"/>
          <a:stretch/>
        </p:blipFill>
        <p:spPr>
          <a:xfrm>
            <a:off x="3124080" y="1295280"/>
            <a:ext cx="3467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4:53:44Z</dcterms:created>
  <dc:creator>孙振坤</dc:creator>
  <dc:description/>
  <dc:language>en-US</dc:language>
  <cp:lastModifiedBy>admin</cp:lastModifiedBy>
  <dcterms:modified xsi:type="dcterms:W3CDTF">2019-05-14T08:28:2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