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6EA-C443-44B8-9424-54D8B403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430-6A0C-40EB-89A5-C3D4131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A54-0C1A-4AC6-B0A2-0A7F016F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CF6-2F05-4E29-8937-B13556AB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836-A215-46C9-A319-6084238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7E9-DBAC-4EAC-862E-A374A58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C18-0258-440E-821B-2D22D0A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6AF-E0CC-4D7A-88ED-96417CF4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79D-BDF0-4D8C-BA50-0EDF937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0BE-A28F-45F7-8297-AB1B563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F05-AFAF-423B-97B7-BE753ED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720-FF3A-42AA-A45F-120F04D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324-3B3F-49F0-BC19-1A840F6487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6"/>
          <p:cNvSpPr/>
          <p:nvPr/>
        </p:nvSpPr>
        <p:spPr>
          <a:xfrm>
            <a:off x="2590920" y="167652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破阵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5127"/>
          <p:cNvSpPr/>
          <p:nvPr/>
        </p:nvSpPr>
        <p:spPr>
          <a:xfrm>
            <a:off x="4800600" y="33526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黑体"/>
              </a:rPr>
              <a:t>辛弃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7409"/>
          <p:cNvSpPr/>
          <p:nvPr/>
        </p:nvSpPr>
        <p:spPr>
          <a:xfrm>
            <a:off x="838080" y="457200"/>
            <a:ext cx="7086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马做的卢飞快，弓如霹雳弦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7410"/>
          <p:cNvSpPr/>
          <p:nvPr/>
        </p:nvSpPr>
        <p:spPr>
          <a:xfrm>
            <a:off x="914400" y="2895480"/>
            <a:ext cx="7238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了却君王天下事，赢得生前身后名。可怜白发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7411"/>
          <p:cNvSpPr/>
          <p:nvPr/>
        </p:nvSpPr>
        <p:spPr>
          <a:xfrm>
            <a:off x="914400" y="1523880"/>
            <a:ext cx="7924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战马像的卢那样飞奔，放箭的弓弦如雷鸣使人心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17412"/>
          <p:cNvSpPr/>
          <p:nvPr/>
        </p:nvSpPr>
        <p:spPr>
          <a:xfrm>
            <a:off x="1066680" y="4267080"/>
            <a:ext cx="762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多想完成君王统一国家的大业，自己也赢得一世乃至死后的英名。只可惜白发已现两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0241"/>
          <p:cNvSpPr/>
          <p:nvPr/>
        </p:nvSpPr>
        <p:spPr>
          <a:xfrm>
            <a:off x="685800" y="0"/>
            <a:ext cx="769608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翻译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沉醉中挑亮灯光抽出剑来细看，梦醒后各个营垒接连响起号角之声。把烤牛肉分给部下饱餐一顿，琴瑟演奏出北疆苍凉的乐曲。在肃杀的秋风中，战场上军队正在检阅准备出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战马像的卢那样飞奔，放箭的弓弦如雷鸣使人心惊。多想完成君王统一国家的大业，自己也赢得一世乃至死后的英名。只可惜白发已现两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9457"/>
          <p:cNvSpPr/>
          <p:nvPr/>
        </p:nvSpPr>
        <p:spPr>
          <a:xfrm>
            <a:off x="1143000" y="1447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醉态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9458"/>
          <p:cNvSpPr/>
          <p:nvPr/>
        </p:nvSpPr>
        <p:spPr>
          <a:xfrm>
            <a:off x="38088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词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9459"/>
          <p:cNvSpPr/>
          <p:nvPr/>
        </p:nvSpPr>
        <p:spPr>
          <a:xfrm>
            <a:off x="1143000" y="3276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梦境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19460"/>
          <p:cNvSpPr/>
          <p:nvPr/>
        </p:nvSpPr>
        <p:spPr>
          <a:xfrm>
            <a:off x="1219320" y="56386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现实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9461"/>
          <p:cNvSpPr/>
          <p:nvPr/>
        </p:nvSpPr>
        <p:spPr>
          <a:xfrm>
            <a:off x="335268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醉里挑灯看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19462"/>
          <p:cNvSpPr/>
          <p:nvPr/>
        </p:nvSpPr>
        <p:spPr>
          <a:xfrm>
            <a:off x="3276720" y="2286000"/>
            <a:ext cx="56386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梦回吹角连营。八百里分麾下炙，</a:t>
            </a:r>
            <a:br>
              <a:rPr sz="2800"/>
            </a:b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五十弦翻塞外声，沙场秋点兵。</a:t>
            </a:r>
            <a:br>
              <a:rPr sz="2800"/>
            </a:b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马作的卢飞快，弓如霹雳弦惊。</a:t>
            </a:r>
            <a:br>
              <a:rPr sz="2800"/>
            </a:br>
            <a:r>
              <a:rPr b="1" lang="zh-CN" sz="28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了却君王天下事，赢得生前身后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9463"/>
          <p:cNvSpPr/>
          <p:nvPr/>
        </p:nvSpPr>
        <p:spPr>
          <a:xfrm>
            <a:off x="3352680" y="5638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可怜白发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9464"/>
          <p:cNvSpPr/>
          <p:nvPr/>
        </p:nvSpPr>
        <p:spPr>
          <a:xfrm>
            <a:off x="30492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19465"/>
          <p:cNvSpPr/>
          <p:nvPr/>
        </p:nvSpPr>
        <p:spPr>
          <a:xfrm>
            <a:off x="38088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19466"/>
          <p:cNvSpPr/>
          <p:nvPr/>
        </p:nvSpPr>
        <p:spPr>
          <a:xfrm>
            <a:off x="304920" y="327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下箭头 19468"/>
          <p:cNvSpPr/>
          <p:nvPr/>
        </p:nvSpPr>
        <p:spPr>
          <a:xfrm>
            <a:off x="609480" y="213372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下箭头 19469"/>
          <p:cNvSpPr/>
          <p:nvPr/>
        </p:nvSpPr>
        <p:spPr>
          <a:xfrm>
            <a:off x="609480" y="434340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0481"/>
          <p:cNvSpPr/>
          <p:nvPr/>
        </p:nvSpPr>
        <p:spPr>
          <a:xfrm>
            <a:off x="533520" y="12952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破阵子》极写抗金部队壮盛的军容，横戈跃马的战斗生活以及收复祖国河山的畅想，这些都是作者醉梦中所不能忘怀的，但是他的想法被＂可怜白发生＂的现实碾碎了。作者在词中抒发了报国无门、壮志难酬的痛苦和愤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0482"/>
          <p:cNvSpPr/>
          <p:nvPr/>
        </p:nvSpPr>
        <p:spPr>
          <a:xfrm>
            <a:off x="533520" y="304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22529"/>
          <p:cNvSpPr/>
          <p:nvPr/>
        </p:nvSpPr>
        <p:spPr>
          <a:xfrm>
            <a:off x="304920" y="1447920"/>
            <a:ext cx="8534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一，构思层层递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整首词按照“醉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梦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现实”谋篇布局，有条不紊。梦境中又展现了“战前准备、沙场点兵、冲锋陷阵、功成名就”的多方面情形，生动的描绘了一个爱国者驰骋沙场的全过程。环环相扣，层层递进，从而领略到作者运笔自如而又章法严谨的特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22530"/>
          <p:cNvSpPr/>
          <p:nvPr/>
        </p:nvSpPr>
        <p:spPr>
          <a:xfrm>
            <a:off x="152280" y="457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这首词基调豪迈高昂，大气磅礴，艺术成就极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23553"/>
          <p:cNvSpPr/>
          <p:nvPr/>
        </p:nvSpPr>
        <p:spPr>
          <a:xfrm>
            <a:off x="838080" y="685800"/>
            <a:ext cx="75438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二，结构奇特巧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双调词一般是上片写景，下篇抒情。这首词打破了这种格式，首尾两句相互照应，描写现实，中间八句一气呵成，描写梦境，梦境里追忆往事，豪迈激昂，现实中壮志难酬，沉痛悲愤，二者对比鲜明，深化主题。这种奇特巧妙的结构与内容配合得天衣无缝，显示了辛弃疾在艺术上的独创精神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4579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24577"/>
          <p:cNvSpPr/>
          <p:nvPr/>
        </p:nvSpPr>
        <p:spPr>
          <a:xfrm>
            <a:off x="838080" y="1066680"/>
            <a:ext cx="7010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秋夜将晓，出篱门迎凉有感（二首）陆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迢迢天汉西南落，喔喔邻鸡一再鸣。壮志病来消欲尽，出门搔首怆平生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其二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万里河东入海，五千仞岳上摩天。遗民泪尽胡尘里，南望王师又一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24578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5602" descr="hh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25601"/>
          <p:cNvSpPr/>
          <p:nvPr/>
        </p:nvSpPr>
        <p:spPr>
          <a:xfrm>
            <a:off x="304920" y="0"/>
            <a:ext cx="8534160" cy="31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龙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登建康赏心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辛弃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天千里清秋，水随天去秋无际。遥岑远目，献愁供恨，玉簪螺髻。落日楼头，断鸿声里，江南游子。把吴钩看了，栏杆拍遍，无人会，登临意。　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休说鲈鱼堪脍，尽西风、季鹰归未。求田问舍，怕应羞见，刘郎才气。可惜流年，忧愁风雨，树犹如此。倩何人，唤取红巾翠袖，握英雄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0723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3" name="矩形 30721"/>
          <p:cNvSpPr/>
          <p:nvPr/>
        </p:nvSpPr>
        <p:spPr>
          <a:xfrm>
            <a:off x="2590920" y="0"/>
            <a:ext cx="3504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宋词的发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30722"/>
          <p:cNvSpPr/>
          <p:nvPr/>
        </p:nvSpPr>
        <p:spPr>
          <a:xfrm>
            <a:off x="0" y="1295280"/>
            <a:ext cx="87440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词的最初名称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曲子词”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，是为配合音乐而创作的歌辞。词大致产生在唐朝，它首先盛行于民间，后来文人注意了这种形式，开始介入它的文学创作。晚唐、五代，致力于词的文人逐渐增多，一些著名的词人如温庭筠、韦庄、李煜都具有自己独到的风格。此时，文人词和民间词的区分也逐渐明显，到了宋朝，由于特殊的历史条件导致了宋词空前的繁荣、发展与提高，并且产生了许多著名的词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9698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29697"/>
          <p:cNvSpPr/>
          <p:nvPr/>
        </p:nvSpPr>
        <p:spPr>
          <a:xfrm>
            <a:off x="0" y="685800"/>
            <a:ext cx="8896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北宋苏轼高举创新的旗帜，首先打破词的狭隘的传统观念，开拓词的内容，提高词的意境，开创了一种新的豪放词的风格。苏轼“以诗为词”，不仅用诗的某些表现手法作词，而且把词看作和诗具有同样言志的作用，使它具有较以前宽广得多的社会功能。他特别重视词的文学方面的意义，不把它作为音律的附庸，不让思想内容和艺术表达受损害，给词的发展注入新的血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6145"/>
          <p:cNvSpPr/>
          <p:nvPr/>
        </p:nvSpPr>
        <p:spPr>
          <a:xfrm>
            <a:off x="0" y="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辛弃疾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140——120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》，字幼安，号稼轩，山东济南人，南宋大词人，是我国历史上一位值得纪念的民族英雄，也是最负盛名的伟大词人之一。辛弃疾与苏轼齐名，世称“苏辛”。著有《稼轩长短句》，《南渡录》二卷，《窃愤录》一卷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6146"/>
          <p:cNvSpPr/>
          <p:nvPr/>
        </p:nvSpPr>
        <p:spPr>
          <a:xfrm>
            <a:off x="3429000" y="60156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6147" descr="辛弃疾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6626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6625"/>
          <p:cNvSpPr/>
          <p:nvPr/>
        </p:nvSpPr>
        <p:spPr>
          <a:xfrm>
            <a:off x="304920" y="990720"/>
            <a:ext cx="8534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词到南宋发展到了高峰。中原沦陷和南宋偏安的历史巨变，激起了南渡词人的爱国觉悟，整个词坛的面貌为之一新。此时，在士大夫阶层里涌现出一批坚决抗敌的词人，如岳飞，张孝祥等人，他们的作品表现爱国情感，气势壮大，对于豪放刚健的新风格的形成，有一定的贡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7650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7649"/>
          <p:cNvSpPr/>
          <p:nvPr/>
        </p:nvSpPr>
        <p:spPr>
          <a:xfrm>
            <a:off x="228600" y="457200"/>
            <a:ext cx="8915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辛弃疾、陆游两个伟大的作家，进一步发展了南宋词，尤其辛弃疾在词作方面，成就更为突出。他继承苏轼的革新精神，突出发扬了豪放的风格，扩大了词体的内涵，使其丰富多彩，把词推向更高的阶段。在词的创作手法上，他不仅运用古近体诗的句法作词，又吸收了散文、骈文、民间口语入词，辛词代表了文人词的最高成就。词是慷慨、豪迈，抒写抑郁不平之气。有时也存在用典过多，不免使人晦涩难懂的缺点。和他唱和的作家有陈亮、韩元吉、刘过等，就是与他的风格迥异的姜夔也写过仿效稼轩体的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8674" descr="hh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2" name="矩形 28673"/>
          <p:cNvSpPr/>
          <p:nvPr/>
        </p:nvSpPr>
        <p:spPr>
          <a:xfrm>
            <a:off x="228600" y="457200"/>
            <a:ext cx="8628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南宋后期，以姜夔、张炎为代表，感喟哀时，描写亡国的惨变，抒发内心的黍离之悲。他们精通音律，偏重词的格律，讲求句法、字面，有时难免流于形式化，也束缚了词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总之，宋词无疑是中国诗歌史上一个新的里程碑，在将音乐与诗歌相结合方面，达到了唐诗所未能达到的独特的审美地步，在文学史上留取了自己的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21505"/>
          <p:cNvSpPr/>
          <p:nvPr/>
        </p:nvSpPr>
        <p:spPr>
          <a:xfrm>
            <a:off x="228600" y="304920"/>
            <a:ext cx="8534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66ffff"/>
                </a:solidFill>
                <a:latin typeface="华文楷体"/>
                <a:ea typeface="华文楷体"/>
              </a:rPr>
              <a:t>辛弃疾一生力主抗金，遭当权者忌恨，被免官闲居江西带湖。好友陈亮（字同甫）到带湖拜访辛弃疾，他们促膝畅谈，共商抗金北伐大计。分手后又相互赠和，言志抒怀。《破阵子》便是辛弃疾寄给陈亮的一首以抒壮怀的词。词中追忆了昔日起义军豪迈壮阔的战斗生活，抒发了渴望杀敌报国、收复中原的雄心，也表达了报国无门、壮志难酬的悲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7169"/>
          <p:cNvSpPr/>
          <p:nvPr/>
        </p:nvSpPr>
        <p:spPr>
          <a:xfrm>
            <a:off x="685800" y="2514600"/>
            <a:ext cx="8458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中宋"/>
                <a:ea typeface="华文中宋"/>
              </a:rPr>
              <a:t>麾（      ）    炙（      ）                                           的（      ）卢霹雳（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7170"/>
          <p:cNvSpPr/>
          <p:nvPr/>
        </p:nvSpPr>
        <p:spPr>
          <a:xfrm>
            <a:off x="1600200" y="685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人生在勤，</a:t>
            </a: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当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以力田</a:t>
            </a: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为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7171"/>
          <p:cNvSpPr/>
          <p:nvPr/>
        </p:nvSpPr>
        <p:spPr>
          <a:xfrm>
            <a:off x="1116000" y="148428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却将万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字平戎策，</a:t>
            </a: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换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得</a:t>
            </a: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东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家</a:t>
            </a:r>
            <a:r>
              <a:rPr b="1" lang="zh-CN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种树书</a:t>
            </a:r>
            <a:r>
              <a:rPr b="1" lang="zh-TW" sz="3600" spc="-1" strike="noStrike">
                <a:solidFill>
                  <a:srgbClr val="ffff00"/>
                </a:solidFill>
                <a:latin typeface="細明體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7172"/>
          <p:cNvSpPr/>
          <p:nvPr/>
        </p:nvSpPr>
        <p:spPr>
          <a:xfrm>
            <a:off x="1828800" y="3657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7173"/>
          <p:cNvSpPr/>
          <p:nvPr/>
        </p:nvSpPr>
        <p:spPr>
          <a:xfrm>
            <a:off x="5076720" y="37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7174"/>
          <p:cNvSpPr/>
          <p:nvPr/>
        </p:nvSpPr>
        <p:spPr>
          <a:xfrm>
            <a:off x="19051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d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7175"/>
          <p:cNvSpPr/>
          <p:nvPr/>
        </p:nvSpPr>
        <p:spPr>
          <a:xfrm>
            <a:off x="5435640" y="4437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10280" y="0"/>
            <a:ext cx="194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破阵子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为陈同甫赋壮词以寄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醉里挑灯看剑，梦回吹角连营。八百里分麾下炙，五十弦翻塞外声。沙场秋点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马做的卢飞快，弓如霹雳弦惊。了却君王天下事，赢得生前身后名。可怜白发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8433"/>
          <p:cNvSpPr/>
          <p:nvPr/>
        </p:nvSpPr>
        <p:spPr>
          <a:xfrm>
            <a:off x="685800" y="1447920"/>
            <a:ext cx="78487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ccecff"/>
                </a:solidFill>
                <a:latin typeface="华文中宋"/>
                <a:ea typeface="华文中宋"/>
              </a:rPr>
              <a:t>《破阵子》：选自《稼轩长短句集》。破阵子，词牌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ccecff"/>
                </a:solidFill>
                <a:latin typeface="华文中宋"/>
                <a:ea typeface="华文中宋"/>
              </a:rPr>
              <a:t>陈同甫，名亮，南宋婺州（现在浙江省金华县）人，同辛弃疾是好朋友。赋，写作。壮词，雄壮的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8434"/>
          <p:cNvSpPr/>
          <p:nvPr/>
        </p:nvSpPr>
        <p:spPr>
          <a:xfrm>
            <a:off x="457200" y="457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题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9217"/>
          <p:cNvSpPr/>
          <p:nvPr/>
        </p:nvSpPr>
        <p:spPr>
          <a:xfrm>
            <a:off x="533520" y="228600"/>
            <a:ext cx="8001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读词思考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、用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划出诗句的停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、“可怜”一词表现了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cc99"/>
                </a:solidFill>
                <a:latin typeface="黑体"/>
                <a:ea typeface="黑体"/>
              </a:rPr>
              <a:t>、作者为什么要“饮醉”？醉之后为何要“挑灯”？为何要灯下看宝剑？这一切都是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醉里挑灯看剑，梦回吹角连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沉醉中挑亮灯光抽出剑来细看，梦醒后各个营垒接连响起号角之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6385"/>
          <p:cNvSpPr/>
          <p:nvPr/>
        </p:nvSpPr>
        <p:spPr>
          <a:xfrm>
            <a:off x="6094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八百里分麾下炙，五十弦翻塞外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6386"/>
          <p:cNvSpPr/>
          <p:nvPr/>
        </p:nvSpPr>
        <p:spPr>
          <a:xfrm>
            <a:off x="762120" y="137160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把烤牛肉分给部下饱餐一顿，琴瑟演奏出北疆苍凉的乐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6387"/>
          <p:cNvSpPr/>
          <p:nvPr/>
        </p:nvSpPr>
        <p:spPr>
          <a:xfrm>
            <a:off x="914400" y="3276720"/>
            <a:ext cx="289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沙场秋点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6388"/>
          <p:cNvSpPr/>
          <p:nvPr/>
        </p:nvSpPr>
        <p:spPr>
          <a:xfrm>
            <a:off x="914400" y="4419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在肃杀的秋风中，战场上军队正在检阅准备出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8:02:17Z</dcterms:created>
  <dc:creator>王学光</dc:creator>
  <dc:description/>
  <dc:language>en-US</dc:language>
  <cp:lastModifiedBy>admin</cp:lastModifiedBy>
  <dcterms:modified xsi:type="dcterms:W3CDTF">2019-05-10T08:02:22Z</dcterms:modified>
  <cp:revision>22</cp:revision>
  <dc:subject/>
  <dc:title>破阵子.为陈同甫赋壮词以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