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63F-A6E7-49BB-91A7-C4CAD1EE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6DC-956B-41E5-87E4-7A5BCEBC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DD5-9EB5-455B-A120-61EB359F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F3E-D3B7-47BC-B2F5-953F6A7C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2191-C851-498A-AD8A-DA42D1D4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97A-9355-40DE-811E-C04BF161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1E0-67ED-4060-98F6-5AFD466C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89E-90D9-4874-B863-E2F5811B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6BA-4B9B-407E-8789-91B4C839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0F44-A34A-48F4-8C94-60F1001A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D41-E34D-4EB6-A40A-552ED013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C01-E2DD-4C08-9DA6-F2347251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54F3-BC61-433C-AEA2-5FB7F99EC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YW00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57200" y="1143000"/>
            <a:ext cx="6324480" cy="254664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57686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Arial"/>
                <a:ea typeface="华文行楷"/>
              </a:rPr>
              <a:t>卜算子</a:t>
            </a:r>
            <a:r>
              <a:rPr b="0" lang="en-US" sz="8800" spc="-1" strike="noStrike">
                <a:solidFill>
                  <a:srgbClr val="ff3300"/>
                </a:solidFill>
                <a:latin typeface="Arial"/>
                <a:ea typeface="华文行楷"/>
              </a:rPr>
              <a:t>·</a:t>
            </a:r>
            <a:r>
              <a:rPr b="0" lang="zh-CN" sz="8800" spc="-1" strike="noStrike">
                <a:solidFill>
                  <a:srgbClr val="ff3300"/>
                </a:solidFill>
                <a:latin typeface="Arial"/>
                <a:ea typeface="华文行楷"/>
              </a:rPr>
              <a:t>咏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陆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200582321543463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0" y="1143000"/>
            <a:ext cx="3505320" cy="533844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100000">
                <a:srgbClr val="576869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咏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王安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墙角数枝梅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凌寒独自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遥知不是雪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为有暗香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657600" y="3048120"/>
            <a:ext cx="54864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庭院为背景，衬托其丰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657600" y="4038480"/>
            <a:ext cx="54864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赞赏梅花不畏严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657600" y="5029200"/>
            <a:ext cx="54864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梅拟雪，赞其高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3657600" y="5943600"/>
            <a:ext cx="548640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喻其志趣品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20058232152174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380880" y="1295280"/>
            <a:ext cx="7772400" cy="2860200"/>
          </a:xfrm>
          <a:prstGeom prst="rect">
            <a:avLst/>
          </a:prstGeom>
          <a:gradFill rotWithShape="0">
            <a:gsLst>
              <a:gs pos="0">
                <a:srgbClr val="bbe0e3">
                  <a:alpha val="70196"/>
                </a:srgbClr>
              </a:gs>
              <a:gs pos="100000">
                <a:srgbClr val="576869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渔家傲       李清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雪里已知春信至，寒梅点缀琼枝腻。香脸半开娇旖旎，当庭际，玉人浴出新装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造化可能偏有意，故教明月玲珑地。共赏金尊沉绿蚁，莫辞醉，此花不与群花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0582321552420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20058232156205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200582321562089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xin_370102070855705539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xin_3701020708550801545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P3060365-v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20058232157107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304920" y="762120"/>
            <a:ext cx="8610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陆游，字务观，号放翁，南宋杰出的爱国词人。因“喜论恢复”‘受到投降派忌恨，结果被黜免，回乡闲居至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陆游是创作力非常旺盛的诗人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剑南诗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共收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30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余首诗词，加上遗稿，有一万多首。他诗中最突出的主题就是爱国主义精神，唱出了那个时代的最强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2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17032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52280" y="228600"/>
            <a:ext cx="3200400" cy="764280"/>
          </a:xfrm>
          <a:prstGeom prst="rect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457200" y="2590920"/>
            <a:ext cx="1447920" cy="1922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卜算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6781680" y="1066680"/>
            <a:ext cx="1295640" cy="1676520"/>
          </a:xfrm>
          <a:prstGeom prst="ellips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576869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词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1905120" y="2209680"/>
            <a:ext cx="4952880" cy="99072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905120" y="5029200"/>
            <a:ext cx="990360" cy="7034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咏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6019920" y="2514600"/>
            <a:ext cx="1371600" cy="1295280"/>
          </a:xfrm>
          <a:prstGeom prst="ellipse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576869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词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 flipV="1">
            <a:off x="2895480" y="3505320"/>
            <a:ext cx="3200400" cy="1676160"/>
          </a:xfrm>
          <a:prstGeom prst="line">
            <a:avLst/>
          </a:prstGeom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6172200" y="4114800"/>
            <a:ext cx="2514600" cy="2057400"/>
          </a:xfrm>
          <a:prstGeom prst="rect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576869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兴起于唐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繁荣于宋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称之为“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诗宋词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"/>
                            </p:stCondLst>
                            <p:childTnLst>
                              <p:par>
                                <p:cTn id="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"/>
                            </p:stCondLst>
                            <p:childTnLst>
                              <p:par>
                                <p:cTn id="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2005823215377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0" y="990720"/>
            <a:ext cx="4114800" cy="4757400"/>
          </a:xfrm>
          <a:prstGeom prst="rect">
            <a:avLst/>
          </a:prstGeom>
          <a:gradFill rotWithShape="0">
            <a:gsLst>
              <a:gs pos="0">
                <a:srgbClr val="bbe0e3">
                  <a:alpha val="80000"/>
                </a:srgbClr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驿外断桥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寂寞开无主。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zh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已是黄昏独自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更著风和雨。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无意苦争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任群芳妒。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d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零落成泥碾作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只有香如故。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g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990720" y="106668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990720" y="167652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1981080" y="220968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1066680" y="274320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990720" y="3505320"/>
            <a:ext cx="0" cy="609480"/>
          </a:xfrm>
          <a:prstGeom prst="line">
            <a:avLst/>
          </a:prstGeom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1066680" y="4191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1066680" y="4724280"/>
            <a:ext cx="0" cy="38124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1905120" y="4724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1066680" y="5257800"/>
            <a:ext cx="0" cy="38088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447920" y="0"/>
            <a:ext cx="2895480" cy="581400"/>
          </a:xfrm>
          <a:prstGeom prst="rect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576869">
                  <a:alpha val="40000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诵读全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2005823215620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80880" y="228600"/>
            <a:ext cx="3200400" cy="642600"/>
          </a:xfrm>
          <a:prstGeom prst="rect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04920" y="9144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词的上片主要写什么？有何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80880" y="1523880"/>
            <a:ext cx="3733920" cy="642600"/>
          </a:xfrm>
          <a:prstGeom prst="rect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576869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环境，自然现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124080" y="25146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寂寞荒寒  人迹罕至  破败不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362320" y="32004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无人护理  无人欣赏（野梅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209680" y="39625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默默开放  自行凋落  孑然只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286000" y="47242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更加上“风和雨”   环境恶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914400" y="274320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228600" y="3048120"/>
            <a:ext cx="6094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352680" y="5562720"/>
            <a:ext cx="4648320" cy="642600"/>
          </a:xfrm>
          <a:prstGeom prst="rect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困难处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572000" y="1523880"/>
            <a:ext cx="3352680" cy="68580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576869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烘托“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1219320" y="2514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驿外、断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1295280" y="32004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无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1295280" y="3962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独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1295280" y="4724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更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200503031739194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33520" y="3808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词的下片表达词人怎样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1295280"/>
            <a:ext cx="4876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—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抵死、拼命、尽力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迎春、报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09480" y="28195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任凭群芳妒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4800600" y="1447920"/>
            <a:ext cx="457200" cy="2133360"/>
          </a:xfrm>
          <a:custGeom>
            <a:avLst/>
            <a:gdLst>
              <a:gd name="textAreaLeft" fmla="*/ 0 w 457200"/>
              <a:gd name="textAreaRight" fmla="*/ 164880 w 4572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5334120" y="1828800"/>
            <a:ext cx="6858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6172200" y="1295280"/>
            <a:ext cx="10666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坚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自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172200" y="2514600"/>
            <a:ext cx="10666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不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谗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295280" y="403848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—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不堪摧残  纷纷凋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371600" y="4572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落花委地  与水混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1371600" y="5029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摧残者的无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1447920" y="5562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化作尘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8"/>
          <p:cNvSpPr/>
          <p:nvPr/>
        </p:nvSpPr>
        <p:spPr>
          <a:xfrm>
            <a:off x="5486400" y="41911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5943600" y="4191120"/>
            <a:ext cx="6094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0"/>
          <p:cNvSpPr/>
          <p:nvPr/>
        </p:nvSpPr>
        <p:spPr>
          <a:xfrm>
            <a:off x="7162920" y="4267080"/>
            <a:ext cx="106668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>
            <a:off x="6629400" y="5105520"/>
            <a:ext cx="457200" cy="0"/>
          </a:xfrm>
          <a:prstGeom prst="line">
            <a:avLst/>
          </a:prstGeom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0" y="1295280"/>
            <a:ext cx="5335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0" y="28954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80880" y="4038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零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380880" y="4572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成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380880" y="5105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>
            <a:off x="380880" y="5562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作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29"/>
          <p:cNvCxnSpPr>
            <a:stCxn id="83" idx="3"/>
            <a:endCxn id="83" idx="3"/>
          </p:cNvCxnSpPr>
          <p:nvPr/>
        </p:nvCxnSpPr>
        <p:spPr>
          <a:xfrm>
            <a:off x="914364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06" name="AutoShape 30"/>
          <p:cNvCxnSpPr>
            <a:stCxn id="89" idx="3"/>
            <a:endCxn id="97" idx="6"/>
          </p:cNvCxnSpPr>
          <p:nvPr/>
        </p:nvCxnSpPr>
        <p:spPr>
          <a:xfrm>
            <a:off x="7238880" y="1790280"/>
            <a:ext cx="991440" cy="3391560"/>
          </a:xfrm>
          <a:prstGeom prst="straightConnector1">
            <a:avLst/>
          </a:prstGeom>
          <a:ln w="28440">
            <a:solidFill>
              <a:srgbClr val="ffff00"/>
            </a:solidFill>
            <a:miter/>
          </a:ln>
        </p:spPr>
      </p:cxnSp>
      <p:sp>
        <p:nvSpPr>
          <p:cNvPr id="107" name="Rectangle 31"/>
          <p:cNvSpPr/>
          <p:nvPr/>
        </p:nvSpPr>
        <p:spPr>
          <a:xfrm>
            <a:off x="7391520" y="2514600"/>
            <a:ext cx="175248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香气永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丝毫不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"/>
                            </p:stCondLst>
                            <p:childTnLst>
                              <p:par>
                                <p:cTn id="2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0001_20050722_504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228600" y="0"/>
            <a:ext cx="403848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60392"/>
                </a:srgbClr>
              </a:gs>
              <a:gs pos="100000">
                <a:srgbClr val="576869">
                  <a:alpha val="6039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卜算子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咏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毛泽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风雨送春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飞雪迎春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已是悬崖百丈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犹有花枝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俏也不争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只把春来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待到山花烂漫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它在丛中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5257800" y="1600200"/>
            <a:ext cx="3505320" cy="3429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毛泽东与陆游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两首词，在感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色调上有什么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同？其原因是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毛泽东《咏梅》朗诵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6194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2005823215379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990720" y="1371600"/>
            <a:ext cx="6858000" cy="82512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两位词人同写“咏梅”有什么相似之处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20053141155175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914400" y="838080"/>
            <a:ext cx="3048120" cy="4800600"/>
          </a:xfrm>
          <a:prstGeom prst="rect">
            <a:avLst/>
          </a:prstGeom>
          <a:gradFill rotWithShape="0">
            <a:gsLst>
              <a:gs pos="0">
                <a:srgbClr val="ffff00">
                  <a:alpha val="60392"/>
                </a:srgbClr>
              </a:gs>
              <a:gs pos="100000">
                <a:srgbClr val="99cc00">
                  <a:alpha val="70196"/>
                </a:srgbClr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梅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陈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一朵忽先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百花皆后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欲传春消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不怕雪埋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8T02:04:47Z</dcterms:created>
  <dc:creator>第一PPT模板网-WWW.1PPT.COM</dc:creator>
  <dc:description>  </dc:description>
  <dc:language>en-US</dc:language>
  <cp:lastModifiedBy>Administrator</cp:lastModifiedBy>
  <dcterms:modified xsi:type="dcterms:W3CDTF">2017-05-08T02:05:01Z</dcterms:modified>
  <cp:revision>4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  <property fmtid="{D5CDD505-2E9C-101B-9397-08002B2CF9AE}" pid="3" name="Version">
    <vt:r8>1</vt:r8>
  </property>
</Properties>
</file>