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7.png" ContentType="image/png"/>
  <Override PartName="/ppt/media/image8.jpeg" ContentType="image/jpeg"/>
  <Override PartName="/ppt/media/image6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0A4-592D-4608-A286-CC3E547A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C85-D93B-4BF0-8946-F67CA65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060-FE8D-4B4F-8F6B-86CEA965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F97-2524-483C-A185-B9E18D7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954-E4CE-4BE9-A4FB-57B4866D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A26-751A-4568-8A74-0CF980BE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758-37B8-48AE-9695-8FC140A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95E-A74E-419B-A205-EB2D545C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7D1-5443-42D5-9FAF-99468496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C81-E42F-4E46-8D3D-3721E57F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BD6-B890-4C53-9DDA-1EDA9D0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14F-CE73-4FCD-B7B9-0CF3105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AC69-48EC-483A-908B-9259E783C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cqwb.com.cn/webnews/htm/2009/2/21/319204.s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66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庖 丁 解 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373392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庄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养生主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2280" y="152280"/>
          <a:ext cx="8915400" cy="6529680"/>
        </p:xfrm>
        <a:graphic>
          <a:graphicData uri="http://schemas.openxmlformats.org/drawingml/2006/table">
            <a:tbl>
              <a:tblPr/>
              <a:tblGrid>
                <a:gridCol w="1752840"/>
                <a:gridCol w="1752480"/>
                <a:gridCol w="1752480"/>
                <a:gridCol w="1752840"/>
                <a:gridCol w="1904760"/>
              </a:tblGrid>
              <a:tr h="46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重点实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通假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特殊句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古今异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词类活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Arial"/>
                          <a:ea typeface="黑体"/>
                        </a:rPr>
                        <a:t>成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52280" y="685800"/>
            <a:ext cx="2133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履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踦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支撑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接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砉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骨肉分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然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词尾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……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样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奏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騞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骨肉分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中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合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乃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连词，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节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进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超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官知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视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神欲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精神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批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郤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空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导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顺着，循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窾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685800"/>
            <a:ext cx="220968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因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依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技经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脉络相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肯綮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筋骨结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軱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大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族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①一般的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普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筋骨）交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聚集的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发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出，磨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硎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磨刀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彼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间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间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恢恢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宽绰的样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怵然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警惕的样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謋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骨肉分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委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卸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养生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养生之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762120"/>
            <a:ext cx="28954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向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响，响亮的声音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盖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盍，何，怎样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技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枝，支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善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缮，修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擦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928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岁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→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，每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月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→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，每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dj→n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厚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479840"/>
            <a:ext cx="37339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3300"/>
                </a:solidFill>
                <a:latin typeface="Arial"/>
                <a:ea typeface="仿宋_GB2312"/>
              </a:rPr>
              <a:t>目无全牛</a:t>
            </a:r>
            <a:r>
              <a:rPr b="1" lang="zh-CN" sz="1500" spc="-1" strike="noStrike">
                <a:solidFill>
                  <a:srgbClr val="333399"/>
                </a:solidFill>
                <a:latin typeface="Arial"/>
                <a:ea typeface="仿宋_GB2312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仿宋_GB2312"/>
              </a:rPr>
              <a:t>技艺达到十分纯熟的地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3300"/>
                </a:solidFill>
                <a:latin typeface="Arial"/>
                <a:ea typeface="仿宋_GB2312"/>
              </a:rPr>
              <a:t>切中肯綮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仿宋_GB2312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仿宋_GB2312"/>
              </a:rPr>
              <a:t>正好切中事情的关键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3300"/>
                </a:solidFill>
                <a:latin typeface="Arial"/>
                <a:ea typeface="仿宋_GB2312"/>
              </a:rPr>
              <a:t>游刃有余</a:t>
            </a:r>
            <a:r>
              <a:rPr b="1" lang="zh-CN" sz="1500" spc="-1" strike="noStrike">
                <a:solidFill>
                  <a:srgbClr val="333399"/>
                </a:solidFill>
                <a:latin typeface="Arial"/>
                <a:ea typeface="仿宋_GB2312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仿宋_GB2312"/>
              </a:rPr>
              <a:t>现在使用他来比喻技术熟练高超，做事轻而易举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3300"/>
                </a:solidFill>
                <a:latin typeface="Arial"/>
                <a:ea typeface="仿宋_GB2312"/>
              </a:rPr>
              <a:t>踌躇满志</a:t>
            </a:r>
            <a:r>
              <a:rPr b="1" lang="zh-CN" sz="1500" spc="-1" strike="noStrike">
                <a:solidFill>
                  <a:srgbClr val="333399"/>
                </a:solidFill>
                <a:latin typeface="Arial"/>
                <a:ea typeface="仿宋_GB2312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仿宋_GB2312"/>
              </a:rPr>
              <a:t>指对自己的现状或取得的成就非常得意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685800"/>
            <a:ext cx="1981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仿宋_GB2312"/>
              </a:rPr>
              <a:t>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古：天然结构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今：常指天然的道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仿宋_GB2312"/>
              </a:rPr>
              <a:t>固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古：本来的样子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今：表示承认某一个事实，引起下文转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仿宋_GB2312"/>
              </a:rPr>
              <a:t>虽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古：虽然如此，尽管那样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今：常用作表示转折关系的连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685800"/>
            <a:ext cx="2133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合于《桑林》之舞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宾短语后置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臣之所好者道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也</a:t>
            </a:r>
            <a:r>
              <a:rPr b="1" lang="zh-CN" sz="1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良庖岁更刀，割也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族庖月更刀，折也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新发于硎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宾短语后置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是以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以是”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语前置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怵然为戒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之为”，省略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视为止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,</a:t>
            </a:r>
            <a:r>
              <a:rPr b="1" lang="zh-CN" sz="1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行为迟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之”，省略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3733920" y="6248520"/>
            <a:ext cx="761760" cy="60948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4648320" y="6248520"/>
            <a:ext cx="685800" cy="609480"/>
          </a:xfrm>
          <a:custGeom>
            <a:avLst/>
            <a:gdLst>
              <a:gd name="textAreaLeft" fmla="*/ 0 w 685800"/>
              <a:gd name="textAreaRight" fmla="*/ 686160 w 685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504" t="2220" r="2504" b="33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971800" y="380880"/>
            <a:ext cx="2743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分析课文内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762120"/>
            <a:ext cx="6324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描写庖丁解牛的一个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声音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节奏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084400"/>
            <a:ext cx="6476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手触 肩倚 足履 膝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砉然向然，奏刀騞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于《桑林》之舞，乃中《经首》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庖丁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技术高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653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段：文惠君的话    ——过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9625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05520"/>
            <a:ext cx="6858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2504" t="2220" r="2504" b="33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庖丁解牛的三个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37160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代名“庖”的成长历程</a:t>
            </a:r>
            <a:endParaRPr b="0" lang="en-US" sz="1800" spc="1" strike="noStrike">
              <a:ln cap="rnd"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90920"/>
            <a:ext cx="2210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阶段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阶段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阶段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59092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所见无非牛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目有全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未尝见全牛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目无全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以神遇而不以目视，依乎天理，因其固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游刃有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64960" y="3263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（不懂规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4960" y="4559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（认识规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64960" y="563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（运用规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38880" y="2508120"/>
            <a:ext cx="1441440" cy="1073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315200" y="3962520"/>
            <a:ext cx="14508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0" y="3657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504" t="2220" r="2504" b="33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914400"/>
            <a:ext cx="777240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四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从故事引出养生之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庖丁的“解牛之道”和文惠君感悟到的“养生之道”有何相似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庖丁的“解牛之道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完全顺着牛天然的骨节肌理，在空隙处下刀，绝不勉强硬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文惠君感悟到的“养生之道”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养生应顺应自然，不要硬碰困难，避免身心受到损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相似之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顺应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30000"/>
          </a:blip>
          <a:srcRect l="11670" t="0" r="0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04920" y="2286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则寓言故事给了我们什么有益的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0666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积累到极致，运用到极致。积累与运用相互促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要有持之以恒的耐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做事抓住“肯綮” ，就会收到事半功倍之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要热爱本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641680"/>
            <a:ext cx="85341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一切事物都有它的客观规律，只要反复实践，不断积累，就能认识和掌握事物的规律，做到“游刃有余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学会韬光养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面对困难，不应逃避，应找准问题的薄弱环节，勇于面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反复练习，就熟能生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做事要循序渐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即使把握了事物的规律，但面对具体问题，仍要有谨慎认真的态度，才能把事情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11</a:t>
            </a:r>
            <a:r>
              <a:rPr b="1" lang="zh-CN" sz="24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办事要有灵活性，随机应变，不能蛮干，不能硬碰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善哉！吾闻庖丁之言，得养生焉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341360"/>
            <a:ext cx="806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45400"/>
            <a:chOff x="0" y="0"/>
            <a:chExt cx="9144000" cy="684540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0" y="0"/>
              <a:ext cx="9144000" cy="68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>
              <a:lum bright="12000"/>
            </a:blip>
            <a:srcRect l="48334" t="48985" r="25833" b="29874"/>
            <a:stretch/>
          </p:blipFill>
          <p:spPr>
            <a:xfrm>
              <a:off x="5715000" y="4876920"/>
              <a:ext cx="236232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1219320" y="53352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表承接，于是，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表假设，若，如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③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表并列，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④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竟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仅仅，只，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⑥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始，刚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⑦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表判断，就是，原来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7162920" y="5638680"/>
            <a:ext cx="1143000" cy="838440"/>
          </a:xfrm>
          <a:prstGeom prst="leftArrow">
            <a:avLst>
              <a:gd name="adj1" fmla="val 50000"/>
              <a:gd name="adj2" fmla="val 3408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845400"/>
            <a:chOff x="0" y="0"/>
            <a:chExt cx="9144000" cy="6845400"/>
          </a:xfrm>
        </p:grpSpPr>
        <p:pic>
          <p:nvPicPr>
            <p:cNvPr id="129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0" y="0"/>
              <a:ext cx="9144000" cy="68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>
              <a:lum bright="12000"/>
            </a:blip>
            <a:srcRect l="48334" t="48985" r="25833" b="29874"/>
            <a:stretch/>
          </p:blipFill>
          <p:spPr>
            <a:xfrm>
              <a:off x="5715000" y="4876920"/>
              <a:ext cx="236232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"/>
          <p:cNvSpPr/>
          <p:nvPr/>
        </p:nvSpPr>
        <p:spPr>
          <a:xfrm>
            <a:off x="1219320" y="3808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发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【本义】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射箭→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lt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&gt;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箭矢的支数；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次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出发→征发、派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发放→放救济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④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打开→启发→发泄、释放→拆毁、摧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发布→揭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发扬→显露、体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⑦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发生、产生、出现→（人才）兴起、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⑧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发出（声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⑨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v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仿宋_GB2312"/>
              </a:rPr>
              <a:t>开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7467480" y="5791320"/>
            <a:ext cx="1143000" cy="838080"/>
          </a:xfrm>
          <a:prstGeom prst="leftArrow">
            <a:avLst>
              <a:gd name="adj1" fmla="val 50000"/>
              <a:gd name="adj2" fmla="val 3409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361960" y="1066320"/>
            <a:ext cx="4267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诸子散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仿宋_GB2312"/>
              </a:rPr>
              <a:t>主要特点：叙事明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0384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春秋战国时代常用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3808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秋战国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纷乱的时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260360"/>
            <a:ext cx="38862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儒家的回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儒家热衷于重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社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秩序，企图以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道德礼制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重整人心，克制当时人们泛滥的私欲。所以孔子不断教人去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追求仁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成为君子，目的皆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希望重现一个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楷体_GB2312"/>
              </a:rPr>
              <a:t>和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的理想社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260360"/>
            <a:ext cx="38102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道家的回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道家所关心的，却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处于乱世之下如何立身处世而自保。道家主张既然万事万物皆摆脱不了自然规律而变化，所以人也必须遵照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自然规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而生活。道家的终极关怀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于乱世中找寻个人的自我救赎，自保全生的方法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，具有强烈的个人主义色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儒家和道家的比较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儒家所重的是群体社会。        道家所关怀的是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952880"/>
            <a:ext cx="129528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952880"/>
            <a:ext cx="609480" cy="6858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791320"/>
            <a:ext cx="83822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道家思想的园地：《老子》（《道德经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20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《庄子》（《南华经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1098400">
            <a:off x="1447920" y="1295280"/>
            <a:ext cx="236196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21153000">
            <a:off x="5409720" y="1295280"/>
            <a:ext cx="2610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5638680"/>
            <a:ext cx="563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天道自然，养生全身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rcRect l="1665" t="2225" r="1665" b="22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rcRect l="31474" t="44693" r="41142" b="26640"/>
            <a:stretch/>
          </p:blipFill>
          <p:spPr>
            <a:xfrm>
              <a:off x="6248520" y="457200"/>
              <a:ext cx="259056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庄子的生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01600"/>
            <a:ext cx="8424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庄子（约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69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和孟子同时而稍后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战国时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著名的思想家、文学家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道家学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代表人物。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宋国蒙（今河南商丘）人。他生活贫困，做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漆园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但学识渊博。他对当时统治者攻城占地的做法深恶痛绝，对儒家积极参与政事给予了尖锐的批评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主张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出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”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宋王偃昏庸残暴以致亡国的现实对庄子的思想影响很大，所以他不再出仕（做官）与统治者合作。他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性情旷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追求绝对的自足自得的主观精神境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1665" t="2225" r="1665" b="22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31474" t="44693" r="41142" b="26640"/>
            <a:stretch/>
          </p:blipFill>
          <p:spPr>
            <a:xfrm>
              <a:off x="6248520" y="457200"/>
              <a:ext cx="259056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1219320" y="129528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080" y="343080"/>
            <a:ext cx="86040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庄子的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一、批判现实社会</a:t>
            </a:r>
            <a:r>
              <a:rPr b="1" lang="zh-CN" sz="2600" spc="-1" strike="noStrike">
                <a:solidFill>
                  <a:srgbClr val="990099"/>
                </a:solidFill>
                <a:latin typeface="Times New Roman"/>
                <a:ea typeface="黑体"/>
              </a:rPr>
              <a:t>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他对现实有深入的观察，所以批判起来一针见血，常给予无情的揭露和尖锐的嘲讽，极端蔑视礼法权贵。批判儒家、墨家参与政治，对其“仁义”也加以嘲讽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二、向往自由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他不满现实，但又无力改变，非常苦闷，以至消极厌世。为摆脱烦恼，他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一方面主张顺应自然，另一方面追求精神上的绝对自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幻想在乱世中保全自己，不与现实发生冲突和矛盾，忘掉现实世界，甚至忘掉自己的存在，达到“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天地与我并生，万物与我为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”的境界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三、提出辨证法——相对主义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认为一切事物都是相对的、变化的，甚至认为是非也是相对的，于是由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辩证法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陷入了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相对主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1665" t="2225" r="1665" b="22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"/>
            <a:srcRect l="31474" t="44693" r="41142" b="26640"/>
            <a:stretch/>
          </p:blipFill>
          <p:spPr>
            <a:xfrm>
              <a:off x="6248520" y="457200"/>
              <a:ext cx="259056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52280" y="171360"/>
            <a:ext cx="88394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庄子的著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《庄子》是庄周和他的门人以及后学者的著作，因庄子曾隐居南华山，所以又称《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南华经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》，是著名的经典著作。原有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篇，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现存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33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篇，分为内篇、外篇和杂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内篇共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篇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是庄子本人所作，是全书的精华部分，全面阐述了庄子的宇宙观、历史观、人生观、道德论和政治论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外篇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篇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是内篇的补充和发挥，观点阐述的更为明确和具体，对丑恶现实的愤慨表现的更为强烈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杂篇共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11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篇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是庄子后学对庄子思想的继承和发挥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《养生主》选自内篇，是庄子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宣扬其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养生之道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文章，其中引入了《庖丁解牛》的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寓言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加以论证：人处世间，只有像庖丁那样，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顺应自然，避开一切矛盾，“以无厚入有间”才能“保身” “全生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665" t="2225" r="1665" b="22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31474" t="44693" r="41142" b="26640"/>
            <a:stretch/>
          </p:blipFill>
          <p:spPr>
            <a:xfrm>
              <a:off x="6248520" y="457200"/>
              <a:ext cx="259056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324000" y="76320"/>
            <a:ext cx="853272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庄子散文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浪漫主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是其散文的艺术特色，这与先秦各家不同，而独与屈原的楚辞近似，诙诡怪诞，汪洋恣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首先，是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大量使用寓言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庄子及其后学通过虚构的人物和故事讲自己的哲学观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其次，庄子寓言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想象丰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，有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惊人的夸张和奇妙的构思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、庄子有很高的语言驾御能力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散文词汇丰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谴词造句变化多端，描情状物多姿多彩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语言自然流畅又尖锐泼辣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韵声调铿锵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富有诗意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对后代影响较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总之，庄子的文章</a:t>
            </a:r>
            <a:r>
              <a:rPr b="1" lang="zh-CN" sz="2600" spc="-1" strike="noStrike" u="sng">
                <a:solidFill>
                  <a:srgbClr val="0033cc"/>
                </a:solidFill>
                <a:uFillTx/>
                <a:latin typeface="Times New Roman"/>
                <a:ea typeface="黑体"/>
              </a:rPr>
              <a:t>长于说理，想象丰富、妙趣横生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且哲学意味很浓，是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“文学的哲学”  “哲学的文学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rcRect l="1665" t="2225" r="1665" b="222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rcRect l="31474" t="44693" r="41142" b="26640"/>
            <a:stretch/>
          </p:blipFill>
          <p:spPr>
            <a:xfrm>
              <a:off x="6248520" y="457200"/>
              <a:ext cx="2590560" cy="205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3"/>
          <a:srcRect l="0" t="17771" r="17458" b="0"/>
          <a:stretch/>
        </p:blipFill>
        <p:spPr>
          <a:xfrm>
            <a:off x="4343400" y="685800"/>
            <a:ext cx="4495680" cy="563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295280"/>
            <a:ext cx="456732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庖丁解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庄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养生主 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048120"/>
            <a:ext cx="5559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厨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人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分解、分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549680"/>
            <a:ext cx="53434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228600"/>
            <a:ext cx="1523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解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1-17T09:24:39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