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2.gif" ContentType="image/gif"/>
  <Override PartName="/ppt/media/image7.gif" ContentType="image/gif"/>
  <Override PartName="/ppt/media/image13.png" ContentType="image/png"/>
  <Override PartName="/ppt/media/image11.jpeg" ContentType="image/jpeg"/>
  <Override PartName="/ppt/media/image6.jpeg" ContentType="image/jpeg"/>
  <Override PartName="/ppt/media/image4.jpeg" ContentType="image/jpeg"/>
  <Override PartName="/ppt/media/image3.gif" ContentType="image/gif"/>
  <Override PartName="/ppt/media/image19.jpeg" ContentType="image/jpeg"/>
  <Override PartName="/ppt/media/camera.wav" ContentType="audio/x-wav"/>
  <Override PartName="/ppt/media/image21.jpeg" ContentType="image/jpeg"/>
  <Override PartName="/ppt/media/image17.gif" ContentType="image/gif"/>
  <Override PartName="/ppt/media/image16.gif" ContentType="image/gif"/>
  <Override PartName="/ppt/media/image14.gif" ContentType="image/gif"/>
  <Override PartName="/ppt/media/image20.png" ContentType="image/png"/>
  <Override PartName="/ppt/media/image18.png" ContentType="image/png"/>
  <Override PartName="/ppt/media/image15.gif" ContentType="image/gif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55BD-AF4A-4397-B50B-CF590679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3B6-6E93-4038-BF8D-E9E6B3A1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CE5-1EFA-4CE5-8D35-E900D1B8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60C-3CFB-44F9-B964-BF7A5216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D58-5B73-4B96-B2A1-53E84328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D02-DE5B-406C-8DE6-4E91B570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FAB-533F-41DD-8A23-51D5D8CD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07A-706F-4C90-82D9-FAC88018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998-D3D2-4E92-9F11-BE4E5AEC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18A-6A7A-43BB-B4FC-E44F54FB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D62-D607-47D0-AFC2-664A66D6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3F0-E6AE-4C6B-A1A2-5F11BE41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294B-3E74-4F55-BF9E-E37EDC696B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558400" y="2746800"/>
            <a:ext cx="4824360" cy="1006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庖丁解牛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" name=""/>
          <p:cNvSpPr/>
          <p:nvPr/>
        </p:nvSpPr>
        <p:spPr>
          <a:xfrm>
            <a:off x="6089400" y="1844640"/>
            <a:ext cx="729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庄子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养生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467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48360" y="57340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郑州七中：赵秋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52829142"/>
          <p:cNvPicPr/>
          <p:nvPr/>
        </p:nvPicPr>
        <p:blipFill>
          <a:blip r:embed="rId1"/>
          <a:stretch/>
        </p:blipFill>
        <p:spPr>
          <a:xfrm>
            <a:off x="0" y="0"/>
            <a:ext cx="9344160" cy="6686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324000" y="549360"/>
            <a:ext cx="882000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、翻译句子（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良庖岁更刀，割也；族庖月更刀，折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20070330084040_480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826920" y="549360"/>
            <a:ext cx="756144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、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翻译句子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（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分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依乎天理，批大郤，导大窾，因其固然，技经肯綮之未尝，而况大軱乎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700280"/>
            <a:ext cx="1295280" cy="345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积累成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79640" y="907920"/>
            <a:ext cx="2521080" cy="79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目无全牛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刃有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踌躇满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切中肯綮：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图片 1" descr="opy.gif"/>
          <p:cNvPicPr/>
          <p:nvPr/>
        </p:nvPicPr>
        <p:blipFill>
          <a:blip r:embed="rId1"/>
          <a:stretch/>
        </p:blipFill>
        <p:spPr>
          <a:xfrm>
            <a:off x="0" y="0"/>
            <a:ext cx="19796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84720" y="2205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喻做事熟练，轻而易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836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用来形容技艺已达到十分纯熟的地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321300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文中是悠然自得，心满意足的意思。现指对自己的现状或取得的成就非常得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486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好切中事情的关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35120" y="1413000"/>
            <a:ext cx="750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当堂巩固练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48360" y="3500280"/>
            <a:ext cx="3995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1803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1052640"/>
            <a:ext cx="7777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下列句中划横线词语意义用法相同的一组是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刀而藏之         ②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哉！技盖至此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乃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会    ②莫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庖月更刀                ② 每至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庖丁之言            ②使使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1840" y="41878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912000" y="0"/>
            <a:ext cx="2232000" cy="1488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9640" y="1413000"/>
            <a:ext cx="8425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下列划横线的字词解释错误的一项是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庖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惠君解牛        为：介词，替，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乃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        之：结构助词，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入有间       厚：形容词，与“薄”相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虽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每至于族            虽然：即使这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28000" y="14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31840" y="41878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413000"/>
            <a:ext cx="8136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下列句子的句式特点与例句相同的一项是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句：臣之所好者道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庖岁更刀，割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其固然，技经肯綮之未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怵然为戒，视为止，行为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以十九年而刀刃若新发于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19162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图片 3" descr="gif016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32720" y="2924280"/>
            <a:ext cx="2220840" cy="3933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31840" y="41878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413000"/>
            <a:ext cx="8136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下列句子中成语使用错误的一项是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张师傅很有修车经验，对各种型号汽车的性能、结构等了如指掌，修理技术已达到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目无全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地步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曾在英国专修英国文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他用英文写作自然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游刃有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做事老是怕这怕那的，犹豫不决，真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踌躇满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看问题总是高瞻远瞩，分析起来能够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切中肯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使人听了豁然开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12000" y="141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04000" y="451800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63640" y="907920"/>
            <a:ext cx="4969080" cy="82512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深思考    明哲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21337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2133720"/>
            <a:ext cx="6840360" cy="24541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解牛之道与养生之道有何联系？庄子通过这个寓言又想告诉我们什么道理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412400" y="233280"/>
            <a:ext cx="1277640" cy="66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解牛之道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养生之道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有何联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260280"/>
            <a:ext cx="7333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1268280"/>
            <a:ext cx="549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22120" y="692280"/>
            <a:ext cx="13993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相似之处：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顺应自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189000"/>
            <a:ext cx="3744720" cy="12952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33336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1628640"/>
            <a:ext cx="7200720" cy="22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通过朗读，知识竞赛等方式疏通文意并掌握重要的文言知识。（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重点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通过深入思考，小组讨论的方式理解课文所阐发的人生哲理。（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难点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020000" y="3257640"/>
            <a:ext cx="2571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养生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总论：</a:t>
            </a:r>
            <a:br>
              <a:rPr sz="44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养生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养生的主要关键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 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“吾生也有涯，而知也无涯。以有涯随无涯，殆已！已而为知者，殆而已矣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善无近名，为恶无近刑，缘督以为经，可以保身，可以全生，可以养亲，可以尽年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    我们的生命是有限度的，而知识是没有限度的，以有限的生命去追求无限的知识，就会疲惫不堪了。那么，追求知识的人们，只能（弄得自己）疲惫不堪罢了。做好事不要追求名声，做坏事不要遭到刑罚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顺其自然之理以为常法，就可以保护生命，保全天性，可以养护身体，可以享尽天年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771640" y="-171360"/>
            <a:ext cx="3311640" cy="12952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81400" cy="1719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381560" y="3790800"/>
            <a:ext cx="4762440" cy="3067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迁移延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1268280"/>
            <a:ext cx="770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庖丁已经成为一代名“庖”，从他身上你得到了哪些启示？从庄子告诉我们的“顺应自然”的人生哲理中，你又获得了什么启示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请写一段文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530028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试着创作一篇能以生动的形象给人以某种启示的短小寓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41520" y="157320"/>
            <a:ext cx="607176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[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]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王国维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间词话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人生三境界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昨夜西风凋碧树。独上高楼，望尽天涯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隶书"/>
              </a:rPr>
              <a:t>臣之所好者，道也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畏艰难，目标高远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衣带渐宽终不悔，为伊消得人憔悴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隶书"/>
              </a:rPr>
              <a:t>三年之后、方今之时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坚定不移，孜孜以求。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众里寻他千百度，蓦然回首，那人却在，灯火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珊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隶书"/>
              </a:rPr>
              <a:t>以神遇而不以目视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千锤百炼，终成正果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1052640"/>
            <a:ext cx="8534520" cy="25311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它</a:t>
            </a:r>
            <a:r>
              <a:rPr b="1" lang="zh-CN" sz="3200" spc="-1" strike="noStrike">
                <a:solidFill>
                  <a:srgbClr val="0000cc"/>
                </a:solidFill>
                <a:latin typeface="幼圆"/>
                <a:ea typeface="幼圆"/>
              </a:rPr>
              <a:t>在一定意义上陶冶、培育和丰富了人的精神世界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。它可</a:t>
            </a:r>
            <a:r>
              <a:rPr b="1" lang="zh-CN" sz="3200" spc="-1" strike="noStrike">
                <a:solidFill>
                  <a:srgbClr val="0000cc"/>
                </a:solidFill>
                <a:latin typeface="幼圆"/>
                <a:ea typeface="幼圆"/>
              </a:rPr>
              <a:t>教人们忘怀得失，摆脱利害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。超脱种种庸俗无聊的现实计较和生活束缚，或高举远慕，或怡然自适，与活泼流动，盎然生意的大自然融为一片，从中</a:t>
            </a:r>
            <a:r>
              <a:rPr b="1" lang="zh-CN" sz="3200" spc="-1" strike="noStrike">
                <a:solidFill>
                  <a:srgbClr val="0000cc"/>
                </a:solidFill>
                <a:latin typeface="幼圆"/>
                <a:ea typeface="幼圆"/>
              </a:rPr>
              <a:t>获得生活的力量和生命的意趣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，从而</a:t>
            </a:r>
            <a:r>
              <a:rPr b="1" lang="zh-CN" sz="3200" spc="-1" strike="noStrike">
                <a:solidFill>
                  <a:srgbClr val="0000cc"/>
                </a:solidFill>
                <a:latin typeface="幼圆"/>
                <a:ea typeface="幼圆"/>
              </a:rPr>
              <a:t>抚慰人们心灵的创伤和生活的苦难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，这也正是中国历代士大夫知识分子在巨大的失败和不幸之后，并没有真正毁灭，而更多的是</a:t>
            </a:r>
            <a:r>
              <a:rPr b="1" lang="zh-CN" sz="3200" spc="-1" strike="noStrike">
                <a:solidFill>
                  <a:srgbClr val="0000cc"/>
                </a:solidFill>
                <a:latin typeface="幼圆"/>
                <a:ea typeface="幼圆"/>
              </a:rPr>
              <a:t>保存生命，坚持节操却隐逸循世以山水自娱，洁身自好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的道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084040" y="981000"/>
            <a:ext cx="48776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类物质文明高度发展的同时，人类的精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园也难免受到各方面的冲击，社会上的物欲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流，人格的扭曲，道德的沦丧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我们无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走的时候，哲学大师庄子的思想智慧和人格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光芒，穿透时空在我们的心中闪耀。追求精神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自由，让生命从世俗的尘网中挣脱出来，不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智累，不为情牵，不为名利搅扰，找回失落的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，重建我们的精神家园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1" name="camera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9640" y="692280"/>
            <a:ext cx="3745080" cy="12952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76500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能力拓展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1916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有人认为庄子的养生之道是一种消极的人生哲学，你怎么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84720" y="3068640"/>
            <a:ext cx="2571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219640" y="404640"/>
            <a:ext cx="392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国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先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个属于思想家的年代。在群星璀璨的夜空中，庄子是那类耀眼的星座之一。这个枯瘦的老人家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像一只下蛋的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趴在大自然的巢穴里勤勉地生产思想的鸡蛋，然后咯咯地叫着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“天道自然，养生全身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八个字，向人们传播自己的思想。庄子的思想被后人称之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最早的关注人心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哲学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4360" y="620640"/>
            <a:ext cx="8064360" cy="47793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读课文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疏文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朗读课文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读准字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结合注释逐句翻译课文，              注意圈点勾画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提出疑问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自主口译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合作探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教师释疑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00280"/>
            <a:ext cx="1295280" cy="345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文言知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84000" y="692280"/>
            <a:ext cx="6450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所字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1413000"/>
            <a:ext cx="76327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所触     所倚      所履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997360"/>
            <a:ext cx="6804000" cy="33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所＋动／形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cc"/>
                </a:solidFill>
                <a:latin typeface="Times New Roman"/>
                <a:ea typeface="华文新魏"/>
              </a:rPr>
              <a:t>用名词性词组翻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图片 1" descr="opy.gif"/>
          <p:cNvPicPr/>
          <p:nvPr/>
        </p:nvPicPr>
        <p:blipFill>
          <a:blip r:embed="rId1"/>
          <a:stretch/>
        </p:blipFill>
        <p:spPr>
          <a:xfrm>
            <a:off x="0" y="0"/>
            <a:ext cx="1979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49440" y="405900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1734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5"/>
          <p:cNvSpPr txBox="1"/>
          <p:nvPr/>
        </p:nvSpPr>
        <p:spPr>
          <a:xfrm>
            <a:off x="755640" y="1413000"/>
            <a:ext cx="504036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知识竞赛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gif012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1547640" y="2492280"/>
            <a:ext cx="381636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必答环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395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文言知识大比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209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庖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惠君解牛，手之所触，肩之所倚，足之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膝之所踦，砉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，奏刀騞然，莫不中音。合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桑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舞，乃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会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文惠君曰：“嘻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哉！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至此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庖丁释刀对曰：“臣之所好者道也，进乎技矣。始臣之解牛之时，所见无非牛者。三年之后，未尝见全牛也。方今之时，臣以神遇而不以目视，官知止而神欲行。依乎天理，批大郤，导大窾，因其固然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技经肯綮之未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而况大軱乎！良庖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刀，割也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庖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刀，折也。今臣之刀十九年矣，所解数千牛矣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而刀刃若新发于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彼节者有间，而刀刃者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以无厚入有间，恢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于游刃必有余地矣，是以十九年而刀刃若新发于硎。虽然，每至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吾见其难为，怵然为戒，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止，行为迟。动刀甚微，謋然已解，如土委地。提刀而立，为之四顾，为之踌躇满志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刀而藏之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文惠君曰：“善哉，吾闻庖丁之言，得养生焉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gif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327480" y="314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1547640" y="1844640"/>
            <a:ext cx="3672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抢答环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141670"/>
          <p:cNvPicPr/>
          <p:nvPr/>
        </p:nvPicPr>
        <p:blipFill>
          <a:blip r:embed="rId1"/>
          <a:stretch/>
        </p:blipFill>
        <p:spPr>
          <a:xfrm>
            <a:off x="0" y="0"/>
            <a:ext cx="9144000" cy="7983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20060924175446210"/>
          <p:cNvPicPr/>
          <p:nvPr/>
        </p:nvPicPr>
        <p:blipFill>
          <a:blip r:embed="rId2"/>
          <a:stretch/>
        </p:blipFill>
        <p:spPr>
          <a:xfrm>
            <a:off x="6804000" y="3716280"/>
            <a:ext cx="1944720" cy="26560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24000" y="476280"/>
            <a:ext cx="7272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文学常识填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每空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分，合计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分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）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庖丁解牛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的作者是     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____________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他是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时蒙人，思想家，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学派的重要代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庖丁解牛”的意思是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_______________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01:25:38Z</dcterms:created>
  <dc:creator>luyang</dc:creator>
  <dc:description/>
  <cp:keywords/>
  <dc:language>en-US</dc:language>
  <cp:lastModifiedBy>微软中国</cp:lastModifiedBy>
  <cp:lastPrinted>1899-12-30T00:00:00Z</cp:lastPrinted>
  <dcterms:modified xsi:type="dcterms:W3CDTF">2012-11-05T08:43:01Z</dcterms:modified>
  <cp:revision>2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