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D5F4-F4ED-4C4D-A39A-B8109EDA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EA8-DF9B-4AE6-BC38-DC2B6153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23D7-3724-43A6-9D6B-ABBCA8C9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B60-3B48-48D7-8232-50551F5F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682-F3FD-4639-816D-21830C88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198B-8BBE-45C6-9315-63A88567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7FF-B81F-477D-A401-AA1572D2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77AF-FEFE-41A7-A6CE-271A7C11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4A4-B838-4F9F-ABB3-4A6348D2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11CD-4CE9-49C7-8E09-E159BD5D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D1E-82C8-46D0-8553-7A489167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387-ED56-4E87-A6FA-D74B051C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BEAC-4A55-4444-89BB-D33FCFBDAC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1206;&#677;%CC%D5&#892;&#428;&amp;in=1743&amp;cl=2&amp;cm=1&amp;sc=0&amp;lm=-1&amp;pn=17&amp;rn=1&amp;di=1115180080&amp;ln=229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u=342871548,1022591815&amp;fm=0&amp;gp=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85440"/>
            <a:ext cx="3657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华文新魏"/>
              </a:rPr>
              <a:t>向来不恋故乡的我，想到</a:t>
            </a: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华文新魏"/>
              </a:rPr>
              <a:t>这里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华文新魏"/>
              </a:rPr>
              <a:t>，觉得故乡可爱极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u=1736634455,2182803842&amp;fm=3&amp;gp=11"/>
          <p:cNvPicPr/>
          <p:nvPr/>
        </p:nvPicPr>
        <p:blipFill>
          <a:blip r:embed="rId1"/>
          <a:stretch/>
        </p:blipFill>
        <p:spPr>
          <a:xfrm>
            <a:off x="4267080" y="-380880"/>
            <a:ext cx="487692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761760" y="1829880"/>
            <a:ext cx="7467480" cy="21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  <a:ea typeface="华文行楷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  <a:ea typeface="华文行楷"/>
              </a:rPr>
              <a:t>因为故乡有亲密的人、知心的朋友，更有那份难舍难分的情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小时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　　                      乡愁是一枚小小的邮票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　　                              我在这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　　                            母亲在那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　　                               长大后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　　                     乡愁是一张窄窄的船票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　　                              我在这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　　                           新娘在那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　　                              后来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　　                   乡愁是一方矮矮的坟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　　                             我在外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　　                           母亲在里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                   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而现在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　　                  乡愁是一湾浅浅的海峡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　　                           我在这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　　                        大陆在那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思乡曲2.mp3" descr=""/>
          <p:cNvPicPr/>
          <p:nvPr/>
        </p:nvPicPr>
        <p:blipFill>
          <a:blip r:embed="rId1"/>
          <a:stretch/>
        </p:blipFill>
        <p:spPr>
          <a:xfrm>
            <a:off x="533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228600" y="228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  <a:ea typeface="华文行楷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3.0)">
                                      <p:cBhvr>
                                        <p:cTn id="68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22824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华康海报体W12(P)"/>
                <a:ea typeface="华康海报体W12(P)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华文彩云"/>
                <a:ea typeface="华文彩云"/>
              </a:rPr>
              <a:t>课后作业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33526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描写一段自己家乡的特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CALJN0D7CAJ0D01OCA822FLVCABRA9AYCA5E78CGCAW0AVJDCAIMKL4GCAR0VQCECA7R8VJVCADXHIJECAXA4Z1VCAETF34VCAS5VLPUCAZVKRHYCAP09BZZCAIS388XCAS3PV8XCARB4N1KCA9E3HA7CAJAUZVY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0" y="14479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、从语言、写法、主题等角度，比较两者的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2133720"/>
            <a:ext cx="4419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e1d"/>
                </a:solidFill>
                <a:latin typeface="新宋体"/>
                <a:ea typeface="新宋体"/>
              </a:rPr>
              <a:t> </a:t>
            </a:r>
            <a:r>
              <a:rPr b="1" lang="zh-CN" sz="5400" spc="-1" strike="noStrike">
                <a:solidFill>
                  <a:srgbClr val="c00000"/>
                </a:solidFill>
                <a:latin typeface="華康墨字體"/>
                <a:ea typeface="華康墨字體"/>
              </a:rPr>
              <a:t>向来不恋故乡的我，想到这里，觉得故乡可爱极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u=944976516,2750932531&amp;fm=0&amp;gp=-16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u=464878551,3431951191&amp;fm=0&amp;gp=12"/>
          <p:cNvPicPr/>
          <p:nvPr/>
        </p:nvPicPr>
        <p:blipFill>
          <a:blip r:embed="rId2"/>
          <a:stretch/>
        </p:blipFill>
        <p:spPr>
          <a:xfrm>
            <a:off x="0" y="0"/>
            <a:ext cx="4572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u=2624336224,2956747857&amp;fm=0&amp;gp=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8001000" y="533520"/>
            <a:ext cx="458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695640" y="914400"/>
            <a:ext cx="2191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3a10f"/>
                </a:solidFill>
                <a:latin typeface="Arial"/>
                <a:ea typeface="華康娃娃體"/>
              </a:rPr>
              <a:t>藕与莼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5504760" y="3048120"/>
            <a:ext cx="13993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叶圣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80920" y="0"/>
            <a:ext cx="5334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叶圣陶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1894.10.28—1988.2.16)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原名叶绍钧。作家、教育家。早年试验新式教学。文学研究会发起人之一，曾主编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小说月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作品在文学史上占有重要位置。代表作有长篇小说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倪焕之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、童话集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稻草人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、短篇小说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潘先生在难中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等。建国后任出版、教育、文史等部门领导。在许多读者心目中，叶圣陶只是一个儿童文学作家及教育家，事实上，他的小说非常出色，他在现代文学史上的贡献也不容忽视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t11.baidu.com/it/u=308844030,2306211091&amp;fm=0&amp;gp=3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检查预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80880" y="9144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味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嚼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685800" y="27432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咀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嚼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4038480" y="1066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待价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886200" y="2666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zhu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清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33520" y="41148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硕腹巨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贾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4191120" y="41911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浑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íng(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666880" y="9907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2209680" y="28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ú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2743200" y="4191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617220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038480" y="2743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6019920" y="43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9"/>
          <p:cNvSpPr/>
          <p:nvPr/>
        </p:nvSpPr>
        <p:spPr>
          <a:xfrm>
            <a:off x="380880" y="304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用自己喜欢的方式诵读课文，在文中圈划描写藕与莼菜的句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u=1276205793,3849126287&amp;fm=0&amp;gp=-42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2971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1"/>
          <p:cNvSpPr/>
          <p:nvPr/>
        </p:nvSpPr>
        <p:spPr>
          <a:xfrm>
            <a:off x="228600" y="457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康海报体W12(P)"/>
              </a:rPr>
              <a:t>整体感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7"/>
          <p:cNvSpPr/>
          <p:nvPr/>
        </p:nvSpPr>
        <p:spPr>
          <a:xfrm>
            <a:off x="1371600" y="213372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5400" spc="-1" strike="noStrike">
                <a:solidFill>
                  <a:srgbClr val="ff5050"/>
                </a:solidFill>
                <a:latin typeface="Arial"/>
                <a:ea typeface="华康少女文字W5(P)"/>
              </a:rPr>
              <a:t>故乡的藕与莼菜和这里的藕与莼菜的特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57200" y="3808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00"/>
                </a:solidFill>
                <a:latin typeface="Arial"/>
                <a:ea typeface="华文行楷"/>
              </a:rPr>
              <a:t>小组讨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9"/>
          <p:cNvSpPr/>
          <p:nvPr/>
        </p:nvSpPr>
        <p:spPr>
          <a:xfrm>
            <a:off x="762120" y="762120"/>
            <a:ext cx="243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诵读描写文中故乡藕的句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u=553377328,2887239383&amp;fm=0&amp;gp=44"/>
          <p:cNvPicPr/>
          <p:nvPr/>
        </p:nvPicPr>
        <p:blipFill>
          <a:blip r:embed="rId2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20051216644168468.mp3" descr=""/>
          <p:cNvPicPr/>
          <p:nvPr/>
        </p:nvPicPr>
        <p:blipFill>
          <a:blip r:embed="rId3"/>
          <a:stretch/>
        </p:blipFill>
        <p:spPr>
          <a:xfrm>
            <a:off x="457200" y="5943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1.0)">
                                      <p:cBhvr>
                                        <p:cTn id="55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219320" y="4648320"/>
            <a:ext cx="647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朴实平易，淡雅自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200661295534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4419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-819720" y="152280"/>
            <a:ext cx="18262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语言特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</cp:lastModifiedBy>
  <dcterms:modified xsi:type="dcterms:W3CDTF">2008-11-16T01:14:49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3000000000001024120</vt:lpwstr>
  </property>
  <property fmtid="{D5CDD505-2E9C-101B-9397-08002B2CF9AE}" pid="3" name="Version">
    <vt:r8>1</vt:r8>
  </property>
</Properties>
</file>