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C34-DBDE-4990-A346-B183122A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74E-5F7E-46EB-87F5-88540E1A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0F6-E321-4813-9E73-E3C939C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9D6-27F5-4287-BA54-D0BD970B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82E-984C-4379-A14A-63121C0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183-5281-4BC7-A1BB-08B0758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D12-3E0F-445F-ACA4-F0F62B7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80D-CC19-4EF0-B12C-60D70A3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6CD-6D6D-4E79-B09F-819D9489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396-E02D-49A5-AE89-C4A9D9C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406-DF20-46C0-95EA-8F28174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4CB-E9DE-4A2C-91CC-867B10FE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0AE2-6C84-48F4-A1C9-C40D74122A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下雪了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37160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冬夜的灯光</a:t>
            </a:r>
            <a:endParaRPr b="1" lang="en-US" sz="2400" spc="1" strike="noStrike">
              <a:ln w="190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5334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莫里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吉布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6I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朱自清《冬天》描写冬夜及灯火的片断，试与课文比较，说说它们有何区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53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315200" cy="114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19520" y="609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拓展阅读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37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604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25909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积累爱心方面的格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课外阅读巴金的散文《灯》，朱自清的散文《冬天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762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推荐作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红苹果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红苹果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2590920"/>
            <a:ext cx="7239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理解文章运用的对比手法，体会环境描写的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感悟文章的思想内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9907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1447920"/>
            <a:ext cx="81532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偏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防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隆       引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及防      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无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程         领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言谢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2286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预习好了吗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1447920"/>
            <a:ext cx="81532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偏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防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隆       引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及防      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无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程         领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言谢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685800"/>
            <a:ext cx="8458200" cy="4650480"/>
            <a:chOff x="685800" y="685800"/>
            <a:chExt cx="8458200" cy="4650480"/>
          </a:xfrm>
        </p:grpSpPr>
        <p:sp>
          <p:nvSpPr>
            <p:cNvPr id="53" name=""/>
            <p:cNvSpPr/>
            <p:nvPr/>
          </p:nvSpPr>
          <p:spPr>
            <a:xfrm>
              <a:off x="685800" y="685800"/>
              <a:ext cx="845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pì       dī         qióng           qí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819520"/>
              <a:ext cx="75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cù                     kuò       yín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3000" y="4572000"/>
              <a:ext cx="6324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qǐ               wù     wǎn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5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772400" cy="103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1600200"/>
            <a:ext cx="6705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文章写了一件什么事？用自己的话概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读了文章后，你有怎样的感受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838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整体感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红苹果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红苹果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514600"/>
            <a:ext cx="7010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画出描写小镇和冬夜的语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探讨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：这些描写除了交待故事发生的地点、时间外，还有怎样的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合作探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060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R80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1828800"/>
            <a:ext cx="6934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文章以“冬夜的灯光”为题，有怎样的含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结尾引用阿瑟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查普曼的诗，有什么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合作探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7920" y="1447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在你的生活经验中，一定亲身感受或耳闻目睹过人于人之间相互关爱的故事，请讲给大家听。如你读过这样的故事，也可给大家推荐一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3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47000" cy="708120"/>
          </a:xfrm>
          <a:prstGeom prst="rect">
            <a:avLst/>
          </a:prstGeom>
          <a:ln w="0">
            <a:noFill/>
          </a:ln>
        </p:spPr>
      </p:pic>
      <p:pic>
        <p:nvPicPr>
          <p:cNvPr id="69" name="13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947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0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981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歌曲《爱的奉献》中有这样一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: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只要人人都献出一点爱，世界将变成美好的人间”，用最质朴的话语道出了人类最美好的情感。俗话说：送人玫瑰手有余香，去关爱自己、关爱他人吧，用金子般的爱心去点缀我们金子般的童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80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8:18:59Z</dcterms:created>
  <dc:creator>user</dc:creator>
  <dc:description/>
  <dc:language>en-US</dc:language>
  <cp:lastModifiedBy>user</cp:lastModifiedBy>
  <dcterms:modified xsi:type="dcterms:W3CDTF">2003-09-25T00:56:27Z</dcterms:modified>
  <cp:revision>96</cp:revision>
  <dc:subject/>
  <dc:title>PowerPoint 演示文稿</dc:title>
</cp:coreProperties>
</file>