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chimes.wav" ContentType="audio/x-wav"/>
  <Override PartName="/ppt/media/image1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1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4.png" ContentType="image/png"/>
  <Override PartName="/ppt/media/image22.gif" ContentType="image/gif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3.gif" ContentType="image/gi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5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<Relationship Id="rId37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1-05-09T11:02:19.604000000" idx="2">
    <p:pos x="5338" y="1037"/>
    <p:text/>
  </p:cm>
</p:cmLst>
</file>

<file path=ppt/comments/comment5.xml><?xml version="1.0" encoding="utf-8"?>
<p:cmLst xmlns:p="http://schemas.openxmlformats.org/presentationml/2006/main">
  <p:cm authorId="0" dt="2011-05-09T11:02:15.490000000" idx="1">
    <p:pos x="5370" y="893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72E-473A-4627-BD92-ACF1D961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149-FF38-4B1A-8CCB-D52FB9C3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41A72-56AC-42BF-B6B0-E90A50F7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53BDE-BD34-47AB-8EC2-FD048F26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97D08-981A-4EF8-A42F-6733202A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2FDF3-CC2F-41E4-972D-C9263E3E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36390-A811-41A1-8141-F5AF82D6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C0432-C5FC-4680-82EF-F7002CDA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C1D78-11B1-4BDA-9A67-FF13554A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A4F20-8B41-4844-B40D-9972A18C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9BF71-698F-47FC-95D6-785A2D0A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B53D0-0656-4027-A80B-B043AC2F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943-2D73-4565-BC7B-206FA947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43202-886D-4377-BD02-A3A2E241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787D1-A967-4766-A1B8-B9102B3D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44CC6-C824-40C5-9F39-B1DFE749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53756-182F-4F7A-BCA5-EBA18B79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961A6-123D-4594-8813-0B0C8888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52A87-229F-473E-AA5C-14B4ADEE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8B291-EFD2-476A-B96F-2736AC3B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5FBC3-C71B-4525-A0ED-37A4A743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99F64-2610-42E1-81A5-973AF6CB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FD0B8-AC70-4A46-A080-D2DB4A12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F61-2C3E-4183-8EAB-AA45A219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7173C-9822-400F-B6E0-14515BC0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94D9F-A64E-46FD-AEF0-EE5F7AB7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6B2A0-0B70-48D8-BBBB-4FB59A0F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31F9D-F58A-4B8E-AF78-51E8F8E9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862CD-8A9E-4DDB-B704-2ED627E0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47BE6-DA9E-45B7-A41E-F285B778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2549C-06B1-4880-97EF-8517F2BE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EF542-E19F-404F-8B15-BC30D4DF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0EA36-EF1F-42CF-B87F-3EA8DEB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30AA8-3D36-427F-8313-E4D531BD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05FB-FC3D-4F25-A2C0-55483CFE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2A6BC-A735-4958-B69B-5184B3A2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A7A25-CB85-4358-AB29-687E0C5F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76A61-8F6E-4783-A9A2-0E542998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4B1A-8510-41A6-B02E-19392A2A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639A-5C86-44D2-B427-6461C021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C522-DA89-46AD-AB48-021E6B72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986B-7EE3-4530-80F5-68899ADD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44F8-4DBB-4B74-91DA-8C3A7B02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EA72-0922-4DFB-AFB1-D202CBD1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28C-15AC-4945-96D8-1EAA60F1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FC50-B098-4AF5-892B-21FC5E3F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C24D-692F-477B-ACFF-1F266445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00D5-FF13-4DEC-BD8E-BE715E94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52E1-9BD7-402A-A1E4-F1981523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FE30-F0E9-4294-88A5-DF42AF3E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3881-A84F-48E0-BF1B-EFDB0646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9B35-4A2D-4B18-AA28-DB8AA72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A7102-96F8-4789-B640-C5F417A8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766F2-7653-4EC4-B0C7-0810A489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A9AC6-5D5E-474D-8358-2D553045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87C-DF5E-4C10-898F-5C17C0DB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FF10E-1CDD-484D-B26E-D1E0C188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1F3A-E5AE-40C7-9E8F-030269C2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D452-0492-44F1-AF70-A2003CEE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021A6-6228-43D4-9915-5C68DB2D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C75BE-75B0-47A7-9D4D-CFFC1E0E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E1F9-E325-40EC-ADBD-678D994A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B105-1F00-4668-98AF-A5F3283F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C7AF8-C57D-446A-A6D7-777AB48C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D2FAE-EC94-438B-AD37-ABCD4320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BA99-966F-4521-807D-F2B65DE4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B01-A54B-42C0-9483-CD24B563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9BFD-0CE7-440A-9EB0-67F4711E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8D87-C968-41B7-96A5-9CCA3E97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B836A-1C30-4705-A2A7-5B52CF17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0DBF-2AE7-4D61-9B95-146F10D0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35440-5B2B-4D3C-BA07-840889B4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67DB-9E8F-4D9F-A805-812FED8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C9AC7-D581-4E06-B17D-7CF78CED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1F71-3637-453F-BE50-29D68CB3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B7E41-777C-4128-A4F7-293EAB55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DA6C5-5DED-4A5E-A90F-7765D889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14D-33FD-4781-93E8-CB8CFE88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83D8D-C10A-4C7F-A59F-864BEFF1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6DAF4-45CA-45C3-8700-50875B7E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54783-762D-4C28-B3C2-31516BC8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1E407-E961-4B68-982F-3D82ECE4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339DF-B22E-4E8B-A687-CD653B1B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2B10E-FDBC-4662-944E-D13DF4D8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DC028-1CF4-41D0-8DDE-6C89AD17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53E5F-15A4-4826-898A-C6315501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C364F-AD8D-4D4C-BC97-2ADA1C6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770C7-24A4-4380-A3AD-E75E5B66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79C-2D9E-40F1-B60E-C7F38A82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48B14-7CF9-4EFD-B12B-5A814D47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07AB4-CFF6-4F79-A3FC-76C9A93F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19CC7-8D2D-4034-852F-1BBEE958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E240D-1ADB-4D3B-99EA-A8BAF662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282F8-4B62-4C56-98BA-42ADEC54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57269-80DC-496F-8FA4-6012A604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7C56F-4CE7-4506-BF58-94546B6B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CE175-F474-40B0-A141-AAA83718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A70D2-3833-4B04-A202-6EF3ABC4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68F23-3BEF-44B5-9140-77531C1D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A27-144A-406A-B80B-26E63108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F3FCE-846D-4EEF-B64F-D7F3D9D5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6DC31-8E43-4027-90EA-B295B27C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E6CBF-EB90-42E7-B6AB-4D210B1A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6A0CE-2F53-426A-ACFB-77312C04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BCD37-67D8-45C6-9227-FC28826E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45C8D-98CA-4C57-9240-06B51724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2F77E-7BA2-4B62-AC12-2620275A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EF397-1043-41D6-8DDB-14695EAE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30496-034D-4889-A179-03C5B9AB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70D78-2B6B-4279-B40B-D38D5BC5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554-7B27-4B7F-81EA-63F0643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8C285-2FEB-414A-A6D7-69F9C170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EA502-CFAD-47AD-873B-E297A4DE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03C2C-F7EA-450E-92FB-62C2D9BF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4852D-8850-48FF-A059-5573616C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0A9CF-D5CA-413C-BBFA-AAFB8B20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FBA76-1A1E-47C2-81D4-56207749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C25E4-B09D-4EAE-AC53-0E491782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F3873-E0E1-4528-A45C-B2ADBF2C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80944-4641-4FA6-AE4B-97A6C3DC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5B83D-6332-4530-BF74-F7B3339E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6E6-E0E0-4CCA-9273-4AE2F027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32939-F8EA-4CBC-9F0D-07D021FA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C1B7B-74CD-461D-8DD1-DD91477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A7EE3-4BB3-47E3-8EEF-8F49C646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57767-2C92-47B3-9739-EE03281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36E1A-753F-4759-813B-0FAF89C2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38920-C6EB-410D-873D-CFC52983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08157-B47A-4AC8-9FA9-F83F2501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AE4C1-1459-4CFA-87BF-FDAD5DF8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C2BAA-1360-44FA-8848-EB45CB3D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A8C9C-46D2-44F2-90C8-FC7C657A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52577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任意多边形 152578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任意多边形 152579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任意多边形 152580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任意多边形 152581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任意多边形 152582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任意多边形 152583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任意多边形 152584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任意多边形 152585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任意多边形 152586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任意多边形 152587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任意多边形 152588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任意多边形 152589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任意多边形 152590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任意多边形 152591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任意多边形 152592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任意多边形 152593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任意多边形 152594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任意多边形 152595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任意多边形 152596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任意多边形 152597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任意多边形 152598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任意多边形 152599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组合 152600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任意多边形 152601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任意多边形 152602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任意多边形 152603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873-E9D7-4ACD-AD5D-4862654871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组合 152577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613" name="任意多边形 152578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4" name="任意多边形 152579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5" name="任意多边形 152580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6" name="任意多边形 152581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7" name="任意多边形 152582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8" name="任意多边形 152583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9" name="任意多边形 152584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0" name="任意多边形 152585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1" name="任意多边形 152586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2" name="任意多边形 152587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3" name="任意多边形 152588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4" name="任意多边形 152589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5" name="任意多边形 152590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6" name="任意多边形 152591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7" name="任意多边形 152592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8" name="任意多边形 152593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9" name="任意多边形 152594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0" name="任意多边形 152595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1" name="任意多边形 152596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2" name="任意多边形 152597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3" name="任意多边形 152598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4" name="任意多边形 152599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635" name="组合 152600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636" name="任意多边形 152601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7" name="任意多边形 152602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8" name="任意多边形 152603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8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29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0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8293-97C7-46BC-A89A-AF191D615A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组合 152577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681" name="任意多边形 152578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2" name="任意多边形 152579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3" name="任意多边形 152580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4" name="任意多边形 152581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5" name="任意多边形 152582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6" name="任意多边形 152583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7" name="任意多边形 152584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8" name="任意多边形 152585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9" name="任意多边形 152586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0" name="任意多边形 152587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1" name="任意多边形 152588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2" name="任意多边形 152589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3" name="任意多边形 152590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4" name="任意多边形 152591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5" name="任意多边形 152592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6" name="任意多边形 152593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7" name="任意多边形 152594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8" name="任意多边形 152595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9" name="任意多边形 152596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0" name="任意多边形 152597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1" name="任意多边形 152598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2" name="任意多边形 152599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703" name="组合 152600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704" name="任意多边形 152601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5" name="任意多边形 152602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6" name="任意多边形 152603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3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3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3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65D7-7522-4A83-A50C-46FA1794AC93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153601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任意多边形 153602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任意多边形 153603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任意多边形 153604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任意多边形 153605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任意多边形 153606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任意多边形 153607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任意多边形 153608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任意多边形 153609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任意多边形 153610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任意多边形 153611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任意多边形 153612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任意多边形 153613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任意多边形 153614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任意多边形 153615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任意多边形 153616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任意多边形 153617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任意多边形 153618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任意多边形 153619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任意多边形 153620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任意多边形 153621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任意多边形 153622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任意多边形 153623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组合 153624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任意多边形 153625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任意多边形 153626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任意多边形 153627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0315-BBBD-4F24-A242-1694C09008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52577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37" name="任意多边形 152578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8" name="任意多边形 152579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" name="任意多边形 152580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任意多边形 152581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任意多边形 152582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任意多边形 152583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" name="任意多边形 152584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任意多边形 152585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任意多边形 152586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6" name="任意多边形 152587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任意多边形 152588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任意多边形 152589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任意多边形 152590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任意多边形 152591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任意多边形 152592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任意多边形 152593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任意多边形 152594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任意多边形 152595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任意多边形 152596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任意多边形 152597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任意多边形 152598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任意多边形 152599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9" name="组合 152600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160" name="任意多边形 152601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任意多边形 152602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任意多边形 152603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38CE-441B-4798-A3CA-F7E6EC09CD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152577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205" name="任意多边形 152578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6" name="任意多边形 152579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7" name="任意多边形 152580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8" name="任意多边形 152581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9" name="任意多边形 152582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0" name="任意多边形 152583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1" name="任意多边形 152584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任意多边形 152585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3" name="任意多边形 152586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4" name="任意多边形 152587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5" name="任意多边形 152588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6" name="任意多边形 152589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7" name="任意多边形 152590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8" name="任意多边形 152591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9" name="任意多边形 152592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0" name="任意多边形 152593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1" name="任意多边形 152594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2" name="任意多边形 152595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3" name="任意多边形 152596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4" name="任意多边形 152597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5" name="任意多边形 152598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6" name="任意多边形 152599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27" name="组合 152600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28" name="任意多边形 152601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9" name="任意多边形 152602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0" name="任意多边形 152603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B623-B9B0-4875-8974-BB3E2E171D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组合 152577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273" name="任意多边形 152578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4" name="任意多边形 152579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5" name="任意多边形 152580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6" name="任意多边形 152581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7" name="任意多边形 152582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8" name="任意多边形 152583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9" name="任意多边形 152584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0" name="任意多边形 152585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1" name="任意多边形 152586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2" name="任意多边形 152587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3" name="任意多边形 152588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4" name="任意多边形 152589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5" name="任意多边形 152590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6" name="任意多边形 152591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7" name="任意多边形 152592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8" name="任意多边形 152593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9" name="任意多边形 152594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0" name="任意多边形 152595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1" name="任意多边形 152596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2" name="任意多边形 152597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3" name="任意多边形 152598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4" name="任意多边形 152599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95" name="组合 152600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96" name="任意多边形 152601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7" name="任意多边形 152602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8" name="任意多边形 152603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3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4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5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F466-879B-40C4-82BA-5BD5D10F7B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组合 152577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341" name="任意多边形 152578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2" name="任意多边形 152579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3" name="任意多边形 152580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4" name="任意多边形 152581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5" name="任意多边形 152582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6" name="任意多边形 152583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7" name="任意多边形 152584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8" name="任意多边形 152585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9" name="任意多边形 152586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0" name="任意多边形 152587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1" name="任意多边形 152588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2" name="任意多边形 152589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3" name="任意多边形 152590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4" name="任意多边形 152591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5" name="任意多边形 152592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6" name="任意多边形 152593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7" name="任意多边形 152594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8" name="任意多边形 152595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9" name="任意多边形 152596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任意多边形 152597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1" name="任意多边形 152598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2" name="任意多边形 152599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63" name="组合 152600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364" name="任意多边形 152601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5" name="任意多边形 152602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6" name="任意多边形 152603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6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17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18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2C2A-7BAF-4406-B25B-321D72823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组合 152577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409" name="任意多边形 152578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0" name="任意多边形 152579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1" name="任意多边形 152580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2" name="任意多边形 152581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3" name="任意多边形 152582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4" name="任意多边形 152583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5" name="任意多边形 152584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6" name="任意多边形 152585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7" name="任意多边形 152586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8" name="任意多边形 152587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9" name="任意多边形 152588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0" name="任意多边形 152589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1" name="任意多边形 152590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2" name="任意多边形 152591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3" name="任意多边形 152592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4" name="任意多边形 152593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5" name="任意多边形 152594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6" name="任意多边形 152595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7" name="任意多边形 152596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8" name="任意多边形 152597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9" name="任意多边形 152598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0" name="任意多边形 152599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31" name="组合 152600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432" name="任意多边形 152601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3" name="任意多边形 152602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4" name="任意多边形 152603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9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0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1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F6E9-04B0-4BE4-B605-D1743C9624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组合 152577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477" name="任意多边形 152578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8" name="任意多边形 152579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9" name="任意多边形 152580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0" name="任意多边形 152581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1" name="任意多边形 152582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2" name="任意多边形 152583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3" name="任意多边形 152584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4" name="任意多边形 152585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5" name="任意多边形 152586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6" name="任意多边形 152587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7" name="任意多边形 152588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8" name="任意多边形 152589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9" name="任意多边形 152590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0" name="任意多边形 152591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1" name="任意多边形 152592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2" name="任意多边形 152593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3" name="任意多边形 152594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4" name="任意多边形 152595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5" name="任意多边形 152596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6" name="任意多边形 152597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7" name="任意多边形 152598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8" name="任意多边形 152599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9" name="组合 152600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500" name="任意多边形 152601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1" name="任意多边形 152602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2" name="任意多边形 152603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2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3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4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8110-72B8-4CDE-9E4F-DAA993E95F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组合 152577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545" name="任意多边形 152578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6" name="任意多边形 152579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7" name="任意多边形 152580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8" name="任意多边形 152581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9" name="任意多边形 152582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0" name="任意多边形 152583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1" name="任意多边形 152584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2" name="任意多边形 152585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3" name="任意多边形 152586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4" name="任意多边形 152587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5" name="任意多边形 152588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6" name="任意多边形 152589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7" name="任意多边形 152590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8" name="任意多边形 152591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9" name="任意多边形 152592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0" name="任意多边形 152593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1" name="任意多边形 152594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2" name="任意多边形 152595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3" name="任意多边形 152596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4" name="任意多边形 152597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5" name="任意多边形 152598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6" name="任意多边形 152599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67" name="组合 152600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568" name="任意多边形 152601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9" name="任意多边形 152602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0" name="任意多边形 152603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2798-8618-4328-8005-DAB37EF480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314,12,&#24187;&#28783;&#29255; 12" TargetMode="External"/><Relationship Id="rId3" Type="http://schemas.openxmlformats.org/officeDocument/2006/relationships/hyperlink" Target="306,16,&#24187;&#28783;&#29255; 16" TargetMode="External"/><Relationship Id="rId4" Type="http://schemas.openxmlformats.org/officeDocument/2006/relationships/hyperlink" Target="316,17,&#24187;&#28783;&#29255; 17" TargetMode="External"/><Relationship Id="rId5" Type="http://schemas.openxmlformats.org/officeDocument/2006/relationships/hyperlink" Target="319,18,&#24187;&#28783;&#29255; 18" TargetMode="External"/><Relationship Id="rId6" Type="http://schemas.openxmlformats.org/officeDocument/2006/relationships/hyperlink" Target="320,19,&#24187;&#28783;&#29255; 19" TargetMode="External"/><Relationship Id="rId7" Type="http://schemas.openxmlformats.org/officeDocument/2006/relationships/hyperlink" Target="321,20,&#24187;&#28783;&#29255; 20" TargetMode="External"/><Relationship Id="rId8" Type="http://schemas.openxmlformats.org/officeDocument/2006/relationships/hyperlink" Target="322,21,&#24187;&#28783;&#29255; 21" TargetMode="External"/><Relationship Id="rId9" Type="http://schemas.openxmlformats.org/officeDocument/2006/relationships/hyperlink" Target="312,22,&#24187;&#28783;&#29255; 22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326,6,&#24187;&#28783;&#29255; 6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图片 183297" descr="fj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矩形 183301"/>
          <p:cNvSpPr txBox="1"/>
          <p:nvPr/>
        </p:nvSpPr>
        <p:spPr>
          <a:xfrm>
            <a:off x="914400" y="2514600"/>
            <a:ext cx="720108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你一定会听见的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750" name="1.wmv" descr=""/>
          <p:cNvPicPr/>
          <p:nvPr/>
        </p:nvPicPr>
        <p:blipFill>
          <a:blip r:embed="rId2"/>
          <a:stretch/>
        </p:blipFill>
        <p:spPr>
          <a:xfrm>
            <a:off x="0" y="3505320"/>
            <a:ext cx="3886200" cy="3352680"/>
          </a:xfrm>
          <a:prstGeom prst="rect">
            <a:avLst/>
          </a:prstGeom>
          <a:ln w="0">
            <a:noFill/>
          </a:ln>
        </p:spPr>
      </p:pic>
      <p:pic>
        <p:nvPicPr>
          <p:cNvPr id="751" name="挥着翅膀的女孩.mp3" descr=""/>
          <p:cNvPicPr/>
          <p:nvPr/>
        </p:nvPicPr>
        <p:blipFill>
          <a:blip r:embed="rId3"/>
          <a:stretch/>
        </p:blipFill>
        <p:spPr>
          <a:xfrm>
            <a:off x="442764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5876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图片 170024" descr="雪景图20592134501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70001" descr="雪花0"/>
          <p:cNvPicPr/>
          <p:nvPr/>
        </p:nvPicPr>
        <p:blipFill>
          <a:blip r:embed="rId2"/>
          <a:stretch/>
        </p:blipFill>
        <p:spPr>
          <a:xfrm>
            <a:off x="5562720" y="4572000"/>
            <a:ext cx="304560" cy="152280"/>
          </a:xfrm>
          <a:prstGeom prst="rect">
            <a:avLst/>
          </a:prstGeom>
          <a:ln w="0">
            <a:noFill/>
          </a:ln>
        </p:spPr>
      </p:pic>
      <p:sp>
        <p:nvSpPr>
          <p:cNvPr id="801" name="云形标注 170021"/>
          <p:cNvSpPr/>
          <p:nvPr/>
        </p:nvSpPr>
        <p:spPr>
          <a:xfrm>
            <a:off x="228600" y="0"/>
            <a:ext cx="4038480" cy="1676520"/>
          </a:xfrm>
          <a:prstGeom prst="cloudCallout">
            <a:avLst>
              <a:gd name="adj1" fmla="val 79245"/>
              <a:gd name="adj2" fmla="val 134657"/>
            </a:avLst>
          </a:prstGeom>
          <a:solidFill>
            <a:srgbClr val="e1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语言优美形象富有诗情画意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2" name="文本框 170027"/>
          <p:cNvSpPr/>
          <p:nvPr/>
        </p:nvSpPr>
        <p:spPr>
          <a:xfrm>
            <a:off x="324000" y="3529080"/>
            <a:ext cx="8496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你听过雪花飘落的声音吗？ 一个宁静的冬夜，一朵小小的雪花从天上轻轻地、轻轻地飘下，飘呀飘，飘落在路边一盏孤灯的面颊上，微微地一阵暖意，小雪花满足而温柔地融化了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17614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176137"/>
          <p:cNvSpPr/>
          <p:nvPr/>
        </p:nvSpPr>
        <p:spPr>
          <a:xfrm>
            <a:off x="533520" y="457200"/>
            <a:ext cx="69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彩云"/>
              </a:rPr>
              <a:t>拓展延伸   段落仿写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5" name="文本框 176139"/>
          <p:cNvSpPr/>
          <p:nvPr/>
        </p:nvSpPr>
        <p:spPr>
          <a:xfrm>
            <a:off x="3305880" y="26877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段落仿写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图片 200711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07" name="文本框 200707"/>
          <p:cNvSpPr/>
          <p:nvPr/>
        </p:nvSpPr>
        <p:spPr>
          <a:xfrm>
            <a:off x="2525400" y="609480"/>
            <a:ext cx="45691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40000"/>
                </a:solidFill>
                <a:latin typeface="Times New Roman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Times New Roman"/>
                <a:ea typeface="宋体"/>
                <a:hlinkClick r:id="rId2"/>
              </a:rPr>
              <a:t>你听过春天柳树洗头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40000"/>
                </a:solidFill>
                <a:latin typeface="Times New Roman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Times New Roman"/>
                <a:ea typeface="宋体"/>
                <a:hlinkClick r:id="rId3"/>
              </a:rPr>
              <a:t>你听过蜻蜓点水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40000"/>
                </a:solidFill>
                <a:latin typeface="Times New Roman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Times New Roman"/>
                <a:ea typeface="宋体"/>
                <a:hlinkClick r:id="rId4"/>
              </a:rPr>
              <a:t>你听过小蚂蚁搬运食物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40000"/>
                </a:solidFill>
                <a:latin typeface="Times New Roman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Times New Roman"/>
                <a:ea typeface="宋体"/>
                <a:hlinkClick r:id="rId5"/>
              </a:rPr>
              <a:t>你听过树叶下落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40000"/>
                </a:solidFill>
                <a:latin typeface="Times New Roman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Times New Roman"/>
                <a:ea typeface="宋体"/>
                <a:hlinkClick r:id="rId6"/>
              </a:rPr>
              <a:t>你听过你听过蜜蜂采花粉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40000"/>
                </a:solidFill>
                <a:latin typeface="Times New Roman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Times New Roman"/>
                <a:ea typeface="宋体"/>
                <a:hlinkClick r:id="rId7"/>
              </a:rPr>
              <a:t>你听过知了唱歌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0000"/>
                </a:solidFill>
                <a:latin typeface="宋体"/>
              </a:rPr>
              <a:t>7</a:t>
            </a:r>
            <a:r>
              <a:rPr b="0" lang="zh-CN" sz="3200" spc="-1" strike="noStrike">
                <a:solidFill>
                  <a:srgbClr val="040000"/>
                </a:solidFill>
                <a:latin typeface="宋体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宋体"/>
                <a:ea typeface="宋体"/>
                <a:hlinkClick r:id="rId8"/>
              </a:rPr>
              <a:t>你听过蟋蟀弹琴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40000"/>
                </a:solidFill>
                <a:latin typeface="Times New Roman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9595ff"/>
                </a:solidFill>
                <a:uFillTx/>
                <a:latin typeface="Times New Roman"/>
                <a:ea typeface="宋体"/>
                <a:hlinkClick r:id="rId9"/>
              </a:rPr>
              <a:t>你听过杜鹃花怒放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8" name="任意多边形 200713"/>
          <p:cNvSpPr/>
          <p:nvPr/>
        </p:nvSpPr>
        <p:spPr>
          <a:xfrm>
            <a:off x="7524720" y="6021360"/>
            <a:ext cx="976320" cy="48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809" name="13.wma" descr=""/>
          <p:cNvPicPr/>
          <p:nvPr/>
        </p:nvPicPr>
        <p:blipFill>
          <a:blip r:embed="rId10"/>
          <a:stretch/>
        </p:blipFill>
        <p:spPr>
          <a:xfrm>
            <a:off x="334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99319" fill="hold"/>
                                        <p:tgtEl>
                                          <p:spTgt spid="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图片 201740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11" name="矩形 201732"/>
          <p:cNvSpPr/>
          <p:nvPr/>
        </p:nvSpPr>
        <p:spPr>
          <a:xfrm>
            <a:off x="685800" y="17524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a48"/>
                </a:solidFill>
                <a:latin typeface="宋体"/>
              </a:rPr>
              <a:t>   </a:t>
            </a:r>
            <a:r>
              <a:rPr b="0" lang="zh-CN" sz="4000" spc="-1" strike="noStrike">
                <a:solidFill>
                  <a:srgbClr val="4a4a48"/>
                </a:solidFill>
                <a:latin typeface="宋体"/>
                <a:ea typeface="宋体"/>
              </a:rPr>
              <a:t>你听过春天柳树洗头的声音吗？柳树有一头枯黄的长发。春风吹过，沙沙声响起来，柳树开始洗头了，洗呀洗呀，洗去了枯黄的污垢，戴上了嫩绿的新帽。</a:t>
            </a:r>
            <a:r>
              <a:rPr b="0" lang="en-US" sz="4000" spc="-1" strike="noStrike">
                <a:solidFill>
                  <a:srgbClr val="4a4a48"/>
                </a:solidFill>
                <a:latin typeface="Times New Roman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2" name="下弧形箭头 201742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202756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14" name="矩形 202755"/>
          <p:cNvSpPr/>
          <p:nvPr/>
        </p:nvSpPr>
        <p:spPr>
          <a:xfrm>
            <a:off x="228600" y="16606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a48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4a4a48"/>
                </a:solidFill>
                <a:latin typeface="宋体"/>
                <a:ea typeface="宋体"/>
              </a:rPr>
              <a:t>你听过鸟儿唱歌的声音吗？在一个春光明媚的日子里，几只小鸟停留在枝头，观赏着叶绿花红的美景，情不自禁地唱起欢快、悦耳的歌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5" name="下弧形箭头 202758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图片 180238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180235" descr="蜻蜓138"/>
          <p:cNvPicPr/>
          <p:nvPr/>
        </p:nvPicPr>
        <p:blipFill>
          <a:blip r:embed="rId2"/>
          <a:stretch/>
        </p:blipFill>
        <p:spPr>
          <a:xfrm>
            <a:off x="0" y="1295280"/>
            <a:ext cx="3581280" cy="4419720"/>
          </a:xfrm>
          <a:prstGeom prst="rect">
            <a:avLst/>
          </a:prstGeom>
          <a:ln w="0">
            <a:noFill/>
          </a:ln>
        </p:spPr>
      </p:pic>
      <p:sp>
        <p:nvSpPr>
          <p:cNvPr id="818" name="矩形 180237"/>
          <p:cNvSpPr/>
          <p:nvPr/>
        </p:nvSpPr>
        <p:spPr>
          <a:xfrm>
            <a:off x="3962520" y="838080"/>
            <a:ext cx="485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听过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蜻蜓点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声音吗？蜻蜓看见一面极亮极亮的大镜子，照出了蓝天白云，照出了红花绿叶，于是它朝那面镜子俯冲下去，近了，近了，它用尾巴轻轻一点，想停在上面照一照，“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一声，镜子碎了，世界摇晃了，蜻蜓慌忙逃走了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9" name="下弧形箭头 180240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203785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21" name="矩形 203779"/>
          <p:cNvSpPr/>
          <p:nvPr/>
        </p:nvSpPr>
        <p:spPr>
          <a:xfrm>
            <a:off x="533520" y="11430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a48"/>
                </a:solidFill>
                <a:latin typeface="宋体"/>
              </a:rPr>
              <a:t>   </a:t>
            </a:r>
            <a:r>
              <a:rPr b="0" lang="zh-CN" sz="4000" spc="-1" strike="noStrike">
                <a:solidFill>
                  <a:srgbClr val="4a4a48"/>
                </a:solidFill>
                <a:latin typeface="宋体"/>
                <a:ea typeface="宋体"/>
              </a:rPr>
              <a:t>你听过小蚂蚁搬运食物的声音吗？那天早上，蚂蚁们聚集在一起，紧紧咬住大青虫的肉皮，一起用力。大青虫一翻身，它们立刻向周围散开了。</a:t>
            </a:r>
            <a:r>
              <a:rPr b="0" lang="en-US" sz="4000" spc="-1" strike="noStrike">
                <a:solidFill>
                  <a:srgbClr val="4a4a48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2" name="下弧形箭头 203788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图片 206856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24" name="矩形 206852"/>
          <p:cNvSpPr/>
          <p:nvPr/>
        </p:nvSpPr>
        <p:spPr>
          <a:xfrm>
            <a:off x="76212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a48"/>
                </a:solidFill>
                <a:latin typeface="宋体"/>
              </a:rPr>
              <a:t>   </a:t>
            </a:r>
            <a:r>
              <a:rPr b="0" lang="zh-CN" sz="4000" spc="-1" strike="noStrike">
                <a:solidFill>
                  <a:srgbClr val="4a4a48"/>
                </a:solidFill>
                <a:latin typeface="宋体"/>
                <a:ea typeface="宋体"/>
              </a:rPr>
              <a:t>你听过树叶下落的声音吗？一个深秋的早上，一片树叶从枝头轻轻飘落，飘呀飘，落在路边池塘的水面上，微微一阵凉意，小树叶满足而缓慢地流走了。</a:t>
            </a:r>
            <a:r>
              <a:rPr b="0" lang="en-US" sz="4000" spc="-1" strike="noStrike">
                <a:solidFill>
                  <a:srgbClr val="4a4a48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5" name="下弧形箭头 206858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图片 207879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27" name="矩形 207876"/>
          <p:cNvSpPr/>
          <p:nvPr/>
        </p:nvSpPr>
        <p:spPr>
          <a:xfrm>
            <a:off x="372960" y="1600200"/>
            <a:ext cx="82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a48"/>
                </a:solidFill>
                <a:latin typeface="宋体"/>
              </a:rPr>
              <a:t>   </a:t>
            </a:r>
            <a:r>
              <a:rPr b="0" lang="zh-CN" sz="4000" spc="-1" strike="noStrike">
                <a:solidFill>
                  <a:srgbClr val="4a4a48"/>
                </a:solidFill>
                <a:latin typeface="宋体"/>
                <a:ea typeface="宋体"/>
              </a:rPr>
              <a:t>你听过蜜蜂采花粉的声音吗？在一个花园里，一只小蜜蜂轻轻地落在一朵花上，忙忙碌碌地采花粉，然后满足地飞走了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8" name="下弧形箭头 207881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20890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30" name="矩形 208900"/>
          <p:cNvSpPr/>
          <p:nvPr/>
        </p:nvSpPr>
        <p:spPr>
          <a:xfrm>
            <a:off x="228600" y="19051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a48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4a4a48"/>
                </a:solidFill>
                <a:latin typeface="宋体"/>
                <a:ea typeface="宋体"/>
              </a:rPr>
              <a:t>你听过知了唱歌的声音吗？一天中午，池塘边的杨树上知了在唱着夏天，突然一颗小石头打在附近的树枝上。“不好，打扰别人休息了！”它赶紧飞走了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1" name="下弧形箭头 20890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图片 185368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53" name="矩形 185367"/>
          <p:cNvSpPr txBox="1"/>
          <p:nvPr/>
        </p:nvSpPr>
        <p:spPr>
          <a:xfrm>
            <a:off x="762120" y="7621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听声音，看图片</a:t>
            </a:r>
            <a:endParaRPr b="0" lang="en-US" sz="5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209925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33" name="矩形 209923"/>
          <p:cNvSpPr/>
          <p:nvPr/>
        </p:nvSpPr>
        <p:spPr>
          <a:xfrm>
            <a:off x="457200" y="16765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a48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4a4a48"/>
                </a:solidFill>
                <a:latin typeface="宋体"/>
                <a:ea typeface="宋体"/>
              </a:rPr>
              <a:t>你听过蟋蟀弹琴的声音吗？夏日的夜晚，几只蟋蟀在园子里的草丛中拉起了小提琴，乐曲婉转悠扬，连小草也舞动身躯为乐曲伴舞了。</a:t>
            </a:r>
            <a:r>
              <a:rPr b="0" lang="en-US" sz="4000" spc="-1" strike="noStrike">
                <a:solidFill>
                  <a:srgbClr val="4a4a48"/>
                </a:solidFill>
                <a:latin typeface="Times New Roman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4" name="下弧形箭头 209927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图片 196615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196612" descr="杜鹃花"/>
          <p:cNvPicPr/>
          <p:nvPr/>
        </p:nvPicPr>
        <p:blipFill>
          <a:blip r:embed="rId2"/>
          <a:srcRect l="0" t="0" r="0" b="65"/>
          <a:stretch/>
        </p:blipFill>
        <p:spPr>
          <a:xfrm>
            <a:off x="304920" y="1143000"/>
            <a:ext cx="3657600" cy="4648320"/>
          </a:xfrm>
          <a:prstGeom prst="rect">
            <a:avLst/>
          </a:prstGeom>
          <a:ln w="0">
            <a:noFill/>
          </a:ln>
        </p:spPr>
      </p:pic>
      <p:sp>
        <p:nvSpPr>
          <p:cNvPr id="837" name="矩形 196614"/>
          <p:cNvSpPr/>
          <p:nvPr/>
        </p:nvSpPr>
        <p:spPr>
          <a:xfrm>
            <a:off x="4038480" y="8380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你听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杜鹃怒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声音吗？整整一个冬季，杜鹃都在聚集精华等待着。当春风不断加温，花骨朵开始突突突地翻滚起来，终于有一天，她达到了沸点，掀翻了花盖子，咕噜噜地一个个粉红色的泡泡全冒了出来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8" name="下弧形箭头 196617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211969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0" name="矩形 211970"/>
          <p:cNvSpPr txBox="1"/>
          <p:nvPr/>
        </p:nvSpPr>
        <p:spPr>
          <a:xfrm>
            <a:off x="762120" y="380880"/>
            <a:ext cx="3240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（八）课后作业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1" name="文本框 211971"/>
          <p:cNvSpPr/>
          <p:nvPr/>
        </p:nvSpPr>
        <p:spPr>
          <a:xfrm>
            <a:off x="609480" y="21016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      </a:t>
            </a: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课文结尾处写了几种声音游戏，选择其中一种，试着把感受用自己的语言描绘出来。（</a:t>
            </a:r>
            <a:r>
              <a:rPr b="1" lang="en-US" sz="4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200</a:t>
            </a: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华文新魏"/>
              </a:rPr>
              <a:t>字左右）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图片 146439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46435"/>
          <p:cNvSpPr/>
          <p:nvPr/>
        </p:nvSpPr>
        <p:spPr>
          <a:xfrm>
            <a:off x="3190680" y="990720"/>
            <a:ext cx="3211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生活中不是缺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美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而是缺少发现美的眼睛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生活中不是缺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音乐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而是缺少捕捉音乐的耳朵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生活中不是缺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爱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而是缺少感受爱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心灵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叫醒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我们的眼睛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叫醒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我们的耳朵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叫醒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我们的心灵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让我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用心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去感悟生活吧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44" name="文本框 146437"/>
          <p:cNvSpPr/>
          <p:nvPr/>
        </p:nvSpPr>
        <p:spPr>
          <a:xfrm>
            <a:off x="611280" y="152280"/>
            <a:ext cx="243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琥珀"/>
              </a:rPr>
              <a:t>结束语：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45" name="矩形 146440"/>
          <p:cNvSpPr txBox="1"/>
          <p:nvPr/>
        </p:nvSpPr>
        <p:spPr>
          <a:xfrm>
            <a:off x="1447920" y="1905120"/>
            <a:ext cx="5715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大家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图片 184323" descr="连花294_200524112858734_S"/>
          <p:cNvPicPr/>
          <p:nvPr/>
        </p:nvPicPr>
        <p:blipFill>
          <a:blip r:embed="rId1"/>
          <a:stretch/>
        </p:blipFill>
        <p:spPr>
          <a:xfrm>
            <a:off x="0" y="320040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184324" descr="06dycx36-1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756" name="cock公鸡2.wav" descr=""/>
          <p:cNvPicPr/>
          <p:nvPr/>
        </p:nvPicPr>
        <p:blipFill>
          <a:blip r:embed="rId3"/>
          <a:stretch/>
        </p:blipFill>
        <p:spPr>
          <a:xfrm>
            <a:off x="7010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7" name="n17蟋蟀.wav" descr=""/>
          <p:cNvPicPr/>
          <p:nvPr/>
        </p:nvPicPr>
        <p:blipFill>
          <a:blip r:embed="rId4"/>
          <a:stretch/>
        </p:blipFill>
        <p:spPr>
          <a:xfrm>
            <a:off x="6705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58" name="n22蚊子.wav" descr=""/>
          <p:cNvPicPr/>
          <p:nvPr/>
        </p:nvPicPr>
        <p:blipFill>
          <a:blip r:embed="rId5"/>
          <a:stretch/>
        </p:blipFill>
        <p:spPr>
          <a:xfrm>
            <a:off x="64008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9" name="zr9鸭子70.wav" descr=""/>
          <p:cNvPicPr/>
          <p:nvPr/>
        </p:nvPicPr>
        <p:blipFill>
          <a:blip r:embed="rId6"/>
          <a:stretch/>
        </p:blipFill>
        <p:spPr>
          <a:xfrm>
            <a:off x="7238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0" name="婴儿笑.wav" descr=""/>
          <p:cNvPicPr/>
          <p:nvPr/>
        </p:nvPicPr>
        <p:blipFill>
          <a:blip r:embed="rId7"/>
          <a:stretch/>
        </p:blipFill>
        <p:spPr>
          <a:xfrm>
            <a:off x="6095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1" name="雷声.mp3" descr=""/>
          <p:cNvPicPr/>
          <p:nvPr/>
        </p:nvPicPr>
        <p:blipFill>
          <a:blip r:embed="rId8"/>
          <a:stretch/>
        </p:blipFill>
        <p:spPr>
          <a:xfrm>
            <a:off x="57913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184346" descr="草叶上的露水图11131691"/>
          <p:cNvPicPr/>
          <p:nvPr/>
        </p:nvPicPr>
        <p:blipFill>
          <a:blip r:embed="rId9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184347" descr="蝴蝶"/>
          <p:cNvPicPr/>
          <p:nvPr/>
        </p:nvPicPr>
        <p:blipFill>
          <a:blip r:embed="rId10"/>
          <a:srcRect l="0" t="0" r="0" b="-67"/>
          <a:stretch/>
        </p:blipFill>
        <p:spPr>
          <a:xfrm>
            <a:off x="4267080" y="-27000"/>
            <a:ext cx="48769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15" fill="hold"/>
                                        <p:tgtEl>
                                          <p:spTgt spid="7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15"/>
                            </p:stCondLst>
                            <p:childTnLst>
                              <p:par>
                                <p:cTn id="2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232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47"/>
                            </p:stCondLst>
                            <p:childTnLst>
                              <p:par>
                                <p:cTn id="2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210" fill="hold"/>
                                        <p:tgtEl>
                                          <p:spTgt spid="7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257"/>
                            </p:stCondLst>
                            <p:childTnLst>
                              <p:par>
                                <p:cTn id="3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309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66"/>
                            </p:stCondLst>
                            <p:childTnLst>
                              <p:par>
                                <p:cTn id="3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256" fill="hold"/>
                                        <p:tgtEl>
                                          <p:spTgt spid="7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6822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7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图片 154630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65" name="矩形 154625"/>
          <p:cNvSpPr txBox="1"/>
          <p:nvPr/>
        </p:nvSpPr>
        <p:spPr>
          <a:xfrm>
            <a:off x="1371600" y="380880"/>
            <a:ext cx="2771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桂文亚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66" name="文本框 154626"/>
          <p:cNvSpPr/>
          <p:nvPr/>
        </p:nvSpPr>
        <p:spPr>
          <a:xfrm>
            <a:off x="228600" y="1600200"/>
            <a:ext cx="45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台湾女作家，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949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年出生。中国海峡两岸儿童文学研究会理事长。创作以散文为主，也写小说、报告文学、评论等。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出版的主要作品集有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思想猫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妈妈手记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思想猫游英国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班长下台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长着翅膀游英国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等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为海峡两岸文化交流作出了很大贡献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67" name="图片 154627" descr="0001"/>
          <p:cNvPicPr/>
          <p:nvPr/>
        </p:nvPicPr>
        <p:blipFill>
          <a:blip r:embed="rId2"/>
          <a:stretch/>
        </p:blipFill>
        <p:spPr>
          <a:xfrm>
            <a:off x="5111640" y="762120"/>
            <a:ext cx="4032360" cy="259236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154628" descr="0003"/>
          <p:cNvPicPr/>
          <p:nvPr/>
        </p:nvPicPr>
        <p:blipFill>
          <a:blip r:embed="rId3"/>
          <a:stretch/>
        </p:blipFill>
        <p:spPr>
          <a:xfrm>
            <a:off x="5111640" y="3641760"/>
            <a:ext cx="4032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图片 2064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70" name="文本框 2051"/>
          <p:cNvSpPr/>
          <p:nvPr/>
        </p:nvSpPr>
        <p:spPr>
          <a:xfrm>
            <a:off x="684360" y="19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1" name="文本框 2053"/>
          <p:cNvSpPr/>
          <p:nvPr/>
        </p:nvSpPr>
        <p:spPr>
          <a:xfrm>
            <a:off x="0" y="226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2" name="文本框 2056"/>
          <p:cNvSpPr/>
          <p:nvPr/>
        </p:nvSpPr>
        <p:spPr>
          <a:xfrm>
            <a:off x="-152280" y="4191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3" name="文本框 2058"/>
          <p:cNvSpPr/>
          <p:nvPr/>
        </p:nvSpPr>
        <p:spPr>
          <a:xfrm>
            <a:off x="-304920" y="6151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4" name="文本框 2060"/>
          <p:cNvSpPr/>
          <p:nvPr/>
        </p:nvSpPr>
        <p:spPr>
          <a:xfrm>
            <a:off x="304920" y="0"/>
            <a:ext cx="670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彩云"/>
              </a:rPr>
              <a:t>初读课文  整体感知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5" name="文本框 2063"/>
          <p:cNvSpPr/>
          <p:nvPr/>
        </p:nvSpPr>
        <p:spPr>
          <a:xfrm>
            <a:off x="304920" y="1371600"/>
            <a:ext cx="853416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华文新魏"/>
                <a:ea typeface="华文新魏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课文题目为“你一定会听见的”，那么作者希望我们听见些什么呢？</a:t>
            </a:r>
            <a:r>
              <a:rPr b="0" lang="zh-CN" sz="4000" spc="-1" strike="noStrike" u="sng">
                <a:solidFill>
                  <a:srgbClr val="9595ff"/>
                </a:solidFill>
                <a:uFillTx/>
                <a:latin typeface="华文新魏"/>
                <a:ea typeface="华文新魏"/>
                <a:hlinkClick r:id="rId2"/>
              </a:rPr>
              <a:t>请列举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作者认为“听”除了用耳朵之外，还应该用什么去听？又应该怎样去听呢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76" name="森林狂想曲.wma" descr=""/>
          <p:cNvPicPr/>
          <p:nvPr/>
        </p:nvPicPr>
        <p:blipFill>
          <a:blip r:embed="rId3"/>
          <a:stretch/>
        </p:blipFill>
        <p:spPr>
          <a:xfrm>
            <a:off x="802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81242" fill="hold"/>
                                        <p:tgtEl>
                                          <p:spTgt spid="7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图片 215048" descr="背景图7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78" name="矩形 215041"/>
          <p:cNvSpPr/>
          <p:nvPr/>
        </p:nvSpPr>
        <p:spPr>
          <a:xfrm>
            <a:off x="684360" y="1143000"/>
            <a:ext cx="571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－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段：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幼圆"/>
              </a:rPr>
              <a:t>蒲公英梳头的声音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幼圆"/>
              </a:rPr>
              <a:t>　　　　蚂蚁小跑步的声音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幼圆"/>
              </a:rPr>
              <a:t>　　　　雪花飘落的声音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9" name="右大括号 215042"/>
          <p:cNvSpPr/>
          <p:nvPr/>
        </p:nvSpPr>
        <p:spPr>
          <a:xfrm>
            <a:off x="6300720" y="1430280"/>
            <a:ext cx="71640" cy="1297080"/>
          </a:xfrm>
          <a:custGeom>
            <a:avLst/>
            <a:gdLst>
              <a:gd name="textAreaLeft" fmla="*/ 0 w 71640"/>
              <a:gd name="textAreaRight" fmla="*/ 25920 w 71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0" name="文本框 215043"/>
          <p:cNvSpPr/>
          <p:nvPr/>
        </p:nvSpPr>
        <p:spPr>
          <a:xfrm>
            <a:off x="6516720" y="1430280"/>
            <a:ext cx="1511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99"/>
                </a:solidFill>
                <a:latin typeface="Arial"/>
              </a:rPr>
              <a:t>富有诗意却细微得难以觉察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1" name="文本框 215044"/>
          <p:cNvSpPr/>
          <p:nvPr/>
        </p:nvSpPr>
        <p:spPr>
          <a:xfrm>
            <a:off x="1456920" y="3448080"/>
            <a:ext cx="30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段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风吹的声音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　动物的声音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　水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2" name="右大括号 215045"/>
          <p:cNvSpPr/>
          <p:nvPr/>
        </p:nvSpPr>
        <p:spPr>
          <a:xfrm>
            <a:off x="5292720" y="373536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3" name="文本框 215046"/>
          <p:cNvSpPr/>
          <p:nvPr/>
        </p:nvSpPr>
        <p:spPr>
          <a:xfrm>
            <a:off x="5508720" y="3807000"/>
            <a:ext cx="20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99"/>
                </a:solidFill>
                <a:latin typeface="Arial"/>
              </a:rPr>
              <a:t>习以为常却不被留意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4" name="下弧形箭头 215049"/>
          <p:cNvSpPr/>
          <p:nvPr/>
        </p:nvSpPr>
        <p:spPr>
          <a:xfrm>
            <a:off x="7467480" y="6095880"/>
            <a:ext cx="990720" cy="352440"/>
          </a:xfrm>
          <a:custGeom>
            <a:avLst/>
            <a:gdLst>
              <a:gd name="textAreaLeft" fmla="*/ 173160 w 990720"/>
              <a:gd name="textAreaRight" fmla="*/ 718200 w 99072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图片 3093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3086"/>
          <p:cNvSpPr/>
          <p:nvPr/>
        </p:nvSpPr>
        <p:spPr>
          <a:xfrm>
            <a:off x="0" y="9144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7" name="文本框 3087"/>
          <p:cNvSpPr/>
          <p:nvPr/>
        </p:nvSpPr>
        <p:spPr>
          <a:xfrm>
            <a:off x="152280" y="391464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我喜欢文中第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段“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            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”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因为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                               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         </a:t>
            </a:r>
            <a:r>
              <a:rPr b="1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请在该句旁边写好批注）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                                                   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8" name="矩形 3089"/>
          <p:cNvSpPr/>
          <p:nvPr/>
        </p:nvSpPr>
        <p:spPr>
          <a:xfrm>
            <a:off x="228600" y="2525760"/>
            <a:ext cx="83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（从修辞运用、句式选取、用词考虑等方面着手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9" name="文本框 3091"/>
          <p:cNvSpPr/>
          <p:nvPr/>
        </p:nvSpPr>
        <p:spPr>
          <a:xfrm>
            <a:off x="382680" y="1143000"/>
            <a:ext cx="82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找出文中你喜欢的句子，并说说你喜欢的理由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0" name="文本框 3095"/>
          <p:cNvSpPr/>
          <p:nvPr/>
        </p:nvSpPr>
        <p:spPr>
          <a:xfrm>
            <a:off x="1389240" y="136440"/>
            <a:ext cx="423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彩云"/>
              </a:rPr>
              <a:t>赏读课文  品味语言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图片 141319" descr="pgy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2" name="云形标注 141315"/>
          <p:cNvSpPr/>
          <p:nvPr/>
        </p:nvSpPr>
        <p:spPr>
          <a:xfrm>
            <a:off x="5410080" y="380880"/>
            <a:ext cx="3733920" cy="1295640"/>
          </a:xfrm>
          <a:prstGeom prst="cloudCallout">
            <a:avLst>
              <a:gd name="adj1" fmla="val -69601"/>
              <a:gd name="adj2" fmla="val 226837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拟人，语言优美形象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3" name="文本框 141316"/>
          <p:cNvSpPr/>
          <p:nvPr/>
        </p:nvSpPr>
        <p:spPr>
          <a:xfrm>
            <a:off x="0" y="62064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你听过蒲公英梳头的声音吗？蒲公英有一蓬金黄色的头发，当起风的时候，头发互相轻触着，像磨砂纸那样沙沙地一阵细响，转眼间，她的头发，全被风儿梳掉了！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4" name="椭圆 141317"/>
          <p:cNvSpPr/>
          <p:nvPr/>
        </p:nvSpPr>
        <p:spPr>
          <a:xfrm>
            <a:off x="7848720" y="5867280"/>
            <a:ext cx="228600" cy="2286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14848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796" name="文本框 148484"/>
          <p:cNvSpPr/>
          <p:nvPr/>
        </p:nvSpPr>
        <p:spPr>
          <a:xfrm>
            <a:off x="762120" y="838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你听过</a:t>
            </a:r>
            <a:r>
              <a:rPr b="1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80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只蚂蚁小跑步的声音吗？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那一天，蚂蚁们排列在红红的枫叶上准备做体操，“噗！”一粒小酸果从头顶落下，“不好，炸弹来了！”顷刻间，它们全逃散了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7" name="云形标注 148486"/>
          <p:cNvSpPr/>
          <p:nvPr/>
        </p:nvSpPr>
        <p:spPr>
          <a:xfrm>
            <a:off x="685800" y="4572000"/>
            <a:ext cx="3048120" cy="1447920"/>
          </a:xfrm>
          <a:prstGeom prst="cloudCallout">
            <a:avLst>
              <a:gd name="adj1" fmla="val 76148"/>
              <a:gd name="adj2" fmla="val -111291"/>
            </a:avLst>
          </a:prstGeom>
          <a:solidFill>
            <a:srgbClr val="ffe7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行楷"/>
              </a:rPr>
              <a:t>拟人，语言活泼风趣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8" name="椭圆 148487"/>
          <p:cNvSpPr/>
          <p:nvPr/>
        </p:nvSpPr>
        <p:spPr>
          <a:xfrm>
            <a:off x="7848720" y="5867280"/>
            <a:ext cx="228600" cy="2286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04Z</dcterms:created>
  <dc:creator/>
  <dc:description>新课标第一网xkb1.com</dc:description>
  <dc:language>en-US</dc:language>
  <cp:lastModifiedBy>admin</cp:lastModifiedBy>
  <dcterms:modified xsi:type="dcterms:W3CDTF">2019-04-24T08:17:27Z</dcterms:modified>
  <cp:revision>1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