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  <Override PartName="/ppt/comments/comment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<Relationship Id="rId65" Type="http://schemas.openxmlformats.org/officeDocument/2006/relationships/commentAuthors" Target="commentAuthors.xml"/>
</Relationships>
</file>

<file path=ppt/comments/comment9.xml><?xml version="1.0" encoding="utf-8"?>
<p:cmLst xmlns:p="http://schemas.openxmlformats.org/presentationml/2006/main">
  <p:cm authorId="0" dt="2012-03-28T09:32:30.151000000" idx="1">
    <p:pos x="4960" y="3661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f5f5f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5f5f5f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01760" y="6381720"/>
            <a:ext cx="2822400" cy="347760"/>
          </a:xfrm>
          <a:prstGeom prst="roundRect">
            <a:avLst>
              <a:gd name="adj" fmla="val 16667"/>
            </a:avLst>
          </a:prstGeom>
          <a:solidFill>
            <a:srgbClr val="ffffff">
              <a:alpha val="2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25520" y="6456240"/>
            <a:ext cx="323640" cy="200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112760" y="63864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808080"/>
                </a:solidFill>
                <a:latin typeface="华文中宋"/>
                <a:ea typeface="华文中宋"/>
              </a:rPr>
              <a:t>湖南长郡卫星远程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236000" y="6386400"/>
            <a:ext cx="16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2011</a:t>
            </a: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年上学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638640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制作 </a:t>
            </a:r>
            <a:r>
              <a:rPr b="0" lang="zh-CN" sz="1600" spc="-1" strike="noStrike">
                <a:solidFill>
                  <a:srgbClr val="808080"/>
                </a:solidFill>
                <a:latin typeface="黑体"/>
                <a:ea typeface="黑体"/>
              </a:rPr>
              <a:t>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59360" y="1798560"/>
            <a:ext cx="26622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859360" y="1798560"/>
            <a:ext cx="2662200" cy="8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859360" y="1798560"/>
            <a:ext cx="2662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859360" y="1798560"/>
            <a:ext cx="266220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59360" y="1798560"/>
            <a:ext cx="266220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59360" y="1798560"/>
            <a:ext cx="2662200" cy="22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85640" y="266220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9400" y="1258920"/>
            <a:ext cx="1643760" cy="3992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00480" y="1901880"/>
            <a:ext cx="281160" cy="2928960"/>
          </a:xfrm>
          <a:custGeom>
            <a:avLst/>
            <a:gdLst>
              <a:gd name="textAreaLeft" fmla="*/ 0 w 281160"/>
              <a:gd name="textAreaRight" fmla="*/ 101520 w 281160"/>
              <a:gd name="textAreaTop" fmla="*/ 76320 h 2928960"/>
              <a:gd name="textAreaBottom" fmla="*/ 2852640 h 292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52520" y="1901880"/>
            <a:ext cx="333360" cy="2895480"/>
          </a:xfrm>
          <a:custGeom>
            <a:avLst/>
            <a:gdLst>
              <a:gd name="textAreaLeft" fmla="*/ 213120 w 333360"/>
              <a:gd name="textAreaRight" fmla="*/ 333720 w 3333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859360" y="1798560"/>
            <a:ext cx="2662200" cy="29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4798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2776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79400" y="207180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8440" y="727200"/>
            <a:ext cx="3477960" cy="75204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豪  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6486480" y="284040"/>
            <a:ext cx="2135160" cy="326556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2413080" y="21128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描绘雄壮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rcRect l="14197" t="0" r="9496" b="2345"/>
          <a:stretch/>
        </p:blipFill>
        <p:spPr>
          <a:xfrm>
            <a:off x="351000" y="3422520"/>
            <a:ext cx="2119320" cy="3000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4548240" y="3500280"/>
            <a:ext cx="3922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刻画豪迈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12960" y="3516480"/>
            <a:ext cx="28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下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144880" y="1522440"/>
            <a:ext cx="7005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多写儿女情愁，羁旅之思。红，香，翠，软，题材狭窄，风格婉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00560" y="468360"/>
            <a:ext cx="28954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婉约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7162920" y="3597120"/>
            <a:ext cx="1981080" cy="32608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688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798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92776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79400" y="2071800"/>
            <a:ext cx="194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68440" y="727200"/>
            <a:ext cx="3477960" cy="75204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豪  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486480" y="284040"/>
            <a:ext cx="2135160" cy="32655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413080" y="21128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描绘雄壮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rcRect l="14197" t="0" r="9496" b="2345"/>
          <a:stretch/>
        </p:blipFill>
        <p:spPr>
          <a:xfrm>
            <a:off x="351000" y="3422520"/>
            <a:ext cx="2119320" cy="3000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4548240" y="3500280"/>
            <a:ext cx="392256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刻画豪迈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12960" y="3516480"/>
            <a:ext cx="28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下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224600" y="4827600"/>
            <a:ext cx="319824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实际：抒发豪壮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0" y="1074600"/>
            <a:ext cx="9144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东 坡 情 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480" y="528480"/>
            <a:ext cx="8958240" cy="56437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0960" y="896760"/>
            <a:ext cx="81234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　　苏轼幼年时即极为出色，深得老师赏识。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2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岁时，苏轼与弟弟苏辙一起随父离家进京，第二年兄弟二人都中了进士。当时的文坛领袖欧阳修读了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22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岁的苏轼所写的文章后说：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不觉汗出。快哉，快哉！老夫当避路，放他出人头地也。可喜！可喜！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并预言未来文坛将属于苏轼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480" y="528480"/>
            <a:ext cx="8958240" cy="56437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23800" y="1044720"/>
            <a:ext cx="8097840" cy="15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　　苏轼的政治思想比较保守，宋神宗时，王安石当政，行新法，苏轼极力反对，便请求外调，自熙宁四年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1071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）开始，他先后被派往杭州、密州、徐州、湖州等地任地方官。革新除弊，因法便民，颇有政绩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480" y="528480"/>
            <a:ext cx="8958240" cy="564372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95360" y="816120"/>
            <a:ext cx="8053200" cy="19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　　元丰二年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1079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）那些曾经依附过王安石的小人搜集苏轼对新政不满的诗句，弹劾苏轼，致其入狱。这就是宋代第一起文字狱——</a:t>
            </a: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乌台诗案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。苏轼被捕入狱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历时五个月，不论在朝在野，政见同与不同，营救者络绎不绝（包括王安石）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最后，神宗才决定不杀苏轼，而以贬为黄州团练副使了事。 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14480" y="343080"/>
            <a:ext cx="8958240" cy="6114960"/>
          </a:xfrm>
          <a:prstGeom prst="rect">
            <a:avLst/>
          </a:prstGeom>
          <a:solidFill>
            <a:srgbClr val="bbe0e3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7920" y="523800"/>
            <a:ext cx="851688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　　从元丰二年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(1079)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到元佑元年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(1086)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，苏轼在黄州生活的这七年，对苏轼一生产生了重大影响。黄州团练副使仅仅是个虚名，他不仅没有俸禄，而且受到监督，当时苏轼在许多信里反复叮嘱友人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看讫，火之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黑体"/>
              </a:rPr>
              <a:t>传闻京师，非细事也。他在黄州城东开垦了十亩荒地，田旁筑一茅屋，辛勤躬耕，自得其乐。在此期间，谪居中的他在游黄州郊外赤壁矶时有感而发，写下了这首借怀古以抒发怀抱的雄豪之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202360" y="3597120"/>
            <a:ext cx="1904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02360" y="3597120"/>
            <a:ext cx="1904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4880" y="1522440"/>
            <a:ext cx="7005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多写儿女情愁，羁旅之思。红，香，翠，软，题材狭窄，风格婉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0560" y="468360"/>
            <a:ext cx="28954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婉约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00560" y="3357720"/>
            <a:ext cx="289872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豪放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162920" y="3597120"/>
            <a:ext cx="1981080" cy="3260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688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02360" y="3597120"/>
            <a:ext cx="19047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202360" y="3597120"/>
            <a:ext cx="19047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老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97080" y="3932280"/>
            <a:ext cx="140004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多情应笑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早生华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一尊还酹江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02360" y="3597120"/>
            <a:ext cx="19047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老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7080" y="3932280"/>
            <a:ext cx="140004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多情应笑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早生华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隶书"/>
                <a:ea typeface="黑体"/>
              </a:rPr>
              <a:t>一尊还酹江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02360" y="3597120"/>
            <a:ext cx="19047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老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1760" y="3932280"/>
            <a:ext cx="140004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多情应笑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早生华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一尊还酹江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202360" y="3597120"/>
            <a:ext cx="19047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老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99880" y="1576440"/>
            <a:ext cx="99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周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051280" y="384120"/>
            <a:ext cx="1643760" cy="32619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小乔初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雄姿英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羽扇纶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谈笑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樯橹灰飞烟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800" y="415296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01760" y="3932280"/>
            <a:ext cx="1400040" cy="1994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多情应笑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早生华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黑体"/>
              </a:rPr>
              <a:t>一尊还酹江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29240" y="1214280"/>
            <a:ext cx="280800" cy="1971720"/>
          </a:xfrm>
          <a:custGeom>
            <a:avLst/>
            <a:gdLst>
              <a:gd name="textAreaLeft" fmla="*/ 0 w 280800"/>
              <a:gd name="textAreaRight" fmla="*/ 101520 w 280800"/>
              <a:gd name="textAreaTop" fmla="*/ 51120 h 1971720"/>
              <a:gd name="textAreaBottom" fmla="*/ 1920600 h 19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29240" y="4272120"/>
            <a:ext cx="266760" cy="1395360"/>
          </a:xfrm>
          <a:custGeom>
            <a:avLst/>
            <a:gdLst>
              <a:gd name="textAreaLeft" fmla="*/ 0 w 266760"/>
              <a:gd name="textAreaRight" fmla="*/ 96120 w 266760"/>
              <a:gd name="textAreaTop" fmla="*/ 36360 h 1395360"/>
              <a:gd name="textAreaBottom" fmla="*/ 1359000 h 13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009800" y="1301760"/>
            <a:ext cx="304560" cy="1752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009800" y="412920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02360" y="812880"/>
            <a:ext cx="266220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侠骨柔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英雄气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儒雅从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功成业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202360" y="3597120"/>
            <a:ext cx="19047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仕途坎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命运多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壮志未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年老无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270920" y="2716200"/>
            <a:ext cx="633240" cy="1828800"/>
          </a:xfrm>
          <a:custGeom>
            <a:avLst/>
            <a:gdLst>
              <a:gd name="textAreaLeft" fmla="*/ 84600 w 633240"/>
              <a:gd name="textAreaRight" fmla="*/ 548640 w 6332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51560" y="2825640"/>
            <a:ext cx="54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3531600" y="571680"/>
            <a:ext cx="1521720" cy="76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豪壮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531600" y="571680"/>
            <a:ext cx="1521720" cy="764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豪壮之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67000" y="179244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仿宋_GB2312"/>
              </a:rPr>
              <a:t>对古代英雄豪杰的缅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305800" y="263052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仿宋_GB2312"/>
              </a:rPr>
              <a:t>对功业早就的周瑜的仰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95800" y="35323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仿宋_GB2312"/>
              </a:rPr>
              <a:t>对自己建功立业的渴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273560" y="444672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仿宋_GB2312"/>
              </a:rPr>
              <a:t>对现今壮志难酬的感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647640" y="1092240"/>
            <a:ext cx="2019240" cy="2095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写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41600" y="1752480"/>
            <a:ext cx="2019240" cy="20955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怀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350040" y="1028880"/>
            <a:ext cx="2019240" cy="2095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抒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88840" y="3492360"/>
            <a:ext cx="2794320" cy="1676520"/>
          </a:xfrm>
          <a:custGeom>
            <a:avLst/>
            <a:gdLst>
              <a:gd name="textAreaLeft" fmla="*/ 488880 w 2794320"/>
              <a:gd name="textAreaRight" fmla="*/ 2026080 w 2794320"/>
              <a:gd name="textAreaTop" fmla="*/ 224640 h 1676520"/>
              <a:gd name="textAreaBottom" fmla="*/ 1451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295960" y="3556080"/>
            <a:ext cx="2768400" cy="1536480"/>
          </a:xfrm>
          <a:custGeom>
            <a:avLst/>
            <a:gdLst>
              <a:gd name="textAreaLeft" fmla="*/ 484200 w 2768400"/>
              <a:gd name="textAreaRight" fmla="*/ 2007000 w 2768400"/>
              <a:gd name="textAreaTop" fmla="*/ 205560 h 1536480"/>
              <a:gd name="textAreaBottom" fmla="*/ 1330920 h 153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144880" y="1522440"/>
            <a:ext cx="7005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多写儿女情愁，羁旅之思。红，香，翠，软，题材狭窄，风格婉约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03200" y="447984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　　将江山，人物，历史，国事融入词中，题材多样，气势雄浑，境界阔大，风格豪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00560" y="468360"/>
            <a:ext cx="289548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婉约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400560" y="3357720"/>
            <a:ext cx="2898720" cy="764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行楷"/>
              </a:rPr>
              <a:t>豪放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162920" y="3597120"/>
            <a:ext cx="1981080" cy="326088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36880" cy="3006720"/>
          </a:xfrm>
          <a:prstGeom prst="rect">
            <a:avLst/>
          </a:prstGeom>
          <a:ln w="0">
            <a:noFill/>
          </a:ln>
        </p:spPr>
      </p:pic>
      <p:sp>
        <p:nvSpPr>
          <p:cNvPr id="328" name="">
            <a:hlinkClick r:id="rId3"/>
          </p:cNvPr>
          <p:cNvSpPr/>
          <p:nvPr/>
        </p:nvSpPr>
        <p:spPr>
          <a:xfrm>
            <a:off x="331920" y="3355920"/>
            <a:ext cx="1170000" cy="741240"/>
          </a:xfrm>
          <a:custGeom>
            <a:avLst/>
            <a:gdLst>
              <a:gd name="textAreaLeft" fmla="*/ 47880 w 1170000"/>
              <a:gd name="textAreaRight" fmla="*/ 1122120 w 1170000"/>
              <a:gd name="textAreaTop" fmla="*/ 47880 h 741240"/>
              <a:gd name="textAreaBottom" fmla="*/ 693360 h 741240"/>
            </a:gdLst>
            <a:ahLst/>
            <a:rect l="textAreaLeft" t="textAreaTop" r="textAreaRight" b="textAreaBottom"/>
            <a:pathLst>
              <a:path w="34088" h="21600">
                <a:moveTo>
                  <a:pt x="0" y="0"/>
                </a:moveTo>
                <a:lnTo>
                  <a:pt x="34088" y="0"/>
                </a:lnTo>
                <a:lnTo>
                  <a:pt x="34088" y="21600"/>
                </a:lnTo>
                <a:lnTo>
                  <a:pt x="0" y="21600"/>
                </a:lnTo>
                <a:close/>
              </a:path>
              <a:path fill="lightenLess" w="34088" h="21600">
                <a:moveTo>
                  <a:pt x="0" y="0"/>
                </a:moveTo>
                <a:lnTo>
                  <a:pt x="34088" y="0"/>
                </a:lnTo>
                <a:lnTo>
                  <a:pt x="32688" y="1400"/>
                </a:lnTo>
                <a:lnTo>
                  <a:pt x="1400" y="1400"/>
                </a:lnTo>
                <a:close/>
              </a:path>
              <a:path fill="darken" w="34088" h="21600">
                <a:moveTo>
                  <a:pt x="34088" y="0"/>
                </a:moveTo>
                <a:lnTo>
                  <a:pt x="34088" y="21600"/>
                </a:lnTo>
                <a:lnTo>
                  <a:pt x="32688" y="20200"/>
                </a:lnTo>
                <a:lnTo>
                  <a:pt x="32688" y="1400"/>
                </a:lnTo>
                <a:close/>
              </a:path>
              <a:path fill="darkenLess" w="34088" h="21600">
                <a:moveTo>
                  <a:pt x="34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88" y="20200"/>
                </a:lnTo>
                <a:close/>
              </a:path>
              <a:path fill="lighten" w="34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088" h="21600">
                <a:moveTo>
                  <a:pt x="10038" y="8406"/>
                </a:moveTo>
                <a:lnTo>
                  <a:pt x="14468" y="8406"/>
                </a:lnTo>
                <a:lnTo>
                  <a:pt x="18889" y="3794"/>
                </a:lnTo>
                <a:lnTo>
                  <a:pt x="18889" y="17806"/>
                </a:lnTo>
                <a:lnTo>
                  <a:pt x="14468" y="13194"/>
                </a:lnTo>
                <a:lnTo>
                  <a:pt x="10038" y="13194"/>
                </a:lnTo>
                <a:close/>
              </a:path>
              <a:path fill="darken" w="34088" h="21600">
                <a:moveTo>
                  <a:pt x="20543" y="10800"/>
                </a:moveTo>
                <a:lnTo>
                  <a:pt x="24051" y="10800"/>
                </a:lnTo>
              </a:path>
              <a:path fill="darken" w="34088" h="21600">
                <a:moveTo>
                  <a:pt x="20543" y="8406"/>
                </a:moveTo>
                <a:lnTo>
                  <a:pt x="24051" y="5639"/>
                </a:lnTo>
              </a:path>
              <a:path fill="darken" w="34088" h="21600">
                <a:moveTo>
                  <a:pt x="20543" y="13194"/>
                </a:moveTo>
                <a:lnTo>
                  <a:pt x="24051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65240" y="2001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79840" y="3297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2776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9400" y="2071800"/>
            <a:ext cx="26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上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8440" y="727200"/>
            <a:ext cx="3477960" cy="75204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黑体"/>
                <a:ea typeface="黑体"/>
              </a:rPr>
              <a:t>豪  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86480" y="284040"/>
            <a:ext cx="2135160" cy="3265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3080" y="211284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描绘雄壮之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rcRect l="14197" t="0" r="9496" b="2345"/>
          <a:stretch/>
        </p:blipFill>
        <p:spPr>
          <a:xfrm>
            <a:off x="351000" y="3422520"/>
            <a:ext cx="2119320" cy="3000600"/>
          </a:xfrm>
          <a:prstGeom prst="rect">
            <a:avLst/>
          </a:prstGeom>
          <a:ln w="76320">
            <a:solidFill>
              <a:srgbClr val="993300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4548240" y="3500280"/>
            <a:ext cx="4373640" cy="8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刻画豪迈之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12960" y="3516480"/>
            <a:ext cx="282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下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682560"/>
            <a:ext cx="9144000" cy="56739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1719360"/>
            <a:ext cx="9144000" cy="1014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36640" y="1836720"/>
            <a:ext cx="75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风雨中，踏雨吟啸，怡然自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1719360"/>
            <a:ext cx="9144000" cy="1014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3559320"/>
            <a:ext cx="9144000" cy="10141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36640" y="3699000"/>
            <a:ext cx="705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风雨后，蓦然回首，云淡风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36640" y="1836720"/>
            <a:ext cx="759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风雨中，踏雨吟啸，怡然自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5064120" y="573120"/>
            <a:ext cx="3452760" cy="5634000"/>
          </a:xfrm>
          <a:prstGeom prst="rect">
            <a:avLst/>
          </a:prstGeom>
          <a:ln w="57240">
            <a:solidFill>
              <a:srgbClr val="990000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569880" y="414360"/>
            <a:ext cx="2641680" cy="7642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黑体"/>
              </a:rPr>
              <a:t> </a:t>
            </a:r>
            <a:r>
              <a:rPr b="1" lang="zh-CN" sz="4400" spc="-1" strike="noStrike">
                <a:solidFill>
                  <a:srgbClr val="990000"/>
                </a:solidFill>
                <a:latin typeface="Arial"/>
                <a:ea typeface="黑体"/>
              </a:rPr>
              <a:t>苏轼形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12920" y="1496880"/>
            <a:ext cx="423036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吟啸徐行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竹杖芒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顶风冒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不畏艰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从容镇定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         </a:t>
            </a:r>
            <a:r>
              <a:rPr b="1" lang="zh-CN" sz="4000" spc="-1" strike="noStrike">
                <a:solidFill>
                  <a:srgbClr val="990000"/>
                </a:solidFill>
                <a:latin typeface="Arial"/>
                <a:ea typeface="黑体"/>
              </a:rPr>
              <a:t>旷达乐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-6480" y="687240"/>
            <a:ext cx="9144000" cy="5640480"/>
          </a:xfrm>
          <a:prstGeom prst="rect">
            <a:avLst/>
          </a:prstGeom>
          <a:solidFill>
            <a:srgbClr val="ffffff"/>
          </a:solidFill>
          <a:ln w="0">
            <a:solidFill>
              <a:srgbClr val="990000"/>
            </a:solidFill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   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归去来兮，吾归何处？万里家在岷峨。百年强半，来日苦无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《满庭芳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夜阑风静縠纹平。小舟从此逝，江海寄余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《临江仙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  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我欲乘风归去，又恐琼楼玉宇，高处不胜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——</a:t>
            </a:r>
            <a:r>
              <a:rPr b="1" lang="zh-CN" sz="2800" spc="-1" strike="noStrike">
                <a:solidFill>
                  <a:srgbClr val="990000"/>
                </a:solidFill>
                <a:latin typeface="微软雅黑"/>
                <a:ea typeface="微软雅黑"/>
              </a:rPr>
              <a:t>《水调歌头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25200" y="837720"/>
            <a:ext cx="9118440" cy="468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隶变简体"/>
                <a:ea typeface="方正隶变简体"/>
              </a:rPr>
              <a:t>    </a:t>
            </a:r>
            <a:r>
              <a:rPr b="1" lang="zh-CN" sz="3600" spc="-1" strike="noStrike">
                <a:solidFill>
                  <a:srgbClr val="990000"/>
                </a:solidFill>
                <a:latin typeface="方正隶变简体"/>
                <a:ea typeface="方正隶变简体"/>
              </a:rPr>
              <a:t>因为他爱诗歌，他对人生热爱之强使他不能苦修做和尚；又由于他爱哲学，他的智慧之高，使他不会沉溺而不能自拔。 因为他精通哲理，所以不能做道学家；同样，也因为他深究儒学，固也不能为醉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方正隶变简体"/>
                <a:ea typeface="方正隶变简体"/>
              </a:rPr>
              <a:t>                ——</a:t>
            </a:r>
            <a:r>
              <a:rPr b="1" lang="zh-CN" sz="3600" spc="-1" strike="noStrike">
                <a:solidFill>
                  <a:srgbClr val="990000"/>
                </a:solidFill>
                <a:latin typeface="方正隶变简体"/>
                <a:ea typeface="方正隶变简体"/>
              </a:rPr>
              <a:t>林语堂《苏东坡传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240" y="493200"/>
            <a:ext cx="9183960" cy="51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屈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陶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李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苏轼栖息黄州用旷达去稀释自己的幽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2240" y="493200"/>
            <a:ext cx="9183960" cy="5170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屈原自沉汨罗用生命去捍卫自己的理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陶潜归隐南山用淡然去抒展自己的怨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李白放浪形骸用豪放去涂抹自己的颓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杜甫幽居草堂用抑郁去悲吟自己的失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  </a:t>
            </a:r>
            <a:r>
              <a:rPr b="1" lang="zh-CN" sz="3600" spc="-1" strike="noStrike">
                <a:solidFill>
                  <a:srgbClr val="990000"/>
                </a:solidFill>
                <a:latin typeface="微软雅黑"/>
                <a:ea typeface="微软雅黑"/>
              </a:rPr>
              <a:t>苏轼栖息黄州用旷达去稀释自己的幽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-360" y="3995640"/>
            <a:ext cx="9163080" cy="2054160"/>
          </a:xfrm>
          <a:prstGeom prst="rect">
            <a:avLst/>
          </a:prstGeom>
          <a:solidFill>
            <a:srgbClr val="ffffff"/>
          </a:solidFill>
          <a:ln w="9360">
            <a:solidFill>
              <a:srgbClr val="99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楷体_GB2312"/>
              </a:rPr>
              <a:t>对待仕途挫折，抱着开朗乐观、意气昂扬的态度，绝不气馁颓丧，坚守心中信念，表达了乐观旷达的情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41360" y="423720"/>
            <a:ext cx="8259840" cy="35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速读下面作品，分析其所蕴含的人生态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东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苏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雨洗东坡月色清，市人行尽野人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莫嫌荦确坡头路，自爱铿然曳杖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3306600" y="666720"/>
            <a:ext cx="23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蝶恋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92160" y="1674720"/>
            <a:ext cx="7021440" cy="418644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花褪残红青杏小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燕子飞时，绿水人家绕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枝上柳绵吹又少，天涯何处无芳草！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墙里秋千墙外道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墙外行人，墙里佳人笑。 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笑渐不闻声渐悄，多情却被无情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26080" y="203040"/>
            <a:ext cx="3149640" cy="104148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高远清新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4933800"/>
            <a:ext cx="9144000" cy="70344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大江东去，浪淘尽，千古风流人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74840" y="1901880"/>
            <a:ext cx="8173800" cy="150228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　　老夫聊发少年狂，左牵黄，右擎苍。锦帽貂裘，千骑卷平冈。为报倾城随太守，亲射虎，看孙郎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　　酒酣胸胆尚开张，鬓微霜，又何妨！持节云中，何日遣冯唐？会挽雕弓如满月，西北望，射天狼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346480" y="755640"/>
            <a:ext cx="468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江城子  密州出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85680" y="1500120"/>
            <a:ext cx="750096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85680" y="1500120"/>
            <a:ext cx="7500960" cy="12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85680" y="1500120"/>
            <a:ext cx="75009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85680" y="1500120"/>
            <a:ext cx="7500960" cy="23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似秋鸿来有信，事如春梦了无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85680" y="1500120"/>
            <a:ext cx="750096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似秋鸿来有信，事如春梦了无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竹外桃花三两枝，春江水暖鸭先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985680" y="1500120"/>
            <a:ext cx="750096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似秋鸿来有信，事如春梦了无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竹外桃花三两枝，春江水暖鸭先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旧书不厌百回读，熟读深思子自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985680" y="1500120"/>
            <a:ext cx="7500960" cy="40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似秋鸿来有信，事如春梦了无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竹外桃花三两枝，春江水暖鸭先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旧书不厌百回读，熟读深思子自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殷勤昨夜三更雨，又得浮生一日凉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985680" y="1500120"/>
            <a:ext cx="7500960" cy="46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不识庐山真面目，只缘身在此山中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欲把西湖比西子，淡妆浓抹总相宜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荷尽已无擎雨盖，菊残犹有傲霜枝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似秋鸿来有信，事如春梦了无痕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竹外桃花三两枝，春江水暖鸭先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旧书不厌百回读，熟读深思子自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殷勤昨夜三更雨，又得浮生一日凉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  <a:ea typeface="黑体"/>
              </a:rPr>
              <a:t>人生到处知何似？应似飞鸿踏雪泥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629080" y="471600"/>
            <a:ext cx="3857400" cy="764280"/>
          </a:xfrm>
          <a:prstGeom prst="rect">
            <a:avLst/>
          </a:prstGeom>
          <a:solidFill>
            <a:srgbClr val="ffcc99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苏轼名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5291280" y="328680"/>
            <a:ext cx="351792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滚滚长江东逝水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浪花淘尽英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是非成败转头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青山依旧在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几度夕阳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白发渔樵江渚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惯看秋月春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一壶浊酒喜相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古今多少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都付笑谈中。</a:t>
            </a:r>
            <a:r>
              <a:rPr b="0" lang="zh-CN" sz="3200" spc="-1" strike="noStrike">
                <a:solidFill>
                  <a:srgbClr val="ff9900"/>
                </a:solidFill>
                <a:latin typeface="黑体"/>
                <a:ea typeface="黑体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66760"/>
            <a:ext cx="9144000" cy="6329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0" y="844560"/>
            <a:ext cx="9144000" cy="70344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故垒西边，人道是，三国周郎赤壁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0" y="684360"/>
            <a:ext cx="9144000" cy="70344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乱石穿空，惊涛拍岸，卷起千堆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335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684360"/>
            <a:ext cx="9144000" cy="70344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乱石穿空，惊涛拍岸，卷起千堆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5765760"/>
            <a:ext cx="9144000" cy="703440"/>
          </a:xfrm>
          <a:prstGeom prst="rect">
            <a:avLst/>
          </a:prstGeom>
          <a:solidFill>
            <a:srgbClr val="ffffff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江山如画，一时多少豪杰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8T03:30:14Z</dcterms:created>
  <dc:creator>www.xkb1.com; liuhong</dc:creator>
  <dc:description>www.xkb1.com</dc:description>
  <cp:keywords>www.xkb1.com</cp:keywords>
  <dc:language>en-US</dc:language>
  <cp:lastModifiedBy>新课标第一网</cp:lastModifiedBy>
  <dcterms:modified xsi:type="dcterms:W3CDTF">2012-03-28T01:32:32Z</dcterms:modified>
  <cp:revision>445</cp:revision>
  <dc:subject>www.xkb1.com</dc:subject>
  <dc:title>www.xkb1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608000000000001023600</vt:lpwstr>
  </property>
</Properties>
</file>