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2.jpeg" ContentType="image/jpeg"/>
  <Override PartName="/ppt/media/cashreg.wav" ContentType="audio/x-wav"/>
  <Override PartName="/ppt/media/hammer.wav" ContentType="audio/x-wav"/>
  <Override PartName="/ppt/media/image2.jpeg" ContentType="image/jpeg"/>
  <Override PartName="/ppt/media/image4.jpeg" ContentType="image/jpeg"/>
  <Override PartName="/ppt/media/suction.wav" ContentType="audio/x-wav"/>
  <Override PartName="/ppt/media/image19.jpeg" ContentType="image/jpeg"/>
  <Override PartName="/ppt/media/type.wav" ContentType="audio/x-wav"/>
  <Override PartName="/ppt/media/image20.jpeg" ContentType="image/jpeg"/>
  <Override PartName="/ppt/media/image21.png" ContentType="image/png"/>
  <Override PartName="/ppt/media/drumroll.wav" ContentType="audio/x-wav"/>
  <Override PartName="/ppt/media/applause.wav" ContentType="audio/x-wav"/>
  <Override PartName="/ppt/media/image5.jpeg" ContentType="image/jpeg"/>
  <Override PartName="/ppt/media/explode.wav" ContentType="audio/x-wav"/>
  <Override PartName="/ppt/media/camera.wav" ContentType="audio/x-wav"/>
  <Override PartName="/ppt/media/image1.jpeg" ContentType="image/jpeg"/>
  <Override PartName="/ppt/media/image16.jpeg" ContentType="image/jpeg"/>
  <Override PartName="/ppt/media/laser.wav" ContentType="audio/x-wav"/>
  <Override PartName="/ppt/media/chimes.wav" ContentType="audio/x-wav"/>
  <Override PartName="/ppt/media/image6.gif" ContentType="image/gif"/>
  <Override PartName="/ppt/media/image13.jpeg" ContentType="image/jpeg"/>
  <Override PartName="/ppt/media/image7.jpeg" ContentType="image/jpeg"/>
  <Override PartName="/ppt/media/image3.jpeg" ContentType="image/jpeg"/>
  <Override PartName="/ppt/media/voltage.wav" ContentType="audio/x-wav"/>
  <Override PartName="/ppt/media/image8.jpeg" ContentType="image/jpeg"/>
  <Override PartName="/ppt/media/image10.jpeg" ContentType="image/jpeg"/>
  <Override PartName="/ppt/media/coin.wav" ContentType="audio/x-wav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00E4-6E7E-4380-9425-F7FB2AB9F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A65F-FE6D-4C38-8987-85042C52A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B31D-F7AB-441E-A10A-CCBA96C04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CC0E-EE5E-4621-8FE6-99B97435B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80D32-0566-417C-828A-40F8A0B18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9D847-64D5-40F8-A52C-242A30F43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37354-6752-42CD-B55A-7EF456323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DF7C7-DA6C-4A0E-8B60-D52B85E99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5298A-0524-4C6D-ADBB-9C165693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9C137-1D1F-4F30-AD06-613323583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04C66-87EF-449F-82DF-2E6A2AE0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D723-BEA8-4080-B0EC-7F0DB4408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2C324-A406-4602-9C19-B2D3B12A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869E5-7885-46B4-BB73-63593641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80F1F-92B8-4B18-A380-12577BACA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7674C-A51A-452E-922F-F70D86B45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1B049-DAE6-4201-9F96-61DCB3BB6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CFE61-2E8F-4319-92A6-8C7BFA255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6809A-2D21-4809-B17A-7B0474E33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0F193-137B-4183-B2E8-4815B40E4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48E5D-3CAE-4B4A-9850-A341A0145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247CE-A11D-4F96-AB32-98205E64F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6FC2-3537-49FB-89EF-0F6F4D2D5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AD317-BF2A-4741-A57C-9C56CE63B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3910D-BDEB-43EF-B4ED-CDB7D916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F21E2-289B-4A1D-85B5-703BC239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05E2E-9F2F-4906-A884-BCCC9027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906E0-F4DE-4955-A85A-85ADE0A8F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B8ABD-EDC4-429D-91A2-018BFD6AD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6BDDF-7CE7-4867-8F96-2A04F2D3D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D6B88-D7F7-4843-8685-D5427B927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EA808-4FF3-4C9A-AF5B-464330393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90B7E-2773-4467-9DB9-422B5972A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D27D-83D2-4F04-83CB-532FD1A62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B998F-005F-46F6-B1EA-147730939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FBDAB-48A9-46B1-9383-0763A0B90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0CE61-6B25-46B7-A8A4-B258D972B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7C6B8-02C4-473B-8341-FF53399F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FDC55-9E86-4069-9363-20F17A27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60F53-CACE-4AC8-B034-698AF2CF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D0A42-AA0A-4657-9483-361E2EB2A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A6EBF-9E13-4A75-9043-649D50DA3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767FC-0F4A-4497-A19C-4FCAB506C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CF71-0F72-424E-8C63-3D8DCEE5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6379-22C3-4DC0-8BE0-9EB647020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1844-1551-4CDE-843F-EB5F8F4C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9CA2-D7FA-496B-A357-8A5A7F84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0E4E-3ACE-40DD-B0B4-46A5E02E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84C6B-A3C5-4066-BF9D-3BC1EEA8B78C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264A8-627E-4E6B-BE4B-B0C219FD34C0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5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83700-0B41-4A5E-872F-0D116253D25C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0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C8242-EC20-4E78-B5AE-CCA2D1C93A2A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baike.baidu.com/view/15168.htm" TargetMode="External"/><Relationship Id="rId2" Type="http://schemas.openxmlformats.org/officeDocument/2006/relationships/hyperlink" Target="http://baike.baidu.com/view/67790.htm" TargetMode="External"/><Relationship Id="rId3" Type="http://schemas.openxmlformats.org/officeDocument/2006/relationships/hyperlink" Target="http://baike.baidu.com/view/188238.htm" TargetMode="External"/><Relationship Id="rId4" Type="http://schemas.openxmlformats.org/officeDocument/2006/relationships/hyperlink" Target="http://baike.baidu.com/view/76773.htm" TargetMode="External"/><Relationship Id="rId5" Type="http://schemas.openxmlformats.org/officeDocument/2006/relationships/hyperlink" Target="http://baike.baidu.com/view/3352.htm" TargetMode="External"/><Relationship Id="rId6" Type="http://schemas.openxmlformats.org/officeDocument/2006/relationships/hyperlink" Target="http://image.baidu.com/i?ct=503316480&amp;z=&amp;tn=baiduimagedetail&amp;word=%CD%F5&#940;&amp;in=3141&amp;cl=2&amp;lm=-1&amp;pn=3&amp;rn=1&amp;di=55861483635&amp;ln=2000&amp;fr=&amp;fmq=&amp;ic=&amp;s=&amp;se=&amp;sme=0&amp;tab=&amp;width=&amp;height=&amp;face=&amp;is=&amp;istype=" TargetMode="External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hammer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explode.wav"/><Relationship Id="rId3" Type="http://schemas.openxmlformats.org/officeDocument/2006/relationships/audio" Target="../media/hammer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baike.baidu.com/view/5353.htm" TargetMode="External"/><Relationship Id="rId2" Type="http://schemas.openxmlformats.org/officeDocument/2006/relationships/image" Target="../media/image15.jpeg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baike.baidu.com/view/493097.htm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explode.wav"/><Relationship Id="rId4" Type="http://schemas.openxmlformats.org/officeDocument/2006/relationships/audio" Target="../media/hammer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1.jpeg"/><Relationship Id="rId3" Type="http://schemas.openxmlformats.org/officeDocument/2006/relationships/audio" Target="../media/explod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explode.wav"/><Relationship Id="rId7" Type="http://schemas.openxmlformats.org/officeDocument/2006/relationships/audio" Target="../media/suction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audio" Target="../media/coin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&amp;tn=baiduimagedetail&amp;word=%CD%F5&#940;&amp;in=3141&amp;cl=2&amp;lm=-1&amp;pn=3&amp;rn=1&amp;di=55861483635&amp;ln=2000&amp;fr=&amp;fmq=&amp;ic=&amp;s=&amp;se=&amp;sme=0&amp;tab=&amp;width=&amp;height=&amp;face=&amp;is=&amp;istype=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6.gif"/><Relationship Id="rId5" Type="http://schemas.openxmlformats.org/officeDocument/2006/relationships/audio" Target="../media/hammer.wav"/><Relationship Id="rId6" Type="http://schemas.openxmlformats.org/officeDocument/2006/relationships/audio" Target="../media/hammer.wav"/><Relationship Id="rId7" Type="http://schemas.openxmlformats.org/officeDocument/2006/relationships/audio" Target="../media/hammer.wav"/><Relationship Id="rId8" Type="http://schemas.openxmlformats.org/officeDocument/2006/relationships/audio" Target="../media/cashreg.wav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627280" y="2637000"/>
            <a:ext cx="4392720" cy="22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看图片，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猜古诗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2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3634920" y="691920"/>
            <a:ext cx="46818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王维生于公元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701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年，字摩诘，汉族，唐朝</a:t>
            </a:r>
            <a:r>
              <a:rPr b="0" lang="zh-CN" sz="28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诗人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，外号“</a:t>
            </a:r>
            <a:r>
              <a:rPr b="0" lang="zh-CN" sz="28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诗佛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”。今存诗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400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余首。王维精通</a:t>
            </a:r>
            <a:r>
              <a:rPr b="0" lang="zh-CN" sz="2800" spc="-1" strike="noStrike" u="sng">
                <a:solidFill>
                  <a:srgbClr val="00b200"/>
                </a:solidFill>
                <a:uFillTx/>
                <a:latin typeface="Comic Sans MS"/>
                <a:hlinkClick r:id="rId3"/>
              </a:rPr>
              <a:t>佛学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，佛教有一部《</a:t>
            </a:r>
            <a:r>
              <a:rPr b="0" lang="zh-CN" sz="2800" spc="-1" strike="noStrike" u="sng">
                <a:solidFill>
                  <a:srgbClr val="00b200"/>
                </a:solidFill>
                <a:uFillTx/>
                <a:latin typeface="Comic Sans MS"/>
                <a:hlinkClick r:id="rId4"/>
              </a:rPr>
              <a:t>维摩诘经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》，是维摩诘向弟子们讲学的书，这是王维名和字的由来。王维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诗书画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都很有名，非常多才多艺。音乐也很精通。受</a:t>
            </a:r>
            <a:r>
              <a:rPr b="0" lang="zh-CN" sz="2800" spc="-1" strike="noStrike" u="sng">
                <a:solidFill>
                  <a:srgbClr val="00b200"/>
                </a:solidFill>
                <a:uFillTx/>
                <a:latin typeface="Comic Sans MS"/>
                <a:hlinkClick r:id="rId5"/>
              </a:rPr>
              <a:t>禅宗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影响很大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　</a:t>
            </a:r>
            <a:r>
              <a:rPr b="1" lang="zh-CN" sz="3200" spc="-1" strike="noStrike">
                <a:solidFill>
                  <a:srgbClr val="703dff"/>
                </a:solidFill>
                <a:latin typeface="Comic Sans MS"/>
              </a:rPr>
              <a:t>苏轼曾说：“味摩诘之诗，诗中有画；观摩诘之画，画中有诗。</a:t>
            </a:r>
            <a:r>
              <a:rPr b="0" lang="zh-CN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5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39640" y="549360"/>
            <a:ext cx="30956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4273560" y="1557360"/>
            <a:ext cx="4043520" cy="37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omic Sans MS"/>
              </a:rPr>
              <a:t>           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鸟鸣涧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唐）王维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人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闲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桂花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落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夜静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春山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空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月出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惊山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鸟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时鸣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春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涧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中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3745080" cy="38880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2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、读熟练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00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4000"/>
                            </p:stCondLst>
                            <p:childTnLst>
                              <p:par>
                                <p:cTn id="2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10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0"/>
                            </p:stCondLst>
                            <p:childTnLst>
                              <p:par>
                                <p:cTn id="2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10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6000"/>
                            </p:stCondLst>
                            <p:childTnLst>
                              <p:par>
                                <p:cTn id="2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10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7000"/>
                            </p:stCondLst>
                            <p:childTnLst>
                              <p:par>
                                <p:cTn id="2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100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8800" spc="-1" strike="noStrike">
                <a:solidFill>
                  <a:srgbClr val="000000"/>
                </a:solidFill>
                <a:latin typeface="Comic Sans MS"/>
              </a:rPr>
              <a:t>、猜意思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908000" y="1989000"/>
            <a:ext cx="37706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鸟儿在山中鸣叫。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"/>
          <p:cNvSpPr/>
          <p:nvPr/>
        </p:nvSpPr>
        <p:spPr>
          <a:xfrm>
            <a:off x="1258920" y="2276640"/>
            <a:ext cx="3771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763640" y="3716280"/>
            <a:ext cx="3772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时，不时。不时地啼叫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619280" y="2852640"/>
            <a:ext cx="5545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安静、悠闲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含有人声寂静的意思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619280" y="4581360"/>
            <a:ext cx="3771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两山之间的小溪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11280" y="1197000"/>
            <a:ext cx="158436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鸟鸣涧：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闲：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时鸣：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涧：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7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556000" y="980640"/>
            <a:ext cx="5400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703dff"/>
                </a:solidFill>
                <a:latin typeface="Comic Sans MS"/>
              </a:rPr>
              <a:t>细读赏析明诗意</a:t>
            </a:r>
            <a:br>
              <a:rPr sz="4400"/>
            </a:br>
            <a:br>
              <a:rPr sz="4400"/>
            </a:br>
            <a:r>
              <a:rPr b="0" lang="zh-CN" sz="3600" spc="-1" strike="noStrike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zh-CN" sz="3600" spc="-1" strike="noStrike">
                <a:solidFill>
                  <a:srgbClr val="ff0000"/>
                </a:solidFill>
                <a:latin typeface="Comic Sans MS"/>
              </a:rPr>
              <a:t>、提疑问，大胆讲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71640" y="3500280"/>
            <a:ext cx="7696080" cy="20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请同学们大胆的谈谈你对每句诗歌的解释和疑问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16923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77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0" dur="770" fill="hold"/>
                                        <p:tgtEl>
                                          <p:spTgt spid="2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2" dur="77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4" dur="77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0" dur="2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250560" y="0"/>
            <a:ext cx="6870600" cy="90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Comic Sans MS"/>
              </a:rPr>
              <a:t>诗句赏析：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"/>
          <p:cNvSpPr/>
          <p:nvPr/>
        </p:nvSpPr>
        <p:spPr>
          <a:xfrm>
            <a:off x="2843280" y="0"/>
            <a:ext cx="5545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b"/>
                </a:solidFill>
                <a:latin typeface="Comic Sans MS"/>
              </a:rPr>
              <a:t>人  闲  桂  花  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68360" y="765000"/>
            <a:ext cx="86756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e809"/>
                </a:solidFill>
                <a:latin typeface="Comic Sans MS"/>
              </a:rPr>
              <a:t>人闲下来了，发现细细的桂花轻轻的落了下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916360" y="1197000"/>
            <a:ext cx="568296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b"/>
                </a:solidFill>
                <a:latin typeface="Comic Sans MS"/>
              </a:rPr>
              <a:t>夜  静  春  山  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9640" y="1844640"/>
            <a:ext cx="835344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e809"/>
                </a:solidFill>
                <a:latin typeface="Comic Sans MS"/>
              </a:rPr>
              <a:t>春天的夜晚，静得整座山好像都是空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987640" y="2708280"/>
            <a:ext cx="57546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b"/>
                </a:solidFill>
                <a:latin typeface="Comic Sans MS"/>
              </a:rPr>
              <a:t>月  出  惊  山  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26920" y="3716280"/>
            <a:ext cx="687096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e809"/>
                </a:solidFill>
                <a:latin typeface="Comic Sans MS"/>
              </a:rPr>
              <a:t>月亮出来了，惊醒了山中栖息的鸟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916360" y="4292640"/>
            <a:ext cx="518472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b"/>
                </a:solidFill>
                <a:latin typeface="Comic Sans MS"/>
              </a:rPr>
              <a:t>时  鸣  春  涧  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4360" y="5013360"/>
            <a:ext cx="828036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e809"/>
                </a:solidFill>
                <a:latin typeface="Comic Sans MS"/>
              </a:rPr>
              <a:t>不时发出一声声的鸣叫回荡在春夜的山谷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2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2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539640" y="1916280"/>
            <a:ext cx="18716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703dff"/>
                </a:solidFill>
                <a:latin typeface="Comic Sans MS"/>
              </a:rPr>
              <a:t>背</a:t>
            </a:r>
            <a:br>
              <a:rPr sz="6000"/>
            </a:br>
            <a:r>
              <a:rPr b="0" lang="zh-CN" sz="6000" spc="-1" strike="noStrike">
                <a:solidFill>
                  <a:srgbClr val="703dff"/>
                </a:solidFill>
                <a:latin typeface="Comic Sans MS"/>
              </a:rPr>
              <a:t>熟</a:t>
            </a:r>
            <a:br>
              <a:rPr sz="6000"/>
            </a:br>
            <a:r>
              <a:rPr b="0" lang="zh-CN" sz="6000" spc="-1" strike="noStrike">
                <a:solidFill>
                  <a:srgbClr val="703dff"/>
                </a:solidFill>
                <a:latin typeface="Comic Sans MS"/>
              </a:rPr>
              <a:t>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042920" y="4797360"/>
            <a:ext cx="73454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50920" y="4941720"/>
            <a:ext cx="83534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408aa"/>
                </a:solidFill>
                <a:latin typeface="Comic Sans MS"/>
              </a:rPr>
              <a:t>景物：</a:t>
            </a:r>
            <a:r>
              <a:rPr b="0" lang="zh-CN" sz="3200" spc="-1" strike="noStrike">
                <a:solidFill>
                  <a:srgbClr val="1408aa"/>
                </a:solidFill>
                <a:latin typeface="Comic Sans MS"/>
              </a:rPr>
              <a:t>花落；月出；鸟鸣——以动衬静。写出了空寂幽静的山涧，而这一切都是因为人闲，才能安静的欣赏一切美景。表达了诗人对大自然的热爱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  <p:sndAc>
      <p:stSnd>
        <p:snd r:embed="rId2" name="chimes.wav"/>
      </p:stSnd>
    </p:sndAc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77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0" dur="770" fill="hold"/>
                                        <p:tgtEl>
                                          <p:spTgt spid="3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2" dur="77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4" dur="77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77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1" dur="770" fill="hold"/>
                                        <p:tgtEl>
                                          <p:spTgt spid="3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3" dur="77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5" dur="77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77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2" dur="770" fill="hold"/>
                                        <p:tgtEl>
                                          <p:spTgt spid="3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4" dur="77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6" dur="77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611280" y="2133720"/>
            <a:ext cx="792144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你学会了吗？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77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5" dur="770" fill="hold"/>
                                        <p:tgtEl>
                                          <p:spTgt spid="3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7" dur="77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9" dur="77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1547640" y="2133720"/>
            <a:ext cx="6048720" cy="240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复习《鸟鸣涧》的学习方法，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来学习暮江吟。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77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8" dur="770" fill="hold"/>
                                        <p:tgtEl>
                                          <p:spTgt spid="3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0" dur="77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2" dur="77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647640" y="3943800"/>
            <a:ext cx="849636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《暮江吟》是唐朝诗人</a:t>
            </a:r>
            <a:r>
              <a:rPr b="0" lang="zh-CN" sz="24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白居易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创作的一首七绝，当时朝廷政治昏暗，诗人品尽了朝官的尔虞我诈滋味，自求外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zh-CN" sz="2400" spc="-1" strike="noStrike">
                <a:solidFill>
                  <a:srgbClr val="703dff"/>
                </a:solidFill>
                <a:latin typeface="Comic Sans MS"/>
              </a:rPr>
              <a:t>该诗从侧面反映出了作者离开朝廷后轻松畅快的心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dff"/>
                </a:solidFill>
                <a:latin typeface="Comic Sans MS"/>
              </a:rPr>
              <a:t>    </a:t>
            </a:r>
            <a:r>
              <a:rPr b="1" lang="zh-CN" sz="2400" spc="-1" strike="noStrike">
                <a:solidFill>
                  <a:srgbClr val="703dff"/>
                </a:solidFill>
                <a:latin typeface="Comic Sans MS"/>
              </a:rPr>
              <a:t>诗人在这首诗中运用了新颖巧妙的比喻，创造出和谐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dff"/>
                </a:solidFill>
                <a:latin typeface="Comic Sans MS"/>
              </a:rPr>
              <a:t>           </a:t>
            </a:r>
            <a:r>
              <a:rPr b="1" lang="zh-CN" sz="2400" spc="-1" strike="noStrike">
                <a:solidFill>
                  <a:srgbClr val="703dff"/>
                </a:solidFill>
                <a:latin typeface="Comic Sans MS"/>
              </a:rPr>
              <a:t>宁静的意境，通过吟咏表现出内心深处的情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dff"/>
                </a:solidFill>
                <a:latin typeface="Comic Sans MS"/>
              </a:rPr>
              <a:t>            </a:t>
            </a:r>
            <a:r>
              <a:rPr b="1" lang="zh-CN" sz="2400" spc="-1" strike="noStrike">
                <a:solidFill>
                  <a:srgbClr val="703dff"/>
                </a:solidFill>
                <a:latin typeface="Comic Sans MS"/>
              </a:rPr>
              <a:t>和对大自然的热爱之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71628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2484360" y="2276640"/>
            <a:ext cx="51847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dff"/>
                </a:solidFill>
                <a:latin typeface="Comic Sans MS"/>
              </a:rPr>
              <a:t>暮江：黄昏傍晚时分的江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dff"/>
                </a:solidFill>
                <a:latin typeface="Comic Sans MS"/>
              </a:rPr>
              <a:t>吟：古代一种诗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初读解题知作者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4356000" y="836280"/>
            <a:ext cx="38815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白居易（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772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年～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846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年），汉族，字</a:t>
            </a:r>
            <a:r>
              <a:rPr b="0" lang="zh-CN" sz="28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乐天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，晚年又号香山居士，我国唐代诗人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他的诗歌题材广泛，形式多样，语言平易通俗，有“诗魔”和“诗王”之称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826920" y="620640"/>
            <a:ext cx="302436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8" dur="2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3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5364000" y="2060640"/>
            <a:ext cx="3625920" cy="31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静夜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     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（唐）李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床前明月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疑是地上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举头望明月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低头思故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2" name="camera.wav"/>
      </p:stSnd>
    </p:sndAc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5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-360" y="-3877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6000" spc="-1" strike="noStrike">
                <a:solidFill>
                  <a:srgbClr val="000000"/>
                </a:solidFill>
                <a:latin typeface="Comic Sans MS"/>
              </a:rPr>
              <a:t>读熟练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8800" spc="-1" strike="noStrike">
                <a:solidFill>
                  <a:srgbClr val="000000"/>
                </a:solidFill>
                <a:latin typeface="Comic Sans MS"/>
              </a:rPr>
              <a:t>、猜意思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555640" y="1989000"/>
            <a:ext cx="37702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落山的太阳光。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"/>
          <p:cNvSpPr/>
          <p:nvPr/>
        </p:nvSpPr>
        <p:spPr>
          <a:xfrm>
            <a:off x="1258920" y="2276640"/>
            <a:ext cx="3771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68360" y="3645000"/>
            <a:ext cx="5040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原义为碧色珍宝，此指碧绿色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484360" y="2852640"/>
            <a:ext cx="5545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映射到水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340000" y="4508640"/>
            <a:ext cx="3771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可爱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26920" y="1197000"/>
            <a:ext cx="158436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残阳：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铺：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瑟瑟：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可怜：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56000" y="980640"/>
            <a:ext cx="5400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703dff"/>
                </a:solidFill>
                <a:latin typeface="Comic Sans MS"/>
              </a:rPr>
              <a:t>细读赏析名诗意</a:t>
            </a:r>
            <a:br>
              <a:rPr sz="4400"/>
            </a:br>
            <a:br>
              <a:rPr sz="4400"/>
            </a:br>
            <a:r>
              <a:rPr b="1" lang="zh-CN" sz="4000" spc="-1" strike="noStrike">
                <a:solidFill>
                  <a:srgbClr val="ff0000"/>
                </a:solidFill>
                <a:latin typeface="Comic Sans MS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</a:rPr>
              <a:t>、提疑问，大胆讲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71640" y="3500280"/>
            <a:ext cx="7696080" cy="20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请同学们大胆的谈谈你对每句诗歌的解释和疑问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16923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77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1" dur="770" fill="hold"/>
                                        <p:tgtEl>
                                          <p:spTgt spid="3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3" dur="77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5" dur="77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1" dur="2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684360" y="6390000"/>
            <a:ext cx="7848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132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3dff"/>
                </a:solidFill>
                <a:latin typeface="Comic Sans MS"/>
              </a:rPr>
              <a:t>滴滴清露就像粒粒珍珠一般，一弯新月仿佛是一张精致的弓。</a:t>
            </a:r>
            <a:r>
              <a:rPr b="0" lang="zh-CN" sz="1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1258920" cy="1341360"/>
          </a:xfrm>
          <a:prstGeom prst="rect">
            <a:avLst/>
          </a:prstGeom>
          <a:ln w="0">
            <a:noFill/>
          </a:ln>
        </p:spPr>
      </p:pic>
      <p:sp>
        <p:nvSpPr>
          <p:cNvPr id="328" name="文本框 4"/>
          <p:cNvSpPr/>
          <p:nvPr/>
        </p:nvSpPr>
        <p:spPr>
          <a:xfrm>
            <a:off x="2627280" y="54936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幼圆"/>
              </a:rPr>
              <a:t>一道残阳铺水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669560" y="12682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ef66"/>
                </a:solidFill>
                <a:latin typeface="Comic Sans MS"/>
              </a:rPr>
              <a:t>傍晚时分，一道落日的余辉铺在江面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文本框 5"/>
          <p:cNvSpPr/>
          <p:nvPr/>
        </p:nvSpPr>
        <p:spPr>
          <a:xfrm>
            <a:off x="2987640" y="184464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幼圆"/>
              </a:rPr>
              <a:t>半江瑟瑟半江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042920" y="2565360"/>
            <a:ext cx="78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ef66"/>
                </a:solidFill>
                <a:latin typeface="Comic Sans MS"/>
              </a:rPr>
              <a:t>阳光照射下，波光粼粼。江水一半呈现出深深的碧色，一半呈现出红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文本框 6"/>
          <p:cNvSpPr/>
          <p:nvPr/>
        </p:nvSpPr>
        <p:spPr>
          <a:xfrm>
            <a:off x="2700360" y="364500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幼圆"/>
              </a:rPr>
              <a:t>可怜九月初三夜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603880" y="429264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dff"/>
                </a:solidFill>
                <a:latin typeface="Comic Sans MS"/>
              </a:rPr>
              <a:t>九月凉露下降的初月夜，是多么的可爱呀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文本框 7"/>
          <p:cNvSpPr/>
          <p:nvPr/>
        </p:nvSpPr>
        <p:spPr>
          <a:xfrm>
            <a:off x="3132000" y="486900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幼圆"/>
              </a:rPr>
              <a:t>露似真珠月似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3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8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3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8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87640" y="333000"/>
            <a:ext cx="3917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zh-CN" sz="6000" spc="-1" strike="noStrike">
                <a:solidFill>
                  <a:srgbClr val="000000"/>
                </a:solidFill>
                <a:latin typeface="Comic Sans MS"/>
              </a:rPr>
              <a:t>背熟练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00720" y="2133360"/>
            <a:ext cx="4417920" cy="31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仿宋_GB2312"/>
              </a:rPr>
              <a:t>暮江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仿宋_GB2312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仿宋_GB2312"/>
              </a:rPr>
              <a:t>（唐）白居易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仿宋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仿宋_GB2312"/>
              </a:rPr>
              <a:t>一道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  <a:ea typeface="仿宋_GB2312"/>
              </a:rPr>
              <a:t>残阳铺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仿宋_GB2312"/>
              </a:rPr>
              <a:t>水中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仿宋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仿宋_GB2312"/>
              </a:rPr>
              <a:t>半江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  <a:ea typeface="仿宋_GB2312"/>
              </a:rPr>
              <a:t>瑟瑟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仿宋_GB2312"/>
              </a:rPr>
              <a:t>半江红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仿宋_GB2312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  <a:ea typeface="仿宋_GB2312"/>
              </a:rPr>
              <a:t>可怜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仿宋_GB2312"/>
              </a:rPr>
              <a:t>九月初三夜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仿宋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仿宋_GB2312"/>
              </a:rPr>
              <a:t>露似真珠月似弓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37" name="图片 8" descr="D:\资源库\五年级\第六单元\19.古诗三首\chatu3.jpg"/>
          <p:cNvPicPr/>
          <p:nvPr/>
        </p:nvPicPr>
        <p:blipFill>
          <a:blip r:embed="rId1"/>
          <a:stretch/>
        </p:blipFill>
        <p:spPr>
          <a:xfrm>
            <a:off x="0" y="0"/>
            <a:ext cx="521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1500"/>
                            </p:stCondLst>
                            <p:childTnLst>
                              <p:par>
                                <p:cTn id="590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2500"/>
                            </p:stCondLst>
                            <p:childTnLst>
                              <p:par>
                                <p:cTn id="597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3500"/>
                            </p:stCondLst>
                            <p:childTnLst>
                              <p:par>
                                <p:cTn id="604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4500"/>
                            </p:stCondLst>
                            <p:childTnLst>
                              <p:par>
                                <p:cTn id="611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500"/>
                            </p:stCondLst>
                            <p:childTnLst>
                              <p:par>
                                <p:cTn id="618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91856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复习我们学习的古诗学习的方法步骤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411280" y="1341000"/>
            <a:ext cx="58262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顺口溜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初读解题知作者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细读赏析明诗意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诵读想象悟诗情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"/>
          <p:cNvSpPr/>
          <p:nvPr/>
        </p:nvSpPr>
        <p:spPr>
          <a:xfrm>
            <a:off x="2556000" y="4005360"/>
            <a:ext cx="489744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200"/>
                </a:solidFill>
                <a:latin typeface="Comic Sans MS"/>
              </a:rPr>
              <a:t>1</a:t>
            </a:r>
            <a:r>
              <a:rPr b="0" lang="zh-CN" sz="3200" spc="-1" strike="noStrike">
                <a:solidFill>
                  <a:srgbClr val="00b200"/>
                </a:solidFill>
                <a:latin typeface="Comic Sans MS"/>
              </a:rPr>
              <a:t>、读熟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200"/>
                </a:solidFill>
                <a:latin typeface="Comic Sans MS"/>
              </a:rPr>
              <a:t>2</a:t>
            </a:r>
            <a:r>
              <a:rPr b="0" lang="zh-CN" sz="3200" spc="-1" strike="noStrike">
                <a:solidFill>
                  <a:srgbClr val="00b200"/>
                </a:solidFill>
                <a:latin typeface="Comic Sans MS"/>
              </a:rPr>
              <a:t>、猜意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200"/>
                </a:solidFill>
                <a:latin typeface="Comic Sans MS"/>
              </a:rPr>
              <a:t>3</a:t>
            </a:r>
            <a:r>
              <a:rPr b="0" lang="zh-CN" sz="3200" spc="-1" strike="noStrike">
                <a:solidFill>
                  <a:srgbClr val="00b200"/>
                </a:solidFill>
                <a:latin typeface="Comic Sans MS"/>
              </a:rPr>
              <a:t>、提疑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200"/>
                </a:solidFill>
                <a:latin typeface="Comic Sans MS"/>
              </a:rPr>
              <a:t>4</a:t>
            </a:r>
            <a:r>
              <a:rPr b="0" lang="zh-CN" sz="3200" spc="-1" strike="noStrike">
                <a:solidFill>
                  <a:srgbClr val="00b200"/>
                </a:solidFill>
                <a:latin typeface="Comic Sans MS"/>
              </a:rPr>
              <a:t>、背熟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5940360" y="3141720"/>
            <a:ext cx="2448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500"/>
                            </p:stCondLst>
                            <p:childTnLst>
                              <p:par>
                                <p:cTn id="65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1500"/>
                            </p:stCondLst>
                            <p:childTnLst>
                              <p:par>
                                <p:cTn id="67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2000"/>
                            </p:stCondLst>
                            <p:childTnLst>
                              <p:par>
                                <p:cTn id="68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5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2340000" y="1916280"/>
            <a:ext cx="4753080" cy="26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谢谢！</a:t>
            </a:r>
            <a:endParaRPr b="0" lang="en-US" sz="9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691" dur="2000" fill="hold"/>
                                        <p:tgtEl>
                                          <p:spTgt spid="3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468360" y="1989000"/>
            <a:ext cx="3625920" cy="31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古朗月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     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（唐）李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小时不识月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呼作白玉盘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又疑瑶台镜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飞在青云端。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  <p:sndAc>
      <p:stSnd>
        <p:snd r:embed="rId2" name="type.wav"/>
      </p:stSnd>
    </p:sndAc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500"/>
                            </p:stCondLst>
                            <p:childTnLst>
                              <p:par>
                                <p:cTn id="5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500"/>
                            </p:stCondLst>
                            <p:childTnLst>
                              <p:par>
                                <p:cTn id="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500"/>
                            </p:stCondLst>
                            <p:childTnLst>
                              <p:par>
                                <p:cTn id="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916360" y="0"/>
            <a:ext cx="4464000" cy="68580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250920" y="1989000"/>
            <a:ext cx="3625920" cy="31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江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（唐）柳宗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千山鸟飞绝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万径人踪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孤舟蓑笠翁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独钓寒江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  <p:sndAc>
      <p:stSnd>
        <p:snd r:embed="rId2" name="chimes.wav"/>
      </p:stSnd>
    </p:sndAc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1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1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468360" y="907920"/>
            <a:ext cx="3625920" cy="31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200"/>
                </a:solidFill>
                <a:latin typeface="Comic Sans MS"/>
              </a:rPr>
              <a:t>   </a:t>
            </a:r>
            <a:r>
              <a:rPr b="1" lang="zh-CN" sz="2800" spc="-1" strike="noStrike">
                <a:solidFill>
                  <a:srgbClr val="2dff2d"/>
                </a:solidFill>
                <a:latin typeface="Comic Sans MS"/>
              </a:rPr>
              <a:t>逢雪宿芙蓉山主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ff2d"/>
                </a:solidFill>
                <a:latin typeface="Comic Sans MS"/>
              </a:rPr>
              <a:t>        </a:t>
            </a:r>
            <a:r>
              <a:rPr b="1" lang="zh-CN" sz="2800" spc="-1" strike="noStrike">
                <a:solidFill>
                  <a:srgbClr val="2dff2d"/>
                </a:solidFill>
                <a:latin typeface="Comic Sans MS"/>
              </a:rPr>
              <a:t>（唐）刘长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ff2d"/>
                </a:solidFill>
                <a:latin typeface="Comic Sans MS"/>
              </a:rPr>
              <a:t>       </a:t>
            </a:r>
            <a:r>
              <a:rPr b="1" lang="zh-CN" sz="2800" spc="-1" strike="noStrike">
                <a:solidFill>
                  <a:srgbClr val="2dff2d"/>
                </a:solidFill>
                <a:latin typeface="Comic Sans MS"/>
              </a:rPr>
              <a:t>日暮苍山远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ff2d"/>
                </a:solidFill>
                <a:latin typeface="Comic Sans MS"/>
              </a:rPr>
              <a:t>       </a:t>
            </a:r>
            <a:r>
              <a:rPr b="1" lang="zh-CN" sz="2800" spc="-1" strike="noStrike">
                <a:solidFill>
                  <a:srgbClr val="2dff2d"/>
                </a:solidFill>
                <a:latin typeface="Comic Sans MS"/>
              </a:rPr>
              <a:t>天寒白屋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ff2d"/>
                </a:solidFill>
                <a:latin typeface="Comic Sans MS"/>
              </a:rPr>
              <a:t>       </a:t>
            </a:r>
            <a:r>
              <a:rPr b="1" lang="zh-CN" sz="2800" spc="-1" strike="noStrike">
                <a:solidFill>
                  <a:srgbClr val="2dff2d"/>
                </a:solidFill>
                <a:latin typeface="Comic Sans MS"/>
              </a:rPr>
              <a:t>柴门闻犬吠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ff2d"/>
                </a:solidFill>
                <a:latin typeface="Comic Sans MS"/>
              </a:rPr>
              <a:t>       </a:t>
            </a:r>
            <a:r>
              <a:rPr b="1" lang="zh-CN" sz="2800" spc="-1" strike="noStrike">
                <a:solidFill>
                  <a:srgbClr val="2dff2d"/>
                </a:solidFill>
                <a:latin typeface="Comic Sans MS"/>
              </a:rPr>
              <a:t>风雪夜归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  <p:sndAc>
      <p:stSnd>
        <p:snd r:embed="rId2" name="drumroll.wav"/>
      </p:stSnd>
    </p:sndAc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1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10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10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10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1000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1234440" y="573408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b200"/>
                </a:solidFill>
                <a:latin typeface="Comic Sans MS"/>
              </a:rPr>
              <a:t>第二单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 rot="5400000">
            <a:off x="6133320" y="1869120"/>
            <a:ext cx="3384360" cy="1030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明月</a:t>
            </a:r>
            <a:endParaRPr b="0" lang="en-US" sz="60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blinds dir="horz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1257120" cy="11430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6588000" y="836640"/>
            <a:ext cx="1257480" cy="11430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687096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新古诗学习方法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42560" y="3715920"/>
            <a:ext cx="769644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200"/>
                </a:solidFill>
                <a:latin typeface="Comic Sans MS"/>
              </a:rPr>
              <a:t>1</a:t>
            </a:r>
            <a:r>
              <a:rPr b="0" lang="zh-CN" sz="3200" spc="-1" strike="noStrike">
                <a:solidFill>
                  <a:srgbClr val="00b200"/>
                </a:solidFill>
                <a:latin typeface="Comic Sans MS"/>
              </a:rPr>
              <a:t>、读熟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200"/>
                </a:solidFill>
                <a:latin typeface="Comic Sans MS"/>
              </a:rPr>
              <a:t>2</a:t>
            </a:r>
            <a:r>
              <a:rPr b="0" lang="zh-CN" sz="3200" spc="-1" strike="noStrike">
                <a:solidFill>
                  <a:srgbClr val="00b200"/>
                </a:solidFill>
                <a:latin typeface="Comic Sans MS"/>
              </a:rPr>
              <a:t>、猜意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200"/>
                </a:solidFill>
                <a:latin typeface="Comic Sans MS"/>
              </a:rPr>
              <a:t>3</a:t>
            </a:r>
            <a:r>
              <a:rPr b="0" lang="zh-CN" sz="3200" spc="-1" strike="noStrike">
                <a:solidFill>
                  <a:srgbClr val="00b200"/>
                </a:solidFill>
                <a:latin typeface="Comic Sans MS"/>
              </a:rPr>
              <a:t>、提疑问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200"/>
                </a:solidFill>
                <a:latin typeface="Comic Sans MS"/>
              </a:rPr>
              <a:t>4</a:t>
            </a:r>
            <a:r>
              <a:rPr b="0" lang="zh-CN" sz="3200" spc="-1" strike="noStrike">
                <a:solidFill>
                  <a:srgbClr val="00b200"/>
                </a:solidFill>
                <a:latin typeface="Comic Sans MS"/>
              </a:rPr>
              <a:t>、背熟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"/>
          <p:cNvSpPr/>
          <p:nvPr/>
        </p:nvSpPr>
        <p:spPr>
          <a:xfrm>
            <a:off x="971640" y="1484280"/>
            <a:ext cx="769608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b200"/>
                </a:solidFill>
                <a:latin typeface="Comic Sans MS"/>
              </a:rPr>
              <a:t>                   </a:t>
            </a:r>
            <a:r>
              <a:rPr b="1" lang="zh-CN" sz="3600" spc="-1" strike="noStrike">
                <a:solidFill>
                  <a:srgbClr val="00b200"/>
                </a:solidFill>
                <a:latin typeface="Comic Sans MS"/>
              </a:rPr>
              <a:t>顺口溜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408aa"/>
                </a:solidFill>
                <a:latin typeface="Comic Sans MS"/>
              </a:rPr>
              <a:t>初读解题知作者；细读赏析明诗意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408aa"/>
                </a:solidFill>
                <a:latin typeface="Comic Sans MS"/>
              </a:rPr>
              <a:t>诵读想象悟诗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7308720" y="1125360"/>
            <a:ext cx="1366920" cy="2376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Comic Sans MS"/>
              </a:rPr>
              <a:t>鸟</a:t>
            </a:r>
            <a:br>
              <a:rPr sz="6600"/>
            </a:br>
            <a:r>
              <a:rPr b="0" lang="zh-CN" sz="6600" spc="-1" strike="noStrike">
                <a:solidFill>
                  <a:srgbClr val="ff0000"/>
                </a:solidFill>
                <a:latin typeface="Comic Sans MS"/>
              </a:rPr>
              <a:t>鸣</a:t>
            </a:r>
            <a:br>
              <a:rPr sz="6600"/>
            </a:br>
            <a:r>
              <a:rPr b="0" lang="zh-CN" sz="6600" spc="-1" strike="noStrike">
                <a:solidFill>
                  <a:srgbClr val="ff0000"/>
                </a:solidFill>
                <a:latin typeface="Comic Sans MS"/>
              </a:rPr>
              <a:t>涧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684360" y="1988640"/>
            <a:ext cx="76960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鸟鸣涧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鸣：鸟叫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涧：夹在两山间的流水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title"/>
          </p:nvPr>
        </p:nvSpPr>
        <p:spPr>
          <a:xfrm>
            <a:off x="1258560" y="1886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、初读解题知作者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360" y="0"/>
            <a:ext cx="1844640" cy="18446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2251080" y="4149360"/>
            <a:ext cx="444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408aa"/>
                </a:solidFill>
                <a:latin typeface="Comic Sans MS"/>
              </a:rPr>
              <a:t>这首诗是王维《皇甫岳云溪杂题五首》之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408aa"/>
                </a:solidFill>
                <a:latin typeface="Comic Sans MS"/>
              </a:rPr>
              <a:t>皇甫岳，王维的朋友，诗人为云溪之景所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408aa"/>
                </a:solidFill>
                <a:latin typeface="Comic Sans MS"/>
              </a:rPr>
              <a:t>连续写下了五首诗。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6732720" y="5157720"/>
            <a:ext cx="1871640" cy="147024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6659640" y="2205000"/>
            <a:ext cx="12571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77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6" dur="770" fill="hold"/>
                                        <p:tgtEl>
                                          <p:spTgt spid="2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8" dur="77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0" dur="77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6-10-01T14:28:28Z</dcterms:modified>
  <cp:revision>14</cp:revision>
  <dc:subject/>
  <dc:title>古诗二首</dc:title>
</cp:coreProperties>
</file>