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F67B-98E5-4E2E-AEBC-D7756EEEA2AE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0C20-9DB8-43C4-81A4-861BDCCE9DE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5A5-B50E-4179-9C57-55D0C071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943-DE90-4AE8-8538-43A6C125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E35-9285-48FD-8C82-08990F99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54D-4F37-43B1-BCEE-44EC63BF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6B5F-E7C7-4E34-B3FA-D603BD85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537D-BF39-4E5E-943B-64BD710F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02EF-0E58-4305-BBA5-E03CDF4A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C6B1-123C-4945-A0C3-CCDA42E1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8516-56EB-4A69-ABB5-56548228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596C-EC53-4A82-AB4D-0CBE362E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8468-43AB-487D-8674-B341350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6279-7D82-47FF-AFEB-8327E0E3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CB6B-29EF-4CAA-B930-5D1B675C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0662-B00E-4E1D-9B04-873880D2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AEE3-2737-4662-86C2-CE9AEE53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72C4-7798-4890-920E-5155C6ED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EA84-3F23-4051-9BDB-7A18DE7D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C386-FD66-49FD-B734-65E2DBBD4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832F-154F-496D-BEFD-A908E892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B426-CC0B-4C3A-8C0F-8E057835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1510-CB8D-4D33-9E78-B953D503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1E9EF-955C-4591-ADA5-66449144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A59-C4C0-4E0B-8FF9-B2D5D011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F3A7D-EC67-4E5B-AC98-00924E0D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662DE-EB60-4059-93D7-E12B1BE1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C6CE-E5CF-4EDA-85ED-6C92D140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84927-1D70-4246-986E-1397C671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813D9-6C7A-4C8A-A0DF-84BECC91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841B2-043E-4928-9446-1419DAFF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5940-9768-4EE8-8CBA-AE4E464A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36DDA-A905-4530-A9DA-207E1FDE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BC7BB-6584-410B-A215-CC7248FA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3990E-EF79-4AD2-B645-2D4154A1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22D-C03F-4913-8B57-D3510F42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542D4-1B35-4CF7-B5A0-79F53FA2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8C39A-8B00-4B80-A0B0-84295B82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69E59-1AC1-4039-B4DF-CEC5633F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5C5BC-027E-4694-A403-1EE2F96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7DFCF-F5C6-4161-A1A9-00080472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47DC-7E55-4BAD-80AC-199B5597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64D4A-A7E0-4E56-8A99-09D684C7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7B33A-6501-467D-8F43-3BCC818B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540C9-E19E-4497-811B-BA15CB46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00E3E-AB24-4007-BEF0-AD8F5B06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DF2-4E3B-4A3F-8BFD-4AD40879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E0D4-384D-4BE1-8561-245EE0B9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D68FF-5E63-4EAC-BC7A-4B39D101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AE49A-9ECD-468F-A307-7739ED71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4BFE-6065-4298-AD37-B3C050D5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F7F52-A857-414F-AE2A-DF316873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ACB6-63C0-49EE-99FD-A7CCF2D4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FDD5B-ADF6-4D06-9FF9-1B262293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36664-57AB-4E76-8E1C-5C25BA9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6C54-3F81-437D-AF59-0B2867EF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AC3BD-F0E9-4E0B-8528-B7C5061C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9BD-AE8C-44A0-A06B-3BE4163F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90770-1FC9-49FD-AD77-3FF63983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B842C-AF7B-4647-ABF3-3CC1A69D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3BF32-FBD4-4F2A-A433-39F2AD62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97618-736E-4003-AE04-A87B5F15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9A74B-5D01-40DF-BD82-80AADE58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46AE1-C9C2-45D0-806B-EA3B1EC1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4BAE8-4A8B-43B9-AA2D-C3E9725C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8E54-1619-4F12-91A0-5469063F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0FF9A-B90A-4055-B418-033C96EA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761EB-8E8D-41BB-A9FF-819F3BD6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977-71C7-4EC6-8A50-1DDBCA69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E974E-D11C-44BD-BC73-FA2B6A56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656F4-155F-4020-98B2-AAE14928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D8418-A8E5-4593-B93B-56127775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8F86A-447E-4A34-A674-535BC259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3A8C2-B089-4431-930E-46237952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BB6E3-4536-40EC-9916-0F1A8017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51794-618F-46D1-ADE5-C422FD76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8CCA5-8A19-48B0-8196-59707455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D8BD9-CB65-4DB0-A3CD-80BD6BFA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91C62-DDE2-464A-898D-EB73F8A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DC6-9288-4F81-BFD0-22FD1FDE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894EA-DEA0-4F93-AFB0-00E719CE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B28C-F76D-42AD-AE22-CF2D1E7D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1825A-768D-4968-AFFE-AA25677C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B23C2-39FC-4226-847C-62D8E45B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9286E-029B-4686-AD8D-800C36E6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FAFB-82EA-47D7-A9A7-3A47EFBA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B493-1260-4E5F-B57A-B13FD7FC4D57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椭圆 7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椭圆 7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椭圆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7D93-9394-445A-897A-DBDFA804FB5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椭圆 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椭圆 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椭圆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73B4-9ACA-4DA7-8073-D04173354AC6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BE5E-47A1-464E-9713-43ACEC9B8054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4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7D92-A94D-4F5B-97AF-2E04243C0559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283C-46F6-432B-BA0D-478C0E1DD92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矩形 7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矩形 7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流程图: 过程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流程图: 过程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E84F-86A3-4C4F-BA0B-63CAEBB646D8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0" descr="清泉石上流"/>
          <p:cNvPicPr/>
          <p:nvPr/>
        </p:nvPicPr>
        <p:blipFill>
          <a:blip r:embed="rId2"/>
          <a:stretch/>
        </p:blipFill>
        <p:spPr>
          <a:xfrm>
            <a:off x="1047600" y="285840"/>
            <a:ext cx="4762800" cy="492912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6"/>
          <p:cNvSpPr/>
          <p:nvPr/>
        </p:nvSpPr>
        <p:spPr>
          <a:xfrm>
            <a:off x="4984200" y="1125360"/>
            <a:ext cx="27547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ill Sans MT"/>
              </a:rPr>
              <a:t>鸟鸣涧　　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ill Sans MT"/>
              </a:rPr>
              <a:t>唐</a:t>
            </a: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Gill Sans MT"/>
              </a:rPr>
              <a:t>王维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928800" y="542916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Gill Sans MT"/>
              </a:rPr>
              <a:t>涧：山涧，山间的水沟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8" name="Picture 2" descr=""/>
          <p:cNvPicPr/>
          <p:nvPr/>
        </p:nvPicPr>
        <p:blipFill>
          <a:blip r:embed="rId3"/>
          <a:stretch/>
        </p:blipFill>
        <p:spPr>
          <a:xfrm>
            <a:off x="1071720" y="2714760"/>
            <a:ext cx="193032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324000" y="907920"/>
            <a:ext cx="15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7dec9"/>
                </a:solidFill>
                <a:latin typeface="Times New Roman"/>
                <a:ea typeface="黑体"/>
              </a:rPr>
              <a:t>赏析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1143000" y="19810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1042920" y="0"/>
            <a:ext cx="78868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这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首诗是描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写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深山春夜的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美丽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景象，充分表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现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出作者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观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察入微、善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于写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景的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专长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看似寂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静无声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，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却听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得到花瓣落地、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涧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水淙淙、啾啾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鸟鸣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等天然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乐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章；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仿佛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空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无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一物，其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实热闹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非凡，有桂花、明月、山林、小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鸟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、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涧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水，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还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有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静观这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一切景致的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“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人</a:t>
            </a:r>
            <a:r>
              <a:rPr b="1" lang="zh-CN" sz="3600" spc="-1" strike="noStrike">
                <a:solidFill>
                  <a:srgbClr val="0066cc"/>
                </a:solidFill>
                <a:latin typeface="宋体"/>
              </a:rPr>
              <a:t>”</a:t>
            </a:r>
            <a:r>
              <a:rPr b="1" lang="zh-TW" sz="3600" spc="-1" strike="noStrike">
                <a:solidFill>
                  <a:srgbClr val="0066cc"/>
                </a:solidFill>
                <a:latin typeface="宋体"/>
                <a:ea typeface="微軟正黑體"/>
              </a:rPr>
              <a:t>—作者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 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读这</a:t>
            </a:r>
            <a:r>
              <a:rPr b="1" lang="zh-TW" sz="36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首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诗</a:t>
            </a:r>
            <a:r>
              <a:rPr b="1" lang="zh-TW" sz="36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，就像欣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赏</a:t>
            </a:r>
            <a:r>
              <a:rPr b="1" lang="zh-TW" sz="36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一幅有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声</a:t>
            </a:r>
            <a:r>
              <a:rPr b="1" lang="zh-TW" sz="36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、有色、有味的春山月夜</a:t>
            </a:r>
            <a:r>
              <a:rPr b="1" lang="zh-CN" sz="3600" spc="-1" strike="noStrike">
                <a:solidFill>
                  <a:srgbClr val="0066cc"/>
                </a:solidFill>
                <a:latin typeface="Times New Roman"/>
              </a:rPr>
              <a:t>图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1052640" y="0"/>
            <a:ext cx="80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标题 1" descr=""/>
          <p:cNvPicPr/>
          <p:nvPr/>
        </p:nvPicPr>
        <p:blipFill>
          <a:blip r:embed="rId2"/>
          <a:stretch/>
        </p:blipFill>
        <p:spPr>
          <a:xfrm>
            <a:off x="1427040" y="-201600"/>
            <a:ext cx="7418520" cy="2043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人</a:t>
            </a:r>
            <a:r>
              <a:rPr b="1" lang="zh-CN" sz="5000" spc="-1" strike="noStrike">
                <a:solidFill>
                  <a:srgbClr val="0066ff"/>
                </a:solidFill>
                <a:latin typeface="Gill Sans MT"/>
              </a:rPr>
              <a:t>闲</a:t>
            </a:r>
            <a:r>
              <a:rPr b="1" lang="zh-TW" sz="5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桂花落</a:t>
            </a:r>
            <a:r>
              <a:rPr b="1" lang="zh-CN" sz="5000" spc="-1" strike="noStrike">
                <a:solidFill>
                  <a:srgbClr val="0066ff"/>
                </a:solidFill>
                <a:latin typeface="Gill Sans MT"/>
              </a:rPr>
              <a:t>，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夜</a:t>
            </a:r>
            <a:r>
              <a:rPr b="1" lang="zh-CN" sz="5000" spc="-1" strike="noStrike">
                <a:solidFill>
                  <a:srgbClr val="0066ff"/>
                </a:solidFill>
                <a:latin typeface="Gill Sans MT"/>
              </a:rPr>
              <a:t>静</a:t>
            </a:r>
            <a:r>
              <a:rPr b="1" lang="zh-TW" sz="5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春山空</a:t>
            </a:r>
            <a:r>
              <a:rPr b="1" lang="zh-CN" sz="5000" spc="-1" strike="noStrike">
                <a:solidFill>
                  <a:srgbClr val="0066ff"/>
                </a:solidFill>
                <a:latin typeface="Gill Sans MT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月出</a:t>
            </a:r>
            <a:r>
              <a:rPr b="1" lang="zh-CN" sz="5000" spc="-1" strike="noStrike">
                <a:solidFill>
                  <a:srgbClr val="0066ff"/>
                </a:solidFill>
                <a:latin typeface="Gill Sans MT"/>
              </a:rPr>
              <a:t>惊</a:t>
            </a:r>
            <a:r>
              <a:rPr b="1" lang="zh-TW" sz="5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山</a:t>
            </a:r>
            <a:r>
              <a:rPr b="1" lang="zh-CN" sz="5000" spc="-1" strike="noStrike">
                <a:solidFill>
                  <a:srgbClr val="0066ff"/>
                </a:solidFill>
                <a:latin typeface="Gill Sans MT"/>
              </a:rPr>
              <a:t>鸟，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66ff"/>
                </a:solidFill>
                <a:latin typeface="Gill Sans MT"/>
              </a:rPr>
              <a:t>时鸣</a:t>
            </a:r>
            <a:r>
              <a:rPr b="1" lang="zh-TW" sz="5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春</a:t>
            </a:r>
            <a:r>
              <a:rPr b="1" lang="zh-CN" sz="5000" spc="-1" strike="noStrike">
                <a:solidFill>
                  <a:srgbClr val="0066ff"/>
                </a:solidFill>
                <a:latin typeface="Gill Sans MT"/>
              </a:rPr>
              <a:t>涧</a:t>
            </a:r>
            <a:r>
              <a:rPr b="1" lang="zh-TW" sz="5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中</a:t>
            </a:r>
            <a:r>
              <a:rPr b="1" lang="zh-CN" sz="5000" spc="-1" strike="noStrike">
                <a:solidFill>
                  <a:srgbClr val="0066ff"/>
                </a:solidFill>
                <a:latin typeface="Gill Sans MT"/>
              </a:rPr>
              <a:t>。</a:t>
            </a: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924360" y="907560"/>
            <a:ext cx="18064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eb80a"/>
                </a:solidFill>
                <a:latin typeface="Gill Sans MT"/>
                <a:ea typeface="微軟正黑體"/>
              </a:rPr>
              <a:t>主題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331640" y="1773000"/>
            <a:ext cx="69850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        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唐代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诗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人王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维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所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写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的诗以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优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美著称，一向被人称“诗中有画，画中有诗” 。本诗作者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觉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得友人居住的地方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环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境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优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美，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风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景如画，所以作了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这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首诗送</a:t>
            </a:r>
            <a:r>
              <a:rPr b="1" lang="zh-CN" sz="4000" spc="-1" strike="noStrike">
                <a:solidFill>
                  <a:srgbClr val="0066ff"/>
                </a:solidFill>
                <a:latin typeface="Gill Sans MT"/>
              </a:rPr>
              <a:t>给</a:t>
            </a:r>
            <a:r>
              <a:rPr b="1" lang="zh-TW" sz="4000" spc="-1" strike="noStrike">
                <a:solidFill>
                  <a:srgbClr val="0066ff"/>
                </a:solidFill>
                <a:latin typeface="Gill Sans MT"/>
                <a:ea typeface="微軟正黑體"/>
              </a:rPr>
              <a:t>友人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人闲桂花落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71360" y="1848960"/>
            <a:ext cx="807228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20e04"/>
                </a:solidFill>
                <a:latin typeface="Gill Sans MT"/>
              </a:rPr>
              <a:t>闲：闲静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20e04"/>
                </a:solidFill>
                <a:latin typeface="Gill Sans MT"/>
              </a:rPr>
              <a:t>　　　夜晚人都安静了下来 ，只有春桂在无声地飘落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20e04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1000080" y="3000240"/>
            <a:ext cx="4929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夜静春山空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920"/>
            <a:ext cx="7934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寂静使春夜里的山更让人觉得空空荡荡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908000" y="2498760"/>
            <a:ext cx="48578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月出惊山鸟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71360" y="1447920"/>
            <a:ext cx="7854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惊：惊动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月亮出来了，山雀竟然被月光惊动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2712960"/>
            <a:ext cx="48657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572314"/>
                </a:solidFill>
                <a:latin typeface="Gill Sans MT"/>
              </a:rPr>
              <a:t>时鸣春涧中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时时发出的鸣叫在山涧中回响。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1000080" y="2786040"/>
            <a:ext cx="5214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324000" y="907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Times New Roman"/>
              </a:rPr>
              <a:t>诗句理解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755640" y="3284640"/>
            <a:ext cx="741672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        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我拋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开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一切俗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务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，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悠闲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的在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这里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欣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赏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桂花。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         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夜是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这么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的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静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，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仿佛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山中空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无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一物，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静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得似乎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连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花瓣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飘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落的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声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音都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听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得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见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 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2843280" y="1413000"/>
            <a:ext cx="45370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8dc765"/>
                </a:solidFill>
                <a:latin typeface="Gill Sans MT"/>
                <a:ea typeface="微軟正黑體"/>
              </a:rPr>
              <a:t>人</a:t>
            </a:r>
            <a:r>
              <a:rPr b="1" lang="zh-CN" sz="4800" spc="-1" strike="noStrike">
                <a:solidFill>
                  <a:srgbClr val="8dc765"/>
                </a:solidFill>
                <a:latin typeface="Gill Sans MT"/>
              </a:rPr>
              <a:t>闲</a:t>
            </a:r>
            <a:r>
              <a:rPr b="1" lang="zh-TW" sz="4800" spc="-1" strike="noStrike">
                <a:solidFill>
                  <a:srgbClr val="8dc765"/>
                </a:solidFill>
                <a:latin typeface="Gill Sans MT"/>
                <a:ea typeface="微軟正黑體"/>
              </a:rPr>
              <a:t>桂花落</a:t>
            </a:r>
            <a:r>
              <a:rPr b="1" lang="zh-CN" sz="4800" spc="-1" strike="noStrike">
                <a:solidFill>
                  <a:srgbClr val="8dc765"/>
                </a:solidFill>
                <a:latin typeface="Gill Sans MT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8dc765"/>
                </a:solidFill>
                <a:latin typeface="Gill Sans MT"/>
                <a:ea typeface="微軟正黑體"/>
              </a:rPr>
              <a:t>夜</a:t>
            </a:r>
            <a:r>
              <a:rPr b="1" lang="zh-CN" sz="4800" spc="-1" strike="noStrike">
                <a:solidFill>
                  <a:srgbClr val="8dc765"/>
                </a:solidFill>
                <a:latin typeface="Gill Sans MT"/>
              </a:rPr>
              <a:t>静</a:t>
            </a:r>
            <a:r>
              <a:rPr b="1" lang="zh-TW" sz="4800" spc="-1" strike="noStrike">
                <a:solidFill>
                  <a:srgbClr val="8dc765"/>
                </a:solidFill>
                <a:latin typeface="Gill Sans MT"/>
                <a:ea typeface="微軟正黑體"/>
              </a:rPr>
              <a:t>春山空</a:t>
            </a:r>
            <a:r>
              <a:rPr b="1" lang="zh-CN" sz="4800" spc="-1" strike="noStrike">
                <a:solidFill>
                  <a:srgbClr val="8dc765"/>
                </a:solidFill>
                <a:latin typeface="Gill Sans MT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1" dur="1" fill="hold"/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5"/>
          <p:cNvSpPr/>
          <p:nvPr/>
        </p:nvSpPr>
        <p:spPr>
          <a:xfrm>
            <a:off x="1258920" y="3213000"/>
            <a:ext cx="69850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cc"/>
                </a:solidFill>
                <a:latin typeface="Times New Roman"/>
              </a:rPr>
              <a:t>         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当皎洁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的月亮悄悄升起，竟然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惊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醒了在山林中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栖息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的</a:t>
            </a:r>
            <a:r>
              <a:rPr b="1" lang="zh-CN" sz="3400" spc="-1" strike="noStrike">
                <a:solidFill>
                  <a:srgbClr val="0066cc"/>
                </a:solidFill>
                <a:latin typeface="Times New Roman"/>
              </a:rPr>
              <a:t>鸟儿</a:t>
            </a: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0066cc"/>
                </a:solidFill>
                <a:latin typeface="Times New Roman"/>
                <a:ea typeface="微軟正黑體"/>
              </a:rPr>
              <a:t>         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700360" y="1268280"/>
            <a:ext cx="395928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8dc765"/>
                </a:solidFill>
                <a:latin typeface="Gill Sans MT"/>
                <a:ea typeface="微軟正黑體"/>
              </a:rPr>
              <a:t>月出</a:t>
            </a:r>
            <a:r>
              <a:rPr b="1" lang="zh-CN" sz="4800" spc="-1" strike="noStrike">
                <a:solidFill>
                  <a:srgbClr val="8dc765"/>
                </a:solidFill>
                <a:latin typeface="Gill Sans MT"/>
              </a:rPr>
              <a:t>惊</a:t>
            </a:r>
            <a:r>
              <a:rPr b="1" lang="zh-TW" sz="4800" spc="-1" strike="noStrike">
                <a:solidFill>
                  <a:srgbClr val="8dc765"/>
                </a:solidFill>
                <a:latin typeface="Gill Sans MT"/>
                <a:ea typeface="微軟正黑體"/>
              </a:rPr>
              <a:t>山</a:t>
            </a:r>
            <a:r>
              <a:rPr b="1" lang="zh-CN" sz="4800" spc="-1" strike="noStrike">
                <a:solidFill>
                  <a:srgbClr val="8dc765"/>
                </a:solidFill>
                <a:latin typeface="Gill Sans MT"/>
              </a:rPr>
              <a:t>鸟，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dc765"/>
                </a:solidFill>
                <a:latin typeface="Gill Sans MT"/>
              </a:rPr>
              <a:t>时鸣</a:t>
            </a:r>
            <a:r>
              <a:rPr b="1" lang="zh-TW" sz="4800" spc="-1" strike="noStrike">
                <a:solidFill>
                  <a:srgbClr val="8dc765"/>
                </a:solidFill>
                <a:latin typeface="Gill Sans MT"/>
                <a:ea typeface="微軟正黑體"/>
              </a:rPr>
              <a:t>春</a:t>
            </a:r>
            <a:r>
              <a:rPr b="1" lang="zh-CN" sz="4800" spc="-1" strike="noStrike">
                <a:solidFill>
                  <a:srgbClr val="8dc765"/>
                </a:solidFill>
                <a:latin typeface="Gill Sans MT"/>
              </a:rPr>
              <a:t>涧</a:t>
            </a:r>
            <a:r>
              <a:rPr b="1" lang="zh-TW" sz="4800" spc="-1" strike="noStrike">
                <a:solidFill>
                  <a:srgbClr val="8dc765"/>
                </a:solidFill>
                <a:latin typeface="Gill Sans MT"/>
                <a:ea typeface="微軟正黑體"/>
              </a:rPr>
              <a:t>中</a:t>
            </a:r>
            <a:r>
              <a:rPr b="1" lang="zh-CN" sz="4800" spc="-1" strike="noStrike">
                <a:solidFill>
                  <a:srgbClr val="8dc765"/>
                </a:solidFill>
                <a:latin typeface="Gill Sans MT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8:55:11Z</dcterms:created>
  <dc:creator>kisb_chinese01</dc:creator>
  <dc:description/>
  <dc:language>en-US</dc:language>
  <cp:lastModifiedBy>zmj</cp:lastModifiedBy>
  <dcterms:modified xsi:type="dcterms:W3CDTF">2013-02-21T11:11:28Z</dcterms:modified>
  <cp:revision>11</cp:revision>
  <dc:subject/>
  <dc:title>幻灯片 1</dc:title>
</cp:coreProperties>
</file>