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0FD7-83ED-463A-B94B-6EC56516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E712-4FED-4CC0-A20A-45C15589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1AF9-F75C-4510-8DB7-D172F486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9DFB-378D-4835-9F0E-2E6BC507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91C8-A81B-48AC-9178-C7F00FBB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5CE8-63C7-4E6D-85F2-8C650CF1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452E-EBC3-4952-BA59-CE097DBD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F476-AAF3-4BBF-8130-E6D6D393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494D-42EA-4732-AEAC-E0262DF3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F629-22C9-4EB5-82AF-1F911662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2786-1146-40E6-A8BD-A7C036C3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5B06-DE8D-432A-B94E-8B1E9384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C7EF-BFAC-48C1-BD62-D15E2533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BCA1-8859-4CF4-B7E8-E84D1073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6102-C66A-4C16-80D2-165282A2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C098-2F2D-4F2E-83F2-BCD82F25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AE23-96C1-4FA6-B542-5E83FD9B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9BA2-6C99-4E6F-8396-AA4012F5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6AD4-0525-4155-83DD-DF572AB7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54F7-0A27-4F62-9BE0-9E7AF76D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F0CD-48A9-44A4-9DF0-7239AD50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1924-7362-49F5-AF58-7F63438F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C6EB-0180-411F-9F8B-4547BE16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1805-9301-4731-B828-9157A678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4B2B-5288-4293-8331-7FC865354D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3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F773-98C3-41EA-BC3A-D7ACE2F88195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7619760" cy="3276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86000" y="18252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727de0"/>
                </a:solidFill>
                <a:latin typeface="Times New Roman"/>
                <a:ea typeface="隶书"/>
              </a:rPr>
              <a:t>内蒙访古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1523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27de0"/>
                </a:solidFill>
                <a:latin typeface="Times New Roman"/>
                <a:ea typeface="隶书"/>
              </a:rPr>
              <a:t>翦伯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609480"/>
            <a:ext cx="67057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了解引用资料和抒发见解浑然一体的写作特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了解作者所表达的关于民族关系的正确观点，领会课文中洋溢的爱国主义和珍视民族团结的思想感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2120" y="1143000"/>
            <a:ext cx="75438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c3c84"/>
                </a:solidFill>
                <a:latin typeface="Times New Roman"/>
                <a:ea typeface="华文新魏"/>
              </a:rPr>
              <a:t>作者简介</a:t>
            </a:r>
            <a:r>
              <a:rPr b="1" lang="zh-CN" sz="4000" spc="-1" strike="noStrike">
                <a:solidFill>
                  <a:srgbClr val="3c3c84"/>
                </a:solidFill>
                <a:latin typeface="Times New Roman"/>
              </a:rPr>
              <a:t>：作者翦伯赞（</a:t>
            </a:r>
            <a:r>
              <a:rPr b="1" lang="zh-CN" sz="4000" spc="-1" strike="noStrike">
                <a:solidFill>
                  <a:srgbClr val="3c3c84"/>
                </a:solidFill>
                <a:latin typeface="Times New Roman"/>
              </a:rPr>
              <a:t>1898</a:t>
            </a:r>
            <a:r>
              <a:rPr b="1" lang="zh-CN" sz="4000" spc="-1" strike="noStrike">
                <a:solidFill>
                  <a:srgbClr val="3c3c84"/>
                </a:solidFill>
                <a:latin typeface="Times New Roman"/>
              </a:rPr>
              <a:t>～</a:t>
            </a:r>
            <a:r>
              <a:rPr b="1" lang="zh-CN" sz="4000" spc="-1" strike="noStrike">
                <a:solidFill>
                  <a:srgbClr val="3c3c84"/>
                </a:solidFill>
                <a:latin typeface="Times New Roman"/>
              </a:rPr>
              <a:t>1968</a:t>
            </a:r>
            <a:r>
              <a:rPr b="1" lang="zh-CN" sz="4000" spc="-1" strike="noStrike">
                <a:solidFill>
                  <a:srgbClr val="3c3c84"/>
                </a:solidFill>
                <a:latin typeface="Times New Roman"/>
              </a:rPr>
              <a:t>年），湖南桃源人，维吾尔族，我国著名的历史学家，著述颇丰。解放后曾任北京大学历史系主任，副校长等职。文化大革命期间，被“四人帮”迫害致死，“四人帮”覆灭后平反昭雪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31520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本文是</a:t>
            </a: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1961</a:t>
            </a: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年翦伯赞应邀访问内蒙古后写的。全文除引言外，共六部分，课文节选的是第二、三部分。课文以寻访古迹所见所闻为线索，把自然环境、古迹和历史人物的描写以及作者的评论融合在一起，记叙了我国内蒙古历史上的民族关系，阐述了自己的见解。这是一篇独具风格，富有特色的访古散文。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5228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华文新魏"/>
              </a:rPr>
              <a:t>课文说明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837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散文知识的复习</a:t>
            </a:r>
            <a:br>
              <a:rPr sz="4400"/>
            </a:b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    散文的特点是“形散而神不散”。所谓“形散”是指取材广泛，不受时间空间的约束，驰骋想象，思接千载，视通万里。所谓‘神不散”是指用明确的立意统领全篇，放得开，收得拢。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6T06:21:51Z</dcterms:created>
  <dc:creator>xinlian</dc:creator>
  <dc:description/>
  <dc:language>en-US</dc:language>
  <cp:lastModifiedBy>xinlian</cp:lastModifiedBy>
  <dcterms:modified xsi:type="dcterms:W3CDTF">2000-11-17T08:54:12Z</dcterms:modified>
  <cp:revision>9</cp:revision>
  <dc:subject/>
  <dc:title>PowerPoint 演示文稿</dc:title>
</cp:coreProperties>
</file>