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camera.wav" ContentType="audio/x-wav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gif" ContentType="image/gif"/>
  <Override PartName="/ppt/media/image14.jpeg" ContentType="image/jpeg"/>
  <Override PartName="/ppt/media/image18.jpeg" ContentType="image/jpeg"/>
  <Override PartName="/ppt/media/image17.jpeg" ContentType="image/jpeg"/>
  <Override PartName="/ppt/media/bomb.wav" ContentType="audio/x-wav"/>
  <Override PartName="/ppt/media/image15.gif" ContentType="image/gif"/>
  <Override PartName="/ppt/media/image8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13.gif" ContentType="image/gif"/>
  <Override PartName="/ppt/media/image28.gif" ContentType="image/gif"/>
  <Override PartName="/ppt/media/image30.gif" ContentType="image/gif"/>
  <Override PartName="/ppt/media/image29.gif" ContentType="image/gif"/>
  <Override PartName="/ppt/media/image33.jpeg" ContentType="image/jpeg"/>
  <Override PartName="/ppt/media/image16.jpeg" ContentType="image/jpeg"/>
  <Override PartName="/ppt/media/image39.gif" ContentType="image/gif"/>
  <Override PartName="/ppt/media/image37.jpeg" ContentType="image/jpeg"/>
  <Override PartName="/ppt/media/image31.jpeg" ContentType="image/jpeg"/>
  <Override PartName="/ppt/media/image38.gif" ContentType="image/gif"/>
  <Override PartName="/ppt/media/image3.wmf" ContentType="image/x-wmf"/>
  <Override PartName="/ppt/media/image7.png" ContentType="image/png"/>
  <Override PartName="/ppt/media/image1.jpeg" ContentType="image/jpeg"/>
  <Override PartName="/ppt/media/image27.gif" ContentType="image/gif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2.jpeg" ContentType="image/jpeg"/>
  <Override PartName="/ppt/media/image24.gif" ContentType="image/gif"/>
  <Override PartName="/ppt/media/image2.jpeg" ContentType="image/jpeg"/>
  <Override PartName="/ppt/media/image2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7D3-5152-4AC7-95BE-C725A259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6F7-D4A3-4681-B153-B98BD56C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B4734-4838-4223-90AF-0C35EC42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9F618-F3D7-434C-B557-6D27682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AA2B2-AFD7-410A-A1D5-095E87F3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CA285-189A-4CD5-B613-0F80B5C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F450A-6D3B-4DD9-A2F2-E4EEAE6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E4924-B9BF-4D8C-A4DB-929AA74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019F4-8F25-41D8-9FBC-4ED01355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565B1-C439-4446-A387-A02AA0AD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81489-B223-407B-BAD3-EAA51611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917A6-AC9E-4C59-9B31-D73A2FA2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454-EBBA-4D44-B004-ACA91EF6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3C241-B1FD-44D4-B1C2-5034FC7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6B555-4252-4223-8F1C-73441C18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51DF3-77DD-4E23-9076-A263F47C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199A6-4C46-412F-8AE7-0230EC53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16C64-7929-4210-8FEC-3403F8AF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9A351-D6E3-4635-9D75-7F833FF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43016-A49D-445B-ADE3-B3FA85F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4C304-F656-4401-A858-CF6A8A1B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73E43-F56A-424D-80A6-ACDC0E94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87397-C34E-40F3-BF54-26424986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FF3-C845-4967-89FE-904D7A74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EEB9D-FF36-44D9-8288-F35BBB54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F9142-0BA7-45D7-A300-92832B8E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84AF4-07A6-4611-9BF9-93255ED6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2C99E-212A-431F-8517-CC253120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F4E9E-169B-44F2-95D2-3B5CD98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C115A-D9D6-4C64-8201-4C83BA3C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6E9F1-B7AE-4283-AD11-6F1CD64D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E4C78-36B1-48DD-A571-D47DCCE1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00655-C6F1-445E-A248-E637852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A2E08-967A-450B-BB7D-675AB97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0FDA-D05B-4ECC-99DF-C525DB6C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2FC42-4D43-45B0-8D44-56747153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53DA0-0114-45C2-AE4E-FB789F73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61722-2C2A-46F0-BBA4-379FA7C6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E7324-F787-40C5-A494-D986EA64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82BC4-2C40-4562-95FC-1BA645F2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140B7-6132-41A2-BB17-086250E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03F64-DFDB-4612-B598-0BDDD21F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1E398-97C9-47F6-BD18-97161FB2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537AC-3051-438F-95FA-55B1D02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B486B-87AC-4201-B712-D0B78FE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C64-FA23-4DBC-AED2-6CF14299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C5B62-669F-4B29-9477-5E9AE6E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3B69D-19DF-4C20-B663-A4E0061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CEC9B-566C-40B3-A1DD-FABA121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68ED7-4DC6-49E8-BB04-D3E126C5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90189-1DD2-4DB3-B48B-65C99BB3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88AFD8-18FA-4C85-8037-BB284DA0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3E3F65-8C8D-49C7-B20C-6B22E693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94A599-EB95-4438-AB73-4F1D623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B47138-ACFE-4C4C-A84F-98E8C3F1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AFCA85-B00D-4B99-9EB7-E6A3D45E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34A5-2B26-4BF1-A17F-8E86A25B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88CD60-EA0E-4A22-9DC8-2DD924CD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1F8FD5-42EE-4514-A712-C48814B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DFCEC8-B6D2-4399-B8E0-A858A582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F77C8D-511A-4C27-97CA-F43673F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B09B13-55F4-4B25-A16D-DCED37F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9FDB13-CD90-409E-974E-D7C4EB1D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05CEBD-1500-4453-8363-DDB92A40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C586E-872E-4231-9110-CDE5ECA2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3D34E-E688-4F70-9E47-D6B9842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CAAAE-7EBD-4240-A63A-4FC9A836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4D14-8C4E-4C58-B478-EA6F4112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B5EDF-738D-499B-BBCB-E9110C7B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225F9-52A7-412D-92E1-0B149F04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16AB1-923D-47D6-B52E-86294C2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76166-4584-4567-AA9E-06BD2937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ED578-45EB-4816-AB4C-AB5E9027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F19B2-3A87-4ACE-B65E-BD2BDC79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04648-CE52-4BC4-AEF2-FFDE2C3D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5F6E5-9485-4571-9420-D73DAFCA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2FE51-8DE6-4C33-9D75-E27D2F8A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F6518-AC24-43D7-8B38-F1756184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B61A-1144-4234-9AD8-B88B30DF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B34F9-1A8B-426A-A3CA-28AF1EA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6BFE6-B2D6-42FF-A3F8-A6733C8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A3DE4-113B-470F-B694-F2F527F9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EAC8E-26A1-499C-B68E-8348731A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E7F14-8241-4A78-BB92-317012CA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0C556-9103-492A-BEF5-50B51CC5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D4011-5B38-4FD4-9FC0-3431D52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F69C6-1B89-4019-A93C-3744AD0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C91F3-DD14-47A6-84CB-22F6CFCC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DF785-29F8-4CE4-8576-884D711C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3DDF-5B2B-48E6-9F25-0FA90EFF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DF790-1657-4111-8369-9A4FD2C7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D3C-E1B7-474A-A9CB-9D8B17EC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07D-ED85-4956-8E73-A6B3D539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AA2D-B25F-4019-A93E-8EF01D58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32F-6B3A-4F97-873E-73EBF2B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7FCE-23CA-4C39-ADC6-EA2749E3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0EE-4249-462C-8360-D913BDE3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B5B8-3D97-4CA5-B3E3-BB3794CE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2932-9A49-4C74-99D0-08426DD3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09E0-3148-4437-A75B-3562BE55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9DD0-FA8E-4085-BB3D-8126C47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65D0-601E-4163-9B7A-15ACFC15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BDA9-4F8C-4723-9781-E6D34928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335-9ECA-444C-B903-36687364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509B-091C-4866-9418-0E84E65E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12D0-FB78-42D6-B0DA-257A5127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4649-D510-4F01-A2E6-AF1E0460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96AE-8104-4D3A-94FC-155878A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9A4F2-13D0-43E1-B5AE-3ED076B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51CF-C831-4C55-80DA-9137AC5D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57A0-9819-4DE5-830C-DB0B95E4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53C5-3C20-499A-8D24-FB9F3D44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E160-D2CA-465F-B8D8-5F2F166F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060A-43DB-444E-B0D0-493D269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834-7466-4F3A-A659-598523B6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6D70-7BBA-46DD-95A4-3E54C6EE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2062-62E9-45C0-9A18-4C6EFA0E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45AC-75B9-41BF-96D8-E2924C10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80EEC-1158-4077-B748-4A4835F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5C08-23E2-457B-876C-5C0CBED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C1B4-DAEC-4DD6-BC14-50AF72AE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04F8-3935-442C-95B6-14CFD69B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8FAB-9D8A-4A35-95B6-BAC9C225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4D53B-02E3-4BC0-BC56-8976AB59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819B-C074-405A-A675-1916AD04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0F0-3253-4625-857D-588FBC60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F6FD-98BE-422B-8413-AA085555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EC23-E0C0-482A-BC25-88EB6AE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1E904-D56A-42FD-9840-A02D1E15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C9B15-512F-424A-9DB4-F2013344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287A-700B-4B3D-8022-61749969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C4C9-1686-494B-A8D4-9CF6334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5EEF-9013-4FCB-8749-EE78832E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461BB-E5CE-4D76-A314-19A7B4C3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0D7AA-056B-4C95-8800-618B7DD6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9DF3-FA90-4FF9-A2A5-2EA48D35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A28-0E9A-4F17-A57F-92B3CA78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9CABE-300A-48F9-8C72-09E2DF81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0F208-0327-4191-AF52-47A56757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FBF8-3DA6-4D6C-B9C9-85B5FAE6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74146-560B-4E1A-9F69-0551A308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67CD-A5DF-4387-BCBC-6CD13BBE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17DB5-BD55-4580-9E0F-1DB45B1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D9F4-F4C4-48E8-9F87-1CF85283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08CF-53A7-44C4-9773-2F838BF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AD220-387D-4002-B385-189D1EED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0730-9F37-456B-AA1D-FD2F910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B8B-ED7E-4C48-B5BA-FD451078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FAFF-CE7D-41A1-A0AB-29292A9E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3B55A-B17D-4AC5-BF34-AD057889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3B95-0612-447A-A433-0CBFDED3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11BC7-BEBD-4938-86F0-82E5B884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6E1D-0E5F-41CF-AFAD-FD056FE7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3DC2-4FB0-4BAB-BF65-53EE1098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7FB5-D6CD-4E37-A814-32CA14B7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C08A1-4455-4F41-8C7B-BF3EA9D5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B52D3-1A4A-4D32-863B-C0CFCE5C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7E71-DB2B-4FB7-B70F-8BCFDE4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28E-8BFF-41DD-AFF1-AAAFB7D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3313D-2449-4DBD-BA88-A8C3B81C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DE9F-FC86-46CF-A005-610F0DEA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A74C7-18A6-4E6E-AC64-9B1F867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36B37-0F3E-44A1-9DCB-B6BE5477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004B6-64D1-46D2-BF7E-78B02D0B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9114C-BA1F-4761-BBCE-40D07F54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8212-888E-42A0-9901-E2F42158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55E26-3126-43A7-A416-A37C207D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DB3A0-1C86-461D-9EE9-C7838B5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70ABF-2400-4F7B-AD9E-667E2D34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8EC-DDA6-4528-ABFA-8F52072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1917A-8D49-4ABF-BD74-12163C20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054A1-9D7B-44A3-B8B5-72AC51E4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0DCBA-FC63-4A25-8524-5BF9FD2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8A283-A267-499D-A27E-20C8AC7E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36F39-4CA2-4C5C-ADBA-CA074D47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727AC-633D-4E06-A37B-EC017179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C1A54-B326-4343-8EB0-6AF123B6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CD3A5-8CAB-4533-86EA-25D4EFFC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7F8B4-580B-41A0-8928-AC9AB201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E33B1-B6B8-4F07-B016-7BB01F1C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C606-6239-43E9-BA17-F4A9F6536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4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F627-E9F3-4F10-9C4F-25F90FED2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5520-0784-4640-922C-61C50E160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8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BDF7-E1FD-463F-B160-4F6FD592A1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7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7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8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AB17-D3F5-4756-BEE7-E6863C7F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4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4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4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620B-945B-453E-BC67-849C1AD77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1026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027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033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4E3C-A9D6-43B4-BE82-A5C8D0C80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EB11-0A5A-40F4-8AF4-11C3966D4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6ACC-1A53-489F-B57B-5D5CCA7F8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F106-2E91-4610-9D1B-A94EACA94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EFB2-19C6-472B-B4E7-AC53E0A9D6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8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9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0A3A-07E7-4A89-8F44-EC68CEE4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D259-0828-4464-B026-CD9F5DD3F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21D-3208-4DE9-826E-DA10A325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30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8BCA-A398-40C7-A83E-29906BE1E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苏教版六年级语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68360" y="1844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cc3300"/>
                </a:solidFill>
                <a:latin typeface="华文隶书"/>
                <a:ea typeface="华文隶书"/>
              </a:rPr>
              <a:t>牛郎织女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u=3341331234,2394027971&amp;fm=0&amp;gp=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 txBox="1"/>
          <p:nvPr/>
        </p:nvSpPr>
        <p:spPr>
          <a:xfrm>
            <a:off x="0" y="620280"/>
            <a:ext cx="88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Sǎo          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ng     shuāi        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嫂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子  牛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衰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老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zhēng  z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xiōng       tiǎn    zh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挣  扎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波涛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汹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涌   舔   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1610280" y="4581360"/>
            <a:ext cx="6224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表嫂   衰落   衰弱    衰退    趁热打铁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扎实     挣脱   挣钱   汹涌澎湃     工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2"/>
          <p:cNvSpPr/>
          <p:nvPr/>
        </p:nvSpPr>
        <p:spPr>
          <a:xfrm>
            <a:off x="1763640" y="285264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听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文，说说“牛郎织女”这个凄美故事的情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）生活很苦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人称牛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）照看周到，老牛亲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）来到森林，见到织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）老牛说话，指点机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）男耕女织，日子美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）闯入家中，抓走织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( )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牛郎喂牛，老牛诀别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 ）相遇相知，结为夫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 ）王母知情，发誓严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 ）心急如焚，追赶被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 ）喜鹊搭桥，一年一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 ）隔河相望，化作星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457848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生活很苦，人称牛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照看周到，老牛亲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来到森林，见到织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老牛说话，指点机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男耕女织，日子美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闯入家中，抓走织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7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牛郎喂牛，老牛诀别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相遇相知，结为夫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王母知情，发誓严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急如焚，追赶被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喜鹊搭桥，一年一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隔河相望，化作星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0" name="图片 3" descr=""/>
          <p:cNvPicPr/>
          <p:nvPr/>
        </p:nvPicPr>
        <p:blipFill>
          <a:blip r:embed="rId1"/>
          <a:stretch/>
        </p:blipFill>
        <p:spPr>
          <a:xfrm>
            <a:off x="457848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244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理清结构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11280" y="14126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1187280" y="2565360"/>
            <a:ext cx="86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5"/>
          <p:cNvSpPr/>
          <p:nvPr/>
        </p:nvSpPr>
        <p:spPr>
          <a:xfrm>
            <a:off x="2124000" y="2421000"/>
            <a:ext cx="432000" cy="381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2700360" y="2060640"/>
            <a:ext cx="3816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善良的牛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美满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勇敢的抗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12" descr="10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40720" y="333360"/>
            <a:ext cx="865080" cy="792000"/>
          </a:xfrm>
          <a:prstGeom prst="rect">
            <a:avLst/>
          </a:prstGeom>
          <a:ln w="0">
            <a:noFill/>
          </a:ln>
        </p:spPr>
      </p:pic>
      <p:sp>
        <p:nvSpPr>
          <p:cNvPr id="877" name="Oval 13"/>
          <p:cNvSpPr/>
          <p:nvPr/>
        </p:nvSpPr>
        <p:spPr>
          <a:xfrm>
            <a:off x="324000" y="6165720"/>
            <a:ext cx="936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Arial"/>
              </a:rPr>
              <a:t>复述：善良的牛郎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抓关键词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哥嫂虐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孤苦无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老牛亲密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0" name="Picture 4" descr="003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380360" y="9079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881" name="Oval 5"/>
          <p:cNvSpPr/>
          <p:nvPr/>
        </p:nvSpPr>
        <p:spPr>
          <a:xfrm>
            <a:off x="395280" y="6165720"/>
            <a:ext cx="9367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复述：美满的生活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老牛指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牛郎追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织女爱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男耕女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生活美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4" name="Picture 5" descr="tov-10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948360" y="549360"/>
            <a:ext cx="1468440" cy="1079280"/>
          </a:xfrm>
          <a:prstGeom prst="rect">
            <a:avLst/>
          </a:prstGeom>
          <a:ln w="0">
            <a:noFill/>
          </a:ln>
        </p:spPr>
      </p:pic>
      <p:sp>
        <p:nvSpPr>
          <p:cNvPr id="885" name="Oval 6"/>
          <p:cNvSpPr/>
          <p:nvPr/>
        </p:nvSpPr>
        <p:spPr>
          <a:xfrm>
            <a:off x="468360" y="6165720"/>
            <a:ext cx="9367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00"/>
                </a:solidFill>
                <a:latin typeface="Arial Black"/>
              </a:rPr>
              <a:t>复述：勇敢的抗争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826920" y="141264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王母下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捉拿织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牛郎追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河阻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勇敢抗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鹊桥相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7" descr="Q_039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948360" y="765000"/>
            <a:ext cx="1368720" cy="1027440"/>
          </a:xfrm>
          <a:prstGeom prst="rect">
            <a:avLst/>
          </a:prstGeom>
          <a:ln w="0">
            <a:noFill/>
          </a:ln>
        </p:spPr>
      </p:pic>
      <p:sp>
        <p:nvSpPr>
          <p:cNvPr id="889" name="Oval 8"/>
          <p:cNvSpPr/>
          <p:nvPr/>
        </p:nvSpPr>
        <p:spPr>
          <a:xfrm>
            <a:off x="395280" y="6093000"/>
            <a:ext cx="9367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u=1102069336,1591716965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 txBox="1"/>
          <p:nvPr/>
        </p:nvSpPr>
        <p:spPr>
          <a:xfrm>
            <a:off x="610920" y="112500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很久很久以前，有个孤儿跟着哥哥嫂子过日子。哥哥嫂子待他很不好，叫他吃剩饭，穿破衣裳，每天天不亮，就赶他上山放牛。他没有名字，大家都叫他牛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u=1102069336,1591716965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 txBox="1"/>
          <p:nvPr/>
        </p:nvSpPr>
        <p:spPr>
          <a:xfrm>
            <a:off x="610920" y="1125000"/>
            <a:ext cx="7705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很久和久以前，有个孤儿跟着哥哥嫂子过日子。哥哥嫂子待他很不好，叫他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吃剩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穿破衣裳，每天天不亮，就赶他上山放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他没有名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大家都叫他牛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4"/>
          <p:cNvSpPr/>
          <p:nvPr/>
        </p:nvSpPr>
        <p:spPr>
          <a:xfrm>
            <a:off x="6103440" y="5157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宋体"/>
              </a:rPr>
              <a:t>孤苦伶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lizard6.MP3" descr=""/>
          <p:cNvPicPr/>
          <p:nvPr/>
        </p:nvPicPr>
        <p:blipFill>
          <a:blip r:embed="rId1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19" name="lizard10.MP3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2" descr="pic189[1]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6"/>
          <p:cNvSpPr/>
          <p:nvPr/>
        </p:nvSpPr>
        <p:spPr>
          <a:xfrm>
            <a:off x="1476360" y="907920"/>
            <a:ext cx="7201080" cy="2399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希望是人类心中一颗不灭的启明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7"/>
          <p:cNvSpPr/>
          <p:nvPr/>
        </p:nvSpPr>
        <p:spPr>
          <a:xfrm>
            <a:off x="324000" y="3141720"/>
            <a:ext cx="78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8"/>
          <p:cNvSpPr/>
          <p:nvPr/>
        </p:nvSpPr>
        <p:spPr>
          <a:xfrm>
            <a:off x="1042920" y="692280"/>
            <a:ext cx="792360" cy="1655640"/>
          </a:xfrm>
          <a:custGeom>
            <a:avLst/>
            <a:gdLst>
              <a:gd name="textAreaLeft" fmla="*/ 326520 w 792360"/>
              <a:gd name="textAreaRight" fmla="*/ 465840 w 792360"/>
              <a:gd name="textAreaTop" fmla="*/ 682200 h 1655640"/>
              <a:gd name="textAreaBottom" fmla="*/ 9734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/>
          <p:cNvSpPr/>
          <p:nvPr/>
        </p:nvSpPr>
        <p:spPr>
          <a:xfrm>
            <a:off x="611280" y="333360"/>
            <a:ext cx="1657080" cy="2374920"/>
          </a:xfrm>
          <a:custGeom>
            <a:avLst/>
            <a:gdLst>
              <a:gd name="textAreaLeft" fmla="*/ 730440 w 1657080"/>
              <a:gd name="textAreaRight" fmla="*/ 926640 w 1657080"/>
              <a:gd name="textAreaTop" fmla="*/ 1046520 h 2374920"/>
              <a:gd name="textAreaBottom" fmla="*/ 132840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0" y="9520"/>
                </a:lnTo>
                <a:lnTo>
                  <a:pt x="10800" y="0"/>
                </a:lnTo>
                <a:lnTo>
                  <a:pt x="12080" y="9520"/>
                </a:lnTo>
                <a:lnTo>
                  <a:pt x="21600" y="10800"/>
                </a:lnTo>
                <a:lnTo>
                  <a:pt x="12080" y="12080"/>
                </a:lnTo>
                <a:lnTo>
                  <a:pt x="10800" y="21600"/>
                </a:lnTo>
                <a:lnTo>
                  <a:pt x="9520" y="1208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16" descr="welcome-7"/>
          <p:cNvPicPr/>
          <p:nvPr/>
        </p:nvPicPr>
        <p:blipFill>
          <a:blip r:embed="rId4"/>
          <a:stretch/>
        </p:blipFill>
        <p:spPr>
          <a:xfrm>
            <a:off x="6443640" y="5516640"/>
            <a:ext cx="2263680" cy="1136520"/>
          </a:xfrm>
          <a:prstGeom prst="rect">
            <a:avLst/>
          </a:prstGeom>
          <a:ln w="0">
            <a:noFill/>
          </a:ln>
        </p:spPr>
      </p:pic>
      <p:sp>
        <p:nvSpPr>
          <p:cNvPr id="826" name="Oval 17"/>
          <p:cNvSpPr/>
          <p:nvPr/>
        </p:nvSpPr>
        <p:spPr>
          <a:xfrm>
            <a:off x="395280" y="6165720"/>
            <a:ext cx="9367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1000" autoRev="1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" dur="1000" autoRev="1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1000" autoRev="1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500" autoRev="1" fill="hold"/>
                                        <p:tgtEl>
                                          <p:spTgt spid="8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0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cmd type="call" cmd="">
                                      <p:cBhvr>
                                        <p:cTn id="23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u=1102069336,1591716965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 txBox="1"/>
          <p:nvPr/>
        </p:nvSpPr>
        <p:spPr>
          <a:xfrm>
            <a:off x="394920" y="620640"/>
            <a:ext cx="8497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牛郎照看那头老牛很周到。每天放牛，他总是挑最好的草地，让它吃又肥又嫩的青草；老牛渴了，他就牵着它到小溪的上游，去喝最干净的溪水。那头老牛跟他也很亲密，常常用温和的眼光看着他，有时候还伸出舌头舔舔他的手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u=1102069336,1591716965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 txBox="1"/>
          <p:nvPr/>
        </p:nvSpPr>
        <p:spPr>
          <a:xfrm>
            <a:off x="395280" y="404640"/>
            <a:ext cx="8424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牛郎照看那头老牛很周到。每天放牛，他总是挑最好的草地，让它吃又肥又嫩的青草；老牛渴了，他就牵着它到小溪的上游，去喝最干净的溪水。那头老牛跟他也很亲密，常常用温和的眼光看着他，有时候还伸出舌头舔舔他的手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6245280" y="5805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心地善良、勤劳肯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u=1102069336,1591716965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 txBox="1"/>
          <p:nvPr/>
        </p:nvSpPr>
        <p:spPr>
          <a:xfrm>
            <a:off x="0" y="47592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明天黄昏的时候，你翻过右边那座山，山那边有一个湖，湖边有一片树林。在树林里，你会遇到一位美丽的姑娘。可别错过了这个机会呀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0" y="3933720"/>
            <a:ext cx="8686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黄昏，牛郎翻过右边的那座山，来到湖边的树林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5"/>
          <p:cNvSpPr/>
          <p:nvPr/>
        </p:nvSpPr>
        <p:spPr>
          <a:xfrm>
            <a:off x="6463800" y="5661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忠厚老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2" descr="u=3703048628,3474065963&amp;fm=0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 txBox="1"/>
          <p:nvPr/>
        </p:nvSpPr>
        <p:spPr>
          <a:xfrm>
            <a:off x="0" y="1052640"/>
            <a:ext cx="853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原来她是王母娘娘的外孙女，织得一手好彩锦，名字叫织女。每天早晨和傍晚，王母娘娘拿她织的彩锦装饰天空，那就是灿烂的云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5940360" y="4797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心灵手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u=1831052995,2024221503&amp;fm=3&amp;gp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 txBox="1"/>
          <p:nvPr/>
        </p:nvSpPr>
        <p:spPr>
          <a:xfrm>
            <a:off x="0" y="1125360"/>
            <a:ext cx="5472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天下午，王母娘娘多喝了几杯美酒，靠在宝座上睡着了。织女和众仙女见机会难得，便一起飞到了人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2" descr="u=3703048628,3474065963&amp;fm=0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牛郎和织女在树林里相识了。交谈中，牛郎明白织女的身份，织女也知道了牛郎的遭遇。织女见牛郎心眼儿好，又能吃苦，便决心留在人间，做牛郎的妻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6608160" y="4941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心地善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4211640" y="1052280"/>
            <a:ext cx="45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此，牛郎在地里耕种，织女在家里纺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864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4"/>
          <p:cNvSpPr/>
          <p:nvPr/>
        </p:nvSpPr>
        <p:spPr>
          <a:xfrm>
            <a:off x="5887440" y="4508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男耕女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-360" y="25992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不能帮你们下地干活了，咱们快分手了。我死了以后，你把我的皮剥下来留着，碰到赶紧的事，你就披上我的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3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u=1102069336,1591716965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 txBox="1"/>
          <p:nvPr/>
        </p:nvSpPr>
        <p:spPr>
          <a:xfrm>
            <a:off x="45720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王母娘娘趁牛郎到地里干活，便带领天兵天将闯进牛郎家里，来抓织女。两个孩子跑过来，死死地抓住妈妈的衣裳，王母娘娘狠狠一推，两个孩子跌到在地。王母娘娘拽着织女，一齐飞向天宫。织女一边挣扎，一边望着两个孩子大声喊：“快去找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2" descr="u=1102069336,1591716965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468360" y="404640"/>
            <a:ext cx="829152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王母娘娘趁牛郎到地里干活，便带领天兵天将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进牛郎家里，来抓织女。两个孩子跑过来，死死地抓住妈妈的衣裳，王母娘娘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狠狠一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两个孩子跌到在地。王母娘娘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拽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织女，一齐飞向天宫。织女一边挣扎，一边望着两个孩子大声喊：“快去找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924360" y="5661000"/>
            <a:ext cx="47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粗暴野蛮、凶狠歹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6" descr="织女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2268360" y="422064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这是牛郎织女星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title"/>
          </p:nvPr>
        </p:nvSpPr>
        <p:spPr>
          <a:xfrm>
            <a:off x="250920" y="1915920"/>
            <a:ext cx="558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遥望夜空，你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发现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0"/>
          <p:cNvSpPr/>
          <p:nvPr/>
        </p:nvSpPr>
        <p:spPr>
          <a:xfrm>
            <a:off x="7812000" y="692280"/>
            <a:ext cx="9367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2" descr="岳兴明"/>
          <p:cNvPicPr/>
          <p:nvPr/>
        </p:nvPicPr>
        <p:blipFill>
          <a:blip r:embed="rId3"/>
          <a:stretch/>
        </p:blipFill>
        <p:spPr>
          <a:xfrm>
            <a:off x="395280" y="5516640"/>
            <a:ext cx="144000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2" descr="u=1102069336,1591716965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 txBox="1"/>
          <p:nvPr/>
        </p:nvSpPr>
        <p:spPr>
          <a:xfrm>
            <a:off x="301680" y="1599840"/>
            <a:ext cx="854064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王母娘娘拔下头上的玉簪往背后一划，霎时间，牛郎的前面出现一条天河。天河很宽，波涛汹涌，牛郎飞不过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4"/>
          <p:cNvSpPr/>
          <p:nvPr/>
        </p:nvSpPr>
        <p:spPr>
          <a:xfrm>
            <a:off x="5958000" y="4508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冷酷无情、心狠手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3" descr="牛郎织女图片1"/>
          <p:cNvPicPr/>
          <p:nvPr/>
        </p:nvPicPr>
        <p:blipFill>
          <a:blip r:embed="rId2"/>
          <a:stretch/>
        </p:blipFill>
        <p:spPr>
          <a:xfrm>
            <a:off x="5076720" y="-9360"/>
            <a:ext cx="4067280" cy="6879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539280" y="177336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牛郎织女传说是中国过去封建社        会男耕女织小农经济生活的艺术反映。它以封建家庭生活为背景，通过牛郎与织女结合又离散，只能七夕在天上相会一次的幻想情节，反映了封建宗法制度下的家庭关系及其造成的婚姻悲剧。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158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小结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539280" y="1989000"/>
            <a:ext cx="88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民间故事幻想奇丽、情节动人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体现了我国古代劳动人民的聪明才智和丰富的想象力，从中寄托了爱憎褒贬之情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故事表达了我国古代劳动人民对自由幸福生活的向往和追求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val 5"/>
          <p:cNvSpPr/>
          <p:nvPr/>
        </p:nvSpPr>
        <p:spPr>
          <a:xfrm>
            <a:off x="7885080" y="404640"/>
            <a:ext cx="9367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6" descr="兴明了00"/>
          <p:cNvPicPr/>
          <p:nvPr/>
        </p:nvPicPr>
        <p:blipFill>
          <a:blip r:embed="rId1"/>
          <a:stretch/>
        </p:blipFill>
        <p:spPr>
          <a:xfrm>
            <a:off x="6286680" y="5950080"/>
            <a:ext cx="285732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作业布置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733320" y="1915920"/>
            <a:ext cx="7415280" cy="17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朗读与口述民间故事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完成课后练习三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5" name="Picture 10" descr="WW_028"/>
          <p:cNvPicPr/>
          <p:nvPr/>
        </p:nvPicPr>
        <p:blipFill>
          <a:blip r:embed="rId1"/>
          <a:stretch/>
        </p:blipFill>
        <p:spPr>
          <a:xfrm>
            <a:off x="6804000" y="5229360"/>
            <a:ext cx="1368360" cy="1008000"/>
          </a:xfrm>
          <a:prstGeom prst="rect">
            <a:avLst/>
          </a:prstGeom>
          <a:ln w="0">
            <a:noFill/>
          </a:ln>
        </p:spPr>
      </p:pic>
      <p:sp>
        <p:nvSpPr>
          <p:cNvPr id="936" name="Oval 11"/>
          <p:cNvSpPr/>
          <p:nvPr/>
        </p:nvSpPr>
        <p:spPr>
          <a:xfrm>
            <a:off x="7812000" y="404640"/>
            <a:ext cx="9367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2" descr="u=1356206286,1703830999&amp;fm=0&amp;gp=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民间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民间故事指群众口头创作、口头流传，并不断地被修改、添加、润色、提升的一种文学形式。民间故事大多直接反映了劳动人民的美好愿望，反映了人民群众的强烈要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1026" descr="u=4274906354,2235526624&amp;fm=0&amp;gp=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259236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美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丽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的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民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间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故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555640" y="1341000"/>
            <a:ext cx="504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白蛇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梁山伯与祝英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孟姜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根据下面图片说出我国四大民间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4" descr="20091213192565677801"/>
          <p:cNvPicPr/>
          <p:nvPr/>
        </p:nvPicPr>
        <p:blipFill>
          <a:blip r:embed="rId1"/>
          <a:stretch/>
        </p:blipFill>
        <p:spPr>
          <a:xfrm>
            <a:off x="395280" y="1197000"/>
            <a:ext cx="4176720" cy="49672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" descr="17_32809_0ad7fe8447d8b54"/>
          <p:cNvPicPr/>
          <p:nvPr/>
        </p:nvPicPr>
        <p:blipFill>
          <a:blip r:embed="rId2"/>
          <a:stretch/>
        </p:blipFill>
        <p:spPr>
          <a:xfrm>
            <a:off x="4643280" y="1197000"/>
            <a:ext cx="3392640" cy="518472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6"/>
          <p:cNvSpPr/>
          <p:nvPr/>
        </p:nvSpPr>
        <p:spPr>
          <a:xfrm>
            <a:off x="2124000" y="5300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白蛇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"/>
          <p:cNvSpPr/>
          <p:nvPr/>
        </p:nvSpPr>
        <p:spPr>
          <a:xfrm>
            <a:off x="7349400" y="1484280"/>
            <a:ext cx="13993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梁山伯与祝英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根据下面图片说出我国四大民间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5" descr="10"/>
          <p:cNvPicPr/>
          <p:nvPr/>
        </p:nvPicPr>
        <p:blipFill>
          <a:blip r:embed="rId1"/>
          <a:stretch/>
        </p:blipFill>
        <p:spPr>
          <a:xfrm>
            <a:off x="468360" y="1197000"/>
            <a:ext cx="4174920" cy="54007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6" descr="3"/>
          <p:cNvPicPr/>
          <p:nvPr/>
        </p:nvPicPr>
        <p:blipFill>
          <a:blip r:embed="rId2"/>
          <a:stretch/>
        </p:blipFill>
        <p:spPr>
          <a:xfrm>
            <a:off x="4427640" y="1197000"/>
            <a:ext cx="4248000" cy="547200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7"/>
          <p:cNvSpPr/>
          <p:nvPr/>
        </p:nvSpPr>
        <p:spPr>
          <a:xfrm>
            <a:off x="-239400" y="1484280"/>
            <a:ext cx="16426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孟姜女哭长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8"/>
          <p:cNvSpPr/>
          <p:nvPr/>
        </p:nvSpPr>
        <p:spPr>
          <a:xfrm>
            <a:off x="4572000" y="119700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牛郎织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1" name=""/>
          <p:cNvGraphicFramePr/>
          <p:nvPr/>
        </p:nvGraphicFramePr>
        <p:xfrm>
          <a:off x="-4581360" y="3816360"/>
          <a:ext cx="2724120" cy="777960"/>
        </p:xfrm>
        <a:graphic>
          <a:graphicData uri="http://schemas.openxmlformats.org/drawingml/2006/table">
            <a:tbl>
              <a:tblPr/>
              <a:tblGrid>
                <a:gridCol w="2724120"/>
              </a:tblGrid>
              <a:tr h="38088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中国民间年画中表现牛郎织女七夕相会的情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AutoShape 6"/>
          <p:cNvSpPr/>
          <p:nvPr/>
        </p:nvSpPr>
        <p:spPr>
          <a:xfrm>
            <a:off x="-3510000" y="3862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7"/>
          <p:cNvSpPr/>
          <p:nvPr/>
        </p:nvSpPr>
        <p:spPr>
          <a:xfrm>
            <a:off x="324000" y="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牛郎织女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国民间传说中的人物。牛郎和织女是从牛郎星和织女星的星名衍化而来的。汉魏间，民间即有此故事。故事中牛郎是人间的看牛郎，织女则是天帝之女。织女与牛郎婚配 ，并生一男一女，最后王母将其捉回，在两人之间划成一道天河，二人只能靠鹊桥每年七夕相会。它与孟姜女传说、白蛇传说、梁祝传说被称为中国四大传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8"/>
          <p:cNvSpPr/>
          <p:nvPr/>
        </p:nvSpPr>
        <p:spPr>
          <a:xfrm>
            <a:off x="2624040" y="6165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国民间年画中表现牛郎织女七夕相会的情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23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4" descr="牛郎织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852640"/>
            <a:ext cx="6769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44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6854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舔（              ）咧（             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偎（              ）簪（             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拗（              ）刷（             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" name="Picture 1028" descr="031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04000" y="5589720"/>
            <a:ext cx="1081080" cy="87624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1029"/>
          <p:cNvSpPr/>
          <p:nvPr/>
        </p:nvSpPr>
        <p:spPr>
          <a:xfrm>
            <a:off x="2987640" y="2349360"/>
            <a:ext cx="540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ăn                    li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ēi                     zā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ù                 s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030"/>
          <p:cNvSpPr/>
          <p:nvPr/>
        </p:nvSpPr>
        <p:spPr>
          <a:xfrm>
            <a:off x="7956720" y="404640"/>
            <a:ext cx="936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11:26:05Z</dcterms:created>
  <dc:creator/>
  <dc:description>第一PPT模板网-WWW.1PPT.COM
</dc:description>
  <dc:language>en-US</dc:language>
  <cp:lastModifiedBy>Administrator</cp:lastModifiedBy>
  <dcterms:modified xsi:type="dcterms:W3CDTF">2017-08-17T08:26:36Z</dcterms:modified>
  <cp:revision>27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