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2.jpeg" ContentType="image/jpeg"/>
  <Override PartName="/ppt/media/image39.png" ContentType="image/png"/>
  <Override PartName="/ppt/media/image29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40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6.png" ContentType="image/png"/>
  <Override PartName="/ppt/media/image6.png" ContentType="image/png"/>
  <Override PartName="/ppt/media/bomb.wav" ContentType="audio/x-wav"/>
  <Override PartName="/ppt/media/image35.jpeg" ContentType="image/jpeg"/>
  <Override PartName="/ppt/media/image10.png" ContentType="image/pn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50F6-CAFD-4C27-B8B1-5972D2621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07CC-B9CA-4705-9DC9-34CA9C7D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1C9F-86EC-4865-845C-0FDDDCA83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720C-DC71-41FB-B011-CEAA83690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A793-C162-4146-B178-43C496A4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A3EE-C969-4F28-8727-9AD76EE8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8648-5922-41A5-A10B-1872ADA2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E665-ACC0-4EE5-8FE5-22D80740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BA54-1250-49CB-A429-961D4FCD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7B9A-0134-48CC-84CA-10DEAFC5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167C-6627-42A3-B454-886EF07D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CA92-A6A9-43BD-AF1A-77F734BF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90A9-4609-4B1A-ABC8-EB205813D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3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5" descr=""/>
          <p:cNvPicPr/>
          <p:nvPr/>
        </p:nvPicPr>
        <p:blipFill>
          <a:blip r:embed="rId2"/>
          <a:stretch/>
        </p:blipFill>
        <p:spPr>
          <a:xfrm>
            <a:off x="828720" y="600120"/>
            <a:ext cx="126360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10920" y="1125000"/>
            <a:ext cx="7705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很久很久以前，有个孤儿跟着哥哥嫂子过日子。哥哥嫂子待他很不好，叫他吃剩饭，穿破衣裳，每天天不亮，就赶他上山放牛。他没有名字，大家都叫他牛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10920" y="1125000"/>
            <a:ext cx="7705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很久很久以前，有个孤儿跟着哥哥嫂子过日子。哥哥嫂子待他很不好，叫他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吃剩饭，穿破衣裳，每天天不亮，就赶他上山放牛。他没有名字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，大家都叫他牛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27"/>
          <p:cNvSpPr/>
          <p:nvPr/>
        </p:nvSpPr>
        <p:spPr>
          <a:xfrm>
            <a:off x="6103440" y="51577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孤苦伶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28" descr="1281685227390080_副本"/>
          <p:cNvPicPr/>
          <p:nvPr/>
        </p:nvPicPr>
        <p:blipFill>
          <a:blip r:embed="rId1"/>
          <a:stretch/>
        </p:blipFill>
        <p:spPr>
          <a:xfrm>
            <a:off x="0" y="4952880"/>
            <a:ext cx="30862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94920" y="620640"/>
            <a:ext cx="84978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牛郎照看那头老牛很周到。每天放牛，他总是挑最好的草地，让它吃又肥又嫩的青草；老牛渴了，他就牵着它到小溪的上游，去喝最干净的溪水。那头老牛跟他也很亲密，常常用温和的眼光看着他，有时候还伸出舌头舔舔他的手呢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95280" y="404640"/>
            <a:ext cx="842472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牛郎照看那头老牛很周到。每天放牛，他总是挑最好的草地，让它吃又肥又嫩的青草；老牛渴了，他就牵着它到小溪的上游，去喝最干净的溪水。那头老牛跟他也很亲密，常常用温和的眼光看着他，有时候还伸出舌头舔舔他的手呢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6245280" y="580536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  <a:ea typeface="楷体_GB2312"/>
              </a:rPr>
              <a:t>心地善良、勤劳肯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0" y="475920"/>
            <a:ext cx="9144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明天黄昏的时候，你翻过右边那座山，山那边有一个湖，湖边有一片树林。在树林里，你会遇到一位美丽的姑娘。可别错过了这个机会呀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0" y="3933720"/>
            <a:ext cx="86868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第二天黄昏，牛郎翻过右边的那座山，来到湖边的树林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6463800" y="56610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楷体_GB2312"/>
              </a:rPr>
              <a:t>忠厚老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0" y="1052640"/>
            <a:ext cx="8532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原来她是王母娘娘的外孙女，织得一手好彩锦，名字叫织女。每天早晨和傍晚，王母娘娘拿她织的彩锦装饰天空，那就是灿烂的云霞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940360" y="479736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心灵手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0" y="0"/>
            <a:ext cx="914400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228600" y="380880"/>
            <a:ext cx="876312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这天下午，王母娘娘多喝了几杯美酒，靠在宝座上睡着了。织女和众仙女见机会难得，便一起飞到了人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牛郎和织女在树林里相识了。交谈中，牛郎明白了织女的身份，织女也知道了牛郎的遭遇。织女见牛郎心眼儿好，又能吃苦，便决心留在人间，做牛郎的妻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6608160" y="49417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心地善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211640" y="1052280"/>
            <a:ext cx="4572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从此，牛郎在地里耕种，织女在家里纺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6776280" y="45720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男耕女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牛郎织女ddd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-360" y="259920"/>
            <a:ext cx="4608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不能帮你们下地干活了，咱们快分手了。我死了以后，你把我的皮剥下来留着，碰到紧急的事，你就披上我的皮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织女星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2268360" y="4220640"/>
            <a:ext cx="64008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这是牛郎织女星座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250920" y="1915920"/>
            <a:ext cx="5581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遥望夜空，你</a:t>
            </a:r>
            <a:br>
              <a:rPr sz="6000"/>
            </a:b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发现了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836280"/>
            <a:ext cx="829152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一天，王母娘娘趁牛郎到地里干活，便带领天兵天将闯进牛郎家里，来抓织女。两个孩子跑过来，死死地抓住妈妈的衣裳，王母娘娘狠狠一推，两个孩子跌倒在地。王母娘娘拽着织女，一齐飞向天宫。织女一边挣扎，一边望着两个孩子大声喊：“快去找爸爸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04920" y="380880"/>
            <a:ext cx="829152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一天，王母娘娘趁牛郎到地里干活，便带领天兵天将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进牛郎家里，来抓织女。两个孩子跑过来，死死地抓住妈妈的衣裳，王母娘娘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狠狠一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，两个孩子跌倒在地。王母娘娘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拽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织女，一齐飞向天宫。织女一边挣扎，一边望着两个孩子大声喊：“快去找爸爸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924360" y="5661000"/>
            <a:ext cx="477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  <a:ea typeface="楷体_GB2312"/>
              </a:rPr>
              <a:t>粗暴野蛮、凶狠歹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0492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王母娘娘拔下头上的玉簪往背后一划，霎时间，牛郎的面前出现一条天河。天河很宽，波涛汹涌，牛郎飞不过去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5958000" y="45086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  <a:ea typeface="楷体_GB2312"/>
              </a:rPr>
              <a:t>冷酷无情、心狠手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4_1"/>
          <p:cNvPicPr/>
          <p:nvPr/>
        </p:nvPicPr>
        <p:blipFill>
          <a:blip r:embed="rId1"/>
          <a:stretch/>
        </p:blipFill>
        <p:spPr>
          <a:xfrm>
            <a:off x="5257800" y="0"/>
            <a:ext cx="38862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304920" y="30492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此以后，牛郎在天河的这边，织女在天河的那边，两人只能隔河相望。日子久了，他们就成了天河两边的牵牛星和织女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年农历七月初七的夜晚，一群群喜鹊飞来，在天河上搭起一座“鹊桥”，让牛郎织女在桥上相会。每逢这一天，喜鹊也似乎少了许多，据说它们都到天河那儿搭桥去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方正大黑简体"/>
              </a:rPr>
              <a:t>理清课文结构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"/>
          <p:cNvSpPr/>
          <p:nvPr/>
        </p:nvSpPr>
        <p:spPr>
          <a:xfrm>
            <a:off x="1066680" y="1143000"/>
            <a:ext cx="432000" cy="5410080"/>
          </a:xfrm>
          <a:custGeom>
            <a:avLst/>
            <a:gdLst>
              <a:gd name="textAreaLeft" fmla="*/ 276120 w 432000"/>
              <a:gd name="textAreaRight" fmla="*/ 432360 w 432000"/>
              <a:gd name="textAreaTop" fmla="*/ 140760 h 5410080"/>
              <a:gd name="textAreaBottom" fmla="*/ 5269320 h 541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7879"/>
                </a:lnTo>
                <a:cubicBezTo>
                  <a:pt x="10800" y="8779"/>
                  <a:pt x="5400" y="9678"/>
                  <a:pt x="0" y="9678"/>
                </a:cubicBezTo>
                <a:cubicBezTo>
                  <a:pt x="5400" y="9678"/>
                  <a:pt x="10800" y="10578"/>
                  <a:pt x="10800" y="11477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523880" y="83808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--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写牛郎是孤苦伶仃的穷孩子，与老牛相依为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523880" y="18288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（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-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牛郎在老牛的帮助下认识了织女，并结为夫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523880" y="28954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--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写牛郎与织女过上了幸福的生活，但老牛死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447920" y="39625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--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写王母娘娘抓走了织女，牛郎带着孩子追赶，王母娘娘用玉簪划出一条天河将他们隔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1447920" y="53038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五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--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写牛郎织女从此隔河相望，只在每年七月初七的夜晚，才能在鹊桥上相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WordArt 9" descr=""/>
          <p:cNvPicPr/>
          <p:nvPr/>
        </p:nvPicPr>
        <p:blipFill>
          <a:blip r:embed="rId1"/>
          <a:stretch/>
        </p:blipFill>
        <p:spPr>
          <a:xfrm>
            <a:off x="219240" y="1895400"/>
            <a:ext cx="730080" cy="30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方正大黑简体"/>
              </a:rPr>
              <a:t>课文内容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文讲述了一个动人的故事：孤儿牛郎在老牛的帮助下认识了美丽的姑娘织女。他们男耕女织，过着美满的生活。王母娘娘知道后，拆散了他们，并带着天兵天将抓走了织女。牛郎急忙披上老牛的皮，用竹筐挑着两个孩子去追赶织女，被王母娘娘用玉簪划出的天河隔开。从此，牛郎织女只能隔河相望，天长日久，他们就成了天河边上的牵牛星和织女星。故事表达了勤劳善良的劳动人民对美好生活的追求，同时也表达了人们对破坏美好生活的专制者的憎恨。还可以感受到作者对善良的人们的深深同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业布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50920" y="1844640"/>
            <a:ext cx="88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、朗读课文、复述课文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04920" y="3962520"/>
            <a:ext cx="7632720" cy="22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、完成课后练习三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18574533713156739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2693160" y="573732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00"/>
                </a:solidFill>
                <a:uFillTx/>
                <a:latin typeface="Arial"/>
                <a:ea typeface="方正粗倩简体"/>
              </a:rPr>
              <a:t>赏析、复述民间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41972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 ）生活很苦，人称牛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 ）照看周到，老牛亲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 ）来到森林，见到织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 ）老牛说话，指点机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 ）男耕女织，日子美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 ）闯入家中，抓走织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 ）牛郎喂牛，老牛诀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 ）相遇相知，结为夫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 ）王母知情，发誓严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 ）心急如焚，追赶被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 ）喜鹊搭桥，一年一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 ）隔河相望，化作星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0948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 生活很苦，人称牛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 照看周到，老牛亲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 来到森林，见到织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 老牛说话，指点机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 男耕女织，日子美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 闯入家中，抓走织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牛郎喂牛，老牛诀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相遇相知，结为夫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王母知情，发誓严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心急如焚，追赶被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喜鹊搭桥，一年一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隔河相望，化作星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418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方正大黑简体"/>
              </a:rPr>
              <a:t>民间故事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民间故事指群众口头创作、口头流传，并不断地被修改、添加、润色、提升的一种文学形式。民间故事大多直接反映了劳动人民的美好愿望，反映了人民群众的强烈要求。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最著名的有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《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牛郎织女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》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、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《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梁山伯与祝英台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》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、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《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孟姜女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》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、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《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白蛇传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》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方正大黑简体"/>
              </a:rPr>
              <a:t>复述：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方正大黑简体"/>
              </a:rPr>
              <a:t>相依为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抓关键词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哥嫂虐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孤苦无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老牛亲密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1281685227390080_副本"/>
          <p:cNvPicPr/>
          <p:nvPr/>
        </p:nvPicPr>
        <p:blipFill>
          <a:blip r:embed="rId1"/>
          <a:stretch/>
        </p:blipFill>
        <p:spPr>
          <a:xfrm>
            <a:off x="0" y="440064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方正大黑简体"/>
              </a:rPr>
              <a:t>复述：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方正大黑简体"/>
              </a:rPr>
              <a:t>相识结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抓关键词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牛指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牛郎追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织女爱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6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方正大黑简体"/>
              </a:rPr>
              <a:t>复述：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方正大黑简体"/>
              </a:rPr>
              <a:t>男耕女织 老牛诀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抓关键词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男耕女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活美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牛诀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苏教版十一册13牛郎织女c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方正大黑简体"/>
              </a:rPr>
              <a:t>复述：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方正大黑简体"/>
              </a:rPr>
              <a:t>勇敢的抗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26920" y="1412640"/>
            <a:ext cx="77724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抓关键词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王母知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捉走织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携子追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方正大黑简体"/>
              </a:rPr>
              <a:t>复述：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方正大黑简体"/>
              </a:rPr>
              <a:t>鹊桥相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6920" y="1412640"/>
            <a:ext cx="77724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抓关键词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河永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七夕相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9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24000" y="0"/>
            <a:ext cx="859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牛郎织女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国民间传说中的人物。牛郎和织女是从牛郎星和织女星的星名衍化而来的。汉魏间，民间即有此故事。故事中牛郎是人间的看牛郎，织女则是天帝之女。织女与牛郎婚配 ，并生一男一女，最后王母将其捉回，在两人之间划成一道天河，二人只能靠鹊桥每年七夕相会。它与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孟姜女传说、白蛇传说、梁祝传说被称为中国四大传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624040" y="61657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中国民间年画中表现牛郎织女七夕相会的情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42847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牛郎织女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743200"/>
            <a:ext cx="81532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3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4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4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幻灯片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牛郎织女f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0948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3695083_084035008481_2_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539280" y="1773360"/>
            <a:ext cx="828036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牛郎织女传说是中国过去封建社        会男耕女织小农经济生活的艺术反映。它以封建家庭生活为背景，通过牛郎与织女结合又离散，只能七夕在天上相会一次的幻想情节，反映了封建宗法制度下的家庭关系及其造成的婚姻悲剧。   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方正大黑简体"/>
              </a:rPr>
              <a:t>小结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方正大黑简体"/>
              </a:rPr>
              <a:t>小结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175248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民间故事幻想奇丽、情节动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体现了我国古代劳动人民的聪明才智和丰富的想象力，从中寄托了爱憎褒贬之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故事表达了我国古代劳动人民对自由幸福生活的向往和追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200040" y="609120"/>
            <a:ext cx="50403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白蛇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梁山伯与祝英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孟姜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WordArt 5" descr=""/>
          <p:cNvPicPr/>
          <p:nvPr/>
        </p:nvPicPr>
        <p:blipFill>
          <a:blip r:embed="rId1"/>
          <a:stretch/>
        </p:blipFill>
        <p:spPr>
          <a:xfrm>
            <a:off x="752400" y="447840"/>
            <a:ext cx="882720" cy="4464000"/>
          </a:xfrm>
          <a:prstGeom prst="rect">
            <a:avLst/>
          </a:prstGeom>
          <a:ln w="0">
            <a:noFill/>
          </a:ln>
        </p:spPr>
      </p:pic>
      <p:pic>
        <p:nvPicPr>
          <p:cNvPr id="154" name="WordArt 7" descr=""/>
          <p:cNvPicPr/>
          <p:nvPr/>
        </p:nvPicPr>
        <p:blipFill>
          <a:blip r:embed="rId2"/>
          <a:stretch/>
        </p:blipFill>
        <p:spPr>
          <a:xfrm>
            <a:off x="7991640" y="2048040"/>
            <a:ext cx="577800" cy="3168360"/>
          </a:xfrm>
          <a:prstGeom prst="rect">
            <a:avLst/>
          </a:prstGeom>
          <a:ln w="0">
            <a:noFill/>
          </a:ln>
        </p:spPr>
      </p:pic>
      <p:pic>
        <p:nvPicPr>
          <p:cNvPr id="155" name="WordArt 8" descr=""/>
          <p:cNvPicPr/>
          <p:nvPr/>
        </p:nvPicPr>
        <p:blipFill>
          <a:blip r:embed="rId3"/>
          <a:stretch/>
        </p:blipFill>
        <p:spPr>
          <a:xfrm>
            <a:off x="1905120" y="3200400"/>
            <a:ext cx="342720" cy="32259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9"/>
          <p:cNvSpPr/>
          <p:nvPr/>
        </p:nvSpPr>
        <p:spPr>
          <a:xfrm flipH="1">
            <a:off x="2057400" y="2514600"/>
            <a:ext cx="76320" cy="533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2666880" y="685800"/>
            <a:ext cx="432000" cy="5410080"/>
          </a:xfrm>
          <a:custGeom>
            <a:avLst/>
            <a:gdLst>
              <a:gd name="textAreaLeft" fmla="*/ 276120 w 432000"/>
              <a:gd name="textAreaRight" fmla="*/ 432360 w 432000"/>
              <a:gd name="textAreaTop" fmla="*/ 140760 h 5410080"/>
              <a:gd name="textAreaBottom" fmla="*/ 5269320 h 541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7879"/>
                </a:lnTo>
                <a:cubicBezTo>
                  <a:pt x="10800" y="8779"/>
                  <a:pt x="5400" y="9678"/>
                  <a:pt x="0" y="9678"/>
                </a:cubicBezTo>
                <a:cubicBezTo>
                  <a:pt x="5400" y="9678"/>
                  <a:pt x="10800" y="10578"/>
                  <a:pt x="10800" y="11477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0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2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2000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方正大黑简体"/>
              </a:rPr>
              <a:t>初读质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读课题我们想到课文会写些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边轻声读课文边画出生字新词，并借助课后生字上的拼音读准字音，读通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方正大黑简体"/>
              </a:rPr>
              <a:t>检查预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440" y="1989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注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舔（              ）咧（    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偎（              ）簪（    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拗（              ）刷（             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2987640" y="2349360"/>
            <a:ext cx="6156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ăn                    li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ēi                     zā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ù                    s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ā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620280"/>
            <a:ext cx="8820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Sǎo          péng     shuāi        chè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  <a:ea typeface="仿宋_GB2312"/>
              </a:rPr>
              <a:t>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仿宋_GB2312"/>
              </a:rPr>
              <a:t>嫂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子  牛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仿宋_GB2312"/>
              </a:rPr>
              <a:t>棚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仿宋_GB2312"/>
              </a:rPr>
              <a:t>衰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老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仿宋_GB2312"/>
              </a:rPr>
              <a:t>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zhēng  zhá               xiōng       tiǎn    zhu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  <a:ea typeface="仿宋_GB2312"/>
              </a:rPr>
              <a:t>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仿宋_GB2312"/>
              </a:rPr>
              <a:t>挣  扎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波涛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仿宋_GB2312"/>
              </a:rPr>
              <a:t>汹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涌   舔   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610280" y="4581360"/>
            <a:ext cx="6224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表嫂   衰落   衰弱    衰退    趁热打铁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扎实     挣脱   挣钱   汹涌澎湃     工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2"/>
          <p:cNvSpPr txBox="1"/>
          <p:nvPr/>
        </p:nvSpPr>
        <p:spPr>
          <a:xfrm>
            <a:off x="1600200" y="1066680"/>
            <a:ext cx="6858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00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再把课文通读一遍，看看牛郎是个</a:t>
            </a:r>
            <a:endParaRPr b="0" lang="en-US" sz="1800" spc="1" strike="noStrike">
              <a:ln w="19080">
                <a:solidFill>
                  <a:srgbClr val="0000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" name="WordArt 3"/>
          <p:cNvSpPr txBox="1"/>
          <p:nvPr/>
        </p:nvSpPr>
        <p:spPr>
          <a:xfrm>
            <a:off x="685800" y="2676600"/>
            <a:ext cx="777240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00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怎样的孩子，他的童年是怎样度过的，</a:t>
            </a:r>
            <a:endParaRPr b="0" lang="en-US" sz="1800" spc="1" strike="noStrike">
              <a:ln w="19080">
                <a:solidFill>
                  <a:srgbClr val="0000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2" name="WordArt 4"/>
          <p:cNvSpPr txBox="1"/>
          <p:nvPr/>
        </p:nvSpPr>
        <p:spPr>
          <a:xfrm>
            <a:off x="666720" y="4267080"/>
            <a:ext cx="6400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00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他又是怎样和织女走到一起的。</a:t>
            </a:r>
            <a:endParaRPr b="0" lang="en-US" sz="1800" spc="1" strike="noStrike">
              <a:ln w="19080">
                <a:solidFill>
                  <a:srgbClr val="0000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2"/>
          <p:cNvSpPr txBox="1"/>
          <p:nvPr/>
        </p:nvSpPr>
        <p:spPr>
          <a:xfrm>
            <a:off x="1600200" y="1647720"/>
            <a:ext cx="6858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00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选读自己特别喜欢的部分。</a:t>
            </a:r>
            <a:endParaRPr b="0" lang="en-US" sz="1800" spc="1" strike="noStrike">
              <a:ln w="19080">
                <a:solidFill>
                  <a:srgbClr val="0000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4" name="WordArt 3"/>
          <p:cNvSpPr txBox="1"/>
          <p:nvPr/>
        </p:nvSpPr>
        <p:spPr>
          <a:xfrm>
            <a:off x="685800" y="3257640"/>
            <a:ext cx="7772400" cy="78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00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把不懂的地方记下来，和大家讨论。</a:t>
            </a:r>
            <a:endParaRPr b="0" lang="en-US" sz="1800" spc="1" strike="noStrike">
              <a:ln w="19080">
                <a:solidFill>
                  <a:srgbClr val="0000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17T08:28:06Z</dcterms:created>
  <dc:creator/>
  <dc:description>第一PPT模板网-WWW.1PPT.COM
</dc:description>
  <dc:language>en-US</dc:language>
  <cp:lastModifiedBy>Administrator</cp:lastModifiedBy>
  <dcterms:modified xsi:type="dcterms:W3CDTF">2017-08-17T08:28:16Z</dcterms:modified>
  <cp:revision>13</cp:revision>
  <dc:subject>第一PPT模板网-WWW.1PPT.COM</dc:subject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  <property fmtid="{D5CDD505-2E9C-101B-9397-08002B2CF9AE}" pid="3" name="Version">
    <vt:r8>1</vt:r8>
  </property>
</Properties>
</file>