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6.png" ContentType="image/png"/>
  <Override PartName="/ppt/media/image22.png" ContentType="image/pn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7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" name="图片 2" descr=""/>
          <p:cNvPicPr/>
          <p:nvPr/>
        </p:nvPicPr>
        <p:blipFill>
          <a:blip r:embed="rId3"/>
          <a:srcRect l="0" t="44871" r="0" b="37491"/>
          <a:stretch/>
        </p:blipFill>
        <p:spPr>
          <a:xfrm>
            <a:off x="31680" y="4633920"/>
            <a:ext cx="12115800" cy="1881360"/>
          </a:xfrm>
          <a:prstGeom prst="rect">
            <a:avLst/>
          </a:prstGeom>
          <a:ln w="0">
            <a:noFill/>
          </a:ln>
        </p:spPr>
      </p:pic>
      <p:pic>
        <p:nvPicPr>
          <p:cNvPr id="39" name="Group 696" descr=""/>
          <p:cNvPicPr/>
          <p:nvPr/>
        </p:nvPicPr>
        <p:blipFill>
          <a:blip r:embed="rId4"/>
          <a:stretch/>
        </p:blipFill>
        <p:spPr>
          <a:xfrm>
            <a:off x="189000" y="1884240"/>
            <a:ext cx="11807640" cy="4497480"/>
          </a:xfrm>
          <a:prstGeom prst="rect">
            <a:avLst/>
          </a:prstGeom>
          <a:ln w="0">
            <a:noFill/>
          </a:ln>
        </p:spPr>
      </p:pic>
      <p:sp>
        <p:nvSpPr>
          <p:cNvPr id="40" name="矩形 96"/>
          <p:cNvSpPr/>
          <p:nvPr/>
        </p:nvSpPr>
        <p:spPr>
          <a:xfrm>
            <a:off x="0" y="6035760"/>
            <a:ext cx="12192120" cy="8222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矩形 97"/>
          <p:cNvGrpSpPr/>
          <p:nvPr/>
        </p:nvGrpSpPr>
        <p:grpSpPr>
          <a:xfrm>
            <a:off x="-6480" y="5992920"/>
            <a:ext cx="12204720" cy="47520"/>
            <a:chOff x="-6480" y="5992920"/>
            <a:chExt cx="12204720" cy="47520"/>
          </a:xfrm>
        </p:grpSpPr>
        <p:pic>
          <p:nvPicPr>
            <p:cNvPr id="42" name="矩形 97" descr=""/>
            <p:cNvPicPr/>
            <p:nvPr/>
          </p:nvPicPr>
          <p:blipFill>
            <a:blip r:embed="rId6"/>
            <a:stretch/>
          </p:blipFill>
          <p:spPr>
            <a:xfrm>
              <a:off x="-6480" y="5992920"/>
              <a:ext cx="12204720" cy="4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0" y="5999040"/>
              <a:ext cx="12192120" cy="3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9"/>
          <p:cNvSpPr/>
          <p:nvPr/>
        </p:nvSpPr>
        <p:spPr>
          <a:xfrm>
            <a:off x="1224000" y="2278080"/>
            <a:ext cx="3441600" cy="2124000"/>
          </a:xfrm>
          <a:custGeom>
            <a:avLst/>
            <a:gdLst>
              <a:gd name="textAreaLeft" fmla="*/ 0 w 3441600"/>
              <a:gd name="textAreaRight" fmla="*/ 3441960 w 3441600"/>
              <a:gd name="textAreaTop" fmla="*/ 0 h 2124000"/>
              <a:gd name="textAreaBottom" fmla="*/ 2124360 h 2124000"/>
            </a:gdLst>
            <a:ahLst/>
            <a:rect l="textAreaLeft" t="textAreaTop" r="textAreaRight" b="textAreaBottom"/>
            <a:pathLst>
              <a:path w="1329" h="1194">
                <a:moveTo>
                  <a:pt x="1270" y="436"/>
                </a:moveTo>
                <a:cubicBezTo>
                  <a:pt x="1273" y="435"/>
                  <a:pt x="1279" y="433"/>
                  <a:pt x="1278" y="430"/>
                </a:cubicBezTo>
                <a:cubicBezTo>
                  <a:pt x="1275" y="432"/>
                  <a:pt x="1271" y="433"/>
                  <a:pt x="1270" y="436"/>
                </a:cubicBezTo>
                <a:close/>
                <a:moveTo>
                  <a:pt x="1304" y="441"/>
                </a:moveTo>
                <a:cubicBezTo>
                  <a:pt x="1304" y="439"/>
                  <a:pt x="1303" y="438"/>
                  <a:pt x="1302" y="438"/>
                </a:cubicBezTo>
                <a:cubicBezTo>
                  <a:pt x="1302" y="439"/>
                  <a:pt x="1300" y="440"/>
                  <a:pt x="1299" y="440"/>
                </a:cubicBezTo>
                <a:cubicBezTo>
                  <a:pt x="1298" y="444"/>
                  <a:pt x="1302" y="442"/>
                  <a:pt x="1304" y="441"/>
                </a:cubicBezTo>
                <a:close/>
                <a:moveTo>
                  <a:pt x="1283" y="495"/>
                </a:moveTo>
                <a:cubicBezTo>
                  <a:pt x="1283" y="498"/>
                  <a:pt x="1276" y="498"/>
                  <a:pt x="1279" y="501"/>
                </a:cubicBezTo>
                <a:cubicBezTo>
                  <a:pt x="1280" y="499"/>
                  <a:pt x="1286" y="498"/>
                  <a:pt x="1283" y="495"/>
                </a:cubicBezTo>
                <a:close/>
                <a:moveTo>
                  <a:pt x="1286" y="505"/>
                </a:moveTo>
                <a:cubicBezTo>
                  <a:pt x="1291" y="500"/>
                  <a:pt x="1293" y="502"/>
                  <a:pt x="1301" y="503"/>
                </a:cubicBezTo>
                <a:cubicBezTo>
                  <a:pt x="1302" y="501"/>
                  <a:pt x="1305" y="501"/>
                  <a:pt x="1304" y="498"/>
                </a:cubicBezTo>
                <a:cubicBezTo>
                  <a:pt x="1296" y="495"/>
                  <a:pt x="1288" y="498"/>
                  <a:pt x="1286" y="505"/>
                </a:cubicBezTo>
                <a:close/>
                <a:moveTo>
                  <a:pt x="1327" y="419"/>
                </a:moveTo>
                <a:cubicBezTo>
                  <a:pt x="1326" y="420"/>
                  <a:pt x="1322" y="423"/>
                  <a:pt x="1325" y="425"/>
                </a:cubicBezTo>
                <a:cubicBezTo>
                  <a:pt x="1325" y="423"/>
                  <a:pt x="1329" y="420"/>
                  <a:pt x="1327" y="419"/>
                </a:cubicBezTo>
                <a:close/>
                <a:moveTo>
                  <a:pt x="1216" y="25"/>
                </a:moveTo>
                <a:cubicBezTo>
                  <a:pt x="1211" y="25"/>
                  <a:pt x="1209" y="27"/>
                  <a:pt x="1208" y="30"/>
                </a:cubicBezTo>
                <a:cubicBezTo>
                  <a:pt x="1212" y="30"/>
                  <a:pt x="1217" y="30"/>
                  <a:pt x="1216" y="25"/>
                </a:cubicBezTo>
                <a:close/>
                <a:moveTo>
                  <a:pt x="982" y="81"/>
                </a:moveTo>
                <a:cubicBezTo>
                  <a:pt x="976" y="80"/>
                  <a:pt x="972" y="85"/>
                  <a:pt x="973" y="89"/>
                </a:cubicBezTo>
                <a:cubicBezTo>
                  <a:pt x="976" y="86"/>
                  <a:pt x="980" y="84"/>
                  <a:pt x="982" y="81"/>
                </a:cubicBezTo>
                <a:close/>
                <a:moveTo>
                  <a:pt x="731" y="93"/>
                </a:moveTo>
                <a:cubicBezTo>
                  <a:pt x="728" y="93"/>
                  <a:pt x="726" y="93"/>
                  <a:pt x="726" y="95"/>
                </a:cubicBezTo>
                <a:cubicBezTo>
                  <a:pt x="727" y="97"/>
                  <a:pt x="731" y="96"/>
                  <a:pt x="731" y="93"/>
                </a:cubicBezTo>
                <a:close/>
                <a:moveTo>
                  <a:pt x="827" y="111"/>
                </a:moveTo>
                <a:cubicBezTo>
                  <a:pt x="826" y="112"/>
                  <a:pt x="823" y="112"/>
                  <a:pt x="823" y="114"/>
                </a:cubicBezTo>
                <a:cubicBezTo>
                  <a:pt x="827" y="113"/>
                  <a:pt x="829" y="110"/>
                  <a:pt x="830" y="107"/>
                </a:cubicBezTo>
                <a:cubicBezTo>
                  <a:pt x="827" y="108"/>
                  <a:pt x="821" y="107"/>
                  <a:pt x="820" y="111"/>
                </a:cubicBezTo>
                <a:cubicBezTo>
                  <a:pt x="822" y="111"/>
                  <a:pt x="826" y="108"/>
                  <a:pt x="827" y="111"/>
                </a:cubicBezTo>
                <a:close/>
                <a:moveTo>
                  <a:pt x="1020" y="108"/>
                </a:moveTo>
                <a:cubicBezTo>
                  <a:pt x="1017" y="108"/>
                  <a:pt x="1017" y="110"/>
                  <a:pt x="1016" y="112"/>
                </a:cubicBezTo>
                <a:cubicBezTo>
                  <a:pt x="1019" y="113"/>
                  <a:pt x="1019" y="110"/>
                  <a:pt x="1020" y="108"/>
                </a:cubicBezTo>
                <a:close/>
                <a:moveTo>
                  <a:pt x="552" y="137"/>
                </a:moveTo>
                <a:cubicBezTo>
                  <a:pt x="553" y="133"/>
                  <a:pt x="559" y="133"/>
                  <a:pt x="558" y="127"/>
                </a:cubicBezTo>
                <a:cubicBezTo>
                  <a:pt x="553" y="122"/>
                  <a:pt x="545" y="134"/>
                  <a:pt x="552" y="137"/>
                </a:cubicBezTo>
                <a:close/>
                <a:moveTo>
                  <a:pt x="343" y="134"/>
                </a:moveTo>
                <a:cubicBezTo>
                  <a:pt x="338" y="134"/>
                  <a:pt x="336" y="136"/>
                  <a:pt x="335" y="139"/>
                </a:cubicBezTo>
                <a:cubicBezTo>
                  <a:pt x="340" y="140"/>
                  <a:pt x="342" y="137"/>
                  <a:pt x="343" y="134"/>
                </a:cubicBezTo>
                <a:close/>
                <a:moveTo>
                  <a:pt x="1239" y="143"/>
                </a:moveTo>
                <a:cubicBezTo>
                  <a:pt x="1235" y="146"/>
                  <a:pt x="1230" y="147"/>
                  <a:pt x="1227" y="151"/>
                </a:cubicBezTo>
                <a:cubicBezTo>
                  <a:pt x="1233" y="150"/>
                  <a:pt x="1232" y="148"/>
                  <a:pt x="1238" y="147"/>
                </a:cubicBezTo>
                <a:cubicBezTo>
                  <a:pt x="1238" y="145"/>
                  <a:pt x="1239" y="145"/>
                  <a:pt x="1239" y="143"/>
                </a:cubicBezTo>
                <a:close/>
                <a:moveTo>
                  <a:pt x="1168" y="160"/>
                </a:moveTo>
                <a:cubicBezTo>
                  <a:pt x="1165" y="157"/>
                  <a:pt x="1158" y="159"/>
                  <a:pt x="1158" y="163"/>
                </a:cubicBezTo>
                <a:cubicBezTo>
                  <a:pt x="1160" y="166"/>
                  <a:pt x="1166" y="163"/>
                  <a:pt x="1168" y="160"/>
                </a:cubicBezTo>
                <a:close/>
                <a:moveTo>
                  <a:pt x="1005" y="166"/>
                </a:moveTo>
                <a:cubicBezTo>
                  <a:pt x="1009" y="167"/>
                  <a:pt x="1012" y="164"/>
                  <a:pt x="1014" y="162"/>
                </a:cubicBezTo>
                <a:cubicBezTo>
                  <a:pt x="1011" y="160"/>
                  <a:pt x="1006" y="162"/>
                  <a:pt x="1005" y="166"/>
                </a:cubicBezTo>
                <a:close/>
                <a:moveTo>
                  <a:pt x="611" y="163"/>
                </a:moveTo>
                <a:cubicBezTo>
                  <a:pt x="608" y="164"/>
                  <a:pt x="605" y="163"/>
                  <a:pt x="603" y="165"/>
                </a:cubicBezTo>
                <a:cubicBezTo>
                  <a:pt x="603" y="167"/>
                  <a:pt x="603" y="169"/>
                  <a:pt x="604" y="170"/>
                </a:cubicBezTo>
                <a:cubicBezTo>
                  <a:pt x="607" y="169"/>
                  <a:pt x="610" y="167"/>
                  <a:pt x="611" y="163"/>
                </a:cubicBezTo>
                <a:close/>
                <a:moveTo>
                  <a:pt x="1165" y="179"/>
                </a:moveTo>
                <a:cubicBezTo>
                  <a:pt x="1168" y="177"/>
                  <a:pt x="1168" y="173"/>
                  <a:pt x="1171" y="171"/>
                </a:cubicBezTo>
                <a:cubicBezTo>
                  <a:pt x="1165" y="170"/>
                  <a:pt x="1171" y="167"/>
                  <a:pt x="1170" y="163"/>
                </a:cubicBezTo>
                <a:cubicBezTo>
                  <a:pt x="1163" y="165"/>
                  <a:pt x="1159" y="170"/>
                  <a:pt x="1157" y="177"/>
                </a:cubicBezTo>
                <a:cubicBezTo>
                  <a:pt x="1160" y="176"/>
                  <a:pt x="1160" y="180"/>
                  <a:pt x="1165" y="179"/>
                </a:cubicBezTo>
                <a:close/>
                <a:moveTo>
                  <a:pt x="1070" y="192"/>
                </a:moveTo>
                <a:cubicBezTo>
                  <a:pt x="1075" y="192"/>
                  <a:pt x="1078" y="189"/>
                  <a:pt x="1085" y="188"/>
                </a:cubicBezTo>
                <a:cubicBezTo>
                  <a:pt x="1086" y="186"/>
                  <a:pt x="1088" y="185"/>
                  <a:pt x="1087" y="181"/>
                </a:cubicBezTo>
                <a:cubicBezTo>
                  <a:pt x="1083" y="181"/>
                  <a:pt x="1080" y="184"/>
                  <a:pt x="1079" y="181"/>
                </a:cubicBezTo>
                <a:cubicBezTo>
                  <a:pt x="1079" y="179"/>
                  <a:pt x="1080" y="178"/>
                  <a:pt x="1081" y="177"/>
                </a:cubicBezTo>
                <a:cubicBezTo>
                  <a:pt x="1072" y="167"/>
                  <a:pt x="1059" y="185"/>
                  <a:pt x="1070" y="192"/>
                </a:cubicBezTo>
                <a:close/>
                <a:moveTo>
                  <a:pt x="262" y="175"/>
                </a:moveTo>
                <a:cubicBezTo>
                  <a:pt x="259" y="175"/>
                  <a:pt x="259" y="179"/>
                  <a:pt x="257" y="181"/>
                </a:cubicBezTo>
                <a:cubicBezTo>
                  <a:pt x="260" y="180"/>
                  <a:pt x="263" y="179"/>
                  <a:pt x="262" y="175"/>
                </a:cubicBezTo>
                <a:close/>
                <a:moveTo>
                  <a:pt x="1056" y="194"/>
                </a:moveTo>
                <a:cubicBezTo>
                  <a:pt x="1056" y="191"/>
                  <a:pt x="1054" y="191"/>
                  <a:pt x="1053" y="190"/>
                </a:cubicBezTo>
                <a:cubicBezTo>
                  <a:pt x="1051" y="193"/>
                  <a:pt x="1044" y="192"/>
                  <a:pt x="1043" y="196"/>
                </a:cubicBezTo>
                <a:cubicBezTo>
                  <a:pt x="1049" y="197"/>
                  <a:pt x="1051" y="194"/>
                  <a:pt x="1056" y="194"/>
                </a:cubicBezTo>
                <a:close/>
                <a:moveTo>
                  <a:pt x="1041" y="196"/>
                </a:moveTo>
                <a:cubicBezTo>
                  <a:pt x="1036" y="197"/>
                  <a:pt x="1038" y="200"/>
                  <a:pt x="1037" y="203"/>
                </a:cubicBezTo>
                <a:cubicBezTo>
                  <a:pt x="1041" y="202"/>
                  <a:pt x="1040" y="199"/>
                  <a:pt x="1041" y="196"/>
                </a:cubicBezTo>
                <a:close/>
                <a:moveTo>
                  <a:pt x="1106" y="201"/>
                </a:moveTo>
                <a:cubicBezTo>
                  <a:pt x="1106" y="204"/>
                  <a:pt x="1106" y="206"/>
                  <a:pt x="1109" y="206"/>
                </a:cubicBezTo>
                <a:cubicBezTo>
                  <a:pt x="1109" y="203"/>
                  <a:pt x="1113" y="201"/>
                  <a:pt x="1109" y="200"/>
                </a:cubicBezTo>
                <a:cubicBezTo>
                  <a:pt x="1109" y="201"/>
                  <a:pt x="1108" y="201"/>
                  <a:pt x="1106" y="201"/>
                </a:cubicBezTo>
                <a:close/>
                <a:moveTo>
                  <a:pt x="1023" y="204"/>
                </a:moveTo>
                <a:cubicBezTo>
                  <a:pt x="1021" y="206"/>
                  <a:pt x="1018" y="206"/>
                  <a:pt x="1018" y="209"/>
                </a:cubicBezTo>
                <a:cubicBezTo>
                  <a:pt x="1020" y="209"/>
                  <a:pt x="1020" y="210"/>
                  <a:pt x="1021" y="210"/>
                </a:cubicBezTo>
                <a:cubicBezTo>
                  <a:pt x="1020" y="207"/>
                  <a:pt x="1026" y="207"/>
                  <a:pt x="1023" y="204"/>
                </a:cubicBezTo>
                <a:close/>
                <a:moveTo>
                  <a:pt x="1001" y="222"/>
                </a:moveTo>
                <a:cubicBezTo>
                  <a:pt x="1004" y="223"/>
                  <a:pt x="1011" y="220"/>
                  <a:pt x="1013" y="216"/>
                </a:cubicBezTo>
                <a:cubicBezTo>
                  <a:pt x="1008" y="217"/>
                  <a:pt x="1002" y="217"/>
                  <a:pt x="1001" y="222"/>
                </a:cubicBezTo>
                <a:close/>
                <a:moveTo>
                  <a:pt x="985" y="221"/>
                </a:moveTo>
                <a:cubicBezTo>
                  <a:pt x="981" y="221"/>
                  <a:pt x="979" y="223"/>
                  <a:pt x="977" y="225"/>
                </a:cubicBezTo>
                <a:cubicBezTo>
                  <a:pt x="980" y="224"/>
                  <a:pt x="985" y="226"/>
                  <a:pt x="985" y="221"/>
                </a:cubicBezTo>
                <a:close/>
                <a:moveTo>
                  <a:pt x="1122" y="240"/>
                </a:moveTo>
                <a:cubicBezTo>
                  <a:pt x="1124" y="240"/>
                  <a:pt x="1124" y="243"/>
                  <a:pt x="1126" y="244"/>
                </a:cubicBezTo>
                <a:cubicBezTo>
                  <a:pt x="1127" y="243"/>
                  <a:pt x="1128" y="243"/>
                  <a:pt x="1129" y="243"/>
                </a:cubicBezTo>
                <a:cubicBezTo>
                  <a:pt x="1129" y="241"/>
                  <a:pt x="1129" y="239"/>
                  <a:pt x="1128" y="239"/>
                </a:cubicBezTo>
                <a:cubicBezTo>
                  <a:pt x="1128" y="241"/>
                  <a:pt x="1126" y="237"/>
                  <a:pt x="1126" y="236"/>
                </a:cubicBezTo>
                <a:cubicBezTo>
                  <a:pt x="1128" y="237"/>
                  <a:pt x="1129" y="235"/>
                  <a:pt x="1127" y="234"/>
                </a:cubicBezTo>
                <a:cubicBezTo>
                  <a:pt x="1126" y="236"/>
                  <a:pt x="1124" y="236"/>
                  <a:pt x="1124" y="238"/>
                </a:cubicBezTo>
                <a:cubicBezTo>
                  <a:pt x="1127" y="241"/>
                  <a:pt x="1122" y="238"/>
                  <a:pt x="1122" y="240"/>
                </a:cubicBezTo>
                <a:close/>
                <a:moveTo>
                  <a:pt x="1145" y="258"/>
                </a:moveTo>
                <a:cubicBezTo>
                  <a:pt x="1141" y="259"/>
                  <a:pt x="1141" y="256"/>
                  <a:pt x="1138" y="256"/>
                </a:cubicBezTo>
                <a:cubicBezTo>
                  <a:pt x="1138" y="257"/>
                  <a:pt x="1138" y="259"/>
                  <a:pt x="1137" y="259"/>
                </a:cubicBezTo>
                <a:cubicBezTo>
                  <a:pt x="1141" y="260"/>
                  <a:pt x="1143" y="259"/>
                  <a:pt x="1145" y="258"/>
                </a:cubicBezTo>
                <a:close/>
                <a:moveTo>
                  <a:pt x="1140" y="326"/>
                </a:moveTo>
                <a:cubicBezTo>
                  <a:pt x="1136" y="328"/>
                  <a:pt x="1140" y="321"/>
                  <a:pt x="1136" y="323"/>
                </a:cubicBezTo>
                <a:cubicBezTo>
                  <a:pt x="1136" y="326"/>
                  <a:pt x="1139" y="330"/>
                  <a:pt x="1140" y="326"/>
                </a:cubicBezTo>
                <a:close/>
                <a:moveTo>
                  <a:pt x="1151" y="341"/>
                </a:moveTo>
                <a:cubicBezTo>
                  <a:pt x="1158" y="341"/>
                  <a:pt x="1164" y="334"/>
                  <a:pt x="1162" y="327"/>
                </a:cubicBezTo>
                <a:cubicBezTo>
                  <a:pt x="1153" y="326"/>
                  <a:pt x="1148" y="336"/>
                  <a:pt x="1151" y="341"/>
                </a:cubicBezTo>
                <a:close/>
                <a:moveTo>
                  <a:pt x="119" y="329"/>
                </a:moveTo>
                <a:cubicBezTo>
                  <a:pt x="115" y="329"/>
                  <a:pt x="113" y="330"/>
                  <a:pt x="111" y="333"/>
                </a:cubicBezTo>
                <a:cubicBezTo>
                  <a:pt x="116" y="334"/>
                  <a:pt x="116" y="331"/>
                  <a:pt x="119" y="329"/>
                </a:cubicBezTo>
                <a:close/>
                <a:moveTo>
                  <a:pt x="1131" y="342"/>
                </a:moveTo>
                <a:cubicBezTo>
                  <a:pt x="1132" y="338"/>
                  <a:pt x="1134" y="336"/>
                  <a:pt x="1136" y="334"/>
                </a:cubicBezTo>
                <a:cubicBezTo>
                  <a:pt x="1131" y="335"/>
                  <a:pt x="1129" y="335"/>
                  <a:pt x="1127" y="337"/>
                </a:cubicBezTo>
                <a:cubicBezTo>
                  <a:pt x="1131" y="336"/>
                  <a:pt x="1126" y="342"/>
                  <a:pt x="1131" y="342"/>
                </a:cubicBezTo>
                <a:close/>
                <a:moveTo>
                  <a:pt x="1136" y="343"/>
                </a:moveTo>
                <a:cubicBezTo>
                  <a:pt x="1132" y="343"/>
                  <a:pt x="1128" y="341"/>
                  <a:pt x="1128" y="347"/>
                </a:cubicBezTo>
                <a:cubicBezTo>
                  <a:pt x="1131" y="349"/>
                  <a:pt x="1136" y="346"/>
                  <a:pt x="1136" y="343"/>
                </a:cubicBezTo>
                <a:close/>
                <a:moveTo>
                  <a:pt x="1208" y="347"/>
                </a:moveTo>
                <a:cubicBezTo>
                  <a:pt x="1208" y="345"/>
                  <a:pt x="1208" y="344"/>
                  <a:pt x="1209" y="343"/>
                </a:cubicBezTo>
                <a:cubicBezTo>
                  <a:pt x="1202" y="345"/>
                  <a:pt x="1195" y="346"/>
                  <a:pt x="1192" y="351"/>
                </a:cubicBezTo>
                <a:cubicBezTo>
                  <a:pt x="1199" y="351"/>
                  <a:pt x="1202" y="345"/>
                  <a:pt x="1208" y="347"/>
                </a:cubicBezTo>
                <a:close/>
                <a:moveTo>
                  <a:pt x="1191" y="376"/>
                </a:moveTo>
                <a:cubicBezTo>
                  <a:pt x="1204" y="374"/>
                  <a:pt x="1208" y="366"/>
                  <a:pt x="1215" y="359"/>
                </a:cubicBezTo>
                <a:cubicBezTo>
                  <a:pt x="1204" y="358"/>
                  <a:pt x="1200" y="365"/>
                  <a:pt x="1191" y="367"/>
                </a:cubicBezTo>
                <a:cubicBezTo>
                  <a:pt x="1192" y="371"/>
                  <a:pt x="1193" y="374"/>
                  <a:pt x="1191" y="376"/>
                </a:cubicBezTo>
                <a:close/>
                <a:moveTo>
                  <a:pt x="1212" y="393"/>
                </a:moveTo>
                <a:cubicBezTo>
                  <a:pt x="1211" y="399"/>
                  <a:pt x="1207" y="394"/>
                  <a:pt x="1203" y="400"/>
                </a:cubicBezTo>
                <a:cubicBezTo>
                  <a:pt x="1208" y="400"/>
                  <a:pt x="1209" y="398"/>
                  <a:pt x="1212" y="398"/>
                </a:cubicBezTo>
                <a:cubicBezTo>
                  <a:pt x="1213" y="399"/>
                  <a:pt x="1212" y="400"/>
                  <a:pt x="1212" y="401"/>
                </a:cubicBezTo>
                <a:cubicBezTo>
                  <a:pt x="1218" y="401"/>
                  <a:pt x="1216" y="395"/>
                  <a:pt x="1212" y="393"/>
                </a:cubicBezTo>
                <a:close/>
                <a:moveTo>
                  <a:pt x="1108" y="408"/>
                </a:moveTo>
                <a:cubicBezTo>
                  <a:pt x="1110" y="408"/>
                  <a:pt x="1110" y="408"/>
                  <a:pt x="1110" y="408"/>
                </a:cubicBezTo>
                <a:cubicBezTo>
                  <a:pt x="1110" y="409"/>
                  <a:pt x="1109" y="413"/>
                  <a:pt x="1111" y="413"/>
                </a:cubicBezTo>
                <a:cubicBezTo>
                  <a:pt x="1113" y="411"/>
                  <a:pt x="1110" y="410"/>
                  <a:pt x="1111" y="407"/>
                </a:cubicBezTo>
                <a:cubicBezTo>
                  <a:pt x="1110" y="407"/>
                  <a:pt x="1108" y="407"/>
                  <a:pt x="1108" y="408"/>
                </a:cubicBezTo>
                <a:close/>
                <a:moveTo>
                  <a:pt x="1147" y="417"/>
                </a:moveTo>
                <a:cubicBezTo>
                  <a:pt x="1150" y="416"/>
                  <a:pt x="1152" y="414"/>
                  <a:pt x="1155" y="414"/>
                </a:cubicBezTo>
                <a:cubicBezTo>
                  <a:pt x="1156" y="410"/>
                  <a:pt x="1152" y="413"/>
                  <a:pt x="1152" y="411"/>
                </a:cubicBezTo>
                <a:cubicBezTo>
                  <a:pt x="1153" y="411"/>
                  <a:pt x="1154" y="411"/>
                  <a:pt x="1154" y="410"/>
                </a:cubicBezTo>
                <a:cubicBezTo>
                  <a:pt x="1150" y="409"/>
                  <a:pt x="1149" y="411"/>
                  <a:pt x="1147" y="412"/>
                </a:cubicBezTo>
                <a:cubicBezTo>
                  <a:pt x="1147" y="413"/>
                  <a:pt x="1145" y="417"/>
                  <a:pt x="1147" y="417"/>
                </a:cubicBezTo>
                <a:close/>
                <a:moveTo>
                  <a:pt x="1179" y="431"/>
                </a:moveTo>
                <a:cubicBezTo>
                  <a:pt x="1183" y="429"/>
                  <a:pt x="1188" y="427"/>
                  <a:pt x="1193" y="425"/>
                </a:cubicBezTo>
                <a:cubicBezTo>
                  <a:pt x="1195" y="426"/>
                  <a:pt x="1192" y="428"/>
                  <a:pt x="1194" y="429"/>
                </a:cubicBezTo>
                <a:cubicBezTo>
                  <a:pt x="1200" y="429"/>
                  <a:pt x="1200" y="429"/>
                  <a:pt x="1200" y="429"/>
                </a:cubicBezTo>
                <a:cubicBezTo>
                  <a:pt x="1202" y="426"/>
                  <a:pt x="1204" y="421"/>
                  <a:pt x="1209" y="419"/>
                </a:cubicBezTo>
                <a:cubicBezTo>
                  <a:pt x="1210" y="418"/>
                  <a:pt x="1206" y="416"/>
                  <a:pt x="1209" y="416"/>
                </a:cubicBezTo>
                <a:cubicBezTo>
                  <a:pt x="1210" y="411"/>
                  <a:pt x="1197" y="413"/>
                  <a:pt x="1191" y="416"/>
                </a:cubicBezTo>
                <a:cubicBezTo>
                  <a:pt x="1191" y="421"/>
                  <a:pt x="1179" y="427"/>
                  <a:pt x="1179" y="431"/>
                </a:cubicBezTo>
                <a:close/>
                <a:moveTo>
                  <a:pt x="1073" y="425"/>
                </a:moveTo>
                <a:cubicBezTo>
                  <a:pt x="1075" y="425"/>
                  <a:pt x="1075" y="426"/>
                  <a:pt x="1077" y="426"/>
                </a:cubicBezTo>
                <a:cubicBezTo>
                  <a:pt x="1076" y="420"/>
                  <a:pt x="1083" y="422"/>
                  <a:pt x="1082" y="416"/>
                </a:cubicBezTo>
                <a:cubicBezTo>
                  <a:pt x="1079" y="416"/>
                  <a:pt x="1079" y="416"/>
                  <a:pt x="1079" y="416"/>
                </a:cubicBezTo>
                <a:cubicBezTo>
                  <a:pt x="1080" y="420"/>
                  <a:pt x="1075" y="418"/>
                  <a:pt x="1074" y="420"/>
                </a:cubicBezTo>
                <a:cubicBezTo>
                  <a:pt x="1077" y="422"/>
                  <a:pt x="1072" y="422"/>
                  <a:pt x="1073" y="425"/>
                </a:cubicBezTo>
                <a:close/>
                <a:moveTo>
                  <a:pt x="1152" y="425"/>
                </a:moveTo>
                <a:cubicBezTo>
                  <a:pt x="1154" y="425"/>
                  <a:pt x="1157" y="425"/>
                  <a:pt x="1158" y="424"/>
                </a:cubicBezTo>
                <a:cubicBezTo>
                  <a:pt x="1160" y="417"/>
                  <a:pt x="1152" y="422"/>
                  <a:pt x="1157" y="417"/>
                </a:cubicBezTo>
                <a:cubicBezTo>
                  <a:pt x="1154" y="418"/>
                  <a:pt x="1150" y="418"/>
                  <a:pt x="1149" y="421"/>
                </a:cubicBezTo>
                <a:cubicBezTo>
                  <a:pt x="1152" y="422"/>
                  <a:pt x="1154" y="419"/>
                  <a:pt x="1154" y="421"/>
                </a:cubicBezTo>
                <a:cubicBezTo>
                  <a:pt x="1152" y="421"/>
                  <a:pt x="1152" y="423"/>
                  <a:pt x="1152" y="425"/>
                </a:cubicBezTo>
                <a:close/>
                <a:moveTo>
                  <a:pt x="1104" y="424"/>
                </a:moveTo>
                <a:cubicBezTo>
                  <a:pt x="1107" y="423"/>
                  <a:pt x="1110" y="420"/>
                  <a:pt x="1109" y="418"/>
                </a:cubicBezTo>
                <a:cubicBezTo>
                  <a:pt x="1108" y="420"/>
                  <a:pt x="1104" y="420"/>
                  <a:pt x="1104" y="424"/>
                </a:cubicBezTo>
                <a:close/>
                <a:moveTo>
                  <a:pt x="68" y="432"/>
                </a:moveTo>
                <a:cubicBezTo>
                  <a:pt x="68" y="429"/>
                  <a:pt x="68" y="429"/>
                  <a:pt x="68" y="429"/>
                </a:cubicBezTo>
                <a:cubicBezTo>
                  <a:pt x="67" y="429"/>
                  <a:pt x="65" y="428"/>
                  <a:pt x="65" y="429"/>
                </a:cubicBezTo>
                <a:cubicBezTo>
                  <a:pt x="66" y="430"/>
                  <a:pt x="65" y="433"/>
                  <a:pt x="68" y="432"/>
                </a:cubicBezTo>
                <a:close/>
                <a:moveTo>
                  <a:pt x="1185" y="436"/>
                </a:moveTo>
                <a:cubicBezTo>
                  <a:pt x="1190" y="436"/>
                  <a:pt x="1193" y="434"/>
                  <a:pt x="1195" y="431"/>
                </a:cubicBezTo>
                <a:cubicBezTo>
                  <a:pt x="1192" y="430"/>
                  <a:pt x="1187" y="434"/>
                  <a:pt x="1185" y="436"/>
                </a:cubicBezTo>
                <a:close/>
                <a:moveTo>
                  <a:pt x="1159" y="432"/>
                </a:moveTo>
                <a:cubicBezTo>
                  <a:pt x="1158" y="436"/>
                  <a:pt x="1154" y="437"/>
                  <a:pt x="1153" y="441"/>
                </a:cubicBezTo>
                <a:cubicBezTo>
                  <a:pt x="1158" y="440"/>
                  <a:pt x="1161" y="438"/>
                  <a:pt x="1164" y="435"/>
                </a:cubicBezTo>
                <a:cubicBezTo>
                  <a:pt x="1161" y="435"/>
                  <a:pt x="1162" y="432"/>
                  <a:pt x="1159" y="432"/>
                </a:cubicBezTo>
                <a:close/>
                <a:moveTo>
                  <a:pt x="1201" y="437"/>
                </a:moveTo>
                <a:cubicBezTo>
                  <a:pt x="1199" y="437"/>
                  <a:pt x="1199" y="437"/>
                  <a:pt x="1199" y="437"/>
                </a:cubicBezTo>
                <a:cubicBezTo>
                  <a:pt x="1198" y="442"/>
                  <a:pt x="1192" y="441"/>
                  <a:pt x="1191" y="445"/>
                </a:cubicBezTo>
                <a:cubicBezTo>
                  <a:pt x="1194" y="442"/>
                  <a:pt x="1201" y="443"/>
                  <a:pt x="1201" y="437"/>
                </a:cubicBezTo>
                <a:close/>
                <a:moveTo>
                  <a:pt x="1240" y="443"/>
                </a:moveTo>
                <a:cubicBezTo>
                  <a:pt x="1239" y="440"/>
                  <a:pt x="1241" y="439"/>
                  <a:pt x="1241" y="437"/>
                </a:cubicBezTo>
                <a:cubicBezTo>
                  <a:pt x="1234" y="438"/>
                  <a:pt x="1228" y="441"/>
                  <a:pt x="1226" y="447"/>
                </a:cubicBezTo>
                <a:cubicBezTo>
                  <a:pt x="1233" y="448"/>
                  <a:pt x="1234" y="443"/>
                  <a:pt x="1240" y="443"/>
                </a:cubicBezTo>
                <a:close/>
                <a:moveTo>
                  <a:pt x="1059" y="439"/>
                </a:moveTo>
                <a:cubicBezTo>
                  <a:pt x="1051" y="438"/>
                  <a:pt x="1048" y="443"/>
                  <a:pt x="1048" y="450"/>
                </a:cubicBezTo>
                <a:cubicBezTo>
                  <a:pt x="1043" y="453"/>
                  <a:pt x="1037" y="456"/>
                  <a:pt x="1032" y="459"/>
                </a:cubicBezTo>
                <a:cubicBezTo>
                  <a:pt x="1031" y="463"/>
                  <a:pt x="1033" y="464"/>
                  <a:pt x="1035" y="466"/>
                </a:cubicBezTo>
                <a:cubicBezTo>
                  <a:pt x="1039" y="464"/>
                  <a:pt x="1042" y="461"/>
                  <a:pt x="1048" y="461"/>
                </a:cubicBezTo>
                <a:cubicBezTo>
                  <a:pt x="1049" y="458"/>
                  <a:pt x="1045" y="460"/>
                  <a:pt x="1046" y="457"/>
                </a:cubicBezTo>
                <a:cubicBezTo>
                  <a:pt x="1051" y="456"/>
                  <a:pt x="1055" y="454"/>
                  <a:pt x="1058" y="451"/>
                </a:cubicBezTo>
                <a:cubicBezTo>
                  <a:pt x="1055" y="450"/>
                  <a:pt x="1054" y="452"/>
                  <a:pt x="1052" y="452"/>
                </a:cubicBezTo>
                <a:cubicBezTo>
                  <a:pt x="1055" y="449"/>
                  <a:pt x="1050" y="450"/>
                  <a:pt x="1050" y="449"/>
                </a:cubicBezTo>
                <a:cubicBezTo>
                  <a:pt x="1051" y="444"/>
                  <a:pt x="1057" y="444"/>
                  <a:pt x="1059" y="439"/>
                </a:cubicBezTo>
                <a:close/>
                <a:moveTo>
                  <a:pt x="1030" y="451"/>
                </a:moveTo>
                <a:cubicBezTo>
                  <a:pt x="1032" y="453"/>
                  <a:pt x="1034" y="451"/>
                  <a:pt x="1037" y="451"/>
                </a:cubicBezTo>
                <a:cubicBezTo>
                  <a:pt x="1037" y="448"/>
                  <a:pt x="1035" y="448"/>
                  <a:pt x="1036" y="446"/>
                </a:cubicBezTo>
                <a:cubicBezTo>
                  <a:pt x="1032" y="446"/>
                  <a:pt x="1031" y="448"/>
                  <a:pt x="1030" y="451"/>
                </a:cubicBezTo>
                <a:close/>
                <a:moveTo>
                  <a:pt x="1194" y="448"/>
                </a:moveTo>
                <a:cubicBezTo>
                  <a:pt x="1193" y="449"/>
                  <a:pt x="1193" y="451"/>
                  <a:pt x="1193" y="453"/>
                </a:cubicBezTo>
                <a:cubicBezTo>
                  <a:pt x="1196" y="452"/>
                  <a:pt x="1198" y="451"/>
                  <a:pt x="1199" y="449"/>
                </a:cubicBezTo>
                <a:cubicBezTo>
                  <a:pt x="1197" y="449"/>
                  <a:pt x="1197" y="447"/>
                  <a:pt x="1194" y="448"/>
                </a:cubicBezTo>
                <a:close/>
                <a:moveTo>
                  <a:pt x="1245" y="449"/>
                </a:moveTo>
                <a:cubicBezTo>
                  <a:pt x="1243" y="449"/>
                  <a:pt x="1243" y="450"/>
                  <a:pt x="1241" y="450"/>
                </a:cubicBezTo>
                <a:cubicBezTo>
                  <a:pt x="1241" y="449"/>
                  <a:pt x="1240" y="448"/>
                  <a:pt x="1239" y="448"/>
                </a:cubicBezTo>
                <a:cubicBezTo>
                  <a:pt x="1239" y="450"/>
                  <a:pt x="1237" y="452"/>
                  <a:pt x="1238" y="455"/>
                </a:cubicBezTo>
                <a:cubicBezTo>
                  <a:pt x="1241" y="454"/>
                  <a:pt x="1242" y="451"/>
                  <a:pt x="1245" y="449"/>
                </a:cubicBezTo>
                <a:close/>
                <a:moveTo>
                  <a:pt x="1212" y="456"/>
                </a:moveTo>
                <a:cubicBezTo>
                  <a:pt x="1213" y="457"/>
                  <a:pt x="1211" y="452"/>
                  <a:pt x="1209" y="452"/>
                </a:cubicBezTo>
                <a:cubicBezTo>
                  <a:pt x="1207" y="455"/>
                  <a:pt x="1205" y="452"/>
                  <a:pt x="1203" y="453"/>
                </a:cubicBezTo>
                <a:cubicBezTo>
                  <a:pt x="1195" y="454"/>
                  <a:pt x="1192" y="462"/>
                  <a:pt x="1185" y="466"/>
                </a:cubicBezTo>
                <a:cubicBezTo>
                  <a:pt x="1177" y="470"/>
                  <a:pt x="1168" y="473"/>
                  <a:pt x="1159" y="477"/>
                </a:cubicBezTo>
                <a:cubicBezTo>
                  <a:pt x="1159" y="480"/>
                  <a:pt x="1156" y="481"/>
                  <a:pt x="1156" y="484"/>
                </a:cubicBezTo>
                <a:cubicBezTo>
                  <a:pt x="1168" y="484"/>
                  <a:pt x="1178" y="470"/>
                  <a:pt x="1195" y="468"/>
                </a:cubicBezTo>
                <a:cubicBezTo>
                  <a:pt x="1200" y="463"/>
                  <a:pt x="1207" y="460"/>
                  <a:pt x="1212" y="456"/>
                </a:cubicBezTo>
                <a:close/>
                <a:moveTo>
                  <a:pt x="1055" y="455"/>
                </a:moveTo>
                <a:cubicBezTo>
                  <a:pt x="1055" y="457"/>
                  <a:pt x="1051" y="456"/>
                  <a:pt x="1051" y="458"/>
                </a:cubicBezTo>
                <a:cubicBezTo>
                  <a:pt x="1053" y="458"/>
                  <a:pt x="1052" y="461"/>
                  <a:pt x="1054" y="461"/>
                </a:cubicBezTo>
                <a:cubicBezTo>
                  <a:pt x="1053" y="459"/>
                  <a:pt x="1058" y="457"/>
                  <a:pt x="1055" y="455"/>
                </a:cubicBezTo>
                <a:close/>
                <a:moveTo>
                  <a:pt x="128" y="500"/>
                </a:moveTo>
                <a:cubicBezTo>
                  <a:pt x="131" y="500"/>
                  <a:pt x="133" y="499"/>
                  <a:pt x="134" y="497"/>
                </a:cubicBezTo>
                <a:cubicBezTo>
                  <a:pt x="132" y="495"/>
                  <a:pt x="129" y="498"/>
                  <a:pt x="128" y="500"/>
                </a:cubicBezTo>
                <a:close/>
                <a:moveTo>
                  <a:pt x="123" y="531"/>
                </a:moveTo>
                <a:cubicBezTo>
                  <a:pt x="127" y="529"/>
                  <a:pt x="131" y="527"/>
                  <a:pt x="137" y="528"/>
                </a:cubicBezTo>
                <a:cubicBezTo>
                  <a:pt x="141" y="524"/>
                  <a:pt x="139" y="514"/>
                  <a:pt x="144" y="511"/>
                </a:cubicBezTo>
                <a:cubicBezTo>
                  <a:pt x="141" y="507"/>
                  <a:pt x="134" y="509"/>
                  <a:pt x="130" y="512"/>
                </a:cubicBezTo>
                <a:cubicBezTo>
                  <a:pt x="134" y="516"/>
                  <a:pt x="131" y="519"/>
                  <a:pt x="133" y="521"/>
                </a:cubicBezTo>
                <a:cubicBezTo>
                  <a:pt x="131" y="526"/>
                  <a:pt x="126" y="527"/>
                  <a:pt x="123" y="531"/>
                </a:cubicBezTo>
                <a:close/>
                <a:moveTo>
                  <a:pt x="1252" y="521"/>
                </a:moveTo>
                <a:cubicBezTo>
                  <a:pt x="1255" y="520"/>
                  <a:pt x="1259" y="520"/>
                  <a:pt x="1260" y="517"/>
                </a:cubicBezTo>
                <a:cubicBezTo>
                  <a:pt x="1256" y="517"/>
                  <a:pt x="1253" y="518"/>
                  <a:pt x="1252" y="521"/>
                </a:cubicBezTo>
                <a:close/>
                <a:moveTo>
                  <a:pt x="163" y="524"/>
                </a:moveTo>
                <a:cubicBezTo>
                  <a:pt x="162" y="528"/>
                  <a:pt x="157" y="529"/>
                  <a:pt x="154" y="533"/>
                </a:cubicBezTo>
                <a:cubicBezTo>
                  <a:pt x="160" y="533"/>
                  <a:pt x="160" y="533"/>
                  <a:pt x="160" y="533"/>
                </a:cubicBezTo>
                <a:cubicBezTo>
                  <a:pt x="160" y="530"/>
                  <a:pt x="166" y="527"/>
                  <a:pt x="163" y="524"/>
                </a:cubicBezTo>
                <a:close/>
                <a:moveTo>
                  <a:pt x="143" y="551"/>
                </a:moveTo>
                <a:cubicBezTo>
                  <a:pt x="142" y="551"/>
                  <a:pt x="143" y="548"/>
                  <a:pt x="141" y="548"/>
                </a:cubicBezTo>
                <a:cubicBezTo>
                  <a:pt x="140" y="549"/>
                  <a:pt x="139" y="549"/>
                  <a:pt x="138" y="549"/>
                </a:cubicBezTo>
                <a:cubicBezTo>
                  <a:pt x="136" y="554"/>
                  <a:pt x="143" y="554"/>
                  <a:pt x="143" y="551"/>
                </a:cubicBezTo>
                <a:close/>
                <a:moveTo>
                  <a:pt x="133" y="576"/>
                </a:moveTo>
                <a:cubicBezTo>
                  <a:pt x="130" y="576"/>
                  <a:pt x="126" y="580"/>
                  <a:pt x="128" y="582"/>
                </a:cubicBezTo>
                <a:cubicBezTo>
                  <a:pt x="129" y="580"/>
                  <a:pt x="132" y="579"/>
                  <a:pt x="133" y="576"/>
                </a:cubicBezTo>
                <a:close/>
                <a:moveTo>
                  <a:pt x="139" y="587"/>
                </a:moveTo>
                <a:cubicBezTo>
                  <a:pt x="145" y="585"/>
                  <a:pt x="152" y="583"/>
                  <a:pt x="153" y="576"/>
                </a:cubicBezTo>
                <a:cubicBezTo>
                  <a:pt x="145" y="576"/>
                  <a:pt x="145" y="585"/>
                  <a:pt x="139" y="587"/>
                </a:cubicBezTo>
                <a:close/>
                <a:moveTo>
                  <a:pt x="129" y="597"/>
                </a:moveTo>
                <a:cubicBezTo>
                  <a:pt x="128" y="600"/>
                  <a:pt x="135" y="597"/>
                  <a:pt x="136" y="597"/>
                </a:cubicBezTo>
                <a:cubicBezTo>
                  <a:pt x="134" y="595"/>
                  <a:pt x="131" y="596"/>
                  <a:pt x="129" y="597"/>
                </a:cubicBezTo>
                <a:close/>
                <a:moveTo>
                  <a:pt x="1159" y="601"/>
                </a:moveTo>
                <a:cubicBezTo>
                  <a:pt x="1154" y="604"/>
                  <a:pt x="1147" y="604"/>
                  <a:pt x="1147" y="611"/>
                </a:cubicBezTo>
                <a:cubicBezTo>
                  <a:pt x="1152" y="610"/>
                  <a:pt x="1163" y="605"/>
                  <a:pt x="1159" y="601"/>
                </a:cubicBezTo>
                <a:close/>
                <a:moveTo>
                  <a:pt x="95" y="617"/>
                </a:moveTo>
                <a:cubicBezTo>
                  <a:pt x="100" y="616"/>
                  <a:pt x="103" y="611"/>
                  <a:pt x="105" y="607"/>
                </a:cubicBezTo>
                <a:cubicBezTo>
                  <a:pt x="99" y="607"/>
                  <a:pt x="96" y="612"/>
                  <a:pt x="95" y="617"/>
                </a:cubicBezTo>
                <a:close/>
                <a:moveTo>
                  <a:pt x="1184" y="609"/>
                </a:moveTo>
                <a:cubicBezTo>
                  <a:pt x="1182" y="610"/>
                  <a:pt x="1179" y="611"/>
                  <a:pt x="1177" y="612"/>
                </a:cubicBezTo>
                <a:cubicBezTo>
                  <a:pt x="1176" y="614"/>
                  <a:pt x="1177" y="617"/>
                  <a:pt x="1179" y="619"/>
                </a:cubicBezTo>
                <a:cubicBezTo>
                  <a:pt x="1181" y="616"/>
                  <a:pt x="1184" y="613"/>
                  <a:pt x="1184" y="609"/>
                </a:cubicBezTo>
                <a:close/>
                <a:moveTo>
                  <a:pt x="1170" y="621"/>
                </a:moveTo>
                <a:cubicBezTo>
                  <a:pt x="1172" y="623"/>
                  <a:pt x="1173" y="620"/>
                  <a:pt x="1175" y="620"/>
                </a:cubicBezTo>
                <a:cubicBezTo>
                  <a:pt x="1175" y="618"/>
                  <a:pt x="1175" y="616"/>
                  <a:pt x="1172" y="616"/>
                </a:cubicBezTo>
                <a:cubicBezTo>
                  <a:pt x="1172" y="618"/>
                  <a:pt x="1171" y="619"/>
                  <a:pt x="1170" y="621"/>
                </a:cubicBezTo>
                <a:close/>
                <a:moveTo>
                  <a:pt x="229" y="618"/>
                </a:moveTo>
                <a:cubicBezTo>
                  <a:pt x="222" y="620"/>
                  <a:pt x="218" y="616"/>
                  <a:pt x="208" y="617"/>
                </a:cubicBezTo>
                <a:cubicBezTo>
                  <a:pt x="209" y="621"/>
                  <a:pt x="212" y="624"/>
                  <a:pt x="215" y="626"/>
                </a:cubicBezTo>
                <a:cubicBezTo>
                  <a:pt x="223" y="627"/>
                  <a:pt x="227" y="623"/>
                  <a:pt x="229" y="618"/>
                </a:cubicBezTo>
                <a:close/>
                <a:moveTo>
                  <a:pt x="131" y="618"/>
                </a:moveTo>
                <a:cubicBezTo>
                  <a:pt x="131" y="620"/>
                  <a:pt x="129" y="620"/>
                  <a:pt x="129" y="622"/>
                </a:cubicBezTo>
                <a:cubicBezTo>
                  <a:pt x="131" y="622"/>
                  <a:pt x="135" y="623"/>
                  <a:pt x="135" y="620"/>
                </a:cubicBezTo>
                <a:cubicBezTo>
                  <a:pt x="132" y="621"/>
                  <a:pt x="134" y="617"/>
                  <a:pt x="131" y="618"/>
                </a:cubicBezTo>
                <a:close/>
                <a:moveTo>
                  <a:pt x="119" y="637"/>
                </a:moveTo>
                <a:cubicBezTo>
                  <a:pt x="114" y="634"/>
                  <a:pt x="123" y="630"/>
                  <a:pt x="118" y="626"/>
                </a:cubicBezTo>
                <a:cubicBezTo>
                  <a:pt x="116" y="630"/>
                  <a:pt x="113" y="622"/>
                  <a:pt x="111" y="625"/>
                </a:cubicBezTo>
                <a:cubicBezTo>
                  <a:pt x="113" y="626"/>
                  <a:pt x="114" y="627"/>
                  <a:pt x="114" y="629"/>
                </a:cubicBezTo>
                <a:cubicBezTo>
                  <a:pt x="113" y="631"/>
                  <a:pt x="109" y="630"/>
                  <a:pt x="109" y="633"/>
                </a:cubicBezTo>
                <a:cubicBezTo>
                  <a:pt x="110" y="636"/>
                  <a:pt x="106" y="641"/>
                  <a:pt x="105" y="645"/>
                </a:cubicBezTo>
                <a:cubicBezTo>
                  <a:pt x="109" y="642"/>
                  <a:pt x="116" y="641"/>
                  <a:pt x="119" y="637"/>
                </a:cubicBezTo>
                <a:close/>
                <a:moveTo>
                  <a:pt x="126" y="633"/>
                </a:moveTo>
                <a:cubicBezTo>
                  <a:pt x="127" y="632"/>
                  <a:pt x="128" y="631"/>
                  <a:pt x="128" y="629"/>
                </a:cubicBezTo>
                <a:cubicBezTo>
                  <a:pt x="125" y="628"/>
                  <a:pt x="123" y="628"/>
                  <a:pt x="121" y="630"/>
                </a:cubicBezTo>
                <a:cubicBezTo>
                  <a:pt x="124" y="630"/>
                  <a:pt x="123" y="633"/>
                  <a:pt x="126" y="633"/>
                </a:cubicBezTo>
                <a:close/>
                <a:moveTo>
                  <a:pt x="85" y="656"/>
                </a:moveTo>
                <a:cubicBezTo>
                  <a:pt x="90" y="653"/>
                  <a:pt x="99" y="656"/>
                  <a:pt x="101" y="646"/>
                </a:cubicBezTo>
                <a:cubicBezTo>
                  <a:pt x="98" y="647"/>
                  <a:pt x="96" y="645"/>
                  <a:pt x="95" y="644"/>
                </a:cubicBezTo>
                <a:cubicBezTo>
                  <a:pt x="94" y="646"/>
                  <a:pt x="92" y="648"/>
                  <a:pt x="93" y="651"/>
                </a:cubicBezTo>
                <a:cubicBezTo>
                  <a:pt x="90" y="653"/>
                  <a:pt x="86" y="653"/>
                  <a:pt x="85" y="656"/>
                </a:cubicBezTo>
                <a:close/>
                <a:moveTo>
                  <a:pt x="1150" y="651"/>
                </a:moveTo>
                <a:cubicBezTo>
                  <a:pt x="1149" y="649"/>
                  <a:pt x="1145" y="650"/>
                  <a:pt x="1145" y="651"/>
                </a:cubicBezTo>
                <a:cubicBezTo>
                  <a:pt x="1146" y="652"/>
                  <a:pt x="1145" y="655"/>
                  <a:pt x="1148" y="654"/>
                </a:cubicBezTo>
                <a:cubicBezTo>
                  <a:pt x="1148" y="652"/>
                  <a:pt x="1150" y="652"/>
                  <a:pt x="1150" y="651"/>
                </a:cubicBezTo>
                <a:close/>
                <a:moveTo>
                  <a:pt x="1164" y="657"/>
                </a:moveTo>
                <a:cubicBezTo>
                  <a:pt x="1165" y="654"/>
                  <a:pt x="1165" y="652"/>
                  <a:pt x="1162" y="651"/>
                </a:cubicBezTo>
                <a:cubicBezTo>
                  <a:pt x="1160" y="653"/>
                  <a:pt x="1162" y="656"/>
                  <a:pt x="1164" y="657"/>
                </a:cubicBezTo>
                <a:close/>
                <a:moveTo>
                  <a:pt x="1195" y="662"/>
                </a:moveTo>
                <a:cubicBezTo>
                  <a:pt x="1195" y="659"/>
                  <a:pt x="1193" y="658"/>
                  <a:pt x="1192" y="657"/>
                </a:cubicBezTo>
                <a:cubicBezTo>
                  <a:pt x="1191" y="659"/>
                  <a:pt x="1189" y="660"/>
                  <a:pt x="1187" y="661"/>
                </a:cubicBezTo>
                <a:cubicBezTo>
                  <a:pt x="1186" y="664"/>
                  <a:pt x="1188" y="665"/>
                  <a:pt x="1188" y="668"/>
                </a:cubicBezTo>
                <a:cubicBezTo>
                  <a:pt x="1193" y="669"/>
                  <a:pt x="1190" y="661"/>
                  <a:pt x="1195" y="662"/>
                </a:cubicBezTo>
                <a:close/>
                <a:moveTo>
                  <a:pt x="1196" y="671"/>
                </a:moveTo>
                <a:cubicBezTo>
                  <a:pt x="1196" y="672"/>
                  <a:pt x="1195" y="672"/>
                  <a:pt x="1194" y="671"/>
                </a:cubicBezTo>
                <a:cubicBezTo>
                  <a:pt x="1194" y="674"/>
                  <a:pt x="1191" y="675"/>
                  <a:pt x="1188" y="675"/>
                </a:cubicBezTo>
                <a:cubicBezTo>
                  <a:pt x="1188" y="676"/>
                  <a:pt x="1187" y="677"/>
                  <a:pt x="1187" y="678"/>
                </a:cubicBezTo>
                <a:cubicBezTo>
                  <a:pt x="1192" y="680"/>
                  <a:pt x="1192" y="675"/>
                  <a:pt x="1196" y="676"/>
                </a:cubicBezTo>
                <a:cubicBezTo>
                  <a:pt x="1195" y="673"/>
                  <a:pt x="1199" y="672"/>
                  <a:pt x="1196" y="671"/>
                </a:cubicBezTo>
                <a:close/>
                <a:moveTo>
                  <a:pt x="1161" y="690"/>
                </a:moveTo>
                <a:cubicBezTo>
                  <a:pt x="1171" y="690"/>
                  <a:pt x="1166" y="685"/>
                  <a:pt x="1161" y="690"/>
                </a:cubicBezTo>
                <a:close/>
                <a:moveTo>
                  <a:pt x="1213" y="728"/>
                </a:moveTo>
                <a:cubicBezTo>
                  <a:pt x="1210" y="728"/>
                  <a:pt x="1208" y="730"/>
                  <a:pt x="1207" y="733"/>
                </a:cubicBezTo>
                <a:cubicBezTo>
                  <a:pt x="1208" y="735"/>
                  <a:pt x="1209" y="736"/>
                  <a:pt x="1211" y="737"/>
                </a:cubicBezTo>
                <a:cubicBezTo>
                  <a:pt x="1210" y="735"/>
                  <a:pt x="1213" y="736"/>
                  <a:pt x="1213" y="734"/>
                </a:cubicBezTo>
                <a:cubicBezTo>
                  <a:pt x="1211" y="733"/>
                  <a:pt x="1214" y="730"/>
                  <a:pt x="1213" y="728"/>
                </a:cubicBezTo>
                <a:close/>
                <a:moveTo>
                  <a:pt x="1152" y="730"/>
                </a:moveTo>
                <a:cubicBezTo>
                  <a:pt x="1149" y="731"/>
                  <a:pt x="1145" y="734"/>
                  <a:pt x="1149" y="735"/>
                </a:cubicBezTo>
                <a:cubicBezTo>
                  <a:pt x="1149" y="732"/>
                  <a:pt x="1152" y="733"/>
                  <a:pt x="1152" y="730"/>
                </a:cubicBezTo>
                <a:close/>
                <a:moveTo>
                  <a:pt x="1090" y="772"/>
                </a:moveTo>
                <a:cubicBezTo>
                  <a:pt x="1090" y="770"/>
                  <a:pt x="1094" y="771"/>
                  <a:pt x="1093" y="768"/>
                </a:cubicBezTo>
                <a:cubicBezTo>
                  <a:pt x="1092" y="768"/>
                  <a:pt x="1092" y="766"/>
                  <a:pt x="1091" y="767"/>
                </a:cubicBezTo>
                <a:cubicBezTo>
                  <a:pt x="1090" y="768"/>
                  <a:pt x="1087" y="771"/>
                  <a:pt x="1090" y="772"/>
                </a:cubicBezTo>
                <a:close/>
                <a:moveTo>
                  <a:pt x="176" y="780"/>
                </a:moveTo>
                <a:cubicBezTo>
                  <a:pt x="173" y="779"/>
                  <a:pt x="167" y="778"/>
                  <a:pt x="165" y="782"/>
                </a:cubicBezTo>
                <a:cubicBezTo>
                  <a:pt x="170" y="783"/>
                  <a:pt x="175" y="783"/>
                  <a:pt x="176" y="780"/>
                </a:cubicBezTo>
                <a:close/>
                <a:moveTo>
                  <a:pt x="1020" y="798"/>
                </a:moveTo>
                <a:cubicBezTo>
                  <a:pt x="1020" y="795"/>
                  <a:pt x="1022" y="794"/>
                  <a:pt x="1023" y="792"/>
                </a:cubicBezTo>
                <a:cubicBezTo>
                  <a:pt x="1021" y="792"/>
                  <a:pt x="1022" y="789"/>
                  <a:pt x="1019" y="790"/>
                </a:cubicBezTo>
                <a:cubicBezTo>
                  <a:pt x="1022" y="794"/>
                  <a:pt x="1016" y="796"/>
                  <a:pt x="1020" y="798"/>
                </a:cubicBezTo>
                <a:close/>
                <a:moveTo>
                  <a:pt x="1191" y="812"/>
                </a:moveTo>
                <a:cubicBezTo>
                  <a:pt x="1191" y="811"/>
                  <a:pt x="1191" y="810"/>
                  <a:pt x="1191" y="810"/>
                </a:cubicBezTo>
                <a:cubicBezTo>
                  <a:pt x="1191" y="814"/>
                  <a:pt x="1190" y="815"/>
                  <a:pt x="1192" y="817"/>
                </a:cubicBezTo>
                <a:cubicBezTo>
                  <a:pt x="1193" y="815"/>
                  <a:pt x="1198" y="811"/>
                  <a:pt x="1200" y="813"/>
                </a:cubicBezTo>
                <a:cubicBezTo>
                  <a:pt x="1200" y="817"/>
                  <a:pt x="1197" y="812"/>
                  <a:pt x="1198" y="816"/>
                </a:cubicBezTo>
                <a:cubicBezTo>
                  <a:pt x="1199" y="816"/>
                  <a:pt x="1200" y="816"/>
                  <a:pt x="1201" y="817"/>
                </a:cubicBezTo>
                <a:cubicBezTo>
                  <a:pt x="1201" y="813"/>
                  <a:pt x="1205" y="811"/>
                  <a:pt x="1204" y="809"/>
                </a:cubicBezTo>
                <a:cubicBezTo>
                  <a:pt x="1207" y="809"/>
                  <a:pt x="1207" y="812"/>
                  <a:pt x="1208" y="813"/>
                </a:cubicBezTo>
                <a:cubicBezTo>
                  <a:pt x="1212" y="812"/>
                  <a:pt x="1213" y="808"/>
                  <a:pt x="1218" y="808"/>
                </a:cubicBezTo>
                <a:cubicBezTo>
                  <a:pt x="1217" y="803"/>
                  <a:pt x="1218" y="802"/>
                  <a:pt x="1220" y="798"/>
                </a:cubicBezTo>
                <a:cubicBezTo>
                  <a:pt x="1208" y="801"/>
                  <a:pt x="1205" y="811"/>
                  <a:pt x="1191" y="812"/>
                </a:cubicBezTo>
                <a:close/>
                <a:moveTo>
                  <a:pt x="1157" y="815"/>
                </a:moveTo>
                <a:cubicBezTo>
                  <a:pt x="1158" y="815"/>
                  <a:pt x="1159" y="816"/>
                  <a:pt x="1160" y="816"/>
                </a:cubicBezTo>
                <a:cubicBezTo>
                  <a:pt x="1161" y="813"/>
                  <a:pt x="1164" y="813"/>
                  <a:pt x="1164" y="810"/>
                </a:cubicBezTo>
                <a:cubicBezTo>
                  <a:pt x="1163" y="810"/>
                  <a:pt x="1162" y="810"/>
                  <a:pt x="1161" y="809"/>
                </a:cubicBezTo>
                <a:cubicBezTo>
                  <a:pt x="1160" y="812"/>
                  <a:pt x="1157" y="812"/>
                  <a:pt x="1157" y="815"/>
                </a:cubicBezTo>
                <a:close/>
                <a:moveTo>
                  <a:pt x="963" y="823"/>
                </a:moveTo>
                <a:cubicBezTo>
                  <a:pt x="963" y="825"/>
                  <a:pt x="961" y="824"/>
                  <a:pt x="961" y="825"/>
                </a:cubicBezTo>
                <a:cubicBezTo>
                  <a:pt x="961" y="827"/>
                  <a:pt x="961" y="830"/>
                  <a:pt x="962" y="831"/>
                </a:cubicBezTo>
                <a:cubicBezTo>
                  <a:pt x="963" y="829"/>
                  <a:pt x="966" y="829"/>
                  <a:pt x="967" y="828"/>
                </a:cubicBezTo>
                <a:cubicBezTo>
                  <a:pt x="966" y="826"/>
                  <a:pt x="966" y="824"/>
                  <a:pt x="963" y="823"/>
                </a:cubicBezTo>
                <a:close/>
                <a:moveTo>
                  <a:pt x="928" y="831"/>
                </a:moveTo>
                <a:cubicBezTo>
                  <a:pt x="928" y="834"/>
                  <a:pt x="922" y="838"/>
                  <a:pt x="927" y="840"/>
                </a:cubicBezTo>
                <a:cubicBezTo>
                  <a:pt x="927" y="838"/>
                  <a:pt x="931" y="833"/>
                  <a:pt x="928" y="831"/>
                </a:cubicBezTo>
                <a:close/>
                <a:moveTo>
                  <a:pt x="991" y="831"/>
                </a:moveTo>
                <a:cubicBezTo>
                  <a:pt x="991" y="833"/>
                  <a:pt x="988" y="832"/>
                  <a:pt x="989" y="834"/>
                </a:cubicBezTo>
                <a:cubicBezTo>
                  <a:pt x="991" y="834"/>
                  <a:pt x="991" y="836"/>
                  <a:pt x="992" y="836"/>
                </a:cubicBezTo>
                <a:cubicBezTo>
                  <a:pt x="991" y="835"/>
                  <a:pt x="993" y="831"/>
                  <a:pt x="991" y="831"/>
                </a:cubicBezTo>
                <a:close/>
                <a:moveTo>
                  <a:pt x="1016" y="833"/>
                </a:moveTo>
                <a:cubicBezTo>
                  <a:pt x="1013" y="830"/>
                  <a:pt x="1010" y="834"/>
                  <a:pt x="1010" y="837"/>
                </a:cubicBezTo>
                <a:cubicBezTo>
                  <a:pt x="1013" y="837"/>
                  <a:pt x="1016" y="837"/>
                  <a:pt x="1016" y="833"/>
                </a:cubicBezTo>
                <a:close/>
                <a:moveTo>
                  <a:pt x="1096" y="833"/>
                </a:moveTo>
                <a:cubicBezTo>
                  <a:pt x="1096" y="834"/>
                  <a:pt x="1096" y="834"/>
                  <a:pt x="1096" y="834"/>
                </a:cubicBezTo>
                <a:cubicBezTo>
                  <a:pt x="1095" y="835"/>
                  <a:pt x="1093" y="834"/>
                  <a:pt x="1092" y="835"/>
                </a:cubicBezTo>
                <a:cubicBezTo>
                  <a:pt x="1094" y="836"/>
                  <a:pt x="1094" y="837"/>
                  <a:pt x="1096" y="836"/>
                </a:cubicBezTo>
                <a:cubicBezTo>
                  <a:pt x="1096" y="836"/>
                  <a:pt x="1098" y="833"/>
                  <a:pt x="1096" y="833"/>
                </a:cubicBezTo>
                <a:close/>
                <a:moveTo>
                  <a:pt x="1012" y="845"/>
                </a:moveTo>
                <a:cubicBezTo>
                  <a:pt x="1012" y="840"/>
                  <a:pt x="1017" y="846"/>
                  <a:pt x="1019" y="840"/>
                </a:cubicBezTo>
                <a:cubicBezTo>
                  <a:pt x="1015" y="841"/>
                  <a:pt x="1019" y="838"/>
                  <a:pt x="1019" y="836"/>
                </a:cubicBezTo>
                <a:cubicBezTo>
                  <a:pt x="1016" y="838"/>
                  <a:pt x="1009" y="840"/>
                  <a:pt x="1012" y="845"/>
                </a:cubicBezTo>
                <a:close/>
                <a:moveTo>
                  <a:pt x="111" y="855"/>
                </a:moveTo>
                <a:cubicBezTo>
                  <a:pt x="108" y="856"/>
                  <a:pt x="107" y="858"/>
                  <a:pt x="105" y="860"/>
                </a:cubicBezTo>
                <a:cubicBezTo>
                  <a:pt x="108" y="861"/>
                  <a:pt x="113" y="857"/>
                  <a:pt x="111" y="855"/>
                </a:cubicBezTo>
                <a:close/>
                <a:moveTo>
                  <a:pt x="967" y="855"/>
                </a:moveTo>
                <a:cubicBezTo>
                  <a:pt x="968" y="860"/>
                  <a:pt x="965" y="856"/>
                  <a:pt x="962" y="857"/>
                </a:cubicBezTo>
                <a:cubicBezTo>
                  <a:pt x="962" y="859"/>
                  <a:pt x="963" y="861"/>
                  <a:pt x="964" y="861"/>
                </a:cubicBezTo>
                <a:cubicBezTo>
                  <a:pt x="965" y="859"/>
                  <a:pt x="969" y="860"/>
                  <a:pt x="970" y="857"/>
                </a:cubicBezTo>
                <a:cubicBezTo>
                  <a:pt x="968" y="857"/>
                  <a:pt x="969" y="854"/>
                  <a:pt x="967" y="855"/>
                </a:cubicBezTo>
                <a:close/>
                <a:moveTo>
                  <a:pt x="100" y="870"/>
                </a:moveTo>
                <a:cubicBezTo>
                  <a:pt x="102" y="869"/>
                  <a:pt x="105" y="869"/>
                  <a:pt x="105" y="866"/>
                </a:cubicBezTo>
                <a:cubicBezTo>
                  <a:pt x="102" y="866"/>
                  <a:pt x="102" y="866"/>
                  <a:pt x="102" y="866"/>
                </a:cubicBezTo>
                <a:cubicBezTo>
                  <a:pt x="103" y="869"/>
                  <a:pt x="100" y="868"/>
                  <a:pt x="100" y="870"/>
                </a:cubicBezTo>
                <a:close/>
                <a:moveTo>
                  <a:pt x="177" y="879"/>
                </a:moveTo>
                <a:cubicBezTo>
                  <a:pt x="172" y="873"/>
                  <a:pt x="164" y="880"/>
                  <a:pt x="161" y="885"/>
                </a:cubicBezTo>
                <a:cubicBezTo>
                  <a:pt x="166" y="888"/>
                  <a:pt x="174" y="884"/>
                  <a:pt x="177" y="879"/>
                </a:cubicBezTo>
                <a:close/>
                <a:moveTo>
                  <a:pt x="1111" y="885"/>
                </a:moveTo>
                <a:cubicBezTo>
                  <a:pt x="1109" y="888"/>
                  <a:pt x="1105" y="888"/>
                  <a:pt x="1104" y="892"/>
                </a:cubicBezTo>
                <a:cubicBezTo>
                  <a:pt x="1112" y="898"/>
                  <a:pt x="1111" y="900"/>
                  <a:pt x="1112" y="909"/>
                </a:cubicBezTo>
                <a:cubicBezTo>
                  <a:pt x="1116" y="907"/>
                  <a:pt x="1118" y="904"/>
                  <a:pt x="1120" y="899"/>
                </a:cubicBezTo>
                <a:cubicBezTo>
                  <a:pt x="1114" y="899"/>
                  <a:pt x="1113" y="889"/>
                  <a:pt x="1111" y="885"/>
                </a:cubicBezTo>
                <a:close/>
                <a:moveTo>
                  <a:pt x="146" y="887"/>
                </a:moveTo>
                <a:cubicBezTo>
                  <a:pt x="139" y="888"/>
                  <a:pt x="134" y="892"/>
                  <a:pt x="132" y="898"/>
                </a:cubicBezTo>
                <a:cubicBezTo>
                  <a:pt x="137" y="895"/>
                  <a:pt x="152" y="890"/>
                  <a:pt x="145" y="887"/>
                </a:cubicBezTo>
                <a:cubicBezTo>
                  <a:pt x="146" y="887"/>
                  <a:pt x="146" y="887"/>
                  <a:pt x="146" y="887"/>
                </a:cubicBezTo>
                <a:close/>
                <a:moveTo>
                  <a:pt x="152" y="894"/>
                </a:moveTo>
                <a:cubicBezTo>
                  <a:pt x="155" y="894"/>
                  <a:pt x="155" y="894"/>
                  <a:pt x="155" y="894"/>
                </a:cubicBezTo>
                <a:cubicBezTo>
                  <a:pt x="156" y="891"/>
                  <a:pt x="154" y="891"/>
                  <a:pt x="152" y="890"/>
                </a:cubicBezTo>
                <a:cubicBezTo>
                  <a:pt x="152" y="891"/>
                  <a:pt x="151" y="892"/>
                  <a:pt x="152" y="894"/>
                </a:cubicBezTo>
                <a:close/>
                <a:moveTo>
                  <a:pt x="1199" y="891"/>
                </a:moveTo>
                <a:cubicBezTo>
                  <a:pt x="1195" y="894"/>
                  <a:pt x="1193" y="894"/>
                  <a:pt x="1192" y="900"/>
                </a:cubicBezTo>
                <a:cubicBezTo>
                  <a:pt x="1195" y="898"/>
                  <a:pt x="1199" y="899"/>
                  <a:pt x="1201" y="896"/>
                </a:cubicBezTo>
                <a:cubicBezTo>
                  <a:pt x="1198" y="895"/>
                  <a:pt x="1203" y="891"/>
                  <a:pt x="1199" y="891"/>
                </a:cubicBezTo>
                <a:close/>
                <a:moveTo>
                  <a:pt x="1133" y="913"/>
                </a:moveTo>
                <a:cubicBezTo>
                  <a:pt x="1134" y="916"/>
                  <a:pt x="1142" y="909"/>
                  <a:pt x="1141" y="915"/>
                </a:cubicBezTo>
                <a:cubicBezTo>
                  <a:pt x="1149" y="915"/>
                  <a:pt x="1144" y="910"/>
                  <a:pt x="1147" y="906"/>
                </a:cubicBezTo>
                <a:cubicBezTo>
                  <a:pt x="1141" y="905"/>
                  <a:pt x="1136" y="909"/>
                  <a:pt x="1133" y="913"/>
                </a:cubicBezTo>
                <a:close/>
                <a:moveTo>
                  <a:pt x="118" y="907"/>
                </a:moveTo>
                <a:cubicBezTo>
                  <a:pt x="117" y="911"/>
                  <a:pt x="113" y="910"/>
                  <a:pt x="111" y="913"/>
                </a:cubicBezTo>
                <a:cubicBezTo>
                  <a:pt x="116" y="915"/>
                  <a:pt x="116" y="912"/>
                  <a:pt x="120" y="913"/>
                </a:cubicBezTo>
                <a:cubicBezTo>
                  <a:pt x="120" y="910"/>
                  <a:pt x="121" y="906"/>
                  <a:pt x="118" y="907"/>
                </a:cubicBezTo>
                <a:close/>
                <a:moveTo>
                  <a:pt x="1122" y="910"/>
                </a:moveTo>
                <a:cubicBezTo>
                  <a:pt x="1121" y="910"/>
                  <a:pt x="1121" y="908"/>
                  <a:pt x="1121" y="907"/>
                </a:cubicBezTo>
                <a:cubicBezTo>
                  <a:pt x="1118" y="907"/>
                  <a:pt x="1118" y="907"/>
                  <a:pt x="1118" y="907"/>
                </a:cubicBezTo>
                <a:cubicBezTo>
                  <a:pt x="1118" y="909"/>
                  <a:pt x="1117" y="909"/>
                  <a:pt x="1117" y="911"/>
                </a:cubicBezTo>
                <a:cubicBezTo>
                  <a:pt x="1119" y="910"/>
                  <a:pt x="1122" y="912"/>
                  <a:pt x="1122" y="910"/>
                </a:cubicBezTo>
                <a:close/>
                <a:moveTo>
                  <a:pt x="47" y="910"/>
                </a:moveTo>
                <a:cubicBezTo>
                  <a:pt x="44" y="907"/>
                  <a:pt x="38" y="912"/>
                  <a:pt x="41" y="914"/>
                </a:cubicBezTo>
                <a:cubicBezTo>
                  <a:pt x="42" y="912"/>
                  <a:pt x="46" y="913"/>
                  <a:pt x="47" y="910"/>
                </a:cubicBezTo>
                <a:close/>
                <a:moveTo>
                  <a:pt x="1167" y="913"/>
                </a:moveTo>
                <a:cubicBezTo>
                  <a:pt x="1168" y="914"/>
                  <a:pt x="1168" y="915"/>
                  <a:pt x="1170" y="914"/>
                </a:cubicBezTo>
                <a:cubicBezTo>
                  <a:pt x="1170" y="912"/>
                  <a:pt x="1171" y="911"/>
                  <a:pt x="1171" y="909"/>
                </a:cubicBezTo>
                <a:cubicBezTo>
                  <a:pt x="1169" y="909"/>
                  <a:pt x="1167" y="911"/>
                  <a:pt x="1167" y="913"/>
                </a:cubicBezTo>
                <a:close/>
                <a:moveTo>
                  <a:pt x="1158" y="911"/>
                </a:moveTo>
                <a:cubicBezTo>
                  <a:pt x="1157" y="914"/>
                  <a:pt x="1153" y="913"/>
                  <a:pt x="1151" y="913"/>
                </a:cubicBezTo>
                <a:cubicBezTo>
                  <a:pt x="1151" y="915"/>
                  <a:pt x="1148" y="916"/>
                  <a:pt x="1146" y="917"/>
                </a:cubicBezTo>
                <a:cubicBezTo>
                  <a:pt x="1145" y="922"/>
                  <a:pt x="1145" y="922"/>
                  <a:pt x="1146" y="926"/>
                </a:cubicBezTo>
                <a:cubicBezTo>
                  <a:pt x="1149" y="926"/>
                  <a:pt x="1152" y="923"/>
                  <a:pt x="1155" y="925"/>
                </a:cubicBezTo>
                <a:cubicBezTo>
                  <a:pt x="1154" y="926"/>
                  <a:pt x="1153" y="927"/>
                  <a:pt x="1153" y="928"/>
                </a:cubicBezTo>
                <a:cubicBezTo>
                  <a:pt x="1157" y="926"/>
                  <a:pt x="1161" y="925"/>
                  <a:pt x="1158" y="921"/>
                </a:cubicBezTo>
                <a:cubicBezTo>
                  <a:pt x="1161" y="921"/>
                  <a:pt x="1161" y="921"/>
                  <a:pt x="1161" y="921"/>
                </a:cubicBezTo>
                <a:cubicBezTo>
                  <a:pt x="1161" y="923"/>
                  <a:pt x="1160" y="924"/>
                  <a:pt x="1162" y="926"/>
                </a:cubicBezTo>
                <a:cubicBezTo>
                  <a:pt x="1163" y="921"/>
                  <a:pt x="1166" y="919"/>
                  <a:pt x="1165" y="914"/>
                </a:cubicBezTo>
                <a:cubicBezTo>
                  <a:pt x="1159" y="916"/>
                  <a:pt x="1160" y="911"/>
                  <a:pt x="1158" y="911"/>
                </a:cubicBezTo>
                <a:close/>
                <a:moveTo>
                  <a:pt x="1147" y="923"/>
                </a:moveTo>
                <a:cubicBezTo>
                  <a:pt x="1146" y="920"/>
                  <a:pt x="1149" y="921"/>
                  <a:pt x="1148" y="917"/>
                </a:cubicBezTo>
                <a:cubicBezTo>
                  <a:pt x="1149" y="918"/>
                  <a:pt x="1150" y="918"/>
                  <a:pt x="1151" y="918"/>
                </a:cubicBezTo>
                <a:cubicBezTo>
                  <a:pt x="1151" y="921"/>
                  <a:pt x="1150" y="923"/>
                  <a:pt x="1147" y="923"/>
                </a:cubicBezTo>
                <a:close/>
                <a:moveTo>
                  <a:pt x="88" y="926"/>
                </a:moveTo>
                <a:cubicBezTo>
                  <a:pt x="92" y="922"/>
                  <a:pt x="97" y="920"/>
                  <a:pt x="101" y="916"/>
                </a:cubicBezTo>
                <a:cubicBezTo>
                  <a:pt x="95" y="911"/>
                  <a:pt x="91" y="920"/>
                  <a:pt x="87" y="923"/>
                </a:cubicBezTo>
                <a:cubicBezTo>
                  <a:pt x="88" y="923"/>
                  <a:pt x="87" y="925"/>
                  <a:pt x="88" y="926"/>
                </a:cubicBezTo>
                <a:close/>
                <a:moveTo>
                  <a:pt x="994" y="937"/>
                </a:moveTo>
                <a:cubicBezTo>
                  <a:pt x="1001" y="937"/>
                  <a:pt x="1006" y="930"/>
                  <a:pt x="1012" y="931"/>
                </a:cubicBezTo>
                <a:cubicBezTo>
                  <a:pt x="1013" y="927"/>
                  <a:pt x="1012" y="927"/>
                  <a:pt x="1012" y="922"/>
                </a:cubicBezTo>
                <a:cubicBezTo>
                  <a:pt x="1002" y="920"/>
                  <a:pt x="1004" y="933"/>
                  <a:pt x="996" y="931"/>
                </a:cubicBezTo>
                <a:cubicBezTo>
                  <a:pt x="998" y="927"/>
                  <a:pt x="1001" y="926"/>
                  <a:pt x="1005" y="924"/>
                </a:cubicBezTo>
                <a:cubicBezTo>
                  <a:pt x="1001" y="923"/>
                  <a:pt x="997" y="922"/>
                  <a:pt x="994" y="925"/>
                </a:cubicBezTo>
                <a:cubicBezTo>
                  <a:pt x="997" y="930"/>
                  <a:pt x="993" y="931"/>
                  <a:pt x="994" y="937"/>
                </a:cubicBezTo>
                <a:close/>
                <a:moveTo>
                  <a:pt x="178" y="931"/>
                </a:moveTo>
                <a:cubicBezTo>
                  <a:pt x="175" y="931"/>
                  <a:pt x="176" y="933"/>
                  <a:pt x="174" y="935"/>
                </a:cubicBezTo>
                <a:cubicBezTo>
                  <a:pt x="178" y="935"/>
                  <a:pt x="178" y="933"/>
                  <a:pt x="178" y="931"/>
                </a:cubicBezTo>
                <a:close/>
                <a:moveTo>
                  <a:pt x="1184" y="948"/>
                </a:moveTo>
                <a:cubicBezTo>
                  <a:pt x="1186" y="945"/>
                  <a:pt x="1188" y="942"/>
                  <a:pt x="1189" y="939"/>
                </a:cubicBezTo>
                <a:cubicBezTo>
                  <a:pt x="1184" y="941"/>
                  <a:pt x="1188" y="934"/>
                  <a:pt x="1184" y="935"/>
                </a:cubicBezTo>
                <a:cubicBezTo>
                  <a:pt x="1177" y="945"/>
                  <a:pt x="1160" y="942"/>
                  <a:pt x="1160" y="956"/>
                </a:cubicBezTo>
                <a:cubicBezTo>
                  <a:pt x="1159" y="954"/>
                  <a:pt x="1158" y="957"/>
                  <a:pt x="1158" y="955"/>
                </a:cubicBezTo>
                <a:cubicBezTo>
                  <a:pt x="1158" y="954"/>
                  <a:pt x="1159" y="953"/>
                  <a:pt x="1158" y="952"/>
                </a:cubicBezTo>
                <a:cubicBezTo>
                  <a:pt x="1156" y="954"/>
                  <a:pt x="1155" y="956"/>
                  <a:pt x="1154" y="958"/>
                </a:cubicBezTo>
                <a:cubicBezTo>
                  <a:pt x="1149" y="959"/>
                  <a:pt x="1153" y="956"/>
                  <a:pt x="1149" y="955"/>
                </a:cubicBezTo>
                <a:cubicBezTo>
                  <a:pt x="1150" y="963"/>
                  <a:pt x="1143" y="964"/>
                  <a:pt x="1135" y="964"/>
                </a:cubicBezTo>
                <a:cubicBezTo>
                  <a:pt x="1132" y="973"/>
                  <a:pt x="1125" y="977"/>
                  <a:pt x="1117" y="980"/>
                </a:cubicBezTo>
                <a:cubicBezTo>
                  <a:pt x="1114" y="975"/>
                  <a:pt x="1120" y="972"/>
                  <a:pt x="1122" y="969"/>
                </a:cubicBezTo>
                <a:cubicBezTo>
                  <a:pt x="1117" y="969"/>
                  <a:pt x="1126" y="967"/>
                  <a:pt x="1122" y="965"/>
                </a:cubicBezTo>
                <a:cubicBezTo>
                  <a:pt x="1121" y="968"/>
                  <a:pt x="1119" y="965"/>
                  <a:pt x="1118" y="965"/>
                </a:cubicBezTo>
                <a:cubicBezTo>
                  <a:pt x="1116" y="966"/>
                  <a:pt x="1115" y="969"/>
                  <a:pt x="1114" y="972"/>
                </a:cubicBezTo>
                <a:cubicBezTo>
                  <a:pt x="1109" y="971"/>
                  <a:pt x="1108" y="974"/>
                  <a:pt x="1106" y="977"/>
                </a:cubicBezTo>
                <a:cubicBezTo>
                  <a:pt x="1110" y="976"/>
                  <a:pt x="1110" y="973"/>
                  <a:pt x="1114" y="974"/>
                </a:cubicBezTo>
                <a:cubicBezTo>
                  <a:pt x="1118" y="982"/>
                  <a:pt x="1110" y="982"/>
                  <a:pt x="1107" y="987"/>
                </a:cubicBezTo>
                <a:cubicBezTo>
                  <a:pt x="1115" y="986"/>
                  <a:pt x="1119" y="980"/>
                  <a:pt x="1127" y="978"/>
                </a:cubicBezTo>
                <a:cubicBezTo>
                  <a:pt x="1128" y="981"/>
                  <a:pt x="1129" y="983"/>
                  <a:pt x="1130" y="984"/>
                </a:cubicBezTo>
                <a:cubicBezTo>
                  <a:pt x="1134" y="981"/>
                  <a:pt x="1140" y="978"/>
                  <a:pt x="1143" y="973"/>
                </a:cubicBezTo>
                <a:cubicBezTo>
                  <a:pt x="1153" y="977"/>
                  <a:pt x="1151" y="960"/>
                  <a:pt x="1158" y="958"/>
                </a:cubicBezTo>
                <a:cubicBezTo>
                  <a:pt x="1161" y="958"/>
                  <a:pt x="1161" y="961"/>
                  <a:pt x="1164" y="960"/>
                </a:cubicBezTo>
                <a:cubicBezTo>
                  <a:pt x="1171" y="957"/>
                  <a:pt x="1174" y="946"/>
                  <a:pt x="1184" y="948"/>
                </a:cubicBezTo>
                <a:close/>
                <a:moveTo>
                  <a:pt x="215" y="940"/>
                </a:moveTo>
                <a:cubicBezTo>
                  <a:pt x="216" y="940"/>
                  <a:pt x="218" y="940"/>
                  <a:pt x="218" y="942"/>
                </a:cubicBezTo>
                <a:cubicBezTo>
                  <a:pt x="219" y="942"/>
                  <a:pt x="221" y="942"/>
                  <a:pt x="221" y="940"/>
                </a:cubicBezTo>
                <a:cubicBezTo>
                  <a:pt x="220" y="940"/>
                  <a:pt x="220" y="940"/>
                  <a:pt x="220" y="939"/>
                </a:cubicBezTo>
                <a:cubicBezTo>
                  <a:pt x="218" y="939"/>
                  <a:pt x="215" y="938"/>
                  <a:pt x="215" y="940"/>
                </a:cubicBezTo>
                <a:close/>
                <a:moveTo>
                  <a:pt x="1064" y="943"/>
                </a:moveTo>
                <a:cubicBezTo>
                  <a:pt x="1065" y="946"/>
                  <a:pt x="1063" y="946"/>
                  <a:pt x="1062" y="948"/>
                </a:cubicBezTo>
                <a:cubicBezTo>
                  <a:pt x="1066" y="947"/>
                  <a:pt x="1065" y="950"/>
                  <a:pt x="1068" y="950"/>
                </a:cubicBezTo>
                <a:cubicBezTo>
                  <a:pt x="1069" y="948"/>
                  <a:pt x="1073" y="948"/>
                  <a:pt x="1072" y="944"/>
                </a:cubicBezTo>
                <a:cubicBezTo>
                  <a:pt x="1070" y="943"/>
                  <a:pt x="1069" y="948"/>
                  <a:pt x="1069" y="945"/>
                </a:cubicBezTo>
                <a:cubicBezTo>
                  <a:pt x="1069" y="944"/>
                  <a:pt x="1070" y="943"/>
                  <a:pt x="1070" y="942"/>
                </a:cubicBezTo>
                <a:cubicBezTo>
                  <a:pt x="1068" y="942"/>
                  <a:pt x="1067" y="940"/>
                  <a:pt x="1064" y="939"/>
                </a:cubicBezTo>
                <a:cubicBezTo>
                  <a:pt x="1063" y="944"/>
                  <a:pt x="1057" y="942"/>
                  <a:pt x="1058" y="948"/>
                </a:cubicBezTo>
                <a:cubicBezTo>
                  <a:pt x="1063" y="949"/>
                  <a:pt x="1061" y="944"/>
                  <a:pt x="1064" y="943"/>
                </a:cubicBezTo>
                <a:close/>
                <a:moveTo>
                  <a:pt x="942" y="948"/>
                </a:moveTo>
                <a:cubicBezTo>
                  <a:pt x="942" y="944"/>
                  <a:pt x="942" y="944"/>
                  <a:pt x="942" y="944"/>
                </a:cubicBezTo>
                <a:cubicBezTo>
                  <a:pt x="939" y="943"/>
                  <a:pt x="939" y="949"/>
                  <a:pt x="942" y="948"/>
                </a:cubicBezTo>
                <a:close/>
                <a:moveTo>
                  <a:pt x="1171" y="961"/>
                </a:moveTo>
                <a:cubicBezTo>
                  <a:pt x="1171" y="966"/>
                  <a:pt x="1164" y="965"/>
                  <a:pt x="1164" y="970"/>
                </a:cubicBezTo>
                <a:cubicBezTo>
                  <a:pt x="1176" y="963"/>
                  <a:pt x="1186" y="960"/>
                  <a:pt x="1195" y="950"/>
                </a:cubicBezTo>
                <a:cubicBezTo>
                  <a:pt x="1185" y="945"/>
                  <a:pt x="1181" y="960"/>
                  <a:pt x="1171" y="961"/>
                </a:cubicBezTo>
                <a:close/>
                <a:moveTo>
                  <a:pt x="199" y="950"/>
                </a:moveTo>
                <a:cubicBezTo>
                  <a:pt x="197" y="950"/>
                  <a:pt x="194" y="950"/>
                  <a:pt x="195" y="952"/>
                </a:cubicBezTo>
                <a:cubicBezTo>
                  <a:pt x="197" y="952"/>
                  <a:pt x="199" y="952"/>
                  <a:pt x="199" y="950"/>
                </a:cubicBezTo>
                <a:close/>
                <a:moveTo>
                  <a:pt x="72" y="952"/>
                </a:moveTo>
                <a:cubicBezTo>
                  <a:pt x="70" y="949"/>
                  <a:pt x="65" y="951"/>
                  <a:pt x="64" y="954"/>
                </a:cubicBezTo>
                <a:cubicBezTo>
                  <a:pt x="67" y="954"/>
                  <a:pt x="71" y="955"/>
                  <a:pt x="72" y="952"/>
                </a:cubicBezTo>
                <a:close/>
                <a:moveTo>
                  <a:pt x="1136" y="954"/>
                </a:moveTo>
                <a:cubicBezTo>
                  <a:pt x="1139" y="955"/>
                  <a:pt x="1141" y="954"/>
                  <a:pt x="1140" y="951"/>
                </a:cubicBezTo>
                <a:cubicBezTo>
                  <a:pt x="1137" y="951"/>
                  <a:pt x="1137" y="951"/>
                  <a:pt x="1137" y="951"/>
                </a:cubicBezTo>
                <a:cubicBezTo>
                  <a:pt x="1138" y="952"/>
                  <a:pt x="1136" y="953"/>
                  <a:pt x="1136" y="954"/>
                </a:cubicBezTo>
                <a:close/>
                <a:moveTo>
                  <a:pt x="90" y="958"/>
                </a:moveTo>
                <a:cubicBezTo>
                  <a:pt x="89" y="960"/>
                  <a:pt x="87" y="960"/>
                  <a:pt x="87" y="962"/>
                </a:cubicBezTo>
                <a:cubicBezTo>
                  <a:pt x="91" y="962"/>
                  <a:pt x="91" y="962"/>
                  <a:pt x="91" y="962"/>
                </a:cubicBezTo>
                <a:cubicBezTo>
                  <a:pt x="91" y="960"/>
                  <a:pt x="91" y="958"/>
                  <a:pt x="90" y="958"/>
                </a:cubicBezTo>
                <a:close/>
                <a:moveTo>
                  <a:pt x="130" y="964"/>
                </a:moveTo>
                <a:cubicBezTo>
                  <a:pt x="134" y="965"/>
                  <a:pt x="135" y="959"/>
                  <a:pt x="133" y="958"/>
                </a:cubicBezTo>
                <a:cubicBezTo>
                  <a:pt x="132" y="959"/>
                  <a:pt x="128" y="961"/>
                  <a:pt x="130" y="964"/>
                </a:cubicBezTo>
                <a:close/>
                <a:moveTo>
                  <a:pt x="236" y="965"/>
                </a:moveTo>
                <a:cubicBezTo>
                  <a:pt x="236" y="967"/>
                  <a:pt x="236" y="968"/>
                  <a:pt x="237" y="969"/>
                </a:cubicBezTo>
                <a:cubicBezTo>
                  <a:pt x="243" y="967"/>
                  <a:pt x="247" y="971"/>
                  <a:pt x="248" y="975"/>
                </a:cubicBezTo>
                <a:cubicBezTo>
                  <a:pt x="248" y="967"/>
                  <a:pt x="247" y="967"/>
                  <a:pt x="247" y="960"/>
                </a:cubicBezTo>
                <a:cubicBezTo>
                  <a:pt x="242" y="960"/>
                  <a:pt x="240" y="963"/>
                  <a:pt x="236" y="965"/>
                </a:cubicBezTo>
                <a:close/>
                <a:moveTo>
                  <a:pt x="171" y="965"/>
                </a:moveTo>
                <a:cubicBezTo>
                  <a:pt x="167" y="965"/>
                  <a:pt x="167" y="968"/>
                  <a:pt x="164" y="969"/>
                </a:cubicBezTo>
                <a:cubicBezTo>
                  <a:pt x="168" y="969"/>
                  <a:pt x="170" y="968"/>
                  <a:pt x="171" y="965"/>
                </a:cubicBezTo>
                <a:close/>
                <a:moveTo>
                  <a:pt x="1060" y="970"/>
                </a:moveTo>
                <a:cubicBezTo>
                  <a:pt x="1064" y="970"/>
                  <a:pt x="1066" y="969"/>
                  <a:pt x="1067" y="966"/>
                </a:cubicBezTo>
                <a:cubicBezTo>
                  <a:pt x="1064" y="967"/>
                  <a:pt x="1061" y="967"/>
                  <a:pt x="1060" y="970"/>
                </a:cubicBezTo>
                <a:close/>
                <a:moveTo>
                  <a:pt x="187" y="977"/>
                </a:moveTo>
                <a:cubicBezTo>
                  <a:pt x="187" y="978"/>
                  <a:pt x="188" y="981"/>
                  <a:pt x="186" y="981"/>
                </a:cubicBezTo>
                <a:cubicBezTo>
                  <a:pt x="182" y="981"/>
                  <a:pt x="178" y="982"/>
                  <a:pt x="176" y="985"/>
                </a:cubicBezTo>
                <a:cubicBezTo>
                  <a:pt x="173" y="986"/>
                  <a:pt x="175" y="982"/>
                  <a:pt x="172" y="983"/>
                </a:cubicBezTo>
                <a:cubicBezTo>
                  <a:pt x="166" y="985"/>
                  <a:pt x="164" y="989"/>
                  <a:pt x="161" y="992"/>
                </a:cubicBezTo>
                <a:cubicBezTo>
                  <a:pt x="156" y="997"/>
                  <a:pt x="149" y="999"/>
                  <a:pt x="145" y="1001"/>
                </a:cubicBezTo>
                <a:cubicBezTo>
                  <a:pt x="159" y="1005"/>
                  <a:pt x="173" y="992"/>
                  <a:pt x="179" y="985"/>
                </a:cubicBezTo>
                <a:cubicBezTo>
                  <a:pt x="191" y="984"/>
                  <a:pt x="196" y="977"/>
                  <a:pt x="204" y="972"/>
                </a:cubicBezTo>
                <a:cubicBezTo>
                  <a:pt x="196" y="971"/>
                  <a:pt x="193" y="975"/>
                  <a:pt x="187" y="977"/>
                </a:cubicBezTo>
                <a:close/>
                <a:moveTo>
                  <a:pt x="1174" y="972"/>
                </a:moveTo>
                <a:cubicBezTo>
                  <a:pt x="1175" y="975"/>
                  <a:pt x="1171" y="974"/>
                  <a:pt x="1172" y="977"/>
                </a:cubicBezTo>
                <a:cubicBezTo>
                  <a:pt x="1175" y="977"/>
                  <a:pt x="1177" y="973"/>
                  <a:pt x="1174" y="972"/>
                </a:cubicBezTo>
                <a:close/>
                <a:moveTo>
                  <a:pt x="1190" y="976"/>
                </a:moveTo>
                <a:cubicBezTo>
                  <a:pt x="1185" y="977"/>
                  <a:pt x="1178" y="975"/>
                  <a:pt x="1177" y="980"/>
                </a:cubicBezTo>
                <a:cubicBezTo>
                  <a:pt x="1183" y="977"/>
                  <a:pt x="1187" y="984"/>
                  <a:pt x="1190" y="980"/>
                </a:cubicBezTo>
                <a:cubicBezTo>
                  <a:pt x="1185" y="980"/>
                  <a:pt x="1188" y="977"/>
                  <a:pt x="1190" y="976"/>
                </a:cubicBezTo>
                <a:close/>
                <a:moveTo>
                  <a:pt x="989" y="985"/>
                </a:moveTo>
                <a:cubicBezTo>
                  <a:pt x="991" y="985"/>
                  <a:pt x="991" y="986"/>
                  <a:pt x="991" y="988"/>
                </a:cubicBezTo>
                <a:cubicBezTo>
                  <a:pt x="995" y="986"/>
                  <a:pt x="997" y="983"/>
                  <a:pt x="999" y="979"/>
                </a:cubicBezTo>
                <a:cubicBezTo>
                  <a:pt x="994" y="980"/>
                  <a:pt x="991" y="982"/>
                  <a:pt x="989" y="985"/>
                </a:cubicBezTo>
                <a:close/>
                <a:moveTo>
                  <a:pt x="207" y="982"/>
                </a:moveTo>
                <a:cubicBezTo>
                  <a:pt x="210" y="985"/>
                  <a:pt x="216" y="983"/>
                  <a:pt x="219" y="982"/>
                </a:cubicBezTo>
                <a:cubicBezTo>
                  <a:pt x="217" y="981"/>
                  <a:pt x="211" y="979"/>
                  <a:pt x="207" y="982"/>
                </a:cubicBezTo>
                <a:close/>
                <a:moveTo>
                  <a:pt x="4" y="982"/>
                </a:moveTo>
                <a:cubicBezTo>
                  <a:pt x="2" y="983"/>
                  <a:pt x="1" y="985"/>
                  <a:pt x="0" y="988"/>
                </a:cubicBezTo>
                <a:cubicBezTo>
                  <a:pt x="4" y="987"/>
                  <a:pt x="6" y="990"/>
                  <a:pt x="9" y="991"/>
                </a:cubicBezTo>
                <a:cubicBezTo>
                  <a:pt x="9" y="987"/>
                  <a:pt x="15" y="989"/>
                  <a:pt x="14" y="985"/>
                </a:cubicBezTo>
                <a:cubicBezTo>
                  <a:pt x="9" y="987"/>
                  <a:pt x="8" y="984"/>
                  <a:pt x="4" y="982"/>
                </a:cubicBezTo>
                <a:close/>
                <a:moveTo>
                  <a:pt x="1088" y="991"/>
                </a:moveTo>
                <a:cubicBezTo>
                  <a:pt x="1090" y="987"/>
                  <a:pt x="1095" y="986"/>
                  <a:pt x="1099" y="986"/>
                </a:cubicBezTo>
                <a:cubicBezTo>
                  <a:pt x="1098" y="977"/>
                  <a:pt x="1086" y="988"/>
                  <a:pt x="1088" y="991"/>
                </a:cubicBezTo>
                <a:close/>
                <a:moveTo>
                  <a:pt x="1136" y="986"/>
                </a:moveTo>
                <a:cubicBezTo>
                  <a:pt x="1138" y="986"/>
                  <a:pt x="1138" y="987"/>
                  <a:pt x="1139" y="988"/>
                </a:cubicBezTo>
                <a:cubicBezTo>
                  <a:pt x="1138" y="985"/>
                  <a:pt x="1142" y="987"/>
                  <a:pt x="1141" y="984"/>
                </a:cubicBezTo>
                <a:cubicBezTo>
                  <a:pt x="1139" y="984"/>
                  <a:pt x="1137" y="985"/>
                  <a:pt x="1136" y="986"/>
                </a:cubicBezTo>
                <a:close/>
                <a:moveTo>
                  <a:pt x="1151" y="990"/>
                </a:moveTo>
                <a:cubicBezTo>
                  <a:pt x="1152" y="990"/>
                  <a:pt x="1153" y="991"/>
                  <a:pt x="1154" y="991"/>
                </a:cubicBezTo>
                <a:cubicBezTo>
                  <a:pt x="1153" y="998"/>
                  <a:pt x="1147" y="992"/>
                  <a:pt x="1146" y="995"/>
                </a:cubicBezTo>
                <a:cubicBezTo>
                  <a:pt x="1150" y="996"/>
                  <a:pt x="1151" y="999"/>
                  <a:pt x="1154" y="1000"/>
                </a:cubicBezTo>
                <a:cubicBezTo>
                  <a:pt x="1152" y="997"/>
                  <a:pt x="1153" y="993"/>
                  <a:pt x="1157" y="992"/>
                </a:cubicBezTo>
                <a:cubicBezTo>
                  <a:pt x="1156" y="991"/>
                  <a:pt x="1156" y="989"/>
                  <a:pt x="1155" y="988"/>
                </a:cubicBezTo>
                <a:cubicBezTo>
                  <a:pt x="1155" y="990"/>
                  <a:pt x="1150" y="987"/>
                  <a:pt x="1151" y="990"/>
                </a:cubicBezTo>
                <a:close/>
                <a:moveTo>
                  <a:pt x="845" y="991"/>
                </a:moveTo>
                <a:cubicBezTo>
                  <a:pt x="842" y="993"/>
                  <a:pt x="834" y="994"/>
                  <a:pt x="836" y="998"/>
                </a:cubicBezTo>
                <a:cubicBezTo>
                  <a:pt x="839" y="996"/>
                  <a:pt x="843" y="995"/>
                  <a:pt x="845" y="991"/>
                </a:cubicBezTo>
                <a:close/>
                <a:moveTo>
                  <a:pt x="996" y="992"/>
                </a:moveTo>
                <a:cubicBezTo>
                  <a:pt x="994" y="993"/>
                  <a:pt x="992" y="994"/>
                  <a:pt x="991" y="995"/>
                </a:cubicBezTo>
                <a:cubicBezTo>
                  <a:pt x="994" y="995"/>
                  <a:pt x="996" y="995"/>
                  <a:pt x="996" y="992"/>
                </a:cubicBezTo>
                <a:close/>
                <a:moveTo>
                  <a:pt x="1031" y="997"/>
                </a:moveTo>
                <a:cubicBezTo>
                  <a:pt x="1031" y="995"/>
                  <a:pt x="1034" y="996"/>
                  <a:pt x="1035" y="994"/>
                </a:cubicBezTo>
                <a:cubicBezTo>
                  <a:pt x="1033" y="992"/>
                  <a:pt x="1028" y="996"/>
                  <a:pt x="1031" y="997"/>
                </a:cubicBezTo>
                <a:close/>
                <a:moveTo>
                  <a:pt x="856" y="1002"/>
                </a:moveTo>
                <a:cubicBezTo>
                  <a:pt x="861" y="1004"/>
                  <a:pt x="865" y="997"/>
                  <a:pt x="869" y="995"/>
                </a:cubicBezTo>
                <a:cubicBezTo>
                  <a:pt x="865" y="998"/>
                  <a:pt x="858" y="994"/>
                  <a:pt x="854" y="1000"/>
                </a:cubicBezTo>
                <a:cubicBezTo>
                  <a:pt x="856" y="1001"/>
                  <a:pt x="858" y="997"/>
                  <a:pt x="859" y="999"/>
                </a:cubicBezTo>
                <a:cubicBezTo>
                  <a:pt x="858" y="999"/>
                  <a:pt x="857" y="1000"/>
                  <a:pt x="856" y="1002"/>
                </a:cubicBezTo>
                <a:close/>
                <a:moveTo>
                  <a:pt x="882" y="994"/>
                </a:moveTo>
                <a:cubicBezTo>
                  <a:pt x="880" y="996"/>
                  <a:pt x="873" y="997"/>
                  <a:pt x="876" y="1001"/>
                </a:cubicBezTo>
                <a:cubicBezTo>
                  <a:pt x="880" y="1001"/>
                  <a:pt x="884" y="997"/>
                  <a:pt x="882" y="994"/>
                </a:cubicBezTo>
                <a:close/>
                <a:moveTo>
                  <a:pt x="327" y="1005"/>
                </a:moveTo>
                <a:cubicBezTo>
                  <a:pt x="328" y="1004"/>
                  <a:pt x="332" y="1005"/>
                  <a:pt x="331" y="1002"/>
                </a:cubicBezTo>
                <a:cubicBezTo>
                  <a:pt x="329" y="1002"/>
                  <a:pt x="325" y="1004"/>
                  <a:pt x="327" y="1005"/>
                </a:cubicBezTo>
                <a:close/>
                <a:moveTo>
                  <a:pt x="126" y="1017"/>
                </a:moveTo>
                <a:cubicBezTo>
                  <a:pt x="133" y="1015"/>
                  <a:pt x="141" y="1013"/>
                  <a:pt x="143" y="1006"/>
                </a:cubicBezTo>
                <a:cubicBezTo>
                  <a:pt x="136" y="1000"/>
                  <a:pt x="127" y="1008"/>
                  <a:pt x="126" y="1017"/>
                </a:cubicBezTo>
                <a:close/>
                <a:moveTo>
                  <a:pt x="825" y="1024"/>
                </a:moveTo>
                <a:cubicBezTo>
                  <a:pt x="837" y="1021"/>
                  <a:pt x="845" y="1013"/>
                  <a:pt x="852" y="1005"/>
                </a:cubicBezTo>
                <a:cubicBezTo>
                  <a:pt x="840" y="1006"/>
                  <a:pt x="834" y="1017"/>
                  <a:pt x="825" y="1018"/>
                </a:cubicBezTo>
                <a:cubicBezTo>
                  <a:pt x="827" y="1021"/>
                  <a:pt x="822" y="1022"/>
                  <a:pt x="825" y="1024"/>
                </a:cubicBezTo>
                <a:close/>
                <a:moveTo>
                  <a:pt x="834" y="1010"/>
                </a:moveTo>
                <a:cubicBezTo>
                  <a:pt x="836" y="1007"/>
                  <a:pt x="840" y="1009"/>
                  <a:pt x="840" y="1006"/>
                </a:cubicBezTo>
                <a:cubicBezTo>
                  <a:pt x="838" y="1004"/>
                  <a:pt x="830" y="1007"/>
                  <a:pt x="834" y="1010"/>
                </a:cubicBezTo>
                <a:close/>
                <a:moveTo>
                  <a:pt x="828" y="1006"/>
                </a:moveTo>
                <a:cubicBezTo>
                  <a:pt x="828" y="1009"/>
                  <a:pt x="824" y="1008"/>
                  <a:pt x="824" y="1011"/>
                </a:cubicBezTo>
                <a:cubicBezTo>
                  <a:pt x="827" y="1012"/>
                  <a:pt x="830" y="1012"/>
                  <a:pt x="832" y="1011"/>
                </a:cubicBezTo>
                <a:cubicBezTo>
                  <a:pt x="831" y="1009"/>
                  <a:pt x="830" y="1007"/>
                  <a:pt x="828" y="1006"/>
                </a:cubicBezTo>
                <a:close/>
                <a:moveTo>
                  <a:pt x="985" y="1009"/>
                </a:moveTo>
                <a:cubicBezTo>
                  <a:pt x="977" y="1010"/>
                  <a:pt x="972" y="1015"/>
                  <a:pt x="967" y="1019"/>
                </a:cubicBezTo>
                <a:cubicBezTo>
                  <a:pt x="976" y="1019"/>
                  <a:pt x="982" y="1015"/>
                  <a:pt x="985" y="1009"/>
                </a:cubicBezTo>
                <a:close/>
                <a:moveTo>
                  <a:pt x="1131" y="1012"/>
                </a:moveTo>
                <a:cubicBezTo>
                  <a:pt x="1133" y="1012"/>
                  <a:pt x="1135" y="1011"/>
                  <a:pt x="1136" y="1009"/>
                </a:cubicBezTo>
                <a:cubicBezTo>
                  <a:pt x="1133" y="1009"/>
                  <a:pt x="1131" y="1009"/>
                  <a:pt x="1131" y="1012"/>
                </a:cubicBezTo>
                <a:close/>
                <a:moveTo>
                  <a:pt x="816" y="1013"/>
                </a:moveTo>
                <a:cubicBezTo>
                  <a:pt x="813" y="1013"/>
                  <a:pt x="810" y="1014"/>
                  <a:pt x="808" y="1016"/>
                </a:cubicBezTo>
                <a:cubicBezTo>
                  <a:pt x="811" y="1015"/>
                  <a:pt x="815" y="1015"/>
                  <a:pt x="816" y="1013"/>
                </a:cubicBezTo>
                <a:close/>
                <a:moveTo>
                  <a:pt x="937" y="1026"/>
                </a:moveTo>
                <a:cubicBezTo>
                  <a:pt x="942" y="1026"/>
                  <a:pt x="945" y="1024"/>
                  <a:pt x="948" y="1021"/>
                </a:cubicBezTo>
                <a:cubicBezTo>
                  <a:pt x="947" y="1020"/>
                  <a:pt x="947" y="1017"/>
                  <a:pt x="946" y="1017"/>
                </a:cubicBezTo>
                <a:cubicBezTo>
                  <a:pt x="945" y="1018"/>
                  <a:pt x="942" y="1019"/>
                  <a:pt x="943" y="1016"/>
                </a:cubicBezTo>
                <a:cubicBezTo>
                  <a:pt x="938" y="1018"/>
                  <a:pt x="940" y="1022"/>
                  <a:pt x="937" y="1026"/>
                </a:cubicBezTo>
                <a:close/>
                <a:moveTo>
                  <a:pt x="239" y="1024"/>
                </a:moveTo>
                <a:cubicBezTo>
                  <a:pt x="239" y="1023"/>
                  <a:pt x="244" y="1021"/>
                  <a:pt x="241" y="1019"/>
                </a:cubicBezTo>
                <a:cubicBezTo>
                  <a:pt x="241" y="1021"/>
                  <a:pt x="235" y="1022"/>
                  <a:pt x="239" y="1024"/>
                </a:cubicBezTo>
                <a:close/>
                <a:moveTo>
                  <a:pt x="976" y="1035"/>
                </a:moveTo>
                <a:cubicBezTo>
                  <a:pt x="977" y="1036"/>
                  <a:pt x="983" y="1034"/>
                  <a:pt x="983" y="1030"/>
                </a:cubicBezTo>
                <a:cubicBezTo>
                  <a:pt x="976" y="1034"/>
                  <a:pt x="962" y="1038"/>
                  <a:pt x="956" y="1044"/>
                </a:cubicBezTo>
                <a:cubicBezTo>
                  <a:pt x="965" y="1044"/>
                  <a:pt x="970" y="1039"/>
                  <a:pt x="976" y="1035"/>
                </a:cubicBezTo>
                <a:close/>
                <a:moveTo>
                  <a:pt x="978" y="1043"/>
                </a:moveTo>
                <a:cubicBezTo>
                  <a:pt x="975" y="1043"/>
                  <a:pt x="973" y="1045"/>
                  <a:pt x="972" y="1046"/>
                </a:cubicBezTo>
                <a:cubicBezTo>
                  <a:pt x="974" y="1046"/>
                  <a:pt x="978" y="1046"/>
                  <a:pt x="978" y="1043"/>
                </a:cubicBezTo>
                <a:close/>
                <a:moveTo>
                  <a:pt x="245" y="1049"/>
                </a:moveTo>
                <a:cubicBezTo>
                  <a:pt x="243" y="1053"/>
                  <a:pt x="242" y="1059"/>
                  <a:pt x="240" y="1062"/>
                </a:cubicBezTo>
                <a:cubicBezTo>
                  <a:pt x="248" y="1060"/>
                  <a:pt x="255" y="1056"/>
                  <a:pt x="258" y="1048"/>
                </a:cubicBezTo>
                <a:cubicBezTo>
                  <a:pt x="254" y="1051"/>
                  <a:pt x="250" y="1050"/>
                  <a:pt x="245" y="1049"/>
                </a:cubicBezTo>
                <a:close/>
                <a:moveTo>
                  <a:pt x="921" y="1054"/>
                </a:moveTo>
                <a:cubicBezTo>
                  <a:pt x="923" y="1053"/>
                  <a:pt x="932" y="1052"/>
                  <a:pt x="933" y="1048"/>
                </a:cubicBezTo>
                <a:cubicBezTo>
                  <a:pt x="930" y="1050"/>
                  <a:pt x="923" y="1050"/>
                  <a:pt x="921" y="1054"/>
                </a:cubicBezTo>
                <a:close/>
                <a:moveTo>
                  <a:pt x="926" y="1062"/>
                </a:moveTo>
                <a:cubicBezTo>
                  <a:pt x="928" y="1057"/>
                  <a:pt x="934" y="1057"/>
                  <a:pt x="938" y="1054"/>
                </a:cubicBezTo>
                <a:cubicBezTo>
                  <a:pt x="931" y="1054"/>
                  <a:pt x="925" y="1057"/>
                  <a:pt x="921" y="1060"/>
                </a:cubicBezTo>
                <a:cubicBezTo>
                  <a:pt x="922" y="1061"/>
                  <a:pt x="925" y="1061"/>
                  <a:pt x="926" y="1062"/>
                </a:cubicBezTo>
                <a:close/>
                <a:moveTo>
                  <a:pt x="768" y="1057"/>
                </a:moveTo>
                <a:cubicBezTo>
                  <a:pt x="762" y="1054"/>
                  <a:pt x="760" y="1062"/>
                  <a:pt x="755" y="1060"/>
                </a:cubicBezTo>
                <a:cubicBezTo>
                  <a:pt x="755" y="1063"/>
                  <a:pt x="757" y="1063"/>
                  <a:pt x="758" y="1064"/>
                </a:cubicBezTo>
                <a:cubicBezTo>
                  <a:pt x="761" y="1060"/>
                  <a:pt x="766" y="1061"/>
                  <a:pt x="768" y="1057"/>
                </a:cubicBezTo>
                <a:close/>
                <a:moveTo>
                  <a:pt x="718" y="1059"/>
                </a:moveTo>
                <a:cubicBezTo>
                  <a:pt x="715" y="1059"/>
                  <a:pt x="713" y="1060"/>
                  <a:pt x="712" y="1062"/>
                </a:cubicBezTo>
                <a:cubicBezTo>
                  <a:pt x="713" y="1062"/>
                  <a:pt x="713" y="1063"/>
                  <a:pt x="712" y="1064"/>
                </a:cubicBezTo>
                <a:cubicBezTo>
                  <a:pt x="715" y="1063"/>
                  <a:pt x="718" y="1062"/>
                  <a:pt x="718" y="1059"/>
                </a:cubicBezTo>
                <a:close/>
                <a:moveTo>
                  <a:pt x="906" y="1070"/>
                </a:moveTo>
                <a:cubicBezTo>
                  <a:pt x="911" y="1069"/>
                  <a:pt x="915" y="1067"/>
                  <a:pt x="919" y="1064"/>
                </a:cubicBezTo>
                <a:cubicBezTo>
                  <a:pt x="919" y="1064"/>
                  <a:pt x="918" y="1063"/>
                  <a:pt x="918" y="1062"/>
                </a:cubicBezTo>
                <a:cubicBezTo>
                  <a:pt x="914" y="1065"/>
                  <a:pt x="906" y="1064"/>
                  <a:pt x="906" y="1070"/>
                </a:cubicBezTo>
                <a:close/>
                <a:moveTo>
                  <a:pt x="524" y="1069"/>
                </a:moveTo>
                <a:cubicBezTo>
                  <a:pt x="524" y="1066"/>
                  <a:pt x="526" y="1066"/>
                  <a:pt x="526" y="1063"/>
                </a:cubicBezTo>
                <a:cubicBezTo>
                  <a:pt x="523" y="1062"/>
                  <a:pt x="523" y="1065"/>
                  <a:pt x="522" y="1063"/>
                </a:cubicBezTo>
                <a:cubicBezTo>
                  <a:pt x="522" y="1069"/>
                  <a:pt x="515" y="1064"/>
                  <a:pt x="515" y="1068"/>
                </a:cubicBezTo>
                <a:cubicBezTo>
                  <a:pt x="516" y="1070"/>
                  <a:pt x="521" y="1068"/>
                  <a:pt x="524" y="1069"/>
                </a:cubicBezTo>
                <a:close/>
                <a:moveTo>
                  <a:pt x="678" y="1074"/>
                </a:moveTo>
                <a:cubicBezTo>
                  <a:pt x="691" y="1077"/>
                  <a:pt x="702" y="1069"/>
                  <a:pt x="710" y="1063"/>
                </a:cubicBezTo>
                <a:cubicBezTo>
                  <a:pt x="699" y="1065"/>
                  <a:pt x="688" y="1067"/>
                  <a:pt x="682" y="1073"/>
                </a:cubicBezTo>
                <a:cubicBezTo>
                  <a:pt x="682" y="1072"/>
                  <a:pt x="682" y="1071"/>
                  <a:pt x="681" y="1070"/>
                </a:cubicBezTo>
                <a:cubicBezTo>
                  <a:pt x="682" y="1074"/>
                  <a:pt x="677" y="1071"/>
                  <a:pt x="678" y="1074"/>
                </a:cubicBezTo>
                <a:close/>
                <a:moveTo>
                  <a:pt x="747" y="1066"/>
                </a:moveTo>
                <a:cubicBezTo>
                  <a:pt x="736" y="1067"/>
                  <a:pt x="724" y="1073"/>
                  <a:pt x="716" y="1078"/>
                </a:cubicBezTo>
                <a:cubicBezTo>
                  <a:pt x="727" y="1080"/>
                  <a:pt x="733" y="1070"/>
                  <a:pt x="744" y="1070"/>
                </a:cubicBezTo>
                <a:cubicBezTo>
                  <a:pt x="743" y="1067"/>
                  <a:pt x="746" y="1067"/>
                  <a:pt x="747" y="1066"/>
                </a:cubicBezTo>
                <a:close/>
                <a:moveTo>
                  <a:pt x="1029" y="1088"/>
                </a:moveTo>
                <a:cubicBezTo>
                  <a:pt x="1035" y="1088"/>
                  <a:pt x="1051" y="1081"/>
                  <a:pt x="1048" y="1075"/>
                </a:cubicBezTo>
                <a:cubicBezTo>
                  <a:pt x="1043" y="1080"/>
                  <a:pt x="1034" y="1083"/>
                  <a:pt x="1029" y="1088"/>
                </a:cubicBezTo>
                <a:close/>
                <a:moveTo>
                  <a:pt x="402" y="1084"/>
                </a:moveTo>
                <a:cubicBezTo>
                  <a:pt x="402" y="1086"/>
                  <a:pt x="399" y="1085"/>
                  <a:pt x="399" y="1086"/>
                </a:cubicBezTo>
                <a:cubicBezTo>
                  <a:pt x="402" y="1085"/>
                  <a:pt x="399" y="1089"/>
                  <a:pt x="402" y="1089"/>
                </a:cubicBezTo>
                <a:cubicBezTo>
                  <a:pt x="403" y="1088"/>
                  <a:pt x="405" y="1085"/>
                  <a:pt x="402" y="1084"/>
                </a:cubicBezTo>
                <a:close/>
                <a:moveTo>
                  <a:pt x="710" y="1088"/>
                </a:moveTo>
                <a:cubicBezTo>
                  <a:pt x="708" y="1090"/>
                  <a:pt x="702" y="1089"/>
                  <a:pt x="702" y="1093"/>
                </a:cubicBezTo>
                <a:cubicBezTo>
                  <a:pt x="704" y="1094"/>
                  <a:pt x="707" y="1094"/>
                  <a:pt x="711" y="1094"/>
                </a:cubicBezTo>
                <a:cubicBezTo>
                  <a:pt x="712" y="1092"/>
                  <a:pt x="713" y="1089"/>
                  <a:pt x="710" y="1088"/>
                </a:cubicBezTo>
                <a:close/>
                <a:moveTo>
                  <a:pt x="710" y="1097"/>
                </a:moveTo>
                <a:cubicBezTo>
                  <a:pt x="712" y="1098"/>
                  <a:pt x="715" y="1096"/>
                  <a:pt x="714" y="1099"/>
                </a:cubicBezTo>
                <a:cubicBezTo>
                  <a:pt x="709" y="1100"/>
                  <a:pt x="709" y="1101"/>
                  <a:pt x="709" y="1105"/>
                </a:cubicBezTo>
                <a:cubicBezTo>
                  <a:pt x="711" y="1105"/>
                  <a:pt x="713" y="1105"/>
                  <a:pt x="714" y="1107"/>
                </a:cubicBezTo>
                <a:cubicBezTo>
                  <a:pt x="711" y="1108"/>
                  <a:pt x="710" y="1107"/>
                  <a:pt x="710" y="1109"/>
                </a:cubicBezTo>
                <a:cubicBezTo>
                  <a:pt x="715" y="1109"/>
                  <a:pt x="718" y="1106"/>
                  <a:pt x="721" y="1104"/>
                </a:cubicBezTo>
                <a:cubicBezTo>
                  <a:pt x="718" y="1103"/>
                  <a:pt x="716" y="1107"/>
                  <a:pt x="714" y="1104"/>
                </a:cubicBezTo>
                <a:cubicBezTo>
                  <a:pt x="717" y="1103"/>
                  <a:pt x="722" y="1099"/>
                  <a:pt x="725" y="1101"/>
                </a:cubicBezTo>
                <a:cubicBezTo>
                  <a:pt x="725" y="1103"/>
                  <a:pt x="722" y="1102"/>
                  <a:pt x="722" y="1104"/>
                </a:cubicBezTo>
                <a:cubicBezTo>
                  <a:pt x="725" y="1106"/>
                  <a:pt x="729" y="1104"/>
                  <a:pt x="731" y="1102"/>
                </a:cubicBezTo>
                <a:cubicBezTo>
                  <a:pt x="728" y="1102"/>
                  <a:pt x="726" y="1099"/>
                  <a:pt x="728" y="1097"/>
                </a:cubicBezTo>
                <a:cubicBezTo>
                  <a:pt x="726" y="1097"/>
                  <a:pt x="724" y="1098"/>
                  <a:pt x="724" y="1096"/>
                </a:cubicBezTo>
                <a:cubicBezTo>
                  <a:pt x="724" y="1094"/>
                  <a:pt x="727" y="1095"/>
                  <a:pt x="727" y="1094"/>
                </a:cubicBezTo>
                <a:cubicBezTo>
                  <a:pt x="725" y="1092"/>
                  <a:pt x="723" y="1090"/>
                  <a:pt x="721" y="1089"/>
                </a:cubicBezTo>
                <a:cubicBezTo>
                  <a:pt x="720" y="1095"/>
                  <a:pt x="712" y="1092"/>
                  <a:pt x="710" y="1097"/>
                </a:cubicBezTo>
                <a:close/>
                <a:moveTo>
                  <a:pt x="939" y="1102"/>
                </a:moveTo>
                <a:cubicBezTo>
                  <a:pt x="932" y="1106"/>
                  <a:pt x="924" y="1109"/>
                  <a:pt x="917" y="1113"/>
                </a:cubicBezTo>
                <a:cubicBezTo>
                  <a:pt x="928" y="1113"/>
                  <a:pt x="933" y="1105"/>
                  <a:pt x="940" y="1105"/>
                </a:cubicBezTo>
                <a:cubicBezTo>
                  <a:pt x="940" y="1104"/>
                  <a:pt x="941" y="1102"/>
                  <a:pt x="939" y="1102"/>
                </a:cubicBezTo>
                <a:close/>
                <a:moveTo>
                  <a:pt x="625" y="1108"/>
                </a:moveTo>
                <a:cubicBezTo>
                  <a:pt x="629" y="1107"/>
                  <a:pt x="634" y="1107"/>
                  <a:pt x="635" y="1104"/>
                </a:cubicBezTo>
                <a:cubicBezTo>
                  <a:pt x="631" y="1105"/>
                  <a:pt x="628" y="1105"/>
                  <a:pt x="625" y="1108"/>
                </a:cubicBezTo>
                <a:close/>
                <a:moveTo>
                  <a:pt x="682" y="1117"/>
                </a:moveTo>
                <a:cubicBezTo>
                  <a:pt x="685" y="1117"/>
                  <a:pt x="695" y="1117"/>
                  <a:pt x="697" y="1113"/>
                </a:cubicBezTo>
                <a:cubicBezTo>
                  <a:pt x="693" y="1112"/>
                  <a:pt x="692" y="1113"/>
                  <a:pt x="688" y="1113"/>
                </a:cubicBezTo>
                <a:cubicBezTo>
                  <a:pt x="684" y="1110"/>
                  <a:pt x="689" y="1110"/>
                  <a:pt x="689" y="1108"/>
                </a:cubicBezTo>
                <a:cubicBezTo>
                  <a:pt x="682" y="1108"/>
                  <a:pt x="687" y="1111"/>
                  <a:pt x="682" y="1113"/>
                </a:cubicBezTo>
                <a:cubicBezTo>
                  <a:pt x="686" y="1115"/>
                  <a:pt x="683" y="1115"/>
                  <a:pt x="682" y="1117"/>
                </a:cubicBezTo>
                <a:close/>
                <a:moveTo>
                  <a:pt x="561" y="1110"/>
                </a:moveTo>
                <a:cubicBezTo>
                  <a:pt x="558" y="1112"/>
                  <a:pt x="550" y="1108"/>
                  <a:pt x="547" y="1112"/>
                </a:cubicBezTo>
                <a:cubicBezTo>
                  <a:pt x="551" y="1114"/>
                  <a:pt x="560" y="1114"/>
                  <a:pt x="561" y="1110"/>
                </a:cubicBezTo>
                <a:close/>
                <a:moveTo>
                  <a:pt x="870" y="1113"/>
                </a:moveTo>
                <a:cubicBezTo>
                  <a:pt x="867" y="1113"/>
                  <a:pt x="866" y="1115"/>
                  <a:pt x="863" y="1115"/>
                </a:cubicBezTo>
                <a:cubicBezTo>
                  <a:pt x="865" y="1119"/>
                  <a:pt x="863" y="1120"/>
                  <a:pt x="862" y="1122"/>
                </a:cubicBezTo>
                <a:cubicBezTo>
                  <a:pt x="871" y="1122"/>
                  <a:pt x="869" y="1120"/>
                  <a:pt x="870" y="1113"/>
                </a:cubicBezTo>
                <a:close/>
                <a:moveTo>
                  <a:pt x="809" y="1121"/>
                </a:moveTo>
                <a:cubicBezTo>
                  <a:pt x="806" y="1121"/>
                  <a:pt x="802" y="1120"/>
                  <a:pt x="801" y="1123"/>
                </a:cubicBezTo>
                <a:cubicBezTo>
                  <a:pt x="804" y="1123"/>
                  <a:pt x="807" y="1122"/>
                  <a:pt x="809" y="1121"/>
                </a:cubicBezTo>
                <a:close/>
                <a:moveTo>
                  <a:pt x="742" y="1145"/>
                </a:moveTo>
                <a:cubicBezTo>
                  <a:pt x="746" y="1144"/>
                  <a:pt x="748" y="1141"/>
                  <a:pt x="749" y="1137"/>
                </a:cubicBezTo>
                <a:cubicBezTo>
                  <a:pt x="745" y="1140"/>
                  <a:pt x="743" y="1140"/>
                  <a:pt x="742" y="1145"/>
                </a:cubicBezTo>
                <a:close/>
                <a:moveTo>
                  <a:pt x="571" y="1138"/>
                </a:moveTo>
                <a:cubicBezTo>
                  <a:pt x="568" y="1141"/>
                  <a:pt x="562" y="1142"/>
                  <a:pt x="559" y="1145"/>
                </a:cubicBezTo>
                <a:cubicBezTo>
                  <a:pt x="564" y="1147"/>
                  <a:pt x="569" y="1142"/>
                  <a:pt x="571" y="1138"/>
                </a:cubicBezTo>
                <a:close/>
                <a:moveTo>
                  <a:pt x="611" y="1147"/>
                </a:moveTo>
                <a:cubicBezTo>
                  <a:pt x="609" y="1143"/>
                  <a:pt x="603" y="1146"/>
                  <a:pt x="602" y="1148"/>
                </a:cubicBezTo>
                <a:cubicBezTo>
                  <a:pt x="606" y="1148"/>
                  <a:pt x="610" y="1149"/>
                  <a:pt x="611" y="1147"/>
                </a:cubicBezTo>
                <a:close/>
                <a:moveTo>
                  <a:pt x="634" y="1152"/>
                </a:moveTo>
                <a:cubicBezTo>
                  <a:pt x="638" y="1153"/>
                  <a:pt x="644" y="1149"/>
                  <a:pt x="649" y="1148"/>
                </a:cubicBezTo>
                <a:cubicBezTo>
                  <a:pt x="644" y="1148"/>
                  <a:pt x="637" y="1148"/>
                  <a:pt x="634" y="1152"/>
                </a:cubicBezTo>
                <a:close/>
                <a:moveTo>
                  <a:pt x="695" y="1156"/>
                </a:moveTo>
                <a:cubicBezTo>
                  <a:pt x="689" y="1154"/>
                  <a:pt x="686" y="1160"/>
                  <a:pt x="681" y="1161"/>
                </a:cubicBezTo>
                <a:cubicBezTo>
                  <a:pt x="681" y="1161"/>
                  <a:pt x="680" y="1159"/>
                  <a:pt x="678" y="1160"/>
                </a:cubicBezTo>
                <a:cubicBezTo>
                  <a:pt x="674" y="1160"/>
                  <a:pt x="669" y="1166"/>
                  <a:pt x="662" y="1165"/>
                </a:cubicBezTo>
                <a:cubicBezTo>
                  <a:pt x="667" y="1171"/>
                  <a:pt x="677" y="1165"/>
                  <a:pt x="686" y="1162"/>
                </a:cubicBezTo>
                <a:cubicBezTo>
                  <a:pt x="693" y="1160"/>
                  <a:pt x="701" y="1159"/>
                  <a:pt x="708" y="1157"/>
                </a:cubicBezTo>
                <a:cubicBezTo>
                  <a:pt x="706" y="1151"/>
                  <a:pt x="697" y="1151"/>
                  <a:pt x="695" y="1156"/>
                </a:cubicBezTo>
                <a:close/>
                <a:moveTo>
                  <a:pt x="557" y="1166"/>
                </a:moveTo>
                <a:cubicBezTo>
                  <a:pt x="557" y="1170"/>
                  <a:pt x="558" y="1171"/>
                  <a:pt x="559" y="1174"/>
                </a:cubicBezTo>
                <a:cubicBezTo>
                  <a:pt x="571" y="1173"/>
                  <a:pt x="577" y="1170"/>
                  <a:pt x="582" y="1160"/>
                </a:cubicBezTo>
                <a:cubicBezTo>
                  <a:pt x="572" y="1156"/>
                  <a:pt x="566" y="1165"/>
                  <a:pt x="557" y="1166"/>
                </a:cubicBezTo>
                <a:close/>
                <a:moveTo>
                  <a:pt x="605" y="1161"/>
                </a:moveTo>
                <a:cubicBezTo>
                  <a:pt x="607" y="1163"/>
                  <a:pt x="614" y="1162"/>
                  <a:pt x="615" y="1160"/>
                </a:cubicBezTo>
                <a:cubicBezTo>
                  <a:pt x="612" y="1161"/>
                  <a:pt x="605" y="1158"/>
                  <a:pt x="605" y="1161"/>
                </a:cubicBezTo>
                <a:close/>
                <a:moveTo>
                  <a:pt x="606" y="1170"/>
                </a:moveTo>
                <a:cubicBezTo>
                  <a:pt x="606" y="1168"/>
                  <a:pt x="604" y="1167"/>
                  <a:pt x="605" y="1164"/>
                </a:cubicBezTo>
                <a:cubicBezTo>
                  <a:pt x="601" y="1165"/>
                  <a:pt x="602" y="1162"/>
                  <a:pt x="599" y="1162"/>
                </a:cubicBezTo>
                <a:cubicBezTo>
                  <a:pt x="599" y="1164"/>
                  <a:pt x="599" y="1164"/>
                  <a:pt x="599" y="1164"/>
                </a:cubicBezTo>
                <a:cubicBezTo>
                  <a:pt x="598" y="1164"/>
                  <a:pt x="598" y="1164"/>
                  <a:pt x="598" y="1165"/>
                </a:cubicBezTo>
                <a:cubicBezTo>
                  <a:pt x="601" y="1165"/>
                  <a:pt x="604" y="1165"/>
                  <a:pt x="604" y="1168"/>
                </a:cubicBezTo>
                <a:cubicBezTo>
                  <a:pt x="601" y="1168"/>
                  <a:pt x="598" y="1169"/>
                  <a:pt x="595" y="1171"/>
                </a:cubicBezTo>
                <a:cubicBezTo>
                  <a:pt x="599" y="1174"/>
                  <a:pt x="602" y="1170"/>
                  <a:pt x="606" y="1170"/>
                </a:cubicBezTo>
                <a:close/>
                <a:moveTo>
                  <a:pt x="811" y="1194"/>
                </a:moveTo>
                <a:cubicBezTo>
                  <a:pt x="821" y="1191"/>
                  <a:pt x="837" y="1185"/>
                  <a:pt x="847" y="1179"/>
                </a:cubicBezTo>
                <a:cubicBezTo>
                  <a:pt x="838" y="1180"/>
                  <a:pt x="830" y="1185"/>
                  <a:pt x="822" y="1188"/>
                </a:cubicBezTo>
                <a:cubicBezTo>
                  <a:pt x="819" y="1189"/>
                  <a:pt x="811" y="1188"/>
                  <a:pt x="811" y="1194"/>
                </a:cubicBezTo>
                <a:close/>
                <a:moveTo>
                  <a:pt x="569" y="1181"/>
                </a:moveTo>
                <a:cubicBezTo>
                  <a:pt x="567" y="1182"/>
                  <a:pt x="563" y="1182"/>
                  <a:pt x="563" y="1185"/>
                </a:cubicBezTo>
                <a:cubicBezTo>
                  <a:pt x="566" y="1184"/>
                  <a:pt x="574" y="1187"/>
                  <a:pt x="577" y="1184"/>
                </a:cubicBezTo>
                <a:cubicBezTo>
                  <a:pt x="574" y="1183"/>
                  <a:pt x="568" y="1186"/>
                  <a:pt x="569" y="1181"/>
                </a:cubicBezTo>
                <a:close/>
                <a:moveTo>
                  <a:pt x="596" y="1188"/>
                </a:moveTo>
                <a:cubicBezTo>
                  <a:pt x="598" y="1188"/>
                  <a:pt x="599" y="1189"/>
                  <a:pt x="599" y="1191"/>
                </a:cubicBezTo>
                <a:cubicBezTo>
                  <a:pt x="604" y="1191"/>
                  <a:pt x="609" y="1191"/>
                  <a:pt x="612" y="1188"/>
                </a:cubicBezTo>
                <a:cubicBezTo>
                  <a:pt x="606" y="1188"/>
                  <a:pt x="602" y="1187"/>
                  <a:pt x="596" y="1188"/>
                </a:cubicBezTo>
                <a:close/>
                <a:moveTo>
                  <a:pt x="1057" y="131"/>
                </a:moveTo>
                <a:cubicBezTo>
                  <a:pt x="1067" y="127"/>
                  <a:pt x="1072" y="123"/>
                  <a:pt x="1082" y="118"/>
                </a:cubicBezTo>
                <a:cubicBezTo>
                  <a:pt x="1083" y="123"/>
                  <a:pt x="1077" y="128"/>
                  <a:pt x="1081" y="129"/>
                </a:cubicBezTo>
                <a:cubicBezTo>
                  <a:pt x="1086" y="124"/>
                  <a:pt x="1095" y="123"/>
                  <a:pt x="1102" y="116"/>
                </a:cubicBezTo>
                <a:cubicBezTo>
                  <a:pt x="1102" y="118"/>
                  <a:pt x="1103" y="117"/>
                  <a:pt x="1103" y="118"/>
                </a:cubicBezTo>
                <a:cubicBezTo>
                  <a:pt x="1104" y="130"/>
                  <a:pt x="1088" y="126"/>
                  <a:pt x="1085" y="135"/>
                </a:cubicBezTo>
                <a:cubicBezTo>
                  <a:pt x="1086" y="136"/>
                  <a:pt x="1089" y="136"/>
                  <a:pt x="1089" y="139"/>
                </a:cubicBezTo>
                <a:cubicBezTo>
                  <a:pt x="1103" y="136"/>
                  <a:pt x="1112" y="135"/>
                  <a:pt x="1125" y="131"/>
                </a:cubicBezTo>
                <a:cubicBezTo>
                  <a:pt x="1135" y="149"/>
                  <a:pt x="1100" y="141"/>
                  <a:pt x="1105" y="156"/>
                </a:cubicBezTo>
                <a:cubicBezTo>
                  <a:pt x="1108" y="158"/>
                  <a:pt x="1109" y="155"/>
                  <a:pt x="1111" y="157"/>
                </a:cubicBezTo>
                <a:cubicBezTo>
                  <a:pt x="1106" y="157"/>
                  <a:pt x="1109" y="161"/>
                  <a:pt x="1111" y="162"/>
                </a:cubicBezTo>
                <a:cubicBezTo>
                  <a:pt x="1108" y="165"/>
                  <a:pt x="1099" y="166"/>
                  <a:pt x="1100" y="169"/>
                </a:cubicBezTo>
                <a:cubicBezTo>
                  <a:pt x="1104" y="167"/>
                  <a:pt x="1110" y="164"/>
                  <a:pt x="1115" y="165"/>
                </a:cubicBezTo>
                <a:cubicBezTo>
                  <a:pt x="1115" y="161"/>
                  <a:pt x="1118" y="161"/>
                  <a:pt x="1118" y="158"/>
                </a:cubicBezTo>
                <a:cubicBezTo>
                  <a:pt x="1116" y="158"/>
                  <a:pt x="1115" y="157"/>
                  <a:pt x="1115" y="154"/>
                </a:cubicBezTo>
                <a:cubicBezTo>
                  <a:pt x="1118" y="152"/>
                  <a:pt x="1119" y="148"/>
                  <a:pt x="1123" y="146"/>
                </a:cubicBezTo>
                <a:cubicBezTo>
                  <a:pt x="1127" y="146"/>
                  <a:pt x="1129" y="150"/>
                  <a:pt x="1129" y="154"/>
                </a:cubicBezTo>
                <a:cubicBezTo>
                  <a:pt x="1143" y="157"/>
                  <a:pt x="1173" y="157"/>
                  <a:pt x="1180" y="143"/>
                </a:cubicBezTo>
                <a:cubicBezTo>
                  <a:pt x="1182" y="144"/>
                  <a:pt x="1184" y="144"/>
                  <a:pt x="1184" y="146"/>
                </a:cubicBezTo>
                <a:cubicBezTo>
                  <a:pt x="1184" y="154"/>
                  <a:pt x="1178" y="159"/>
                  <a:pt x="1185" y="163"/>
                </a:cubicBezTo>
                <a:cubicBezTo>
                  <a:pt x="1184" y="166"/>
                  <a:pt x="1181" y="166"/>
                  <a:pt x="1179" y="167"/>
                </a:cubicBezTo>
                <a:cubicBezTo>
                  <a:pt x="1189" y="181"/>
                  <a:pt x="1172" y="189"/>
                  <a:pt x="1167" y="197"/>
                </a:cubicBezTo>
                <a:cubicBezTo>
                  <a:pt x="1178" y="197"/>
                  <a:pt x="1189" y="194"/>
                  <a:pt x="1195" y="190"/>
                </a:cubicBezTo>
                <a:cubicBezTo>
                  <a:pt x="1191" y="185"/>
                  <a:pt x="1196" y="177"/>
                  <a:pt x="1201" y="176"/>
                </a:cubicBezTo>
                <a:cubicBezTo>
                  <a:pt x="1201" y="177"/>
                  <a:pt x="1202" y="178"/>
                  <a:pt x="1201" y="180"/>
                </a:cubicBezTo>
                <a:cubicBezTo>
                  <a:pt x="1205" y="178"/>
                  <a:pt x="1208" y="175"/>
                  <a:pt x="1213" y="175"/>
                </a:cubicBezTo>
                <a:cubicBezTo>
                  <a:pt x="1213" y="173"/>
                  <a:pt x="1212" y="172"/>
                  <a:pt x="1214" y="170"/>
                </a:cubicBezTo>
                <a:cubicBezTo>
                  <a:pt x="1217" y="170"/>
                  <a:pt x="1214" y="175"/>
                  <a:pt x="1216" y="174"/>
                </a:cubicBezTo>
                <a:cubicBezTo>
                  <a:pt x="1218" y="172"/>
                  <a:pt x="1221" y="172"/>
                  <a:pt x="1221" y="168"/>
                </a:cubicBezTo>
                <a:cubicBezTo>
                  <a:pt x="1216" y="171"/>
                  <a:pt x="1214" y="167"/>
                  <a:pt x="1212" y="164"/>
                </a:cubicBezTo>
                <a:cubicBezTo>
                  <a:pt x="1214" y="162"/>
                  <a:pt x="1218" y="163"/>
                  <a:pt x="1220" y="161"/>
                </a:cubicBezTo>
                <a:cubicBezTo>
                  <a:pt x="1217" y="153"/>
                  <a:pt x="1223" y="145"/>
                  <a:pt x="1223" y="138"/>
                </a:cubicBezTo>
                <a:cubicBezTo>
                  <a:pt x="1229" y="135"/>
                  <a:pt x="1233" y="128"/>
                  <a:pt x="1236" y="122"/>
                </a:cubicBezTo>
                <a:cubicBezTo>
                  <a:pt x="1228" y="125"/>
                  <a:pt x="1216" y="140"/>
                  <a:pt x="1208" y="128"/>
                </a:cubicBezTo>
                <a:cubicBezTo>
                  <a:pt x="1211" y="116"/>
                  <a:pt x="1226" y="108"/>
                  <a:pt x="1230" y="97"/>
                </a:cubicBezTo>
                <a:cubicBezTo>
                  <a:pt x="1225" y="99"/>
                  <a:pt x="1221" y="103"/>
                  <a:pt x="1214" y="102"/>
                </a:cubicBezTo>
                <a:cubicBezTo>
                  <a:pt x="1215" y="98"/>
                  <a:pt x="1211" y="94"/>
                  <a:pt x="1210" y="89"/>
                </a:cubicBezTo>
                <a:cubicBezTo>
                  <a:pt x="1211" y="84"/>
                  <a:pt x="1215" y="81"/>
                  <a:pt x="1219" y="78"/>
                </a:cubicBezTo>
                <a:cubicBezTo>
                  <a:pt x="1206" y="82"/>
                  <a:pt x="1196" y="91"/>
                  <a:pt x="1182" y="89"/>
                </a:cubicBezTo>
                <a:cubicBezTo>
                  <a:pt x="1182" y="86"/>
                  <a:pt x="1184" y="85"/>
                  <a:pt x="1186" y="85"/>
                </a:cubicBezTo>
                <a:cubicBezTo>
                  <a:pt x="1187" y="85"/>
                  <a:pt x="1187" y="88"/>
                  <a:pt x="1190" y="87"/>
                </a:cubicBezTo>
                <a:cubicBezTo>
                  <a:pt x="1192" y="86"/>
                  <a:pt x="1191" y="83"/>
                  <a:pt x="1193" y="82"/>
                </a:cubicBezTo>
                <a:cubicBezTo>
                  <a:pt x="1197" y="82"/>
                  <a:pt x="1199" y="79"/>
                  <a:pt x="1202" y="76"/>
                </a:cubicBezTo>
                <a:cubicBezTo>
                  <a:pt x="1208" y="74"/>
                  <a:pt x="1214" y="73"/>
                  <a:pt x="1213" y="65"/>
                </a:cubicBezTo>
                <a:cubicBezTo>
                  <a:pt x="1211" y="63"/>
                  <a:pt x="1211" y="66"/>
                  <a:pt x="1208" y="65"/>
                </a:cubicBezTo>
                <a:cubicBezTo>
                  <a:pt x="1209" y="63"/>
                  <a:pt x="1207" y="63"/>
                  <a:pt x="1207" y="61"/>
                </a:cubicBezTo>
                <a:cubicBezTo>
                  <a:pt x="1211" y="57"/>
                  <a:pt x="1216" y="53"/>
                  <a:pt x="1220" y="49"/>
                </a:cubicBezTo>
                <a:cubicBezTo>
                  <a:pt x="1211" y="49"/>
                  <a:pt x="1207" y="54"/>
                  <a:pt x="1197" y="53"/>
                </a:cubicBezTo>
                <a:cubicBezTo>
                  <a:pt x="1201" y="47"/>
                  <a:pt x="1207" y="43"/>
                  <a:pt x="1211" y="37"/>
                </a:cubicBezTo>
                <a:cubicBezTo>
                  <a:pt x="1204" y="37"/>
                  <a:pt x="1197" y="45"/>
                  <a:pt x="1191" y="40"/>
                </a:cubicBezTo>
                <a:cubicBezTo>
                  <a:pt x="1187" y="33"/>
                  <a:pt x="1196" y="30"/>
                  <a:pt x="1195" y="27"/>
                </a:cubicBezTo>
                <a:cubicBezTo>
                  <a:pt x="1195" y="29"/>
                  <a:pt x="1190" y="29"/>
                  <a:pt x="1191" y="27"/>
                </a:cubicBezTo>
                <a:cubicBezTo>
                  <a:pt x="1191" y="24"/>
                  <a:pt x="1191" y="24"/>
                  <a:pt x="1193" y="21"/>
                </a:cubicBezTo>
                <a:cubicBezTo>
                  <a:pt x="1188" y="22"/>
                  <a:pt x="1187" y="19"/>
                  <a:pt x="1185" y="17"/>
                </a:cubicBezTo>
                <a:cubicBezTo>
                  <a:pt x="1186" y="13"/>
                  <a:pt x="1192" y="14"/>
                  <a:pt x="1191" y="9"/>
                </a:cubicBezTo>
                <a:cubicBezTo>
                  <a:pt x="1169" y="0"/>
                  <a:pt x="1158" y="26"/>
                  <a:pt x="1138" y="26"/>
                </a:cubicBezTo>
                <a:cubicBezTo>
                  <a:pt x="1138" y="30"/>
                  <a:pt x="1137" y="33"/>
                  <a:pt x="1135" y="37"/>
                </a:cubicBezTo>
                <a:cubicBezTo>
                  <a:pt x="1139" y="37"/>
                  <a:pt x="1144" y="31"/>
                  <a:pt x="1146" y="36"/>
                </a:cubicBezTo>
                <a:cubicBezTo>
                  <a:pt x="1134" y="51"/>
                  <a:pt x="1109" y="51"/>
                  <a:pt x="1093" y="63"/>
                </a:cubicBezTo>
                <a:cubicBezTo>
                  <a:pt x="1096" y="62"/>
                  <a:pt x="1095" y="64"/>
                  <a:pt x="1094" y="65"/>
                </a:cubicBezTo>
                <a:cubicBezTo>
                  <a:pt x="1098" y="66"/>
                  <a:pt x="1101" y="68"/>
                  <a:pt x="1103" y="70"/>
                </a:cubicBezTo>
                <a:cubicBezTo>
                  <a:pt x="1104" y="74"/>
                  <a:pt x="1100" y="74"/>
                  <a:pt x="1101" y="78"/>
                </a:cubicBezTo>
                <a:cubicBezTo>
                  <a:pt x="1108" y="90"/>
                  <a:pt x="1107" y="106"/>
                  <a:pt x="1094" y="112"/>
                </a:cubicBezTo>
                <a:cubicBezTo>
                  <a:pt x="1090" y="108"/>
                  <a:pt x="1082" y="112"/>
                  <a:pt x="1079" y="109"/>
                </a:cubicBezTo>
                <a:cubicBezTo>
                  <a:pt x="1080" y="106"/>
                  <a:pt x="1082" y="105"/>
                  <a:pt x="1084" y="104"/>
                </a:cubicBezTo>
                <a:cubicBezTo>
                  <a:pt x="1085" y="106"/>
                  <a:pt x="1086" y="106"/>
                  <a:pt x="1085" y="108"/>
                </a:cubicBezTo>
                <a:cubicBezTo>
                  <a:pt x="1094" y="106"/>
                  <a:pt x="1099" y="95"/>
                  <a:pt x="1098" y="86"/>
                </a:cubicBezTo>
                <a:cubicBezTo>
                  <a:pt x="1096" y="85"/>
                  <a:pt x="1094" y="88"/>
                  <a:pt x="1093" y="86"/>
                </a:cubicBezTo>
                <a:cubicBezTo>
                  <a:pt x="1095" y="83"/>
                  <a:pt x="1094" y="83"/>
                  <a:pt x="1093" y="79"/>
                </a:cubicBezTo>
                <a:cubicBezTo>
                  <a:pt x="1083" y="79"/>
                  <a:pt x="1080" y="86"/>
                  <a:pt x="1074" y="90"/>
                </a:cubicBezTo>
                <a:cubicBezTo>
                  <a:pt x="1076" y="96"/>
                  <a:pt x="1078" y="103"/>
                  <a:pt x="1074" y="108"/>
                </a:cubicBezTo>
                <a:cubicBezTo>
                  <a:pt x="1065" y="111"/>
                  <a:pt x="1061" y="120"/>
                  <a:pt x="1055" y="127"/>
                </a:cubicBezTo>
                <a:cubicBezTo>
                  <a:pt x="1057" y="127"/>
                  <a:pt x="1055" y="131"/>
                  <a:pt x="1057" y="131"/>
                </a:cubicBezTo>
                <a:close/>
                <a:moveTo>
                  <a:pt x="1218" y="20"/>
                </a:moveTo>
                <a:cubicBezTo>
                  <a:pt x="1212" y="21"/>
                  <a:pt x="1203" y="24"/>
                  <a:pt x="1201" y="26"/>
                </a:cubicBezTo>
                <a:cubicBezTo>
                  <a:pt x="1208" y="25"/>
                  <a:pt x="1214" y="25"/>
                  <a:pt x="1218" y="20"/>
                </a:cubicBezTo>
                <a:close/>
                <a:moveTo>
                  <a:pt x="1239" y="43"/>
                </a:moveTo>
                <a:cubicBezTo>
                  <a:pt x="1239" y="44"/>
                  <a:pt x="1237" y="44"/>
                  <a:pt x="1236" y="43"/>
                </a:cubicBezTo>
                <a:cubicBezTo>
                  <a:pt x="1236" y="41"/>
                  <a:pt x="1239" y="42"/>
                  <a:pt x="1239" y="40"/>
                </a:cubicBezTo>
                <a:cubicBezTo>
                  <a:pt x="1237" y="41"/>
                  <a:pt x="1237" y="38"/>
                  <a:pt x="1236" y="37"/>
                </a:cubicBezTo>
                <a:cubicBezTo>
                  <a:pt x="1238" y="36"/>
                  <a:pt x="1238" y="33"/>
                  <a:pt x="1240" y="32"/>
                </a:cubicBezTo>
                <a:cubicBezTo>
                  <a:pt x="1237" y="32"/>
                  <a:pt x="1236" y="35"/>
                  <a:pt x="1234" y="37"/>
                </a:cubicBezTo>
                <a:cubicBezTo>
                  <a:pt x="1238" y="42"/>
                  <a:pt x="1223" y="44"/>
                  <a:pt x="1221" y="50"/>
                </a:cubicBezTo>
                <a:cubicBezTo>
                  <a:pt x="1228" y="50"/>
                  <a:pt x="1239" y="48"/>
                  <a:pt x="1239" y="43"/>
                </a:cubicBezTo>
                <a:close/>
                <a:moveTo>
                  <a:pt x="1204" y="47"/>
                </a:moveTo>
                <a:cubicBezTo>
                  <a:pt x="1210" y="48"/>
                  <a:pt x="1212" y="45"/>
                  <a:pt x="1214" y="43"/>
                </a:cubicBezTo>
                <a:cubicBezTo>
                  <a:pt x="1211" y="45"/>
                  <a:pt x="1206" y="42"/>
                  <a:pt x="1204" y="47"/>
                </a:cubicBezTo>
                <a:close/>
                <a:moveTo>
                  <a:pt x="1117" y="481"/>
                </a:moveTo>
                <a:cubicBezTo>
                  <a:pt x="1118" y="481"/>
                  <a:pt x="1118" y="481"/>
                  <a:pt x="1119" y="481"/>
                </a:cubicBezTo>
                <a:cubicBezTo>
                  <a:pt x="1118" y="481"/>
                  <a:pt x="1118" y="481"/>
                  <a:pt x="1117" y="481"/>
                </a:cubicBezTo>
                <a:close/>
                <a:moveTo>
                  <a:pt x="1284" y="478"/>
                </a:moveTo>
                <a:cubicBezTo>
                  <a:pt x="1280" y="478"/>
                  <a:pt x="1276" y="483"/>
                  <a:pt x="1274" y="481"/>
                </a:cubicBezTo>
                <a:cubicBezTo>
                  <a:pt x="1274" y="479"/>
                  <a:pt x="1277" y="479"/>
                  <a:pt x="1277" y="476"/>
                </a:cubicBezTo>
                <a:cubicBezTo>
                  <a:pt x="1263" y="476"/>
                  <a:pt x="1257" y="490"/>
                  <a:pt x="1237" y="485"/>
                </a:cubicBezTo>
                <a:cubicBezTo>
                  <a:pt x="1236" y="486"/>
                  <a:pt x="1232" y="490"/>
                  <a:pt x="1229" y="487"/>
                </a:cubicBezTo>
                <a:cubicBezTo>
                  <a:pt x="1233" y="485"/>
                  <a:pt x="1236" y="483"/>
                  <a:pt x="1239" y="480"/>
                </a:cubicBezTo>
                <a:cubicBezTo>
                  <a:pt x="1236" y="480"/>
                  <a:pt x="1232" y="485"/>
                  <a:pt x="1230" y="483"/>
                </a:cubicBezTo>
                <a:cubicBezTo>
                  <a:pt x="1233" y="480"/>
                  <a:pt x="1237" y="479"/>
                  <a:pt x="1240" y="475"/>
                </a:cubicBezTo>
                <a:cubicBezTo>
                  <a:pt x="1239" y="474"/>
                  <a:pt x="1238" y="473"/>
                  <a:pt x="1238" y="471"/>
                </a:cubicBezTo>
                <a:cubicBezTo>
                  <a:pt x="1239" y="471"/>
                  <a:pt x="1240" y="470"/>
                  <a:pt x="1242" y="469"/>
                </a:cubicBezTo>
                <a:cubicBezTo>
                  <a:pt x="1250" y="479"/>
                  <a:pt x="1256" y="465"/>
                  <a:pt x="1266" y="463"/>
                </a:cubicBezTo>
                <a:cubicBezTo>
                  <a:pt x="1266" y="467"/>
                  <a:pt x="1266" y="467"/>
                  <a:pt x="1266" y="467"/>
                </a:cubicBezTo>
                <a:cubicBezTo>
                  <a:pt x="1269" y="468"/>
                  <a:pt x="1272" y="463"/>
                  <a:pt x="1270" y="462"/>
                </a:cubicBezTo>
                <a:cubicBezTo>
                  <a:pt x="1270" y="463"/>
                  <a:pt x="1268" y="463"/>
                  <a:pt x="1267" y="462"/>
                </a:cubicBezTo>
                <a:cubicBezTo>
                  <a:pt x="1270" y="457"/>
                  <a:pt x="1282" y="456"/>
                  <a:pt x="1281" y="451"/>
                </a:cubicBezTo>
                <a:cubicBezTo>
                  <a:pt x="1277" y="456"/>
                  <a:pt x="1269" y="456"/>
                  <a:pt x="1263" y="457"/>
                </a:cubicBezTo>
                <a:cubicBezTo>
                  <a:pt x="1265" y="462"/>
                  <a:pt x="1259" y="464"/>
                  <a:pt x="1256" y="465"/>
                </a:cubicBezTo>
                <a:cubicBezTo>
                  <a:pt x="1253" y="461"/>
                  <a:pt x="1247" y="466"/>
                  <a:pt x="1244" y="465"/>
                </a:cubicBezTo>
                <a:cubicBezTo>
                  <a:pt x="1244" y="467"/>
                  <a:pt x="1243" y="468"/>
                  <a:pt x="1242" y="468"/>
                </a:cubicBezTo>
                <a:cubicBezTo>
                  <a:pt x="1230" y="469"/>
                  <a:pt x="1219" y="479"/>
                  <a:pt x="1209" y="485"/>
                </a:cubicBezTo>
                <a:cubicBezTo>
                  <a:pt x="1212" y="487"/>
                  <a:pt x="1210" y="494"/>
                  <a:pt x="1208" y="496"/>
                </a:cubicBezTo>
                <a:cubicBezTo>
                  <a:pt x="1205" y="497"/>
                  <a:pt x="1202" y="498"/>
                  <a:pt x="1200" y="499"/>
                </a:cubicBezTo>
                <a:cubicBezTo>
                  <a:pt x="1200" y="504"/>
                  <a:pt x="1204" y="505"/>
                  <a:pt x="1203" y="510"/>
                </a:cubicBezTo>
                <a:cubicBezTo>
                  <a:pt x="1199" y="511"/>
                  <a:pt x="1195" y="513"/>
                  <a:pt x="1192" y="508"/>
                </a:cubicBezTo>
                <a:cubicBezTo>
                  <a:pt x="1188" y="507"/>
                  <a:pt x="1188" y="510"/>
                  <a:pt x="1184" y="510"/>
                </a:cubicBezTo>
                <a:cubicBezTo>
                  <a:pt x="1184" y="504"/>
                  <a:pt x="1184" y="504"/>
                  <a:pt x="1184" y="504"/>
                </a:cubicBezTo>
                <a:cubicBezTo>
                  <a:pt x="1192" y="501"/>
                  <a:pt x="1199" y="497"/>
                  <a:pt x="1204" y="491"/>
                </a:cubicBezTo>
                <a:cubicBezTo>
                  <a:pt x="1200" y="491"/>
                  <a:pt x="1199" y="495"/>
                  <a:pt x="1194" y="494"/>
                </a:cubicBezTo>
                <a:cubicBezTo>
                  <a:pt x="1194" y="493"/>
                  <a:pt x="1194" y="492"/>
                  <a:pt x="1193" y="492"/>
                </a:cubicBezTo>
                <a:cubicBezTo>
                  <a:pt x="1191" y="493"/>
                  <a:pt x="1189" y="495"/>
                  <a:pt x="1186" y="495"/>
                </a:cubicBezTo>
                <a:cubicBezTo>
                  <a:pt x="1184" y="494"/>
                  <a:pt x="1185" y="491"/>
                  <a:pt x="1182" y="490"/>
                </a:cubicBezTo>
                <a:cubicBezTo>
                  <a:pt x="1181" y="492"/>
                  <a:pt x="1181" y="496"/>
                  <a:pt x="1178" y="496"/>
                </a:cubicBezTo>
                <a:cubicBezTo>
                  <a:pt x="1180" y="496"/>
                  <a:pt x="1180" y="499"/>
                  <a:pt x="1179" y="501"/>
                </a:cubicBezTo>
                <a:cubicBezTo>
                  <a:pt x="1179" y="504"/>
                  <a:pt x="1172" y="505"/>
                  <a:pt x="1173" y="508"/>
                </a:cubicBezTo>
                <a:cubicBezTo>
                  <a:pt x="1177" y="507"/>
                  <a:pt x="1179" y="501"/>
                  <a:pt x="1183" y="504"/>
                </a:cubicBezTo>
                <a:cubicBezTo>
                  <a:pt x="1179" y="506"/>
                  <a:pt x="1175" y="509"/>
                  <a:pt x="1173" y="514"/>
                </a:cubicBezTo>
                <a:cubicBezTo>
                  <a:pt x="1170" y="513"/>
                  <a:pt x="1170" y="516"/>
                  <a:pt x="1168" y="516"/>
                </a:cubicBezTo>
                <a:cubicBezTo>
                  <a:pt x="1166" y="512"/>
                  <a:pt x="1166" y="512"/>
                  <a:pt x="1167" y="508"/>
                </a:cubicBezTo>
                <a:cubicBezTo>
                  <a:pt x="1159" y="508"/>
                  <a:pt x="1160" y="498"/>
                  <a:pt x="1156" y="494"/>
                </a:cubicBezTo>
                <a:cubicBezTo>
                  <a:pt x="1152" y="493"/>
                  <a:pt x="1153" y="496"/>
                  <a:pt x="1150" y="495"/>
                </a:cubicBezTo>
                <a:cubicBezTo>
                  <a:pt x="1150" y="493"/>
                  <a:pt x="1147" y="493"/>
                  <a:pt x="1147" y="492"/>
                </a:cubicBezTo>
                <a:cubicBezTo>
                  <a:pt x="1147" y="490"/>
                  <a:pt x="1149" y="486"/>
                  <a:pt x="1147" y="485"/>
                </a:cubicBezTo>
                <a:cubicBezTo>
                  <a:pt x="1146" y="487"/>
                  <a:pt x="1141" y="485"/>
                  <a:pt x="1140" y="484"/>
                </a:cubicBezTo>
                <a:cubicBezTo>
                  <a:pt x="1140" y="481"/>
                  <a:pt x="1140" y="478"/>
                  <a:pt x="1144" y="476"/>
                </a:cubicBezTo>
                <a:cubicBezTo>
                  <a:pt x="1139" y="475"/>
                  <a:pt x="1138" y="476"/>
                  <a:pt x="1134" y="477"/>
                </a:cubicBezTo>
                <a:cubicBezTo>
                  <a:pt x="1133" y="470"/>
                  <a:pt x="1145" y="471"/>
                  <a:pt x="1145" y="467"/>
                </a:cubicBezTo>
                <a:cubicBezTo>
                  <a:pt x="1135" y="466"/>
                  <a:pt x="1132" y="477"/>
                  <a:pt x="1127" y="481"/>
                </a:cubicBezTo>
                <a:cubicBezTo>
                  <a:pt x="1127" y="477"/>
                  <a:pt x="1127" y="477"/>
                  <a:pt x="1127" y="477"/>
                </a:cubicBezTo>
                <a:cubicBezTo>
                  <a:pt x="1123" y="478"/>
                  <a:pt x="1122" y="480"/>
                  <a:pt x="1119" y="481"/>
                </a:cubicBezTo>
                <a:cubicBezTo>
                  <a:pt x="1120" y="481"/>
                  <a:pt x="1118" y="482"/>
                  <a:pt x="1118" y="483"/>
                </a:cubicBezTo>
                <a:cubicBezTo>
                  <a:pt x="1120" y="484"/>
                  <a:pt x="1121" y="479"/>
                  <a:pt x="1123" y="482"/>
                </a:cubicBezTo>
                <a:cubicBezTo>
                  <a:pt x="1122" y="483"/>
                  <a:pt x="1121" y="485"/>
                  <a:pt x="1122" y="487"/>
                </a:cubicBezTo>
                <a:cubicBezTo>
                  <a:pt x="1123" y="489"/>
                  <a:pt x="1126" y="488"/>
                  <a:pt x="1127" y="490"/>
                </a:cubicBezTo>
                <a:cubicBezTo>
                  <a:pt x="1126" y="492"/>
                  <a:pt x="1125" y="494"/>
                  <a:pt x="1122" y="494"/>
                </a:cubicBezTo>
                <a:cubicBezTo>
                  <a:pt x="1122" y="493"/>
                  <a:pt x="1123" y="492"/>
                  <a:pt x="1122" y="492"/>
                </a:cubicBezTo>
                <a:cubicBezTo>
                  <a:pt x="1121" y="496"/>
                  <a:pt x="1117" y="492"/>
                  <a:pt x="1114" y="495"/>
                </a:cubicBezTo>
                <a:cubicBezTo>
                  <a:pt x="1115" y="494"/>
                  <a:pt x="1116" y="493"/>
                  <a:pt x="1116" y="492"/>
                </a:cubicBezTo>
                <a:cubicBezTo>
                  <a:pt x="1113" y="491"/>
                  <a:pt x="1112" y="493"/>
                  <a:pt x="1108" y="493"/>
                </a:cubicBezTo>
                <a:cubicBezTo>
                  <a:pt x="1107" y="497"/>
                  <a:pt x="1110" y="498"/>
                  <a:pt x="1112" y="499"/>
                </a:cubicBezTo>
                <a:cubicBezTo>
                  <a:pt x="1106" y="505"/>
                  <a:pt x="1101" y="501"/>
                  <a:pt x="1094" y="505"/>
                </a:cubicBezTo>
                <a:cubicBezTo>
                  <a:pt x="1094" y="504"/>
                  <a:pt x="1094" y="502"/>
                  <a:pt x="1093" y="502"/>
                </a:cubicBezTo>
                <a:cubicBezTo>
                  <a:pt x="1092" y="505"/>
                  <a:pt x="1090" y="508"/>
                  <a:pt x="1086" y="508"/>
                </a:cubicBezTo>
                <a:cubicBezTo>
                  <a:pt x="1086" y="508"/>
                  <a:pt x="1085" y="507"/>
                  <a:pt x="1085" y="507"/>
                </a:cubicBezTo>
                <a:cubicBezTo>
                  <a:pt x="1089" y="500"/>
                  <a:pt x="1096" y="497"/>
                  <a:pt x="1104" y="494"/>
                </a:cubicBezTo>
                <a:cubicBezTo>
                  <a:pt x="1104" y="490"/>
                  <a:pt x="1109" y="491"/>
                  <a:pt x="1111" y="488"/>
                </a:cubicBezTo>
                <a:cubicBezTo>
                  <a:pt x="1100" y="492"/>
                  <a:pt x="1093" y="498"/>
                  <a:pt x="1083" y="499"/>
                </a:cubicBezTo>
                <a:cubicBezTo>
                  <a:pt x="1083" y="498"/>
                  <a:pt x="1082" y="496"/>
                  <a:pt x="1080" y="496"/>
                </a:cubicBezTo>
                <a:cubicBezTo>
                  <a:pt x="1080" y="500"/>
                  <a:pt x="1077" y="501"/>
                  <a:pt x="1075" y="498"/>
                </a:cubicBezTo>
                <a:cubicBezTo>
                  <a:pt x="1075" y="502"/>
                  <a:pt x="1070" y="500"/>
                  <a:pt x="1070" y="504"/>
                </a:cubicBezTo>
                <a:cubicBezTo>
                  <a:pt x="1071" y="504"/>
                  <a:pt x="1072" y="505"/>
                  <a:pt x="1072" y="506"/>
                </a:cubicBezTo>
                <a:cubicBezTo>
                  <a:pt x="1068" y="506"/>
                  <a:pt x="1068" y="510"/>
                  <a:pt x="1066" y="511"/>
                </a:cubicBezTo>
                <a:cubicBezTo>
                  <a:pt x="1054" y="509"/>
                  <a:pt x="1047" y="530"/>
                  <a:pt x="1036" y="521"/>
                </a:cubicBezTo>
                <a:cubicBezTo>
                  <a:pt x="1048" y="505"/>
                  <a:pt x="1064" y="499"/>
                  <a:pt x="1084" y="493"/>
                </a:cubicBezTo>
                <a:cubicBezTo>
                  <a:pt x="1088" y="495"/>
                  <a:pt x="1101" y="492"/>
                  <a:pt x="1103" y="487"/>
                </a:cubicBezTo>
                <a:cubicBezTo>
                  <a:pt x="1101" y="484"/>
                  <a:pt x="1097" y="487"/>
                  <a:pt x="1095" y="485"/>
                </a:cubicBezTo>
                <a:cubicBezTo>
                  <a:pt x="1098" y="482"/>
                  <a:pt x="1097" y="480"/>
                  <a:pt x="1096" y="477"/>
                </a:cubicBezTo>
                <a:cubicBezTo>
                  <a:pt x="1096" y="479"/>
                  <a:pt x="1090" y="480"/>
                  <a:pt x="1089" y="479"/>
                </a:cubicBezTo>
                <a:cubicBezTo>
                  <a:pt x="1093" y="475"/>
                  <a:pt x="1099" y="467"/>
                  <a:pt x="1101" y="463"/>
                </a:cubicBezTo>
                <a:cubicBezTo>
                  <a:pt x="1094" y="466"/>
                  <a:pt x="1087" y="474"/>
                  <a:pt x="1081" y="469"/>
                </a:cubicBezTo>
                <a:cubicBezTo>
                  <a:pt x="1082" y="477"/>
                  <a:pt x="1084" y="475"/>
                  <a:pt x="1083" y="483"/>
                </a:cubicBezTo>
                <a:cubicBezTo>
                  <a:pt x="1078" y="485"/>
                  <a:pt x="1073" y="492"/>
                  <a:pt x="1066" y="489"/>
                </a:cubicBezTo>
                <a:cubicBezTo>
                  <a:pt x="1074" y="487"/>
                  <a:pt x="1061" y="482"/>
                  <a:pt x="1067" y="480"/>
                </a:cubicBezTo>
                <a:cubicBezTo>
                  <a:pt x="1058" y="477"/>
                  <a:pt x="1056" y="487"/>
                  <a:pt x="1049" y="489"/>
                </a:cubicBezTo>
                <a:cubicBezTo>
                  <a:pt x="1044" y="477"/>
                  <a:pt x="1060" y="474"/>
                  <a:pt x="1067" y="467"/>
                </a:cubicBezTo>
                <a:cubicBezTo>
                  <a:pt x="1061" y="466"/>
                  <a:pt x="1059" y="471"/>
                  <a:pt x="1053" y="471"/>
                </a:cubicBezTo>
                <a:cubicBezTo>
                  <a:pt x="1053" y="469"/>
                  <a:pt x="1059" y="468"/>
                  <a:pt x="1057" y="467"/>
                </a:cubicBezTo>
                <a:cubicBezTo>
                  <a:pt x="1053" y="469"/>
                  <a:pt x="1047" y="472"/>
                  <a:pt x="1042" y="471"/>
                </a:cubicBezTo>
                <a:cubicBezTo>
                  <a:pt x="1040" y="468"/>
                  <a:pt x="1047" y="468"/>
                  <a:pt x="1044" y="466"/>
                </a:cubicBezTo>
                <a:cubicBezTo>
                  <a:pt x="1042" y="469"/>
                  <a:pt x="1039" y="470"/>
                  <a:pt x="1036" y="471"/>
                </a:cubicBezTo>
                <a:cubicBezTo>
                  <a:pt x="1035" y="474"/>
                  <a:pt x="1036" y="473"/>
                  <a:pt x="1036" y="477"/>
                </a:cubicBezTo>
                <a:cubicBezTo>
                  <a:pt x="1031" y="479"/>
                  <a:pt x="1028" y="483"/>
                  <a:pt x="1022" y="483"/>
                </a:cubicBezTo>
                <a:cubicBezTo>
                  <a:pt x="1012" y="476"/>
                  <a:pt x="1004" y="492"/>
                  <a:pt x="995" y="493"/>
                </a:cubicBezTo>
                <a:cubicBezTo>
                  <a:pt x="995" y="493"/>
                  <a:pt x="995" y="494"/>
                  <a:pt x="993" y="493"/>
                </a:cubicBezTo>
                <a:cubicBezTo>
                  <a:pt x="993" y="493"/>
                  <a:pt x="994" y="493"/>
                  <a:pt x="995" y="493"/>
                </a:cubicBezTo>
                <a:cubicBezTo>
                  <a:pt x="994" y="492"/>
                  <a:pt x="993" y="490"/>
                  <a:pt x="994" y="490"/>
                </a:cubicBezTo>
                <a:cubicBezTo>
                  <a:pt x="996" y="486"/>
                  <a:pt x="1004" y="483"/>
                  <a:pt x="999" y="478"/>
                </a:cubicBezTo>
                <a:cubicBezTo>
                  <a:pt x="995" y="481"/>
                  <a:pt x="990" y="480"/>
                  <a:pt x="986" y="483"/>
                </a:cubicBezTo>
                <a:cubicBezTo>
                  <a:pt x="986" y="490"/>
                  <a:pt x="982" y="493"/>
                  <a:pt x="977" y="494"/>
                </a:cubicBezTo>
                <a:cubicBezTo>
                  <a:pt x="977" y="498"/>
                  <a:pt x="980" y="498"/>
                  <a:pt x="980" y="502"/>
                </a:cubicBezTo>
                <a:cubicBezTo>
                  <a:pt x="977" y="504"/>
                  <a:pt x="971" y="509"/>
                  <a:pt x="968" y="505"/>
                </a:cubicBezTo>
                <a:cubicBezTo>
                  <a:pt x="975" y="501"/>
                  <a:pt x="976" y="488"/>
                  <a:pt x="979" y="482"/>
                </a:cubicBezTo>
                <a:cubicBezTo>
                  <a:pt x="980" y="482"/>
                  <a:pt x="981" y="483"/>
                  <a:pt x="982" y="483"/>
                </a:cubicBezTo>
                <a:cubicBezTo>
                  <a:pt x="987" y="475"/>
                  <a:pt x="1000" y="476"/>
                  <a:pt x="1005" y="467"/>
                </a:cubicBezTo>
                <a:cubicBezTo>
                  <a:pt x="1000" y="465"/>
                  <a:pt x="999" y="471"/>
                  <a:pt x="996" y="468"/>
                </a:cubicBezTo>
                <a:cubicBezTo>
                  <a:pt x="998" y="466"/>
                  <a:pt x="998" y="464"/>
                  <a:pt x="997" y="463"/>
                </a:cubicBezTo>
                <a:cubicBezTo>
                  <a:pt x="993" y="468"/>
                  <a:pt x="992" y="476"/>
                  <a:pt x="985" y="476"/>
                </a:cubicBezTo>
                <a:cubicBezTo>
                  <a:pt x="982" y="476"/>
                  <a:pt x="983" y="472"/>
                  <a:pt x="980" y="474"/>
                </a:cubicBezTo>
                <a:cubicBezTo>
                  <a:pt x="980" y="470"/>
                  <a:pt x="980" y="470"/>
                  <a:pt x="980" y="470"/>
                </a:cubicBezTo>
                <a:cubicBezTo>
                  <a:pt x="978" y="470"/>
                  <a:pt x="976" y="473"/>
                  <a:pt x="975" y="470"/>
                </a:cubicBezTo>
                <a:cubicBezTo>
                  <a:pt x="980" y="468"/>
                  <a:pt x="982" y="453"/>
                  <a:pt x="988" y="457"/>
                </a:cubicBezTo>
                <a:cubicBezTo>
                  <a:pt x="988" y="455"/>
                  <a:pt x="990" y="453"/>
                  <a:pt x="993" y="451"/>
                </a:cubicBezTo>
                <a:cubicBezTo>
                  <a:pt x="1007" y="446"/>
                  <a:pt x="1018" y="439"/>
                  <a:pt x="1033" y="433"/>
                </a:cubicBezTo>
                <a:cubicBezTo>
                  <a:pt x="1035" y="435"/>
                  <a:pt x="1033" y="435"/>
                  <a:pt x="1032" y="437"/>
                </a:cubicBezTo>
                <a:cubicBezTo>
                  <a:pt x="1043" y="428"/>
                  <a:pt x="1057" y="419"/>
                  <a:pt x="1073" y="417"/>
                </a:cubicBezTo>
                <a:cubicBezTo>
                  <a:pt x="1079" y="415"/>
                  <a:pt x="1084" y="406"/>
                  <a:pt x="1092" y="407"/>
                </a:cubicBezTo>
                <a:cubicBezTo>
                  <a:pt x="1094" y="401"/>
                  <a:pt x="1100" y="400"/>
                  <a:pt x="1106" y="398"/>
                </a:cubicBezTo>
                <a:cubicBezTo>
                  <a:pt x="1105" y="404"/>
                  <a:pt x="1099" y="401"/>
                  <a:pt x="1095" y="406"/>
                </a:cubicBezTo>
                <a:cubicBezTo>
                  <a:pt x="1097" y="407"/>
                  <a:pt x="1096" y="410"/>
                  <a:pt x="1098" y="411"/>
                </a:cubicBezTo>
                <a:cubicBezTo>
                  <a:pt x="1103" y="409"/>
                  <a:pt x="1105" y="404"/>
                  <a:pt x="1109" y="402"/>
                </a:cubicBezTo>
                <a:cubicBezTo>
                  <a:pt x="1110" y="403"/>
                  <a:pt x="1111" y="404"/>
                  <a:pt x="1110" y="405"/>
                </a:cubicBezTo>
                <a:cubicBezTo>
                  <a:pt x="1113" y="405"/>
                  <a:pt x="1114" y="404"/>
                  <a:pt x="1118" y="404"/>
                </a:cubicBezTo>
                <a:cubicBezTo>
                  <a:pt x="1117" y="397"/>
                  <a:pt x="1121" y="395"/>
                  <a:pt x="1125" y="392"/>
                </a:cubicBezTo>
                <a:cubicBezTo>
                  <a:pt x="1122" y="392"/>
                  <a:pt x="1120" y="394"/>
                  <a:pt x="1117" y="394"/>
                </a:cubicBezTo>
                <a:cubicBezTo>
                  <a:pt x="1117" y="393"/>
                  <a:pt x="1116" y="393"/>
                  <a:pt x="1116" y="392"/>
                </a:cubicBezTo>
                <a:cubicBezTo>
                  <a:pt x="1121" y="387"/>
                  <a:pt x="1128" y="383"/>
                  <a:pt x="1136" y="382"/>
                </a:cubicBezTo>
                <a:cubicBezTo>
                  <a:pt x="1134" y="384"/>
                  <a:pt x="1142" y="385"/>
                  <a:pt x="1137" y="389"/>
                </a:cubicBezTo>
                <a:cubicBezTo>
                  <a:pt x="1138" y="386"/>
                  <a:pt x="1134" y="386"/>
                  <a:pt x="1136" y="389"/>
                </a:cubicBezTo>
                <a:cubicBezTo>
                  <a:pt x="1133" y="390"/>
                  <a:pt x="1138" y="387"/>
                  <a:pt x="1137" y="390"/>
                </a:cubicBezTo>
                <a:cubicBezTo>
                  <a:pt x="1136" y="394"/>
                  <a:pt x="1131" y="397"/>
                  <a:pt x="1132" y="400"/>
                </a:cubicBezTo>
                <a:cubicBezTo>
                  <a:pt x="1132" y="397"/>
                  <a:pt x="1135" y="398"/>
                  <a:pt x="1136" y="400"/>
                </a:cubicBezTo>
                <a:cubicBezTo>
                  <a:pt x="1135" y="402"/>
                  <a:pt x="1131" y="402"/>
                  <a:pt x="1132" y="405"/>
                </a:cubicBezTo>
                <a:cubicBezTo>
                  <a:pt x="1135" y="407"/>
                  <a:pt x="1136" y="402"/>
                  <a:pt x="1136" y="404"/>
                </a:cubicBezTo>
                <a:cubicBezTo>
                  <a:pt x="1137" y="407"/>
                  <a:pt x="1134" y="407"/>
                  <a:pt x="1135" y="410"/>
                </a:cubicBezTo>
                <a:cubicBezTo>
                  <a:pt x="1138" y="411"/>
                  <a:pt x="1143" y="405"/>
                  <a:pt x="1146" y="403"/>
                </a:cubicBezTo>
                <a:cubicBezTo>
                  <a:pt x="1144" y="400"/>
                  <a:pt x="1139" y="405"/>
                  <a:pt x="1137" y="403"/>
                </a:cubicBezTo>
                <a:cubicBezTo>
                  <a:pt x="1147" y="401"/>
                  <a:pt x="1150" y="392"/>
                  <a:pt x="1158" y="387"/>
                </a:cubicBezTo>
                <a:cubicBezTo>
                  <a:pt x="1156" y="387"/>
                  <a:pt x="1154" y="387"/>
                  <a:pt x="1154" y="386"/>
                </a:cubicBezTo>
                <a:cubicBezTo>
                  <a:pt x="1160" y="382"/>
                  <a:pt x="1155" y="378"/>
                  <a:pt x="1162" y="374"/>
                </a:cubicBezTo>
                <a:cubicBezTo>
                  <a:pt x="1159" y="373"/>
                  <a:pt x="1157" y="376"/>
                  <a:pt x="1157" y="373"/>
                </a:cubicBezTo>
                <a:cubicBezTo>
                  <a:pt x="1159" y="370"/>
                  <a:pt x="1166" y="366"/>
                  <a:pt x="1165" y="364"/>
                </a:cubicBezTo>
                <a:cubicBezTo>
                  <a:pt x="1164" y="363"/>
                  <a:pt x="1155" y="366"/>
                  <a:pt x="1153" y="370"/>
                </a:cubicBezTo>
                <a:cubicBezTo>
                  <a:pt x="1152" y="370"/>
                  <a:pt x="1151" y="369"/>
                  <a:pt x="1149" y="368"/>
                </a:cubicBezTo>
                <a:cubicBezTo>
                  <a:pt x="1146" y="370"/>
                  <a:pt x="1145" y="373"/>
                  <a:pt x="1140" y="373"/>
                </a:cubicBezTo>
                <a:cubicBezTo>
                  <a:pt x="1140" y="371"/>
                  <a:pt x="1141" y="367"/>
                  <a:pt x="1139" y="366"/>
                </a:cubicBezTo>
                <a:cubicBezTo>
                  <a:pt x="1129" y="369"/>
                  <a:pt x="1120" y="381"/>
                  <a:pt x="1111" y="377"/>
                </a:cubicBezTo>
                <a:cubicBezTo>
                  <a:pt x="1104" y="387"/>
                  <a:pt x="1093" y="386"/>
                  <a:pt x="1083" y="390"/>
                </a:cubicBezTo>
                <a:cubicBezTo>
                  <a:pt x="1083" y="400"/>
                  <a:pt x="1069" y="397"/>
                  <a:pt x="1063" y="403"/>
                </a:cubicBezTo>
                <a:cubicBezTo>
                  <a:pt x="1061" y="400"/>
                  <a:pt x="1065" y="398"/>
                  <a:pt x="1061" y="397"/>
                </a:cubicBezTo>
                <a:cubicBezTo>
                  <a:pt x="1069" y="390"/>
                  <a:pt x="1076" y="376"/>
                  <a:pt x="1091" y="383"/>
                </a:cubicBezTo>
                <a:cubicBezTo>
                  <a:pt x="1093" y="381"/>
                  <a:pt x="1094" y="379"/>
                  <a:pt x="1098" y="378"/>
                </a:cubicBezTo>
                <a:cubicBezTo>
                  <a:pt x="1099" y="375"/>
                  <a:pt x="1097" y="376"/>
                  <a:pt x="1096" y="375"/>
                </a:cubicBezTo>
                <a:cubicBezTo>
                  <a:pt x="1099" y="373"/>
                  <a:pt x="1099" y="373"/>
                  <a:pt x="1098" y="370"/>
                </a:cubicBezTo>
                <a:cubicBezTo>
                  <a:pt x="1102" y="369"/>
                  <a:pt x="1104" y="366"/>
                  <a:pt x="1109" y="365"/>
                </a:cubicBezTo>
                <a:cubicBezTo>
                  <a:pt x="1112" y="365"/>
                  <a:pt x="1111" y="369"/>
                  <a:pt x="1114" y="369"/>
                </a:cubicBezTo>
                <a:cubicBezTo>
                  <a:pt x="1120" y="367"/>
                  <a:pt x="1124" y="363"/>
                  <a:pt x="1126" y="357"/>
                </a:cubicBezTo>
                <a:cubicBezTo>
                  <a:pt x="1121" y="356"/>
                  <a:pt x="1122" y="353"/>
                  <a:pt x="1122" y="350"/>
                </a:cubicBezTo>
                <a:cubicBezTo>
                  <a:pt x="1117" y="349"/>
                  <a:pt x="1117" y="344"/>
                  <a:pt x="1111" y="345"/>
                </a:cubicBezTo>
                <a:cubicBezTo>
                  <a:pt x="1111" y="342"/>
                  <a:pt x="1109" y="342"/>
                  <a:pt x="1110" y="339"/>
                </a:cubicBezTo>
                <a:cubicBezTo>
                  <a:pt x="1115" y="336"/>
                  <a:pt x="1120" y="333"/>
                  <a:pt x="1126" y="330"/>
                </a:cubicBezTo>
                <a:cubicBezTo>
                  <a:pt x="1125" y="323"/>
                  <a:pt x="1139" y="315"/>
                  <a:pt x="1144" y="318"/>
                </a:cubicBezTo>
                <a:cubicBezTo>
                  <a:pt x="1143" y="320"/>
                  <a:pt x="1139" y="320"/>
                  <a:pt x="1138" y="322"/>
                </a:cubicBezTo>
                <a:cubicBezTo>
                  <a:pt x="1147" y="322"/>
                  <a:pt x="1152" y="319"/>
                  <a:pt x="1158" y="315"/>
                </a:cubicBezTo>
                <a:cubicBezTo>
                  <a:pt x="1156" y="304"/>
                  <a:pt x="1167" y="311"/>
                  <a:pt x="1167" y="304"/>
                </a:cubicBezTo>
                <a:cubicBezTo>
                  <a:pt x="1159" y="307"/>
                  <a:pt x="1154" y="304"/>
                  <a:pt x="1147" y="308"/>
                </a:cubicBezTo>
                <a:cubicBezTo>
                  <a:pt x="1144" y="309"/>
                  <a:pt x="1142" y="315"/>
                  <a:pt x="1139" y="316"/>
                </a:cubicBezTo>
                <a:cubicBezTo>
                  <a:pt x="1139" y="316"/>
                  <a:pt x="1118" y="311"/>
                  <a:pt x="1116" y="311"/>
                </a:cubicBezTo>
                <a:cubicBezTo>
                  <a:pt x="1115" y="312"/>
                  <a:pt x="1112" y="316"/>
                  <a:pt x="1110" y="316"/>
                </a:cubicBezTo>
                <a:cubicBezTo>
                  <a:pt x="1107" y="317"/>
                  <a:pt x="1104" y="317"/>
                  <a:pt x="1102" y="321"/>
                </a:cubicBezTo>
                <a:cubicBezTo>
                  <a:pt x="1095" y="314"/>
                  <a:pt x="1088" y="326"/>
                  <a:pt x="1081" y="327"/>
                </a:cubicBezTo>
                <a:cubicBezTo>
                  <a:pt x="1076" y="326"/>
                  <a:pt x="1073" y="326"/>
                  <a:pt x="1070" y="324"/>
                </a:cubicBezTo>
                <a:cubicBezTo>
                  <a:pt x="1073" y="318"/>
                  <a:pt x="1078" y="314"/>
                  <a:pt x="1085" y="311"/>
                </a:cubicBezTo>
                <a:cubicBezTo>
                  <a:pt x="1087" y="312"/>
                  <a:pt x="1087" y="314"/>
                  <a:pt x="1089" y="315"/>
                </a:cubicBezTo>
                <a:cubicBezTo>
                  <a:pt x="1089" y="311"/>
                  <a:pt x="1089" y="312"/>
                  <a:pt x="1090" y="309"/>
                </a:cubicBezTo>
                <a:cubicBezTo>
                  <a:pt x="1098" y="307"/>
                  <a:pt x="1102" y="300"/>
                  <a:pt x="1108" y="295"/>
                </a:cubicBezTo>
                <a:cubicBezTo>
                  <a:pt x="1104" y="295"/>
                  <a:pt x="1104" y="297"/>
                  <a:pt x="1102" y="295"/>
                </a:cubicBezTo>
                <a:cubicBezTo>
                  <a:pt x="1107" y="291"/>
                  <a:pt x="1113" y="287"/>
                  <a:pt x="1121" y="285"/>
                </a:cubicBezTo>
                <a:cubicBezTo>
                  <a:pt x="1121" y="289"/>
                  <a:pt x="1124" y="288"/>
                  <a:pt x="1126" y="287"/>
                </a:cubicBezTo>
                <a:cubicBezTo>
                  <a:pt x="1126" y="286"/>
                  <a:pt x="1126" y="283"/>
                  <a:pt x="1125" y="282"/>
                </a:cubicBezTo>
                <a:cubicBezTo>
                  <a:pt x="1125" y="283"/>
                  <a:pt x="1120" y="283"/>
                  <a:pt x="1121" y="282"/>
                </a:cubicBezTo>
                <a:cubicBezTo>
                  <a:pt x="1121" y="281"/>
                  <a:pt x="1120" y="281"/>
                  <a:pt x="1120" y="280"/>
                </a:cubicBezTo>
                <a:cubicBezTo>
                  <a:pt x="1126" y="276"/>
                  <a:pt x="1130" y="273"/>
                  <a:pt x="1130" y="267"/>
                </a:cubicBezTo>
                <a:cubicBezTo>
                  <a:pt x="1126" y="267"/>
                  <a:pt x="1126" y="262"/>
                  <a:pt x="1122" y="262"/>
                </a:cubicBezTo>
                <a:cubicBezTo>
                  <a:pt x="1125" y="256"/>
                  <a:pt x="1132" y="253"/>
                  <a:pt x="1135" y="246"/>
                </a:cubicBezTo>
                <a:cubicBezTo>
                  <a:pt x="1123" y="249"/>
                  <a:pt x="1107" y="239"/>
                  <a:pt x="1098" y="249"/>
                </a:cubicBezTo>
                <a:cubicBezTo>
                  <a:pt x="1100" y="249"/>
                  <a:pt x="1099" y="253"/>
                  <a:pt x="1101" y="254"/>
                </a:cubicBezTo>
                <a:cubicBezTo>
                  <a:pt x="1096" y="256"/>
                  <a:pt x="1087" y="262"/>
                  <a:pt x="1082" y="259"/>
                </a:cubicBezTo>
                <a:cubicBezTo>
                  <a:pt x="1082" y="253"/>
                  <a:pt x="1083" y="249"/>
                  <a:pt x="1088" y="248"/>
                </a:cubicBezTo>
                <a:cubicBezTo>
                  <a:pt x="1093" y="241"/>
                  <a:pt x="1097" y="232"/>
                  <a:pt x="1099" y="224"/>
                </a:cubicBezTo>
                <a:cubicBezTo>
                  <a:pt x="1094" y="223"/>
                  <a:pt x="1092" y="222"/>
                  <a:pt x="1086" y="223"/>
                </a:cubicBezTo>
                <a:cubicBezTo>
                  <a:pt x="1085" y="221"/>
                  <a:pt x="1084" y="219"/>
                  <a:pt x="1083" y="216"/>
                </a:cubicBezTo>
                <a:cubicBezTo>
                  <a:pt x="1085" y="215"/>
                  <a:pt x="1087" y="214"/>
                  <a:pt x="1088" y="212"/>
                </a:cubicBezTo>
                <a:cubicBezTo>
                  <a:pt x="1077" y="213"/>
                  <a:pt x="1065" y="213"/>
                  <a:pt x="1061" y="223"/>
                </a:cubicBezTo>
                <a:cubicBezTo>
                  <a:pt x="1063" y="227"/>
                  <a:pt x="1066" y="228"/>
                  <a:pt x="1067" y="233"/>
                </a:cubicBezTo>
                <a:cubicBezTo>
                  <a:pt x="1062" y="235"/>
                  <a:pt x="1053" y="238"/>
                  <a:pt x="1047" y="235"/>
                </a:cubicBezTo>
                <a:cubicBezTo>
                  <a:pt x="1048" y="233"/>
                  <a:pt x="1050" y="230"/>
                  <a:pt x="1052" y="228"/>
                </a:cubicBezTo>
                <a:cubicBezTo>
                  <a:pt x="1049" y="228"/>
                  <a:pt x="1049" y="232"/>
                  <a:pt x="1046" y="233"/>
                </a:cubicBezTo>
                <a:cubicBezTo>
                  <a:pt x="1046" y="230"/>
                  <a:pt x="1043" y="230"/>
                  <a:pt x="1042" y="229"/>
                </a:cubicBezTo>
                <a:cubicBezTo>
                  <a:pt x="1047" y="219"/>
                  <a:pt x="1049" y="222"/>
                  <a:pt x="1051" y="211"/>
                </a:cubicBezTo>
                <a:cubicBezTo>
                  <a:pt x="1047" y="209"/>
                  <a:pt x="1038" y="216"/>
                  <a:pt x="1035" y="211"/>
                </a:cubicBezTo>
                <a:cubicBezTo>
                  <a:pt x="1035" y="210"/>
                  <a:pt x="1036" y="210"/>
                  <a:pt x="1037" y="208"/>
                </a:cubicBezTo>
                <a:cubicBezTo>
                  <a:pt x="1027" y="209"/>
                  <a:pt x="1025" y="218"/>
                  <a:pt x="1019" y="222"/>
                </a:cubicBezTo>
                <a:cubicBezTo>
                  <a:pt x="1014" y="227"/>
                  <a:pt x="1006" y="228"/>
                  <a:pt x="997" y="229"/>
                </a:cubicBezTo>
                <a:cubicBezTo>
                  <a:pt x="997" y="227"/>
                  <a:pt x="999" y="226"/>
                  <a:pt x="997" y="224"/>
                </a:cubicBezTo>
                <a:cubicBezTo>
                  <a:pt x="988" y="224"/>
                  <a:pt x="984" y="232"/>
                  <a:pt x="973" y="233"/>
                </a:cubicBezTo>
                <a:cubicBezTo>
                  <a:pt x="973" y="229"/>
                  <a:pt x="975" y="229"/>
                  <a:pt x="973" y="226"/>
                </a:cubicBezTo>
                <a:cubicBezTo>
                  <a:pt x="969" y="225"/>
                  <a:pt x="970" y="230"/>
                  <a:pt x="965" y="229"/>
                </a:cubicBezTo>
                <a:cubicBezTo>
                  <a:pt x="965" y="228"/>
                  <a:pt x="964" y="228"/>
                  <a:pt x="964" y="227"/>
                </a:cubicBezTo>
                <a:cubicBezTo>
                  <a:pt x="967" y="224"/>
                  <a:pt x="968" y="220"/>
                  <a:pt x="972" y="220"/>
                </a:cubicBezTo>
                <a:cubicBezTo>
                  <a:pt x="972" y="217"/>
                  <a:pt x="971" y="215"/>
                  <a:pt x="970" y="214"/>
                </a:cubicBezTo>
                <a:cubicBezTo>
                  <a:pt x="972" y="210"/>
                  <a:pt x="976" y="208"/>
                  <a:pt x="981" y="210"/>
                </a:cubicBezTo>
                <a:cubicBezTo>
                  <a:pt x="982" y="203"/>
                  <a:pt x="991" y="205"/>
                  <a:pt x="994" y="200"/>
                </a:cubicBezTo>
                <a:cubicBezTo>
                  <a:pt x="996" y="202"/>
                  <a:pt x="993" y="203"/>
                  <a:pt x="995" y="205"/>
                </a:cubicBezTo>
                <a:cubicBezTo>
                  <a:pt x="1000" y="205"/>
                  <a:pt x="1003" y="198"/>
                  <a:pt x="1007" y="202"/>
                </a:cubicBezTo>
                <a:cubicBezTo>
                  <a:pt x="1006" y="203"/>
                  <a:pt x="1007" y="206"/>
                  <a:pt x="1005" y="207"/>
                </a:cubicBezTo>
                <a:cubicBezTo>
                  <a:pt x="1008" y="208"/>
                  <a:pt x="1008" y="211"/>
                  <a:pt x="1012" y="210"/>
                </a:cubicBezTo>
                <a:cubicBezTo>
                  <a:pt x="1012" y="207"/>
                  <a:pt x="1012" y="207"/>
                  <a:pt x="1012" y="207"/>
                </a:cubicBezTo>
                <a:cubicBezTo>
                  <a:pt x="1012" y="205"/>
                  <a:pt x="1009" y="206"/>
                  <a:pt x="1009" y="205"/>
                </a:cubicBezTo>
                <a:cubicBezTo>
                  <a:pt x="1010" y="202"/>
                  <a:pt x="1011" y="203"/>
                  <a:pt x="1010" y="200"/>
                </a:cubicBezTo>
                <a:cubicBezTo>
                  <a:pt x="1022" y="195"/>
                  <a:pt x="1030" y="186"/>
                  <a:pt x="1037" y="176"/>
                </a:cubicBezTo>
                <a:cubicBezTo>
                  <a:pt x="1021" y="180"/>
                  <a:pt x="1012" y="194"/>
                  <a:pt x="998" y="197"/>
                </a:cubicBezTo>
                <a:cubicBezTo>
                  <a:pt x="1000" y="195"/>
                  <a:pt x="1002" y="194"/>
                  <a:pt x="1004" y="192"/>
                </a:cubicBezTo>
                <a:cubicBezTo>
                  <a:pt x="992" y="198"/>
                  <a:pt x="975" y="200"/>
                  <a:pt x="965" y="209"/>
                </a:cubicBezTo>
                <a:cubicBezTo>
                  <a:pt x="959" y="208"/>
                  <a:pt x="956" y="205"/>
                  <a:pt x="954" y="200"/>
                </a:cubicBezTo>
                <a:cubicBezTo>
                  <a:pt x="956" y="192"/>
                  <a:pt x="966" y="192"/>
                  <a:pt x="969" y="185"/>
                </a:cubicBezTo>
                <a:cubicBezTo>
                  <a:pt x="961" y="190"/>
                  <a:pt x="951" y="197"/>
                  <a:pt x="940" y="196"/>
                </a:cubicBezTo>
                <a:cubicBezTo>
                  <a:pt x="940" y="190"/>
                  <a:pt x="946" y="191"/>
                  <a:pt x="949" y="188"/>
                </a:cubicBezTo>
                <a:cubicBezTo>
                  <a:pt x="945" y="187"/>
                  <a:pt x="941" y="190"/>
                  <a:pt x="939" y="188"/>
                </a:cubicBezTo>
                <a:cubicBezTo>
                  <a:pt x="955" y="185"/>
                  <a:pt x="955" y="167"/>
                  <a:pt x="972" y="168"/>
                </a:cubicBezTo>
                <a:cubicBezTo>
                  <a:pt x="973" y="161"/>
                  <a:pt x="983" y="156"/>
                  <a:pt x="990" y="162"/>
                </a:cubicBezTo>
                <a:cubicBezTo>
                  <a:pt x="1000" y="158"/>
                  <a:pt x="993" y="135"/>
                  <a:pt x="1009" y="139"/>
                </a:cubicBezTo>
                <a:cubicBezTo>
                  <a:pt x="1006" y="143"/>
                  <a:pt x="1004" y="147"/>
                  <a:pt x="1002" y="152"/>
                </a:cubicBezTo>
                <a:cubicBezTo>
                  <a:pt x="1002" y="155"/>
                  <a:pt x="1007" y="157"/>
                  <a:pt x="1004" y="160"/>
                </a:cubicBezTo>
                <a:cubicBezTo>
                  <a:pt x="1010" y="160"/>
                  <a:pt x="1014" y="152"/>
                  <a:pt x="1021" y="155"/>
                </a:cubicBezTo>
                <a:cubicBezTo>
                  <a:pt x="1021" y="158"/>
                  <a:pt x="1018" y="156"/>
                  <a:pt x="1017" y="158"/>
                </a:cubicBezTo>
                <a:cubicBezTo>
                  <a:pt x="1029" y="158"/>
                  <a:pt x="1033" y="150"/>
                  <a:pt x="1038" y="143"/>
                </a:cubicBezTo>
                <a:cubicBezTo>
                  <a:pt x="1034" y="137"/>
                  <a:pt x="1039" y="133"/>
                  <a:pt x="1041" y="130"/>
                </a:cubicBezTo>
                <a:cubicBezTo>
                  <a:pt x="1034" y="132"/>
                  <a:pt x="1025" y="134"/>
                  <a:pt x="1022" y="128"/>
                </a:cubicBezTo>
                <a:cubicBezTo>
                  <a:pt x="1024" y="126"/>
                  <a:pt x="1025" y="125"/>
                  <a:pt x="1027" y="124"/>
                </a:cubicBezTo>
                <a:cubicBezTo>
                  <a:pt x="1024" y="123"/>
                  <a:pt x="1021" y="121"/>
                  <a:pt x="1016" y="122"/>
                </a:cubicBezTo>
                <a:cubicBezTo>
                  <a:pt x="1016" y="121"/>
                  <a:pt x="1017" y="120"/>
                  <a:pt x="1017" y="119"/>
                </a:cubicBezTo>
                <a:cubicBezTo>
                  <a:pt x="1014" y="118"/>
                  <a:pt x="1010" y="119"/>
                  <a:pt x="1007" y="121"/>
                </a:cubicBezTo>
                <a:cubicBezTo>
                  <a:pt x="1011" y="128"/>
                  <a:pt x="1002" y="129"/>
                  <a:pt x="997" y="131"/>
                </a:cubicBezTo>
                <a:cubicBezTo>
                  <a:pt x="997" y="128"/>
                  <a:pt x="1000" y="129"/>
                  <a:pt x="1000" y="127"/>
                </a:cubicBezTo>
                <a:cubicBezTo>
                  <a:pt x="997" y="126"/>
                  <a:pt x="993" y="128"/>
                  <a:pt x="992" y="126"/>
                </a:cubicBezTo>
                <a:cubicBezTo>
                  <a:pt x="990" y="124"/>
                  <a:pt x="993" y="121"/>
                  <a:pt x="991" y="119"/>
                </a:cubicBezTo>
                <a:cubicBezTo>
                  <a:pt x="979" y="119"/>
                  <a:pt x="971" y="128"/>
                  <a:pt x="960" y="125"/>
                </a:cubicBezTo>
                <a:cubicBezTo>
                  <a:pt x="962" y="117"/>
                  <a:pt x="978" y="122"/>
                  <a:pt x="980" y="113"/>
                </a:cubicBezTo>
                <a:cubicBezTo>
                  <a:pt x="976" y="111"/>
                  <a:pt x="976" y="112"/>
                  <a:pt x="978" y="109"/>
                </a:cubicBezTo>
                <a:cubicBezTo>
                  <a:pt x="976" y="107"/>
                  <a:pt x="967" y="113"/>
                  <a:pt x="964" y="108"/>
                </a:cubicBezTo>
                <a:cubicBezTo>
                  <a:pt x="966" y="107"/>
                  <a:pt x="973" y="102"/>
                  <a:pt x="971" y="103"/>
                </a:cubicBezTo>
                <a:cubicBezTo>
                  <a:pt x="963" y="105"/>
                  <a:pt x="956" y="107"/>
                  <a:pt x="949" y="108"/>
                </a:cubicBezTo>
                <a:cubicBezTo>
                  <a:pt x="946" y="106"/>
                  <a:pt x="944" y="104"/>
                  <a:pt x="942" y="101"/>
                </a:cubicBezTo>
                <a:cubicBezTo>
                  <a:pt x="943" y="98"/>
                  <a:pt x="946" y="97"/>
                  <a:pt x="950" y="97"/>
                </a:cubicBezTo>
                <a:cubicBezTo>
                  <a:pt x="949" y="98"/>
                  <a:pt x="948" y="98"/>
                  <a:pt x="949" y="100"/>
                </a:cubicBezTo>
                <a:cubicBezTo>
                  <a:pt x="951" y="99"/>
                  <a:pt x="954" y="99"/>
                  <a:pt x="954" y="97"/>
                </a:cubicBezTo>
                <a:cubicBezTo>
                  <a:pt x="952" y="95"/>
                  <a:pt x="949" y="93"/>
                  <a:pt x="947" y="91"/>
                </a:cubicBezTo>
                <a:cubicBezTo>
                  <a:pt x="937" y="94"/>
                  <a:pt x="931" y="100"/>
                  <a:pt x="928" y="109"/>
                </a:cubicBezTo>
                <a:cubicBezTo>
                  <a:pt x="925" y="108"/>
                  <a:pt x="923" y="106"/>
                  <a:pt x="920" y="105"/>
                </a:cubicBezTo>
                <a:cubicBezTo>
                  <a:pt x="924" y="104"/>
                  <a:pt x="923" y="98"/>
                  <a:pt x="922" y="96"/>
                </a:cubicBezTo>
                <a:cubicBezTo>
                  <a:pt x="921" y="97"/>
                  <a:pt x="922" y="100"/>
                  <a:pt x="920" y="100"/>
                </a:cubicBezTo>
                <a:cubicBezTo>
                  <a:pt x="919" y="100"/>
                  <a:pt x="917" y="100"/>
                  <a:pt x="917" y="101"/>
                </a:cubicBezTo>
                <a:cubicBezTo>
                  <a:pt x="919" y="98"/>
                  <a:pt x="914" y="97"/>
                  <a:pt x="913" y="95"/>
                </a:cubicBezTo>
                <a:cubicBezTo>
                  <a:pt x="902" y="97"/>
                  <a:pt x="897" y="105"/>
                  <a:pt x="885" y="103"/>
                </a:cubicBezTo>
                <a:cubicBezTo>
                  <a:pt x="883" y="100"/>
                  <a:pt x="889" y="98"/>
                  <a:pt x="889" y="95"/>
                </a:cubicBezTo>
                <a:cubicBezTo>
                  <a:pt x="886" y="94"/>
                  <a:pt x="885" y="89"/>
                  <a:pt x="882" y="88"/>
                </a:cubicBezTo>
                <a:cubicBezTo>
                  <a:pt x="882" y="87"/>
                  <a:pt x="888" y="86"/>
                  <a:pt x="885" y="85"/>
                </a:cubicBezTo>
                <a:cubicBezTo>
                  <a:pt x="881" y="88"/>
                  <a:pt x="880" y="82"/>
                  <a:pt x="876" y="85"/>
                </a:cubicBezTo>
                <a:cubicBezTo>
                  <a:pt x="864" y="96"/>
                  <a:pt x="859" y="114"/>
                  <a:pt x="848" y="126"/>
                </a:cubicBezTo>
                <a:cubicBezTo>
                  <a:pt x="848" y="132"/>
                  <a:pt x="848" y="132"/>
                  <a:pt x="848" y="132"/>
                </a:cubicBezTo>
                <a:cubicBezTo>
                  <a:pt x="843" y="134"/>
                  <a:pt x="831" y="140"/>
                  <a:pt x="830" y="129"/>
                </a:cubicBezTo>
                <a:cubicBezTo>
                  <a:pt x="827" y="131"/>
                  <a:pt x="824" y="128"/>
                  <a:pt x="819" y="128"/>
                </a:cubicBezTo>
                <a:cubicBezTo>
                  <a:pt x="817" y="127"/>
                  <a:pt x="820" y="124"/>
                  <a:pt x="819" y="123"/>
                </a:cubicBezTo>
                <a:cubicBezTo>
                  <a:pt x="816" y="123"/>
                  <a:pt x="815" y="125"/>
                  <a:pt x="814" y="122"/>
                </a:cubicBezTo>
                <a:cubicBezTo>
                  <a:pt x="816" y="117"/>
                  <a:pt x="813" y="115"/>
                  <a:pt x="814" y="113"/>
                </a:cubicBezTo>
                <a:cubicBezTo>
                  <a:pt x="803" y="117"/>
                  <a:pt x="788" y="117"/>
                  <a:pt x="783" y="128"/>
                </a:cubicBezTo>
                <a:cubicBezTo>
                  <a:pt x="780" y="127"/>
                  <a:pt x="776" y="129"/>
                  <a:pt x="778" y="130"/>
                </a:cubicBezTo>
                <a:cubicBezTo>
                  <a:pt x="787" y="126"/>
                  <a:pt x="797" y="127"/>
                  <a:pt x="805" y="121"/>
                </a:cubicBezTo>
                <a:cubicBezTo>
                  <a:pt x="806" y="122"/>
                  <a:pt x="809" y="123"/>
                  <a:pt x="809" y="125"/>
                </a:cubicBezTo>
                <a:cubicBezTo>
                  <a:pt x="807" y="125"/>
                  <a:pt x="806" y="127"/>
                  <a:pt x="806" y="128"/>
                </a:cubicBezTo>
                <a:cubicBezTo>
                  <a:pt x="808" y="130"/>
                  <a:pt x="811" y="127"/>
                  <a:pt x="811" y="128"/>
                </a:cubicBezTo>
                <a:cubicBezTo>
                  <a:pt x="808" y="130"/>
                  <a:pt x="807" y="133"/>
                  <a:pt x="808" y="137"/>
                </a:cubicBezTo>
                <a:cubicBezTo>
                  <a:pt x="804" y="138"/>
                  <a:pt x="798" y="138"/>
                  <a:pt x="794" y="137"/>
                </a:cubicBezTo>
                <a:cubicBezTo>
                  <a:pt x="792" y="137"/>
                  <a:pt x="794" y="141"/>
                  <a:pt x="792" y="141"/>
                </a:cubicBezTo>
                <a:cubicBezTo>
                  <a:pt x="781" y="142"/>
                  <a:pt x="775" y="147"/>
                  <a:pt x="769" y="153"/>
                </a:cubicBezTo>
                <a:cubicBezTo>
                  <a:pt x="761" y="150"/>
                  <a:pt x="756" y="155"/>
                  <a:pt x="750" y="157"/>
                </a:cubicBezTo>
                <a:cubicBezTo>
                  <a:pt x="750" y="161"/>
                  <a:pt x="753" y="161"/>
                  <a:pt x="753" y="165"/>
                </a:cubicBezTo>
                <a:cubicBezTo>
                  <a:pt x="757" y="164"/>
                  <a:pt x="759" y="160"/>
                  <a:pt x="762" y="158"/>
                </a:cubicBezTo>
                <a:cubicBezTo>
                  <a:pt x="764" y="160"/>
                  <a:pt x="768" y="160"/>
                  <a:pt x="770" y="162"/>
                </a:cubicBezTo>
                <a:cubicBezTo>
                  <a:pt x="759" y="170"/>
                  <a:pt x="749" y="184"/>
                  <a:pt x="731" y="179"/>
                </a:cubicBezTo>
                <a:cubicBezTo>
                  <a:pt x="727" y="172"/>
                  <a:pt x="723" y="166"/>
                  <a:pt x="722" y="156"/>
                </a:cubicBezTo>
                <a:cubicBezTo>
                  <a:pt x="714" y="156"/>
                  <a:pt x="714" y="142"/>
                  <a:pt x="716" y="138"/>
                </a:cubicBezTo>
                <a:cubicBezTo>
                  <a:pt x="719" y="129"/>
                  <a:pt x="741" y="128"/>
                  <a:pt x="735" y="115"/>
                </a:cubicBezTo>
                <a:cubicBezTo>
                  <a:pt x="734" y="114"/>
                  <a:pt x="731" y="115"/>
                  <a:pt x="729" y="115"/>
                </a:cubicBezTo>
                <a:cubicBezTo>
                  <a:pt x="723" y="109"/>
                  <a:pt x="723" y="96"/>
                  <a:pt x="715" y="94"/>
                </a:cubicBezTo>
                <a:cubicBezTo>
                  <a:pt x="712" y="93"/>
                  <a:pt x="709" y="98"/>
                  <a:pt x="707" y="93"/>
                </a:cubicBezTo>
                <a:cubicBezTo>
                  <a:pt x="714" y="88"/>
                  <a:pt x="716" y="77"/>
                  <a:pt x="721" y="70"/>
                </a:cubicBezTo>
                <a:cubicBezTo>
                  <a:pt x="708" y="72"/>
                  <a:pt x="691" y="71"/>
                  <a:pt x="678" y="76"/>
                </a:cubicBezTo>
                <a:cubicBezTo>
                  <a:pt x="679" y="74"/>
                  <a:pt x="682" y="74"/>
                  <a:pt x="682" y="72"/>
                </a:cubicBezTo>
                <a:cubicBezTo>
                  <a:pt x="678" y="74"/>
                  <a:pt x="676" y="74"/>
                  <a:pt x="672" y="75"/>
                </a:cubicBezTo>
                <a:cubicBezTo>
                  <a:pt x="672" y="77"/>
                  <a:pt x="672" y="79"/>
                  <a:pt x="673" y="80"/>
                </a:cubicBezTo>
                <a:cubicBezTo>
                  <a:pt x="668" y="83"/>
                  <a:pt x="661" y="91"/>
                  <a:pt x="655" y="87"/>
                </a:cubicBezTo>
                <a:cubicBezTo>
                  <a:pt x="648" y="89"/>
                  <a:pt x="648" y="97"/>
                  <a:pt x="640" y="98"/>
                </a:cubicBezTo>
                <a:cubicBezTo>
                  <a:pt x="638" y="96"/>
                  <a:pt x="641" y="96"/>
                  <a:pt x="639" y="95"/>
                </a:cubicBezTo>
                <a:cubicBezTo>
                  <a:pt x="634" y="108"/>
                  <a:pt x="620" y="113"/>
                  <a:pt x="611" y="123"/>
                </a:cubicBezTo>
                <a:cubicBezTo>
                  <a:pt x="615" y="123"/>
                  <a:pt x="609" y="127"/>
                  <a:pt x="612" y="128"/>
                </a:cubicBezTo>
                <a:cubicBezTo>
                  <a:pt x="613" y="125"/>
                  <a:pt x="616" y="127"/>
                  <a:pt x="616" y="128"/>
                </a:cubicBezTo>
                <a:cubicBezTo>
                  <a:pt x="612" y="133"/>
                  <a:pt x="604" y="133"/>
                  <a:pt x="598" y="136"/>
                </a:cubicBezTo>
                <a:cubicBezTo>
                  <a:pt x="591" y="128"/>
                  <a:pt x="572" y="131"/>
                  <a:pt x="566" y="137"/>
                </a:cubicBezTo>
                <a:cubicBezTo>
                  <a:pt x="537" y="144"/>
                  <a:pt x="518" y="160"/>
                  <a:pt x="491" y="170"/>
                </a:cubicBezTo>
                <a:cubicBezTo>
                  <a:pt x="489" y="168"/>
                  <a:pt x="486" y="167"/>
                  <a:pt x="484" y="166"/>
                </a:cubicBezTo>
                <a:cubicBezTo>
                  <a:pt x="486" y="164"/>
                  <a:pt x="486" y="158"/>
                  <a:pt x="484" y="156"/>
                </a:cubicBezTo>
                <a:cubicBezTo>
                  <a:pt x="480" y="156"/>
                  <a:pt x="480" y="159"/>
                  <a:pt x="477" y="159"/>
                </a:cubicBezTo>
                <a:cubicBezTo>
                  <a:pt x="477" y="155"/>
                  <a:pt x="480" y="153"/>
                  <a:pt x="480" y="150"/>
                </a:cubicBezTo>
                <a:cubicBezTo>
                  <a:pt x="454" y="144"/>
                  <a:pt x="433" y="163"/>
                  <a:pt x="415" y="167"/>
                </a:cubicBezTo>
                <a:cubicBezTo>
                  <a:pt x="424" y="161"/>
                  <a:pt x="430" y="153"/>
                  <a:pt x="438" y="148"/>
                </a:cubicBezTo>
                <a:cubicBezTo>
                  <a:pt x="439" y="145"/>
                  <a:pt x="437" y="146"/>
                  <a:pt x="437" y="143"/>
                </a:cubicBezTo>
                <a:cubicBezTo>
                  <a:pt x="438" y="143"/>
                  <a:pt x="440" y="142"/>
                  <a:pt x="442" y="142"/>
                </a:cubicBezTo>
                <a:cubicBezTo>
                  <a:pt x="442" y="130"/>
                  <a:pt x="459" y="133"/>
                  <a:pt x="461" y="123"/>
                </a:cubicBezTo>
                <a:cubicBezTo>
                  <a:pt x="461" y="120"/>
                  <a:pt x="456" y="121"/>
                  <a:pt x="455" y="118"/>
                </a:cubicBezTo>
                <a:cubicBezTo>
                  <a:pt x="454" y="114"/>
                  <a:pt x="456" y="112"/>
                  <a:pt x="456" y="108"/>
                </a:cubicBezTo>
                <a:cubicBezTo>
                  <a:pt x="451" y="103"/>
                  <a:pt x="446" y="105"/>
                  <a:pt x="441" y="106"/>
                </a:cubicBezTo>
                <a:cubicBezTo>
                  <a:pt x="426" y="109"/>
                  <a:pt x="417" y="110"/>
                  <a:pt x="406" y="115"/>
                </a:cubicBezTo>
                <a:cubicBezTo>
                  <a:pt x="401" y="117"/>
                  <a:pt x="397" y="121"/>
                  <a:pt x="391" y="123"/>
                </a:cubicBezTo>
                <a:cubicBezTo>
                  <a:pt x="387" y="124"/>
                  <a:pt x="383" y="124"/>
                  <a:pt x="380" y="125"/>
                </a:cubicBezTo>
                <a:cubicBezTo>
                  <a:pt x="340" y="136"/>
                  <a:pt x="304" y="163"/>
                  <a:pt x="273" y="177"/>
                </a:cubicBezTo>
                <a:cubicBezTo>
                  <a:pt x="273" y="176"/>
                  <a:pt x="273" y="175"/>
                  <a:pt x="272" y="175"/>
                </a:cubicBezTo>
                <a:cubicBezTo>
                  <a:pt x="271" y="177"/>
                  <a:pt x="271" y="178"/>
                  <a:pt x="270" y="179"/>
                </a:cubicBezTo>
                <a:cubicBezTo>
                  <a:pt x="252" y="188"/>
                  <a:pt x="234" y="197"/>
                  <a:pt x="220" y="210"/>
                </a:cubicBezTo>
                <a:cubicBezTo>
                  <a:pt x="225" y="224"/>
                  <a:pt x="199" y="227"/>
                  <a:pt x="196" y="237"/>
                </a:cubicBezTo>
                <a:cubicBezTo>
                  <a:pt x="198" y="237"/>
                  <a:pt x="201" y="236"/>
                  <a:pt x="203" y="237"/>
                </a:cubicBezTo>
                <a:cubicBezTo>
                  <a:pt x="197" y="239"/>
                  <a:pt x="194" y="243"/>
                  <a:pt x="190" y="246"/>
                </a:cubicBezTo>
                <a:cubicBezTo>
                  <a:pt x="202" y="242"/>
                  <a:pt x="216" y="236"/>
                  <a:pt x="226" y="241"/>
                </a:cubicBezTo>
                <a:cubicBezTo>
                  <a:pt x="224" y="244"/>
                  <a:pt x="219" y="244"/>
                  <a:pt x="219" y="249"/>
                </a:cubicBezTo>
                <a:cubicBezTo>
                  <a:pt x="227" y="247"/>
                  <a:pt x="229" y="247"/>
                  <a:pt x="238" y="246"/>
                </a:cubicBezTo>
                <a:cubicBezTo>
                  <a:pt x="238" y="244"/>
                  <a:pt x="237" y="242"/>
                  <a:pt x="239" y="242"/>
                </a:cubicBezTo>
                <a:cubicBezTo>
                  <a:pt x="247" y="246"/>
                  <a:pt x="251" y="236"/>
                  <a:pt x="258" y="235"/>
                </a:cubicBezTo>
                <a:cubicBezTo>
                  <a:pt x="261" y="240"/>
                  <a:pt x="269" y="242"/>
                  <a:pt x="267" y="249"/>
                </a:cubicBezTo>
                <a:cubicBezTo>
                  <a:pt x="272" y="253"/>
                  <a:pt x="282" y="242"/>
                  <a:pt x="282" y="252"/>
                </a:cubicBezTo>
                <a:cubicBezTo>
                  <a:pt x="289" y="251"/>
                  <a:pt x="293" y="255"/>
                  <a:pt x="298" y="257"/>
                </a:cubicBezTo>
                <a:cubicBezTo>
                  <a:pt x="298" y="258"/>
                  <a:pt x="297" y="259"/>
                  <a:pt x="297" y="260"/>
                </a:cubicBezTo>
                <a:cubicBezTo>
                  <a:pt x="300" y="260"/>
                  <a:pt x="308" y="256"/>
                  <a:pt x="308" y="261"/>
                </a:cubicBezTo>
                <a:cubicBezTo>
                  <a:pt x="278" y="290"/>
                  <a:pt x="235" y="307"/>
                  <a:pt x="198" y="329"/>
                </a:cubicBezTo>
                <a:cubicBezTo>
                  <a:pt x="198" y="326"/>
                  <a:pt x="195" y="328"/>
                  <a:pt x="193" y="328"/>
                </a:cubicBezTo>
                <a:cubicBezTo>
                  <a:pt x="193" y="333"/>
                  <a:pt x="193" y="333"/>
                  <a:pt x="193" y="333"/>
                </a:cubicBezTo>
                <a:cubicBezTo>
                  <a:pt x="183" y="339"/>
                  <a:pt x="172" y="344"/>
                  <a:pt x="160" y="343"/>
                </a:cubicBezTo>
                <a:cubicBezTo>
                  <a:pt x="159" y="346"/>
                  <a:pt x="160" y="345"/>
                  <a:pt x="160" y="349"/>
                </a:cubicBezTo>
                <a:cubicBezTo>
                  <a:pt x="157" y="350"/>
                  <a:pt x="155" y="353"/>
                  <a:pt x="152" y="354"/>
                </a:cubicBezTo>
                <a:cubicBezTo>
                  <a:pt x="143" y="348"/>
                  <a:pt x="138" y="361"/>
                  <a:pt x="130" y="358"/>
                </a:cubicBezTo>
                <a:cubicBezTo>
                  <a:pt x="127" y="373"/>
                  <a:pt x="112" y="371"/>
                  <a:pt x="104" y="380"/>
                </a:cubicBezTo>
                <a:cubicBezTo>
                  <a:pt x="100" y="377"/>
                  <a:pt x="95" y="382"/>
                  <a:pt x="97" y="388"/>
                </a:cubicBezTo>
                <a:cubicBezTo>
                  <a:pt x="90" y="391"/>
                  <a:pt x="86" y="391"/>
                  <a:pt x="79" y="389"/>
                </a:cubicBezTo>
                <a:cubicBezTo>
                  <a:pt x="76" y="393"/>
                  <a:pt x="72" y="396"/>
                  <a:pt x="65" y="394"/>
                </a:cubicBezTo>
                <a:cubicBezTo>
                  <a:pt x="64" y="397"/>
                  <a:pt x="61" y="400"/>
                  <a:pt x="63" y="404"/>
                </a:cubicBezTo>
                <a:cubicBezTo>
                  <a:pt x="62" y="402"/>
                  <a:pt x="64" y="401"/>
                  <a:pt x="66" y="402"/>
                </a:cubicBezTo>
                <a:cubicBezTo>
                  <a:pt x="63" y="411"/>
                  <a:pt x="51" y="417"/>
                  <a:pt x="48" y="424"/>
                </a:cubicBezTo>
                <a:cubicBezTo>
                  <a:pt x="52" y="424"/>
                  <a:pt x="57" y="420"/>
                  <a:pt x="60" y="422"/>
                </a:cubicBezTo>
                <a:cubicBezTo>
                  <a:pt x="60" y="425"/>
                  <a:pt x="56" y="424"/>
                  <a:pt x="56" y="427"/>
                </a:cubicBezTo>
                <a:cubicBezTo>
                  <a:pt x="62" y="428"/>
                  <a:pt x="74" y="422"/>
                  <a:pt x="78" y="429"/>
                </a:cubicBezTo>
                <a:cubicBezTo>
                  <a:pt x="77" y="430"/>
                  <a:pt x="76" y="432"/>
                  <a:pt x="76" y="435"/>
                </a:cubicBezTo>
                <a:cubicBezTo>
                  <a:pt x="81" y="441"/>
                  <a:pt x="92" y="436"/>
                  <a:pt x="97" y="434"/>
                </a:cubicBezTo>
                <a:cubicBezTo>
                  <a:pt x="97" y="435"/>
                  <a:pt x="97" y="435"/>
                  <a:pt x="98" y="436"/>
                </a:cubicBezTo>
                <a:cubicBezTo>
                  <a:pt x="99" y="440"/>
                  <a:pt x="96" y="440"/>
                  <a:pt x="96" y="442"/>
                </a:cubicBezTo>
                <a:cubicBezTo>
                  <a:pt x="104" y="446"/>
                  <a:pt x="118" y="444"/>
                  <a:pt x="118" y="456"/>
                </a:cubicBezTo>
                <a:cubicBezTo>
                  <a:pt x="141" y="448"/>
                  <a:pt x="161" y="432"/>
                  <a:pt x="185" y="422"/>
                </a:cubicBezTo>
                <a:cubicBezTo>
                  <a:pt x="185" y="430"/>
                  <a:pt x="181" y="436"/>
                  <a:pt x="176" y="440"/>
                </a:cubicBezTo>
                <a:cubicBezTo>
                  <a:pt x="178" y="440"/>
                  <a:pt x="181" y="439"/>
                  <a:pt x="181" y="441"/>
                </a:cubicBezTo>
                <a:cubicBezTo>
                  <a:pt x="178" y="445"/>
                  <a:pt x="175" y="449"/>
                  <a:pt x="170" y="451"/>
                </a:cubicBezTo>
                <a:cubicBezTo>
                  <a:pt x="169" y="456"/>
                  <a:pt x="164" y="461"/>
                  <a:pt x="159" y="459"/>
                </a:cubicBezTo>
                <a:cubicBezTo>
                  <a:pt x="153" y="466"/>
                  <a:pt x="156" y="482"/>
                  <a:pt x="146" y="488"/>
                </a:cubicBezTo>
                <a:cubicBezTo>
                  <a:pt x="143" y="486"/>
                  <a:pt x="143" y="491"/>
                  <a:pt x="141" y="492"/>
                </a:cubicBezTo>
                <a:cubicBezTo>
                  <a:pt x="145" y="493"/>
                  <a:pt x="153" y="487"/>
                  <a:pt x="156" y="494"/>
                </a:cubicBezTo>
                <a:cubicBezTo>
                  <a:pt x="157" y="498"/>
                  <a:pt x="152" y="496"/>
                  <a:pt x="152" y="500"/>
                </a:cubicBezTo>
                <a:cubicBezTo>
                  <a:pt x="158" y="500"/>
                  <a:pt x="166" y="497"/>
                  <a:pt x="167" y="503"/>
                </a:cubicBezTo>
                <a:cubicBezTo>
                  <a:pt x="163" y="508"/>
                  <a:pt x="154" y="509"/>
                  <a:pt x="150" y="514"/>
                </a:cubicBezTo>
                <a:cubicBezTo>
                  <a:pt x="158" y="511"/>
                  <a:pt x="180" y="494"/>
                  <a:pt x="177" y="515"/>
                </a:cubicBezTo>
                <a:cubicBezTo>
                  <a:pt x="184" y="519"/>
                  <a:pt x="191" y="507"/>
                  <a:pt x="196" y="512"/>
                </a:cubicBezTo>
                <a:cubicBezTo>
                  <a:pt x="196" y="514"/>
                  <a:pt x="194" y="513"/>
                  <a:pt x="195" y="516"/>
                </a:cubicBezTo>
                <a:cubicBezTo>
                  <a:pt x="197" y="516"/>
                  <a:pt x="198" y="518"/>
                  <a:pt x="199" y="519"/>
                </a:cubicBezTo>
                <a:cubicBezTo>
                  <a:pt x="202" y="531"/>
                  <a:pt x="200" y="545"/>
                  <a:pt x="185" y="547"/>
                </a:cubicBezTo>
                <a:cubicBezTo>
                  <a:pt x="183" y="545"/>
                  <a:pt x="180" y="544"/>
                  <a:pt x="181" y="539"/>
                </a:cubicBezTo>
                <a:cubicBezTo>
                  <a:pt x="180" y="539"/>
                  <a:pt x="176" y="540"/>
                  <a:pt x="176" y="538"/>
                </a:cubicBezTo>
                <a:cubicBezTo>
                  <a:pt x="174" y="534"/>
                  <a:pt x="179" y="533"/>
                  <a:pt x="183" y="534"/>
                </a:cubicBezTo>
                <a:cubicBezTo>
                  <a:pt x="182" y="531"/>
                  <a:pt x="183" y="530"/>
                  <a:pt x="184" y="528"/>
                </a:cubicBezTo>
                <a:cubicBezTo>
                  <a:pt x="170" y="529"/>
                  <a:pt x="162" y="535"/>
                  <a:pt x="152" y="540"/>
                </a:cubicBezTo>
                <a:cubicBezTo>
                  <a:pt x="157" y="544"/>
                  <a:pt x="155" y="556"/>
                  <a:pt x="154" y="561"/>
                </a:cubicBezTo>
                <a:cubicBezTo>
                  <a:pt x="159" y="559"/>
                  <a:pt x="166" y="561"/>
                  <a:pt x="173" y="560"/>
                </a:cubicBezTo>
                <a:cubicBezTo>
                  <a:pt x="172" y="564"/>
                  <a:pt x="168" y="564"/>
                  <a:pt x="168" y="569"/>
                </a:cubicBezTo>
                <a:cubicBezTo>
                  <a:pt x="173" y="570"/>
                  <a:pt x="183" y="570"/>
                  <a:pt x="184" y="563"/>
                </a:cubicBezTo>
                <a:cubicBezTo>
                  <a:pt x="181" y="563"/>
                  <a:pt x="175" y="566"/>
                  <a:pt x="174" y="562"/>
                </a:cubicBezTo>
                <a:cubicBezTo>
                  <a:pt x="178" y="558"/>
                  <a:pt x="181" y="560"/>
                  <a:pt x="187" y="559"/>
                </a:cubicBezTo>
                <a:cubicBezTo>
                  <a:pt x="188" y="546"/>
                  <a:pt x="202" y="543"/>
                  <a:pt x="209" y="540"/>
                </a:cubicBezTo>
                <a:cubicBezTo>
                  <a:pt x="209" y="542"/>
                  <a:pt x="207" y="542"/>
                  <a:pt x="207" y="544"/>
                </a:cubicBezTo>
                <a:cubicBezTo>
                  <a:pt x="208" y="544"/>
                  <a:pt x="209" y="544"/>
                  <a:pt x="209" y="546"/>
                </a:cubicBezTo>
                <a:cubicBezTo>
                  <a:pt x="208" y="547"/>
                  <a:pt x="207" y="549"/>
                  <a:pt x="206" y="550"/>
                </a:cubicBezTo>
                <a:cubicBezTo>
                  <a:pt x="212" y="550"/>
                  <a:pt x="215" y="547"/>
                  <a:pt x="219" y="545"/>
                </a:cubicBezTo>
                <a:cubicBezTo>
                  <a:pt x="221" y="547"/>
                  <a:pt x="223" y="545"/>
                  <a:pt x="225" y="547"/>
                </a:cubicBezTo>
                <a:cubicBezTo>
                  <a:pt x="226" y="540"/>
                  <a:pt x="228" y="536"/>
                  <a:pt x="235" y="535"/>
                </a:cubicBezTo>
                <a:cubicBezTo>
                  <a:pt x="235" y="532"/>
                  <a:pt x="238" y="530"/>
                  <a:pt x="243" y="529"/>
                </a:cubicBezTo>
                <a:cubicBezTo>
                  <a:pt x="243" y="530"/>
                  <a:pt x="242" y="531"/>
                  <a:pt x="243" y="532"/>
                </a:cubicBezTo>
                <a:cubicBezTo>
                  <a:pt x="247" y="532"/>
                  <a:pt x="257" y="528"/>
                  <a:pt x="262" y="533"/>
                </a:cubicBezTo>
                <a:cubicBezTo>
                  <a:pt x="263" y="537"/>
                  <a:pt x="261" y="539"/>
                  <a:pt x="259" y="542"/>
                </a:cubicBezTo>
                <a:cubicBezTo>
                  <a:pt x="262" y="541"/>
                  <a:pt x="262" y="545"/>
                  <a:pt x="262" y="547"/>
                </a:cubicBezTo>
                <a:cubicBezTo>
                  <a:pt x="261" y="549"/>
                  <a:pt x="260" y="552"/>
                  <a:pt x="258" y="553"/>
                </a:cubicBezTo>
                <a:cubicBezTo>
                  <a:pt x="244" y="550"/>
                  <a:pt x="243" y="562"/>
                  <a:pt x="237" y="566"/>
                </a:cubicBezTo>
                <a:cubicBezTo>
                  <a:pt x="233" y="568"/>
                  <a:pt x="230" y="568"/>
                  <a:pt x="229" y="573"/>
                </a:cubicBezTo>
                <a:cubicBezTo>
                  <a:pt x="230" y="573"/>
                  <a:pt x="232" y="572"/>
                  <a:pt x="231" y="574"/>
                </a:cubicBezTo>
                <a:cubicBezTo>
                  <a:pt x="227" y="580"/>
                  <a:pt x="221" y="583"/>
                  <a:pt x="221" y="592"/>
                </a:cubicBezTo>
                <a:cubicBezTo>
                  <a:pt x="225" y="596"/>
                  <a:pt x="220" y="604"/>
                  <a:pt x="215" y="603"/>
                </a:cubicBezTo>
                <a:cubicBezTo>
                  <a:pt x="217" y="607"/>
                  <a:pt x="215" y="608"/>
                  <a:pt x="214" y="611"/>
                </a:cubicBezTo>
                <a:cubicBezTo>
                  <a:pt x="221" y="612"/>
                  <a:pt x="227" y="616"/>
                  <a:pt x="233" y="617"/>
                </a:cubicBezTo>
                <a:cubicBezTo>
                  <a:pt x="241" y="619"/>
                  <a:pt x="252" y="615"/>
                  <a:pt x="259" y="615"/>
                </a:cubicBezTo>
                <a:cubicBezTo>
                  <a:pt x="265" y="615"/>
                  <a:pt x="273" y="622"/>
                  <a:pt x="281" y="619"/>
                </a:cubicBezTo>
                <a:cubicBezTo>
                  <a:pt x="269" y="621"/>
                  <a:pt x="263" y="628"/>
                  <a:pt x="255" y="634"/>
                </a:cubicBezTo>
                <a:cubicBezTo>
                  <a:pt x="232" y="636"/>
                  <a:pt x="212" y="624"/>
                  <a:pt x="196" y="630"/>
                </a:cubicBezTo>
                <a:cubicBezTo>
                  <a:pt x="192" y="641"/>
                  <a:pt x="209" y="638"/>
                  <a:pt x="204" y="645"/>
                </a:cubicBezTo>
                <a:cubicBezTo>
                  <a:pt x="208" y="642"/>
                  <a:pt x="217" y="644"/>
                  <a:pt x="218" y="650"/>
                </a:cubicBezTo>
                <a:cubicBezTo>
                  <a:pt x="210" y="649"/>
                  <a:pt x="209" y="655"/>
                  <a:pt x="206" y="658"/>
                </a:cubicBezTo>
                <a:cubicBezTo>
                  <a:pt x="211" y="655"/>
                  <a:pt x="218" y="655"/>
                  <a:pt x="219" y="648"/>
                </a:cubicBezTo>
                <a:cubicBezTo>
                  <a:pt x="223" y="649"/>
                  <a:pt x="221" y="651"/>
                  <a:pt x="222" y="652"/>
                </a:cubicBezTo>
                <a:cubicBezTo>
                  <a:pt x="222" y="651"/>
                  <a:pt x="224" y="651"/>
                  <a:pt x="225" y="651"/>
                </a:cubicBezTo>
                <a:cubicBezTo>
                  <a:pt x="234" y="657"/>
                  <a:pt x="249" y="651"/>
                  <a:pt x="256" y="658"/>
                </a:cubicBezTo>
                <a:cubicBezTo>
                  <a:pt x="252" y="671"/>
                  <a:pt x="237" y="674"/>
                  <a:pt x="234" y="689"/>
                </a:cubicBezTo>
                <a:cubicBezTo>
                  <a:pt x="231" y="688"/>
                  <a:pt x="231" y="690"/>
                  <a:pt x="229" y="691"/>
                </a:cubicBezTo>
                <a:cubicBezTo>
                  <a:pt x="230" y="694"/>
                  <a:pt x="231" y="697"/>
                  <a:pt x="230" y="701"/>
                </a:cubicBezTo>
                <a:cubicBezTo>
                  <a:pt x="218" y="704"/>
                  <a:pt x="215" y="717"/>
                  <a:pt x="201" y="719"/>
                </a:cubicBezTo>
                <a:cubicBezTo>
                  <a:pt x="198" y="725"/>
                  <a:pt x="196" y="728"/>
                  <a:pt x="196" y="735"/>
                </a:cubicBezTo>
                <a:cubicBezTo>
                  <a:pt x="186" y="742"/>
                  <a:pt x="177" y="752"/>
                  <a:pt x="177" y="765"/>
                </a:cubicBezTo>
                <a:cubicBezTo>
                  <a:pt x="178" y="767"/>
                  <a:pt x="183" y="764"/>
                  <a:pt x="183" y="766"/>
                </a:cubicBezTo>
                <a:cubicBezTo>
                  <a:pt x="181" y="766"/>
                  <a:pt x="182" y="768"/>
                  <a:pt x="183" y="769"/>
                </a:cubicBezTo>
                <a:cubicBezTo>
                  <a:pt x="180" y="769"/>
                  <a:pt x="179" y="770"/>
                  <a:pt x="177" y="771"/>
                </a:cubicBezTo>
                <a:cubicBezTo>
                  <a:pt x="180" y="773"/>
                  <a:pt x="184" y="772"/>
                  <a:pt x="186" y="774"/>
                </a:cubicBezTo>
                <a:cubicBezTo>
                  <a:pt x="185" y="776"/>
                  <a:pt x="180" y="776"/>
                  <a:pt x="179" y="779"/>
                </a:cubicBezTo>
                <a:cubicBezTo>
                  <a:pt x="185" y="779"/>
                  <a:pt x="190" y="779"/>
                  <a:pt x="191" y="774"/>
                </a:cubicBezTo>
                <a:cubicBezTo>
                  <a:pt x="194" y="775"/>
                  <a:pt x="195" y="776"/>
                  <a:pt x="197" y="778"/>
                </a:cubicBezTo>
                <a:cubicBezTo>
                  <a:pt x="197" y="780"/>
                  <a:pt x="195" y="781"/>
                  <a:pt x="194" y="783"/>
                </a:cubicBezTo>
                <a:cubicBezTo>
                  <a:pt x="199" y="780"/>
                  <a:pt x="205" y="777"/>
                  <a:pt x="210" y="781"/>
                </a:cubicBezTo>
                <a:cubicBezTo>
                  <a:pt x="203" y="785"/>
                  <a:pt x="199" y="793"/>
                  <a:pt x="192" y="798"/>
                </a:cubicBezTo>
                <a:cubicBezTo>
                  <a:pt x="188" y="797"/>
                  <a:pt x="187" y="800"/>
                  <a:pt x="184" y="800"/>
                </a:cubicBezTo>
                <a:cubicBezTo>
                  <a:pt x="178" y="811"/>
                  <a:pt x="164" y="813"/>
                  <a:pt x="157" y="821"/>
                </a:cubicBezTo>
                <a:cubicBezTo>
                  <a:pt x="159" y="822"/>
                  <a:pt x="161" y="819"/>
                  <a:pt x="162" y="821"/>
                </a:cubicBezTo>
                <a:cubicBezTo>
                  <a:pt x="162" y="824"/>
                  <a:pt x="161" y="825"/>
                  <a:pt x="161" y="827"/>
                </a:cubicBezTo>
                <a:cubicBezTo>
                  <a:pt x="163" y="827"/>
                  <a:pt x="165" y="828"/>
                  <a:pt x="166" y="829"/>
                </a:cubicBezTo>
                <a:cubicBezTo>
                  <a:pt x="166" y="831"/>
                  <a:pt x="165" y="834"/>
                  <a:pt x="164" y="835"/>
                </a:cubicBezTo>
                <a:cubicBezTo>
                  <a:pt x="167" y="836"/>
                  <a:pt x="167" y="834"/>
                  <a:pt x="170" y="834"/>
                </a:cubicBezTo>
                <a:cubicBezTo>
                  <a:pt x="173" y="836"/>
                  <a:pt x="168" y="839"/>
                  <a:pt x="171" y="840"/>
                </a:cubicBezTo>
                <a:cubicBezTo>
                  <a:pt x="172" y="839"/>
                  <a:pt x="174" y="837"/>
                  <a:pt x="177" y="837"/>
                </a:cubicBezTo>
                <a:cubicBezTo>
                  <a:pt x="174" y="843"/>
                  <a:pt x="166" y="842"/>
                  <a:pt x="165" y="849"/>
                </a:cubicBezTo>
                <a:cubicBezTo>
                  <a:pt x="171" y="853"/>
                  <a:pt x="177" y="848"/>
                  <a:pt x="181" y="844"/>
                </a:cubicBezTo>
                <a:cubicBezTo>
                  <a:pt x="188" y="844"/>
                  <a:pt x="190" y="839"/>
                  <a:pt x="195" y="836"/>
                </a:cubicBezTo>
                <a:cubicBezTo>
                  <a:pt x="194" y="834"/>
                  <a:pt x="192" y="829"/>
                  <a:pt x="195" y="828"/>
                </a:cubicBezTo>
                <a:cubicBezTo>
                  <a:pt x="198" y="829"/>
                  <a:pt x="198" y="828"/>
                  <a:pt x="201" y="828"/>
                </a:cubicBezTo>
                <a:cubicBezTo>
                  <a:pt x="201" y="829"/>
                  <a:pt x="201" y="831"/>
                  <a:pt x="202" y="832"/>
                </a:cubicBezTo>
                <a:cubicBezTo>
                  <a:pt x="204" y="829"/>
                  <a:pt x="209" y="829"/>
                  <a:pt x="212" y="827"/>
                </a:cubicBezTo>
                <a:cubicBezTo>
                  <a:pt x="212" y="828"/>
                  <a:pt x="214" y="828"/>
                  <a:pt x="214" y="829"/>
                </a:cubicBezTo>
                <a:cubicBezTo>
                  <a:pt x="214" y="834"/>
                  <a:pt x="214" y="834"/>
                  <a:pt x="214" y="834"/>
                </a:cubicBezTo>
                <a:cubicBezTo>
                  <a:pt x="207" y="834"/>
                  <a:pt x="206" y="841"/>
                  <a:pt x="201" y="844"/>
                </a:cubicBezTo>
                <a:cubicBezTo>
                  <a:pt x="207" y="841"/>
                  <a:pt x="209" y="842"/>
                  <a:pt x="217" y="843"/>
                </a:cubicBezTo>
                <a:cubicBezTo>
                  <a:pt x="216" y="845"/>
                  <a:pt x="214" y="845"/>
                  <a:pt x="214" y="847"/>
                </a:cubicBezTo>
                <a:cubicBezTo>
                  <a:pt x="215" y="848"/>
                  <a:pt x="217" y="848"/>
                  <a:pt x="218" y="849"/>
                </a:cubicBezTo>
                <a:cubicBezTo>
                  <a:pt x="216" y="853"/>
                  <a:pt x="213" y="860"/>
                  <a:pt x="208" y="860"/>
                </a:cubicBezTo>
                <a:cubicBezTo>
                  <a:pt x="208" y="863"/>
                  <a:pt x="211" y="862"/>
                  <a:pt x="210" y="865"/>
                </a:cubicBezTo>
                <a:cubicBezTo>
                  <a:pt x="197" y="876"/>
                  <a:pt x="185" y="889"/>
                  <a:pt x="169" y="898"/>
                </a:cubicBezTo>
                <a:cubicBezTo>
                  <a:pt x="169" y="897"/>
                  <a:pt x="168" y="897"/>
                  <a:pt x="168" y="896"/>
                </a:cubicBezTo>
                <a:cubicBezTo>
                  <a:pt x="167" y="892"/>
                  <a:pt x="173" y="890"/>
                  <a:pt x="172" y="888"/>
                </a:cubicBezTo>
                <a:cubicBezTo>
                  <a:pt x="165" y="891"/>
                  <a:pt x="162" y="898"/>
                  <a:pt x="154" y="900"/>
                </a:cubicBezTo>
                <a:cubicBezTo>
                  <a:pt x="153" y="903"/>
                  <a:pt x="156" y="906"/>
                  <a:pt x="152" y="908"/>
                </a:cubicBezTo>
                <a:cubicBezTo>
                  <a:pt x="149" y="908"/>
                  <a:pt x="147" y="908"/>
                  <a:pt x="144" y="909"/>
                </a:cubicBezTo>
                <a:cubicBezTo>
                  <a:pt x="141" y="921"/>
                  <a:pt x="124" y="923"/>
                  <a:pt x="119" y="931"/>
                </a:cubicBezTo>
                <a:cubicBezTo>
                  <a:pt x="117" y="931"/>
                  <a:pt x="107" y="936"/>
                  <a:pt x="108" y="939"/>
                </a:cubicBezTo>
                <a:cubicBezTo>
                  <a:pt x="114" y="935"/>
                  <a:pt x="117" y="932"/>
                  <a:pt x="125" y="930"/>
                </a:cubicBezTo>
                <a:cubicBezTo>
                  <a:pt x="124" y="930"/>
                  <a:pt x="123" y="929"/>
                  <a:pt x="123" y="927"/>
                </a:cubicBezTo>
                <a:cubicBezTo>
                  <a:pt x="139" y="919"/>
                  <a:pt x="157" y="910"/>
                  <a:pt x="170" y="901"/>
                </a:cubicBezTo>
                <a:cubicBezTo>
                  <a:pt x="170" y="903"/>
                  <a:pt x="170" y="904"/>
                  <a:pt x="172" y="903"/>
                </a:cubicBezTo>
                <a:cubicBezTo>
                  <a:pt x="174" y="897"/>
                  <a:pt x="179" y="894"/>
                  <a:pt x="185" y="892"/>
                </a:cubicBezTo>
                <a:cubicBezTo>
                  <a:pt x="187" y="891"/>
                  <a:pt x="184" y="888"/>
                  <a:pt x="187" y="887"/>
                </a:cubicBezTo>
                <a:cubicBezTo>
                  <a:pt x="189" y="890"/>
                  <a:pt x="192" y="886"/>
                  <a:pt x="193" y="888"/>
                </a:cubicBezTo>
                <a:cubicBezTo>
                  <a:pt x="193" y="892"/>
                  <a:pt x="190" y="895"/>
                  <a:pt x="187" y="893"/>
                </a:cubicBezTo>
                <a:cubicBezTo>
                  <a:pt x="183" y="898"/>
                  <a:pt x="180" y="903"/>
                  <a:pt x="176" y="908"/>
                </a:cubicBezTo>
                <a:cubicBezTo>
                  <a:pt x="178" y="908"/>
                  <a:pt x="181" y="905"/>
                  <a:pt x="182" y="907"/>
                </a:cubicBezTo>
                <a:cubicBezTo>
                  <a:pt x="183" y="919"/>
                  <a:pt x="166" y="918"/>
                  <a:pt x="164" y="925"/>
                </a:cubicBezTo>
                <a:cubicBezTo>
                  <a:pt x="175" y="921"/>
                  <a:pt x="188" y="915"/>
                  <a:pt x="199" y="914"/>
                </a:cubicBezTo>
                <a:cubicBezTo>
                  <a:pt x="200" y="912"/>
                  <a:pt x="201" y="911"/>
                  <a:pt x="204" y="911"/>
                </a:cubicBezTo>
                <a:cubicBezTo>
                  <a:pt x="204" y="914"/>
                  <a:pt x="201" y="914"/>
                  <a:pt x="199" y="915"/>
                </a:cubicBezTo>
                <a:cubicBezTo>
                  <a:pt x="202" y="915"/>
                  <a:pt x="203" y="916"/>
                  <a:pt x="203" y="918"/>
                </a:cubicBezTo>
                <a:cubicBezTo>
                  <a:pt x="196" y="933"/>
                  <a:pt x="176" y="935"/>
                  <a:pt x="165" y="947"/>
                </a:cubicBezTo>
                <a:cubicBezTo>
                  <a:pt x="170" y="948"/>
                  <a:pt x="172" y="945"/>
                  <a:pt x="174" y="943"/>
                </a:cubicBezTo>
                <a:cubicBezTo>
                  <a:pt x="185" y="944"/>
                  <a:pt x="191" y="934"/>
                  <a:pt x="199" y="929"/>
                </a:cubicBezTo>
                <a:cubicBezTo>
                  <a:pt x="209" y="924"/>
                  <a:pt x="222" y="921"/>
                  <a:pt x="231" y="915"/>
                </a:cubicBezTo>
                <a:cubicBezTo>
                  <a:pt x="232" y="917"/>
                  <a:pt x="234" y="917"/>
                  <a:pt x="236" y="917"/>
                </a:cubicBezTo>
                <a:cubicBezTo>
                  <a:pt x="238" y="916"/>
                  <a:pt x="239" y="915"/>
                  <a:pt x="242" y="915"/>
                </a:cubicBezTo>
                <a:cubicBezTo>
                  <a:pt x="242" y="918"/>
                  <a:pt x="238" y="918"/>
                  <a:pt x="238" y="920"/>
                </a:cubicBezTo>
                <a:cubicBezTo>
                  <a:pt x="240" y="923"/>
                  <a:pt x="245" y="920"/>
                  <a:pt x="247" y="921"/>
                </a:cubicBezTo>
                <a:cubicBezTo>
                  <a:pt x="241" y="923"/>
                  <a:pt x="242" y="927"/>
                  <a:pt x="238" y="930"/>
                </a:cubicBezTo>
                <a:cubicBezTo>
                  <a:pt x="237" y="928"/>
                  <a:pt x="234" y="928"/>
                  <a:pt x="232" y="927"/>
                </a:cubicBezTo>
                <a:cubicBezTo>
                  <a:pt x="231" y="930"/>
                  <a:pt x="228" y="931"/>
                  <a:pt x="225" y="932"/>
                </a:cubicBezTo>
                <a:cubicBezTo>
                  <a:pt x="225" y="934"/>
                  <a:pt x="224" y="938"/>
                  <a:pt x="226" y="939"/>
                </a:cubicBezTo>
                <a:cubicBezTo>
                  <a:pt x="233" y="932"/>
                  <a:pt x="239" y="930"/>
                  <a:pt x="251" y="929"/>
                </a:cubicBezTo>
                <a:cubicBezTo>
                  <a:pt x="250" y="932"/>
                  <a:pt x="252" y="933"/>
                  <a:pt x="251" y="936"/>
                </a:cubicBezTo>
                <a:cubicBezTo>
                  <a:pt x="251" y="936"/>
                  <a:pt x="250" y="937"/>
                  <a:pt x="250" y="937"/>
                </a:cubicBezTo>
                <a:cubicBezTo>
                  <a:pt x="247" y="936"/>
                  <a:pt x="243" y="936"/>
                  <a:pt x="240" y="936"/>
                </a:cubicBezTo>
                <a:cubicBezTo>
                  <a:pt x="234" y="943"/>
                  <a:pt x="227" y="949"/>
                  <a:pt x="221" y="956"/>
                </a:cubicBezTo>
                <a:cubicBezTo>
                  <a:pt x="214" y="957"/>
                  <a:pt x="211" y="962"/>
                  <a:pt x="207" y="966"/>
                </a:cubicBezTo>
                <a:cubicBezTo>
                  <a:pt x="206" y="966"/>
                  <a:pt x="202" y="967"/>
                  <a:pt x="205" y="967"/>
                </a:cubicBezTo>
                <a:cubicBezTo>
                  <a:pt x="212" y="968"/>
                  <a:pt x="212" y="961"/>
                  <a:pt x="220" y="964"/>
                </a:cubicBezTo>
                <a:cubicBezTo>
                  <a:pt x="221" y="958"/>
                  <a:pt x="229" y="960"/>
                  <a:pt x="231" y="956"/>
                </a:cubicBezTo>
                <a:cubicBezTo>
                  <a:pt x="234" y="958"/>
                  <a:pt x="233" y="959"/>
                  <a:pt x="234" y="961"/>
                </a:cubicBezTo>
                <a:cubicBezTo>
                  <a:pt x="234" y="958"/>
                  <a:pt x="238" y="963"/>
                  <a:pt x="237" y="959"/>
                </a:cubicBezTo>
                <a:cubicBezTo>
                  <a:pt x="236" y="958"/>
                  <a:pt x="233" y="960"/>
                  <a:pt x="234" y="955"/>
                </a:cubicBezTo>
                <a:cubicBezTo>
                  <a:pt x="236" y="954"/>
                  <a:pt x="238" y="950"/>
                  <a:pt x="240" y="952"/>
                </a:cubicBezTo>
                <a:cubicBezTo>
                  <a:pt x="241" y="956"/>
                  <a:pt x="235" y="954"/>
                  <a:pt x="238" y="957"/>
                </a:cubicBezTo>
                <a:cubicBezTo>
                  <a:pt x="240" y="956"/>
                  <a:pt x="243" y="956"/>
                  <a:pt x="246" y="955"/>
                </a:cubicBezTo>
                <a:cubicBezTo>
                  <a:pt x="242" y="950"/>
                  <a:pt x="251" y="954"/>
                  <a:pt x="252" y="952"/>
                </a:cubicBezTo>
                <a:cubicBezTo>
                  <a:pt x="248" y="950"/>
                  <a:pt x="253" y="948"/>
                  <a:pt x="253" y="946"/>
                </a:cubicBezTo>
                <a:cubicBezTo>
                  <a:pt x="249" y="944"/>
                  <a:pt x="250" y="949"/>
                  <a:pt x="248" y="947"/>
                </a:cubicBezTo>
                <a:cubicBezTo>
                  <a:pt x="248" y="946"/>
                  <a:pt x="249" y="945"/>
                  <a:pt x="251" y="944"/>
                </a:cubicBezTo>
                <a:cubicBezTo>
                  <a:pt x="258" y="946"/>
                  <a:pt x="261" y="934"/>
                  <a:pt x="266" y="936"/>
                </a:cubicBezTo>
                <a:cubicBezTo>
                  <a:pt x="263" y="938"/>
                  <a:pt x="265" y="939"/>
                  <a:pt x="264" y="942"/>
                </a:cubicBezTo>
                <a:cubicBezTo>
                  <a:pt x="261" y="940"/>
                  <a:pt x="260" y="947"/>
                  <a:pt x="256" y="948"/>
                </a:cubicBezTo>
                <a:cubicBezTo>
                  <a:pt x="258" y="949"/>
                  <a:pt x="257" y="955"/>
                  <a:pt x="254" y="957"/>
                </a:cubicBezTo>
                <a:cubicBezTo>
                  <a:pt x="262" y="956"/>
                  <a:pt x="271" y="953"/>
                  <a:pt x="272" y="963"/>
                </a:cubicBezTo>
                <a:cubicBezTo>
                  <a:pt x="269" y="966"/>
                  <a:pt x="259" y="967"/>
                  <a:pt x="262" y="972"/>
                </a:cubicBezTo>
                <a:cubicBezTo>
                  <a:pt x="266" y="967"/>
                  <a:pt x="273" y="964"/>
                  <a:pt x="278" y="960"/>
                </a:cubicBezTo>
                <a:cubicBezTo>
                  <a:pt x="277" y="959"/>
                  <a:pt x="273" y="961"/>
                  <a:pt x="273" y="959"/>
                </a:cubicBezTo>
                <a:cubicBezTo>
                  <a:pt x="276" y="959"/>
                  <a:pt x="278" y="957"/>
                  <a:pt x="276" y="955"/>
                </a:cubicBezTo>
                <a:cubicBezTo>
                  <a:pt x="276" y="953"/>
                  <a:pt x="272" y="955"/>
                  <a:pt x="272" y="952"/>
                </a:cubicBezTo>
                <a:cubicBezTo>
                  <a:pt x="277" y="948"/>
                  <a:pt x="283" y="945"/>
                  <a:pt x="289" y="941"/>
                </a:cubicBezTo>
                <a:cubicBezTo>
                  <a:pt x="292" y="944"/>
                  <a:pt x="286" y="947"/>
                  <a:pt x="290" y="949"/>
                </a:cubicBezTo>
                <a:cubicBezTo>
                  <a:pt x="287" y="953"/>
                  <a:pt x="283" y="956"/>
                  <a:pt x="280" y="960"/>
                </a:cubicBezTo>
                <a:cubicBezTo>
                  <a:pt x="283" y="959"/>
                  <a:pt x="281" y="963"/>
                  <a:pt x="282" y="965"/>
                </a:cubicBezTo>
                <a:cubicBezTo>
                  <a:pt x="275" y="968"/>
                  <a:pt x="273" y="977"/>
                  <a:pt x="263" y="978"/>
                </a:cubicBezTo>
                <a:cubicBezTo>
                  <a:pt x="266" y="983"/>
                  <a:pt x="257" y="979"/>
                  <a:pt x="257" y="983"/>
                </a:cubicBezTo>
                <a:cubicBezTo>
                  <a:pt x="271" y="983"/>
                  <a:pt x="278" y="967"/>
                  <a:pt x="296" y="968"/>
                </a:cubicBezTo>
                <a:cubicBezTo>
                  <a:pt x="298" y="973"/>
                  <a:pt x="297" y="975"/>
                  <a:pt x="300" y="978"/>
                </a:cubicBezTo>
                <a:cubicBezTo>
                  <a:pt x="297" y="992"/>
                  <a:pt x="280" y="991"/>
                  <a:pt x="273" y="1001"/>
                </a:cubicBezTo>
                <a:cubicBezTo>
                  <a:pt x="276" y="1001"/>
                  <a:pt x="278" y="998"/>
                  <a:pt x="279" y="1002"/>
                </a:cubicBezTo>
                <a:cubicBezTo>
                  <a:pt x="279" y="1006"/>
                  <a:pt x="275" y="1007"/>
                  <a:pt x="274" y="1011"/>
                </a:cubicBezTo>
                <a:cubicBezTo>
                  <a:pt x="277" y="1011"/>
                  <a:pt x="280" y="1010"/>
                  <a:pt x="280" y="1013"/>
                </a:cubicBezTo>
                <a:cubicBezTo>
                  <a:pt x="278" y="1017"/>
                  <a:pt x="269" y="1020"/>
                  <a:pt x="265" y="1015"/>
                </a:cubicBezTo>
                <a:cubicBezTo>
                  <a:pt x="256" y="1023"/>
                  <a:pt x="242" y="1026"/>
                  <a:pt x="234" y="1036"/>
                </a:cubicBezTo>
                <a:cubicBezTo>
                  <a:pt x="240" y="1036"/>
                  <a:pt x="237" y="1041"/>
                  <a:pt x="240" y="1043"/>
                </a:cubicBezTo>
                <a:cubicBezTo>
                  <a:pt x="243" y="1041"/>
                  <a:pt x="246" y="1040"/>
                  <a:pt x="251" y="1039"/>
                </a:cubicBezTo>
                <a:cubicBezTo>
                  <a:pt x="251" y="1042"/>
                  <a:pt x="247" y="1041"/>
                  <a:pt x="248" y="1044"/>
                </a:cubicBezTo>
                <a:cubicBezTo>
                  <a:pt x="258" y="1041"/>
                  <a:pt x="273" y="1045"/>
                  <a:pt x="280" y="1034"/>
                </a:cubicBezTo>
                <a:cubicBezTo>
                  <a:pt x="277" y="1034"/>
                  <a:pt x="276" y="1034"/>
                  <a:pt x="276" y="1031"/>
                </a:cubicBezTo>
                <a:cubicBezTo>
                  <a:pt x="278" y="1023"/>
                  <a:pt x="285" y="1020"/>
                  <a:pt x="290" y="1015"/>
                </a:cubicBezTo>
                <a:cubicBezTo>
                  <a:pt x="296" y="1015"/>
                  <a:pt x="304" y="1015"/>
                  <a:pt x="311" y="1015"/>
                </a:cubicBezTo>
                <a:cubicBezTo>
                  <a:pt x="314" y="1006"/>
                  <a:pt x="323" y="1003"/>
                  <a:pt x="327" y="995"/>
                </a:cubicBezTo>
                <a:cubicBezTo>
                  <a:pt x="326" y="991"/>
                  <a:pt x="327" y="989"/>
                  <a:pt x="328" y="986"/>
                </a:cubicBezTo>
                <a:cubicBezTo>
                  <a:pt x="326" y="985"/>
                  <a:pt x="326" y="982"/>
                  <a:pt x="325" y="980"/>
                </a:cubicBezTo>
                <a:cubicBezTo>
                  <a:pt x="328" y="973"/>
                  <a:pt x="341" y="971"/>
                  <a:pt x="338" y="985"/>
                </a:cubicBezTo>
                <a:cubicBezTo>
                  <a:pt x="342" y="986"/>
                  <a:pt x="345" y="990"/>
                  <a:pt x="349" y="992"/>
                </a:cubicBezTo>
                <a:cubicBezTo>
                  <a:pt x="350" y="996"/>
                  <a:pt x="347" y="996"/>
                  <a:pt x="347" y="999"/>
                </a:cubicBezTo>
                <a:cubicBezTo>
                  <a:pt x="349" y="999"/>
                  <a:pt x="351" y="1003"/>
                  <a:pt x="349" y="1005"/>
                </a:cubicBezTo>
                <a:cubicBezTo>
                  <a:pt x="356" y="1006"/>
                  <a:pt x="363" y="1007"/>
                  <a:pt x="364" y="1011"/>
                </a:cubicBezTo>
                <a:cubicBezTo>
                  <a:pt x="369" y="1008"/>
                  <a:pt x="375" y="1011"/>
                  <a:pt x="378" y="1015"/>
                </a:cubicBezTo>
                <a:cubicBezTo>
                  <a:pt x="378" y="1017"/>
                  <a:pt x="375" y="1016"/>
                  <a:pt x="376" y="1018"/>
                </a:cubicBezTo>
                <a:cubicBezTo>
                  <a:pt x="379" y="1019"/>
                  <a:pt x="380" y="1016"/>
                  <a:pt x="381" y="1019"/>
                </a:cubicBezTo>
                <a:cubicBezTo>
                  <a:pt x="381" y="1021"/>
                  <a:pt x="378" y="1020"/>
                  <a:pt x="378" y="1022"/>
                </a:cubicBezTo>
                <a:cubicBezTo>
                  <a:pt x="382" y="1022"/>
                  <a:pt x="383" y="1020"/>
                  <a:pt x="387" y="1020"/>
                </a:cubicBezTo>
                <a:cubicBezTo>
                  <a:pt x="389" y="1023"/>
                  <a:pt x="388" y="1024"/>
                  <a:pt x="390" y="1027"/>
                </a:cubicBezTo>
                <a:cubicBezTo>
                  <a:pt x="394" y="1025"/>
                  <a:pt x="396" y="1030"/>
                  <a:pt x="398" y="1033"/>
                </a:cubicBezTo>
                <a:cubicBezTo>
                  <a:pt x="385" y="1041"/>
                  <a:pt x="383" y="1053"/>
                  <a:pt x="378" y="1067"/>
                </a:cubicBezTo>
                <a:cubicBezTo>
                  <a:pt x="387" y="1070"/>
                  <a:pt x="401" y="1068"/>
                  <a:pt x="402" y="1080"/>
                </a:cubicBezTo>
                <a:cubicBezTo>
                  <a:pt x="407" y="1084"/>
                  <a:pt x="411" y="1089"/>
                  <a:pt x="417" y="1092"/>
                </a:cubicBezTo>
                <a:cubicBezTo>
                  <a:pt x="415" y="1096"/>
                  <a:pt x="418" y="1100"/>
                  <a:pt x="416" y="1103"/>
                </a:cubicBezTo>
                <a:cubicBezTo>
                  <a:pt x="420" y="1104"/>
                  <a:pt x="424" y="1105"/>
                  <a:pt x="428" y="1106"/>
                </a:cubicBezTo>
                <a:cubicBezTo>
                  <a:pt x="433" y="1104"/>
                  <a:pt x="435" y="1099"/>
                  <a:pt x="440" y="1096"/>
                </a:cubicBezTo>
                <a:cubicBezTo>
                  <a:pt x="451" y="1082"/>
                  <a:pt x="471" y="1076"/>
                  <a:pt x="486" y="1066"/>
                </a:cubicBezTo>
                <a:cubicBezTo>
                  <a:pt x="493" y="1070"/>
                  <a:pt x="499" y="1058"/>
                  <a:pt x="504" y="1054"/>
                </a:cubicBezTo>
                <a:cubicBezTo>
                  <a:pt x="507" y="1054"/>
                  <a:pt x="508" y="1057"/>
                  <a:pt x="512" y="1056"/>
                </a:cubicBezTo>
                <a:cubicBezTo>
                  <a:pt x="512" y="1049"/>
                  <a:pt x="522" y="1050"/>
                  <a:pt x="524" y="1051"/>
                </a:cubicBezTo>
                <a:cubicBezTo>
                  <a:pt x="520" y="1049"/>
                  <a:pt x="527" y="1043"/>
                  <a:pt x="530" y="1042"/>
                </a:cubicBezTo>
                <a:cubicBezTo>
                  <a:pt x="530" y="1048"/>
                  <a:pt x="540" y="1051"/>
                  <a:pt x="541" y="1059"/>
                </a:cubicBezTo>
                <a:cubicBezTo>
                  <a:pt x="538" y="1058"/>
                  <a:pt x="537" y="1062"/>
                  <a:pt x="533" y="1059"/>
                </a:cubicBezTo>
                <a:cubicBezTo>
                  <a:pt x="532" y="1065"/>
                  <a:pt x="533" y="1067"/>
                  <a:pt x="533" y="1073"/>
                </a:cubicBezTo>
                <a:cubicBezTo>
                  <a:pt x="537" y="1073"/>
                  <a:pt x="537" y="1078"/>
                  <a:pt x="541" y="1078"/>
                </a:cubicBezTo>
                <a:cubicBezTo>
                  <a:pt x="542" y="1074"/>
                  <a:pt x="540" y="1072"/>
                  <a:pt x="545" y="1072"/>
                </a:cubicBezTo>
                <a:cubicBezTo>
                  <a:pt x="545" y="1075"/>
                  <a:pt x="540" y="1077"/>
                  <a:pt x="545" y="1077"/>
                </a:cubicBezTo>
                <a:cubicBezTo>
                  <a:pt x="547" y="1078"/>
                  <a:pt x="544" y="1073"/>
                  <a:pt x="546" y="1073"/>
                </a:cubicBezTo>
                <a:cubicBezTo>
                  <a:pt x="549" y="1074"/>
                  <a:pt x="553" y="1074"/>
                  <a:pt x="553" y="1078"/>
                </a:cubicBezTo>
                <a:cubicBezTo>
                  <a:pt x="551" y="1078"/>
                  <a:pt x="551" y="1076"/>
                  <a:pt x="548" y="1077"/>
                </a:cubicBezTo>
                <a:cubicBezTo>
                  <a:pt x="548" y="1081"/>
                  <a:pt x="548" y="1085"/>
                  <a:pt x="545" y="1085"/>
                </a:cubicBezTo>
                <a:cubicBezTo>
                  <a:pt x="546" y="1080"/>
                  <a:pt x="541" y="1086"/>
                  <a:pt x="541" y="1082"/>
                </a:cubicBezTo>
                <a:cubicBezTo>
                  <a:pt x="542" y="1080"/>
                  <a:pt x="544" y="1079"/>
                  <a:pt x="541" y="1078"/>
                </a:cubicBezTo>
                <a:cubicBezTo>
                  <a:pt x="539" y="1079"/>
                  <a:pt x="541" y="1082"/>
                  <a:pt x="538" y="1082"/>
                </a:cubicBezTo>
                <a:cubicBezTo>
                  <a:pt x="541" y="1079"/>
                  <a:pt x="533" y="1082"/>
                  <a:pt x="532" y="1078"/>
                </a:cubicBezTo>
                <a:cubicBezTo>
                  <a:pt x="531" y="1080"/>
                  <a:pt x="530" y="1082"/>
                  <a:pt x="529" y="1085"/>
                </a:cubicBezTo>
                <a:cubicBezTo>
                  <a:pt x="533" y="1085"/>
                  <a:pt x="536" y="1088"/>
                  <a:pt x="533" y="1090"/>
                </a:cubicBezTo>
                <a:cubicBezTo>
                  <a:pt x="534" y="1091"/>
                  <a:pt x="538" y="1089"/>
                  <a:pt x="538" y="1091"/>
                </a:cubicBezTo>
                <a:cubicBezTo>
                  <a:pt x="529" y="1095"/>
                  <a:pt x="513" y="1093"/>
                  <a:pt x="508" y="1101"/>
                </a:cubicBezTo>
                <a:cubicBezTo>
                  <a:pt x="518" y="1101"/>
                  <a:pt x="530" y="1093"/>
                  <a:pt x="539" y="1097"/>
                </a:cubicBezTo>
                <a:cubicBezTo>
                  <a:pt x="538" y="1103"/>
                  <a:pt x="532" y="1097"/>
                  <a:pt x="531" y="1101"/>
                </a:cubicBezTo>
                <a:cubicBezTo>
                  <a:pt x="533" y="1104"/>
                  <a:pt x="541" y="1101"/>
                  <a:pt x="541" y="1106"/>
                </a:cubicBezTo>
                <a:cubicBezTo>
                  <a:pt x="541" y="1108"/>
                  <a:pt x="537" y="1107"/>
                  <a:pt x="537" y="1110"/>
                </a:cubicBezTo>
                <a:cubicBezTo>
                  <a:pt x="544" y="1109"/>
                  <a:pt x="552" y="1104"/>
                  <a:pt x="552" y="1098"/>
                </a:cubicBezTo>
                <a:cubicBezTo>
                  <a:pt x="570" y="1092"/>
                  <a:pt x="580" y="1083"/>
                  <a:pt x="601" y="1083"/>
                </a:cubicBezTo>
                <a:cubicBezTo>
                  <a:pt x="608" y="1079"/>
                  <a:pt x="621" y="1083"/>
                  <a:pt x="627" y="1088"/>
                </a:cubicBezTo>
                <a:cubicBezTo>
                  <a:pt x="639" y="1088"/>
                  <a:pt x="638" y="1074"/>
                  <a:pt x="651" y="1074"/>
                </a:cubicBezTo>
                <a:cubicBezTo>
                  <a:pt x="652" y="1077"/>
                  <a:pt x="650" y="1077"/>
                  <a:pt x="650" y="1079"/>
                </a:cubicBezTo>
                <a:cubicBezTo>
                  <a:pt x="665" y="1076"/>
                  <a:pt x="677" y="1070"/>
                  <a:pt x="688" y="1064"/>
                </a:cubicBezTo>
                <a:cubicBezTo>
                  <a:pt x="694" y="1064"/>
                  <a:pt x="699" y="1063"/>
                  <a:pt x="701" y="1059"/>
                </a:cubicBezTo>
                <a:cubicBezTo>
                  <a:pt x="693" y="1057"/>
                  <a:pt x="682" y="1067"/>
                  <a:pt x="672" y="1060"/>
                </a:cubicBezTo>
                <a:cubicBezTo>
                  <a:pt x="683" y="1053"/>
                  <a:pt x="695" y="1048"/>
                  <a:pt x="710" y="1044"/>
                </a:cubicBezTo>
                <a:cubicBezTo>
                  <a:pt x="712" y="1042"/>
                  <a:pt x="712" y="1039"/>
                  <a:pt x="714" y="1038"/>
                </a:cubicBezTo>
                <a:cubicBezTo>
                  <a:pt x="722" y="1040"/>
                  <a:pt x="729" y="1035"/>
                  <a:pt x="735" y="1031"/>
                </a:cubicBezTo>
                <a:cubicBezTo>
                  <a:pt x="736" y="1035"/>
                  <a:pt x="733" y="1036"/>
                  <a:pt x="735" y="1038"/>
                </a:cubicBezTo>
                <a:cubicBezTo>
                  <a:pt x="737" y="1040"/>
                  <a:pt x="739" y="1038"/>
                  <a:pt x="742" y="1038"/>
                </a:cubicBezTo>
                <a:cubicBezTo>
                  <a:pt x="742" y="1040"/>
                  <a:pt x="740" y="1040"/>
                  <a:pt x="742" y="1041"/>
                </a:cubicBezTo>
                <a:cubicBezTo>
                  <a:pt x="755" y="1034"/>
                  <a:pt x="772" y="1031"/>
                  <a:pt x="783" y="1021"/>
                </a:cubicBezTo>
                <a:cubicBezTo>
                  <a:pt x="788" y="1020"/>
                  <a:pt x="793" y="1023"/>
                  <a:pt x="797" y="1020"/>
                </a:cubicBezTo>
                <a:cubicBezTo>
                  <a:pt x="796" y="1024"/>
                  <a:pt x="800" y="1023"/>
                  <a:pt x="800" y="1025"/>
                </a:cubicBezTo>
                <a:cubicBezTo>
                  <a:pt x="793" y="1032"/>
                  <a:pt x="780" y="1028"/>
                  <a:pt x="777" y="1040"/>
                </a:cubicBezTo>
                <a:cubicBezTo>
                  <a:pt x="753" y="1052"/>
                  <a:pt x="724" y="1060"/>
                  <a:pt x="702" y="1074"/>
                </a:cubicBezTo>
                <a:cubicBezTo>
                  <a:pt x="700" y="1074"/>
                  <a:pt x="700" y="1073"/>
                  <a:pt x="699" y="1073"/>
                </a:cubicBezTo>
                <a:cubicBezTo>
                  <a:pt x="680" y="1080"/>
                  <a:pt x="661" y="1085"/>
                  <a:pt x="645" y="1094"/>
                </a:cubicBezTo>
                <a:cubicBezTo>
                  <a:pt x="656" y="1092"/>
                  <a:pt x="665" y="1087"/>
                  <a:pt x="673" y="1087"/>
                </a:cubicBezTo>
                <a:cubicBezTo>
                  <a:pt x="671" y="1094"/>
                  <a:pt x="663" y="1097"/>
                  <a:pt x="657" y="1095"/>
                </a:cubicBezTo>
                <a:cubicBezTo>
                  <a:pt x="657" y="1096"/>
                  <a:pt x="659" y="1096"/>
                  <a:pt x="659" y="1097"/>
                </a:cubicBezTo>
                <a:cubicBezTo>
                  <a:pt x="653" y="1100"/>
                  <a:pt x="646" y="1101"/>
                  <a:pt x="641" y="1104"/>
                </a:cubicBezTo>
                <a:cubicBezTo>
                  <a:pt x="659" y="1107"/>
                  <a:pt x="666" y="1090"/>
                  <a:pt x="680" y="1097"/>
                </a:cubicBezTo>
                <a:cubicBezTo>
                  <a:pt x="680" y="1098"/>
                  <a:pt x="678" y="1101"/>
                  <a:pt x="680" y="1101"/>
                </a:cubicBezTo>
                <a:cubicBezTo>
                  <a:pt x="681" y="1099"/>
                  <a:pt x="684" y="1101"/>
                  <a:pt x="686" y="1101"/>
                </a:cubicBezTo>
                <a:cubicBezTo>
                  <a:pt x="687" y="1099"/>
                  <a:pt x="688" y="1097"/>
                  <a:pt x="688" y="1094"/>
                </a:cubicBezTo>
                <a:cubicBezTo>
                  <a:pt x="694" y="1094"/>
                  <a:pt x="695" y="1086"/>
                  <a:pt x="701" y="1088"/>
                </a:cubicBezTo>
                <a:cubicBezTo>
                  <a:pt x="701" y="1087"/>
                  <a:pt x="701" y="1086"/>
                  <a:pt x="702" y="1086"/>
                </a:cubicBezTo>
                <a:cubicBezTo>
                  <a:pt x="702" y="1086"/>
                  <a:pt x="701" y="1086"/>
                  <a:pt x="701" y="1086"/>
                </a:cubicBezTo>
                <a:cubicBezTo>
                  <a:pt x="699" y="1086"/>
                  <a:pt x="698" y="1085"/>
                  <a:pt x="698" y="1083"/>
                </a:cubicBezTo>
                <a:cubicBezTo>
                  <a:pt x="701" y="1079"/>
                  <a:pt x="706" y="1077"/>
                  <a:pt x="709" y="1072"/>
                </a:cubicBezTo>
                <a:cubicBezTo>
                  <a:pt x="736" y="1068"/>
                  <a:pt x="755" y="1051"/>
                  <a:pt x="781" y="1048"/>
                </a:cubicBezTo>
                <a:cubicBezTo>
                  <a:pt x="779" y="1054"/>
                  <a:pt x="778" y="1059"/>
                  <a:pt x="779" y="1063"/>
                </a:cubicBezTo>
                <a:cubicBezTo>
                  <a:pt x="783" y="1064"/>
                  <a:pt x="785" y="1063"/>
                  <a:pt x="788" y="1062"/>
                </a:cubicBezTo>
                <a:cubicBezTo>
                  <a:pt x="792" y="1053"/>
                  <a:pt x="802" y="1054"/>
                  <a:pt x="808" y="1050"/>
                </a:cubicBezTo>
                <a:cubicBezTo>
                  <a:pt x="806" y="1040"/>
                  <a:pt x="812" y="1048"/>
                  <a:pt x="819" y="1045"/>
                </a:cubicBezTo>
                <a:cubicBezTo>
                  <a:pt x="817" y="1036"/>
                  <a:pt x="806" y="1046"/>
                  <a:pt x="802" y="1043"/>
                </a:cubicBezTo>
                <a:cubicBezTo>
                  <a:pt x="803" y="1040"/>
                  <a:pt x="805" y="1037"/>
                  <a:pt x="802" y="1036"/>
                </a:cubicBezTo>
                <a:cubicBezTo>
                  <a:pt x="807" y="1034"/>
                  <a:pt x="811" y="1031"/>
                  <a:pt x="814" y="1027"/>
                </a:cubicBezTo>
                <a:cubicBezTo>
                  <a:pt x="813" y="1026"/>
                  <a:pt x="812" y="1026"/>
                  <a:pt x="812" y="1024"/>
                </a:cubicBezTo>
                <a:cubicBezTo>
                  <a:pt x="808" y="1025"/>
                  <a:pt x="804" y="1026"/>
                  <a:pt x="802" y="1029"/>
                </a:cubicBezTo>
                <a:cubicBezTo>
                  <a:pt x="802" y="1022"/>
                  <a:pt x="798" y="1020"/>
                  <a:pt x="797" y="1015"/>
                </a:cubicBezTo>
                <a:cubicBezTo>
                  <a:pt x="807" y="1013"/>
                  <a:pt x="818" y="1011"/>
                  <a:pt x="821" y="1002"/>
                </a:cubicBezTo>
                <a:cubicBezTo>
                  <a:pt x="815" y="1004"/>
                  <a:pt x="810" y="1007"/>
                  <a:pt x="804" y="1010"/>
                </a:cubicBezTo>
                <a:cubicBezTo>
                  <a:pt x="803" y="1010"/>
                  <a:pt x="802" y="1009"/>
                  <a:pt x="800" y="1008"/>
                </a:cubicBezTo>
                <a:cubicBezTo>
                  <a:pt x="782" y="1016"/>
                  <a:pt x="765" y="1024"/>
                  <a:pt x="748" y="1032"/>
                </a:cubicBezTo>
                <a:cubicBezTo>
                  <a:pt x="746" y="1032"/>
                  <a:pt x="745" y="1031"/>
                  <a:pt x="742" y="1030"/>
                </a:cubicBezTo>
                <a:cubicBezTo>
                  <a:pt x="743" y="1034"/>
                  <a:pt x="740" y="1035"/>
                  <a:pt x="736" y="1035"/>
                </a:cubicBezTo>
                <a:cubicBezTo>
                  <a:pt x="736" y="1031"/>
                  <a:pt x="736" y="1031"/>
                  <a:pt x="736" y="1031"/>
                </a:cubicBezTo>
                <a:cubicBezTo>
                  <a:pt x="744" y="1030"/>
                  <a:pt x="749" y="1025"/>
                  <a:pt x="756" y="1022"/>
                </a:cubicBezTo>
                <a:cubicBezTo>
                  <a:pt x="754" y="1022"/>
                  <a:pt x="757" y="1021"/>
                  <a:pt x="756" y="1018"/>
                </a:cubicBezTo>
                <a:cubicBezTo>
                  <a:pt x="752" y="1020"/>
                  <a:pt x="745" y="1022"/>
                  <a:pt x="745" y="1025"/>
                </a:cubicBezTo>
                <a:cubicBezTo>
                  <a:pt x="743" y="1019"/>
                  <a:pt x="738" y="1027"/>
                  <a:pt x="735" y="1022"/>
                </a:cubicBezTo>
                <a:cubicBezTo>
                  <a:pt x="744" y="1019"/>
                  <a:pt x="752" y="1013"/>
                  <a:pt x="762" y="1010"/>
                </a:cubicBezTo>
                <a:cubicBezTo>
                  <a:pt x="763" y="1016"/>
                  <a:pt x="773" y="1011"/>
                  <a:pt x="775" y="1015"/>
                </a:cubicBezTo>
                <a:cubicBezTo>
                  <a:pt x="780" y="1012"/>
                  <a:pt x="780" y="1006"/>
                  <a:pt x="786" y="1005"/>
                </a:cubicBezTo>
                <a:cubicBezTo>
                  <a:pt x="787" y="1007"/>
                  <a:pt x="782" y="1009"/>
                  <a:pt x="785" y="1010"/>
                </a:cubicBezTo>
                <a:cubicBezTo>
                  <a:pt x="789" y="1005"/>
                  <a:pt x="793" y="1000"/>
                  <a:pt x="801" y="999"/>
                </a:cubicBezTo>
                <a:cubicBezTo>
                  <a:pt x="800" y="1005"/>
                  <a:pt x="809" y="1000"/>
                  <a:pt x="804" y="1005"/>
                </a:cubicBezTo>
                <a:cubicBezTo>
                  <a:pt x="812" y="1004"/>
                  <a:pt x="819" y="1002"/>
                  <a:pt x="820" y="998"/>
                </a:cubicBezTo>
                <a:cubicBezTo>
                  <a:pt x="817" y="999"/>
                  <a:pt x="814" y="1000"/>
                  <a:pt x="811" y="1002"/>
                </a:cubicBezTo>
                <a:cubicBezTo>
                  <a:pt x="811" y="999"/>
                  <a:pt x="811" y="995"/>
                  <a:pt x="812" y="993"/>
                </a:cubicBezTo>
                <a:cubicBezTo>
                  <a:pt x="821" y="995"/>
                  <a:pt x="837" y="988"/>
                  <a:pt x="841" y="979"/>
                </a:cubicBezTo>
                <a:cubicBezTo>
                  <a:pt x="843" y="979"/>
                  <a:pt x="844" y="978"/>
                  <a:pt x="846" y="978"/>
                </a:cubicBezTo>
                <a:cubicBezTo>
                  <a:pt x="844" y="973"/>
                  <a:pt x="852" y="974"/>
                  <a:pt x="859" y="974"/>
                </a:cubicBezTo>
                <a:cubicBezTo>
                  <a:pt x="859" y="969"/>
                  <a:pt x="865" y="967"/>
                  <a:pt x="868" y="968"/>
                </a:cubicBezTo>
                <a:cubicBezTo>
                  <a:pt x="868" y="972"/>
                  <a:pt x="865" y="967"/>
                  <a:pt x="865" y="971"/>
                </a:cubicBezTo>
                <a:cubicBezTo>
                  <a:pt x="872" y="971"/>
                  <a:pt x="886" y="969"/>
                  <a:pt x="886" y="961"/>
                </a:cubicBezTo>
                <a:cubicBezTo>
                  <a:pt x="889" y="960"/>
                  <a:pt x="889" y="963"/>
                  <a:pt x="889" y="965"/>
                </a:cubicBezTo>
                <a:cubicBezTo>
                  <a:pt x="895" y="963"/>
                  <a:pt x="897" y="957"/>
                  <a:pt x="905" y="956"/>
                </a:cubicBezTo>
                <a:cubicBezTo>
                  <a:pt x="906" y="954"/>
                  <a:pt x="902" y="953"/>
                  <a:pt x="905" y="952"/>
                </a:cubicBezTo>
                <a:cubicBezTo>
                  <a:pt x="907" y="950"/>
                  <a:pt x="909" y="954"/>
                  <a:pt x="911" y="954"/>
                </a:cubicBezTo>
                <a:cubicBezTo>
                  <a:pt x="910" y="955"/>
                  <a:pt x="906" y="956"/>
                  <a:pt x="909" y="957"/>
                </a:cubicBezTo>
                <a:cubicBezTo>
                  <a:pt x="909" y="956"/>
                  <a:pt x="911" y="956"/>
                  <a:pt x="912" y="956"/>
                </a:cubicBezTo>
                <a:cubicBezTo>
                  <a:pt x="912" y="952"/>
                  <a:pt x="912" y="948"/>
                  <a:pt x="915" y="947"/>
                </a:cubicBezTo>
                <a:cubicBezTo>
                  <a:pt x="918" y="946"/>
                  <a:pt x="918" y="948"/>
                  <a:pt x="919" y="950"/>
                </a:cubicBezTo>
                <a:cubicBezTo>
                  <a:pt x="919" y="952"/>
                  <a:pt x="917" y="951"/>
                  <a:pt x="917" y="953"/>
                </a:cubicBezTo>
                <a:cubicBezTo>
                  <a:pt x="923" y="956"/>
                  <a:pt x="925" y="949"/>
                  <a:pt x="928" y="946"/>
                </a:cubicBezTo>
                <a:cubicBezTo>
                  <a:pt x="935" y="945"/>
                  <a:pt x="939" y="939"/>
                  <a:pt x="944" y="935"/>
                </a:cubicBezTo>
                <a:cubicBezTo>
                  <a:pt x="949" y="936"/>
                  <a:pt x="952" y="933"/>
                  <a:pt x="957" y="937"/>
                </a:cubicBezTo>
                <a:cubicBezTo>
                  <a:pt x="958" y="934"/>
                  <a:pt x="955" y="934"/>
                  <a:pt x="956" y="931"/>
                </a:cubicBezTo>
                <a:cubicBezTo>
                  <a:pt x="960" y="930"/>
                  <a:pt x="961" y="927"/>
                  <a:pt x="965" y="926"/>
                </a:cubicBezTo>
                <a:cubicBezTo>
                  <a:pt x="968" y="925"/>
                  <a:pt x="969" y="931"/>
                  <a:pt x="972" y="927"/>
                </a:cubicBezTo>
                <a:cubicBezTo>
                  <a:pt x="967" y="917"/>
                  <a:pt x="982" y="912"/>
                  <a:pt x="983" y="902"/>
                </a:cubicBezTo>
                <a:cubicBezTo>
                  <a:pt x="987" y="901"/>
                  <a:pt x="988" y="905"/>
                  <a:pt x="990" y="906"/>
                </a:cubicBezTo>
                <a:cubicBezTo>
                  <a:pt x="990" y="907"/>
                  <a:pt x="988" y="908"/>
                  <a:pt x="988" y="909"/>
                </a:cubicBezTo>
                <a:cubicBezTo>
                  <a:pt x="992" y="911"/>
                  <a:pt x="996" y="911"/>
                  <a:pt x="1000" y="909"/>
                </a:cubicBezTo>
                <a:cubicBezTo>
                  <a:pt x="1000" y="911"/>
                  <a:pt x="997" y="910"/>
                  <a:pt x="996" y="912"/>
                </a:cubicBezTo>
                <a:cubicBezTo>
                  <a:pt x="998" y="912"/>
                  <a:pt x="1000" y="912"/>
                  <a:pt x="1001" y="913"/>
                </a:cubicBezTo>
                <a:cubicBezTo>
                  <a:pt x="1001" y="917"/>
                  <a:pt x="997" y="918"/>
                  <a:pt x="999" y="920"/>
                </a:cubicBezTo>
                <a:cubicBezTo>
                  <a:pt x="1005" y="919"/>
                  <a:pt x="1009" y="915"/>
                  <a:pt x="1008" y="910"/>
                </a:cubicBezTo>
                <a:cubicBezTo>
                  <a:pt x="1004" y="911"/>
                  <a:pt x="1001" y="910"/>
                  <a:pt x="1000" y="906"/>
                </a:cubicBezTo>
                <a:cubicBezTo>
                  <a:pt x="1004" y="905"/>
                  <a:pt x="1004" y="900"/>
                  <a:pt x="1010" y="900"/>
                </a:cubicBezTo>
                <a:cubicBezTo>
                  <a:pt x="1009" y="897"/>
                  <a:pt x="1012" y="897"/>
                  <a:pt x="1012" y="894"/>
                </a:cubicBezTo>
                <a:cubicBezTo>
                  <a:pt x="1009" y="892"/>
                  <a:pt x="1010" y="888"/>
                  <a:pt x="1010" y="884"/>
                </a:cubicBezTo>
                <a:cubicBezTo>
                  <a:pt x="1019" y="883"/>
                  <a:pt x="1022" y="866"/>
                  <a:pt x="1034" y="868"/>
                </a:cubicBezTo>
                <a:cubicBezTo>
                  <a:pt x="1035" y="874"/>
                  <a:pt x="1029" y="874"/>
                  <a:pt x="1027" y="877"/>
                </a:cubicBezTo>
                <a:cubicBezTo>
                  <a:pt x="1027" y="881"/>
                  <a:pt x="1031" y="881"/>
                  <a:pt x="1030" y="885"/>
                </a:cubicBezTo>
                <a:cubicBezTo>
                  <a:pt x="1029" y="885"/>
                  <a:pt x="1026" y="884"/>
                  <a:pt x="1027" y="887"/>
                </a:cubicBezTo>
                <a:cubicBezTo>
                  <a:pt x="1031" y="887"/>
                  <a:pt x="1028" y="890"/>
                  <a:pt x="1031" y="893"/>
                </a:cubicBezTo>
                <a:cubicBezTo>
                  <a:pt x="1028" y="892"/>
                  <a:pt x="1027" y="894"/>
                  <a:pt x="1027" y="896"/>
                </a:cubicBezTo>
                <a:cubicBezTo>
                  <a:pt x="1032" y="895"/>
                  <a:pt x="1034" y="900"/>
                  <a:pt x="1034" y="901"/>
                </a:cubicBezTo>
                <a:cubicBezTo>
                  <a:pt x="1034" y="899"/>
                  <a:pt x="1037" y="899"/>
                  <a:pt x="1039" y="899"/>
                </a:cubicBezTo>
                <a:cubicBezTo>
                  <a:pt x="1040" y="902"/>
                  <a:pt x="1037" y="904"/>
                  <a:pt x="1039" y="906"/>
                </a:cubicBezTo>
                <a:cubicBezTo>
                  <a:pt x="1040" y="904"/>
                  <a:pt x="1040" y="902"/>
                  <a:pt x="1041" y="901"/>
                </a:cubicBezTo>
                <a:cubicBezTo>
                  <a:pt x="1041" y="903"/>
                  <a:pt x="1044" y="902"/>
                  <a:pt x="1044" y="903"/>
                </a:cubicBezTo>
                <a:cubicBezTo>
                  <a:pt x="1042" y="908"/>
                  <a:pt x="1042" y="904"/>
                  <a:pt x="1041" y="909"/>
                </a:cubicBezTo>
                <a:cubicBezTo>
                  <a:pt x="1044" y="909"/>
                  <a:pt x="1047" y="912"/>
                  <a:pt x="1050" y="910"/>
                </a:cubicBezTo>
                <a:cubicBezTo>
                  <a:pt x="1049" y="909"/>
                  <a:pt x="1049" y="908"/>
                  <a:pt x="1048" y="906"/>
                </a:cubicBezTo>
                <a:cubicBezTo>
                  <a:pt x="1051" y="903"/>
                  <a:pt x="1052" y="903"/>
                  <a:pt x="1056" y="905"/>
                </a:cubicBezTo>
                <a:cubicBezTo>
                  <a:pt x="1056" y="903"/>
                  <a:pt x="1054" y="902"/>
                  <a:pt x="1055" y="900"/>
                </a:cubicBezTo>
                <a:cubicBezTo>
                  <a:pt x="1050" y="897"/>
                  <a:pt x="1049" y="903"/>
                  <a:pt x="1046" y="904"/>
                </a:cubicBezTo>
                <a:cubicBezTo>
                  <a:pt x="1045" y="900"/>
                  <a:pt x="1044" y="897"/>
                  <a:pt x="1044" y="894"/>
                </a:cubicBezTo>
                <a:cubicBezTo>
                  <a:pt x="1044" y="896"/>
                  <a:pt x="1040" y="895"/>
                  <a:pt x="1040" y="893"/>
                </a:cubicBezTo>
                <a:cubicBezTo>
                  <a:pt x="1046" y="891"/>
                  <a:pt x="1047" y="887"/>
                  <a:pt x="1047" y="881"/>
                </a:cubicBezTo>
                <a:cubicBezTo>
                  <a:pt x="1041" y="883"/>
                  <a:pt x="1042" y="892"/>
                  <a:pt x="1035" y="893"/>
                </a:cubicBezTo>
                <a:cubicBezTo>
                  <a:pt x="1033" y="887"/>
                  <a:pt x="1030" y="884"/>
                  <a:pt x="1034" y="880"/>
                </a:cubicBezTo>
                <a:cubicBezTo>
                  <a:pt x="1035" y="880"/>
                  <a:pt x="1036" y="880"/>
                  <a:pt x="1037" y="879"/>
                </a:cubicBezTo>
                <a:cubicBezTo>
                  <a:pt x="1037" y="881"/>
                  <a:pt x="1037" y="883"/>
                  <a:pt x="1038" y="884"/>
                </a:cubicBezTo>
                <a:cubicBezTo>
                  <a:pt x="1039" y="881"/>
                  <a:pt x="1039" y="879"/>
                  <a:pt x="1038" y="876"/>
                </a:cubicBezTo>
                <a:cubicBezTo>
                  <a:pt x="1041" y="879"/>
                  <a:pt x="1042" y="872"/>
                  <a:pt x="1047" y="873"/>
                </a:cubicBezTo>
                <a:cubicBezTo>
                  <a:pt x="1047" y="871"/>
                  <a:pt x="1046" y="871"/>
                  <a:pt x="1046" y="869"/>
                </a:cubicBezTo>
                <a:cubicBezTo>
                  <a:pt x="1055" y="861"/>
                  <a:pt x="1064" y="856"/>
                  <a:pt x="1076" y="855"/>
                </a:cubicBezTo>
                <a:cubicBezTo>
                  <a:pt x="1072" y="852"/>
                  <a:pt x="1078" y="849"/>
                  <a:pt x="1077" y="848"/>
                </a:cubicBezTo>
                <a:cubicBezTo>
                  <a:pt x="1076" y="851"/>
                  <a:pt x="1071" y="846"/>
                  <a:pt x="1071" y="848"/>
                </a:cubicBezTo>
                <a:cubicBezTo>
                  <a:pt x="1074" y="851"/>
                  <a:pt x="1067" y="856"/>
                  <a:pt x="1065" y="855"/>
                </a:cubicBezTo>
                <a:cubicBezTo>
                  <a:pt x="1066" y="849"/>
                  <a:pt x="1073" y="845"/>
                  <a:pt x="1072" y="841"/>
                </a:cubicBezTo>
                <a:cubicBezTo>
                  <a:pt x="1071" y="840"/>
                  <a:pt x="1067" y="842"/>
                  <a:pt x="1066" y="838"/>
                </a:cubicBezTo>
                <a:cubicBezTo>
                  <a:pt x="1065" y="840"/>
                  <a:pt x="1065" y="842"/>
                  <a:pt x="1062" y="842"/>
                </a:cubicBezTo>
                <a:cubicBezTo>
                  <a:pt x="1062" y="839"/>
                  <a:pt x="1060" y="838"/>
                  <a:pt x="1059" y="835"/>
                </a:cubicBezTo>
                <a:cubicBezTo>
                  <a:pt x="1064" y="833"/>
                  <a:pt x="1074" y="826"/>
                  <a:pt x="1077" y="832"/>
                </a:cubicBezTo>
                <a:cubicBezTo>
                  <a:pt x="1077" y="834"/>
                  <a:pt x="1073" y="837"/>
                  <a:pt x="1076" y="839"/>
                </a:cubicBezTo>
                <a:cubicBezTo>
                  <a:pt x="1076" y="838"/>
                  <a:pt x="1077" y="837"/>
                  <a:pt x="1078" y="836"/>
                </a:cubicBezTo>
                <a:cubicBezTo>
                  <a:pt x="1081" y="838"/>
                  <a:pt x="1076" y="840"/>
                  <a:pt x="1078" y="841"/>
                </a:cubicBezTo>
                <a:cubicBezTo>
                  <a:pt x="1081" y="839"/>
                  <a:pt x="1081" y="833"/>
                  <a:pt x="1085" y="832"/>
                </a:cubicBezTo>
                <a:cubicBezTo>
                  <a:pt x="1083" y="827"/>
                  <a:pt x="1086" y="824"/>
                  <a:pt x="1091" y="824"/>
                </a:cubicBezTo>
                <a:cubicBezTo>
                  <a:pt x="1091" y="825"/>
                  <a:pt x="1091" y="825"/>
                  <a:pt x="1092" y="826"/>
                </a:cubicBezTo>
                <a:cubicBezTo>
                  <a:pt x="1092" y="829"/>
                  <a:pt x="1089" y="828"/>
                  <a:pt x="1090" y="831"/>
                </a:cubicBezTo>
                <a:cubicBezTo>
                  <a:pt x="1092" y="832"/>
                  <a:pt x="1092" y="830"/>
                  <a:pt x="1093" y="833"/>
                </a:cubicBezTo>
                <a:cubicBezTo>
                  <a:pt x="1097" y="831"/>
                  <a:pt x="1092" y="828"/>
                  <a:pt x="1096" y="827"/>
                </a:cubicBezTo>
                <a:cubicBezTo>
                  <a:pt x="1097" y="830"/>
                  <a:pt x="1101" y="832"/>
                  <a:pt x="1103" y="835"/>
                </a:cubicBezTo>
                <a:cubicBezTo>
                  <a:pt x="1106" y="830"/>
                  <a:pt x="1118" y="829"/>
                  <a:pt x="1116" y="823"/>
                </a:cubicBezTo>
                <a:cubicBezTo>
                  <a:pt x="1113" y="826"/>
                  <a:pt x="1111" y="819"/>
                  <a:pt x="1108" y="818"/>
                </a:cubicBezTo>
                <a:cubicBezTo>
                  <a:pt x="1111" y="815"/>
                  <a:pt x="1112" y="820"/>
                  <a:pt x="1114" y="821"/>
                </a:cubicBezTo>
                <a:cubicBezTo>
                  <a:pt x="1116" y="816"/>
                  <a:pt x="1119" y="811"/>
                  <a:pt x="1126" y="809"/>
                </a:cubicBezTo>
                <a:cubicBezTo>
                  <a:pt x="1128" y="815"/>
                  <a:pt x="1129" y="817"/>
                  <a:pt x="1133" y="816"/>
                </a:cubicBezTo>
                <a:cubicBezTo>
                  <a:pt x="1132" y="818"/>
                  <a:pt x="1128" y="820"/>
                  <a:pt x="1130" y="822"/>
                </a:cubicBezTo>
                <a:cubicBezTo>
                  <a:pt x="1134" y="820"/>
                  <a:pt x="1137" y="818"/>
                  <a:pt x="1142" y="820"/>
                </a:cubicBezTo>
                <a:cubicBezTo>
                  <a:pt x="1142" y="821"/>
                  <a:pt x="1140" y="822"/>
                  <a:pt x="1140" y="824"/>
                </a:cubicBezTo>
                <a:cubicBezTo>
                  <a:pt x="1144" y="824"/>
                  <a:pt x="1145" y="821"/>
                  <a:pt x="1148" y="821"/>
                </a:cubicBezTo>
                <a:cubicBezTo>
                  <a:pt x="1149" y="825"/>
                  <a:pt x="1145" y="824"/>
                  <a:pt x="1146" y="828"/>
                </a:cubicBezTo>
                <a:cubicBezTo>
                  <a:pt x="1147" y="831"/>
                  <a:pt x="1150" y="831"/>
                  <a:pt x="1150" y="835"/>
                </a:cubicBezTo>
                <a:cubicBezTo>
                  <a:pt x="1146" y="835"/>
                  <a:pt x="1148" y="837"/>
                  <a:pt x="1147" y="840"/>
                </a:cubicBezTo>
                <a:cubicBezTo>
                  <a:pt x="1145" y="836"/>
                  <a:pt x="1143" y="843"/>
                  <a:pt x="1140" y="840"/>
                </a:cubicBezTo>
                <a:cubicBezTo>
                  <a:pt x="1140" y="844"/>
                  <a:pt x="1139" y="847"/>
                  <a:pt x="1136" y="848"/>
                </a:cubicBezTo>
                <a:cubicBezTo>
                  <a:pt x="1137" y="843"/>
                  <a:pt x="1132" y="849"/>
                  <a:pt x="1135" y="847"/>
                </a:cubicBezTo>
                <a:cubicBezTo>
                  <a:pt x="1138" y="851"/>
                  <a:pt x="1128" y="850"/>
                  <a:pt x="1127" y="850"/>
                </a:cubicBezTo>
                <a:cubicBezTo>
                  <a:pt x="1128" y="853"/>
                  <a:pt x="1133" y="853"/>
                  <a:pt x="1134" y="853"/>
                </a:cubicBezTo>
                <a:cubicBezTo>
                  <a:pt x="1136" y="859"/>
                  <a:pt x="1129" y="859"/>
                  <a:pt x="1130" y="860"/>
                </a:cubicBezTo>
                <a:cubicBezTo>
                  <a:pt x="1133" y="860"/>
                  <a:pt x="1134" y="859"/>
                  <a:pt x="1135" y="858"/>
                </a:cubicBezTo>
                <a:cubicBezTo>
                  <a:pt x="1135" y="859"/>
                  <a:pt x="1137" y="863"/>
                  <a:pt x="1137" y="860"/>
                </a:cubicBezTo>
                <a:cubicBezTo>
                  <a:pt x="1140" y="856"/>
                  <a:pt x="1147" y="849"/>
                  <a:pt x="1154" y="846"/>
                </a:cubicBezTo>
                <a:cubicBezTo>
                  <a:pt x="1154" y="851"/>
                  <a:pt x="1154" y="851"/>
                  <a:pt x="1154" y="851"/>
                </a:cubicBezTo>
                <a:cubicBezTo>
                  <a:pt x="1150" y="851"/>
                  <a:pt x="1151" y="855"/>
                  <a:pt x="1148" y="856"/>
                </a:cubicBezTo>
                <a:cubicBezTo>
                  <a:pt x="1149" y="859"/>
                  <a:pt x="1152" y="859"/>
                  <a:pt x="1151" y="864"/>
                </a:cubicBezTo>
                <a:cubicBezTo>
                  <a:pt x="1149" y="864"/>
                  <a:pt x="1149" y="866"/>
                  <a:pt x="1147" y="865"/>
                </a:cubicBezTo>
                <a:cubicBezTo>
                  <a:pt x="1147" y="863"/>
                  <a:pt x="1146" y="862"/>
                  <a:pt x="1145" y="861"/>
                </a:cubicBezTo>
                <a:cubicBezTo>
                  <a:pt x="1143" y="866"/>
                  <a:pt x="1145" y="867"/>
                  <a:pt x="1145" y="872"/>
                </a:cubicBezTo>
                <a:cubicBezTo>
                  <a:pt x="1139" y="876"/>
                  <a:pt x="1131" y="878"/>
                  <a:pt x="1127" y="885"/>
                </a:cubicBezTo>
                <a:cubicBezTo>
                  <a:pt x="1129" y="885"/>
                  <a:pt x="1133" y="884"/>
                  <a:pt x="1134" y="888"/>
                </a:cubicBezTo>
                <a:cubicBezTo>
                  <a:pt x="1132" y="891"/>
                  <a:pt x="1128" y="892"/>
                  <a:pt x="1130" y="896"/>
                </a:cubicBezTo>
                <a:cubicBezTo>
                  <a:pt x="1135" y="892"/>
                  <a:pt x="1143" y="891"/>
                  <a:pt x="1139" y="881"/>
                </a:cubicBezTo>
                <a:cubicBezTo>
                  <a:pt x="1142" y="876"/>
                  <a:pt x="1151" y="870"/>
                  <a:pt x="1155" y="875"/>
                </a:cubicBezTo>
                <a:cubicBezTo>
                  <a:pt x="1153" y="877"/>
                  <a:pt x="1149" y="877"/>
                  <a:pt x="1149" y="881"/>
                </a:cubicBezTo>
                <a:cubicBezTo>
                  <a:pt x="1153" y="881"/>
                  <a:pt x="1155" y="878"/>
                  <a:pt x="1158" y="880"/>
                </a:cubicBezTo>
                <a:cubicBezTo>
                  <a:pt x="1161" y="874"/>
                  <a:pt x="1169" y="873"/>
                  <a:pt x="1172" y="868"/>
                </a:cubicBezTo>
                <a:cubicBezTo>
                  <a:pt x="1175" y="869"/>
                  <a:pt x="1176" y="867"/>
                  <a:pt x="1178" y="867"/>
                </a:cubicBezTo>
                <a:cubicBezTo>
                  <a:pt x="1177" y="862"/>
                  <a:pt x="1182" y="863"/>
                  <a:pt x="1185" y="862"/>
                </a:cubicBezTo>
                <a:cubicBezTo>
                  <a:pt x="1185" y="864"/>
                  <a:pt x="1185" y="865"/>
                  <a:pt x="1186" y="866"/>
                </a:cubicBezTo>
                <a:cubicBezTo>
                  <a:pt x="1192" y="864"/>
                  <a:pt x="1192" y="856"/>
                  <a:pt x="1199" y="854"/>
                </a:cubicBezTo>
                <a:cubicBezTo>
                  <a:pt x="1201" y="855"/>
                  <a:pt x="1198" y="857"/>
                  <a:pt x="1200" y="858"/>
                </a:cubicBezTo>
                <a:cubicBezTo>
                  <a:pt x="1200" y="856"/>
                  <a:pt x="1201" y="856"/>
                  <a:pt x="1203" y="856"/>
                </a:cubicBezTo>
                <a:cubicBezTo>
                  <a:pt x="1204" y="859"/>
                  <a:pt x="1203" y="860"/>
                  <a:pt x="1202" y="862"/>
                </a:cubicBezTo>
                <a:cubicBezTo>
                  <a:pt x="1203" y="864"/>
                  <a:pt x="1208" y="862"/>
                  <a:pt x="1209" y="864"/>
                </a:cubicBezTo>
                <a:cubicBezTo>
                  <a:pt x="1204" y="874"/>
                  <a:pt x="1195" y="881"/>
                  <a:pt x="1190" y="890"/>
                </a:cubicBezTo>
                <a:cubicBezTo>
                  <a:pt x="1198" y="890"/>
                  <a:pt x="1205" y="877"/>
                  <a:pt x="1211" y="884"/>
                </a:cubicBezTo>
                <a:cubicBezTo>
                  <a:pt x="1211" y="880"/>
                  <a:pt x="1214" y="882"/>
                  <a:pt x="1215" y="881"/>
                </a:cubicBezTo>
                <a:cubicBezTo>
                  <a:pt x="1221" y="876"/>
                  <a:pt x="1223" y="865"/>
                  <a:pt x="1234" y="865"/>
                </a:cubicBezTo>
                <a:cubicBezTo>
                  <a:pt x="1234" y="868"/>
                  <a:pt x="1234" y="868"/>
                  <a:pt x="1234" y="868"/>
                </a:cubicBezTo>
                <a:cubicBezTo>
                  <a:pt x="1238" y="867"/>
                  <a:pt x="1242" y="860"/>
                  <a:pt x="1240" y="857"/>
                </a:cubicBezTo>
                <a:cubicBezTo>
                  <a:pt x="1230" y="856"/>
                  <a:pt x="1225" y="861"/>
                  <a:pt x="1218" y="865"/>
                </a:cubicBezTo>
                <a:cubicBezTo>
                  <a:pt x="1216" y="865"/>
                  <a:pt x="1217" y="862"/>
                  <a:pt x="1215" y="862"/>
                </a:cubicBezTo>
                <a:cubicBezTo>
                  <a:pt x="1214" y="865"/>
                  <a:pt x="1212" y="864"/>
                  <a:pt x="1210" y="863"/>
                </a:cubicBezTo>
                <a:cubicBezTo>
                  <a:pt x="1212" y="856"/>
                  <a:pt x="1224" y="854"/>
                  <a:pt x="1225" y="848"/>
                </a:cubicBezTo>
                <a:cubicBezTo>
                  <a:pt x="1220" y="851"/>
                  <a:pt x="1211" y="853"/>
                  <a:pt x="1204" y="857"/>
                </a:cubicBezTo>
                <a:cubicBezTo>
                  <a:pt x="1204" y="851"/>
                  <a:pt x="1209" y="850"/>
                  <a:pt x="1210" y="846"/>
                </a:cubicBezTo>
                <a:cubicBezTo>
                  <a:pt x="1207" y="845"/>
                  <a:pt x="1206" y="847"/>
                  <a:pt x="1204" y="847"/>
                </a:cubicBezTo>
                <a:cubicBezTo>
                  <a:pt x="1208" y="841"/>
                  <a:pt x="1215" y="842"/>
                  <a:pt x="1220" y="836"/>
                </a:cubicBezTo>
                <a:cubicBezTo>
                  <a:pt x="1217" y="833"/>
                  <a:pt x="1223" y="831"/>
                  <a:pt x="1224" y="829"/>
                </a:cubicBezTo>
                <a:cubicBezTo>
                  <a:pt x="1225" y="826"/>
                  <a:pt x="1223" y="825"/>
                  <a:pt x="1223" y="823"/>
                </a:cubicBezTo>
                <a:cubicBezTo>
                  <a:pt x="1225" y="822"/>
                  <a:pt x="1228" y="820"/>
                  <a:pt x="1231" y="819"/>
                </a:cubicBezTo>
                <a:cubicBezTo>
                  <a:pt x="1231" y="816"/>
                  <a:pt x="1230" y="812"/>
                  <a:pt x="1233" y="812"/>
                </a:cubicBezTo>
                <a:cubicBezTo>
                  <a:pt x="1235" y="812"/>
                  <a:pt x="1235" y="814"/>
                  <a:pt x="1238" y="813"/>
                </a:cubicBezTo>
                <a:cubicBezTo>
                  <a:pt x="1238" y="809"/>
                  <a:pt x="1245" y="808"/>
                  <a:pt x="1244" y="806"/>
                </a:cubicBezTo>
                <a:cubicBezTo>
                  <a:pt x="1241" y="808"/>
                  <a:pt x="1236" y="805"/>
                  <a:pt x="1240" y="803"/>
                </a:cubicBezTo>
                <a:cubicBezTo>
                  <a:pt x="1232" y="805"/>
                  <a:pt x="1232" y="816"/>
                  <a:pt x="1221" y="815"/>
                </a:cubicBezTo>
                <a:cubicBezTo>
                  <a:pt x="1221" y="814"/>
                  <a:pt x="1222" y="814"/>
                  <a:pt x="1222" y="812"/>
                </a:cubicBezTo>
                <a:cubicBezTo>
                  <a:pt x="1217" y="815"/>
                  <a:pt x="1211" y="816"/>
                  <a:pt x="1206" y="816"/>
                </a:cubicBezTo>
                <a:cubicBezTo>
                  <a:pt x="1205" y="819"/>
                  <a:pt x="1207" y="819"/>
                  <a:pt x="1208" y="821"/>
                </a:cubicBezTo>
                <a:cubicBezTo>
                  <a:pt x="1204" y="820"/>
                  <a:pt x="1204" y="824"/>
                  <a:pt x="1201" y="824"/>
                </a:cubicBezTo>
                <a:cubicBezTo>
                  <a:pt x="1201" y="827"/>
                  <a:pt x="1201" y="830"/>
                  <a:pt x="1200" y="831"/>
                </a:cubicBezTo>
                <a:cubicBezTo>
                  <a:pt x="1201" y="831"/>
                  <a:pt x="1202" y="829"/>
                  <a:pt x="1202" y="831"/>
                </a:cubicBezTo>
                <a:cubicBezTo>
                  <a:pt x="1202" y="832"/>
                  <a:pt x="1201" y="833"/>
                  <a:pt x="1201" y="834"/>
                </a:cubicBezTo>
                <a:cubicBezTo>
                  <a:pt x="1202" y="836"/>
                  <a:pt x="1205" y="836"/>
                  <a:pt x="1204" y="839"/>
                </a:cubicBezTo>
                <a:cubicBezTo>
                  <a:pt x="1189" y="842"/>
                  <a:pt x="1183" y="854"/>
                  <a:pt x="1172" y="860"/>
                </a:cubicBezTo>
                <a:cubicBezTo>
                  <a:pt x="1169" y="858"/>
                  <a:pt x="1170" y="856"/>
                  <a:pt x="1167" y="855"/>
                </a:cubicBezTo>
                <a:cubicBezTo>
                  <a:pt x="1167" y="853"/>
                  <a:pt x="1168" y="851"/>
                  <a:pt x="1170" y="851"/>
                </a:cubicBezTo>
                <a:cubicBezTo>
                  <a:pt x="1173" y="850"/>
                  <a:pt x="1173" y="853"/>
                  <a:pt x="1175" y="853"/>
                </a:cubicBezTo>
                <a:cubicBezTo>
                  <a:pt x="1177" y="850"/>
                  <a:pt x="1185" y="848"/>
                  <a:pt x="1182" y="844"/>
                </a:cubicBezTo>
                <a:cubicBezTo>
                  <a:pt x="1182" y="846"/>
                  <a:pt x="1178" y="849"/>
                  <a:pt x="1177" y="848"/>
                </a:cubicBezTo>
                <a:cubicBezTo>
                  <a:pt x="1180" y="843"/>
                  <a:pt x="1185" y="835"/>
                  <a:pt x="1191" y="836"/>
                </a:cubicBezTo>
                <a:cubicBezTo>
                  <a:pt x="1187" y="838"/>
                  <a:pt x="1185" y="840"/>
                  <a:pt x="1184" y="845"/>
                </a:cubicBezTo>
                <a:cubicBezTo>
                  <a:pt x="1190" y="844"/>
                  <a:pt x="1192" y="841"/>
                  <a:pt x="1196" y="838"/>
                </a:cubicBezTo>
                <a:cubicBezTo>
                  <a:pt x="1193" y="837"/>
                  <a:pt x="1192" y="839"/>
                  <a:pt x="1191" y="837"/>
                </a:cubicBezTo>
                <a:cubicBezTo>
                  <a:pt x="1193" y="837"/>
                  <a:pt x="1191" y="833"/>
                  <a:pt x="1191" y="832"/>
                </a:cubicBezTo>
                <a:cubicBezTo>
                  <a:pt x="1183" y="831"/>
                  <a:pt x="1181" y="840"/>
                  <a:pt x="1175" y="835"/>
                </a:cubicBezTo>
                <a:cubicBezTo>
                  <a:pt x="1172" y="844"/>
                  <a:pt x="1163" y="841"/>
                  <a:pt x="1159" y="846"/>
                </a:cubicBezTo>
                <a:cubicBezTo>
                  <a:pt x="1158" y="844"/>
                  <a:pt x="1157" y="842"/>
                  <a:pt x="1155" y="841"/>
                </a:cubicBezTo>
                <a:cubicBezTo>
                  <a:pt x="1157" y="841"/>
                  <a:pt x="1157" y="840"/>
                  <a:pt x="1158" y="839"/>
                </a:cubicBezTo>
                <a:cubicBezTo>
                  <a:pt x="1159" y="839"/>
                  <a:pt x="1159" y="842"/>
                  <a:pt x="1161" y="841"/>
                </a:cubicBezTo>
                <a:cubicBezTo>
                  <a:pt x="1161" y="837"/>
                  <a:pt x="1164" y="837"/>
                  <a:pt x="1167" y="835"/>
                </a:cubicBezTo>
                <a:cubicBezTo>
                  <a:pt x="1166" y="832"/>
                  <a:pt x="1168" y="832"/>
                  <a:pt x="1167" y="829"/>
                </a:cubicBezTo>
                <a:cubicBezTo>
                  <a:pt x="1169" y="826"/>
                  <a:pt x="1173" y="826"/>
                  <a:pt x="1175" y="823"/>
                </a:cubicBezTo>
                <a:cubicBezTo>
                  <a:pt x="1171" y="823"/>
                  <a:pt x="1166" y="831"/>
                  <a:pt x="1158" y="830"/>
                </a:cubicBezTo>
                <a:cubicBezTo>
                  <a:pt x="1160" y="824"/>
                  <a:pt x="1158" y="828"/>
                  <a:pt x="1156" y="826"/>
                </a:cubicBezTo>
                <a:cubicBezTo>
                  <a:pt x="1157" y="824"/>
                  <a:pt x="1156" y="824"/>
                  <a:pt x="1157" y="821"/>
                </a:cubicBezTo>
                <a:cubicBezTo>
                  <a:pt x="1154" y="822"/>
                  <a:pt x="1152" y="822"/>
                  <a:pt x="1152" y="820"/>
                </a:cubicBezTo>
                <a:cubicBezTo>
                  <a:pt x="1154" y="819"/>
                  <a:pt x="1154" y="817"/>
                  <a:pt x="1154" y="815"/>
                </a:cubicBezTo>
                <a:cubicBezTo>
                  <a:pt x="1151" y="816"/>
                  <a:pt x="1148" y="818"/>
                  <a:pt x="1145" y="820"/>
                </a:cubicBezTo>
                <a:cubicBezTo>
                  <a:pt x="1142" y="817"/>
                  <a:pt x="1137" y="816"/>
                  <a:pt x="1141" y="812"/>
                </a:cubicBezTo>
                <a:cubicBezTo>
                  <a:pt x="1143" y="812"/>
                  <a:pt x="1142" y="815"/>
                  <a:pt x="1144" y="815"/>
                </a:cubicBezTo>
                <a:cubicBezTo>
                  <a:pt x="1144" y="812"/>
                  <a:pt x="1145" y="810"/>
                  <a:pt x="1147" y="809"/>
                </a:cubicBezTo>
                <a:cubicBezTo>
                  <a:pt x="1149" y="809"/>
                  <a:pt x="1148" y="812"/>
                  <a:pt x="1151" y="811"/>
                </a:cubicBezTo>
                <a:cubicBezTo>
                  <a:pt x="1152" y="805"/>
                  <a:pt x="1159" y="806"/>
                  <a:pt x="1164" y="805"/>
                </a:cubicBezTo>
                <a:cubicBezTo>
                  <a:pt x="1157" y="799"/>
                  <a:pt x="1167" y="796"/>
                  <a:pt x="1170" y="792"/>
                </a:cubicBezTo>
                <a:cubicBezTo>
                  <a:pt x="1168" y="792"/>
                  <a:pt x="1168" y="790"/>
                  <a:pt x="1168" y="788"/>
                </a:cubicBezTo>
                <a:cubicBezTo>
                  <a:pt x="1173" y="786"/>
                  <a:pt x="1171" y="785"/>
                  <a:pt x="1171" y="781"/>
                </a:cubicBezTo>
                <a:cubicBezTo>
                  <a:pt x="1174" y="781"/>
                  <a:pt x="1174" y="779"/>
                  <a:pt x="1176" y="779"/>
                </a:cubicBezTo>
                <a:cubicBezTo>
                  <a:pt x="1177" y="780"/>
                  <a:pt x="1177" y="783"/>
                  <a:pt x="1179" y="783"/>
                </a:cubicBezTo>
                <a:cubicBezTo>
                  <a:pt x="1178" y="785"/>
                  <a:pt x="1176" y="786"/>
                  <a:pt x="1176" y="788"/>
                </a:cubicBezTo>
                <a:cubicBezTo>
                  <a:pt x="1179" y="788"/>
                  <a:pt x="1179" y="790"/>
                  <a:pt x="1181" y="793"/>
                </a:cubicBezTo>
                <a:cubicBezTo>
                  <a:pt x="1193" y="792"/>
                  <a:pt x="1199" y="782"/>
                  <a:pt x="1208" y="776"/>
                </a:cubicBezTo>
                <a:cubicBezTo>
                  <a:pt x="1214" y="772"/>
                  <a:pt x="1225" y="772"/>
                  <a:pt x="1227" y="764"/>
                </a:cubicBezTo>
                <a:cubicBezTo>
                  <a:pt x="1224" y="767"/>
                  <a:pt x="1217" y="768"/>
                  <a:pt x="1213" y="769"/>
                </a:cubicBezTo>
                <a:cubicBezTo>
                  <a:pt x="1214" y="767"/>
                  <a:pt x="1217" y="767"/>
                  <a:pt x="1218" y="766"/>
                </a:cubicBezTo>
                <a:cubicBezTo>
                  <a:pt x="1217" y="763"/>
                  <a:pt x="1218" y="763"/>
                  <a:pt x="1217" y="761"/>
                </a:cubicBezTo>
                <a:cubicBezTo>
                  <a:pt x="1221" y="759"/>
                  <a:pt x="1224" y="757"/>
                  <a:pt x="1225" y="754"/>
                </a:cubicBezTo>
                <a:cubicBezTo>
                  <a:pt x="1218" y="753"/>
                  <a:pt x="1220" y="764"/>
                  <a:pt x="1212" y="760"/>
                </a:cubicBezTo>
                <a:cubicBezTo>
                  <a:pt x="1212" y="761"/>
                  <a:pt x="1211" y="763"/>
                  <a:pt x="1210" y="764"/>
                </a:cubicBezTo>
                <a:cubicBezTo>
                  <a:pt x="1214" y="771"/>
                  <a:pt x="1209" y="776"/>
                  <a:pt x="1200" y="772"/>
                </a:cubicBezTo>
                <a:cubicBezTo>
                  <a:pt x="1203" y="769"/>
                  <a:pt x="1199" y="769"/>
                  <a:pt x="1197" y="767"/>
                </a:cubicBezTo>
                <a:cubicBezTo>
                  <a:pt x="1201" y="765"/>
                  <a:pt x="1202" y="758"/>
                  <a:pt x="1208" y="761"/>
                </a:cubicBezTo>
                <a:cubicBezTo>
                  <a:pt x="1211" y="760"/>
                  <a:pt x="1209" y="754"/>
                  <a:pt x="1211" y="753"/>
                </a:cubicBezTo>
                <a:cubicBezTo>
                  <a:pt x="1215" y="752"/>
                  <a:pt x="1215" y="756"/>
                  <a:pt x="1219" y="756"/>
                </a:cubicBezTo>
                <a:cubicBezTo>
                  <a:pt x="1220" y="752"/>
                  <a:pt x="1220" y="751"/>
                  <a:pt x="1221" y="747"/>
                </a:cubicBezTo>
                <a:cubicBezTo>
                  <a:pt x="1211" y="750"/>
                  <a:pt x="1202" y="755"/>
                  <a:pt x="1193" y="759"/>
                </a:cubicBezTo>
                <a:cubicBezTo>
                  <a:pt x="1196" y="756"/>
                  <a:pt x="1198" y="752"/>
                  <a:pt x="1204" y="752"/>
                </a:cubicBezTo>
                <a:cubicBezTo>
                  <a:pt x="1210" y="742"/>
                  <a:pt x="1224" y="739"/>
                  <a:pt x="1232" y="731"/>
                </a:cubicBezTo>
                <a:cubicBezTo>
                  <a:pt x="1220" y="735"/>
                  <a:pt x="1209" y="743"/>
                  <a:pt x="1197" y="748"/>
                </a:cubicBezTo>
                <a:cubicBezTo>
                  <a:pt x="1197" y="746"/>
                  <a:pt x="1194" y="747"/>
                  <a:pt x="1194" y="745"/>
                </a:cubicBezTo>
                <a:cubicBezTo>
                  <a:pt x="1195" y="744"/>
                  <a:pt x="1195" y="742"/>
                  <a:pt x="1196" y="741"/>
                </a:cubicBezTo>
                <a:cubicBezTo>
                  <a:pt x="1191" y="741"/>
                  <a:pt x="1190" y="746"/>
                  <a:pt x="1185" y="743"/>
                </a:cubicBezTo>
                <a:cubicBezTo>
                  <a:pt x="1187" y="738"/>
                  <a:pt x="1181" y="741"/>
                  <a:pt x="1180" y="740"/>
                </a:cubicBezTo>
                <a:cubicBezTo>
                  <a:pt x="1181" y="735"/>
                  <a:pt x="1187" y="737"/>
                  <a:pt x="1187" y="731"/>
                </a:cubicBezTo>
                <a:cubicBezTo>
                  <a:pt x="1184" y="732"/>
                  <a:pt x="1181" y="734"/>
                  <a:pt x="1179" y="732"/>
                </a:cubicBezTo>
                <a:cubicBezTo>
                  <a:pt x="1180" y="731"/>
                  <a:pt x="1180" y="729"/>
                  <a:pt x="1181" y="728"/>
                </a:cubicBezTo>
                <a:cubicBezTo>
                  <a:pt x="1179" y="728"/>
                  <a:pt x="1178" y="727"/>
                  <a:pt x="1178" y="726"/>
                </a:cubicBezTo>
                <a:cubicBezTo>
                  <a:pt x="1180" y="723"/>
                  <a:pt x="1181" y="718"/>
                  <a:pt x="1182" y="714"/>
                </a:cubicBezTo>
                <a:cubicBezTo>
                  <a:pt x="1179" y="714"/>
                  <a:pt x="1177" y="716"/>
                  <a:pt x="1177" y="712"/>
                </a:cubicBezTo>
                <a:cubicBezTo>
                  <a:pt x="1180" y="709"/>
                  <a:pt x="1182" y="706"/>
                  <a:pt x="1183" y="702"/>
                </a:cubicBezTo>
                <a:cubicBezTo>
                  <a:pt x="1178" y="704"/>
                  <a:pt x="1170" y="708"/>
                  <a:pt x="1174" y="714"/>
                </a:cubicBezTo>
                <a:cubicBezTo>
                  <a:pt x="1172" y="716"/>
                  <a:pt x="1171" y="713"/>
                  <a:pt x="1169" y="715"/>
                </a:cubicBezTo>
                <a:cubicBezTo>
                  <a:pt x="1171" y="719"/>
                  <a:pt x="1169" y="727"/>
                  <a:pt x="1169" y="731"/>
                </a:cubicBezTo>
                <a:cubicBezTo>
                  <a:pt x="1172" y="730"/>
                  <a:pt x="1175" y="729"/>
                  <a:pt x="1179" y="729"/>
                </a:cubicBezTo>
                <a:cubicBezTo>
                  <a:pt x="1177" y="738"/>
                  <a:pt x="1168" y="743"/>
                  <a:pt x="1160" y="743"/>
                </a:cubicBezTo>
                <a:cubicBezTo>
                  <a:pt x="1159" y="749"/>
                  <a:pt x="1147" y="754"/>
                  <a:pt x="1147" y="747"/>
                </a:cubicBezTo>
                <a:cubicBezTo>
                  <a:pt x="1147" y="748"/>
                  <a:pt x="1144" y="750"/>
                  <a:pt x="1144" y="748"/>
                </a:cubicBezTo>
                <a:cubicBezTo>
                  <a:pt x="1151" y="738"/>
                  <a:pt x="1144" y="748"/>
                  <a:pt x="1139" y="744"/>
                </a:cubicBezTo>
                <a:cubicBezTo>
                  <a:pt x="1139" y="744"/>
                  <a:pt x="1138" y="739"/>
                  <a:pt x="1138" y="738"/>
                </a:cubicBezTo>
                <a:cubicBezTo>
                  <a:pt x="1139" y="737"/>
                  <a:pt x="1143" y="739"/>
                  <a:pt x="1142" y="736"/>
                </a:cubicBezTo>
                <a:cubicBezTo>
                  <a:pt x="1138" y="735"/>
                  <a:pt x="1138" y="738"/>
                  <a:pt x="1136" y="738"/>
                </a:cubicBezTo>
                <a:cubicBezTo>
                  <a:pt x="1136" y="733"/>
                  <a:pt x="1135" y="731"/>
                  <a:pt x="1133" y="731"/>
                </a:cubicBezTo>
                <a:cubicBezTo>
                  <a:pt x="1133" y="719"/>
                  <a:pt x="1153" y="722"/>
                  <a:pt x="1152" y="711"/>
                </a:cubicBezTo>
                <a:cubicBezTo>
                  <a:pt x="1143" y="717"/>
                  <a:pt x="1134" y="723"/>
                  <a:pt x="1124" y="727"/>
                </a:cubicBezTo>
                <a:cubicBezTo>
                  <a:pt x="1123" y="725"/>
                  <a:pt x="1122" y="725"/>
                  <a:pt x="1122" y="724"/>
                </a:cubicBezTo>
                <a:cubicBezTo>
                  <a:pt x="1125" y="718"/>
                  <a:pt x="1134" y="716"/>
                  <a:pt x="1140" y="713"/>
                </a:cubicBezTo>
                <a:cubicBezTo>
                  <a:pt x="1138" y="705"/>
                  <a:pt x="1143" y="704"/>
                  <a:pt x="1147" y="704"/>
                </a:cubicBezTo>
                <a:cubicBezTo>
                  <a:pt x="1149" y="700"/>
                  <a:pt x="1145" y="701"/>
                  <a:pt x="1146" y="698"/>
                </a:cubicBezTo>
                <a:cubicBezTo>
                  <a:pt x="1150" y="691"/>
                  <a:pt x="1156" y="684"/>
                  <a:pt x="1161" y="681"/>
                </a:cubicBezTo>
                <a:cubicBezTo>
                  <a:pt x="1159" y="678"/>
                  <a:pt x="1161" y="673"/>
                  <a:pt x="1156" y="672"/>
                </a:cubicBezTo>
                <a:cubicBezTo>
                  <a:pt x="1156" y="668"/>
                  <a:pt x="1158" y="666"/>
                  <a:pt x="1162" y="666"/>
                </a:cubicBezTo>
                <a:cubicBezTo>
                  <a:pt x="1162" y="656"/>
                  <a:pt x="1183" y="664"/>
                  <a:pt x="1176" y="652"/>
                </a:cubicBezTo>
                <a:cubicBezTo>
                  <a:pt x="1169" y="655"/>
                  <a:pt x="1164" y="660"/>
                  <a:pt x="1159" y="664"/>
                </a:cubicBezTo>
                <a:cubicBezTo>
                  <a:pt x="1156" y="664"/>
                  <a:pt x="1157" y="660"/>
                  <a:pt x="1155" y="658"/>
                </a:cubicBezTo>
                <a:cubicBezTo>
                  <a:pt x="1152" y="662"/>
                  <a:pt x="1155" y="664"/>
                  <a:pt x="1156" y="667"/>
                </a:cubicBezTo>
                <a:cubicBezTo>
                  <a:pt x="1150" y="672"/>
                  <a:pt x="1147" y="665"/>
                  <a:pt x="1145" y="661"/>
                </a:cubicBezTo>
                <a:cubicBezTo>
                  <a:pt x="1145" y="660"/>
                  <a:pt x="1149" y="657"/>
                  <a:pt x="1147" y="656"/>
                </a:cubicBezTo>
                <a:cubicBezTo>
                  <a:pt x="1146" y="659"/>
                  <a:pt x="1144" y="661"/>
                  <a:pt x="1142" y="662"/>
                </a:cubicBezTo>
                <a:cubicBezTo>
                  <a:pt x="1141" y="659"/>
                  <a:pt x="1144" y="660"/>
                  <a:pt x="1144" y="657"/>
                </a:cubicBezTo>
                <a:cubicBezTo>
                  <a:pt x="1140" y="658"/>
                  <a:pt x="1139" y="662"/>
                  <a:pt x="1136" y="664"/>
                </a:cubicBezTo>
                <a:cubicBezTo>
                  <a:pt x="1138" y="667"/>
                  <a:pt x="1140" y="660"/>
                  <a:pt x="1141" y="663"/>
                </a:cubicBezTo>
                <a:cubicBezTo>
                  <a:pt x="1138" y="669"/>
                  <a:pt x="1130" y="671"/>
                  <a:pt x="1128" y="678"/>
                </a:cubicBezTo>
                <a:cubicBezTo>
                  <a:pt x="1131" y="678"/>
                  <a:pt x="1131" y="676"/>
                  <a:pt x="1135" y="676"/>
                </a:cubicBezTo>
                <a:cubicBezTo>
                  <a:pt x="1135" y="677"/>
                  <a:pt x="1136" y="677"/>
                  <a:pt x="1136" y="678"/>
                </a:cubicBezTo>
                <a:cubicBezTo>
                  <a:pt x="1133" y="680"/>
                  <a:pt x="1132" y="682"/>
                  <a:pt x="1129" y="680"/>
                </a:cubicBezTo>
                <a:cubicBezTo>
                  <a:pt x="1127" y="685"/>
                  <a:pt x="1118" y="690"/>
                  <a:pt x="1112" y="690"/>
                </a:cubicBezTo>
                <a:cubicBezTo>
                  <a:pt x="1114" y="687"/>
                  <a:pt x="1116" y="684"/>
                  <a:pt x="1118" y="681"/>
                </a:cubicBezTo>
                <a:cubicBezTo>
                  <a:pt x="1116" y="677"/>
                  <a:pt x="1114" y="673"/>
                  <a:pt x="1115" y="670"/>
                </a:cubicBezTo>
                <a:cubicBezTo>
                  <a:pt x="1114" y="676"/>
                  <a:pt x="1110" y="669"/>
                  <a:pt x="1108" y="673"/>
                </a:cubicBezTo>
                <a:cubicBezTo>
                  <a:pt x="1107" y="676"/>
                  <a:pt x="1109" y="676"/>
                  <a:pt x="1110" y="678"/>
                </a:cubicBezTo>
                <a:cubicBezTo>
                  <a:pt x="1106" y="679"/>
                  <a:pt x="1106" y="681"/>
                  <a:pt x="1107" y="686"/>
                </a:cubicBezTo>
                <a:cubicBezTo>
                  <a:pt x="1100" y="689"/>
                  <a:pt x="1098" y="686"/>
                  <a:pt x="1092" y="688"/>
                </a:cubicBezTo>
                <a:cubicBezTo>
                  <a:pt x="1104" y="698"/>
                  <a:pt x="1091" y="712"/>
                  <a:pt x="1080" y="715"/>
                </a:cubicBezTo>
                <a:cubicBezTo>
                  <a:pt x="1081" y="712"/>
                  <a:pt x="1077" y="714"/>
                  <a:pt x="1078" y="711"/>
                </a:cubicBezTo>
                <a:cubicBezTo>
                  <a:pt x="1080" y="710"/>
                  <a:pt x="1082" y="709"/>
                  <a:pt x="1083" y="712"/>
                </a:cubicBezTo>
                <a:cubicBezTo>
                  <a:pt x="1084" y="708"/>
                  <a:pt x="1088" y="708"/>
                  <a:pt x="1088" y="704"/>
                </a:cubicBezTo>
                <a:cubicBezTo>
                  <a:pt x="1079" y="699"/>
                  <a:pt x="1075" y="720"/>
                  <a:pt x="1067" y="710"/>
                </a:cubicBezTo>
                <a:cubicBezTo>
                  <a:pt x="1069" y="707"/>
                  <a:pt x="1072" y="703"/>
                  <a:pt x="1072" y="698"/>
                </a:cubicBezTo>
                <a:cubicBezTo>
                  <a:pt x="1068" y="699"/>
                  <a:pt x="1068" y="705"/>
                  <a:pt x="1063" y="705"/>
                </a:cubicBezTo>
                <a:cubicBezTo>
                  <a:pt x="1062" y="702"/>
                  <a:pt x="1066" y="704"/>
                  <a:pt x="1065" y="701"/>
                </a:cubicBezTo>
                <a:cubicBezTo>
                  <a:pt x="1060" y="705"/>
                  <a:pt x="1057" y="703"/>
                  <a:pt x="1051" y="704"/>
                </a:cubicBezTo>
                <a:cubicBezTo>
                  <a:pt x="1053" y="701"/>
                  <a:pt x="1055" y="699"/>
                  <a:pt x="1057" y="697"/>
                </a:cubicBezTo>
                <a:cubicBezTo>
                  <a:pt x="1055" y="694"/>
                  <a:pt x="1053" y="699"/>
                  <a:pt x="1052" y="697"/>
                </a:cubicBezTo>
                <a:cubicBezTo>
                  <a:pt x="1054" y="693"/>
                  <a:pt x="1053" y="688"/>
                  <a:pt x="1059" y="688"/>
                </a:cubicBezTo>
                <a:cubicBezTo>
                  <a:pt x="1061" y="689"/>
                  <a:pt x="1060" y="693"/>
                  <a:pt x="1063" y="692"/>
                </a:cubicBezTo>
                <a:cubicBezTo>
                  <a:pt x="1066" y="689"/>
                  <a:pt x="1068" y="687"/>
                  <a:pt x="1072" y="688"/>
                </a:cubicBezTo>
                <a:cubicBezTo>
                  <a:pt x="1072" y="682"/>
                  <a:pt x="1078" y="682"/>
                  <a:pt x="1079" y="678"/>
                </a:cubicBezTo>
                <a:cubicBezTo>
                  <a:pt x="1076" y="677"/>
                  <a:pt x="1077" y="680"/>
                  <a:pt x="1074" y="679"/>
                </a:cubicBezTo>
                <a:cubicBezTo>
                  <a:pt x="1074" y="677"/>
                  <a:pt x="1072" y="675"/>
                  <a:pt x="1071" y="673"/>
                </a:cubicBezTo>
                <a:cubicBezTo>
                  <a:pt x="1076" y="670"/>
                  <a:pt x="1076" y="665"/>
                  <a:pt x="1083" y="663"/>
                </a:cubicBezTo>
                <a:cubicBezTo>
                  <a:pt x="1083" y="668"/>
                  <a:pt x="1083" y="674"/>
                  <a:pt x="1087" y="676"/>
                </a:cubicBezTo>
                <a:cubicBezTo>
                  <a:pt x="1087" y="673"/>
                  <a:pt x="1091" y="675"/>
                  <a:pt x="1092" y="676"/>
                </a:cubicBezTo>
                <a:cubicBezTo>
                  <a:pt x="1093" y="673"/>
                  <a:pt x="1095" y="670"/>
                  <a:pt x="1096" y="667"/>
                </a:cubicBezTo>
                <a:cubicBezTo>
                  <a:pt x="1103" y="667"/>
                  <a:pt x="1105" y="663"/>
                  <a:pt x="1107" y="661"/>
                </a:cubicBezTo>
                <a:cubicBezTo>
                  <a:pt x="1102" y="659"/>
                  <a:pt x="1109" y="658"/>
                  <a:pt x="1110" y="653"/>
                </a:cubicBezTo>
                <a:cubicBezTo>
                  <a:pt x="1108" y="652"/>
                  <a:pt x="1106" y="655"/>
                  <a:pt x="1105" y="651"/>
                </a:cubicBezTo>
                <a:cubicBezTo>
                  <a:pt x="1106" y="647"/>
                  <a:pt x="1109" y="645"/>
                  <a:pt x="1114" y="644"/>
                </a:cubicBezTo>
                <a:cubicBezTo>
                  <a:pt x="1115" y="643"/>
                  <a:pt x="1112" y="640"/>
                  <a:pt x="1114" y="638"/>
                </a:cubicBezTo>
                <a:cubicBezTo>
                  <a:pt x="1117" y="640"/>
                  <a:pt x="1125" y="639"/>
                  <a:pt x="1122" y="645"/>
                </a:cubicBezTo>
                <a:cubicBezTo>
                  <a:pt x="1131" y="641"/>
                  <a:pt x="1137" y="634"/>
                  <a:pt x="1145" y="629"/>
                </a:cubicBezTo>
                <a:cubicBezTo>
                  <a:pt x="1144" y="625"/>
                  <a:pt x="1144" y="624"/>
                  <a:pt x="1145" y="620"/>
                </a:cubicBezTo>
                <a:cubicBezTo>
                  <a:pt x="1141" y="620"/>
                  <a:pt x="1140" y="624"/>
                  <a:pt x="1136" y="624"/>
                </a:cubicBezTo>
                <a:cubicBezTo>
                  <a:pt x="1135" y="622"/>
                  <a:pt x="1134" y="622"/>
                  <a:pt x="1135" y="621"/>
                </a:cubicBezTo>
                <a:cubicBezTo>
                  <a:pt x="1135" y="618"/>
                  <a:pt x="1142" y="618"/>
                  <a:pt x="1139" y="615"/>
                </a:cubicBezTo>
                <a:cubicBezTo>
                  <a:pt x="1139" y="619"/>
                  <a:pt x="1133" y="616"/>
                  <a:pt x="1132" y="615"/>
                </a:cubicBezTo>
                <a:cubicBezTo>
                  <a:pt x="1130" y="612"/>
                  <a:pt x="1135" y="610"/>
                  <a:pt x="1134" y="604"/>
                </a:cubicBezTo>
                <a:cubicBezTo>
                  <a:pt x="1136" y="602"/>
                  <a:pt x="1137" y="605"/>
                  <a:pt x="1138" y="603"/>
                </a:cubicBezTo>
                <a:cubicBezTo>
                  <a:pt x="1140" y="599"/>
                  <a:pt x="1142" y="591"/>
                  <a:pt x="1148" y="594"/>
                </a:cubicBezTo>
                <a:cubicBezTo>
                  <a:pt x="1150" y="589"/>
                  <a:pt x="1157" y="584"/>
                  <a:pt x="1162" y="583"/>
                </a:cubicBezTo>
                <a:cubicBezTo>
                  <a:pt x="1172" y="580"/>
                  <a:pt x="1182" y="571"/>
                  <a:pt x="1183" y="576"/>
                </a:cubicBezTo>
                <a:cubicBezTo>
                  <a:pt x="1187" y="569"/>
                  <a:pt x="1196" y="567"/>
                  <a:pt x="1201" y="560"/>
                </a:cubicBezTo>
                <a:cubicBezTo>
                  <a:pt x="1194" y="559"/>
                  <a:pt x="1196" y="565"/>
                  <a:pt x="1190" y="564"/>
                </a:cubicBezTo>
                <a:cubicBezTo>
                  <a:pt x="1188" y="560"/>
                  <a:pt x="1192" y="561"/>
                  <a:pt x="1191" y="559"/>
                </a:cubicBezTo>
                <a:cubicBezTo>
                  <a:pt x="1189" y="560"/>
                  <a:pt x="1186" y="557"/>
                  <a:pt x="1183" y="554"/>
                </a:cubicBezTo>
                <a:cubicBezTo>
                  <a:pt x="1184" y="551"/>
                  <a:pt x="1188" y="551"/>
                  <a:pt x="1188" y="547"/>
                </a:cubicBezTo>
                <a:cubicBezTo>
                  <a:pt x="1185" y="547"/>
                  <a:pt x="1185" y="550"/>
                  <a:pt x="1181" y="550"/>
                </a:cubicBezTo>
                <a:cubicBezTo>
                  <a:pt x="1182" y="546"/>
                  <a:pt x="1177" y="549"/>
                  <a:pt x="1176" y="547"/>
                </a:cubicBezTo>
                <a:cubicBezTo>
                  <a:pt x="1176" y="542"/>
                  <a:pt x="1179" y="538"/>
                  <a:pt x="1175" y="534"/>
                </a:cubicBezTo>
                <a:cubicBezTo>
                  <a:pt x="1176" y="527"/>
                  <a:pt x="1192" y="533"/>
                  <a:pt x="1191" y="535"/>
                </a:cubicBezTo>
                <a:cubicBezTo>
                  <a:pt x="1200" y="534"/>
                  <a:pt x="1201" y="524"/>
                  <a:pt x="1210" y="521"/>
                </a:cubicBezTo>
                <a:cubicBezTo>
                  <a:pt x="1211" y="525"/>
                  <a:pt x="1213" y="521"/>
                  <a:pt x="1215" y="521"/>
                </a:cubicBezTo>
                <a:cubicBezTo>
                  <a:pt x="1214" y="514"/>
                  <a:pt x="1226" y="510"/>
                  <a:pt x="1233" y="511"/>
                </a:cubicBezTo>
                <a:cubicBezTo>
                  <a:pt x="1233" y="508"/>
                  <a:pt x="1234" y="507"/>
                  <a:pt x="1237" y="508"/>
                </a:cubicBezTo>
                <a:cubicBezTo>
                  <a:pt x="1244" y="502"/>
                  <a:pt x="1253" y="494"/>
                  <a:pt x="1264" y="495"/>
                </a:cubicBezTo>
                <a:cubicBezTo>
                  <a:pt x="1266" y="494"/>
                  <a:pt x="1266" y="491"/>
                  <a:pt x="1270" y="492"/>
                </a:cubicBezTo>
                <a:cubicBezTo>
                  <a:pt x="1270" y="482"/>
                  <a:pt x="1282" y="485"/>
                  <a:pt x="1284" y="478"/>
                </a:cubicBezTo>
                <a:close/>
                <a:moveTo>
                  <a:pt x="1047" y="497"/>
                </a:moveTo>
                <a:cubicBezTo>
                  <a:pt x="1049" y="495"/>
                  <a:pt x="1050" y="498"/>
                  <a:pt x="1053" y="497"/>
                </a:cubicBezTo>
                <a:cubicBezTo>
                  <a:pt x="1053" y="500"/>
                  <a:pt x="1051" y="500"/>
                  <a:pt x="1048" y="501"/>
                </a:cubicBezTo>
                <a:cubicBezTo>
                  <a:pt x="1048" y="499"/>
                  <a:pt x="1046" y="500"/>
                  <a:pt x="1047" y="497"/>
                </a:cubicBezTo>
                <a:close/>
                <a:moveTo>
                  <a:pt x="1147" y="374"/>
                </a:moveTo>
                <a:cubicBezTo>
                  <a:pt x="1147" y="376"/>
                  <a:pt x="1146" y="378"/>
                  <a:pt x="1143" y="377"/>
                </a:cubicBezTo>
                <a:cubicBezTo>
                  <a:pt x="1143" y="375"/>
                  <a:pt x="1144" y="373"/>
                  <a:pt x="1147" y="374"/>
                </a:cubicBezTo>
                <a:close/>
                <a:moveTo>
                  <a:pt x="1067" y="324"/>
                </a:moveTo>
                <a:cubicBezTo>
                  <a:pt x="1070" y="326"/>
                  <a:pt x="1066" y="329"/>
                  <a:pt x="1064" y="328"/>
                </a:cubicBezTo>
                <a:cubicBezTo>
                  <a:pt x="1063" y="325"/>
                  <a:pt x="1066" y="326"/>
                  <a:pt x="1067" y="324"/>
                </a:cubicBezTo>
                <a:close/>
                <a:moveTo>
                  <a:pt x="1061" y="238"/>
                </a:moveTo>
                <a:cubicBezTo>
                  <a:pt x="1065" y="239"/>
                  <a:pt x="1062" y="244"/>
                  <a:pt x="1059" y="241"/>
                </a:cubicBezTo>
                <a:cubicBezTo>
                  <a:pt x="1060" y="240"/>
                  <a:pt x="1061" y="239"/>
                  <a:pt x="1061" y="238"/>
                </a:cubicBezTo>
                <a:close/>
                <a:moveTo>
                  <a:pt x="1054" y="394"/>
                </a:moveTo>
                <a:cubicBezTo>
                  <a:pt x="1054" y="398"/>
                  <a:pt x="1048" y="399"/>
                  <a:pt x="1048" y="395"/>
                </a:cubicBezTo>
                <a:cubicBezTo>
                  <a:pt x="1051" y="396"/>
                  <a:pt x="1051" y="394"/>
                  <a:pt x="1054" y="394"/>
                </a:cubicBezTo>
                <a:close/>
                <a:moveTo>
                  <a:pt x="1029" y="341"/>
                </a:moveTo>
                <a:cubicBezTo>
                  <a:pt x="1026" y="347"/>
                  <a:pt x="1019" y="344"/>
                  <a:pt x="1013" y="347"/>
                </a:cubicBezTo>
                <a:cubicBezTo>
                  <a:pt x="1014" y="341"/>
                  <a:pt x="1023" y="337"/>
                  <a:pt x="1029" y="341"/>
                </a:cubicBezTo>
                <a:close/>
                <a:moveTo>
                  <a:pt x="205" y="236"/>
                </a:moveTo>
                <a:cubicBezTo>
                  <a:pt x="204" y="235"/>
                  <a:pt x="209" y="232"/>
                  <a:pt x="212" y="231"/>
                </a:cubicBezTo>
                <a:cubicBezTo>
                  <a:pt x="211" y="234"/>
                  <a:pt x="207" y="234"/>
                  <a:pt x="205" y="236"/>
                </a:cubicBezTo>
                <a:close/>
                <a:moveTo>
                  <a:pt x="155" y="482"/>
                </a:moveTo>
                <a:cubicBezTo>
                  <a:pt x="154" y="473"/>
                  <a:pt x="158" y="470"/>
                  <a:pt x="159" y="462"/>
                </a:cubicBezTo>
                <a:cubicBezTo>
                  <a:pt x="162" y="460"/>
                  <a:pt x="162" y="463"/>
                  <a:pt x="166" y="463"/>
                </a:cubicBezTo>
                <a:cubicBezTo>
                  <a:pt x="165" y="471"/>
                  <a:pt x="161" y="478"/>
                  <a:pt x="155" y="482"/>
                </a:cubicBezTo>
                <a:close/>
                <a:moveTo>
                  <a:pt x="230" y="515"/>
                </a:moveTo>
                <a:cubicBezTo>
                  <a:pt x="227" y="515"/>
                  <a:pt x="227" y="512"/>
                  <a:pt x="224" y="511"/>
                </a:cubicBezTo>
                <a:cubicBezTo>
                  <a:pt x="221" y="498"/>
                  <a:pt x="230" y="496"/>
                  <a:pt x="241" y="494"/>
                </a:cubicBezTo>
                <a:cubicBezTo>
                  <a:pt x="242" y="502"/>
                  <a:pt x="238" y="513"/>
                  <a:pt x="230" y="515"/>
                </a:cubicBezTo>
                <a:close/>
                <a:moveTo>
                  <a:pt x="241" y="525"/>
                </a:moveTo>
                <a:cubicBezTo>
                  <a:pt x="241" y="523"/>
                  <a:pt x="243" y="522"/>
                  <a:pt x="245" y="522"/>
                </a:cubicBezTo>
                <a:cubicBezTo>
                  <a:pt x="245" y="525"/>
                  <a:pt x="244" y="525"/>
                  <a:pt x="241" y="525"/>
                </a:cubicBezTo>
                <a:close/>
                <a:moveTo>
                  <a:pt x="247" y="520"/>
                </a:moveTo>
                <a:cubicBezTo>
                  <a:pt x="247" y="518"/>
                  <a:pt x="246" y="518"/>
                  <a:pt x="246" y="516"/>
                </a:cubicBezTo>
                <a:cubicBezTo>
                  <a:pt x="249" y="517"/>
                  <a:pt x="249" y="515"/>
                  <a:pt x="251" y="515"/>
                </a:cubicBezTo>
                <a:cubicBezTo>
                  <a:pt x="252" y="518"/>
                  <a:pt x="249" y="519"/>
                  <a:pt x="247" y="520"/>
                </a:cubicBezTo>
                <a:close/>
                <a:moveTo>
                  <a:pt x="190" y="767"/>
                </a:moveTo>
                <a:cubicBezTo>
                  <a:pt x="190" y="763"/>
                  <a:pt x="193" y="763"/>
                  <a:pt x="196" y="762"/>
                </a:cubicBezTo>
                <a:cubicBezTo>
                  <a:pt x="196" y="766"/>
                  <a:pt x="193" y="766"/>
                  <a:pt x="190" y="767"/>
                </a:cubicBezTo>
                <a:close/>
                <a:moveTo>
                  <a:pt x="171" y="813"/>
                </a:moveTo>
                <a:cubicBezTo>
                  <a:pt x="173" y="813"/>
                  <a:pt x="171" y="817"/>
                  <a:pt x="171" y="818"/>
                </a:cubicBezTo>
                <a:cubicBezTo>
                  <a:pt x="169" y="818"/>
                  <a:pt x="169" y="817"/>
                  <a:pt x="168" y="817"/>
                </a:cubicBezTo>
                <a:cubicBezTo>
                  <a:pt x="168" y="815"/>
                  <a:pt x="170" y="814"/>
                  <a:pt x="171" y="813"/>
                </a:cubicBezTo>
                <a:close/>
                <a:moveTo>
                  <a:pt x="169" y="827"/>
                </a:moveTo>
                <a:cubicBezTo>
                  <a:pt x="168" y="825"/>
                  <a:pt x="170" y="824"/>
                  <a:pt x="168" y="821"/>
                </a:cubicBezTo>
                <a:cubicBezTo>
                  <a:pt x="173" y="817"/>
                  <a:pt x="180" y="812"/>
                  <a:pt x="188" y="815"/>
                </a:cubicBezTo>
                <a:cubicBezTo>
                  <a:pt x="181" y="818"/>
                  <a:pt x="174" y="821"/>
                  <a:pt x="169" y="827"/>
                </a:cubicBezTo>
                <a:close/>
                <a:moveTo>
                  <a:pt x="196" y="826"/>
                </a:moveTo>
                <a:cubicBezTo>
                  <a:pt x="195" y="824"/>
                  <a:pt x="192" y="825"/>
                  <a:pt x="193" y="821"/>
                </a:cubicBezTo>
                <a:cubicBezTo>
                  <a:pt x="191" y="821"/>
                  <a:pt x="191" y="821"/>
                  <a:pt x="191" y="821"/>
                </a:cubicBezTo>
                <a:cubicBezTo>
                  <a:pt x="195" y="814"/>
                  <a:pt x="196" y="826"/>
                  <a:pt x="200" y="822"/>
                </a:cubicBezTo>
                <a:cubicBezTo>
                  <a:pt x="199" y="824"/>
                  <a:pt x="198" y="826"/>
                  <a:pt x="196" y="826"/>
                </a:cubicBezTo>
                <a:close/>
                <a:moveTo>
                  <a:pt x="242" y="829"/>
                </a:moveTo>
                <a:cubicBezTo>
                  <a:pt x="241" y="836"/>
                  <a:pt x="235" y="844"/>
                  <a:pt x="229" y="841"/>
                </a:cubicBezTo>
                <a:cubicBezTo>
                  <a:pt x="236" y="840"/>
                  <a:pt x="236" y="831"/>
                  <a:pt x="242" y="829"/>
                </a:cubicBezTo>
                <a:close/>
                <a:moveTo>
                  <a:pt x="192" y="885"/>
                </a:moveTo>
                <a:cubicBezTo>
                  <a:pt x="190" y="883"/>
                  <a:pt x="195" y="880"/>
                  <a:pt x="197" y="879"/>
                </a:cubicBezTo>
                <a:cubicBezTo>
                  <a:pt x="196" y="882"/>
                  <a:pt x="194" y="883"/>
                  <a:pt x="192" y="885"/>
                </a:cubicBezTo>
                <a:close/>
                <a:moveTo>
                  <a:pt x="191" y="900"/>
                </a:moveTo>
                <a:cubicBezTo>
                  <a:pt x="191" y="897"/>
                  <a:pt x="195" y="898"/>
                  <a:pt x="197" y="897"/>
                </a:cubicBezTo>
                <a:cubicBezTo>
                  <a:pt x="197" y="900"/>
                  <a:pt x="194" y="900"/>
                  <a:pt x="191" y="900"/>
                </a:cubicBezTo>
                <a:close/>
                <a:moveTo>
                  <a:pt x="197" y="887"/>
                </a:moveTo>
                <a:cubicBezTo>
                  <a:pt x="196" y="887"/>
                  <a:pt x="197" y="886"/>
                  <a:pt x="196" y="886"/>
                </a:cubicBezTo>
                <a:cubicBezTo>
                  <a:pt x="200" y="883"/>
                  <a:pt x="203" y="881"/>
                  <a:pt x="208" y="878"/>
                </a:cubicBezTo>
                <a:cubicBezTo>
                  <a:pt x="206" y="883"/>
                  <a:pt x="201" y="884"/>
                  <a:pt x="197" y="887"/>
                </a:cubicBezTo>
                <a:close/>
                <a:moveTo>
                  <a:pt x="209" y="913"/>
                </a:moveTo>
                <a:cubicBezTo>
                  <a:pt x="209" y="911"/>
                  <a:pt x="212" y="910"/>
                  <a:pt x="214" y="910"/>
                </a:cubicBezTo>
                <a:cubicBezTo>
                  <a:pt x="214" y="912"/>
                  <a:pt x="212" y="914"/>
                  <a:pt x="209" y="913"/>
                </a:cubicBezTo>
                <a:close/>
                <a:moveTo>
                  <a:pt x="201" y="899"/>
                </a:moveTo>
                <a:cubicBezTo>
                  <a:pt x="200" y="898"/>
                  <a:pt x="200" y="896"/>
                  <a:pt x="199" y="896"/>
                </a:cubicBezTo>
                <a:cubicBezTo>
                  <a:pt x="201" y="891"/>
                  <a:pt x="206" y="889"/>
                  <a:pt x="210" y="887"/>
                </a:cubicBezTo>
                <a:cubicBezTo>
                  <a:pt x="204" y="887"/>
                  <a:pt x="216" y="881"/>
                  <a:pt x="219" y="883"/>
                </a:cubicBezTo>
                <a:cubicBezTo>
                  <a:pt x="213" y="888"/>
                  <a:pt x="211" y="897"/>
                  <a:pt x="201" y="899"/>
                </a:cubicBezTo>
                <a:close/>
                <a:moveTo>
                  <a:pt x="215" y="874"/>
                </a:moveTo>
                <a:cubicBezTo>
                  <a:pt x="215" y="877"/>
                  <a:pt x="214" y="878"/>
                  <a:pt x="211" y="878"/>
                </a:cubicBezTo>
                <a:cubicBezTo>
                  <a:pt x="209" y="876"/>
                  <a:pt x="212" y="873"/>
                  <a:pt x="215" y="874"/>
                </a:cubicBezTo>
                <a:close/>
                <a:moveTo>
                  <a:pt x="201" y="876"/>
                </a:moveTo>
                <a:cubicBezTo>
                  <a:pt x="207" y="872"/>
                  <a:pt x="210" y="864"/>
                  <a:pt x="219" y="862"/>
                </a:cubicBezTo>
                <a:cubicBezTo>
                  <a:pt x="216" y="869"/>
                  <a:pt x="208" y="872"/>
                  <a:pt x="201" y="876"/>
                </a:cubicBezTo>
                <a:close/>
                <a:moveTo>
                  <a:pt x="223" y="831"/>
                </a:moveTo>
                <a:cubicBezTo>
                  <a:pt x="227" y="828"/>
                  <a:pt x="234" y="825"/>
                  <a:pt x="239" y="827"/>
                </a:cubicBezTo>
                <a:cubicBezTo>
                  <a:pt x="240" y="831"/>
                  <a:pt x="230" y="833"/>
                  <a:pt x="226" y="834"/>
                </a:cubicBezTo>
                <a:cubicBezTo>
                  <a:pt x="226" y="832"/>
                  <a:pt x="222" y="834"/>
                  <a:pt x="223" y="831"/>
                </a:cubicBezTo>
                <a:close/>
                <a:moveTo>
                  <a:pt x="238" y="852"/>
                </a:moveTo>
                <a:cubicBezTo>
                  <a:pt x="235" y="853"/>
                  <a:pt x="231" y="856"/>
                  <a:pt x="228" y="853"/>
                </a:cubicBezTo>
                <a:cubicBezTo>
                  <a:pt x="232" y="848"/>
                  <a:pt x="234" y="842"/>
                  <a:pt x="244" y="843"/>
                </a:cubicBezTo>
                <a:cubicBezTo>
                  <a:pt x="242" y="846"/>
                  <a:pt x="237" y="847"/>
                  <a:pt x="238" y="852"/>
                </a:cubicBezTo>
                <a:close/>
                <a:moveTo>
                  <a:pt x="243" y="950"/>
                </a:moveTo>
                <a:cubicBezTo>
                  <a:pt x="244" y="948"/>
                  <a:pt x="245" y="948"/>
                  <a:pt x="245" y="947"/>
                </a:cubicBezTo>
                <a:cubicBezTo>
                  <a:pt x="247" y="947"/>
                  <a:pt x="247" y="949"/>
                  <a:pt x="248" y="951"/>
                </a:cubicBezTo>
                <a:cubicBezTo>
                  <a:pt x="245" y="951"/>
                  <a:pt x="245" y="949"/>
                  <a:pt x="243" y="950"/>
                </a:cubicBezTo>
                <a:close/>
                <a:moveTo>
                  <a:pt x="270" y="942"/>
                </a:moveTo>
                <a:cubicBezTo>
                  <a:pt x="270" y="941"/>
                  <a:pt x="269" y="940"/>
                  <a:pt x="268" y="939"/>
                </a:cubicBezTo>
                <a:cubicBezTo>
                  <a:pt x="269" y="939"/>
                  <a:pt x="272" y="939"/>
                  <a:pt x="274" y="939"/>
                </a:cubicBezTo>
                <a:cubicBezTo>
                  <a:pt x="275" y="942"/>
                  <a:pt x="272" y="941"/>
                  <a:pt x="270" y="942"/>
                </a:cubicBezTo>
                <a:close/>
                <a:moveTo>
                  <a:pt x="286" y="932"/>
                </a:moveTo>
                <a:cubicBezTo>
                  <a:pt x="285" y="935"/>
                  <a:pt x="283" y="932"/>
                  <a:pt x="283" y="929"/>
                </a:cubicBezTo>
                <a:cubicBezTo>
                  <a:pt x="285" y="929"/>
                  <a:pt x="285" y="930"/>
                  <a:pt x="287" y="930"/>
                </a:cubicBezTo>
                <a:cubicBezTo>
                  <a:pt x="287" y="931"/>
                  <a:pt x="285" y="932"/>
                  <a:pt x="286" y="932"/>
                </a:cubicBezTo>
                <a:close/>
                <a:moveTo>
                  <a:pt x="259" y="1031"/>
                </a:moveTo>
                <a:cubicBezTo>
                  <a:pt x="258" y="1031"/>
                  <a:pt x="258" y="1029"/>
                  <a:pt x="257" y="1029"/>
                </a:cubicBezTo>
                <a:cubicBezTo>
                  <a:pt x="258" y="1027"/>
                  <a:pt x="260" y="1025"/>
                  <a:pt x="262" y="1025"/>
                </a:cubicBezTo>
                <a:cubicBezTo>
                  <a:pt x="264" y="1028"/>
                  <a:pt x="263" y="1031"/>
                  <a:pt x="259" y="1031"/>
                </a:cubicBezTo>
                <a:close/>
                <a:moveTo>
                  <a:pt x="328" y="904"/>
                </a:moveTo>
                <a:cubicBezTo>
                  <a:pt x="327" y="906"/>
                  <a:pt x="323" y="906"/>
                  <a:pt x="322" y="908"/>
                </a:cubicBezTo>
                <a:cubicBezTo>
                  <a:pt x="320" y="908"/>
                  <a:pt x="321" y="905"/>
                  <a:pt x="319" y="905"/>
                </a:cubicBezTo>
                <a:cubicBezTo>
                  <a:pt x="321" y="904"/>
                  <a:pt x="326" y="902"/>
                  <a:pt x="328" y="904"/>
                </a:cubicBezTo>
                <a:close/>
                <a:moveTo>
                  <a:pt x="296" y="923"/>
                </a:moveTo>
                <a:cubicBezTo>
                  <a:pt x="293" y="923"/>
                  <a:pt x="296" y="925"/>
                  <a:pt x="294" y="927"/>
                </a:cubicBezTo>
                <a:cubicBezTo>
                  <a:pt x="291" y="927"/>
                  <a:pt x="291" y="927"/>
                  <a:pt x="289" y="926"/>
                </a:cubicBezTo>
                <a:cubicBezTo>
                  <a:pt x="289" y="922"/>
                  <a:pt x="294" y="920"/>
                  <a:pt x="297" y="923"/>
                </a:cubicBezTo>
                <a:cubicBezTo>
                  <a:pt x="297" y="924"/>
                  <a:pt x="296" y="923"/>
                  <a:pt x="296" y="923"/>
                </a:cubicBezTo>
                <a:close/>
                <a:moveTo>
                  <a:pt x="305" y="921"/>
                </a:moveTo>
                <a:cubicBezTo>
                  <a:pt x="301" y="921"/>
                  <a:pt x="301" y="921"/>
                  <a:pt x="301" y="921"/>
                </a:cubicBezTo>
                <a:cubicBezTo>
                  <a:pt x="302" y="915"/>
                  <a:pt x="297" y="917"/>
                  <a:pt x="296" y="913"/>
                </a:cubicBezTo>
                <a:cubicBezTo>
                  <a:pt x="298" y="914"/>
                  <a:pt x="301" y="915"/>
                  <a:pt x="301" y="912"/>
                </a:cubicBezTo>
                <a:cubicBezTo>
                  <a:pt x="302" y="911"/>
                  <a:pt x="302" y="912"/>
                  <a:pt x="302" y="913"/>
                </a:cubicBezTo>
                <a:cubicBezTo>
                  <a:pt x="302" y="915"/>
                  <a:pt x="307" y="912"/>
                  <a:pt x="308" y="914"/>
                </a:cubicBezTo>
                <a:cubicBezTo>
                  <a:pt x="308" y="918"/>
                  <a:pt x="306" y="918"/>
                  <a:pt x="305" y="921"/>
                </a:cubicBezTo>
                <a:close/>
                <a:moveTo>
                  <a:pt x="309" y="908"/>
                </a:moveTo>
                <a:cubicBezTo>
                  <a:pt x="308" y="908"/>
                  <a:pt x="308" y="909"/>
                  <a:pt x="308" y="910"/>
                </a:cubicBezTo>
                <a:cubicBezTo>
                  <a:pt x="307" y="909"/>
                  <a:pt x="308" y="908"/>
                  <a:pt x="308" y="907"/>
                </a:cubicBezTo>
                <a:cubicBezTo>
                  <a:pt x="312" y="907"/>
                  <a:pt x="314" y="910"/>
                  <a:pt x="316" y="913"/>
                </a:cubicBezTo>
                <a:cubicBezTo>
                  <a:pt x="315" y="914"/>
                  <a:pt x="313" y="912"/>
                  <a:pt x="312" y="915"/>
                </a:cubicBezTo>
                <a:cubicBezTo>
                  <a:pt x="312" y="912"/>
                  <a:pt x="309" y="912"/>
                  <a:pt x="309" y="908"/>
                </a:cubicBezTo>
                <a:close/>
                <a:moveTo>
                  <a:pt x="317" y="967"/>
                </a:moveTo>
                <a:cubicBezTo>
                  <a:pt x="315" y="967"/>
                  <a:pt x="318" y="964"/>
                  <a:pt x="317" y="963"/>
                </a:cubicBezTo>
                <a:cubicBezTo>
                  <a:pt x="317" y="961"/>
                  <a:pt x="314" y="964"/>
                  <a:pt x="313" y="962"/>
                </a:cubicBezTo>
                <a:cubicBezTo>
                  <a:pt x="311" y="951"/>
                  <a:pt x="326" y="950"/>
                  <a:pt x="325" y="959"/>
                </a:cubicBezTo>
                <a:cubicBezTo>
                  <a:pt x="329" y="959"/>
                  <a:pt x="329" y="959"/>
                  <a:pt x="329" y="959"/>
                </a:cubicBezTo>
                <a:cubicBezTo>
                  <a:pt x="330" y="961"/>
                  <a:pt x="327" y="962"/>
                  <a:pt x="330" y="962"/>
                </a:cubicBezTo>
                <a:cubicBezTo>
                  <a:pt x="327" y="965"/>
                  <a:pt x="322" y="967"/>
                  <a:pt x="317" y="967"/>
                </a:cubicBezTo>
                <a:close/>
                <a:moveTo>
                  <a:pt x="478" y="165"/>
                </a:moveTo>
                <a:cubicBezTo>
                  <a:pt x="476" y="165"/>
                  <a:pt x="474" y="165"/>
                  <a:pt x="473" y="164"/>
                </a:cubicBezTo>
                <a:cubicBezTo>
                  <a:pt x="473" y="159"/>
                  <a:pt x="479" y="159"/>
                  <a:pt x="478" y="165"/>
                </a:cubicBezTo>
                <a:close/>
                <a:moveTo>
                  <a:pt x="470" y="1060"/>
                </a:moveTo>
                <a:cubicBezTo>
                  <a:pt x="482" y="1051"/>
                  <a:pt x="496" y="1045"/>
                  <a:pt x="508" y="1036"/>
                </a:cubicBezTo>
                <a:cubicBezTo>
                  <a:pt x="509" y="1036"/>
                  <a:pt x="510" y="1037"/>
                  <a:pt x="511" y="1037"/>
                </a:cubicBezTo>
                <a:cubicBezTo>
                  <a:pt x="500" y="1048"/>
                  <a:pt x="486" y="1053"/>
                  <a:pt x="470" y="1060"/>
                </a:cubicBezTo>
                <a:close/>
                <a:moveTo>
                  <a:pt x="513" y="981"/>
                </a:moveTo>
                <a:cubicBezTo>
                  <a:pt x="513" y="978"/>
                  <a:pt x="513" y="978"/>
                  <a:pt x="513" y="978"/>
                </a:cubicBezTo>
                <a:cubicBezTo>
                  <a:pt x="515" y="977"/>
                  <a:pt x="518" y="978"/>
                  <a:pt x="519" y="979"/>
                </a:cubicBezTo>
                <a:cubicBezTo>
                  <a:pt x="519" y="984"/>
                  <a:pt x="516" y="981"/>
                  <a:pt x="513" y="981"/>
                </a:cubicBezTo>
                <a:close/>
                <a:moveTo>
                  <a:pt x="539" y="208"/>
                </a:moveTo>
                <a:cubicBezTo>
                  <a:pt x="547" y="189"/>
                  <a:pt x="577" y="181"/>
                  <a:pt x="594" y="167"/>
                </a:cubicBezTo>
                <a:cubicBezTo>
                  <a:pt x="602" y="161"/>
                  <a:pt x="606" y="151"/>
                  <a:pt x="618" y="156"/>
                </a:cubicBezTo>
                <a:cubicBezTo>
                  <a:pt x="618" y="159"/>
                  <a:pt x="619" y="161"/>
                  <a:pt x="622" y="162"/>
                </a:cubicBezTo>
                <a:cubicBezTo>
                  <a:pt x="610" y="176"/>
                  <a:pt x="599" y="190"/>
                  <a:pt x="583" y="198"/>
                </a:cubicBezTo>
                <a:cubicBezTo>
                  <a:pt x="569" y="203"/>
                  <a:pt x="553" y="206"/>
                  <a:pt x="539" y="208"/>
                </a:cubicBezTo>
                <a:close/>
                <a:moveTo>
                  <a:pt x="557" y="1047"/>
                </a:moveTo>
                <a:cubicBezTo>
                  <a:pt x="556" y="1044"/>
                  <a:pt x="563" y="1041"/>
                  <a:pt x="563" y="1046"/>
                </a:cubicBezTo>
                <a:cubicBezTo>
                  <a:pt x="561" y="1047"/>
                  <a:pt x="558" y="1049"/>
                  <a:pt x="557" y="1047"/>
                </a:cubicBezTo>
                <a:close/>
                <a:moveTo>
                  <a:pt x="666" y="996"/>
                </a:moveTo>
                <a:cubicBezTo>
                  <a:pt x="667" y="998"/>
                  <a:pt x="668" y="999"/>
                  <a:pt x="666" y="1001"/>
                </a:cubicBezTo>
                <a:cubicBezTo>
                  <a:pt x="653" y="1002"/>
                  <a:pt x="645" y="1000"/>
                  <a:pt x="637" y="1009"/>
                </a:cubicBezTo>
                <a:cubicBezTo>
                  <a:pt x="638" y="1005"/>
                  <a:pt x="634" y="1007"/>
                  <a:pt x="634" y="1005"/>
                </a:cubicBezTo>
                <a:cubicBezTo>
                  <a:pt x="629" y="1007"/>
                  <a:pt x="624" y="1009"/>
                  <a:pt x="617" y="1010"/>
                </a:cubicBezTo>
                <a:cubicBezTo>
                  <a:pt x="620" y="1014"/>
                  <a:pt x="617" y="1012"/>
                  <a:pt x="615" y="1016"/>
                </a:cubicBezTo>
                <a:cubicBezTo>
                  <a:pt x="618" y="1016"/>
                  <a:pt x="618" y="1014"/>
                  <a:pt x="621" y="1015"/>
                </a:cubicBezTo>
                <a:cubicBezTo>
                  <a:pt x="621" y="1017"/>
                  <a:pt x="618" y="1016"/>
                  <a:pt x="618" y="1017"/>
                </a:cubicBezTo>
                <a:cubicBezTo>
                  <a:pt x="623" y="1020"/>
                  <a:pt x="634" y="1014"/>
                  <a:pt x="642" y="1013"/>
                </a:cubicBezTo>
                <a:cubicBezTo>
                  <a:pt x="642" y="1015"/>
                  <a:pt x="641" y="1015"/>
                  <a:pt x="641" y="1017"/>
                </a:cubicBezTo>
                <a:cubicBezTo>
                  <a:pt x="634" y="1014"/>
                  <a:pt x="625" y="1022"/>
                  <a:pt x="617" y="1025"/>
                </a:cubicBezTo>
                <a:cubicBezTo>
                  <a:pt x="605" y="1019"/>
                  <a:pt x="593" y="1032"/>
                  <a:pt x="582" y="1029"/>
                </a:cubicBezTo>
                <a:cubicBezTo>
                  <a:pt x="582" y="1030"/>
                  <a:pt x="584" y="1029"/>
                  <a:pt x="586" y="1030"/>
                </a:cubicBezTo>
                <a:cubicBezTo>
                  <a:pt x="583" y="1036"/>
                  <a:pt x="570" y="1033"/>
                  <a:pt x="568" y="1038"/>
                </a:cubicBezTo>
                <a:cubicBezTo>
                  <a:pt x="567" y="1033"/>
                  <a:pt x="570" y="1031"/>
                  <a:pt x="573" y="1029"/>
                </a:cubicBezTo>
                <a:cubicBezTo>
                  <a:pt x="572" y="1027"/>
                  <a:pt x="570" y="1027"/>
                  <a:pt x="568" y="1027"/>
                </a:cubicBezTo>
                <a:cubicBezTo>
                  <a:pt x="572" y="1022"/>
                  <a:pt x="579" y="1022"/>
                  <a:pt x="589" y="1023"/>
                </a:cubicBezTo>
                <a:cubicBezTo>
                  <a:pt x="593" y="1018"/>
                  <a:pt x="606" y="1018"/>
                  <a:pt x="611" y="1017"/>
                </a:cubicBezTo>
                <a:cubicBezTo>
                  <a:pt x="610" y="1016"/>
                  <a:pt x="609" y="1015"/>
                  <a:pt x="610" y="1013"/>
                </a:cubicBezTo>
                <a:cubicBezTo>
                  <a:pt x="599" y="1016"/>
                  <a:pt x="590" y="1019"/>
                  <a:pt x="580" y="1020"/>
                </a:cubicBezTo>
                <a:cubicBezTo>
                  <a:pt x="591" y="1013"/>
                  <a:pt x="603" y="1008"/>
                  <a:pt x="621" y="1007"/>
                </a:cubicBezTo>
                <a:cubicBezTo>
                  <a:pt x="620" y="1006"/>
                  <a:pt x="619" y="1006"/>
                  <a:pt x="619" y="1005"/>
                </a:cubicBezTo>
                <a:cubicBezTo>
                  <a:pt x="615" y="1004"/>
                  <a:pt x="614" y="1007"/>
                  <a:pt x="611" y="1007"/>
                </a:cubicBezTo>
                <a:cubicBezTo>
                  <a:pt x="627" y="999"/>
                  <a:pt x="642" y="992"/>
                  <a:pt x="657" y="984"/>
                </a:cubicBezTo>
                <a:cubicBezTo>
                  <a:pt x="667" y="989"/>
                  <a:pt x="678" y="977"/>
                  <a:pt x="687" y="978"/>
                </a:cubicBezTo>
                <a:cubicBezTo>
                  <a:pt x="688" y="973"/>
                  <a:pt x="691" y="970"/>
                  <a:pt x="698" y="970"/>
                </a:cubicBezTo>
                <a:cubicBezTo>
                  <a:pt x="696" y="975"/>
                  <a:pt x="698" y="978"/>
                  <a:pt x="694" y="979"/>
                </a:cubicBezTo>
                <a:cubicBezTo>
                  <a:pt x="698" y="983"/>
                  <a:pt x="706" y="976"/>
                  <a:pt x="713" y="977"/>
                </a:cubicBezTo>
                <a:cubicBezTo>
                  <a:pt x="698" y="988"/>
                  <a:pt x="679" y="991"/>
                  <a:pt x="666" y="996"/>
                </a:cubicBezTo>
                <a:close/>
                <a:moveTo>
                  <a:pt x="683" y="1085"/>
                </a:moveTo>
                <a:cubicBezTo>
                  <a:pt x="682" y="1084"/>
                  <a:pt x="687" y="1080"/>
                  <a:pt x="691" y="1082"/>
                </a:cubicBezTo>
                <a:cubicBezTo>
                  <a:pt x="690" y="1087"/>
                  <a:pt x="685" y="1085"/>
                  <a:pt x="683" y="1085"/>
                </a:cubicBezTo>
                <a:close/>
                <a:moveTo>
                  <a:pt x="725" y="940"/>
                </a:moveTo>
                <a:cubicBezTo>
                  <a:pt x="728" y="940"/>
                  <a:pt x="729" y="939"/>
                  <a:pt x="732" y="940"/>
                </a:cubicBezTo>
                <a:cubicBezTo>
                  <a:pt x="732" y="944"/>
                  <a:pt x="732" y="944"/>
                  <a:pt x="732" y="944"/>
                </a:cubicBezTo>
                <a:cubicBezTo>
                  <a:pt x="730" y="947"/>
                  <a:pt x="726" y="942"/>
                  <a:pt x="726" y="947"/>
                </a:cubicBezTo>
                <a:cubicBezTo>
                  <a:pt x="724" y="947"/>
                  <a:pt x="726" y="942"/>
                  <a:pt x="725" y="940"/>
                </a:cubicBezTo>
                <a:close/>
                <a:moveTo>
                  <a:pt x="736" y="947"/>
                </a:moveTo>
                <a:cubicBezTo>
                  <a:pt x="737" y="952"/>
                  <a:pt x="730" y="950"/>
                  <a:pt x="727" y="952"/>
                </a:cubicBezTo>
                <a:cubicBezTo>
                  <a:pt x="728" y="949"/>
                  <a:pt x="731" y="947"/>
                  <a:pt x="736" y="947"/>
                </a:cubicBezTo>
                <a:close/>
                <a:moveTo>
                  <a:pt x="727" y="1030"/>
                </a:moveTo>
                <a:cubicBezTo>
                  <a:pt x="724" y="1027"/>
                  <a:pt x="724" y="1032"/>
                  <a:pt x="720" y="1031"/>
                </a:cubicBezTo>
                <a:cubicBezTo>
                  <a:pt x="722" y="1029"/>
                  <a:pt x="724" y="1027"/>
                  <a:pt x="728" y="1027"/>
                </a:cubicBezTo>
                <a:cubicBezTo>
                  <a:pt x="727" y="1028"/>
                  <a:pt x="727" y="1028"/>
                  <a:pt x="727" y="1030"/>
                </a:cubicBezTo>
                <a:close/>
                <a:moveTo>
                  <a:pt x="759" y="955"/>
                </a:moveTo>
                <a:cubicBezTo>
                  <a:pt x="756" y="955"/>
                  <a:pt x="756" y="957"/>
                  <a:pt x="754" y="955"/>
                </a:cubicBezTo>
                <a:cubicBezTo>
                  <a:pt x="753" y="957"/>
                  <a:pt x="755" y="957"/>
                  <a:pt x="754" y="960"/>
                </a:cubicBezTo>
                <a:cubicBezTo>
                  <a:pt x="747" y="960"/>
                  <a:pt x="739" y="965"/>
                  <a:pt x="737" y="960"/>
                </a:cubicBezTo>
                <a:cubicBezTo>
                  <a:pt x="734" y="961"/>
                  <a:pt x="737" y="962"/>
                  <a:pt x="736" y="965"/>
                </a:cubicBezTo>
                <a:cubicBezTo>
                  <a:pt x="730" y="971"/>
                  <a:pt x="724" y="967"/>
                  <a:pt x="719" y="965"/>
                </a:cubicBezTo>
                <a:cubicBezTo>
                  <a:pt x="720" y="961"/>
                  <a:pt x="727" y="962"/>
                  <a:pt x="726" y="956"/>
                </a:cubicBezTo>
                <a:cubicBezTo>
                  <a:pt x="729" y="956"/>
                  <a:pt x="731" y="954"/>
                  <a:pt x="734" y="953"/>
                </a:cubicBezTo>
                <a:cubicBezTo>
                  <a:pt x="732" y="957"/>
                  <a:pt x="736" y="955"/>
                  <a:pt x="736" y="958"/>
                </a:cubicBezTo>
                <a:cubicBezTo>
                  <a:pt x="743" y="954"/>
                  <a:pt x="749" y="950"/>
                  <a:pt x="761" y="951"/>
                </a:cubicBezTo>
                <a:cubicBezTo>
                  <a:pt x="760" y="952"/>
                  <a:pt x="758" y="952"/>
                  <a:pt x="759" y="955"/>
                </a:cubicBezTo>
                <a:close/>
                <a:moveTo>
                  <a:pt x="764" y="952"/>
                </a:moveTo>
                <a:cubicBezTo>
                  <a:pt x="765" y="950"/>
                  <a:pt x="765" y="947"/>
                  <a:pt x="769" y="948"/>
                </a:cubicBezTo>
                <a:cubicBezTo>
                  <a:pt x="769" y="951"/>
                  <a:pt x="767" y="952"/>
                  <a:pt x="764" y="952"/>
                </a:cubicBezTo>
                <a:close/>
                <a:moveTo>
                  <a:pt x="770" y="948"/>
                </a:moveTo>
                <a:cubicBezTo>
                  <a:pt x="770" y="942"/>
                  <a:pt x="779" y="947"/>
                  <a:pt x="778" y="943"/>
                </a:cubicBezTo>
                <a:cubicBezTo>
                  <a:pt x="782" y="945"/>
                  <a:pt x="774" y="948"/>
                  <a:pt x="770" y="948"/>
                </a:cubicBezTo>
                <a:close/>
                <a:moveTo>
                  <a:pt x="792" y="158"/>
                </a:moveTo>
                <a:cubicBezTo>
                  <a:pt x="787" y="161"/>
                  <a:pt x="782" y="156"/>
                  <a:pt x="777" y="158"/>
                </a:cubicBezTo>
                <a:cubicBezTo>
                  <a:pt x="781" y="157"/>
                  <a:pt x="784" y="147"/>
                  <a:pt x="792" y="147"/>
                </a:cubicBezTo>
                <a:cubicBezTo>
                  <a:pt x="795" y="149"/>
                  <a:pt x="793" y="155"/>
                  <a:pt x="792" y="158"/>
                </a:cubicBezTo>
                <a:close/>
                <a:moveTo>
                  <a:pt x="807" y="821"/>
                </a:moveTo>
                <a:cubicBezTo>
                  <a:pt x="803" y="821"/>
                  <a:pt x="802" y="820"/>
                  <a:pt x="800" y="819"/>
                </a:cubicBezTo>
                <a:cubicBezTo>
                  <a:pt x="800" y="818"/>
                  <a:pt x="801" y="818"/>
                  <a:pt x="801" y="819"/>
                </a:cubicBezTo>
                <a:cubicBezTo>
                  <a:pt x="804" y="819"/>
                  <a:pt x="803" y="816"/>
                  <a:pt x="806" y="816"/>
                </a:cubicBezTo>
                <a:cubicBezTo>
                  <a:pt x="806" y="813"/>
                  <a:pt x="805" y="813"/>
                  <a:pt x="805" y="810"/>
                </a:cubicBezTo>
                <a:cubicBezTo>
                  <a:pt x="808" y="809"/>
                  <a:pt x="811" y="808"/>
                  <a:pt x="809" y="804"/>
                </a:cubicBezTo>
                <a:cubicBezTo>
                  <a:pt x="812" y="802"/>
                  <a:pt x="815" y="802"/>
                  <a:pt x="817" y="800"/>
                </a:cubicBezTo>
                <a:cubicBezTo>
                  <a:pt x="816" y="799"/>
                  <a:pt x="815" y="798"/>
                  <a:pt x="816" y="795"/>
                </a:cubicBezTo>
                <a:cubicBezTo>
                  <a:pt x="818" y="795"/>
                  <a:pt x="819" y="796"/>
                  <a:pt x="819" y="798"/>
                </a:cubicBezTo>
                <a:cubicBezTo>
                  <a:pt x="820" y="798"/>
                  <a:pt x="820" y="796"/>
                  <a:pt x="822" y="796"/>
                </a:cubicBezTo>
                <a:cubicBezTo>
                  <a:pt x="821" y="794"/>
                  <a:pt x="820" y="792"/>
                  <a:pt x="821" y="789"/>
                </a:cubicBezTo>
                <a:cubicBezTo>
                  <a:pt x="827" y="789"/>
                  <a:pt x="828" y="788"/>
                  <a:pt x="831" y="791"/>
                </a:cubicBezTo>
                <a:cubicBezTo>
                  <a:pt x="830" y="795"/>
                  <a:pt x="827" y="797"/>
                  <a:pt x="825" y="800"/>
                </a:cubicBezTo>
                <a:cubicBezTo>
                  <a:pt x="825" y="802"/>
                  <a:pt x="828" y="801"/>
                  <a:pt x="827" y="804"/>
                </a:cubicBezTo>
                <a:cubicBezTo>
                  <a:pt x="830" y="803"/>
                  <a:pt x="830" y="798"/>
                  <a:pt x="834" y="798"/>
                </a:cubicBezTo>
                <a:cubicBezTo>
                  <a:pt x="828" y="809"/>
                  <a:pt x="815" y="812"/>
                  <a:pt x="807" y="821"/>
                </a:cubicBezTo>
                <a:close/>
                <a:moveTo>
                  <a:pt x="833" y="931"/>
                </a:moveTo>
                <a:cubicBezTo>
                  <a:pt x="834" y="930"/>
                  <a:pt x="836" y="929"/>
                  <a:pt x="836" y="927"/>
                </a:cubicBezTo>
                <a:cubicBezTo>
                  <a:pt x="837" y="927"/>
                  <a:pt x="838" y="928"/>
                  <a:pt x="839" y="928"/>
                </a:cubicBezTo>
                <a:cubicBezTo>
                  <a:pt x="839" y="931"/>
                  <a:pt x="835" y="933"/>
                  <a:pt x="833" y="931"/>
                </a:cubicBezTo>
                <a:close/>
                <a:moveTo>
                  <a:pt x="825" y="917"/>
                </a:moveTo>
                <a:cubicBezTo>
                  <a:pt x="827" y="913"/>
                  <a:pt x="831" y="911"/>
                  <a:pt x="839" y="912"/>
                </a:cubicBezTo>
                <a:cubicBezTo>
                  <a:pt x="837" y="918"/>
                  <a:pt x="830" y="918"/>
                  <a:pt x="825" y="917"/>
                </a:cubicBezTo>
                <a:close/>
                <a:moveTo>
                  <a:pt x="842" y="927"/>
                </a:moveTo>
                <a:cubicBezTo>
                  <a:pt x="842" y="925"/>
                  <a:pt x="843" y="924"/>
                  <a:pt x="843" y="923"/>
                </a:cubicBezTo>
                <a:cubicBezTo>
                  <a:pt x="847" y="923"/>
                  <a:pt x="846" y="928"/>
                  <a:pt x="842" y="927"/>
                </a:cubicBezTo>
                <a:close/>
                <a:moveTo>
                  <a:pt x="1212" y="837"/>
                </a:moveTo>
                <a:cubicBezTo>
                  <a:pt x="1209" y="840"/>
                  <a:pt x="1207" y="844"/>
                  <a:pt x="1202" y="844"/>
                </a:cubicBezTo>
                <a:cubicBezTo>
                  <a:pt x="1206" y="842"/>
                  <a:pt x="1207" y="838"/>
                  <a:pt x="1212" y="837"/>
                </a:cubicBezTo>
                <a:close/>
                <a:moveTo>
                  <a:pt x="1168" y="859"/>
                </a:moveTo>
                <a:cubicBezTo>
                  <a:pt x="1168" y="863"/>
                  <a:pt x="1163" y="862"/>
                  <a:pt x="1160" y="863"/>
                </a:cubicBezTo>
                <a:cubicBezTo>
                  <a:pt x="1162" y="861"/>
                  <a:pt x="1164" y="859"/>
                  <a:pt x="1168" y="859"/>
                </a:cubicBezTo>
                <a:close/>
                <a:moveTo>
                  <a:pt x="1156" y="828"/>
                </a:moveTo>
                <a:cubicBezTo>
                  <a:pt x="1158" y="828"/>
                  <a:pt x="1158" y="831"/>
                  <a:pt x="1157" y="833"/>
                </a:cubicBezTo>
                <a:cubicBezTo>
                  <a:pt x="1154" y="833"/>
                  <a:pt x="1154" y="829"/>
                  <a:pt x="1156" y="828"/>
                </a:cubicBezTo>
                <a:close/>
                <a:moveTo>
                  <a:pt x="1189" y="759"/>
                </a:moveTo>
                <a:cubicBezTo>
                  <a:pt x="1192" y="759"/>
                  <a:pt x="1192" y="759"/>
                  <a:pt x="1192" y="759"/>
                </a:cubicBezTo>
                <a:cubicBezTo>
                  <a:pt x="1193" y="764"/>
                  <a:pt x="1187" y="764"/>
                  <a:pt x="1189" y="759"/>
                </a:cubicBezTo>
                <a:close/>
                <a:moveTo>
                  <a:pt x="1193" y="775"/>
                </a:moveTo>
                <a:cubicBezTo>
                  <a:pt x="1193" y="776"/>
                  <a:pt x="1192" y="777"/>
                  <a:pt x="1192" y="779"/>
                </a:cubicBezTo>
                <a:cubicBezTo>
                  <a:pt x="1189" y="778"/>
                  <a:pt x="1189" y="781"/>
                  <a:pt x="1187" y="779"/>
                </a:cubicBezTo>
                <a:cubicBezTo>
                  <a:pt x="1186" y="775"/>
                  <a:pt x="1191" y="776"/>
                  <a:pt x="1193" y="775"/>
                </a:cubicBezTo>
                <a:close/>
                <a:moveTo>
                  <a:pt x="1155" y="784"/>
                </a:moveTo>
                <a:cubicBezTo>
                  <a:pt x="1153" y="780"/>
                  <a:pt x="1156" y="773"/>
                  <a:pt x="1162" y="773"/>
                </a:cubicBezTo>
                <a:cubicBezTo>
                  <a:pt x="1159" y="777"/>
                  <a:pt x="1159" y="783"/>
                  <a:pt x="1155" y="784"/>
                </a:cubicBezTo>
                <a:close/>
                <a:moveTo>
                  <a:pt x="1165" y="754"/>
                </a:moveTo>
                <a:cubicBezTo>
                  <a:pt x="1167" y="752"/>
                  <a:pt x="1171" y="750"/>
                  <a:pt x="1175" y="750"/>
                </a:cubicBezTo>
                <a:cubicBezTo>
                  <a:pt x="1175" y="751"/>
                  <a:pt x="1175" y="753"/>
                  <a:pt x="1176" y="753"/>
                </a:cubicBezTo>
                <a:cubicBezTo>
                  <a:pt x="1172" y="757"/>
                  <a:pt x="1167" y="760"/>
                  <a:pt x="1161" y="762"/>
                </a:cubicBezTo>
                <a:cubicBezTo>
                  <a:pt x="1161" y="764"/>
                  <a:pt x="1162" y="764"/>
                  <a:pt x="1162" y="766"/>
                </a:cubicBezTo>
                <a:cubicBezTo>
                  <a:pt x="1158" y="768"/>
                  <a:pt x="1154" y="772"/>
                  <a:pt x="1147" y="772"/>
                </a:cubicBezTo>
                <a:cubicBezTo>
                  <a:pt x="1146" y="767"/>
                  <a:pt x="1146" y="765"/>
                  <a:pt x="1145" y="761"/>
                </a:cubicBezTo>
                <a:cubicBezTo>
                  <a:pt x="1148" y="756"/>
                  <a:pt x="1160" y="741"/>
                  <a:pt x="1165" y="754"/>
                </a:cubicBezTo>
                <a:close/>
                <a:moveTo>
                  <a:pt x="1145" y="668"/>
                </a:moveTo>
                <a:cubicBezTo>
                  <a:pt x="1145" y="669"/>
                  <a:pt x="1144" y="676"/>
                  <a:pt x="1140" y="677"/>
                </a:cubicBezTo>
                <a:cubicBezTo>
                  <a:pt x="1141" y="674"/>
                  <a:pt x="1139" y="672"/>
                  <a:pt x="1139" y="670"/>
                </a:cubicBezTo>
                <a:cubicBezTo>
                  <a:pt x="1141" y="668"/>
                  <a:pt x="1143" y="670"/>
                  <a:pt x="1145" y="668"/>
                </a:cubicBezTo>
                <a:close/>
                <a:moveTo>
                  <a:pt x="1036" y="490"/>
                </a:moveTo>
                <a:cubicBezTo>
                  <a:pt x="1038" y="489"/>
                  <a:pt x="1037" y="493"/>
                  <a:pt x="1040" y="492"/>
                </a:cubicBezTo>
                <a:cubicBezTo>
                  <a:pt x="1040" y="495"/>
                  <a:pt x="1038" y="495"/>
                  <a:pt x="1035" y="495"/>
                </a:cubicBezTo>
                <a:cubicBezTo>
                  <a:pt x="1035" y="493"/>
                  <a:pt x="1035" y="491"/>
                  <a:pt x="1036" y="490"/>
                </a:cubicBezTo>
                <a:close/>
                <a:moveTo>
                  <a:pt x="1022" y="489"/>
                </a:moveTo>
                <a:cubicBezTo>
                  <a:pt x="1026" y="489"/>
                  <a:pt x="1027" y="493"/>
                  <a:pt x="1031" y="493"/>
                </a:cubicBezTo>
                <a:cubicBezTo>
                  <a:pt x="1028" y="497"/>
                  <a:pt x="1032" y="497"/>
                  <a:pt x="1029" y="501"/>
                </a:cubicBezTo>
                <a:cubicBezTo>
                  <a:pt x="1026" y="501"/>
                  <a:pt x="1022" y="502"/>
                  <a:pt x="1022" y="499"/>
                </a:cubicBezTo>
                <a:cubicBezTo>
                  <a:pt x="1022" y="501"/>
                  <a:pt x="1018" y="504"/>
                  <a:pt x="1015" y="505"/>
                </a:cubicBezTo>
                <a:cubicBezTo>
                  <a:pt x="1015" y="503"/>
                  <a:pt x="1017" y="501"/>
                  <a:pt x="1014" y="500"/>
                </a:cubicBezTo>
                <a:cubicBezTo>
                  <a:pt x="1015" y="495"/>
                  <a:pt x="1021" y="495"/>
                  <a:pt x="1022" y="489"/>
                </a:cubicBezTo>
                <a:close/>
                <a:moveTo>
                  <a:pt x="1019" y="562"/>
                </a:moveTo>
                <a:cubicBezTo>
                  <a:pt x="1020" y="566"/>
                  <a:pt x="1011" y="565"/>
                  <a:pt x="1014" y="567"/>
                </a:cubicBezTo>
                <a:cubicBezTo>
                  <a:pt x="1013" y="568"/>
                  <a:pt x="1010" y="568"/>
                  <a:pt x="1008" y="569"/>
                </a:cubicBezTo>
                <a:cubicBezTo>
                  <a:pt x="1010" y="564"/>
                  <a:pt x="1016" y="565"/>
                  <a:pt x="1019" y="562"/>
                </a:cubicBezTo>
                <a:close/>
                <a:moveTo>
                  <a:pt x="1011" y="730"/>
                </a:moveTo>
                <a:cubicBezTo>
                  <a:pt x="1017" y="732"/>
                  <a:pt x="1019" y="728"/>
                  <a:pt x="1023" y="728"/>
                </a:cubicBezTo>
                <a:cubicBezTo>
                  <a:pt x="1023" y="733"/>
                  <a:pt x="1023" y="733"/>
                  <a:pt x="1023" y="733"/>
                </a:cubicBezTo>
                <a:cubicBezTo>
                  <a:pt x="1019" y="736"/>
                  <a:pt x="1016" y="738"/>
                  <a:pt x="1012" y="740"/>
                </a:cubicBezTo>
                <a:cubicBezTo>
                  <a:pt x="1010" y="739"/>
                  <a:pt x="1012" y="739"/>
                  <a:pt x="1014" y="739"/>
                </a:cubicBezTo>
                <a:cubicBezTo>
                  <a:pt x="1011" y="736"/>
                  <a:pt x="1011" y="735"/>
                  <a:pt x="1011" y="730"/>
                </a:cubicBezTo>
                <a:close/>
                <a:moveTo>
                  <a:pt x="997" y="716"/>
                </a:moveTo>
                <a:cubicBezTo>
                  <a:pt x="1001" y="716"/>
                  <a:pt x="1002" y="713"/>
                  <a:pt x="1005" y="714"/>
                </a:cubicBezTo>
                <a:cubicBezTo>
                  <a:pt x="1005" y="719"/>
                  <a:pt x="1010" y="718"/>
                  <a:pt x="1013" y="720"/>
                </a:cubicBezTo>
                <a:cubicBezTo>
                  <a:pt x="1013" y="724"/>
                  <a:pt x="1010" y="723"/>
                  <a:pt x="1008" y="725"/>
                </a:cubicBezTo>
                <a:cubicBezTo>
                  <a:pt x="1007" y="725"/>
                  <a:pt x="1006" y="723"/>
                  <a:pt x="1006" y="721"/>
                </a:cubicBezTo>
                <a:cubicBezTo>
                  <a:pt x="1003" y="723"/>
                  <a:pt x="1002" y="726"/>
                  <a:pt x="998" y="727"/>
                </a:cubicBezTo>
                <a:cubicBezTo>
                  <a:pt x="998" y="724"/>
                  <a:pt x="1003" y="723"/>
                  <a:pt x="1001" y="720"/>
                </a:cubicBezTo>
                <a:cubicBezTo>
                  <a:pt x="1000" y="720"/>
                  <a:pt x="1000" y="722"/>
                  <a:pt x="1000" y="723"/>
                </a:cubicBezTo>
                <a:cubicBezTo>
                  <a:pt x="995" y="722"/>
                  <a:pt x="997" y="720"/>
                  <a:pt x="997" y="716"/>
                </a:cubicBezTo>
                <a:close/>
                <a:moveTo>
                  <a:pt x="1000" y="751"/>
                </a:moveTo>
                <a:cubicBezTo>
                  <a:pt x="998" y="750"/>
                  <a:pt x="998" y="747"/>
                  <a:pt x="996" y="745"/>
                </a:cubicBezTo>
                <a:cubicBezTo>
                  <a:pt x="999" y="743"/>
                  <a:pt x="1003" y="748"/>
                  <a:pt x="1000" y="751"/>
                </a:cubicBezTo>
                <a:close/>
                <a:moveTo>
                  <a:pt x="997" y="800"/>
                </a:moveTo>
                <a:cubicBezTo>
                  <a:pt x="997" y="802"/>
                  <a:pt x="997" y="802"/>
                  <a:pt x="997" y="802"/>
                </a:cubicBezTo>
                <a:cubicBezTo>
                  <a:pt x="995" y="802"/>
                  <a:pt x="995" y="804"/>
                  <a:pt x="994" y="802"/>
                </a:cubicBezTo>
                <a:cubicBezTo>
                  <a:pt x="994" y="800"/>
                  <a:pt x="994" y="800"/>
                  <a:pt x="994" y="800"/>
                </a:cubicBezTo>
                <a:cubicBezTo>
                  <a:pt x="995" y="799"/>
                  <a:pt x="995" y="800"/>
                  <a:pt x="997" y="800"/>
                </a:cubicBezTo>
                <a:close/>
                <a:moveTo>
                  <a:pt x="994" y="743"/>
                </a:moveTo>
                <a:cubicBezTo>
                  <a:pt x="994" y="747"/>
                  <a:pt x="990" y="747"/>
                  <a:pt x="987" y="748"/>
                </a:cubicBezTo>
                <a:cubicBezTo>
                  <a:pt x="988" y="743"/>
                  <a:pt x="991" y="744"/>
                  <a:pt x="994" y="743"/>
                </a:cubicBezTo>
                <a:close/>
                <a:moveTo>
                  <a:pt x="991" y="494"/>
                </a:moveTo>
                <a:cubicBezTo>
                  <a:pt x="989" y="496"/>
                  <a:pt x="989" y="499"/>
                  <a:pt x="985" y="498"/>
                </a:cubicBezTo>
                <a:cubicBezTo>
                  <a:pt x="987" y="496"/>
                  <a:pt x="987" y="494"/>
                  <a:pt x="991" y="494"/>
                </a:cubicBezTo>
                <a:close/>
                <a:moveTo>
                  <a:pt x="990" y="534"/>
                </a:moveTo>
                <a:cubicBezTo>
                  <a:pt x="989" y="538"/>
                  <a:pt x="986" y="539"/>
                  <a:pt x="983" y="540"/>
                </a:cubicBezTo>
                <a:cubicBezTo>
                  <a:pt x="983" y="539"/>
                  <a:pt x="982" y="538"/>
                  <a:pt x="981" y="538"/>
                </a:cubicBezTo>
                <a:cubicBezTo>
                  <a:pt x="982" y="536"/>
                  <a:pt x="987" y="533"/>
                  <a:pt x="990" y="534"/>
                </a:cubicBezTo>
                <a:close/>
                <a:moveTo>
                  <a:pt x="971" y="775"/>
                </a:moveTo>
                <a:cubicBezTo>
                  <a:pt x="970" y="778"/>
                  <a:pt x="968" y="777"/>
                  <a:pt x="966" y="777"/>
                </a:cubicBezTo>
                <a:cubicBezTo>
                  <a:pt x="966" y="775"/>
                  <a:pt x="968" y="775"/>
                  <a:pt x="971" y="775"/>
                </a:cubicBezTo>
                <a:close/>
                <a:moveTo>
                  <a:pt x="969" y="724"/>
                </a:moveTo>
                <a:cubicBezTo>
                  <a:pt x="967" y="727"/>
                  <a:pt x="963" y="731"/>
                  <a:pt x="965" y="735"/>
                </a:cubicBezTo>
                <a:cubicBezTo>
                  <a:pt x="963" y="735"/>
                  <a:pt x="960" y="741"/>
                  <a:pt x="955" y="741"/>
                </a:cubicBezTo>
                <a:cubicBezTo>
                  <a:pt x="955" y="739"/>
                  <a:pt x="956" y="735"/>
                  <a:pt x="960" y="733"/>
                </a:cubicBezTo>
                <a:cubicBezTo>
                  <a:pt x="960" y="731"/>
                  <a:pt x="958" y="731"/>
                  <a:pt x="956" y="730"/>
                </a:cubicBezTo>
                <a:cubicBezTo>
                  <a:pt x="957" y="723"/>
                  <a:pt x="964" y="724"/>
                  <a:pt x="969" y="724"/>
                </a:cubicBezTo>
                <a:close/>
                <a:moveTo>
                  <a:pt x="961" y="751"/>
                </a:moveTo>
                <a:cubicBezTo>
                  <a:pt x="959" y="751"/>
                  <a:pt x="959" y="749"/>
                  <a:pt x="956" y="750"/>
                </a:cubicBezTo>
                <a:cubicBezTo>
                  <a:pt x="957" y="747"/>
                  <a:pt x="961" y="746"/>
                  <a:pt x="964" y="745"/>
                </a:cubicBezTo>
                <a:cubicBezTo>
                  <a:pt x="965" y="749"/>
                  <a:pt x="962" y="749"/>
                  <a:pt x="961" y="751"/>
                </a:cubicBezTo>
                <a:close/>
                <a:moveTo>
                  <a:pt x="932" y="784"/>
                </a:moveTo>
                <a:cubicBezTo>
                  <a:pt x="933" y="782"/>
                  <a:pt x="934" y="776"/>
                  <a:pt x="931" y="775"/>
                </a:cubicBezTo>
                <a:cubicBezTo>
                  <a:pt x="933" y="773"/>
                  <a:pt x="934" y="771"/>
                  <a:pt x="938" y="770"/>
                </a:cubicBezTo>
                <a:cubicBezTo>
                  <a:pt x="938" y="773"/>
                  <a:pt x="937" y="774"/>
                  <a:pt x="936" y="774"/>
                </a:cubicBezTo>
                <a:cubicBezTo>
                  <a:pt x="938" y="777"/>
                  <a:pt x="943" y="778"/>
                  <a:pt x="944" y="782"/>
                </a:cubicBezTo>
                <a:cubicBezTo>
                  <a:pt x="946" y="780"/>
                  <a:pt x="950" y="777"/>
                  <a:pt x="953" y="780"/>
                </a:cubicBezTo>
                <a:cubicBezTo>
                  <a:pt x="952" y="788"/>
                  <a:pt x="943" y="787"/>
                  <a:pt x="939" y="791"/>
                </a:cubicBezTo>
                <a:cubicBezTo>
                  <a:pt x="936" y="791"/>
                  <a:pt x="934" y="790"/>
                  <a:pt x="933" y="789"/>
                </a:cubicBezTo>
                <a:cubicBezTo>
                  <a:pt x="933" y="786"/>
                  <a:pt x="938" y="787"/>
                  <a:pt x="938" y="784"/>
                </a:cubicBezTo>
                <a:cubicBezTo>
                  <a:pt x="937" y="782"/>
                  <a:pt x="935" y="786"/>
                  <a:pt x="932" y="784"/>
                </a:cubicBezTo>
                <a:close/>
                <a:moveTo>
                  <a:pt x="932" y="742"/>
                </a:moveTo>
                <a:cubicBezTo>
                  <a:pt x="936" y="741"/>
                  <a:pt x="934" y="747"/>
                  <a:pt x="933" y="747"/>
                </a:cubicBezTo>
                <a:cubicBezTo>
                  <a:pt x="931" y="747"/>
                  <a:pt x="933" y="743"/>
                  <a:pt x="932" y="742"/>
                </a:cubicBezTo>
                <a:close/>
                <a:moveTo>
                  <a:pt x="950" y="519"/>
                </a:moveTo>
                <a:cubicBezTo>
                  <a:pt x="948" y="519"/>
                  <a:pt x="948" y="519"/>
                  <a:pt x="948" y="519"/>
                </a:cubicBezTo>
                <a:cubicBezTo>
                  <a:pt x="948" y="519"/>
                  <a:pt x="948" y="520"/>
                  <a:pt x="949" y="520"/>
                </a:cubicBezTo>
                <a:cubicBezTo>
                  <a:pt x="948" y="522"/>
                  <a:pt x="945" y="518"/>
                  <a:pt x="945" y="517"/>
                </a:cubicBezTo>
                <a:cubicBezTo>
                  <a:pt x="946" y="515"/>
                  <a:pt x="951" y="515"/>
                  <a:pt x="950" y="519"/>
                </a:cubicBezTo>
                <a:close/>
                <a:moveTo>
                  <a:pt x="952" y="550"/>
                </a:moveTo>
                <a:cubicBezTo>
                  <a:pt x="954" y="553"/>
                  <a:pt x="946" y="553"/>
                  <a:pt x="948" y="550"/>
                </a:cubicBezTo>
                <a:cubicBezTo>
                  <a:pt x="948" y="550"/>
                  <a:pt x="952" y="548"/>
                  <a:pt x="952" y="550"/>
                </a:cubicBezTo>
                <a:close/>
                <a:moveTo>
                  <a:pt x="949" y="732"/>
                </a:moveTo>
                <a:cubicBezTo>
                  <a:pt x="949" y="731"/>
                  <a:pt x="950" y="730"/>
                  <a:pt x="950" y="729"/>
                </a:cubicBezTo>
                <a:cubicBezTo>
                  <a:pt x="953" y="728"/>
                  <a:pt x="953" y="730"/>
                  <a:pt x="953" y="732"/>
                </a:cubicBezTo>
                <a:lnTo>
                  <a:pt x="949" y="732"/>
                </a:lnTo>
                <a:close/>
                <a:moveTo>
                  <a:pt x="949" y="709"/>
                </a:moveTo>
                <a:cubicBezTo>
                  <a:pt x="949" y="707"/>
                  <a:pt x="948" y="706"/>
                  <a:pt x="948" y="707"/>
                </a:cubicBezTo>
                <a:cubicBezTo>
                  <a:pt x="946" y="703"/>
                  <a:pt x="957" y="702"/>
                  <a:pt x="960" y="704"/>
                </a:cubicBezTo>
                <a:cubicBezTo>
                  <a:pt x="957" y="707"/>
                  <a:pt x="954" y="709"/>
                  <a:pt x="949" y="709"/>
                </a:cubicBezTo>
                <a:close/>
                <a:moveTo>
                  <a:pt x="946" y="472"/>
                </a:moveTo>
                <a:cubicBezTo>
                  <a:pt x="951" y="469"/>
                  <a:pt x="956" y="466"/>
                  <a:pt x="961" y="464"/>
                </a:cubicBezTo>
                <a:cubicBezTo>
                  <a:pt x="962" y="466"/>
                  <a:pt x="964" y="469"/>
                  <a:pt x="966" y="469"/>
                </a:cubicBezTo>
                <a:cubicBezTo>
                  <a:pt x="966" y="472"/>
                  <a:pt x="963" y="473"/>
                  <a:pt x="961" y="475"/>
                </a:cubicBezTo>
                <a:cubicBezTo>
                  <a:pt x="962" y="477"/>
                  <a:pt x="967" y="473"/>
                  <a:pt x="966" y="478"/>
                </a:cubicBezTo>
                <a:cubicBezTo>
                  <a:pt x="970" y="477"/>
                  <a:pt x="969" y="476"/>
                  <a:pt x="972" y="476"/>
                </a:cubicBezTo>
                <a:cubicBezTo>
                  <a:pt x="972" y="477"/>
                  <a:pt x="973" y="478"/>
                  <a:pt x="973" y="478"/>
                </a:cubicBezTo>
                <a:cubicBezTo>
                  <a:pt x="970" y="481"/>
                  <a:pt x="965" y="483"/>
                  <a:pt x="964" y="489"/>
                </a:cubicBezTo>
                <a:cubicBezTo>
                  <a:pt x="955" y="488"/>
                  <a:pt x="958" y="500"/>
                  <a:pt x="951" y="502"/>
                </a:cubicBezTo>
                <a:cubicBezTo>
                  <a:pt x="952" y="503"/>
                  <a:pt x="952" y="504"/>
                  <a:pt x="952" y="506"/>
                </a:cubicBezTo>
                <a:cubicBezTo>
                  <a:pt x="958" y="504"/>
                  <a:pt x="964" y="497"/>
                  <a:pt x="970" y="498"/>
                </a:cubicBezTo>
                <a:cubicBezTo>
                  <a:pt x="970" y="505"/>
                  <a:pt x="965" y="501"/>
                  <a:pt x="965" y="507"/>
                </a:cubicBezTo>
                <a:cubicBezTo>
                  <a:pt x="964" y="506"/>
                  <a:pt x="965" y="505"/>
                  <a:pt x="963" y="505"/>
                </a:cubicBezTo>
                <a:cubicBezTo>
                  <a:pt x="959" y="507"/>
                  <a:pt x="963" y="516"/>
                  <a:pt x="955" y="516"/>
                </a:cubicBezTo>
                <a:cubicBezTo>
                  <a:pt x="955" y="510"/>
                  <a:pt x="954" y="514"/>
                  <a:pt x="952" y="509"/>
                </a:cubicBezTo>
                <a:cubicBezTo>
                  <a:pt x="950" y="509"/>
                  <a:pt x="951" y="512"/>
                  <a:pt x="949" y="511"/>
                </a:cubicBezTo>
                <a:cubicBezTo>
                  <a:pt x="948" y="507"/>
                  <a:pt x="953" y="506"/>
                  <a:pt x="950" y="504"/>
                </a:cubicBezTo>
                <a:cubicBezTo>
                  <a:pt x="948" y="503"/>
                  <a:pt x="937" y="502"/>
                  <a:pt x="941" y="494"/>
                </a:cubicBezTo>
                <a:cubicBezTo>
                  <a:pt x="943" y="493"/>
                  <a:pt x="944" y="496"/>
                  <a:pt x="946" y="494"/>
                </a:cubicBezTo>
                <a:cubicBezTo>
                  <a:pt x="946" y="492"/>
                  <a:pt x="944" y="492"/>
                  <a:pt x="941" y="492"/>
                </a:cubicBezTo>
                <a:cubicBezTo>
                  <a:pt x="943" y="488"/>
                  <a:pt x="944" y="485"/>
                  <a:pt x="939" y="484"/>
                </a:cubicBezTo>
                <a:cubicBezTo>
                  <a:pt x="940" y="478"/>
                  <a:pt x="945" y="478"/>
                  <a:pt x="946" y="472"/>
                </a:cubicBezTo>
                <a:close/>
                <a:moveTo>
                  <a:pt x="933" y="152"/>
                </a:moveTo>
                <a:cubicBezTo>
                  <a:pt x="941" y="148"/>
                  <a:pt x="947" y="142"/>
                  <a:pt x="959" y="145"/>
                </a:cubicBezTo>
                <a:cubicBezTo>
                  <a:pt x="958" y="148"/>
                  <a:pt x="960" y="149"/>
                  <a:pt x="960" y="151"/>
                </a:cubicBezTo>
                <a:cubicBezTo>
                  <a:pt x="951" y="156"/>
                  <a:pt x="940" y="153"/>
                  <a:pt x="932" y="159"/>
                </a:cubicBezTo>
                <a:cubicBezTo>
                  <a:pt x="933" y="155"/>
                  <a:pt x="936" y="156"/>
                  <a:pt x="933" y="152"/>
                </a:cubicBezTo>
                <a:close/>
                <a:moveTo>
                  <a:pt x="938" y="189"/>
                </a:moveTo>
                <a:cubicBezTo>
                  <a:pt x="929" y="190"/>
                  <a:pt x="924" y="197"/>
                  <a:pt x="915" y="200"/>
                </a:cubicBezTo>
                <a:cubicBezTo>
                  <a:pt x="920" y="194"/>
                  <a:pt x="928" y="187"/>
                  <a:pt x="938" y="189"/>
                </a:cubicBezTo>
                <a:close/>
                <a:moveTo>
                  <a:pt x="911" y="762"/>
                </a:moveTo>
                <a:cubicBezTo>
                  <a:pt x="911" y="755"/>
                  <a:pt x="917" y="760"/>
                  <a:pt x="917" y="753"/>
                </a:cubicBezTo>
                <a:cubicBezTo>
                  <a:pt x="920" y="756"/>
                  <a:pt x="922" y="749"/>
                  <a:pt x="927" y="753"/>
                </a:cubicBezTo>
                <a:cubicBezTo>
                  <a:pt x="926" y="759"/>
                  <a:pt x="920" y="763"/>
                  <a:pt x="914" y="761"/>
                </a:cubicBezTo>
                <a:cubicBezTo>
                  <a:pt x="917" y="763"/>
                  <a:pt x="913" y="765"/>
                  <a:pt x="911" y="762"/>
                </a:cubicBezTo>
                <a:close/>
                <a:moveTo>
                  <a:pt x="928" y="765"/>
                </a:moveTo>
                <a:cubicBezTo>
                  <a:pt x="924" y="765"/>
                  <a:pt x="924" y="765"/>
                  <a:pt x="924" y="765"/>
                </a:cubicBezTo>
                <a:cubicBezTo>
                  <a:pt x="923" y="762"/>
                  <a:pt x="926" y="763"/>
                  <a:pt x="927" y="761"/>
                </a:cubicBezTo>
                <a:cubicBezTo>
                  <a:pt x="928" y="761"/>
                  <a:pt x="927" y="763"/>
                  <a:pt x="928" y="765"/>
                </a:cubicBezTo>
                <a:close/>
                <a:moveTo>
                  <a:pt x="931" y="791"/>
                </a:moveTo>
                <a:cubicBezTo>
                  <a:pt x="930" y="795"/>
                  <a:pt x="926" y="796"/>
                  <a:pt x="921" y="796"/>
                </a:cubicBezTo>
                <a:cubicBezTo>
                  <a:pt x="922" y="792"/>
                  <a:pt x="927" y="792"/>
                  <a:pt x="931" y="791"/>
                </a:cubicBezTo>
                <a:close/>
                <a:moveTo>
                  <a:pt x="915" y="730"/>
                </a:moveTo>
                <a:cubicBezTo>
                  <a:pt x="916" y="733"/>
                  <a:pt x="913" y="733"/>
                  <a:pt x="913" y="735"/>
                </a:cubicBezTo>
                <a:cubicBezTo>
                  <a:pt x="912" y="734"/>
                  <a:pt x="911" y="733"/>
                  <a:pt x="911" y="731"/>
                </a:cubicBezTo>
                <a:cubicBezTo>
                  <a:pt x="912" y="731"/>
                  <a:pt x="913" y="730"/>
                  <a:pt x="915" y="730"/>
                </a:cubicBezTo>
                <a:close/>
                <a:moveTo>
                  <a:pt x="908" y="746"/>
                </a:moveTo>
                <a:cubicBezTo>
                  <a:pt x="909" y="743"/>
                  <a:pt x="912" y="743"/>
                  <a:pt x="912" y="740"/>
                </a:cubicBezTo>
                <a:cubicBezTo>
                  <a:pt x="913" y="740"/>
                  <a:pt x="915" y="740"/>
                  <a:pt x="915" y="739"/>
                </a:cubicBezTo>
                <a:cubicBezTo>
                  <a:pt x="917" y="741"/>
                  <a:pt x="912" y="743"/>
                  <a:pt x="911" y="744"/>
                </a:cubicBezTo>
                <a:cubicBezTo>
                  <a:pt x="913" y="748"/>
                  <a:pt x="913" y="749"/>
                  <a:pt x="911" y="753"/>
                </a:cubicBezTo>
                <a:cubicBezTo>
                  <a:pt x="908" y="753"/>
                  <a:pt x="906" y="753"/>
                  <a:pt x="906" y="755"/>
                </a:cubicBezTo>
                <a:cubicBezTo>
                  <a:pt x="904" y="753"/>
                  <a:pt x="902" y="750"/>
                  <a:pt x="899" y="749"/>
                </a:cubicBezTo>
                <a:cubicBezTo>
                  <a:pt x="899" y="745"/>
                  <a:pt x="905" y="744"/>
                  <a:pt x="908" y="746"/>
                </a:cubicBezTo>
                <a:close/>
                <a:moveTo>
                  <a:pt x="898" y="860"/>
                </a:moveTo>
                <a:cubicBezTo>
                  <a:pt x="902" y="860"/>
                  <a:pt x="902" y="865"/>
                  <a:pt x="898" y="865"/>
                </a:cubicBezTo>
                <a:cubicBezTo>
                  <a:pt x="899" y="862"/>
                  <a:pt x="899" y="863"/>
                  <a:pt x="898" y="860"/>
                </a:cubicBezTo>
                <a:close/>
                <a:moveTo>
                  <a:pt x="900" y="872"/>
                </a:moveTo>
                <a:cubicBezTo>
                  <a:pt x="901" y="872"/>
                  <a:pt x="901" y="875"/>
                  <a:pt x="902" y="876"/>
                </a:cubicBezTo>
                <a:cubicBezTo>
                  <a:pt x="899" y="879"/>
                  <a:pt x="896" y="883"/>
                  <a:pt x="892" y="884"/>
                </a:cubicBezTo>
                <a:cubicBezTo>
                  <a:pt x="892" y="883"/>
                  <a:pt x="891" y="883"/>
                  <a:pt x="890" y="883"/>
                </a:cubicBezTo>
                <a:cubicBezTo>
                  <a:pt x="892" y="879"/>
                  <a:pt x="894" y="877"/>
                  <a:pt x="895" y="874"/>
                </a:cubicBezTo>
                <a:cubicBezTo>
                  <a:pt x="898" y="874"/>
                  <a:pt x="900" y="874"/>
                  <a:pt x="900" y="872"/>
                </a:cubicBezTo>
                <a:close/>
                <a:moveTo>
                  <a:pt x="901" y="841"/>
                </a:moveTo>
                <a:cubicBezTo>
                  <a:pt x="901" y="840"/>
                  <a:pt x="902" y="839"/>
                  <a:pt x="902" y="838"/>
                </a:cubicBezTo>
                <a:cubicBezTo>
                  <a:pt x="906" y="838"/>
                  <a:pt x="906" y="838"/>
                  <a:pt x="906" y="838"/>
                </a:cubicBezTo>
                <a:cubicBezTo>
                  <a:pt x="906" y="841"/>
                  <a:pt x="904" y="841"/>
                  <a:pt x="901" y="841"/>
                </a:cubicBezTo>
                <a:close/>
                <a:moveTo>
                  <a:pt x="898" y="109"/>
                </a:moveTo>
                <a:cubicBezTo>
                  <a:pt x="894" y="111"/>
                  <a:pt x="889" y="112"/>
                  <a:pt x="885" y="114"/>
                </a:cubicBezTo>
                <a:cubicBezTo>
                  <a:pt x="886" y="109"/>
                  <a:pt x="893" y="107"/>
                  <a:pt x="898" y="109"/>
                </a:cubicBezTo>
                <a:close/>
                <a:moveTo>
                  <a:pt x="895" y="782"/>
                </a:moveTo>
                <a:cubicBezTo>
                  <a:pt x="893" y="782"/>
                  <a:pt x="893" y="780"/>
                  <a:pt x="893" y="778"/>
                </a:cubicBezTo>
                <a:cubicBezTo>
                  <a:pt x="894" y="778"/>
                  <a:pt x="896" y="778"/>
                  <a:pt x="896" y="777"/>
                </a:cubicBezTo>
                <a:cubicBezTo>
                  <a:pt x="899" y="778"/>
                  <a:pt x="895" y="779"/>
                  <a:pt x="895" y="782"/>
                </a:cubicBezTo>
                <a:close/>
                <a:moveTo>
                  <a:pt x="892" y="784"/>
                </a:moveTo>
                <a:cubicBezTo>
                  <a:pt x="892" y="787"/>
                  <a:pt x="891" y="788"/>
                  <a:pt x="889" y="788"/>
                </a:cubicBezTo>
                <a:cubicBezTo>
                  <a:pt x="887" y="786"/>
                  <a:pt x="889" y="784"/>
                  <a:pt x="892" y="784"/>
                </a:cubicBezTo>
                <a:close/>
                <a:moveTo>
                  <a:pt x="885" y="784"/>
                </a:moveTo>
                <a:cubicBezTo>
                  <a:pt x="885" y="781"/>
                  <a:pt x="888" y="781"/>
                  <a:pt x="890" y="781"/>
                </a:cubicBezTo>
                <a:cubicBezTo>
                  <a:pt x="889" y="783"/>
                  <a:pt x="888" y="784"/>
                  <a:pt x="885" y="784"/>
                </a:cubicBezTo>
                <a:close/>
                <a:moveTo>
                  <a:pt x="880" y="901"/>
                </a:moveTo>
                <a:cubicBezTo>
                  <a:pt x="878" y="902"/>
                  <a:pt x="877" y="900"/>
                  <a:pt x="875" y="900"/>
                </a:cubicBezTo>
                <a:cubicBezTo>
                  <a:pt x="876" y="902"/>
                  <a:pt x="878" y="903"/>
                  <a:pt x="877" y="907"/>
                </a:cubicBezTo>
                <a:cubicBezTo>
                  <a:pt x="872" y="910"/>
                  <a:pt x="867" y="917"/>
                  <a:pt x="861" y="915"/>
                </a:cubicBezTo>
                <a:cubicBezTo>
                  <a:pt x="861" y="913"/>
                  <a:pt x="863" y="912"/>
                  <a:pt x="865" y="912"/>
                </a:cubicBezTo>
                <a:cubicBezTo>
                  <a:pt x="865" y="911"/>
                  <a:pt x="864" y="909"/>
                  <a:pt x="864" y="908"/>
                </a:cubicBezTo>
                <a:cubicBezTo>
                  <a:pt x="863" y="908"/>
                  <a:pt x="861" y="908"/>
                  <a:pt x="861" y="910"/>
                </a:cubicBezTo>
                <a:cubicBezTo>
                  <a:pt x="858" y="910"/>
                  <a:pt x="861" y="904"/>
                  <a:pt x="859" y="904"/>
                </a:cubicBezTo>
                <a:cubicBezTo>
                  <a:pt x="861" y="903"/>
                  <a:pt x="863" y="902"/>
                  <a:pt x="864" y="900"/>
                </a:cubicBezTo>
                <a:cubicBezTo>
                  <a:pt x="864" y="899"/>
                  <a:pt x="862" y="899"/>
                  <a:pt x="861" y="898"/>
                </a:cubicBezTo>
                <a:cubicBezTo>
                  <a:pt x="861" y="895"/>
                  <a:pt x="864" y="895"/>
                  <a:pt x="868" y="895"/>
                </a:cubicBezTo>
                <a:cubicBezTo>
                  <a:pt x="868" y="897"/>
                  <a:pt x="868" y="899"/>
                  <a:pt x="870" y="900"/>
                </a:cubicBezTo>
                <a:cubicBezTo>
                  <a:pt x="873" y="895"/>
                  <a:pt x="877" y="898"/>
                  <a:pt x="880" y="893"/>
                </a:cubicBezTo>
                <a:cubicBezTo>
                  <a:pt x="884" y="894"/>
                  <a:pt x="879" y="898"/>
                  <a:pt x="880" y="901"/>
                </a:cubicBezTo>
                <a:close/>
                <a:moveTo>
                  <a:pt x="865" y="868"/>
                </a:moveTo>
                <a:cubicBezTo>
                  <a:pt x="867" y="866"/>
                  <a:pt x="868" y="863"/>
                  <a:pt x="873" y="863"/>
                </a:cubicBezTo>
                <a:cubicBezTo>
                  <a:pt x="872" y="866"/>
                  <a:pt x="869" y="870"/>
                  <a:pt x="865" y="868"/>
                </a:cubicBezTo>
                <a:close/>
                <a:moveTo>
                  <a:pt x="869" y="789"/>
                </a:moveTo>
                <a:cubicBezTo>
                  <a:pt x="867" y="787"/>
                  <a:pt x="869" y="785"/>
                  <a:pt x="870" y="782"/>
                </a:cubicBezTo>
                <a:cubicBezTo>
                  <a:pt x="867" y="782"/>
                  <a:pt x="867" y="785"/>
                  <a:pt x="864" y="784"/>
                </a:cubicBezTo>
                <a:cubicBezTo>
                  <a:pt x="863" y="782"/>
                  <a:pt x="859" y="780"/>
                  <a:pt x="862" y="776"/>
                </a:cubicBezTo>
                <a:cubicBezTo>
                  <a:pt x="865" y="776"/>
                  <a:pt x="865" y="780"/>
                  <a:pt x="868" y="781"/>
                </a:cubicBezTo>
                <a:cubicBezTo>
                  <a:pt x="872" y="779"/>
                  <a:pt x="866" y="776"/>
                  <a:pt x="867" y="771"/>
                </a:cubicBezTo>
                <a:cubicBezTo>
                  <a:pt x="870" y="763"/>
                  <a:pt x="885" y="754"/>
                  <a:pt x="890" y="767"/>
                </a:cubicBezTo>
                <a:cubicBezTo>
                  <a:pt x="890" y="769"/>
                  <a:pt x="884" y="770"/>
                  <a:pt x="888" y="771"/>
                </a:cubicBezTo>
                <a:cubicBezTo>
                  <a:pt x="882" y="777"/>
                  <a:pt x="877" y="784"/>
                  <a:pt x="869" y="789"/>
                </a:cubicBezTo>
                <a:close/>
                <a:moveTo>
                  <a:pt x="885" y="860"/>
                </a:moveTo>
                <a:cubicBezTo>
                  <a:pt x="890" y="859"/>
                  <a:pt x="884" y="855"/>
                  <a:pt x="886" y="853"/>
                </a:cubicBezTo>
                <a:cubicBezTo>
                  <a:pt x="890" y="853"/>
                  <a:pt x="887" y="854"/>
                  <a:pt x="887" y="856"/>
                </a:cubicBezTo>
                <a:cubicBezTo>
                  <a:pt x="889" y="854"/>
                  <a:pt x="891" y="852"/>
                  <a:pt x="894" y="852"/>
                </a:cubicBezTo>
                <a:cubicBezTo>
                  <a:pt x="893" y="849"/>
                  <a:pt x="895" y="848"/>
                  <a:pt x="895" y="844"/>
                </a:cubicBezTo>
                <a:cubicBezTo>
                  <a:pt x="897" y="845"/>
                  <a:pt x="897" y="842"/>
                  <a:pt x="899" y="843"/>
                </a:cubicBezTo>
                <a:cubicBezTo>
                  <a:pt x="898" y="847"/>
                  <a:pt x="899" y="848"/>
                  <a:pt x="899" y="853"/>
                </a:cubicBezTo>
                <a:cubicBezTo>
                  <a:pt x="897" y="858"/>
                  <a:pt x="889" y="857"/>
                  <a:pt x="888" y="863"/>
                </a:cubicBezTo>
                <a:cubicBezTo>
                  <a:pt x="886" y="863"/>
                  <a:pt x="887" y="860"/>
                  <a:pt x="885" y="860"/>
                </a:cubicBezTo>
                <a:close/>
                <a:moveTo>
                  <a:pt x="975" y="902"/>
                </a:moveTo>
                <a:cubicBezTo>
                  <a:pt x="975" y="894"/>
                  <a:pt x="985" y="896"/>
                  <a:pt x="986" y="888"/>
                </a:cubicBezTo>
                <a:cubicBezTo>
                  <a:pt x="989" y="888"/>
                  <a:pt x="989" y="890"/>
                  <a:pt x="991" y="890"/>
                </a:cubicBezTo>
                <a:cubicBezTo>
                  <a:pt x="988" y="897"/>
                  <a:pt x="983" y="901"/>
                  <a:pt x="975" y="902"/>
                </a:cubicBezTo>
                <a:close/>
                <a:moveTo>
                  <a:pt x="1022" y="871"/>
                </a:moveTo>
                <a:cubicBezTo>
                  <a:pt x="1020" y="870"/>
                  <a:pt x="1019" y="868"/>
                  <a:pt x="1018" y="865"/>
                </a:cubicBezTo>
                <a:cubicBezTo>
                  <a:pt x="1022" y="866"/>
                  <a:pt x="1020" y="862"/>
                  <a:pt x="1024" y="863"/>
                </a:cubicBezTo>
                <a:cubicBezTo>
                  <a:pt x="1024" y="867"/>
                  <a:pt x="1023" y="869"/>
                  <a:pt x="1022" y="871"/>
                </a:cubicBezTo>
                <a:close/>
                <a:moveTo>
                  <a:pt x="1038" y="828"/>
                </a:moveTo>
                <a:cubicBezTo>
                  <a:pt x="1039" y="828"/>
                  <a:pt x="1039" y="829"/>
                  <a:pt x="1040" y="829"/>
                </a:cubicBezTo>
                <a:cubicBezTo>
                  <a:pt x="1041" y="831"/>
                  <a:pt x="1038" y="831"/>
                  <a:pt x="1038" y="833"/>
                </a:cubicBezTo>
                <a:cubicBezTo>
                  <a:pt x="1036" y="833"/>
                  <a:pt x="1038" y="829"/>
                  <a:pt x="1038" y="828"/>
                </a:cubicBezTo>
                <a:close/>
                <a:moveTo>
                  <a:pt x="1034" y="826"/>
                </a:moveTo>
                <a:cubicBezTo>
                  <a:pt x="1034" y="821"/>
                  <a:pt x="1040" y="818"/>
                  <a:pt x="1044" y="821"/>
                </a:cubicBezTo>
                <a:cubicBezTo>
                  <a:pt x="1042" y="824"/>
                  <a:pt x="1040" y="827"/>
                  <a:pt x="1034" y="826"/>
                </a:cubicBezTo>
                <a:close/>
                <a:moveTo>
                  <a:pt x="1042" y="862"/>
                </a:moveTo>
                <a:cubicBezTo>
                  <a:pt x="1044" y="858"/>
                  <a:pt x="1044" y="857"/>
                  <a:pt x="1047" y="853"/>
                </a:cubicBezTo>
                <a:cubicBezTo>
                  <a:pt x="1048" y="855"/>
                  <a:pt x="1048" y="859"/>
                  <a:pt x="1049" y="864"/>
                </a:cubicBezTo>
                <a:cubicBezTo>
                  <a:pt x="1046" y="864"/>
                  <a:pt x="1046" y="862"/>
                  <a:pt x="1042" y="862"/>
                </a:cubicBezTo>
                <a:close/>
                <a:moveTo>
                  <a:pt x="1057" y="850"/>
                </a:moveTo>
                <a:cubicBezTo>
                  <a:pt x="1053" y="848"/>
                  <a:pt x="1059" y="848"/>
                  <a:pt x="1059" y="846"/>
                </a:cubicBezTo>
                <a:cubicBezTo>
                  <a:pt x="1063" y="846"/>
                  <a:pt x="1058" y="850"/>
                  <a:pt x="1057" y="850"/>
                </a:cubicBezTo>
                <a:close/>
                <a:moveTo>
                  <a:pt x="1041" y="795"/>
                </a:moveTo>
                <a:cubicBezTo>
                  <a:pt x="1040" y="797"/>
                  <a:pt x="1040" y="801"/>
                  <a:pt x="1038" y="803"/>
                </a:cubicBezTo>
                <a:cubicBezTo>
                  <a:pt x="1028" y="803"/>
                  <a:pt x="1024" y="810"/>
                  <a:pt x="1015" y="811"/>
                </a:cubicBezTo>
                <a:cubicBezTo>
                  <a:pt x="1017" y="808"/>
                  <a:pt x="1016" y="808"/>
                  <a:pt x="1016" y="804"/>
                </a:cubicBezTo>
                <a:cubicBezTo>
                  <a:pt x="1011" y="805"/>
                  <a:pt x="1015" y="809"/>
                  <a:pt x="1013" y="812"/>
                </a:cubicBezTo>
                <a:cubicBezTo>
                  <a:pt x="1010" y="812"/>
                  <a:pt x="1008" y="809"/>
                  <a:pt x="1010" y="808"/>
                </a:cubicBezTo>
                <a:cubicBezTo>
                  <a:pt x="1006" y="808"/>
                  <a:pt x="1006" y="811"/>
                  <a:pt x="1002" y="811"/>
                </a:cubicBezTo>
                <a:cubicBezTo>
                  <a:pt x="1004" y="817"/>
                  <a:pt x="997" y="818"/>
                  <a:pt x="995" y="822"/>
                </a:cubicBezTo>
                <a:cubicBezTo>
                  <a:pt x="997" y="823"/>
                  <a:pt x="998" y="825"/>
                  <a:pt x="996" y="827"/>
                </a:cubicBezTo>
                <a:cubicBezTo>
                  <a:pt x="1000" y="828"/>
                  <a:pt x="1001" y="829"/>
                  <a:pt x="1004" y="833"/>
                </a:cubicBezTo>
                <a:cubicBezTo>
                  <a:pt x="1009" y="828"/>
                  <a:pt x="1014" y="825"/>
                  <a:pt x="1016" y="818"/>
                </a:cubicBezTo>
                <a:cubicBezTo>
                  <a:pt x="1029" y="815"/>
                  <a:pt x="1036" y="806"/>
                  <a:pt x="1047" y="802"/>
                </a:cubicBezTo>
                <a:cubicBezTo>
                  <a:pt x="1052" y="803"/>
                  <a:pt x="1051" y="812"/>
                  <a:pt x="1058" y="812"/>
                </a:cubicBezTo>
                <a:cubicBezTo>
                  <a:pt x="1054" y="815"/>
                  <a:pt x="1054" y="821"/>
                  <a:pt x="1049" y="822"/>
                </a:cubicBezTo>
                <a:cubicBezTo>
                  <a:pt x="1050" y="819"/>
                  <a:pt x="1047" y="820"/>
                  <a:pt x="1047" y="821"/>
                </a:cubicBezTo>
                <a:cubicBezTo>
                  <a:pt x="1044" y="821"/>
                  <a:pt x="1045" y="818"/>
                  <a:pt x="1044" y="817"/>
                </a:cubicBezTo>
                <a:cubicBezTo>
                  <a:pt x="1037" y="818"/>
                  <a:pt x="1031" y="820"/>
                  <a:pt x="1027" y="824"/>
                </a:cubicBezTo>
                <a:cubicBezTo>
                  <a:pt x="1029" y="825"/>
                  <a:pt x="1031" y="827"/>
                  <a:pt x="1033" y="827"/>
                </a:cubicBezTo>
                <a:cubicBezTo>
                  <a:pt x="1031" y="830"/>
                  <a:pt x="1033" y="831"/>
                  <a:pt x="1033" y="834"/>
                </a:cubicBezTo>
                <a:cubicBezTo>
                  <a:pt x="1037" y="834"/>
                  <a:pt x="1037" y="834"/>
                  <a:pt x="1040" y="835"/>
                </a:cubicBezTo>
                <a:cubicBezTo>
                  <a:pt x="1041" y="836"/>
                  <a:pt x="1041" y="835"/>
                  <a:pt x="1041" y="835"/>
                </a:cubicBezTo>
                <a:cubicBezTo>
                  <a:pt x="1040" y="838"/>
                  <a:pt x="1035" y="842"/>
                  <a:pt x="1031" y="842"/>
                </a:cubicBezTo>
                <a:cubicBezTo>
                  <a:pt x="1029" y="839"/>
                  <a:pt x="1030" y="838"/>
                  <a:pt x="1028" y="834"/>
                </a:cubicBezTo>
                <a:cubicBezTo>
                  <a:pt x="1024" y="834"/>
                  <a:pt x="1027" y="839"/>
                  <a:pt x="1026" y="840"/>
                </a:cubicBezTo>
                <a:cubicBezTo>
                  <a:pt x="1026" y="842"/>
                  <a:pt x="1028" y="842"/>
                  <a:pt x="1030" y="842"/>
                </a:cubicBezTo>
                <a:cubicBezTo>
                  <a:pt x="1029" y="845"/>
                  <a:pt x="1026" y="847"/>
                  <a:pt x="1026" y="850"/>
                </a:cubicBezTo>
                <a:cubicBezTo>
                  <a:pt x="1023" y="849"/>
                  <a:pt x="1020" y="849"/>
                  <a:pt x="1019" y="847"/>
                </a:cubicBezTo>
                <a:cubicBezTo>
                  <a:pt x="1017" y="848"/>
                  <a:pt x="1019" y="853"/>
                  <a:pt x="1018" y="856"/>
                </a:cubicBezTo>
                <a:cubicBezTo>
                  <a:pt x="1021" y="855"/>
                  <a:pt x="1021" y="851"/>
                  <a:pt x="1027" y="852"/>
                </a:cubicBezTo>
                <a:cubicBezTo>
                  <a:pt x="1023" y="855"/>
                  <a:pt x="1022" y="860"/>
                  <a:pt x="1021" y="863"/>
                </a:cubicBezTo>
                <a:cubicBezTo>
                  <a:pt x="1010" y="862"/>
                  <a:pt x="1020" y="881"/>
                  <a:pt x="1008" y="884"/>
                </a:cubicBezTo>
                <a:cubicBezTo>
                  <a:pt x="1007" y="879"/>
                  <a:pt x="1004" y="872"/>
                  <a:pt x="1012" y="873"/>
                </a:cubicBezTo>
                <a:cubicBezTo>
                  <a:pt x="1012" y="870"/>
                  <a:pt x="1012" y="869"/>
                  <a:pt x="1013" y="868"/>
                </a:cubicBezTo>
                <a:cubicBezTo>
                  <a:pt x="1010" y="867"/>
                  <a:pt x="1011" y="871"/>
                  <a:pt x="1007" y="870"/>
                </a:cubicBezTo>
                <a:cubicBezTo>
                  <a:pt x="1006" y="868"/>
                  <a:pt x="1004" y="866"/>
                  <a:pt x="1005" y="862"/>
                </a:cubicBezTo>
                <a:cubicBezTo>
                  <a:pt x="1007" y="862"/>
                  <a:pt x="1008" y="864"/>
                  <a:pt x="1011" y="863"/>
                </a:cubicBezTo>
                <a:cubicBezTo>
                  <a:pt x="1013" y="862"/>
                  <a:pt x="1012" y="860"/>
                  <a:pt x="1015" y="860"/>
                </a:cubicBezTo>
                <a:cubicBezTo>
                  <a:pt x="1015" y="857"/>
                  <a:pt x="1011" y="857"/>
                  <a:pt x="1014" y="855"/>
                </a:cubicBezTo>
                <a:cubicBezTo>
                  <a:pt x="1005" y="851"/>
                  <a:pt x="999" y="865"/>
                  <a:pt x="990" y="867"/>
                </a:cubicBezTo>
                <a:cubicBezTo>
                  <a:pt x="989" y="866"/>
                  <a:pt x="989" y="865"/>
                  <a:pt x="989" y="862"/>
                </a:cubicBezTo>
                <a:cubicBezTo>
                  <a:pt x="986" y="863"/>
                  <a:pt x="986" y="867"/>
                  <a:pt x="982" y="866"/>
                </a:cubicBezTo>
                <a:cubicBezTo>
                  <a:pt x="982" y="863"/>
                  <a:pt x="980" y="864"/>
                  <a:pt x="981" y="861"/>
                </a:cubicBezTo>
                <a:cubicBezTo>
                  <a:pt x="980" y="858"/>
                  <a:pt x="983" y="860"/>
                  <a:pt x="983" y="858"/>
                </a:cubicBezTo>
                <a:cubicBezTo>
                  <a:pt x="979" y="858"/>
                  <a:pt x="974" y="864"/>
                  <a:pt x="968" y="866"/>
                </a:cubicBezTo>
                <a:cubicBezTo>
                  <a:pt x="968" y="862"/>
                  <a:pt x="968" y="862"/>
                  <a:pt x="968" y="862"/>
                </a:cubicBezTo>
                <a:cubicBezTo>
                  <a:pt x="964" y="861"/>
                  <a:pt x="965" y="866"/>
                  <a:pt x="961" y="865"/>
                </a:cubicBezTo>
                <a:cubicBezTo>
                  <a:pt x="961" y="864"/>
                  <a:pt x="961" y="863"/>
                  <a:pt x="960" y="862"/>
                </a:cubicBezTo>
                <a:cubicBezTo>
                  <a:pt x="958" y="863"/>
                  <a:pt x="958" y="864"/>
                  <a:pt x="958" y="866"/>
                </a:cubicBezTo>
                <a:cubicBezTo>
                  <a:pt x="957" y="862"/>
                  <a:pt x="951" y="866"/>
                  <a:pt x="953" y="861"/>
                </a:cubicBezTo>
                <a:cubicBezTo>
                  <a:pt x="950" y="861"/>
                  <a:pt x="952" y="867"/>
                  <a:pt x="948" y="865"/>
                </a:cubicBezTo>
                <a:cubicBezTo>
                  <a:pt x="950" y="867"/>
                  <a:pt x="951" y="870"/>
                  <a:pt x="950" y="875"/>
                </a:cubicBezTo>
                <a:cubicBezTo>
                  <a:pt x="949" y="878"/>
                  <a:pt x="943" y="877"/>
                  <a:pt x="944" y="882"/>
                </a:cubicBezTo>
                <a:cubicBezTo>
                  <a:pt x="940" y="882"/>
                  <a:pt x="939" y="883"/>
                  <a:pt x="935" y="882"/>
                </a:cubicBezTo>
                <a:cubicBezTo>
                  <a:pt x="936" y="878"/>
                  <a:pt x="938" y="874"/>
                  <a:pt x="940" y="871"/>
                </a:cubicBezTo>
                <a:cubicBezTo>
                  <a:pt x="943" y="871"/>
                  <a:pt x="942" y="869"/>
                  <a:pt x="944" y="871"/>
                </a:cubicBezTo>
                <a:cubicBezTo>
                  <a:pt x="946" y="870"/>
                  <a:pt x="947" y="866"/>
                  <a:pt x="946" y="865"/>
                </a:cubicBezTo>
                <a:cubicBezTo>
                  <a:pt x="936" y="864"/>
                  <a:pt x="934" y="872"/>
                  <a:pt x="929" y="879"/>
                </a:cubicBezTo>
                <a:cubicBezTo>
                  <a:pt x="927" y="878"/>
                  <a:pt x="927" y="876"/>
                  <a:pt x="927" y="874"/>
                </a:cubicBezTo>
                <a:cubicBezTo>
                  <a:pt x="917" y="877"/>
                  <a:pt x="924" y="885"/>
                  <a:pt x="919" y="891"/>
                </a:cubicBezTo>
                <a:cubicBezTo>
                  <a:pt x="915" y="892"/>
                  <a:pt x="916" y="891"/>
                  <a:pt x="912" y="890"/>
                </a:cubicBezTo>
                <a:cubicBezTo>
                  <a:pt x="909" y="896"/>
                  <a:pt x="908" y="903"/>
                  <a:pt x="902" y="905"/>
                </a:cubicBezTo>
                <a:cubicBezTo>
                  <a:pt x="896" y="903"/>
                  <a:pt x="890" y="905"/>
                  <a:pt x="887" y="899"/>
                </a:cubicBezTo>
                <a:cubicBezTo>
                  <a:pt x="889" y="884"/>
                  <a:pt x="908" y="887"/>
                  <a:pt x="914" y="876"/>
                </a:cubicBezTo>
                <a:cubicBezTo>
                  <a:pt x="917" y="876"/>
                  <a:pt x="914" y="878"/>
                  <a:pt x="916" y="879"/>
                </a:cubicBezTo>
                <a:cubicBezTo>
                  <a:pt x="923" y="869"/>
                  <a:pt x="939" y="868"/>
                  <a:pt x="942" y="854"/>
                </a:cubicBezTo>
                <a:cubicBezTo>
                  <a:pt x="952" y="854"/>
                  <a:pt x="952" y="854"/>
                  <a:pt x="952" y="854"/>
                </a:cubicBezTo>
                <a:cubicBezTo>
                  <a:pt x="954" y="851"/>
                  <a:pt x="955" y="848"/>
                  <a:pt x="957" y="846"/>
                </a:cubicBezTo>
                <a:cubicBezTo>
                  <a:pt x="959" y="845"/>
                  <a:pt x="958" y="847"/>
                  <a:pt x="960" y="848"/>
                </a:cubicBezTo>
                <a:cubicBezTo>
                  <a:pt x="962" y="847"/>
                  <a:pt x="960" y="843"/>
                  <a:pt x="961" y="843"/>
                </a:cubicBezTo>
                <a:cubicBezTo>
                  <a:pt x="966" y="845"/>
                  <a:pt x="969" y="839"/>
                  <a:pt x="971" y="835"/>
                </a:cubicBezTo>
                <a:cubicBezTo>
                  <a:pt x="970" y="832"/>
                  <a:pt x="970" y="838"/>
                  <a:pt x="968" y="836"/>
                </a:cubicBezTo>
                <a:cubicBezTo>
                  <a:pt x="969" y="834"/>
                  <a:pt x="968" y="833"/>
                  <a:pt x="968" y="832"/>
                </a:cubicBezTo>
                <a:cubicBezTo>
                  <a:pt x="966" y="835"/>
                  <a:pt x="956" y="846"/>
                  <a:pt x="950" y="844"/>
                </a:cubicBezTo>
                <a:cubicBezTo>
                  <a:pt x="950" y="843"/>
                  <a:pt x="952" y="841"/>
                  <a:pt x="951" y="841"/>
                </a:cubicBezTo>
                <a:cubicBezTo>
                  <a:pt x="948" y="842"/>
                  <a:pt x="948" y="846"/>
                  <a:pt x="945" y="848"/>
                </a:cubicBezTo>
                <a:cubicBezTo>
                  <a:pt x="942" y="848"/>
                  <a:pt x="941" y="847"/>
                  <a:pt x="940" y="845"/>
                </a:cubicBezTo>
                <a:cubicBezTo>
                  <a:pt x="937" y="846"/>
                  <a:pt x="938" y="852"/>
                  <a:pt x="932" y="852"/>
                </a:cubicBezTo>
                <a:cubicBezTo>
                  <a:pt x="937" y="850"/>
                  <a:pt x="933" y="844"/>
                  <a:pt x="932" y="840"/>
                </a:cubicBezTo>
                <a:cubicBezTo>
                  <a:pt x="929" y="842"/>
                  <a:pt x="928" y="846"/>
                  <a:pt x="923" y="846"/>
                </a:cubicBezTo>
                <a:cubicBezTo>
                  <a:pt x="922" y="844"/>
                  <a:pt x="922" y="842"/>
                  <a:pt x="922" y="839"/>
                </a:cubicBezTo>
                <a:cubicBezTo>
                  <a:pt x="917" y="839"/>
                  <a:pt x="917" y="844"/>
                  <a:pt x="916" y="848"/>
                </a:cubicBezTo>
                <a:cubicBezTo>
                  <a:pt x="914" y="848"/>
                  <a:pt x="913" y="847"/>
                  <a:pt x="912" y="847"/>
                </a:cubicBezTo>
                <a:cubicBezTo>
                  <a:pt x="910" y="847"/>
                  <a:pt x="911" y="850"/>
                  <a:pt x="909" y="849"/>
                </a:cubicBezTo>
                <a:cubicBezTo>
                  <a:pt x="910" y="851"/>
                  <a:pt x="913" y="848"/>
                  <a:pt x="916" y="850"/>
                </a:cubicBezTo>
                <a:cubicBezTo>
                  <a:pt x="915" y="853"/>
                  <a:pt x="914" y="856"/>
                  <a:pt x="910" y="856"/>
                </a:cubicBezTo>
                <a:cubicBezTo>
                  <a:pt x="912" y="860"/>
                  <a:pt x="912" y="861"/>
                  <a:pt x="909" y="863"/>
                </a:cubicBezTo>
                <a:cubicBezTo>
                  <a:pt x="906" y="863"/>
                  <a:pt x="908" y="858"/>
                  <a:pt x="907" y="855"/>
                </a:cubicBezTo>
                <a:cubicBezTo>
                  <a:pt x="906" y="855"/>
                  <a:pt x="905" y="856"/>
                  <a:pt x="905" y="857"/>
                </a:cubicBezTo>
                <a:cubicBezTo>
                  <a:pt x="903" y="853"/>
                  <a:pt x="908" y="852"/>
                  <a:pt x="906" y="847"/>
                </a:cubicBezTo>
                <a:cubicBezTo>
                  <a:pt x="911" y="845"/>
                  <a:pt x="912" y="840"/>
                  <a:pt x="917" y="838"/>
                </a:cubicBezTo>
                <a:cubicBezTo>
                  <a:pt x="919" y="839"/>
                  <a:pt x="915" y="840"/>
                  <a:pt x="916" y="841"/>
                </a:cubicBezTo>
                <a:cubicBezTo>
                  <a:pt x="917" y="842"/>
                  <a:pt x="921" y="837"/>
                  <a:pt x="922" y="834"/>
                </a:cubicBezTo>
                <a:cubicBezTo>
                  <a:pt x="922" y="833"/>
                  <a:pt x="920" y="834"/>
                  <a:pt x="919" y="834"/>
                </a:cubicBezTo>
                <a:cubicBezTo>
                  <a:pt x="926" y="827"/>
                  <a:pt x="934" y="822"/>
                  <a:pt x="943" y="819"/>
                </a:cubicBezTo>
                <a:cubicBezTo>
                  <a:pt x="942" y="822"/>
                  <a:pt x="946" y="820"/>
                  <a:pt x="945" y="823"/>
                </a:cubicBezTo>
                <a:cubicBezTo>
                  <a:pt x="948" y="822"/>
                  <a:pt x="945" y="817"/>
                  <a:pt x="949" y="815"/>
                </a:cubicBezTo>
                <a:cubicBezTo>
                  <a:pt x="960" y="820"/>
                  <a:pt x="946" y="829"/>
                  <a:pt x="942" y="834"/>
                </a:cubicBezTo>
                <a:cubicBezTo>
                  <a:pt x="946" y="836"/>
                  <a:pt x="947" y="837"/>
                  <a:pt x="947" y="842"/>
                </a:cubicBezTo>
                <a:cubicBezTo>
                  <a:pt x="949" y="840"/>
                  <a:pt x="948" y="839"/>
                  <a:pt x="948" y="835"/>
                </a:cubicBezTo>
                <a:cubicBezTo>
                  <a:pt x="953" y="833"/>
                  <a:pt x="954" y="826"/>
                  <a:pt x="959" y="823"/>
                </a:cubicBezTo>
                <a:cubicBezTo>
                  <a:pt x="957" y="822"/>
                  <a:pt x="955" y="820"/>
                  <a:pt x="955" y="817"/>
                </a:cubicBezTo>
                <a:cubicBezTo>
                  <a:pt x="960" y="817"/>
                  <a:pt x="969" y="816"/>
                  <a:pt x="967" y="808"/>
                </a:cubicBezTo>
                <a:cubicBezTo>
                  <a:pt x="969" y="807"/>
                  <a:pt x="971" y="807"/>
                  <a:pt x="972" y="805"/>
                </a:cubicBezTo>
                <a:cubicBezTo>
                  <a:pt x="974" y="806"/>
                  <a:pt x="970" y="807"/>
                  <a:pt x="971" y="808"/>
                </a:cubicBezTo>
                <a:cubicBezTo>
                  <a:pt x="973" y="807"/>
                  <a:pt x="975" y="810"/>
                  <a:pt x="974" y="806"/>
                </a:cubicBezTo>
                <a:cubicBezTo>
                  <a:pt x="977" y="808"/>
                  <a:pt x="978" y="805"/>
                  <a:pt x="981" y="805"/>
                </a:cubicBezTo>
                <a:cubicBezTo>
                  <a:pt x="982" y="807"/>
                  <a:pt x="978" y="811"/>
                  <a:pt x="977" y="814"/>
                </a:cubicBezTo>
                <a:cubicBezTo>
                  <a:pt x="976" y="814"/>
                  <a:pt x="976" y="812"/>
                  <a:pt x="975" y="812"/>
                </a:cubicBezTo>
                <a:cubicBezTo>
                  <a:pt x="976" y="815"/>
                  <a:pt x="969" y="822"/>
                  <a:pt x="975" y="823"/>
                </a:cubicBezTo>
                <a:cubicBezTo>
                  <a:pt x="975" y="826"/>
                  <a:pt x="974" y="827"/>
                  <a:pt x="973" y="830"/>
                </a:cubicBezTo>
                <a:cubicBezTo>
                  <a:pt x="974" y="831"/>
                  <a:pt x="978" y="829"/>
                  <a:pt x="980" y="829"/>
                </a:cubicBezTo>
                <a:cubicBezTo>
                  <a:pt x="979" y="826"/>
                  <a:pt x="979" y="825"/>
                  <a:pt x="976" y="826"/>
                </a:cubicBezTo>
                <a:cubicBezTo>
                  <a:pt x="976" y="823"/>
                  <a:pt x="978" y="821"/>
                  <a:pt x="977" y="818"/>
                </a:cubicBezTo>
                <a:cubicBezTo>
                  <a:pt x="980" y="817"/>
                  <a:pt x="980" y="818"/>
                  <a:pt x="983" y="819"/>
                </a:cubicBezTo>
                <a:cubicBezTo>
                  <a:pt x="986" y="818"/>
                  <a:pt x="988" y="809"/>
                  <a:pt x="993" y="814"/>
                </a:cubicBezTo>
                <a:cubicBezTo>
                  <a:pt x="998" y="810"/>
                  <a:pt x="997" y="801"/>
                  <a:pt x="1005" y="799"/>
                </a:cubicBezTo>
                <a:cubicBezTo>
                  <a:pt x="1004" y="797"/>
                  <a:pt x="1003" y="795"/>
                  <a:pt x="1004" y="792"/>
                </a:cubicBezTo>
                <a:cubicBezTo>
                  <a:pt x="1006" y="791"/>
                  <a:pt x="1007" y="789"/>
                  <a:pt x="1010" y="790"/>
                </a:cubicBezTo>
                <a:cubicBezTo>
                  <a:pt x="1010" y="793"/>
                  <a:pt x="1010" y="793"/>
                  <a:pt x="1010" y="793"/>
                </a:cubicBezTo>
                <a:cubicBezTo>
                  <a:pt x="1014" y="792"/>
                  <a:pt x="1015" y="788"/>
                  <a:pt x="1016" y="784"/>
                </a:cubicBezTo>
                <a:cubicBezTo>
                  <a:pt x="1022" y="786"/>
                  <a:pt x="1021" y="779"/>
                  <a:pt x="1025" y="777"/>
                </a:cubicBezTo>
                <a:cubicBezTo>
                  <a:pt x="1026" y="778"/>
                  <a:pt x="1028" y="778"/>
                  <a:pt x="1030" y="778"/>
                </a:cubicBezTo>
                <a:cubicBezTo>
                  <a:pt x="1030" y="782"/>
                  <a:pt x="1029" y="781"/>
                  <a:pt x="1030" y="785"/>
                </a:cubicBezTo>
                <a:cubicBezTo>
                  <a:pt x="1028" y="786"/>
                  <a:pt x="1028" y="784"/>
                  <a:pt x="1026" y="784"/>
                </a:cubicBezTo>
                <a:cubicBezTo>
                  <a:pt x="1032" y="792"/>
                  <a:pt x="1025" y="800"/>
                  <a:pt x="1017" y="802"/>
                </a:cubicBezTo>
                <a:cubicBezTo>
                  <a:pt x="1018" y="803"/>
                  <a:pt x="1020" y="804"/>
                  <a:pt x="1019" y="807"/>
                </a:cubicBezTo>
                <a:cubicBezTo>
                  <a:pt x="1023" y="807"/>
                  <a:pt x="1023" y="807"/>
                  <a:pt x="1023" y="807"/>
                </a:cubicBezTo>
                <a:cubicBezTo>
                  <a:pt x="1026" y="806"/>
                  <a:pt x="1021" y="805"/>
                  <a:pt x="1022" y="803"/>
                </a:cubicBezTo>
                <a:cubicBezTo>
                  <a:pt x="1025" y="801"/>
                  <a:pt x="1029" y="802"/>
                  <a:pt x="1032" y="800"/>
                </a:cubicBezTo>
                <a:cubicBezTo>
                  <a:pt x="1032" y="798"/>
                  <a:pt x="1030" y="796"/>
                  <a:pt x="1034" y="796"/>
                </a:cubicBezTo>
                <a:cubicBezTo>
                  <a:pt x="1031" y="794"/>
                  <a:pt x="1032" y="789"/>
                  <a:pt x="1031" y="785"/>
                </a:cubicBezTo>
                <a:cubicBezTo>
                  <a:pt x="1040" y="778"/>
                  <a:pt x="1050" y="771"/>
                  <a:pt x="1060" y="766"/>
                </a:cubicBezTo>
                <a:cubicBezTo>
                  <a:pt x="1060" y="768"/>
                  <a:pt x="1062" y="768"/>
                  <a:pt x="1061" y="770"/>
                </a:cubicBezTo>
                <a:cubicBezTo>
                  <a:pt x="1056" y="771"/>
                  <a:pt x="1055" y="778"/>
                  <a:pt x="1051" y="781"/>
                </a:cubicBezTo>
                <a:cubicBezTo>
                  <a:pt x="1053" y="785"/>
                  <a:pt x="1060" y="777"/>
                  <a:pt x="1063" y="780"/>
                </a:cubicBezTo>
                <a:cubicBezTo>
                  <a:pt x="1063" y="781"/>
                  <a:pt x="1062" y="781"/>
                  <a:pt x="1063" y="782"/>
                </a:cubicBezTo>
                <a:cubicBezTo>
                  <a:pt x="1054" y="786"/>
                  <a:pt x="1053" y="801"/>
                  <a:pt x="1041" y="795"/>
                </a:cubicBezTo>
                <a:close/>
                <a:moveTo>
                  <a:pt x="929" y="862"/>
                </a:moveTo>
                <a:cubicBezTo>
                  <a:pt x="930" y="866"/>
                  <a:pt x="928" y="867"/>
                  <a:pt x="924" y="867"/>
                </a:cubicBezTo>
                <a:cubicBezTo>
                  <a:pt x="921" y="863"/>
                  <a:pt x="923" y="859"/>
                  <a:pt x="928" y="858"/>
                </a:cubicBezTo>
                <a:cubicBezTo>
                  <a:pt x="930" y="861"/>
                  <a:pt x="924" y="863"/>
                  <a:pt x="929" y="862"/>
                </a:cubicBezTo>
                <a:close/>
                <a:moveTo>
                  <a:pt x="1047" y="751"/>
                </a:moveTo>
                <a:cubicBezTo>
                  <a:pt x="1044" y="757"/>
                  <a:pt x="1034" y="753"/>
                  <a:pt x="1038" y="744"/>
                </a:cubicBezTo>
                <a:cubicBezTo>
                  <a:pt x="1039" y="743"/>
                  <a:pt x="1042" y="746"/>
                  <a:pt x="1043" y="743"/>
                </a:cubicBezTo>
                <a:cubicBezTo>
                  <a:pt x="1045" y="743"/>
                  <a:pt x="1043" y="746"/>
                  <a:pt x="1042" y="746"/>
                </a:cubicBezTo>
                <a:cubicBezTo>
                  <a:pt x="1045" y="745"/>
                  <a:pt x="1044" y="749"/>
                  <a:pt x="1047" y="751"/>
                </a:cubicBezTo>
                <a:close/>
                <a:moveTo>
                  <a:pt x="1038" y="768"/>
                </a:moveTo>
                <a:cubicBezTo>
                  <a:pt x="1038" y="767"/>
                  <a:pt x="1041" y="762"/>
                  <a:pt x="1045" y="763"/>
                </a:cubicBezTo>
                <a:cubicBezTo>
                  <a:pt x="1045" y="766"/>
                  <a:pt x="1043" y="769"/>
                  <a:pt x="1038" y="769"/>
                </a:cubicBezTo>
                <a:cubicBezTo>
                  <a:pt x="1037" y="769"/>
                  <a:pt x="1038" y="768"/>
                  <a:pt x="1039" y="769"/>
                </a:cubicBezTo>
                <a:cubicBezTo>
                  <a:pt x="1040" y="767"/>
                  <a:pt x="1038" y="767"/>
                  <a:pt x="1038" y="768"/>
                </a:cubicBezTo>
                <a:close/>
                <a:moveTo>
                  <a:pt x="1040" y="718"/>
                </a:moveTo>
                <a:cubicBezTo>
                  <a:pt x="1037" y="718"/>
                  <a:pt x="1037" y="716"/>
                  <a:pt x="1034" y="717"/>
                </a:cubicBezTo>
                <a:cubicBezTo>
                  <a:pt x="1037" y="713"/>
                  <a:pt x="1043" y="711"/>
                  <a:pt x="1045" y="704"/>
                </a:cubicBezTo>
                <a:cubicBezTo>
                  <a:pt x="1048" y="704"/>
                  <a:pt x="1046" y="709"/>
                  <a:pt x="1050" y="707"/>
                </a:cubicBezTo>
                <a:cubicBezTo>
                  <a:pt x="1049" y="713"/>
                  <a:pt x="1042" y="713"/>
                  <a:pt x="1040" y="718"/>
                </a:cubicBezTo>
                <a:close/>
                <a:moveTo>
                  <a:pt x="1042" y="720"/>
                </a:moveTo>
                <a:cubicBezTo>
                  <a:pt x="1041" y="724"/>
                  <a:pt x="1042" y="723"/>
                  <a:pt x="1041" y="726"/>
                </a:cubicBezTo>
                <a:cubicBezTo>
                  <a:pt x="1037" y="725"/>
                  <a:pt x="1036" y="730"/>
                  <a:pt x="1033" y="728"/>
                </a:cubicBezTo>
                <a:cubicBezTo>
                  <a:pt x="1036" y="725"/>
                  <a:pt x="1036" y="720"/>
                  <a:pt x="1042" y="720"/>
                </a:cubicBezTo>
                <a:close/>
                <a:moveTo>
                  <a:pt x="1051" y="760"/>
                </a:moveTo>
                <a:cubicBezTo>
                  <a:pt x="1050" y="757"/>
                  <a:pt x="1053" y="757"/>
                  <a:pt x="1054" y="755"/>
                </a:cubicBezTo>
                <a:cubicBezTo>
                  <a:pt x="1058" y="758"/>
                  <a:pt x="1062" y="748"/>
                  <a:pt x="1070" y="750"/>
                </a:cubicBezTo>
                <a:cubicBezTo>
                  <a:pt x="1064" y="756"/>
                  <a:pt x="1059" y="759"/>
                  <a:pt x="1051" y="760"/>
                </a:cubicBezTo>
                <a:close/>
                <a:moveTo>
                  <a:pt x="1065" y="765"/>
                </a:moveTo>
                <a:cubicBezTo>
                  <a:pt x="1065" y="766"/>
                  <a:pt x="1064" y="767"/>
                  <a:pt x="1064" y="769"/>
                </a:cubicBezTo>
                <a:cubicBezTo>
                  <a:pt x="1061" y="769"/>
                  <a:pt x="1061" y="765"/>
                  <a:pt x="1062" y="764"/>
                </a:cubicBezTo>
                <a:cubicBezTo>
                  <a:pt x="1064" y="764"/>
                  <a:pt x="1064" y="765"/>
                  <a:pt x="1065" y="765"/>
                </a:cubicBezTo>
                <a:close/>
                <a:moveTo>
                  <a:pt x="1066" y="831"/>
                </a:moveTo>
                <a:cubicBezTo>
                  <a:pt x="1065" y="830"/>
                  <a:pt x="1064" y="830"/>
                  <a:pt x="1063" y="830"/>
                </a:cubicBezTo>
                <a:cubicBezTo>
                  <a:pt x="1064" y="828"/>
                  <a:pt x="1065" y="827"/>
                  <a:pt x="1067" y="827"/>
                </a:cubicBezTo>
                <a:cubicBezTo>
                  <a:pt x="1067" y="829"/>
                  <a:pt x="1066" y="830"/>
                  <a:pt x="1066" y="831"/>
                </a:cubicBezTo>
                <a:close/>
                <a:moveTo>
                  <a:pt x="1064" y="777"/>
                </a:moveTo>
                <a:cubicBezTo>
                  <a:pt x="1064" y="773"/>
                  <a:pt x="1064" y="773"/>
                  <a:pt x="1064" y="773"/>
                </a:cubicBezTo>
                <a:cubicBezTo>
                  <a:pt x="1066" y="773"/>
                  <a:pt x="1068" y="774"/>
                  <a:pt x="1068" y="776"/>
                </a:cubicBezTo>
                <a:cubicBezTo>
                  <a:pt x="1067" y="777"/>
                  <a:pt x="1066" y="777"/>
                  <a:pt x="1064" y="777"/>
                </a:cubicBezTo>
                <a:close/>
                <a:moveTo>
                  <a:pt x="1111" y="821"/>
                </a:moveTo>
                <a:cubicBezTo>
                  <a:pt x="1111" y="824"/>
                  <a:pt x="1107" y="823"/>
                  <a:pt x="1107" y="827"/>
                </a:cubicBezTo>
                <a:cubicBezTo>
                  <a:pt x="1105" y="827"/>
                  <a:pt x="1105" y="824"/>
                  <a:pt x="1102" y="825"/>
                </a:cubicBezTo>
                <a:cubicBezTo>
                  <a:pt x="1105" y="824"/>
                  <a:pt x="1106" y="821"/>
                  <a:pt x="1111" y="821"/>
                </a:cubicBezTo>
                <a:close/>
                <a:moveTo>
                  <a:pt x="1120" y="787"/>
                </a:moveTo>
                <a:cubicBezTo>
                  <a:pt x="1120" y="784"/>
                  <a:pt x="1123" y="784"/>
                  <a:pt x="1125" y="784"/>
                </a:cubicBezTo>
                <a:cubicBezTo>
                  <a:pt x="1125" y="786"/>
                  <a:pt x="1123" y="787"/>
                  <a:pt x="1120" y="787"/>
                </a:cubicBezTo>
                <a:close/>
                <a:moveTo>
                  <a:pt x="1125" y="761"/>
                </a:moveTo>
                <a:cubicBezTo>
                  <a:pt x="1124" y="764"/>
                  <a:pt x="1125" y="767"/>
                  <a:pt x="1121" y="767"/>
                </a:cubicBezTo>
                <a:cubicBezTo>
                  <a:pt x="1119" y="764"/>
                  <a:pt x="1122" y="761"/>
                  <a:pt x="1125" y="761"/>
                </a:cubicBezTo>
                <a:close/>
                <a:moveTo>
                  <a:pt x="1122" y="773"/>
                </a:moveTo>
                <a:cubicBezTo>
                  <a:pt x="1123" y="771"/>
                  <a:pt x="1120" y="771"/>
                  <a:pt x="1121" y="769"/>
                </a:cubicBezTo>
                <a:cubicBezTo>
                  <a:pt x="1126" y="769"/>
                  <a:pt x="1131" y="763"/>
                  <a:pt x="1131" y="771"/>
                </a:cubicBezTo>
                <a:cubicBezTo>
                  <a:pt x="1128" y="771"/>
                  <a:pt x="1127" y="772"/>
                  <a:pt x="1122" y="773"/>
                </a:cubicBezTo>
                <a:close/>
                <a:moveTo>
                  <a:pt x="1135" y="808"/>
                </a:moveTo>
                <a:cubicBezTo>
                  <a:pt x="1135" y="810"/>
                  <a:pt x="1134" y="811"/>
                  <a:pt x="1132" y="810"/>
                </a:cubicBezTo>
                <a:cubicBezTo>
                  <a:pt x="1132" y="811"/>
                  <a:pt x="1133" y="812"/>
                  <a:pt x="1133" y="813"/>
                </a:cubicBezTo>
                <a:cubicBezTo>
                  <a:pt x="1130" y="813"/>
                  <a:pt x="1130" y="813"/>
                  <a:pt x="1130" y="813"/>
                </a:cubicBezTo>
                <a:cubicBezTo>
                  <a:pt x="1130" y="812"/>
                  <a:pt x="1130" y="810"/>
                  <a:pt x="1129" y="810"/>
                </a:cubicBezTo>
                <a:cubicBezTo>
                  <a:pt x="1129" y="809"/>
                  <a:pt x="1130" y="810"/>
                  <a:pt x="1130" y="810"/>
                </a:cubicBezTo>
                <a:cubicBezTo>
                  <a:pt x="1131" y="810"/>
                  <a:pt x="1131" y="809"/>
                  <a:pt x="1131" y="808"/>
                </a:cubicBezTo>
                <a:lnTo>
                  <a:pt x="1135" y="808"/>
                </a:lnTo>
                <a:close/>
                <a:moveTo>
                  <a:pt x="1128" y="750"/>
                </a:moveTo>
                <a:cubicBezTo>
                  <a:pt x="1131" y="749"/>
                  <a:pt x="1131" y="754"/>
                  <a:pt x="1131" y="750"/>
                </a:cubicBezTo>
                <a:cubicBezTo>
                  <a:pt x="1132" y="750"/>
                  <a:pt x="1132" y="752"/>
                  <a:pt x="1132" y="753"/>
                </a:cubicBezTo>
                <a:cubicBezTo>
                  <a:pt x="1131" y="753"/>
                  <a:pt x="1130" y="753"/>
                  <a:pt x="1130" y="754"/>
                </a:cubicBezTo>
                <a:cubicBezTo>
                  <a:pt x="1129" y="754"/>
                  <a:pt x="1129" y="753"/>
                  <a:pt x="1129" y="752"/>
                </a:cubicBezTo>
                <a:cubicBezTo>
                  <a:pt x="1128" y="752"/>
                  <a:pt x="1128" y="752"/>
                  <a:pt x="1128" y="753"/>
                </a:cubicBezTo>
                <a:cubicBezTo>
                  <a:pt x="1127" y="753"/>
                  <a:pt x="1127" y="752"/>
                  <a:pt x="1127" y="751"/>
                </a:cubicBezTo>
                <a:cubicBezTo>
                  <a:pt x="1128" y="751"/>
                  <a:pt x="1128" y="751"/>
                  <a:pt x="1128" y="750"/>
                </a:cubicBezTo>
                <a:close/>
                <a:moveTo>
                  <a:pt x="1126" y="756"/>
                </a:moveTo>
                <a:cubicBezTo>
                  <a:pt x="1125" y="759"/>
                  <a:pt x="1122" y="761"/>
                  <a:pt x="1118" y="762"/>
                </a:cubicBezTo>
                <a:cubicBezTo>
                  <a:pt x="1120" y="758"/>
                  <a:pt x="1115" y="759"/>
                  <a:pt x="1115" y="755"/>
                </a:cubicBezTo>
                <a:cubicBezTo>
                  <a:pt x="1117" y="755"/>
                  <a:pt x="1119" y="755"/>
                  <a:pt x="1119" y="754"/>
                </a:cubicBezTo>
                <a:cubicBezTo>
                  <a:pt x="1122" y="754"/>
                  <a:pt x="1121" y="758"/>
                  <a:pt x="1126" y="756"/>
                </a:cubicBezTo>
                <a:close/>
                <a:moveTo>
                  <a:pt x="1121" y="731"/>
                </a:moveTo>
                <a:cubicBezTo>
                  <a:pt x="1120" y="733"/>
                  <a:pt x="1120" y="734"/>
                  <a:pt x="1119" y="735"/>
                </a:cubicBezTo>
                <a:cubicBezTo>
                  <a:pt x="1116" y="735"/>
                  <a:pt x="1117" y="730"/>
                  <a:pt x="1121" y="731"/>
                </a:cubicBezTo>
                <a:close/>
                <a:moveTo>
                  <a:pt x="1103" y="692"/>
                </a:moveTo>
                <a:cubicBezTo>
                  <a:pt x="1104" y="693"/>
                  <a:pt x="1104" y="694"/>
                  <a:pt x="1105" y="694"/>
                </a:cubicBezTo>
                <a:cubicBezTo>
                  <a:pt x="1105" y="697"/>
                  <a:pt x="1103" y="699"/>
                  <a:pt x="1100" y="700"/>
                </a:cubicBezTo>
                <a:cubicBezTo>
                  <a:pt x="1098" y="698"/>
                  <a:pt x="1101" y="694"/>
                  <a:pt x="1103" y="692"/>
                </a:cubicBezTo>
                <a:close/>
                <a:moveTo>
                  <a:pt x="1091" y="752"/>
                </a:moveTo>
                <a:cubicBezTo>
                  <a:pt x="1093" y="751"/>
                  <a:pt x="1093" y="752"/>
                  <a:pt x="1094" y="753"/>
                </a:cubicBezTo>
                <a:cubicBezTo>
                  <a:pt x="1100" y="744"/>
                  <a:pt x="1113" y="742"/>
                  <a:pt x="1122" y="736"/>
                </a:cubicBezTo>
                <a:cubicBezTo>
                  <a:pt x="1121" y="739"/>
                  <a:pt x="1120" y="741"/>
                  <a:pt x="1119" y="743"/>
                </a:cubicBezTo>
                <a:cubicBezTo>
                  <a:pt x="1116" y="744"/>
                  <a:pt x="1117" y="742"/>
                  <a:pt x="1114" y="743"/>
                </a:cubicBezTo>
                <a:cubicBezTo>
                  <a:pt x="1114" y="745"/>
                  <a:pt x="1115" y="746"/>
                  <a:pt x="1116" y="746"/>
                </a:cubicBezTo>
                <a:cubicBezTo>
                  <a:pt x="1120" y="747"/>
                  <a:pt x="1119" y="742"/>
                  <a:pt x="1123" y="743"/>
                </a:cubicBezTo>
                <a:cubicBezTo>
                  <a:pt x="1122" y="750"/>
                  <a:pt x="1119" y="753"/>
                  <a:pt x="1113" y="754"/>
                </a:cubicBezTo>
                <a:cubicBezTo>
                  <a:pt x="1112" y="755"/>
                  <a:pt x="1111" y="756"/>
                  <a:pt x="1110" y="757"/>
                </a:cubicBezTo>
                <a:cubicBezTo>
                  <a:pt x="1110" y="759"/>
                  <a:pt x="1111" y="757"/>
                  <a:pt x="1113" y="757"/>
                </a:cubicBezTo>
                <a:cubicBezTo>
                  <a:pt x="1111" y="761"/>
                  <a:pt x="1112" y="765"/>
                  <a:pt x="1115" y="766"/>
                </a:cubicBezTo>
                <a:cubicBezTo>
                  <a:pt x="1116" y="769"/>
                  <a:pt x="1114" y="770"/>
                  <a:pt x="1113" y="772"/>
                </a:cubicBezTo>
                <a:cubicBezTo>
                  <a:pt x="1110" y="771"/>
                  <a:pt x="1108" y="767"/>
                  <a:pt x="1111" y="765"/>
                </a:cubicBezTo>
                <a:cubicBezTo>
                  <a:pt x="1105" y="767"/>
                  <a:pt x="1102" y="772"/>
                  <a:pt x="1096" y="773"/>
                </a:cubicBezTo>
                <a:cubicBezTo>
                  <a:pt x="1095" y="773"/>
                  <a:pt x="1096" y="772"/>
                  <a:pt x="1096" y="771"/>
                </a:cubicBezTo>
                <a:cubicBezTo>
                  <a:pt x="1091" y="773"/>
                  <a:pt x="1088" y="775"/>
                  <a:pt x="1084" y="778"/>
                </a:cubicBezTo>
                <a:cubicBezTo>
                  <a:pt x="1081" y="776"/>
                  <a:pt x="1086" y="774"/>
                  <a:pt x="1087" y="773"/>
                </a:cubicBezTo>
                <a:cubicBezTo>
                  <a:pt x="1083" y="769"/>
                  <a:pt x="1090" y="765"/>
                  <a:pt x="1086" y="759"/>
                </a:cubicBezTo>
                <a:cubicBezTo>
                  <a:pt x="1086" y="758"/>
                  <a:pt x="1082" y="761"/>
                  <a:pt x="1082" y="756"/>
                </a:cubicBezTo>
                <a:cubicBezTo>
                  <a:pt x="1086" y="758"/>
                  <a:pt x="1091" y="757"/>
                  <a:pt x="1091" y="752"/>
                </a:cubicBezTo>
                <a:close/>
                <a:moveTo>
                  <a:pt x="1083" y="748"/>
                </a:moveTo>
                <a:cubicBezTo>
                  <a:pt x="1081" y="750"/>
                  <a:pt x="1078" y="748"/>
                  <a:pt x="1076" y="749"/>
                </a:cubicBezTo>
                <a:cubicBezTo>
                  <a:pt x="1076" y="747"/>
                  <a:pt x="1083" y="743"/>
                  <a:pt x="1083" y="748"/>
                </a:cubicBezTo>
                <a:close/>
                <a:moveTo>
                  <a:pt x="1076" y="807"/>
                </a:moveTo>
                <a:cubicBezTo>
                  <a:pt x="1076" y="803"/>
                  <a:pt x="1072" y="803"/>
                  <a:pt x="1073" y="798"/>
                </a:cubicBezTo>
                <a:cubicBezTo>
                  <a:pt x="1074" y="796"/>
                  <a:pt x="1079" y="795"/>
                  <a:pt x="1081" y="797"/>
                </a:cubicBezTo>
                <a:cubicBezTo>
                  <a:pt x="1084" y="797"/>
                  <a:pt x="1080" y="795"/>
                  <a:pt x="1081" y="793"/>
                </a:cubicBezTo>
                <a:cubicBezTo>
                  <a:pt x="1086" y="793"/>
                  <a:pt x="1087" y="790"/>
                  <a:pt x="1091" y="789"/>
                </a:cubicBezTo>
                <a:cubicBezTo>
                  <a:pt x="1092" y="786"/>
                  <a:pt x="1088" y="788"/>
                  <a:pt x="1089" y="785"/>
                </a:cubicBezTo>
                <a:cubicBezTo>
                  <a:pt x="1090" y="783"/>
                  <a:pt x="1093" y="782"/>
                  <a:pt x="1096" y="782"/>
                </a:cubicBezTo>
                <a:cubicBezTo>
                  <a:pt x="1095" y="779"/>
                  <a:pt x="1095" y="777"/>
                  <a:pt x="1096" y="774"/>
                </a:cubicBezTo>
                <a:cubicBezTo>
                  <a:pt x="1099" y="774"/>
                  <a:pt x="1099" y="774"/>
                  <a:pt x="1099" y="774"/>
                </a:cubicBezTo>
                <a:cubicBezTo>
                  <a:pt x="1099" y="777"/>
                  <a:pt x="1101" y="779"/>
                  <a:pt x="1099" y="781"/>
                </a:cubicBezTo>
                <a:cubicBezTo>
                  <a:pt x="1103" y="781"/>
                  <a:pt x="1103" y="777"/>
                  <a:pt x="1103" y="774"/>
                </a:cubicBezTo>
                <a:cubicBezTo>
                  <a:pt x="1108" y="776"/>
                  <a:pt x="1106" y="775"/>
                  <a:pt x="1112" y="774"/>
                </a:cubicBezTo>
                <a:cubicBezTo>
                  <a:pt x="1112" y="777"/>
                  <a:pt x="1114" y="779"/>
                  <a:pt x="1113" y="782"/>
                </a:cubicBezTo>
                <a:cubicBezTo>
                  <a:pt x="1103" y="786"/>
                  <a:pt x="1102" y="797"/>
                  <a:pt x="1092" y="800"/>
                </a:cubicBezTo>
                <a:cubicBezTo>
                  <a:pt x="1090" y="800"/>
                  <a:pt x="1090" y="798"/>
                  <a:pt x="1088" y="797"/>
                </a:cubicBezTo>
                <a:cubicBezTo>
                  <a:pt x="1084" y="805"/>
                  <a:pt x="1081" y="815"/>
                  <a:pt x="1070" y="816"/>
                </a:cubicBezTo>
                <a:cubicBezTo>
                  <a:pt x="1071" y="812"/>
                  <a:pt x="1076" y="812"/>
                  <a:pt x="1076" y="807"/>
                </a:cubicBezTo>
                <a:close/>
                <a:moveTo>
                  <a:pt x="1066" y="712"/>
                </a:moveTo>
                <a:cubicBezTo>
                  <a:pt x="1069" y="714"/>
                  <a:pt x="1066" y="717"/>
                  <a:pt x="1069" y="719"/>
                </a:cubicBezTo>
                <a:cubicBezTo>
                  <a:pt x="1067" y="723"/>
                  <a:pt x="1063" y="724"/>
                  <a:pt x="1059" y="724"/>
                </a:cubicBezTo>
                <a:cubicBezTo>
                  <a:pt x="1060" y="720"/>
                  <a:pt x="1057" y="720"/>
                  <a:pt x="1055" y="719"/>
                </a:cubicBezTo>
                <a:cubicBezTo>
                  <a:pt x="1056" y="715"/>
                  <a:pt x="1060" y="712"/>
                  <a:pt x="1066" y="712"/>
                </a:cubicBezTo>
                <a:close/>
                <a:moveTo>
                  <a:pt x="1054" y="736"/>
                </a:moveTo>
                <a:cubicBezTo>
                  <a:pt x="1054" y="737"/>
                  <a:pt x="1056" y="740"/>
                  <a:pt x="1054" y="740"/>
                </a:cubicBezTo>
                <a:cubicBezTo>
                  <a:pt x="1054" y="742"/>
                  <a:pt x="1056" y="739"/>
                  <a:pt x="1059" y="740"/>
                </a:cubicBezTo>
                <a:cubicBezTo>
                  <a:pt x="1059" y="737"/>
                  <a:pt x="1057" y="737"/>
                  <a:pt x="1057" y="734"/>
                </a:cubicBezTo>
                <a:cubicBezTo>
                  <a:pt x="1059" y="732"/>
                  <a:pt x="1063" y="731"/>
                  <a:pt x="1063" y="726"/>
                </a:cubicBezTo>
                <a:cubicBezTo>
                  <a:pt x="1067" y="726"/>
                  <a:pt x="1067" y="725"/>
                  <a:pt x="1070" y="726"/>
                </a:cubicBezTo>
                <a:cubicBezTo>
                  <a:pt x="1070" y="731"/>
                  <a:pt x="1068" y="731"/>
                  <a:pt x="1068" y="734"/>
                </a:cubicBezTo>
                <a:cubicBezTo>
                  <a:pt x="1066" y="734"/>
                  <a:pt x="1065" y="733"/>
                  <a:pt x="1062" y="733"/>
                </a:cubicBezTo>
                <a:cubicBezTo>
                  <a:pt x="1062" y="736"/>
                  <a:pt x="1063" y="737"/>
                  <a:pt x="1065" y="737"/>
                </a:cubicBezTo>
                <a:cubicBezTo>
                  <a:pt x="1065" y="740"/>
                  <a:pt x="1063" y="740"/>
                  <a:pt x="1062" y="742"/>
                </a:cubicBezTo>
                <a:cubicBezTo>
                  <a:pt x="1061" y="741"/>
                  <a:pt x="1061" y="740"/>
                  <a:pt x="1061" y="739"/>
                </a:cubicBezTo>
                <a:cubicBezTo>
                  <a:pt x="1058" y="740"/>
                  <a:pt x="1059" y="742"/>
                  <a:pt x="1059" y="745"/>
                </a:cubicBezTo>
                <a:cubicBezTo>
                  <a:pt x="1056" y="747"/>
                  <a:pt x="1056" y="753"/>
                  <a:pt x="1050" y="750"/>
                </a:cubicBezTo>
                <a:cubicBezTo>
                  <a:pt x="1051" y="749"/>
                  <a:pt x="1052" y="748"/>
                  <a:pt x="1052" y="746"/>
                </a:cubicBezTo>
                <a:cubicBezTo>
                  <a:pt x="1050" y="744"/>
                  <a:pt x="1049" y="747"/>
                  <a:pt x="1047" y="747"/>
                </a:cubicBezTo>
                <a:cubicBezTo>
                  <a:pt x="1042" y="742"/>
                  <a:pt x="1049" y="737"/>
                  <a:pt x="1054" y="736"/>
                </a:cubicBezTo>
                <a:close/>
                <a:moveTo>
                  <a:pt x="1050" y="704"/>
                </a:moveTo>
                <a:cubicBezTo>
                  <a:pt x="1047" y="705"/>
                  <a:pt x="1047" y="703"/>
                  <a:pt x="1044" y="704"/>
                </a:cubicBezTo>
                <a:cubicBezTo>
                  <a:pt x="1043" y="700"/>
                  <a:pt x="1047" y="701"/>
                  <a:pt x="1047" y="698"/>
                </a:cubicBezTo>
                <a:cubicBezTo>
                  <a:pt x="1039" y="702"/>
                  <a:pt x="1040" y="714"/>
                  <a:pt x="1031" y="716"/>
                </a:cubicBezTo>
                <a:cubicBezTo>
                  <a:pt x="1028" y="714"/>
                  <a:pt x="1033" y="711"/>
                  <a:pt x="1030" y="710"/>
                </a:cubicBezTo>
                <a:cubicBezTo>
                  <a:pt x="1022" y="710"/>
                  <a:pt x="1024" y="721"/>
                  <a:pt x="1016" y="721"/>
                </a:cubicBezTo>
                <a:cubicBezTo>
                  <a:pt x="1015" y="717"/>
                  <a:pt x="1020" y="715"/>
                  <a:pt x="1015" y="717"/>
                </a:cubicBezTo>
                <a:cubicBezTo>
                  <a:pt x="1014" y="711"/>
                  <a:pt x="1018" y="712"/>
                  <a:pt x="1020" y="710"/>
                </a:cubicBezTo>
                <a:cubicBezTo>
                  <a:pt x="1019" y="707"/>
                  <a:pt x="1018" y="711"/>
                  <a:pt x="1016" y="710"/>
                </a:cubicBezTo>
                <a:cubicBezTo>
                  <a:pt x="1017" y="705"/>
                  <a:pt x="1024" y="704"/>
                  <a:pt x="1019" y="697"/>
                </a:cubicBezTo>
                <a:cubicBezTo>
                  <a:pt x="1021" y="697"/>
                  <a:pt x="1023" y="697"/>
                  <a:pt x="1023" y="696"/>
                </a:cubicBezTo>
                <a:cubicBezTo>
                  <a:pt x="1026" y="697"/>
                  <a:pt x="1023" y="699"/>
                  <a:pt x="1023" y="701"/>
                </a:cubicBezTo>
                <a:cubicBezTo>
                  <a:pt x="1026" y="703"/>
                  <a:pt x="1026" y="700"/>
                  <a:pt x="1030" y="700"/>
                </a:cubicBezTo>
                <a:cubicBezTo>
                  <a:pt x="1038" y="705"/>
                  <a:pt x="1043" y="693"/>
                  <a:pt x="1051" y="692"/>
                </a:cubicBezTo>
                <a:cubicBezTo>
                  <a:pt x="1048" y="697"/>
                  <a:pt x="1053" y="699"/>
                  <a:pt x="1050" y="704"/>
                </a:cubicBezTo>
                <a:close/>
                <a:moveTo>
                  <a:pt x="1067" y="678"/>
                </a:moveTo>
                <a:cubicBezTo>
                  <a:pt x="1065" y="679"/>
                  <a:pt x="1065" y="678"/>
                  <a:pt x="1064" y="678"/>
                </a:cubicBezTo>
                <a:cubicBezTo>
                  <a:pt x="1064" y="675"/>
                  <a:pt x="1065" y="674"/>
                  <a:pt x="1068" y="675"/>
                </a:cubicBezTo>
                <a:cubicBezTo>
                  <a:pt x="1068" y="677"/>
                  <a:pt x="1067" y="677"/>
                  <a:pt x="1067" y="678"/>
                </a:cubicBezTo>
                <a:close/>
                <a:moveTo>
                  <a:pt x="1067" y="520"/>
                </a:moveTo>
                <a:cubicBezTo>
                  <a:pt x="1068" y="518"/>
                  <a:pt x="1069" y="516"/>
                  <a:pt x="1072" y="517"/>
                </a:cubicBezTo>
                <a:cubicBezTo>
                  <a:pt x="1072" y="519"/>
                  <a:pt x="1068" y="521"/>
                  <a:pt x="1067" y="520"/>
                </a:cubicBezTo>
                <a:close/>
                <a:moveTo>
                  <a:pt x="1100" y="574"/>
                </a:moveTo>
                <a:cubicBezTo>
                  <a:pt x="1100" y="577"/>
                  <a:pt x="1098" y="578"/>
                  <a:pt x="1095" y="578"/>
                </a:cubicBezTo>
                <a:cubicBezTo>
                  <a:pt x="1096" y="577"/>
                  <a:pt x="1097" y="574"/>
                  <a:pt x="1100" y="574"/>
                </a:cubicBezTo>
                <a:close/>
                <a:moveTo>
                  <a:pt x="1098" y="659"/>
                </a:moveTo>
                <a:cubicBezTo>
                  <a:pt x="1098" y="656"/>
                  <a:pt x="1098" y="654"/>
                  <a:pt x="1099" y="652"/>
                </a:cubicBezTo>
                <a:cubicBezTo>
                  <a:pt x="1102" y="652"/>
                  <a:pt x="1102" y="654"/>
                  <a:pt x="1104" y="653"/>
                </a:cubicBezTo>
                <a:cubicBezTo>
                  <a:pt x="1104" y="657"/>
                  <a:pt x="1101" y="658"/>
                  <a:pt x="1098" y="659"/>
                </a:cubicBezTo>
                <a:close/>
                <a:moveTo>
                  <a:pt x="1090" y="597"/>
                </a:moveTo>
                <a:cubicBezTo>
                  <a:pt x="1090" y="588"/>
                  <a:pt x="1099" y="584"/>
                  <a:pt x="1106" y="585"/>
                </a:cubicBezTo>
                <a:cubicBezTo>
                  <a:pt x="1103" y="591"/>
                  <a:pt x="1097" y="595"/>
                  <a:pt x="1090" y="597"/>
                </a:cubicBezTo>
                <a:close/>
                <a:moveTo>
                  <a:pt x="1125" y="506"/>
                </a:moveTo>
                <a:cubicBezTo>
                  <a:pt x="1125" y="509"/>
                  <a:pt x="1124" y="513"/>
                  <a:pt x="1120" y="513"/>
                </a:cubicBezTo>
                <a:cubicBezTo>
                  <a:pt x="1119" y="508"/>
                  <a:pt x="1121" y="505"/>
                  <a:pt x="1125" y="506"/>
                </a:cubicBezTo>
                <a:close/>
                <a:moveTo>
                  <a:pt x="1127" y="527"/>
                </a:moveTo>
                <a:cubicBezTo>
                  <a:pt x="1127" y="534"/>
                  <a:pt x="1121" y="535"/>
                  <a:pt x="1117" y="538"/>
                </a:cubicBezTo>
                <a:cubicBezTo>
                  <a:pt x="1116" y="536"/>
                  <a:pt x="1115" y="534"/>
                  <a:pt x="1115" y="531"/>
                </a:cubicBezTo>
                <a:cubicBezTo>
                  <a:pt x="1122" y="532"/>
                  <a:pt x="1122" y="524"/>
                  <a:pt x="1127" y="527"/>
                </a:cubicBezTo>
                <a:close/>
                <a:moveTo>
                  <a:pt x="1151" y="586"/>
                </a:moveTo>
                <a:cubicBezTo>
                  <a:pt x="1148" y="585"/>
                  <a:pt x="1151" y="579"/>
                  <a:pt x="1155" y="580"/>
                </a:cubicBezTo>
                <a:cubicBezTo>
                  <a:pt x="1155" y="583"/>
                  <a:pt x="1152" y="584"/>
                  <a:pt x="1151" y="586"/>
                </a:cubicBezTo>
                <a:close/>
                <a:moveTo>
                  <a:pt x="1151" y="561"/>
                </a:moveTo>
                <a:cubicBezTo>
                  <a:pt x="1151" y="579"/>
                  <a:pt x="1132" y="583"/>
                  <a:pt x="1119" y="585"/>
                </a:cubicBezTo>
                <a:cubicBezTo>
                  <a:pt x="1119" y="582"/>
                  <a:pt x="1117" y="580"/>
                  <a:pt x="1119" y="578"/>
                </a:cubicBezTo>
                <a:cubicBezTo>
                  <a:pt x="1116" y="578"/>
                  <a:pt x="1114" y="583"/>
                  <a:pt x="1111" y="580"/>
                </a:cubicBezTo>
                <a:cubicBezTo>
                  <a:pt x="1115" y="576"/>
                  <a:pt x="1120" y="574"/>
                  <a:pt x="1121" y="567"/>
                </a:cubicBezTo>
                <a:cubicBezTo>
                  <a:pt x="1126" y="568"/>
                  <a:pt x="1125" y="563"/>
                  <a:pt x="1129" y="562"/>
                </a:cubicBezTo>
                <a:cubicBezTo>
                  <a:pt x="1132" y="561"/>
                  <a:pt x="1130" y="565"/>
                  <a:pt x="1133" y="565"/>
                </a:cubicBezTo>
                <a:cubicBezTo>
                  <a:pt x="1139" y="558"/>
                  <a:pt x="1149" y="551"/>
                  <a:pt x="1157" y="556"/>
                </a:cubicBezTo>
                <a:cubicBezTo>
                  <a:pt x="1155" y="557"/>
                  <a:pt x="1154" y="561"/>
                  <a:pt x="1151" y="561"/>
                </a:cubicBezTo>
                <a:close/>
                <a:moveTo>
                  <a:pt x="1158" y="556"/>
                </a:moveTo>
                <a:cubicBezTo>
                  <a:pt x="1157" y="551"/>
                  <a:pt x="1163" y="553"/>
                  <a:pt x="1161" y="547"/>
                </a:cubicBezTo>
                <a:cubicBezTo>
                  <a:pt x="1165" y="547"/>
                  <a:pt x="1165" y="547"/>
                  <a:pt x="1165" y="547"/>
                </a:cubicBezTo>
                <a:cubicBezTo>
                  <a:pt x="1165" y="552"/>
                  <a:pt x="1161" y="554"/>
                  <a:pt x="1158" y="556"/>
                </a:cubicBezTo>
                <a:close/>
                <a:moveTo>
                  <a:pt x="1179" y="548"/>
                </a:moveTo>
                <a:cubicBezTo>
                  <a:pt x="1178" y="551"/>
                  <a:pt x="1177" y="552"/>
                  <a:pt x="1175" y="552"/>
                </a:cubicBezTo>
                <a:cubicBezTo>
                  <a:pt x="1175" y="550"/>
                  <a:pt x="1176" y="548"/>
                  <a:pt x="1179" y="548"/>
                </a:cubicBezTo>
                <a:close/>
                <a:moveTo>
                  <a:pt x="1177" y="514"/>
                </a:moveTo>
                <a:cubicBezTo>
                  <a:pt x="1176" y="512"/>
                  <a:pt x="1177" y="510"/>
                  <a:pt x="1178" y="509"/>
                </a:cubicBezTo>
                <a:cubicBezTo>
                  <a:pt x="1180" y="509"/>
                  <a:pt x="1180" y="511"/>
                  <a:pt x="1182" y="510"/>
                </a:cubicBezTo>
                <a:cubicBezTo>
                  <a:pt x="1182" y="513"/>
                  <a:pt x="1180" y="514"/>
                  <a:pt x="1177" y="514"/>
                </a:cubicBezTo>
                <a:close/>
                <a:moveTo>
                  <a:pt x="1112" y="747"/>
                </a:moveTo>
                <a:cubicBezTo>
                  <a:pt x="1108" y="748"/>
                  <a:pt x="1111" y="752"/>
                  <a:pt x="1113" y="754"/>
                </a:cubicBezTo>
                <a:cubicBezTo>
                  <a:pt x="1113" y="752"/>
                  <a:pt x="1114" y="752"/>
                  <a:pt x="1114" y="750"/>
                </a:cubicBezTo>
                <a:cubicBezTo>
                  <a:pt x="1113" y="749"/>
                  <a:pt x="1112" y="749"/>
                  <a:pt x="1112" y="747"/>
                </a:cubicBezTo>
                <a:close/>
                <a:moveTo>
                  <a:pt x="700" y="1082"/>
                </a:moveTo>
                <a:cubicBezTo>
                  <a:pt x="699" y="1085"/>
                  <a:pt x="702" y="1084"/>
                  <a:pt x="702" y="1085"/>
                </a:cubicBezTo>
                <a:cubicBezTo>
                  <a:pt x="704" y="1082"/>
                  <a:pt x="712" y="1083"/>
                  <a:pt x="715" y="1081"/>
                </a:cubicBezTo>
                <a:cubicBezTo>
                  <a:pt x="710" y="1075"/>
                  <a:pt x="707" y="1081"/>
                  <a:pt x="700" y="1082"/>
                </a:cubicBezTo>
                <a:close/>
                <a:moveTo>
                  <a:pt x="927" y="95"/>
                </a:moveTo>
                <a:cubicBezTo>
                  <a:pt x="937" y="94"/>
                  <a:pt x="932" y="90"/>
                  <a:pt x="927" y="95"/>
                </a:cubicBezTo>
                <a:close/>
                <a:moveTo>
                  <a:pt x="1147" y="166"/>
                </a:moveTo>
                <a:cubicBezTo>
                  <a:pt x="1143" y="165"/>
                  <a:pt x="1136" y="171"/>
                  <a:pt x="1141" y="174"/>
                </a:cubicBezTo>
                <a:cubicBezTo>
                  <a:pt x="1143" y="172"/>
                  <a:pt x="1142" y="167"/>
                  <a:pt x="1147" y="167"/>
                </a:cubicBezTo>
                <a:cubicBezTo>
                  <a:pt x="1147" y="167"/>
                  <a:pt x="1148" y="166"/>
                  <a:pt x="1147" y="166"/>
                </a:cubicBezTo>
                <a:close/>
                <a:moveTo>
                  <a:pt x="959" y="188"/>
                </a:moveTo>
                <a:cubicBezTo>
                  <a:pt x="961" y="182"/>
                  <a:pt x="971" y="177"/>
                  <a:pt x="976" y="181"/>
                </a:cubicBezTo>
                <a:cubicBezTo>
                  <a:pt x="981" y="176"/>
                  <a:pt x="993" y="173"/>
                  <a:pt x="994" y="167"/>
                </a:cubicBezTo>
                <a:cubicBezTo>
                  <a:pt x="979" y="168"/>
                  <a:pt x="971" y="179"/>
                  <a:pt x="957" y="183"/>
                </a:cubicBezTo>
                <a:cubicBezTo>
                  <a:pt x="957" y="185"/>
                  <a:pt x="957" y="187"/>
                  <a:pt x="959" y="188"/>
                </a:cubicBezTo>
                <a:close/>
                <a:moveTo>
                  <a:pt x="1152" y="259"/>
                </a:moveTo>
                <a:cubicBezTo>
                  <a:pt x="1152" y="256"/>
                  <a:pt x="1155" y="255"/>
                  <a:pt x="1157" y="253"/>
                </a:cubicBezTo>
                <a:cubicBezTo>
                  <a:pt x="1154" y="251"/>
                  <a:pt x="1151" y="249"/>
                  <a:pt x="1147" y="249"/>
                </a:cubicBezTo>
                <a:cubicBezTo>
                  <a:pt x="1148" y="254"/>
                  <a:pt x="1151" y="256"/>
                  <a:pt x="1153" y="255"/>
                </a:cubicBezTo>
                <a:cubicBezTo>
                  <a:pt x="1152" y="257"/>
                  <a:pt x="1148" y="258"/>
                  <a:pt x="1152" y="259"/>
                </a:cubicBezTo>
                <a:close/>
                <a:moveTo>
                  <a:pt x="1192" y="338"/>
                </a:moveTo>
                <a:cubicBezTo>
                  <a:pt x="1197" y="336"/>
                  <a:pt x="1200" y="334"/>
                  <a:pt x="1203" y="331"/>
                </a:cubicBezTo>
                <a:cubicBezTo>
                  <a:pt x="1200" y="333"/>
                  <a:pt x="1191" y="334"/>
                  <a:pt x="1192" y="338"/>
                </a:cubicBezTo>
                <a:close/>
                <a:moveTo>
                  <a:pt x="1219" y="382"/>
                </a:moveTo>
                <a:cubicBezTo>
                  <a:pt x="1223" y="382"/>
                  <a:pt x="1228" y="384"/>
                  <a:pt x="1231" y="378"/>
                </a:cubicBezTo>
                <a:cubicBezTo>
                  <a:pt x="1228" y="377"/>
                  <a:pt x="1226" y="381"/>
                  <a:pt x="1225" y="378"/>
                </a:cubicBezTo>
                <a:cubicBezTo>
                  <a:pt x="1228" y="377"/>
                  <a:pt x="1230" y="375"/>
                  <a:pt x="1232" y="374"/>
                </a:cubicBezTo>
                <a:cubicBezTo>
                  <a:pt x="1229" y="375"/>
                  <a:pt x="1226" y="375"/>
                  <a:pt x="1223" y="373"/>
                </a:cubicBezTo>
                <a:cubicBezTo>
                  <a:pt x="1223" y="377"/>
                  <a:pt x="1219" y="378"/>
                  <a:pt x="1219" y="382"/>
                </a:cubicBezTo>
                <a:close/>
                <a:moveTo>
                  <a:pt x="1162" y="385"/>
                </a:moveTo>
                <a:cubicBezTo>
                  <a:pt x="1170" y="385"/>
                  <a:pt x="1172" y="376"/>
                  <a:pt x="1179" y="378"/>
                </a:cubicBezTo>
                <a:cubicBezTo>
                  <a:pt x="1175" y="373"/>
                  <a:pt x="1166" y="382"/>
                  <a:pt x="1162" y="385"/>
                </a:cubicBezTo>
                <a:close/>
                <a:moveTo>
                  <a:pt x="1215" y="381"/>
                </a:moveTo>
                <a:cubicBezTo>
                  <a:pt x="1213" y="381"/>
                  <a:pt x="1202" y="379"/>
                  <a:pt x="1201" y="387"/>
                </a:cubicBezTo>
                <a:cubicBezTo>
                  <a:pt x="1204" y="387"/>
                  <a:pt x="1207" y="387"/>
                  <a:pt x="1208" y="390"/>
                </a:cubicBezTo>
                <a:cubicBezTo>
                  <a:pt x="1204" y="391"/>
                  <a:pt x="1203" y="394"/>
                  <a:pt x="1199" y="394"/>
                </a:cubicBezTo>
                <a:cubicBezTo>
                  <a:pt x="1201" y="396"/>
                  <a:pt x="1205" y="392"/>
                  <a:pt x="1208" y="390"/>
                </a:cubicBezTo>
                <a:cubicBezTo>
                  <a:pt x="1211" y="390"/>
                  <a:pt x="1213" y="390"/>
                  <a:pt x="1213" y="388"/>
                </a:cubicBezTo>
                <a:cubicBezTo>
                  <a:pt x="1212" y="387"/>
                  <a:pt x="1209" y="389"/>
                  <a:pt x="1209" y="387"/>
                </a:cubicBezTo>
                <a:cubicBezTo>
                  <a:pt x="1209" y="383"/>
                  <a:pt x="1214" y="384"/>
                  <a:pt x="1215" y="381"/>
                </a:cubicBezTo>
                <a:close/>
                <a:moveTo>
                  <a:pt x="1267" y="409"/>
                </a:moveTo>
                <a:cubicBezTo>
                  <a:pt x="1269" y="403"/>
                  <a:pt x="1274" y="398"/>
                  <a:pt x="1282" y="398"/>
                </a:cubicBezTo>
                <a:cubicBezTo>
                  <a:pt x="1285" y="394"/>
                  <a:pt x="1291" y="392"/>
                  <a:pt x="1287" y="393"/>
                </a:cubicBezTo>
                <a:cubicBezTo>
                  <a:pt x="1282" y="394"/>
                  <a:pt x="1262" y="406"/>
                  <a:pt x="1255" y="404"/>
                </a:cubicBezTo>
                <a:cubicBezTo>
                  <a:pt x="1255" y="405"/>
                  <a:pt x="1258" y="405"/>
                  <a:pt x="1257" y="407"/>
                </a:cubicBezTo>
                <a:cubicBezTo>
                  <a:pt x="1253" y="407"/>
                  <a:pt x="1253" y="410"/>
                  <a:pt x="1251" y="412"/>
                </a:cubicBezTo>
                <a:cubicBezTo>
                  <a:pt x="1256" y="414"/>
                  <a:pt x="1259" y="407"/>
                  <a:pt x="1267" y="409"/>
                </a:cubicBezTo>
                <a:close/>
                <a:moveTo>
                  <a:pt x="1230" y="407"/>
                </a:moveTo>
                <a:cubicBezTo>
                  <a:pt x="1229" y="408"/>
                  <a:pt x="1226" y="408"/>
                  <a:pt x="1226" y="406"/>
                </a:cubicBezTo>
                <a:cubicBezTo>
                  <a:pt x="1226" y="404"/>
                  <a:pt x="1230" y="405"/>
                  <a:pt x="1230" y="403"/>
                </a:cubicBezTo>
                <a:cubicBezTo>
                  <a:pt x="1229" y="403"/>
                  <a:pt x="1229" y="401"/>
                  <a:pt x="1229" y="400"/>
                </a:cubicBezTo>
                <a:cubicBezTo>
                  <a:pt x="1226" y="401"/>
                  <a:pt x="1224" y="401"/>
                  <a:pt x="1223" y="399"/>
                </a:cubicBezTo>
                <a:cubicBezTo>
                  <a:pt x="1220" y="402"/>
                  <a:pt x="1210" y="404"/>
                  <a:pt x="1218" y="404"/>
                </a:cubicBezTo>
                <a:cubicBezTo>
                  <a:pt x="1216" y="405"/>
                  <a:pt x="1214" y="405"/>
                  <a:pt x="1214" y="408"/>
                </a:cubicBezTo>
                <a:cubicBezTo>
                  <a:pt x="1216" y="408"/>
                  <a:pt x="1217" y="407"/>
                  <a:pt x="1217" y="408"/>
                </a:cubicBezTo>
                <a:cubicBezTo>
                  <a:pt x="1217" y="411"/>
                  <a:pt x="1214" y="412"/>
                  <a:pt x="1214" y="415"/>
                </a:cubicBezTo>
                <a:cubicBezTo>
                  <a:pt x="1219" y="416"/>
                  <a:pt x="1229" y="415"/>
                  <a:pt x="1230" y="407"/>
                </a:cubicBezTo>
                <a:close/>
                <a:moveTo>
                  <a:pt x="1230" y="406"/>
                </a:moveTo>
                <a:cubicBezTo>
                  <a:pt x="1230" y="406"/>
                  <a:pt x="1230" y="407"/>
                  <a:pt x="1230" y="407"/>
                </a:cubicBezTo>
                <a:cubicBezTo>
                  <a:pt x="1230" y="407"/>
                  <a:pt x="1230" y="406"/>
                  <a:pt x="1230" y="406"/>
                </a:cubicBezTo>
                <a:close/>
                <a:moveTo>
                  <a:pt x="1245" y="418"/>
                </a:moveTo>
                <a:cubicBezTo>
                  <a:pt x="1244" y="416"/>
                  <a:pt x="1245" y="414"/>
                  <a:pt x="1246" y="414"/>
                </a:cubicBezTo>
                <a:cubicBezTo>
                  <a:pt x="1249" y="415"/>
                  <a:pt x="1250" y="410"/>
                  <a:pt x="1248" y="413"/>
                </a:cubicBezTo>
                <a:cubicBezTo>
                  <a:pt x="1243" y="414"/>
                  <a:pt x="1239" y="417"/>
                  <a:pt x="1234" y="419"/>
                </a:cubicBezTo>
                <a:cubicBezTo>
                  <a:pt x="1238" y="422"/>
                  <a:pt x="1241" y="415"/>
                  <a:pt x="1245" y="418"/>
                </a:cubicBezTo>
                <a:close/>
                <a:moveTo>
                  <a:pt x="1167" y="425"/>
                </a:moveTo>
                <a:cubicBezTo>
                  <a:pt x="1171" y="423"/>
                  <a:pt x="1175" y="421"/>
                  <a:pt x="1178" y="418"/>
                </a:cubicBezTo>
                <a:cubicBezTo>
                  <a:pt x="1174" y="420"/>
                  <a:pt x="1169" y="421"/>
                  <a:pt x="1167" y="425"/>
                </a:cubicBezTo>
                <a:close/>
                <a:moveTo>
                  <a:pt x="1136" y="429"/>
                </a:moveTo>
                <a:cubicBezTo>
                  <a:pt x="1130" y="428"/>
                  <a:pt x="1127" y="435"/>
                  <a:pt x="1123" y="432"/>
                </a:cubicBezTo>
                <a:cubicBezTo>
                  <a:pt x="1123" y="429"/>
                  <a:pt x="1128" y="430"/>
                  <a:pt x="1128" y="427"/>
                </a:cubicBezTo>
                <a:cubicBezTo>
                  <a:pt x="1123" y="425"/>
                  <a:pt x="1110" y="427"/>
                  <a:pt x="1108" y="434"/>
                </a:cubicBezTo>
                <a:cubicBezTo>
                  <a:pt x="1111" y="435"/>
                  <a:pt x="1116" y="438"/>
                  <a:pt x="1114" y="441"/>
                </a:cubicBezTo>
                <a:cubicBezTo>
                  <a:pt x="1117" y="442"/>
                  <a:pt x="1120" y="438"/>
                  <a:pt x="1121" y="440"/>
                </a:cubicBezTo>
                <a:cubicBezTo>
                  <a:pt x="1120" y="441"/>
                  <a:pt x="1119" y="442"/>
                  <a:pt x="1118" y="443"/>
                </a:cubicBezTo>
                <a:cubicBezTo>
                  <a:pt x="1114" y="440"/>
                  <a:pt x="1108" y="449"/>
                  <a:pt x="1104" y="452"/>
                </a:cubicBezTo>
                <a:cubicBezTo>
                  <a:pt x="1107" y="452"/>
                  <a:pt x="1110" y="451"/>
                  <a:pt x="1109" y="455"/>
                </a:cubicBezTo>
                <a:cubicBezTo>
                  <a:pt x="1106" y="455"/>
                  <a:pt x="1105" y="452"/>
                  <a:pt x="1103" y="455"/>
                </a:cubicBezTo>
                <a:cubicBezTo>
                  <a:pt x="1103" y="458"/>
                  <a:pt x="1103" y="460"/>
                  <a:pt x="1105" y="462"/>
                </a:cubicBezTo>
                <a:cubicBezTo>
                  <a:pt x="1110" y="457"/>
                  <a:pt x="1118" y="457"/>
                  <a:pt x="1120" y="450"/>
                </a:cubicBezTo>
                <a:cubicBezTo>
                  <a:pt x="1123" y="450"/>
                  <a:pt x="1127" y="446"/>
                  <a:pt x="1124" y="445"/>
                </a:cubicBezTo>
                <a:cubicBezTo>
                  <a:pt x="1122" y="447"/>
                  <a:pt x="1120" y="449"/>
                  <a:pt x="1117" y="450"/>
                </a:cubicBezTo>
                <a:cubicBezTo>
                  <a:pt x="1117" y="449"/>
                  <a:pt x="1116" y="449"/>
                  <a:pt x="1116" y="448"/>
                </a:cubicBezTo>
                <a:cubicBezTo>
                  <a:pt x="1117" y="447"/>
                  <a:pt x="1117" y="446"/>
                  <a:pt x="1118" y="445"/>
                </a:cubicBezTo>
                <a:cubicBezTo>
                  <a:pt x="1119" y="448"/>
                  <a:pt x="1121" y="444"/>
                  <a:pt x="1124" y="445"/>
                </a:cubicBezTo>
                <a:cubicBezTo>
                  <a:pt x="1124" y="442"/>
                  <a:pt x="1124" y="442"/>
                  <a:pt x="1126" y="439"/>
                </a:cubicBezTo>
                <a:cubicBezTo>
                  <a:pt x="1124" y="437"/>
                  <a:pt x="1122" y="439"/>
                  <a:pt x="1122" y="438"/>
                </a:cubicBezTo>
                <a:cubicBezTo>
                  <a:pt x="1125" y="433"/>
                  <a:pt x="1132" y="433"/>
                  <a:pt x="1136" y="429"/>
                </a:cubicBezTo>
                <a:close/>
                <a:moveTo>
                  <a:pt x="1094" y="442"/>
                </a:moveTo>
                <a:cubicBezTo>
                  <a:pt x="1090" y="444"/>
                  <a:pt x="1079" y="444"/>
                  <a:pt x="1080" y="448"/>
                </a:cubicBezTo>
                <a:cubicBezTo>
                  <a:pt x="1085" y="447"/>
                  <a:pt x="1095" y="442"/>
                  <a:pt x="1094" y="442"/>
                </a:cubicBezTo>
                <a:close/>
                <a:moveTo>
                  <a:pt x="1002" y="455"/>
                </a:moveTo>
                <a:cubicBezTo>
                  <a:pt x="999" y="456"/>
                  <a:pt x="995" y="456"/>
                  <a:pt x="995" y="460"/>
                </a:cubicBezTo>
                <a:cubicBezTo>
                  <a:pt x="999" y="460"/>
                  <a:pt x="999" y="456"/>
                  <a:pt x="1002" y="455"/>
                </a:cubicBezTo>
                <a:close/>
                <a:moveTo>
                  <a:pt x="1126" y="464"/>
                </a:moveTo>
                <a:cubicBezTo>
                  <a:pt x="1127" y="462"/>
                  <a:pt x="1129" y="462"/>
                  <a:pt x="1131" y="462"/>
                </a:cubicBezTo>
                <a:cubicBezTo>
                  <a:pt x="1131" y="457"/>
                  <a:pt x="1126" y="460"/>
                  <a:pt x="1125" y="462"/>
                </a:cubicBezTo>
                <a:cubicBezTo>
                  <a:pt x="1127" y="462"/>
                  <a:pt x="1125" y="464"/>
                  <a:pt x="1126" y="464"/>
                </a:cubicBezTo>
                <a:close/>
                <a:moveTo>
                  <a:pt x="1234" y="521"/>
                </a:moveTo>
                <a:cubicBezTo>
                  <a:pt x="1230" y="525"/>
                  <a:pt x="1219" y="527"/>
                  <a:pt x="1218" y="531"/>
                </a:cubicBezTo>
                <a:cubicBezTo>
                  <a:pt x="1216" y="534"/>
                  <a:pt x="1197" y="535"/>
                  <a:pt x="1192" y="546"/>
                </a:cubicBezTo>
                <a:cubicBezTo>
                  <a:pt x="1199" y="545"/>
                  <a:pt x="1205" y="540"/>
                  <a:pt x="1212" y="536"/>
                </a:cubicBezTo>
                <a:cubicBezTo>
                  <a:pt x="1220" y="532"/>
                  <a:pt x="1232" y="529"/>
                  <a:pt x="1234" y="521"/>
                </a:cubicBezTo>
                <a:close/>
                <a:moveTo>
                  <a:pt x="162" y="592"/>
                </a:moveTo>
                <a:cubicBezTo>
                  <a:pt x="153" y="594"/>
                  <a:pt x="146" y="599"/>
                  <a:pt x="141" y="605"/>
                </a:cubicBezTo>
                <a:cubicBezTo>
                  <a:pt x="144" y="605"/>
                  <a:pt x="145" y="604"/>
                  <a:pt x="147" y="607"/>
                </a:cubicBezTo>
                <a:cubicBezTo>
                  <a:pt x="147" y="609"/>
                  <a:pt x="143" y="611"/>
                  <a:pt x="145" y="612"/>
                </a:cubicBezTo>
                <a:cubicBezTo>
                  <a:pt x="146" y="609"/>
                  <a:pt x="150" y="609"/>
                  <a:pt x="152" y="608"/>
                </a:cubicBezTo>
                <a:cubicBezTo>
                  <a:pt x="152" y="605"/>
                  <a:pt x="150" y="603"/>
                  <a:pt x="151" y="599"/>
                </a:cubicBezTo>
                <a:cubicBezTo>
                  <a:pt x="152" y="599"/>
                  <a:pt x="152" y="598"/>
                  <a:pt x="153" y="598"/>
                </a:cubicBezTo>
                <a:cubicBezTo>
                  <a:pt x="157" y="600"/>
                  <a:pt x="162" y="596"/>
                  <a:pt x="162" y="592"/>
                </a:cubicBezTo>
                <a:close/>
                <a:moveTo>
                  <a:pt x="202" y="660"/>
                </a:moveTo>
                <a:cubicBezTo>
                  <a:pt x="200" y="659"/>
                  <a:pt x="200" y="657"/>
                  <a:pt x="197" y="658"/>
                </a:cubicBezTo>
                <a:cubicBezTo>
                  <a:pt x="197" y="659"/>
                  <a:pt x="195" y="663"/>
                  <a:pt x="196" y="663"/>
                </a:cubicBezTo>
                <a:cubicBezTo>
                  <a:pt x="196" y="659"/>
                  <a:pt x="201" y="662"/>
                  <a:pt x="202" y="660"/>
                </a:cubicBezTo>
                <a:close/>
                <a:moveTo>
                  <a:pt x="1186" y="672"/>
                </a:moveTo>
                <a:cubicBezTo>
                  <a:pt x="1184" y="675"/>
                  <a:pt x="1182" y="676"/>
                  <a:pt x="1178" y="677"/>
                </a:cubicBezTo>
                <a:cubicBezTo>
                  <a:pt x="1178" y="676"/>
                  <a:pt x="1177" y="675"/>
                  <a:pt x="1177" y="675"/>
                </a:cubicBezTo>
                <a:cubicBezTo>
                  <a:pt x="1178" y="672"/>
                  <a:pt x="1178" y="670"/>
                  <a:pt x="1178" y="666"/>
                </a:cubicBezTo>
                <a:cubicBezTo>
                  <a:pt x="1172" y="668"/>
                  <a:pt x="1168" y="672"/>
                  <a:pt x="1164" y="676"/>
                </a:cubicBezTo>
                <a:cubicBezTo>
                  <a:pt x="1165" y="679"/>
                  <a:pt x="1171" y="677"/>
                  <a:pt x="1173" y="678"/>
                </a:cubicBezTo>
                <a:cubicBezTo>
                  <a:pt x="1173" y="683"/>
                  <a:pt x="1173" y="683"/>
                  <a:pt x="1173" y="683"/>
                </a:cubicBezTo>
                <a:cubicBezTo>
                  <a:pt x="1179" y="681"/>
                  <a:pt x="1186" y="676"/>
                  <a:pt x="1186" y="672"/>
                </a:cubicBezTo>
                <a:close/>
                <a:moveTo>
                  <a:pt x="1169" y="675"/>
                </a:moveTo>
                <a:cubicBezTo>
                  <a:pt x="1169" y="671"/>
                  <a:pt x="1173" y="671"/>
                  <a:pt x="1176" y="670"/>
                </a:cubicBezTo>
                <a:cubicBezTo>
                  <a:pt x="1176" y="673"/>
                  <a:pt x="1175" y="673"/>
                  <a:pt x="1175" y="676"/>
                </a:cubicBezTo>
                <a:cubicBezTo>
                  <a:pt x="1173" y="676"/>
                  <a:pt x="1171" y="676"/>
                  <a:pt x="1169" y="675"/>
                </a:cubicBezTo>
                <a:close/>
                <a:moveTo>
                  <a:pt x="1045" y="783"/>
                </a:moveTo>
                <a:cubicBezTo>
                  <a:pt x="1045" y="786"/>
                  <a:pt x="1040" y="792"/>
                  <a:pt x="1038" y="787"/>
                </a:cubicBezTo>
                <a:cubicBezTo>
                  <a:pt x="1035" y="787"/>
                  <a:pt x="1035" y="790"/>
                  <a:pt x="1034" y="792"/>
                </a:cubicBezTo>
                <a:cubicBezTo>
                  <a:pt x="1037" y="790"/>
                  <a:pt x="1034" y="795"/>
                  <a:pt x="1037" y="795"/>
                </a:cubicBezTo>
                <a:cubicBezTo>
                  <a:pt x="1037" y="792"/>
                  <a:pt x="1040" y="793"/>
                  <a:pt x="1042" y="793"/>
                </a:cubicBezTo>
                <a:cubicBezTo>
                  <a:pt x="1040" y="788"/>
                  <a:pt x="1043" y="786"/>
                  <a:pt x="1048" y="786"/>
                </a:cubicBezTo>
                <a:cubicBezTo>
                  <a:pt x="1048" y="785"/>
                  <a:pt x="1049" y="784"/>
                  <a:pt x="1049" y="783"/>
                </a:cubicBezTo>
                <a:cubicBezTo>
                  <a:pt x="1047" y="784"/>
                  <a:pt x="1048" y="784"/>
                  <a:pt x="1045" y="783"/>
                </a:cubicBezTo>
                <a:close/>
                <a:moveTo>
                  <a:pt x="1192" y="801"/>
                </a:moveTo>
                <a:cubicBezTo>
                  <a:pt x="1193" y="799"/>
                  <a:pt x="1191" y="795"/>
                  <a:pt x="1196" y="794"/>
                </a:cubicBezTo>
                <a:cubicBezTo>
                  <a:pt x="1194" y="792"/>
                  <a:pt x="1191" y="795"/>
                  <a:pt x="1190" y="796"/>
                </a:cubicBezTo>
                <a:cubicBezTo>
                  <a:pt x="1191" y="797"/>
                  <a:pt x="1189" y="798"/>
                  <a:pt x="1190" y="799"/>
                </a:cubicBezTo>
                <a:cubicBezTo>
                  <a:pt x="1191" y="800"/>
                  <a:pt x="1192" y="800"/>
                  <a:pt x="1192" y="801"/>
                </a:cubicBezTo>
                <a:close/>
                <a:moveTo>
                  <a:pt x="1191" y="802"/>
                </a:moveTo>
                <a:cubicBezTo>
                  <a:pt x="1192" y="802"/>
                  <a:pt x="1192" y="801"/>
                  <a:pt x="1192" y="801"/>
                </a:cubicBezTo>
                <a:cubicBezTo>
                  <a:pt x="1192" y="801"/>
                  <a:pt x="1191" y="801"/>
                  <a:pt x="1191" y="802"/>
                </a:cubicBezTo>
                <a:close/>
                <a:moveTo>
                  <a:pt x="1192" y="801"/>
                </a:moveTo>
                <a:cubicBezTo>
                  <a:pt x="1192" y="801"/>
                  <a:pt x="1192" y="801"/>
                  <a:pt x="1192" y="801"/>
                </a:cubicBezTo>
                <a:cubicBezTo>
                  <a:pt x="1192" y="801"/>
                  <a:pt x="1192" y="801"/>
                  <a:pt x="1192" y="801"/>
                </a:cubicBezTo>
                <a:cubicBezTo>
                  <a:pt x="1192" y="801"/>
                  <a:pt x="1192" y="801"/>
                  <a:pt x="1192" y="801"/>
                </a:cubicBezTo>
                <a:close/>
                <a:moveTo>
                  <a:pt x="1117" y="848"/>
                </a:moveTo>
                <a:cubicBezTo>
                  <a:pt x="1117" y="847"/>
                  <a:pt x="1117" y="846"/>
                  <a:pt x="1118" y="846"/>
                </a:cubicBezTo>
                <a:cubicBezTo>
                  <a:pt x="1117" y="846"/>
                  <a:pt x="1117" y="846"/>
                  <a:pt x="1117" y="846"/>
                </a:cubicBezTo>
                <a:lnTo>
                  <a:pt x="1117" y="848"/>
                </a:lnTo>
                <a:close/>
                <a:moveTo>
                  <a:pt x="1138" y="833"/>
                </a:moveTo>
                <a:cubicBezTo>
                  <a:pt x="1136" y="833"/>
                  <a:pt x="1136" y="831"/>
                  <a:pt x="1136" y="831"/>
                </a:cubicBezTo>
                <a:cubicBezTo>
                  <a:pt x="1133" y="838"/>
                  <a:pt x="1121" y="840"/>
                  <a:pt x="1118" y="846"/>
                </a:cubicBezTo>
                <a:cubicBezTo>
                  <a:pt x="1124" y="846"/>
                  <a:pt x="1124" y="846"/>
                  <a:pt x="1124" y="846"/>
                </a:cubicBezTo>
                <a:cubicBezTo>
                  <a:pt x="1127" y="843"/>
                  <a:pt x="1131" y="834"/>
                  <a:pt x="1136" y="838"/>
                </a:cubicBezTo>
                <a:cubicBezTo>
                  <a:pt x="1135" y="835"/>
                  <a:pt x="1139" y="836"/>
                  <a:pt x="1138" y="833"/>
                </a:cubicBezTo>
                <a:close/>
                <a:moveTo>
                  <a:pt x="117" y="847"/>
                </a:moveTo>
                <a:cubicBezTo>
                  <a:pt x="113" y="845"/>
                  <a:pt x="109" y="848"/>
                  <a:pt x="108" y="851"/>
                </a:cubicBezTo>
                <a:cubicBezTo>
                  <a:pt x="113" y="849"/>
                  <a:pt x="117" y="847"/>
                  <a:pt x="121" y="846"/>
                </a:cubicBezTo>
                <a:cubicBezTo>
                  <a:pt x="130" y="844"/>
                  <a:pt x="129" y="845"/>
                  <a:pt x="134" y="836"/>
                </a:cubicBezTo>
                <a:cubicBezTo>
                  <a:pt x="134" y="836"/>
                  <a:pt x="136" y="837"/>
                  <a:pt x="136" y="835"/>
                </a:cubicBezTo>
                <a:cubicBezTo>
                  <a:pt x="133" y="837"/>
                  <a:pt x="134" y="833"/>
                  <a:pt x="131" y="834"/>
                </a:cubicBezTo>
                <a:cubicBezTo>
                  <a:pt x="126" y="837"/>
                  <a:pt x="121" y="841"/>
                  <a:pt x="117" y="847"/>
                </a:cubicBezTo>
                <a:close/>
                <a:moveTo>
                  <a:pt x="167" y="840"/>
                </a:moveTo>
                <a:cubicBezTo>
                  <a:pt x="167" y="844"/>
                  <a:pt x="160" y="841"/>
                  <a:pt x="160" y="845"/>
                </a:cubicBezTo>
                <a:cubicBezTo>
                  <a:pt x="163" y="845"/>
                  <a:pt x="163" y="843"/>
                  <a:pt x="165" y="845"/>
                </a:cubicBezTo>
                <a:cubicBezTo>
                  <a:pt x="164" y="842"/>
                  <a:pt x="170" y="842"/>
                  <a:pt x="167" y="840"/>
                </a:cubicBezTo>
                <a:close/>
                <a:moveTo>
                  <a:pt x="149" y="845"/>
                </a:moveTo>
                <a:cubicBezTo>
                  <a:pt x="142" y="845"/>
                  <a:pt x="132" y="851"/>
                  <a:pt x="129" y="858"/>
                </a:cubicBezTo>
                <a:cubicBezTo>
                  <a:pt x="126" y="858"/>
                  <a:pt x="125" y="857"/>
                  <a:pt x="123" y="857"/>
                </a:cubicBezTo>
                <a:cubicBezTo>
                  <a:pt x="114" y="866"/>
                  <a:pt x="103" y="873"/>
                  <a:pt x="93" y="882"/>
                </a:cubicBezTo>
                <a:cubicBezTo>
                  <a:pt x="105" y="872"/>
                  <a:pt x="122" y="871"/>
                  <a:pt x="133" y="860"/>
                </a:cubicBezTo>
                <a:cubicBezTo>
                  <a:pt x="132" y="860"/>
                  <a:pt x="130" y="860"/>
                  <a:pt x="130" y="858"/>
                </a:cubicBezTo>
                <a:cubicBezTo>
                  <a:pt x="135" y="852"/>
                  <a:pt x="145" y="851"/>
                  <a:pt x="149" y="845"/>
                </a:cubicBezTo>
                <a:close/>
                <a:moveTo>
                  <a:pt x="1051" y="939"/>
                </a:moveTo>
                <a:cubicBezTo>
                  <a:pt x="1054" y="938"/>
                  <a:pt x="1056" y="936"/>
                  <a:pt x="1058" y="934"/>
                </a:cubicBezTo>
                <a:cubicBezTo>
                  <a:pt x="1062" y="934"/>
                  <a:pt x="1062" y="937"/>
                  <a:pt x="1062" y="939"/>
                </a:cubicBezTo>
                <a:cubicBezTo>
                  <a:pt x="1063" y="936"/>
                  <a:pt x="1066" y="938"/>
                  <a:pt x="1068" y="939"/>
                </a:cubicBezTo>
                <a:cubicBezTo>
                  <a:pt x="1068" y="936"/>
                  <a:pt x="1070" y="935"/>
                  <a:pt x="1070" y="932"/>
                </a:cubicBezTo>
                <a:cubicBezTo>
                  <a:pt x="1066" y="927"/>
                  <a:pt x="1075" y="910"/>
                  <a:pt x="1082" y="916"/>
                </a:cubicBezTo>
                <a:cubicBezTo>
                  <a:pt x="1082" y="922"/>
                  <a:pt x="1072" y="926"/>
                  <a:pt x="1076" y="930"/>
                </a:cubicBezTo>
                <a:cubicBezTo>
                  <a:pt x="1081" y="925"/>
                  <a:pt x="1097" y="922"/>
                  <a:pt x="1097" y="913"/>
                </a:cubicBezTo>
                <a:cubicBezTo>
                  <a:pt x="1095" y="914"/>
                  <a:pt x="1097" y="910"/>
                  <a:pt x="1094" y="910"/>
                </a:cubicBezTo>
                <a:cubicBezTo>
                  <a:pt x="1096" y="907"/>
                  <a:pt x="1093" y="906"/>
                  <a:pt x="1097" y="905"/>
                </a:cubicBezTo>
                <a:cubicBezTo>
                  <a:pt x="1097" y="903"/>
                  <a:pt x="1095" y="902"/>
                  <a:pt x="1096" y="900"/>
                </a:cubicBezTo>
                <a:cubicBezTo>
                  <a:pt x="1093" y="901"/>
                  <a:pt x="1094" y="897"/>
                  <a:pt x="1092" y="897"/>
                </a:cubicBezTo>
                <a:cubicBezTo>
                  <a:pt x="1091" y="902"/>
                  <a:pt x="1088" y="905"/>
                  <a:pt x="1084" y="910"/>
                </a:cubicBezTo>
                <a:cubicBezTo>
                  <a:pt x="1082" y="907"/>
                  <a:pt x="1081" y="912"/>
                  <a:pt x="1078" y="912"/>
                </a:cubicBezTo>
                <a:cubicBezTo>
                  <a:pt x="1078" y="909"/>
                  <a:pt x="1078" y="908"/>
                  <a:pt x="1077" y="907"/>
                </a:cubicBezTo>
                <a:cubicBezTo>
                  <a:pt x="1094" y="892"/>
                  <a:pt x="1113" y="879"/>
                  <a:pt x="1135" y="870"/>
                </a:cubicBezTo>
                <a:cubicBezTo>
                  <a:pt x="1133" y="867"/>
                  <a:pt x="1137" y="866"/>
                  <a:pt x="1135" y="865"/>
                </a:cubicBezTo>
                <a:cubicBezTo>
                  <a:pt x="1135" y="867"/>
                  <a:pt x="1130" y="867"/>
                  <a:pt x="1132" y="864"/>
                </a:cubicBezTo>
                <a:cubicBezTo>
                  <a:pt x="1129" y="865"/>
                  <a:pt x="1125" y="870"/>
                  <a:pt x="1121" y="867"/>
                </a:cubicBezTo>
                <a:cubicBezTo>
                  <a:pt x="1120" y="864"/>
                  <a:pt x="1122" y="865"/>
                  <a:pt x="1123" y="863"/>
                </a:cubicBezTo>
                <a:cubicBezTo>
                  <a:pt x="1119" y="863"/>
                  <a:pt x="1115" y="868"/>
                  <a:pt x="1114" y="861"/>
                </a:cubicBezTo>
                <a:cubicBezTo>
                  <a:pt x="1116" y="862"/>
                  <a:pt x="1115" y="864"/>
                  <a:pt x="1118" y="863"/>
                </a:cubicBezTo>
                <a:cubicBezTo>
                  <a:pt x="1118" y="862"/>
                  <a:pt x="1117" y="861"/>
                  <a:pt x="1117" y="860"/>
                </a:cubicBezTo>
                <a:cubicBezTo>
                  <a:pt x="1115" y="859"/>
                  <a:pt x="1113" y="859"/>
                  <a:pt x="1112" y="860"/>
                </a:cubicBezTo>
                <a:cubicBezTo>
                  <a:pt x="1111" y="858"/>
                  <a:pt x="1109" y="857"/>
                  <a:pt x="1109" y="855"/>
                </a:cubicBezTo>
                <a:cubicBezTo>
                  <a:pt x="1111" y="853"/>
                  <a:pt x="1111" y="849"/>
                  <a:pt x="1114" y="848"/>
                </a:cubicBezTo>
                <a:cubicBezTo>
                  <a:pt x="1107" y="845"/>
                  <a:pt x="1101" y="858"/>
                  <a:pt x="1096" y="851"/>
                </a:cubicBezTo>
                <a:cubicBezTo>
                  <a:pt x="1095" y="854"/>
                  <a:pt x="1098" y="854"/>
                  <a:pt x="1097" y="857"/>
                </a:cubicBezTo>
                <a:cubicBezTo>
                  <a:pt x="1093" y="860"/>
                  <a:pt x="1086" y="858"/>
                  <a:pt x="1084" y="866"/>
                </a:cubicBezTo>
                <a:cubicBezTo>
                  <a:pt x="1088" y="864"/>
                  <a:pt x="1087" y="868"/>
                  <a:pt x="1087" y="872"/>
                </a:cubicBezTo>
                <a:cubicBezTo>
                  <a:pt x="1092" y="870"/>
                  <a:pt x="1091" y="872"/>
                  <a:pt x="1092" y="874"/>
                </a:cubicBezTo>
                <a:cubicBezTo>
                  <a:pt x="1093" y="871"/>
                  <a:pt x="1095" y="874"/>
                  <a:pt x="1095" y="876"/>
                </a:cubicBezTo>
                <a:cubicBezTo>
                  <a:pt x="1092" y="880"/>
                  <a:pt x="1089" y="883"/>
                  <a:pt x="1084" y="883"/>
                </a:cubicBezTo>
                <a:cubicBezTo>
                  <a:pt x="1085" y="879"/>
                  <a:pt x="1084" y="876"/>
                  <a:pt x="1081" y="874"/>
                </a:cubicBezTo>
                <a:cubicBezTo>
                  <a:pt x="1081" y="876"/>
                  <a:pt x="1079" y="875"/>
                  <a:pt x="1079" y="876"/>
                </a:cubicBezTo>
                <a:cubicBezTo>
                  <a:pt x="1082" y="882"/>
                  <a:pt x="1075" y="894"/>
                  <a:pt x="1067" y="894"/>
                </a:cubicBezTo>
                <a:cubicBezTo>
                  <a:pt x="1067" y="891"/>
                  <a:pt x="1066" y="889"/>
                  <a:pt x="1065" y="887"/>
                </a:cubicBezTo>
                <a:cubicBezTo>
                  <a:pt x="1063" y="891"/>
                  <a:pt x="1067" y="891"/>
                  <a:pt x="1066" y="896"/>
                </a:cubicBezTo>
                <a:cubicBezTo>
                  <a:pt x="1063" y="898"/>
                  <a:pt x="1058" y="898"/>
                  <a:pt x="1058" y="902"/>
                </a:cubicBezTo>
                <a:cubicBezTo>
                  <a:pt x="1058" y="904"/>
                  <a:pt x="1061" y="902"/>
                  <a:pt x="1061" y="904"/>
                </a:cubicBezTo>
                <a:cubicBezTo>
                  <a:pt x="1058" y="906"/>
                  <a:pt x="1058" y="910"/>
                  <a:pt x="1056" y="913"/>
                </a:cubicBezTo>
                <a:cubicBezTo>
                  <a:pt x="1061" y="913"/>
                  <a:pt x="1063" y="917"/>
                  <a:pt x="1064" y="921"/>
                </a:cubicBezTo>
                <a:cubicBezTo>
                  <a:pt x="1059" y="928"/>
                  <a:pt x="1049" y="929"/>
                  <a:pt x="1051" y="939"/>
                </a:cubicBezTo>
                <a:close/>
                <a:moveTo>
                  <a:pt x="1103" y="880"/>
                </a:moveTo>
                <a:cubicBezTo>
                  <a:pt x="1103" y="876"/>
                  <a:pt x="1106" y="876"/>
                  <a:pt x="1108" y="874"/>
                </a:cubicBezTo>
                <a:cubicBezTo>
                  <a:pt x="1111" y="877"/>
                  <a:pt x="1106" y="880"/>
                  <a:pt x="1103" y="880"/>
                </a:cubicBezTo>
                <a:close/>
                <a:moveTo>
                  <a:pt x="1092" y="868"/>
                </a:moveTo>
                <a:cubicBezTo>
                  <a:pt x="1092" y="865"/>
                  <a:pt x="1090" y="866"/>
                  <a:pt x="1091" y="863"/>
                </a:cubicBezTo>
                <a:cubicBezTo>
                  <a:pt x="1093" y="866"/>
                  <a:pt x="1096" y="861"/>
                  <a:pt x="1096" y="865"/>
                </a:cubicBezTo>
                <a:cubicBezTo>
                  <a:pt x="1099" y="865"/>
                  <a:pt x="1100" y="863"/>
                  <a:pt x="1101" y="860"/>
                </a:cubicBezTo>
                <a:cubicBezTo>
                  <a:pt x="1100" y="861"/>
                  <a:pt x="1099" y="862"/>
                  <a:pt x="1098" y="863"/>
                </a:cubicBezTo>
                <a:cubicBezTo>
                  <a:pt x="1095" y="862"/>
                  <a:pt x="1102" y="856"/>
                  <a:pt x="1102" y="860"/>
                </a:cubicBezTo>
                <a:cubicBezTo>
                  <a:pt x="1104" y="858"/>
                  <a:pt x="1103" y="856"/>
                  <a:pt x="1107" y="854"/>
                </a:cubicBezTo>
                <a:cubicBezTo>
                  <a:pt x="1110" y="857"/>
                  <a:pt x="1105" y="858"/>
                  <a:pt x="1103" y="860"/>
                </a:cubicBezTo>
                <a:cubicBezTo>
                  <a:pt x="1104" y="863"/>
                  <a:pt x="1108" y="860"/>
                  <a:pt x="1111" y="860"/>
                </a:cubicBezTo>
                <a:cubicBezTo>
                  <a:pt x="1110" y="863"/>
                  <a:pt x="1112" y="864"/>
                  <a:pt x="1112" y="867"/>
                </a:cubicBezTo>
                <a:cubicBezTo>
                  <a:pt x="1105" y="872"/>
                  <a:pt x="1103" y="871"/>
                  <a:pt x="1098" y="874"/>
                </a:cubicBezTo>
                <a:cubicBezTo>
                  <a:pt x="1100" y="869"/>
                  <a:pt x="1096" y="869"/>
                  <a:pt x="1092" y="868"/>
                </a:cubicBezTo>
                <a:close/>
                <a:moveTo>
                  <a:pt x="1102" y="878"/>
                </a:moveTo>
                <a:cubicBezTo>
                  <a:pt x="1102" y="881"/>
                  <a:pt x="1100" y="882"/>
                  <a:pt x="1099" y="884"/>
                </a:cubicBezTo>
                <a:cubicBezTo>
                  <a:pt x="1095" y="883"/>
                  <a:pt x="1096" y="883"/>
                  <a:pt x="1092" y="884"/>
                </a:cubicBezTo>
                <a:cubicBezTo>
                  <a:pt x="1094" y="889"/>
                  <a:pt x="1088" y="892"/>
                  <a:pt x="1083" y="893"/>
                </a:cubicBezTo>
                <a:cubicBezTo>
                  <a:pt x="1084" y="883"/>
                  <a:pt x="1093" y="880"/>
                  <a:pt x="1102" y="878"/>
                </a:cubicBezTo>
                <a:close/>
                <a:moveTo>
                  <a:pt x="1070" y="897"/>
                </a:moveTo>
                <a:cubicBezTo>
                  <a:pt x="1070" y="900"/>
                  <a:pt x="1069" y="902"/>
                  <a:pt x="1066" y="902"/>
                </a:cubicBezTo>
                <a:cubicBezTo>
                  <a:pt x="1065" y="898"/>
                  <a:pt x="1068" y="897"/>
                  <a:pt x="1070" y="897"/>
                </a:cubicBezTo>
                <a:close/>
                <a:moveTo>
                  <a:pt x="178" y="865"/>
                </a:moveTo>
                <a:cubicBezTo>
                  <a:pt x="183" y="865"/>
                  <a:pt x="185" y="864"/>
                  <a:pt x="190" y="862"/>
                </a:cubicBezTo>
                <a:cubicBezTo>
                  <a:pt x="188" y="859"/>
                  <a:pt x="184" y="855"/>
                  <a:pt x="179" y="858"/>
                </a:cubicBezTo>
                <a:cubicBezTo>
                  <a:pt x="180" y="861"/>
                  <a:pt x="177" y="867"/>
                  <a:pt x="178" y="865"/>
                </a:cubicBezTo>
                <a:close/>
                <a:moveTo>
                  <a:pt x="1114" y="952"/>
                </a:moveTo>
                <a:cubicBezTo>
                  <a:pt x="1115" y="948"/>
                  <a:pt x="1119" y="947"/>
                  <a:pt x="1118" y="941"/>
                </a:cubicBezTo>
                <a:cubicBezTo>
                  <a:pt x="1121" y="942"/>
                  <a:pt x="1120" y="940"/>
                  <a:pt x="1122" y="939"/>
                </a:cubicBezTo>
                <a:cubicBezTo>
                  <a:pt x="1127" y="942"/>
                  <a:pt x="1129" y="936"/>
                  <a:pt x="1133" y="934"/>
                </a:cubicBezTo>
                <a:cubicBezTo>
                  <a:pt x="1130" y="928"/>
                  <a:pt x="1146" y="928"/>
                  <a:pt x="1142" y="921"/>
                </a:cubicBezTo>
                <a:cubicBezTo>
                  <a:pt x="1136" y="923"/>
                  <a:pt x="1134" y="928"/>
                  <a:pt x="1129" y="926"/>
                </a:cubicBezTo>
                <a:cubicBezTo>
                  <a:pt x="1127" y="933"/>
                  <a:pt x="1121" y="935"/>
                  <a:pt x="1115" y="938"/>
                </a:cubicBezTo>
                <a:cubicBezTo>
                  <a:pt x="1115" y="937"/>
                  <a:pt x="1115" y="937"/>
                  <a:pt x="1114" y="936"/>
                </a:cubicBezTo>
                <a:cubicBezTo>
                  <a:pt x="1117" y="933"/>
                  <a:pt x="1116" y="929"/>
                  <a:pt x="1115" y="925"/>
                </a:cubicBezTo>
                <a:cubicBezTo>
                  <a:pt x="1114" y="924"/>
                  <a:pt x="1111" y="926"/>
                  <a:pt x="1111" y="924"/>
                </a:cubicBezTo>
                <a:cubicBezTo>
                  <a:pt x="1114" y="919"/>
                  <a:pt x="1107" y="921"/>
                  <a:pt x="1108" y="916"/>
                </a:cubicBezTo>
                <a:cubicBezTo>
                  <a:pt x="1110" y="919"/>
                  <a:pt x="1113" y="916"/>
                  <a:pt x="1114" y="913"/>
                </a:cubicBezTo>
                <a:cubicBezTo>
                  <a:pt x="1109" y="914"/>
                  <a:pt x="1104" y="917"/>
                  <a:pt x="1104" y="922"/>
                </a:cubicBezTo>
                <a:cubicBezTo>
                  <a:pt x="1110" y="919"/>
                  <a:pt x="1106" y="927"/>
                  <a:pt x="1110" y="926"/>
                </a:cubicBezTo>
                <a:cubicBezTo>
                  <a:pt x="1107" y="930"/>
                  <a:pt x="1107" y="933"/>
                  <a:pt x="1105" y="939"/>
                </a:cubicBezTo>
                <a:cubicBezTo>
                  <a:pt x="1107" y="940"/>
                  <a:pt x="1108" y="938"/>
                  <a:pt x="1108" y="939"/>
                </a:cubicBezTo>
                <a:cubicBezTo>
                  <a:pt x="1105" y="942"/>
                  <a:pt x="1109" y="950"/>
                  <a:pt x="1111" y="950"/>
                </a:cubicBezTo>
                <a:cubicBezTo>
                  <a:pt x="1111" y="952"/>
                  <a:pt x="1111" y="952"/>
                  <a:pt x="1111" y="952"/>
                </a:cubicBezTo>
                <a:cubicBezTo>
                  <a:pt x="1105" y="949"/>
                  <a:pt x="1107" y="954"/>
                  <a:pt x="1103" y="955"/>
                </a:cubicBezTo>
                <a:cubicBezTo>
                  <a:pt x="1103" y="953"/>
                  <a:pt x="1104" y="950"/>
                  <a:pt x="1102" y="950"/>
                </a:cubicBezTo>
                <a:cubicBezTo>
                  <a:pt x="1100" y="952"/>
                  <a:pt x="1096" y="952"/>
                  <a:pt x="1095" y="956"/>
                </a:cubicBezTo>
                <a:cubicBezTo>
                  <a:pt x="1099" y="956"/>
                  <a:pt x="1099" y="953"/>
                  <a:pt x="1103" y="953"/>
                </a:cubicBezTo>
                <a:cubicBezTo>
                  <a:pt x="1103" y="956"/>
                  <a:pt x="1101" y="956"/>
                  <a:pt x="1102" y="958"/>
                </a:cubicBezTo>
                <a:cubicBezTo>
                  <a:pt x="1103" y="960"/>
                  <a:pt x="1103" y="958"/>
                  <a:pt x="1106" y="958"/>
                </a:cubicBezTo>
                <a:cubicBezTo>
                  <a:pt x="1106" y="953"/>
                  <a:pt x="1111" y="952"/>
                  <a:pt x="1114" y="952"/>
                </a:cubicBezTo>
                <a:close/>
                <a:moveTo>
                  <a:pt x="1019" y="927"/>
                </a:moveTo>
                <a:cubicBezTo>
                  <a:pt x="1022" y="924"/>
                  <a:pt x="1025" y="921"/>
                  <a:pt x="1031" y="921"/>
                </a:cubicBezTo>
                <a:cubicBezTo>
                  <a:pt x="1032" y="917"/>
                  <a:pt x="1029" y="919"/>
                  <a:pt x="1029" y="916"/>
                </a:cubicBezTo>
                <a:cubicBezTo>
                  <a:pt x="1025" y="918"/>
                  <a:pt x="1019" y="924"/>
                  <a:pt x="1019" y="927"/>
                </a:cubicBezTo>
                <a:close/>
                <a:moveTo>
                  <a:pt x="157" y="919"/>
                </a:moveTo>
                <a:cubicBezTo>
                  <a:pt x="149" y="918"/>
                  <a:pt x="147" y="925"/>
                  <a:pt x="143" y="928"/>
                </a:cubicBezTo>
                <a:cubicBezTo>
                  <a:pt x="149" y="926"/>
                  <a:pt x="154" y="924"/>
                  <a:pt x="157" y="919"/>
                </a:cubicBezTo>
                <a:close/>
                <a:moveTo>
                  <a:pt x="986" y="921"/>
                </a:moveTo>
                <a:cubicBezTo>
                  <a:pt x="985" y="923"/>
                  <a:pt x="982" y="919"/>
                  <a:pt x="982" y="923"/>
                </a:cubicBezTo>
                <a:cubicBezTo>
                  <a:pt x="984" y="922"/>
                  <a:pt x="984" y="924"/>
                  <a:pt x="986" y="924"/>
                </a:cubicBezTo>
                <a:cubicBezTo>
                  <a:pt x="986" y="922"/>
                  <a:pt x="988" y="921"/>
                  <a:pt x="986" y="921"/>
                </a:cubicBezTo>
                <a:close/>
                <a:moveTo>
                  <a:pt x="786" y="1120"/>
                </a:moveTo>
                <a:cubicBezTo>
                  <a:pt x="787" y="1118"/>
                  <a:pt x="785" y="1117"/>
                  <a:pt x="786" y="1117"/>
                </a:cubicBezTo>
                <a:cubicBezTo>
                  <a:pt x="796" y="1115"/>
                  <a:pt x="807" y="1109"/>
                  <a:pt x="817" y="1109"/>
                </a:cubicBezTo>
                <a:cubicBezTo>
                  <a:pt x="821" y="1103"/>
                  <a:pt x="831" y="1106"/>
                  <a:pt x="834" y="1098"/>
                </a:cubicBezTo>
                <a:cubicBezTo>
                  <a:pt x="835" y="1096"/>
                  <a:pt x="831" y="1094"/>
                  <a:pt x="833" y="1090"/>
                </a:cubicBezTo>
                <a:cubicBezTo>
                  <a:pt x="839" y="1086"/>
                  <a:pt x="848" y="1084"/>
                  <a:pt x="853" y="1083"/>
                </a:cubicBezTo>
                <a:cubicBezTo>
                  <a:pt x="852" y="1085"/>
                  <a:pt x="852" y="1087"/>
                  <a:pt x="852" y="1089"/>
                </a:cubicBezTo>
                <a:cubicBezTo>
                  <a:pt x="856" y="1089"/>
                  <a:pt x="858" y="1090"/>
                  <a:pt x="859" y="1092"/>
                </a:cubicBezTo>
                <a:cubicBezTo>
                  <a:pt x="854" y="1096"/>
                  <a:pt x="847" y="1099"/>
                  <a:pt x="842" y="1104"/>
                </a:cubicBezTo>
                <a:cubicBezTo>
                  <a:pt x="836" y="1100"/>
                  <a:pt x="826" y="1109"/>
                  <a:pt x="822" y="1114"/>
                </a:cubicBezTo>
                <a:cubicBezTo>
                  <a:pt x="835" y="1111"/>
                  <a:pt x="846" y="1106"/>
                  <a:pt x="858" y="1102"/>
                </a:cubicBezTo>
                <a:cubicBezTo>
                  <a:pt x="857" y="1094"/>
                  <a:pt x="862" y="1089"/>
                  <a:pt x="867" y="1084"/>
                </a:cubicBezTo>
                <a:cubicBezTo>
                  <a:pt x="865" y="1084"/>
                  <a:pt x="862" y="1087"/>
                  <a:pt x="861" y="1084"/>
                </a:cubicBezTo>
                <a:cubicBezTo>
                  <a:pt x="870" y="1074"/>
                  <a:pt x="889" y="1072"/>
                  <a:pt x="900" y="1063"/>
                </a:cubicBezTo>
                <a:cubicBezTo>
                  <a:pt x="898" y="1061"/>
                  <a:pt x="893" y="1064"/>
                  <a:pt x="891" y="1061"/>
                </a:cubicBezTo>
                <a:cubicBezTo>
                  <a:pt x="895" y="1052"/>
                  <a:pt x="908" y="1051"/>
                  <a:pt x="917" y="1046"/>
                </a:cubicBezTo>
                <a:cubicBezTo>
                  <a:pt x="915" y="1044"/>
                  <a:pt x="916" y="1042"/>
                  <a:pt x="917" y="1040"/>
                </a:cubicBezTo>
                <a:cubicBezTo>
                  <a:pt x="912" y="1041"/>
                  <a:pt x="908" y="1044"/>
                  <a:pt x="903" y="1045"/>
                </a:cubicBezTo>
                <a:cubicBezTo>
                  <a:pt x="906" y="1038"/>
                  <a:pt x="917" y="1038"/>
                  <a:pt x="922" y="1032"/>
                </a:cubicBezTo>
                <a:cubicBezTo>
                  <a:pt x="919" y="1032"/>
                  <a:pt x="923" y="1029"/>
                  <a:pt x="922" y="1028"/>
                </a:cubicBezTo>
                <a:cubicBezTo>
                  <a:pt x="916" y="1028"/>
                  <a:pt x="918" y="1036"/>
                  <a:pt x="911" y="1036"/>
                </a:cubicBezTo>
                <a:cubicBezTo>
                  <a:pt x="911" y="1032"/>
                  <a:pt x="911" y="1032"/>
                  <a:pt x="911" y="1032"/>
                </a:cubicBezTo>
                <a:cubicBezTo>
                  <a:pt x="904" y="1034"/>
                  <a:pt x="903" y="1042"/>
                  <a:pt x="895" y="1044"/>
                </a:cubicBezTo>
                <a:cubicBezTo>
                  <a:pt x="896" y="1041"/>
                  <a:pt x="897" y="1040"/>
                  <a:pt x="895" y="1038"/>
                </a:cubicBezTo>
                <a:cubicBezTo>
                  <a:pt x="891" y="1039"/>
                  <a:pt x="888" y="1042"/>
                  <a:pt x="885" y="1045"/>
                </a:cubicBezTo>
                <a:cubicBezTo>
                  <a:pt x="882" y="1041"/>
                  <a:pt x="878" y="1047"/>
                  <a:pt x="875" y="1044"/>
                </a:cubicBezTo>
                <a:cubicBezTo>
                  <a:pt x="888" y="1031"/>
                  <a:pt x="913" y="1030"/>
                  <a:pt x="924" y="1015"/>
                </a:cubicBezTo>
                <a:cubicBezTo>
                  <a:pt x="915" y="1018"/>
                  <a:pt x="909" y="1024"/>
                  <a:pt x="900" y="1028"/>
                </a:cubicBezTo>
                <a:cubicBezTo>
                  <a:pt x="900" y="1026"/>
                  <a:pt x="897" y="1027"/>
                  <a:pt x="897" y="1025"/>
                </a:cubicBezTo>
                <a:cubicBezTo>
                  <a:pt x="917" y="1012"/>
                  <a:pt x="940" y="1004"/>
                  <a:pt x="958" y="990"/>
                </a:cubicBezTo>
                <a:cubicBezTo>
                  <a:pt x="956" y="989"/>
                  <a:pt x="954" y="990"/>
                  <a:pt x="954" y="989"/>
                </a:cubicBezTo>
                <a:cubicBezTo>
                  <a:pt x="954" y="982"/>
                  <a:pt x="958" y="980"/>
                  <a:pt x="963" y="979"/>
                </a:cubicBezTo>
                <a:cubicBezTo>
                  <a:pt x="962" y="981"/>
                  <a:pt x="962" y="982"/>
                  <a:pt x="963" y="983"/>
                </a:cubicBezTo>
                <a:cubicBezTo>
                  <a:pt x="976" y="982"/>
                  <a:pt x="994" y="976"/>
                  <a:pt x="995" y="969"/>
                </a:cubicBezTo>
                <a:cubicBezTo>
                  <a:pt x="1005" y="970"/>
                  <a:pt x="1010" y="961"/>
                  <a:pt x="1017" y="960"/>
                </a:cubicBezTo>
                <a:cubicBezTo>
                  <a:pt x="1017" y="963"/>
                  <a:pt x="1019" y="963"/>
                  <a:pt x="1020" y="964"/>
                </a:cubicBezTo>
                <a:cubicBezTo>
                  <a:pt x="1021" y="963"/>
                  <a:pt x="1021" y="962"/>
                  <a:pt x="1022" y="961"/>
                </a:cubicBezTo>
                <a:cubicBezTo>
                  <a:pt x="1028" y="962"/>
                  <a:pt x="1039" y="953"/>
                  <a:pt x="1043" y="946"/>
                </a:cubicBezTo>
                <a:cubicBezTo>
                  <a:pt x="1041" y="946"/>
                  <a:pt x="1040" y="945"/>
                  <a:pt x="1040" y="943"/>
                </a:cubicBezTo>
                <a:cubicBezTo>
                  <a:pt x="1043" y="942"/>
                  <a:pt x="1044" y="944"/>
                  <a:pt x="1048" y="942"/>
                </a:cubicBezTo>
                <a:cubicBezTo>
                  <a:pt x="1048" y="940"/>
                  <a:pt x="1050" y="938"/>
                  <a:pt x="1047" y="938"/>
                </a:cubicBezTo>
                <a:cubicBezTo>
                  <a:pt x="1048" y="940"/>
                  <a:pt x="1043" y="942"/>
                  <a:pt x="1042" y="939"/>
                </a:cubicBezTo>
                <a:cubicBezTo>
                  <a:pt x="1041" y="936"/>
                  <a:pt x="1047" y="939"/>
                  <a:pt x="1047" y="935"/>
                </a:cubicBezTo>
                <a:cubicBezTo>
                  <a:pt x="1041" y="932"/>
                  <a:pt x="1035" y="943"/>
                  <a:pt x="1028" y="944"/>
                </a:cubicBezTo>
                <a:cubicBezTo>
                  <a:pt x="1026" y="935"/>
                  <a:pt x="1036" y="930"/>
                  <a:pt x="1040" y="923"/>
                </a:cubicBezTo>
                <a:cubicBezTo>
                  <a:pt x="1031" y="925"/>
                  <a:pt x="1016" y="930"/>
                  <a:pt x="1021" y="940"/>
                </a:cubicBezTo>
                <a:cubicBezTo>
                  <a:pt x="1015" y="941"/>
                  <a:pt x="1013" y="946"/>
                  <a:pt x="1008" y="948"/>
                </a:cubicBezTo>
                <a:cubicBezTo>
                  <a:pt x="1007" y="946"/>
                  <a:pt x="1010" y="943"/>
                  <a:pt x="1005" y="943"/>
                </a:cubicBezTo>
                <a:cubicBezTo>
                  <a:pt x="1006" y="950"/>
                  <a:pt x="1003" y="951"/>
                  <a:pt x="999" y="952"/>
                </a:cubicBezTo>
                <a:cubicBezTo>
                  <a:pt x="998" y="949"/>
                  <a:pt x="1000" y="949"/>
                  <a:pt x="1001" y="947"/>
                </a:cubicBezTo>
                <a:cubicBezTo>
                  <a:pt x="993" y="949"/>
                  <a:pt x="994" y="956"/>
                  <a:pt x="985" y="954"/>
                </a:cubicBezTo>
                <a:cubicBezTo>
                  <a:pt x="979" y="959"/>
                  <a:pt x="974" y="965"/>
                  <a:pt x="968" y="969"/>
                </a:cubicBezTo>
                <a:cubicBezTo>
                  <a:pt x="967" y="968"/>
                  <a:pt x="967" y="967"/>
                  <a:pt x="967" y="965"/>
                </a:cubicBezTo>
                <a:cubicBezTo>
                  <a:pt x="962" y="967"/>
                  <a:pt x="955" y="973"/>
                  <a:pt x="949" y="971"/>
                </a:cubicBezTo>
                <a:cubicBezTo>
                  <a:pt x="952" y="967"/>
                  <a:pt x="956" y="963"/>
                  <a:pt x="961" y="960"/>
                </a:cubicBezTo>
                <a:cubicBezTo>
                  <a:pt x="959" y="957"/>
                  <a:pt x="958" y="955"/>
                  <a:pt x="956" y="953"/>
                </a:cubicBezTo>
                <a:cubicBezTo>
                  <a:pt x="959" y="954"/>
                  <a:pt x="958" y="951"/>
                  <a:pt x="961" y="952"/>
                </a:cubicBezTo>
                <a:cubicBezTo>
                  <a:pt x="960" y="953"/>
                  <a:pt x="959" y="953"/>
                  <a:pt x="960" y="955"/>
                </a:cubicBezTo>
                <a:cubicBezTo>
                  <a:pt x="977" y="960"/>
                  <a:pt x="979" y="944"/>
                  <a:pt x="991" y="940"/>
                </a:cubicBezTo>
                <a:cubicBezTo>
                  <a:pt x="991" y="937"/>
                  <a:pt x="988" y="936"/>
                  <a:pt x="989" y="931"/>
                </a:cubicBezTo>
                <a:cubicBezTo>
                  <a:pt x="986" y="932"/>
                  <a:pt x="985" y="934"/>
                  <a:pt x="985" y="938"/>
                </a:cubicBezTo>
                <a:cubicBezTo>
                  <a:pt x="990" y="941"/>
                  <a:pt x="980" y="946"/>
                  <a:pt x="977" y="944"/>
                </a:cubicBezTo>
                <a:cubicBezTo>
                  <a:pt x="977" y="942"/>
                  <a:pt x="980" y="943"/>
                  <a:pt x="980" y="941"/>
                </a:cubicBezTo>
                <a:cubicBezTo>
                  <a:pt x="978" y="941"/>
                  <a:pt x="975" y="942"/>
                  <a:pt x="975" y="940"/>
                </a:cubicBezTo>
                <a:cubicBezTo>
                  <a:pt x="976" y="939"/>
                  <a:pt x="977" y="938"/>
                  <a:pt x="980" y="939"/>
                </a:cubicBezTo>
                <a:cubicBezTo>
                  <a:pt x="979" y="935"/>
                  <a:pt x="978" y="934"/>
                  <a:pt x="979" y="930"/>
                </a:cubicBezTo>
                <a:cubicBezTo>
                  <a:pt x="975" y="931"/>
                  <a:pt x="973" y="933"/>
                  <a:pt x="971" y="930"/>
                </a:cubicBezTo>
                <a:cubicBezTo>
                  <a:pt x="962" y="942"/>
                  <a:pt x="947" y="948"/>
                  <a:pt x="935" y="956"/>
                </a:cubicBezTo>
                <a:cubicBezTo>
                  <a:pt x="933" y="956"/>
                  <a:pt x="931" y="955"/>
                  <a:pt x="928" y="955"/>
                </a:cubicBezTo>
                <a:cubicBezTo>
                  <a:pt x="926" y="957"/>
                  <a:pt x="924" y="958"/>
                  <a:pt x="924" y="962"/>
                </a:cubicBezTo>
                <a:cubicBezTo>
                  <a:pt x="926" y="962"/>
                  <a:pt x="928" y="962"/>
                  <a:pt x="928" y="964"/>
                </a:cubicBezTo>
                <a:cubicBezTo>
                  <a:pt x="921" y="972"/>
                  <a:pt x="911" y="979"/>
                  <a:pt x="897" y="972"/>
                </a:cubicBezTo>
                <a:cubicBezTo>
                  <a:pt x="896" y="975"/>
                  <a:pt x="891" y="976"/>
                  <a:pt x="889" y="978"/>
                </a:cubicBezTo>
                <a:cubicBezTo>
                  <a:pt x="893" y="979"/>
                  <a:pt x="894" y="978"/>
                  <a:pt x="897" y="978"/>
                </a:cubicBezTo>
                <a:cubicBezTo>
                  <a:pt x="894" y="983"/>
                  <a:pt x="900" y="979"/>
                  <a:pt x="901" y="983"/>
                </a:cubicBezTo>
                <a:cubicBezTo>
                  <a:pt x="897" y="984"/>
                  <a:pt x="892" y="988"/>
                  <a:pt x="894" y="991"/>
                </a:cubicBezTo>
                <a:cubicBezTo>
                  <a:pt x="895" y="987"/>
                  <a:pt x="899" y="991"/>
                  <a:pt x="900" y="988"/>
                </a:cubicBezTo>
                <a:cubicBezTo>
                  <a:pt x="900" y="989"/>
                  <a:pt x="902" y="989"/>
                  <a:pt x="902" y="991"/>
                </a:cubicBezTo>
                <a:cubicBezTo>
                  <a:pt x="899" y="993"/>
                  <a:pt x="900" y="993"/>
                  <a:pt x="901" y="996"/>
                </a:cubicBezTo>
                <a:cubicBezTo>
                  <a:pt x="895" y="998"/>
                  <a:pt x="894" y="1005"/>
                  <a:pt x="890" y="1009"/>
                </a:cubicBezTo>
                <a:cubicBezTo>
                  <a:pt x="887" y="1010"/>
                  <a:pt x="887" y="1008"/>
                  <a:pt x="885" y="1008"/>
                </a:cubicBezTo>
                <a:cubicBezTo>
                  <a:pt x="879" y="1011"/>
                  <a:pt x="877" y="1015"/>
                  <a:pt x="873" y="1017"/>
                </a:cubicBezTo>
                <a:cubicBezTo>
                  <a:pt x="865" y="1023"/>
                  <a:pt x="855" y="1022"/>
                  <a:pt x="850" y="1030"/>
                </a:cubicBezTo>
                <a:cubicBezTo>
                  <a:pt x="858" y="1032"/>
                  <a:pt x="859" y="1028"/>
                  <a:pt x="864" y="1024"/>
                </a:cubicBezTo>
                <a:cubicBezTo>
                  <a:pt x="873" y="1018"/>
                  <a:pt x="888" y="1014"/>
                  <a:pt x="895" y="1011"/>
                </a:cubicBezTo>
                <a:cubicBezTo>
                  <a:pt x="892" y="1017"/>
                  <a:pt x="886" y="1020"/>
                  <a:pt x="880" y="1024"/>
                </a:cubicBezTo>
                <a:cubicBezTo>
                  <a:pt x="879" y="1023"/>
                  <a:pt x="880" y="1020"/>
                  <a:pt x="878" y="1020"/>
                </a:cubicBezTo>
                <a:cubicBezTo>
                  <a:pt x="872" y="1029"/>
                  <a:pt x="860" y="1033"/>
                  <a:pt x="849" y="1039"/>
                </a:cubicBezTo>
                <a:cubicBezTo>
                  <a:pt x="838" y="1044"/>
                  <a:pt x="822" y="1053"/>
                  <a:pt x="813" y="1052"/>
                </a:cubicBezTo>
                <a:cubicBezTo>
                  <a:pt x="813" y="1053"/>
                  <a:pt x="813" y="1055"/>
                  <a:pt x="812" y="1056"/>
                </a:cubicBezTo>
                <a:cubicBezTo>
                  <a:pt x="804" y="1054"/>
                  <a:pt x="800" y="1059"/>
                  <a:pt x="792" y="1061"/>
                </a:cubicBezTo>
                <a:cubicBezTo>
                  <a:pt x="792" y="1064"/>
                  <a:pt x="794" y="1064"/>
                  <a:pt x="795" y="1066"/>
                </a:cubicBezTo>
                <a:cubicBezTo>
                  <a:pt x="792" y="1066"/>
                  <a:pt x="790" y="1069"/>
                  <a:pt x="791" y="1070"/>
                </a:cubicBezTo>
                <a:cubicBezTo>
                  <a:pt x="803" y="1066"/>
                  <a:pt x="820" y="1061"/>
                  <a:pt x="836" y="1053"/>
                </a:cubicBezTo>
                <a:cubicBezTo>
                  <a:pt x="838" y="1044"/>
                  <a:pt x="849" y="1046"/>
                  <a:pt x="855" y="1043"/>
                </a:cubicBezTo>
                <a:cubicBezTo>
                  <a:pt x="856" y="1045"/>
                  <a:pt x="853" y="1044"/>
                  <a:pt x="853" y="1047"/>
                </a:cubicBezTo>
                <a:cubicBezTo>
                  <a:pt x="856" y="1047"/>
                  <a:pt x="858" y="1049"/>
                  <a:pt x="856" y="1051"/>
                </a:cubicBezTo>
                <a:cubicBezTo>
                  <a:pt x="863" y="1052"/>
                  <a:pt x="870" y="1040"/>
                  <a:pt x="874" y="1047"/>
                </a:cubicBezTo>
                <a:cubicBezTo>
                  <a:pt x="867" y="1048"/>
                  <a:pt x="858" y="1052"/>
                  <a:pt x="853" y="1058"/>
                </a:cubicBezTo>
                <a:cubicBezTo>
                  <a:pt x="857" y="1057"/>
                  <a:pt x="860" y="1058"/>
                  <a:pt x="861" y="1061"/>
                </a:cubicBezTo>
                <a:cubicBezTo>
                  <a:pt x="859" y="1061"/>
                  <a:pt x="859" y="1063"/>
                  <a:pt x="858" y="1063"/>
                </a:cubicBezTo>
                <a:cubicBezTo>
                  <a:pt x="854" y="1058"/>
                  <a:pt x="847" y="1064"/>
                  <a:pt x="844" y="1063"/>
                </a:cubicBezTo>
                <a:cubicBezTo>
                  <a:pt x="843" y="1059"/>
                  <a:pt x="849" y="1063"/>
                  <a:pt x="849" y="1059"/>
                </a:cubicBezTo>
                <a:cubicBezTo>
                  <a:pt x="846" y="1056"/>
                  <a:pt x="845" y="1061"/>
                  <a:pt x="841" y="1060"/>
                </a:cubicBezTo>
                <a:cubicBezTo>
                  <a:pt x="842" y="1058"/>
                  <a:pt x="842" y="1056"/>
                  <a:pt x="840" y="1056"/>
                </a:cubicBezTo>
                <a:cubicBezTo>
                  <a:pt x="830" y="1061"/>
                  <a:pt x="823" y="1069"/>
                  <a:pt x="811" y="1070"/>
                </a:cubicBezTo>
                <a:cubicBezTo>
                  <a:pt x="811" y="1071"/>
                  <a:pt x="812" y="1072"/>
                  <a:pt x="812" y="1073"/>
                </a:cubicBezTo>
                <a:cubicBezTo>
                  <a:pt x="810" y="1074"/>
                  <a:pt x="808" y="1076"/>
                  <a:pt x="805" y="1076"/>
                </a:cubicBezTo>
                <a:cubicBezTo>
                  <a:pt x="805" y="1075"/>
                  <a:pt x="806" y="1074"/>
                  <a:pt x="807" y="1073"/>
                </a:cubicBezTo>
                <a:cubicBezTo>
                  <a:pt x="803" y="1073"/>
                  <a:pt x="799" y="1074"/>
                  <a:pt x="797" y="1077"/>
                </a:cubicBezTo>
                <a:cubicBezTo>
                  <a:pt x="800" y="1078"/>
                  <a:pt x="802" y="1074"/>
                  <a:pt x="804" y="1077"/>
                </a:cubicBezTo>
                <a:cubicBezTo>
                  <a:pt x="798" y="1079"/>
                  <a:pt x="787" y="1088"/>
                  <a:pt x="782" y="1082"/>
                </a:cubicBezTo>
                <a:cubicBezTo>
                  <a:pt x="777" y="1083"/>
                  <a:pt x="772" y="1085"/>
                  <a:pt x="768" y="1088"/>
                </a:cubicBezTo>
                <a:cubicBezTo>
                  <a:pt x="771" y="1088"/>
                  <a:pt x="773" y="1088"/>
                  <a:pt x="774" y="1090"/>
                </a:cubicBezTo>
                <a:cubicBezTo>
                  <a:pt x="767" y="1091"/>
                  <a:pt x="761" y="1092"/>
                  <a:pt x="758" y="1096"/>
                </a:cubicBezTo>
                <a:cubicBezTo>
                  <a:pt x="757" y="1095"/>
                  <a:pt x="755" y="1094"/>
                  <a:pt x="753" y="1095"/>
                </a:cubicBezTo>
                <a:cubicBezTo>
                  <a:pt x="751" y="1098"/>
                  <a:pt x="747" y="1098"/>
                  <a:pt x="746" y="1101"/>
                </a:cubicBezTo>
                <a:cubicBezTo>
                  <a:pt x="749" y="1100"/>
                  <a:pt x="747" y="1104"/>
                  <a:pt x="749" y="1104"/>
                </a:cubicBezTo>
                <a:cubicBezTo>
                  <a:pt x="749" y="1103"/>
                  <a:pt x="751" y="1103"/>
                  <a:pt x="752" y="1102"/>
                </a:cubicBezTo>
                <a:cubicBezTo>
                  <a:pt x="751" y="1105"/>
                  <a:pt x="755" y="1104"/>
                  <a:pt x="754" y="1108"/>
                </a:cubicBezTo>
                <a:cubicBezTo>
                  <a:pt x="750" y="1106"/>
                  <a:pt x="752" y="1112"/>
                  <a:pt x="750" y="1112"/>
                </a:cubicBezTo>
                <a:cubicBezTo>
                  <a:pt x="745" y="1115"/>
                  <a:pt x="743" y="1109"/>
                  <a:pt x="738" y="1109"/>
                </a:cubicBezTo>
                <a:cubicBezTo>
                  <a:pt x="737" y="1113"/>
                  <a:pt x="732" y="1117"/>
                  <a:pt x="728" y="1115"/>
                </a:cubicBezTo>
                <a:cubicBezTo>
                  <a:pt x="728" y="1114"/>
                  <a:pt x="730" y="1114"/>
                  <a:pt x="730" y="1112"/>
                </a:cubicBezTo>
                <a:cubicBezTo>
                  <a:pt x="711" y="1113"/>
                  <a:pt x="700" y="1127"/>
                  <a:pt x="684" y="1122"/>
                </a:cubicBezTo>
                <a:cubicBezTo>
                  <a:pt x="681" y="1133"/>
                  <a:pt x="662" y="1127"/>
                  <a:pt x="657" y="1136"/>
                </a:cubicBezTo>
                <a:cubicBezTo>
                  <a:pt x="660" y="1138"/>
                  <a:pt x="664" y="1137"/>
                  <a:pt x="666" y="1138"/>
                </a:cubicBezTo>
                <a:cubicBezTo>
                  <a:pt x="666" y="1141"/>
                  <a:pt x="663" y="1140"/>
                  <a:pt x="664" y="1144"/>
                </a:cubicBezTo>
                <a:cubicBezTo>
                  <a:pt x="667" y="1145"/>
                  <a:pt x="665" y="1141"/>
                  <a:pt x="667" y="1140"/>
                </a:cubicBezTo>
                <a:cubicBezTo>
                  <a:pt x="683" y="1140"/>
                  <a:pt x="694" y="1136"/>
                  <a:pt x="706" y="1133"/>
                </a:cubicBezTo>
                <a:cubicBezTo>
                  <a:pt x="714" y="1130"/>
                  <a:pt x="726" y="1131"/>
                  <a:pt x="727" y="1122"/>
                </a:cubicBezTo>
                <a:cubicBezTo>
                  <a:pt x="726" y="1122"/>
                  <a:pt x="724" y="1123"/>
                  <a:pt x="724" y="1122"/>
                </a:cubicBezTo>
                <a:cubicBezTo>
                  <a:pt x="727" y="1120"/>
                  <a:pt x="731" y="1119"/>
                  <a:pt x="736" y="1120"/>
                </a:cubicBezTo>
                <a:cubicBezTo>
                  <a:pt x="736" y="1122"/>
                  <a:pt x="736" y="1122"/>
                  <a:pt x="736" y="1122"/>
                </a:cubicBezTo>
                <a:cubicBezTo>
                  <a:pt x="752" y="1118"/>
                  <a:pt x="767" y="1111"/>
                  <a:pt x="783" y="1109"/>
                </a:cubicBezTo>
                <a:cubicBezTo>
                  <a:pt x="775" y="1110"/>
                  <a:pt x="774" y="1116"/>
                  <a:pt x="768" y="1118"/>
                </a:cubicBezTo>
                <a:cubicBezTo>
                  <a:pt x="761" y="1120"/>
                  <a:pt x="760" y="1128"/>
                  <a:pt x="753" y="1125"/>
                </a:cubicBezTo>
                <a:cubicBezTo>
                  <a:pt x="747" y="1132"/>
                  <a:pt x="733" y="1131"/>
                  <a:pt x="728" y="1139"/>
                </a:cubicBezTo>
                <a:cubicBezTo>
                  <a:pt x="725" y="1136"/>
                  <a:pt x="722" y="1138"/>
                  <a:pt x="719" y="1139"/>
                </a:cubicBezTo>
                <a:cubicBezTo>
                  <a:pt x="717" y="1141"/>
                  <a:pt x="719" y="1141"/>
                  <a:pt x="720" y="1143"/>
                </a:cubicBezTo>
                <a:cubicBezTo>
                  <a:pt x="717" y="1143"/>
                  <a:pt x="715" y="1144"/>
                  <a:pt x="715" y="1147"/>
                </a:cubicBezTo>
                <a:cubicBezTo>
                  <a:pt x="731" y="1148"/>
                  <a:pt x="734" y="1136"/>
                  <a:pt x="749" y="1136"/>
                </a:cubicBezTo>
                <a:cubicBezTo>
                  <a:pt x="751" y="1135"/>
                  <a:pt x="749" y="1135"/>
                  <a:pt x="751" y="1134"/>
                </a:cubicBezTo>
                <a:cubicBezTo>
                  <a:pt x="752" y="1135"/>
                  <a:pt x="752" y="1133"/>
                  <a:pt x="755" y="1134"/>
                </a:cubicBezTo>
                <a:cubicBezTo>
                  <a:pt x="755" y="1135"/>
                  <a:pt x="755" y="1136"/>
                  <a:pt x="754" y="1136"/>
                </a:cubicBezTo>
                <a:cubicBezTo>
                  <a:pt x="769" y="1135"/>
                  <a:pt x="774" y="1124"/>
                  <a:pt x="786" y="1120"/>
                </a:cubicBezTo>
                <a:close/>
                <a:moveTo>
                  <a:pt x="1029" y="945"/>
                </a:moveTo>
                <a:cubicBezTo>
                  <a:pt x="1032" y="946"/>
                  <a:pt x="1032" y="943"/>
                  <a:pt x="1035" y="944"/>
                </a:cubicBezTo>
                <a:cubicBezTo>
                  <a:pt x="1034" y="946"/>
                  <a:pt x="1036" y="946"/>
                  <a:pt x="1036" y="945"/>
                </a:cubicBezTo>
                <a:cubicBezTo>
                  <a:pt x="1037" y="944"/>
                  <a:pt x="1034" y="954"/>
                  <a:pt x="1030" y="954"/>
                </a:cubicBezTo>
                <a:cubicBezTo>
                  <a:pt x="1030" y="951"/>
                  <a:pt x="1029" y="949"/>
                  <a:pt x="1029" y="945"/>
                </a:cubicBezTo>
                <a:close/>
                <a:moveTo>
                  <a:pt x="971" y="944"/>
                </a:moveTo>
                <a:cubicBezTo>
                  <a:pt x="969" y="946"/>
                  <a:pt x="967" y="952"/>
                  <a:pt x="963" y="950"/>
                </a:cubicBezTo>
                <a:cubicBezTo>
                  <a:pt x="966" y="948"/>
                  <a:pt x="967" y="945"/>
                  <a:pt x="971" y="944"/>
                </a:cubicBezTo>
                <a:close/>
                <a:moveTo>
                  <a:pt x="930" y="993"/>
                </a:moveTo>
                <a:cubicBezTo>
                  <a:pt x="932" y="991"/>
                  <a:pt x="928" y="991"/>
                  <a:pt x="930" y="988"/>
                </a:cubicBezTo>
                <a:cubicBezTo>
                  <a:pt x="938" y="987"/>
                  <a:pt x="942" y="984"/>
                  <a:pt x="949" y="983"/>
                </a:cubicBezTo>
                <a:cubicBezTo>
                  <a:pt x="944" y="988"/>
                  <a:pt x="939" y="993"/>
                  <a:pt x="930" y="993"/>
                </a:cubicBezTo>
                <a:close/>
                <a:moveTo>
                  <a:pt x="945" y="957"/>
                </a:moveTo>
                <a:cubicBezTo>
                  <a:pt x="949" y="959"/>
                  <a:pt x="945" y="964"/>
                  <a:pt x="941" y="964"/>
                </a:cubicBezTo>
                <a:cubicBezTo>
                  <a:pt x="944" y="961"/>
                  <a:pt x="944" y="961"/>
                  <a:pt x="945" y="957"/>
                </a:cubicBezTo>
                <a:close/>
                <a:moveTo>
                  <a:pt x="925" y="971"/>
                </a:moveTo>
                <a:cubicBezTo>
                  <a:pt x="926" y="971"/>
                  <a:pt x="926" y="973"/>
                  <a:pt x="926" y="974"/>
                </a:cubicBezTo>
                <a:cubicBezTo>
                  <a:pt x="926" y="973"/>
                  <a:pt x="927" y="973"/>
                  <a:pt x="928" y="973"/>
                </a:cubicBezTo>
                <a:cubicBezTo>
                  <a:pt x="926" y="966"/>
                  <a:pt x="937" y="965"/>
                  <a:pt x="939" y="962"/>
                </a:cubicBezTo>
                <a:cubicBezTo>
                  <a:pt x="942" y="963"/>
                  <a:pt x="935" y="969"/>
                  <a:pt x="932" y="969"/>
                </a:cubicBezTo>
                <a:cubicBezTo>
                  <a:pt x="934" y="972"/>
                  <a:pt x="936" y="966"/>
                  <a:pt x="938" y="969"/>
                </a:cubicBezTo>
                <a:cubicBezTo>
                  <a:pt x="937" y="971"/>
                  <a:pt x="936" y="973"/>
                  <a:pt x="934" y="975"/>
                </a:cubicBezTo>
                <a:cubicBezTo>
                  <a:pt x="931" y="971"/>
                  <a:pt x="929" y="975"/>
                  <a:pt x="925" y="976"/>
                </a:cubicBezTo>
                <a:cubicBezTo>
                  <a:pt x="925" y="973"/>
                  <a:pt x="923" y="973"/>
                  <a:pt x="925" y="971"/>
                </a:cubicBezTo>
                <a:close/>
                <a:moveTo>
                  <a:pt x="913" y="1004"/>
                </a:moveTo>
                <a:cubicBezTo>
                  <a:pt x="911" y="999"/>
                  <a:pt x="918" y="996"/>
                  <a:pt x="924" y="996"/>
                </a:cubicBezTo>
                <a:cubicBezTo>
                  <a:pt x="922" y="1001"/>
                  <a:pt x="916" y="1000"/>
                  <a:pt x="913" y="1004"/>
                </a:cubicBezTo>
                <a:close/>
                <a:moveTo>
                  <a:pt x="918" y="976"/>
                </a:moveTo>
                <a:cubicBezTo>
                  <a:pt x="922" y="981"/>
                  <a:pt x="911" y="983"/>
                  <a:pt x="906" y="987"/>
                </a:cubicBezTo>
                <a:cubicBezTo>
                  <a:pt x="908" y="979"/>
                  <a:pt x="916" y="981"/>
                  <a:pt x="918" y="976"/>
                </a:cubicBezTo>
                <a:close/>
                <a:moveTo>
                  <a:pt x="914" y="986"/>
                </a:moveTo>
                <a:cubicBezTo>
                  <a:pt x="918" y="989"/>
                  <a:pt x="909" y="993"/>
                  <a:pt x="904" y="992"/>
                </a:cubicBezTo>
                <a:cubicBezTo>
                  <a:pt x="906" y="989"/>
                  <a:pt x="911" y="989"/>
                  <a:pt x="914" y="986"/>
                </a:cubicBezTo>
                <a:close/>
                <a:moveTo>
                  <a:pt x="885" y="1027"/>
                </a:moveTo>
                <a:cubicBezTo>
                  <a:pt x="888" y="1030"/>
                  <a:pt x="891" y="1028"/>
                  <a:pt x="895" y="1027"/>
                </a:cubicBezTo>
                <a:cubicBezTo>
                  <a:pt x="893" y="1033"/>
                  <a:pt x="887" y="1035"/>
                  <a:pt x="881" y="1036"/>
                </a:cubicBezTo>
                <a:cubicBezTo>
                  <a:pt x="882" y="1032"/>
                  <a:pt x="886" y="1032"/>
                  <a:pt x="885" y="1027"/>
                </a:cubicBezTo>
                <a:close/>
                <a:moveTo>
                  <a:pt x="865" y="1045"/>
                </a:moveTo>
                <a:cubicBezTo>
                  <a:pt x="864" y="1048"/>
                  <a:pt x="867" y="1040"/>
                  <a:pt x="870" y="1041"/>
                </a:cubicBezTo>
                <a:cubicBezTo>
                  <a:pt x="871" y="1045"/>
                  <a:pt x="867" y="1044"/>
                  <a:pt x="865" y="1045"/>
                </a:cubicBezTo>
                <a:close/>
                <a:moveTo>
                  <a:pt x="837" y="1067"/>
                </a:moveTo>
                <a:cubicBezTo>
                  <a:pt x="837" y="1070"/>
                  <a:pt x="834" y="1071"/>
                  <a:pt x="831" y="1071"/>
                </a:cubicBezTo>
                <a:cubicBezTo>
                  <a:pt x="830" y="1069"/>
                  <a:pt x="832" y="1066"/>
                  <a:pt x="837" y="1067"/>
                </a:cubicBezTo>
                <a:close/>
                <a:moveTo>
                  <a:pt x="821" y="1093"/>
                </a:moveTo>
                <a:cubicBezTo>
                  <a:pt x="822" y="1092"/>
                  <a:pt x="825" y="1092"/>
                  <a:pt x="827" y="1092"/>
                </a:cubicBezTo>
                <a:cubicBezTo>
                  <a:pt x="826" y="1094"/>
                  <a:pt x="825" y="1095"/>
                  <a:pt x="823" y="1096"/>
                </a:cubicBezTo>
                <a:cubicBezTo>
                  <a:pt x="821" y="1096"/>
                  <a:pt x="821" y="1095"/>
                  <a:pt x="821" y="1093"/>
                </a:cubicBezTo>
                <a:close/>
                <a:moveTo>
                  <a:pt x="785" y="1113"/>
                </a:moveTo>
                <a:cubicBezTo>
                  <a:pt x="786" y="1110"/>
                  <a:pt x="794" y="1108"/>
                  <a:pt x="798" y="1109"/>
                </a:cubicBezTo>
                <a:cubicBezTo>
                  <a:pt x="795" y="1111"/>
                  <a:pt x="790" y="1112"/>
                  <a:pt x="785" y="1113"/>
                </a:cubicBezTo>
                <a:close/>
                <a:moveTo>
                  <a:pt x="815" y="1075"/>
                </a:moveTo>
                <a:cubicBezTo>
                  <a:pt x="815" y="1079"/>
                  <a:pt x="815" y="1079"/>
                  <a:pt x="815" y="1079"/>
                </a:cubicBezTo>
                <a:cubicBezTo>
                  <a:pt x="810" y="1081"/>
                  <a:pt x="806" y="1077"/>
                  <a:pt x="805" y="1082"/>
                </a:cubicBezTo>
                <a:cubicBezTo>
                  <a:pt x="802" y="1077"/>
                  <a:pt x="810" y="1075"/>
                  <a:pt x="815" y="1075"/>
                </a:cubicBezTo>
                <a:close/>
                <a:moveTo>
                  <a:pt x="800" y="1089"/>
                </a:moveTo>
                <a:cubicBezTo>
                  <a:pt x="800" y="1080"/>
                  <a:pt x="809" y="1084"/>
                  <a:pt x="814" y="1083"/>
                </a:cubicBezTo>
                <a:cubicBezTo>
                  <a:pt x="810" y="1092"/>
                  <a:pt x="790" y="1102"/>
                  <a:pt x="784" y="1094"/>
                </a:cubicBezTo>
                <a:cubicBezTo>
                  <a:pt x="786" y="1089"/>
                  <a:pt x="795" y="1091"/>
                  <a:pt x="800" y="1089"/>
                </a:cubicBezTo>
                <a:close/>
                <a:moveTo>
                  <a:pt x="40" y="932"/>
                </a:moveTo>
                <a:cubicBezTo>
                  <a:pt x="40" y="932"/>
                  <a:pt x="40" y="932"/>
                  <a:pt x="41" y="932"/>
                </a:cubicBezTo>
                <a:cubicBezTo>
                  <a:pt x="42" y="932"/>
                  <a:pt x="41" y="935"/>
                  <a:pt x="43" y="935"/>
                </a:cubicBezTo>
                <a:cubicBezTo>
                  <a:pt x="44" y="930"/>
                  <a:pt x="51" y="930"/>
                  <a:pt x="51" y="925"/>
                </a:cubicBezTo>
                <a:cubicBezTo>
                  <a:pt x="48" y="928"/>
                  <a:pt x="41" y="930"/>
                  <a:pt x="40" y="932"/>
                </a:cubicBezTo>
                <a:close/>
                <a:moveTo>
                  <a:pt x="227" y="928"/>
                </a:moveTo>
                <a:cubicBezTo>
                  <a:pt x="228" y="926"/>
                  <a:pt x="229" y="927"/>
                  <a:pt x="231" y="927"/>
                </a:cubicBezTo>
                <a:cubicBezTo>
                  <a:pt x="231" y="925"/>
                  <a:pt x="231" y="925"/>
                  <a:pt x="231" y="925"/>
                </a:cubicBezTo>
                <a:cubicBezTo>
                  <a:pt x="229" y="924"/>
                  <a:pt x="229" y="926"/>
                  <a:pt x="227" y="926"/>
                </a:cubicBezTo>
                <a:cubicBezTo>
                  <a:pt x="227" y="927"/>
                  <a:pt x="225" y="928"/>
                  <a:pt x="227" y="928"/>
                </a:cubicBezTo>
                <a:close/>
                <a:moveTo>
                  <a:pt x="1158" y="939"/>
                </a:moveTo>
                <a:cubicBezTo>
                  <a:pt x="1155" y="941"/>
                  <a:pt x="1154" y="938"/>
                  <a:pt x="1152" y="938"/>
                </a:cubicBezTo>
                <a:cubicBezTo>
                  <a:pt x="1155" y="941"/>
                  <a:pt x="1150" y="945"/>
                  <a:pt x="1153" y="947"/>
                </a:cubicBezTo>
                <a:cubicBezTo>
                  <a:pt x="1162" y="947"/>
                  <a:pt x="1170" y="939"/>
                  <a:pt x="1176" y="933"/>
                </a:cubicBezTo>
                <a:cubicBezTo>
                  <a:pt x="1172" y="932"/>
                  <a:pt x="1168" y="933"/>
                  <a:pt x="1168" y="929"/>
                </a:cubicBezTo>
                <a:cubicBezTo>
                  <a:pt x="1166" y="927"/>
                  <a:pt x="1172" y="927"/>
                  <a:pt x="1169" y="926"/>
                </a:cubicBezTo>
                <a:cubicBezTo>
                  <a:pt x="1162" y="927"/>
                  <a:pt x="1162" y="935"/>
                  <a:pt x="1158" y="939"/>
                </a:cubicBezTo>
                <a:close/>
                <a:moveTo>
                  <a:pt x="214" y="934"/>
                </a:moveTo>
                <a:cubicBezTo>
                  <a:pt x="212" y="935"/>
                  <a:pt x="205" y="937"/>
                  <a:pt x="207" y="939"/>
                </a:cubicBezTo>
                <a:cubicBezTo>
                  <a:pt x="209" y="938"/>
                  <a:pt x="216" y="936"/>
                  <a:pt x="214" y="934"/>
                </a:cubicBezTo>
                <a:close/>
                <a:moveTo>
                  <a:pt x="130" y="938"/>
                </a:moveTo>
                <a:cubicBezTo>
                  <a:pt x="133" y="938"/>
                  <a:pt x="134" y="936"/>
                  <a:pt x="134" y="934"/>
                </a:cubicBezTo>
                <a:cubicBezTo>
                  <a:pt x="123" y="930"/>
                  <a:pt x="117" y="944"/>
                  <a:pt x="109" y="949"/>
                </a:cubicBezTo>
                <a:cubicBezTo>
                  <a:pt x="114" y="946"/>
                  <a:pt x="119" y="944"/>
                  <a:pt x="125" y="942"/>
                </a:cubicBezTo>
                <a:cubicBezTo>
                  <a:pt x="125" y="944"/>
                  <a:pt x="125" y="946"/>
                  <a:pt x="126" y="946"/>
                </a:cubicBezTo>
                <a:cubicBezTo>
                  <a:pt x="129" y="946"/>
                  <a:pt x="134" y="941"/>
                  <a:pt x="130" y="938"/>
                </a:cubicBezTo>
                <a:close/>
                <a:moveTo>
                  <a:pt x="1092" y="954"/>
                </a:moveTo>
                <a:cubicBezTo>
                  <a:pt x="1089" y="958"/>
                  <a:pt x="1088" y="956"/>
                  <a:pt x="1086" y="958"/>
                </a:cubicBezTo>
                <a:cubicBezTo>
                  <a:pt x="1090" y="958"/>
                  <a:pt x="1085" y="962"/>
                  <a:pt x="1089" y="962"/>
                </a:cubicBezTo>
                <a:cubicBezTo>
                  <a:pt x="1091" y="959"/>
                  <a:pt x="1091" y="957"/>
                  <a:pt x="1092" y="954"/>
                </a:cubicBezTo>
                <a:close/>
                <a:moveTo>
                  <a:pt x="972" y="962"/>
                </a:moveTo>
                <a:cubicBezTo>
                  <a:pt x="972" y="959"/>
                  <a:pt x="974" y="963"/>
                  <a:pt x="975" y="961"/>
                </a:cubicBezTo>
                <a:cubicBezTo>
                  <a:pt x="975" y="958"/>
                  <a:pt x="975" y="958"/>
                  <a:pt x="975" y="958"/>
                </a:cubicBezTo>
                <a:cubicBezTo>
                  <a:pt x="973" y="958"/>
                  <a:pt x="970" y="961"/>
                  <a:pt x="972" y="962"/>
                </a:cubicBezTo>
                <a:close/>
                <a:moveTo>
                  <a:pt x="1072" y="960"/>
                </a:moveTo>
                <a:cubicBezTo>
                  <a:pt x="1076" y="961"/>
                  <a:pt x="1077" y="966"/>
                  <a:pt x="1076" y="959"/>
                </a:cubicBezTo>
                <a:cubicBezTo>
                  <a:pt x="1076" y="959"/>
                  <a:pt x="1077" y="958"/>
                  <a:pt x="1076" y="958"/>
                </a:cubicBezTo>
                <a:cubicBezTo>
                  <a:pt x="1077" y="961"/>
                  <a:pt x="1072" y="957"/>
                  <a:pt x="1072" y="960"/>
                </a:cubicBezTo>
                <a:close/>
                <a:moveTo>
                  <a:pt x="1114" y="963"/>
                </a:moveTo>
                <a:cubicBezTo>
                  <a:pt x="1112" y="961"/>
                  <a:pt x="1108" y="963"/>
                  <a:pt x="1107" y="963"/>
                </a:cubicBezTo>
                <a:cubicBezTo>
                  <a:pt x="1108" y="963"/>
                  <a:pt x="1108" y="964"/>
                  <a:pt x="1107" y="965"/>
                </a:cubicBezTo>
                <a:cubicBezTo>
                  <a:pt x="1110" y="962"/>
                  <a:pt x="1113" y="966"/>
                  <a:pt x="1114" y="963"/>
                </a:cubicBezTo>
                <a:close/>
                <a:moveTo>
                  <a:pt x="26" y="975"/>
                </a:moveTo>
                <a:cubicBezTo>
                  <a:pt x="28" y="971"/>
                  <a:pt x="29" y="976"/>
                  <a:pt x="34" y="975"/>
                </a:cubicBezTo>
                <a:cubicBezTo>
                  <a:pt x="37" y="971"/>
                  <a:pt x="36" y="968"/>
                  <a:pt x="38" y="964"/>
                </a:cubicBezTo>
                <a:cubicBezTo>
                  <a:pt x="32" y="965"/>
                  <a:pt x="27" y="972"/>
                  <a:pt x="26" y="975"/>
                </a:cubicBezTo>
                <a:close/>
                <a:moveTo>
                  <a:pt x="1040" y="979"/>
                </a:moveTo>
                <a:cubicBezTo>
                  <a:pt x="1039" y="979"/>
                  <a:pt x="1038" y="978"/>
                  <a:pt x="1038" y="978"/>
                </a:cubicBezTo>
                <a:cubicBezTo>
                  <a:pt x="1028" y="984"/>
                  <a:pt x="1017" y="989"/>
                  <a:pt x="1009" y="997"/>
                </a:cubicBezTo>
                <a:cubicBezTo>
                  <a:pt x="1000" y="995"/>
                  <a:pt x="992" y="1002"/>
                  <a:pt x="987" y="1007"/>
                </a:cubicBezTo>
                <a:cubicBezTo>
                  <a:pt x="989" y="1007"/>
                  <a:pt x="989" y="1008"/>
                  <a:pt x="988" y="1009"/>
                </a:cubicBezTo>
                <a:cubicBezTo>
                  <a:pt x="1000" y="1009"/>
                  <a:pt x="1004" y="997"/>
                  <a:pt x="1014" y="998"/>
                </a:cubicBezTo>
                <a:cubicBezTo>
                  <a:pt x="1018" y="994"/>
                  <a:pt x="1024" y="991"/>
                  <a:pt x="1027" y="986"/>
                </a:cubicBezTo>
                <a:cubicBezTo>
                  <a:pt x="1033" y="986"/>
                  <a:pt x="1033" y="986"/>
                  <a:pt x="1033" y="986"/>
                </a:cubicBezTo>
                <a:cubicBezTo>
                  <a:pt x="1031" y="978"/>
                  <a:pt x="1039" y="983"/>
                  <a:pt x="1040" y="979"/>
                </a:cubicBezTo>
                <a:close/>
                <a:moveTo>
                  <a:pt x="928" y="1013"/>
                </a:moveTo>
                <a:cubicBezTo>
                  <a:pt x="930" y="1010"/>
                  <a:pt x="933" y="1014"/>
                  <a:pt x="935" y="1014"/>
                </a:cubicBezTo>
                <a:cubicBezTo>
                  <a:pt x="938" y="1007"/>
                  <a:pt x="947" y="1006"/>
                  <a:pt x="950" y="999"/>
                </a:cubicBezTo>
                <a:cubicBezTo>
                  <a:pt x="942" y="1003"/>
                  <a:pt x="932" y="1008"/>
                  <a:pt x="928" y="1013"/>
                </a:cubicBezTo>
                <a:close/>
                <a:moveTo>
                  <a:pt x="233" y="1024"/>
                </a:moveTo>
                <a:cubicBezTo>
                  <a:pt x="231" y="1027"/>
                  <a:pt x="227" y="1027"/>
                  <a:pt x="225" y="1030"/>
                </a:cubicBezTo>
                <a:cubicBezTo>
                  <a:pt x="229" y="1030"/>
                  <a:pt x="234" y="1026"/>
                  <a:pt x="233" y="1024"/>
                </a:cubicBezTo>
                <a:close/>
                <a:moveTo>
                  <a:pt x="89" y="1041"/>
                </a:moveTo>
                <a:cubicBezTo>
                  <a:pt x="86" y="1044"/>
                  <a:pt x="85" y="1040"/>
                  <a:pt x="84" y="1040"/>
                </a:cubicBezTo>
                <a:cubicBezTo>
                  <a:pt x="76" y="1046"/>
                  <a:pt x="66" y="1047"/>
                  <a:pt x="58" y="1055"/>
                </a:cubicBezTo>
                <a:cubicBezTo>
                  <a:pt x="59" y="1056"/>
                  <a:pt x="61" y="1056"/>
                  <a:pt x="63" y="1057"/>
                </a:cubicBezTo>
                <a:cubicBezTo>
                  <a:pt x="66" y="1047"/>
                  <a:pt x="79" y="1051"/>
                  <a:pt x="84" y="1044"/>
                </a:cubicBezTo>
                <a:cubicBezTo>
                  <a:pt x="86" y="1044"/>
                  <a:pt x="87" y="1045"/>
                  <a:pt x="88" y="1045"/>
                </a:cubicBezTo>
                <a:cubicBezTo>
                  <a:pt x="87" y="1042"/>
                  <a:pt x="92" y="1042"/>
                  <a:pt x="89" y="1041"/>
                </a:cubicBezTo>
                <a:close/>
                <a:moveTo>
                  <a:pt x="224" y="1053"/>
                </a:moveTo>
                <a:cubicBezTo>
                  <a:pt x="225" y="1048"/>
                  <a:pt x="222" y="1048"/>
                  <a:pt x="221" y="1045"/>
                </a:cubicBezTo>
                <a:cubicBezTo>
                  <a:pt x="222" y="1043"/>
                  <a:pt x="225" y="1043"/>
                  <a:pt x="224" y="1040"/>
                </a:cubicBezTo>
                <a:cubicBezTo>
                  <a:pt x="218" y="1039"/>
                  <a:pt x="223" y="1047"/>
                  <a:pt x="215" y="1045"/>
                </a:cubicBezTo>
                <a:cubicBezTo>
                  <a:pt x="214" y="1051"/>
                  <a:pt x="206" y="1050"/>
                  <a:pt x="205" y="1056"/>
                </a:cubicBezTo>
                <a:cubicBezTo>
                  <a:pt x="206" y="1056"/>
                  <a:pt x="209" y="1056"/>
                  <a:pt x="210" y="1057"/>
                </a:cubicBezTo>
                <a:cubicBezTo>
                  <a:pt x="218" y="1074"/>
                  <a:pt x="194" y="1065"/>
                  <a:pt x="192" y="1077"/>
                </a:cubicBezTo>
                <a:cubicBezTo>
                  <a:pt x="195" y="1078"/>
                  <a:pt x="192" y="1074"/>
                  <a:pt x="195" y="1074"/>
                </a:cubicBezTo>
                <a:cubicBezTo>
                  <a:pt x="195" y="1077"/>
                  <a:pt x="199" y="1076"/>
                  <a:pt x="200" y="1079"/>
                </a:cubicBezTo>
                <a:cubicBezTo>
                  <a:pt x="196" y="1087"/>
                  <a:pt x="206" y="1075"/>
                  <a:pt x="208" y="1073"/>
                </a:cubicBezTo>
                <a:cubicBezTo>
                  <a:pt x="210" y="1074"/>
                  <a:pt x="210" y="1074"/>
                  <a:pt x="210" y="1076"/>
                </a:cubicBezTo>
                <a:cubicBezTo>
                  <a:pt x="209" y="1080"/>
                  <a:pt x="205" y="1081"/>
                  <a:pt x="207" y="1084"/>
                </a:cubicBezTo>
                <a:cubicBezTo>
                  <a:pt x="209" y="1081"/>
                  <a:pt x="214" y="1082"/>
                  <a:pt x="213" y="1077"/>
                </a:cubicBezTo>
                <a:cubicBezTo>
                  <a:pt x="217" y="1077"/>
                  <a:pt x="220" y="1077"/>
                  <a:pt x="220" y="1073"/>
                </a:cubicBezTo>
                <a:cubicBezTo>
                  <a:pt x="220" y="1071"/>
                  <a:pt x="216" y="1073"/>
                  <a:pt x="217" y="1070"/>
                </a:cubicBezTo>
                <a:cubicBezTo>
                  <a:pt x="220" y="1059"/>
                  <a:pt x="230" y="1064"/>
                  <a:pt x="237" y="1062"/>
                </a:cubicBezTo>
                <a:cubicBezTo>
                  <a:pt x="235" y="1059"/>
                  <a:pt x="233" y="1057"/>
                  <a:pt x="232" y="1052"/>
                </a:cubicBezTo>
                <a:cubicBezTo>
                  <a:pt x="230" y="1053"/>
                  <a:pt x="227" y="1053"/>
                  <a:pt x="224" y="1053"/>
                </a:cubicBezTo>
                <a:close/>
                <a:moveTo>
                  <a:pt x="949" y="1049"/>
                </a:moveTo>
                <a:cubicBezTo>
                  <a:pt x="947" y="1051"/>
                  <a:pt x="940" y="1048"/>
                  <a:pt x="940" y="1053"/>
                </a:cubicBezTo>
                <a:cubicBezTo>
                  <a:pt x="943" y="1052"/>
                  <a:pt x="951" y="1049"/>
                  <a:pt x="949" y="1049"/>
                </a:cubicBezTo>
                <a:close/>
                <a:moveTo>
                  <a:pt x="103" y="1058"/>
                </a:moveTo>
                <a:cubicBezTo>
                  <a:pt x="104" y="1062"/>
                  <a:pt x="99" y="1060"/>
                  <a:pt x="99" y="1063"/>
                </a:cubicBezTo>
                <a:cubicBezTo>
                  <a:pt x="103" y="1063"/>
                  <a:pt x="103" y="1063"/>
                  <a:pt x="103" y="1063"/>
                </a:cubicBezTo>
                <a:cubicBezTo>
                  <a:pt x="101" y="1060"/>
                  <a:pt x="107" y="1059"/>
                  <a:pt x="103" y="1058"/>
                </a:cubicBezTo>
                <a:close/>
                <a:moveTo>
                  <a:pt x="1003" y="1090"/>
                </a:moveTo>
                <a:cubicBezTo>
                  <a:pt x="1009" y="1089"/>
                  <a:pt x="1011" y="1085"/>
                  <a:pt x="1018" y="1085"/>
                </a:cubicBezTo>
                <a:cubicBezTo>
                  <a:pt x="1017" y="1090"/>
                  <a:pt x="1011" y="1088"/>
                  <a:pt x="1009" y="1092"/>
                </a:cubicBezTo>
                <a:cubicBezTo>
                  <a:pt x="1021" y="1091"/>
                  <a:pt x="1020" y="1078"/>
                  <a:pt x="1034" y="1079"/>
                </a:cubicBezTo>
                <a:cubicBezTo>
                  <a:pt x="1036" y="1077"/>
                  <a:pt x="1033" y="1077"/>
                  <a:pt x="1035" y="1076"/>
                </a:cubicBezTo>
                <a:cubicBezTo>
                  <a:pt x="1045" y="1073"/>
                  <a:pt x="1060" y="1066"/>
                  <a:pt x="1059" y="1060"/>
                </a:cubicBezTo>
                <a:cubicBezTo>
                  <a:pt x="1042" y="1070"/>
                  <a:pt x="1018" y="1077"/>
                  <a:pt x="1003" y="1090"/>
                </a:cubicBezTo>
                <a:close/>
                <a:moveTo>
                  <a:pt x="938" y="1063"/>
                </a:moveTo>
                <a:cubicBezTo>
                  <a:pt x="933" y="1062"/>
                  <a:pt x="925" y="1068"/>
                  <a:pt x="924" y="1070"/>
                </a:cubicBezTo>
                <a:cubicBezTo>
                  <a:pt x="927" y="1066"/>
                  <a:pt x="935" y="1067"/>
                  <a:pt x="938" y="1063"/>
                </a:cubicBezTo>
                <a:close/>
                <a:moveTo>
                  <a:pt x="912" y="1070"/>
                </a:moveTo>
                <a:cubicBezTo>
                  <a:pt x="907" y="1075"/>
                  <a:pt x="901" y="1075"/>
                  <a:pt x="895" y="1070"/>
                </a:cubicBezTo>
                <a:cubicBezTo>
                  <a:pt x="888" y="1078"/>
                  <a:pt x="875" y="1077"/>
                  <a:pt x="870" y="1086"/>
                </a:cubicBezTo>
                <a:cubicBezTo>
                  <a:pt x="871" y="1089"/>
                  <a:pt x="872" y="1088"/>
                  <a:pt x="871" y="1092"/>
                </a:cubicBezTo>
                <a:cubicBezTo>
                  <a:pt x="880" y="1093"/>
                  <a:pt x="881" y="1087"/>
                  <a:pt x="886" y="1084"/>
                </a:cubicBezTo>
                <a:cubicBezTo>
                  <a:pt x="883" y="1084"/>
                  <a:pt x="880" y="1087"/>
                  <a:pt x="878" y="1085"/>
                </a:cubicBezTo>
                <a:cubicBezTo>
                  <a:pt x="885" y="1085"/>
                  <a:pt x="885" y="1078"/>
                  <a:pt x="893" y="1079"/>
                </a:cubicBezTo>
                <a:cubicBezTo>
                  <a:pt x="893" y="1081"/>
                  <a:pt x="892" y="1081"/>
                  <a:pt x="892" y="1083"/>
                </a:cubicBezTo>
                <a:cubicBezTo>
                  <a:pt x="901" y="1081"/>
                  <a:pt x="911" y="1078"/>
                  <a:pt x="917" y="1072"/>
                </a:cubicBezTo>
                <a:cubicBezTo>
                  <a:pt x="914" y="1072"/>
                  <a:pt x="909" y="1073"/>
                  <a:pt x="912" y="1070"/>
                </a:cubicBezTo>
                <a:close/>
                <a:moveTo>
                  <a:pt x="720" y="1088"/>
                </a:moveTo>
                <a:cubicBezTo>
                  <a:pt x="720" y="1088"/>
                  <a:pt x="726" y="1085"/>
                  <a:pt x="725" y="1084"/>
                </a:cubicBezTo>
                <a:cubicBezTo>
                  <a:pt x="723" y="1085"/>
                  <a:pt x="717" y="1086"/>
                  <a:pt x="720" y="1088"/>
                </a:cubicBezTo>
                <a:close/>
                <a:moveTo>
                  <a:pt x="960" y="1100"/>
                </a:moveTo>
                <a:cubicBezTo>
                  <a:pt x="964" y="1100"/>
                  <a:pt x="967" y="1098"/>
                  <a:pt x="971" y="1096"/>
                </a:cubicBezTo>
                <a:cubicBezTo>
                  <a:pt x="971" y="1094"/>
                  <a:pt x="969" y="1094"/>
                  <a:pt x="971" y="1092"/>
                </a:cubicBezTo>
                <a:cubicBezTo>
                  <a:pt x="968" y="1094"/>
                  <a:pt x="966" y="1090"/>
                  <a:pt x="966" y="1094"/>
                </a:cubicBezTo>
                <a:cubicBezTo>
                  <a:pt x="965" y="1096"/>
                  <a:pt x="970" y="1093"/>
                  <a:pt x="970" y="1096"/>
                </a:cubicBezTo>
                <a:cubicBezTo>
                  <a:pt x="966" y="1097"/>
                  <a:pt x="963" y="1098"/>
                  <a:pt x="960" y="1100"/>
                </a:cubicBezTo>
                <a:close/>
                <a:moveTo>
                  <a:pt x="915" y="1103"/>
                </a:moveTo>
                <a:cubicBezTo>
                  <a:pt x="922" y="1100"/>
                  <a:pt x="929" y="1098"/>
                  <a:pt x="935" y="1094"/>
                </a:cubicBezTo>
                <a:cubicBezTo>
                  <a:pt x="927" y="1095"/>
                  <a:pt x="918" y="1100"/>
                  <a:pt x="915" y="1103"/>
                </a:cubicBezTo>
                <a:close/>
                <a:moveTo>
                  <a:pt x="903" y="1095"/>
                </a:moveTo>
                <a:cubicBezTo>
                  <a:pt x="900" y="1094"/>
                  <a:pt x="899" y="1096"/>
                  <a:pt x="897" y="1095"/>
                </a:cubicBezTo>
                <a:cubicBezTo>
                  <a:pt x="897" y="1099"/>
                  <a:pt x="891" y="1096"/>
                  <a:pt x="893" y="1099"/>
                </a:cubicBezTo>
                <a:cubicBezTo>
                  <a:pt x="895" y="1097"/>
                  <a:pt x="901" y="1098"/>
                  <a:pt x="903" y="1095"/>
                </a:cubicBezTo>
                <a:close/>
                <a:moveTo>
                  <a:pt x="974" y="1099"/>
                </a:moveTo>
                <a:cubicBezTo>
                  <a:pt x="970" y="1100"/>
                  <a:pt x="967" y="1102"/>
                  <a:pt x="964" y="1104"/>
                </a:cubicBezTo>
                <a:cubicBezTo>
                  <a:pt x="969" y="1104"/>
                  <a:pt x="972" y="1101"/>
                  <a:pt x="974" y="1099"/>
                </a:cubicBezTo>
                <a:close/>
                <a:moveTo>
                  <a:pt x="878" y="1116"/>
                </a:moveTo>
                <a:cubicBezTo>
                  <a:pt x="887" y="1110"/>
                  <a:pt x="906" y="1109"/>
                  <a:pt x="911" y="1103"/>
                </a:cubicBezTo>
                <a:cubicBezTo>
                  <a:pt x="910" y="1104"/>
                  <a:pt x="903" y="1105"/>
                  <a:pt x="903" y="1104"/>
                </a:cubicBezTo>
                <a:cubicBezTo>
                  <a:pt x="904" y="1103"/>
                  <a:pt x="907" y="1101"/>
                  <a:pt x="904" y="1100"/>
                </a:cubicBezTo>
                <a:cubicBezTo>
                  <a:pt x="893" y="1105"/>
                  <a:pt x="883" y="1108"/>
                  <a:pt x="873" y="1113"/>
                </a:cubicBezTo>
                <a:cubicBezTo>
                  <a:pt x="876" y="1113"/>
                  <a:pt x="875" y="1116"/>
                  <a:pt x="878" y="1116"/>
                </a:cubicBezTo>
                <a:close/>
                <a:moveTo>
                  <a:pt x="812" y="1117"/>
                </a:moveTo>
                <a:cubicBezTo>
                  <a:pt x="814" y="1114"/>
                  <a:pt x="820" y="1121"/>
                  <a:pt x="820" y="1116"/>
                </a:cubicBezTo>
                <a:cubicBezTo>
                  <a:pt x="819" y="1114"/>
                  <a:pt x="810" y="1115"/>
                  <a:pt x="812" y="1117"/>
                </a:cubicBezTo>
                <a:close/>
                <a:moveTo>
                  <a:pt x="925" y="1142"/>
                </a:moveTo>
                <a:cubicBezTo>
                  <a:pt x="920" y="1144"/>
                  <a:pt x="916" y="1147"/>
                  <a:pt x="911" y="1149"/>
                </a:cubicBezTo>
                <a:cubicBezTo>
                  <a:pt x="917" y="1148"/>
                  <a:pt x="921" y="1146"/>
                  <a:pt x="925" y="1142"/>
                </a:cubicBezTo>
                <a:close/>
                <a:moveTo>
                  <a:pt x="713" y="1155"/>
                </a:moveTo>
                <a:cubicBezTo>
                  <a:pt x="717" y="1153"/>
                  <a:pt x="721" y="1152"/>
                  <a:pt x="724" y="1149"/>
                </a:cubicBezTo>
                <a:cubicBezTo>
                  <a:pt x="721" y="1151"/>
                  <a:pt x="712" y="1152"/>
                  <a:pt x="713" y="1155"/>
                </a:cubicBezTo>
                <a:close/>
                <a:moveTo>
                  <a:pt x="872" y="1168"/>
                </a:moveTo>
                <a:cubicBezTo>
                  <a:pt x="880" y="1167"/>
                  <a:pt x="885" y="1163"/>
                  <a:pt x="890" y="1159"/>
                </a:cubicBezTo>
                <a:cubicBezTo>
                  <a:pt x="897" y="1157"/>
                  <a:pt x="908" y="1154"/>
                  <a:pt x="909" y="1149"/>
                </a:cubicBezTo>
                <a:cubicBezTo>
                  <a:pt x="902" y="1152"/>
                  <a:pt x="893" y="1157"/>
                  <a:pt x="885" y="1158"/>
                </a:cubicBezTo>
                <a:cubicBezTo>
                  <a:pt x="886" y="1163"/>
                  <a:pt x="874" y="1163"/>
                  <a:pt x="872" y="1168"/>
                </a:cubicBezTo>
                <a:close/>
                <a:moveTo>
                  <a:pt x="1138" y="208"/>
                </a:moveTo>
                <a:cubicBezTo>
                  <a:pt x="1129" y="210"/>
                  <a:pt x="1123" y="214"/>
                  <a:pt x="1123" y="223"/>
                </a:cubicBezTo>
                <a:cubicBezTo>
                  <a:pt x="1124" y="224"/>
                  <a:pt x="1126" y="226"/>
                  <a:pt x="1129" y="225"/>
                </a:cubicBezTo>
                <a:cubicBezTo>
                  <a:pt x="1131" y="223"/>
                  <a:pt x="1128" y="220"/>
                  <a:pt x="1132" y="219"/>
                </a:cubicBezTo>
                <a:cubicBezTo>
                  <a:pt x="1132" y="221"/>
                  <a:pt x="1132" y="221"/>
                  <a:pt x="1132" y="221"/>
                </a:cubicBezTo>
                <a:cubicBezTo>
                  <a:pt x="1136" y="219"/>
                  <a:pt x="1139" y="213"/>
                  <a:pt x="1138" y="208"/>
                </a:cubicBezTo>
                <a:close/>
                <a:moveTo>
                  <a:pt x="1097" y="931"/>
                </a:moveTo>
                <a:cubicBezTo>
                  <a:pt x="1098" y="929"/>
                  <a:pt x="1096" y="925"/>
                  <a:pt x="1099" y="923"/>
                </a:cubicBezTo>
                <a:cubicBezTo>
                  <a:pt x="1097" y="922"/>
                  <a:pt x="1096" y="921"/>
                  <a:pt x="1095" y="920"/>
                </a:cubicBezTo>
                <a:cubicBezTo>
                  <a:pt x="1093" y="926"/>
                  <a:pt x="1082" y="928"/>
                  <a:pt x="1085" y="936"/>
                </a:cubicBezTo>
                <a:cubicBezTo>
                  <a:pt x="1087" y="931"/>
                  <a:pt x="1091" y="928"/>
                  <a:pt x="1097" y="931"/>
                </a:cubicBezTo>
                <a:close/>
                <a:moveTo>
                  <a:pt x="1152" y="971"/>
                </a:moveTo>
                <a:cubicBezTo>
                  <a:pt x="1156" y="976"/>
                  <a:pt x="1150" y="978"/>
                  <a:pt x="1151" y="981"/>
                </a:cubicBezTo>
                <a:cubicBezTo>
                  <a:pt x="1154" y="978"/>
                  <a:pt x="1161" y="979"/>
                  <a:pt x="1160" y="972"/>
                </a:cubicBezTo>
                <a:cubicBezTo>
                  <a:pt x="1157" y="971"/>
                  <a:pt x="1154" y="971"/>
                  <a:pt x="1152" y="971"/>
                </a:cubicBezTo>
                <a:close/>
                <a:moveTo>
                  <a:pt x="1069" y="974"/>
                </a:moveTo>
                <a:cubicBezTo>
                  <a:pt x="1067" y="975"/>
                  <a:pt x="1066" y="977"/>
                  <a:pt x="1065" y="979"/>
                </a:cubicBezTo>
                <a:cubicBezTo>
                  <a:pt x="1064" y="978"/>
                  <a:pt x="1063" y="977"/>
                  <a:pt x="1060" y="977"/>
                </a:cubicBezTo>
                <a:cubicBezTo>
                  <a:pt x="1062" y="985"/>
                  <a:pt x="1073" y="982"/>
                  <a:pt x="1077" y="977"/>
                </a:cubicBezTo>
                <a:cubicBezTo>
                  <a:pt x="1073" y="979"/>
                  <a:pt x="1073" y="974"/>
                  <a:pt x="1069" y="974"/>
                </a:cubicBezTo>
                <a:close/>
                <a:moveTo>
                  <a:pt x="1015" y="1019"/>
                </a:moveTo>
                <a:cubicBezTo>
                  <a:pt x="1015" y="1021"/>
                  <a:pt x="1010" y="1023"/>
                  <a:pt x="1013" y="1024"/>
                </a:cubicBezTo>
                <a:cubicBezTo>
                  <a:pt x="1014" y="1021"/>
                  <a:pt x="1019" y="1022"/>
                  <a:pt x="1021" y="1020"/>
                </a:cubicBezTo>
                <a:cubicBezTo>
                  <a:pt x="1022" y="1016"/>
                  <a:pt x="1015" y="1018"/>
                  <a:pt x="1016" y="1014"/>
                </a:cubicBezTo>
                <a:cubicBezTo>
                  <a:pt x="1023" y="1013"/>
                  <a:pt x="1021" y="1005"/>
                  <a:pt x="1027" y="1005"/>
                </a:cubicBezTo>
                <a:cubicBezTo>
                  <a:pt x="1028" y="1001"/>
                  <a:pt x="1026" y="1000"/>
                  <a:pt x="1024" y="999"/>
                </a:cubicBezTo>
                <a:cubicBezTo>
                  <a:pt x="1020" y="1003"/>
                  <a:pt x="1016" y="1007"/>
                  <a:pt x="1012" y="1012"/>
                </a:cubicBezTo>
                <a:cubicBezTo>
                  <a:pt x="1010" y="1012"/>
                  <a:pt x="1011" y="1008"/>
                  <a:pt x="1009" y="1008"/>
                </a:cubicBezTo>
                <a:cubicBezTo>
                  <a:pt x="1004" y="1017"/>
                  <a:pt x="990" y="1020"/>
                  <a:pt x="984" y="1030"/>
                </a:cubicBezTo>
                <a:cubicBezTo>
                  <a:pt x="988" y="1032"/>
                  <a:pt x="987" y="1027"/>
                  <a:pt x="989" y="1027"/>
                </a:cubicBezTo>
                <a:cubicBezTo>
                  <a:pt x="998" y="1028"/>
                  <a:pt x="1005" y="1014"/>
                  <a:pt x="1015" y="1019"/>
                </a:cubicBezTo>
                <a:close/>
                <a:moveTo>
                  <a:pt x="910" y="1114"/>
                </a:moveTo>
                <a:cubicBezTo>
                  <a:pt x="897" y="1124"/>
                  <a:pt x="876" y="1122"/>
                  <a:pt x="863" y="1132"/>
                </a:cubicBezTo>
                <a:cubicBezTo>
                  <a:pt x="857" y="1129"/>
                  <a:pt x="843" y="1133"/>
                  <a:pt x="841" y="1139"/>
                </a:cubicBezTo>
                <a:cubicBezTo>
                  <a:pt x="839" y="1138"/>
                  <a:pt x="836" y="1137"/>
                  <a:pt x="836" y="1134"/>
                </a:cubicBezTo>
                <a:cubicBezTo>
                  <a:pt x="838" y="1129"/>
                  <a:pt x="849" y="1134"/>
                  <a:pt x="848" y="1126"/>
                </a:cubicBezTo>
                <a:cubicBezTo>
                  <a:pt x="841" y="1128"/>
                  <a:pt x="829" y="1131"/>
                  <a:pt x="831" y="1137"/>
                </a:cubicBezTo>
                <a:cubicBezTo>
                  <a:pt x="829" y="1137"/>
                  <a:pt x="829" y="1139"/>
                  <a:pt x="827" y="1138"/>
                </a:cubicBezTo>
                <a:cubicBezTo>
                  <a:pt x="827" y="1142"/>
                  <a:pt x="831" y="1141"/>
                  <a:pt x="830" y="1145"/>
                </a:cubicBezTo>
                <a:cubicBezTo>
                  <a:pt x="828" y="1146"/>
                  <a:pt x="825" y="1147"/>
                  <a:pt x="822" y="1148"/>
                </a:cubicBezTo>
                <a:cubicBezTo>
                  <a:pt x="821" y="1152"/>
                  <a:pt x="827" y="1149"/>
                  <a:pt x="828" y="1151"/>
                </a:cubicBezTo>
                <a:cubicBezTo>
                  <a:pt x="824" y="1157"/>
                  <a:pt x="822" y="1166"/>
                  <a:pt x="813" y="1168"/>
                </a:cubicBezTo>
                <a:cubicBezTo>
                  <a:pt x="815" y="1171"/>
                  <a:pt x="819" y="1167"/>
                  <a:pt x="819" y="1169"/>
                </a:cubicBezTo>
                <a:cubicBezTo>
                  <a:pt x="814" y="1172"/>
                  <a:pt x="807" y="1182"/>
                  <a:pt x="798" y="1176"/>
                </a:cubicBezTo>
                <a:cubicBezTo>
                  <a:pt x="800" y="1170"/>
                  <a:pt x="804" y="1165"/>
                  <a:pt x="810" y="1162"/>
                </a:cubicBezTo>
                <a:cubicBezTo>
                  <a:pt x="807" y="1160"/>
                  <a:pt x="811" y="1156"/>
                  <a:pt x="809" y="1153"/>
                </a:cubicBezTo>
                <a:cubicBezTo>
                  <a:pt x="802" y="1152"/>
                  <a:pt x="790" y="1156"/>
                  <a:pt x="784" y="1161"/>
                </a:cubicBezTo>
                <a:cubicBezTo>
                  <a:pt x="770" y="1155"/>
                  <a:pt x="771" y="1176"/>
                  <a:pt x="773" y="1184"/>
                </a:cubicBezTo>
                <a:cubicBezTo>
                  <a:pt x="778" y="1178"/>
                  <a:pt x="783" y="1191"/>
                  <a:pt x="788" y="1194"/>
                </a:cubicBezTo>
                <a:cubicBezTo>
                  <a:pt x="797" y="1185"/>
                  <a:pt x="809" y="1181"/>
                  <a:pt x="821" y="1176"/>
                </a:cubicBezTo>
                <a:cubicBezTo>
                  <a:pt x="823" y="1167"/>
                  <a:pt x="835" y="1169"/>
                  <a:pt x="835" y="1159"/>
                </a:cubicBezTo>
                <a:cubicBezTo>
                  <a:pt x="846" y="1154"/>
                  <a:pt x="857" y="1150"/>
                  <a:pt x="866" y="1143"/>
                </a:cubicBezTo>
                <a:cubicBezTo>
                  <a:pt x="866" y="1141"/>
                  <a:pt x="861" y="1143"/>
                  <a:pt x="862" y="1139"/>
                </a:cubicBezTo>
                <a:cubicBezTo>
                  <a:pt x="869" y="1135"/>
                  <a:pt x="879" y="1137"/>
                  <a:pt x="886" y="1135"/>
                </a:cubicBezTo>
                <a:cubicBezTo>
                  <a:pt x="899" y="1126"/>
                  <a:pt x="914" y="1127"/>
                  <a:pt x="930" y="1121"/>
                </a:cubicBezTo>
                <a:cubicBezTo>
                  <a:pt x="930" y="1118"/>
                  <a:pt x="932" y="1118"/>
                  <a:pt x="932" y="1116"/>
                </a:cubicBezTo>
                <a:cubicBezTo>
                  <a:pt x="925" y="1119"/>
                  <a:pt x="920" y="1120"/>
                  <a:pt x="910" y="1122"/>
                </a:cubicBezTo>
                <a:cubicBezTo>
                  <a:pt x="911" y="1120"/>
                  <a:pt x="913" y="1115"/>
                  <a:pt x="910" y="1114"/>
                </a:cubicBezTo>
                <a:close/>
                <a:moveTo>
                  <a:pt x="856" y="1146"/>
                </a:moveTo>
                <a:cubicBezTo>
                  <a:pt x="851" y="1147"/>
                  <a:pt x="846" y="1149"/>
                  <a:pt x="840" y="1148"/>
                </a:cubicBezTo>
                <a:cubicBezTo>
                  <a:pt x="845" y="1146"/>
                  <a:pt x="851" y="1140"/>
                  <a:pt x="857" y="1141"/>
                </a:cubicBezTo>
                <a:cubicBezTo>
                  <a:pt x="857" y="1143"/>
                  <a:pt x="855" y="1143"/>
                  <a:pt x="856" y="1146"/>
                </a:cubicBezTo>
                <a:close/>
                <a:moveTo>
                  <a:pt x="645" y="1128"/>
                </a:moveTo>
                <a:cubicBezTo>
                  <a:pt x="633" y="1130"/>
                  <a:pt x="623" y="1134"/>
                  <a:pt x="613" y="1138"/>
                </a:cubicBezTo>
                <a:cubicBezTo>
                  <a:pt x="617" y="1140"/>
                  <a:pt x="619" y="1140"/>
                  <a:pt x="616" y="1143"/>
                </a:cubicBezTo>
                <a:cubicBezTo>
                  <a:pt x="616" y="1144"/>
                  <a:pt x="618" y="1144"/>
                  <a:pt x="618" y="1146"/>
                </a:cubicBezTo>
                <a:cubicBezTo>
                  <a:pt x="627" y="1143"/>
                  <a:pt x="633" y="1139"/>
                  <a:pt x="641" y="1136"/>
                </a:cubicBezTo>
                <a:cubicBezTo>
                  <a:pt x="641" y="1133"/>
                  <a:pt x="642" y="1130"/>
                  <a:pt x="645" y="1128"/>
                </a:cubicBezTo>
                <a:close/>
                <a:moveTo>
                  <a:pt x="619" y="1141"/>
                </a:moveTo>
                <a:cubicBezTo>
                  <a:pt x="619" y="1137"/>
                  <a:pt x="625" y="1139"/>
                  <a:pt x="627" y="1137"/>
                </a:cubicBezTo>
                <a:cubicBezTo>
                  <a:pt x="626" y="1141"/>
                  <a:pt x="622" y="1140"/>
                  <a:pt x="619" y="1141"/>
                </a:cubicBezTo>
                <a:close/>
              </a:path>
            </a:pathLst>
          </a:custGeom>
          <a:solidFill>
            <a:srgbClr val="2c3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96" descr=""/>
          <p:cNvPicPr/>
          <p:nvPr/>
        </p:nvPicPr>
        <p:blipFill>
          <a:blip r:embed="rId3"/>
          <a:stretch/>
        </p:blipFill>
        <p:spPr>
          <a:xfrm>
            <a:off x="189000" y="2365200"/>
            <a:ext cx="11807640" cy="4499280"/>
          </a:xfrm>
          <a:prstGeom prst="rect">
            <a:avLst/>
          </a:prstGeom>
          <a:ln w="0">
            <a:noFill/>
          </a:ln>
        </p:spPr>
      </p:pic>
      <p:sp>
        <p:nvSpPr>
          <p:cNvPr id="85" name="矩形 96"/>
          <p:cNvSpPr/>
          <p:nvPr/>
        </p:nvSpPr>
        <p:spPr>
          <a:xfrm>
            <a:off x="0" y="6534000"/>
            <a:ext cx="12192120" cy="32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矩形 97"/>
          <p:cNvGrpSpPr/>
          <p:nvPr/>
        </p:nvGrpSpPr>
        <p:grpSpPr>
          <a:xfrm>
            <a:off x="-6480" y="6504120"/>
            <a:ext cx="12204720" cy="42840"/>
            <a:chOff x="-6480" y="6504120"/>
            <a:chExt cx="12204720" cy="42840"/>
          </a:xfrm>
        </p:grpSpPr>
        <p:pic>
          <p:nvPicPr>
            <p:cNvPr id="87" name="矩形 97" descr=""/>
            <p:cNvPicPr/>
            <p:nvPr/>
          </p:nvPicPr>
          <p:blipFill>
            <a:blip r:embed="rId5"/>
            <a:stretch/>
          </p:blipFill>
          <p:spPr>
            <a:xfrm>
              <a:off x="-6480" y="6504120"/>
              <a:ext cx="12204720" cy="4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0" y="6507000"/>
              <a:ext cx="12192120" cy="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文本框 799"/>
          <p:cNvSpPr/>
          <p:nvPr/>
        </p:nvSpPr>
        <p:spPr>
          <a:xfrm>
            <a:off x="2228400" y="261432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李旭科书法"/>
                <a:ea typeface="李旭科书法"/>
              </a:rPr>
              <a:t>目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99"/>
          <p:cNvSpPr/>
          <p:nvPr/>
        </p:nvSpPr>
        <p:spPr>
          <a:xfrm>
            <a:off x="0" y="-11160"/>
            <a:ext cx="12192120" cy="324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矩形 100"/>
          <p:cNvGrpSpPr/>
          <p:nvPr/>
        </p:nvGrpSpPr>
        <p:grpSpPr>
          <a:xfrm>
            <a:off x="-6480" y="304920"/>
            <a:ext cx="12204720" cy="48960"/>
            <a:chOff x="-6480" y="304920"/>
            <a:chExt cx="12204720" cy="48960"/>
          </a:xfrm>
        </p:grpSpPr>
        <p:pic>
          <p:nvPicPr>
            <p:cNvPr id="92" name="矩形 100" descr=""/>
            <p:cNvPicPr/>
            <p:nvPr/>
          </p:nvPicPr>
          <p:blipFill>
            <a:blip r:embed="rId7"/>
            <a:stretch/>
          </p:blipFill>
          <p:spPr>
            <a:xfrm>
              <a:off x="-6480" y="304920"/>
              <a:ext cx="12204720" cy="4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0" y="309600"/>
              <a:ext cx="12192120" cy="3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Group 696" descr=""/>
          <p:cNvPicPr/>
          <p:nvPr/>
        </p:nvPicPr>
        <p:blipFill>
          <a:blip r:embed="rId3"/>
          <a:stretch/>
        </p:blipFill>
        <p:spPr>
          <a:xfrm>
            <a:off x="189000" y="2365200"/>
            <a:ext cx="11807640" cy="4499280"/>
          </a:xfrm>
          <a:prstGeom prst="rect">
            <a:avLst/>
          </a:prstGeom>
          <a:ln w="0">
            <a:noFill/>
          </a:ln>
        </p:spPr>
      </p:pic>
      <p:sp>
        <p:nvSpPr>
          <p:cNvPr id="132" name="矩形 95"/>
          <p:cNvSpPr/>
          <p:nvPr/>
        </p:nvSpPr>
        <p:spPr>
          <a:xfrm>
            <a:off x="0" y="6534000"/>
            <a:ext cx="12192120" cy="32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矩形 96"/>
          <p:cNvGrpSpPr/>
          <p:nvPr/>
        </p:nvGrpSpPr>
        <p:grpSpPr>
          <a:xfrm>
            <a:off x="-6480" y="6504120"/>
            <a:ext cx="12204720" cy="42840"/>
            <a:chOff x="-6480" y="6504120"/>
            <a:chExt cx="12204720" cy="42840"/>
          </a:xfrm>
        </p:grpSpPr>
        <p:pic>
          <p:nvPicPr>
            <p:cNvPr id="134" name="矩形 96" descr=""/>
            <p:cNvPicPr/>
            <p:nvPr/>
          </p:nvPicPr>
          <p:blipFill>
            <a:blip r:embed="rId5"/>
            <a:stretch/>
          </p:blipFill>
          <p:spPr>
            <a:xfrm>
              <a:off x="-6480" y="6504120"/>
              <a:ext cx="12204720" cy="4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0" y="6507000"/>
              <a:ext cx="12192120" cy="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Freeform 9"/>
          <p:cNvSpPr/>
          <p:nvPr/>
        </p:nvSpPr>
        <p:spPr>
          <a:xfrm>
            <a:off x="4653000" y="1882800"/>
            <a:ext cx="2886120" cy="1779480"/>
          </a:xfrm>
          <a:custGeom>
            <a:avLst/>
            <a:gdLst>
              <a:gd name="textAreaLeft" fmla="*/ 0 w 2886120"/>
              <a:gd name="textAreaRight" fmla="*/ 2886480 w 2886120"/>
              <a:gd name="textAreaTop" fmla="*/ 0 h 1779480"/>
              <a:gd name="textAreaBottom" fmla="*/ 1779840 h 1779480"/>
            </a:gdLst>
            <a:ahLst/>
            <a:rect l="textAreaLeft" t="textAreaTop" r="textAreaRight" b="textAreaBottom"/>
            <a:pathLst>
              <a:path w="1329" h="1194">
                <a:moveTo>
                  <a:pt x="1270" y="436"/>
                </a:moveTo>
                <a:cubicBezTo>
                  <a:pt x="1273" y="435"/>
                  <a:pt x="1279" y="433"/>
                  <a:pt x="1278" y="430"/>
                </a:cubicBezTo>
                <a:cubicBezTo>
                  <a:pt x="1275" y="432"/>
                  <a:pt x="1271" y="433"/>
                  <a:pt x="1270" y="436"/>
                </a:cubicBezTo>
                <a:close/>
                <a:moveTo>
                  <a:pt x="1304" y="441"/>
                </a:moveTo>
                <a:cubicBezTo>
                  <a:pt x="1304" y="439"/>
                  <a:pt x="1303" y="438"/>
                  <a:pt x="1302" y="438"/>
                </a:cubicBezTo>
                <a:cubicBezTo>
                  <a:pt x="1302" y="439"/>
                  <a:pt x="1300" y="440"/>
                  <a:pt x="1299" y="440"/>
                </a:cubicBezTo>
                <a:cubicBezTo>
                  <a:pt x="1298" y="444"/>
                  <a:pt x="1302" y="442"/>
                  <a:pt x="1304" y="441"/>
                </a:cubicBezTo>
                <a:close/>
                <a:moveTo>
                  <a:pt x="1283" y="495"/>
                </a:moveTo>
                <a:cubicBezTo>
                  <a:pt x="1283" y="498"/>
                  <a:pt x="1276" y="498"/>
                  <a:pt x="1279" y="501"/>
                </a:cubicBezTo>
                <a:cubicBezTo>
                  <a:pt x="1280" y="499"/>
                  <a:pt x="1286" y="498"/>
                  <a:pt x="1283" y="495"/>
                </a:cubicBezTo>
                <a:close/>
                <a:moveTo>
                  <a:pt x="1286" y="505"/>
                </a:moveTo>
                <a:cubicBezTo>
                  <a:pt x="1291" y="500"/>
                  <a:pt x="1293" y="502"/>
                  <a:pt x="1301" y="503"/>
                </a:cubicBezTo>
                <a:cubicBezTo>
                  <a:pt x="1302" y="501"/>
                  <a:pt x="1305" y="501"/>
                  <a:pt x="1304" y="498"/>
                </a:cubicBezTo>
                <a:cubicBezTo>
                  <a:pt x="1296" y="495"/>
                  <a:pt x="1288" y="498"/>
                  <a:pt x="1286" y="505"/>
                </a:cubicBezTo>
                <a:close/>
                <a:moveTo>
                  <a:pt x="1327" y="419"/>
                </a:moveTo>
                <a:cubicBezTo>
                  <a:pt x="1326" y="420"/>
                  <a:pt x="1322" y="423"/>
                  <a:pt x="1325" y="425"/>
                </a:cubicBezTo>
                <a:cubicBezTo>
                  <a:pt x="1325" y="423"/>
                  <a:pt x="1329" y="420"/>
                  <a:pt x="1327" y="419"/>
                </a:cubicBezTo>
                <a:close/>
                <a:moveTo>
                  <a:pt x="1216" y="25"/>
                </a:moveTo>
                <a:cubicBezTo>
                  <a:pt x="1211" y="25"/>
                  <a:pt x="1209" y="27"/>
                  <a:pt x="1208" y="30"/>
                </a:cubicBezTo>
                <a:cubicBezTo>
                  <a:pt x="1212" y="30"/>
                  <a:pt x="1217" y="30"/>
                  <a:pt x="1216" y="25"/>
                </a:cubicBezTo>
                <a:close/>
                <a:moveTo>
                  <a:pt x="982" y="81"/>
                </a:moveTo>
                <a:cubicBezTo>
                  <a:pt x="976" y="80"/>
                  <a:pt x="972" y="85"/>
                  <a:pt x="973" y="89"/>
                </a:cubicBezTo>
                <a:cubicBezTo>
                  <a:pt x="976" y="86"/>
                  <a:pt x="980" y="84"/>
                  <a:pt x="982" y="81"/>
                </a:cubicBezTo>
                <a:close/>
                <a:moveTo>
                  <a:pt x="731" y="93"/>
                </a:moveTo>
                <a:cubicBezTo>
                  <a:pt x="728" y="93"/>
                  <a:pt x="726" y="93"/>
                  <a:pt x="726" y="95"/>
                </a:cubicBezTo>
                <a:cubicBezTo>
                  <a:pt x="727" y="97"/>
                  <a:pt x="731" y="96"/>
                  <a:pt x="731" y="93"/>
                </a:cubicBezTo>
                <a:close/>
                <a:moveTo>
                  <a:pt x="827" y="111"/>
                </a:moveTo>
                <a:cubicBezTo>
                  <a:pt x="826" y="112"/>
                  <a:pt x="823" y="112"/>
                  <a:pt x="823" y="114"/>
                </a:cubicBezTo>
                <a:cubicBezTo>
                  <a:pt x="827" y="113"/>
                  <a:pt x="829" y="110"/>
                  <a:pt x="830" y="107"/>
                </a:cubicBezTo>
                <a:cubicBezTo>
                  <a:pt x="827" y="108"/>
                  <a:pt x="821" y="107"/>
                  <a:pt x="820" y="111"/>
                </a:cubicBezTo>
                <a:cubicBezTo>
                  <a:pt x="822" y="111"/>
                  <a:pt x="826" y="108"/>
                  <a:pt x="827" y="111"/>
                </a:cubicBezTo>
                <a:close/>
                <a:moveTo>
                  <a:pt x="1020" y="108"/>
                </a:moveTo>
                <a:cubicBezTo>
                  <a:pt x="1017" y="108"/>
                  <a:pt x="1017" y="110"/>
                  <a:pt x="1016" y="112"/>
                </a:cubicBezTo>
                <a:cubicBezTo>
                  <a:pt x="1019" y="113"/>
                  <a:pt x="1019" y="110"/>
                  <a:pt x="1020" y="108"/>
                </a:cubicBezTo>
                <a:close/>
                <a:moveTo>
                  <a:pt x="552" y="137"/>
                </a:moveTo>
                <a:cubicBezTo>
                  <a:pt x="553" y="133"/>
                  <a:pt x="559" y="133"/>
                  <a:pt x="558" y="127"/>
                </a:cubicBezTo>
                <a:cubicBezTo>
                  <a:pt x="553" y="122"/>
                  <a:pt x="545" y="134"/>
                  <a:pt x="552" y="137"/>
                </a:cubicBezTo>
                <a:close/>
                <a:moveTo>
                  <a:pt x="343" y="134"/>
                </a:moveTo>
                <a:cubicBezTo>
                  <a:pt x="338" y="134"/>
                  <a:pt x="336" y="136"/>
                  <a:pt x="335" y="139"/>
                </a:cubicBezTo>
                <a:cubicBezTo>
                  <a:pt x="340" y="140"/>
                  <a:pt x="342" y="137"/>
                  <a:pt x="343" y="134"/>
                </a:cubicBezTo>
                <a:close/>
                <a:moveTo>
                  <a:pt x="1239" y="143"/>
                </a:moveTo>
                <a:cubicBezTo>
                  <a:pt x="1235" y="146"/>
                  <a:pt x="1230" y="147"/>
                  <a:pt x="1227" y="151"/>
                </a:cubicBezTo>
                <a:cubicBezTo>
                  <a:pt x="1233" y="150"/>
                  <a:pt x="1232" y="148"/>
                  <a:pt x="1238" y="147"/>
                </a:cubicBezTo>
                <a:cubicBezTo>
                  <a:pt x="1238" y="145"/>
                  <a:pt x="1239" y="145"/>
                  <a:pt x="1239" y="143"/>
                </a:cubicBezTo>
                <a:close/>
                <a:moveTo>
                  <a:pt x="1168" y="160"/>
                </a:moveTo>
                <a:cubicBezTo>
                  <a:pt x="1165" y="157"/>
                  <a:pt x="1158" y="159"/>
                  <a:pt x="1158" y="163"/>
                </a:cubicBezTo>
                <a:cubicBezTo>
                  <a:pt x="1160" y="166"/>
                  <a:pt x="1166" y="163"/>
                  <a:pt x="1168" y="160"/>
                </a:cubicBezTo>
                <a:close/>
                <a:moveTo>
                  <a:pt x="1005" y="166"/>
                </a:moveTo>
                <a:cubicBezTo>
                  <a:pt x="1009" y="167"/>
                  <a:pt x="1012" y="164"/>
                  <a:pt x="1014" y="162"/>
                </a:cubicBezTo>
                <a:cubicBezTo>
                  <a:pt x="1011" y="160"/>
                  <a:pt x="1006" y="162"/>
                  <a:pt x="1005" y="166"/>
                </a:cubicBezTo>
                <a:close/>
                <a:moveTo>
                  <a:pt x="611" y="163"/>
                </a:moveTo>
                <a:cubicBezTo>
                  <a:pt x="608" y="164"/>
                  <a:pt x="605" y="163"/>
                  <a:pt x="603" y="165"/>
                </a:cubicBezTo>
                <a:cubicBezTo>
                  <a:pt x="603" y="167"/>
                  <a:pt x="603" y="169"/>
                  <a:pt x="604" y="170"/>
                </a:cubicBezTo>
                <a:cubicBezTo>
                  <a:pt x="607" y="169"/>
                  <a:pt x="610" y="167"/>
                  <a:pt x="611" y="163"/>
                </a:cubicBezTo>
                <a:close/>
                <a:moveTo>
                  <a:pt x="1165" y="179"/>
                </a:moveTo>
                <a:cubicBezTo>
                  <a:pt x="1168" y="177"/>
                  <a:pt x="1168" y="173"/>
                  <a:pt x="1171" y="171"/>
                </a:cubicBezTo>
                <a:cubicBezTo>
                  <a:pt x="1165" y="170"/>
                  <a:pt x="1171" y="167"/>
                  <a:pt x="1170" y="163"/>
                </a:cubicBezTo>
                <a:cubicBezTo>
                  <a:pt x="1163" y="165"/>
                  <a:pt x="1159" y="170"/>
                  <a:pt x="1157" y="177"/>
                </a:cubicBezTo>
                <a:cubicBezTo>
                  <a:pt x="1160" y="176"/>
                  <a:pt x="1160" y="180"/>
                  <a:pt x="1165" y="179"/>
                </a:cubicBezTo>
                <a:close/>
                <a:moveTo>
                  <a:pt x="1070" y="192"/>
                </a:moveTo>
                <a:cubicBezTo>
                  <a:pt x="1075" y="192"/>
                  <a:pt x="1078" y="189"/>
                  <a:pt x="1085" y="188"/>
                </a:cubicBezTo>
                <a:cubicBezTo>
                  <a:pt x="1086" y="186"/>
                  <a:pt x="1088" y="185"/>
                  <a:pt x="1087" y="181"/>
                </a:cubicBezTo>
                <a:cubicBezTo>
                  <a:pt x="1083" y="181"/>
                  <a:pt x="1080" y="184"/>
                  <a:pt x="1079" y="181"/>
                </a:cubicBezTo>
                <a:cubicBezTo>
                  <a:pt x="1079" y="179"/>
                  <a:pt x="1080" y="178"/>
                  <a:pt x="1081" y="177"/>
                </a:cubicBezTo>
                <a:cubicBezTo>
                  <a:pt x="1072" y="167"/>
                  <a:pt x="1059" y="185"/>
                  <a:pt x="1070" y="192"/>
                </a:cubicBezTo>
                <a:close/>
                <a:moveTo>
                  <a:pt x="262" y="175"/>
                </a:moveTo>
                <a:cubicBezTo>
                  <a:pt x="259" y="175"/>
                  <a:pt x="259" y="179"/>
                  <a:pt x="257" y="181"/>
                </a:cubicBezTo>
                <a:cubicBezTo>
                  <a:pt x="260" y="180"/>
                  <a:pt x="263" y="179"/>
                  <a:pt x="262" y="175"/>
                </a:cubicBezTo>
                <a:close/>
                <a:moveTo>
                  <a:pt x="1056" y="194"/>
                </a:moveTo>
                <a:cubicBezTo>
                  <a:pt x="1056" y="191"/>
                  <a:pt x="1054" y="191"/>
                  <a:pt x="1053" y="190"/>
                </a:cubicBezTo>
                <a:cubicBezTo>
                  <a:pt x="1051" y="193"/>
                  <a:pt x="1044" y="192"/>
                  <a:pt x="1043" y="196"/>
                </a:cubicBezTo>
                <a:cubicBezTo>
                  <a:pt x="1049" y="197"/>
                  <a:pt x="1051" y="194"/>
                  <a:pt x="1056" y="194"/>
                </a:cubicBezTo>
                <a:close/>
                <a:moveTo>
                  <a:pt x="1041" y="196"/>
                </a:moveTo>
                <a:cubicBezTo>
                  <a:pt x="1036" y="197"/>
                  <a:pt x="1038" y="200"/>
                  <a:pt x="1037" y="203"/>
                </a:cubicBezTo>
                <a:cubicBezTo>
                  <a:pt x="1041" y="202"/>
                  <a:pt x="1040" y="199"/>
                  <a:pt x="1041" y="196"/>
                </a:cubicBezTo>
                <a:close/>
                <a:moveTo>
                  <a:pt x="1106" y="201"/>
                </a:moveTo>
                <a:cubicBezTo>
                  <a:pt x="1106" y="204"/>
                  <a:pt x="1106" y="206"/>
                  <a:pt x="1109" y="206"/>
                </a:cubicBezTo>
                <a:cubicBezTo>
                  <a:pt x="1109" y="203"/>
                  <a:pt x="1113" y="201"/>
                  <a:pt x="1109" y="200"/>
                </a:cubicBezTo>
                <a:cubicBezTo>
                  <a:pt x="1109" y="201"/>
                  <a:pt x="1108" y="201"/>
                  <a:pt x="1106" y="201"/>
                </a:cubicBezTo>
                <a:close/>
                <a:moveTo>
                  <a:pt x="1023" y="204"/>
                </a:moveTo>
                <a:cubicBezTo>
                  <a:pt x="1021" y="206"/>
                  <a:pt x="1018" y="206"/>
                  <a:pt x="1018" y="209"/>
                </a:cubicBezTo>
                <a:cubicBezTo>
                  <a:pt x="1020" y="209"/>
                  <a:pt x="1020" y="210"/>
                  <a:pt x="1021" y="210"/>
                </a:cubicBezTo>
                <a:cubicBezTo>
                  <a:pt x="1020" y="207"/>
                  <a:pt x="1026" y="207"/>
                  <a:pt x="1023" y="204"/>
                </a:cubicBezTo>
                <a:close/>
                <a:moveTo>
                  <a:pt x="1001" y="222"/>
                </a:moveTo>
                <a:cubicBezTo>
                  <a:pt x="1004" y="223"/>
                  <a:pt x="1011" y="220"/>
                  <a:pt x="1013" y="216"/>
                </a:cubicBezTo>
                <a:cubicBezTo>
                  <a:pt x="1008" y="217"/>
                  <a:pt x="1002" y="217"/>
                  <a:pt x="1001" y="222"/>
                </a:cubicBezTo>
                <a:close/>
                <a:moveTo>
                  <a:pt x="985" y="221"/>
                </a:moveTo>
                <a:cubicBezTo>
                  <a:pt x="981" y="221"/>
                  <a:pt x="979" y="223"/>
                  <a:pt x="977" y="225"/>
                </a:cubicBezTo>
                <a:cubicBezTo>
                  <a:pt x="980" y="224"/>
                  <a:pt x="985" y="226"/>
                  <a:pt x="985" y="221"/>
                </a:cubicBezTo>
                <a:close/>
                <a:moveTo>
                  <a:pt x="1122" y="240"/>
                </a:moveTo>
                <a:cubicBezTo>
                  <a:pt x="1124" y="240"/>
                  <a:pt x="1124" y="243"/>
                  <a:pt x="1126" y="244"/>
                </a:cubicBezTo>
                <a:cubicBezTo>
                  <a:pt x="1127" y="243"/>
                  <a:pt x="1128" y="243"/>
                  <a:pt x="1129" y="243"/>
                </a:cubicBezTo>
                <a:cubicBezTo>
                  <a:pt x="1129" y="241"/>
                  <a:pt x="1129" y="239"/>
                  <a:pt x="1128" y="239"/>
                </a:cubicBezTo>
                <a:cubicBezTo>
                  <a:pt x="1128" y="241"/>
                  <a:pt x="1126" y="237"/>
                  <a:pt x="1126" y="236"/>
                </a:cubicBezTo>
                <a:cubicBezTo>
                  <a:pt x="1128" y="237"/>
                  <a:pt x="1129" y="235"/>
                  <a:pt x="1127" y="234"/>
                </a:cubicBezTo>
                <a:cubicBezTo>
                  <a:pt x="1126" y="236"/>
                  <a:pt x="1124" y="236"/>
                  <a:pt x="1124" y="238"/>
                </a:cubicBezTo>
                <a:cubicBezTo>
                  <a:pt x="1127" y="241"/>
                  <a:pt x="1122" y="238"/>
                  <a:pt x="1122" y="240"/>
                </a:cubicBezTo>
                <a:close/>
                <a:moveTo>
                  <a:pt x="1145" y="258"/>
                </a:moveTo>
                <a:cubicBezTo>
                  <a:pt x="1141" y="259"/>
                  <a:pt x="1141" y="256"/>
                  <a:pt x="1138" y="256"/>
                </a:cubicBezTo>
                <a:cubicBezTo>
                  <a:pt x="1138" y="257"/>
                  <a:pt x="1138" y="259"/>
                  <a:pt x="1137" y="259"/>
                </a:cubicBezTo>
                <a:cubicBezTo>
                  <a:pt x="1141" y="260"/>
                  <a:pt x="1143" y="259"/>
                  <a:pt x="1145" y="258"/>
                </a:cubicBezTo>
                <a:close/>
                <a:moveTo>
                  <a:pt x="1140" y="326"/>
                </a:moveTo>
                <a:cubicBezTo>
                  <a:pt x="1136" y="328"/>
                  <a:pt x="1140" y="321"/>
                  <a:pt x="1136" y="323"/>
                </a:cubicBezTo>
                <a:cubicBezTo>
                  <a:pt x="1136" y="326"/>
                  <a:pt x="1139" y="330"/>
                  <a:pt x="1140" y="326"/>
                </a:cubicBezTo>
                <a:close/>
                <a:moveTo>
                  <a:pt x="1151" y="341"/>
                </a:moveTo>
                <a:cubicBezTo>
                  <a:pt x="1158" y="341"/>
                  <a:pt x="1164" y="334"/>
                  <a:pt x="1162" y="327"/>
                </a:cubicBezTo>
                <a:cubicBezTo>
                  <a:pt x="1153" y="326"/>
                  <a:pt x="1148" y="336"/>
                  <a:pt x="1151" y="341"/>
                </a:cubicBezTo>
                <a:close/>
                <a:moveTo>
                  <a:pt x="119" y="329"/>
                </a:moveTo>
                <a:cubicBezTo>
                  <a:pt x="115" y="329"/>
                  <a:pt x="113" y="330"/>
                  <a:pt x="111" y="333"/>
                </a:cubicBezTo>
                <a:cubicBezTo>
                  <a:pt x="116" y="334"/>
                  <a:pt x="116" y="331"/>
                  <a:pt x="119" y="329"/>
                </a:cubicBezTo>
                <a:close/>
                <a:moveTo>
                  <a:pt x="1131" y="342"/>
                </a:moveTo>
                <a:cubicBezTo>
                  <a:pt x="1132" y="338"/>
                  <a:pt x="1134" y="336"/>
                  <a:pt x="1136" y="334"/>
                </a:cubicBezTo>
                <a:cubicBezTo>
                  <a:pt x="1131" y="335"/>
                  <a:pt x="1129" y="335"/>
                  <a:pt x="1127" y="337"/>
                </a:cubicBezTo>
                <a:cubicBezTo>
                  <a:pt x="1131" y="336"/>
                  <a:pt x="1126" y="342"/>
                  <a:pt x="1131" y="342"/>
                </a:cubicBezTo>
                <a:close/>
                <a:moveTo>
                  <a:pt x="1136" y="343"/>
                </a:moveTo>
                <a:cubicBezTo>
                  <a:pt x="1132" y="343"/>
                  <a:pt x="1128" y="341"/>
                  <a:pt x="1128" y="347"/>
                </a:cubicBezTo>
                <a:cubicBezTo>
                  <a:pt x="1131" y="349"/>
                  <a:pt x="1136" y="346"/>
                  <a:pt x="1136" y="343"/>
                </a:cubicBezTo>
                <a:close/>
                <a:moveTo>
                  <a:pt x="1208" y="347"/>
                </a:moveTo>
                <a:cubicBezTo>
                  <a:pt x="1208" y="345"/>
                  <a:pt x="1208" y="344"/>
                  <a:pt x="1209" y="343"/>
                </a:cubicBezTo>
                <a:cubicBezTo>
                  <a:pt x="1202" y="345"/>
                  <a:pt x="1195" y="346"/>
                  <a:pt x="1192" y="351"/>
                </a:cubicBezTo>
                <a:cubicBezTo>
                  <a:pt x="1199" y="351"/>
                  <a:pt x="1202" y="345"/>
                  <a:pt x="1208" y="347"/>
                </a:cubicBezTo>
                <a:close/>
                <a:moveTo>
                  <a:pt x="1191" y="376"/>
                </a:moveTo>
                <a:cubicBezTo>
                  <a:pt x="1204" y="374"/>
                  <a:pt x="1208" y="366"/>
                  <a:pt x="1215" y="359"/>
                </a:cubicBezTo>
                <a:cubicBezTo>
                  <a:pt x="1204" y="358"/>
                  <a:pt x="1200" y="365"/>
                  <a:pt x="1191" y="367"/>
                </a:cubicBezTo>
                <a:cubicBezTo>
                  <a:pt x="1192" y="371"/>
                  <a:pt x="1193" y="374"/>
                  <a:pt x="1191" y="376"/>
                </a:cubicBezTo>
                <a:close/>
                <a:moveTo>
                  <a:pt x="1212" y="393"/>
                </a:moveTo>
                <a:cubicBezTo>
                  <a:pt x="1211" y="399"/>
                  <a:pt x="1207" y="394"/>
                  <a:pt x="1203" y="400"/>
                </a:cubicBezTo>
                <a:cubicBezTo>
                  <a:pt x="1208" y="400"/>
                  <a:pt x="1209" y="398"/>
                  <a:pt x="1212" y="398"/>
                </a:cubicBezTo>
                <a:cubicBezTo>
                  <a:pt x="1213" y="399"/>
                  <a:pt x="1212" y="400"/>
                  <a:pt x="1212" y="401"/>
                </a:cubicBezTo>
                <a:cubicBezTo>
                  <a:pt x="1218" y="401"/>
                  <a:pt x="1216" y="395"/>
                  <a:pt x="1212" y="393"/>
                </a:cubicBezTo>
                <a:close/>
                <a:moveTo>
                  <a:pt x="1108" y="408"/>
                </a:moveTo>
                <a:cubicBezTo>
                  <a:pt x="1110" y="408"/>
                  <a:pt x="1110" y="408"/>
                  <a:pt x="1110" y="408"/>
                </a:cubicBezTo>
                <a:cubicBezTo>
                  <a:pt x="1110" y="409"/>
                  <a:pt x="1109" y="413"/>
                  <a:pt x="1111" y="413"/>
                </a:cubicBezTo>
                <a:cubicBezTo>
                  <a:pt x="1113" y="411"/>
                  <a:pt x="1110" y="410"/>
                  <a:pt x="1111" y="407"/>
                </a:cubicBezTo>
                <a:cubicBezTo>
                  <a:pt x="1110" y="407"/>
                  <a:pt x="1108" y="407"/>
                  <a:pt x="1108" y="408"/>
                </a:cubicBezTo>
                <a:close/>
                <a:moveTo>
                  <a:pt x="1147" y="417"/>
                </a:moveTo>
                <a:cubicBezTo>
                  <a:pt x="1150" y="416"/>
                  <a:pt x="1152" y="414"/>
                  <a:pt x="1155" y="414"/>
                </a:cubicBezTo>
                <a:cubicBezTo>
                  <a:pt x="1156" y="410"/>
                  <a:pt x="1152" y="413"/>
                  <a:pt x="1152" y="411"/>
                </a:cubicBezTo>
                <a:cubicBezTo>
                  <a:pt x="1153" y="411"/>
                  <a:pt x="1154" y="411"/>
                  <a:pt x="1154" y="410"/>
                </a:cubicBezTo>
                <a:cubicBezTo>
                  <a:pt x="1150" y="409"/>
                  <a:pt x="1149" y="411"/>
                  <a:pt x="1147" y="412"/>
                </a:cubicBezTo>
                <a:cubicBezTo>
                  <a:pt x="1147" y="413"/>
                  <a:pt x="1145" y="417"/>
                  <a:pt x="1147" y="417"/>
                </a:cubicBezTo>
                <a:close/>
                <a:moveTo>
                  <a:pt x="1179" y="431"/>
                </a:moveTo>
                <a:cubicBezTo>
                  <a:pt x="1183" y="429"/>
                  <a:pt x="1188" y="427"/>
                  <a:pt x="1193" y="425"/>
                </a:cubicBezTo>
                <a:cubicBezTo>
                  <a:pt x="1195" y="426"/>
                  <a:pt x="1192" y="428"/>
                  <a:pt x="1194" y="429"/>
                </a:cubicBezTo>
                <a:cubicBezTo>
                  <a:pt x="1200" y="429"/>
                  <a:pt x="1200" y="429"/>
                  <a:pt x="1200" y="429"/>
                </a:cubicBezTo>
                <a:cubicBezTo>
                  <a:pt x="1202" y="426"/>
                  <a:pt x="1204" y="421"/>
                  <a:pt x="1209" y="419"/>
                </a:cubicBezTo>
                <a:cubicBezTo>
                  <a:pt x="1210" y="418"/>
                  <a:pt x="1206" y="416"/>
                  <a:pt x="1209" y="416"/>
                </a:cubicBezTo>
                <a:cubicBezTo>
                  <a:pt x="1210" y="411"/>
                  <a:pt x="1197" y="413"/>
                  <a:pt x="1191" y="416"/>
                </a:cubicBezTo>
                <a:cubicBezTo>
                  <a:pt x="1191" y="421"/>
                  <a:pt x="1179" y="427"/>
                  <a:pt x="1179" y="431"/>
                </a:cubicBezTo>
                <a:close/>
                <a:moveTo>
                  <a:pt x="1073" y="425"/>
                </a:moveTo>
                <a:cubicBezTo>
                  <a:pt x="1075" y="425"/>
                  <a:pt x="1075" y="426"/>
                  <a:pt x="1077" y="426"/>
                </a:cubicBezTo>
                <a:cubicBezTo>
                  <a:pt x="1076" y="420"/>
                  <a:pt x="1083" y="422"/>
                  <a:pt x="1082" y="416"/>
                </a:cubicBezTo>
                <a:cubicBezTo>
                  <a:pt x="1079" y="416"/>
                  <a:pt x="1079" y="416"/>
                  <a:pt x="1079" y="416"/>
                </a:cubicBezTo>
                <a:cubicBezTo>
                  <a:pt x="1080" y="420"/>
                  <a:pt x="1075" y="418"/>
                  <a:pt x="1074" y="420"/>
                </a:cubicBezTo>
                <a:cubicBezTo>
                  <a:pt x="1077" y="422"/>
                  <a:pt x="1072" y="422"/>
                  <a:pt x="1073" y="425"/>
                </a:cubicBezTo>
                <a:close/>
                <a:moveTo>
                  <a:pt x="1152" y="425"/>
                </a:moveTo>
                <a:cubicBezTo>
                  <a:pt x="1154" y="425"/>
                  <a:pt x="1157" y="425"/>
                  <a:pt x="1158" y="424"/>
                </a:cubicBezTo>
                <a:cubicBezTo>
                  <a:pt x="1160" y="417"/>
                  <a:pt x="1152" y="422"/>
                  <a:pt x="1157" y="417"/>
                </a:cubicBezTo>
                <a:cubicBezTo>
                  <a:pt x="1154" y="418"/>
                  <a:pt x="1150" y="418"/>
                  <a:pt x="1149" y="421"/>
                </a:cubicBezTo>
                <a:cubicBezTo>
                  <a:pt x="1152" y="422"/>
                  <a:pt x="1154" y="419"/>
                  <a:pt x="1154" y="421"/>
                </a:cubicBezTo>
                <a:cubicBezTo>
                  <a:pt x="1152" y="421"/>
                  <a:pt x="1152" y="423"/>
                  <a:pt x="1152" y="425"/>
                </a:cubicBezTo>
                <a:close/>
                <a:moveTo>
                  <a:pt x="1104" y="424"/>
                </a:moveTo>
                <a:cubicBezTo>
                  <a:pt x="1107" y="423"/>
                  <a:pt x="1110" y="420"/>
                  <a:pt x="1109" y="418"/>
                </a:cubicBezTo>
                <a:cubicBezTo>
                  <a:pt x="1108" y="420"/>
                  <a:pt x="1104" y="420"/>
                  <a:pt x="1104" y="424"/>
                </a:cubicBezTo>
                <a:close/>
                <a:moveTo>
                  <a:pt x="68" y="432"/>
                </a:moveTo>
                <a:cubicBezTo>
                  <a:pt x="68" y="429"/>
                  <a:pt x="68" y="429"/>
                  <a:pt x="68" y="429"/>
                </a:cubicBezTo>
                <a:cubicBezTo>
                  <a:pt x="67" y="429"/>
                  <a:pt x="65" y="428"/>
                  <a:pt x="65" y="429"/>
                </a:cubicBezTo>
                <a:cubicBezTo>
                  <a:pt x="66" y="430"/>
                  <a:pt x="65" y="433"/>
                  <a:pt x="68" y="432"/>
                </a:cubicBezTo>
                <a:close/>
                <a:moveTo>
                  <a:pt x="1185" y="436"/>
                </a:moveTo>
                <a:cubicBezTo>
                  <a:pt x="1190" y="436"/>
                  <a:pt x="1193" y="434"/>
                  <a:pt x="1195" y="431"/>
                </a:cubicBezTo>
                <a:cubicBezTo>
                  <a:pt x="1192" y="430"/>
                  <a:pt x="1187" y="434"/>
                  <a:pt x="1185" y="436"/>
                </a:cubicBezTo>
                <a:close/>
                <a:moveTo>
                  <a:pt x="1159" y="432"/>
                </a:moveTo>
                <a:cubicBezTo>
                  <a:pt x="1158" y="436"/>
                  <a:pt x="1154" y="437"/>
                  <a:pt x="1153" y="441"/>
                </a:cubicBezTo>
                <a:cubicBezTo>
                  <a:pt x="1158" y="440"/>
                  <a:pt x="1161" y="438"/>
                  <a:pt x="1164" y="435"/>
                </a:cubicBezTo>
                <a:cubicBezTo>
                  <a:pt x="1161" y="435"/>
                  <a:pt x="1162" y="432"/>
                  <a:pt x="1159" y="432"/>
                </a:cubicBezTo>
                <a:close/>
                <a:moveTo>
                  <a:pt x="1201" y="437"/>
                </a:moveTo>
                <a:cubicBezTo>
                  <a:pt x="1199" y="437"/>
                  <a:pt x="1199" y="437"/>
                  <a:pt x="1199" y="437"/>
                </a:cubicBezTo>
                <a:cubicBezTo>
                  <a:pt x="1198" y="442"/>
                  <a:pt x="1192" y="441"/>
                  <a:pt x="1191" y="445"/>
                </a:cubicBezTo>
                <a:cubicBezTo>
                  <a:pt x="1194" y="442"/>
                  <a:pt x="1201" y="443"/>
                  <a:pt x="1201" y="437"/>
                </a:cubicBezTo>
                <a:close/>
                <a:moveTo>
                  <a:pt x="1240" y="443"/>
                </a:moveTo>
                <a:cubicBezTo>
                  <a:pt x="1239" y="440"/>
                  <a:pt x="1241" y="439"/>
                  <a:pt x="1241" y="437"/>
                </a:cubicBezTo>
                <a:cubicBezTo>
                  <a:pt x="1234" y="438"/>
                  <a:pt x="1228" y="441"/>
                  <a:pt x="1226" y="447"/>
                </a:cubicBezTo>
                <a:cubicBezTo>
                  <a:pt x="1233" y="448"/>
                  <a:pt x="1234" y="443"/>
                  <a:pt x="1240" y="443"/>
                </a:cubicBezTo>
                <a:close/>
                <a:moveTo>
                  <a:pt x="1059" y="439"/>
                </a:moveTo>
                <a:cubicBezTo>
                  <a:pt x="1051" y="438"/>
                  <a:pt x="1048" y="443"/>
                  <a:pt x="1048" y="450"/>
                </a:cubicBezTo>
                <a:cubicBezTo>
                  <a:pt x="1043" y="453"/>
                  <a:pt x="1037" y="456"/>
                  <a:pt x="1032" y="459"/>
                </a:cubicBezTo>
                <a:cubicBezTo>
                  <a:pt x="1031" y="463"/>
                  <a:pt x="1033" y="464"/>
                  <a:pt x="1035" y="466"/>
                </a:cubicBezTo>
                <a:cubicBezTo>
                  <a:pt x="1039" y="464"/>
                  <a:pt x="1042" y="461"/>
                  <a:pt x="1048" y="461"/>
                </a:cubicBezTo>
                <a:cubicBezTo>
                  <a:pt x="1049" y="458"/>
                  <a:pt x="1045" y="460"/>
                  <a:pt x="1046" y="457"/>
                </a:cubicBezTo>
                <a:cubicBezTo>
                  <a:pt x="1051" y="456"/>
                  <a:pt x="1055" y="454"/>
                  <a:pt x="1058" y="451"/>
                </a:cubicBezTo>
                <a:cubicBezTo>
                  <a:pt x="1055" y="450"/>
                  <a:pt x="1054" y="452"/>
                  <a:pt x="1052" y="452"/>
                </a:cubicBezTo>
                <a:cubicBezTo>
                  <a:pt x="1055" y="449"/>
                  <a:pt x="1050" y="450"/>
                  <a:pt x="1050" y="449"/>
                </a:cubicBezTo>
                <a:cubicBezTo>
                  <a:pt x="1051" y="444"/>
                  <a:pt x="1057" y="444"/>
                  <a:pt x="1059" y="439"/>
                </a:cubicBezTo>
                <a:close/>
                <a:moveTo>
                  <a:pt x="1030" y="451"/>
                </a:moveTo>
                <a:cubicBezTo>
                  <a:pt x="1032" y="453"/>
                  <a:pt x="1034" y="451"/>
                  <a:pt x="1037" y="451"/>
                </a:cubicBezTo>
                <a:cubicBezTo>
                  <a:pt x="1037" y="448"/>
                  <a:pt x="1035" y="448"/>
                  <a:pt x="1036" y="446"/>
                </a:cubicBezTo>
                <a:cubicBezTo>
                  <a:pt x="1032" y="446"/>
                  <a:pt x="1031" y="448"/>
                  <a:pt x="1030" y="451"/>
                </a:cubicBezTo>
                <a:close/>
                <a:moveTo>
                  <a:pt x="1194" y="448"/>
                </a:moveTo>
                <a:cubicBezTo>
                  <a:pt x="1193" y="449"/>
                  <a:pt x="1193" y="451"/>
                  <a:pt x="1193" y="453"/>
                </a:cubicBezTo>
                <a:cubicBezTo>
                  <a:pt x="1196" y="452"/>
                  <a:pt x="1198" y="451"/>
                  <a:pt x="1199" y="449"/>
                </a:cubicBezTo>
                <a:cubicBezTo>
                  <a:pt x="1197" y="449"/>
                  <a:pt x="1197" y="447"/>
                  <a:pt x="1194" y="448"/>
                </a:cubicBezTo>
                <a:close/>
                <a:moveTo>
                  <a:pt x="1245" y="449"/>
                </a:moveTo>
                <a:cubicBezTo>
                  <a:pt x="1243" y="449"/>
                  <a:pt x="1243" y="450"/>
                  <a:pt x="1241" y="450"/>
                </a:cubicBezTo>
                <a:cubicBezTo>
                  <a:pt x="1241" y="449"/>
                  <a:pt x="1240" y="448"/>
                  <a:pt x="1239" y="448"/>
                </a:cubicBezTo>
                <a:cubicBezTo>
                  <a:pt x="1239" y="450"/>
                  <a:pt x="1237" y="452"/>
                  <a:pt x="1238" y="455"/>
                </a:cubicBezTo>
                <a:cubicBezTo>
                  <a:pt x="1241" y="454"/>
                  <a:pt x="1242" y="451"/>
                  <a:pt x="1245" y="449"/>
                </a:cubicBezTo>
                <a:close/>
                <a:moveTo>
                  <a:pt x="1212" y="456"/>
                </a:moveTo>
                <a:cubicBezTo>
                  <a:pt x="1213" y="457"/>
                  <a:pt x="1211" y="452"/>
                  <a:pt x="1209" y="452"/>
                </a:cubicBezTo>
                <a:cubicBezTo>
                  <a:pt x="1207" y="455"/>
                  <a:pt x="1205" y="452"/>
                  <a:pt x="1203" y="453"/>
                </a:cubicBezTo>
                <a:cubicBezTo>
                  <a:pt x="1195" y="454"/>
                  <a:pt x="1192" y="462"/>
                  <a:pt x="1185" y="466"/>
                </a:cubicBezTo>
                <a:cubicBezTo>
                  <a:pt x="1177" y="470"/>
                  <a:pt x="1168" y="473"/>
                  <a:pt x="1159" y="477"/>
                </a:cubicBezTo>
                <a:cubicBezTo>
                  <a:pt x="1159" y="480"/>
                  <a:pt x="1156" y="481"/>
                  <a:pt x="1156" y="484"/>
                </a:cubicBezTo>
                <a:cubicBezTo>
                  <a:pt x="1168" y="484"/>
                  <a:pt x="1178" y="470"/>
                  <a:pt x="1195" y="468"/>
                </a:cubicBezTo>
                <a:cubicBezTo>
                  <a:pt x="1200" y="463"/>
                  <a:pt x="1207" y="460"/>
                  <a:pt x="1212" y="456"/>
                </a:cubicBezTo>
                <a:close/>
                <a:moveTo>
                  <a:pt x="1055" y="455"/>
                </a:moveTo>
                <a:cubicBezTo>
                  <a:pt x="1055" y="457"/>
                  <a:pt x="1051" y="456"/>
                  <a:pt x="1051" y="458"/>
                </a:cubicBezTo>
                <a:cubicBezTo>
                  <a:pt x="1053" y="458"/>
                  <a:pt x="1052" y="461"/>
                  <a:pt x="1054" y="461"/>
                </a:cubicBezTo>
                <a:cubicBezTo>
                  <a:pt x="1053" y="459"/>
                  <a:pt x="1058" y="457"/>
                  <a:pt x="1055" y="455"/>
                </a:cubicBezTo>
                <a:close/>
                <a:moveTo>
                  <a:pt x="128" y="500"/>
                </a:moveTo>
                <a:cubicBezTo>
                  <a:pt x="131" y="500"/>
                  <a:pt x="133" y="499"/>
                  <a:pt x="134" y="497"/>
                </a:cubicBezTo>
                <a:cubicBezTo>
                  <a:pt x="132" y="495"/>
                  <a:pt x="129" y="498"/>
                  <a:pt x="128" y="500"/>
                </a:cubicBezTo>
                <a:close/>
                <a:moveTo>
                  <a:pt x="123" y="531"/>
                </a:moveTo>
                <a:cubicBezTo>
                  <a:pt x="127" y="529"/>
                  <a:pt x="131" y="527"/>
                  <a:pt x="137" y="528"/>
                </a:cubicBezTo>
                <a:cubicBezTo>
                  <a:pt x="141" y="524"/>
                  <a:pt x="139" y="514"/>
                  <a:pt x="144" y="511"/>
                </a:cubicBezTo>
                <a:cubicBezTo>
                  <a:pt x="141" y="507"/>
                  <a:pt x="134" y="509"/>
                  <a:pt x="130" y="512"/>
                </a:cubicBezTo>
                <a:cubicBezTo>
                  <a:pt x="134" y="516"/>
                  <a:pt x="131" y="519"/>
                  <a:pt x="133" y="521"/>
                </a:cubicBezTo>
                <a:cubicBezTo>
                  <a:pt x="131" y="526"/>
                  <a:pt x="126" y="527"/>
                  <a:pt x="123" y="531"/>
                </a:cubicBezTo>
                <a:close/>
                <a:moveTo>
                  <a:pt x="1252" y="521"/>
                </a:moveTo>
                <a:cubicBezTo>
                  <a:pt x="1255" y="520"/>
                  <a:pt x="1259" y="520"/>
                  <a:pt x="1260" y="517"/>
                </a:cubicBezTo>
                <a:cubicBezTo>
                  <a:pt x="1256" y="517"/>
                  <a:pt x="1253" y="518"/>
                  <a:pt x="1252" y="521"/>
                </a:cubicBezTo>
                <a:close/>
                <a:moveTo>
                  <a:pt x="163" y="524"/>
                </a:moveTo>
                <a:cubicBezTo>
                  <a:pt x="162" y="528"/>
                  <a:pt x="157" y="529"/>
                  <a:pt x="154" y="533"/>
                </a:cubicBezTo>
                <a:cubicBezTo>
                  <a:pt x="160" y="533"/>
                  <a:pt x="160" y="533"/>
                  <a:pt x="160" y="533"/>
                </a:cubicBezTo>
                <a:cubicBezTo>
                  <a:pt x="160" y="530"/>
                  <a:pt x="166" y="527"/>
                  <a:pt x="163" y="524"/>
                </a:cubicBezTo>
                <a:close/>
                <a:moveTo>
                  <a:pt x="143" y="551"/>
                </a:moveTo>
                <a:cubicBezTo>
                  <a:pt x="142" y="551"/>
                  <a:pt x="143" y="548"/>
                  <a:pt x="141" y="548"/>
                </a:cubicBezTo>
                <a:cubicBezTo>
                  <a:pt x="140" y="549"/>
                  <a:pt x="139" y="549"/>
                  <a:pt x="138" y="549"/>
                </a:cubicBezTo>
                <a:cubicBezTo>
                  <a:pt x="136" y="554"/>
                  <a:pt x="143" y="554"/>
                  <a:pt x="143" y="551"/>
                </a:cubicBezTo>
                <a:close/>
                <a:moveTo>
                  <a:pt x="133" y="576"/>
                </a:moveTo>
                <a:cubicBezTo>
                  <a:pt x="130" y="576"/>
                  <a:pt x="126" y="580"/>
                  <a:pt x="128" y="582"/>
                </a:cubicBezTo>
                <a:cubicBezTo>
                  <a:pt x="129" y="580"/>
                  <a:pt x="132" y="579"/>
                  <a:pt x="133" y="576"/>
                </a:cubicBezTo>
                <a:close/>
                <a:moveTo>
                  <a:pt x="139" y="587"/>
                </a:moveTo>
                <a:cubicBezTo>
                  <a:pt x="145" y="585"/>
                  <a:pt x="152" y="583"/>
                  <a:pt x="153" y="576"/>
                </a:cubicBezTo>
                <a:cubicBezTo>
                  <a:pt x="145" y="576"/>
                  <a:pt x="145" y="585"/>
                  <a:pt x="139" y="587"/>
                </a:cubicBezTo>
                <a:close/>
                <a:moveTo>
                  <a:pt x="129" y="597"/>
                </a:moveTo>
                <a:cubicBezTo>
                  <a:pt x="128" y="600"/>
                  <a:pt x="135" y="597"/>
                  <a:pt x="136" y="597"/>
                </a:cubicBezTo>
                <a:cubicBezTo>
                  <a:pt x="134" y="595"/>
                  <a:pt x="131" y="596"/>
                  <a:pt x="129" y="597"/>
                </a:cubicBezTo>
                <a:close/>
                <a:moveTo>
                  <a:pt x="1159" y="601"/>
                </a:moveTo>
                <a:cubicBezTo>
                  <a:pt x="1154" y="604"/>
                  <a:pt x="1147" y="604"/>
                  <a:pt x="1147" y="611"/>
                </a:cubicBezTo>
                <a:cubicBezTo>
                  <a:pt x="1152" y="610"/>
                  <a:pt x="1163" y="605"/>
                  <a:pt x="1159" y="601"/>
                </a:cubicBezTo>
                <a:close/>
                <a:moveTo>
                  <a:pt x="95" y="617"/>
                </a:moveTo>
                <a:cubicBezTo>
                  <a:pt x="100" y="616"/>
                  <a:pt x="103" y="611"/>
                  <a:pt x="105" y="607"/>
                </a:cubicBezTo>
                <a:cubicBezTo>
                  <a:pt x="99" y="607"/>
                  <a:pt x="96" y="612"/>
                  <a:pt x="95" y="617"/>
                </a:cubicBezTo>
                <a:close/>
                <a:moveTo>
                  <a:pt x="1184" y="609"/>
                </a:moveTo>
                <a:cubicBezTo>
                  <a:pt x="1182" y="610"/>
                  <a:pt x="1179" y="611"/>
                  <a:pt x="1177" y="612"/>
                </a:cubicBezTo>
                <a:cubicBezTo>
                  <a:pt x="1176" y="614"/>
                  <a:pt x="1177" y="617"/>
                  <a:pt x="1179" y="619"/>
                </a:cubicBezTo>
                <a:cubicBezTo>
                  <a:pt x="1181" y="616"/>
                  <a:pt x="1184" y="613"/>
                  <a:pt x="1184" y="609"/>
                </a:cubicBezTo>
                <a:close/>
                <a:moveTo>
                  <a:pt x="1170" y="621"/>
                </a:moveTo>
                <a:cubicBezTo>
                  <a:pt x="1172" y="623"/>
                  <a:pt x="1173" y="620"/>
                  <a:pt x="1175" y="620"/>
                </a:cubicBezTo>
                <a:cubicBezTo>
                  <a:pt x="1175" y="618"/>
                  <a:pt x="1175" y="616"/>
                  <a:pt x="1172" y="616"/>
                </a:cubicBezTo>
                <a:cubicBezTo>
                  <a:pt x="1172" y="618"/>
                  <a:pt x="1171" y="619"/>
                  <a:pt x="1170" y="621"/>
                </a:cubicBezTo>
                <a:close/>
                <a:moveTo>
                  <a:pt x="229" y="618"/>
                </a:moveTo>
                <a:cubicBezTo>
                  <a:pt x="222" y="620"/>
                  <a:pt x="218" y="616"/>
                  <a:pt x="208" y="617"/>
                </a:cubicBezTo>
                <a:cubicBezTo>
                  <a:pt x="209" y="621"/>
                  <a:pt x="212" y="624"/>
                  <a:pt x="215" y="626"/>
                </a:cubicBezTo>
                <a:cubicBezTo>
                  <a:pt x="223" y="627"/>
                  <a:pt x="227" y="623"/>
                  <a:pt x="229" y="618"/>
                </a:cubicBezTo>
                <a:close/>
                <a:moveTo>
                  <a:pt x="131" y="618"/>
                </a:moveTo>
                <a:cubicBezTo>
                  <a:pt x="131" y="620"/>
                  <a:pt x="129" y="620"/>
                  <a:pt x="129" y="622"/>
                </a:cubicBezTo>
                <a:cubicBezTo>
                  <a:pt x="131" y="622"/>
                  <a:pt x="135" y="623"/>
                  <a:pt x="135" y="620"/>
                </a:cubicBezTo>
                <a:cubicBezTo>
                  <a:pt x="132" y="621"/>
                  <a:pt x="134" y="617"/>
                  <a:pt x="131" y="618"/>
                </a:cubicBezTo>
                <a:close/>
                <a:moveTo>
                  <a:pt x="119" y="637"/>
                </a:moveTo>
                <a:cubicBezTo>
                  <a:pt x="114" y="634"/>
                  <a:pt x="123" y="630"/>
                  <a:pt x="118" y="626"/>
                </a:cubicBezTo>
                <a:cubicBezTo>
                  <a:pt x="116" y="630"/>
                  <a:pt x="113" y="622"/>
                  <a:pt x="111" y="625"/>
                </a:cubicBezTo>
                <a:cubicBezTo>
                  <a:pt x="113" y="626"/>
                  <a:pt x="114" y="627"/>
                  <a:pt x="114" y="629"/>
                </a:cubicBezTo>
                <a:cubicBezTo>
                  <a:pt x="113" y="631"/>
                  <a:pt x="109" y="630"/>
                  <a:pt x="109" y="633"/>
                </a:cubicBezTo>
                <a:cubicBezTo>
                  <a:pt x="110" y="636"/>
                  <a:pt x="106" y="641"/>
                  <a:pt x="105" y="645"/>
                </a:cubicBezTo>
                <a:cubicBezTo>
                  <a:pt x="109" y="642"/>
                  <a:pt x="116" y="641"/>
                  <a:pt x="119" y="637"/>
                </a:cubicBezTo>
                <a:close/>
                <a:moveTo>
                  <a:pt x="126" y="633"/>
                </a:moveTo>
                <a:cubicBezTo>
                  <a:pt x="127" y="632"/>
                  <a:pt x="128" y="631"/>
                  <a:pt x="128" y="629"/>
                </a:cubicBezTo>
                <a:cubicBezTo>
                  <a:pt x="125" y="628"/>
                  <a:pt x="123" y="628"/>
                  <a:pt x="121" y="630"/>
                </a:cubicBezTo>
                <a:cubicBezTo>
                  <a:pt x="124" y="630"/>
                  <a:pt x="123" y="633"/>
                  <a:pt x="126" y="633"/>
                </a:cubicBezTo>
                <a:close/>
                <a:moveTo>
                  <a:pt x="85" y="656"/>
                </a:moveTo>
                <a:cubicBezTo>
                  <a:pt x="90" y="653"/>
                  <a:pt x="99" y="656"/>
                  <a:pt x="101" y="646"/>
                </a:cubicBezTo>
                <a:cubicBezTo>
                  <a:pt x="98" y="647"/>
                  <a:pt x="96" y="645"/>
                  <a:pt x="95" y="644"/>
                </a:cubicBezTo>
                <a:cubicBezTo>
                  <a:pt x="94" y="646"/>
                  <a:pt x="92" y="648"/>
                  <a:pt x="93" y="651"/>
                </a:cubicBezTo>
                <a:cubicBezTo>
                  <a:pt x="90" y="653"/>
                  <a:pt x="86" y="653"/>
                  <a:pt x="85" y="656"/>
                </a:cubicBezTo>
                <a:close/>
                <a:moveTo>
                  <a:pt x="1150" y="651"/>
                </a:moveTo>
                <a:cubicBezTo>
                  <a:pt x="1149" y="649"/>
                  <a:pt x="1145" y="650"/>
                  <a:pt x="1145" y="651"/>
                </a:cubicBezTo>
                <a:cubicBezTo>
                  <a:pt x="1146" y="652"/>
                  <a:pt x="1145" y="655"/>
                  <a:pt x="1148" y="654"/>
                </a:cubicBezTo>
                <a:cubicBezTo>
                  <a:pt x="1148" y="652"/>
                  <a:pt x="1150" y="652"/>
                  <a:pt x="1150" y="651"/>
                </a:cubicBezTo>
                <a:close/>
                <a:moveTo>
                  <a:pt x="1164" y="657"/>
                </a:moveTo>
                <a:cubicBezTo>
                  <a:pt x="1165" y="654"/>
                  <a:pt x="1165" y="652"/>
                  <a:pt x="1162" y="651"/>
                </a:cubicBezTo>
                <a:cubicBezTo>
                  <a:pt x="1160" y="653"/>
                  <a:pt x="1162" y="656"/>
                  <a:pt x="1164" y="657"/>
                </a:cubicBezTo>
                <a:close/>
                <a:moveTo>
                  <a:pt x="1195" y="662"/>
                </a:moveTo>
                <a:cubicBezTo>
                  <a:pt x="1195" y="659"/>
                  <a:pt x="1193" y="658"/>
                  <a:pt x="1192" y="657"/>
                </a:cubicBezTo>
                <a:cubicBezTo>
                  <a:pt x="1191" y="659"/>
                  <a:pt x="1189" y="660"/>
                  <a:pt x="1187" y="661"/>
                </a:cubicBezTo>
                <a:cubicBezTo>
                  <a:pt x="1186" y="664"/>
                  <a:pt x="1188" y="665"/>
                  <a:pt x="1188" y="668"/>
                </a:cubicBezTo>
                <a:cubicBezTo>
                  <a:pt x="1193" y="669"/>
                  <a:pt x="1190" y="661"/>
                  <a:pt x="1195" y="662"/>
                </a:cubicBezTo>
                <a:close/>
                <a:moveTo>
                  <a:pt x="1196" y="671"/>
                </a:moveTo>
                <a:cubicBezTo>
                  <a:pt x="1196" y="672"/>
                  <a:pt x="1195" y="672"/>
                  <a:pt x="1194" y="671"/>
                </a:cubicBezTo>
                <a:cubicBezTo>
                  <a:pt x="1194" y="674"/>
                  <a:pt x="1191" y="675"/>
                  <a:pt x="1188" y="675"/>
                </a:cubicBezTo>
                <a:cubicBezTo>
                  <a:pt x="1188" y="676"/>
                  <a:pt x="1187" y="677"/>
                  <a:pt x="1187" y="678"/>
                </a:cubicBezTo>
                <a:cubicBezTo>
                  <a:pt x="1192" y="680"/>
                  <a:pt x="1192" y="675"/>
                  <a:pt x="1196" y="676"/>
                </a:cubicBezTo>
                <a:cubicBezTo>
                  <a:pt x="1195" y="673"/>
                  <a:pt x="1199" y="672"/>
                  <a:pt x="1196" y="671"/>
                </a:cubicBezTo>
                <a:close/>
                <a:moveTo>
                  <a:pt x="1161" y="690"/>
                </a:moveTo>
                <a:cubicBezTo>
                  <a:pt x="1171" y="690"/>
                  <a:pt x="1166" y="685"/>
                  <a:pt x="1161" y="690"/>
                </a:cubicBezTo>
                <a:close/>
                <a:moveTo>
                  <a:pt x="1213" y="728"/>
                </a:moveTo>
                <a:cubicBezTo>
                  <a:pt x="1210" y="728"/>
                  <a:pt x="1208" y="730"/>
                  <a:pt x="1207" y="733"/>
                </a:cubicBezTo>
                <a:cubicBezTo>
                  <a:pt x="1208" y="735"/>
                  <a:pt x="1209" y="736"/>
                  <a:pt x="1211" y="737"/>
                </a:cubicBezTo>
                <a:cubicBezTo>
                  <a:pt x="1210" y="735"/>
                  <a:pt x="1213" y="736"/>
                  <a:pt x="1213" y="734"/>
                </a:cubicBezTo>
                <a:cubicBezTo>
                  <a:pt x="1211" y="733"/>
                  <a:pt x="1214" y="730"/>
                  <a:pt x="1213" y="728"/>
                </a:cubicBezTo>
                <a:close/>
                <a:moveTo>
                  <a:pt x="1152" y="730"/>
                </a:moveTo>
                <a:cubicBezTo>
                  <a:pt x="1149" y="731"/>
                  <a:pt x="1145" y="734"/>
                  <a:pt x="1149" y="735"/>
                </a:cubicBezTo>
                <a:cubicBezTo>
                  <a:pt x="1149" y="732"/>
                  <a:pt x="1152" y="733"/>
                  <a:pt x="1152" y="730"/>
                </a:cubicBezTo>
                <a:close/>
                <a:moveTo>
                  <a:pt x="1090" y="772"/>
                </a:moveTo>
                <a:cubicBezTo>
                  <a:pt x="1090" y="770"/>
                  <a:pt x="1094" y="771"/>
                  <a:pt x="1093" y="768"/>
                </a:cubicBezTo>
                <a:cubicBezTo>
                  <a:pt x="1092" y="768"/>
                  <a:pt x="1092" y="766"/>
                  <a:pt x="1091" y="767"/>
                </a:cubicBezTo>
                <a:cubicBezTo>
                  <a:pt x="1090" y="768"/>
                  <a:pt x="1087" y="771"/>
                  <a:pt x="1090" y="772"/>
                </a:cubicBezTo>
                <a:close/>
                <a:moveTo>
                  <a:pt x="176" y="780"/>
                </a:moveTo>
                <a:cubicBezTo>
                  <a:pt x="173" y="779"/>
                  <a:pt x="167" y="778"/>
                  <a:pt x="165" y="782"/>
                </a:cubicBezTo>
                <a:cubicBezTo>
                  <a:pt x="170" y="783"/>
                  <a:pt x="175" y="783"/>
                  <a:pt x="176" y="780"/>
                </a:cubicBezTo>
                <a:close/>
                <a:moveTo>
                  <a:pt x="1020" y="798"/>
                </a:moveTo>
                <a:cubicBezTo>
                  <a:pt x="1020" y="795"/>
                  <a:pt x="1022" y="794"/>
                  <a:pt x="1023" y="792"/>
                </a:cubicBezTo>
                <a:cubicBezTo>
                  <a:pt x="1021" y="792"/>
                  <a:pt x="1022" y="789"/>
                  <a:pt x="1019" y="790"/>
                </a:cubicBezTo>
                <a:cubicBezTo>
                  <a:pt x="1022" y="794"/>
                  <a:pt x="1016" y="796"/>
                  <a:pt x="1020" y="798"/>
                </a:cubicBezTo>
                <a:close/>
                <a:moveTo>
                  <a:pt x="1191" y="812"/>
                </a:moveTo>
                <a:cubicBezTo>
                  <a:pt x="1191" y="811"/>
                  <a:pt x="1191" y="810"/>
                  <a:pt x="1191" y="810"/>
                </a:cubicBezTo>
                <a:cubicBezTo>
                  <a:pt x="1191" y="814"/>
                  <a:pt x="1190" y="815"/>
                  <a:pt x="1192" y="817"/>
                </a:cubicBezTo>
                <a:cubicBezTo>
                  <a:pt x="1193" y="815"/>
                  <a:pt x="1198" y="811"/>
                  <a:pt x="1200" y="813"/>
                </a:cubicBezTo>
                <a:cubicBezTo>
                  <a:pt x="1200" y="817"/>
                  <a:pt x="1197" y="812"/>
                  <a:pt x="1198" y="816"/>
                </a:cubicBezTo>
                <a:cubicBezTo>
                  <a:pt x="1199" y="816"/>
                  <a:pt x="1200" y="816"/>
                  <a:pt x="1201" y="817"/>
                </a:cubicBezTo>
                <a:cubicBezTo>
                  <a:pt x="1201" y="813"/>
                  <a:pt x="1205" y="811"/>
                  <a:pt x="1204" y="809"/>
                </a:cubicBezTo>
                <a:cubicBezTo>
                  <a:pt x="1207" y="809"/>
                  <a:pt x="1207" y="812"/>
                  <a:pt x="1208" y="813"/>
                </a:cubicBezTo>
                <a:cubicBezTo>
                  <a:pt x="1212" y="812"/>
                  <a:pt x="1213" y="808"/>
                  <a:pt x="1218" y="808"/>
                </a:cubicBezTo>
                <a:cubicBezTo>
                  <a:pt x="1217" y="803"/>
                  <a:pt x="1218" y="802"/>
                  <a:pt x="1220" y="798"/>
                </a:cubicBezTo>
                <a:cubicBezTo>
                  <a:pt x="1208" y="801"/>
                  <a:pt x="1205" y="811"/>
                  <a:pt x="1191" y="812"/>
                </a:cubicBezTo>
                <a:close/>
                <a:moveTo>
                  <a:pt x="1157" y="815"/>
                </a:moveTo>
                <a:cubicBezTo>
                  <a:pt x="1158" y="815"/>
                  <a:pt x="1159" y="816"/>
                  <a:pt x="1160" y="816"/>
                </a:cubicBezTo>
                <a:cubicBezTo>
                  <a:pt x="1161" y="813"/>
                  <a:pt x="1164" y="813"/>
                  <a:pt x="1164" y="810"/>
                </a:cubicBezTo>
                <a:cubicBezTo>
                  <a:pt x="1163" y="810"/>
                  <a:pt x="1162" y="810"/>
                  <a:pt x="1161" y="809"/>
                </a:cubicBezTo>
                <a:cubicBezTo>
                  <a:pt x="1160" y="812"/>
                  <a:pt x="1157" y="812"/>
                  <a:pt x="1157" y="815"/>
                </a:cubicBezTo>
                <a:close/>
                <a:moveTo>
                  <a:pt x="963" y="823"/>
                </a:moveTo>
                <a:cubicBezTo>
                  <a:pt x="963" y="825"/>
                  <a:pt x="961" y="824"/>
                  <a:pt x="961" y="825"/>
                </a:cubicBezTo>
                <a:cubicBezTo>
                  <a:pt x="961" y="827"/>
                  <a:pt x="961" y="830"/>
                  <a:pt x="962" y="831"/>
                </a:cubicBezTo>
                <a:cubicBezTo>
                  <a:pt x="963" y="829"/>
                  <a:pt x="966" y="829"/>
                  <a:pt x="967" y="828"/>
                </a:cubicBezTo>
                <a:cubicBezTo>
                  <a:pt x="966" y="826"/>
                  <a:pt x="966" y="824"/>
                  <a:pt x="963" y="823"/>
                </a:cubicBezTo>
                <a:close/>
                <a:moveTo>
                  <a:pt x="928" y="831"/>
                </a:moveTo>
                <a:cubicBezTo>
                  <a:pt x="928" y="834"/>
                  <a:pt x="922" y="838"/>
                  <a:pt x="927" y="840"/>
                </a:cubicBezTo>
                <a:cubicBezTo>
                  <a:pt x="927" y="838"/>
                  <a:pt x="931" y="833"/>
                  <a:pt x="928" y="831"/>
                </a:cubicBezTo>
                <a:close/>
                <a:moveTo>
                  <a:pt x="991" y="831"/>
                </a:moveTo>
                <a:cubicBezTo>
                  <a:pt x="991" y="833"/>
                  <a:pt x="988" y="832"/>
                  <a:pt x="989" y="834"/>
                </a:cubicBezTo>
                <a:cubicBezTo>
                  <a:pt x="991" y="834"/>
                  <a:pt x="991" y="836"/>
                  <a:pt x="992" y="836"/>
                </a:cubicBezTo>
                <a:cubicBezTo>
                  <a:pt x="991" y="835"/>
                  <a:pt x="993" y="831"/>
                  <a:pt x="991" y="831"/>
                </a:cubicBezTo>
                <a:close/>
                <a:moveTo>
                  <a:pt x="1016" y="833"/>
                </a:moveTo>
                <a:cubicBezTo>
                  <a:pt x="1013" y="830"/>
                  <a:pt x="1010" y="834"/>
                  <a:pt x="1010" y="837"/>
                </a:cubicBezTo>
                <a:cubicBezTo>
                  <a:pt x="1013" y="837"/>
                  <a:pt x="1016" y="837"/>
                  <a:pt x="1016" y="833"/>
                </a:cubicBezTo>
                <a:close/>
                <a:moveTo>
                  <a:pt x="1096" y="833"/>
                </a:moveTo>
                <a:cubicBezTo>
                  <a:pt x="1096" y="834"/>
                  <a:pt x="1096" y="834"/>
                  <a:pt x="1096" y="834"/>
                </a:cubicBezTo>
                <a:cubicBezTo>
                  <a:pt x="1095" y="835"/>
                  <a:pt x="1093" y="834"/>
                  <a:pt x="1092" y="835"/>
                </a:cubicBezTo>
                <a:cubicBezTo>
                  <a:pt x="1094" y="836"/>
                  <a:pt x="1094" y="837"/>
                  <a:pt x="1096" y="836"/>
                </a:cubicBezTo>
                <a:cubicBezTo>
                  <a:pt x="1096" y="836"/>
                  <a:pt x="1098" y="833"/>
                  <a:pt x="1096" y="833"/>
                </a:cubicBezTo>
                <a:close/>
                <a:moveTo>
                  <a:pt x="1012" y="845"/>
                </a:moveTo>
                <a:cubicBezTo>
                  <a:pt x="1012" y="840"/>
                  <a:pt x="1017" y="846"/>
                  <a:pt x="1019" y="840"/>
                </a:cubicBezTo>
                <a:cubicBezTo>
                  <a:pt x="1015" y="841"/>
                  <a:pt x="1019" y="838"/>
                  <a:pt x="1019" y="836"/>
                </a:cubicBezTo>
                <a:cubicBezTo>
                  <a:pt x="1016" y="838"/>
                  <a:pt x="1009" y="840"/>
                  <a:pt x="1012" y="845"/>
                </a:cubicBezTo>
                <a:close/>
                <a:moveTo>
                  <a:pt x="111" y="855"/>
                </a:moveTo>
                <a:cubicBezTo>
                  <a:pt x="108" y="856"/>
                  <a:pt x="107" y="858"/>
                  <a:pt x="105" y="860"/>
                </a:cubicBezTo>
                <a:cubicBezTo>
                  <a:pt x="108" y="861"/>
                  <a:pt x="113" y="857"/>
                  <a:pt x="111" y="855"/>
                </a:cubicBezTo>
                <a:close/>
                <a:moveTo>
                  <a:pt x="967" y="855"/>
                </a:moveTo>
                <a:cubicBezTo>
                  <a:pt x="968" y="860"/>
                  <a:pt x="965" y="856"/>
                  <a:pt x="962" y="857"/>
                </a:cubicBezTo>
                <a:cubicBezTo>
                  <a:pt x="962" y="859"/>
                  <a:pt x="963" y="861"/>
                  <a:pt x="964" y="861"/>
                </a:cubicBezTo>
                <a:cubicBezTo>
                  <a:pt x="965" y="859"/>
                  <a:pt x="969" y="860"/>
                  <a:pt x="970" y="857"/>
                </a:cubicBezTo>
                <a:cubicBezTo>
                  <a:pt x="968" y="857"/>
                  <a:pt x="969" y="854"/>
                  <a:pt x="967" y="855"/>
                </a:cubicBezTo>
                <a:close/>
                <a:moveTo>
                  <a:pt x="100" y="870"/>
                </a:moveTo>
                <a:cubicBezTo>
                  <a:pt x="102" y="869"/>
                  <a:pt x="105" y="869"/>
                  <a:pt x="105" y="866"/>
                </a:cubicBezTo>
                <a:cubicBezTo>
                  <a:pt x="102" y="866"/>
                  <a:pt x="102" y="866"/>
                  <a:pt x="102" y="866"/>
                </a:cubicBezTo>
                <a:cubicBezTo>
                  <a:pt x="103" y="869"/>
                  <a:pt x="100" y="868"/>
                  <a:pt x="100" y="870"/>
                </a:cubicBezTo>
                <a:close/>
                <a:moveTo>
                  <a:pt x="177" y="879"/>
                </a:moveTo>
                <a:cubicBezTo>
                  <a:pt x="172" y="873"/>
                  <a:pt x="164" y="880"/>
                  <a:pt x="161" y="885"/>
                </a:cubicBezTo>
                <a:cubicBezTo>
                  <a:pt x="166" y="888"/>
                  <a:pt x="174" y="884"/>
                  <a:pt x="177" y="879"/>
                </a:cubicBezTo>
                <a:close/>
                <a:moveTo>
                  <a:pt x="1111" y="885"/>
                </a:moveTo>
                <a:cubicBezTo>
                  <a:pt x="1109" y="888"/>
                  <a:pt x="1105" y="888"/>
                  <a:pt x="1104" y="892"/>
                </a:cubicBezTo>
                <a:cubicBezTo>
                  <a:pt x="1112" y="898"/>
                  <a:pt x="1111" y="900"/>
                  <a:pt x="1112" y="909"/>
                </a:cubicBezTo>
                <a:cubicBezTo>
                  <a:pt x="1116" y="907"/>
                  <a:pt x="1118" y="904"/>
                  <a:pt x="1120" y="899"/>
                </a:cubicBezTo>
                <a:cubicBezTo>
                  <a:pt x="1114" y="899"/>
                  <a:pt x="1113" y="889"/>
                  <a:pt x="1111" y="885"/>
                </a:cubicBezTo>
                <a:close/>
                <a:moveTo>
                  <a:pt x="146" y="887"/>
                </a:moveTo>
                <a:cubicBezTo>
                  <a:pt x="139" y="888"/>
                  <a:pt x="134" y="892"/>
                  <a:pt x="132" y="898"/>
                </a:cubicBezTo>
                <a:cubicBezTo>
                  <a:pt x="137" y="895"/>
                  <a:pt x="152" y="890"/>
                  <a:pt x="145" y="887"/>
                </a:cubicBezTo>
                <a:cubicBezTo>
                  <a:pt x="146" y="887"/>
                  <a:pt x="146" y="887"/>
                  <a:pt x="146" y="887"/>
                </a:cubicBezTo>
                <a:close/>
                <a:moveTo>
                  <a:pt x="152" y="894"/>
                </a:moveTo>
                <a:cubicBezTo>
                  <a:pt x="155" y="894"/>
                  <a:pt x="155" y="894"/>
                  <a:pt x="155" y="894"/>
                </a:cubicBezTo>
                <a:cubicBezTo>
                  <a:pt x="156" y="891"/>
                  <a:pt x="154" y="891"/>
                  <a:pt x="152" y="890"/>
                </a:cubicBezTo>
                <a:cubicBezTo>
                  <a:pt x="152" y="891"/>
                  <a:pt x="151" y="892"/>
                  <a:pt x="152" y="894"/>
                </a:cubicBezTo>
                <a:close/>
                <a:moveTo>
                  <a:pt x="1199" y="891"/>
                </a:moveTo>
                <a:cubicBezTo>
                  <a:pt x="1195" y="894"/>
                  <a:pt x="1193" y="894"/>
                  <a:pt x="1192" y="900"/>
                </a:cubicBezTo>
                <a:cubicBezTo>
                  <a:pt x="1195" y="898"/>
                  <a:pt x="1199" y="899"/>
                  <a:pt x="1201" y="896"/>
                </a:cubicBezTo>
                <a:cubicBezTo>
                  <a:pt x="1198" y="895"/>
                  <a:pt x="1203" y="891"/>
                  <a:pt x="1199" y="891"/>
                </a:cubicBezTo>
                <a:close/>
                <a:moveTo>
                  <a:pt x="1133" y="913"/>
                </a:moveTo>
                <a:cubicBezTo>
                  <a:pt x="1134" y="916"/>
                  <a:pt x="1142" y="909"/>
                  <a:pt x="1141" y="915"/>
                </a:cubicBezTo>
                <a:cubicBezTo>
                  <a:pt x="1149" y="915"/>
                  <a:pt x="1144" y="910"/>
                  <a:pt x="1147" y="906"/>
                </a:cubicBezTo>
                <a:cubicBezTo>
                  <a:pt x="1141" y="905"/>
                  <a:pt x="1136" y="909"/>
                  <a:pt x="1133" y="913"/>
                </a:cubicBezTo>
                <a:close/>
                <a:moveTo>
                  <a:pt x="118" y="907"/>
                </a:moveTo>
                <a:cubicBezTo>
                  <a:pt x="117" y="911"/>
                  <a:pt x="113" y="910"/>
                  <a:pt x="111" y="913"/>
                </a:cubicBezTo>
                <a:cubicBezTo>
                  <a:pt x="116" y="915"/>
                  <a:pt x="116" y="912"/>
                  <a:pt x="120" y="913"/>
                </a:cubicBezTo>
                <a:cubicBezTo>
                  <a:pt x="120" y="910"/>
                  <a:pt x="121" y="906"/>
                  <a:pt x="118" y="907"/>
                </a:cubicBezTo>
                <a:close/>
                <a:moveTo>
                  <a:pt x="1122" y="910"/>
                </a:moveTo>
                <a:cubicBezTo>
                  <a:pt x="1121" y="910"/>
                  <a:pt x="1121" y="908"/>
                  <a:pt x="1121" y="907"/>
                </a:cubicBezTo>
                <a:cubicBezTo>
                  <a:pt x="1118" y="907"/>
                  <a:pt x="1118" y="907"/>
                  <a:pt x="1118" y="907"/>
                </a:cubicBezTo>
                <a:cubicBezTo>
                  <a:pt x="1118" y="909"/>
                  <a:pt x="1117" y="909"/>
                  <a:pt x="1117" y="911"/>
                </a:cubicBezTo>
                <a:cubicBezTo>
                  <a:pt x="1119" y="910"/>
                  <a:pt x="1122" y="912"/>
                  <a:pt x="1122" y="910"/>
                </a:cubicBezTo>
                <a:close/>
                <a:moveTo>
                  <a:pt x="47" y="910"/>
                </a:moveTo>
                <a:cubicBezTo>
                  <a:pt x="44" y="907"/>
                  <a:pt x="38" y="912"/>
                  <a:pt x="41" y="914"/>
                </a:cubicBezTo>
                <a:cubicBezTo>
                  <a:pt x="42" y="912"/>
                  <a:pt x="46" y="913"/>
                  <a:pt x="47" y="910"/>
                </a:cubicBezTo>
                <a:close/>
                <a:moveTo>
                  <a:pt x="1167" y="913"/>
                </a:moveTo>
                <a:cubicBezTo>
                  <a:pt x="1168" y="914"/>
                  <a:pt x="1168" y="915"/>
                  <a:pt x="1170" y="914"/>
                </a:cubicBezTo>
                <a:cubicBezTo>
                  <a:pt x="1170" y="912"/>
                  <a:pt x="1171" y="911"/>
                  <a:pt x="1171" y="909"/>
                </a:cubicBezTo>
                <a:cubicBezTo>
                  <a:pt x="1169" y="909"/>
                  <a:pt x="1167" y="911"/>
                  <a:pt x="1167" y="913"/>
                </a:cubicBezTo>
                <a:close/>
                <a:moveTo>
                  <a:pt x="1158" y="911"/>
                </a:moveTo>
                <a:cubicBezTo>
                  <a:pt x="1157" y="914"/>
                  <a:pt x="1153" y="913"/>
                  <a:pt x="1151" y="913"/>
                </a:cubicBezTo>
                <a:cubicBezTo>
                  <a:pt x="1151" y="915"/>
                  <a:pt x="1148" y="916"/>
                  <a:pt x="1146" y="917"/>
                </a:cubicBezTo>
                <a:cubicBezTo>
                  <a:pt x="1145" y="922"/>
                  <a:pt x="1145" y="922"/>
                  <a:pt x="1146" y="926"/>
                </a:cubicBezTo>
                <a:cubicBezTo>
                  <a:pt x="1149" y="926"/>
                  <a:pt x="1152" y="923"/>
                  <a:pt x="1155" y="925"/>
                </a:cubicBezTo>
                <a:cubicBezTo>
                  <a:pt x="1154" y="926"/>
                  <a:pt x="1153" y="927"/>
                  <a:pt x="1153" y="928"/>
                </a:cubicBezTo>
                <a:cubicBezTo>
                  <a:pt x="1157" y="926"/>
                  <a:pt x="1161" y="925"/>
                  <a:pt x="1158" y="921"/>
                </a:cubicBezTo>
                <a:cubicBezTo>
                  <a:pt x="1161" y="921"/>
                  <a:pt x="1161" y="921"/>
                  <a:pt x="1161" y="921"/>
                </a:cubicBezTo>
                <a:cubicBezTo>
                  <a:pt x="1161" y="923"/>
                  <a:pt x="1160" y="924"/>
                  <a:pt x="1162" y="926"/>
                </a:cubicBezTo>
                <a:cubicBezTo>
                  <a:pt x="1163" y="921"/>
                  <a:pt x="1166" y="919"/>
                  <a:pt x="1165" y="914"/>
                </a:cubicBezTo>
                <a:cubicBezTo>
                  <a:pt x="1159" y="916"/>
                  <a:pt x="1160" y="911"/>
                  <a:pt x="1158" y="911"/>
                </a:cubicBezTo>
                <a:close/>
                <a:moveTo>
                  <a:pt x="1147" y="923"/>
                </a:moveTo>
                <a:cubicBezTo>
                  <a:pt x="1146" y="920"/>
                  <a:pt x="1149" y="921"/>
                  <a:pt x="1148" y="917"/>
                </a:cubicBezTo>
                <a:cubicBezTo>
                  <a:pt x="1149" y="918"/>
                  <a:pt x="1150" y="918"/>
                  <a:pt x="1151" y="918"/>
                </a:cubicBezTo>
                <a:cubicBezTo>
                  <a:pt x="1151" y="921"/>
                  <a:pt x="1150" y="923"/>
                  <a:pt x="1147" y="923"/>
                </a:cubicBezTo>
                <a:close/>
                <a:moveTo>
                  <a:pt x="88" y="926"/>
                </a:moveTo>
                <a:cubicBezTo>
                  <a:pt x="92" y="922"/>
                  <a:pt x="97" y="920"/>
                  <a:pt x="101" y="916"/>
                </a:cubicBezTo>
                <a:cubicBezTo>
                  <a:pt x="95" y="911"/>
                  <a:pt x="91" y="920"/>
                  <a:pt x="87" y="923"/>
                </a:cubicBezTo>
                <a:cubicBezTo>
                  <a:pt x="88" y="923"/>
                  <a:pt x="87" y="925"/>
                  <a:pt x="88" y="926"/>
                </a:cubicBezTo>
                <a:close/>
                <a:moveTo>
                  <a:pt x="994" y="937"/>
                </a:moveTo>
                <a:cubicBezTo>
                  <a:pt x="1001" y="937"/>
                  <a:pt x="1006" y="930"/>
                  <a:pt x="1012" y="931"/>
                </a:cubicBezTo>
                <a:cubicBezTo>
                  <a:pt x="1013" y="927"/>
                  <a:pt x="1012" y="927"/>
                  <a:pt x="1012" y="922"/>
                </a:cubicBezTo>
                <a:cubicBezTo>
                  <a:pt x="1002" y="920"/>
                  <a:pt x="1004" y="933"/>
                  <a:pt x="996" y="931"/>
                </a:cubicBezTo>
                <a:cubicBezTo>
                  <a:pt x="998" y="927"/>
                  <a:pt x="1001" y="926"/>
                  <a:pt x="1005" y="924"/>
                </a:cubicBezTo>
                <a:cubicBezTo>
                  <a:pt x="1001" y="923"/>
                  <a:pt x="997" y="922"/>
                  <a:pt x="994" y="925"/>
                </a:cubicBezTo>
                <a:cubicBezTo>
                  <a:pt x="997" y="930"/>
                  <a:pt x="993" y="931"/>
                  <a:pt x="994" y="937"/>
                </a:cubicBezTo>
                <a:close/>
                <a:moveTo>
                  <a:pt x="178" y="931"/>
                </a:moveTo>
                <a:cubicBezTo>
                  <a:pt x="175" y="931"/>
                  <a:pt x="176" y="933"/>
                  <a:pt x="174" y="935"/>
                </a:cubicBezTo>
                <a:cubicBezTo>
                  <a:pt x="178" y="935"/>
                  <a:pt x="178" y="933"/>
                  <a:pt x="178" y="931"/>
                </a:cubicBezTo>
                <a:close/>
                <a:moveTo>
                  <a:pt x="1184" y="948"/>
                </a:moveTo>
                <a:cubicBezTo>
                  <a:pt x="1186" y="945"/>
                  <a:pt x="1188" y="942"/>
                  <a:pt x="1189" y="939"/>
                </a:cubicBezTo>
                <a:cubicBezTo>
                  <a:pt x="1184" y="941"/>
                  <a:pt x="1188" y="934"/>
                  <a:pt x="1184" y="935"/>
                </a:cubicBezTo>
                <a:cubicBezTo>
                  <a:pt x="1177" y="945"/>
                  <a:pt x="1160" y="942"/>
                  <a:pt x="1160" y="956"/>
                </a:cubicBezTo>
                <a:cubicBezTo>
                  <a:pt x="1159" y="954"/>
                  <a:pt x="1158" y="957"/>
                  <a:pt x="1158" y="955"/>
                </a:cubicBezTo>
                <a:cubicBezTo>
                  <a:pt x="1158" y="954"/>
                  <a:pt x="1159" y="953"/>
                  <a:pt x="1158" y="952"/>
                </a:cubicBezTo>
                <a:cubicBezTo>
                  <a:pt x="1156" y="954"/>
                  <a:pt x="1155" y="956"/>
                  <a:pt x="1154" y="958"/>
                </a:cubicBezTo>
                <a:cubicBezTo>
                  <a:pt x="1149" y="959"/>
                  <a:pt x="1153" y="956"/>
                  <a:pt x="1149" y="955"/>
                </a:cubicBezTo>
                <a:cubicBezTo>
                  <a:pt x="1150" y="963"/>
                  <a:pt x="1143" y="964"/>
                  <a:pt x="1135" y="964"/>
                </a:cubicBezTo>
                <a:cubicBezTo>
                  <a:pt x="1132" y="973"/>
                  <a:pt x="1125" y="977"/>
                  <a:pt x="1117" y="980"/>
                </a:cubicBezTo>
                <a:cubicBezTo>
                  <a:pt x="1114" y="975"/>
                  <a:pt x="1120" y="972"/>
                  <a:pt x="1122" y="969"/>
                </a:cubicBezTo>
                <a:cubicBezTo>
                  <a:pt x="1117" y="969"/>
                  <a:pt x="1126" y="967"/>
                  <a:pt x="1122" y="965"/>
                </a:cubicBezTo>
                <a:cubicBezTo>
                  <a:pt x="1121" y="968"/>
                  <a:pt x="1119" y="965"/>
                  <a:pt x="1118" y="965"/>
                </a:cubicBezTo>
                <a:cubicBezTo>
                  <a:pt x="1116" y="966"/>
                  <a:pt x="1115" y="969"/>
                  <a:pt x="1114" y="972"/>
                </a:cubicBezTo>
                <a:cubicBezTo>
                  <a:pt x="1109" y="971"/>
                  <a:pt x="1108" y="974"/>
                  <a:pt x="1106" y="977"/>
                </a:cubicBezTo>
                <a:cubicBezTo>
                  <a:pt x="1110" y="976"/>
                  <a:pt x="1110" y="973"/>
                  <a:pt x="1114" y="974"/>
                </a:cubicBezTo>
                <a:cubicBezTo>
                  <a:pt x="1118" y="982"/>
                  <a:pt x="1110" y="982"/>
                  <a:pt x="1107" y="987"/>
                </a:cubicBezTo>
                <a:cubicBezTo>
                  <a:pt x="1115" y="986"/>
                  <a:pt x="1119" y="980"/>
                  <a:pt x="1127" y="978"/>
                </a:cubicBezTo>
                <a:cubicBezTo>
                  <a:pt x="1128" y="981"/>
                  <a:pt x="1129" y="983"/>
                  <a:pt x="1130" y="984"/>
                </a:cubicBezTo>
                <a:cubicBezTo>
                  <a:pt x="1134" y="981"/>
                  <a:pt x="1140" y="978"/>
                  <a:pt x="1143" y="973"/>
                </a:cubicBezTo>
                <a:cubicBezTo>
                  <a:pt x="1153" y="977"/>
                  <a:pt x="1151" y="960"/>
                  <a:pt x="1158" y="958"/>
                </a:cubicBezTo>
                <a:cubicBezTo>
                  <a:pt x="1161" y="958"/>
                  <a:pt x="1161" y="961"/>
                  <a:pt x="1164" y="960"/>
                </a:cubicBezTo>
                <a:cubicBezTo>
                  <a:pt x="1171" y="957"/>
                  <a:pt x="1174" y="946"/>
                  <a:pt x="1184" y="948"/>
                </a:cubicBezTo>
                <a:close/>
                <a:moveTo>
                  <a:pt x="215" y="940"/>
                </a:moveTo>
                <a:cubicBezTo>
                  <a:pt x="216" y="940"/>
                  <a:pt x="218" y="940"/>
                  <a:pt x="218" y="942"/>
                </a:cubicBezTo>
                <a:cubicBezTo>
                  <a:pt x="219" y="942"/>
                  <a:pt x="221" y="942"/>
                  <a:pt x="221" y="940"/>
                </a:cubicBezTo>
                <a:cubicBezTo>
                  <a:pt x="220" y="940"/>
                  <a:pt x="220" y="940"/>
                  <a:pt x="220" y="939"/>
                </a:cubicBezTo>
                <a:cubicBezTo>
                  <a:pt x="218" y="939"/>
                  <a:pt x="215" y="938"/>
                  <a:pt x="215" y="940"/>
                </a:cubicBezTo>
                <a:close/>
                <a:moveTo>
                  <a:pt x="1064" y="943"/>
                </a:moveTo>
                <a:cubicBezTo>
                  <a:pt x="1065" y="946"/>
                  <a:pt x="1063" y="946"/>
                  <a:pt x="1062" y="948"/>
                </a:cubicBezTo>
                <a:cubicBezTo>
                  <a:pt x="1066" y="947"/>
                  <a:pt x="1065" y="950"/>
                  <a:pt x="1068" y="950"/>
                </a:cubicBezTo>
                <a:cubicBezTo>
                  <a:pt x="1069" y="948"/>
                  <a:pt x="1073" y="948"/>
                  <a:pt x="1072" y="944"/>
                </a:cubicBezTo>
                <a:cubicBezTo>
                  <a:pt x="1070" y="943"/>
                  <a:pt x="1069" y="948"/>
                  <a:pt x="1069" y="945"/>
                </a:cubicBezTo>
                <a:cubicBezTo>
                  <a:pt x="1069" y="944"/>
                  <a:pt x="1070" y="943"/>
                  <a:pt x="1070" y="942"/>
                </a:cubicBezTo>
                <a:cubicBezTo>
                  <a:pt x="1068" y="942"/>
                  <a:pt x="1067" y="940"/>
                  <a:pt x="1064" y="939"/>
                </a:cubicBezTo>
                <a:cubicBezTo>
                  <a:pt x="1063" y="944"/>
                  <a:pt x="1057" y="942"/>
                  <a:pt x="1058" y="948"/>
                </a:cubicBezTo>
                <a:cubicBezTo>
                  <a:pt x="1063" y="949"/>
                  <a:pt x="1061" y="944"/>
                  <a:pt x="1064" y="943"/>
                </a:cubicBezTo>
                <a:close/>
                <a:moveTo>
                  <a:pt x="942" y="948"/>
                </a:moveTo>
                <a:cubicBezTo>
                  <a:pt x="942" y="944"/>
                  <a:pt x="942" y="944"/>
                  <a:pt x="942" y="944"/>
                </a:cubicBezTo>
                <a:cubicBezTo>
                  <a:pt x="939" y="943"/>
                  <a:pt x="939" y="949"/>
                  <a:pt x="942" y="948"/>
                </a:cubicBezTo>
                <a:close/>
                <a:moveTo>
                  <a:pt x="1171" y="961"/>
                </a:moveTo>
                <a:cubicBezTo>
                  <a:pt x="1171" y="966"/>
                  <a:pt x="1164" y="965"/>
                  <a:pt x="1164" y="970"/>
                </a:cubicBezTo>
                <a:cubicBezTo>
                  <a:pt x="1176" y="963"/>
                  <a:pt x="1186" y="960"/>
                  <a:pt x="1195" y="950"/>
                </a:cubicBezTo>
                <a:cubicBezTo>
                  <a:pt x="1185" y="945"/>
                  <a:pt x="1181" y="960"/>
                  <a:pt x="1171" y="961"/>
                </a:cubicBezTo>
                <a:close/>
                <a:moveTo>
                  <a:pt x="199" y="950"/>
                </a:moveTo>
                <a:cubicBezTo>
                  <a:pt x="197" y="950"/>
                  <a:pt x="194" y="950"/>
                  <a:pt x="195" y="952"/>
                </a:cubicBezTo>
                <a:cubicBezTo>
                  <a:pt x="197" y="952"/>
                  <a:pt x="199" y="952"/>
                  <a:pt x="199" y="950"/>
                </a:cubicBezTo>
                <a:close/>
                <a:moveTo>
                  <a:pt x="72" y="952"/>
                </a:moveTo>
                <a:cubicBezTo>
                  <a:pt x="70" y="949"/>
                  <a:pt x="65" y="951"/>
                  <a:pt x="64" y="954"/>
                </a:cubicBezTo>
                <a:cubicBezTo>
                  <a:pt x="67" y="954"/>
                  <a:pt x="71" y="955"/>
                  <a:pt x="72" y="952"/>
                </a:cubicBezTo>
                <a:close/>
                <a:moveTo>
                  <a:pt x="1136" y="954"/>
                </a:moveTo>
                <a:cubicBezTo>
                  <a:pt x="1139" y="955"/>
                  <a:pt x="1141" y="954"/>
                  <a:pt x="1140" y="951"/>
                </a:cubicBezTo>
                <a:cubicBezTo>
                  <a:pt x="1137" y="951"/>
                  <a:pt x="1137" y="951"/>
                  <a:pt x="1137" y="951"/>
                </a:cubicBezTo>
                <a:cubicBezTo>
                  <a:pt x="1138" y="952"/>
                  <a:pt x="1136" y="953"/>
                  <a:pt x="1136" y="954"/>
                </a:cubicBezTo>
                <a:close/>
                <a:moveTo>
                  <a:pt x="90" y="958"/>
                </a:moveTo>
                <a:cubicBezTo>
                  <a:pt x="89" y="960"/>
                  <a:pt x="87" y="960"/>
                  <a:pt x="87" y="962"/>
                </a:cubicBezTo>
                <a:cubicBezTo>
                  <a:pt x="91" y="962"/>
                  <a:pt x="91" y="962"/>
                  <a:pt x="91" y="962"/>
                </a:cubicBezTo>
                <a:cubicBezTo>
                  <a:pt x="91" y="960"/>
                  <a:pt x="91" y="958"/>
                  <a:pt x="90" y="958"/>
                </a:cubicBezTo>
                <a:close/>
                <a:moveTo>
                  <a:pt x="130" y="964"/>
                </a:moveTo>
                <a:cubicBezTo>
                  <a:pt x="134" y="965"/>
                  <a:pt x="135" y="959"/>
                  <a:pt x="133" y="958"/>
                </a:cubicBezTo>
                <a:cubicBezTo>
                  <a:pt x="132" y="959"/>
                  <a:pt x="128" y="961"/>
                  <a:pt x="130" y="964"/>
                </a:cubicBezTo>
                <a:close/>
                <a:moveTo>
                  <a:pt x="236" y="965"/>
                </a:moveTo>
                <a:cubicBezTo>
                  <a:pt x="236" y="967"/>
                  <a:pt x="236" y="968"/>
                  <a:pt x="237" y="969"/>
                </a:cubicBezTo>
                <a:cubicBezTo>
                  <a:pt x="243" y="967"/>
                  <a:pt x="247" y="971"/>
                  <a:pt x="248" y="975"/>
                </a:cubicBezTo>
                <a:cubicBezTo>
                  <a:pt x="248" y="967"/>
                  <a:pt x="247" y="967"/>
                  <a:pt x="247" y="960"/>
                </a:cubicBezTo>
                <a:cubicBezTo>
                  <a:pt x="242" y="960"/>
                  <a:pt x="240" y="963"/>
                  <a:pt x="236" y="965"/>
                </a:cubicBezTo>
                <a:close/>
                <a:moveTo>
                  <a:pt x="171" y="965"/>
                </a:moveTo>
                <a:cubicBezTo>
                  <a:pt x="167" y="965"/>
                  <a:pt x="167" y="968"/>
                  <a:pt x="164" y="969"/>
                </a:cubicBezTo>
                <a:cubicBezTo>
                  <a:pt x="168" y="969"/>
                  <a:pt x="170" y="968"/>
                  <a:pt x="171" y="965"/>
                </a:cubicBezTo>
                <a:close/>
                <a:moveTo>
                  <a:pt x="1060" y="970"/>
                </a:moveTo>
                <a:cubicBezTo>
                  <a:pt x="1064" y="970"/>
                  <a:pt x="1066" y="969"/>
                  <a:pt x="1067" y="966"/>
                </a:cubicBezTo>
                <a:cubicBezTo>
                  <a:pt x="1064" y="967"/>
                  <a:pt x="1061" y="967"/>
                  <a:pt x="1060" y="970"/>
                </a:cubicBezTo>
                <a:close/>
                <a:moveTo>
                  <a:pt x="187" y="977"/>
                </a:moveTo>
                <a:cubicBezTo>
                  <a:pt x="187" y="978"/>
                  <a:pt x="188" y="981"/>
                  <a:pt x="186" y="981"/>
                </a:cubicBezTo>
                <a:cubicBezTo>
                  <a:pt x="182" y="981"/>
                  <a:pt x="178" y="982"/>
                  <a:pt x="176" y="985"/>
                </a:cubicBezTo>
                <a:cubicBezTo>
                  <a:pt x="173" y="986"/>
                  <a:pt x="175" y="982"/>
                  <a:pt x="172" y="983"/>
                </a:cubicBezTo>
                <a:cubicBezTo>
                  <a:pt x="166" y="985"/>
                  <a:pt x="164" y="989"/>
                  <a:pt x="161" y="992"/>
                </a:cubicBezTo>
                <a:cubicBezTo>
                  <a:pt x="156" y="997"/>
                  <a:pt x="149" y="999"/>
                  <a:pt x="145" y="1001"/>
                </a:cubicBezTo>
                <a:cubicBezTo>
                  <a:pt x="159" y="1005"/>
                  <a:pt x="173" y="992"/>
                  <a:pt x="179" y="985"/>
                </a:cubicBezTo>
                <a:cubicBezTo>
                  <a:pt x="191" y="984"/>
                  <a:pt x="196" y="977"/>
                  <a:pt x="204" y="972"/>
                </a:cubicBezTo>
                <a:cubicBezTo>
                  <a:pt x="196" y="971"/>
                  <a:pt x="193" y="975"/>
                  <a:pt x="187" y="977"/>
                </a:cubicBezTo>
                <a:close/>
                <a:moveTo>
                  <a:pt x="1174" y="972"/>
                </a:moveTo>
                <a:cubicBezTo>
                  <a:pt x="1175" y="975"/>
                  <a:pt x="1171" y="974"/>
                  <a:pt x="1172" y="977"/>
                </a:cubicBezTo>
                <a:cubicBezTo>
                  <a:pt x="1175" y="977"/>
                  <a:pt x="1177" y="973"/>
                  <a:pt x="1174" y="972"/>
                </a:cubicBezTo>
                <a:close/>
                <a:moveTo>
                  <a:pt x="1190" y="976"/>
                </a:moveTo>
                <a:cubicBezTo>
                  <a:pt x="1185" y="977"/>
                  <a:pt x="1178" y="975"/>
                  <a:pt x="1177" y="980"/>
                </a:cubicBezTo>
                <a:cubicBezTo>
                  <a:pt x="1183" y="977"/>
                  <a:pt x="1187" y="984"/>
                  <a:pt x="1190" y="980"/>
                </a:cubicBezTo>
                <a:cubicBezTo>
                  <a:pt x="1185" y="980"/>
                  <a:pt x="1188" y="977"/>
                  <a:pt x="1190" y="976"/>
                </a:cubicBezTo>
                <a:close/>
                <a:moveTo>
                  <a:pt x="989" y="985"/>
                </a:moveTo>
                <a:cubicBezTo>
                  <a:pt x="991" y="985"/>
                  <a:pt x="991" y="986"/>
                  <a:pt x="991" y="988"/>
                </a:cubicBezTo>
                <a:cubicBezTo>
                  <a:pt x="995" y="986"/>
                  <a:pt x="997" y="983"/>
                  <a:pt x="999" y="979"/>
                </a:cubicBezTo>
                <a:cubicBezTo>
                  <a:pt x="994" y="980"/>
                  <a:pt x="991" y="982"/>
                  <a:pt x="989" y="985"/>
                </a:cubicBezTo>
                <a:close/>
                <a:moveTo>
                  <a:pt x="207" y="982"/>
                </a:moveTo>
                <a:cubicBezTo>
                  <a:pt x="210" y="985"/>
                  <a:pt x="216" y="983"/>
                  <a:pt x="219" y="982"/>
                </a:cubicBezTo>
                <a:cubicBezTo>
                  <a:pt x="217" y="981"/>
                  <a:pt x="211" y="979"/>
                  <a:pt x="207" y="982"/>
                </a:cubicBezTo>
                <a:close/>
                <a:moveTo>
                  <a:pt x="4" y="982"/>
                </a:moveTo>
                <a:cubicBezTo>
                  <a:pt x="2" y="983"/>
                  <a:pt x="1" y="985"/>
                  <a:pt x="0" y="988"/>
                </a:cubicBezTo>
                <a:cubicBezTo>
                  <a:pt x="4" y="987"/>
                  <a:pt x="6" y="990"/>
                  <a:pt x="9" y="991"/>
                </a:cubicBezTo>
                <a:cubicBezTo>
                  <a:pt x="9" y="987"/>
                  <a:pt x="15" y="989"/>
                  <a:pt x="14" y="985"/>
                </a:cubicBezTo>
                <a:cubicBezTo>
                  <a:pt x="9" y="987"/>
                  <a:pt x="8" y="984"/>
                  <a:pt x="4" y="982"/>
                </a:cubicBezTo>
                <a:close/>
                <a:moveTo>
                  <a:pt x="1088" y="991"/>
                </a:moveTo>
                <a:cubicBezTo>
                  <a:pt x="1090" y="987"/>
                  <a:pt x="1095" y="986"/>
                  <a:pt x="1099" y="986"/>
                </a:cubicBezTo>
                <a:cubicBezTo>
                  <a:pt x="1098" y="977"/>
                  <a:pt x="1086" y="988"/>
                  <a:pt x="1088" y="991"/>
                </a:cubicBezTo>
                <a:close/>
                <a:moveTo>
                  <a:pt x="1136" y="986"/>
                </a:moveTo>
                <a:cubicBezTo>
                  <a:pt x="1138" y="986"/>
                  <a:pt x="1138" y="987"/>
                  <a:pt x="1139" y="988"/>
                </a:cubicBezTo>
                <a:cubicBezTo>
                  <a:pt x="1138" y="985"/>
                  <a:pt x="1142" y="987"/>
                  <a:pt x="1141" y="984"/>
                </a:cubicBezTo>
                <a:cubicBezTo>
                  <a:pt x="1139" y="984"/>
                  <a:pt x="1137" y="985"/>
                  <a:pt x="1136" y="986"/>
                </a:cubicBezTo>
                <a:close/>
                <a:moveTo>
                  <a:pt x="1151" y="990"/>
                </a:moveTo>
                <a:cubicBezTo>
                  <a:pt x="1152" y="990"/>
                  <a:pt x="1153" y="991"/>
                  <a:pt x="1154" y="991"/>
                </a:cubicBezTo>
                <a:cubicBezTo>
                  <a:pt x="1153" y="998"/>
                  <a:pt x="1147" y="992"/>
                  <a:pt x="1146" y="995"/>
                </a:cubicBezTo>
                <a:cubicBezTo>
                  <a:pt x="1150" y="996"/>
                  <a:pt x="1151" y="999"/>
                  <a:pt x="1154" y="1000"/>
                </a:cubicBezTo>
                <a:cubicBezTo>
                  <a:pt x="1152" y="997"/>
                  <a:pt x="1153" y="993"/>
                  <a:pt x="1157" y="992"/>
                </a:cubicBezTo>
                <a:cubicBezTo>
                  <a:pt x="1156" y="991"/>
                  <a:pt x="1156" y="989"/>
                  <a:pt x="1155" y="988"/>
                </a:cubicBezTo>
                <a:cubicBezTo>
                  <a:pt x="1155" y="990"/>
                  <a:pt x="1150" y="987"/>
                  <a:pt x="1151" y="990"/>
                </a:cubicBezTo>
                <a:close/>
                <a:moveTo>
                  <a:pt x="845" y="991"/>
                </a:moveTo>
                <a:cubicBezTo>
                  <a:pt x="842" y="993"/>
                  <a:pt x="834" y="994"/>
                  <a:pt x="836" y="998"/>
                </a:cubicBezTo>
                <a:cubicBezTo>
                  <a:pt x="839" y="996"/>
                  <a:pt x="843" y="995"/>
                  <a:pt x="845" y="991"/>
                </a:cubicBezTo>
                <a:close/>
                <a:moveTo>
                  <a:pt x="996" y="992"/>
                </a:moveTo>
                <a:cubicBezTo>
                  <a:pt x="994" y="993"/>
                  <a:pt x="992" y="994"/>
                  <a:pt x="991" y="995"/>
                </a:cubicBezTo>
                <a:cubicBezTo>
                  <a:pt x="994" y="995"/>
                  <a:pt x="996" y="995"/>
                  <a:pt x="996" y="992"/>
                </a:cubicBezTo>
                <a:close/>
                <a:moveTo>
                  <a:pt x="1031" y="997"/>
                </a:moveTo>
                <a:cubicBezTo>
                  <a:pt x="1031" y="995"/>
                  <a:pt x="1034" y="996"/>
                  <a:pt x="1035" y="994"/>
                </a:cubicBezTo>
                <a:cubicBezTo>
                  <a:pt x="1033" y="992"/>
                  <a:pt x="1028" y="996"/>
                  <a:pt x="1031" y="997"/>
                </a:cubicBezTo>
                <a:close/>
                <a:moveTo>
                  <a:pt x="856" y="1002"/>
                </a:moveTo>
                <a:cubicBezTo>
                  <a:pt x="861" y="1004"/>
                  <a:pt x="865" y="997"/>
                  <a:pt x="869" y="995"/>
                </a:cubicBezTo>
                <a:cubicBezTo>
                  <a:pt x="865" y="998"/>
                  <a:pt x="858" y="994"/>
                  <a:pt x="854" y="1000"/>
                </a:cubicBezTo>
                <a:cubicBezTo>
                  <a:pt x="856" y="1001"/>
                  <a:pt x="858" y="997"/>
                  <a:pt x="859" y="999"/>
                </a:cubicBezTo>
                <a:cubicBezTo>
                  <a:pt x="858" y="999"/>
                  <a:pt x="857" y="1000"/>
                  <a:pt x="856" y="1002"/>
                </a:cubicBezTo>
                <a:close/>
                <a:moveTo>
                  <a:pt x="882" y="994"/>
                </a:moveTo>
                <a:cubicBezTo>
                  <a:pt x="880" y="996"/>
                  <a:pt x="873" y="997"/>
                  <a:pt x="876" y="1001"/>
                </a:cubicBezTo>
                <a:cubicBezTo>
                  <a:pt x="880" y="1001"/>
                  <a:pt x="884" y="997"/>
                  <a:pt x="882" y="994"/>
                </a:cubicBezTo>
                <a:close/>
                <a:moveTo>
                  <a:pt x="327" y="1005"/>
                </a:moveTo>
                <a:cubicBezTo>
                  <a:pt x="328" y="1004"/>
                  <a:pt x="332" y="1005"/>
                  <a:pt x="331" y="1002"/>
                </a:cubicBezTo>
                <a:cubicBezTo>
                  <a:pt x="329" y="1002"/>
                  <a:pt x="325" y="1004"/>
                  <a:pt x="327" y="1005"/>
                </a:cubicBezTo>
                <a:close/>
                <a:moveTo>
                  <a:pt x="126" y="1017"/>
                </a:moveTo>
                <a:cubicBezTo>
                  <a:pt x="133" y="1015"/>
                  <a:pt x="141" y="1013"/>
                  <a:pt x="143" y="1006"/>
                </a:cubicBezTo>
                <a:cubicBezTo>
                  <a:pt x="136" y="1000"/>
                  <a:pt x="127" y="1008"/>
                  <a:pt x="126" y="1017"/>
                </a:cubicBezTo>
                <a:close/>
                <a:moveTo>
                  <a:pt x="825" y="1024"/>
                </a:moveTo>
                <a:cubicBezTo>
                  <a:pt x="837" y="1021"/>
                  <a:pt x="845" y="1013"/>
                  <a:pt x="852" y="1005"/>
                </a:cubicBezTo>
                <a:cubicBezTo>
                  <a:pt x="840" y="1006"/>
                  <a:pt x="834" y="1017"/>
                  <a:pt x="825" y="1018"/>
                </a:cubicBezTo>
                <a:cubicBezTo>
                  <a:pt x="827" y="1021"/>
                  <a:pt x="822" y="1022"/>
                  <a:pt x="825" y="1024"/>
                </a:cubicBezTo>
                <a:close/>
                <a:moveTo>
                  <a:pt x="834" y="1010"/>
                </a:moveTo>
                <a:cubicBezTo>
                  <a:pt x="836" y="1007"/>
                  <a:pt x="840" y="1009"/>
                  <a:pt x="840" y="1006"/>
                </a:cubicBezTo>
                <a:cubicBezTo>
                  <a:pt x="838" y="1004"/>
                  <a:pt x="830" y="1007"/>
                  <a:pt x="834" y="1010"/>
                </a:cubicBezTo>
                <a:close/>
                <a:moveTo>
                  <a:pt x="828" y="1006"/>
                </a:moveTo>
                <a:cubicBezTo>
                  <a:pt x="828" y="1009"/>
                  <a:pt x="824" y="1008"/>
                  <a:pt x="824" y="1011"/>
                </a:cubicBezTo>
                <a:cubicBezTo>
                  <a:pt x="827" y="1012"/>
                  <a:pt x="830" y="1012"/>
                  <a:pt x="832" y="1011"/>
                </a:cubicBezTo>
                <a:cubicBezTo>
                  <a:pt x="831" y="1009"/>
                  <a:pt x="830" y="1007"/>
                  <a:pt x="828" y="1006"/>
                </a:cubicBezTo>
                <a:close/>
                <a:moveTo>
                  <a:pt x="985" y="1009"/>
                </a:moveTo>
                <a:cubicBezTo>
                  <a:pt x="977" y="1010"/>
                  <a:pt x="972" y="1015"/>
                  <a:pt x="967" y="1019"/>
                </a:cubicBezTo>
                <a:cubicBezTo>
                  <a:pt x="976" y="1019"/>
                  <a:pt x="982" y="1015"/>
                  <a:pt x="985" y="1009"/>
                </a:cubicBezTo>
                <a:close/>
                <a:moveTo>
                  <a:pt x="1131" y="1012"/>
                </a:moveTo>
                <a:cubicBezTo>
                  <a:pt x="1133" y="1012"/>
                  <a:pt x="1135" y="1011"/>
                  <a:pt x="1136" y="1009"/>
                </a:cubicBezTo>
                <a:cubicBezTo>
                  <a:pt x="1133" y="1009"/>
                  <a:pt x="1131" y="1009"/>
                  <a:pt x="1131" y="1012"/>
                </a:cubicBezTo>
                <a:close/>
                <a:moveTo>
                  <a:pt x="816" y="1013"/>
                </a:moveTo>
                <a:cubicBezTo>
                  <a:pt x="813" y="1013"/>
                  <a:pt x="810" y="1014"/>
                  <a:pt x="808" y="1016"/>
                </a:cubicBezTo>
                <a:cubicBezTo>
                  <a:pt x="811" y="1015"/>
                  <a:pt x="815" y="1015"/>
                  <a:pt x="816" y="1013"/>
                </a:cubicBezTo>
                <a:close/>
                <a:moveTo>
                  <a:pt x="937" y="1026"/>
                </a:moveTo>
                <a:cubicBezTo>
                  <a:pt x="942" y="1026"/>
                  <a:pt x="945" y="1024"/>
                  <a:pt x="948" y="1021"/>
                </a:cubicBezTo>
                <a:cubicBezTo>
                  <a:pt x="947" y="1020"/>
                  <a:pt x="947" y="1017"/>
                  <a:pt x="946" y="1017"/>
                </a:cubicBezTo>
                <a:cubicBezTo>
                  <a:pt x="945" y="1018"/>
                  <a:pt x="942" y="1019"/>
                  <a:pt x="943" y="1016"/>
                </a:cubicBezTo>
                <a:cubicBezTo>
                  <a:pt x="938" y="1018"/>
                  <a:pt x="940" y="1022"/>
                  <a:pt x="937" y="1026"/>
                </a:cubicBezTo>
                <a:close/>
                <a:moveTo>
                  <a:pt x="239" y="1024"/>
                </a:moveTo>
                <a:cubicBezTo>
                  <a:pt x="239" y="1023"/>
                  <a:pt x="244" y="1021"/>
                  <a:pt x="241" y="1019"/>
                </a:cubicBezTo>
                <a:cubicBezTo>
                  <a:pt x="241" y="1021"/>
                  <a:pt x="235" y="1022"/>
                  <a:pt x="239" y="1024"/>
                </a:cubicBezTo>
                <a:close/>
                <a:moveTo>
                  <a:pt x="976" y="1035"/>
                </a:moveTo>
                <a:cubicBezTo>
                  <a:pt x="977" y="1036"/>
                  <a:pt x="983" y="1034"/>
                  <a:pt x="983" y="1030"/>
                </a:cubicBezTo>
                <a:cubicBezTo>
                  <a:pt x="976" y="1034"/>
                  <a:pt x="962" y="1038"/>
                  <a:pt x="956" y="1044"/>
                </a:cubicBezTo>
                <a:cubicBezTo>
                  <a:pt x="965" y="1044"/>
                  <a:pt x="970" y="1039"/>
                  <a:pt x="976" y="1035"/>
                </a:cubicBezTo>
                <a:close/>
                <a:moveTo>
                  <a:pt x="978" y="1043"/>
                </a:moveTo>
                <a:cubicBezTo>
                  <a:pt x="975" y="1043"/>
                  <a:pt x="973" y="1045"/>
                  <a:pt x="972" y="1046"/>
                </a:cubicBezTo>
                <a:cubicBezTo>
                  <a:pt x="974" y="1046"/>
                  <a:pt x="978" y="1046"/>
                  <a:pt x="978" y="1043"/>
                </a:cubicBezTo>
                <a:close/>
                <a:moveTo>
                  <a:pt x="245" y="1049"/>
                </a:moveTo>
                <a:cubicBezTo>
                  <a:pt x="243" y="1053"/>
                  <a:pt x="242" y="1059"/>
                  <a:pt x="240" y="1062"/>
                </a:cubicBezTo>
                <a:cubicBezTo>
                  <a:pt x="248" y="1060"/>
                  <a:pt x="255" y="1056"/>
                  <a:pt x="258" y="1048"/>
                </a:cubicBezTo>
                <a:cubicBezTo>
                  <a:pt x="254" y="1051"/>
                  <a:pt x="250" y="1050"/>
                  <a:pt x="245" y="1049"/>
                </a:cubicBezTo>
                <a:close/>
                <a:moveTo>
                  <a:pt x="921" y="1054"/>
                </a:moveTo>
                <a:cubicBezTo>
                  <a:pt x="923" y="1053"/>
                  <a:pt x="932" y="1052"/>
                  <a:pt x="933" y="1048"/>
                </a:cubicBezTo>
                <a:cubicBezTo>
                  <a:pt x="930" y="1050"/>
                  <a:pt x="923" y="1050"/>
                  <a:pt x="921" y="1054"/>
                </a:cubicBezTo>
                <a:close/>
                <a:moveTo>
                  <a:pt x="926" y="1062"/>
                </a:moveTo>
                <a:cubicBezTo>
                  <a:pt x="928" y="1057"/>
                  <a:pt x="934" y="1057"/>
                  <a:pt x="938" y="1054"/>
                </a:cubicBezTo>
                <a:cubicBezTo>
                  <a:pt x="931" y="1054"/>
                  <a:pt x="925" y="1057"/>
                  <a:pt x="921" y="1060"/>
                </a:cubicBezTo>
                <a:cubicBezTo>
                  <a:pt x="922" y="1061"/>
                  <a:pt x="925" y="1061"/>
                  <a:pt x="926" y="1062"/>
                </a:cubicBezTo>
                <a:close/>
                <a:moveTo>
                  <a:pt x="768" y="1057"/>
                </a:moveTo>
                <a:cubicBezTo>
                  <a:pt x="762" y="1054"/>
                  <a:pt x="760" y="1062"/>
                  <a:pt x="755" y="1060"/>
                </a:cubicBezTo>
                <a:cubicBezTo>
                  <a:pt x="755" y="1063"/>
                  <a:pt x="757" y="1063"/>
                  <a:pt x="758" y="1064"/>
                </a:cubicBezTo>
                <a:cubicBezTo>
                  <a:pt x="761" y="1060"/>
                  <a:pt x="766" y="1061"/>
                  <a:pt x="768" y="1057"/>
                </a:cubicBezTo>
                <a:close/>
                <a:moveTo>
                  <a:pt x="718" y="1059"/>
                </a:moveTo>
                <a:cubicBezTo>
                  <a:pt x="715" y="1059"/>
                  <a:pt x="713" y="1060"/>
                  <a:pt x="712" y="1062"/>
                </a:cubicBezTo>
                <a:cubicBezTo>
                  <a:pt x="713" y="1062"/>
                  <a:pt x="713" y="1063"/>
                  <a:pt x="712" y="1064"/>
                </a:cubicBezTo>
                <a:cubicBezTo>
                  <a:pt x="715" y="1063"/>
                  <a:pt x="718" y="1062"/>
                  <a:pt x="718" y="1059"/>
                </a:cubicBezTo>
                <a:close/>
                <a:moveTo>
                  <a:pt x="906" y="1070"/>
                </a:moveTo>
                <a:cubicBezTo>
                  <a:pt x="911" y="1069"/>
                  <a:pt x="915" y="1067"/>
                  <a:pt x="919" y="1064"/>
                </a:cubicBezTo>
                <a:cubicBezTo>
                  <a:pt x="919" y="1064"/>
                  <a:pt x="918" y="1063"/>
                  <a:pt x="918" y="1062"/>
                </a:cubicBezTo>
                <a:cubicBezTo>
                  <a:pt x="914" y="1065"/>
                  <a:pt x="906" y="1064"/>
                  <a:pt x="906" y="1070"/>
                </a:cubicBezTo>
                <a:close/>
                <a:moveTo>
                  <a:pt x="524" y="1069"/>
                </a:moveTo>
                <a:cubicBezTo>
                  <a:pt x="524" y="1066"/>
                  <a:pt x="526" y="1066"/>
                  <a:pt x="526" y="1063"/>
                </a:cubicBezTo>
                <a:cubicBezTo>
                  <a:pt x="523" y="1062"/>
                  <a:pt x="523" y="1065"/>
                  <a:pt x="522" y="1063"/>
                </a:cubicBezTo>
                <a:cubicBezTo>
                  <a:pt x="522" y="1069"/>
                  <a:pt x="515" y="1064"/>
                  <a:pt x="515" y="1068"/>
                </a:cubicBezTo>
                <a:cubicBezTo>
                  <a:pt x="516" y="1070"/>
                  <a:pt x="521" y="1068"/>
                  <a:pt x="524" y="1069"/>
                </a:cubicBezTo>
                <a:close/>
                <a:moveTo>
                  <a:pt x="678" y="1074"/>
                </a:moveTo>
                <a:cubicBezTo>
                  <a:pt x="691" y="1077"/>
                  <a:pt x="702" y="1069"/>
                  <a:pt x="710" y="1063"/>
                </a:cubicBezTo>
                <a:cubicBezTo>
                  <a:pt x="699" y="1065"/>
                  <a:pt x="688" y="1067"/>
                  <a:pt x="682" y="1073"/>
                </a:cubicBezTo>
                <a:cubicBezTo>
                  <a:pt x="682" y="1072"/>
                  <a:pt x="682" y="1071"/>
                  <a:pt x="681" y="1070"/>
                </a:cubicBezTo>
                <a:cubicBezTo>
                  <a:pt x="682" y="1074"/>
                  <a:pt x="677" y="1071"/>
                  <a:pt x="678" y="1074"/>
                </a:cubicBezTo>
                <a:close/>
                <a:moveTo>
                  <a:pt x="747" y="1066"/>
                </a:moveTo>
                <a:cubicBezTo>
                  <a:pt x="736" y="1067"/>
                  <a:pt x="724" y="1073"/>
                  <a:pt x="716" y="1078"/>
                </a:cubicBezTo>
                <a:cubicBezTo>
                  <a:pt x="727" y="1080"/>
                  <a:pt x="733" y="1070"/>
                  <a:pt x="744" y="1070"/>
                </a:cubicBezTo>
                <a:cubicBezTo>
                  <a:pt x="743" y="1067"/>
                  <a:pt x="746" y="1067"/>
                  <a:pt x="747" y="1066"/>
                </a:cubicBezTo>
                <a:close/>
                <a:moveTo>
                  <a:pt x="1029" y="1088"/>
                </a:moveTo>
                <a:cubicBezTo>
                  <a:pt x="1035" y="1088"/>
                  <a:pt x="1051" y="1081"/>
                  <a:pt x="1048" y="1075"/>
                </a:cubicBezTo>
                <a:cubicBezTo>
                  <a:pt x="1043" y="1080"/>
                  <a:pt x="1034" y="1083"/>
                  <a:pt x="1029" y="1088"/>
                </a:cubicBezTo>
                <a:close/>
                <a:moveTo>
                  <a:pt x="402" y="1084"/>
                </a:moveTo>
                <a:cubicBezTo>
                  <a:pt x="402" y="1086"/>
                  <a:pt x="399" y="1085"/>
                  <a:pt x="399" y="1086"/>
                </a:cubicBezTo>
                <a:cubicBezTo>
                  <a:pt x="402" y="1085"/>
                  <a:pt x="399" y="1089"/>
                  <a:pt x="402" y="1089"/>
                </a:cubicBezTo>
                <a:cubicBezTo>
                  <a:pt x="403" y="1088"/>
                  <a:pt x="405" y="1085"/>
                  <a:pt x="402" y="1084"/>
                </a:cubicBezTo>
                <a:close/>
                <a:moveTo>
                  <a:pt x="710" y="1088"/>
                </a:moveTo>
                <a:cubicBezTo>
                  <a:pt x="708" y="1090"/>
                  <a:pt x="702" y="1089"/>
                  <a:pt x="702" y="1093"/>
                </a:cubicBezTo>
                <a:cubicBezTo>
                  <a:pt x="704" y="1094"/>
                  <a:pt x="707" y="1094"/>
                  <a:pt x="711" y="1094"/>
                </a:cubicBezTo>
                <a:cubicBezTo>
                  <a:pt x="712" y="1092"/>
                  <a:pt x="713" y="1089"/>
                  <a:pt x="710" y="1088"/>
                </a:cubicBezTo>
                <a:close/>
                <a:moveTo>
                  <a:pt x="710" y="1097"/>
                </a:moveTo>
                <a:cubicBezTo>
                  <a:pt x="712" y="1098"/>
                  <a:pt x="715" y="1096"/>
                  <a:pt x="714" y="1099"/>
                </a:cubicBezTo>
                <a:cubicBezTo>
                  <a:pt x="709" y="1100"/>
                  <a:pt x="709" y="1101"/>
                  <a:pt x="709" y="1105"/>
                </a:cubicBezTo>
                <a:cubicBezTo>
                  <a:pt x="711" y="1105"/>
                  <a:pt x="713" y="1105"/>
                  <a:pt x="714" y="1107"/>
                </a:cubicBezTo>
                <a:cubicBezTo>
                  <a:pt x="711" y="1108"/>
                  <a:pt x="710" y="1107"/>
                  <a:pt x="710" y="1109"/>
                </a:cubicBezTo>
                <a:cubicBezTo>
                  <a:pt x="715" y="1109"/>
                  <a:pt x="718" y="1106"/>
                  <a:pt x="721" y="1104"/>
                </a:cubicBezTo>
                <a:cubicBezTo>
                  <a:pt x="718" y="1103"/>
                  <a:pt x="716" y="1107"/>
                  <a:pt x="714" y="1104"/>
                </a:cubicBezTo>
                <a:cubicBezTo>
                  <a:pt x="717" y="1103"/>
                  <a:pt x="722" y="1099"/>
                  <a:pt x="725" y="1101"/>
                </a:cubicBezTo>
                <a:cubicBezTo>
                  <a:pt x="725" y="1103"/>
                  <a:pt x="722" y="1102"/>
                  <a:pt x="722" y="1104"/>
                </a:cubicBezTo>
                <a:cubicBezTo>
                  <a:pt x="725" y="1106"/>
                  <a:pt x="729" y="1104"/>
                  <a:pt x="731" y="1102"/>
                </a:cubicBezTo>
                <a:cubicBezTo>
                  <a:pt x="728" y="1102"/>
                  <a:pt x="726" y="1099"/>
                  <a:pt x="728" y="1097"/>
                </a:cubicBezTo>
                <a:cubicBezTo>
                  <a:pt x="726" y="1097"/>
                  <a:pt x="724" y="1098"/>
                  <a:pt x="724" y="1096"/>
                </a:cubicBezTo>
                <a:cubicBezTo>
                  <a:pt x="724" y="1094"/>
                  <a:pt x="727" y="1095"/>
                  <a:pt x="727" y="1094"/>
                </a:cubicBezTo>
                <a:cubicBezTo>
                  <a:pt x="725" y="1092"/>
                  <a:pt x="723" y="1090"/>
                  <a:pt x="721" y="1089"/>
                </a:cubicBezTo>
                <a:cubicBezTo>
                  <a:pt x="720" y="1095"/>
                  <a:pt x="712" y="1092"/>
                  <a:pt x="710" y="1097"/>
                </a:cubicBezTo>
                <a:close/>
                <a:moveTo>
                  <a:pt x="939" y="1102"/>
                </a:moveTo>
                <a:cubicBezTo>
                  <a:pt x="932" y="1106"/>
                  <a:pt x="924" y="1109"/>
                  <a:pt x="917" y="1113"/>
                </a:cubicBezTo>
                <a:cubicBezTo>
                  <a:pt x="928" y="1113"/>
                  <a:pt x="933" y="1105"/>
                  <a:pt x="940" y="1105"/>
                </a:cubicBezTo>
                <a:cubicBezTo>
                  <a:pt x="940" y="1104"/>
                  <a:pt x="941" y="1102"/>
                  <a:pt x="939" y="1102"/>
                </a:cubicBezTo>
                <a:close/>
                <a:moveTo>
                  <a:pt x="625" y="1108"/>
                </a:moveTo>
                <a:cubicBezTo>
                  <a:pt x="629" y="1107"/>
                  <a:pt x="634" y="1107"/>
                  <a:pt x="635" y="1104"/>
                </a:cubicBezTo>
                <a:cubicBezTo>
                  <a:pt x="631" y="1105"/>
                  <a:pt x="628" y="1105"/>
                  <a:pt x="625" y="1108"/>
                </a:cubicBezTo>
                <a:close/>
                <a:moveTo>
                  <a:pt x="682" y="1117"/>
                </a:moveTo>
                <a:cubicBezTo>
                  <a:pt x="685" y="1117"/>
                  <a:pt x="695" y="1117"/>
                  <a:pt x="697" y="1113"/>
                </a:cubicBezTo>
                <a:cubicBezTo>
                  <a:pt x="693" y="1112"/>
                  <a:pt x="692" y="1113"/>
                  <a:pt x="688" y="1113"/>
                </a:cubicBezTo>
                <a:cubicBezTo>
                  <a:pt x="684" y="1110"/>
                  <a:pt x="689" y="1110"/>
                  <a:pt x="689" y="1108"/>
                </a:cubicBezTo>
                <a:cubicBezTo>
                  <a:pt x="682" y="1108"/>
                  <a:pt x="687" y="1111"/>
                  <a:pt x="682" y="1113"/>
                </a:cubicBezTo>
                <a:cubicBezTo>
                  <a:pt x="686" y="1115"/>
                  <a:pt x="683" y="1115"/>
                  <a:pt x="682" y="1117"/>
                </a:cubicBezTo>
                <a:close/>
                <a:moveTo>
                  <a:pt x="561" y="1110"/>
                </a:moveTo>
                <a:cubicBezTo>
                  <a:pt x="558" y="1112"/>
                  <a:pt x="550" y="1108"/>
                  <a:pt x="547" y="1112"/>
                </a:cubicBezTo>
                <a:cubicBezTo>
                  <a:pt x="551" y="1114"/>
                  <a:pt x="560" y="1114"/>
                  <a:pt x="561" y="1110"/>
                </a:cubicBezTo>
                <a:close/>
                <a:moveTo>
                  <a:pt x="870" y="1113"/>
                </a:moveTo>
                <a:cubicBezTo>
                  <a:pt x="867" y="1113"/>
                  <a:pt x="866" y="1115"/>
                  <a:pt x="863" y="1115"/>
                </a:cubicBezTo>
                <a:cubicBezTo>
                  <a:pt x="865" y="1119"/>
                  <a:pt x="863" y="1120"/>
                  <a:pt x="862" y="1122"/>
                </a:cubicBezTo>
                <a:cubicBezTo>
                  <a:pt x="871" y="1122"/>
                  <a:pt x="869" y="1120"/>
                  <a:pt x="870" y="1113"/>
                </a:cubicBezTo>
                <a:close/>
                <a:moveTo>
                  <a:pt x="809" y="1121"/>
                </a:moveTo>
                <a:cubicBezTo>
                  <a:pt x="806" y="1121"/>
                  <a:pt x="802" y="1120"/>
                  <a:pt x="801" y="1123"/>
                </a:cubicBezTo>
                <a:cubicBezTo>
                  <a:pt x="804" y="1123"/>
                  <a:pt x="807" y="1122"/>
                  <a:pt x="809" y="1121"/>
                </a:cubicBezTo>
                <a:close/>
                <a:moveTo>
                  <a:pt x="742" y="1145"/>
                </a:moveTo>
                <a:cubicBezTo>
                  <a:pt x="746" y="1144"/>
                  <a:pt x="748" y="1141"/>
                  <a:pt x="749" y="1137"/>
                </a:cubicBezTo>
                <a:cubicBezTo>
                  <a:pt x="745" y="1140"/>
                  <a:pt x="743" y="1140"/>
                  <a:pt x="742" y="1145"/>
                </a:cubicBezTo>
                <a:close/>
                <a:moveTo>
                  <a:pt x="571" y="1138"/>
                </a:moveTo>
                <a:cubicBezTo>
                  <a:pt x="568" y="1141"/>
                  <a:pt x="562" y="1142"/>
                  <a:pt x="559" y="1145"/>
                </a:cubicBezTo>
                <a:cubicBezTo>
                  <a:pt x="564" y="1147"/>
                  <a:pt x="569" y="1142"/>
                  <a:pt x="571" y="1138"/>
                </a:cubicBezTo>
                <a:close/>
                <a:moveTo>
                  <a:pt x="611" y="1147"/>
                </a:moveTo>
                <a:cubicBezTo>
                  <a:pt x="609" y="1143"/>
                  <a:pt x="603" y="1146"/>
                  <a:pt x="602" y="1148"/>
                </a:cubicBezTo>
                <a:cubicBezTo>
                  <a:pt x="606" y="1148"/>
                  <a:pt x="610" y="1149"/>
                  <a:pt x="611" y="1147"/>
                </a:cubicBezTo>
                <a:close/>
                <a:moveTo>
                  <a:pt x="634" y="1152"/>
                </a:moveTo>
                <a:cubicBezTo>
                  <a:pt x="638" y="1153"/>
                  <a:pt x="644" y="1149"/>
                  <a:pt x="649" y="1148"/>
                </a:cubicBezTo>
                <a:cubicBezTo>
                  <a:pt x="644" y="1148"/>
                  <a:pt x="637" y="1148"/>
                  <a:pt x="634" y="1152"/>
                </a:cubicBezTo>
                <a:close/>
                <a:moveTo>
                  <a:pt x="695" y="1156"/>
                </a:moveTo>
                <a:cubicBezTo>
                  <a:pt x="689" y="1154"/>
                  <a:pt x="686" y="1160"/>
                  <a:pt x="681" y="1161"/>
                </a:cubicBezTo>
                <a:cubicBezTo>
                  <a:pt x="681" y="1161"/>
                  <a:pt x="680" y="1159"/>
                  <a:pt x="678" y="1160"/>
                </a:cubicBezTo>
                <a:cubicBezTo>
                  <a:pt x="674" y="1160"/>
                  <a:pt x="669" y="1166"/>
                  <a:pt x="662" y="1165"/>
                </a:cubicBezTo>
                <a:cubicBezTo>
                  <a:pt x="667" y="1171"/>
                  <a:pt x="677" y="1165"/>
                  <a:pt x="686" y="1162"/>
                </a:cubicBezTo>
                <a:cubicBezTo>
                  <a:pt x="693" y="1160"/>
                  <a:pt x="701" y="1159"/>
                  <a:pt x="708" y="1157"/>
                </a:cubicBezTo>
                <a:cubicBezTo>
                  <a:pt x="706" y="1151"/>
                  <a:pt x="697" y="1151"/>
                  <a:pt x="695" y="1156"/>
                </a:cubicBezTo>
                <a:close/>
                <a:moveTo>
                  <a:pt x="557" y="1166"/>
                </a:moveTo>
                <a:cubicBezTo>
                  <a:pt x="557" y="1170"/>
                  <a:pt x="558" y="1171"/>
                  <a:pt x="559" y="1174"/>
                </a:cubicBezTo>
                <a:cubicBezTo>
                  <a:pt x="571" y="1173"/>
                  <a:pt x="577" y="1170"/>
                  <a:pt x="582" y="1160"/>
                </a:cubicBezTo>
                <a:cubicBezTo>
                  <a:pt x="572" y="1156"/>
                  <a:pt x="566" y="1165"/>
                  <a:pt x="557" y="1166"/>
                </a:cubicBezTo>
                <a:close/>
                <a:moveTo>
                  <a:pt x="605" y="1161"/>
                </a:moveTo>
                <a:cubicBezTo>
                  <a:pt x="607" y="1163"/>
                  <a:pt x="614" y="1162"/>
                  <a:pt x="615" y="1160"/>
                </a:cubicBezTo>
                <a:cubicBezTo>
                  <a:pt x="612" y="1161"/>
                  <a:pt x="605" y="1158"/>
                  <a:pt x="605" y="1161"/>
                </a:cubicBezTo>
                <a:close/>
                <a:moveTo>
                  <a:pt x="606" y="1170"/>
                </a:moveTo>
                <a:cubicBezTo>
                  <a:pt x="606" y="1168"/>
                  <a:pt x="604" y="1167"/>
                  <a:pt x="605" y="1164"/>
                </a:cubicBezTo>
                <a:cubicBezTo>
                  <a:pt x="601" y="1165"/>
                  <a:pt x="602" y="1162"/>
                  <a:pt x="599" y="1162"/>
                </a:cubicBezTo>
                <a:cubicBezTo>
                  <a:pt x="599" y="1164"/>
                  <a:pt x="599" y="1164"/>
                  <a:pt x="599" y="1164"/>
                </a:cubicBezTo>
                <a:cubicBezTo>
                  <a:pt x="598" y="1164"/>
                  <a:pt x="598" y="1164"/>
                  <a:pt x="598" y="1165"/>
                </a:cubicBezTo>
                <a:cubicBezTo>
                  <a:pt x="601" y="1165"/>
                  <a:pt x="604" y="1165"/>
                  <a:pt x="604" y="1168"/>
                </a:cubicBezTo>
                <a:cubicBezTo>
                  <a:pt x="601" y="1168"/>
                  <a:pt x="598" y="1169"/>
                  <a:pt x="595" y="1171"/>
                </a:cubicBezTo>
                <a:cubicBezTo>
                  <a:pt x="599" y="1174"/>
                  <a:pt x="602" y="1170"/>
                  <a:pt x="606" y="1170"/>
                </a:cubicBezTo>
                <a:close/>
                <a:moveTo>
                  <a:pt x="811" y="1194"/>
                </a:moveTo>
                <a:cubicBezTo>
                  <a:pt x="821" y="1191"/>
                  <a:pt x="837" y="1185"/>
                  <a:pt x="847" y="1179"/>
                </a:cubicBezTo>
                <a:cubicBezTo>
                  <a:pt x="838" y="1180"/>
                  <a:pt x="830" y="1185"/>
                  <a:pt x="822" y="1188"/>
                </a:cubicBezTo>
                <a:cubicBezTo>
                  <a:pt x="819" y="1189"/>
                  <a:pt x="811" y="1188"/>
                  <a:pt x="811" y="1194"/>
                </a:cubicBezTo>
                <a:close/>
                <a:moveTo>
                  <a:pt x="569" y="1181"/>
                </a:moveTo>
                <a:cubicBezTo>
                  <a:pt x="567" y="1182"/>
                  <a:pt x="563" y="1182"/>
                  <a:pt x="563" y="1185"/>
                </a:cubicBezTo>
                <a:cubicBezTo>
                  <a:pt x="566" y="1184"/>
                  <a:pt x="574" y="1187"/>
                  <a:pt x="577" y="1184"/>
                </a:cubicBezTo>
                <a:cubicBezTo>
                  <a:pt x="574" y="1183"/>
                  <a:pt x="568" y="1186"/>
                  <a:pt x="569" y="1181"/>
                </a:cubicBezTo>
                <a:close/>
                <a:moveTo>
                  <a:pt x="596" y="1188"/>
                </a:moveTo>
                <a:cubicBezTo>
                  <a:pt x="598" y="1188"/>
                  <a:pt x="599" y="1189"/>
                  <a:pt x="599" y="1191"/>
                </a:cubicBezTo>
                <a:cubicBezTo>
                  <a:pt x="604" y="1191"/>
                  <a:pt x="609" y="1191"/>
                  <a:pt x="612" y="1188"/>
                </a:cubicBezTo>
                <a:cubicBezTo>
                  <a:pt x="606" y="1188"/>
                  <a:pt x="602" y="1187"/>
                  <a:pt x="596" y="1188"/>
                </a:cubicBezTo>
                <a:close/>
                <a:moveTo>
                  <a:pt x="1057" y="131"/>
                </a:moveTo>
                <a:cubicBezTo>
                  <a:pt x="1067" y="127"/>
                  <a:pt x="1072" y="123"/>
                  <a:pt x="1082" y="118"/>
                </a:cubicBezTo>
                <a:cubicBezTo>
                  <a:pt x="1083" y="123"/>
                  <a:pt x="1077" y="128"/>
                  <a:pt x="1081" y="129"/>
                </a:cubicBezTo>
                <a:cubicBezTo>
                  <a:pt x="1086" y="124"/>
                  <a:pt x="1095" y="123"/>
                  <a:pt x="1102" y="116"/>
                </a:cubicBezTo>
                <a:cubicBezTo>
                  <a:pt x="1102" y="118"/>
                  <a:pt x="1103" y="117"/>
                  <a:pt x="1103" y="118"/>
                </a:cubicBezTo>
                <a:cubicBezTo>
                  <a:pt x="1104" y="130"/>
                  <a:pt x="1088" y="126"/>
                  <a:pt x="1085" y="135"/>
                </a:cubicBezTo>
                <a:cubicBezTo>
                  <a:pt x="1086" y="136"/>
                  <a:pt x="1089" y="136"/>
                  <a:pt x="1089" y="139"/>
                </a:cubicBezTo>
                <a:cubicBezTo>
                  <a:pt x="1103" y="136"/>
                  <a:pt x="1112" y="135"/>
                  <a:pt x="1125" y="131"/>
                </a:cubicBezTo>
                <a:cubicBezTo>
                  <a:pt x="1135" y="149"/>
                  <a:pt x="1100" y="141"/>
                  <a:pt x="1105" y="156"/>
                </a:cubicBezTo>
                <a:cubicBezTo>
                  <a:pt x="1108" y="158"/>
                  <a:pt x="1109" y="155"/>
                  <a:pt x="1111" y="157"/>
                </a:cubicBezTo>
                <a:cubicBezTo>
                  <a:pt x="1106" y="157"/>
                  <a:pt x="1109" y="161"/>
                  <a:pt x="1111" y="162"/>
                </a:cubicBezTo>
                <a:cubicBezTo>
                  <a:pt x="1108" y="165"/>
                  <a:pt x="1099" y="166"/>
                  <a:pt x="1100" y="169"/>
                </a:cubicBezTo>
                <a:cubicBezTo>
                  <a:pt x="1104" y="167"/>
                  <a:pt x="1110" y="164"/>
                  <a:pt x="1115" y="165"/>
                </a:cubicBezTo>
                <a:cubicBezTo>
                  <a:pt x="1115" y="161"/>
                  <a:pt x="1118" y="161"/>
                  <a:pt x="1118" y="158"/>
                </a:cubicBezTo>
                <a:cubicBezTo>
                  <a:pt x="1116" y="158"/>
                  <a:pt x="1115" y="157"/>
                  <a:pt x="1115" y="154"/>
                </a:cubicBezTo>
                <a:cubicBezTo>
                  <a:pt x="1118" y="152"/>
                  <a:pt x="1119" y="148"/>
                  <a:pt x="1123" y="146"/>
                </a:cubicBezTo>
                <a:cubicBezTo>
                  <a:pt x="1127" y="146"/>
                  <a:pt x="1129" y="150"/>
                  <a:pt x="1129" y="154"/>
                </a:cubicBezTo>
                <a:cubicBezTo>
                  <a:pt x="1143" y="157"/>
                  <a:pt x="1173" y="157"/>
                  <a:pt x="1180" y="143"/>
                </a:cubicBezTo>
                <a:cubicBezTo>
                  <a:pt x="1182" y="144"/>
                  <a:pt x="1184" y="144"/>
                  <a:pt x="1184" y="146"/>
                </a:cubicBezTo>
                <a:cubicBezTo>
                  <a:pt x="1184" y="154"/>
                  <a:pt x="1178" y="159"/>
                  <a:pt x="1185" y="163"/>
                </a:cubicBezTo>
                <a:cubicBezTo>
                  <a:pt x="1184" y="166"/>
                  <a:pt x="1181" y="166"/>
                  <a:pt x="1179" y="167"/>
                </a:cubicBezTo>
                <a:cubicBezTo>
                  <a:pt x="1189" y="181"/>
                  <a:pt x="1172" y="189"/>
                  <a:pt x="1167" y="197"/>
                </a:cubicBezTo>
                <a:cubicBezTo>
                  <a:pt x="1178" y="197"/>
                  <a:pt x="1189" y="194"/>
                  <a:pt x="1195" y="190"/>
                </a:cubicBezTo>
                <a:cubicBezTo>
                  <a:pt x="1191" y="185"/>
                  <a:pt x="1196" y="177"/>
                  <a:pt x="1201" y="176"/>
                </a:cubicBezTo>
                <a:cubicBezTo>
                  <a:pt x="1201" y="177"/>
                  <a:pt x="1202" y="178"/>
                  <a:pt x="1201" y="180"/>
                </a:cubicBezTo>
                <a:cubicBezTo>
                  <a:pt x="1205" y="178"/>
                  <a:pt x="1208" y="175"/>
                  <a:pt x="1213" y="175"/>
                </a:cubicBezTo>
                <a:cubicBezTo>
                  <a:pt x="1213" y="173"/>
                  <a:pt x="1212" y="172"/>
                  <a:pt x="1214" y="170"/>
                </a:cubicBezTo>
                <a:cubicBezTo>
                  <a:pt x="1217" y="170"/>
                  <a:pt x="1214" y="175"/>
                  <a:pt x="1216" y="174"/>
                </a:cubicBezTo>
                <a:cubicBezTo>
                  <a:pt x="1218" y="172"/>
                  <a:pt x="1221" y="172"/>
                  <a:pt x="1221" y="168"/>
                </a:cubicBezTo>
                <a:cubicBezTo>
                  <a:pt x="1216" y="171"/>
                  <a:pt x="1214" y="167"/>
                  <a:pt x="1212" y="164"/>
                </a:cubicBezTo>
                <a:cubicBezTo>
                  <a:pt x="1214" y="162"/>
                  <a:pt x="1218" y="163"/>
                  <a:pt x="1220" y="161"/>
                </a:cubicBezTo>
                <a:cubicBezTo>
                  <a:pt x="1217" y="153"/>
                  <a:pt x="1223" y="145"/>
                  <a:pt x="1223" y="138"/>
                </a:cubicBezTo>
                <a:cubicBezTo>
                  <a:pt x="1229" y="135"/>
                  <a:pt x="1233" y="128"/>
                  <a:pt x="1236" y="122"/>
                </a:cubicBezTo>
                <a:cubicBezTo>
                  <a:pt x="1228" y="125"/>
                  <a:pt x="1216" y="140"/>
                  <a:pt x="1208" y="128"/>
                </a:cubicBezTo>
                <a:cubicBezTo>
                  <a:pt x="1211" y="116"/>
                  <a:pt x="1226" y="108"/>
                  <a:pt x="1230" y="97"/>
                </a:cubicBezTo>
                <a:cubicBezTo>
                  <a:pt x="1225" y="99"/>
                  <a:pt x="1221" y="103"/>
                  <a:pt x="1214" y="102"/>
                </a:cubicBezTo>
                <a:cubicBezTo>
                  <a:pt x="1215" y="98"/>
                  <a:pt x="1211" y="94"/>
                  <a:pt x="1210" y="89"/>
                </a:cubicBezTo>
                <a:cubicBezTo>
                  <a:pt x="1211" y="84"/>
                  <a:pt x="1215" y="81"/>
                  <a:pt x="1219" y="78"/>
                </a:cubicBezTo>
                <a:cubicBezTo>
                  <a:pt x="1206" y="82"/>
                  <a:pt x="1196" y="91"/>
                  <a:pt x="1182" y="89"/>
                </a:cubicBezTo>
                <a:cubicBezTo>
                  <a:pt x="1182" y="86"/>
                  <a:pt x="1184" y="85"/>
                  <a:pt x="1186" y="85"/>
                </a:cubicBezTo>
                <a:cubicBezTo>
                  <a:pt x="1187" y="85"/>
                  <a:pt x="1187" y="88"/>
                  <a:pt x="1190" y="87"/>
                </a:cubicBezTo>
                <a:cubicBezTo>
                  <a:pt x="1192" y="86"/>
                  <a:pt x="1191" y="83"/>
                  <a:pt x="1193" y="82"/>
                </a:cubicBezTo>
                <a:cubicBezTo>
                  <a:pt x="1197" y="82"/>
                  <a:pt x="1199" y="79"/>
                  <a:pt x="1202" y="76"/>
                </a:cubicBezTo>
                <a:cubicBezTo>
                  <a:pt x="1208" y="74"/>
                  <a:pt x="1214" y="73"/>
                  <a:pt x="1213" y="65"/>
                </a:cubicBezTo>
                <a:cubicBezTo>
                  <a:pt x="1211" y="63"/>
                  <a:pt x="1211" y="66"/>
                  <a:pt x="1208" y="65"/>
                </a:cubicBezTo>
                <a:cubicBezTo>
                  <a:pt x="1209" y="63"/>
                  <a:pt x="1207" y="63"/>
                  <a:pt x="1207" y="61"/>
                </a:cubicBezTo>
                <a:cubicBezTo>
                  <a:pt x="1211" y="57"/>
                  <a:pt x="1216" y="53"/>
                  <a:pt x="1220" y="49"/>
                </a:cubicBezTo>
                <a:cubicBezTo>
                  <a:pt x="1211" y="49"/>
                  <a:pt x="1207" y="54"/>
                  <a:pt x="1197" y="53"/>
                </a:cubicBezTo>
                <a:cubicBezTo>
                  <a:pt x="1201" y="47"/>
                  <a:pt x="1207" y="43"/>
                  <a:pt x="1211" y="37"/>
                </a:cubicBezTo>
                <a:cubicBezTo>
                  <a:pt x="1204" y="37"/>
                  <a:pt x="1197" y="45"/>
                  <a:pt x="1191" y="40"/>
                </a:cubicBezTo>
                <a:cubicBezTo>
                  <a:pt x="1187" y="33"/>
                  <a:pt x="1196" y="30"/>
                  <a:pt x="1195" y="27"/>
                </a:cubicBezTo>
                <a:cubicBezTo>
                  <a:pt x="1195" y="29"/>
                  <a:pt x="1190" y="29"/>
                  <a:pt x="1191" y="27"/>
                </a:cubicBezTo>
                <a:cubicBezTo>
                  <a:pt x="1191" y="24"/>
                  <a:pt x="1191" y="24"/>
                  <a:pt x="1193" y="21"/>
                </a:cubicBezTo>
                <a:cubicBezTo>
                  <a:pt x="1188" y="22"/>
                  <a:pt x="1187" y="19"/>
                  <a:pt x="1185" y="17"/>
                </a:cubicBezTo>
                <a:cubicBezTo>
                  <a:pt x="1186" y="13"/>
                  <a:pt x="1192" y="14"/>
                  <a:pt x="1191" y="9"/>
                </a:cubicBezTo>
                <a:cubicBezTo>
                  <a:pt x="1169" y="0"/>
                  <a:pt x="1158" y="26"/>
                  <a:pt x="1138" y="26"/>
                </a:cubicBezTo>
                <a:cubicBezTo>
                  <a:pt x="1138" y="30"/>
                  <a:pt x="1137" y="33"/>
                  <a:pt x="1135" y="37"/>
                </a:cubicBezTo>
                <a:cubicBezTo>
                  <a:pt x="1139" y="37"/>
                  <a:pt x="1144" y="31"/>
                  <a:pt x="1146" y="36"/>
                </a:cubicBezTo>
                <a:cubicBezTo>
                  <a:pt x="1134" y="51"/>
                  <a:pt x="1109" y="51"/>
                  <a:pt x="1093" y="63"/>
                </a:cubicBezTo>
                <a:cubicBezTo>
                  <a:pt x="1096" y="62"/>
                  <a:pt x="1095" y="64"/>
                  <a:pt x="1094" y="65"/>
                </a:cubicBezTo>
                <a:cubicBezTo>
                  <a:pt x="1098" y="66"/>
                  <a:pt x="1101" y="68"/>
                  <a:pt x="1103" y="70"/>
                </a:cubicBezTo>
                <a:cubicBezTo>
                  <a:pt x="1104" y="74"/>
                  <a:pt x="1100" y="74"/>
                  <a:pt x="1101" y="78"/>
                </a:cubicBezTo>
                <a:cubicBezTo>
                  <a:pt x="1108" y="90"/>
                  <a:pt x="1107" y="106"/>
                  <a:pt x="1094" y="112"/>
                </a:cubicBezTo>
                <a:cubicBezTo>
                  <a:pt x="1090" y="108"/>
                  <a:pt x="1082" y="112"/>
                  <a:pt x="1079" y="109"/>
                </a:cubicBezTo>
                <a:cubicBezTo>
                  <a:pt x="1080" y="106"/>
                  <a:pt x="1082" y="105"/>
                  <a:pt x="1084" y="104"/>
                </a:cubicBezTo>
                <a:cubicBezTo>
                  <a:pt x="1085" y="106"/>
                  <a:pt x="1086" y="106"/>
                  <a:pt x="1085" y="108"/>
                </a:cubicBezTo>
                <a:cubicBezTo>
                  <a:pt x="1094" y="106"/>
                  <a:pt x="1099" y="95"/>
                  <a:pt x="1098" y="86"/>
                </a:cubicBezTo>
                <a:cubicBezTo>
                  <a:pt x="1096" y="85"/>
                  <a:pt x="1094" y="88"/>
                  <a:pt x="1093" y="86"/>
                </a:cubicBezTo>
                <a:cubicBezTo>
                  <a:pt x="1095" y="83"/>
                  <a:pt x="1094" y="83"/>
                  <a:pt x="1093" y="79"/>
                </a:cubicBezTo>
                <a:cubicBezTo>
                  <a:pt x="1083" y="79"/>
                  <a:pt x="1080" y="86"/>
                  <a:pt x="1074" y="90"/>
                </a:cubicBezTo>
                <a:cubicBezTo>
                  <a:pt x="1076" y="96"/>
                  <a:pt x="1078" y="103"/>
                  <a:pt x="1074" y="108"/>
                </a:cubicBezTo>
                <a:cubicBezTo>
                  <a:pt x="1065" y="111"/>
                  <a:pt x="1061" y="120"/>
                  <a:pt x="1055" y="127"/>
                </a:cubicBezTo>
                <a:cubicBezTo>
                  <a:pt x="1057" y="127"/>
                  <a:pt x="1055" y="131"/>
                  <a:pt x="1057" y="131"/>
                </a:cubicBezTo>
                <a:close/>
                <a:moveTo>
                  <a:pt x="1218" y="20"/>
                </a:moveTo>
                <a:cubicBezTo>
                  <a:pt x="1212" y="21"/>
                  <a:pt x="1203" y="24"/>
                  <a:pt x="1201" y="26"/>
                </a:cubicBezTo>
                <a:cubicBezTo>
                  <a:pt x="1208" y="25"/>
                  <a:pt x="1214" y="25"/>
                  <a:pt x="1218" y="20"/>
                </a:cubicBezTo>
                <a:close/>
                <a:moveTo>
                  <a:pt x="1239" y="43"/>
                </a:moveTo>
                <a:cubicBezTo>
                  <a:pt x="1239" y="44"/>
                  <a:pt x="1237" y="44"/>
                  <a:pt x="1236" y="43"/>
                </a:cubicBezTo>
                <a:cubicBezTo>
                  <a:pt x="1236" y="41"/>
                  <a:pt x="1239" y="42"/>
                  <a:pt x="1239" y="40"/>
                </a:cubicBezTo>
                <a:cubicBezTo>
                  <a:pt x="1237" y="41"/>
                  <a:pt x="1237" y="38"/>
                  <a:pt x="1236" y="37"/>
                </a:cubicBezTo>
                <a:cubicBezTo>
                  <a:pt x="1238" y="36"/>
                  <a:pt x="1238" y="33"/>
                  <a:pt x="1240" y="32"/>
                </a:cubicBezTo>
                <a:cubicBezTo>
                  <a:pt x="1237" y="32"/>
                  <a:pt x="1236" y="35"/>
                  <a:pt x="1234" y="37"/>
                </a:cubicBezTo>
                <a:cubicBezTo>
                  <a:pt x="1238" y="42"/>
                  <a:pt x="1223" y="44"/>
                  <a:pt x="1221" y="50"/>
                </a:cubicBezTo>
                <a:cubicBezTo>
                  <a:pt x="1228" y="50"/>
                  <a:pt x="1239" y="48"/>
                  <a:pt x="1239" y="43"/>
                </a:cubicBezTo>
                <a:close/>
                <a:moveTo>
                  <a:pt x="1204" y="47"/>
                </a:moveTo>
                <a:cubicBezTo>
                  <a:pt x="1210" y="48"/>
                  <a:pt x="1212" y="45"/>
                  <a:pt x="1214" y="43"/>
                </a:cubicBezTo>
                <a:cubicBezTo>
                  <a:pt x="1211" y="45"/>
                  <a:pt x="1206" y="42"/>
                  <a:pt x="1204" y="47"/>
                </a:cubicBezTo>
                <a:close/>
                <a:moveTo>
                  <a:pt x="1117" y="481"/>
                </a:moveTo>
                <a:cubicBezTo>
                  <a:pt x="1118" y="481"/>
                  <a:pt x="1118" y="481"/>
                  <a:pt x="1119" y="481"/>
                </a:cubicBezTo>
                <a:cubicBezTo>
                  <a:pt x="1118" y="481"/>
                  <a:pt x="1118" y="481"/>
                  <a:pt x="1117" y="481"/>
                </a:cubicBezTo>
                <a:close/>
                <a:moveTo>
                  <a:pt x="1284" y="478"/>
                </a:moveTo>
                <a:cubicBezTo>
                  <a:pt x="1280" y="478"/>
                  <a:pt x="1276" y="483"/>
                  <a:pt x="1274" y="481"/>
                </a:cubicBezTo>
                <a:cubicBezTo>
                  <a:pt x="1274" y="479"/>
                  <a:pt x="1277" y="479"/>
                  <a:pt x="1277" y="476"/>
                </a:cubicBezTo>
                <a:cubicBezTo>
                  <a:pt x="1263" y="476"/>
                  <a:pt x="1257" y="490"/>
                  <a:pt x="1237" y="485"/>
                </a:cubicBezTo>
                <a:cubicBezTo>
                  <a:pt x="1236" y="486"/>
                  <a:pt x="1232" y="490"/>
                  <a:pt x="1229" y="487"/>
                </a:cubicBezTo>
                <a:cubicBezTo>
                  <a:pt x="1233" y="485"/>
                  <a:pt x="1236" y="483"/>
                  <a:pt x="1239" y="480"/>
                </a:cubicBezTo>
                <a:cubicBezTo>
                  <a:pt x="1236" y="480"/>
                  <a:pt x="1232" y="485"/>
                  <a:pt x="1230" y="483"/>
                </a:cubicBezTo>
                <a:cubicBezTo>
                  <a:pt x="1233" y="480"/>
                  <a:pt x="1237" y="479"/>
                  <a:pt x="1240" y="475"/>
                </a:cubicBezTo>
                <a:cubicBezTo>
                  <a:pt x="1239" y="474"/>
                  <a:pt x="1238" y="473"/>
                  <a:pt x="1238" y="471"/>
                </a:cubicBezTo>
                <a:cubicBezTo>
                  <a:pt x="1239" y="471"/>
                  <a:pt x="1240" y="470"/>
                  <a:pt x="1242" y="469"/>
                </a:cubicBezTo>
                <a:cubicBezTo>
                  <a:pt x="1250" y="479"/>
                  <a:pt x="1256" y="465"/>
                  <a:pt x="1266" y="463"/>
                </a:cubicBezTo>
                <a:cubicBezTo>
                  <a:pt x="1266" y="467"/>
                  <a:pt x="1266" y="467"/>
                  <a:pt x="1266" y="467"/>
                </a:cubicBezTo>
                <a:cubicBezTo>
                  <a:pt x="1269" y="468"/>
                  <a:pt x="1272" y="463"/>
                  <a:pt x="1270" y="462"/>
                </a:cubicBezTo>
                <a:cubicBezTo>
                  <a:pt x="1270" y="463"/>
                  <a:pt x="1268" y="463"/>
                  <a:pt x="1267" y="462"/>
                </a:cubicBezTo>
                <a:cubicBezTo>
                  <a:pt x="1270" y="457"/>
                  <a:pt x="1282" y="456"/>
                  <a:pt x="1281" y="451"/>
                </a:cubicBezTo>
                <a:cubicBezTo>
                  <a:pt x="1277" y="456"/>
                  <a:pt x="1269" y="456"/>
                  <a:pt x="1263" y="457"/>
                </a:cubicBezTo>
                <a:cubicBezTo>
                  <a:pt x="1265" y="462"/>
                  <a:pt x="1259" y="464"/>
                  <a:pt x="1256" y="465"/>
                </a:cubicBezTo>
                <a:cubicBezTo>
                  <a:pt x="1253" y="461"/>
                  <a:pt x="1247" y="466"/>
                  <a:pt x="1244" y="465"/>
                </a:cubicBezTo>
                <a:cubicBezTo>
                  <a:pt x="1244" y="467"/>
                  <a:pt x="1243" y="468"/>
                  <a:pt x="1242" y="468"/>
                </a:cubicBezTo>
                <a:cubicBezTo>
                  <a:pt x="1230" y="469"/>
                  <a:pt x="1219" y="479"/>
                  <a:pt x="1209" y="485"/>
                </a:cubicBezTo>
                <a:cubicBezTo>
                  <a:pt x="1212" y="487"/>
                  <a:pt x="1210" y="494"/>
                  <a:pt x="1208" y="496"/>
                </a:cubicBezTo>
                <a:cubicBezTo>
                  <a:pt x="1205" y="497"/>
                  <a:pt x="1202" y="498"/>
                  <a:pt x="1200" y="499"/>
                </a:cubicBezTo>
                <a:cubicBezTo>
                  <a:pt x="1200" y="504"/>
                  <a:pt x="1204" y="505"/>
                  <a:pt x="1203" y="510"/>
                </a:cubicBezTo>
                <a:cubicBezTo>
                  <a:pt x="1199" y="511"/>
                  <a:pt x="1195" y="513"/>
                  <a:pt x="1192" y="508"/>
                </a:cubicBezTo>
                <a:cubicBezTo>
                  <a:pt x="1188" y="507"/>
                  <a:pt x="1188" y="510"/>
                  <a:pt x="1184" y="510"/>
                </a:cubicBezTo>
                <a:cubicBezTo>
                  <a:pt x="1184" y="504"/>
                  <a:pt x="1184" y="504"/>
                  <a:pt x="1184" y="504"/>
                </a:cubicBezTo>
                <a:cubicBezTo>
                  <a:pt x="1192" y="501"/>
                  <a:pt x="1199" y="497"/>
                  <a:pt x="1204" y="491"/>
                </a:cubicBezTo>
                <a:cubicBezTo>
                  <a:pt x="1200" y="491"/>
                  <a:pt x="1199" y="495"/>
                  <a:pt x="1194" y="494"/>
                </a:cubicBezTo>
                <a:cubicBezTo>
                  <a:pt x="1194" y="493"/>
                  <a:pt x="1194" y="492"/>
                  <a:pt x="1193" y="492"/>
                </a:cubicBezTo>
                <a:cubicBezTo>
                  <a:pt x="1191" y="493"/>
                  <a:pt x="1189" y="495"/>
                  <a:pt x="1186" y="495"/>
                </a:cubicBezTo>
                <a:cubicBezTo>
                  <a:pt x="1184" y="494"/>
                  <a:pt x="1185" y="491"/>
                  <a:pt x="1182" y="490"/>
                </a:cubicBezTo>
                <a:cubicBezTo>
                  <a:pt x="1181" y="492"/>
                  <a:pt x="1181" y="496"/>
                  <a:pt x="1178" y="496"/>
                </a:cubicBezTo>
                <a:cubicBezTo>
                  <a:pt x="1180" y="496"/>
                  <a:pt x="1180" y="499"/>
                  <a:pt x="1179" y="501"/>
                </a:cubicBezTo>
                <a:cubicBezTo>
                  <a:pt x="1179" y="504"/>
                  <a:pt x="1172" y="505"/>
                  <a:pt x="1173" y="508"/>
                </a:cubicBezTo>
                <a:cubicBezTo>
                  <a:pt x="1177" y="507"/>
                  <a:pt x="1179" y="501"/>
                  <a:pt x="1183" y="504"/>
                </a:cubicBezTo>
                <a:cubicBezTo>
                  <a:pt x="1179" y="506"/>
                  <a:pt x="1175" y="509"/>
                  <a:pt x="1173" y="514"/>
                </a:cubicBezTo>
                <a:cubicBezTo>
                  <a:pt x="1170" y="513"/>
                  <a:pt x="1170" y="516"/>
                  <a:pt x="1168" y="516"/>
                </a:cubicBezTo>
                <a:cubicBezTo>
                  <a:pt x="1166" y="512"/>
                  <a:pt x="1166" y="512"/>
                  <a:pt x="1167" y="508"/>
                </a:cubicBezTo>
                <a:cubicBezTo>
                  <a:pt x="1159" y="508"/>
                  <a:pt x="1160" y="498"/>
                  <a:pt x="1156" y="494"/>
                </a:cubicBezTo>
                <a:cubicBezTo>
                  <a:pt x="1152" y="493"/>
                  <a:pt x="1153" y="496"/>
                  <a:pt x="1150" y="495"/>
                </a:cubicBezTo>
                <a:cubicBezTo>
                  <a:pt x="1150" y="493"/>
                  <a:pt x="1147" y="493"/>
                  <a:pt x="1147" y="492"/>
                </a:cubicBezTo>
                <a:cubicBezTo>
                  <a:pt x="1147" y="490"/>
                  <a:pt x="1149" y="486"/>
                  <a:pt x="1147" y="485"/>
                </a:cubicBezTo>
                <a:cubicBezTo>
                  <a:pt x="1146" y="487"/>
                  <a:pt x="1141" y="485"/>
                  <a:pt x="1140" y="484"/>
                </a:cubicBezTo>
                <a:cubicBezTo>
                  <a:pt x="1140" y="481"/>
                  <a:pt x="1140" y="478"/>
                  <a:pt x="1144" y="476"/>
                </a:cubicBezTo>
                <a:cubicBezTo>
                  <a:pt x="1139" y="475"/>
                  <a:pt x="1138" y="476"/>
                  <a:pt x="1134" y="477"/>
                </a:cubicBezTo>
                <a:cubicBezTo>
                  <a:pt x="1133" y="470"/>
                  <a:pt x="1145" y="471"/>
                  <a:pt x="1145" y="467"/>
                </a:cubicBezTo>
                <a:cubicBezTo>
                  <a:pt x="1135" y="466"/>
                  <a:pt x="1132" y="477"/>
                  <a:pt x="1127" y="481"/>
                </a:cubicBezTo>
                <a:cubicBezTo>
                  <a:pt x="1127" y="477"/>
                  <a:pt x="1127" y="477"/>
                  <a:pt x="1127" y="477"/>
                </a:cubicBezTo>
                <a:cubicBezTo>
                  <a:pt x="1123" y="478"/>
                  <a:pt x="1122" y="480"/>
                  <a:pt x="1119" y="481"/>
                </a:cubicBezTo>
                <a:cubicBezTo>
                  <a:pt x="1120" y="481"/>
                  <a:pt x="1118" y="482"/>
                  <a:pt x="1118" y="483"/>
                </a:cubicBezTo>
                <a:cubicBezTo>
                  <a:pt x="1120" y="484"/>
                  <a:pt x="1121" y="479"/>
                  <a:pt x="1123" y="482"/>
                </a:cubicBezTo>
                <a:cubicBezTo>
                  <a:pt x="1122" y="483"/>
                  <a:pt x="1121" y="485"/>
                  <a:pt x="1122" y="487"/>
                </a:cubicBezTo>
                <a:cubicBezTo>
                  <a:pt x="1123" y="489"/>
                  <a:pt x="1126" y="488"/>
                  <a:pt x="1127" y="490"/>
                </a:cubicBezTo>
                <a:cubicBezTo>
                  <a:pt x="1126" y="492"/>
                  <a:pt x="1125" y="494"/>
                  <a:pt x="1122" y="494"/>
                </a:cubicBezTo>
                <a:cubicBezTo>
                  <a:pt x="1122" y="493"/>
                  <a:pt x="1123" y="492"/>
                  <a:pt x="1122" y="492"/>
                </a:cubicBezTo>
                <a:cubicBezTo>
                  <a:pt x="1121" y="496"/>
                  <a:pt x="1117" y="492"/>
                  <a:pt x="1114" y="495"/>
                </a:cubicBezTo>
                <a:cubicBezTo>
                  <a:pt x="1115" y="494"/>
                  <a:pt x="1116" y="493"/>
                  <a:pt x="1116" y="492"/>
                </a:cubicBezTo>
                <a:cubicBezTo>
                  <a:pt x="1113" y="491"/>
                  <a:pt x="1112" y="493"/>
                  <a:pt x="1108" y="493"/>
                </a:cubicBezTo>
                <a:cubicBezTo>
                  <a:pt x="1107" y="497"/>
                  <a:pt x="1110" y="498"/>
                  <a:pt x="1112" y="499"/>
                </a:cubicBezTo>
                <a:cubicBezTo>
                  <a:pt x="1106" y="505"/>
                  <a:pt x="1101" y="501"/>
                  <a:pt x="1094" y="505"/>
                </a:cubicBezTo>
                <a:cubicBezTo>
                  <a:pt x="1094" y="504"/>
                  <a:pt x="1094" y="502"/>
                  <a:pt x="1093" y="502"/>
                </a:cubicBezTo>
                <a:cubicBezTo>
                  <a:pt x="1092" y="505"/>
                  <a:pt x="1090" y="508"/>
                  <a:pt x="1086" y="508"/>
                </a:cubicBezTo>
                <a:cubicBezTo>
                  <a:pt x="1086" y="508"/>
                  <a:pt x="1085" y="507"/>
                  <a:pt x="1085" y="507"/>
                </a:cubicBezTo>
                <a:cubicBezTo>
                  <a:pt x="1089" y="500"/>
                  <a:pt x="1096" y="497"/>
                  <a:pt x="1104" y="494"/>
                </a:cubicBezTo>
                <a:cubicBezTo>
                  <a:pt x="1104" y="490"/>
                  <a:pt x="1109" y="491"/>
                  <a:pt x="1111" y="488"/>
                </a:cubicBezTo>
                <a:cubicBezTo>
                  <a:pt x="1100" y="492"/>
                  <a:pt x="1093" y="498"/>
                  <a:pt x="1083" y="499"/>
                </a:cubicBezTo>
                <a:cubicBezTo>
                  <a:pt x="1083" y="498"/>
                  <a:pt x="1082" y="496"/>
                  <a:pt x="1080" y="496"/>
                </a:cubicBezTo>
                <a:cubicBezTo>
                  <a:pt x="1080" y="500"/>
                  <a:pt x="1077" y="501"/>
                  <a:pt x="1075" y="498"/>
                </a:cubicBezTo>
                <a:cubicBezTo>
                  <a:pt x="1075" y="502"/>
                  <a:pt x="1070" y="500"/>
                  <a:pt x="1070" y="504"/>
                </a:cubicBezTo>
                <a:cubicBezTo>
                  <a:pt x="1071" y="504"/>
                  <a:pt x="1072" y="505"/>
                  <a:pt x="1072" y="506"/>
                </a:cubicBezTo>
                <a:cubicBezTo>
                  <a:pt x="1068" y="506"/>
                  <a:pt x="1068" y="510"/>
                  <a:pt x="1066" y="511"/>
                </a:cubicBezTo>
                <a:cubicBezTo>
                  <a:pt x="1054" y="509"/>
                  <a:pt x="1047" y="530"/>
                  <a:pt x="1036" y="521"/>
                </a:cubicBezTo>
                <a:cubicBezTo>
                  <a:pt x="1048" y="505"/>
                  <a:pt x="1064" y="499"/>
                  <a:pt x="1084" y="493"/>
                </a:cubicBezTo>
                <a:cubicBezTo>
                  <a:pt x="1088" y="495"/>
                  <a:pt x="1101" y="492"/>
                  <a:pt x="1103" y="487"/>
                </a:cubicBezTo>
                <a:cubicBezTo>
                  <a:pt x="1101" y="484"/>
                  <a:pt x="1097" y="487"/>
                  <a:pt x="1095" y="485"/>
                </a:cubicBezTo>
                <a:cubicBezTo>
                  <a:pt x="1098" y="482"/>
                  <a:pt x="1097" y="480"/>
                  <a:pt x="1096" y="477"/>
                </a:cubicBezTo>
                <a:cubicBezTo>
                  <a:pt x="1096" y="479"/>
                  <a:pt x="1090" y="480"/>
                  <a:pt x="1089" y="479"/>
                </a:cubicBezTo>
                <a:cubicBezTo>
                  <a:pt x="1093" y="475"/>
                  <a:pt x="1099" y="467"/>
                  <a:pt x="1101" y="463"/>
                </a:cubicBezTo>
                <a:cubicBezTo>
                  <a:pt x="1094" y="466"/>
                  <a:pt x="1087" y="474"/>
                  <a:pt x="1081" y="469"/>
                </a:cubicBezTo>
                <a:cubicBezTo>
                  <a:pt x="1082" y="477"/>
                  <a:pt x="1084" y="475"/>
                  <a:pt x="1083" y="483"/>
                </a:cubicBezTo>
                <a:cubicBezTo>
                  <a:pt x="1078" y="485"/>
                  <a:pt x="1073" y="492"/>
                  <a:pt x="1066" y="489"/>
                </a:cubicBezTo>
                <a:cubicBezTo>
                  <a:pt x="1074" y="487"/>
                  <a:pt x="1061" y="482"/>
                  <a:pt x="1067" y="480"/>
                </a:cubicBezTo>
                <a:cubicBezTo>
                  <a:pt x="1058" y="477"/>
                  <a:pt x="1056" y="487"/>
                  <a:pt x="1049" y="489"/>
                </a:cubicBezTo>
                <a:cubicBezTo>
                  <a:pt x="1044" y="477"/>
                  <a:pt x="1060" y="474"/>
                  <a:pt x="1067" y="467"/>
                </a:cubicBezTo>
                <a:cubicBezTo>
                  <a:pt x="1061" y="466"/>
                  <a:pt x="1059" y="471"/>
                  <a:pt x="1053" y="471"/>
                </a:cubicBezTo>
                <a:cubicBezTo>
                  <a:pt x="1053" y="469"/>
                  <a:pt x="1059" y="468"/>
                  <a:pt x="1057" y="467"/>
                </a:cubicBezTo>
                <a:cubicBezTo>
                  <a:pt x="1053" y="469"/>
                  <a:pt x="1047" y="472"/>
                  <a:pt x="1042" y="471"/>
                </a:cubicBezTo>
                <a:cubicBezTo>
                  <a:pt x="1040" y="468"/>
                  <a:pt x="1047" y="468"/>
                  <a:pt x="1044" y="466"/>
                </a:cubicBezTo>
                <a:cubicBezTo>
                  <a:pt x="1042" y="469"/>
                  <a:pt x="1039" y="470"/>
                  <a:pt x="1036" y="471"/>
                </a:cubicBezTo>
                <a:cubicBezTo>
                  <a:pt x="1035" y="474"/>
                  <a:pt x="1036" y="473"/>
                  <a:pt x="1036" y="477"/>
                </a:cubicBezTo>
                <a:cubicBezTo>
                  <a:pt x="1031" y="479"/>
                  <a:pt x="1028" y="483"/>
                  <a:pt x="1022" y="483"/>
                </a:cubicBezTo>
                <a:cubicBezTo>
                  <a:pt x="1012" y="476"/>
                  <a:pt x="1004" y="492"/>
                  <a:pt x="995" y="493"/>
                </a:cubicBezTo>
                <a:cubicBezTo>
                  <a:pt x="995" y="493"/>
                  <a:pt x="995" y="494"/>
                  <a:pt x="993" y="493"/>
                </a:cubicBezTo>
                <a:cubicBezTo>
                  <a:pt x="993" y="493"/>
                  <a:pt x="994" y="493"/>
                  <a:pt x="995" y="493"/>
                </a:cubicBezTo>
                <a:cubicBezTo>
                  <a:pt x="994" y="492"/>
                  <a:pt x="993" y="490"/>
                  <a:pt x="994" y="490"/>
                </a:cubicBezTo>
                <a:cubicBezTo>
                  <a:pt x="996" y="486"/>
                  <a:pt x="1004" y="483"/>
                  <a:pt x="999" y="478"/>
                </a:cubicBezTo>
                <a:cubicBezTo>
                  <a:pt x="995" y="481"/>
                  <a:pt x="990" y="480"/>
                  <a:pt x="986" y="483"/>
                </a:cubicBezTo>
                <a:cubicBezTo>
                  <a:pt x="986" y="490"/>
                  <a:pt x="982" y="493"/>
                  <a:pt x="977" y="494"/>
                </a:cubicBezTo>
                <a:cubicBezTo>
                  <a:pt x="977" y="498"/>
                  <a:pt x="980" y="498"/>
                  <a:pt x="980" y="502"/>
                </a:cubicBezTo>
                <a:cubicBezTo>
                  <a:pt x="977" y="504"/>
                  <a:pt x="971" y="509"/>
                  <a:pt x="968" y="505"/>
                </a:cubicBezTo>
                <a:cubicBezTo>
                  <a:pt x="975" y="501"/>
                  <a:pt x="976" y="488"/>
                  <a:pt x="979" y="482"/>
                </a:cubicBezTo>
                <a:cubicBezTo>
                  <a:pt x="980" y="482"/>
                  <a:pt x="981" y="483"/>
                  <a:pt x="982" y="483"/>
                </a:cubicBezTo>
                <a:cubicBezTo>
                  <a:pt x="987" y="475"/>
                  <a:pt x="1000" y="476"/>
                  <a:pt x="1005" y="467"/>
                </a:cubicBezTo>
                <a:cubicBezTo>
                  <a:pt x="1000" y="465"/>
                  <a:pt x="999" y="471"/>
                  <a:pt x="996" y="468"/>
                </a:cubicBezTo>
                <a:cubicBezTo>
                  <a:pt x="998" y="466"/>
                  <a:pt x="998" y="464"/>
                  <a:pt x="997" y="463"/>
                </a:cubicBezTo>
                <a:cubicBezTo>
                  <a:pt x="993" y="468"/>
                  <a:pt x="992" y="476"/>
                  <a:pt x="985" y="476"/>
                </a:cubicBezTo>
                <a:cubicBezTo>
                  <a:pt x="982" y="476"/>
                  <a:pt x="983" y="472"/>
                  <a:pt x="980" y="474"/>
                </a:cubicBezTo>
                <a:cubicBezTo>
                  <a:pt x="980" y="470"/>
                  <a:pt x="980" y="470"/>
                  <a:pt x="980" y="470"/>
                </a:cubicBezTo>
                <a:cubicBezTo>
                  <a:pt x="978" y="470"/>
                  <a:pt x="976" y="473"/>
                  <a:pt x="975" y="470"/>
                </a:cubicBezTo>
                <a:cubicBezTo>
                  <a:pt x="980" y="468"/>
                  <a:pt x="982" y="453"/>
                  <a:pt x="988" y="457"/>
                </a:cubicBezTo>
                <a:cubicBezTo>
                  <a:pt x="988" y="455"/>
                  <a:pt x="990" y="453"/>
                  <a:pt x="993" y="451"/>
                </a:cubicBezTo>
                <a:cubicBezTo>
                  <a:pt x="1007" y="446"/>
                  <a:pt x="1018" y="439"/>
                  <a:pt x="1033" y="433"/>
                </a:cubicBezTo>
                <a:cubicBezTo>
                  <a:pt x="1035" y="435"/>
                  <a:pt x="1033" y="435"/>
                  <a:pt x="1032" y="437"/>
                </a:cubicBezTo>
                <a:cubicBezTo>
                  <a:pt x="1043" y="428"/>
                  <a:pt x="1057" y="419"/>
                  <a:pt x="1073" y="417"/>
                </a:cubicBezTo>
                <a:cubicBezTo>
                  <a:pt x="1079" y="415"/>
                  <a:pt x="1084" y="406"/>
                  <a:pt x="1092" y="407"/>
                </a:cubicBezTo>
                <a:cubicBezTo>
                  <a:pt x="1094" y="401"/>
                  <a:pt x="1100" y="400"/>
                  <a:pt x="1106" y="398"/>
                </a:cubicBezTo>
                <a:cubicBezTo>
                  <a:pt x="1105" y="404"/>
                  <a:pt x="1099" y="401"/>
                  <a:pt x="1095" y="406"/>
                </a:cubicBezTo>
                <a:cubicBezTo>
                  <a:pt x="1097" y="407"/>
                  <a:pt x="1096" y="410"/>
                  <a:pt x="1098" y="411"/>
                </a:cubicBezTo>
                <a:cubicBezTo>
                  <a:pt x="1103" y="409"/>
                  <a:pt x="1105" y="404"/>
                  <a:pt x="1109" y="402"/>
                </a:cubicBezTo>
                <a:cubicBezTo>
                  <a:pt x="1110" y="403"/>
                  <a:pt x="1111" y="404"/>
                  <a:pt x="1110" y="405"/>
                </a:cubicBezTo>
                <a:cubicBezTo>
                  <a:pt x="1113" y="405"/>
                  <a:pt x="1114" y="404"/>
                  <a:pt x="1118" y="404"/>
                </a:cubicBezTo>
                <a:cubicBezTo>
                  <a:pt x="1117" y="397"/>
                  <a:pt x="1121" y="395"/>
                  <a:pt x="1125" y="392"/>
                </a:cubicBezTo>
                <a:cubicBezTo>
                  <a:pt x="1122" y="392"/>
                  <a:pt x="1120" y="394"/>
                  <a:pt x="1117" y="394"/>
                </a:cubicBezTo>
                <a:cubicBezTo>
                  <a:pt x="1117" y="393"/>
                  <a:pt x="1116" y="393"/>
                  <a:pt x="1116" y="392"/>
                </a:cubicBezTo>
                <a:cubicBezTo>
                  <a:pt x="1121" y="387"/>
                  <a:pt x="1128" y="383"/>
                  <a:pt x="1136" y="382"/>
                </a:cubicBezTo>
                <a:cubicBezTo>
                  <a:pt x="1134" y="384"/>
                  <a:pt x="1142" y="385"/>
                  <a:pt x="1137" y="389"/>
                </a:cubicBezTo>
                <a:cubicBezTo>
                  <a:pt x="1138" y="386"/>
                  <a:pt x="1134" y="386"/>
                  <a:pt x="1136" y="389"/>
                </a:cubicBezTo>
                <a:cubicBezTo>
                  <a:pt x="1133" y="390"/>
                  <a:pt x="1138" y="387"/>
                  <a:pt x="1137" y="390"/>
                </a:cubicBezTo>
                <a:cubicBezTo>
                  <a:pt x="1136" y="394"/>
                  <a:pt x="1131" y="397"/>
                  <a:pt x="1132" y="400"/>
                </a:cubicBezTo>
                <a:cubicBezTo>
                  <a:pt x="1132" y="397"/>
                  <a:pt x="1135" y="398"/>
                  <a:pt x="1136" y="400"/>
                </a:cubicBezTo>
                <a:cubicBezTo>
                  <a:pt x="1135" y="402"/>
                  <a:pt x="1131" y="402"/>
                  <a:pt x="1132" y="405"/>
                </a:cubicBezTo>
                <a:cubicBezTo>
                  <a:pt x="1135" y="407"/>
                  <a:pt x="1136" y="402"/>
                  <a:pt x="1136" y="404"/>
                </a:cubicBezTo>
                <a:cubicBezTo>
                  <a:pt x="1137" y="407"/>
                  <a:pt x="1134" y="407"/>
                  <a:pt x="1135" y="410"/>
                </a:cubicBezTo>
                <a:cubicBezTo>
                  <a:pt x="1138" y="411"/>
                  <a:pt x="1143" y="405"/>
                  <a:pt x="1146" y="403"/>
                </a:cubicBezTo>
                <a:cubicBezTo>
                  <a:pt x="1144" y="400"/>
                  <a:pt x="1139" y="405"/>
                  <a:pt x="1137" y="403"/>
                </a:cubicBezTo>
                <a:cubicBezTo>
                  <a:pt x="1147" y="401"/>
                  <a:pt x="1150" y="392"/>
                  <a:pt x="1158" y="387"/>
                </a:cubicBezTo>
                <a:cubicBezTo>
                  <a:pt x="1156" y="387"/>
                  <a:pt x="1154" y="387"/>
                  <a:pt x="1154" y="386"/>
                </a:cubicBezTo>
                <a:cubicBezTo>
                  <a:pt x="1160" y="382"/>
                  <a:pt x="1155" y="378"/>
                  <a:pt x="1162" y="374"/>
                </a:cubicBezTo>
                <a:cubicBezTo>
                  <a:pt x="1159" y="373"/>
                  <a:pt x="1157" y="376"/>
                  <a:pt x="1157" y="373"/>
                </a:cubicBezTo>
                <a:cubicBezTo>
                  <a:pt x="1159" y="370"/>
                  <a:pt x="1166" y="366"/>
                  <a:pt x="1165" y="364"/>
                </a:cubicBezTo>
                <a:cubicBezTo>
                  <a:pt x="1164" y="363"/>
                  <a:pt x="1155" y="366"/>
                  <a:pt x="1153" y="370"/>
                </a:cubicBezTo>
                <a:cubicBezTo>
                  <a:pt x="1152" y="370"/>
                  <a:pt x="1151" y="369"/>
                  <a:pt x="1149" y="368"/>
                </a:cubicBezTo>
                <a:cubicBezTo>
                  <a:pt x="1146" y="370"/>
                  <a:pt x="1145" y="373"/>
                  <a:pt x="1140" y="373"/>
                </a:cubicBezTo>
                <a:cubicBezTo>
                  <a:pt x="1140" y="371"/>
                  <a:pt x="1141" y="367"/>
                  <a:pt x="1139" y="366"/>
                </a:cubicBezTo>
                <a:cubicBezTo>
                  <a:pt x="1129" y="369"/>
                  <a:pt x="1120" y="381"/>
                  <a:pt x="1111" y="377"/>
                </a:cubicBezTo>
                <a:cubicBezTo>
                  <a:pt x="1104" y="387"/>
                  <a:pt x="1093" y="386"/>
                  <a:pt x="1083" y="390"/>
                </a:cubicBezTo>
                <a:cubicBezTo>
                  <a:pt x="1083" y="400"/>
                  <a:pt x="1069" y="397"/>
                  <a:pt x="1063" y="403"/>
                </a:cubicBezTo>
                <a:cubicBezTo>
                  <a:pt x="1061" y="400"/>
                  <a:pt x="1065" y="398"/>
                  <a:pt x="1061" y="397"/>
                </a:cubicBezTo>
                <a:cubicBezTo>
                  <a:pt x="1069" y="390"/>
                  <a:pt x="1076" y="376"/>
                  <a:pt x="1091" y="383"/>
                </a:cubicBezTo>
                <a:cubicBezTo>
                  <a:pt x="1093" y="381"/>
                  <a:pt x="1094" y="379"/>
                  <a:pt x="1098" y="378"/>
                </a:cubicBezTo>
                <a:cubicBezTo>
                  <a:pt x="1099" y="375"/>
                  <a:pt x="1097" y="376"/>
                  <a:pt x="1096" y="375"/>
                </a:cubicBezTo>
                <a:cubicBezTo>
                  <a:pt x="1099" y="373"/>
                  <a:pt x="1099" y="373"/>
                  <a:pt x="1098" y="370"/>
                </a:cubicBezTo>
                <a:cubicBezTo>
                  <a:pt x="1102" y="369"/>
                  <a:pt x="1104" y="366"/>
                  <a:pt x="1109" y="365"/>
                </a:cubicBezTo>
                <a:cubicBezTo>
                  <a:pt x="1112" y="365"/>
                  <a:pt x="1111" y="369"/>
                  <a:pt x="1114" y="369"/>
                </a:cubicBezTo>
                <a:cubicBezTo>
                  <a:pt x="1120" y="367"/>
                  <a:pt x="1124" y="363"/>
                  <a:pt x="1126" y="357"/>
                </a:cubicBezTo>
                <a:cubicBezTo>
                  <a:pt x="1121" y="356"/>
                  <a:pt x="1122" y="353"/>
                  <a:pt x="1122" y="350"/>
                </a:cubicBezTo>
                <a:cubicBezTo>
                  <a:pt x="1117" y="349"/>
                  <a:pt x="1117" y="344"/>
                  <a:pt x="1111" y="345"/>
                </a:cubicBezTo>
                <a:cubicBezTo>
                  <a:pt x="1111" y="342"/>
                  <a:pt x="1109" y="342"/>
                  <a:pt x="1110" y="339"/>
                </a:cubicBezTo>
                <a:cubicBezTo>
                  <a:pt x="1115" y="336"/>
                  <a:pt x="1120" y="333"/>
                  <a:pt x="1126" y="330"/>
                </a:cubicBezTo>
                <a:cubicBezTo>
                  <a:pt x="1125" y="323"/>
                  <a:pt x="1139" y="315"/>
                  <a:pt x="1144" y="318"/>
                </a:cubicBezTo>
                <a:cubicBezTo>
                  <a:pt x="1143" y="320"/>
                  <a:pt x="1139" y="320"/>
                  <a:pt x="1138" y="322"/>
                </a:cubicBezTo>
                <a:cubicBezTo>
                  <a:pt x="1147" y="322"/>
                  <a:pt x="1152" y="319"/>
                  <a:pt x="1158" y="315"/>
                </a:cubicBezTo>
                <a:cubicBezTo>
                  <a:pt x="1156" y="304"/>
                  <a:pt x="1167" y="311"/>
                  <a:pt x="1167" y="304"/>
                </a:cubicBezTo>
                <a:cubicBezTo>
                  <a:pt x="1159" y="307"/>
                  <a:pt x="1154" y="304"/>
                  <a:pt x="1147" y="308"/>
                </a:cubicBezTo>
                <a:cubicBezTo>
                  <a:pt x="1144" y="309"/>
                  <a:pt x="1142" y="315"/>
                  <a:pt x="1139" y="316"/>
                </a:cubicBezTo>
                <a:cubicBezTo>
                  <a:pt x="1139" y="316"/>
                  <a:pt x="1118" y="311"/>
                  <a:pt x="1116" y="311"/>
                </a:cubicBezTo>
                <a:cubicBezTo>
                  <a:pt x="1115" y="312"/>
                  <a:pt x="1112" y="316"/>
                  <a:pt x="1110" y="316"/>
                </a:cubicBezTo>
                <a:cubicBezTo>
                  <a:pt x="1107" y="317"/>
                  <a:pt x="1104" y="317"/>
                  <a:pt x="1102" y="321"/>
                </a:cubicBezTo>
                <a:cubicBezTo>
                  <a:pt x="1095" y="314"/>
                  <a:pt x="1088" y="326"/>
                  <a:pt x="1081" y="327"/>
                </a:cubicBezTo>
                <a:cubicBezTo>
                  <a:pt x="1076" y="326"/>
                  <a:pt x="1073" y="326"/>
                  <a:pt x="1070" y="324"/>
                </a:cubicBezTo>
                <a:cubicBezTo>
                  <a:pt x="1073" y="318"/>
                  <a:pt x="1078" y="314"/>
                  <a:pt x="1085" y="311"/>
                </a:cubicBezTo>
                <a:cubicBezTo>
                  <a:pt x="1087" y="312"/>
                  <a:pt x="1087" y="314"/>
                  <a:pt x="1089" y="315"/>
                </a:cubicBezTo>
                <a:cubicBezTo>
                  <a:pt x="1089" y="311"/>
                  <a:pt x="1089" y="312"/>
                  <a:pt x="1090" y="309"/>
                </a:cubicBezTo>
                <a:cubicBezTo>
                  <a:pt x="1098" y="307"/>
                  <a:pt x="1102" y="300"/>
                  <a:pt x="1108" y="295"/>
                </a:cubicBezTo>
                <a:cubicBezTo>
                  <a:pt x="1104" y="295"/>
                  <a:pt x="1104" y="297"/>
                  <a:pt x="1102" y="295"/>
                </a:cubicBezTo>
                <a:cubicBezTo>
                  <a:pt x="1107" y="291"/>
                  <a:pt x="1113" y="287"/>
                  <a:pt x="1121" y="285"/>
                </a:cubicBezTo>
                <a:cubicBezTo>
                  <a:pt x="1121" y="289"/>
                  <a:pt x="1124" y="288"/>
                  <a:pt x="1126" y="287"/>
                </a:cubicBezTo>
                <a:cubicBezTo>
                  <a:pt x="1126" y="286"/>
                  <a:pt x="1126" y="283"/>
                  <a:pt x="1125" y="282"/>
                </a:cubicBezTo>
                <a:cubicBezTo>
                  <a:pt x="1125" y="283"/>
                  <a:pt x="1120" y="283"/>
                  <a:pt x="1121" y="282"/>
                </a:cubicBezTo>
                <a:cubicBezTo>
                  <a:pt x="1121" y="281"/>
                  <a:pt x="1120" y="281"/>
                  <a:pt x="1120" y="280"/>
                </a:cubicBezTo>
                <a:cubicBezTo>
                  <a:pt x="1126" y="276"/>
                  <a:pt x="1130" y="273"/>
                  <a:pt x="1130" y="267"/>
                </a:cubicBezTo>
                <a:cubicBezTo>
                  <a:pt x="1126" y="267"/>
                  <a:pt x="1126" y="262"/>
                  <a:pt x="1122" y="262"/>
                </a:cubicBezTo>
                <a:cubicBezTo>
                  <a:pt x="1125" y="256"/>
                  <a:pt x="1132" y="253"/>
                  <a:pt x="1135" y="246"/>
                </a:cubicBezTo>
                <a:cubicBezTo>
                  <a:pt x="1123" y="249"/>
                  <a:pt x="1107" y="239"/>
                  <a:pt x="1098" y="249"/>
                </a:cubicBezTo>
                <a:cubicBezTo>
                  <a:pt x="1100" y="249"/>
                  <a:pt x="1099" y="253"/>
                  <a:pt x="1101" y="254"/>
                </a:cubicBezTo>
                <a:cubicBezTo>
                  <a:pt x="1096" y="256"/>
                  <a:pt x="1087" y="262"/>
                  <a:pt x="1082" y="259"/>
                </a:cubicBezTo>
                <a:cubicBezTo>
                  <a:pt x="1082" y="253"/>
                  <a:pt x="1083" y="249"/>
                  <a:pt x="1088" y="248"/>
                </a:cubicBezTo>
                <a:cubicBezTo>
                  <a:pt x="1093" y="241"/>
                  <a:pt x="1097" y="232"/>
                  <a:pt x="1099" y="224"/>
                </a:cubicBezTo>
                <a:cubicBezTo>
                  <a:pt x="1094" y="223"/>
                  <a:pt x="1092" y="222"/>
                  <a:pt x="1086" y="223"/>
                </a:cubicBezTo>
                <a:cubicBezTo>
                  <a:pt x="1085" y="221"/>
                  <a:pt x="1084" y="219"/>
                  <a:pt x="1083" y="216"/>
                </a:cubicBezTo>
                <a:cubicBezTo>
                  <a:pt x="1085" y="215"/>
                  <a:pt x="1087" y="214"/>
                  <a:pt x="1088" y="212"/>
                </a:cubicBezTo>
                <a:cubicBezTo>
                  <a:pt x="1077" y="213"/>
                  <a:pt x="1065" y="213"/>
                  <a:pt x="1061" y="223"/>
                </a:cubicBezTo>
                <a:cubicBezTo>
                  <a:pt x="1063" y="227"/>
                  <a:pt x="1066" y="228"/>
                  <a:pt x="1067" y="233"/>
                </a:cubicBezTo>
                <a:cubicBezTo>
                  <a:pt x="1062" y="235"/>
                  <a:pt x="1053" y="238"/>
                  <a:pt x="1047" y="235"/>
                </a:cubicBezTo>
                <a:cubicBezTo>
                  <a:pt x="1048" y="233"/>
                  <a:pt x="1050" y="230"/>
                  <a:pt x="1052" y="228"/>
                </a:cubicBezTo>
                <a:cubicBezTo>
                  <a:pt x="1049" y="228"/>
                  <a:pt x="1049" y="232"/>
                  <a:pt x="1046" y="233"/>
                </a:cubicBezTo>
                <a:cubicBezTo>
                  <a:pt x="1046" y="230"/>
                  <a:pt x="1043" y="230"/>
                  <a:pt x="1042" y="229"/>
                </a:cubicBezTo>
                <a:cubicBezTo>
                  <a:pt x="1047" y="219"/>
                  <a:pt x="1049" y="222"/>
                  <a:pt x="1051" y="211"/>
                </a:cubicBezTo>
                <a:cubicBezTo>
                  <a:pt x="1047" y="209"/>
                  <a:pt x="1038" y="216"/>
                  <a:pt x="1035" y="211"/>
                </a:cubicBezTo>
                <a:cubicBezTo>
                  <a:pt x="1035" y="210"/>
                  <a:pt x="1036" y="210"/>
                  <a:pt x="1037" y="208"/>
                </a:cubicBezTo>
                <a:cubicBezTo>
                  <a:pt x="1027" y="209"/>
                  <a:pt x="1025" y="218"/>
                  <a:pt x="1019" y="222"/>
                </a:cubicBezTo>
                <a:cubicBezTo>
                  <a:pt x="1014" y="227"/>
                  <a:pt x="1006" y="228"/>
                  <a:pt x="997" y="229"/>
                </a:cubicBezTo>
                <a:cubicBezTo>
                  <a:pt x="997" y="227"/>
                  <a:pt x="999" y="226"/>
                  <a:pt x="997" y="224"/>
                </a:cubicBezTo>
                <a:cubicBezTo>
                  <a:pt x="988" y="224"/>
                  <a:pt x="984" y="232"/>
                  <a:pt x="973" y="233"/>
                </a:cubicBezTo>
                <a:cubicBezTo>
                  <a:pt x="973" y="229"/>
                  <a:pt x="975" y="229"/>
                  <a:pt x="973" y="226"/>
                </a:cubicBezTo>
                <a:cubicBezTo>
                  <a:pt x="969" y="225"/>
                  <a:pt x="970" y="230"/>
                  <a:pt x="965" y="229"/>
                </a:cubicBezTo>
                <a:cubicBezTo>
                  <a:pt x="965" y="228"/>
                  <a:pt x="964" y="228"/>
                  <a:pt x="964" y="227"/>
                </a:cubicBezTo>
                <a:cubicBezTo>
                  <a:pt x="967" y="224"/>
                  <a:pt x="968" y="220"/>
                  <a:pt x="972" y="220"/>
                </a:cubicBezTo>
                <a:cubicBezTo>
                  <a:pt x="972" y="217"/>
                  <a:pt x="971" y="215"/>
                  <a:pt x="970" y="214"/>
                </a:cubicBezTo>
                <a:cubicBezTo>
                  <a:pt x="972" y="210"/>
                  <a:pt x="976" y="208"/>
                  <a:pt x="981" y="210"/>
                </a:cubicBezTo>
                <a:cubicBezTo>
                  <a:pt x="982" y="203"/>
                  <a:pt x="991" y="205"/>
                  <a:pt x="994" y="200"/>
                </a:cubicBezTo>
                <a:cubicBezTo>
                  <a:pt x="996" y="202"/>
                  <a:pt x="993" y="203"/>
                  <a:pt x="995" y="205"/>
                </a:cubicBezTo>
                <a:cubicBezTo>
                  <a:pt x="1000" y="205"/>
                  <a:pt x="1003" y="198"/>
                  <a:pt x="1007" y="202"/>
                </a:cubicBezTo>
                <a:cubicBezTo>
                  <a:pt x="1006" y="203"/>
                  <a:pt x="1007" y="206"/>
                  <a:pt x="1005" y="207"/>
                </a:cubicBezTo>
                <a:cubicBezTo>
                  <a:pt x="1008" y="208"/>
                  <a:pt x="1008" y="211"/>
                  <a:pt x="1012" y="210"/>
                </a:cubicBezTo>
                <a:cubicBezTo>
                  <a:pt x="1012" y="207"/>
                  <a:pt x="1012" y="207"/>
                  <a:pt x="1012" y="207"/>
                </a:cubicBezTo>
                <a:cubicBezTo>
                  <a:pt x="1012" y="205"/>
                  <a:pt x="1009" y="206"/>
                  <a:pt x="1009" y="205"/>
                </a:cubicBezTo>
                <a:cubicBezTo>
                  <a:pt x="1010" y="202"/>
                  <a:pt x="1011" y="203"/>
                  <a:pt x="1010" y="200"/>
                </a:cubicBezTo>
                <a:cubicBezTo>
                  <a:pt x="1022" y="195"/>
                  <a:pt x="1030" y="186"/>
                  <a:pt x="1037" y="176"/>
                </a:cubicBezTo>
                <a:cubicBezTo>
                  <a:pt x="1021" y="180"/>
                  <a:pt x="1012" y="194"/>
                  <a:pt x="998" y="197"/>
                </a:cubicBezTo>
                <a:cubicBezTo>
                  <a:pt x="1000" y="195"/>
                  <a:pt x="1002" y="194"/>
                  <a:pt x="1004" y="192"/>
                </a:cubicBezTo>
                <a:cubicBezTo>
                  <a:pt x="992" y="198"/>
                  <a:pt x="975" y="200"/>
                  <a:pt x="965" y="209"/>
                </a:cubicBezTo>
                <a:cubicBezTo>
                  <a:pt x="959" y="208"/>
                  <a:pt x="956" y="205"/>
                  <a:pt x="954" y="200"/>
                </a:cubicBezTo>
                <a:cubicBezTo>
                  <a:pt x="956" y="192"/>
                  <a:pt x="966" y="192"/>
                  <a:pt x="969" y="185"/>
                </a:cubicBezTo>
                <a:cubicBezTo>
                  <a:pt x="961" y="190"/>
                  <a:pt x="951" y="197"/>
                  <a:pt x="940" y="196"/>
                </a:cubicBezTo>
                <a:cubicBezTo>
                  <a:pt x="940" y="190"/>
                  <a:pt x="946" y="191"/>
                  <a:pt x="949" y="188"/>
                </a:cubicBezTo>
                <a:cubicBezTo>
                  <a:pt x="945" y="187"/>
                  <a:pt x="941" y="190"/>
                  <a:pt x="939" y="188"/>
                </a:cubicBezTo>
                <a:cubicBezTo>
                  <a:pt x="955" y="185"/>
                  <a:pt x="955" y="167"/>
                  <a:pt x="972" y="168"/>
                </a:cubicBezTo>
                <a:cubicBezTo>
                  <a:pt x="973" y="161"/>
                  <a:pt x="983" y="156"/>
                  <a:pt x="990" y="162"/>
                </a:cubicBezTo>
                <a:cubicBezTo>
                  <a:pt x="1000" y="158"/>
                  <a:pt x="993" y="135"/>
                  <a:pt x="1009" y="139"/>
                </a:cubicBezTo>
                <a:cubicBezTo>
                  <a:pt x="1006" y="143"/>
                  <a:pt x="1004" y="147"/>
                  <a:pt x="1002" y="152"/>
                </a:cubicBezTo>
                <a:cubicBezTo>
                  <a:pt x="1002" y="155"/>
                  <a:pt x="1007" y="157"/>
                  <a:pt x="1004" y="160"/>
                </a:cubicBezTo>
                <a:cubicBezTo>
                  <a:pt x="1010" y="160"/>
                  <a:pt x="1014" y="152"/>
                  <a:pt x="1021" y="155"/>
                </a:cubicBezTo>
                <a:cubicBezTo>
                  <a:pt x="1021" y="158"/>
                  <a:pt x="1018" y="156"/>
                  <a:pt x="1017" y="158"/>
                </a:cubicBezTo>
                <a:cubicBezTo>
                  <a:pt x="1029" y="158"/>
                  <a:pt x="1033" y="150"/>
                  <a:pt x="1038" y="143"/>
                </a:cubicBezTo>
                <a:cubicBezTo>
                  <a:pt x="1034" y="137"/>
                  <a:pt x="1039" y="133"/>
                  <a:pt x="1041" y="130"/>
                </a:cubicBezTo>
                <a:cubicBezTo>
                  <a:pt x="1034" y="132"/>
                  <a:pt x="1025" y="134"/>
                  <a:pt x="1022" y="128"/>
                </a:cubicBezTo>
                <a:cubicBezTo>
                  <a:pt x="1024" y="126"/>
                  <a:pt x="1025" y="125"/>
                  <a:pt x="1027" y="124"/>
                </a:cubicBezTo>
                <a:cubicBezTo>
                  <a:pt x="1024" y="123"/>
                  <a:pt x="1021" y="121"/>
                  <a:pt x="1016" y="122"/>
                </a:cubicBezTo>
                <a:cubicBezTo>
                  <a:pt x="1016" y="121"/>
                  <a:pt x="1017" y="120"/>
                  <a:pt x="1017" y="119"/>
                </a:cubicBezTo>
                <a:cubicBezTo>
                  <a:pt x="1014" y="118"/>
                  <a:pt x="1010" y="119"/>
                  <a:pt x="1007" y="121"/>
                </a:cubicBezTo>
                <a:cubicBezTo>
                  <a:pt x="1011" y="128"/>
                  <a:pt x="1002" y="129"/>
                  <a:pt x="997" y="131"/>
                </a:cubicBezTo>
                <a:cubicBezTo>
                  <a:pt x="997" y="128"/>
                  <a:pt x="1000" y="129"/>
                  <a:pt x="1000" y="127"/>
                </a:cubicBezTo>
                <a:cubicBezTo>
                  <a:pt x="997" y="126"/>
                  <a:pt x="993" y="128"/>
                  <a:pt x="992" y="126"/>
                </a:cubicBezTo>
                <a:cubicBezTo>
                  <a:pt x="990" y="124"/>
                  <a:pt x="993" y="121"/>
                  <a:pt x="991" y="119"/>
                </a:cubicBezTo>
                <a:cubicBezTo>
                  <a:pt x="979" y="119"/>
                  <a:pt x="971" y="128"/>
                  <a:pt x="960" y="125"/>
                </a:cubicBezTo>
                <a:cubicBezTo>
                  <a:pt x="962" y="117"/>
                  <a:pt x="978" y="122"/>
                  <a:pt x="980" y="113"/>
                </a:cubicBezTo>
                <a:cubicBezTo>
                  <a:pt x="976" y="111"/>
                  <a:pt x="976" y="112"/>
                  <a:pt x="978" y="109"/>
                </a:cubicBezTo>
                <a:cubicBezTo>
                  <a:pt x="976" y="107"/>
                  <a:pt x="967" y="113"/>
                  <a:pt x="964" y="108"/>
                </a:cubicBezTo>
                <a:cubicBezTo>
                  <a:pt x="966" y="107"/>
                  <a:pt x="973" y="102"/>
                  <a:pt x="971" y="103"/>
                </a:cubicBezTo>
                <a:cubicBezTo>
                  <a:pt x="963" y="105"/>
                  <a:pt x="956" y="107"/>
                  <a:pt x="949" y="108"/>
                </a:cubicBezTo>
                <a:cubicBezTo>
                  <a:pt x="946" y="106"/>
                  <a:pt x="944" y="104"/>
                  <a:pt x="942" y="101"/>
                </a:cubicBezTo>
                <a:cubicBezTo>
                  <a:pt x="943" y="98"/>
                  <a:pt x="946" y="97"/>
                  <a:pt x="950" y="97"/>
                </a:cubicBezTo>
                <a:cubicBezTo>
                  <a:pt x="949" y="98"/>
                  <a:pt x="948" y="98"/>
                  <a:pt x="949" y="100"/>
                </a:cubicBezTo>
                <a:cubicBezTo>
                  <a:pt x="951" y="99"/>
                  <a:pt x="954" y="99"/>
                  <a:pt x="954" y="97"/>
                </a:cubicBezTo>
                <a:cubicBezTo>
                  <a:pt x="952" y="95"/>
                  <a:pt x="949" y="93"/>
                  <a:pt x="947" y="91"/>
                </a:cubicBezTo>
                <a:cubicBezTo>
                  <a:pt x="937" y="94"/>
                  <a:pt x="931" y="100"/>
                  <a:pt x="928" y="109"/>
                </a:cubicBezTo>
                <a:cubicBezTo>
                  <a:pt x="925" y="108"/>
                  <a:pt x="923" y="106"/>
                  <a:pt x="920" y="105"/>
                </a:cubicBezTo>
                <a:cubicBezTo>
                  <a:pt x="924" y="104"/>
                  <a:pt x="923" y="98"/>
                  <a:pt x="922" y="96"/>
                </a:cubicBezTo>
                <a:cubicBezTo>
                  <a:pt x="921" y="97"/>
                  <a:pt x="922" y="100"/>
                  <a:pt x="920" y="100"/>
                </a:cubicBezTo>
                <a:cubicBezTo>
                  <a:pt x="919" y="100"/>
                  <a:pt x="917" y="100"/>
                  <a:pt x="917" y="101"/>
                </a:cubicBezTo>
                <a:cubicBezTo>
                  <a:pt x="919" y="98"/>
                  <a:pt x="914" y="97"/>
                  <a:pt x="913" y="95"/>
                </a:cubicBezTo>
                <a:cubicBezTo>
                  <a:pt x="902" y="97"/>
                  <a:pt x="897" y="105"/>
                  <a:pt x="885" y="103"/>
                </a:cubicBezTo>
                <a:cubicBezTo>
                  <a:pt x="883" y="100"/>
                  <a:pt x="889" y="98"/>
                  <a:pt x="889" y="95"/>
                </a:cubicBezTo>
                <a:cubicBezTo>
                  <a:pt x="886" y="94"/>
                  <a:pt x="885" y="89"/>
                  <a:pt x="882" y="88"/>
                </a:cubicBezTo>
                <a:cubicBezTo>
                  <a:pt x="882" y="87"/>
                  <a:pt x="888" y="86"/>
                  <a:pt x="885" y="85"/>
                </a:cubicBezTo>
                <a:cubicBezTo>
                  <a:pt x="881" y="88"/>
                  <a:pt x="880" y="82"/>
                  <a:pt x="876" y="85"/>
                </a:cubicBezTo>
                <a:cubicBezTo>
                  <a:pt x="864" y="96"/>
                  <a:pt x="859" y="114"/>
                  <a:pt x="848" y="126"/>
                </a:cubicBezTo>
                <a:cubicBezTo>
                  <a:pt x="848" y="132"/>
                  <a:pt x="848" y="132"/>
                  <a:pt x="848" y="132"/>
                </a:cubicBezTo>
                <a:cubicBezTo>
                  <a:pt x="843" y="134"/>
                  <a:pt x="831" y="140"/>
                  <a:pt x="830" y="129"/>
                </a:cubicBezTo>
                <a:cubicBezTo>
                  <a:pt x="827" y="131"/>
                  <a:pt x="824" y="128"/>
                  <a:pt x="819" y="128"/>
                </a:cubicBezTo>
                <a:cubicBezTo>
                  <a:pt x="817" y="127"/>
                  <a:pt x="820" y="124"/>
                  <a:pt x="819" y="123"/>
                </a:cubicBezTo>
                <a:cubicBezTo>
                  <a:pt x="816" y="123"/>
                  <a:pt x="815" y="125"/>
                  <a:pt x="814" y="122"/>
                </a:cubicBezTo>
                <a:cubicBezTo>
                  <a:pt x="816" y="117"/>
                  <a:pt x="813" y="115"/>
                  <a:pt x="814" y="113"/>
                </a:cubicBezTo>
                <a:cubicBezTo>
                  <a:pt x="803" y="117"/>
                  <a:pt x="788" y="117"/>
                  <a:pt x="783" y="128"/>
                </a:cubicBezTo>
                <a:cubicBezTo>
                  <a:pt x="780" y="127"/>
                  <a:pt x="776" y="129"/>
                  <a:pt x="778" y="130"/>
                </a:cubicBezTo>
                <a:cubicBezTo>
                  <a:pt x="787" y="126"/>
                  <a:pt x="797" y="127"/>
                  <a:pt x="805" y="121"/>
                </a:cubicBezTo>
                <a:cubicBezTo>
                  <a:pt x="806" y="122"/>
                  <a:pt x="809" y="123"/>
                  <a:pt x="809" y="125"/>
                </a:cubicBezTo>
                <a:cubicBezTo>
                  <a:pt x="807" y="125"/>
                  <a:pt x="806" y="127"/>
                  <a:pt x="806" y="128"/>
                </a:cubicBezTo>
                <a:cubicBezTo>
                  <a:pt x="808" y="130"/>
                  <a:pt x="811" y="127"/>
                  <a:pt x="811" y="128"/>
                </a:cubicBezTo>
                <a:cubicBezTo>
                  <a:pt x="808" y="130"/>
                  <a:pt x="807" y="133"/>
                  <a:pt x="808" y="137"/>
                </a:cubicBezTo>
                <a:cubicBezTo>
                  <a:pt x="804" y="138"/>
                  <a:pt x="798" y="138"/>
                  <a:pt x="794" y="137"/>
                </a:cubicBezTo>
                <a:cubicBezTo>
                  <a:pt x="792" y="137"/>
                  <a:pt x="794" y="141"/>
                  <a:pt x="792" y="141"/>
                </a:cubicBezTo>
                <a:cubicBezTo>
                  <a:pt x="781" y="142"/>
                  <a:pt x="775" y="147"/>
                  <a:pt x="769" y="153"/>
                </a:cubicBezTo>
                <a:cubicBezTo>
                  <a:pt x="761" y="150"/>
                  <a:pt x="756" y="155"/>
                  <a:pt x="750" y="157"/>
                </a:cubicBezTo>
                <a:cubicBezTo>
                  <a:pt x="750" y="161"/>
                  <a:pt x="753" y="161"/>
                  <a:pt x="753" y="165"/>
                </a:cubicBezTo>
                <a:cubicBezTo>
                  <a:pt x="757" y="164"/>
                  <a:pt x="759" y="160"/>
                  <a:pt x="762" y="158"/>
                </a:cubicBezTo>
                <a:cubicBezTo>
                  <a:pt x="764" y="160"/>
                  <a:pt x="768" y="160"/>
                  <a:pt x="770" y="162"/>
                </a:cubicBezTo>
                <a:cubicBezTo>
                  <a:pt x="759" y="170"/>
                  <a:pt x="749" y="184"/>
                  <a:pt x="731" y="179"/>
                </a:cubicBezTo>
                <a:cubicBezTo>
                  <a:pt x="727" y="172"/>
                  <a:pt x="723" y="166"/>
                  <a:pt x="722" y="156"/>
                </a:cubicBezTo>
                <a:cubicBezTo>
                  <a:pt x="714" y="156"/>
                  <a:pt x="714" y="142"/>
                  <a:pt x="716" y="138"/>
                </a:cubicBezTo>
                <a:cubicBezTo>
                  <a:pt x="719" y="129"/>
                  <a:pt x="741" y="128"/>
                  <a:pt x="735" y="115"/>
                </a:cubicBezTo>
                <a:cubicBezTo>
                  <a:pt x="734" y="114"/>
                  <a:pt x="731" y="115"/>
                  <a:pt x="729" y="115"/>
                </a:cubicBezTo>
                <a:cubicBezTo>
                  <a:pt x="723" y="109"/>
                  <a:pt x="723" y="96"/>
                  <a:pt x="715" y="94"/>
                </a:cubicBezTo>
                <a:cubicBezTo>
                  <a:pt x="712" y="93"/>
                  <a:pt x="709" y="98"/>
                  <a:pt x="707" y="93"/>
                </a:cubicBezTo>
                <a:cubicBezTo>
                  <a:pt x="714" y="88"/>
                  <a:pt x="716" y="77"/>
                  <a:pt x="721" y="70"/>
                </a:cubicBezTo>
                <a:cubicBezTo>
                  <a:pt x="708" y="72"/>
                  <a:pt x="691" y="71"/>
                  <a:pt x="678" y="76"/>
                </a:cubicBezTo>
                <a:cubicBezTo>
                  <a:pt x="679" y="74"/>
                  <a:pt x="682" y="74"/>
                  <a:pt x="682" y="72"/>
                </a:cubicBezTo>
                <a:cubicBezTo>
                  <a:pt x="678" y="74"/>
                  <a:pt x="676" y="74"/>
                  <a:pt x="672" y="75"/>
                </a:cubicBezTo>
                <a:cubicBezTo>
                  <a:pt x="672" y="77"/>
                  <a:pt x="672" y="79"/>
                  <a:pt x="673" y="80"/>
                </a:cubicBezTo>
                <a:cubicBezTo>
                  <a:pt x="668" y="83"/>
                  <a:pt x="661" y="91"/>
                  <a:pt x="655" y="87"/>
                </a:cubicBezTo>
                <a:cubicBezTo>
                  <a:pt x="648" y="89"/>
                  <a:pt x="648" y="97"/>
                  <a:pt x="640" y="98"/>
                </a:cubicBezTo>
                <a:cubicBezTo>
                  <a:pt x="638" y="96"/>
                  <a:pt x="641" y="96"/>
                  <a:pt x="639" y="95"/>
                </a:cubicBezTo>
                <a:cubicBezTo>
                  <a:pt x="634" y="108"/>
                  <a:pt x="620" y="113"/>
                  <a:pt x="611" y="123"/>
                </a:cubicBezTo>
                <a:cubicBezTo>
                  <a:pt x="615" y="123"/>
                  <a:pt x="609" y="127"/>
                  <a:pt x="612" y="128"/>
                </a:cubicBezTo>
                <a:cubicBezTo>
                  <a:pt x="613" y="125"/>
                  <a:pt x="616" y="127"/>
                  <a:pt x="616" y="128"/>
                </a:cubicBezTo>
                <a:cubicBezTo>
                  <a:pt x="612" y="133"/>
                  <a:pt x="604" y="133"/>
                  <a:pt x="598" y="136"/>
                </a:cubicBezTo>
                <a:cubicBezTo>
                  <a:pt x="591" y="128"/>
                  <a:pt x="572" y="131"/>
                  <a:pt x="566" y="137"/>
                </a:cubicBezTo>
                <a:cubicBezTo>
                  <a:pt x="537" y="144"/>
                  <a:pt x="518" y="160"/>
                  <a:pt x="491" y="170"/>
                </a:cubicBezTo>
                <a:cubicBezTo>
                  <a:pt x="489" y="168"/>
                  <a:pt x="486" y="167"/>
                  <a:pt x="484" y="166"/>
                </a:cubicBezTo>
                <a:cubicBezTo>
                  <a:pt x="486" y="164"/>
                  <a:pt x="486" y="158"/>
                  <a:pt x="484" y="156"/>
                </a:cubicBezTo>
                <a:cubicBezTo>
                  <a:pt x="480" y="156"/>
                  <a:pt x="480" y="159"/>
                  <a:pt x="477" y="159"/>
                </a:cubicBezTo>
                <a:cubicBezTo>
                  <a:pt x="477" y="155"/>
                  <a:pt x="480" y="153"/>
                  <a:pt x="480" y="150"/>
                </a:cubicBezTo>
                <a:cubicBezTo>
                  <a:pt x="454" y="144"/>
                  <a:pt x="433" y="163"/>
                  <a:pt x="415" y="167"/>
                </a:cubicBezTo>
                <a:cubicBezTo>
                  <a:pt x="424" y="161"/>
                  <a:pt x="430" y="153"/>
                  <a:pt x="438" y="148"/>
                </a:cubicBezTo>
                <a:cubicBezTo>
                  <a:pt x="439" y="145"/>
                  <a:pt x="437" y="146"/>
                  <a:pt x="437" y="143"/>
                </a:cubicBezTo>
                <a:cubicBezTo>
                  <a:pt x="438" y="143"/>
                  <a:pt x="440" y="142"/>
                  <a:pt x="442" y="142"/>
                </a:cubicBezTo>
                <a:cubicBezTo>
                  <a:pt x="442" y="130"/>
                  <a:pt x="459" y="133"/>
                  <a:pt x="461" y="123"/>
                </a:cubicBezTo>
                <a:cubicBezTo>
                  <a:pt x="461" y="120"/>
                  <a:pt x="456" y="121"/>
                  <a:pt x="455" y="118"/>
                </a:cubicBezTo>
                <a:cubicBezTo>
                  <a:pt x="454" y="114"/>
                  <a:pt x="456" y="112"/>
                  <a:pt x="456" y="108"/>
                </a:cubicBezTo>
                <a:cubicBezTo>
                  <a:pt x="451" y="103"/>
                  <a:pt x="446" y="105"/>
                  <a:pt x="441" y="106"/>
                </a:cubicBezTo>
                <a:cubicBezTo>
                  <a:pt x="426" y="109"/>
                  <a:pt x="417" y="110"/>
                  <a:pt x="406" y="115"/>
                </a:cubicBezTo>
                <a:cubicBezTo>
                  <a:pt x="401" y="117"/>
                  <a:pt x="397" y="121"/>
                  <a:pt x="391" y="123"/>
                </a:cubicBezTo>
                <a:cubicBezTo>
                  <a:pt x="387" y="124"/>
                  <a:pt x="383" y="124"/>
                  <a:pt x="380" y="125"/>
                </a:cubicBezTo>
                <a:cubicBezTo>
                  <a:pt x="340" y="136"/>
                  <a:pt x="304" y="163"/>
                  <a:pt x="273" y="177"/>
                </a:cubicBezTo>
                <a:cubicBezTo>
                  <a:pt x="273" y="176"/>
                  <a:pt x="273" y="175"/>
                  <a:pt x="272" y="175"/>
                </a:cubicBezTo>
                <a:cubicBezTo>
                  <a:pt x="271" y="177"/>
                  <a:pt x="271" y="178"/>
                  <a:pt x="270" y="179"/>
                </a:cubicBezTo>
                <a:cubicBezTo>
                  <a:pt x="252" y="188"/>
                  <a:pt x="234" y="197"/>
                  <a:pt x="220" y="210"/>
                </a:cubicBezTo>
                <a:cubicBezTo>
                  <a:pt x="225" y="224"/>
                  <a:pt x="199" y="227"/>
                  <a:pt x="196" y="237"/>
                </a:cubicBezTo>
                <a:cubicBezTo>
                  <a:pt x="198" y="237"/>
                  <a:pt x="201" y="236"/>
                  <a:pt x="203" y="237"/>
                </a:cubicBezTo>
                <a:cubicBezTo>
                  <a:pt x="197" y="239"/>
                  <a:pt x="194" y="243"/>
                  <a:pt x="190" y="246"/>
                </a:cubicBezTo>
                <a:cubicBezTo>
                  <a:pt x="202" y="242"/>
                  <a:pt x="216" y="236"/>
                  <a:pt x="226" y="241"/>
                </a:cubicBezTo>
                <a:cubicBezTo>
                  <a:pt x="224" y="244"/>
                  <a:pt x="219" y="244"/>
                  <a:pt x="219" y="249"/>
                </a:cubicBezTo>
                <a:cubicBezTo>
                  <a:pt x="227" y="247"/>
                  <a:pt x="229" y="247"/>
                  <a:pt x="238" y="246"/>
                </a:cubicBezTo>
                <a:cubicBezTo>
                  <a:pt x="238" y="244"/>
                  <a:pt x="237" y="242"/>
                  <a:pt x="239" y="242"/>
                </a:cubicBezTo>
                <a:cubicBezTo>
                  <a:pt x="247" y="246"/>
                  <a:pt x="251" y="236"/>
                  <a:pt x="258" y="235"/>
                </a:cubicBezTo>
                <a:cubicBezTo>
                  <a:pt x="261" y="240"/>
                  <a:pt x="269" y="242"/>
                  <a:pt x="267" y="249"/>
                </a:cubicBezTo>
                <a:cubicBezTo>
                  <a:pt x="272" y="253"/>
                  <a:pt x="282" y="242"/>
                  <a:pt x="282" y="252"/>
                </a:cubicBezTo>
                <a:cubicBezTo>
                  <a:pt x="289" y="251"/>
                  <a:pt x="293" y="255"/>
                  <a:pt x="298" y="257"/>
                </a:cubicBezTo>
                <a:cubicBezTo>
                  <a:pt x="298" y="258"/>
                  <a:pt x="297" y="259"/>
                  <a:pt x="297" y="260"/>
                </a:cubicBezTo>
                <a:cubicBezTo>
                  <a:pt x="300" y="260"/>
                  <a:pt x="308" y="256"/>
                  <a:pt x="308" y="261"/>
                </a:cubicBezTo>
                <a:cubicBezTo>
                  <a:pt x="278" y="290"/>
                  <a:pt x="235" y="307"/>
                  <a:pt x="198" y="329"/>
                </a:cubicBezTo>
                <a:cubicBezTo>
                  <a:pt x="198" y="326"/>
                  <a:pt x="195" y="328"/>
                  <a:pt x="193" y="328"/>
                </a:cubicBezTo>
                <a:cubicBezTo>
                  <a:pt x="193" y="333"/>
                  <a:pt x="193" y="333"/>
                  <a:pt x="193" y="333"/>
                </a:cubicBezTo>
                <a:cubicBezTo>
                  <a:pt x="183" y="339"/>
                  <a:pt x="172" y="344"/>
                  <a:pt x="160" y="343"/>
                </a:cubicBezTo>
                <a:cubicBezTo>
                  <a:pt x="159" y="346"/>
                  <a:pt x="160" y="345"/>
                  <a:pt x="160" y="349"/>
                </a:cubicBezTo>
                <a:cubicBezTo>
                  <a:pt x="157" y="350"/>
                  <a:pt x="155" y="353"/>
                  <a:pt x="152" y="354"/>
                </a:cubicBezTo>
                <a:cubicBezTo>
                  <a:pt x="143" y="348"/>
                  <a:pt x="138" y="361"/>
                  <a:pt x="130" y="358"/>
                </a:cubicBezTo>
                <a:cubicBezTo>
                  <a:pt x="127" y="373"/>
                  <a:pt x="112" y="371"/>
                  <a:pt x="104" y="380"/>
                </a:cubicBezTo>
                <a:cubicBezTo>
                  <a:pt x="100" y="377"/>
                  <a:pt x="95" y="382"/>
                  <a:pt x="97" y="388"/>
                </a:cubicBezTo>
                <a:cubicBezTo>
                  <a:pt x="90" y="391"/>
                  <a:pt x="86" y="391"/>
                  <a:pt x="79" y="389"/>
                </a:cubicBezTo>
                <a:cubicBezTo>
                  <a:pt x="76" y="393"/>
                  <a:pt x="72" y="396"/>
                  <a:pt x="65" y="394"/>
                </a:cubicBezTo>
                <a:cubicBezTo>
                  <a:pt x="64" y="397"/>
                  <a:pt x="61" y="400"/>
                  <a:pt x="63" y="404"/>
                </a:cubicBezTo>
                <a:cubicBezTo>
                  <a:pt x="62" y="402"/>
                  <a:pt x="64" y="401"/>
                  <a:pt x="66" y="402"/>
                </a:cubicBezTo>
                <a:cubicBezTo>
                  <a:pt x="63" y="411"/>
                  <a:pt x="51" y="417"/>
                  <a:pt x="48" y="424"/>
                </a:cubicBezTo>
                <a:cubicBezTo>
                  <a:pt x="52" y="424"/>
                  <a:pt x="57" y="420"/>
                  <a:pt x="60" y="422"/>
                </a:cubicBezTo>
                <a:cubicBezTo>
                  <a:pt x="60" y="425"/>
                  <a:pt x="56" y="424"/>
                  <a:pt x="56" y="427"/>
                </a:cubicBezTo>
                <a:cubicBezTo>
                  <a:pt x="62" y="428"/>
                  <a:pt x="74" y="422"/>
                  <a:pt x="78" y="429"/>
                </a:cubicBezTo>
                <a:cubicBezTo>
                  <a:pt x="77" y="430"/>
                  <a:pt x="76" y="432"/>
                  <a:pt x="76" y="435"/>
                </a:cubicBezTo>
                <a:cubicBezTo>
                  <a:pt x="81" y="441"/>
                  <a:pt x="92" y="436"/>
                  <a:pt x="97" y="434"/>
                </a:cubicBezTo>
                <a:cubicBezTo>
                  <a:pt x="97" y="435"/>
                  <a:pt x="97" y="435"/>
                  <a:pt x="98" y="436"/>
                </a:cubicBezTo>
                <a:cubicBezTo>
                  <a:pt x="99" y="440"/>
                  <a:pt x="96" y="440"/>
                  <a:pt x="96" y="442"/>
                </a:cubicBezTo>
                <a:cubicBezTo>
                  <a:pt x="104" y="446"/>
                  <a:pt x="118" y="444"/>
                  <a:pt x="118" y="456"/>
                </a:cubicBezTo>
                <a:cubicBezTo>
                  <a:pt x="141" y="448"/>
                  <a:pt x="161" y="432"/>
                  <a:pt x="185" y="422"/>
                </a:cubicBezTo>
                <a:cubicBezTo>
                  <a:pt x="185" y="430"/>
                  <a:pt x="181" y="436"/>
                  <a:pt x="176" y="440"/>
                </a:cubicBezTo>
                <a:cubicBezTo>
                  <a:pt x="178" y="440"/>
                  <a:pt x="181" y="439"/>
                  <a:pt x="181" y="441"/>
                </a:cubicBezTo>
                <a:cubicBezTo>
                  <a:pt x="178" y="445"/>
                  <a:pt x="175" y="449"/>
                  <a:pt x="170" y="451"/>
                </a:cubicBezTo>
                <a:cubicBezTo>
                  <a:pt x="169" y="456"/>
                  <a:pt x="164" y="461"/>
                  <a:pt x="159" y="459"/>
                </a:cubicBezTo>
                <a:cubicBezTo>
                  <a:pt x="153" y="466"/>
                  <a:pt x="156" y="482"/>
                  <a:pt x="146" y="488"/>
                </a:cubicBezTo>
                <a:cubicBezTo>
                  <a:pt x="143" y="486"/>
                  <a:pt x="143" y="491"/>
                  <a:pt x="141" y="492"/>
                </a:cubicBezTo>
                <a:cubicBezTo>
                  <a:pt x="145" y="493"/>
                  <a:pt x="153" y="487"/>
                  <a:pt x="156" y="494"/>
                </a:cubicBezTo>
                <a:cubicBezTo>
                  <a:pt x="157" y="498"/>
                  <a:pt x="152" y="496"/>
                  <a:pt x="152" y="500"/>
                </a:cubicBezTo>
                <a:cubicBezTo>
                  <a:pt x="158" y="500"/>
                  <a:pt x="166" y="497"/>
                  <a:pt x="167" y="503"/>
                </a:cubicBezTo>
                <a:cubicBezTo>
                  <a:pt x="163" y="508"/>
                  <a:pt x="154" y="509"/>
                  <a:pt x="150" y="514"/>
                </a:cubicBezTo>
                <a:cubicBezTo>
                  <a:pt x="158" y="511"/>
                  <a:pt x="180" y="494"/>
                  <a:pt x="177" y="515"/>
                </a:cubicBezTo>
                <a:cubicBezTo>
                  <a:pt x="184" y="519"/>
                  <a:pt x="191" y="507"/>
                  <a:pt x="196" y="512"/>
                </a:cubicBezTo>
                <a:cubicBezTo>
                  <a:pt x="196" y="514"/>
                  <a:pt x="194" y="513"/>
                  <a:pt x="195" y="516"/>
                </a:cubicBezTo>
                <a:cubicBezTo>
                  <a:pt x="197" y="516"/>
                  <a:pt x="198" y="518"/>
                  <a:pt x="199" y="519"/>
                </a:cubicBezTo>
                <a:cubicBezTo>
                  <a:pt x="202" y="531"/>
                  <a:pt x="200" y="545"/>
                  <a:pt x="185" y="547"/>
                </a:cubicBezTo>
                <a:cubicBezTo>
                  <a:pt x="183" y="545"/>
                  <a:pt x="180" y="544"/>
                  <a:pt x="181" y="539"/>
                </a:cubicBezTo>
                <a:cubicBezTo>
                  <a:pt x="180" y="539"/>
                  <a:pt x="176" y="540"/>
                  <a:pt x="176" y="538"/>
                </a:cubicBezTo>
                <a:cubicBezTo>
                  <a:pt x="174" y="534"/>
                  <a:pt x="179" y="533"/>
                  <a:pt x="183" y="534"/>
                </a:cubicBezTo>
                <a:cubicBezTo>
                  <a:pt x="182" y="531"/>
                  <a:pt x="183" y="530"/>
                  <a:pt x="184" y="528"/>
                </a:cubicBezTo>
                <a:cubicBezTo>
                  <a:pt x="170" y="529"/>
                  <a:pt x="162" y="535"/>
                  <a:pt x="152" y="540"/>
                </a:cubicBezTo>
                <a:cubicBezTo>
                  <a:pt x="157" y="544"/>
                  <a:pt x="155" y="556"/>
                  <a:pt x="154" y="561"/>
                </a:cubicBezTo>
                <a:cubicBezTo>
                  <a:pt x="159" y="559"/>
                  <a:pt x="166" y="561"/>
                  <a:pt x="173" y="560"/>
                </a:cubicBezTo>
                <a:cubicBezTo>
                  <a:pt x="172" y="564"/>
                  <a:pt x="168" y="564"/>
                  <a:pt x="168" y="569"/>
                </a:cubicBezTo>
                <a:cubicBezTo>
                  <a:pt x="173" y="570"/>
                  <a:pt x="183" y="570"/>
                  <a:pt x="184" y="563"/>
                </a:cubicBezTo>
                <a:cubicBezTo>
                  <a:pt x="181" y="563"/>
                  <a:pt x="175" y="566"/>
                  <a:pt x="174" y="562"/>
                </a:cubicBezTo>
                <a:cubicBezTo>
                  <a:pt x="178" y="558"/>
                  <a:pt x="181" y="560"/>
                  <a:pt x="187" y="559"/>
                </a:cubicBezTo>
                <a:cubicBezTo>
                  <a:pt x="188" y="546"/>
                  <a:pt x="202" y="543"/>
                  <a:pt x="209" y="540"/>
                </a:cubicBezTo>
                <a:cubicBezTo>
                  <a:pt x="209" y="542"/>
                  <a:pt x="207" y="542"/>
                  <a:pt x="207" y="544"/>
                </a:cubicBezTo>
                <a:cubicBezTo>
                  <a:pt x="208" y="544"/>
                  <a:pt x="209" y="544"/>
                  <a:pt x="209" y="546"/>
                </a:cubicBezTo>
                <a:cubicBezTo>
                  <a:pt x="208" y="547"/>
                  <a:pt x="207" y="549"/>
                  <a:pt x="206" y="550"/>
                </a:cubicBezTo>
                <a:cubicBezTo>
                  <a:pt x="212" y="550"/>
                  <a:pt x="215" y="547"/>
                  <a:pt x="219" y="545"/>
                </a:cubicBezTo>
                <a:cubicBezTo>
                  <a:pt x="221" y="547"/>
                  <a:pt x="223" y="545"/>
                  <a:pt x="225" y="547"/>
                </a:cubicBezTo>
                <a:cubicBezTo>
                  <a:pt x="226" y="540"/>
                  <a:pt x="228" y="536"/>
                  <a:pt x="235" y="535"/>
                </a:cubicBezTo>
                <a:cubicBezTo>
                  <a:pt x="235" y="532"/>
                  <a:pt x="238" y="530"/>
                  <a:pt x="243" y="529"/>
                </a:cubicBezTo>
                <a:cubicBezTo>
                  <a:pt x="243" y="530"/>
                  <a:pt x="242" y="531"/>
                  <a:pt x="243" y="532"/>
                </a:cubicBezTo>
                <a:cubicBezTo>
                  <a:pt x="247" y="532"/>
                  <a:pt x="257" y="528"/>
                  <a:pt x="262" y="533"/>
                </a:cubicBezTo>
                <a:cubicBezTo>
                  <a:pt x="263" y="537"/>
                  <a:pt x="261" y="539"/>
                  <a:pt x="259" y="542"/>
                </a:cubicBezTo>
                <a:cubicBezTo>
                  <a:pt x="262" y="541"/>
                  <a:pt x="262" y="545"/>
                  <a:pt x="262" y="547"/>
                </a:cubicBezTo>
                <a:cubicBezTo>
                  <a:pt x="261" y="549"/>
                  <a:pt x="260" y="552"/>
                  <a:pt x="258" y="553"/>
                </a:cubicBezTo>
                <a:cubicBezTo>
                  <a:pt x="244" y="550"/>
                  <a:pt x="243" y="562"/>
                  <a:pt x="237" y="566"/>
                </a:cubicBezTo>
                <a:cubicBezTo>
                  <a:pt x="233" y="568"/>
                  <a:pt x="230" y="568"/>
                  <a:pt x="229" y="573"/>
                </a:cubicBezTo>
                <a:cubicBezTo>
                  <a:pt x="230" y="573"/>
                  <a:pt x="232" y="572"/>
                  <a:pt x="231" y="574"/>
                </a:cubicBezTo>
                <a:cubicBezTo>
                  <a:pt x="227" y="580"/>
                  <a:pt x="221" y="583"/>
                  <a:pt x="221" y="592"/>
                </a:cubicBezTo>
                <a:cubicBezTo>
                  <a:pt x="225" y="596"/>
                  <a:pt x="220" y="604"/>
                  <a:pt x="215" y="603"/>
                </a:cubicBezTo>
                <a:cubicBezTo>
                  <a:pt x="217" y="607"/>
                  <a:pt x="215" y="608"/>
                  <a:pt x="214" y="611"/>
                </a:cubicBezTo>
                <a:cubicBezTo>
                  <a:pt x="221" y="612"/>
                  <a:pt x="227" y="616"/>
                  <a:pt x="233" y="617"/>
                </a:cubicBezTo>
                <a:cubicBezTo>
                  <a:pt x="241" y="619"/>
                  <a:pt x="252" y="615"/>
                  <a:pt x="259" y="615"/>
                </a:cubicBezTo>
                <a:cubicBezTo>
                  <a:pt x="265" y="615"/>
                  <a:pt x="273" y="622"/>
                  <a:pt x="281" y="619"/>
                </a:cubicBezTo>
                <a:cubicBezTo>
                  <a:pt x="269" y="621"/>
                  <a:pt x="263" y="628"/>
                  <a:pt x="255" y="634"/>
                </a:cubicBezTo>
                <a:cubicBezTo>
                  <a:pt x="232" y="636"/>
                  <a:pt x="212" y="624"/>
                  <a:pt x="196" y="630"/>
                </a:cubicBezTo>
                <a:cubicBezTo>
                  <a:pt x="192" y="641"/>
                  <a:pt x="209" y="638"/>
                  <a:pt x="204" y="645"/>
                </a:cubicBezTo>
                <a:cubicBezTo>
                  <a:pt x="208" y="642"/>
                  <a:pt x="217" y="644"/>
                  <a:pt x="218" y="650"/>
                </a:cubicBezTo>
                <a:cubicBezTo>
                  <a:pt x="210" y="649"/>
                  <a:pt x="209" y="655"/>
                  <a:pt x="206" y="658"/>
                </a:cubicBezTo>
                <a:cubicBezTo>
                  <a:pt x="211" y="655"/>
                  <a:pt x="218" y="655"/>
                  <a:pt x="219" y="648"/>
                </a:cubicBezTo>
                <a:cubicBezTo>
                  <a:pt x="223" y="649"/>
                  <a:pt x="221" y="651"/>
                  <a:pt x="222" y="652"/>
                </a:cubicBezTo>
                <a:cubicBezTo>
                  <a:pt x="222" y="651"/>
                  <a:pt x="224" y="651"/>
                  <a:pt x="225" y="651"/>
                </a:cubicBezTo>
                <a:cubicBezTo>
                  <a:pt x="234" y="657"/>
                  <a:pt x="249" y="651"/>
                  <a:pt x="256" y="658"/>
                </a:cubicBezTo>
                <a:cubicBezTo>
                  <a:pt x="252" y="671"/>
                  <a:pt x="237" y="674"/>
                  <a:pt x="234" y="689"/>
                </a:cubicBezTo>
                <a:cubicBezTo>
                  <a:pt x="231" y="688"/>
                  <a:pt x="231" y="690"/>
                  <a:pt x="229" y="691"/>
                </a:cubicBezTo>
                <a:cubicBezTo>
                  <a:pt x="230" y="694"/>
                  <a:pt x="231" y="697"/>
                  <a:pt x="230" y="701"/>
                </a:cubicBezTo>
                <a:cubicBezTo>
                  <a:pt x="218" y="704"/>
                  <a:pt x="215" y="717"/>
                  <a:pt x="201" y="719"/>
                </a:cubicBezTo>
                <a:cubicBezTo>
                  <a:pt x="198" y="725"/>
                  <a:pt x="196" y="728"/>
                  <a:pt x="196" y="735"/>
                </a:cubicBezTo>
                <a:cubicBezTo>
                  <a:pt x="186" y="742"/>
                  <a:pt x="177" y="752"/>
                  <a:pt x="177" y="765"/>
                </a:cubicBezTo>
                <a:cubicBezTo>
                  <a:pt x="178" y="767"/>
                  <a:pt x="183" y="764"/>
                  <a:pt x="183" y="766"/>
                </a:cubicBezTo>
                <a:cubicBezTo>
                  <a:pt x="181" y="766"/>
                  <a:pt x="182" y="768"/>
                  <a:pt x="183" y="769"/>
                </a:cubicBezTo>
                <a:cubicBezTo>
                  <a:pt x="180" y="769"/>
                  <a:pt x="179" y="770"/>
                  <a:pt x="177" y="771"/>
                </a:cubicBezTo>
                <a:cubicBezTo>
                  <a:pt x="180" y="773"/>
                  <a:pt x="184" y="772"/>
                  <a:pt x="186" y="774"/>
                </a:cubicBezTo>
                <a:cubicBezTo>
                  <a:pt x="185" y="776"/>
                  <a:pt x="180" y="776"/>
                  <a:pt x="179" y="779"/>
                </a:cubicBezTo>
                <a:cubicBezTo>
                  <a:pt x="185" y="779"/>
                  <a:pt x="190" y="779"/>
                  <a:pt x="191" y="774"/>
                </a:cubicBezTo>
                <a:cubicBezTo>
                  <a:pt x="194" y="775"/>
                  <a:pt x="195" y="776"/>
                  <a:pt x="197" y="778"/>
                </a:cubicBezTo>
                <a:cubicBezTo>
                  <a:pt x="197" y="780"/>
                  <a:pt x="195" y="781"/>
                  <a:pt x="194" y="783"/>
                </a:cubicBezTo>
                <a:cubicBezTo>
                  <a:pt x="199" y="780"/>
                  <a:pt x="205" y="777"/>
                  <a:pt x="210" y="781"/>
                </a:cubicBezTo>
                <a:cubicBezTo>
                  <a:pt x="203" y="785"/>
                  <a:pt x="199" y="793"/>
                  <a:pt x="192" y="798"/>
                </a:cubicBezTo>
                <a:cubicBezTo>
                  <a:pt x="188" y="797"/>
                  <a:pt x="187" y="800"/>
                  <a:pt x="184" y="800"/>
                </a:cubicBezTo>
                <a:cubicBezTo>
                  <a:pt x="178" y="811"/>
                  <a:pt x="164" y="813"/>
                  <a:pt x="157" y="821"/>
                </a:cubicBezTo>
                <a:cubicBezTo>
                  <a:pt x="159" y="822"/>
                  <a:pt x="161" y="819"/>
                  <a:pt x="162" y="821"/>
                </a:cubicBezTo>
                <a:cubicBezTo>
                  <a:pt x="162" y="824"/>
                  <a:pt x="161" y="825"/>
                  <a:pt x="161" y="827"/>
                </a:cubicBezTo>
                <a:cubicBezTo>
                  <a:pt x="163" y="827"/>
                  <a:pt x="165" y="828"/>
                  <a:pt x="166" y="829"/>
                </a:cubicBezTo>
                <a:cubicBezTo>
                  <a:pt x="166" y="831"/>
                  <a:pt x="165" y="834"/>
                  <a:pt x="164" y="835"/>
                </a:cubicBezTo>
                <a:cubicBezTo>
                  <a:pt x="167" y="836"/>
                  <a:pt x="167" y="834"/>
                  <a:pt x="170" y="834"/>
                </a:cubicBezTo>
                <a:cubicBezTo>
                  <a:pt x="173" y="836"/>
                  <a:pt x="168" y="839"/>
                  <a:pt x="171" y="840"/>
                </a:cubicBezTo>
                <a:cubicBezTo>
                  <a:pt x="172" y="839"/>
                  <a:pt x="174" y="837"/>
                  <a:pt x="177" y="837"/>
                </a:cubicBezTo>
                <a:cubicBezTo>
                  <a:pt x="174" y="843"/>
                  <a:pt x="166" y="842"/>
                  <a:pt x="165" y="849"/>
                </a:cubicBezTo>
                <a:cubicBezTo>
                  <a:pt x="171" y="853"/>
                  <a:pt x="177" y="848"/>
                  <a:pt x="181" y="844"/>
                </a:cubicBezTo>
                <a:cubicBezTo>
                  <a:pt x="188" y="844"/>
                  <a:pt x="190" y="839"/>
                  <a:pt x="195" y="836"/>
                </a:cubicBezTo>
                <a:cubicBezTo>
                  <a:pt x="194" y="834"/>
                  <a:pt x="192" y="829"/>
                  <a:pt x="195" y="828"/>
                </a:cubicBezTo>
                <a:cubicBezTo>
                  <a:pt x="198" y="829"/>
                  <a:pt x="198" y="828"/>
                  <a:pt x="201" y="828"/>
                </a:cubicBezTo>
                <a:cubicBezTo>
                  <a:pt x="201" y="829"/>
                  <a:pt x="201" y="831"/>
                  <a:pt x="202" y="832"/>
                </a:cubicBezTo>
                <a:cubicBezTo>
                  <a:pt x="204" y="829"/>
                  <a:pt x="209" y="829"/>
                  <a:pt x="212" y="827"/>
                </a:cubicBezTo>
                <a:cubicBezTo>
                  <a:pt x="212" y="828"/>
                  <a:pt x="214" y="828"/>
                  <a:pt x="214" y="829"/>
                </a:cubicBezTo>
                <a:cubicBezTo>
                  <a:pt x="214" y="834"/>
                  <a:pt x="214" y="834"/>
                  <a:pt x="214" y="834"/>
                </a:cubicBezTo>
                <a:cubicBezTo>
                  <a:pt x="207" y="834"/>
                  <a:pt x="206" y="841"/>
                  <a:pt x="201" y="844"/>
                </a:cubicBezTo>
                <a:cubicBezTo>
                  <a:pt x="207" y="841"/>
                  <a:pt x="209" y="842"/>
                  <a:pt x="217" y="843"/>
                </a:cubicBezTo>
                <a:cubicBezTo>
                  <a:pt x="216" y="845"/>
                  <a:pt x="214" y="845"/>
                  <a:pt x="214" y="847"/>
                </a:cubicBezTo>
                <a:cubicBezTo>
                  <a:pt x="215" y="848"/>
                  <a:pt x="217" y="848"/>
                  <a:pt x="218" y="849"/>
                </a:cubicBezTo>
                <a:cubicBezTo>
                  <a:pt x="216" y="853"/>
                  <a:pt x="213" y="860"/>
                  <a:pt x="208" y="860"/>
                </a:cubicBezTo>
                <a:cubicBezTo>
                  <a:pt x="208" y="863"/>
                  <a:pt x="211" y="862"/>
                  <a:pt x="210" y="865"/>
                </a:cubicBezTo>
                <a:cubicBezTo>
                  <a:pt x="197" y="876"/>
                  <a:pt x="185" y="889"/>
                  <a:pt x="169" y="898"/>
                </a:cubicBezTo>
                <a:cubicBezTo>
                  <a:pt x="169" y="897"/>
                  <a:pt x="168" y="897"/>
                  <a:pt x="168" y="896"/>
                </a:cubicBezTo>
                <a:cubicBezTo>
                  <a:pt x="167" y="892"/>
                  <a:pt x="173" y="890"/>
                  <a:pt x="172" y="888"/>
                </a:cubicBezTo>
                <a:cubicBezTo>
                  <a:pt x="165" y="891"/>
                  <a:pt x="162" y="898"/>
                  <a:pt x="154" y="900"/>
                </a:cubicBezTo>
                <a:cubicBezTo>
                  <a:pt x="153" y="903"/>
                  <a:pt x="156" y="906"/>
                  <a:pt x="152" y="908"/>
                </a:cubicBezTo>
                <a:cubicBezTo>
                  <a:pt x="149" y="908"/>
                  <a:pt x="147" y="908"/>
                  <a:pt x="144" y="909"/>
                </a:cubicBezTo>
                <a:cubicBezTo>
                  <a:pt x="141" y="921"/>
                  <a:pt x="124" y="923"/>
                  <a:pt x="119" y="931"/>
                </a:cubicBezTo>
                <a:cubicBezTo>
                  <a:pt x="117" y="931"/>
                  <a:pt x="107" y="936"/>
                  <a:pt x="108" y="939"/>
                </a:cubicBezTo>
                <a:cubicBezTo>
                  <a:pt x="114" y="935"/>
                  <a:pt x="117" y="932"/>
                  <a:pt x="125" y="930"/>
                </a:cubicBezTo>
                <a:cubicBezTo>
                  <a:pt x="124" y="930"/>
                  <a:pt x="123" y="929"/>
                  <a:pt x="123" y="927"/>
                </a:cubicBezTo>
                <a:cubicBezTo>
                  <a:pt x="139" y="919"/>
                  <a:pt x="157" y="910"/>
                  <a:pt x="170" y="901"/>
                </a:cubicBezTo>
                <a:cubicBezTo>
                  <a:pt x="170" y="903"/>
                  <a:pt x="170" y="904"/>
                  <a:pt x="172" y="903"/>
                </a:cubicBezTo>
                <a:cubicBezTo>
                  <a:pt x="174" y="897"/>
                  <a:pt x="179" y="894"/>
                  <a:pt x="185" y="892"/>
                </a:cubicBezTo>
                <a:cubicBezTo>
                  <a:pt x="187" y="891"/>
                  <a:pt x="184" y="888"/>
                  <a:pt x="187" y="887"/>
                </a:cubicBezTo>
                <a:cubicBezTo>
                  <a:pt x="189" y="890"/>
                  <a:pt x="192" y="886"/>
                  <a:pt x="193" y="888"/>
                </a:cubicBezTo>
                <a:cubicBezTo>
                  <a:pt x="193" y="892"/>
                  <a:pt x="190" y="895"/>
                  <a:pt x="187" y="893"/>
                </a:cubicBezTo>
                <a:cubicBezTo>
                  <a:pt x="183" y="898"/>
                  <a:pt x="180" y="903"/>
                  <a:pt x="176" y="908"/>
                </a:cubicBezTo>
                <a:cubicBezTo>
                  <a:pt x="178" y="908"/>
                  <a:pt x="181" y="905"/>
                  <a:pt x="182" y="907"/>
                </a:cubicBezTo>
                <a:cubicBezTo>
                  <a:pt x="183" y="919"/>
                  <a:pt x="166" y="918"/>
                  <a:pt x="164" y="925"/>
                </a:cubicBezTo>
                <a:cubicBezTo>
                  <a:pt x="175" y="921"/>
                  <a:pt x="188" y="915"/>
                  <a:pt x="199" y="914"/>
                </a:cubicBezTo>
                <a:cubicBezTo>
                  <a:pt x="200" y="912"/>
                  <a:pt x="201" y="911"/>
                  <a:pt x="204" y="911"/>
                </a:cubicBezTo>
                <a:cubicBezTo>
                  <a:pt x="204" y="914"/>
                  <a:pt x="201" y="914"/>
                  <a:pt x="199" y="915"/>
                </a:cubicBezTo>
                <a:cubicBezTo>
                  <a:pt x="202" y="915"/>
                  <a:pt x="203" y="916"/>
                  <a:pt x="203" y="918"/>
                </a:cubicBezTo>
                <a:cubicBezTo>
                  <a:pt x="196" y="933"/>
                  <a:pt x="176" y="935"/>
                  <a:pt x="165" y="947"/>
                </a:cubicBezTo>
                <a:cubicBezTo>
                  <a:pt x="170" y="948"/>
                  <a:pt x="172" y="945"/>
                  <a:pt x="174" y="943"/>
                </a:cubicBezTo>
                <a:cubicBezTo>
                  <a:pt x="185" y="944"/>
                  <a:pt x="191" y="934"/>
                  <a:pt x="199" y="929"/>
                </a:cubicBezTo>
                <a:cubicBezTo>
                  <a:pt x="209" y="924"/>
                  <a:pt x="222" y="921"/>
                  <a:pt x="231" y="915"/>
                </a:cubicBezTo>
                <a:cubicBezTo>
                  <a:pt x="232" y="917"/>
                  <a:pt x="234" y="917"/>
                  <a:pt x="236" y="917"/>
                </a:cubicBezTo>
                <a:cubicBezTo>
                  <a:pt x="238" y="916"/>
                  <a:pt x="239" y="915"/>
                  <a:pt x="242" y="915"/>
                </a:cubicBezTo>
                <a:cubicBezTo>
                  <a:pt x="242" y="918"/>
                  <a:pt x="238" y="918"/>
                  <a:pt x="238" y="920"/>
                </a:cubicBezTo>
                <a:cubicBezTo>
                  <a:pt x="240" y="923"/>
                  <a:pt x="245" y="920"/>
                  <a:pt x="247" y="921"/>
                </a:cubicBezTo>
                <a:cubicBezTo>
                  <a:pt x="241" y="923"/>
                  <a:pt x="242" y="927"/>
                  <a:pt x="238" y="930"/>
                </a:cubicBezTo>
                <a:cubicBezTo>
                  <a:pt x="237" y="928"/>
                  <a:pt x="234" y="928"/>
                  <a:pt x="232" y="927"/>
                </a:cubicBezTo>
                <a:cubicBezTo>
                  <a:pt x="231" y="930"/>
                  <a:pt x="228" y="931"/>
                  <a:pt x="225" y="932"/>
                </a:cubicBezTo>
                <a:cubicBezTo>
                  <a:pt x="225" y="934"/>
                  <a:pt x="224" y="938"/>
                  <a:pt x="226" y="939"/>
                </a:cubicBezTo>
                <a:cubicBezTo>
                  <a:pt x="233" y="932"/>
                  <a:pt x="239" y="930"/>
                  <a:pt x="251" y="929"/>
                </a:cubicBezTo>
                <a:cubicBezTo>
                  <a:pt x="250" y="932"/>
                  <a:pt x="252" y="933"/>
                  <a:pt x="251" y="936"/>
                </a:cubicBezTo>
                <a:cubicBezTo>
                  <a:pt x="251" y="936"/>
                  <a:pt x="250" y="937"/>
                  <a:pt x="250" y="937"/>
                </a:cubicBezTo>
                <a:cubicBezTo>
                  <a:pt x="247" y="936"/>
                  <a:pt x="243" y="936"/>
                  <a:pt x="240" y="936"/>
                </a:cubicBezTo>
                <a:cubicBezTo>
                  <a:pt x="234" y="943"/>
                  <a:pt x="227" y="949"/>
                  <a:pt x="221" y="956"/>
                </a:cubicBezTo>
                <a:cubicBezTo>
                  <a:pt x="214" y="957"/>
                  <a:pt x="211" y="962"/>
                  <a:pt x="207" y="966"/>
                </a:cubicBezTo>
                <a:cubicBezTo>
                  <a:pt x="206" y="966"/>
                  <a:pt x="202" y="967"/>
                  <a:pt x="205" y="967"/>
                </a:cubicBezTo>
                <a:cubicBezTo>
                  <a:pt x="212" y="968"/>
                  <a:pt x="212" y="961"/>
                  <a:pt x="220" y="964"/>
                </a:cubicBezTo>
                <a:cubicBezTo>
                  <a:pt x="221" y="958"/>
                  <a:pt x="229" y="960"/>
                  <a:pt x="231" y="956"/>
                </a:cubicBezTo>
                <a:cubicBezTo>
                  <a:pt x="234" y="958"/>
                  <a:pt x="233" y="959"/>
                  <a:pt x="234" y="961"/>
                </a:cubicBezTo>
                <a:cubicBezTo>
                  <a:pt x="234" y="958"/>
                  <a:pt x="238" y="963"/>
                  <a:pt x="237" y="959"/>
                </a:cubicBezTo>
                <a:cubicBezTo>
                  <a:pt x="236" y="958"/>
                  <a:pt x="233" y="960"/>
                  <a:pt x="234" y="955"/>
                </a:cubicBezTo>
                <a:cubicBezTo>
                  <a:pt x="236" y="954"/>
                  <a:pt x="238" y="950"/>
                  <a:pt x="240" y="952"/>
                </a:cubicBezTo>
                <a:cubicBezTo>
                  <a:pt x="241" y="956"/>
                  <a:pt x="235" y="954"/>
                  <a:pt x="238" y="957"/>
                </a:cubicBezTo>
                <a:cubicBezTo>
                  <a:pt x="240" y="956"/>
                  <a:pt x="243" y="956"/>
                  <a:pt x="246" y="955"/>
                </a:cubicBezTo>
                <a:cubicBezTo>
                  <a:pt x="242" y="950"/>
                  <a:pt x="251" y="954"/>
                  <a:pt x="252" y="952"/>
                </a:cubicBezTo>
                <a:cubicBezTo>
                  <a:pt x="248" y="950"/>
                  <a:pt x="253" y="948"/>
                  <a:pt x="253" y="946"/>
                </a:cubicBezTo>
                <a:cubicBezTo>
                  <a:pt x="249" y="944"/>
                  <a:pt x="250" y="949"/>
                  <a:pt x="248" y="947"/>
                </a:cubicBezTo>
                <a:cubicBezTo>
                  <a:pt x="248" y="946"/>
                  <a:pt x="249" y="945"/>
                  <a:pt x="251" y="944"/>
                </a:cubicBezTo>
                <a:cubicBezTo>
                  <a:pt x="258" y="946"/>
                  <a:pt x="261" y="934"/>
                  <a:pt x="266" y="936"/>
                </a:cubicBezTo>
                <a:cubicBezTo>
                  <a:pt x="263" y="938"/>
                  <a:pt x="265" y="939"/>
                  <a:pt x="264" y="942"/>
                </a:cubicBezTo>
                <a:cubicBezTo>
                  <a:pt x="261" y="940"/>
                  <a:pt x="260" y="947"/>
                  <a:pt x="256" y="948"/>
                </a:cubicBezTo>
                <a:cubicBezTo>
                  <a:pt x="258" y="949"/>
                  <a:pt x="257" y="955"/>
                  <a:pt x="254" y="957"/>
                </a:cubicBezTo>
                <a:cubicBezTo>
                  <a:pt x="262" y="956"/>
                  <a:pt x="271" y="953"/>
                  <a:pt x="272" y="963"/>
                </a:cubicBezTo>
                <a:cubicBezTo>
                  <a:pt x="269" y="966"/>
                  <a:pt x="259" y="967"/>
                  <a:pt x="262" y="972"/>
                </a:cubicBezTo>
                <a:cubicBezTo>
                  <a:pt x="266" y="967"/>
                  <a:pt x="273" y="964"/>
                  <a:pt x="278" y="960"/>
                </a:cubicBezTo>
                <a:cubicBezTo>
                  <a:pt x="277" y="959"/>
                  <a:pt x="273" y="961"/>
                  <a:pt x="273" y="959"/>
                </a:cubicBezTo>
                <a:cubicBezTo>
                  <a:pt x="276" y="959"/>
                  <a:pt x="278" y="957"/>
                  <a:pt x="276" y="955"/>
                </a:cubicBezTo>
                <a:cubicBezTo>
                  <a:pt x="276" y="953"/>
                  <a:pt x="272" y="955"/>
                  <a:pt x="272" y="952"/>
                </a:cubicBezTo>
                <a:cubicBezTo>
                  <a:pt x="277" y="948"/>
                  <a:pt x="283" y="945"/>
                  <a:pt x="289" y="941"/>
                </a:cubicBezTo>
                <a:cubicBezTo>
                  <a:pt x="292" y="944"/>
                  <a:pt x="286" y="947"/>
                  <a:pt x="290" y="949"/>
                </a:cubicBezTo>
                <a:cubicBezTo>
                  <a:pt x="287" y="953"/>
                  <a:pt x="283" y="956"/>
                  <a:pt x="280" y="960"/>
                </a:cubicBezTo>
                <a:cubicBezTo>
                  <a:pt x="283" y="959"/>
                  <a:pt x="281" y="963"/>
                  <a:pt x="282" y="965"/>
                </a:cubicBezTo>
                <a:cubicBezTo>
                  <a:pt x="275" y="968"/>
                  <a:pt x="273" y="977"/>
                  <a:pt x="263" y="978"/>
                </a:cubicBezTo>
                <a:cubicBezTo>
                  <a:pt x="266" y="983"/>
                  <a:pt x="257" y="979"/>
                  <a:pt x="257" y="983"/>
                </a:cubicBezTo>
                <a:cubicBezTo>
                  <a:pt x="271" y="983"/>
                  <a:pt x="278" y="967"/>
                  <a:pt x="296" y="968"/>
                </a:cubicBezTo>
                <a:cubicBezTo>
                  <a:pt x="298" y="973"/>
                  <a:pt x="297" y="975"/>
                  <a:pt x="300" y="978"/>
                </a:cubicBezTo>
                <a:cubicBezTo>
                  <a:pt x="297" y="992"/>
                  <a:pt x="280" y="991"/>
                  <a:pt x="273" y="1001"/>
                </a:cubicBezTo>
                <a:cubicBezTo>
                  <a:pt x="276" y="1001"/>
                  <a:pt x="278" y="998"/>
                  <a:pt x="279" y="1002"/>
                </a:cubicBezTo>
                <a:cubicBezTo>
                  <a:pt x="279" y="1006"/>
                  <a:pt x="275" y="1007"/>
                  <a:pt x="274" y="1011"/>
                </a:cubicBezTo>
                <a:cubicBezTo>
                  <a:pt x="277" y="1011"/>
                  <a:pt x="280" y="1010"/>
                  <a:pt x="280" y="1013"/>
                </a:cubicBezTo>
                <a:cubicBezTo>
                  <a:pt x="278" y="1017"/>
                  <a:pt x="269" y="1020"/>
                  <a:pt x="265" y="1015"/>
                </a:cubicBezTo>
                <a:cubicBezTo>
                  <a:pt x="256" y="1023"/>
                  <a:pt x="242" y="1026"/>
                  <a:pt x="234" y="1036"/>
                </a:cubicBezTo>
                <a:cubicBezTo>
                  <a:pt x="240" y="1036"/>
                  <a:pt x="237" y="1041"/>
                  <a:pt x="240" y="1043"/>
                </a:cubicBezTo>
                <a:cubicBezTo>
                  <a:pt x="243" y="1041"/>
                  <a:pt x="246" y="1040"/>
                  <a:pt x="251" y="1039"/>
                </a:cubicBezTo>
                <a:cubicBezTo>
                  <a:pt x="251" y="1042"/>
                  <a:pt x="247" y="1041"/>
                  <a:pt x="248" y="1044"/>
                </a:cubicBezTo>
                <a:cubicBezTo>
                  <a:pt x="258" y="1041"/>
                  <a:pt x="273" y="1045"/>
                  <a:pt x="280" y="1034"/>
                </a:cubicBezTo>
                <a:cubicBezTo>
                  <a:pt x="277" y="1034"/>
                  <a:pt x="276" y="1034"/>
                  <a:pt x="276" y="1031"/>
                </a:cubicBezTo>
                <a:cubicBezTo>
                  <a:pt x="278" y="1023"/>
                  <a:pt x="285" y="1020"/>
                  <a:pt x="290" y="1015"/>
                </a:cubicBezTo>
                <a:cubicBezTo>
                  <a:pt x="296" y="1015"/>
                  <a:pt x="304" y="1015"/>
                  <a:pt x="311" y="1015"/>
                </a:cubicBezTo>
                <a:cubicBezTo>
                  <a:pt x="314" y="1006"/>
                  <a:pt x="323" y="1003"/>
                  <a:pt x="327" y="995"/>
                </a:cubicBezTo>
                <a:cubicBezTo>
                  <a:pt x="326" y="991"/>
                  <a:pt x="327" y="989"/>
                  <a:pt x="328" y="986"/>
                </a:cubicBezTo>
                <a:cubicBezTo>
                  <a:pt x="326" y="985"/>
                  <a:pt x="326" y="982"/>
                  <a:pt x="325" y="980"/>
                </a:cubicBezTo>
                <a:cubicBezTo>
                  <a:pt x="328" y="973"/>
                  <a:pt x="341" y="971"/>
                  <a:pt x="338" y="985"/>
                </a:cubicBezTo>
                <a:cubicBezTo>
                  <a:pt x="342" y="986"/>
                  <a:pt x="345" y="990"/>
                  <a:pt x="349" y="992"/>
                </a:cubicBezTo>
                <a:cubicBezTo>
                  <a:pt x="350" y="996"/>
                  <a:pt x="347" y="996"/>
                  <a:pt x="347" y="999"/>
                </a:cubicBezTo>
                <a:cubicBezTo>
                  <a:pt x="349" y="999"/>
                  <a:pt x="351" y="1003"/>
                  <a:pt x="349" y="1005"/>
                </a:cubicBezTo>
                <a:cubicBezTo>
                  <a:pt x="356" y="1006"/>
                  <a:pt x="363" y="1007"/>
                  <a:pt x="364" y="1011"/>
                </a:cubicBezTo>
                <a:cubicBezTo>
                  <a:pt x="369" y="1008"/>
                  <a:pt x="375" y="1011"/>
                  <a:pt x="378" y="1015"/>
                </a:cubicBezTo>
                <a:cubicBezTo>
                  <a:pt x="378" y="1017"/>
                  <a:pt x="375" y="1016"/>
                  <a:pt x="376" y="1018"/>
                </a:cubicBezTo>
                <a:cubicBezTo>
                  <a:pt x="379" y="1019"/>
                  <a:pt x="380" y="1016"/>
                  <a:pt x="381" y="1019"/>
                </a:cubicBezTo>
                <a:cubicBezTo>
                  <a:pt x="381" y="1021"/>
                  <a:pt x="378" y="1020"/>
                  <a:pt x="378" y="1022"/>
                </a:cubicBezTo>
                <a:cubicBezTo>
                  <a:pt x="382" y="1022"/>
                  <a:pt x="383" y="1020"/>
                  <a:pt x="387" y="1020"/>
                </a:cubicBezTo>
                <a:cubicBezTo>
                  <a:pt x="389" y="1023"/>
                  <a:pt x="388" y="1024"/>
                  <a:pt x="390" y="1027"/>
                </a:cubicBezTo>
                <a:cubicBezTo>
                  <a:pt x="394" y="1025"/>
                  <a:pt x="396" y="1030"/>
                  <a:pt x="398" y="1033"/>
                </a:cubicBezTo>
                <a:cubicBezTo>
                  <a:pt x="385" y="1041"/>
                  <a:pt x="383" y="1053"/>
                  <a:pt x="378" y="1067"/>
                </a:cubicBezTo>
                <a:cubicBezTo>
                  <a:pt x="387" y="1070"/>
                  <a:pt x="401" y="1068"/>
                  <a:pt x="402" y="1080"/>
                </a:cubicBezTo>
                <a:cubicBezTo>
                  <a:pt x="407" y="1084"/>
                  <a:pt x="411" y="1089"/>
                  <a:pt x="417" y="1092"/>
                </a:cubicBezTo>
                <a:cubicBezTo>
                  <a:pt x="415" y="1096"/>
                  <a:pt x="418" y="1100"/>
                  <a:pt x="416" y="1103"/>
                </a:cubicBezTo>
                <a:cubicBezTo>
                  <a:pt x="420" y="1104"/>
                  <a:pt x="424" y="1105"/>
                  <a:pt x="428" y="1106"/>
                </a:cubicBezTo>
                <a:cubicBezTo>
                  <a:pt x="433" y="1104"/>
                  <a:pt x="435" y="1099"/>
                  <a:pt x="440" y="1096"/>
                </a:cubicBezTo>
                <a:cubicBezTo>
                  <a:pt x="451" y="1082"/>
                  <a:pt x="471" y="1076"/>
                  <a:pt x="486" y="1066"/>
                </a:cubicBezTo>
                <a:cubicBezTo>
                  <a:pt x="493" y="1070"/>
                  <a:pt x="499" y="1058"/>
                  <a:pt x="504" y="1054"/>
                </a:cubicBezTo>
                <a:cubicBezTo>
                  <a:pt x="507" y="1054"/>
                  <a:pt x="508" y="1057"/>
                  <a:pt x="512" y="1056"/>
                </a:cubicBezTo>
                <a:cubicBezTo>
                  <a:pt x="512" y="1049"/>
                  <a:pt x="522" y="1050"/>
                  <a:pt x="524" y="1051"/>
                </a:cubicBezTo>
                <a:cubicBezTo>
                  <a:pt x="520" y="1049"/>
                  <a:pt x="527" y="1043"/>
                  <a:pt x="530" y="1042"/>
                </a:cubicBezTo>
                <a:cubicBezTo>
                  <a:pt x="530" y="1048"/>
                  <a:pt x="540" y="1051"/>
                  <a:pt x="541" y="1059"/>
                </a:cubicBezTo>
                <a:cubicBezTo>
                  <a:pt x="538" y="1058"/>
                  <a:pt x="537" y="1062"/>
                  <a:pt x="533" y="1059"/>
                </a:cubicBezTo>
                <a:cubicBezTo>
                  <a:pt x="532" y="1065"/>
                  <a:pt x="533" y="1067"/>
                  <a:pt x="533" y="1073"/>
                </a:cubicBezTo>
                <a:cubicBezTo>
                  <a:pt x="537" y="1073"/>
                  <a:pt x="537" y="1078"/>
                  <a:pt x="541" y="1078"/>
                </a:cubicBezTo>
                <a:cubicBezTo>
                  <a:pt x="542" y="1074"/>
                  <a:pt x="540" y="1072"/>
                  <a:pt x="545" y="1072"/>
                </a:cubicBezTo>
                <a:cubicBezTo>
                  <a:pt x="545" y="1075"/>
                  <a:pt x="540" y="1077"/>
                  <a:pt x="545" y="1077"/>
                </a:cubicBezTo>
                <a:cubicBezTo>
                  <a:pt x="547" y="1078"/>
                  <a:pt x="544" y="1073"/>
                  <a:pt x="546" y="1073"/>
                </a:cubicBezTo>
                <a:cubicBezTo>
                  <a:pt x="549" y="1074"/>
                  <a:pt x="553" y="1074"/>
                  <a:pt x="553" y="1078"/>
                </a:cubicBezTo>
                <a:cubicBezTo>
                  <a:pt x="551" y="1078"/>
                  <a:pt x="551" y="1076"/>
                  <a:pt x="548" y="1077"/>
                </a:cubicBezTo>
                <a:cubicBezTo>
                  <a:pt x="548" y="1081"/>
                  <a:pt x="548" y="1085"/>
                  <a:pt x="545" y="1085"/>
                </a:cubicBezTo>
                <a:cubicBezTo>
                  <a:pt x="546" y="1080"/>
                  <a:pt x="541" y="1086"/>
                  <a:pt x="541" y="1082"/>
                </a:cubicBezTo>
                <a:cubicBezTo>
                  <a:pt x="542" y="1080"/>
                  <a:pt x="544" y="1079"/>
                  <a:pt x="541" y="1078"/>
                </a:cubicBezTo>
                <a:cubicBezTo>
                  <a:pt x="539" y="1079"/>
                  <a:pt x="541" y="1082"/>
                  <a:pt x="538" y="1082"/>
                </a:cubicBezTo>
                <a:cubicBezTo>
                  <a:pt x="541" y="1079"/>
                  <a:pt x="533" y="1082"/>
                  <a:pt x="532" y="1078"/>
                </a:cubicBezTo>
                <a:cubicBezTo>
                  <a:pt x="531" y="1080"/>
                  <a:pt x="530" y="1082"/>
                  <a:pt x="529" y="1085"/>
                </a:cubicBezTo>
                <a:cubicBezTo>
                  <a:pt x="533" y="1085"/>
                  <a:pt x="536" y="1088"/>
                  <a:pt x="533" y="1090"/>
                </a:cubicBezTo>
                <a:cubicBezTo>
                  <a:pt x="534" y="1091"/>
                  <a:pt x="538" y="1089"/>
                  <a:pt x="538" y="1091"/>
                </a:cubicBezTo>
                <a:cubicBezTo>
                  <a:pt x="529" y="1095"/>
                  <a:pt x="513" y="1093"/>
                  <a:pt x="508" y="1101"/>
                </a:cubicBezTo>
                <a:cubicBezTo>
                  <a:pt x="518" y="1101"/>
                  <a:pt x="530" y="1093"/>
                  <a:pt x="539" y="1097"/>
                </a:cubicBezTo>
                <a:cubicBezTo>
                  <a:pt x="538" y="1103"/>
                  <a:pt x="532" y="1097"/>
                  <a:pt x="531" y="1101"/>
                </a:cubicBezTo>
                <a:cubicBezTo>
                  <a:pt x="533" y="1104"/>
                  <a:pt x="541" y="1101"/>
                  <a:pt x="541" y="1106"/>
                </a:cubicBezTo>
                <a:cubicBezTo>
                  <a:pt x="541" y="1108"/>
                  <a:pt x="537" y="1107"/>
                  <a:pt x="537" y="1110"/>
                </a:cubicBezTo>
                <a:cubicBezTo>
                  <a:pt x="544" y="1109"/>
                  <a:pt x="552" y="1104"/>
                  <a:pt x="552" y="1098"/>
                </a:cubicBezTo>
                <a:cubicBezTo>
                  <a:pt x="570" y="1092"/>
                  <a:pt x="580" y="1083"/>
                  <a:pt x="601" y="1083"/>
                </a:cubicBezTo>
                <a:cubicBezTo>
                  <a:pt x="608" y="1079"/>
                  <a:pt x="621" y="1083"/>
                  <a:pt x="627" y="1088"/>
                </a:cubicBezTo>
                <a:cubicBezTo>
                  <a:pt x="639" y="1088"/>
                  <a:pt x="638" y="1074"/>
                  <a:pt x="651" y="1074"/>
                </a:cubicBezTo>
                <a:cubicBezTo>
                  <a:pt x="652" y="1077"/>
                  <a:pt x="650" y="1077"/>
                  <a:pt x="650" y="1079"/>
                </a:cubicBezTo>
                <a:cubicBezTo>
                  <a:pt x="665" y="1076"/>
                  <a:pt x="677" y="1070"/>
                  <a:pt x="688" y="1064"/>
                </a:cubicBezTo>
                <a:cubicBezTo>
                  <a:pt x="694" y="1064"/>
                  <a:pt x="699" y="1063"/>
                  <a:pt x="701" y="1059"/>
                </a:cubicBezTo>
                <a:cubicBezTo>
                  <a:pt x="693" y="1057"/>
                  <a:pt x="682" y="1067"/>
                  <a:pt x="672" y="1060"/>
                </a:cubicBezTo>
                <a:cubicBezTo>
                  <a:pt x="683" y="1053"/>
                  <a:pt x="695" y="1048"/>
                  <a:pt x="710" y="1044"/>
                </a:cubicBezTo>
                <a:cubicBezTo>
                  <a:pt x="712" y="1042"/>
                  <a:pt x="712" y="1039"/>
                  <a:pt x="714" y="1038"/>
                </a:cubicBezTo>
                <a:cubicBezTo>
                  <a:pt x="722" y="1040"/>
                  <a:pt x="729" y="1035"/>
                  <a:pt x="735" y="1031"/>
                </a:cubicBezTo>
                <a:cubicBezTo>
                  <a:pt x="736" y="1035"/>
                  <a:pt x="733" y="1036"/>
                  <a:pt x="735" y="1038"/>
                </a:cubicBezTo>
                <a:cubicBezTo>
                  <a:pt x="737" y="1040"/>
                  <a:pt x="739" y="1038"/>
                  <a:pt x="742" y="1038"/>
                </a:cubicBezTo>
                <a:cubicBezTo>
                  <a:pt x="742" y="1040"/>
                  <a:pt x="740" y="1040"/>
                  <a:pt x="742" y="1041"/>
                </a:cubicBezTo>
                <a:cubicBezTo>
                  <a:pt x="755" y="1034"/>
                  <a:pt x="772" y="1031"/>
                  <a:pt x="783" y="1021"/>
                </a:cubicBezTo>
                <a:cubicBezTo>
                  <a:pt x="788" y="1020"/>
                  <a:pt x="793" y="1023"/>
                  <a:pt x="797" y="1020"/>
                </a:cubicBezTo>
                <a:cubicBezTo>
                  <a:pt x="796" y="1024"/>
                  <a:pt x="800" y="1023"/>
                  <a:pt x="800" y="1025"/>
                </a:cubicBezTo>
                <a:cubicBezTo>
                  <a:pt x="793" y="1032"/>
                  <a:pt x="780" y="1028"/>
                  <a:pt x="777" y="1040"/>
                </a:cubicBezTo>
                <a:cubicBezTo>
                  <a:pt x="753" y="1052"/>
                  <a:pt x="724" y="1060"/>
                  <a:pt x="702" y="1074"/>
                </a:cubicBezTo>
                <a:cubicBezTo>
                  <a:pt x="700" y="1074"/>
                  <a:pt x="700" y="1073"/>
                  <a:pt x="699" y="1073"/>
                </a:cubicBezTo>
                <a:cubicBezTo>
                  <a:pt x="680" y="1080"/>
                  <a:pt x="661" y="1085"/>
                  <a:pt x="645" y="1094"/>
                </a:cubicBezTo>
                <a:cubicBezTo>
                  <a:pt x="656" y="1092"/>
                  <a:pt x="665" y="1087"/>
                  <a:pt x="673" y="1087"/>
                </a:cubicBezTo>
                <a:cubicBezTo>
                  <a:pt x="671" y="1094"/>
                  <a:pt x="663" y="1097"/>
                  <a:pt x="657" y="1095"/>
                </a:cubicBezTo>
                <a:cubicBezTo>
                  <a:pt x="657" y="1096"/>
                  <a:pt x="659" y="1096"/>
                  <a:pt x="659" y="1097"/>
                </a:cubicBezTo>
                <a:cubicBezTo>
                  <a:pt x="653" y="1100"/>
                  <a:pt x="646" y="1101"/>
                  <a:pt x="641" y="1104"/>
                </a:cubicBezTo>
                <a:cubicBezTo>
                  <a:pt x="659" y="1107"/>
                  <a:pt x="666" y="1090"/>
                  <a:pt x="680" y="1097"/>
                </a:cubicBezTo>
                <a:cubicBezTo>
                  <a:pt x="680" y="1098"/>
                  <a:pt x="678" y="1101"/>
                  <a:pt x="680" y="1101"/>
                </a:cubicBezTo>
                <a:cubicBezTo>
                  <a:pt x="681" y="1099"/>
                  <a:pt x="684" y="1101"/>
                  <a:pt x="686" y="1101"/>
                </a:cubicBezTo>
                <a:cubicBezTo>
                  <a:pt x="687" y="1099"/>
                  <a:pt x="688" y="1097"/>
                  <a:pt x="688" y="1094"/>
                </a:cubicBezTo>
                <a:cubicBezTo>
                  <a:pt x="694" y="1094"/>
                  <a:pt x="695" y="1086"/>
                  <a:pt x="701" y="1088"/>
                </a:cubicBezTo>
                <a:cubicBezTo>
                  <a:pt x="701" y="1087"/>
                  <a:pt x="701" y="1086"/>
                  <a:pt x="702" y="1086"/>
                </a:cubicBezTo>
                <a:cubicBezTo>
                  <a:pt x="702" y="1086"/>
                  <a:pt x="701" y="1086"/>
                  <a:pt x="701" y="1086"/>
                </a:cubicBezTo>
                <a:cubicBezTo>
                  <a:pt x="699" y="1086"/>
                  <a:pt x="698" y="1085"/>
                  <a:pt x="698" y="1083"/>
                </a:cubicBezTo>
                <a:cubicBezTo>
                  <a:pt x="701" y="1079"/>
                  <a:pt x="706" y="1077"/>
                  <a:pt x="709" y="1072"/>
                </a:cubicBezTo>
                <a:cubicBezTo>
                  <a:pt x="736" y="1068"/>
                  <a:pt x="755" y="1051"/>
                  <a:pt x="781" y="1048"/>
                </a:cubicBezTo>
                <a:cubicBezTo>
                  <a:pt x="779" y="1054"/>
                  <a:pt x="778" y="1059"/>
                  <a:pt x="779" y="1063"/>
                </a:cubicBezTo>
                <a:cubicBezTo>
                  <a:pt x="783" y="1064"/>
                  <a:pt x="785" y="1063"/>
                  <a:pt x="788" y="1062"/>
                </a:cubicBezTo>
                <a:cubicBezTo>
                  <a:pt x="792" y="1053"/>
                  <a:pt x="802" y="1054"/>
                  <a:pt x="808" y="1050"/>
                </a:cubicBezTo>
                <a:cubicBezTo>
                  <a:pt x="806" y="1040"/>
                  <a:pt x="812" y="1048"/>
                  <a:pt x="819" y="1045"/>
                </a:cubicBezTo>
                <a:cubicBezTo>
                  <a:pt x="817" y="1036"/>
                  <a:pt x="806" y="1046"/>
                  <a:pt x="802" y="1043"/>
                </a:cubicBezTo>
                <a:cubicBezTo>
                  <a:pt x="803" y="1040"/>
                  <a:pt x="805" y="1037"/>
                  <a:pt x="802" y="1036"/>
                </a:cubicBezTo>
                <a:cubicBezTo>
                  <a:pt x="807" y="1034"/>
                  <a:pt x="811" y="1031"/>
                  <a:pt x="814" y="1027"/>
                </a:cubicBezTo>
                <a:cubicBezTo>
                  <a:pt x="813" y="1026"/>
                  <a:pt x="812" y="1026"/>
                  <a:pt x="812" y="1024"/>
                </a:cubicBezTo>
                <a:cubicBezTo>
                  <a:pt x="808" y="1025"/>
                  <a:pt x="804" y="1026"/>
                  <a:pt x="802" y="1029"/>
                </a:cubicBezTo>
                <a:cubicBezTo>
                  <a:pt x="802" y="1022"/>
                  <a:pt x="798" y="1020"/>
                  <a:pt x="797" y="1015"/>
                </a:cubicBezTo>
                <a:cubicBezTo>
                  <a:pt x="807" y="1013"/>
                  <a:pt x="818" y="1011"/>
                  <a:pt x="821" y="1002"/>
                </a:cubicBezTo>
                <a:cubicBezTo>
                  <a:pt x="815" y="1004"/>
                  <a:pt x="810" y="1007"/>
                  <a:pt x="804" y="1010"/>
                </a:cubicBezTo>
                <a:cubicBezTo>
                  <a:pt x="803" y="1010"/>
                  <a:pt x="802" y="1009"/>
                  <a:pt x="800" y="1008"/>
                </a:cubicBezTo>
                <a:cubicBezTo>
                  <a:pt x="782" y="1016"/>
                  <a:pt x="765" y="1024"/>
                  <a:pt x="748" y="1032"/>
                </a:cubicBezTo>
                <a:cubicBezTo>
                  <a:pt x="746" y="1032"/>
                  <a:pt x="745" y="1031"/>
                  <a:pt x="742" y="1030"/>
                </a:cubicBezTo>
                <a:cubicBezTo>
                  <a:pt x="743" y="1034"/>
                  <a:pt x="740" y="1035"/>
                  <a:pt x="736" y="1035"/>
                </a:cubicBezTo>
                <a:cubicBezTo>
                  <a:pt x="736" y="1031"/>
                  <a:pt x="736" y="1031"/>
                  <a:pt x="736" y="1031"/>
                </a:cubicBezTo>
                <a:cubicBezTo>
                  <a:pt x="744" y="1030"/>
                  <a:pt x="749" y="1025"/>
                  <a:pt x="756" y="1022"/>
                </a:cubicBezTo>
                <a:cubicBezTo>
                  <a:pt x="754" y="1022"/>
                  <a:pt x="757" y="1021"/>
                  <a:pt x="756" y="1018"/>
                </a:cubicBezTo>
                <a:cubicBezTo>
                  <a:pt x="752" y="1020"/>
                  <a:pt x="745" y="1022"/>
                  <a:pt x="745" y="1025"/>
                </a:cubicBezTo>
                <a:cubicBezTo>
                  <a:pt x="743" y="1019"/>
                  <a:pt x="738" y="1027"/>
                  <a:pt x="735" y="1022"/>
                </a:cubicBezTo>
                <a:cubicBezTo>
                  <a:pt x="744" y="1019"/>
                  <a:pt x="752" y="1013"/>
                  <a:pt x="762" y="1010"/>
                </a:cubicBezTo>
                <a:cubicBezTo>
                  <a:pt x="763" y="1016"/>
                  <a:pt x="773" y="1011"/>
                  <a:pt x="775" y="1015"/>
                </a:cubicBezTo>
                <a:cubicBezTo>
                  <a:pt x="780" y="1012"/>
                  <a:pt x="780" y="1006"/>
                  <a:pt x="786" y="1005"/>
                </a:cubicBezTo>
                <a:cubicBezTo>
                  <a:pt x="787" y="1007"/>
                  <a:pt x="782" y="1009"/>
                  <a:pt x="785" y="1010"/>
                </a:cubicBezTo>
                <a:cubicBezTo>
                  <a:pt x="789" y="1005"/>
                  <a:pt x="793" y="1000"/>
                  <a:pt x="801" y="999"/>
                </a:cubicBezTo>
                <a:cubicBezTo>
                  <a:pt x="800" y="1005"/>
                  <a:pt x="809" y="1000"/>
                  <a:pt x="804" y="1005"/>
                </a:cubicBezTo>
                <a:cubicBezTo>
                  <a:pt x="812" y="1004"/>
                  <a:pt x="819" y="1002"/>
                  <a:pt x="820" y="998"/>
                </a:cubicBezTo>
                <a:cubicBezTo>
                  <a:pt x="817" y="999"/>
                  <a:pt x="814" y="1000"/>
                  <a:pt x="811" y="1002"/>
                </a:cubicBezTo>
                <a:cubicBezTo>
                  <a:pt x="811" y="999"/>
                  <a:pt x="811" y="995"/>
                  <a:pt x="812" y="993"/>
                </a:cubicBezTo>
                <a:cubicBezTo>
                  <a:pt x="821" y="995"/>
                  <a:pt x="837" y="988"/>
                  <a:pt x="841" y="979"/>
                </a:cubicBezTo>
                <a:cubicBezTo>
                  <a:pt x="843" y="979"/>
                  <a:pt x="844" y="978"/>
                  <a:pt x="846" y="978"/>
                </a:cubicBezTo>
                <a:cubicBezTo>
                  <a:pt x="844" y="973"/>
                  <a:pt x="852" y="974"/>
                  <a:pt x="859" y="974"/>
                </a:cubicBezTo>
                <a:cubicBezTo>
                  <a:pt x="859" y="969"/>
                  <a:pt x="865" y="967"/>
                  <a:pt x="868" y="968"/>
                </a:cubicBezTo>
                <a:cubicBezTo>
                  <a:pt x="868" y="972"/>
                  <a:pt x="865" y="967"/>
                  <a:pt x="865" y="971"/>
                </a:cubicBezTo>
                <a:cubicBezTo>
                  <a:pt x="872" y="971"/>
                  <a:pt x="886" y="969"/>
                  <a:pt x="886" y="961"/>
                </a:cubicBezTo>
                <a:cubicBezTo>
                  <a:pt x="889" y="960"/>
                  <a:pt x="889" y="963"/>
                  <a:pt x="889" y="965"/>
                </a:cubicBezTo>
                <a:cubicBezTo>
                  <a:pt x="895" y="963"/>
                  <a:pt x="897" y="957"/>
                  <a:pt x="905" y="956"/>
                </a:cubicBezTo>
                <a:cubicBezTo>
                  <a:pt x="906" y="954"/>
                  <a:pt x="902" y="953"/>
                  <a:pt x="905" y="952"/>
                </a:cubicBezTo>
                <a:cubicBezTo>
                  <a:pt x="907" y="950"/>
                  <a:pt x="909" y="954"/>
                  <a:pt x="911" y="954"/>
                </a:cubicBezTo>
                <a:cubicBezTo>
                  <a:pt x="910" y="955"/>
                  <a:pt x="906" y="956"/>
                  <a:pt x="909" y="957"/>
                </a:cubicBezTo>
                <a:cubicBezTo>
                  <a:pt x="909" y="956"/>
                  <a:pt x="911" y="956"/>
                  <a:pt x="912" y="956"/>
                </a:cubicBezTo>
                <a:cubicBezTo>
                  <a:pt x="912" y="952"/>
                  <a:pt x="912" y="948"/>
                  <a:pt x="915" y="947"/>
                </a:cubicBezTo>
                <a:cubicBezTo>
                  <a:pt x="918" y="946"/>
                  <a:pt x="918" y="948"/>
                  <a:pt x="919" y="950"/>
                </a:cubicBezTo>
                <a:cubicBezTo>
                  <a:pt x="919" y="952"/>
                  <a:pt x="917" y="951"/>
                  <a:pt x="917" y="953"/>
                </a:cubicBezTo>
                <a:cubicBezTo>
                  <a:pt x="923" y="956"/>
                  <a:pt x="925" y="949"/>
                  <a:pt x="928" y="946"/>
                </a:cubicBezTo>
                <a:cubicBezTo>
                  <a:pt x="935" y="945"/>
                  <a:pt x="939" y="939"/>
                  <a:pt x="944" y="935"/>
                </a:cubicBezTo>
                <a:cubicBezTo>
                  <a:pt x="949" y="936"/>
                  <a:pt x="952" y="933"/>
                  <a:pt x="957" y="937"/>
                </a:cubicBezTo>
                <a:cubicBezTo>
                  <a:pt x="958" y="934"/>
                  <a:pt x="955" y="934"/>
                  <a:pt x="956" y="931"/>
                </a:cubicBezTo>
                <a:cubicBezTo>
                  <a:pt x="960" y="930"/>
                  <a:pt x="961" y="927"/>
                  <a:pt x="965" y="926"/>
                </a:cubicBezTo>
                <a:cubicBezTo>
                  <a:pt x="968" y="925"/>
                  <a:pt x="969" y="931"/>
                  <a:pt x="972" y="927"/>
                </a:cubicBezTo>
                <a:cubicBezTo>
                  <a:pt x="967" y="917"/>
                  <a:pt x="982" y="912"/>
                  <a:pt x="983" y="902"/>
                </a:cubicBezTo>
                <a:cubicBezTo>
                  <a:pt x="987" y="901"/>
                  <a:pt x="988" y="905"/>
                  <a:pt x="990" y="906"/>
                </a:cubicBezTo>
                <a:cubicBezTo>
                  <a:pt x="990" y="907"/>
                  <a:pt x="988" y="908"/>
                  <a:pt x="988" y="909"/>
                </a:cubicBezTo>
                <a:cubicBezTo>
                  <a:pt x="992" y="911"/>
                  <a:pt x="996" y="911"/>
                  <a:pt x="1000" y="909"/>
                </a:cubicBezTo>
                <a:cubicBezTo>
                  <a:pt x="1000" y="911"/>
                  <a:pt x="997" y="910"/>
                  <a:pt x="996" y="912"/>
                </a:cubicBezTo>
                <a:cubicBezTo>
                  <a:pt x="998" y="912"/>
                  <a:pt x="1000" y="912"/>
                  <a:pt x="1001" y="913"/>
                </a:cubicBezTo>
                <a:cubicBezTo>
                  <a:pt x="1001" y="917"/>
                  <a:pt x="997" y="918"/>
                  <a:pt x="999" y="920"/>
                </a:cubicBezTo>
                <a:cubicBezTo>
                  <a:pt x="1005" y="919"/>
                  <a:pt x="1009" y="915"/>
                  <a:pt x="1008" y="910"/>
                </a:cubicBezTo>
                <a:cubicBezTo>
                  <a:pt x="1004" y="911"/>
                  <a:pt x="1001" y="910"/>
                  <a:pt x="1000" y="906"/>
                </a:cubicBezTo>
                <a:cubicBezTo>
                  <a:pt x="1004" y="905"/>
                  <a:pt x="1004" y="900"/>
                  <a:pt x="1010" y="900"/>
                </a:cubicBezTo>
                <a:cubicBezTo>
                  <a:pt x="1009" y="897"/>
                  <a:pt x="1012" y="897"/>
                  <a:pt x="1012" y="894"/>
                </a:cubicBezTo>
                <a:cubicBezTo>
                  <a:pt x="1009" y="892"/>
                  <a:pt x="1010" y="888"/>
                  <a:pt x="1010" y="884"/>
                </a:cubicBezTo>
                <a:cubicBezTo>
                  <a:pt x="1019" y="883"/>
                  <a:pt x="1022" y="866"/>
                  <a:pt x="1034" y="868"/>
                </a:cubicBezTo>
                <a:cubicBezTo>
                  <a:pt x="1035" y="874"/>
                  <a:pt x="1029" y="874"/>
                  <a:pt x="1027" y="877"/>
                </a:cubicBezTo>
                <a:cubicBezTo>
                  <a:pt x="1027" y="881"/>
                  <a:pt x="1031" y="881"/>
                  <a:pt x="1030" y="885"/>
                </a:cubicBezTo>
                <a:cubicBezTo>
                  <a:pt x="1029" y="885"/>
                  <a:pt x="1026" y="884"/>
                  <a:pt x="1027" y="887"/>
                </a:cubicBezTo>
                <a:cubicBezTo>
                  <a:pt x="1031" y="887"/>
                  <a:pt x="1028" y="890"/>
                  <a:pt x="1031" y="893"/>
                </a:cubicBezTo>
                <a:cubicBezTo>
                  <a:pt x="1028" y="892"/>
                  <a:pt x="1027" y="894"/>
                  <a:pt x="1027" y="896"/>
                </a:cubicBezTo>
                <a:cubicBezTo>
                  <a:pt x="1032" y="895"/>
                  <a:pt x="1034" y="900"/>
                  <a:pt x="1034" y="901"/>
                </a:cubicBezTo>
                <a:cubicBezTo>
                  <a:pt x="1034" y="899"/>
                  <a:pt x="1037" y="899"/>
                  <a:pt x="1039" y="899"/>
                </a:cubicBezTo>
                <a:cubicBezTo>
                  <a:pt x="1040" y="902"/>
                  <a:pt x="1037" y="904"/>
                  <a:pt x="1039" y="906"/>
                </a:cubicBezTo>
                <a:cubicBezTo>
                  <a:pt x="1040" y="904"/>
                  <a:pt x="1040" y="902"/>
                  <a:pt x="1041" y="901"/>
                </a:cubicBezTo>
                <a:cubicBezTo>
                  <a:pt x="1041" y="903"/>
                  <a:pt x="1044" y="902"/>
                  <a:pt x="1044" y="903"/>
                </a:cubicBezTo>
                <a:cubicBezTo>
                  <a:pt x="1042" y="908"/>
                  <a:pt x="1042" y="904"/>
                  <a:pt x="1041" y="909"/>
                </a:cubicBezTo>
                <a:cubicBezTo>
                  <a:pt x="1044" y="909"/>
                  <a:pt x="1047" y="912"/>
                  <a:pt x="1050" y="910"/>
                </a:cubicBezTo>
                <a:cubicBezTo>
                  <a:pt x="1049" y="909"/>
                  <a:pt x="1049" y="908"/>
                  <a:pt x="1048" y="906"/>
                </a:cubicBezTo>
                <a:cubicBezTo>
                  <a:pt x="1051" y="903"/>
                  <a:pt x="1052" y="903"/>
                  <a:pt x="1056" y="905"/>
                </a:cubicBezTo>
                <a:cubicBezTo>
                  <a:pt x="1056" y="903"/>
                  <a:pt x="1054" y="902"/>
                  <a:pt x="1055" y="900"/>
                </a:cubicBezTo>
                <a:cubicBezTo>
                  <a:pt x="1050" y="897"/>
                  <a:pt x="1049" y="903"/>
                  <a:pt x="1046" y="904"/>
                </a:cubicBezTo>
                <a:cubicBezTo>
                  <a:pt x="1045" y="900"/>
                  <a:pt x="1044" y="897"/>
                  <a:pt x="1044" y="894"/>
                </a:cubicBezTo>
                <a:cubicBezTo>
                  <a:pt x="1044" y="896"/>
                  <a:pt x="1040" y="895"/>
                  <a:pt x="1040" y="893"/>
                </a:cubicBezTo>
                <a:cubicBezTo>
                  <a:pt x="1046" y="891"/>
                  <a:pt x="1047" y="887"/>
                  <a:pt x="1047" y="881"/>
                </a:cubicBezTo>
                <a:cubicBezTo>
                  <a:pt x="1041" y="883"/>
                  <a:pt x="1042" y="892"/>
                  <a:pt x="1035" y="893"/>
                </a:cubicBezTo>
                <a:cubicBezTo>
                  <a:pt x="1033" y="887"/>
                  <a:pt x="1030" y="884"/>
                  <a:pt x="1034" y="880"/>
                </a:cubicBezTo>
                <a:cubicBezTo>
                  <a:pt x="1035" y="880"/>
                  <a:pt x="1036" y="880"/>
                  <a:pt x="1037" y="879"/>
                </a:cubicBezTo>
                <a:cubicBezTo>
                  <a:pt x="1037" y="881"/>
                  <a:pt x="1037" y="883"/>
                  <a:pt x="1038" y="884"/>
                </a:cubicBezTo>
                <a:cubicBezTo>
                  <a:pt x="1039" y="881"/>
                  <a:pt x="1039" y="879"/>
                  <a:pt x="1038" y="876"/>
                </a:cubicBezTo>
                <a:cubicBezTo>
                  <a:pt x="1041" y="879"/>
                  <a:pt x="1042" y="872"/>
                  <a:pt x="1047" y="873"/>
                </a:cubicBezTo>
                <a:cubicBezTo>
                  <a:pt x="1047" y="871"/>
                  <a:pt x="1046" y="871"/>
                  <a:pt x="1046" y="869"/>
                </a:cubicBezTo>
                <a:cubicBezTo>
                  <a:pt x="1055" y="861"/>
                  <a:pt x="1064" y="856"/>
                  <a:pt x="1076" y="855"/>
                </a:cubicBezTo>
                <a:cubicBezTo>
                  <a:pt x="1072" y="852"/>
                  <a:pt x="1078" y="849"/>
                  <a:pt x="1077" y="848"/>
                </a:cubicBezTo>
                <a:cubicBezTo>
                  <a:pt x="1076" y="851"/>
                  <a:pt x="1071" y="846"/>
                  <a:pt x="1071" y="848"/>
                </a:cubicBezTo>
                <a:cubicBezTo>
                  <a:pt x="1074" y="851"/>
                  <a:pt x="1067" y="856"/>
                  <a:pt x="1065" y="855"/>
                </a:cubicBezTo>
                <a:cubicBezTo>
                  <a:pt x="1066" y="849"/>
                  <a:pt x="1073" y="845"/>
                  <a:pt x="1072" y="841"/>
                </a:cubicBezTo>
                <a:cubicBezTo>
                  <a:pt x="1071" y="840"/>
                  <a:pt x="1067" y="842"/>
                  <a:pt x="1066" y="838"/>
                </a:cubicBezTo>
                <a:cubicBezTo>
                  <a:pt x="1065" y="840"/>
                  <a:pt x="1065" y="842"/>
                  <a:pt x="1062" y="842"/>
                </a:cubicBezTo>
                <a:cubicBezTo>
                  <a:pt x="1062" y="839"/>
                  <a:pt x="1060" y="838"/>
                  <a:pt x="1059" y="835"/>
                </a:cubicBezTo>
                <a:cubicBezTo>
                  <a:pt x="1064" y="833"/>
                  <a:pt x="1074" y="826"/>
                  <a:pt x="1077" y="832"/>
                </a:cubicBezTo>
                <a:cubicBezTo>
                  <a:pt x="1077" y="834"/>
                  <a:pt x="1073" y="837"/>
                  <a:pt x="1076" y="839"/>
                </a:cubicBezTo>
                <a:cubicBezTo>
                  <a:pt x="1076" y="838"/>
                  <a:pt x="1077" y="837"/>
                  <a:pt x="1078" y="836"/>
                </a:cubicBezTo>
                <a:cubicBezTo>
                  <a:pt x="1081" y="838"/>
                  <a:pt x="1076" y="840"/>
                  <a:pt x="1078" y="841"/>
                </a:cubicBezTo>
                <a:cubicBezTo>
                  <a:pt x="1081" y="839"/>
                  <a:pt x="1081" y="833"/>
                  <a:pt x="1085" y="832"/>
                </a:cubicBezTo>
                <a:cubicBezTo>
                  <a:pt x="1083" y="827"/>
                  <a:pt x="1086" y="824"/>
                  <a:pt x="1091" y="824"/>
                </a:cubicBezTo>
                <a:cubicBezTo>
                  <a:pt x="1091" y="825"/>
                  <a:pt x="1091" y="825"/>
                  <a:pt x="1092" y="826"/>
                </a:cubicBezTo>
                <a:cubicBezTo>
                  <a:pt x="1092" y="829"/>
                  <a:pt x="1089" y="828"/>
                  <a:pt x="1090" y="831"/>
                </a:cubicBezTo>
                <a:cubicBezTo>
                  <a:pt x="1092" y="832"/>
                  <a:pt x="1092" y="830"/>
                  <a:pt x="1093" y="833"/>
                </a:cubicBezTo>
                <a:cubicBezTo>
                  <a:pt x="1097" y="831"/>
                  <a:pt x="1092" y="828"/>
                  <a:pt x="1096" y="827"/>
                </a:cubicBezTo>
                <a:cubicBezTo>
                  <a:pt x="1097" y="830"/>
                  <a:pt x="1101" y="832"/>
                  <a:pt x="1103" y="835"/>
                </a:cubicBezTo>
                <a:cubicBezTo>
                  <a:pt x="1106" y="830"/>
                  <a:pt x="1118" y="829"/>
                  <a:pt x="1116" y="823"/>
                </a:cubicBezTo>
                <a:cubicBezTo>
                  <a:pt x="1113" y="826"/>
                  <a:pt x="1111" y="819"/>
                  <a:pt x="1108" y="818"/>
                </a:cubicBezTo>
                <a:cubicBezTo>
                  <a:pt x="1111" y="815"/>
                  <a:pt x="1112" y="820"/>
                  <a:pt x="1114" y="821"/>
                </a:cubicBezTo>
                <a:cubicBezTo>
                  <a:pt x="1116" y="816"/>
                  <a:pt x="1119" y="811"/>
                  <a:pt x="1126" y="809"/>
                </a:cubicBezTo>
                <a:cubicBezTo>
                  <a:pt x="1128" y="815"/>
                  <a:pt x="1129" y="817"/>
                  <a:pt x="1133" y="816"/>
                </a:cubicBezTo>
                <a:cubicBezTo>
                  <a:pt x="1132" y="818"/>
                  <a:pt x="1128" y="820"/>
                  <a:pt x="1130" y="822"/>
                </a:cubicBezTo>
                <a:cubicBezTo>
                  <a:pt x="1134" y="820"/>
                  <a:pt x="1137" y="818"/>
                  <a:pt x="1142" y="820"/>
                </a:cubicBezTo>
                <a:cubicBezTo>
                  <a:pt x="1142" y="821"/>
                  <a:pt x="1140" y="822"/>
                  <a:pt x="1140" y="824"/>
                </a:cubicBezTo>
                <a:cubicBezTo>
                  <a:pt x="1144" y="824"/>
                  <a:pt x="1145" y="821"/>
                  <a:pt x="1148" y="821"/>
                </a:cubicBezTo>
                <a:cubicBezTo>
                  <a:pt x="1149" y="825"/>
                  <a:pt x="1145" y="824"/>
                  <a:pt x="1146" y="828"/>
                </a:cubicBezTo>
                <a:cubicBezTo>
                  <a:pt x="1147" y="831"/>
                  <a:pt x="1150" y="831"/>
                  <a:pt x="1150" y="835"/>
                </a:cubicBezTo>
                <a:cubicBezTo>
                  <a:pt x="1146" y="835"/>
                  <a:pt x="1148" y="837"/>
                  <a:pt x="1147" y="840"/>
                </a:cubicBezTo>
                <a:cubicBezTo>
                  <a:pt x="1145" y="836"/>
                  <a:pt x="1143" y="843"/>
                  <a:pt x="1140" y="840"/>
                </a:cubicBezTo>
                <a:cubicBezTo>
                  <a:pt x="1140" y="844"/>
                  <a:pt x="1139" y="847"/>
                  <a:pt x="1136" y="848"/>
                </a:cubicBezTo>
                <a:cubicBezTo>
                  <a:pt x="1137" y="843"/>
                  <a:pt x="1132" y="849"/>
                  <a:pt x="1135" y="847"/>
                </a:cubicBezTo>
                <a:cubicBezTo>
                  <a:pt x="1138" y="851"/>
                  <a:pt x="1128" y="850"/>
                  <a:pt x="1127" y="850"/>
                </a:cubicBezTo>
                <a:cubicBezTo>
                  <a:pt x="1128" y="853"/>
                  <a:pt x="1133" y="853"/>
                  <a:pt x="1134" y="853"/>
                </a:cubicBezTo>
                <a:cubicBezTo>
                  <a:pt x="1136" y="859"/>
                  <a:pt x="1129" y="859"/>
                  <a:pt x="1130" y="860"/>
                </a:cubicBezTo>
                <a:cubicBezTo>
                  <a:pt x="1133" y="860"/>
                  <a:pt x="1134" y="859"/>
                  <a:pt x="1135" y="858"/>
                </a:cubicBezTo>
                <a:cubicBezTo>
                  <a:pt x="1135" y="859"/>
                  <a:pt x="1137" y="863"/>
                  <a:pt x="1137" y="860"/>
                </a:cubicBezTo>
                <a:cubicBezTo>
                  <a:pt x="1140" y="856"/>
                  <a:pt x="1147" y="849"/>
                  <a:pt x="1154" y="846"/>
                </a:cubicBezTo>
                <a:cubicBezTo>
                  <a:pt x="1154" y="851"/>
                  <a:pt x="1154" y="851"/>
                  <a:pt x="1154" y="851"/>
                </a:cubicBezTo>
                <a:cubicBezTo>
                  <a:pt x="1150" y="851"/>
                  <a:pt x="1151" y="855"/>
                  <a:pt x="1148" y="856"/>
                </a:cubicBezTo>
                <a:cubicBezTo>
                  <a:pt x="1149" y="859"/>
                  <a:pt x="1152" y="859"/>
                  <a:pt x="1151" y="864"/>
                </a:cubicBezTo>
                <a:cubicBezTo>
                  <a:pt x="1149" y="864"/>
                  <a:pt x="1149" y="866"/>
                  <a:pt x="1147" y="865"/>
                </a:cubicBezTo>
                <a:cubicBezTo>
                  <a:pt x="1147" y="863"/>
                  <a:pt x="1146" y="862"/>
                  <a:pt x="1145" y="861"/>
                </a:cubicBezTo>
                <a:cubicBezTo>
                  <a:pt x="1143" y="866"/>
                  <a:pt x="1145" y="867"/>
                  <a:pt x="1145" y="872"/>
                </a:cubicBezTo>
                <a:cubicBezTo>
                  <a:pt x="1139" y="876"/>
                  <a:pt x="1131" y="878"/>
                  <a:pt x="1127" y="885"/>
                </a:cubicBezTo>
                <a:cubicBezTo>
                  <a:pt x="1129" y="885"/>
                  <a:pt x="1133" y="884"/>
                  <a:pt x="1134" y="888"/>
                </a:cubicBezTo>
                <a:cubicBezTo>
                  <a:pt x="1132" y="891"/>
                  <a:pt x="1128" y="892"/>
                  <a:pt x="1130" y="896"/>
                </a:cubicBezTo>
                <a:cubicBezTo>
                  <a:pt x="1135" y="892"/>
                  <a:pt x="1143" y="891"/>
                  <a:pt x="1139" y="881"/>
                </a:cubicBezTo>
                <a:cubicBezTo>
                  <a:pt x="1142" y="876"/>
                  <a:pt x="1151" y="870"/>
                  <a:pt x="1155" y="875"/>
                </a:cubicBezTo>
                <a:cubicBezTo>
                  <a:pt x="1153" y="877"/>
                  <a:pt x="1149" y="877"/>
                  <a:pt x="1149" y="881"/>
                </a:cubicBezTo>
                <a:cubicBezTo>
                  <a:pt x="1153" y="881"/>
                  <a:pt x="1155" y="878"/>
                  <a:pt x="1158" y="880"/>
                </a:cubicBezTo>
                <a:cubicBezTo>
                  <a:pt x="1161" y="874"/>
                  <a:pt x="1169" y="873"/>
                  <a:pt x="1172" y="868"/>
                </a:cubicBezTo>
                <a:cubicBezTo>
                  <a:pt x="1175" y="869"/>
                  <a:pt x="1176" y="867"/>
                  <a:pt x="1178" y="867"/>
                </a:cubicBezTo>
                <a:cubicBezTo>
                  <a:pt x="1177" y="862"/>
                  <a:pt x="1182" y="863"/>
                  <a:pt x="1185" y="862"/>
                </a:cubicBezTo>
                <a:cubicBezTo>
                  <a:pt x="1185" y="864"/>
                  <a:pt x="1185" y="865"/>
                  <a:pt x="1186" y="866"/>
                </a:cubicBezTo>
                <a:cubicBezTo>
                  <a:pt x="1192" y="864"/>
                  <a:pt x="1192" y="856"/>
                  <a:pt x="1199" y="854"/>
                </a:cubicBezTo>
                <a:cubicBezTo>
                  <a:pt x="1201" y="855"/>
                  <a:pt x="1198" y="857"/>
                  <a:pt x="1200" y="858"/>
                </a:cubicBezTo>
                <a:cubicBezTo>
                  <a:pt x="1200" y="856"/>
                  <a:pt x="1201" y="856"/>
                  <a:pt x="1203" y="856"/>
                </a:cubicBezTo>
                <a:cubicBezTo>
                  <a:pt x="1204" y="859"/>
                  <a:pt x="1203" y="860"/>
                  <a:pt x="1202" y="862"/>
                </a:cubicBezTo>
                <a:cubicBezTo>
                  <a:pt x="1203" y="864"/>
                  <a:pt x="1208" y="862"/>
                  <a:pt x="1209" y="864"/>
                </a:cubicBezTo>
                <a:cubicBezTo>
                  <a:pt x="1204" y="874"/>
                  <a:pt x="1195" y="881"/>
                  <a:pt x="1190" y="890"/>
                </a:cubicBezTo>
                <a:cubicBezTo>
                  <a:pt x="1198" y="890"/>
                  <a:pt x="1205" y="877"/>
                  <a:pt x="1211" y="884"/>
                </a:cubicBezTo>
                <a:cubicBezTo>
                  <a:pt x="1211" y="880"/>
                  <a:pt x="1214" y="882"/>
                  <a:pt x="1215" y="881"/>
                </a:cubicBezTo>
                <a:cubicBezTo>
                  <a:pt x="1221" y="876"/>
                  <a:pt x="1223" y="865"/>
                  <a:pt x="1234" y="865"/>
                </a:cubicBezTo>
                <a:cubicBezTo>
                  <a:pt x="1234" y="868"/>
                  <a:pt x="1234" y="868"/>
                  <a:pt x="1234" y="868"/>
                </a:cubicBezTo>
                <a:cubicBezTo>
                  <a:pt x="1238" y="867"/>
                  <a:pt x="1242" y="860"/>
                  <a:pt x="1240" y="857"/>
                </a:cubicBezTo>
                <a:cubicBezTo>
                  <a:pt x="1230" y="856"/>
                  <a:pt x="1225" y="861"/>
                  <a:pt x="1218" y="865"/>
                </a:cubicBezTo>
                <a:cubicBezTo>
                  <a:pt x="1216" y="865"/>
                  <a:pt x="1217" y="862"/>
                  <a:pt x="1215" y="862"/>
                </a:cubicBezTo>
                <a:cubicBezTo>
                  <a:pt x="1214" y="865"/>
                  <a:pt x="1212" y="864"/>
                  <a:pt x="1210" y="863"/>
                </a:cubicBezTo>
                <a:cubicBezTo>
                  <a:pt x="1212" y="856"/>
                  <a:pt x="1224" y="854"/>
                  <a:pt x="1225" y="848"/>
                </a:cubicBezTo>
                <a:cubicBezTo>
                  <a:pt x="1220" y="851"/>
                  <a:pt x="1211" y="853"/>
                  <a:pt x="1204" y="857"/>
                </a:cubicBezTo>
                <a:cubicBezTo>
                  <a:pt x="1204" y="851"/>
                  <a:pt x="1209" y="850"/>
                  <a:pt x="1210" y="846"/>
                </a:cubicBezTo>
                <a:cubicBezTo>
                  <a:pt x="1207" y="845"/>
                  <a:pt x="1206" y="847"/>
                  <a:pt x="1204" y="847"/>
                </a:cubicBezTo>
                <a:cubicBezTo>
                  <a:pt x="1208" y="841"/>
                  <a:pt x="1215" y="842"/>
                  <a:pt x="1220" y="836"/>
                </a:cubicBezTo>
                <a:cubicBezTo>
                  <a:pt x="1217" y="833"/>
                  <a:pt x="1223" y="831"/>
                  <a:pt x="1224" y="829"/>
                </a:cubicBezTo>
                <a:cubicBezTo>
                  <a:pt x="1225" y="826"/>
                  <a:pt x="1223" y="825"/>
                  <a:pt x="1223" y="823"/>
                </a:cubicBezTo>
                <a:cubicBezTo>
                  <a:pt x="1225" y="822"/>
                  <a:pt x="1228" y="820"/>
                  <a:pt x="1231" y="819"/>
                </a:cubicBezTo>
                <a:cubicBezTo>
                  <a:pt x="1231" y="816"/>
                  <a:pt x="1230" y="812"/>
                  <a:pt x="1233" y="812"/>
                </a:cubicBezTo>
                <a:cubicBezTo>
                  <a:pt x="1235" y="812"/>
                  <a:pt x="1235" y="814"/>
                  <a:pt x="1238" y="813"/>
                </a:cubicBezTo>
                <a:cubicBezTo>
                  <a:pt x="1238" y="809"/>
                  <a:pt x="1245" y="808"/>
                  <a:pt x="1244" y="806"/>
                </a:cubicBezTo>
                <a:cubicBezTo>
                  <a:pt x="1241" y="808"/>
                  <a:pt x="1236" y="805"/>
                  <a:pt x="1240" y="803"/>
                </a:cubicBezTo>
                <a:cubicBezTo>
                  <a:pt x="1232" y="805"/>
                  <a:pt x="1232" y="816"/>
                  <a:pt x="1221" y="815"/>
                </a:cubicBezTo>
                <a:cubicBezTo>
                  <a:pt x="1221" y="814"/>
                  <a:pt x="1222" y="814"/>
                  <a:pt x="1222" y="812"/>
                </a:cubicBezTo>
                <a:cubicBezTo>
                  <a:pt x="1217" y="815"/>
                  <a:pt x="1211" y="816"/>
                  <a:pt x="1206" y="816"/>
                </a:cubicBezTo>
                <a:cubicBezTo>
                  <a:pt x="1205" y="819"/>
                  <a:pt x="1207" y="819"/>
                  <a:pt x="1208" y="821"/>
                </a:cubicBezTo>
                <a:cubicBezTo>
                  <a:pt x="1204" y="820"/>
                  <a:pt x="1204" y="824"/>
                  <a:pt x="1201" y="824"/>
                </a:cubicBezTo>
                <a:cubicBezTo>
                  <a:pt x="1201" y="827"/>
                  <a:pt x="1201" y="830"/>
                  <a:pt x="1200" y="831"/>
                </a:cubicBezTo>
                <a:cubicBezTo>
                  <a:pt x="1201" y="831"/>
                  <a:pt x="1202" y="829"/>
                  <a:pt x="1202" y="831"/>
                </a:cubicBezTo>
                <a:cubicBezTo>
                  <a:pt x="1202" y="832"/>
                  <a:pt x="1201" y="833"/>
                  <a:pt x="1201" y="834"/>
                </a:cubicBezTo>
                <a:cubicBezTo>
                  <a:pt x="1202" y="836"/>
                  <a:pt x="1205" y="836"/>
                  <a:pt x="1204" y="839"/>
                </a:cubicBezTo>
                <a:cubicBezTo>
                  <a:pt x="1189" y="842"/>
                  <a:pt x="1183" y="854"/>
                  <a:pt x="1172" y="860"/>
                </a:cubicBezTo>
                <a:cubicBezTo>
                  <a:pt x="1169" y="858"/>
                  <a:pt x="1170" y="856"/>
                  <a:pt x="1167" y="855"/>
                </a:cubicBezTo>
                <a:cubicBezTo>
                  <a:pt x="1167" y="853"/>
                  <a:pt x="1168" y="851"/>
                  <a:pt x="1170" y="851"/>
                </a:cubicBezTo>
                <a:cubicBezTo>
                  <a:pt x="1173" y="850"/>
                  <a:pt x="1173" y="853"/>
                  <a:pt x="1175" y="853"/>
                </a:cubicBezTo>
                <a:cubicBezTo>
                  <a:pt x="1177" y="850"/>
                  <a:pt x="1185" y="848"/>
                  <a:pt x="1182" y="844"/>
                </a:cubicBezTo>
                <a:cubicBezTo>
                  <a:pt x="1182" y="846"/>
                  <a:pt x="1178" y="849"/>
                  <a:pt x="1177" y="848"/>
                </a:cubicBezTo>
                <a:cubicBezTo>
                  <a:pt x="1180" y="843"/>
                  <a:pt x="1185" y="835"/>
                  <a:pt x="1191" y="836"/>
                </a:cubicBezTo>
                <a:cubicBezTo>
                  <a:pt x="1187" y="838"/>
                  <a:pt x="1185" y="840"/>
                  <a:pt x="1184" y="845"/>
                </a:cubicBezTo>
                <a:cubicBezTo>
                  <a:pt x="1190" y="844"/>
                  <a:pt x="1192" y="841"/>
                  <a:pt x="1196" y="838"/>
                </a:cubicBezTo>
                <a:cubicBezTo>
                  <a:pt x="1193" y="837"/>
                  <a:pt x="1192" y="839"/>
                  <a:pt x="1191" y="837"/>
                </a:cubicBezTo>
                <a:cubicBezTo>
                  <a:pt x="1193" y="837"/>
                  <a:pt x="1191" y="833"/>
                  <a:pt x="1191" y="832"/>
                </a:cubicBezTo>
                <a:cubicBezTo>
                  <a:pt x="1183" y="831"/>
                  <a:pt x="1181" y="840"/>
                  <a:pt x="1175" y="835"/>
                </a:cubicBezTo>
                <a:cubicBezTo>
                  <a:pt x="1172" y="844"/>
                  <a:pt x="1163" y="841"/>
                  <a:pt x="1159" y="846"/>
                </a:cubicBezTo>
                <a:cubicBezTo>
                  <a:pt x="1158" y="844"/>
                  <a:pt x="1157" y="842"/>
                  <a:pt x="1155" y="841"/>
                </a:cubicBezTo>
                <a:cubicBezTo>
                  <a:pt x="1157" y="841"/>
                  <a:pt x="1157" y="840"/>
                  <a:pt x="1158" y="839"/>
                </a:cubicBezTo>
                <a:cubicBezTo>
                  <a:pt x="1159" y="839"/>
                  <a:pt x="1159" y="842"/>
                  <a:pt x="1161" y="841"/>
                </a:cubicBezTo>
                <a:cubicBezTo>
                  <a:pt x="1161" y="837"/>
                  <a:pt x="1164" y="837"/>
                  <a:pt x="1167" y="835"/>
                </a:cubicBezTo>
                <a:cubicBezTo>
                  <a:pt x="1166" y="832"/>
                  <a:pt x="1168" y="832"/>
                  <a:pt x="1167" y="829"/>
                </a:cubicBezTo>
                <a:cubicBezTo>
                  <a:pt x="1169" y="826"/>
                  <a:pt x="1173" y="826"/>
                  <a:pt x="1175" y="823"/>
                </a:cubicBezTo>
                <a:cubicBezTo>
                  <a:pt x="1171" y="823"/>
                  <a:pt x="1166" y="831"/>
                  <a:pt x="1158" y="830"/>
                </a:cubicBezTo>
                <a:cubicBezTo>
                  <a:pt x="1160" y="824"/>
                  <a:pt x="1158" y="828"/>
                  <a:pt x="1156" y="826"/>
                </a:cubicBezTo>
                <a:cubicBezTo>
                  <a:pt x="1157" y="824"/>
                  <a:pt x="1156" y="824"/>
                  <a:pt x="1157" y="821"/>
                </a:cubicBezTo>
                <a:cubicBezTo>
                  <a:pt x="1154" y="822"/>
                  <a:pt x="1152" y="822"/>
                  <a:pt x="1152" y="820"/>
                </a:cubicBezTo>
                <a:cubicBezTo>
                  <a:pt x="1154" y="819"/>
                  <a:pt x="1154" y="817"/>
                  <a:pt x="1154" y="815"/>
                </a:cubicBezTo>
                <a:cubicBezTo>
                  <a:pt x="1151" y="816"/>
                  <a:pt x="1148" y="818"/>
                  <a:pt x="1145" y="820"/>
                </a:cubicBezTo>
                <a:cubicBezTo>
                  <a:pt x="1142" y="817"/>
                  <a:pt x="1137" y="816"/>
                  <a:pt x="1141" y="812"/>
                </a:cubicBezTo>
                <a:cubicBezTo>
                  <a:pt x="1143" y="812"/>
                  <a:pt x="1142" y="815"/>
                  <a:pt x="1144" y="815"/>
                </a:cubicBezTo>
                <a:cubicBezTo>
                  <a:pt x="1144" y="812"/>
                  <a:pt x="1145" y="810"/>
                  <a:pt x="1147" y="809"/>
                </a:cubicBezTo>
                <a:cubicBezTo>
                  <a:pt x="1149" y="809"/>
                  <a:pt x="1148" y="812"/>
                  <a:pt x="1151" y="811"/>
                </a:cubicBezTo>
                <a:cubicBezTo>
                  <a:pt x="1152" y="805"/>
                  <a:pt x="1159" y="806"/>
                  <a:pt x="1164" y="805"/>
                </a:cubicBezTo>
                <a:cubicBezTo>
                  <a:pt x="1157" y="799"/>
                  <a:pt x="1167" y="796"/>
                  <a:pt x="1170" y="792"/>
                </a:cubicBezTo>
                <a:cubicBezTo>
                  <a:pt x="1168" y="792"/>
                  <a:pt x="1168" y="790"/>
                  <a:pt x="1168" y="788"/>
                </a:cubicBezTo>
                <a:cubicBezTo>
                  <a:pt x="1173" y="786"/>
                  <a:pt x="1171" y="785"/>
                  <a:pt x="1171" y="781"/>
                </a:cubicBezTo>
                <a:cubicBezTo>
                  <a:pt x="1174" y="781"/>
                  <a:pt x="1174" y="779"/>
                  <a:pt x="1176" y="779"/>
                </a:cubicBezTo>
                <a:cubicBezTo>
                  <a:pt x="1177" y="780"/>
                  <a:pt x="1177" y="783"/>
                  <a:pt x="1179" y="783"/>
                </a:cubicBezTo>
                <a:cubicBezTo>
                  <a:pt x="1178" y="785"/>
                  <a:pt x="1176" y="786"/>
                  <a:pt x="1176" y="788"/>
                </a:cubicBezTo>
                <a:cubicBezTo>
                  <a:pt x="1179" y="788"/>
                  <a:pt x="1179" y="790"/>
                  <a:pt x="1181" y="793"/>
                </a:cubicBezTo>
                <a:cubicBezTo>
                  <a:pt x="1193" y="792"/>
                  <a:pt x="1199" y="782"/>
                  <a:pt x="1208" y="776"/>
                </a:cubicBezTo>
                <a:cubicBezTo>
                  <a:pt x="1214" y="772"/>
                  <a:pt x="1225" y="772"/>
                  <a:pt x="1227" y="764"/>
                </a:cubicBezTo>
                <a:cubicBezTo>
                  <a:pt x="1224" y="767"/>
                  <a:pt x="1217" y="768"/>
                  <a:pt x="1213" y="769"/>
                </a:cubicBezTo>
                <a:cubicBezTo>
                  <a:pt x="1214" y="767"/>
                  <a:pt x="1217" y="767"/>
                  <a:pt x="1218" y="766"/>
                </a:cubicBezTo>
                <a:cubicBezTo>
                  <a:pt x="1217" y="763"/>
                  <a:pt x="1218" y="763"/>
                  <a:pt x="1217" y="761"/>
                </a:cubicBezTo>
                <a:cubicBezTo>
                  <a:pt x="1221" y="759"/>
                  <a:pt x="1224" y="757"/>
                  <a:pt x="1225" y="754"/>
                </a:cubicBezTo>
                <a:cubicBezTo>
                  <a:pt x="1218" y="753"/>
                  <a:pt x="1220" y="764"/>
                  <a:pt x="1212" y="760"/>
                </a:cubicBezTo>
                <a:cubicBezTo>
                  <a:pt x="1212" y="761"/>
                  <a:pt x="1211" y="763"/>
                  <a:pt x="1210" y="764"/>
                </a:cubicBezTo>
                <a:cubicBezTo>
                  <a:pt x="1214" y="771"/>
                  <a:pt x="1209" y="776"/>
                  <a:pt x="1200" y="772"/>
                </a:cubicBezTo>
                <a:cubicBezTo>
                  <a:pt x="1203" y="769"/>
                  <a:pt x="1199" y="769"/>
                  <a:pt x="1197" y="767"/>
                </a:cubicBezTo>
                <a:cubicBezTo>
                  <a:pt x="1201" y="765"/>
                  <a:pt x="1202" y="758"/>
                  <a:pt x="1208" y="761"/>
                </a:cubicBezTo>
                <a:cubicBezTo>
                  <a:pt x="1211" y="760"/>
                  <a:pt x="1209" y="754"/>
                  <a:pt x="1211" y="753"/>
                </a:cubicBezTo>
                <a:cubicBezTo>
                  <a:pt x="1215" y="752"/>
                  <a:pt x="1215" y="756"/>
                  <a:pt x="1219" y="756"/>
                </a:cubicBezTo>
                <a:cubicBezTo>
                  <a:pt x="1220" y="752"/>
                  <a:pt x="1220" y="751"/>
                  <a:pt x="1221" y="747"/>
                </a:cubicBezTo>
                <a:cubicBezTo>
                  <a:pt x="1211" y="750"/>
                  <a:pt x="1202" y="755"/>
                  <a:pt x="1193" y="759"/>
                </a:cubicBezTo>
                <a:cubicBezTo>
                  <a:pt x="1196" y="756"/>
                  <a:pt x="1198" y="752"/>
                  <a:pt x="1204" y="752"/>
                </a:cubicBezTo>
                <a:cubicBezTo>
                  <a:pt x="1210" y="742"/>
                  <a:pt x="1224" y="739"/>
                  <a:pt x="1232" y="731"/>
                </a:cubicBezTo>
                <a:cubicBezTo>
                  <a:pt x="1220" y="735"/>
                  <a:pt x="1209" y="743"/>
                  <a:pt x="1197" y="748"/>
                </a:cubicBezTo>
                <a:cubicBezTo>
                  <a:pt x="1197" y="746"/>
                  <a:pt x="1194" y="747"/>
                  <a:pt x="1194" y="745"/>
                </a:cubicBezTo>
                <a:cubicBezTo>
                  <a:pt x="1195" y="744"/>
                  <a:pt x="1195" y="742"/>
                  <a:pt x="1196" y="741"/>
                </a:cubicBezTo>
                <a:cubicBezTo>
                  <a:pt x="1191" y="741"/>
                  <a:pt x="1190" y="746"/>
                  <a:pt x="1185" y="743"/>
                </a:cubicBezTo>
                <a:cubicBezTo>
                  <a:pt x="1187" y="738"/>
                  <a:pt x="1181" y="741"/>
                  <a:pt x="1180" y="740"/>
                </a:cubicBezTo>
                <a:cubicBezTo>
                  <a:pt x="1181" y="735"/>
                  <a:pt x="1187" y="737"/>
                  <a:pt x="1187" y="731"/>
                </a:cubicBezTo>
                <a:cubicBezTo>
                  <a:pt x="1184" y="732"/>
                  <a:pt x="1181" y="734"/>
                  <a:pt x="1179" y="732"/>
                </a:cubicBezTo>
                <a:cubicBezTo>
                  <a:pt x="1180" y="731"/>
                  <a:pt x="1180" y="729"/>
                  <a:pt x="1181" y="728"/>
                </a:cubicBezTo>
                <a:cubicBezTo>
                  <a:pt x="1179" y="728"/>
                  <a:pt x="1178" y="727"/>
                  <a:pt x="1178" y="726"/>
                </a:cubicBezTo>
                <a:cubicBezTo>
                  <a:pt x="1180" y="723"/>
                  <a:pt x="1181" y="718"/>
                  <a:pt x="1182" y="714"/>
                </a:cubicBezTo>
                <a:cubicBezTo>
                  <a:pt x="1179" y="714"/>
                  <a:pt x="1177" y="716"/>
                  <a:pt x="1177" y="712"/>
                </a:cubicBezTo>
                <a:cubicBezTo>
                  <a:pt x="1180" y="709"/>
                  <a:pt x="1182" y="706"/>
                  <a:pt x="1183" y="702"/>
                </a:cubicBezTo>
                <a:cubicBezTo>
                  <a:pt x="1178" y="704"/>
                  <a:pt x="1170" y="708"/>
                  <a:pt x="1174" y="714"/>
                </a:cubicBezTo>
                <a:cubicBezTo>
                  <a:pt x="1172" y="716"/>
                  <a:pt x="1171" y="713"/>
                  <a:pt x="1169" y="715"/>
                </a:cubicBezTo>
                <a:cubicBezTo>
                  <a:pt x="1171" y="719"/>
                  <a:pt x="1169" y="727"/>
                  <a:pt x="1169" y="731"/>
                </a:cubicBezTo>
                <a:cubicBezTo>
                  <a:pt x="1172" y="730"/>
                  <a:pt x="1175" y="729"/>
                  <a:pt x="1179" y="729"/>
                </a:cubicBezTo>
                <a:cubicBezTo>
                  <a:pt x="1177" y="738"/>
                  <a:pt x="1168" y="743"/>
                  <a:pt x="1160" y="743"/>
                </a:cubicBezTo>
                <a:cubicBezTo>
                  <a:pt x="1159" y="749"/>
                  <a:pt x="1147" y="754"/>
                  <a:pt x="1147" y="747"/>
                </a:cubicBezTo>
                <a:cubicBezTo>
                  <a:pt x="1147" y="748"/>
                  <a:pt x="1144" y="750"/>
                  <a:pt x="1144" y="748"/>
                </a:cubicBezTo>
                <a:cubicBezTo>
                  <a:pt x="1151" y="738"/>
                  <a:pt x="1144" y="748"/>
                  <a:pt x="1139" y="744"/>
                </a:cubicBezTo>
                <a:cubicBezTo>
                  <a:pt x="1139" y="744"/>
                  <a:pt x="1138" y="739"/>
                  <a:pt x="1138" y="738"/>
                </a:cubicBezTo>
                <a:cubicBezTo>
                  <a:pt x="1139" y="737"/>
                  <a:pt x="1143" y="739"/>
                  <a:pt x="1142" y="736"/>
                </a:cubicBezTo>
                <a:cubicBezTo>
                  <a:pt x="1138" y="735"/>
                  <a:pt x="1138" y="738"/>
                  <a:pt x="1136" y="738"/>
                </a:cubicBezTo>
                <a:cubicBezTo>
                  <a:pt x="1136" y="733"/>
                  <a:pt x="1135" y="731"/>
                  <a:pt x="1133" y="731"/>
                </a:cubicBezTo>
                <a:cubicBezTo>
                  <a:pt x="1133" y="719"/>
                  <a:pt x="1153" y="722"/>
                  <a:pt x="1152" y="711"/>
                </a:cubicBezTo>
                <a:cubicBezTo>
                  <a:pt x="1143" y="717"/>
                  <a:pt x="1134" y="723"/>
                  <a:pt x="1124" y="727"/>
                </a:cubicBezTo>
                <a:cubicBezTo>
                  <a:pt x="1123" y="725"/>
                  <a:pt x="1122" y="725"/>
                  <a:pt x="1122" y="724"/>
                </a:cubicBezTo>
                <a:cubicBezTo>
                  <a:pt x="1125" y="718"/>
                  <a:pt x="1134" y="716"/>
                  <a:pt x="1140" y="713"/>
                </a:cubicBezTo>
                <a:cubicBezTo>
                  <a:pt x="1138" y="705"/>
                  <a:pt x="1143" y="704"/>
                  <a:pt x="1147" y="704"/>
                </a:cubicBezTo>
                <a:cubicBezTo>
                  <a:pt x="1149" y="700"/>
                  <a:pt x="1145" y="701"/>
                  <a:pt x="1146" y="698"/>
                </a:cubicBezTo>
                <a:cubicBezTo>
                  <a:pt x="1150" y="691"/>
                  <a:pt x="1156" y="684"/>
                  <a:pt x="1161" y="681"/>
                </a:cubicBezTo>
                <a:cubicBezTo>
                  <a:pt x="1159" y="678"/>
                  <a:pt x="1161" y="673"/>
                  <a:pt x="1156" y="672"/>
                </a:cubicBezTo>
                <a:cubicBezTo>
                  <a:pt x="1156" y="668"/>
                  <a:pt x="1158" y="666"/>
                  <a:pt x="1162" y="666"/>
                </a:cubicBezTo>
                <a:cubicBezTo>
                  <a:pt x="1162" y="656"/>
                  <a:pt x="1183" y="664"/>
                  <a:pt x="1176" y="652"/>
                </a:cubicBezTo>
                <a:cubicBezTo>
                  <a:pt x="1169" y="655"/>
                  <a:pt x="1164" y="660"/>
                  <a:pt x="1159" y="664"/>
                </a:cubicBezTo>
                <a:cubicBezTo>
                  <a:pt x="1156" y="664"/>
                  <a:pt x="1157" y="660"/>
                  <a:pt x="1155" y="658"/>
                </a:cubicBezTo>
                <a:cubicBezTo>
                  <a:pt x="1152" y="662"/>
                  <a:pt x="1155" y="664"/>
                  <a:pt x="1156" y="667"/>
                </a:cubicBezTo>
                <a:cubicBezTo>
                  <a:pt x="1150" y="672"/>
                  <a:pt x="1147" y="665"/>
                  <a:pt x="1145" y="661"/>
                </a:cubicBezTo>
                <a:cubicBezTo>
                  <a:pt x="1145" y="660"/>
                  <a:pt x="1149" y="657"/>
                  <a:pt x="1147" y="656"/>
                </a:cubicBezTo>
                <a:cubicBezTo>
                  <a:pt x="1146" y="659"/>
                  <a:pt x="1144" y="661"/>
                  <a:pt x="1142" y="662"/>
                </a:cubicBezTo>
                <a:cubicBezTo>
                  <a:pt x="1141" y="659"/>
                  <a:pt x="1144" y="660"/>
                  <a:pt x="1144" y="657"/>
                </a:cubicBezTo>
                <a:cubicBezTo>
                  <a:pt x="1140" y="658"/>
                  <a:pt x="1139" y="662"/>
                  <a:pt x="1136" y="664"/>
                </a:cubicBezTo>
                <a:cubicBezTo>
                  <a:pt x="1138" y="667"/>
                  <a:pt x="1140" y="660"/>
                  <a:pt x="1141" y="663"/>
                </a:cubicBezTo>
                <a:cubicBezTo>
                  <a:pt x="1138" y="669"/>
                  <a:pt x="1130" y="671"/>
                  <a:pt x="1128" y="678"/>
                </a:cubicBezTo>
                <a:cubicBezTo>
                  <a:pt x="1131" y="678"/>
                  <a:pt x="1131" y="676"/>
                  <a:pt x="1135" y="676"/>
                </a:cubicBezTo>
                <a:cubicBezTo>
                  <a:pt x="1135" y="677"/>
                  <a:pt x="1136" y="677"/>
                  <a:pt x="1136" y="678"/>
                </a:cubicBezTo>
                <a:cubicBezTo>
                  <a:pt x="1133" y="680"/>
                  <a:pt x="1132" y="682"/>
                  <a:pt x="1129" y="680"/>
                </a:cubicBezTo>
                <a:cubicBezTo>
                  <a:pt x="1127" y="685"/>
                  <a:pt x="1118" y="690"/>
                  <a:pt x="1112" y="690"/>
                </a:cubicBezTo>
                <a:cubicBezTo>
                  <a:pt x="1114" y="687"/>
                  <a:pt x="1116" y="684"/>
                  <a:pt x="1118" y="681"/>
                </a:cubicBezTo>
                <a:cubicBezTo>
                  <a:pt x="1116" y="677"/>
                  <a:pt x="1114" y="673"/>
                  <a:pt x="1115" y="670"/>
                </a:cubicBezTo>
                <a:cubicBezTo>
                  <a:pt x="1114" y="676"/>
                  <a:pt x="1110" y="669"/>
                  <a:pt x="1108" y="673"/>
                </a:cubicBezTo>
                <a:cubicBezTo>
                  <a:pt x="1107" y="676"/>
                  <a:pt x="1109" y="676"/>
                  <a:pt x="1110" y="678"/>
                </a:cubicBezTo>
                <a:cubicBezTo>
                  <a:pt x="1106" y="679"/>
                  <a:pt x="1106" y="681"/>
                  <a:pt x="1107" y="686"/>
                </a:cubicBezTo>
                <a:cubicBezTo>
                  <a:pt x="1100" y="689"/>
                  <a:pt x="1098" y="686"/>
                  <a:pt x="1092" y="688"/>
                </a:cubicBezTo>
                <a:cubicBezTo>
                  <a:pt x="1104" y="698"/>
                  <a:pt x="1091" y="712"/>
                  <a:pt x="1080" y="715"/>
                </a:cubicBezTo>
                <a:cubicBezTo>
                  <a:pt x="1081" y="712"/>
                  <a:pt x="1077" y="714"/>
                  <a:pt x="1078" y="711"/>
                </a:cubicBezTo>
                <a:cubicBezTo>
                  <a:pt x="1080" y="710"/>
                  <a:pt x="1082" y="709"/>
                  <a:pt x="1083" y="712"/>
                </a:cubicBezTo>
                <a:cubicBezTo>
                  <a:pt x="1084" y="708"/>
                  <a:pt x="1088" y="708"/>
                  <a:pt x="1088" y="704"/>
                </a:cubicBezTo>
                <a:cubicBezTo>
                  <a:pt x="1079" y="699"/>
                  <a:pt x="1075" y="720"/>
                  <a:pt x="1067" y="710"/>
                </a:cubicBezTo>
                <a:cubicBezTo>
                  <a:pt x="1069" y="707"/>
                  <a:pt x="1072" y="703"/>
                  <a:pt x="1072" y="698"/>
                </a:cubicBezTo>
                <a:cubicBezTo>
                  <a:pt x="1068" y="699"/>
                  <a:pt x="1068" y="705"/>
                  <a:pt x="1063" y="705"/>
                </a:cubicBezTo>
                <a:cubicBezTo>
                  <a:pt x="1062" y="702"/>
                  <a:pt x="1066" y="704"/>
                  <a:pt x="1065" y="701"/>
                </a:cubicBezTo>
                <a:cubicBezTo>
                  <a:pt x="1060" y="705"/>
                  <a:pt x="1057" y="703"/>
                  <a:pt x="1051" y="704"/>
                </a:cubicBezTo>
                <a:cubicBezTo>
                  <a:pt x="1053" y="701"/>
                  <a:pt x="1055" y="699"/>
                  <a:pt x="1057" y="697"/>
                </a:cubicBezTo>
                <a:cubicBezTo>
                  <a:pt x="1055" y="694"/>
                  <a:pt x="1053" y="699"/>
                  <a:pt x="1052" y="697"/>
                </a:cubicBezTo>
                <a:cubicBezTo>
                  <a:pt x="1054" y="693"/>
                  <a:pt x="1053" y="688"/>
                  <a:pt x="1059" y="688"/>
                </a:cubicBezTo>
                <a:cubicBezTo>
                  <a:pt x="1061" y="689"/>
                  <a:pt x="1060" y="693"/>
                  <a:pt x="1063" y="692"/>
                </a:cubicBezTo>
                <a:cubicBezTo>
                  <a:pt x="1066" y="689"/>
                  <a:pt x="1068" y="687"/>
                  <a:pt x="1072" y="688"/>
                </a:cubicBezTo>
                <a:cubicBezTo>
                  <a:pt x="1072" y="682"/>
                  <a:pt x="1078" y="682"/>
                  <a:pt x="1079" y="678"/>
                </a:cubicBezTo>
                <a:cubicBezTo>
                  <a:pt x="1076" y="677"/>
                  <a:pt x="1077" y="680"/>
                  <a:pt x="1074" y="679"/>
                </a:cubicBezTo>
                <a:cubicBezTo>
                  <a:pt x="1074" y="677"/>
                  <a:pt x="1072" y="675"/>
                  <a:pt x="1071" y="673"/>
                </a:cubicBezTo>
                <a:cubicBezTo>
                  <a:pt x="1076" y="670"/>
                  <a:pt x="1076" y="665"/>
                  <a:pt x="1083" y="663"/>
                </a:cubicBezTo>
                <a:cubicBezTo>
                  <a:pt x="1083" y="668"/>
                  <a:pt x="1083" y="674"/>
                  <a:pt x="1087" y="676"/>
                </a:cubicBezTo>
                <a:cubicBezTo>
                  <a:pt x="1087" y="673"/>
                  <a:pt x="1091" y="675"/>
                  <a:pt x="1092" y="676"/>
                </a:cubicBezTo>
                <a:cubicBezTo>
                  <a:pt x="1093" y="673"/>
                  <a:pt x="1095" y="670"/>
                  <a:pt x="1096" y="667"/>
                </a:cubicBezTo>
                <a:cubicBezTo>
                  <a:pt x="1103" y="667"/>
                  <a:pt x="1105" y="663"/>
                  <a:pt x="1107" y="661"/>
                </a:cubicBezTo>
                <a:cubicBezTo>
                  <a:pt x="1102" y="659"/>
                  <a:pt x="1109" y="658"/>
                  <a:pt x="1110" y="653"/>
                </a:cubicBezTo>
                <a:cubicBezTo>
                  <a:pt x="1108" y="652"/>
                  <a:pt x="1106" y="655"/>
                  <a:pt x="1105" y="651"/>
                </a:cubicBezTo>
                <a:cubicBezTo>
                  <a:pt x="1106" y="647"/>
                  <a:pt x="1109" y="645"/>
                  <a:pt x="1114" y="644"/>
                </a:cubicBezTo>
                <a:cubicBezTo>
                  <a:pt x="1115" y="643"/>
                  <a:pt x="1112" y="640"/>
                  <a:pt x="1114" y="638"/>
                </a:cubicBezTo>
                <a:cubicBezTo>
                  <a:pt x="1117" y="640"/>
                  <a:pt x="1125" y="639"/>
                  <a:pt x="1122" y="645"/>
                </a:cubicBezTo>
                <a:cubicBezTo>
                  <a:pt x="1131" y="641"/>
                  <a:pt x="1137" y="634"/>
                  <a:pt x="1145" y="629"/>
                </a:cubicBezTo>
                <a:cubicBezTo>
                  <a:pt x="1144" y="625"/>
                  <a:pt x="1144" y="624"/>
                  <a:pt x="1145" y="620"/>
                </a:cubicBezTo>
                <a:cubicBezTo>
                  <a:pt x="1141" y="620"/>
                  <a:pt x="1140" y="624"/>
                  <a:pt x="1136" y="624"/>
                </a:cubicBezTo>
                <a:cubicBezTo>
                  <a:pt x="1135" y="622"/>
                  <a:pt x="1134" y="622"/>
                  <a:pt x="1135" y="621"/>
                </a:cubicBezTo>
                <a:cubicBezTo>
                  <a:pt x="1135" y="618"/>
                  <a:pt x="1142" y="618"/>
                  <a:pt x="1139" y="615"/>
                </a:cubicBezTo>
                <a:cubicBezTo>
                  <a:pt x="1139" y="619"/>
                  <a:pt x="1133" y="616"/>
                  <a:pt x="1132" y="615"/>
                </a:cubicBezTo>
                <a:cubicBezTo>
                  <a:pt x="1130" y="612"/>
                  <a:pt x="1135" y="610"/>
                  <a:pt x="1134" y="604"/>
                </a:cubicBezTo>
                <a:cubicBezTo>
                  <a:pt x="1136" y="602"/>
                  <a:pt x="1137" y="605"/>
                  <a:pt x="1138" y="603"/>
                </a:cubicBezTo>
                <a:cubicBezTo>
                  <a:pt x="1140" y="599"/>
                  <a:pt x="1142" y="591"/>
                  <a:pt x="1148" y="594"/>
                </a:cubicBezTo>
                <a:cubicBezTo>
                  <a:pt x="1150" y="589"/>
                  <a:pt x="1157" y="584"/>
                  <a:pt x="1162" y="583"/>
                </a:cubicBezTo>
                <a:cubicBezTo>
                  <a:pt x="1172" y="580"/>
                  <a:pt x="1182" y="571"/>
                  <a:pt x="1183" y="576"/>
                </a:cubicBezTo>
                <a:cubicBezTo>
                  <a:pt x="1187" y="569"/>
                  <a:pt x="1196" y="567"/>
                  <a:pt x="1201" y="560"/>
                </a:cubicBezTo>
                <a:cubicBezTo>
                  <a:pt x="1194" y="559"/>
                  <a:pt x="1196" y="565"/>
                  <a:pt x="1190" y="564"/>
                </a:cubicBezTo>
                <a:cubicBezTo>
                  <a:pt x="1188" y="560"/>
                  <a:pt x="1192" y="561"/>
                  <a:pt x="1191" y="559"/>
                </a:cubicBezTo>
                <a:cubicBezTo>
                  <a:pt x="1189" y="560"/>
                  <a:pt x="1186" y="557"/>
                  <a:pt x="1183" y="554"/>
                </a:cubicBezTo>
                <a:cubicBezTo>
                  <a:pt x="1184" y="551"/>
                  <a:pt x="1188" y="551"/>
                  <a:pt x="1188" y="547"/>
                </a:cubicBezTo>
                <a:cubicBezTo>
                  <a:pt x="1185" y="547"/>
                  <a:pt x="1185" y="550"/>
                  <a:pt x="1181" y="550"/>
                </a:cubicBezTo>
                <a:cubicBezTo>
                  <a:pt x="1182" y="546"/>
                  <a:pt x="1177" y="549"/>
                  <a:pt x="1176" y="547"/>
                </a:cubicBezTo>
                <a:cubicBezTo>
                  <a:pt x="1176" y="542"/>
                  <a:pt x="1179" y="538"/>
                  <a:pt x="1175" y="534"/>
                </a:cubicBezTo>
                <a:cubicBezTo>
                  <a:pt x="1176" y="527"/>
                  <a:pt x="1192" y="533"/>
                  <a:pt x="1191" y="535"/>
                </a:cubicBezTo>
                <a:cubicBezTo>
                  <a:pt x="1200" y="534"/>
                  <a:pt x="1201" y="524"/>
                  <a:pt x="1210" y="521"/>
                </a:cubicBezTo>
                <a:cubicBezTo>
                  <a:pt x="1211" y="525"/>
                  <a:pt x="1213" y="521"/>
                  <a:pt x="1215" y="521"/>
                </a:cubicBezTo>
                <a:cubicBezTo>
                  <a:pt x="1214" y="514"/>
                  <a:pt x="1226" y="510"/>
                  <a:pt x="1233" y="511"/>
                </a:cubicBezTo>
                <a:cubicBezTo>
                  <a:pt x="1233" y="508"/>
                  <a:pt x="1234" y="507"/>
                  <a:pt x="1237" y="508"/>
                </a:cubicBezTo>
                <a:cubicBezTo>
                  <a:pt x="1244" y="502"/>
                  <a:pt x="1253" y="494"/>
                  <a:pt x="1264" y="495"/>
                </a:cubicBezTo>
                <a:cubicBezTo>
                  <a:pt x="1266" y="494"/>
                  <a:pt x="1266" y="491"/>
                  <a:pt x="1270" y="492"/>
                </a:cubicBezTo>
                <a:cubicBezTo>
                  <a:pt x="1270" y="482"/>
                  <a:pt x="1282" y="485"/>
                  <a:pt x="1284" y="478"/>
                </a:cubicBezTo>
                <a:close/>
                <a:moveTo>
                  <a:pt x="1047" y="497"/>
                </a:moveTo>
                <a:cubicBezTo>
                  <a:pt x="1049" y="495"/>
                  <a:pt x="1050" y="498"/>
                  <a:pt x="1053" y="497"/>
                </a:cubicBezTo>
                <a:cubicBezTo>
                  <a:pt x="1053" y="500"/>
                  <a:pt x="1051" y="500"/>
                  <a:pt x="1048" y="501"/>
                </a:cubicBezTo>
                <a:cubicBezTo>
                  <a:pt x="1048" y="499"/>
                  <a:pt x="1046" y="500"/>
                  <a:pt x="1047" y="497"/>
                </a:cubicBezTo>
                <a:close/>
                <a:moveTo>
                  <a:pt x="1147" y="374"/>
                </a:moveTo>
                <a:cubicBezTo>
                  <a:pt x="1147" y="376"/>
                  <a:pt x="1146" y="378"/>
                  <a:pt x="1143" y="377"/>
                </a:cubicBezTo>
                <a:cubicBezTo>
                  <a:pt x="1143" y="375"/>
                  <a:pt x="1144" y="373"/>
                  <a:pt x="1147" y="374"/>
                </a:cubicBezTo>
                <a:close/>
                <a:moveTo>
                  <a:pt x="1067" y="324"/>
                </a:moveTo>
                <a:cubicBezTo>
                  <a:pt x="1070" y="326"/>
                  <a:pt x="1066" y="329"/>
                  <a:pt x="1064" y="328"/>
                </a:cubicBezTo>
                <a:cubicBezTo>
                  <a:pt x="1063" y="325"/>
                  <a:pt x="1066" y="326"/>
                  <a:pt x="1067" y="324"/>
                </a:cubicBezTo>
                <a:close/>
                <a:moveTo>
                  <a:pt x="1061" y="238"/>
                </a:moveTo>
                <a:cubicBezTo>
                  <a:pt x="1065" y="239"/>
                  <a:pt x="1062" y="244"/>
                  <a:pt x="1059" y="241"/>
                </a:cubicBezTo>
                <a:cubicBezTo>
                  <a:pt x="1060" y="240"/>
                  <a:pt x="1061" y="239"/>
                  <a:pt x="1061" y="238"/>
                </a:cubicBezTo>
                <a:close/>
                <a:moveTo>
                  <a:pt x="1054" y="394"/>
                </a:moveTo>
                <a:cubicBezTo>
                  <a:pt x="1054" y="398"/>
                  <a:pt x="1048" y="399"/>
                  <a:pt x="1048" y="395"/>
                </a:cubicBezTo>
                <a:cubicBezTo>
                  <a:pt x="1051" y="396"/>
                  <a:pt x="1051" y="394"/>
                  <a:pt x="1054" y="394"/>
                </a:cubicBezTo>
                <a:close/>
                <a:moveTo>
                  <a:pt x="1029" y="341"/>
                </a:moveTo>
                <a:cubicBezTo>
                  <a:pt x="1026" y="347"/>
                  <a:pt x="1019" y="344"/>
                  <a:pt x="1013" y="347"/>
                </a:cubicBezTo>
                <a:cubicBezTo>
                  <a:pt x="1014" y="341"/>
                  <a:pt x="1023" y="337"/>
                  <a:pt x="1029" y="341"/>
                </a:cubicBezTo>
                <a:close/>
                <a:moveTo>
                  <a:pt x="205" y="236"/>
                </a:moveTo>
                <a:cubicBezTo>
                  <a:pt x="204" y="235"/>
                  <a:pt x="209" y="232"/>
                  <a:pt x="212" y="231"/>
                </a:cubicBezTo>
                <a:cubicBezTo>
                  <a:pt x="211" y="234"/>
                  <a:pt x="207" y="234"/>
                  <a:pt x="205" y="236"/>
                </a:cubicBezTo>
                <a:close/>
                <a:moveTo>
                  <a:pt x="155" y="482"/>
                </a:moveTo>
                <a:cubicBezTo>
                  <a:pt x="154" y="473"/>
                  <a:pt x="158" y="470"/>
                  <a:pt x="159" y="462"/>
                </a:cubicBezTo>
                <a:cubicBezTo>
                  <a:pt x="162" y="460"/>
                  <a:pt x="162" y="463"/>
                  <a:pt x="166" y="463"/>
                </a:cubicBezTo>
                <a:cubicBezTo>
                  <a:pt x="165" y="471"/>
                  <a:pt x="161" y="478"/>
                  <a:pt x="155" y="482"/>
                </a:cubicBezTo>
                <a:close/>
                <a:moveTo>
                  <a:pt x="230" y="515"/>
                </a:moveTo>
                <a:cubicBezTo>
                  <a:pt x="227" y="515"/>
                  <a:pt x="227" y="512"/>
                  <a:pt x="224" y="511"/>
                </a:cubicBezTo>
                <a:cubicBezTo>
                  <a:pt x="221" y="498"/>
                  <a:pt x="230" y="496"/>
                  <a:pt x="241" y="494"/>
                </a:cubicBezTo>
                <a:cubicBezTo>
                  <a:pt x="242" y="502"/>
                  <a:pt x="238" y="513"/>
                  <a:pt x="230" y="515"/>
                </a:cubicBezTo>
                <a:close/>
                <a:moveTo>
                  <a:pt x="241" y="525"/>
                </a:moveTo>
                <a:cubicBezTo>
                  <a:pt x="241" y="523"/>
                  <a:pt x="243" y="522"/>
                  <a:pt x="245" y="522"/>
                </a:cubicBezTo>
                <a:cubicBezTo>
                  <a:pt x="245" y="525"/>
                  <a:pt x="244" y="525"/>
                  <a:pt x="241" y="525"/>
                </a:cubicBezTo>
                <a:close/>
                <a:moveTo>
                  <a:pt x="247" y="520"/>
                </a:moveTo>
                <a:cubicBezTo>
                  <a:pt x="247" y="518"/>
                  <a:pt x="246" y="518"/>
                  <a:pt x="246" y="516"/>
                </a:cubicBezTo>
                <a:cubicBezTo>
                  <a:pt x="249" y="517"/>
                  <a:pt x="249" y="515"/>
                  <a:pt x="251" y="515"/>
                </a:cubicBezTo>
                <a:cubicBezTo>
                  <a:pt x="252" y="518"/>
                  <a:pt x="249" y="519"/>
                  <a:pt x="247" y="520"/>
                </a:cubicBezTo>
                <a:close/>
                <a:moveTo>
                  <a:pt x="190" y="767"/>
                </a:moveTo>
                <a:cubicBezTo>
                  <a:pt x="190" y="763"/>
                  <a:pt x="193" y="763"/>
                  <a:pt x="196" y="762"/>
                </a:cubicBezTo>
                <a:cubicBezTo>
                  <a:pt x="196" y="766"/>
                  <a:pt x="193" y="766"/>
                  <a:pt x="190" y="767"/>
                </a:cubicBezTo>
                <a:close/>
                <a:moveTo>
                  <a:pt x="171" y="813"/>
                </a:moveTo>
                <a:cubicBezTo>
                  <a:pt x="173" y="813"/>
                  <a:pt x="171" y="817"/>
                  <a:pt x="171" y="818"/>
                </a:cubicBezTo>
                <a:cubicBezTo>
                  <a:pt x="169" y="818"/>
                  <a:pt x="169" y="817"/>
                  <a:pt x="168" y="817"/>
                </a:cubicBezTo>
                <a:cubicBezTo>
                  <a:pt x="168" y="815"/>
                  <a:pt x="170" y="814"/>
                  <a:pt x="171" y="813"/>
                </a:cubicBezTo>
                <a:close/>
                <a:moveTo>
                  <a:pt x="169" y="827"/>
                </a:moveTo>
                <a:cubicBezTo>
                  <a:pt x="168" y="825"/>
                  <a:pt x="170" y="824"/>
                  <a:pt x="168" y="821"/>
                </a:cubicBezTo>
                <a:cubicBezTo>
                  <a:pt x="173" y="817"/>
                  <a:pt x="180" y="812"/>
                  <a:pt x="188" y="815"/>
                </a:cubicBezTo>
                <a:cubicBezTo>
                  <a:pt x="181" y="818"/>
                  <a:pt x="174" y="821"/>
                  <a:pt x="169" y="827"/>
                </a:cubicBezTo>
                <a:close/>
                <a:moveTo>
                  <a:pt x="196" y="826"/>
                </a:moveTo>
                <a:cubicBezTo>
                  <a:pt x="195" y="824"/>
                  <a:pt x="192" y="825"/>
                  <a:pt x="193" y="821"/>
                </a:cubicBezTo>
                <a:cubicBezTo>
                  <a:pt x="191" y="821"/>
                  <a:pt x="191" y="821"/>
                  <a:pt x="191" y="821"/>
                </a:cubicBezTo>
                <a:cubicBezTo>
                  <a:pt x="195" y="814"/>
                  <a:pt x="196" y="826"/>
                  <a:pt x="200" y="822"/>
                </a:cubicBezTo>
                <a:cubicBezTo>
                  <a:pt x="199" y="824"/>
                  <a:pt x="198" y="826"/>
                  <a:pt x="196" y="826"/>
                </a:cubicBezTo>
                <a:close/>
                <a:moveTo>
                  <a:pt x="242" y="829"/>
                </a:moveTo>
                <a:cubicBezTo>
                  <a:pt x="241" y="836"/>
                  <a:pt x="235" y="844"/>
                  <a:pt x="229" y="841"/>
                </a:cubicBezTo>
                <a:cubicBezTo>
                  <a:pt x="236" y="840"/>
                  <a:pt x="236" y="831"/>
                  <a:pt x="242" y="829"/>
                </a:cubicBezTo>
                <a:close/>
                <a:moveTo>
                  <a:pt x="192" y="885"/>
                </a:moveTo>
                <a:cubicBezTo>
                  <a:pt x="190" y="883"/>
                  <a:pt x="195" y="880"/>
                  <a:pt x="197" y="879"/>
                </a:cubicBezTo>
                <a:cubicBezTo>
                  <a:pt x="196" y="882"/>
                  <a:pt x="194" y="883"/>
                  <a:pt x="192" y="885"/>
                </a:cubicBezTo>
                <a:close/>
                <a:moveTo>
                  <a:pt x="191" y="900"/>
                </a:moveTo>
                <a:cubicBezTo>
                  <a:pt x="191" y="897"/>
                  <a:pt x="195" y="898"/>
                  <a:pt x="197" y="897"/>
                </a:cubicBezTo>
                <a:cubicBezTo>
                  <a:pt x="197" y="900"/>
                  <a:pt x="194" y="900"/>
                  <a:pt x="191" y="900"/>
                </a:cubicBezTo>
                <a:close/>
                <a:moveTo>
                  <a:pt x="197" y="887"/>
                </a:moveTo>
                <a:cubicBezTo>
                  <a:pt x="196" y="887"/>
                  <a:pt x="197" y="886"/>
                  <a:pt x="196" y="886"/>
                </a:cubicBezTo>
                <a:cubicBezTo>
                  <a:pt x="200" y="883"/>
                  <a:pt x="203" y="881"/>
                  <a:pt x="208" y="878"/>
                </a:cubicBezTo>
                <a:cubicBezTo>
                  <a:pt x="206" y="883"/>
                  <a:pt x="201" y="884"/>
                  <a:pt x="197" y="887"/>
                </a:cubicBezTo>
                <a:close/>
                <a:moveTo>
                  <a:pt x="209" y="913"/>
                </a:moveTo>
                <a:cubicBezTo>
                  <a:pt x="209" y="911"/>
                  <a:pt x="212" y="910"/>
                  <a:pt x="214" y="910"/>
                </a:cubicBezTo>
                <a:cubicBezTo>
                  <a:pt x="214" y="912"/>
                  <a:pt x="212" y="914"/>
                  <a:pt x="209" y="913"/>
                </a:cubicBezTo>
                <a:close/>
                <a:moveTo>
                  <a:pt x="201" y="899"/>
                </a:moveTo>
                <a:cubicBezTo>
                  <a:pt x="200" y="898"/>
                  <a:pt x="200" y="896"/>
                  <a:pt x="199" y="896"/>
                </a:cubicBezTo>
                <a:cubicBezTo>
                  <a:pt x="201" y="891"/>
                  <a:pt x="206" y="889"/>
                  <a:pt x="210" y="887"/>
                </a:cubicBezTo>
                <a:cubicBezTo>
                  <a:pt x="204" y="887"/>
                  <a:pt x="216" y="881"/>
                  <a:pt x="219" y="883"/>
                </a:cubicBezTo>
                <a:cubicBezTo>
                  <a:pt x="213" y="888"/>
                  <a:pt x="211" y="897"/>
                  <a:pt x="201" y="899"/>
                </a:cubicBezTo>
                <a:close/>
                <a:moveTo>
                  <a:pt x="215" y="874"/>
                </a:moveTo>
                <a:cubicBezTo>
                  <a:pt x="215" y="877"/>
                  <a:pt x="214" y="878"/>
                  <a:pt x="211" y="878"/>
                </a:cubicBezTo>
                <a:cubicBezTo>
                  <a:pt x="209" y="876"/>
                  <a:pt x="212" y="873"/>
                  <a:pt x="215" y="874"/>
                </a:cubicBezTo>
                <a:close/>
                <a:moveTo>
                  <a:pt x="201" y="876"/>
                </a:moveTo>
                <a:cubicBezTo>
                  <a:pt x="207" y="872"/>
                  <a:pt x="210" y="864"/>
                  <a:pt x="219" y="862"/>
                </a:cubicBezTo>
                <a:cubicBezTo>
                  <a:pt x="216" y="869"/>
                  <a:pt x="208" y="872"/>
                  <a:pt x="201" y="876"/>
                </a:cubicBezTo>
                <a:close/>
                <a:moveTo>
                  <a:pt x="223" y="831"/>
                </a:moveTo>
                <a:cubicBezTo>
                  <a:pt x="227" y="828"/>
                  <a:pt x="234" y="825"/>
                  <a:pt x="239" y="827"/>
                </a:cubicBezTo>
                <a:cubicBezTo>
                  <a:pt x="240" y="831"/>
                  <a:pt x="230" y="833"/>
                  <a:pt x="226" y="834"/>
                </a:cubicBezTo>
                <a:cubicBezTo>
                  <a:pt x="226" y="832"/>
                  <a:pt x="222" y="834"/>
                  <a:pt x="223" y="831"/>
                </a:cubicBezTo>
                <a:close/>
                <a:moveTo>
                  <a:pt x="238" y="852"/>
                </a:moveTo>
                <a:cubicBezTo>
                  <a:pt x="235" y="853"/>
                  <a:pt x="231" y="856"/>
                  <a:pt x="228" y="853"/>
                </a:cubicBezTo>
                <a:cubicBezTo>
                  <a:pt x="232" y="848"/>
                  <a:pt x="234" y="842"/>
                  <a:pt x="244" y="843"/>
                </a:cubicBezTo>
                <a:cubicBezTo>
                  <a:pt x="242" y="846"/>
                  <a:pt x="237" y="847"/>
                  <a:pt x="238" y="852"/>
                </a:cubicBezTo>
                <a:close/>
                <a:moveTo>
                  <a:pt x="243" y="950"/>
                </a:moveTo>
                <a:cubicBezTo>
                  <a:pt x="244" y="948"/>
                  <a:pt x="245" y="948"/>
                  <a:pt x="245" y="947"/>
                </a:cubicBezTo>
                <a:cubicBezTo>
                  <a:pt x="247" y="947"/>
                  <a:pt x="247" y="949"/>
                  <a:pt x="248" y="951"/>
                </a:cubicBezTo>
                <a:cubicBezTo>
                  <a:pt x="245" y="951"/>
                  <a:pt x="245" y="949"/>
                  <a:pt x="243" y="950"/>
                </a:cubicBezTo>
                <a:close/>
                <a:moveTo>
                  <a:pt x="270" y="942"/>
                </a:moveTo>
                <a:cubicBezTo>
                  <a:pt x="270" y="941"/>
                  <a:pt x="269" y="940"/>
                  <a:pt x="268" y="939"/>
                </a:cubicBezTo>
                <a:cubicBezTo>
                  <a:pt x="269" y="939"/>
                  <a:pt x="272" y="939"/>
                  <a:pt x="274" y="939"/>
                </a:cubicBezTo>
                <a:cubicBezTo>
                  <a:pt x="275" y="942"/>
                  <a:pt x="272" y="941"/>
                  <a:pt x="270" y="942"/>
                </a:cubicBezTo>
                <a:close/>
                <a:moveTo>
                  <a:pt x="286" y="932"/>
                </a:moveTo>
                <a:cubicBezTo>
                  <a:pt x="285" y="935"/>
                  <a:pt x="283" y="932"/>
                  <a:pt x="283" y="929"/>
                </a:cubicBezTo>
                <a:cubicBezTo>
                  <a:pt x="285" y="929"/>
                  <a:pt x="285" y="930"/>
                  <a:pt x="287" y="930"/>
                </a:cubicBezTo>
                <a:cubicBezTo>
                  <a:pt x="287" y="931"/>
                  <a:pt x="285" y="932"/>
                  <a:pt x="286" y="932"/>
                </a:cubicBezTo>
                <a:close/>
                <a:moveTo>
                  <a:pt x="259" y="1031"/>
                </a:moveTo>
                <a:cubicBezTo>
                  <a:pt x="258" y="1031"/>
                  <a:pt x="258" y="1029"/>
                  <a:pt x="257" y="1029"/>
                </a:cubicBezTo>
                <a:cubicBezTo>
                  <a:pt x="258" y="1027"/>
                  <a:pt x="260" y="1025"/>
                  <a:pt x="262" y="1025"/>
                </a:cubicBezTo>
                <a:cubicBezTo>
                  <a:pt x="264" y="1028"/>
                  <a:pt x="263" y="1031"/>
                  <a:pt x="259" y="1031"/>
                </a:cubicBezTo>
                <a:close/>
                <a:moveTo>
                  <a:pt x="328" y="904"/>
                </a:moveTo>
                <a:cubicBezTo>
                  <a:pt x="327" y="906"/>
                  <a:pt x="323" y="906"/>
                  <a:pt x="322" y="908"/>
                </a:cubicBezTo>
                <a:cubicBezTo>
                  <a:pt x="320" y="908"/>
                  <a:pt x="321" y="905"/>
                  <a:pt x="319" y="905"/>
                </a:cubicBezTo>
                <a:cubicBezTo>
                  <a:pt x="321" y="904"/>
                  <a:pt x="326" y="902"/>
                  <a:pt x="328" y="904"/>
                </a:cubicBezTo>
                <a:close/>
                <a:moveTo>
                  <a:pt x="296" y="923"/>
                </a:moveTo>
                <a:cubicBezTo>
                  <a:pt x="293" y="923"/>
                  <a:pt x="296" y="925"/>
                  <a:pt x="294" y="927"/>
                </a:cubicBezTo>
                <a:cubicBezTo>
                  <a:pt x="291" y="927"/>
                  <a:pt x="291" y="927"/>
                  <a:pt x="289" y="926"/>
                </a:cubicBezTo>
                <a:cubicBezTo>
                  <a:pt x="289" y="922"/>
                  <a:pt x="294" y="920"/>
                  <a:pt x="297" y="923"/>
                </a:cubicBezTo>
                <a:cubicBezTo>
                  <a:pt x="297" y="924"/>
                  <a:pt x="296" y="923"/>
                  <a:pt x="296" y="923"/>
                </a:cubicBezTo>
                <a:close/>
                <a:moveTo>
                  <a:pt x="305" y="921"/>
                </a:moveTo>
                <a:cubicBezTo>
                  <a:pt x="301" y="921"/>
                  <a:pt x="301" y="921"/>
                  <a:pt x="301" y="921"/>
                </a:cubicBezTo>
                <a:cubicBezTo>
                  <a:pt x="302" y="915"/>
                  <a:pt x="297" y="917"/>
                  <a:pt x="296" y="913"/>
                </a:cubicBezTo>
                <a:cubicBezTo>
                  <a:pt x="298" y="914"/>
                  <a:pt x="301" y="915"/>
                  <a:pt x="301" y="912"/>
                </a:cubicBezTo>
                <a:cubicBezTo>
                  <a:pt x="302" y="911"/>
                  <a:pt x="302" y="912"/>
                  <a:pt x="302" y="913"/>
                </a:cubicBezTo>
                <a:cubicBezTo>
                  <a:pt x="302" y="915"/>
                  <a:pt x="307" y="912"/>
                  <a:pt x="308" y="914"/>
                </a:cubicBezTo>
                <a:cubicBezTo>
                  <a:pt x="308" y="918"/>
                  <a:pt x="306" y="918"/>
                  <a:pt x="305" y="921"/>
                </a:cubicBezTo>
                <a:close/>
                <a:moveTo>
                  <a:pt x="309" y="908"/>
                </a:moveTo>
                <a:cubicBezTo>
                  <a:pt x="308" y="908"/>
                  <a:pt x="308" y="909"/>
                  <a:pt x="308" y="910"/>
                </a:cubicBezTo>
                <a:cubicBezTo>
                  <a:pt x="307" y="909"/>
                  <a:pt x="308" y="908"/>
                  <a:pt x="308" y="907"/>
                </a:cubicBezTo>
                <a:cubicBezTo>
                  <a:pt x="312" y="907"/>
                  <a:pt x="314" y="910"/>
                  <a:pt x="316" y="913"/>
                </a:cubicBezTo>
                <a:cubicBezTo>
                  <a:pt x="315" y="914"/>
                  <a:pt x="313" y="912"/>
                  <a:pt x="312" y="915"/>
                </a:cubicBezTo>
                <a:cubicBezTo>
                  <a:pt x="312" y="912"/>
                  <a:pt x="309" y="912"/>
                  <a:pt x="309" y="908"/>
                </a:cubicBezTo>
                <a:close/>
                <a:moveTo>
                  <a:pt x="317" y="967"/>
                </a:moveTo>
                <a:cubicBezTo>
                  <a:pt x="315" y="967"/>
                  <a:pt x="318" y="964"/>
                  <a:pt x="317" y="963"/>
                </a:cubicBezTo>
                <a:cubicBezTo>
                  <a:pt x="317" y="961"/>
                  <a:pt x="314" y="964"/>
                  <a:pt x="313" y="962"/>
                </a:cubicBezTo>
                <a:cubicBezTo>
                  <a:pt x="311" y="951"/>
                  <a:pt x="326" y="950"/>
                  <a:pt x="325" y="959"/>
                </a:cubicBezTo>
                <a:cubicBezTo>
                  <a:pt x="329" y="959"/>
                  <a:pt x="329" y="959"/>
                  <a:pt x="329" y="959"/>
                </a:cubicBezTo>
                <a:cubicBezTo>
                  <a:pt x="330" y="961"/>
                  <a:pt x="327" y="962"/>
                  <a:pt x="330" y="962"/>
                </a:cubicBezTo>
                <a:cubicBezTo>
                  <a:pt x="327" y="965"/>
                  <a:pt x="322" y="967"/>
                  <a:pt x="317" y="967"/>
                </a:cubicBezTo>
                <a:close/>
                <a:moveTo>
                  <a:pt x="478" y="165"/>
                </a:moveTo>
                <a:cubicBezTo>
                  <a:pt x="476" y="165"/>
                  <a:pt x="474" y="165"/>
                  <a:pt x="473" y="164"/>
                </a:cubicBezTo>
                <a:cubicBezTo>
                  <a:pt x="473" y="159"/>
                  <a:pt x="479" y="159"/>
                  <a:pt x="478" y="165"/>
                </a:cubicBezTo>
                <a:close/>
                <a:moveTo>
                  <a:pt x="470" y="1060"/>
                </a:moveTo>
                <a:cubicBezTo>
                  <a:pt x="482" y="1051"/>
                  <a:pt x="496" y="1045"/>
                  <a:pt x="508" y="1036"/>
                </a:cubicBezTo>
                <a:cubicBezTo>
                  <a:pt x="509" y="1036"/>
                  <a:pt x="510" y="1037"/>
                  <a:pt x="511" y="1037"/>
                </a:cubicBezTo>
                <a:cubicBezTo>
                  <a:pt x="500" y="1048"/>
                  <a:pt x="486" y="1053"/>
                  <a:pt x="470" y="1060"/>
                </a:cubicBezTo>
                <a:close/>
                <a:moveTo>
                  <a:pt x="513" y="981"/>
                </a:moveTo>
                <a:cubicBezTo>
                  <a:pt x="513" y="978"/>
                  <a:pt x="513" y="978"/>
                  <a:pt x="513" y="978"/>
                </a:cubicBezTo>
                <a:cubicBezTo>
                  <a:pt x="515" y="977"/>
                  <a:pt x="518" y="978"/>
                  <a:pt x="519" y="979"/>
                </a:cubicBezTo>
                <a:cubicBezTo>
                  <a:pt x="519" y="984"/>
                  <a:pt x="516" y="981"/>
                  <a:pt x="513" y="981"/>
                </a:cubicBezTo>
                <a:close/>
                <a:moveTo>
                  <a:pt x="539" y="208"/>
                </a:moveTo>
                <a:cubicBezTo>
                  <a:pt x="547" y="189"/>
                  <a:pt x="577" y="181"/>
                  <a:pt x="594" y="167"/>
                </a:cubicBezTo>
                <a:cubicBezTo>
                  <a:pt x="602" y="161"/>
                  <a:pt x="606" y="151"/>
                  <a:pt x="618" y="156"/>
                </a:cubicBezTo>
                <a:cubicBezTo>
                  <a:pt x="618" y="159"/>
                  <a:pt x="619" y="161"/>
                  <a:pt x="622" y="162"/>
                </a:cubicBezTo>
                <a:cubicBezTo>
                  <a:pt x="610" y="176"/>
                  <a:pt x="599" y="190"/>
                  <a:pt x="583" y="198"/>
                </a:cubicBezTo>
                <a:cubicBezTo>
                  <a:pt x="569" y="203"/>
                  <a:pt x="553" y="206"/>
                  <a:pt x="539" y="208"/>
                </a:cubicBezTo>
                <a:close/>
                <a:moveTo>
                  <a:pt x="557" y="1047"/>
                </a:moveTo>
                <a:cubicBezTo>
                  <a:pt x="556" y="1044"/>
                  <a:pt x="563" y="1041"/>
                  <a:pt x="563" y="1046"/>
                </a:cubicBezTo>
                <a:cubicBezTo>
                  <a:pt x="561" y="1047"/>
                  <a:pt x="558" y="1049"/>
                  <a:pt x="557" y="1047"/>
                </a:cubicBezTo>
                <a:close/>
                <a:moveTo>
                  <a:pt x="666" y="996"/>
                </a:moveTo>
                <a:cubicBezTo>
                  <a:pt x="667" y="998"/>
                  <a:pt x="668" y="999"/>
                  <a:pt x="666" y="1001"/>
                </a:cubicBezTo>
                <a:cubicBezTo>
                  <a:pt x="653" y="1002"/>
                  <a:pt x="645" y="1000"/>
                  <a:pt x="637" y="1009"/>
                </a:cubicBezTo>
                <a:cubicBezTo>
                  <a:pt x="638" y="1005"/>
                  <a:pt x="634" y="1007"/>
                  <a:pt x="634" y="1005"/>
                </a:cubicBezTo>
                <a:cubicBezTo>
                  <a:pt x="629" y="1007"/>
                  <a:pt x="624" y="1009"/>
                  <a:pt x="617" y="1010"/>
                </a:cubicBezTo>
                <a:cubicBezTo>
                  <a:pt x="620" y="1014"/>
                  <a:pt x="617" y="1012"/>
                  <a:pt x="615" y="1016"/>
                </a:cubicBezTo>
                <a:cubicBezTo>
                  <a:pt x="618" y="1016"/>
                  <a:pt x="618" y="1014"/>
                  <a:pt x="621" y="1015"/>
                </a:cubicBezTo>
                <a:cubicBezTo>
                  <a:pt x="621" y="1017"/>
                  <a:pt x="618" y="1016"/>
                  <a:pt x="618" y="1017"/>
                </a:cubicBezTo>
                <a:cubicBezTo>
                  <a:pt x="623" y="1020"/>
                  <a:pt x="634" y="1014"/>
                  <a:pt x="642" y="1013"/>
                </a:cubicBezTo>
                <a:cubicBezTo>
                  <a:pt x="642" y="1015"/>
                  <a:pt x="641" y="1015"/>
                  <a:pt x="641" y="1017"/>
                </a:cubicBezTo>
                <a:cubicBezTo>
                  <a:pt x="634" y="1014"/>
                  <a:pt x="625" y="1022"/>
                  <a:pt x="617" y="1025"/>
                </a:cubicBezTo>
                <a:cubicBezTo>
                  <a:pt x="605" y="1019"/>
                  <a:pt x="593" y="1032"/>
                  <a:pt x="582" y="1029"/>
                </a:cubicBezTo>
                <a:cubicBezTo>
                  <a:pt x="582" y="1030"/>
                  <a:pt x="584" y="1029"/>
                  <a:pt x="586" y="1030"/>
                </a:cubicBezTo>
                <a:cubicBezTo>
                  <a:pt x="583" y="1036"/>
                  <a:pt x="570" y="1033"/>
                  <a:pt x="568" y="1038"/>
                </a:cubicBezTo>
                <a:cubicBezTo>
                  <a:pt x="567" y="1033"/>
                  <a:pt x="570" y="1031"/>
                  <a:pt x="573" y="1029"/>
                </a:cubicBezTo>
                <a:cubicBezTo>
                  <a:pt x="572" y="1027"/>
                  <a:pt x="570" y="1027"/>
                  <a:pt x="568" y="1027"/>
                </a:cubicBezTo>
                <a:cubicBezTo>
                  <a:pt x="572" y="1022"/>
                  <a:pt x="579" y="1022"/>
                  <a:pt x="589" y="1023"/>
                </a:cubicBezTo>
                <a:cubicBezTo>
                  <a:pt x="593" y="1018"/>
                  <a:pt x="606" y="1018"/>
                  <a:pt x="611" y="1017"/>
                </a:cubicBezTo>
                <a:cubicBezTo>
                  <a:pt x="610" y="1016"/>
                  <a:pt x="609" y="1015"/>
                  <a:pt x="610" y="1013"/>
                </a:cubicBezTo>
                <a:cubicBezTo>
                  <a:pt x="599" y="1016"/>
                  <a:pt x="590" y="1019"/>
                  <a:pt x="580" y="1020"/>
                </a:cubicBezTo>
                <a:cubicBezTo>
                  <a:pt x="591" y="1013"/>
                  <a:pt x="603" y="1008"/>
                  <a:pt x="621" y="1007"/>
                </a:cubicBezTo>
                <a:cubicBezTo>
                  <a:pt x="620" y="1006"/>
                  <a:pt x="619" y="1006"/>
                  <a:pt x="619" y="1005"/>
                </a:cubicBezTo>
                <a:cubicBezTo>
                  <a:pt x="615" y="1004"/>
                  <a:pt x="614" y="1007"/>
                  <a:pt x="611" y="1007"/>
                </a:cubicBezTo>
                <a:cubicBezTo>
                  <a:pt x="627" y="999"/>
                  <a:pt x="642" y="992"/>
                  <a:pt x="657" y="984"/>
                </a:cubicBezTo>
                <a:cubicBezTo>
                  <a:pt x="667" y="989"/>
                  <a:pt x="678" y="977"/>
                  <a:pt x="687" y="978"/>
                </a:cubicBezTo>
                <a:cubicBezTo>
                  <a:pt x="688" y="973"/>
                  <a:pt x="691" y="970"/>
                  <a:pt x="698" y="970"/>
                </a:cubicBezTo>
                <a:cubicBezTo>
                  <a:pt x="696" y="975"/>
                  <a:pt x="698" y="978"/>
                  <a:pt x="694" y="979"/>
                </a:cubicBezTo>
                <a:cubicBezTo>
                  <a:pt x="698" y="983"/>
                  <a:pt x="706" y="976"/>
                  <a:pt x="713" y="977"/>
                </a:cubicBezTo>
                <a:cubicBezTo>
                  <a:pt x="698" y="988"/>
                  <a:pt x="679" y="991"/>
                  <a:pt x="666" y="996"/>
                </a:cubicBezTo>
                <a:close/>
                <a:moveTo>
                  <a:pt x="683" y="1085"/>
                </a:moveTo>
                <a:cubicBezTo>
                  <a:pt x="682" y="1084"/>
                  <a:pt x="687" y="1080"/>
                  <a:pt x="691" y="1082"/>
                </a:cubicBezTo>
                <a:cubicBezTo>
                  <a:pt x="690" y="1087"/>
                  <a:pt x="685" y="1085"/>
                  <a:pt x="683" y="1085"/>
                </a:cubicBezTo>
                <a:close/>
                <a:moveTo>
                  <a:pt x="725" y="940"/>
                </a:moveTo>
                <a:cubicBezTo>
                  <a:pt x="728" y="940"/>
                  <a:pt x="729" y="939"/>
                  <a:pt x="732" y="940"/>
                </a:cubicBezTo>
                <a:cubicBezTo>
                  <a:pt x="732" y="944"/>
                  <a:pt x="732" y="944"/>
                  <a:pt x="732" y="944"/>
                </a:cubicBezTo>
                <a:cubicBezTo>
                  <a:pt x="730" y="947"/>
                  <a:pt x="726" y="942"/>
                  <a:pt x="726" y="947"/>
                </a:cubicBezTo>
                <a:cubicBezTo>
                  <a:pt x="724" y="947"/>
                  <a:pt x="726" y="942"/>
                  <a:pt x="725" y="940"/>
                </a:cubicBezTo>
                <a:close/>
                <a:moveTo>
                  <a:pt x="736" y="947"/>
                </a:moveTo>
                <a:cubicBezTo>
                  <a:pt x="737" y="952"/>
                  <a:pt x="730" y="950"/>
                  <a:pt x="727" y="952"/>
                </a:cubicBezTo>
                <a:cubicBezTo>
                  <a:pt x="728" y="949"/>
                  <a:pt x="731" y="947"/>
                  <a:pt x="736" y="947"/>
                </a:cubicBezTo>
                <a:close/>
                <a:moveTo>
                  <a:pt x="727" y="1030"/>
                </a:moveTo>
                <a:cubicBezTo>
                  <a:pt x="724" y="1027"/>
                  <a:pt x="724" y="1032"/>
                  <a:pt x="720" y="1031"/>
                </a:cubicBezTo>
                <a:cubicBezTo>
                  <a:pt x="722" y="1029"/>
                  <a:pt x="724" y="1027"/>
                  <a:pt x="728" y="1027"/>
                </a:cubicBezTo>
                <a:cubicBezTo>
                  <a:pt x="727" y="1028"/>
                  <a:pt x="727" y="1028"/>
                  <a:pt x="727" y="1030"/>
                </a:cubicBezTo>
                <a:close/>
                <a:moveTo>
                  <a:pt x="759" y="955"/>
                </a:moveTo>
                <a:cubicBezTo>
                  <a:pt x="756" y="955"/>
                  <a:pt x="756" y="957"/>
                  <a:pt x="754" y="955"/>
                </a:cubicBezTo>
                <a:cubicBezTo>
                  <a:pt x="753" y="957"/>
                  <a:pt x="755" y="957"/>
                  <a:pt x="754" y="960"/>
                </a:cubicBezTo>
                <a:cubicBezTo>
                  <a:pt x="747" y="960"/>
                  <a:pt x="739" y="965"/>
                  <a:pt x="737" y="960"/>
                </a:cubicBezTo>
                <a:cubicBezTo>
                  <a:pt x="734" y="961"/>
                  <a:pt x="737" y="962"/>
                  <a:pt x="736" y="965"/>
                </a:cubicBezTo>
                <a:cubicBezTo>
                  <a:pt x="730" y="971"/>
                  <a:pt x="724" y="967"/>
                  <a:pt x="719" y="965"/>
                </a:cubicBezTo>
                <a:cubicBezTo>
                  <a:pt x="720" y="961"/>
                  <a:pt x="727" y="962"/>
                  <a:pt x="726" y="956"/>
                </a:cubicBezTo>
                <a:cubicBezTo>
                  <a:pt x="729" y="956"/>
                  <a:pt x="731" y="954"/>
                  <a:pt x="734" y="953"/>
                </a:cubicBezTo>
                <a:cubicBezTo>
                  <a:pt x="732" y="957"/>
                  <a:pt x="736" y="955"/>
                  <a:pt x="736" y="958"/>
                </a:cubicBezTo>
                <a:cubicBezTo>
                  <a:pt x="743" y="954"/>
                  <a:pt x="749" y="950"/>
                  <a:pt x="761" y="951"/>
                </a:cubicBezTo>
                <a:cubicBezTo>
                  <a:pt x="760" y="952"/>
                  <a:pt x="758" y="952"/>
                  <a:pt x="759" y="955"/>
                </a:cubicBezTo>
                <a:close/>
                <a:moveTo>
                  <a:pt x="764" y="952"/>
                </a:moveTo>
                <a:cubicBezTo>
                  <a:pt x="765" y="950"/>
                  <a:pt x="765" y="947"/>
                  <a:pt x="769" y="948"/>
                </a:cubicBezTo>
                <a:cubicBezTo>
                  <a:pt x="769" y="951"/>
                  <a:pt x="767" y="952"/>
                  <a:pt x="764" y="952"/>
                </a:cubicBezTo>
                <a:close/>
                <a:moveTo>
                  <a:pt x="770" y="948"/>
                </a:moveTo>
                <a:cubicBezTo>
                  <a:pt x="770" y="942"/>
                  <a:pt x="779" y="947"/>
                  <a:pt x="778" y="943"/>
                </a:cubicBezTo>
                <a:cubicBezTo>
                  <a:pt x="782" y="945"/>
                  <a:pt x="774" y="948"/>
                  <a:pt x="770" y="948"/>
                </a:cubicBezTo>
                <a:close/>
                <a:moveTo>
                  <a:pt x="792" y="158"/>
                </a:moveTo>
                <a:cubicBezTo>
                  <a:pt x="787" y="161"/>
                  <a:pt x="782" y="156"/>
                  <a:pt x="777" y="158"/>
                </a:cubicBezTo>
                <a:cubicBezTo>
                  <a:pt x="781" y="157"/>
                  <a:pt x="784" y="147"/>
                  <a:pt x="792" y="147"/>
                </a:cubicBezTo>
                <a:cubicBezTo>
                  <a:pt x="795" y="149"/>
                  <a:pt x="793" y="155"/>
                  <a:pt x="792" y="158"/>
                </a:cubicBezTo>
                <a:close/>
                <a:moveTo>
                  <a:pt x="807" y="821"/>
                </a:moveTo>
                <a:cubicBezTo>
                  <a:pt x="803" y="821"/>
                  <a:pt x="802" y="820"/>
                  <a:pt x="800" y="819"/>
                </a:cubicBezTo>
                <a:cubicBezTo>
                  <a:pt x="800" y="818"/>
                  <a:pt x="801" y="818"/>
                  <a:pt x="801" y="819"/>
                </a:cubicBezTo>
                <a:cubicBezTo>
                  <a:pt x="804" y="819"/>
                  <a:pt x="803" y="816"/>
                  <a:pt x="806" y="816"/>
                </a:cubicBezTo>
                <a:cubicBezTo>
                  <a:pt x="806" y="813"/>
                  <a:pt x="805" y="813"/>
                  <a:pt x="805" y="810"/>
                </a:cubicBezTo>
                <a:cubicBezTo>
                  <a:pt x="808" y="809"/>
                  <a:pt x="811" y="808"/>
                  <a:pt x="809" y="804"/>
                </a:cubicBezTo>
                <a:cubicBezTo>
                  <a:pt x="812" y="802"/>
                  <a:pt x="815" y="802"/>
                  <a:pt x="817" y="800"/>
                </a:cubicBezTo>
                <a:cubicBezTo>
                  <a:pt x="816" y="799"/>
                  <a:pt x="815" y="798"/>
                  <a:pt x="816" y="795"/>
                </a:cubicBezTo>
                <a:cubicBezTo>
                  <a:pt x="818" y="795"/>
                  <a:pt x="819" y="796"/>
                  <a:pt x="819" y="798"/>
                </a:cubicBezTo>
                <a:cubicBezTo>
                  <a:pt x="820" y="798"/>
                  <a:pt x="820" y="796"/>
                  <a:pt x="822" y="796"/>
                </a:cubicBezTo>
                <a:cubicBezTo>
                  <a:pt x="821" y="794"/>
                  <a:pt x="820" y="792"/>
                  <a:pt x="821" y="789"/>
                </a:cubicBezTo>
                <a:cubicBezTo>
                  <a:pt x="827" y="789"/>
                  <a:pt x="828" y="788"/>
                  <a:pt x="831" y="791"/>
                </a:cubicBezTo>
                <a:cubicBezTo>
                  <a:pt x="830" y="795"/>
                  <a:pt x="827" y="797"/>
                  <a:pt x="825" y="800"/>
                </a:cubicBezTo>
                <a:cubicBezTo>
                  <a:pt x="825" y="802"/>
                  <a:pt x="828" y="801"/>
                  <a:pt x="827" y="804"/>
                </a:cubicBezTo>
                <a:cubicBezTo>
                  <a:pt x="830" y="803"/>
                  <a:pt x="830" y="798"/>
                  <a:pt x="834" y="798"/>
                </a:cubicBezTo>
                <a:cubicBezTo>
                  <a:pt x="828" y="809"/>
                  <a:pt x="815" y="812"/>
                  <a:pt x="807" y="821"/>
                </a:cubicBezTo>
                <a:close/>
                <a:moveTo>
                  <a:pt x="833" y="931"/>
                </a:moveTo>
                <a:cubicBezTo>
                  <a:pt x="834" y="930"/>
                  <a:pt x="836" y="929"/>
                  <a:pt x="836" y="927"/>
                </a:cubicBezTo>
                <a:cubicBezTo>
                  <a:pt x="837" y="927"/>
                  <a:pt x="838" y="928"/>
                  <a:pt x="839" y="928"/>
                </a:cubicBezTo>
                <a:cubicBezTo>
                  <a:pt x="839" y="931"/>
                  <a:pt x="835" y="933"/>
                  <a:pt x="833" y="931"/>
                </a:cubicBezTo>
                <a:close/>
                <a:moveTo>
                  <a:pt x="825" y="917"/>
                </a:moveTo>
                <a:cubicBezTo>
                  <a:pt x="827" y="913"/>
                  <a:pt x="831" y="911"/>
                  <a:pt x="839" y="912"/>
                </a:cubicBezTo>
                <a:cubicBezTo>
                  <a:pt x="837" y="918"/>
                  <a:pt x="830" y="918"/>
                  <a:pt x="825" y="917"/>
                </a:cubicBezTo>
                <a:close/>
                <a:moveTo>
                  <a:pt x="842" y="927"/>
                </a:moveTo>
                <a:cubicBezTo>
                  <a:pt x="842" y="925"/>
                  <a:pt x="843" y="924"/>
                  <a:pt x="843" y="923"/>
                </a:cubicBezTo>
                <a:cubicBezTo>
                  <a:pt x="847" y="923"/>
                  <a:pt x="846" y="928"/>
                  <a:pt x="842" y="927"/>
                </a:cubicBezTo>
                <a:close/>
                <a:moveTo>
                  <a:pt x="1212" y="837"/>
                </a:moveTo>
                <a:cubicBezTo>
                  <a:pt x="1209" y="840"/>
                  <a:pt x="1207" y="844"/>
                  <a:pt x="1202" y="844"/>
                </a:cubicBezTo>
                <a:cubicBezTo>
                  <a:pt x="1206" y="842"/>
                  <a:pt x="1207" y="838"/>
                  <a:pt x="1212" y="837"/>
                </a:cubicBezTo>
                <a:close/>
                <a:moveTo>
                  <a:pt x="1168" y="859"/>
                </a:moveTo>
                <a:cubicBezTo>
                  <a:pt x="1168" y="863"/>
                  <a:pt x="1163" y="862"/>
                  <a:pt x="1160" y="863"/>
                </a:cubicBezTo>
                <a:cubicBezTo>
                  <a:pt x="1162" y="861"/>
                  <a:pt x="1164" y="859"/>
                  <a:pt x="1168" y="859"/>
                </a:cubicBezTo>
                <a:close/>
                <a:moveTo>
                  <a:pt x="1156" y="828"/>
                </a:moveTo>
                <a:cubicBezTo>
                  <a:pt x="1158" y="828"/>
                  <a:pt x="1158" y="831"/>
                  <a:pt x="1157" y="833"/>
                </a:cubicBezTo>
                <a:cubicBezTo>
                  <a:pt x="1154" y="833"/>
                  <a:pt x="1154" y="829"/>
                  <a:pt x="1156" y="828"/>
                </a:cubicBezTo>
                <a:close/>
                <a:moveTo>
                  <a:pt x="1189" y="759"/>
                </a:moveTo>
                <a:cubicBezTo>
                  <a:pt x="1192" y="759"/>
                  <a:pt x="1192" y="759"/>
                  <a:pt x="1192" y="759"/>
                </a:cubicBezTo>
                <a:cubicBezTo>
                  <a:pt x="1193" y="764"/>
                  <a:pt x="1187" y="764"/>
                  <a:pt x="1189" y="759"/>
                </a:cubicBezTo>
                <a:close/>
                <a:moveTo>
                  <a:pt x="1193" y="775"/>
                </a:moveTo>
                <a:cubicBezTo>
                  <a:pt x="1193" y="776"/>
                  <a:pt x="1192" y="777"/>
                  <a:pt x="1192" y="779"/>
                </a:cubicBezTo>
                <a:cubicBezTo>
                  <a:pt x="1189" y="778"/>
                  <a:pt x="1189" y="781"/>
                  <a:pt x="1187" y="779"/>
                </a:cubicBezTo>
                <a:cubicBezTo>
                  <a:pt x="1186" y="775"/>
                  <a:pt x="1191" y="776"/>
                  <a:pt x="1193" y="775"/>
                </a:cubicBezTo>
                <a:close/>
                <a:moveTo>
                  <a:pt x="1155" y="784"/>
                </a:moveTo>
                <a:cubicBezTo>
                  <a:pt x="1153" y="780"/>
                  <a:pt x="1156" y="773"/>
                  <a:pt x="1162" y="773"/>
                </a:cubicBezTo>
                <a:cubicBezTo>
                  <a:pt x="1159" y="777"/>
                  <a:pt x="1159" y="783"/>
                  <a:pt x="1155" y="784"/>
                </a:cubicBezTo>
                <a:close/>
                <a:moveTo>
                  <a:pt x="1165" y="754"/>
                </a:moveTo>
                <a:cubicBezTo>
                  <a:pt x="1167" y="752"/>
                  <a:pt x="1171" y="750"/>
                  <a:pt x="1175" y="750"/>
                </a:cubicBezTo>
                <a:cubicBezTo>
                  <a:pt x="1175" y="751"/>
                  <a:pt x="1175" y="753"/>
                  <a:pt x="1176" y="753"/>
                </a:cubicBezTo>
                <a:cubicBezTo>
                  <a:pt x="1172" y="757"/>
                  <a:pt x="1167" y="760"/>
                  <a:pt x="1161" y="762"/>
                </a:cubicBezTo>
                <a:cubicBezTo>
                  <a:pt x="1161" y="764"/>
                  <a:pt x="1162" y="764"/>
                  <a:pt x="1162" y="766"/>
                </a:cubicBezTo>
                <a:cubicBezTo>
                  <a:pt x="1158" y="768"/>
                  <a:pt x="1154" y="772"/>
                  <a:pt x="1147" y="772"/>
                </a:cubicBezTo>
                <a:cubicBezTo>
                  <a:pt x="1146" y="767"/>
                  <a:pt x="1146" y="765"/>
                  <a:pt x="1145" y="761"/>
                </a:cubicBezTo>
                <a:cubicBezTo>
                  <a:pt x="1148" y="756"/>
                  <a:pt x="1160" y="741"/>
                  <a:pt x="1165" y="754"/>
                </a:cubicBezTo>
                <a:close/>
                <a:moveTo>
                  <a:pt x="1145" y="668"/>
                </a:moveTo>
                <a:cubicBezTo>
                  <a:pt x="1145" y="669"/>
                  <a:pt x="1144" y="676"/>
                  <a:pt x="1140" y="677"/>
                </a:cubicBezTo>
                <a:cubicBezTo>
                  <a:pt x="1141" y="674"/>
                  <a:pt x="1139" y="672"/>
                  <a:pt x="1139" y="670"/>
                </a:cubicBezTo>
                <a:cubicBezTo>
                  <a:pt x="1141" y="668"/>
                  <a:pt x="1143" y="670"/>
                  <a:pt x="1145" y="668"/>
                </a:cubicBezTo>
                <a:close/>
                <a:moveTo>
                  <a:pt x="1036" y="490"/>
                </a:moveTo>
                <a:cubicBezTo>
                  <a:pt x="1038" y="489"/>
                  <a:pt x="1037" y="493"/>
                  <a:pt x="1040" y="492"/>
                </a:cubicBezTo>
                <a:cubicBezTo>
                  <a:pt x="1040" y="495"/>
                  <a:pt x="1038" y="495"/>
                  <a:pt x="1035" y="495"/>
                </a:cubicBezTo>
                <a:cubicBezTo>
                  <a:pt x="1035" y="493"/>
                  <a:pt x="1035" y="491"/>
                  <a:pt x="1036" y="490"/>
                </a:cubicBezTo>
                <a:close/>
                <a:moveTo>
                  <a:pt x="1022" y="489"/>
                </a:moveTo>
                <a:cubicBezTo>
                  <a:pt x="1026" y="489"/>
                  <a:pt x="1027" y="493"/>
                  <a:pt x="1031" y="493"/>
                </a:cubicBezTo>
                <a:cubicBezTo>
                  <a:pt x="1028" y="497"/>
                  <a:pt x="1032" y="497"/>
                  <a:pt x="1029" y="501"/>
                </a:cubicBezTo>
                <a:cubicBezTo>
                  <a:pt x="1026" y="501"/>
                  <a:pt x="1022" y="502"/>
                  <a:pt x="1022" y="499"/>
                </a:cubicBezTo>
                <a:cubicBezTo>
                  <a:pt x="1022" y="501"/>
                  <a:pt x="1018" y="504"/>
                  <a:pt x="1015" y="505"/>
                </a:cubicBezTo>
                <a:cubicBezTo>
                  <a:pt x="1015" y="503"/>
                  <a:pt x="1017" y="501"/>
                  <a:pt x="1014" y="500"/>
                </a:cubicBezTo>
                <a:cubicBezTo>
                  <a:pt x="1015" y="495"/>
                  <a:pt x="1021" y="495"/>
                  <a:pt x="1022" y="489"/>
                </a:cubicBezTo>
                <a:close/>
                <a:moveTo>
                  <a:pt x="1019" y="562"/>
                </a:moveTo>
                <a:cubicBezTo>
                  <a:pt x="1020" y="566"/>
                  <a:pt x="1011" y="565"/>
                  <a:pt x="1014" y="567"/>
                </a:cubicBezTo>
                <a:cubicBezTo>
                  <a:pt x="1013" y="568"/>
                  <a:pt x="1010" y="568"/>
                  <a:pt x="1008" y="569"/>
                </a:cubicBezTo>
                <a:cubicBezTo>
                  <a:pt x="1010" y="564"/>
                  <a:pt x="1016" y="565"/>
                  <a:pt x="1019" y="562"/>
                </a:cubicBezTo>
                <a:close/>
                <a:moveTo>
                  <a:pt x="1011" y="730"/>
                </a:moveTo>
                <a:cubicBezTo>
                  <a:pt x="1017" y="732"/>
                  <a:pt x="1019" y="728"/>
                  <a:pt x="1023" y="728"/>
                </a:cubicBezTo>
                <a:cubicBezTo>
                  <a:pt x="1023" y="733"/>
                  <a:pt x="1023" y="733"/>
                  <a:pt x="1023" y="733"/>
                </a:cubicBezTo>
                <a:cubicBezTo>
                  <a:pt x="1019" y="736"/>
                  <a:pt x="1016" y="738"/>
                  <a:pt x="1012" y="740"/>
                </a:cubicBezTo>
                <a:cubicBezTo>
                  <a:pt x="1010" y="739"/>
                  <a:pt x="1012" y="739"/>
                  <a:pt x="1014" y="739"/>
                </a:cubicBezTo>
                <a:cubicBezTo>
                  <a:pt x="1011" y="736"/>
                  <a:pt x="1011" y="735"/>
                  <a:pt x="1011" y="730"/>
                </a:cubicBezTo>
                <a:close/>
                <a:moveTo>
                  <a:pt x="997" y="716"/>
                </a:moveTo>
                <a:cubicBezTo>
                  <a:pt x="1001" y="716"/>
                  <a:pt x="1002" y="713"/>
                  <a:pt x="1005" y="714"/>
                </a:cubicBezTo>
                <a:cubicBezTo>
                  <a:pt x="1005" y="719"/>
                  <a:pt x="1010" y="718"/>
                  <a:pt x="1013" y="720"/>
                </a:cubicBezTo>
                <a:cubicBezTo>
                  <a:pt x="1013" y="724"/>
                  <a:pt x="1010" y="723"/>
                  <a:pt x="1008" y="725"/>
                </a:cubicBezTo>
                <a:cubicBezTo>
                  <a:pt x="1007" y="725"/>
                  <a:pt x="1006" y="723"/>
                  <a:pt x="1006" y="721"/>
                </a:cubicBezTo>
                <a:cubicBezTo>
                  <a:pt x="1003" y="723"/>
                  <a:pt x="1002" y="726"/>
                  <a:pt x="998" y="727"/>
                </a:cubicBezTo>
                <a:cubicBezTo>
                  <a:pt x="998" y="724"/>
                  <a:pt x="1003" y="723"/>
                  <a:pt x="1001" y="720"/>
                </a:cubicBezTo>
                <a:cubicBezTo>
                  <a:pt x="1000" y="720"/>
                  <a:pt x="1000" y="722"/>
                  <a:pt x="1000" y="723"/>
                </a:cubicBezTo>
                <a:cubicBezTo>
                  <a:pt x="995" y="722"/>
                  <a:pt x="997" y="720"/>
                  <a:pt x="997" y="716"/>
                </a:cubicBezTo>
                <a:close/>
                <a:moveTo>
                  <a:pt x="1000" y="751"/>
                </a:moveTo>
                <a:cubicBezTo>
                  <a:pt x="998" y="750"/>
                  <a:pt x="998" y="747"/>
                  <a:pt x="996" y="745"/>
                </a:cubicBezTo>
                <a:cubicBezTo>
                  <a:pt x="999" y="743"/>
                  <a:pt x="1003" y="748"/>
                  <a:pt x="1000" y="751"/>
                </a:cubicBezTo>
                <a:close/>
                <a:moveTo>
                  <a:pt x="997" y="800"/>
                </a:moveTo>
                <a:cubicBezTo>
                  <a:pt x="997" y="802"/>
                  <a:pt x="997" y="802"/>
                  <a:pt x="997" y="802"/>
                </a:cubicBezTo>
                <a:cubicBezTo>
                  <a:pt x="995" y="802"/>
                  <a:pt x="995" y="804"/>
                  <a:pt x="994" y="802"/>
                </a:cubicBezTo>
                <a:cubicBezTo>
                  <a:pt x="994" y="800"/>
                  <a:pt x="994" y="800"/>
                  <a:pt x="994" y="800"/>
                </a:cubicBezTo>
                <a:cubicBezTo>
                  <a:pt x="995" y="799"/>
                  <a:pt x="995" y="800"/>
                  <a:pt x="997" y="800"/>
                </a:cubicBezTo>
                <a:close/>
                <a:moveTo>
                  <a:pt x="994" y="743"/>
                </a:moveTo>
                <a:cubicBezTo>
                  <a:pt x="994" y="747"/>
                  <a:pt x="990" y="747"/>
                  <a:pt x="987" y="748"/>
                </a:cubicBezTo>
                <a:cubicBezTo>
                  <a:pt x="988" y="743"/>
                  <a:pt x="991" y="744"/>
                  <a:pt x="994" y="743"/>
                </a:cubicBezTo>
                <a:close/>
                <a:moveTo>
                  <a:pt x="991" y="494"/>
                </a:moveTo>
                <a:cubicBezTo>
                  <a:pt x="989" y="496"/>
                  <a:pt x="989" y="499"/>
                  <a:pt x="985" y="498"/>
                </a:cubicBezTo>
                <a:cubicBezTo>
                  <a:pt x="987" y="496"/>
                  <a:pt x="987" y="494"/>
                  <a:pt x="991" y="494"/>
                </a:cubicBezTo>
                <a:close/>
                <a:moveTo>
                  <a:pt x="990" y="534"/>
                </a:moveTo>
                <a:cubicBezTo>
                  <a:pt x="989" y="538"/>
                  <a:pt x="986" y="539"/>
                  <a:pt x="983" y="540"/>
                </a:cubicBezTo>
                <a:cubicBezTo>
                  <a:pt x="983" y="539"/>
                  <a:pt x="982" y="538"/>
                  <a:pt x="981" y="538"/>
                </a:cubicBezTo>
                <a:cubicBezTo>
                  <a:pt x="982" y="536"/>
                  <a:pt x="987" y="533"/>
                  <a:pt x="990" y="534"/>
                </a:cubicBezTo>
                <a:close/>
                <a:moveTo>
                  <a:pt x="971" y="775"/>
                </a:moveTo>
                <a:cubicBezTo>
                  <a:pt x="970" y="778"/>
                  <a:pt x="968" y="777"/>
                  <a:pt x="966" y="777"/>
                </a:cubicBezTo>
                <a:cubicBezTo>
                  <a:pt x="966" y="775"/>
                  <a:pt x="968" y="775"/>
                  <a:pt x="971" y="775"/>
                </a:cubicBezTo>
                <a:close/>
                <a:moveTo>
                  <a:pt x="969" y="724"/>
                </a:moveTo>
                <a:cubicBezTo>
                  <a:pt x="967" y="727"/>
                  <a:pt x="963" y="731"/>
                  <a:pt x="965" y="735"/>
                </a:cubicBezTo>
                <a:cubicBezTo>
                  <a:pt x="963" y="735"/>
                  <a:pt x="960" y="741"/>
                  <a:pt x="955" y="741"/>
                </a:cubicBezTo>
                <a:cubicBezTo>
                  <a:pt x="955" y="739"/>
                  <a:pt x="956" y="735"/>
                  <a:pt x="960" y="733"/>
                </a:cubicBezTo>
                <a:cubicBezTo>
                  <a:pt x="960" y="731"/>
                  <a:pt x="958" y="731"/>
                  <a:pt x="956" y="730"/>
                </a:cubicBezTo>
                <a:cubicBezTo>
                  <a:pt x="957" y="723"/>
                  <a:pt x="964" y="724"/>
                  <a:pt x="969" y="724"/>
                </a:cubicBezTo>
                <a:close/>
                <a:moveTo>
                  <a:pt x="961" y="751"/>
                </a:moveTo>
                <a:cubicBezTo>
                  <a:pt x="959" y="751"/>
                  <a:pt x="959" y="749"/>
                  <a:pt x="956" y="750"/>
                </a:cubicBezTo>
                <a:cubicBezTo>
                  <a:pt x="957" y="747"/>
                  <a:pt x="961" y="746"/>
                  <a:pt x="964" y="745"/>
                </a:cubicBezTo>
                <a:cubicBezTo>
                  <a:pt x="965" y="749"/>
                  <a:pt x="962" y="749"/>
                  <a:pt x="961" y="751"/>
                </a:cubicBezTo>
                <a:close/>
                <a:moveTo>
                  <a:pt x="932" y="784"/>
                </a:moveTo>
                <a:cubicBezTo>
                  <a:pt x="933" y="782"/>
                  <a:pt x="934" y="776"/>
                  <a:pt x="931" y="775"/>
                </a:cubicBezTo>
                <a:cubicBezTo>
                  <a:pt x="933" y="773"/>
                  <a:pt x="934" y="771"/>
                  <a:pt x="938" y="770"/>
                </a:cubicBezTo>
                <a:cubicBezTo>
                  <a:pt x="938" y="773"/>
                  <a:pt x="937" y="774"/>
                  <a:pt x="936" y="774"/>
                </a:cubicBezTo>
                <a:cubicBezTo>
                  <a:pt x="938" y="777"/>
                  <a:pt x="943" y="778"/>
                  <a:pt x="944" y="782"/>
                </a:cubicBezTo>
                <a:cubicBezTo>
                  <a:pt x="946" y="780"/>
                  <a:pt x="950" y="777"/>
                  <a:pt x="953" y="780"/>
                </a:cubicBezTo>
                <a:cubicBezTo>
                  <a:pt x="952" y="788"/>
                  <a:pt x="943" y="787"/>
                  <a:pt x="939" y="791"/>
                </a:cubicBezTo>
                <a:cubicBezTo>
                  <a:pt x="936" y="791"/>
                  <a:pt x="934" y="790"/>
                  <a:pt x="933" y="789"/>
                </a:cubicBezTo>
                <a:cubicBezTo>
                  <a:pt x="933" y="786"/>
                  <a:pt x="938" y="787"/>
                  <a:pt x="938" y="784"/>
                </a:cubicBezTo>
                <a:cubicBezTo>
                  <a:pt x="937" y="782"/>
                  <a:pt x="935" y="786"/>
                  <a:pt x="932" y="784"/>
                </a:cubicBezTo>
                <a:close/>
                <a:moveTo>
                  <a:pt x="932" y="742"/>
                </a:moveTo>
                <a:cubicBezTo>
                  <a:pt x="936" y="741"/>
                  <a:pt x="934" y="747"/>
                  <a:pt x="933" y="747"/>
                </a:cubicBezTo>
                <a:cubicBezTo>
                  <a:pt x="931" y="747"/>
                  <a:pt x="933" y="743"/>
                  <a:pt x="932" y="742"/>
                </a:cubicBezTo>
                <a:close/>
                <a:moveTo>
                  <a:pt x="950" y="519"/>
                </a:moveTo>
                <a:cubicBezTo>
                  <a:pt x="948" y="519"/>
                  <a:pt x="948" y="519"/>
                  <a:pt x="948" y="519"/>
                </a:cubicBezTo>
                <a:cubicBezTo>
                  <a:pt x="948" y="519"/>
                  <a:pt x="948" y="520"/>
                  <a:pt x="949" y="520"/>
                </a:cubicBezTo>
                <a:cubicBezTo>
                  <a:pt x="948" y="522"/>
                  <a:pt x="945" y="518"/>
                  <a:pt x="945" y="517"/>
                </a:cubicBezTo>
                <a:cubicBezTo>
                  <a:pt x="946" y="515"/>
                  <a:pt x="951" y="515"/>
                  <a:pt x="950" y="519"/>
                </a:cubicBezTo>
                <a:close/>
                <a:moveTo>
                  <a:pt x="952" y="550"/>
                </a:moveTo>
                <a:cubicBezTo>
                  <a:pt x="954" y="553"/>
                  <a:pt x="946" y="553"/>
                  <a:pt x="948" y="550"/>
                </a:cubicBezTo>
                <a:cubicBezTo>
                  <a:pt x="948" y="550"/>
                  <a:pt x="952" y="548"/>
                  <a:pt x="952" y="550"/>
                </a:cubicBezTo>
                <a:close/>
                <a:moveTo>
                  <a:pt x="949" y="732"/>
                </a:moveTo>
                <a:cubicBezTo>
                  <a:pt x="949" y="731"/>
                  <a:pt x="950" y="730"/>
                  <a:pt x="950" y="729"/>
                </a:cubicBezTo>
                <a:cubicBezTo>
                  <a:pt x="953" y="728"/>
                  <a:pt x="953" y="730"/>
                  <a:pt x="953" y="732"/>
                </a:cubicBezTo>
                <a:lnTo>
                  <a:pt x="949" y="732"/>
                </a:lnTo>
                <a:close/>
                <a:moveTo>
                  <a:pt x="949" y="709"/>
                </a:moveTo>
                <a:cubicBezTo>
                  <a:pt x="949" y="707"/>
                  <a:pt x="948" y="706"/>
                  <a:pt x="948" y="707"/>
                </a:cubicBezTo>
                <a:cubicBezTo>
                  <a:pt x="946" y="703"/>
                  <a:pt x="957" y="702"/>
                  <a:pt x="960" y="704"/>
                </a:cubicBezTo>
                <a:cubicBezTo>
                  <a:pt x="957" y="707"/>
                  <a:pt x="954" y="709"/>
                  <a:pt x="949" y="709"/>
                </a:cubicBezTo>
                <a:close/>
                <a:moveTo>
                  <a:pt x="946" y="472"/>
                </a:moveTo>
                <a:cubicBezTo>
                  <a:pt x="951" y="469"/>
                  <a:pt x="956" y="466"/>
                  <a:pt x="961" y="464"/>
                </a:cubicBezTo>
                <a:cubicBezTo>
                  <a:pt x="962" y="466"/>
                  <a:pt x="964" y="469"/>
                  <a:pt x="966" y="469"/>
                </a:cubicBezTo>
                <a:cubicBezTo>
                  <a:pt x="966" y="472"/>
                  <a:pt x="963" y="473"/>
                  <a:pt x="961" y="475"/>
                </a:cubicBezTo>
                <a:cubicBezTo>
                  <a:pt x="962" y="477"/>
                  <a:pt x="967" y="473"/>
                  <a:pt x="966" y="478"/>
                </a:cubicBezTo>
                <a:cubicBezTo>
                  <a:pt x="970" y="477"/>
                  <a:pt x="969" y="476"/>
                  <a:pt x="972" y="476"/>
                </a:cubicBezTo>
                <a:cubicBezTo>
                  <a:pt x="972" y="477"/>
                  <a:pt x="973" y="478"/>
                  <a:pt x="973" y="478"/>
                </a:cubicBezTo>
                <a:cubicBezTo>
                  <a:pt x="970" y="481"/>
                  <a:pt x="965" y="483"/>
                  <a:pt x="964" y="489"/>
                </a:cubicBezTo>
                <a:cubicBezTo>
                  <a:pt x="955" y="488"/>
                  <a:pt x="958" y="500"/>
                  <a:pt x="951" y="502"/>
                </a:cubicBezTo>
                <a:cubicBezTo>
                  <a:pt x="952" y="503"/>
                  <a:pt x="952" y="504"/>
                  <a:pt x="952" y="506"/>
                </a:cubicBezTo>
                <a:cubicBezTo>
                  <a:pt x="958" y="504"/>
                  <a:pt x="964" y="497"/>
                  <a:pt x="970" y="498"/>
                </a:cubicBezTo>
                <a:cubicBezTo>
                  <a:pt x="970" y="505"/>
                  <a:pt x="965" y="501"/>
                  <a:pt x="965" y="507"/>
                </a:cubicBezTo>
                <a:cubicBezTo>
                  <a:pt x="964" y="506"/>
                  <a:pt x="965" y="505"/>
                  <a:pt x="963" y="505"/>
                </a:cubicBezTo>
                <a:cubicBezTo>
                  <a:pt x="959" y="507"/>
                  <a:pt x="963" y="516"/>
                  <a:pt x="955" y="516"/>
                </a:cubicBezTo>
                <a:cubicBezTo>
                  <a:pt x="955" y="510"/>
                  <a:pt x="954" y="514"/>
                  <a:pt x="952" y="509"/>
                </a:cubicBezTo>
                <a:cubicBezTo>
                  <a:pt x="950" y="509"/>
                  <a:pt x="951" y="512"/>
                  <a:pt x="949" y="511"/>
                </a:cubicBezTo>
                <a:cubicBezTo>
                  <a:pt x="948" y="507"/>
                  <a:pt x="953" y="506"/>
                  <a:pt x="950" y="504"/>
                </a:cubicBezTo>
                <a:cubicBezTo>
                  <a:pt x="948" y="503"/>
                  <a:pt x="937" y="502"/>
                  <a:pt x="941" y="494"/>
                </a:cubicBezTo>
                <a:cubicBezTo>
                  <a:pt x="943" y="493"/>
                  <a:pt x="944" y="496"/>
                  <a:pt x="946" y="494"/>
                </a:cubicBezTo>
                <a:cubicBezTo>
                  <a:pt x="946" y="492"/>
                  <a:pt x="944" y="492"/>
                  <a:pt x="941" y="492"/>
                </a:cubicBezTo>
                <a:cubicBezTo>
                  <a:pt x="943" y="488"/>
                  <a:pt x="944" y="485"/>
                  <a:pt x="939" y="484"/>
                </a:cubicBezTo>
                <a:cubicBezTo>
                  <a:pt x="940" y="478"/>
                  <a:pt x="945" y="478"/>
                  <a:pt x="946" y="472"/>
                </a:cubicBezTo>
                <a:close/>
                <a:moveTo>
                  <a:pt x="933" y="152"/>
                </a:moveTo>
                <a:cubicBezTo>
                  <a:pt x="941" y="148"/>
                  <a:pt x="947" y="142"/>
                  <a:pt x="959" y="145"/>
                </a:cubicBezTo>
                <a:cubicBezTo>
                  <a:pt x="958" y="148"/>
                  <a:pt x="960" y="149"/>
                  <a:pt x="960" y="151"/>
                </a:cubicBezTo>
                <a:cubicBezTo>
                  <a:pt x="951" y="156"/>
                  <a:pt x="940" y="153"/>
                  <a:pt x="932" y="159"/>
                </a:cubicBezTo>
                <a:cubicBezTo>
                  <a:pt x="933" y="155"/>
                  <a:pt x="936" y="156"/>
                  <a:pt x="933" y="152"/>
                </a:cubicBezTo>
                <a:close/>
                <a:moveTo>
                  <a:pt x="938" y="189"/>
                </a:moveTo>
                <a:cubicBezTo>
                  <a:pt x="929" y="190"/>
                  <a:pt x="924" y="197"/>
                  <a:pt x="915" y="200"/>
                </a:cubicBezTo>
                <a:cubicBezTo>
                  <a:pt x="920" y="194"/>
                  <a:pt x="928" y="187"/>
                  <a:pt x="938" y="189"/>
                </a:cubicBezTo>
                <a:close/>
                <a:moveTo>
                  <a:pt x="911" y="762"/>
                </a:moveTo>
                <a:cubicBezTo>
                  <a:pt x="911" y="755"/>
                  <a:pt x="917" y="760"/>
                  <a:pt x="917" y="753"/>
                </a:cubicBezTo>
                <a:cubicBezTo>
                  <a:pt x="920" y="756"/>
                  <a:pt x="922" y="749"/>
                  <a:pt x="927" y="753"/>
                </a:cubicBezTo>
                <a:cubicBezTo>
                  <a:pt x="926" y="759"/>
                  <a:pt x="920" y="763"/>
                  <a:pt x="914" y="761"/>
                </a:cubicBezTo>
                <a:cubicBezTo>
                  <a:pt x="917" y="763"/>
                  <a:pt x="913" y="765"/>
                  <a:pt x="911" y="762"/>
                </a:cubicBezTo>
                <a:close/>
                <a:moveTo>
                  <a:pt x="928" y="765"/>
                </a:moveTo>
                <a:cubicBezTo>
                  <a:pt x="924" y="765"/>
                  <a:pt x="924" y="765"/>
                  <a:pt x="924" y="765"/>
                </a:cubicBezTo>
                <a:cubicBezTo>
                  <a:pt x="923" y="762"/>
                  <a:pt x="926" y="763"/>
                  <a:pt x="927" y="761"/>
                </a:cubicBezTo>
                <a:cubicBezTo>
                  <a:pt x="928" y="761"/>
                  <a:pt x="927" y="763"/>
                  <a:pt x="928" y="765"/>
                </a:cubicBezTo>
                <a:close/>
                <a:moveTo>
                  <a:pt x="931" y="791"/>
                </a:moveTo>
                <a:cubicBezTo>
                  <a:pt x="930" y="795"/>
                  <a:pt x="926" y="796"/>
                  <a:pt x="921" y="796"/>
                </a:cubicBezTo>
                <a:cubicBezTo>
                  <a:pt x="922" y="792"/>
                  <a:pt x="927" y="792"/>
                  <a:pt x="931" y="791"/>
                </a:cubicBezTo>
                <a:close/>
                <a:moveTo>
                  <a:pt x="915" y="730"/>
                </a:moveTo>
                <a:cubicBezTo>
                  <a:pt x="916" y="733"/>
                  <a:pt x="913" y="733"/>
                  <a:pt x="913" y="735"/>
                </a:cubicBezTo>
                <a:cubicBezTo>
                  <a:pt x="912" y="734"/>
                  <a:pt x="911" y="733"/>
                  <a:pt x="911" y="731"/>
                </a:cubicBezTo>
                <a:cubicBezTo>
                  <a:pt x="912" y="731"/>
                  <a:pt x="913" y="730"/>
                  <a:pt x="915" y="730"/>
                </a:cubicBezTo>
                <a:close/>
                <a:moveTo>
                  <a:pt x="908" y="746"/>
                </a:moveTo>
                <a:cubicBezTo>
                  <a:pt x="909" y="743"/>
                  <a:pt x="912" y="743"/>
                  <a:pt x="912" y="740"/>
                </a:cubicBezTo>
                <a:cubicBezTo>
                  <a:pt x="913" y="740"/>
                  <a:pt x="915" y="740"/>
                  <a:pt x="915" y="739"/>
                </a:cubicBezTo>
                <a:cubicBezTo>
                  <a:pt x="917" y="741"/>
                  <a:pt x="912" y="743"/>
                  <a:pt x="911" y="744"/>
                </a:cubicBezTo>
                <a:cubicBezTo>
                  <a:pt x="913" y="748"/>
                  <a:pt x="913" y="749"/>
                  <a:pt x="911" y="753"/>
                </a:cubicBezTo>
                <a:cubicBezTo>
                  <a:pt x="908" y="753"/>
                  <a:pt x="906" y="753"/>
                  <a:pt x="906" y="755"/>
                </a:cubicBezTo>
                <a:cubicBezTo>
                  <a:pt x="904" y="753"/>
                  <a:pt x="902" y="750"/>
                  <a:pt x="899" y="749"/>
                </a:cubicBezTo>
                <a:cubicBezTo>
                  <a:pt x="899" y="745"/>
                  <a:pt x="905" y="744"/>
                  <a:pt x="908" y="746"/>
                </a:cubicBezTo>
                <a:close/>
                <a:moveTo>
                  <a:pt x="898" y="860"/>
                </a:moveTo>
                <a:cubicBezTo>
                  <a:pt x="902" y="860"/>
                  <a:pt x="902" y="865"/>
                  <a:pt x="898" y="865"/>
                </a:cubicBezTo>
                <a:cubicBezTo>
                  <a:pt x="899" y="862"/>
                  <a:pt x="899" y="863"/>
                  <a:pt x="898" y="860"/>
                </a:cubicBezTo>
                <a:close/>
                <a:moveTo>
                  <a:pt x="900" y="872"/>
                </a:moveTo>
                <a:cubicBezTo>
                  <a:pt x="901" y="872"/>
                  <a:pt x="901" y="875"/>
                  <a:pt x="902" y="876"/>
                </a:cubicBezTo>
                <a:cubicBezTo>
                  <a:pt x="899" y="879"/>
                  <a:pt x="896" y="883"/>
                  <a:pt x="892" y="884"/>
                </a:cubicBezTo>
                <a:cubicBezTo>
                  <a:pt x="892" y="883"/>
                  <a:pt x="891" y="883"/>
                  <a:pt x="890" y="883"/>
                </a:cubicBezTo>
                <a:cubicBezTo>
                  <a:pt x="892" y="879"/>
                  <a:pt x="894" y="877"/>
                  <a:pt x="895" y="874"/>
                </a:cubicBezTo>
                <a:cubicBezTo>
                  <a:pt x="898" y="874"/>
                  <a:pt x="900" y="874"/>
                  <a:pt x="900" y="872"/>
                </a:cubicBezTo>
                <a:close/>
                <a:moveTo>
                  <a:pt x="901" y="841"/>
                </a:moveTo>
                <a:cubicBezTo>
                  <a:pt x="901" y="840"/>
                  <a:pt x="902" y="839"/>
                  <a:pt x="902" y="838"/>
                </a:cubicBezTo>
                <a:cubicBezTo>
                  <a:pt x="906" y="838"/>
                  <a:pt x="906" y="838"/>
                  <a:pt x="906" y="838"/>
                </a:cubicBezTo>
                <a:cubicBezTo>
                  <a:pt x="906" y="841"/>
                  <a:pt x="904" y="841"/>
                  <a:pt x="901" y="841"/>
                </a:cubicBezTo>
                <a:close/>
                <a:moveTo>
                  <a:pt x="898" y="109"/>
                </a:moveTo>
                <a:cubicBezTo>
                  <a:pt x="894" y="111"/>
                  <a:pt x="889" y="112"/>
                  <a:pt x="885" y="114"/>
                </a:cubicBezTo>
                <a:cubicBezTo>
                  <a:pt x="886" y="109"/>
                  <a:pt x="893" y="107"/>
                  <a:pt x="898" y="109"/>
                </a:cubicBezTo>
                <a:close/>
                <a:moveTo>
                  <a:pt x="895" y="782"/>
                </a:moveTo>
                <a:cubicBezTo>
                  <a:pt x="893" y="782"/>
                  <a:pt x="893" y="780"/>
                  <a:pt x="893" y="778"/>
                </a:cubicBezTo>
                <a:cubicBezTo>
                  <a:pt x="894" y="778"/>
                  <a:pt x="896" y="778"/>
                  <a:pt x="896" y="777"/>
                </a:cubicBezTo>
                <a:cubicBezTo>
                  <a:pt x="899" y="778"/>
                  <a:pt x="895" y="779"/>
                  <a:pt x="895" y="782"/>
                </a:cubicBezTo>
                <a:close/>
                <a:moveTo>
                  <a:pt x="892" y="784"/>
                </a:moveTo>
                <a:cubicBezTo>
                  <a:pt x="892" y="787"/>
                  <a:pt x="891" y="788"/>
                  <a:pt x="889" y="788"/>
                </a:cubicBezTo>
                <a:cubicBezTo>
                  <a:pt x="887" y="786"/>
                  <a:pt x="889" y="784"/>
                  <a:pt x="892" y="784"/>
                </a:cubicBezTo>
                <a:close/>
                <a:moveTo>
                  <a:pt x="885" y="784"/>
                </a:moveTo>
                <a:cubicBezTo>
                  <a:pt x="885" y="781"/>
                  <a:pt x="888" y="781"/>
                  <a:pt x="890" y="781"/>
                </a:cubicBezTo>
                <a:cubicBezTo>
                  <a:pt x="889" y="783"/>
                  <a:pt x="888" y="784"/>
                  <a:pt x="885" y="784"/>
                </a:cubicBezTo>
                <a:close/>
                <a:moveTo>
                  <a:pt x="880" y="901"/>
                </a:moveTo>
                <a:cubicBezTo>
                  <a:pt x="878" y="902"/>
                  <a:pt x="877" y="900"/>
                  <a:pt x="875" y="900"/>
                </a:cubicBezTo>
                <a:cubicBezTo>
                  <a:pt x="876" y="902"/>
                  <a:pt x="878" y="903"/>
                  <a:pt x="877" y="907"/>
                </a:cubicBezTo>
                <a:cubicBezTo>
                  <a:pt x="872" y="910"/>
                  <a:pt x="867" y="917"/>
                  <a:pt x="861" y="915"/>
                </a:cubicBezTo>
                <a:cubicBezTo>
                  <a:pt x="861" y="913"/>
                  <a:pt x="863" y="912"/>
                  <a:pt x="865" y="912"/>
                </a:cubicBezTo>
                <a:cubicBezTo>
                  <a:pt x="865" y="911"/>
                  <a:pt x="864" y="909"/>
                  <a:pt x="864" y="908"/>
                </a:cubicBezTo>
                <a:cubicBezTo>
                  <a:pt x="863" y="908"/>
                  <a:pt x="861" y="908"/>
                  <a:pt x="861" y="910"/>
                </a:cubicBezTo>
                <a:cubicBezTo>
                  <a:pt x="858" y="910"/>
                  <a:pt x="861" y="904"/>
                  <a:pt x="859" y="904"/>
                </a:cubicBezTo>
                <a:cubicBezTo>
                  <a:pt x="861" y="903"/>
                  <a:pt x="863" y="902"/>
                  <a:pt x="864" y="900"/>
                </a:cubicBezTo>
                <a:cubicBezTo>
                  <a:pt x="864" y="899"/>
                  <a:pt x="862" y="899"/>
                  <a:pt x="861" y="898"/>
                </a:cubicBezTo>
                <a:cubicBezTo>
                  <a:pt x="861" y="895"/>
                  <a:pt x="864" y="895"/>
                  <a:pt x="868" y="895"/>
                </a:cubicBezTo>
                <a:cubicBezTo>
                  <a:pt x="868" y="897"/>
                  <a:pt x="868" y="899"/>
                  <a:pt x="870" y="900"/>
                </a:cubicBezTo>
                <a:cubicBezTo>
                  <a:pt x="873" y="895"/>
                  <a:pt x="877" y="898"/>
                  <a:pt x="880" y="893"/>
                </a:cubicBezTo>
                <a:cubicBezTo>
                  <a:pt x="884" y="894"/>
                  <a:pt x="879" y="898"/>
                  <a:pt x="880" y="901"/>
                </a:cubicBezTo>
                <a:close/>
                <a:moveTo>
                  <a:pt x="865" y="868"/>
                </a:moveTo>
                <a:cubicBezTo>
                  <a:pt x="867" y="866"/>
                  <a:pt x="868" y="863"/>
                  <a:pt x="873" y="863"/>
                </a:cubicBezTo>
                <a:cubicBezTo>
                  <a:pt x="872" y="866"/>
                  <a:pt x="869" y="870"/>
                  <a:pt x="865" y="868"/>
                </a:cubicBezTo>
                <a:close/>
                <a:moveTo>
                  <a:pt x="869" y="789"/>
                </a:moveTo>
                <a:cubicBezTo>
                  <a:pt x="867" y="787"/>
                  <a:pt x="869" y="785"/>
                  <a:pt x="870" y="782"/>
                </a:cubicBezTo>
                <a:cubicBezTo>
                  <a:pt x="867" y="782"/>
                  <a:pt x="867" y="785"/>
                  <a:pt x="864" y="784"/>
                </a:cubicBezTo>
                <a:cubicBezTo>
                  <a:pt x="863" y="782"/>
                  <a:pt x="859" y="780"/>
                  <a:pt x="862" y="776"/>
                </a:cubicBezTo>
                <a:cubicBezTo>
                  <a:pt x="865" y="776"/>
                  <a:pt x="865" y="780"/>
                  <a:pt x="868" y="781"/>
                </a:cubicBezTo>
                <a:cubicBezTo>
                  <a:pt x="872" y="779"/>
                  <a:pt x="866" y="776"/>
                  <a:pt x="867" y="771"/>
                </a:cubicBezTo>
                <a:cubicBezTo>
                  <a:pt x="870" y="763"/>
                  <a:pt x="885" y="754"/>
                  <a:pt x="890" y="767"/>
                </a:cubicBezTo>
                <a:cubicBezTo>
                  <a:pt x="890" y="769"/>
                  <a:pt x="884" y="770"/>
                  <a:pt x="888" y="771"/>
                </a:cubicBezTo>
                <a:cubicBezTo>
                  <a:pt x="882" y="777"/>
                  <a:pt x="877" y="784"/>
                  <a:pt x="869" y="789"/>
                </a:cubicBezTo>
                <a:close/>
                <a:moveTo>
                  <a:pt x="885" y="860"/>
                </a:moveTo>
                <a:cubicBezTo>
                  <a:pt x="890" y="859"/>
                  <a:pt x="884" y="855"/>
                  <a:pt x="886" y="853"/>
                </a:cubicBezTo>
                <a:cubicBezTo>
                  <a:pt x="890" y="853"/>
                  <a:pt x="887" y="854"/>
                  <a:pt x="887" y="856"/>
                </a:cubicBezTo>
                <a:cubicBezTo>
                  <a:pt x="889" y="854"/>
                  <a:pt x="891" y="852"/>
                  <a:pt x="894" y="852"/>
                </a:cubicBezTo>
                <a:cubicBezTo>
                  <a:pt x="893" y="849"/>
                  <a:pt x="895" y="848"/>
                  <a:pt x="895" y="844"/>
                </a:cubicBezTo>
                <a:cubicBezTo>
                  <a:pt x="897" y="845"/>
                  <a:pt x="897" y="842"/>
                  <a:pt x="899" y="843"/>
                </a:cubicBezTo>
                <a:cubicBezTo>
                  <a:pt x="898" y="847"/>
                  <a:pt x="899" y="848"/>
                  <a:pt x="899" y="853"/>
                </a:cubicBezTo>
                <a:cubicBezTo>
                  <a:pt x="897" y="858"/>
                  <a:pt x="889" y="857"/>
                  <a:pt x="888" y="863"/>
                </a:cubicBezTo>
                <a:cubicBezTo>
                  <a:pt x="886" y="863"/>
                  <a:pt x="887" y="860"/>
                  <a:pt x="885" y="860"/>
                </a:cubicBezTo>
                <a:close/>
                <a:moveTo>
                  <a:pt x="975" y="902"/>
                </a:moveTo>
                <a:cubicBezTo>
                  <a:pt x="975" y="894"/>
                  <a:pt x="985" y="896"/>
                  <a:pt x="986" y="888"/>
                </a:cubicBezTo>
                <a:cubicBezTo>
                  <a:pt x="989" y="888"/>
                  <a:pt x="989" y="890"/>
                  <a:pt x="991" y="890"/>
                </a:cubicBezTo>
                <a:cubicBezTo>
                  <a:pt x="988" y="897"/>
                  <a:pt x="983" y="901"/>
                  <a:pt x="975" y="902"/>
                </a:cubicBezTo>
                <a:close/>
                <a:moveTo>
                  <a:pt x="1022" y="871"/>
                </a:moveTo>
                <a:cubicBezTo>
                  <a:pt x="1020" y="870"/>
                  <a:pt x="1019" y="868"/>
                  <a:pt x="1018" y="865"/>
                </a:cubicBezTo>
                <a:cubicBezTo>
                  <a:pt x="1022" y="866"/>
                  <a:pt x="1020" y="862"/>
                  <a:pt x="1024" y="863"/>
                </a:cubicBezTo>
                <a:cubicBezTo>
                  <a:pt x="1024" y="867"/>
                  <a:pt x="1023" y="869"/>
                  <a:pt x="1022" y="871"/>
                </a:cubicBezTo>
                <a:close/>
                <a:moveTo>
                  <a:pt x="1038" y="828"/>
                </a:moveTo>
                <a:cubicBezTo>
                  <a:pt x="1039" y="828"/>
                  <a:pt x="1039" y="829"/>
                  <a:pt x="1040" y="829"/>
                </a:cubicBezTo>
                <a:cubicBezTo>
                  <a:pt x="1041" y="831"/>
                  <a:pt x="1038" y="831"/>
                  <a:pt x="1038" y="833"/>
                </a:cubicBezTo>
                <a:cubicBezTo>
                  <a:pt x="1036" y="833"/>
                  <a:pt x="1038" y="829"/>
                  <a:pt x="1038" y="828"/>
                </a:cubicBezTo>
                <a:close/>
                <a:moveTo>
                  <a:pt x="1034" y="826"/>
                </a:moveTo>
                <a:cubicBezTo>
                  <a:pt x="1034" y="821"/>
                  <a:pt x="1040" y="818"/>
                  <a:pt x="1044" y="821"/>
                </a:cubicBezTo>
                <a:cubicBezTo>
                  <a:pt x="1042" y="824"/>
                  <a:pt x="1040" y="827"/>
                  <a:pt x="1034" y="826"/>
                </a:cubicBezTo>
                <a:close/>
                <a:moveTo>
                  <a:pt x="1042" y="862"/>
                </a:moveTo>
                <a:cubicBezTo>
                  <a:pt x="1044" y="858"/>
                  <a:pt x="1044" y="857"/>
                  <a:pt x="1047" y="853"/>
                </a:cubicBezTo>
                <a:cubicBezTo>
                  <a:pt x="1048" y="855"/>
                  <a:pt x="1048" y="859"/>
                  <a:pt x="1049" y="864"/>
                </a:cubicBezTo>
                <a:cubicBezTo>
                  <a:pt x="1046" y="864"/>
                  <a:pt x="1046" y="862"/>
                  <a:pt x="1042" y="862"/>
                </a:cubicBezTo>
                <a:close/>
                <a:moveTo>
                  <a:pt x="1057" y="850"/>
                </a:moveTo>
                <a:cubicBezTo>
                  <a:pt x="1053" y="848"/>
                  <a:pt x="1059" y="848"/>
                  <a:pt x="1059" y="846"/>
                </a:cubicBezTo>
                <a:cubicBezTo>
                  <a:pt x="1063" y="846"/>
                  <a:pt x="1058" y="850"/>
                  <a:pt x="1057" y="850"/>
                </a:cubicBezTo>
                <a:close/>
                <a:moveTo>
                  <a:pt x="1041" y="795"/>
                </a:moveTo>
                <a:cubicBezTo>
                  <a:pt x="1040" y="797"/>
                  <a:pt x="1040" y="801"/>
                  <a:pt x="1038" y="803"/>
                </a:cubicBezTo>
                <a:cubicBezTo>
                  <a:pt x="1028" y="803"/>
                  <a:pt x="1024" y="810"/>
                  <a:pt x="1015" y="811"/>
                </a:cubicBezTo>
                <a:cubicBezTo>
                  <a:pt x="1017" y="808"/>
                  <a:pt x="1016" y="808"/>
                  <a:pt x="1016" y="804"/>
                </a:cubicBezTo>
                <a:cubicBezTo>
                  <a:pt x="1011" y="805"/>
                  <a:pt x="1015" y="809"/>
                  <a:pt x="1013" y="812"/>
                </a:cubicBezTo>
                <a:cubicBezTo>
                  <a:pt x="1010" y="812"/>
                  <a:pt x="1008" y="809"/>
                  <a:pt x="1010" y="808"/>
                </a:cubicBezTo>
                <a:cubicBezTo>
                  <a:pt x="1006" y="808"/>
                  <a:pt x="1006" y="811"/>
                  <a:pt x="1002" y="811"/>
                </a:cubicBezTo>
                <a:cubicBezTo>
                  <a:pt x="1004" y="817"/>
                  <a:pt x="997" y="818"/>
                  <a:pt x="995" y="822"/>
                </a:cubicBezTo>
                <a:cubicBezTo>
                  <a:pt x="997" y="823"/>
                  <a:pt x="998" y="825"/>
                  <a:pt x="996" y="827"/>
                </a:cubicBezTo>
                <a:cubicBezTo>
                  <a:pt x="1000" y="828"/>
                  <a:pt x="1001" y="829"/>
                  <a:pt x="1004" y="833"/>
                </a:cubicBezTo>
                <a:cubicBezTo>
                  <a:pt x="1009" y="828"/>
                  <a:pt x="1014" y="825"/>
                  <a:pt x="1016" y="818"/>
                </a:cubicBezTo>
                <a:cubicBezTo>
                  <a:pt x="1029" y="815"/>
                  <a:pt x="1036" y="806"/>
                  <a:pt x="1047" y="802"/>
                </a:cubicBezTo>
                <a:cubicBezTo>
                  <a:pt x="1052" y="803"/>
                  <a:pt x="1051" y="812"/>
                  <a:pt x="1058" y="812"/>
                </a:cubicBezTo>
                <a:cubicBezTo>
                  <a:pt x="1054" y="815"/>
                  <a:pt x="1054" y="821"/>
                  <a:pt x="1049" y="822"/>
                </a:cubicBezTo>
                <a:cubicBezTo>
                  <a:pt x="1050" y="819"/>
                  <a:pt x="1047" y="820"/>
                  <a:pt x="1047" y="821"/>
                </a:cubicBezTo>
                <a:cubicBezTo>
                  <a:pt x="1044" y="821"/>
                  <a:pt x="1045" y="818"/>
                  <a:pt x="1044" y="817"/>
                </a:cubicBezTo>
                <a:cubicBezTo>
                  <a:pt x="1037" y="818"/>
                  <a:pt x="1031" y="820"/>
                  <a:pt x="1027" y="824"/>
                </a:cubicBezTo>
                <a:cubicBezTo>
                  <a:pt x="1029" y="825"/>
                  <a:pt x="1031" y="827"/>
                  <a:pt x="1033" y="827"/>
                </a:cubicBezTo>
                <a:cubicBezTo>
                  <a:pt x="1031" y="830"/>
                  <a:pt x="1033" y="831"/>
                  <a:pt x="1033" y="834"/>
                </a:cubicBezTo>
                <a:cubicBezTo>
                  <a:pt x="1037" y="834"/>
                  <a:pt x="1037" y="834"/>
                  <a:pt x="1040" y="835"/>
                </a:cubicBezTo>
                <a:cubicBezTo>
                  <a:pt x="1041" y="836"/>
                  <a:pt x="1041" y="835"/>
                  <a:pt x="1041" y="835"/>
                </a:cubicBezTo>
                <a:cubicBezTo>
                  <a:pt x="1040" y="838"/>
                  <a:pt x="1035" y="842"/>
                  <a:pt x="1031" y="842"/>
                </a:cubicBezTo>
                <a:cubicBezTo>
                  <a:pt x="1029" y="839"/>
                  <a:pt x="1030" y="838"/>
                  <a:pt x="1028" y="834"/>
                </a:cubicBezTo>
                <a:cubicBezTo>
                  <a:pt x="1024" y="834"/>
                  <a:pt x="1027" y="839"/>
                  <a:pt x="1026" y="840"/>
                </a:cubicBezTo>
                <a:cubicBezTo>
                  <a:pt x="1026" y="842"/>
                  <a:pt x="1028" y="842"/>
                  <a:pt x="1030" y="842"/>
                </a:cubicBezTo>
                <a:cubicBezTo>
                  <a:pt x="1029" y="845"/>
                  <a:pt x="1026" y="847"/>
                  <a:pt x="1026" y="850"/>
                </a:cubicBezTo>
                <a:cubicBezTo>
                  <a:pt x="1023" y="849"/>
                  <a:pt x="1020" y="849"/>
                  <a:pt x="1019" y="847"/>
                </a:cubicBezTo>
                <a:cubicBezTo>
                  <a:pt x="1017" y="848"/>
                  <a:pt x="1019" y="853"/>
                  <a:pt x="1018" y="856"/>
                </a:cubicBezTo>
                <a:cubicBezTo>
                  <a:pt x="1021" y="855"/>
                  <a:pt x="1021" y="851"/>
                  <a:pt x="1027" y="852"/>
                </a:cubicBezTo>
                <a:cubicBezTo>
                  <a:pt x="1023" y="855"/>
                  <a:pt x="1022" y="860"/>
                  <a:pt x="1021" y="863"/>
                </a:cubicBezTo>
                <a:cubicBezTo>
                  <a:pt x="1010" y="862"/>
                  <a:pt x="1020" y="881"/>
                  <a:pt x="1008" y="884"/>
                </a:cubicBezTo>
                <a:cubicBezTo>
                  <a:pt x="1007" y="879"/>
                  <a:pt x="1004" y="872"/>
                  <a:pt x="1012" y="873"/>
                </a:cubicBezTo>
                <a:cubicBezTo>
                  <a:pt x="1012" y="870"/>
                  <a:pt x="1012" y="869"/>
                  <a:pt x="1013" y="868"/>
                </a:cubicBezTo>
                <a:cubicBezTo>
                  <a:pt x="1010" y="867"/>
                  <a:pt x="1011" y="871"/>
                  <a:pt x="1007" y="870"/>
                </a:cubicBezTo>
                <a:cubicBezTo>
                  <a:pt x="1006" y="868"/>
                  <a:pt x="1004" y="866"/>
                  <a:pt x="1005" y="862"/>
                </a:cubicBezTo>
                <a:cubicBezTo>
                  <a:pt x="1007" y="862"/>
                  <a:pt x="1008" y="864"/>
                  <a:pt x="1011" y="863"/>
                </a:cubicBezTo>
                <a:cubicBezTo>
                  <a:pt x="1013" y="862"/>
                  <a:pt x="1012" y="860"/>
                  <a:pt x="1015" y="860"/>
                </a:cubicBezTo>
                <a:cubicBezTo>
                  <a:pt x="1015" y="857"/>
                  <a:pt x="1011" y="857"/>
                  <a:pt x="1014" y="855"/>
                </a:cubicBezTo>
                <a:cubicBezTo>
                  <a:pt x="1005" y="851"/>
                  <a:pt x="999" y="865"/>
                  <a:pt x="990" y="867"/>
                </a:cubicBezTo>
                <a:cubicBezTo>
                  <a:pt x="989" y="866"/>
                  <a:pt x="989" y="865"/>
                  <a:pt x="989" y="862"/>
                </a:cubicBezTo>
                <a:cubicBezTo>
                  <a:pt x="986" y="863"/>
                  <a:pt x="986" y="867"/>
                  <a:pt x="982" y="866"/>
                </a:cubicBezTo>
                <a:cubicBezTo>
                  <a:pt x="982" y="863"/>
                  <a:pt x="980" y="864"/>
                  <a:pt x="981" y="861"/>
                </a:cubicBezTo>
                <a:cubicBezTo>
                  <a:pt x="980" y="858"/>
                  <a:pt x="983" y="860"/>
                  <a:pt x="983" y="858"/>
                </a:cubicBezTo>
                <a:cubicBezTo>
                  <a:pt x="979" y="858"/>
                  <a:pt x="974" y="864"/>
                  <a:pt x="968" y="866"/>
                </a:cubicBezTo>
                <a:cubicBezTo>
                  <a:pt x="968" y="862"/>
                  <a:pt x="968" y="862"/>
                  <a:pt x="968" y="862"/>
                </a:cubicBezTo>
                <a:cubicBezTo>
                  <a:pt x="964" y="861"/>
                  <a:pt x="965" y="866"/>
                  <a:pt x="961" y="865"/>
                </a:cubicBezTo>
                <a:cubicBezTo>
                  <a:pt x="961" y="864"/>
                  <a:pt x="961" y="863"/>
                  <a:pt x="960" y="862"/>
                </a:cubicBezTo>
                <a:cubicBezTo>
                  <a:pt x="958" y="863"/>
                  <a:pt x="958" y="864"/>
                  <a:pt x="958" y="866"/>
                </a:cubicBezTo>
                <a:cubicBezTo>
                  <a:pt x="957" y="862"/>
                  <a:pt x="951" y="866"/>
                  <a:pt x="953" y="861"/>
                </a:cubicBezTo>
                <a:cubicBezTo>
                  <a:pt x="950" y="861"/>
                  <a:pt x="952" y="867"/>
                  <a:pt x="948" y="865"/>
                </a:cubicBezTo>
                <a:cubicBezTo>
                  <a:pt x="950" y="867"/>
                  <a:pt x="951" y="870"/>
                  <a:pt x="950" y="875"/>
                </a:cubicBezTo>
                <a:cubicBezTo>
                  <a:pt x="949" y="878"/>
                  <a:pt x="943" y="877"/>
                  <a:pt x="944" y="882"/>
                </a:cubicBezTo>
                <a:cubicBezTo>
                  <a:pt x="940" y="882"/>
                  <a:pt x="939" y="883"/>
                  <a:pt x="935" y="882"/>
                </a:cubicBezTo>
                <a:cubicBezTo>
                  <a:pt x="936" y="878"/>
                  <a:pt x="938" y="874"/>
                  <a:pt x="940" y="871"/>
                </a:cubicBezTo>
                <a:cubicBezTo>
                  <a:pt x="943" y="871"/>
                  <a:pt x="942" y="869"/>
                  <a:pt x="944" y="871"/>
                </a:cubicBezTo>
                <a:cubicBezTo>
                  <a:pt x="946" y="870"/>
                  <a:pt x="947" y="866"/>
                  <a:pt x="946" y="865"/>
                </a:cubicBezTo>
                <a:cubicBezTo>
                  <a:pt x="936" y="864"/>
                  <a:pt x="934" y="872"/>
                  <a:pt x="929" y="879"/>
                </a:cubicBezTo>
                <a:cubicBezTo>
                  <a:pt x="927" y="878"/>
                  <a:pt x="927" y="876"/>
                  <a:pt x="927" y="874"/>
                </a:cubicBezTo>
                <a:cubicBezTo>
                  <a:pt x="917" y="877"/>
                  <a:pt x="924" y="885"/>
                  <a:pt x="919" y="891"/>
                </a:cubicBezTo>
                <a:cubicBezTo>
                  <a:pt x="915" y="892"/>
                  <a:pt x="916" y="891"/>
                  <a:pt x="912" y="890"/>
                </a:cubicBezTo>
                <a:cubicBezTo>
                  <a:pt x="909" y="896"/>
                  <a:pt x="908" y="903"/>
                  <a:pt x="902" y="905"/>
                </a:cubicBezTo>
                <a:cubicBezTo>
                  <a:pt x="896" y="903"/>
                  <a:pt x="890" y="905"/>
                  <a:pt x="887" y="899"/>
                </a:cubicBezTo>
                <a:cubicBezTo>
                  <a:pt x="889" y="884"/>
                  <a:pt x="908" y="887"/>
                  <a:pt x="914" y="876"/>
                </a:cubicBezTo>
                <a:cubicBezTo>
                  <a:pt x="917" y="876"/>
                  <a:pt x="914" y="878"/>
                  <a:pt x="916" y="879"/>
                </a:cubicBezTo>
                <a:cubicBezTo>
                  <a:pt x="923" y="869"/>
                  <a:pt x="939" y="868"/>
                  <a:pt x="942" y="854"/>
                </a:cubicBezTo>
                <a:cubicBezTo>
                  <a:pt x="952" y="854"/>
                  <a:pt x="952" y="854"/>
                  <a:pt x="952" y="854"/>
                </a:cubicBezTo>
                <a:cubicBezTo>
                  <a:pt x="954" y="851"/>
                  <a:pt x="955" y="848"/>
                  <a:pt x="957" y="846"/>
                </a:cubicBezTo>
                <a:cubicBezTo>
                  <a:pt x="959" y="845"/>
                  <a:pt x="958" y="847"/>
                  <a:pt x="960" y="848"/>
                </a:cubicBezTo>
                <a:cubicBezTo>
                  <a:pt x="962" y="847"/>
                  <a:pt x="960" y="843"/>
                  <a:pt x="961" y="843"/>
                </a:cubicBezTo>
                <a:cubicBezTo>
                  <a:pt x="966" y="845"/>
                  <a:pt x="969" y="839"/>
                  <a:pt x="971" y="835"/>
                </a:cubicBezTo>
                <a:cubicBezTo>
                  <a:pt x="970" y="832"/>
                  <a:pt x="970" y="838"/>
                  <a:pt x="968" y="836"/>
                </a:cubicBezTo>
                <a:cubicBezTo>
                  <a:pt x="969" y="834"/>
                  <a:pt x="968" y="833"/>
                  <a:pt x="968" y="832"/>
                </a:cubicBezTo>
                <a:cubicBezTo>
                  <a:pt x="966" y="835"/>
                  <a:pt x="956" y="846"/>
                  <a:pt x="950" y="844"/>
                </a:cubicBezTo>
                <a:cubicBezTo>
                  <a:pt x="950" y="843"/>
                  <a:pt x="952" y="841"/>
                  <a:pt x="951" y="841"/>
                </a:cubicBezTo>
                <a:cubicBezTo>
                  <a:pt x="948" y="842"/>
                  <a:pt x="948" y="846"/>
                  <a:pt x="945" y="848"/>
                </a:cubicBezTo>
                <a:cubicBezTo>
                  <a:pt x="942" y="848"/>
                  <a:pt x="941" y="847"/>
                  <a:pt x="940" y="845"/>
                </a:cubicBezTo>
                <a:cubicBezTo>
                  <a:pt x="937" y="846"/>
                  <a:pt x="938" y="852"/>
                  <a:pt x="932" y="852"/>
                </a:cubicBezTo>
                <a:cubicBezTo>
                  <a:pt x="937" y="850"/>
                  <a:pt x="933" y="844"/>
                  <a:pt x="932" y="840"/>
                </a:cubicBezTo>
                <a:cubicBezTo>
                  <a:pt x="929" y="842"/>
                  <a:pt x="928" y="846"/>
                  <a:pt x="923" y="846"/>
                </a:cubicBezTo>
                <a:cubicBezTo>
                  <a:pt x="922" y="844"/>
                  <a:pt x="922" y="842"/>
                  <a:pt x="922" y="839"/>
                </a:cubicBezTo>
                <a:cubicBezTo>
                  <a:pt x="917" y="839"/>
                  <a:pt x="917" y="844"/>
                  <a:pt x="916" y="848"/>
                </a:cubicBezTo>
                <a:cubicBezTo>
                  <a:pt x="914" y="848"/>
                  <a:pt x="913" y="847"/>
                  <a:pt x="912" y="847"/>
                </a:cubicBezTo>
                <a:cubicBezTo>
                  <a:pt x="910" y="847"/>
                  <a:pt x="911" y="850"/>
                  <a:pt x="909" y="849"/>
                </a:cubicBezTo>
                <a:cubicBezTo>
                  <a:pt x="910" y="851"/>
                  <a:pt x="913" y="848"/>
                  <a:pt x="916" y="850"/>
                </a:cubicBezTo>
                <a:cubicBezTo>
                  <a:pt x="915" y="853"/>
                  <a:pt x="914" y="856"/>
                  <a:pt x="910" y="856"/>
                </a:cubicBezTo>
                <a:cubicBezTo>
                  <a:pt x="912" y="860"/>
                  <a:pt x="912" y="861"/>
                  <a:pt x="909" y="863"/>
                </a:cubicBezTo>
                <a:cubicBezTo>
                  <a:pt x="906" y="863"/>
                  <a:pt x="908" y="858"/>
                  <a:pt x="907" y="855"/>
                </a:cubicBezTo>
                <a:cubicBezTo>
                  <a:pt x="906" y="855"/>
                  <a:pt x="905" y="856"/>
                  <a:pt x="905" y="857"/>
                </a:cubicBezTo>
                <a:cubicBezTo>
                  <a:pt x="903" y="853"/>
                  <a:pt x="908" y="852"/>
                  <a:pt x="906" y="847"/>
                </a:cubicBezTo>
                <a:cubicBezTo>
                  <a:pt x="911" y="845"/>
                  <a:pt x="912" y="840"/>
                  <a:pt x="917" y="838"/>
                </a:cubicBezTo>
                <a:cubicBezTo>
                  <a:pt x="919" y="839"/>
                  <a:pt x="915" y="840"/>
                  <a:pt x="916" y="841"/>
                </a:cubicBezTo>
                <a:cubicBezTo>
                  <a:pt x="917" y="842"/>
                  <a:pt x="921" y="837"/>
                  <a:pt x="922" y="834"/>
                </a:cubicBezTo>
                <a:cubicBezTo>
                  <a:pt x="922" y="833"/>
                  <a:pt x="920" y="834"/>
                  <a:pt x="919" y="834"/>
                </a:cubicBezTo>
                <a:cubicBezTo>
                  <a:pt x="926" y="827"/>
                  <a:pt x="934" y="822"/>
                  <a:pt x="943" y="819"/>
                </a:cubicBezTo>
                <a:cubicBezTo>
                  <a:pt x="942" y="822"/>
                  <a:pt x="946" y="820"/>
                  <a:pt x="945" y="823"/>
                </a:cubicBezTo>
                <a:cubicBezTo>
                  <a:pt x="948" y="822"/>
                  <a:pt x="945" y="817"/>
                  <a:pt x="949" y="815"/>
                </a:cubicBezTo>
                <a:cubicBezTo>
                  <a:pt x="960" y="820"/>
                  <a:pt x="946" y="829"/>
                  <a:pt x="942" y="834"/>
                </a:cubicBezTo>
                <a:cubicBezTo>
                  <a:pt x="946" y="836"/>
                  <a:pt x="947" y="837"/>
                  <a:pt x="947" y="842"/>
                </a:cubicBezTo>
                <a:cubicBezTo>
                  <a:pt x="949" y="840"/>
                  <a:pt x="948" y="839"/>
                  <a:pt x="948" y="835"/>
                </a:cubicBezTo>
                <a:cubicBezTo>
                  <a:pt x="953" y="833"/>
                  <a:pt x="954" y="826"/>
                  <a:pt x="959" y="823"/>
                </a:cubicBezTo>
                <a:cubicBezTo>
                  <a:pt x="957" y="822"/>
                  <a:pt x="955" y="820"/>
                  <a:pt x="955" y="817"/>
                </a:cubicBezTo>
                <a:cubicBezTo>
                  <a:pt x="960" y="817"/>
                  <a:pt x="969" y="816"/>
                  <a:pt x="967" y="808"/>
                </a:cubicBezTo>
                <a:cubicBezTo>
                  <a:pt x="969" y="807"/>
                  <a:pt x="971" y="807"/>
                  <a:pt x="972" y="805"/>
                </a:cubicBezTo>
                <a:cubicBezTo>
                  <a:pt x="974" y="806"/>
                  <a:pt x="970" y="807"/>
                  <a:pt x="971" y="808"/>
                </a:cubicBezTo>
                <a:cubicBezTo>
                  <a:pt x="973" y="807"/>
                  <a:pt x="975" y="810"/>
                  <a:pt x="974" y="806"/>
                </a:cubicBezTo>
                <a:cubicBezTo>
                  <a:pt x="977" y="808"/>
                  <a:pt x="978" y="805"/>
                  <a:pt x="981" y="805"/>
                </a:cubicBezTo>
                <a:cubicBezTo>
                  <a:pt x="982" y="807"/>
                  <a:pt x="978" y="811"/>
                  <a:pt x="977" y="814"/>
                </a:cubicBezTo>
                <a:cubicBezTo>
                  <a:pt x="976" y="814"/>
                  <a:pt x="976" y="812"/>
                  <a:pt x="975" y="812"/>
                </a:cubicBezTo>
                <a:cubicBezTo>
                  <a:pt x="976" y="815"/>
                  <a:pt x="969" y="822"/>
                  <a:pt x="975" y="823"/>
                </a:cubicBezTo>
                <a:cubicBezTo>
                  <a:pt x="975" y="826"/>
                  <a:pt x="974" y="827"/>
                  <a:pt x="973" y="830"/>
                </a:cubicBezTo>
                <a:cubicBezTo>
                  <a:pt x="974" y="831"/>
                  <a:pt x="978" y="829"/>
                  <a:pt x="980" y="829"/>
                </a:cubicBezTo>
                <a:cubicBezTo>
                  <a:pt x="979" y="826"/>
                  <a:pt x="979" y="825"/>
                  <a:pt x="976" y="826"/>
                </a:cubicBezTo>
                <a:cubicBezTo>
                  <a:pt x="976" y="823"/>
                  <a:pt x="978" y="821"/>
                  <a:pt x="977" y="818"/>
                </a:cubicBezTo>
                <a:cubicBezTo>
                  <a:pt x="980" y="817"/>
                  <a:pt x="980" y="818"/>
                  <a:pt x="983" y="819"/>
                </a:cubicBezTo>
                <a:cubicBezTo>
                  <a:pt x="986" y="818"/>
                  <a:pt x="988" y="809"/>
                  <a:pt x="993" y="814"/>
                </a:cubicBezTo>
                <a:cubicBezTo>
                  <a:pt x="998" y="810"/>
                  <a:pt x="997" y="801"/>
                  <a:pt x="1005" y="799"/>
                </a:cubicBezTo>
                <a:cubicBezTo>
                  <a:pt x="1004" y="797"/>
                  <a:pt x="1003" y="795"/>
                  <a:pt x="1004" y="792"/>
                </a:cubicBezTo>
                <a:cubicBezTo>
                  <a:pt x="1006" y="791"/>
                  <a:pt x="1007" y="789"/>
                  <a:pt x="1010" y="790"/>
                </a:cubicBezTo>
                <a:cubicBezTo>
                  <a:pt x="1010" y="793"/>
                  <a:pt x="1010" y="793"/>
                  <a:pt x="1010" y="793"/>
                </a:cubicBezTo>
                <a:cubicBezTo>
                  <a:pt x="1014" y="792"/>
                  <a:pt x="1015" y="788"/>
                  <a:pt x="1016" y="784"/>
                </a:cubicBezTo>
                <a:cubicBezTo>
                  <a:pt x="1022" y="786"/>
                  <a:pt x="1021" y="779"/>
                  <a:pt x="1025" y="777"/>
                </a:cubicBezTo>
                <a:cubicBezTo>
                  <a:pt x="1026" y="778"/>
                  <a:pt x="1028" y="778"/>
                  <a:pt x="1030" y="778"/>
                </a:cubicBezTo>
                <a:cubicBezTo>
                  <a:pt x="1030" y="782"/>
                  <a:pt x="1029" y="781"/>
                  <a:pt x="1030" y="785"/>
                </a:cubicBezTo>
                <a:cubicBezTo>
                  <a:pt x="1028" y="786"/>
                  <a:pt x="1028" y="784"/>
                  <a:pt x="1026" y="784"/>
                </a:cubicBezTo>
                <a:cubicBezTo>
                  <a:pt x="1032" y="792"/>
                  <a:pt x="1025" y="800"/>
                  <a:pt x="1017" y="802"/>
                </a:cubicBezTo>
                <a:cubicBezTo>
                  <a:pt x="1018" y="803"/>
                  <a:pt x="1020" y="804"/>
                  <a:pt x="1019" y="807"/>
                </a:cubicBezTo>
                <a:cubicBezTo>
                  <a:pt x="1023" y="807"/>
                  <a:pt x="1023" y="807"/>
                  <a:pt x="1023" y="807"/>
                </a:cubicBezTo>
                <a:cubicBezTo>
                  <a:pt x="1026" y="806"/>
                  <a:pt x="1021" y="805"/>
                  <a:pt x="1022" y="803"/>
                </a:cubicBezTo>
                <a:cubicBezTo>
                  <a:pt x="1025" y="801"/>
                  <a:pt x="1029" y="802"/>
                  <a:pt x="1032" y="800"/>
                </a:cubicBezTo>
                <a:cubicBezTo>
                  <a:pt x="1032" y="798"/>
                  <a:pt x="1030" y="796"/>
                  <a:pt x="1034" y="796"/>
                </a:cubicBezTo>
                <a:cubicBezTo>
                  <a:pt x="1031" y="794"/>
                  <a:pt x="1032" y="789"/>
                  <a:pt x="1031" y="785"/>
                </a:cubicBezTo>
                <a:cubicBezTo>
                  <a:pt x="1040" y="778"/>
                  <a:pt x="1050" y="771"/>
                  <a:pt x="1060" y="766"/>
                </a:cubicBezTo>
                <a:cubicBezTo>
                  <a:pt x="1060" y="768"/>
                  <a:pt x="1062" y="768"/>
                  <a:pt x="1061" y="770"/>
                </a:cubicBezTo>
                <a:cubicBezTo>
                  <a:pt x="1056" y="771"/>
                  <a:pt x="1055" y="778"/>
                  <a:pt x="1051" y="781"/>
                </a:cubicBezTo>
                <a:cubicBezTo>
                  <a:pt x="1053" y="785"/>
                  <a:pt x="1060" y="777"/>
                  <a:pt x="1063" y="780"/>
                </a:cubicBezTo>
                <a:cubicBezTo>
                  <a:pt x="1063" y="781"/>
                  <a:pt x="1062" y="781"/>
                  <a:pt x="1063" y="782"/>
                </a:cubicBezTo>
                <a:cubicBezTo>
                  <a:pt x="1054" y="786"/>
                  <a:pt x="1053" y="801"/>
                  <a:pt x="1041" y="795"/>
                </a:cubicBezTo>
                <a:close/>
                <a:moveTo>
                  <a:pt x="929" y="862"/>
                </a:moveTo>
                <a:cubicBezTo>
                  <a:pt x="930" y="866"/>
                  <a:pt x="928" y="867"/>
                  <a:pt x="924" y="867"/>
                </a:cubicBezTo>
                <a:cubicBezTo>
                  <a:pt x="921" y="863"/>
                  <a:pt x="923" y="859"/>
                  <a:pt x="928" y="858"/>
                </a:cubicBezTo>
                <a:cubicBezTo>
                  <a:pt x="930" y="861"/>
                  <a:pt x="924" y="863"/>
                  <a:pt x="929" y="862"/>
                </a:cubicBezTo>
                <a:close/>
                <a:moveTo>
                  <a:pt x="1047" y="751"/>
                </a:moveTo>
                <a:cubicBezTo>
                  <a:pt x="1044" y="757"/>
                  <a:pt x="1034" y="753"/>
                  <a:pt x="1038" y="744"/>
                </a:cubicBezTo>
                <a:cubicBezTo>
                  <a:pt x="1039" y="743"/>
                  <a:pt x="1042" y="746"/>
                  <a:pt x="1043" y="743"/>
                </a:cubicBezTo>
                <a:cubicBezTo>
                  <a:pt x="1045" y="743"/>
                  <a:pt x="1043" y="746"/>
                  <a:pt x="1042" y="746"/>
                </a:cubicBezTo>
                <a:cubicBezTo>
                  <a:pt x="1045" y="745"/>
                  <a:pt x="1044" y="749"/>
                  <a:pt x="1047" y="751"/>
                </a:cubicBezTo>
                <a:close/>
                <a:moveTo>
                  <a:pt x="1038" y="768"/>
                </a:moveTo>
                <a:cubicBezTo>
                  <a:pt x="1038" y="767"/>
                  <a:pt x="1041" y="762"/>
                  <a:pt x="1045" y="763"/>
                </a:cubicBezTo>
                <a:cubicBezTo>
                  <a:pt x="1045" y="766"/>
                  <a:pt x="1043" y="769"/>
                  <a:pt x="1038" y="769"/>
                </a:cubicBezTo>
                <a:cubicBezTo>
                  <a:pt x="1037" y="769"/>
                  <a:pt x="1038" y="768"/>
                  <a:pt x="1039" y="769"/>
                </a:cubicBezTo>
                <a:cubicBezTo>
                  <a:pt x="1040" y="767"/>
                  <a:pt x="1038" y="767"/>
                  <a:pt x="1038" y="768"/>
                </a:cubicBezTo>
                <a:close/>
                <a:moveTo>
                  <a:pt x="1040" y="718"/>
                </a:moveTo>
                <a:cubicBezTo>
                  <a:pt x="1037" y="718"/>
                  <a:pt x="1037" y="716"/>
                  <a:pt x="1034" y="717"/>
                </a:cubicBezTo>
                <a:cubicBezTo>
                  <a:pt x="1037" y="713"/>
                  <a:pt x="1043" y="711"/>
                  <a:pt x="1045" y="704"/>
                </a:cubicBezTo>
                <a:cubicBezTo>
                  <a:pt x="1048" y="704"/>
                  <a:pt x="1046" y="709"/>
                  <a:pt x="1050" y="707"/>
                </a:cubicBezTo>
                <a:cubicBezTo>
                  <a:pt x="1049" y="713"/>
                  <a:pt x="1042" y="713"/>
                  <a:pt x="1040" y="718"/>
                </a:cubicBezTo>
                <a:close/>
                <a:moveTo>
                  <a:pt x="1042" y="720"/>
                </a:moveTo>
                <a:cubicBezTo>
                  <a:pt x="1041" y="724"/>
                  <a:pt x="1042" y="723"/>
                  <a:pt x="1041" y="726"/>
                </a:cubicBezTo>
                <a:cubicBezTo>
                  <a:pt x="1037" y="725"/>
                  <a:pt x="1036" y="730"/>
                  <a:pt x="1033" y="728"/>
                </a:cubicBezTo>
                <a:cubicBezTo>
                  <a:pt x="1036" y="725"/>
                  <a:pt x="1036" y="720"/>
                  <a:pt x="1042" y="720"/>
                </a:cubicBezTo>
                <a:close/>
                <a:moveTo>
                  <a:pt x="1051" y="760"/>
                </a:moveTo>
                <a:cubicBezTo>
                  <a:pt x="1050" y="757"/>
                  <a:pt x="1053" y="757"/>
                  <a:pt x="1054" y="755"/>
                </a:cubicBezTo>
                <a:cubicBezTo>
                  <a:pt x="1058" y="758"/>
                  <a:pt x="1062" y="748"/>
                  <a:pt x="1070" y="750"/>
                </a:cubicBezTo>
                <a:cubicBezTo>
                  <a:pt x="1064" y="756"/>
                  <a:pt x="1059" y="759"/>
                  <a:pt x="1051" y="760"/>
                </a:cubicBezTo>
                <a:close/>
                <a:moveTo>
                  <a:pt x="1065" y="765"/>
                </a:moveTo>
                <a:cubicBezTo>
                  <a:pt x="1065" y="766"/>
                  <a:pt x="1064" y="767"/>
                  <a:pt x="1064" y="769"/>
                </a:cubicBezTo>
                <a:cubicBezTo>
                  <a:pt x="1061" y="769"/>
                  <a:pt x="1061" y="765"/>
                  <a:pt x="1062" y="764"/>
                </a:cubicBezTo>
                <a:cubicBezTo>
                  <a:pt x="1064" y="764"/>
                  <a:pt x="1064" y="765"/>
                  <a:pt x="1065" y="765"/>
                </a:cubicBezTo>
                <a:close/>
                <a:moveTo>
                  <a:pt x="1066" y="831"/>
                </a:moveTo>
                <a:cubicBezTo>
                  <a:pt x="1065" y="830"/>
                  <a:pt x="1064" y="830"/>
                  <a:pt x="1063" y="830"/>
                </a:cubicBezTo>
                <a:cubicBezTo>
                  <a:pt x="1064" y="828"/>
                  <a:pt x="1065" y="827"/>
                  <a:pt x="1067" y="827"/>
                </a:cubicBezTo>
                <a:cubicBezTo>
                  <a:pt x="1067" y="829"/>
                  <a:pt x="1066" y="830"/>
                  <a:pt x="1066" y="831"/>
                </a:cubicBezTo>
                <a:close/>
                <a:moveTo>
                  <a:pt x="1064" y="777"/>
                </a:moveTo>
                <a:cubicBezTo>
                  <a:pt x="1064" y="773"/>
                  <a:pt x="1064" y="773"/>
                  <a:pt x="1064" y="773"/>
                </a:cubicBezTo>
                <a:cubicBezTo>
                  <a:pt x="1066" y="773"/>
                  <a:pt x="1068" y="774"/>
                  <a:pt x="1068" y="776"/>
                </a:cubicBezTo>
                <a:cubicBezTo>
                  <a:pt x="1067" y="777"/>
                  <a:pt x="1066" y="777"/>
                  <a:pt x="1064" y="777"/>
                </a:cubicBezTo>
                <a:close/>
                <a:moveTo>
                  <a:pt x="1111" y="821"/>
                </a:moveTo>
                <a:cubicBezTo>
                  <a:pt x="1111" y="824"/>
                  <a:pt x="1107" y="823"/>
                  <a:pt x="1107" y="827"/>
                </a:cubicBezTo>
                <a:cubicBezTo>
                  <a:pt x="1105" y="827"/>
                  <a:pt x="1105" y="824"/>
                  <a:pt x="1102" y="825"/>
                </a:cubicBezTo>
                <a:cubicBezTo>
                  <a:pt x="1105" y="824"/>
                  <a:pt x="1106" y="821"/>
                  <a:pt x="1111" y="821"/>
                </a:cubicBezTo>
                <a:close/>
                <a:moveTo>
                  <a:pt x="1120" y="787"/>
                </a:moveTo>
                <a:cubicBezTo>
                  <a:pt x="1120" y="784"/>
                  <a:pt x="1123" y="784"/>
                  <a:pt x="1125" y="784"/>
                </a:cubicBezTo>
                <a:cubicBezTo>
                  <a:pt x="1125" y="786"/>
                  <a:pt x="1123" y="787"/>
                  <a:pt x="1120" y="787"/>
                </a:cubicBezTo>
                <a:close/>
                <a:moveTo>
                  <a:pt x="1125" y="761"/>
                </a:moveTo>
                <a:cubicBezTo>
                  <a:pt x="1124" y="764"/>
                  <a:pt x="1125" y="767"/>
                  <a:pt x="1121" y="767"/>
                </a:cubicBezTo>
                <a:cubicBezTo>
                  <a:pt x="1119" y="764"/>
                  <a:pt x="1122" y="761"/>
                  <a:pt x="1125" y="761"/>
                </a:cubicBezTo>
                <a:close/>
                <a:moveTo>
                  <a:pt x="1122" y="773"/>
                </a:moveTo>
                <a:cubicBezTo>
                  <a:pt x="1123" y="771"/>
                  <a:pt x="1120" y="771"/>
                  <a:pt x="1121" y="769"/>
                </a:cubicBezTo>
                <a:cubicBezTo>
                  <a:pt x="1126" y="769"/>
                  <a:pt x="1131" y="763"/>
                  <a:pt x="1131" y="771"/>
                </a:cubicBezTo>
                <a:cubicBezTo>
                  <a:pt x="1128" y="771"/>
                  <a:pt x="1127" y="772"/>
                  <a:pt x="1122" y="773"/>
                </a:cubicBezTo>
                <a:close/>
                <a:moveTo>
                  <a:pt x="1135" y="808"/>
                </a:moveTo>
                <a:cubicBezTo>
                  <a:pt x="1135" y="810"/>
                  <a:pt x="1134" y="811"/>
                  <a:pt x="1132" y="810"/>
                </a:cubicBezTo>
                <a:cubicBezTo>
                  <a:pt x="1132" y="811"/>
                  <a:pt x="1133" y="812"/>
                  <a:pt x="1133" y="813"/>
                </a:cubicBezTo>
                <a:cubicBezTo>
                  <a:pt x="1130" y="813"/>
                  <a:pt x="1130" y="813"/>
                  <a:pt x="1130" y="813"/>
                </a:cubicBezTo>
                <a:cubicBezTo>
                  <a:pt x="1130" y="812"/>
                  <a:pt x="1130" y="810"/>
                  <a:pt x="1129" y="810"/>
                </a:cubicBezTo>
                <a:cubicBezTo>
                  <a:pt x="1129" y="809"/>
                  <a:pt x="1130" y="810"/>
                  <a:pt x="1130" y="810"/>
                </a:cubicBezTo>
                <a:cubicBezTo>
                  <a:pt x="1131" y="810"/>
                  <a:pt x="1131" y="809"/>
                  <a:pt x="1131" y="808"/>
                </a:cubicBezTo>
                <a:lnTo>
                  <a:pt x="1135" y="808"/>
                </a:lnTo>
                <a:close/>
                <a:moveTo>
                  <a:pt x="1128" y="750"/>
                </a:moveTo>
                <a:cubicBezTo>
                  <a:pt x="1131" y="749"/>
                  <a:pt x="1131" y="754"/>
                  <a:pt x="1131" y="750"/>
                </a:cubicBezTo>
                <a:cubicBezTo>
                  <a:pt x="1132" y="750"/>
                  <a:pt x="1132" y="752"/>
                  <a:pt x="1132" y="753"/>
                </a:cubicBezTo>
                <a:cubicBezTo>
                  <a:pt x="1131" y="753"/>
                  <a:pt x="1130" y="753"/>
                  <a:pt x="1130" y="754"/>
                </a:cubicBezTo>
                <a:cubicBezTo>
                  <a:pt x="1129" y="754"/>
                  <a:pt x="1129" y="753"/>
                  <a:pt x="1129" y="752"/>
                </a:cubicBezTo>
                <a:cubicBezTo>
                  <a:pt x="1128" y="752"/>
                  <a:pt x="1128" y="752"/>
                  <a:pt x="1128" y="753"/>
                </a:cubicBezTo>
                <a:cubicBezTo>
                  <a:pt x="1127" y="753"/>
                  <a:pt x="1127" y="752"/>
                  <a:pt x="1127" y="751"/>
                </a:cubicBezTo>
                <a:cubicBezTo>
                  <a:pt x="1128" y="751"/>
                  <a:pt x="1128" y="751"/>
                  <a:pt x="1128" y="750"/>
                </a:cubicBezTo>
                <a:close/>
                <a:moveTo>
                  <a:pt x="1126" y="756"/>
                </a:moveTo>
                <a:cubicBezTo>
                  <a:pt x="1125" y="759"/>
                  <a:pt x="1122" y="761"/>
                  <a:pt x="1118" y="762"/>
                </a:cubicBezTo>
                <a:cubicBezTo>
                  <a:pt x="1120" y="758"/>
                  <a:pt x="1115" y="759"/>
                  <a:pt x="1115" y="755"/>
                </a:cubicBezTo>
                <a:cubicBezTo>
                  <a:pt x="1117" y="755"/>
                  <a:pt x="1119" y="755"/>
                  <a:pt x="1119" y="754"/>
                </a:cubicBezTo>
                <a:cubicBezTo>
                  <a:pt x="1122" y="754"/>
                  <a:pt x="1121" y="758"/>
                  <a:pt x="1126" y="756"/>
                </a:cubicBezTo>
                <a:close/>
                <a:moveTo>
                  <a:pt x="1121" y="731"/>
                </a:moveTo>
                <a:cubicBezTo>
                  <a:pt x="1120" y="733"/>
                  <a:pt x="1120" y="734"/>
                  <a:pt x="1119" y="735"/>
                </a:cubicBezTo>
                <a:cubicBezTo>
                  <a:pt x="1116" y="735"/>
                  <a:pt x="1117" y="730"/>
                  <a:pt x="1121" y="731"/>
                </a:cubicBezTo>
                <a:close/>
                <a:moveTo>
                  <a:pt x="1103" y="692"/>
                </a:moveTo>
                <a:cubicBezTo>
                  <a:pt x="1104" y="693"/>
                  <a:pt x="1104" y="694"/>
                  <a:pt x="1105" y="694"/>
                </a:cubicBezTo>
                <a:cubicBezTo>
                  <a:pt x="1105" y="697"/>
                  <a:pt x="1103" y="699"/>
                  <a:pt x="1100" y="700"/>
                </a:cubicBezTo>
                <a:cubicBezTo>
                  <a:pt x="1098" y="698"/>
                  <a:pt x="1101" y="694"/>
                  <a:pt x="1103" y="692"/>
                </a:cubicBezTo>
                <a:close/>
                <a:moveTo>
                  <a:pt x="1091" y="752"/>
                </a:moveTo>
                <a:cubicBezTo>
                  <a:pt x="1093" y="751"/>
                  <a:pt x="1093" y="752"/>
                  <a:pt x="1094" y="753"/>
                </a:cubicBezTo>
                <a:cubicBezTo>
                  <a:pt x="1100" y="744"/>
                  <a:pt x="1113" y="742"/>
                  <a:pt x="1122" y="736"/>
                </a:cubicBezTo>
                <a:cubicBezTo>
                  <a:pt x="1121" y="739"/>
                  <a:pt x="1120" y="741"/>
                  <a:pt x="1119" y="743"/>
                </a:cubicBezTo>
                <a:cubicBezTo>
                  <a:pt x="1116" y="744"/>
                  <a:pt x="1117" y="742"/>
                  <a:pt x="1114" y="743"/>
                </a:cubicBezTo>
                <a:cubicBezTo>
                  <a:pt x="1114" y="745"/>
                  <a:pt x="1115" y="746"/>
                  <a:pt x="1116" y="746"/>
                </a:cubicBezTo>
                <a:cubicBezTo>
                  <a:pt x="1120" y="747"/>
                  <a:pt x="1119" y="742"/>
                  <a:pt x="1123" y="743"/>
                </a:cubicBezTo>
                <a:cubicBezTo>
                  <a:pt x="1122" y="750"/>
                  <a:pt x="1119" y="753"/>
                  <a:pt x="1113" y="754"/>
                </a:cubicBezTo>
                <a:cubicBezTo>
                  <a:pt x="1112" y="755"/>
                  <a:pt x="1111" y="756"/>
                  <a:pt x="1110" y="757"/>
                </a:cubicBezTo>
                <a:cubicBezTo>
                  <a:pt x="1110" y="759"/>
                  <a:pt x="1111" y="757"/>
                  <a:pt x="1113" y="757"/>
                </a:cubicBezTo>
                <a:cubicBezTo>
                  <a:pt x="1111" y="761"/>
                  <a:pt x="1112" y="765"/>
                  <a:pt x="1115" y="766"/>
                </a:cubicBezTo>
                <a:cubicBezTo>
                  <a:pt x="1116" y="769"/>
                  <a:pt x="1114" y="770"/>
                  <a:pt x="1113" y="772"/>
                </a:cubicBezTo>
                <a:cubicBezTo>
                  <a:pt x="1110" y="771"/>
                  <a:pt x="1108" y="767"/>
                  <a:pt x="1111" y="765"/>
                </a:cubicBezTo>
                <a:cubicBezTo>
                  <a:pt x="1105" y="767"/>
                  <a:pt x="1102" y="772"/>
                  <a:pt x="1096" y="773"/>
                </a:cubicBezTo>
                <a:cubicBezTo>
                  <a:pt x="1095" y="773"/>
                  <a:pt x="1096" y="772"/>
                  <a:pt x="1096" y="771"/>
                </a:cubicBezTo>
                <a:cubicBezTo>
                  <a:pt x="1091" y="773"/>
                  <a:pt x="1088" y="775"/>
                  <a:pt x="1084" y="778"/>
                </a:cubicBezTo>
                <a:cubicBezTo>
                  <a:pt x="1081" y="776"/>
                  <a:pt x="1086" y="774"/>
                  <a:pt x="1087" y="773"/>
                </a:cubicBezTo>
                <a:cubicBezTo>
                  <a:pt x="1083" y="769"/>
                  <a:pt x="1090" y="765"/>
                  <a:pt x="1086" y="759"/>
                </a:cubicBezTo>
                <a:cubicBezTo>
                  <a:pt x="1086" y="758"/>
                  <a:pt x="1082" y="761"/>
                  <a:pt x="1082" y="756"/>
                </a:cubicBezTo>
                <a:cubicBezTo>
                  <a:pt x="1086" y="758"/>
                  <a:pt x="1091" y="757"/>
                  <a:pt x="1091" y="752"/>
                </a:cubicBezTo>
                <a:close/>
                <a:moveTo>
                  <a:pt x="1083" y="748"/>
                </a:moveTo>
                <a:cubicBezTo>
                  <a:pt x="1081" y="750"/>
                  <a:pt x="1078" y="748"/>
                  <a:pt x="1076" y="749"/>
                </a:cubicBezTo>
                <a:cubicBezTo>
                  <a:pt x="1076" y="747"/>
                  <a:pt x="1083" y="743"/>
                  <a:pt x="1083" y="748"/>
                </a:cubicBezTo>
                <a:close/>
                <a:moveTo>
                  <a:pt x="1076" y="807"/>
                </a:moveTo>
                <a:cubicBezTo>
                  <a:pt x="1076" y="803"/>
                  <a:pt x="1072" y="803"/>
                  <a:pt x="1073" y="798"/>
                </a:cubicBezTo>
                <a:cubicBezTo>
                  <a:pt x="1074" y="796"/>
                  <a:pt x="1079" y="795"/>
                  <a:pt x="1081" y="797"/>
                </a:cubicBezTo>
                <a:cubicBezTo>
                  <a:pt x="1084" y="797"/>
                  <a:pt x="1080" y="795"/>
                  <a:pt x="1081" y="793"/>
                </a:cubicBezTo>
                <a:cubicBezTo>
                  <a:pt x="1086" y="793"/>
                  <a:pt x="1087" y="790"/>
                  <a:pt x="1091" y="789"/>
                </a:cubicBezTo>
                <a:cubicBezTo>
                  <a:pt x="1092" y="786"/>
                  <a:pt x="1088" y="788"/>
                  <a:pt x="1089" y="785"/>
                </a:cubicBezTo>
                <a:cubicBezTo>
                  <a:pt x="1090" y="783"/>
                  <a:pt x="1093" y="782"/>
                  <a:pt x="1096" y="782"/>
                </a:cubicBezTo>
                <a:cubicBezTo>
                  <a:pt x="1095" y="779"/>
                  <a:pt x="1095" y="777"/>
                  <a:pt x="1096" y="774"/>
                </a:cubicBezTo>
                <a:cubicBezTo>
                  <a:pt x="1099" y="774"/>
                  <a:pt x="1099" y="774"/>
                  <a:pt x="1099" y="774"/>
                </a:cubicBezTo>
                <a:cubicBezTo>
                  <a:pt x="1099" y="777"/>
                  <a:pt x="1101" y="779"/>
                  <a:pt x="1099" y="781"/>
                </a:cubicBezTo>
                <a:cubicBezTo>
                  <a:pt x="1103" y="781"/>
                  <a:pt x="1103" y="777"/>
                  <a:pt x="1103" y="774"/>
                </a:cubicBezTo>
                <a:cubicBezTo>
                  <a:pt x="1108" y="776"/>
                  <a:pt x="1106" y="775"/>
                  <a:pt x="1112" y="774"/>
                </a:cubicBezTo>
                <a:cubicBezTo>
                  <a:pt x="1112" y="777"/>
                  <a:pt x="1114" y="779"/>
                  <a:pt x="1113" y="782"/>
                </a:cubicBezTo>
                <a:cubicBezTo>
                  <a:pt x="1103" y="786"/>
                  <a:pt x="1102" y="797"/>
                  <a:pt x="1092" y="800"/>
                </a:cubicBezTo>
                <a:cubicBezTo>
                  <a:pt x="1090" y="800"/>
                  <a:pt x="1090" y="798"/>
                  <a:pt x="1088" y="797"/>
                </a:cubicBezTo>
                <a:cubicBezTo>
                  <a:pt x="1084" y="805"/>
                  <a:pt x="1081" y="815"/>
                  <a:pt x="1070" y="816"/>
                </a:cubicBezTo>
                <a:cubicBezTo>
                  <a:pt x="1071" y="812"/>
                  <a:pt x="1076" y="812"/>
                  <a:pt x="1076" y="807"/>
                </a:cubicBezTo>
                <a:close/>
                <a:moveTo>
                  <a:pt x="1066" y="712"/>
                </a:moveTo>
                <a:cubicBezTo>
                  <a:pt x="1069" y="714"/>
                  <a:pt x="1066" y="717"/>
                  <a:pt x="1069" y="719"/>
                </a:cubicBezTo>
                <a:cubicBezTo>
                  <a:pt x="1067" y="723"/>
                  <a:pt x="1063" y="724"/>
                  <a:pt x="1059" y="724"/>
                </a:cubicBezTo>
                <a:cubicBezTo>
                  <a:pt x="1060" y="720"/>
                  <a:pt x="1057" y="720"/>
                  <a:pt x="1055" y="719"/>
                </a:cubicBezTo>
                <a:cubicBezTo>
                  <a:pt x="1056" y="715"/>
                  <a:pt x="1060" y="712"/>
                  <a:pt x="1066" y="712"/>
                </a:cubicBezTo>
                <a:close/>
                <a:moveTo>
                  <a:pt x="1054" y="736"/>
                </a:moveTo>
                <a:cubicBezTo>
                  <a:pt x="1054" y="737"/>
                  <a:pt x="1056" y="740"/>
                  <a:pt x="1054" y="740"/>
                </a:cubicBezTo>
                <a:cubicBezTo>
                  <a:pt x="1054" y="742"/>
                  <a:pt x="1056" y="739"/>
                  <a:pt x="1059" y="740"/>
                </a:cubicBezTo>
                <a:cubicBezTo>
                  <a:pt x="1059" y="737"/>
                  <a:pt x="1057" y="737"/>
                  <a:pt x="1057" y="734"/>
                </a:cubicBezTo>
                <a:cubicBezTo>
                  <a:pt x="1059" y="732"/>
                  <a:pt x="1063" y="731"/>
                  <a:pt x="1063" y="726"/>
                </a:cubicBezTo>
                <a:cubicBezTo>
                  <a:pt x="1067" y="726"/>
                  <a:pt x="1067" y="725"/>
                  <a:pt x="1070" y="726"/>
                </a:cubicBezTo>
                <a:cubicBezTo>
                  <a:pt x="1070" y="731"/>
                  <a:pt x="1068" y="731"/>
                  <a:pt x="1068" y="734"/>
                </a:cubicBezTo>
                <a:cubicBezTo>
                  <a:pt x="1066" y="734"/>
                  <a:pt x="1065" y="733"/>
                  <a:pt x="1062" y="733"/>
                </a:cubicBezTo>
                <a:cubicBezTo>
                  <a:pt x="1062" y="736"/>
                  <a:pt x="1063" y="737"/>
                  <a:pt x="1065" y="737"/>
                </a:cubicBezTo>
                <a:cubicBezTo>
                  <a:pt x="1065" y="740"/>
                  <a:pt x="1063" y="740"/>
                  <a:pt x="1062" y="742"/>
                </a:cubicBezTo>
                <a:cubicBezTo>
                  <a:pt x="1061" y="741"/>
                  <a:pt x="1061" y="740"/>
                  <a:pt x="1061" y="739"/>
                </a:cubicBezTo>
                <a:cubicBezTo>
                  <a:pt x="1058" y="740"/>
                  <a:pt x="1059" y="742"/>
                  <a:pt x="1059" y="745"/>
                </a:cubicBezTo>
                <a:cubicBezTo>
                  <a:pt x="1056" y="747"/>
                  <a:pt x="1056" y="753"/>
                  <a:pt x="1050" y="750"/>
                </a:cubicBezTo>
                <a:cubicBezTo>
                  <a:pt x="1051" y="749"/>
                  <a:pt x="1052" y="748"/>
                  <a:pt x="1052" y="746"/>
                </a:cubicBezTo>
                <a:cubicBezTo>
                  <a:pt x="1050" y="744"/>
                  <a:pt x="1049" y="747"/>
                  <a:pt x="1047" y="747"/>
                </a:cubicBezTo>
                <a:cubicBezTo>
                  <a:pt x="1042" y="742"/>
                  <a:pt x="1049" y="737"/>
                  <a:pt x="1054" y="736"/>
                </a:cubicBezTo>
                <a:close/>
                <a:moveTo>
                  <a:pt x="1050" y="704"/>
                </a:moveTo>
                <a:cubicBezTo>
                  <a:pt x="1047" y="705"/>
                  <a:pt x="1047" y="703"/>
                  <a:pt x="1044" y="704"/>
                </a:cubicBezTo>
                <a:cubicBezTo>
                  <a:pt x="1043" y="700"/>
                  <a:pt x="1047" y="701"/>
                  <a:pt x="1047" y="698"/>
                </a:cubicBezTo>
                <a:cubicBezTo>
                  <a:pt x="1039" y="702"/>
                  <a:pt x="1040" y="714"/>
                  <a:pt x="1031" y="716"/>
                </a:cubicBezTo>
                <a:cubicBezTo>
                  <a:pt x="1028" y="714"/>
                  <a:pt x="1033" y="711"/>
                  <a:pt x="1030" y="710"/>
                </a:cubicBezTo>
                <a:cubicBezTo>
                  <a:pt x="1022" y="710"/>
                  <a:pt x="1024" y="721"/>
                  <a:pt x="1016" y="721"/>
                </a:cubicBezTo>
                <a:cubicBezTo>
                  <a:pt x="1015" y="717"/>
                  <a:pt x="1020" y="715"/>
                  <a:pt x="1015" y="717"/>
                </a:cubicBezTo>
                <a:cubicBezTo>
                  <a:pt x="1014" y="711"/>
                  <a:pt x="1018" y="712"/>
                  <a:pt x="1020" y="710"/>
                </a:cubicBezTo>
                <a:cubicBezTo>
                  <a:pt x="1019" y="707"/>
                  <a:pt x="1018" y="711"/>
                  <a:pt x="1016" y="710"/>
                </a:cubicBezTo>
                <a:cubicBezTo>
                  <a:pt x="1017" y="705"/>
                  <a:pt x="1024" y="704"/>
                  <a:pt x="1019" y="697"/>
                </a:cubicBezTo>
                <a:cubicBezTo>
                  <a:pt x="1021" y="697"/>
                  <a:pt x="1023" y="697"/>
                  <a:pt x="1023" y="696"/>
                </a:cubicBezTo>
                <a:cubicBezTo>
                  <a:pt x="1026" y="697"/>
                  <a:pt x="1023" y="699"/>
                  <a:pt x="1023" y="701"/>
                </a:cubicBezTo>
                <a:cubicBezTo>
                  <a:pt x="1026" y="703"/>
                  <a:pt x="1026" y="700"/>
                  <a:pt x="1030" y="700"/>
                </a:cubicBezTo>
                <a:cubicBezTo>
                  <a:pt x="1038" y="705"/>
                  <a:pt x="1043" y="693"/>
                  <a:pt x="1051" y="692"/>
                </a:cubicBezTo>
                <a:cubicBezTo>
                  <a:pt x="1048" y="697"/>
                  <a:pt x="1053" y="699"/>
                  <a:pt x="1050" y="704"/>
                </a:cubicBezTo>
                <a:close/>
                <a:moveTo>
                  <a:pt x="1067" y="678"/>
                </a:moveTo>
                <a:cubicBezTo>
                  <a:pt x="1065" y="679"/>
                  <a:pt x="1065" y="678"/>
                  <a:pt x="1064" y="678"/>
                </a:cubicBezTo>
                <a:cubicBezTo>
                  <a:pt x="1064" y="675"/>
                  <a:pt x="1065" y="674"/>
                  <a:pt x="1068" y="675"/>
                </a:cubicBezTo>
                <a:cubicBezTo>
                  <a:pt x="1068" y="677"/>
                  <a:pt x="1067" y="677"/>
                  <a:pt x="1067" y="678"/>
                </a:cubicBezTo>
                <a:close/>
                <a:moveTo>
                  <a:pt x="1067" y="520"/>
                </a:moveTo>
                <a:cubicBezTo>
                  <a:pt x="1068" y="518"/>
                  <a:pt x="1069" y="516"/>
                  <a:pt x="1072" y="517"/>
                </a:cubicBezTo>
                <a:cubicBezTo>
                  <a:pt x="1072" y="519"/>
                  <a:pt x="1068" y="521"/>
                  <a:pt x="1067" y="520"/>
                </a:cubicBezTo>
                <a:close/>
                <a:moveTo>
                  <a:pt x="1100" y="574"/>
                </a:moveTo>
                <a:cubicBezTo>
                  <a:pt x="1100" y="577"/>
                  <a:pt x="1098" y="578"/>
                  <a:pt x="1095" y="578"/>
                </a:cubicBezTo>
                <a:cubicBezTo>
                  <a:pt x="1096" y="577"/>
                  <a:pt x="1097" y="574"/>
                  <a:pt x="1100" y="574"/>
                </a:cubicBezTo>
                <a:close/>
                <a:moveTo>
                  <a:pt x="1098" y="659"/>
                </a:moveTo>
                <a:cubicBezTo>
                  <a:pt x="1098" y="656"/>
                  <a:pt x="1098" y="654"/>
                  <a:pt x="1099" y="652"/>
                </a:cubicBezTo>
                <a:cubicBezTo>
                  <a:pt x="1102" y="652"/>
                  <a:pt x="1102" y="654"/>
                  <a:pt x="1104" y="653"/>
                </a:cubicBezTo>
                <a:cubicBezTo>
                  <a:pt x="1104" y="657"/>
                  <a:pt x="1101" y="658"/>
                  <a:pt x="1098" y="659"/>
                </a:cubicBezTo>
                <a:close/>
                <a:moveTo>
                  <a:pt x="1090" y="597"/>
                </a:moveTo>
                <a:cubicBezTo>
                  <a:pt x="1090" y="588"/>
                  <a:pt x="1099" y="584"/>
                  <a:pt x="1106" y="585"/>
                </a:cubicBezTo>
                <a:cubicBezTo>
                  <a:pt x="1103" y="591"/>
                  <a:pt x="1097" y="595"/>
                  <a:pt x="1090" y="597"/>
                </a:cubicBezTo>
                <a:close/>
                <a:moveTo>
                  <a:pt x="1125" y="506"/>
                </a:moveTo>
                <a:cubicBezTo>
                  <a:pt x="1125" y="509"/>
                  <a:pt x="1124" y="513"/>
                  <a:pt x="1120" y="513"/>
                </a:cubicBezTo>
                <a:cubicBezTo>
                  <a:pt x="1119" y="508"/>
                  <a:pt x="1121" y="505"/>
                  <a:pt x="1125" y="506"/>
                </a:cubicBezTo>
                <a:close/>
                <a:moveTo>
                  <a:pt x="1127" y="527"/>
                </a:moveTo>
                <a:cubicBezTo>
                  <a:pt x="1127" y="534"/>
                  <a:pt x="1121" y="535"/>
                  <a:pt x="1117" y="538"/>
                </a:cubicBezTo>
                <a:cubicBezTo>
                  <a:pt x="1116" y="536"/>
                  <a:pt x="1115" y="534"/>
                  <a:pt x="1115" y="531"/>
                </a:cubicBezTo>
                <a:cubicBezTo>
                  <a:pt x="1122" y="532"/>
                  <a:pt x="1122" y="524"/>
                  <a:pt x="1127" y="527"/>
                </a:cubicBezTo>
                <a:close/>
                <a:moveTo>
                  <a:pt x="1151" y="586"/>
                </a:moveTo>
                <a:cubicBezTo>
                  <a:pt x="1148" y="585"/>
                  <a:pt x="1151" y="579"/>
                  <a:pt x="1155" y="580"/>
                </a:cubicBezTo>
                <a:cubicBezTo>
                  <a:pt x="1155" y="583"/>
                  <a:pt x="1152" y="584"/>
                  <a:pt x="1151" y="586"/>
                </a:cubicBezTo>
                <a:close/>
                <a:moveTo>
                  <a:pt x="1151" y="561"/>
                </a:moveTo>
                <a:cubicBezTo>
                  <a:pt x="1151" y="579"/>
                  <a:pt x="1132" y="583"/>
                  <a:pt x="1119" y="585"/>
                </a:cubicBezTo>
                <a:cubicBezTo>
                  <a:pt x="1119" y="582"/>
                  <a:pt x="1117" y="580"/>
                  <a:pt x="1119" y="578"/>
                </a:cubicBezTo>
                <a:cubicBezTo>
                  <a:pt x="1116" y="578"/>
                  <a:pt x="1114" y="583"/>
                  <a:pt x="1111" y="580"/>
                </a:cubicBezTo>
                <a:cubicBezTo>
                  <a:pt x="1115" y="576"/>
                  <a:pt x="1120" y="574"/>
                  <a:pt x="1121" y="567"/>
                </a:cubicBezTo>
                <a:cubicBezTo>
                  <a:pt x="1126" y="568"/>
                  <a:pt x="1125" y="563"/>
                  <a:pt x="1129" y="562"/>
                </a:cubicBezTo>
                <a:cubicBezTo>
                  <a:pt x="1132" y="561"/>
                  <a:pt x="1130" y="565"/>
                  <a:pt x="1133" y="565"/>
                </a:cubicBezTo>
                <a:cubicBezTo>
                  <a:pt x="1139" y="558"/>
                  <a:pt x="1149" y="551"/>
                  <a:pt x="1157" y="556"/>
                </a:cubicBezTo>
                <a:cubicBezTo>
                  <a:pt x="1155" y="557"/>
                  <a:pt x="1154" y="561"/>
                  <a:pt x="1151" y="561"/>
                </a:cubicBezTo>
                <a:close/>
                <a:moveTo>
                  <a:pt x="1158" y="556"/>
                </a:moveTo>
                <a:cubicBezTo>
                  <a:pt x="1157" y="551"/>
                  <a:pt x="1163" y="553"/>
                  <a:pt x="1161" y="547"/>
                </a:cubicBezTo>
                <a:cubicBezTo>
                  <a:pt x="1165" y="547"/>
                  <a:pt x="1165" y="547"/>
                  <a:pt x="1165" y="547"/>
                </a:cubicBezTo>
                <a:cubicBezTo>
                  <a:pt x="1165" y="552"/>
                  <a:pt x="1161" y="554"/>
                  <a:pt x="1158" y="556"/>
                </a:cubicBezTo>
                <a:close/>
                <a:moveTo>
                  <a:pt x="1179" y="548"/>
                </a:moveTo>
                <a:cubicBezTo>
                  <a:pt x="1178" y="551"/>
                  <a:pt x="1177" y="552"/>
                  <a:pt x="1175" y="552"/>
                </a:cubicBezTo>
                <a:cubicBezTo>
                  <a:pt x="1175" y="550"/>
                  <a:pt x="1176" y="548"/>
                  <a:pt x="1179" y="548"/>
                </a:cubicBezTo>
                <a:close/>
                <a:moveTo>
                  <a:pt x="1177" y="514"/>
                </a:moveTo>
                <a:cubicBezTo>
                  <a:pt x="1176" y="512"/>
                  <a:pt x="1177" y="510"/>
                  <a:pt x="1178" y="509"/>
                </a:cubicBezTo>
                <a:cubicBezTo>
                  <a:pt x="1180" y="509"/>
                  <a:pt x="1180" y="511"/>
                  <a:pt x="1182" y="510"/>
                </a:cubicBezTo>
                <a:cubicBezTo>
                  <a:pt x="1182" y="513"/>
                  <a:pt x="1180" y="514"/>
                  <a:pt x="1177" y="514"/>
                </a:cubicBezTo>
                <a:close/>
                <a:moveTo>
                  <a:pt x="1112" y="747"/>
                </a:moveTo>
                <a:cubicBezTo>
                  <a:pt x="1108" y="748"/>
                  <a:pt x="1111" y="752"/>
                  <a:pt x="1113" y="754"/>
                </a:cubicBezTo>
                <a:cubicBezTo>
                  <a:pt x="1113" y="752"/>
                  <a:pt x="1114" y="752"/>
                  <a:pt x="1114" y="750"/>
                </a:cubicBezTo>
                <a:cubicBezTo>
                  <a:pt x="1113" y="749"/>
                  <a:pt x="1112" y="749"/>
                  <a:pt x="1112" y="747"/>
                </a:cubicBezTo>
                <a:close/>
                <a:moveTo>
                  <a:pt x="700" y="1082"/>
                </a:moveTo>
                <a:cubicBezTo>
                  <a:pt x="699" y="1085"/>
                  <a:pt x="702" y="1084"/>
                  <a:pt x="702" y="1085"/>
                </a:cubicBezTo>
                <a:cubicBezTo>
                  <a:pt x="704" y="1082"/>
                  <a:pt x="712" y="1083"/>
                  <a:pt x="715" y="1081"/>
                </a:cubicBezTo>
                <a:cubicBezTo>
                  <a:pt x="710" y="1075"/>
                  <a:pt x="707" y="1081"/>
                  <a:pt x="700" y="1082"/>
                </a:cubicBezTo>
                <a:close/>
                <a:moveTo>
                  <a:pt x="927" y="95"/>
                </a:moveTo>
                <a:cubicBezTo>
                  <a:pt x="937" y="94"/>
                  <a:pt x="932" y="90"/>
                  <a:pt x="927" y="95"/>
                </a:cubicBezTo>
                <a:close/>
                <a:moveTo>
                  <a:pt x="1147" y="166"/>
                </a:moveTo>
                <a:cubicBezTo>
                  <a:pt x="1143" y="165"/>
                  <a:pt x="1136" y="171"/>
                  <a:pt x="1141" y="174"/>
                </a:cubicBezTo>
                <a:cubicBezTo>
                  <a:pt x="1143" y="172"/>
                  <a:pt x="1142" y="167"/>
                  <a:pt x="1147" y="167"/>
                </a:cubicBezTo>
                <a:cubicBezTo>
                  <a:pt x="1147" y="167"/>
                  <a:pt x="1148" y="166"/>
                  <a:pt x="1147" y="166"/>
                </a:cubicBezTo>
                <a:close/>
                <a:moveTo>
                  <a:pt x="959" y="188"/>
                </a:moveTo>
                <a:cubicBezTo>
                  <a:pt x="961" y="182"/>
                  <a:pt x="971" y="177"/>
                  <a:pt x="976" y="181"/>
                </a:cubicBezTo>
                <a:cubicBezTo>
                  <a:pt x="981" y="176"/>
                  <a:pt x="993" y="173"/>
                  <a:pt x="994" y="167"/>
                </a:cubicBezTo>
                <a:cubicBezTo>
                  <a:pt x="979" y="168"/>
                  <a:pt x="971" y="179"/>
                  <a:pt x="957" y="183"/>
                </a:cubicBezTo>
                <a:cubicBezTo>
                  <a:pt x="957" y="185"/>
                  <a:pt x="957" y="187"/>
                  <a:pt x="959" y="188"/>
                </a:cubicBezTo>
                <a:close/>
                <a:moveTo>
                  <a:pt x="1152" y="259"/>
                </a:moveTo>
                <a:cubicBezTo>
                  <a:pt x="1152" y="256"/>
                  <a:pt x="1155" y="255"/>
                  <a:pt x="1157" y="253"/>
                </a:cubicBezTo>
                <a:cubicBezTo>
                  <a:pt x="1154" y="251"/>
                  <a:pt x="1151" y="249"/>
                  <a:pt x="1147" y="249"/>
                </a:cubicBezTo>
                <a:cubicBezTo>
                  <a:pt x="1148" y="254"/>
                  <a:pt x="1151" y="256"/>
                  <a:pt x="1153" y="255"/>
                </a:cubicBezTo>
                <a:cubicBezTo>
                  <a:pt x="1152" y="257"/>
                  <a:pt x="1148" y="258"/>
                  <a:pt x="1152" y="259"/>
                </a:cubicBezTo>
                <a:close/>
                <a:moveTo>
                  <a:pt x="1192" y="338"/>
                </a:moveTo>
                <a:cubicBezTo>
                  <a:pt x="1197" y="336"/>
                  <a:pt x="1200" y="334"/>
                  <a:pt x="1203" y="331"/>
                </a:cubicBezTo>
                <a:cubicBezTo>
                  <a:pt x="1200" y="333"/>
                  <a:pt x="1191" y="334"/>
                  <a:pt x="1192" y="338"/>
                </a:cubicBezTo>
                <a:close/>
                <a:moveTo>
                  <a:pt x="1219" y="382"/>
                </a:moveTo>
                <a:cubicBezTo>
                  <a:pt x="1223" y="382"/>
                  <a:pt x="1228" y="384"/>
                  <a:pt x="1231" y="378"/>
                </a:cubicBezTo>
                <a:cubicBezTo>
                  <a:pt x="1228" y="377"/>
                  <a:pt x="1226" y="381"/>
                  <a:pt x="1225" y="378"/>
                </a:cubicBezTo>
                <a:cubicBezTo>
                  <a:pt x="1228" y="377"/>
                  <a:pt x="1230" y="375"/>
                  <a:pt x="1232" y="374"/>
                </a:cubicBezTo>
                <a:cubicBezTo>
                  <a:pt x="1229" y="375"/>
                  <a:pt x="1226" y="375"/>
                  <a:pt x="1223" y="373"/>
                </a:cubicBezTo>
                <a:cubicBezTo>
                  <a:pt x="1223" y="377"/>
                  <a:pt x="1219" y="378"/>
                  <a:pt x="1219" y="382"/>
                </a:cubicBezTo>
                <a:close/>
                <a:moveTo>
                  <a:pt x="1162" y="385"/>
                </a:moveTo>
                <a:cubicBezTo>
                  <a:pt x="1170" y="385"/>
                  <a:pt x="1172" y="376"/>
                  <a:pt x="1179" y="378"/>
                </a:cubicBezTo>
                <a:cubicBezTo>
                  <a:pt x="1175" y="373"/>
                  <a:pt x="1166" y="382"/>
                  <a:pt x="1162" y="385"/>
                </a:cubicBezTo>
                <a:close/>
                <a:moveTo>
                  <a:pt x="1215" y="381"/>
                </a:moveTo>
                <a:cubicBezTo>
                  <a:pt x="1213" y="381"/>
                  <a:pt x="1202" y="379"/>
                  <a:pt x="1201" y="387"/>
                </a:cubicBezTo>
                <a:cubicBezTo>
                  <a:pt x="1204" y="387"/>
                  <a:pt x="1207" y="387"/>
                  <a:pt x="1208" y="390"/>
                </a:cubicBezTo>
                <a:cubicBezTo>
                  <a:pt x="1204" y="391"/>
                  <a:pt x="1203" y="394"/>
                  <a:pt x="1199" y="394"/>
                </a:cubicBezTo>
                <a:cubicBezTo>
                  <a:pt x="1201" y="396"/>
                  <a:pt x="1205" y="392"/>
                  <a:pt x="1208" y="390"/>
                </a:cubicBezTo>
                <a:cubicBezTo>
                  <a:pt x="1211" y="390"/>
                  <a:pt x="1213" y="390"/>
                  <a:pt x="1213" y="388"/>
                </a:cubicBezTo>
                <a:cubicBezTo>
                  <a:pt x="1212" y="387"/>
                  <a:pt x="1209" y="389"/>
                  <a:pt x="1209" y="387"/>
                </a:cubicBezTo>
                <a:cubicBezTo>
                  <a:pt x="1209" y="383"/>
                  <a:pt x="1214" y="384"/>
                  <a:pt x="1215" y="381"/>
                </a:cubicBezTo>
                <a:close/>
                <a:moveTo>
                  <a:pt x="1267" y="409"/>
                </a:moveTo>
                <a:cubicBezTo>
                  <a:pt x="1269" y="403"/>
                  <a:pt x="1274" y="398"/>
                  <a:pt x="1282" y="398"/>
                </a:cubicBezTo>
                <a:cubicBezTo>
                  <a:pt x="1285" y="394"/>
                  <a:pt x="1291" y="392"/>
                  <a:pt x="1287" y="393"/>
                </a:cubicBezTo>
                <a:cubicBezTo>
                  <a:pt x="1282" y="394"/>
                  <a:pt x="1262" y="406"/>
                  <a:pt x="1255" y="404"/>
                </a:cubicBezTo>
                <a:cubicBezTo>
                  <a:pt x="1255" y="405"/>
                  <a:pt x="1258" y="405"/>
                  <a:pt x="1257" y="407"/>
                </a:cubicBezTo>
                <a:cubicBezTo>
                  <a:pt x="1253" y="407"/>
                  <a:pt x="1253" y="410"/>
                  <a:pt x="1251" y="412"/>
                </a:cubicBezTo>
                <a:cubicBezTo>
                  <a:pt x="1256" y="414"/>
                  <a:pt x="1259" y="407"/>
                  <a:pt x="1267" y="409"/>
                </a:cubicBezTo>
                <a:close/>
                <a:moveTo>
                  <a:pt x="1230" y="407"/>
                </a:moveTo>
                <a:cubicBezTo>
                  <a:pt x="1229" y="408"/>
                  <a:pt x="1226" y="408"/>
                  <a:pt x="1226" y="406"/>
                </a:cubicBezTo>
                <a:cubicBezTo>
                  <a:pt x="1226" y="404"/>
                  <a:pt x="1230" y="405"/>
                  <a:pt x="1230" y="403"/>
                </a:cubicBezTo>
                <a:cubicBezTo>
                  <a:pt x="1229" y="403"/>
                  <a:pt x="1229" y="401"/>
                  <a:pt x="1229" y="400"/>
                </a:cubicBezTo>
                <a:cubicBezTo>
                  <a:pt x="1226" y="401"/>
                  <a:pt x="1224" y="401"/>
                  <a:pt x="1223" y="399"/>
                </a:cubicBezTo>
                <a:cubicBezTo>
                  <a:pt x="1220" y="402"/>
                  <a:pt x="1210" y="404"/>
                  <a:pt x="1218" y="404"/>
                </a:cubicBezTo>
                <a:cubicBezTo>
                  <a:pt x="1216" y="405"/>
                  <a:pt x="1214" y="405"/>
                  <a:pt x="1214" y="408"/>
                </a:cubicBezTo>
                <a:cubicBezTo>
                  <a:pt x="1216" y="408"/>
                  <a:pt x="1217" y="407"/>
                  <a:pt x="1217" y="408"/>
                </a:cubicBezTo>
                <a:cubicBezTo>
                  <a:pt x="1217" y="411"/>
                  <a:pt x="1214" y="412"/>
                  <a:pt x="1214" y="415"/>
                </a:cubicBezTo>
                <a:cubicBezTo>
                  <a:pt x="1219" y="416"/>
                  <a:pt x="1229" y="415"/>
                  <a:pt x="1230" y="407"/>
                </a:cubicBezTo>
                <a:close/>
                <a:moveTo>
                  <a:pt x="1230" y="406"/>
                </a:moveTo>
                <a:cubicBezTo>
                  <a:pt x="1230" y="406"/>
                  <a:pt x="1230" y="407"/>
                  <a:pt x="1230" y="407"/>
                </a:cubicBezTo>
                <a:cubicBezTo>
                  <a:pt x="1230" y="407"/>
                  <a:pt x="1230" y="406"/>
                  <a:pt x="1230" y="406"/>
                </a:cubicBezTo>
                <a:close/>
                <a:moveTo>
                  <a:pt x="1245" y="418"/>
                </a:moveTo>
                <a:cubicBezTo>
                  <a:pt x="1244" y="416"/>
                  <a:pt x="1245" y="414"/>
                  <a:pt x="1246" y="414"/>
                </a:cubicBezTo>
                <a:cubicBezTo>
                  <a:pt x="1249" y="415"/>
                  <a:pt x="1250" y="410"/>
                  <a:pt x="1248" y="413"/>
                </a:cubicBezTo>
                <a:cubicBezTo>
                  <a:pt x="1243" y="414"/>
                  <a:pt x="1239" y="417"/>
                  <a:pt x="1234" y="419"/>
                </a:cubicBezTo>
                <a:cubicBezTo>
                  <a:pt x="1238" y="422"/>
                  <a:pt x="1241" y="415"/>
                  <a:pt x="1245" y="418"/>
                </a:cubicBezTo>
                <a:close/>
                <a:moveTo>
                  <a:pt x="1167" y="425"/>
                </a:moveTo>
                <a:cubicBezTo>
                  <a:pt x="1171" y="423"/>
                  <a:pt x="1175" y="421"/>
                  <a:pt x="1178" y="418"/>
                </a:cubicBezTo>
                <a:cubicBezTo>
                  <a:pt x="1174" y="420"/>
                  <a:pt x="1169" y="421"/>
                  <a:pt x="1167" y="425"/>
                </a:cubicBezTo>
                <a:close/>
                <a:moveTo>
                  <a:pt x="1136" y="429"/>
                </a:moveTo>
                <a:cubicBezTo>
                  <a:pt x="1130" y="428"/>
                  <a:pt x="1127" y="435"/>
                  <a:pt x="1123" y="432"/>
                </a:cubicBezTo>
                <a:cubicBezTo>
                  <a:pt x="1123" y="429"/>
                  <a:pt x="1128" y="430"/>
                  <a:pt x="1128" y="427"/>
                </a:cubicBezTo>
                <a:cubicBezTo>
                  <a:pt x="1123" y="425"/>
                  <a:pt x="1110" y="427"/>
                  <a:pt x="1108" y="434"/>
                </a:cubicBezTo>
                <a:cubicBezTo>
                  <a:pt x="1111" y="435"/>
                  <a:pt x="1116" y="438"/>
                  <a:pt x="1114" y="441"/>
                </a:cubicBezTo>
                <a:cubicBezTo>
                  <a:pt x="1117" y="442"/>
                  <a:pt x="1120" y="438"/>
                  <a:pt x="1121" y="440"/>
                </a:cubicBezTo>
                <a:cubicBezTo>
                  <a:pt x="1120" y="441"/>
                  <a:pt x="1119" y="442"/>
                  <a:pt x="1118" y="443"/>
                </a:cubicBezTo>
                <a:cubicBezTo>
                  <a:pt x="1114" y="440"/>
                  <a:pt x="1108" y="449"/>
                  <a:pt x="1104" y="452"/>
                </a:cubicBezTo>
                <a:cubicBezTo>
                  <a:pt x="1107" y="452"/>
                  <a:pt x="1110" y="451"/>
                  <a:pt x="1109" y="455"/>
                </a:cubicBezTo>
                <a:cubicBezTo>
                  <a:pt x="1106" y="455"/>
                  <a:pt x="1105" y="452"/>
                  <a:pt x="1103" y="455"/>
                </a:cubicBezTo>
                <a:cubicBezTo>
                  <a:pt x="1103" y="458"/>
                  <a:pt x="1103" y="460"/>
                  <a:pt x="1105" y="462"/>
                </a:cubicBezTo>
                <a:cubicBezTo>
                  <a:pt x="1110" y="457"/>
                  <a:pt x="1118" y="457"/>
                  <a:pt x="1120" y="450"/>
                </a:cubicBezTo>
                <a:cubicBezTo>
                  <a:pt x="1123" y="450"/>
                  <a:pt x="1127" y="446"/>
                  <a:pt x="1124" y="445"/>
                </a:cubicBezTo>
                <a:cubicBezTo>
                  <a:pt x="1122" y="447"/>
                  <a:pt x="1120" y="449"/>
                  <a:pt x="1117" y="450"/>
                </a:cubicBezTo>
                <a:cubicBezTo>
                  <a:pt x="1117" y="449"/>
                  <a:pt x="1116" y="449"/>
                  <a:pt x="1116" y="448"/>
                </a:cubicBezTo>
                <a:cubicBezTo>
                  <a:pt x="1117" y="447"/>
                  <a:pt x="1117" y="446"/>
                  <a:pt x="1118" y="445"/>
                </a:cubicBezTo>
                <a:cubicBezTo>
                  <a:pt x="1119" y="448"/>
                  <a:pt x="1121" y="444"/>
                  <a:pt x="1124" y="445"/>
                </a:cubicBezTo>
                <a:cubicBezTo>
                  <a:pt x="1124" y="442"/>
                  <a:pt x="1124" y="442"/>
                  <a:pt x="1126" y="439"/>
                </a:cubicBezTo>
                <a:cubicBezTo>
                  <a:pt x="1124" y="437"/>
                  <a:pt x="1122" y="439"/>
                  <a:pt x="1122" y="438"/>
                </a:cubicBezTo>
                <a:cubicBezTo>
                  <a:pt x="1125" y="433"/>
                  <a:pt x="1132" y="433"/>
                  <a:pt x="1136" y="429"/>
                </a:cubicBezTo>
                <a:close/>
                <a:moveTo>
                  <a:pt x="1094" y="442"/>
                </a:moveTo>
                <a:cubicBezTo>
                  <a:pt x="1090" y="444"/>
                  <a:pt x="1079" y="444"/>
                  <a:pt x="1080" y="448"/>
                </a:cubicBezTo>
                <a:cubicBezTo>
                  <a:pt x="1085" y="447"/>
                  <a:pt x="1095" y="442"/>
                  <a:pt x="1094" y="442"/>
                </a:cubicBezTo>
                <a:close/>
                <a:moveTo>
                  <a:pt x="1002" y="455"/>
                </a:moveTo>
                <a:cubicBezTo>
                  <a:pt x="999" y="456"/>
                  <a:pt x="995" y="456"/>
                  <a:pt x="995" y="460"/>
                </a:cubicBezTo>
                <a:cubicBezTo>
                  <a:pt x="999" y="460"/>
                  <a:pt x="999" y="456"/>
                  <a:pt x="1002" y="455"/>
                </a:cubicBezTo>
                <a:close/>
                <a:moveTo>
                  <a:pt x="1126" y="464"/>
                </a:moveTo>
                <a:cubicBezTo>
                  <a:pt x="1127" y="462"/>
                  <a:pt x="1129" y="462"/>
                  <a:pt x="1131" y="462"/>
                </a:cubicBezTo>
                <a:cubicBezTo>
                  <a:pt x="1131" y="457"/>
                  <a:pt x="1126" y="460"/>
                  <a:pt x="1125" y="462"/>
                </a:cubicBezTo>
                <a:cubicBezTo>
                  <a:pt x="1127" y="462"/>
                  <a:pt x="1125" y="464"/>
                  <a:pt x="1126" y="464"/>
                </a:cubicBezTo>
                <a:close/>
                <a:moveTo>
                  <a:pt x="1234" y="521"/>
                </a:moveTo>
                <a:cubicBezTo>
                  <a:pt x="1230" y="525"/>
                  <a:pt x="1219" y="527"/>
                  <a:pt x="1218" y="531"/>
                </a:cubicBezTo>
                <a:cubicBezTo>
                  <a:pt x="1216" y="534"/>
                  <a:pt x="1197" y="535"/>
                  <a:pt x="1192" y="546"/>
                </a:cubicBezTo>
                <a:cubicBezTo>
                  <a:pt x="1199" y="545"/>
                  <a:pt x="1205" y="540"/>
                  <a:pt x="1212" y="536"/>
                </a:cubicBezTo>
                <a:cubicBezTo>
                  <a:pt x="1220" y="532"/>
                  <a:pt x="1232" y="529"/>
                  <a:pt x="1234" y="521"/>
                </a:cubicBezTo>
                <a:close/>
                <a:moveTo>
                  <a:pt x="162" y="592"/>
                </a:moveTo>
                <a:cubicBezTo>
                  <a:pt x="153" y="594"/>
                  <a:pt x="146" y="599"/>
                  <a:pt x="141" y="605"/>
                </a:cubicBezTo>
                <a:cubicBezTo>
                  <a:pt x="144" y="605"/>
                  <a:pt x="145" y="604"/>
                  <a:pt x="147" y="607"/>
                </a:cubicBezTo>
                <a:cubicBezTo>
                  <a:pt x="147" y="609"/>
                  <a:pt x="143" y="611"/>
                  <a:pt x="145" y="612"/>
                </a:cubicBezTo>
                <a:cubicBezTo>
                  <a:pt x="146" y="609"/>
                  <a:pt x="150" y="609"/>
                  <a:pt x="152" y="608"/>
                </a:cubicBezTo>
                <a:cubicBezTo>
                  <a:pt x="152" y="605"/>
                  <a:pt x="150" y="603"/>
                  <a:pt x="151" y="599"/>
                </a:cubicBezTo>
                <a:cubicBezTo>
                  <a:pt x="152" y="599"/>
                  <a:pt x="152" y="598"/>
                  <a:pt x="153" y="598"/>
                </a:cubicBezTo>
                <a:cubicBezTo>
                  <a:pt x="157" y="600"/>
                  <a:pt x="162" y="596"/>
                  <a:pt x="162" y="592"/>
                </a:cubicBezTo>
                <a:close/>
                <a:moveTo>
                  <a:pt x="202" y="660"/>
                </a:moveTo>
                <a:cubicBezTo>
                  <a:pt x="200" y="659"/>
                  <a:pt x="200" y="657"/>
                  <a:pt x="197" y="658"/>
                </a:cubicBezTo>
                <a:cubicBezTo>
                  <a:pt x="197" y="659"/>
                  <a:pt x="195" y="663"/>
                  <a:pt x="196" y="663"/>
                </a:cubicBezTo>
                <a:cubicBezTo>
                  <a:pt x="196" y="659"/>
                  <a:pt x="201" y="662"/>
                  <a:pt x="202" y="660"/>
                </a:cubicBezTo>
                <a:close/>
                <a:moveTo>
                  <a:pt x="1186" y="672"/>
                </a:moveTo>
                <a:cubicBezTo>
                  <a:pt x="1184" y="675"/>
                  <a:pt x="1182" y="676"/>
                  <a:pt x="1178" y="677"/>
                </a:cubicBezTo>
                <a:cubicBezTo>
                  <a:pt x="1178" y="676"/>
                  <a:pt x="1177" y="675"/>
                  <a:pt x="1177" y="675"/>
                </a:cubicBezTo>
                <a:cubicBezTo>
                  <a:pt x="1178" y="672"/>
                  <a:pt x="1178" y="670"/>
                  <a:pt x="1178" y="666"/>
                </a:cubicBezTo>
                <a:cubicBezTo>
                  <a:pt x="1172" y="668"/>
                  <a:pt x="1168" y="672"/>
                  <a:pt x="1164" y="676"/>
                </a:cubicBezTo>
                <a:cubicBezTo>
                  <a:pt x="1165" y="679"/>
                  <a:pt x="1171" y="677"/>
                  <a:pt x="1173" y="678"/>
                </a:cubicBezTo>
                <a:cubicBezTo>
                  <a:pt x="1173" y="683"/>
                  <a:pt x="1173" y="683"/>
                  <a:pt x="1173" y="683"/>
                </a:cubicBezTo>
                <a:cubicBezTo>
                  <a:pt x="1179" y="681"/>
                  <a:pt x="1186" y="676"/>
                  <a:pt x="1186" y="672"/>
                </a:cubicBezTo>
                <a:close/>
                <a:moveTo>
                  <a:pt x="1169" y="675"/>
                </a:moveTo>
                <a:cubicBezTo>
                  <a:pt x="1169" y="671"/>
                  <a:pt x="1173" y="671"/>
                  <a:pt x="1176" y="670"/>
                </a:cubicBezTo>
                <a:cubicBezTo>
                  <a:pt x="1176" y="673"/>
                  <a:pt x="1175" y="673"/>
                  <a:pt x="1175" y="676"/>
                </a:cubicBezTo>
                <a:cubicBezTo>
                  <a:pt x="1173" y="676"/>
                  <a:pt x="1171" y="676"/>
                  <a:pt x="1169" y="675"/>
                </a:cubicBezTo>
                <a:close/>
                <a:moveTo>
                  <a:pt x="1045" y="783"/>
                </a:moveTo>
                <a:cubicBezTo>
                  <a:pt x="1045" y="786"/>
                  <a:pt x="1040" y="792"/>
                  <a:pt x="1038" y="787"/>
                </a:cubicBezTo>
                <a:cubicBezTo>
                  <a:pt x="1035" y="787"/>
                  <a:pt x="1035" y="790"/>
                  <a:pt x="1034" y="792"/>
                </a:cubicBezTo>
                <a:cubicBezTo>
                  <a:pt x="1037" y="790"/>
                  <a:pt x="1034" y="795"/>
                  <a:pt x="1037" y="795"/>
                </a:cubicBezTo>
                <a:cubicBezTo>
                  <a:pt x="1037" y="792"/>
                  <a:pt x="1040" y="793"/>
                  <a:pt x="1042" y="793"/>
                </a:cubicBezTo>
                <a:cubicBezTo>
                  <a:pt x="1040" y="788"/>
                  <a:pt x="1043" y="786"/>
                  <a:pt x="1048" y="786"/>
                </a:cubicBezTo>
                <a:cubicBezTo>
                  <a:pt x="1048" y="785"/>
                  <a:pt x="1049" y="784"/>
                  <a:pt x="1049" y="783"/>
                </a:cubicBezTo>
                <a:cubicBezTo>
                  <a:pt x="1047" y="784"/>
                  <a:pt x="1048" y="784"/>
                  <a:pt x="1045" y="783"/>
                </a:cubicBezTo>
                <a:close/>
                <a:moveTo>
                  <a:pt x="1192" y="801"/>
                </a:moveTo>
                <a:cubicBezTo>
                  <a:pt x="1193" y="799"/>
                  <a:pt x="1191" y="795"/>
                  <a:pt x="1196" y="794"/>
                </a:cubicBezTo>
                <a:cubicBezTo>
                  <a:pt x="1194" y="792"/>
                  <a:pt x="1191" y="795"/>
                  <a:pt x="1190" y="796"/>
                </a:cubicBezTo>
                <a:cubicBezTo>
                  <a:pt x="1191" y="797"/>
                  <a:pt x="1189" y="798"/>
                  <a:pt x="1190" y="799"/>
                </a:cubicBezTo>
                <a:cubicBezTo>
                  <a:pt x="1191" y="800"/>
                  <a:pt x="1192" y="800"/>
                  <a:pt x="1192" y="801"/>
                </a:cubicBezTo>
                <a:close/>
                <a:moveTo>
                  <a:pt x="1191" y="802"/>
                </a:moveTo>
                <a:cubicBezTo>
                  <a:pt x="1192" y="802"/>
                  <a:pt x="1192" y="801"/>
                  <a:pt x="1192" y="801"/>
                </a:cubicBezTo>
                <a:cubicBezTo>
                  <a:pt x="1192" y="801"/>
                  <a:pt x="1191" y="801"/>
                  <a:pt x="1191" y="802"/>
                </a:cubicBezTo>
                <a:close/>
                <a:moveTo>
                  <a:pt x="1192" y="801"/>
                </a:moveTo>
                <a:cubicBezTo>
                  <a:pt x="1192" y="801"/>
                  <a:pt x="1192" y="801"/>
                  <a:pt x="1192" y="801"/>
                </a:cubicBezTo>
                <a:cubicBezTo>
                  <a:pt x="1192" y="801"/>
                  <a:pt x="1192" y="801"/>
                  <a:pt x="1192" y="801"/>
                </a:cubicBezTo>
                <a:cubicBezTo>
                  <a:pt x="1192" y="801"/>
                  <a:pt x="1192" y="801"/>
                  <a:pt x="1192" y="801"/>
                </a:cubicBezTo>
                <a:close/>
                <a:moveTo>
                  <a:pt x="1117" y="848"/>
                </a:moveTo>
                <a:cubicBezTo>
                  <a:pt x="1117" y="847"/>
                  <a:pt x="1117" y="846"/>
                  <a:pt x="1118" y="846"/>
                </a:cubicBezTo>
                <a:cubicBezTo>
                  <a:pt x="1117" y="846"/>
                  <a:pt x="1117" y="846"/>
                  <a:pt x="1117" y="846"/>
                </a:cubicBezTo>
                <a:lnTo>
                  <a:pt x="1117" y="848"/>
                </a:lnTo>
                <a:close/>
                <a:moveTo>
                  <a:pt x="1138" y="833"/>
                </a:moveTo>
                <a:cubicBezTo>
                  <a:pt x="1136" y="833"/>
                  <a:pt x="1136" y="831"/>
                  <a:pt x="1136" y="831"/>
                </a:cubicBezTo>
                <a:cubicBezTo>
                  <a:pt x="1133" y="838"/>
                  <a:pt x="1121" y="840"/>
                  <a:pt x="1118" y="846"/>
                </a:cubicBezTo>
                <a:cubicBezTo>
                  <a:pt x="1124" y="846"/>
                  <a:pt x="1124" y="846"/>
                  <a:pt x="1124" y="846"/>
                </a:cubicBezTo>
                <a:cubicBezTo>
                  <a:pt x="1127" y="843"/>
                  <a:pt x="1131" y="834"/>
                  <a:pt x="1136" y="838"/>
                </a:cubicBezTo>
                <a:cubicBezTo>
                  <a:pt x="1135" y="835"/>
                  <a:pt x="1139" y="836"/>
                  <a:pt x="1138" y="833"/>
                </a:cubicBezTo>
                <a:close/>
                <a:moveTo>
                  <a:pt x="117" y="847"/>
                </a:moveTo>
                <a:cubicBezTo>
                  <a:pt x="113" y="845"/>
                  <a:pt x="109" y="848"/>
                  <a:pt x="108" y="851"/>
                </a:cubicBezTo>
                <a:cubicBezTo>
                  <a:pt x="113" y="849"/>
                  <a:pt x="117" y="847"/>
                  <a:pt x="121" y="846"/>
                </a:cubicBezTo>
                <a:cubicBezTo>
                  <a:pt x="130" y="844"/>
                  <a:pt x="129" y="845"/>
                  <a:pt x="134" y="836"/>
                </a:cubicBezTo>
                <a:cubicBezTo>
                  <a:pt x="134" y="836"/>
                  <a:pt x="136" y="837"/>
                  <a:pt x="136" y="835"/>
                </a:cubicBezTo>
                <a:cubicBezTo>
                  <a:pt x="133" y="837"/>
                  <a:pt x="134" y="833"/>
                  <a:pt x="131" y="834"/>
                </a:cubicBezTo>
                <a:cubicBezTo>
                  <a:pt x="126" y="837"/>
                  <a:pt x="121" y="841"/>
                  <a:pt x="117" y="847"/>
                </a:cubicBezTo>
                <a:close/>
                <a:moveTo>
                  <a:pt x="167" y="840"/>
                </a:moveTo>
                <a:cubicBezTo>
                  <a:pt x="167" y="844"/>
                  <a:pt x="160" y="841"/>
                  <a:pt x="160" y="845"/>
                </a:cubicBezTo>
                <a:cubicBezTo>
                  <a:pt x="163" y="845"/>
                  <a:pt x="163" y="843"/>
                  <a:pt x="165" y="845"/>
                </a:cubicBezTo>
                <a:cubicBezTo>
                  <a:pt x="164" y="842"/>
                  <a:pt x="170" y="842"/>
                  <a:pt x="167" y="840"/>
                </a:cubicBezTo>
                <a:close/>
                <a:moveTo>
                  <a:pt x="149" y="845"/>
                </a:moveTo>
                <a:cubicBezTo>
                  <a:pt x="142" y="845"/>
                  <a:pt x="132" y="851"/>
                  <a:pt x="129" y="858"/>
                </a:cubicBezTo>
                <a:cubicBezTo>
                  <a:pt x="126" y="858"/>
                  <a:pt x="125" y="857"/>
                  <a:pt x="123" y="857"/>
                </a:cubicBezTo>
                <a:cubicBezTo>
                  <a:pt x="114" y="866"/>
                  <a:pt x="103" y="873"/>
                  <a:pt x="93" y="882"/>
                </a:cubicBezTo>
                <a:cubicBezTo>
                  <a:pt x="105" y="872"/>
                  <a:pt x="122" y="871"/>
                  <a:pt x="133" y="860"/>
                </a:cubicBezTo>
                <a:cubicBezTo>
                  <a:pt x="132" y="860"/>
                  <a:pt x="130" y="860"/>
                  <a:pt x="130" y="858"/>
                </a:cubicBezTo>
                <a:cubicBezTo>
                  <a:pt x="135" y="852"/>
                  <a:pt x="145" y="851"/>
                  <a:pt x="149" y="845"/>
                </a:cubicBezTo>
                <a:close/>
                <a:moveTo>
                  <a:pt x="1051" y="939"/>
                </a:moveTo>
                <a:cubicBezTo>
                  <a:pt x="1054" y="938"/>
                  <a:pt x="1056" y="936"/>
                  <a:pt x="1058" y="934"/>
                </a:cubicBezTo>
                <a:cubicBezTo>
                  <a:pt x="1062" y="934"/>
                  <a:pt x="1062" y="937"/>
                  <a:pt x="1062" y="939"/>
                </a:cubicBezTo>
                <a:cubicBezTo>
                  <a:pt x="1063" y="936"/>
                  <a:pt x="1066" y="938"/>
                  <a:pt x="1068" y="939"/>
                </a:cubicBezTo>
                <a:cubicBezTo>
                  <a:pt x="1068" y="936"/>
                  <a:pt x="1070" y="935"/>
                  <a:pt x="1070" y="932"/>
                </a:cubicBezTo>
                <a:cubicBezTo>
                  <a:pt x="1066" y="927"/>
                  <a:pt x="1075" y="910"/>
                  <a:pt x="1082" y="916"/>
                </a:cubicBezTo>
                <a:cubicBezTo>
                  <a:pt x="1082" y="922"/>
                  <a:pt x="1072" y="926"/>
                  <a:pt x="1076" y="930"/>
                </a:cubicBezTo>
                <a:cubicBezTo>
                  <a:pt x="1081" y="925"/>
                  <a:pt x="1097" y="922"/>
                  <a:pt x="1097" y="913"/>
                </a:cubicBezTo>
                <a:cubicBezTo>
                  <a:pt x="1095" y="914"/>
                  <a:pt x="1097" y="910"/>
                  <a:pt x="1094" y="910"/>
                </a:cubicBezTo>
                <a:cubicBezTo>
                  <a:pt x="1096" y="907"/>
                  <a:pt x="1093" y="906"/>
                  <a:pt x="1097" y="905"/>
                </a:cubicBezTo>
                <a:cubicBezTo>
                  <a:pt x="1097" y="903"/>
                  <a:pt x="1095" y="902"/>
                  <a:pt x="1096" y="900"/>
                </a:cubicBezTo>
                <a:cubicBezTo>
                  <a:pt x="1093" y="901"/>
                  <a:pt x="1094" y="897"/>
                  <a:pt x="1092" y="897"/>
                </a:cubicBezTo>
                <a:cubicBezTo>
                  <a:pt x="1091" y="902"/>
                  <a:pt x="1088" y="905"/>
                  <a:pt x="1084" y="910"/>
                </a:cubicBezTo>
                <a:cubicBezTo>
                  <a:pt x="1082" y="907"/>
                  <a:pt x="1081" y="912"/>
                  <a:pt x="1078" y="912"/>
                </a:cubicBezTo>
                <a:cubicBezTo>
                  <a:pt x="1078" y="909"/>
                  <a:pt x="1078" y="908"/>
                  <a:pt x="1077" y="907"/>
                </a:cubicBezTo>
                <a:cubicBezTo>
                  <a:pt x="1094" y="892"/>
                  <a:pt x="1113" y="879"/>
                  <a:pt x="1135" y="870"/>
                </a:cubicBezTo>
                <a:cubicBezTo>
                  <a:pt x="1133" y="867"/>
                  <a:pt x="1137" y="866"/>
                  <a:pt x="1135" y="865"/>
                </a:cubicBezTo>
                <a:cubicBezTo>
                  <a:pt x="1135" y="867"/>
                  <a:pt x="1130" y="867"/>
                  <a:pt x="1132" y="864"/>
                </a:cubicBezTo>
                <a:cubicBezTo>
                  <a:pt x="1129" y="865"/>
                  <a:pt x="1125" y="870"/>
                  <a:pt x="1121" y="867"/>
                </a:cubicBezTo>
                <a:cubicBezTo>
                  <a:pt x="1120" y="864"/>
                  <a:pt x="1122" y="865"/>
                  <a:pt x="1123" y="863"/>
                </a:cubicBezTo>
                <a:cubicBezTo>
                  <a:pt x="1119" y="863"/>
                  <a:pt x="1115" y="868"/>
                  <a:pt x="1114" y="861"/>
                </a:cubicBezTo>
                <a:cubicBezTo>
                  <a:pt x="1116" y="862"/>
                  <a:pt x="1115" y="864"/>
                  <a:pt x="1118" y="863"/>
                </a:cubicBezTo>
                <a:cubicBezTo>
                  <a:pt x="1118" y="862"/>
                  <a:pt x="1117" y="861"/>
                  <a:pt x="1117" y="860"/>
                </a:cubicBezTo>
                <a:cubicBezTo>
                  <a:pt x="1115" y="859"/>
                  <a:pt x="1113" y="859"/>
                  <a:pt x="1112" y="860"/>
                </a:cubicBezTo>
                <a:cubicBezTo>
                  <a:pt x="1111" y="858"/>
                  <a:pt x="1109" y="857"/>
                  <a:pt x="1109" y="855"/>
                </a:cubicBezTo>
                <a:cubicBezTo>
                  <a:pt x="1111" y="853"/>
                  <a:pt x="1111" y="849"/>
                  <a:pt x="1114" y="848"/>
                </a:cubicBezTo>
                <a:cubicBezTo>
                  <a:pt x="1107" y="845"/>
                  <a:pt x="1101" y="858"/>
                  <a:pt x="1096" y="851"/>
                </a:cubicBezTo>
                <a:cubicBezTo>
                  <a:pt x="1095" y="854"/>
                  <a:pt x="1098" y="854"/>
                  <a:pt x="1097" y="857"/>
                </a:cubicBezTo>
                <a:cubicBezTo>
                  <a:pt x="1093" y="860"/>
                  <a:pt x="1086" y="858"/>
                  <a:pt x="1084" y="866"/>
                </a:cubicBezTo>
                <a:cubicBezTo>
                  <a:pt x="1088" y="864"/>
                  <a:pt x="1087" y="868"/>
                  <a:pt x="1087" y="872"/>
                </a:cubicBezTo>
                <a:cubicBezTo>
                  <a:pt x="1092" y="870"/>
                  <a:pt x="1091" y="872"/>
                  <a:pt x="1092" y="874"/>
                </a:cubicBezTo>
                <a:cubicBezTo>
                  <a:pt x="1093" y="871"/>
                  <a:pt x="1095" y="874"/>
                  <a:pt x="1095" y="876"/>
                </a:cubicBezTo>
                <a:cubicBezTo>
                  <a:pt x="1092" y="880"/>
                  <a:pt x="1089" y="883"/>
                  <a:pt x="1084" y="883"/>
                </a:cubicBezTo>
                <a:cubicBezTo>
                  <a:pt x="1085" y="879"/>
                  <a:pt x="1084" y="876"/>
                  <a:pt x="1081" y="874"/>
                </a:cubicBezTo>
                <a:cubicBezTo>
                  <a:pt x="1081" y="876"/>
                  <a:pt x="1079" y="875"/>
                  <a:pt x="1079" y="876"/>
                </a:cubicBezTo>
                <a:cubicBezTo>
                  <a:pt x="1082" y="882"/>
                  <a:pt x="1075" y="894"/>
                  <a:pt x="1067" y="894"/>
                </a:cubicBezTo>
                <a:cubicBezTo>
                  <a:pt x="1067" y="891"/>
                  <a:pt x="1066" y="889"/>
                  <a:pt x="1065" y="887"/>
                </a:cubicBezTo>
                <a:cubicBezTo>
                  <a:pt x="1063" y="891"/>
                  <a:pt x="1067" y="891"/>
                  <a:pt x="1066" y="896"/>
                </a:cubicBezTo>
                <a:cubicBezTo>
                  <a:pt x="1063" y="898"/>
                  <a:pt x="1058" y="898"/>
                  <a:pt x="1058" y="902"/>
                </a:cubicBezTo>
                <a:cubicBezTo>
                  <a:pt x="1058" y="904"/>
                  <a:pt x="1061" y="902"/>
                  <a:pt x="1061" y="904"/>
                </a:cubicBezTo>
                <a:cubicBezTo>
                  <a:pt x="1058" y="906"/>
                  <a:pt x="1058" y="910"/>
                  <a:pt x="1056" y="913"/>
                </a:cubicBezTo>
                <a:cubicBezTo>
                  <a:pt x="1061" y="913"/>
                  <a:pt x="1063" y="917"/>
                  <a:pt x="1064" y="921"/>
                </a:cubicBezTo>
                <a:cubicBezTo>
                  <a:pt x="1059" y="928"/>
                  <a:pt x="1049" y="929"/>
                  <a:pt x="1051" y="939"/>
                </a:cubicBezTo>
                <a:close/>
                <a:moveTo>
                  <a:pt x="1103" y="880"/>
                </a:moveTo>
                <a:cubicBezTo>
                  <a:pt x="1103" y="876"/>
                  <a:pt x="1106" y="876"/>
                  <a:pt x="1108" y="874"/>
                </a:cubicBezTo>
                <a:cubicBezTo>
                  <a:pt x="1111" y="877"/>
                  <a:pt x="1106" y="880"/>
                  <a:pt x="1103" y="880"/>
                </a:cubicBezTo>
                <a:close/>
                <a:moveTo>
                  <a:pt x="1092" y="868"/>
                </a:moveTo>
                <a:cubicBezTo>
                  <a:pt x="1092" y="865"/>
                  <a:pt x="1090" y="866"/>
                  <a:pt x="1091" y="863"/>
                </a:cubicBezTo>
                <a:cubicBezTo>
                  <a:pt x="1093" y="866"/>
                  <a:pt x="1096" y="861"/>
                  <a:pt x="1096" y="865"/>
                </a:cubicBezTo>
                <a:cubicBezTo>
                  <a:pt x="1099" y="865"/>
                  <a:pt x="1100" y="863"/>
                  <a:pt x="1101" y="860"/>
                </a:cubicBezTo>
                <a:cubicBezTo>
                  <a:pt x="1100" y="861"/>
                  <a:pt x="1099" y="862"/>
                  <a:pt x="1098" y="863"/>
                </a:cubicBezTo>
                <a:cubicBezTo>
                  <a:pt x="1095" y="862"/>
                  <a:pt x="1102" y="856"/>
                  <a:pt x="1102" y="860"/>
                </a:cubicBezTo>
                <a:cubicBezTo>
                  <a:pt x="1104" y="858"/>
                  <a:pt x="1103" y="856"/>
                  <a:pt x="1107" y="854"/>
                </a:cubicBezTo>
                <a:cubicBezTo>
                  <a:pt x="1110" y="857"/>
                  <a:pt x="1105" y="858"/>
                  <a:pt x="1103" y="860"/>
                </a:cubicBezTo>
                <a:cubicBezTo>
                  <a:pt x="1104" y="863"/>
                  <a:pt x="1108" y="860"/>
                  <a:pt x="1111" y="860"/>
                </a:cubicBezTo>
                <a:cubicBezTo>
                  <a:pt x="1110" y="863"/>
                  <a:pt x="1112" y="864"/>
                  <a:pt x="1112" y="867"/>
                </a:cubicBezTo>
                <a:cubicBezTo>
                  <a:pt x="1105" y="872"/>
                  <a:pt x="1103" y="871"/>
                  <a:pt x="1098" y="874"/>
                </a:cubicBezTo>
                <a:cubicBezTo>
                  <a:pt x="1100" y="869"/>
                  <a:pt x="1096" y="869"/>
                  <a:pt x="1092" y="868"/>
                </a:cubicBezTo>
                <a:close/>
                <a:moveTo>
                  <a:pt x="1102" y="878"/>
                </a:moveTo>
                <a:cubicBezTo>
                  <a:pt x="1102" y="881"/>
                  <a:pt x="1100" y="882"/>
                  <a:pt x="1099" y="884"/>
                </a:cubicBezTo>
                <a:cubicBezTo>
                  <a:pt x="1095" y="883"/>
                  <a:pt x="1096" y="883"/>
                  <a:pt x="1092" y="884"/>
                </a:cubicBezTo>
                <a:cubicBezTo>
                  <a:pt x="1094" y="889"/>
                  <a:pt x="1088" y="892"/>
                  <a:pt x="1083" y="893"/>
                </a:cubicBezTo>
                <a:cubicBezTo>
                  <a:pt x="1084" y="883"/>
                  <a:pt x="1093" y="880"/>
                  <a:pt x="1102" y="878"/>
                </a:cubicBezTo>
                <a:close/>
                <a:moveTo>
                  <a:pt x="1070" y="897"/>
                </a:moveTo>
                <a:cubicBezTo>
                  <a:pt x="1070" y="900"/>
                  <a:pt x="1069" y="902"/>
                  <a:pt x="1066" y="902"/>
                </a:cubicBezTo>
                <a:cubicBezTo>
                  <a:pt x="1065" y="898"/>
                  <a:pt x="1068" y="897"/>
                  <a:pt x="1070" y="897"/>
                </a:cubicBezTo>
                <a:close/>
                <a:moveTo>
                  <a:pt x="178" y="865"/>
                </a:moveTo>
                <a:cubicBezTo>
                  <a:pt x="183" y="865"/>
                  <a:pt x="185" y="864"/>
                  <a:pt x="190" y="862"/>
                </a:cubicBezTo>
                <a:cubicBezTo>
                  <a:pt x="188" y="859"/>
                  <a:pt x="184" y="855"/>
                  <a:pt x="179" y="858"/>
                </a:cubicBezTo>
                <a:cubicBezTo>
                  <a:pt x="180" y="861"/>
                  <a:pt x="177" y="867"/>
                  <a:pt x="178" y="865"/>
                </a:cubicBezTo>
                <a:close/>
                <a:moveTo>
                  <a:pt x="1114" y="952"/>
                </a:moveTo>
                <a:cubicBezTo>
                  <a:pt x="1115" y="948"/>
                  <a:pt x="1119" y="947"/>
                  <a:pt x="1118" y="941"/>
                </a:cubicBezTo>
                <a:cubicBezTo>
                  <a:pt x="1121" y="942"/>
                  <a:pt x="1120" y="940"/>
                  <a:pt x="1122" y="939"/>
                </a:cubicBezTo>
                <a:cubicBezTo>
                  <a:pt x="1127" y="942"/>
                  <a:pt x="1129" y="936"/>
                  <a:pt x="1133" y="934"/>
                </a:cubicBezTo>
                <a:cubicBezTo>
                  <a:pt x="1130" y="928"/>
                  <a:pt x="1146" y="928"/>
                  <a:pt x="1142" y="921"/>
                </a:cubicBezTo>
                <a:cubicBezTo>
                  <a:pt x="1136" y="923"/>
                  <a:pt x="1134" y="928"/>
                  <a:pt x="1129" y="926"/>
                </a:cubicBezTo>
                <a:cubicBezTo>
                  <a:pt x="1127" y="933"/>
                  <a:pt x="1121" y="935"/>
                  <a:pt x="1115" y="938"/>
                </a:cubicBezTo>
                <a:cubicBezTo>
                  <a:pt x="1115" y="937"/>
                  <a:pt x="1115" y="937"/>
                  <a:pt x="1114" y="936"/>
                </a:cubicBezTo>
                <a:cubicBezTo>
                  <a:pt x="1117" y="933"/>
                  <a:pt x="1116" y="929"/>
                  <a:pt x="1115" y="925"/>
                </a:cubicBezTo>
                <a:cubicBezTo>
                  <a:pt x="1114" y="924"/>
                  <a:pt x="1111" y="926"/>
                  <a:pt x="1111" y="924"/>
                </a:cubicBezTo>
                <a:cubicBezTo>
                  <a:pt x="1114" y="919"/>
                  <a:pt x="1107" y="921"/>
                  <a:pt x="1108" y="916"/>
                </a:cubicBezTo>
                <a:cubicBezTo>
                  <a:pt x="1110" y="919"/>
                  <a:pt x="1113" y="916"/>
                  <a:pt x="1114" y="913"/>
                </a:cubicBezTo>
                <a:cubicBezTo>
                  <a:pt x="1109" y="914"/>
                  <a:pt x="1104" y="917"/>
                  <a:pt x="1104" y="922"/>
                </a:cubicBezTo>
                <a:cubicBezTo>
                  <a:pt x="1110" y="919"/>
                  <a:pt x="1106" y="927"/>
                  <a:pt x="1110" y="926"/>
                </a:cubicBezTo>
                <a:cubicBezTo>
                  <a:pt x="1107" y="930"/>
                  <a:pt x="1107" y="933"/>
                  <a:pt x="1105" y="939"/>
                </a:cubicBezTo>
                <a:cubicBezTo>
                  <a:pt x="1107" y="940"/>
                  <a:pt x="1108" y="938"/>
                  <a:pt x="1108" y="939"/>
                </a:cubicBezTo>
                <a:cubicBezTo>
                  <a:pt x="1105" y="942"/>
                  <a:pt x="1109" y="950"/>
                  <a:pt x="1111" y="950"/>
                </a:cubicBezTo>
                <a:cubicBezTo>
                  <a:pt x="1111" y="952"/>
                  <a:pt x="1111" y="952"/>
                  <a:pt x="1111" y="952"/>
                </a:cubicBezTo>
                <a:cubicBezTo>
                  <a:pt x="1105" y="949"/>
                  <a:pt x="1107" y="954"/>
                  <a:pt x="1103" y="955"/>
                </a:cubicBezTo>
                <a:cubicBezTo>
                  <a:pt x="1103" y="953"/>
                  <a:pt x="1104" y="950"/>
                  <a:pt x="1102" y="950"/>
                </a:cubicBezTo>
                <a:cubicBezTo>
                  <a:pt x="1100" y="952"/>
                  <a:pt x="1096" y="952"/>
                  <a:pt x="1095" y="956"/>
                </a:cubicBezTo>
                <a:cubicBezTo>
                  <a:pt x="1099" y="956"/>
                  <a:pt x="1099" y="953"/>
                  <a:pt x="1103" y="953"/>
                </a:cubicBezTo>
                <a:cubicBezTo>
                  <a:pt x="1103" y="956"/>
                  <a:pt x="1101" y="956"/>
                  <a:pt x="1102" y="958"/>
                </a:cubicBezTo>
                <a:cubicBezTo>
                  <a:pt x="1103" y="960"/>
                  <a:pt x="1103" y="958"/>
                  <a:pt x="1106" y="958"/>
                </a:cubicBezTo>
                <a:cubicBezTo>
                  <a:pt x="1106" y="953"/>
                  <a:pt x="1111" y="952"/>
                  <a:pt x="1114" y="952"/>
                </a:cubicBezTo>
                <a:close/>
                <a:moveTo>
                  <a:pt x="1019" y="927"/>
                </a:moveTo>
                <a:cubicBezTo>
                  <a:pt x="1022" y="924"/>
                  <a:pt x="1025" y="921"/>
                  <a:pt x="1031" y="921"/>
                </a:cubicBezTo>
                <a:cubicBezTo>
                  <a:pt x="1032" y="917"/>
                  <a:pt x="1029" y="919"/>
                  <a:pt x="1029" y="916"/>
                </a:cubicBezTo>
                <a:cubicBezTo>
                  <a:pt x="1025" y="918"/>
                  <a:pt x="1019" y="924"/>
                  <a:pt x="1019" y="927"/>
                </a:cubicBezTo>
                <a:close/>
                <a:moveTo>
                  <a:pt x="157" y="919"/>
                </a:moveTo>
                <a:cubicBezTo>
                  <a:pt x="149" y="918"/>
                  <a:pt x="147" y="925"/>
                  <a:pt x="143" y="928"/>
                </a:cubicBezTo>
                <a:cubicBezTo>
                  <a:pt x="149" y="926"/>
                  <a:pt x="154" y="924"/>
                  <a:pt x="157" y="919"/>
                </a:cubicBezTo>
                <a:close/>
                <a:moveTo>
                  <a:pt x="986" y="921"/>
                </a:moveTo>
                <a:cubicBezTo>
                  <a:pt x="985" y="923"/>
                  <a:pt x="982" y="919"/>
                  <a:pt x="982" y="923"/>
                </a:cubicBezTo>
                <a:cubicBezTo>
                  <a:pt x="984" y="922"/>
                  <a:pt x="984" y="924"/>
                  <a:pt x="986" y="924"/>
                </a:cubicBezTo>
                <a:cubicBezTo>
                  <a:pt x="986" y="922"/>
                  <a:pt x="988" y="921"/>
                  <a:pt x="986" y="921"/>
                </a:cubicBezTo>
                <a:close/>
                <a:moveTo>
                  <a:pt x="786" y="1120"/>
                </a:moveTo>
                <a:cubicBezTo>
                  <a:pt x="787" y="1118"/>
                  <a:pt x="785" y="1117"/>
                  <a:pt x="786" y="1117"/>
                </a:cubicBezTo>
                <a:cubicBezTo>
                  <a:pt x="796" y="1115"/>
                  <a:pt x="807" y="1109"/>
                  <a:pt x="817" y="1109"/>
                </a:cubicBezTo>
                <a:cubicBezTo>
                  <a:pt x="821" y="1103"/>
                  <a:pt x="831" y="1106"/>
                  <a:pt x="834" y="1098"/>
                </a:cubicBezTo>
                <a:cubicBezTo>
                  <a:pt x="835" y="1096"/>
                  <a:pt x="831" y="1094"/>
                  <a:pt x="833" y="1090"/>
                </a:cubicBezTo>
                <a:cubicBezTo>
                  <a:pt x="839" y="1086"/>
                  <a:pt x="848" y="1084"/>
                  <a:pt x="853" y="1083"/>
                </a:cubicBezTo>
                <a:cubicBezTo>
                  <a:pt x="852" y="1085"/>
                  <a:pt x="852" y="1087"/>
                  <a:pt x="852" y="1089"/>
                </a:cubicBezTo>
                <a:cubicBezTo>
                  <a:pt x="856" y="1089"/>
                  <a:pt x="858" y="1090"/>
                  <a:pt x="859" y="1092"/>
                </a:cubicBezTo>
                <a:cubicBezTo>
                  <a:pt x="854" y="1096"/>
                  <a:pt x="847" y="1099"/>
                  <a:pt x="842" y="1104"/>
                </a:cubicBezTo>
                <a:cubicBezTo>
                  <a:pt x="836" y="1100"/>
                  <a:pt x="826" y="1109"/>
                  <a:pt x="822" y="1114"/>
                </a:cubicBezTo>
                <a:cubicBezTo>
                  <a:pt x="835" y="1111"/>
                  <a:pt x="846" y="1106"/>
                  <a:pt x="858" y="1102"/>
                </a:cubicBezTo>
                <a:cubicBezTo>
                  <a:pt x="857" y="1094"/>
                  <a:pt x="862" y="1089"/>
                  <a:pt x="867" y="1084"/>
                </a:cubicBezTo>
                <a:cubicBezTo>
                  <a:pt x="865" y="1084"/>
                  <a:pt x="862" y="1087"/>
                  <a:pt x="861" y="1084"/>
                </a:cubicBezTo>
                <a:cubicBezTo>
                  <a:pt x="870" y="1074"/>
                  <a:pt x="889" y="1072"/>
                  <a:pt x="900" y="1063"/>
                </a:cubicBezTo>
                <a:cubicBezTo>
                  <a:pt x="898" y="1061"/>
                  <a:pt x="893" y="1064"/>
                  <a:pt x="891" y="1061"/>
                </a:cubicBezTo>
                <a:cubicBezTo>
                  <a:pt x="895" y="1052"/>
                  <a:pt x="908" y="1051"/>
                  <a:pt x="917" y="1046"/>
                </a:cubicBezTo>
                <a:cubicBezTo>
                  <a:pt x="915" y="1044"/>
                  <a:pt x="916" y="1042"/>
                  <a:pt x="917" y="1040"/>
                </a:cubicBezTo>
                <a:cubicBezTo>
                  <a:pt x="912" y="1041"/>
                  <a:pt x="908" y="1044"/>
                  <a:pt x="903" y="1045"/>
                </a:cubicBezTo>
                <a:cubicBezTo>
                  <a:pt x="906" y="1038"/>
                  <a:pt x="917" y="1038"/>
                  <a:pt x="922" y="1032"/>
                </a:cubicBezTo>
                <a:cubicBezTo>
                  <a:pt x="919" y="1032"/>
                  <a:pt x="923" y="1029"/>
                  <a:pt x="922" y="1028"/>
                </a:cubicBezTo>
                <a:cubicBezTo>
                  <a:pt x="916" y="1028"/>
                  <a:pt x="918" y="1036"/>
                  <a:pt x="911" y="1036"/>
                </a:cubicBezTo>
                <a:cubicBezTo>
                  <a:pt x="911" y="1032"/>
                  <a:pt x="911" y="1032"/>
                  <a:pt x="911" y="1032"/>
                </a:cubicBezTo>
                <a:cubicBezTo>
                  <a:pt x="904" y="1034"/>
                  <a:pt x="903" y="1042"/>
                  <a:pt x="895" y="1044"/>
                </a:cubicBezTo>
                <a:cubicBezTo>
                  <a:pt x="896" y="1041"/>
                  <a:pt x="897" y="1040"/>
                  <a:pt x="895" y="1038"/>
                </a:cubicBezTo>
                <a:cubicBezTo>
                  <a:pt x="891" y="1039"/>
                  <a:pt x="888" y="1042"/>
                  <a:pt x="885" y="1045"/>
                </a:cubicBezTo>
                <a:cubicBezTo>
                  <a:pt x="882" y="1041"/>
                  <a:pt x="878" y="1047"/>
                  <a:pt x="875" y="1044"/>
                </a:cubicBezTo>
                <a:cubicBezTo>
                  <a:pt x="888" y="1031"/>
                  <a:pt x="913" y="1030"/>
                  <a:pt x="924" y="1015"/>
                </a:cubicBezTo>
                <a:cubicBezTo>
                  <a:pt x="915" y="1018"/>
                  <a:pt x="909" y="1024"/>
                  <a:pt x="900" y="1028"/>
                </a:cubicBezTo>
                <a:cubicBezTo>
                  <a:pt x="900" y="1026"/>
                  <a:pt x="897" y="1027"/>
                  <a:pt x="897" y="1025"/>
                </a:cubicBezTo>
                <a:cubicBezTo>
                  <a:pt x="917" y="1012"/>
                  <a:pt x="940" y="1004"/>
                  <a:pt x="958" y="990"/>
                </a:cubicBezTo>
                <a:cubicBezTo>
                  <a:pt x="956" y="989"/>
                  <a:pt x="954" y="990"/>
                  <a:pt x="954" y="989"/>
                </a:cubicBezTo>
                <a:cubicBezTo>
                  <a:pt x="954" y="982"/>
                  <a:pt x="958" y="980"/>
                  <a:pt x="963" y="979"/>
                </a:cubicBezTo>
                <a:cubicBezTo>
                  <a:pt x="962" y="981"/>
                  <a:pt x="962" y="982"/>
                  <a:pt x="963" y="983"/>
                </a:cubicBezTo>
                <a:cubicBezTo>
                  <a:pt x="976" y="982"/>
                  <a:pt x="994" y="976"/>
                  <a:pt x="995" y="969"/>
                </a:cubicBezTo>
                <a:cubicBezTo>
                  <a:pt x="1005" y="970"/>
                  <a:pt x="1010" y="961"/>
                  <a:pt x="1017" y="960"/>
                </a:cubicBezTo>
                <a:cubicBezTo>
                  <a:pt x="1017" y="963"/>
                  <a:pt x="1019" y="963"/>
                  <a:pt x="1020" y="964"/>
                </a:cubicBezTo>
                <a:cubicBezTo>
                  <a:pt x="1021" y="963"/>
                  <a:pt x="1021" y="962"/>
                  <a:pt x="1022" y="961"/>
                </a:cubicBezTo>
                <a:cubicBezTo>
                  <a:pt x="1028" y="962"/>
                  <a:pt x="1039" y="953"/>
                  <a:pt x="1043" y="946"/>
                </a:cubicBezTo>
                <a:cubicBezTo>
                  <a:pt x="1041" y="946"/>
                  <a:pt x="1040" y="945"/>
                  <a:pt x="1040" y="943"/>
                </a:cubicBezTo>
                <a:cubicBezTo>
                  <a:pt x="1043" y="942"/>
                  <a:pt x="1044" y="944"/>
                  <a:pt x="1048" y="942"/>
                </a:cubicBezTo>
                <a:cubicBezTo>
                  <a:pt x="1048" y="940"/>
                  <a:pt x="1050" y="938"/>
                  <a:pt x="1047" y="938"/>
                </a:cubicBezTo>
                <a:cubicBezTo>
                  <a:pt x="1048" y="940"/>
                  <a:pt x="1043" y="942"/>
                  <a:pt x="1042" y="939"/>
                </a:cubicBezTo>
                <a:cubicBezTo>
                  <a:pt x="1041" y="936"/>
                  <a:pt x="1047" y="939"/>
                  <a:pt x="1047" y="935"/>
                </a:cubicBezTo>
                <a:cubicBezTo>
                  <a:pt x="1041" y="932"/>
                  <a:pt x="1035" y="943"/>
                  <a:pt x="1028" y="944"/>
                </a:cubicBezTo>
                <a:cubicBezTo>
                  <a:pt x="1026" y="935"/>
                  <a:pt x="1036" y="930"/>
                  <a:pt x="1040" y="923"/>
                </a:cubicBezTo>
                <a:cubicBezTo>
                  <a:pt x="1031" y="925"/>
                  <a:pt x="1016" y="930"/>
                  <a:pt x="1021" y="940"/>
                </a:cubicBezTo>
                <a:cubicBezTo>
                  <a:pt x="1015" y="941"/>
                  <a:pt x="1013" y="946"/>
                  <a:pt x="1008" y="948"/>
                </a:cubicBezTo>
                <a:cubicBezTo>
                  <a:pt x="1007" y="946"/>
                  <a:pt x="1010" y="943"/>
                  <a:pt x="1005" y="943"/>
                </a:cubicBezTo>
                <a:cubicBezTo>
                  <a:pt x="1006" y="950"/>
                  <a:pt x="1003" y="951"/>
                  <a:pt x="999" y="952"/>
                </a:cubicBezTo>
                <a:cubicBezTo>
                  <a:pt x="998" y="949"/>
                  <a:pt x="1000" y="949"/>
                  <a:pt x="1001" y="947"/>
                </a:cubicBezTo>
                <a:cubicBezTo>
                  <a:pt x="993" y="949"/>
                  <a:pt x="994" y="956"/>
                  <a:pt x="985" y="954"/>
                </a:cubicBezTo>
                <a:cubicBezTo>
                  <a:pt x="979" y="959"/>
                  <a:pt x="974" y="965"/>
                  <a:pt x="968" y="969"/>
                </a:cubicBezTo>
                <a:cubicBezTo>
                  <a:pt x="967" y="968"/>
                  <a:pt x="967" y="967"/>
                  <a:pt x="967" y="965"/>
                </a:cubicBezTo>
                <a:cubicBezTo>
                  <a:pt x="962" y="967"/>
                  <a:pt x="955" y="973"/>
                  <a:pt x="949" y="971"/>
                </a:cubicBezTo>
                <a:cubicBezTo>
                  <a:pt x="952" y="967"/>
                  <a:pt x="956" y="963"/>
                  <a:pt x="961" y="960"/>
                </a:cubicBezTo>
                <a:cubicBezTo>
                  <a:pt x="959" y="957"/>
                  <a:pt x="958" y="955"/>
                  <a:pt x="956" y="953"/>
                </a:cubicBezTo>
                <a:cubicBezTo>
                  <a:pt x="959" y="954"/>
                  <a:pt x="958" y="951"/>
                  <a:pt x="961" y="952"/>
                </a:cubicBezTo>
                <a:cubicBezTo>
                  <a:pt x="960" y="953"/>
                  <a:pt x="959" y="953"/>
                  <a:pt x="960" y="955"/>
                </a:cubicBezTo>
                <a:cubicBezTo>
                  <a:pt x="977" y="960"/>
                  <a:pt x="979" y="944"/>
                  <a:pt x="991" y="940"/>
                </a:cubicBezTo>
                <a:cubicBezTo>
                  <a:pt x="991" y="937"/>
                  <a:pt x="988" y="936"/>
                  <a:pt x="989" y="931"/>
                </a:cubicBezTo>
                <a:cubicBezTo>
                  <a:pt x="986" y="932"/>
                  <a:pt x="985" y="934"/>
                  <a:pt x="985" y="938"/>
                </a:cubicBezTo>
                <a:cubicBezTo>
                  <a:pt x="990" y="941"/>
                  <a:pt x="980" y="946"/>
                  <a:pt x="977" y="944"/>
                </a:cubicBezTo>
                <a:cubicBezTo>
                  <a:pt x="977" y="942"/>
                  <a:pt x="980" y="943"/>
                  <a:pt x="980" y="941"/>
                </a:cubicBezTo>
                <a:cubicBezTo>
                  <a:pt x="978" y="941"/>
                  <a:pt x="975" y="942"/>
                  <a:pt x="975" y="940"/>
                </a:cubicBezTo>
                <a:cubicBezTo>
                  <a:pt x="976" y="939"/>
                  <a:pt x="977" y="938"/>
                  <a:pt x="980" y="939"/>
                </a:cubicBezTo>
                <a:cubicBezTo>
                  <a:pt x="979" y="935"/>
                  <a:pt x="978" y="934"/>
                  <a:pt x="979" y="930"/>
                </a:cubicBezTo>
                <a:cubicBezTo>
                  <a:pt x="975" y="931"/>
                  <a:pt x="973" y="933"/>
                  <a:pt x="971" y="930"/>
                </a:cubicBezTo>
                <a:cubicBezTo>
                  <a:pt x="962" y="942"/>
                  <a:pt x="947" y="948"/>
                  <a:pt x="935" y="956"/>
                </a:cubicBezTo>
                <a:cubicBezTo>
                  <a:pt x="933" y="956"/>
                  <a:pt x="931" y="955"/>
                  <a:pt x="928" y="955"/>
                </a:cubicBezTo>
                <a:cubicBezTo>
                  <a:pt x="926" y="957"/>
                  <a:pt x="924" y="958"/>
                  <a:pt x="924" y="962"/>
                </a:cubicBezTo>
                <a:cubicBezTo>
                  <a:pt x="926" y="962"/>
                  <a:pt x="928" y="962"/>
                  <a:pt x="928" y="964"/>
                </a:cubicBezTo>
                <a:cubicBezTo>
                  <a:pt x="921" y="972"/>
                  <a:pt x="911" y="979"/>
                  <a:pt x="897" y="972"/>
                </a:cubicBezTo>
                <a:cubicBezTo>
                  <a:pt x="896" y="975"/>
                  <a:pt x="891" y="976"/>
                  <a:pt x="889" y="978"/>
                </a:cubicBezTo>
                <a:cubicBezTo>
                  <a:pt x="893" y="979"/>
                  <a:pt x="894" y="978"/>
                  <a:pt x="897" y="978"/>
                </a:cubicBezTo>
                <a:cubicBezTo>
                  <a:pt x="894" y="983"/>
                  <a:pt x="900" y="979"/>
                  <a:pt x="901" y="983"/>
                </a:cubicBezTo>
                <a:cubicBezTo>
                  <a:pt x="897" y="984"/>
                  <a:pt x="892" y="988"/>
                  <a:pt x="894" y="991"/>
                </a:cubicBezTo>
                <a:cubicBezTo>
                  <a:pt x="895" y="987"/>
                  <a:pt x="899" y="991"/>
                  <a:pt x="900" y="988"/>
                </a:cubicBezTo>
                <a:cubicBezTo>
                  <a:pt x="900" y="989"/>
                  <a:pt x="902" y="989"/>
                  <a:pt x="902" y="991"/>
                </a:cubicBezTo>
                <a:cubicBezTo>
                  <a:pt x="899" y="993"/>
                  <a:pt x="900" y="993"/>
                  <a:pt x="901" y="996"/>
                </a:cubicBezTo>
                <a:cubicBezTo>
                  <a:pt x="895" y="998"/>
                  <a:pt x="894" y="1005"/>
                  <a:pt x="890" y="1009"/>
                </a:cubicBezTo>
                <a:cubicBezTo>
                  <a:pt x="887" y="1010"/>
                  <a:pt x="887" y="1008"/>
                  <a:pt x="885" y="1008"/>
                </a:cubicBezTo>
                <a:cubicBezTo>
                  <a:pt x="879" y="1011"/>
                  <a:pt x="877" y="1015"/>
                  <a:pt x="873" y="1017"/>
                </a:cubicBezTo>
                <a:cubicBezTo>
                  <a:pt x="865" y="1023"/>
                  <a:pt x="855" y="1022"/>
                  <a:pt x="850" y="1030"/>
                </a:cubicBezTo>
                <a:cubicBezTo>
                  <a:pt x="858" y="1032"/>
                  <a:pt x="859" y="1028"/>
                  <a:pt x="864" y="1024"/>
                </a:cubicBezTo>
                <a:cubicBezTo>
                  <a:pt x="873" y="1018"/>
                  <a:pt x="888" y="1014"/>
                  <a:pt x="895" y="1011"/>
                </a:cubicBezTo>
                <a:cubicBezTo>
                  <a:pt x="892" y="1017"/>
                  <a:pt x="886" y="1020"/>
                  <a:pt x="880" y="1024"/>
                </a:cubicBezTo>
                <a:cubicBezTo>
                  <a:pt x="879" y="1023"/>
                  <a:pt x="880" y="1020"/>
                  <a:pt x="878" y="1020"/>
                </a:cubicBezTo>
                <a:cubicBezTo>
                  <a:pt x="872" y="1029"/>
                  <a:pt x="860" y="1033"/>
                  <a:pt x="849" y="1039"/>
                </a:cubicBezTo>
                <a:cubicBezTo>
                  <a:pt x="838" y="1044"/>
                  <a:pt x="822" y="1053"/>
                  <a:pt x="813" y="1052"/>
                </a:cubicBezTo>
                <a:cubicBezTo>
                  <a:pt x="813" y="1053"/>
                  <a:pt x="813" y="1055"/>
                  <a:pt x="812" y="1056"/>
                </a:cubicBezTo>
                <a:cubicBezTo>
                  <a:pt x="804" y="1054"/>
                  <a:pt x="800" y="1059"/>
                  <a:pt x="792" y="1061"/>
                </a:cubicBezTo>
                <a:cubicBezTo>
                  <a:pt x="792" y="1064"/>
                  <a:pt x="794" y="1064"/>
                  <a:pt x="795" y="1066"/>
                </a:cubicBezTo>
                <a:cubicBezTo>
                  <a:pt x="792" y="1066"/>
                  <a:pt x="790" y="1069"/>
                  <a:pt x="791" y="1070"/>
                </a:cubicBezTo>
                <a:cubicBezTo>
                  <a:pt x="803" y="1066"/>
                  <a:pt x="820" y="1061"/>
                  <a:pt x="836" y="1053"/>
                </a:cubicBezTo>
                <a:cubicBezTo>
                  <a:pt x="838" y="1044"/>
                  <a:pt x="849" y="1046"/>
                  <a:pt x="855" y="1043"/>
                </a:cubicBezTo>
                <a:cubicBezTo>
                  <a:pt x="856" y="1045"/>
                  <a:pt x="853" y="1044"/>
                  <a:pt x="853" y="1047"/>
                </a:cubicBezTo>
                <a:cubicBezTo>
                  <a:pt x="856" y="1047"/>
                  <a:pt x="858" y="1049"/>
                  <a:pt x="856" y="1051"/>
                </a:cubicBezTo>
                <a:cubicBezTo>
                  <a:pt x="863" y="1052"/>
                  <a:pt x="870" y="1040"/>
                  <a:pt x="874" y="1047"/>
                </a:cubicBezTo>
                <a:cubicBezTo>
                  <a:pt x="867" y="1048"/>
                  <a:pt x="858" y="1052"/>
                  <a:pt x="853" y="1058"/>
                </a:cubicBezTo>
                <a:cubicBezTo>
                  <a:pt x="857" y="1057"/>
                  <a:pt x="860" y="1058"/>
                  <a:pt x="861" y="1061"/>
                </a:cubicBezTo>
                <a:cubicBezTo>
                  <a:pt x="859" y="1061"/>
                  <a:pt x="859" y="1063"/>
                  <a:pt x="858" y="1063"/>
                </a:cubicBezTo>
                <a:cubicBezTo>
                  <a:pt x="854" y="1058"/>
                  <a:pt x="847" y="1064"/>
                  <a:pt x="844" y="1063"/>
                </a:cubicBezTo>
                <a:cubicBezTo>
                  <a:pt x="843" y="1059"/>
                  <a:pt x="849" y="1063"/>
                  <a:pt x="849" y="1059"/>
                </a:cubicBezTo>
                <a:cubicBezTo>
                  <a:pt x="846" y="1056"/>
                  <a:pt x="845" y="1061"/>
                  <a:pt x="841" y="1060"/>
                </a:cubicBezTo>
                <a:cubicBezTo>
                  <a:pt x="842" y="1058"/>
                  <a:pt x="842" y="1056"/>
                  <a:pt x="840" y="1056"/>
                </a:cubicBezTo>
                <a:cubicBezTo>
                  <a:pt x="830" y="1061"/>
                  <a:pt x="823" y="1069"/>
                  <a:pt x="811" y="1070"/>
                </a:cubicBezTo>
                <a:cubicBezTo>
                  <a:pt x="811" y="1071"/>
                  <a:pt x="812" y="1072"/>
                  <a:pt x="812" y="1073"/>
                </a:cubicBezTo>
                <a:cubicBezTo>
                  <a:pt x="810" y="1074"/>
                  <a:pt x="808" y="1076"/>
                  <a:pt x="805" y="1076"/>
                </a:cubicBezTo>
                <a:cubicBezTo>
                  <a:pt x="805" y="1075"/>
                  <a:pt x="806" y="1074"/>
                  <a:pt x="807" y="1073"/>
                </a:cubicBezTo>
                <a:cubicBezTo>
                  <a:pt x="803" y="1073"/>
                  <a:pt x="799" y="1074"/>
                  <a:pt x="797" y="1077"/>
                </a:cubicBezTo>
                <a:cubicBezTo>
                  <a:pt x="800" y="1078"/>
                  <a:pt x="802" y="1074"/>
                  <a:pt x="804" y="1077"/>
                </a:cubicBezTo>
                <a:cubicBezTo>
                  <a:pt x="798" y="1079"/>
                  <a:pt x="787" y="1088"/>
                  <a:pt x="782" y="1082"/>
                </a:cubicBezTo>
                <a:cubicBezTo>
                  <a:pt x="777" y="1083"/>
                  <a:pt x="772" y="1085"/>
                  <a:pt x="768" y="1088"/>
                </a:cubicBezTo>
                <a:cubicBezTo>
                  <a:pt x="771" y="1088"/>
                  <a:pt x="773" y="1088"/>
                  <a:pt x="774" y="1090"/>
                </a:cubicBezTo>
                <a:cubicBezTo>
                  <a:pt x="767" y="1091"/>
                  <a:pt x="761" y="1092"/>
                  <a:pt x="758" y="1096"/>
                </a:cubicBezTo>
                <a:cubicBezTo>
                  <a:pt x="757" y="1095"/>
                  <a:pt x="755" y="1094"/>
                  <a:pt x="753" y="1095"/>
                </a:cubicBezTo>
                <a:cubicBezTo>
                  <a:pt x="751" y="1098"/>
                  <a:pt x="747" y="1098"/>
                  <a:pt x="746" y="1101"/>
                </a:cubicBezTo>
                <a:cubicBezTo>
                  <a:pt x="749" y="1100"/>
                  <a:pt x="747" y="1104"/>
                  <a:pt x="749" y="1104"/>
                </a:cubicBezTo>
                <a:cubicBezTo>
                  <a:pt x="749" y="1103"/>
                  <a:pt x="751" y="1103"/>
                  <a:pt x="752" y="1102"/>
                </a:cubicBezTo>
                <a:cubicBezTo>
                  <a:pt x="751" y="1105"/>
                  <a:pt x="755" y="1104"/>
                  <a:pt x="754" y="1108"/>
                </a:cubicBezTo>
                <a:cubicBezTo>
                  <a:pt x="750" y="1106"/>
                  <a:pt x="752" y="1112"/>
                  <a:pt x="750" y="1112"/>
                </a:cubicBezTo>
                <a:cubicBezTo>
                  <a:pt x="745" y="1115"/>
                  <a:pt x="743" y="1109"/>
                  <a:pt x="738" y="1109"/>
                </a:cubicBezTo>
                <a:cubicBezTo>
                  <a:pt x="737" y="1113"/>
                  <a:pt x="732" y="1117"/>
                  <a:pt x="728" y="1115"/>
                </a:cubicBezTo>
                <a:cubicBezTo>
                  <a:pt x="728" y="1114"/>
                  <a:pt x="730" y="1114"/>
                  <a:pt x="730" y="1112"/>
                </a:cubicBezTo>
                <a:cubicBezTo>
                  <a:pt x="711" y="1113"/>
                  <a:pt x="700" y="1127"/>
                  <a:pt x="684" y="1122"/>
                </a:cubicBezTo>
                <a:cubicBezTo>
                  <a:pt x="681" y="1133"/>
                  <a:pt x="662" y="1127"/>
                  <a:pt x="657" y="1136"/>
                </a:cubicBezTo>
                <a:cubicBezTo>
                  <a:pt x="660" y="1138"/>
                  <a:pt x="664" y="1137"/>
                  <a:pt x="666" y="1138"/>
                </a:cubicBezTo>
                <a:cubicBezTo>
                  <a:pt x="666" y="1141"/>
                  <a:pt x="663" y="1140"/>
                  <a:pt x="664" y="1144"/>
                </a:cubicBezTo>
                <a:cubicBezTo>
                  <a:pt x="667" y="1145"/>
                  <a:pt x="665" y="1141"/>
                  <a:pt x="667" y="1140"/>
                </a:cubicBezTo>
                <a:cubicBezTo>
                  <a:pt x="683" y="1140"/>
                  <a:pt x="694" y="1136"/>
                  <a:pt x="706" y="1133"/>
                </a:cubicBezTo>
                <a:cubicBezTo>
                  <a:pt x="714" y="1130"/>
                  <a:pt x="726" y="1131"/>
                  <a:pt x="727" y="1122"/>
                </a:cubicBezTo>
                <a:cubicBezTo>
                  <a:pt x="726" y="1122"/>
                  <a:pt x="724" y="1123"/>
                  <a:pt x="724" y="1122"/>
                </a:cubicBezTo>
                <a:cubicBezTo>
                  <a:pt x="727" y="1120"/>
                  <a:pt x="731" y="1119"/>
                  <a:pt x="736" y="1120"/>
                </a:cubicBezTo>
                <a:cubicBezTo>
                  <a:pt x="736" y="1122"/>
                  <a:pt x="736" y="1122"/>
                  <a:pt x="736" y="1122"/>
                </a:cubicBezTo>
                <a:cubicBezTo>
                  <a:pt x="752" y="1118"/>
                  <a:pt x="767" y="1111"/>
                  <a:pt x="783" y="1109"/>
                </a:cubicBezTo>
                <a:cubicBezTo>
                  <a:pt x="775" y="1110"/>
                  <a:pt x="774" y="1116"/>
                  <a:pt x="768" y="1118"/>
                </a:cubicBezTo>
                <a:cubicBezTo>
                  <a:pt x="761" y="1120"/>
                  <a:pt x="760" y="1128"/>
                  <a:pt x="753" y="1125"/>
                </a:cubicBezTo>
                <a:cubicBezTo>
                  <a:pt x="747" y="1132"/>
                  <a:pt x="733" y="1131"/>
                  <a:pt x="728" y="1139"/>
                </a:cubicBezTo>
                <a:cubicBezTo>
                  <a:pt x="725" y="1136"/>
                  <a:pt x="722" y="1138"/>
                  <a:pt x="719" y="1139"/>
                </a:cubicBezTo>
                <a:cubicBezTo>
                  <a:pt x="717" y="1141"/>
                  <a:pt x="719" y="1141"/>
                  <a:pt x="720" y="1143"/>
                </a:cubicBezTo>
                <a:cubicBezTo>
                  <a:pt x="717" y="1143"/>
                  <a:pt x="715" y="1144"/>
                  <a:pt x="715" y="1147"/>
                </a:cubicBezTo>
                <a:cubicBezTo>
                  <a:pt x="731" y="1148"/>
                  <a:pt x="734" y="1136"/>
                  <a:pt x="749" y="1136"/>
                </a:cubicBezTo>
                <a:cubicBezTo>
                  <a:pt x="751" y="1135"/>
                  <a:pt x="749" y="1135"/>
                  <a:pt x="751" y="1134"/>
                </a:cubicBezTo>
                <a:cubicBezTo>
                  <a:pt x="752" y="1135"/>
                  <a:pt x="752" y="1133"/>
                  <a:pt x="755" y="1134"/>
                </a:cubicBezTo>
                <a:cubicBezTo>
                  <a:pt x="755" y="1135"/>
                  <a:pt x="755" y="1136"/>
                  <a:pt x="754" y="1136"/>
                </a:cubicBezTo>
                <a:cubicBezTo>
                  <a:pt x="769" y="1135"/>
                  <a:pt x="774" y="1124"/>
                  <a:pt x="786" y="1120"/>
                </a:cubicBezTo>
                <a:close/>
                <a:moveTo>
                  <a:pt x="1029" y="945"/>
                </a:moveTo>
                <a:cubicBezTo>
                  <a:pt x="1032" y="946"/>
                  <a:pt x="1032" y="943"/>
                  <a:pt x="1035" y="944"/>
                </a:cubicBezTo>
                <a:cubicBezTo>
                  <a:pt x="1034" y="946"/>
                  <a:pt x="1036" y="946"/>
                  <a:pt x="1036" y="945"/>
                </a:cubicBezTo>
                <a:cubicBezTo>
                  <a:pt x="1037" y="944"/>
                  <a:pt x="1034" y="954"/>
                  <a:pt x="1030" y="954"/>
                </a:cubicBezTo>
                <a:cubicBezTo>
                  <a:pt x="1030" y="951"/>
                  <a:pt x="1029" y="949"/>
                  <a:pt x="1029" y="945"/>
                </a:cubicBezTo>
                <a:close/>
                <a:moveTo>
                  <a:pt x="971" y="944"/>
                </a:moveTo>
                <a:cubicBezTo>
                  <a:pt x="969" y="946"/>
                  <a:pt x="967" y="952"/>
                  <a:pt x="963" y="950"/>
                </a:cubicBezTo>
                <a:cubicBezTo>
                  <a:pt x="966" y="948"/>
                  <a:pt x="967" y="945"/>
                  <a:pt x="971" y="944"/>
                </a:cubicBezTo>
                <a:close/>
                <a:moveTo>
                  <a:pt x="930" y="993"/>
                </a:moveTo>
                <a:cubicBezTo>
                  <a:pt x="932" y="991"/>
                  <a:pt x="928" y="991"/>
                  <a:pt x="930" y="988"/>
                </a:cubicBezTo>
                <a:cubicBezTo>
                  <a:pt x="938" y="987"/>
                  <a:pt x="942" y="984"/>
                  <a:pt x="949" y="983"/>
                </a:cubicBezTo>
                <a:cubicBezTo>
                  <a:pt x="944" y="988"/>
                  <a:pt x="939" y="993"/>
                  <a:pt x="930" y="993"/>
                </a:cubicBezTo>
                <a:close/>
                <a:moveTo>
                  <a:pt x="945" y="957"/>
                </a:moveTo>
                <a:cubicBezTo>
                  <a:pt x="949" y="959"/>
                  <a:pt x="945" y="964"/>
                  <a:pt x="941" y="964"/>
                </a:cubicBezTo>
                <a:cubicBezTo>
                  <a:pt x="944" y="961"/>
                  <a:pt x="944" y="961"/>
                  <a:pt x="945" y="957"/>
                </a:cubicBezTo>
                <a:close/>
                <a:moveTo>
                  <a:pt x="925" y="971"/>
                </a:moveTo>
                <a:cubicBezTo>
                  <a:pt x="926" y="971"/>
                  <a:pt x="926" y="973"/>
                  <a:pt x="926" y="974"/>
                </a:cubicBezTo>
                <a:cubicBezTo>
                  <a:pt x="926" y="973"/>
                  <a:pt x="927" y="973"/>
                  <a:pt x="928" y="973"/>
                </a:cubicBezTo>
                <a:cubicBezTo>
                  <a:pt x="926" y="966"/>
                  <a:pt x="937" y="965"/>
                  <a:pt x="939" y="962"/>
                </a:cubicBezTo>
                <a:cubicBezTo>
                  <a:pt x="942" y="963"/>
                  <a:pt x="935" y="969"/>
                  <a:pt x="932" y="969"/>
                </a:cubicBezTo>
                <a:cubicBezTo>
                  <a:pt x="934" y="972"/>
                  <a:pt x="936" y="966"/>
                  <a:pt x="938" y="969"/>
                </a:cubicBezTo>
                <a:cubicBezTo>
                  <a:pt x="937" y="971"/>
                  <a:pt x="936" y="973"/>
                  <a:pt x="934" y="975"/>
                </a:cubicBezTo>
                <a:cubicBezTo>
                  <a:pt x="931" y="971"/>
                  <a:pt x="929" y="975"/>
                  <a:pt x="925" y="976"/>
                </a:cubicBezTo>
                <a:cubicBezTo>
                  <a:pt x="925" y="973"/>
                  <a:pt x="923" y="973"/>
                  <a:pt x="925" y="971"/>
                </a:cubicBezTo>
                <a:close/>
                <a:moveTo>
                  <a:pt x="913" y="1004"/>
                </a:moveTo>
                <a:cubicBezTo>
                  <a:pt x="911" y="999"/>
                  <a:pt x="918" y="996"/>
                  <a:pt x="924" y="996"/>
                </a:cubicBezTo>
                <a:cubicBezTo>
                  <a:pt x="922" y="1001"/>
                  <a:pt x="916" y="1000"/>
                  <a:pt x="913" y="1004"/>
                </a:cubicBezTo>
                <a:close/>
                <a:moveTo>
                  <a:pt x="918" y="976"/>
                </a:moveTo>
                <a:cubicBezTo>
                  <a:pt x="922" y="981"/>
                  <a:pt x="911" y="983"/>
                  <a:pt x="906" y="987"/>
                </a:cubicBezTo>
                <a:cubicBezTo>
                  <a:pt x="908" y="979"/>
                  <a:pt x="916" y="981"/>
                  <a:pt x="918" y="976"/>
                </a:cubicBezTo>
                <a:close/>
                <a:moveTo>
                  <a:pt x="914" y="986"/>
                </a:moveTo>
                <a:cubicBezTo>
                  <a:pt x="918" y="989"/>
                  <a:pt x="909" y="993"/>
                  <a:pt x="904" y="992"/>
                </a:cubicBezTo>
                <a:cubicBezTo>
                  <a:pt x="906" y="989"/>
                  <a:pt x="911" y="989"/>
                  <a:pt x="914" y="986"/>
                </a:cubicBezTo>
                <a:close/>
                <a:moveTo>
                  <a:pt x="885" y="1027"/>
                </a:moveTo>
                <a:cubicBezTo>
                  <a:pt x="888" y="1030"/>
                  <a:pt x="891" y="1028"/>
                  <a:pt x="895" y="1027"/>
                </a:cubicBezTo>
                <a:cubicBezTo>
                  <a:pt x="893" y="1033"/>
                  <a:pt x="887" y="1035"/>
                  <a:pt x="881" y="1036"/>
                </a:cubicBezTo>
                <a:cubicBezTo>
                  <a:pt x="882" y="1032"/>
                  <a:pt x="886" y="1032"/>
                  <a:pt x="885" y="1027"/>
                </a:cubicBezTo>
                <a:close/>
                <a:moveTo>
                  <a:pt x="865" y="1045"/>
                </a:moveTo>
                <a:cubicBezTo>
                  <a:pt x="864" y="1048"/>
                  <a:pt x="867" y="1040"/>
                  <a:pt x="870" y="1041"/>
                </a:cubicBezTo>
                <a:cubicBezTo>
                  <a:pt x="871" y="1045"/>
                  <a:pt x="867" y="1044"/>
                  <a:pt x="865" y="1045"/>
                </a:cubicBezTo>
                <a:close/>
                <a:moveTo>
                  <a:pt x="837" y="1067"/>
                </a:moveTo>
                <a:cubicBezTo>
                  <a:pt x="837" y="1070"/>
                  <a:pt x="834" y="1071"/>
                  <a:pt x="831" y="1071"/>
                </a:cubicBezTo>
                <a:cubicBezTo>
                  <a:pt x="830" y="1069"/>
                  <a:pt x="832" y="1066"/>
                  <a:pt x="837" y="1067"/>
                </a:cubicBezTo>
                <a:close/>
                <a:moveTo>
                  <a:pt x="821" y="1093"/>
                </a:moveTo>
                <a:cubicBezTo>
                  <a:pt x="822" y="1092"/>
                  <a:pt x="825" y="1092"/>
                  <a:pt x="827" y="1092"/>
                </a:cubicBezTo>
                <a:cubicBezTo>
                  <a:pt x="826" y="1094"/>
                  <a:pt x="825" y="1095"/>
                  <a:pt x="823" y="1096"/>
                </a:cubicBezTo>
                <a:cubicBezTo>
                  <a:pt x="821" y="1096"/>
                  <a:pt x="821" y="1095"/>
                  <a:pt x="821" y="1093"/>
                </a:cubicBezTo>
                <a:close/>
                <a:moveTo>
                  <a:pt x="785" y="1113"/>
                </a:moveTo>
                <a:cubicBezTo>
                  <a:pt x="786" y="1110"/>
                  <a:pt x="794" y="1108"/>
                  <a:pt x="798" y="1109"/>
                </a:cubicBezTo>
                <a:cubicBezTo>
                  <a:pt x="795" y="1111"/>
                  <a:pt x="790" y="1112"/>
                  <a:pt x="785" y="1113"/>
                </a:cubicBezTo>
                <a:close/>
                <a:moveTo>
                  <a:pt x="815" y="1075"/>
                </a:moveTo>
                <a:cubicBezTo>
                  <a:pt x="815" y="1079"/>
                  <a:pt x="815" y="1079"/>
                  <a:pt x="815" y="1079"/>
                </a:cubicBezTo>
                <a:cubicBezTo>
                  <a:pt x="810" y="1081"/>
                  <a:pt x="806" y="1077"/>
                  <a:pt x="805" y="1082"/>
                </a:cubicBezTo>
                <a:cubicBezTo>
                  <a:pt x="802" y="1077"/>
                  <a:pt x="810" y="1075"/>
                  <a:pt x="815" y="1075"/>
                </a:cubicBezTo>
                <a:close/>
                <a:moveTo>
                  <a:pt x="800" y="1089"/>
                </a:moveTo>
                <a:cubicBezTo>
                  <a:pt x="800" y="1080"/>
                  <a:pt x="809" y="1084"/>
                  <a:pt x="814" y="1083"/>
                </a:cubicBezTo>
                <a:cubicBezTo>
                  <a:pt x="810" y="1092"/>
                  <a:pt x="790" y="1102"/>
                  <a:pt x="784" y="1094"/>
                </a:cubicBezTo>
                <a:cubicBezTo>
                  <a:pt x="786" y="1089"/>
                  <a:pt x="795" y="1091"/>
                  <a:pt x="800" y="1089"/>
                </a:cubicBezTo>
                <a:close/>
                <a:moveTo>
                  <a:pt x="40" y="932"/>
                </a:moveTo>
                <a:cubicBezTo>
                  <a:pt x="40" y="932"/>
                  <a:pt x="40" y="932"/>
                  <a:pt x="41" y="932"/>
                </a:cubicBezTo>
                <a:cubicBezTo>
                  <a:pt x="42" y="932"/>
                  <a:pt x="41" y="935"/>
                  <a:pt x="43" y="935"/>
                </a:cubicBezTo>
                <a:cubicBezTo>
                  <a:pt x="44" y="930"/>
                  <a:pt x="51" y="930"/>
                  <a:pt x="51" y="925"/>
                </a:cubicBezTo>
                <a:cubicBezTo>
                  <a:pt x="48" y="928"/>
                  <a:pt x="41" y="930"/>
                  <a:pt x="40" y="932"/>
                </a:cubicBezTo>
                <a:close/>
                <a:moveTo>
                  <a:pt x="227" y="928"/>
                </a:moveTo>
                <a:cubicBezTo>
                  <a:pt x="228" y="926"/>
                  <a:pt x="229" y="927"/>
                  <a:pt x="231" y="927"/>
                </a:cubicBezTo>
                <a:cubicBezTo>
                  <a:pt x="231" y="925"/>
                  <a:pt x="231" y="925"/>
                  <a:pt x="231" y="925"/>
                </a:cubicBezTo>
                <a:cubicBezTo>
                  <a:pt x="229" y="924"/>
                  <a:pt x="229" y="926"/>
                  <a:pt x="227" y="926"/>
                </a:cubicBezTo>
                <a:cubicBezTo>
                  <a:pt x="227" y="927"/>
                  <a:pt x="225" y="928"/>
                  <a:pt x="227" y="928"/>
                </a:cubicBezTo>
                <a:close/>
                <a:moveTo>
                  <a:pt x="1158" y="939"/>
                </a:moveTo>
                <a:cubicBezTo>
                  <a:pt x="1155" y="941"/>
                  <a:pt x="1154" y="938"/>
                  <a:pt x="1152" y="938"/>
                </a:cubicBezTo>
                <a:cubicBezTo>
                  <a:pt x="1155" y="941"/>
                  <a:pt x="1150" y="945"/>
                  <a:pt x="1153" y="947"/>
                </a:cubicBezTo>
                <a:cubicBezTo>
                  <a:pt x="1162" y="947"/>
                  <a:pt x="1170" y="939"/>
                  <a:pt x="1176" y="933"/>
                </a:cubicBezTo>
                <a:cubicBezTo>
                  <a:pt x="1172" y="932"/>
                  <a:pt x="1168" y="933"/>
                  <a:pt x="1168" y="929"/>
                </a:cubicBezTo>
                <a:cubicBezTo>
                  <a:pt x="1166" y="927"/>
                  <a:pt x="1172" y="927"/>
                  <a:pt x="1169" y="926"/>
                </a:cubicBezTo>
                <a:cubicBezTo>
                  <a:pt x="1162" y="927"/>
                  <a:pt x="1162" y="935"/>
                  <a:pt x="1158" y="939"/>
                </a:cubicBezTo>
                <a:close/>
                <a:moveTo>
                  <a:pt x="214" y="934"/>
                </a:moveTo>
                <a:cubicBezTo>
                  <a:pt x="212" y="935"/>
                  <a:pt x="205" y="937"/>
                  <a:pt x="207" y="939"/>
                </a:cubicBezTo>
                <a:cubicBezTo>
                  <a:pt x="209" y="938"/>
                  <a:pt x="216" y="936"/>
                  <a:pt x="214" y="934"/>
                </a:cubicBezTo>
                <a:close/>
                <a:moveTo>
                  <a:pt x="130" y="938"/>
                </a:moveTo>
                <a:cubicBezTo>
                  <a:pt x="133" y="938"/>
                  <a:pt x="134" y="936"/>
                  <a:pt x="134" y="934"/>
                </a:cubicBezTo>
                <a:cubicBezTo>
                  <a:pt x="123" y="930"/>
                  <a:pt x="117" y="944"/>
                  <a:pt x="109" y="949"/>
                </a:cubicBezTo>
                <a:cubicBezTo>
                  <a:pt x="114" y="946"/>
                  <a:pt x="119" y="944"/>
                  <a:pt x="125" y="942"/>
                </a:cubicBezTo>
                <a:cubicBezTo>
                  <a:pt x="125" y="944"/>
                  <a:pt x="125" y="946"/>
                  <a:pt x="126" y="946"/>
                </a:cubicBezTo>
                <a:cubicBezTo>
                  <a:pt x="129" y="946"/>
                  <a:pt x="134" y="941"/>
                  <a:pt x="130" y="938"/>
                </a:cubicBezTo>
                <a:close/>
                <a:moveTo>
                  <a:pt x="1092" y="954"/>
                </a:moveTo>
                <a:cubicBezTo>
                  <a:pt x="1089" y="958"/>
                  <a:pt x="1088" y="956"/>
                  <a:pt x="1086" y="958"/>
                </a:cubicBezTo>
                <a:cubicBezTo>
                  <a:pt x="1090" y="958"/>
                  <a:pt x="1085" y="962"/>
                  <a:pt x="1089" y="962"/>
                </a:cubicBezTo>
                <a:cubicBezTo>
                  <a:pt x="1091" y="959"/>
                  <a:pt x="1091" y="957"/>
                  <a:pt x="1092" y="954"/>
                </a:cubicBezTo>
                <a:close/>
                <a:moveTo>
                  <a:pt x="972" y="962"/>
                </a:moveTo>
                <a:cubicBezTo>
                  <a:pt x="972" y="959"/>
                  <a:pt x="974" y="963"/>
                  <a:pt x="975" y="961"/>
                </a:cubicBezTo>
                <a:cubicBezTo>
                  <a:pt x="975" y="958"/>
                  <a:pt x="975" y="958"/>
                  <a:pt x="975" y="958"/>
                </a:cubicBezTo>
                <a:cubicBezTo>
                  <a:pt x="973" y="958"/>
                  <a:pt x="970" y="961"/>
                  <a:pt x="972" y="962"/>
                </a:cubicBezTo>
                <a:close/>
                <a:moveTo>
                  <a:pt x="1072" y="960"/>
                </a:moveTo>
                <a:cubicBezTo>
                  <a:pt x="1076" y="961"/>
                  <a:pt x="1077" y="966"/>
                  <a:pt x="1076" y="959"/>
                </a:cubicBezTo>
                <a:cubicBezTo>
                  <a:pt x="1076" y="959"/>
                  <a:pt x="1077" y="958"/>
                  <a:pt x="1076" y="958"/>
                </a:cubicBezTo>
                <a:cubicBezTo>
                  <a:pt x="1077" y="961"/>
                  <a:pt x="1072" y="957"/>
                  <a:pt x="1072" y="960"/>
                </a:cubicBezTo>
                <a:close/>
                <a:moveTo>
                  <a:pt x="1114" y="963"/>
                </a:moveTo>
                <a:cubicBezTo>
                  <a:pt x="1112" y="961"/>
                  <a:pt x="1108" y="963"/>
                  <a:pt x="1107" y="963"/>
                </a:cubicBezTo>
                <a:cubicBezTo>
                  <a:pt x="1108" y="963"/>
                  <a:pt x="1108" y="964"/>
                  <a:pt x="1107" y="965"/>
                </a:cubicBezTo>
                <a:cubicBezTo>
                  <a:pt x="1110" y="962"/>
                  <a:pt x="1113" y="966"/>
                  <a:pt x="1114" y="963"/>
                </a:cubicBezTo>
                <a:close/>
                <a:moveTo>
                  <a:pt x="26" y="975"/>
                </a:moveTo>
                <a:cubicBezTo>
                  <a:pt x="28" y="971"/>
                  <a:pt x="29" y="976"/>
                  <a:pt x="34" y="975"/>
                </a:cubicBezTo>
                <a:cubicBezTo>
                  <a:pt x="37" y="971"/>
                  <a:pt x="36" y="968"/>
                  <a:pt x="38" y="964"/>
                </a:cubicBezTo>
                <a:cubicBezTo>
                  <a:pt x="32" y="965"/>
                  <a:pt x="27" y="972"/>
                  <a:pt x="26" y="975"/>
                </a:cubicBezTo>
                <a:close/>
                <a:moveTo>
                  <a:pt x="1040" y="979"/>
                </a:moveTo>
                <a:cubicBezTo>
                  <a:pt x="1039" y="979"/>
                  <a:pt x="1038" y="978"/>
                  <a:pt x="1038" y="978"/>
                </a:cubicBezTo>
                <a:cubicBezTo>
                  <a:pt x="1028" y="984"/>
                  <a:pt x="1017" y="989"/>
                  <a:pt x="1009" y="997"/>
                </a:cubicBezTo>
                <a:cubicBezTo>
                  <a:pt x="1000" y="995"/>
                  <a:pt x="992" y="1002"/>
                  <a:pt x="987" y="1007"/>
                </a:cubicBezTo>
                <a:cubicBezTo>
                  <a:pt x="989" y="1007"/>
                  <a:pt x="989" y="1008"/>
                  <a:pt x="988" y="1009"/>
                </a:cubicBezTo>
                <a:cubicBezTo>
                  <a:pt x="1000" y="1009"/>
                  <a:pt x="1004" y="997"/>
                  <a:pt x="1014" y="998"/>
                </a:cubicBezTo>
                <a:cubicBezTo>
                  <a:pt x="1018" y="994"/>
                  <a:pt x="1024" y="991"/>
                  <a:pt x="1027" y="986"/>
                </a:cubicBezTo>
                <a:cubicBezTo>
                  <a:pt x="1033" y="986"/>
                  <a:pt x="1033" y="986"/>
                  <a:pt x="1033" y="986"/>
                </a:cubicBezTo>
                <a:cubicBezTo>
                  <a:pt x="1031" y="978"/>
                  <a:pt x="1039" y="983"/>
                  <a:pt x="1040" y="979"/>
                </a:cubicBezTo>
                <a:close/>
                <a:moveTo>
                  <a:pt x="928" y="1013"/>
                </a:moveTo>
                <a:cubicBezTo>
                  <a:pt x="930" y="1010"/>
                  <a:pt x="933" y="1014"/>
                  <a:pt x="935" y="1014"/>
                </a:cubicBezTo>
                <a:cubicBezTo>
                  <a:pt x="938" y="1007"/>
                  <a:pt x="947" y="1006"/>
                  <a:pt x="950" y="999"/>
                </a:cubicBezTo>
                <a:cubicBezTo>
                  <a:pt x="942" y="1003"/>
                  <a:pt x="932" y="1008"/>
                  <a:pt x="928" y="1013"/>
                </a:cubicBezTo>
                <a:close/>
                <a:moveTo>
                  <a:pt x="233" y="1024"/>
                </a:moveTo>
                <a:cubicBezTo>
                  <a:pt x="231" y="1027"/>
                  <a:pt x="227" y="1027"/>
                  <a:pt x="225" y="1030"/>
                </a:cubicBezTo>
                <a:cubicBezTo>
                  <a:pt x="229" y="1030"/>
                  <a:pt x="234" y="1026"/>
                  <a:pt x="233" y="1024"/>
                </a:cubicBezTo>
                <a:close/>
                <a:moveTo>
                  <a:pt x="89" y="1041"/>
                </a:moveTo>
                <a:cubicBezTo>
                  <a:pt x="86" y="1044"/>
                  <a:pt x="85" y="1040"/>
                  <a:pt x="84" y="1040"/>
                </a:cubicBezTo>
                <a:cubicBezTo>
                  <a:pt x="76" y="1046"/>
                  <a:pt x="66" y="1047"/>
                  <a:pt x="58" y="1055"/>
                </a:cubicBezTo>
                <a:cubicBezTo>
                  <a:pt x="59" y="1056"/>
                  <a:pt x="61" y="1056"/>
                  <a:pt x="63" y="1057"/>
                </a:cubicBezTo>
                <a:cubicBezTo>
                  <a:pt x="66" y="1047"/>
                  <a:pt x="79" y="1051"/>
                  <a:pt x="84" y="1044"/>
                </a:cubicBezTo>
                <a:cubicBezTo>
                  <a:pt x="86" y="1044"/>
                  <a:pt x="87" y="1045"/>
                  <a:pt x="88" y="1045"/>
                </a:cubicBezTo>
                <a:cubicBezTo>
                  <a:pt x="87" y="1042"/>
                  <a:pt x="92" y="1042"/>
                  <a:pt x="89" y="1041"/>
                </a:cubicBezTo>
                <a:close/>
                <a:moveTo>
                  <a:pt x="224" y="1053"/>
                </a:moveTo>
                <a:cubicBezTo>
                  <a:pt x="225" y="1048"/>
                  <a:pt x="222" y="1048"/>
                  <a:pt x="221" y="1045"/>
                </a:cubicBezTo>
                <a:cubicBezTo>
                  <a:pt x="222" y="1043"/>
                  <a:pt x="225" y="1043"/>
                  <a:pt x="224" y="1040"/>
                </a:cubicBezTo>
                <a:cubicBezTo>
                  <a:pt x="218" y="1039"/>
                  <a:pt x="223" y="1047"/>
                  <a:pt x="215" y="1045"/>
                </a:cubicBezTo>
                <a:cubicBezTo>
                  <a:pt x="214" y="1051"/>
                  <a:pt x="206" y="1050"/>
                  <a:pt x="205" y="1056"/>
                </a:cubicBezTo>
                <a:cubicBezTo>
                  <a:pt x="206" y="1056"/>
                  <a:pt x="209" y="1056"/>
                  <a:pt x="210" y="1057"/>
                </a:cubicBezTo>
                <a:cubicBezTo>
                  <a:pt x="218" y="1074"/>
                  <a:pt x="194" y="1065"/>
                  <a:pt x="192" y="1077"/>
                </a:cubicBezTo>
                <a:cubicBezTo>
                  <a:pt x="195" y="1078"/>
                  <a:pt x="192" y="1074"/>
                  <a:pt x="195" y="1074"/>
                </a:cubicBezTo>
                <a:cubicBezTo>
                  <a:pt x="195" y="1077"/>
                  <a:pt x="199" y="1076"/>
                  <a:pt x="200" y="1079"/>
                </a:cubicBezTo>
                <a:cubicBezTo>
                  <a:pt x="196" y="1087"/>
                  <a:pt x="206" y="1075"/>
                  <a:pt x="208" y="1073"/>
                </a:cubicBezTo>
                <a:cubicBezTo>
                  <a:pt x="210" y="1074"/>
                  <a:pt x="210" y="1074"/>
                  <a:pt x="210" y="1076"/>
                </a:cubicBezTo>
                <a:cubicBezTo>
                  <a:pt x="209" y="1080"/>
                  <a:pt x="205" y="1081"/>
                  <a:pt x="207" y="1084"/>
                </a:cubicBezTo>
                <a:cubicBezTo>
                  <a:pt x="209" y="1081"/>
                  <a:pt x="214" y="1082"/>
                  <a:pt x="213" y="1077"/>
                </a:cubicBezTo>
                <a:cubicBezTo>
                  <a:pt x="217" y="1077"/>
                  <a:pt x="220" y="1077"/>
                  <a:pt x="220" y="1073"/>
                </a:cubicBezTo>
                <a:cubicBezTo>
                  <a:pt x="220" y="1071"/>
                  <a:pt x="216" y="1073"/>
                  <a:pt x="217" y="1070"/>
                </a:cubicBezTo>
                <a:cubicBezTo>
                  <a:pt x="220" y="1059"/>
                  <a:pt x="230" y="1064"/>
                  <a:pt x="237" y="1062"/>
                </a:cubicBezTo>
                <a:cubicBezTo>
                  <a:pt x="235" y="1059"/>
                  <a:pt x="233" y="1057"/>
                  <a:pt x="232" y="1052"/>
                </a:cubicBezTo>
                <a:cubicBezTo>
                  <a:pt x="230" y="1053"/>
                  <a:pt x="227" y="1053"/>
                  <a:pt x="224" y="1053"/>
                </a:cubicBezTo>
                <a:close/>
                <a:moveTo>
                  <a:pt x="949" y="1049"/>
                </a:moveTo>
                <a:cubicBezTo>
                  <a:pt x="947" y="1051"/>
                  <a:pt x="940" y="1048"/>
                  <a:pt x="940" y="1053"/>
                </a:cubicBezTo>
                <a:cubicBezTo>
                  <a:pt x="943" y="1052"/>
                  <a:pt x="951" y="1049"/>
                  <a:pt x="949" y="1049"/>
                </a:cubicBezTo>
                <a:close/>
                <a:moveTo>
                  <a:pt x="103" y="1058"/>
                </a:moveTo>
                <a:cubicBezTo>
                  <a:pt x="104" y="1062"/>
                  <a:pt x="99" y="1060"/>
                  <a:pt x="99" y="1063"/>
                </a:cubicBezTo>
                <a:cubicBezTo>
                  <a:pt x="103" y="1063"/>
                  <a:pt x="103" y="1063"/>
                  <a:pt x="103" y="1063"/>
                </a:cubicBezTo>
                <a:cubicBezTo>
                  <a:pt x="101" y="1060"/>
                  <a:pt x="107" y="1059"/>
                  <a:pt x="103" y="1058"/>
                </a:cubicBezTo>
                <a:close/>
                <a:moveTo>
                  <a:pt x="1003" y="1090"/>
                </a:moveTo>
                <a:cubicBezTo>
                  <a:pt x="1009" y="1089"/>
                  <a:pt x="1011" y="1085"/>
                  <a:pt x="1018" y="1085"/>
                </a:cubicBezTo>
                <a:cubicBezTo>
                  <a:pt x="1017" y="1090"/>
                  <a:pt x="1011" y="1088"/>
                  <a:pt x="1009" y="1092"/>
                </a:cubicBezTo>
                <a:cubicBezTo>
                  <a:pt x="1021" y="1091"/>
                  <a:pt x="1020" y="1078"/>
                  <a:pt x="1034" y="1079"/>
                </a:cubicBezTo>
                <a:cubicBezTo>
                  <a:pt x="1036" y="1077"/>
                  <a:pt x="1033" y="1077"/>
                  <a:pt x="1035" y="1076"/>
                </a:cubicBezTo>
                <a:cubicBezTo>
                  <a:pt x="1045" y="1073"/>
                  <a:pt x="1060" y="1066"/>
                  <a:pt x="1059" y="1060"/>
                </a:cubicBezTo>
                <a:cubicBezTo>
                  <a:pt x="1042" y="1070"/>
                  <a:pt x="1018" y="1077"/>
                  <a:pt x="1003" y="1090"/>
                </a:cubicBezTo>
                <a:close/>
                <a:moveTo>
                  <a:pt x="938" y="1063"/>
                </a:moveTo>
                <a:cubicBezTo>
                  <a:pt x="933" y="1062"/>
                  <a:pt x="925" y="1068"/>
                  <a:pt x="924" y="1070"/>
                </a:cubicBezTo>
                <a:cubicBezTo>
                  <a:pt x="927" y="1066"/>
                  <a:pt x="935" y="1067"/>
                  <a:pt x="938" y="1063"/>
                </a:cubicBezTo>
                <a:close/>
                <a:moveTo>
                  <a:pt x="912" y="1070"/>
                </a:moveTo>
                <a:cubicBezTo>
                  <a:pt x="907" y="1075"/>
                  <a:pt x="901" y="1075"/>
                  <a:pt x="895" y="1070"/>
                </a:cubicBezTo>
                <a:cubicBezTo>
                  <a:pt x="888" y="1078"/>
                  <a:pt x="875" y="1077"/>
                  <a:pt x="870" y="1086"/>
                </a:cubicBezTo>
                <a:cubicBezTo>
                  <a:pt x="871" y="1089"/>
                  <a:pt x="872" y="1088"/>
                  <a:pt x="871" y="1092"/>
                </a:cubicBezTo>
                <a:cubicBezTo>
                  <a:pt x="880" y="1093"/>
                  <a:pt x="881" y="1087"/>
                  <a:pt x="886" y="1084"/>
                </a:cubicBezTo>
                <a:cubicBezTo>
                  <a:pt x="883" y="1084"/>
                  <a:pt x="880" y="1087"/>
                  <a:pt x="878" y="1085"/>
                </a:cubicBezTo>
                <a:cubicBezTo>
                  <a:pt x="885" y="1085"/>
                  <a:pt x="885" y="1078"/>
                  <a:pt x="893" y="1079"/>
                </a:cubicBezTo>
                <a:cubicBezTo>
                  <a:pt x="893" y="1081"/>
                  <a:pt x="892" y="1081"/>
                  <a:pt x="892" y="1083"/>
                </a:cubicBezTo>
                <a:cubicBezTo>
                  <a:pt x="901" y="1081"/>
                  <a:pt x="911" y="1078"/>
                  <a:pt x="917" y="1072"/>
                </a:cubicBezTo>
                <a:cubicBezTo>
                  <a:pt x="914" y="1072"/>
                  <a:pt x="909" y="1073"/>
                  <a:pt x="912" y="1070"/>
                </a:cubicBezTo>
                <a:close/>
                <a:moveTo>
                  <a:pt x="720" y="1088"/>
                </a:moveTo>
                <a:cubicBezTo>
                  <a:pt x="720" y="1088"/>
                  <a:pt x="726" y="1085"/>
                  <a:pt x="725" y="1084"/>
                </a:cubicBezTo>
                <a:cubicBezTo>
                  <a:pt x="723" y="1085"/>
                  <a:pt x="717" y="1086"/>
                  <a:pt x="720" y="1088"/>
                </a:cubicBezTo>
                <a:close/>
                <a:moveTo>
                  <a:pt x="960" y="1100"/>
                </a:moveTo>
                <a:cubicBezTo>
                  <a:pt x="964" y="1100"/>
                  <a:pt x="967" y="1098"/>
                  <a:pt x="971" y="1096"/>
                </a:cubicBezTo>
                <a:cubicBezTo>
                  <a:pt x="971" y="1094"/>
                  <a:pt x="969" y="1094"/>
                  <a:pt x="971" y="1092"/>
                </a:cubicBezTo>
                <a:cubicBezTo>
                  <a:pt x="968" y="1094"/>
                  <a:pt x="966" y="1090"/>
                  <a:pt x="966" y="1094"/>
                </a:cubicBezTo>
                <a:cubicBezTo>
                  <a:pt x="965" y="1096"/>
                  <a:pt x="970" y="1093"/>
                  <a:pt x="970" y="1096"/>
                </a:cubicBezTo>
                <a:cubicBezTo>
                  <a:pt x="966" y="1097"/>
                  <a:pt x="963" y="1098"/>
                  <a:pt x="960" y="1100"/>
                </a:cubicBezTo>
                <a:close/>
                <a:moveTo>
                  <a:pt x="915" y="1103"/>
                </a:moveTo>
                <a:cubicBezTo>
                  <a:pt x="922" y="1100"/>
                  <a:pt x="929" y="1098"/>
                  <a:pt x="935" y="1094"/>
                </a:cubicBezTo>
                <a:cubicBezTo>
                  <a:pt x="927" y="1095"/>
                  <a:pt x="918" y="1100"/>
                  <a:pt x="915" y="1103"/>
                </a:cubicBezTo>
                <a:close/>
                <a:moveTo>
                  <a:pt x="903" y="1095"/>
                </a:moveTo>
                <a:cubicBezTo>
                  <a:pt x="900" y="1094"/>
                  <a:pt x="899" y="1096"/>
                  <a:pt x="897" y="1095"/>
                </a:cubicBezTo>
                <a:cubicBezTo>
                  <a:pt x="897" y="1099"/>
                  <a:pt x="891" y="1096"/>
                  <a:pt x="893" y="1099"/>
                </a:cubicBezTo>
                <a:cubicBezTo>
                  <a:pt x="895" y="1097"/>
                  <a:pt x="901" y="1098"/>
                  <a:pt x="903" y="1095"/>
                </a:cubicBezTo>
                <a:close/>
                <a:moveTo>
                  <a:pt x="974" y="1099"/>
                </a:moveTo>
                <a:cubicBezTo>
                  <a:pt x="970" y="1100"/>
                  <a:pt x="967" y="1102"/>
                  <a:pt x="964" y="1104"/>
                </a:cubicBezTo>
                <a:cubicBezTo>
                  <a:pt x="969" y="1104"/>
                  <a:pt x="972" y="1101"/>
                  <a:pt x="974" y="1099"/>
                </a:cubicBezTo>
                <a:close/>
                <a:moveTo>
                  <a:pt x="878" y="1116"/>
                </a:moveTo>
                <a:cubicBezTo>
                  <a:pt x="887" y="1110"/>
                  <a:pt x="906" y="1109"/>
                  <a:pt x="911" y="1103"/>
                </a:cubicBezTo>
                <a:cubicBezTo>
                  <a:pt x="910" y="1104"/>
                  <a:pt x="903" y="1105"/>
                  <a:pt x="903" y="1104"/>
                </a:cubicBezTo>
                <a:cubicBezTo>
                  <a:pt x="904" y="1103"/>
                  <a:pt x="907" y="1101"/>
                  <a:pt x="904" y="1100"/>
                </a:cubicBezTo>
                <a:cubicBezTo>
                  <a:pt x="893" y="1105"/>
                  <a:pt x="883" y="1108"/>
                  <a:pt x="873" y="1113"/>
                </a:cubicBezTo>
                <a:cubicBezTo>
                  <a:pt x="876" y="1113"/>
                  <a:pt x="875" y="1116"/>
                  <a:pt x="878" y="1116"/>
                </a:cubicBezTo>
                <a:close/>
                <a:moveTo>
                  <a:pt x="812" y="1117"/>
                </a:moveTo>
                <a:cubicBezTo>
                  <a:pt x="814" y="1114"/>
                  <a:pt x="820" y="1121"/>
                  <a:pt x="820" y="1116"/>
                </a:cubicBezTo>
                <a:cubicBezTo>
                  <a:pt x="819" y="1114"/>
                  <a:pt x="810" y="1115"/>
                  <a:pt x="812" y="1117"/>
                </a:cubicBezTo>
                <a:close/>
                <a:moveTo>
                  <a:pt x="925" y="1142"/>
                </a:moveTo>
                <a:cubicBezTo>
                  <a:pt x="920" y="1144"/>
                  <a:pt x="916" y="1147"/>
                  <a:pt x="911" y="1149"/>
                </a:cubicBezTo>
                <a:cubicBezTo>
                  <a:pt x="917" y="1148"/>
                  <a:pt x="921" y="1146"/>
                  <a:pt x="925" y="1142"/>
                </a:cubicBezTo>
                <a:close/>
                <a:moveTo>
                  <a:pt x="713" y="1155"/>
                </a:moveTo>
                <a:cubicBezTo>
                  <a:pt x="717" y="1153"/>
                  <a:pt x="721" y="1152"/>
                  <a:pt x="724" y="1149"/>
                </a:cubicBezTo>
                <a:cubicBezTo>
                  <a:pt x="721" y="1151"/>
                  <a:pt x="712" y="1152"/>
                  <a:pt x="713" y="1155"/>
                </a:cubicBezTo>
                <a:close/>
                <a:moveTo>
                  <a:pt x="872" y="1168"/>
                </a:moveTo>
                <a:cubicBezTo>
                  <a:pt x="880" y="1167"/>
                  <a:pt x="885" y="1163"/>
                  <a:pt x="890" y="1159"/>
                </a:cubicBezTo>
                <a:cubicBezTo>
                  <a:pt x="897" y="1157"/>
                  <a:pt x="908" y="1154"/>
                  <a:pt x="909" y="1149"/>
                </a:cubicBezTo>
                <a:cubicBezTo>
                  <a:pt x="902" y="1152"/>
                  <a:pt x="893" y="1157"/>
                  <a:pt x="885" y="1158"/>
                </a:cubicBezTo>
                <a:cubicBezTo>
                  <a:pt x="886" y="1163"/>
                  <a:pt x="874" y="1163"/>
                  <a:pt x="872" y="1168"/>
                </a:cubicBezTo>
                <a:close/>
                <a:moveTo>
                  <a:pt x="1138" y="208"/>
                </a:moveTo>
                <a:cubicBezTo>
                  <a:pt x="1129" y="210"/>
                  <a:pt x="1123" y="214"/>
                  <a:pt x="1123" y="223"/>
                </a:cubicBezTo>
                <a:cubicBezTo>
                  <a:pt x="1124" y="224"/>
                  <a:pt x="1126" y="226"/>
                  <a:pt x="1129" y="225"/>
                </a:cubicBezTo>
                <a:cubicBezTo>
                  <a:pt x="1131" y="223"/>
                  <a:pt x="1128" y="220"/>
                  <a:pt x="1132" y="219"/>
                </a:cubicBezTo>
                <a:cubicBezTo>
                  <a:pt x="1132" y="221"/>
                  <a:pt x="1132" y="221"/>
                  <a:pt x="1132" y="221"/>
                </a:cubicBezTo>
                <a:cubicBezTo>
                  <a:pt x="1136" y="219"/>
                  <a:pt x="1139" y="213"/>
                  <a:pt x="1138" y="208"/>
                </a:cubicBezTo>
                <a:close/>
                <a:moveTo>
                  <a:pt x="1097" y="931"/>
                </a:moveTo>
                <a:cubicBezTo>
                  <a:pt x="1098" y="929"/>
                  <a:pt x="1096" y="925"/>
                  <a:pt x="1099" y="923"/>
                </a:cubicBezTo>
                <a:cubicBezTo>
                  <a:pt x="1097" y="922"/>
                  <a:pt x="1096" y="921"/>
                  <a:pt x="1095" y="920"/>
                </a:cubicBezTo>
                <a:cubicBezTo>
                  <a:pt x="1093" y="926"/>
                  <a:pt x="1082" y="928"/>
                  <a:pt x="1085" y="936"/>
                </a:cubicBezTo>
                <a:cubicBezTo>
                  <a:pt x="1087" y="931"/>
                  <a:pt x="1091" y="928"/>
                  <a:pt x="1097" y="931"/>
                </a:cubicBezTo>
                <a:close/>
                <a:moveTo>
                  <a:pt x="1152" y="971"/>
                </a:moveTo>
                <a:cubicBezTo>
                  <a:pt x="1156" y="976"/>
                  <a:pt x="1150" y="978"/>
                  <a:pt x="1151" y="981"/>
                </a:cubicBezTo>
                <a:cubicBezTo>
                  <a:pt x="1154" y="978"/>
                  <a:pt x="1161" y="979"/>
                  <a:pt x="1160" y="972"/>
                </a:cubicBezTo>
                <a:cubicBezTo>
                  <a:pt x="1157" y="971"/>
                  <a:pt x="1154" y="971"/>
                  <a:pt x="1152" y="971"/>
                </a:cubicBezTo>
                <a:close/>
                <a:moveTo>
                  <a:pt x="1069" y="974"/>
                </a:moveTo>
                <a:cubicBezTo>
                  <a:pt x="1067" y="975"/>
                  <a:pt x="1066" y="977"/>
                  <a:pt x="1065" y="979"/>
                </a:cubicBezTo>
                <a:cubicBezTo>
                  <a:pt x="1064" y="978"/>
                  <a:pt x="1063" y="977"/>
                  <a:pt x="1060" y="977"/>
                </a:cubicBezTo>
                <a:cubicBezTo>
                  <a:pt x="1062" y="985"/>
                  <a:pt x="1073" y="982"/>
                  <a:pt x="1077" y="977"/>
                </a:cubicBezTo>
                <a:cubicBezTo>
                  <a:pt x="1073" y="979"/>
                  <a:pt x="1073" y="974"/>
                  <a:pt x="1069" y="974"/>
                </a:cubicBezTo>
                <a:close/>
                <a:moveTo>
                  <a:pt x="1015" y="1019"/>
                </a:moveTo>
                <a:cubicBezTo>
                  <a:pt x="1015" y="1021"/>
                  <a:pt x="1010" y="1023"/>
                  <a:pt x="1013" y="1024"/>
                </a:cubicBezTo>
                <a:cubicBezTo>
                  <a:pt x="1014" y="1021"/>
                  <a:pt x="1019" y="1022"/>
                  <a:pt x="1021" y="1020"/>
                </a:cubicBezTo>
                <a:cubicBezTo>
                  <a:pt x="1022" y="1016"/>
                  <a:pt x="1015" y="1018"/>
                  <a:pt x="1016" y="1014"/>
                </a:cubicBezTo>
                <a:cubicBezTo>
                  <a:pt x="1023" y="1013"/>
                  <a:pt x="1021" y="1005"/>
                  <a:pt x="1027" y="1005"/>
                </a:cubicBezTo>
                <a:cubicBezTo>
                  <a:pt x="1028" y="1001"/>
                  <a:pt x="1026" y="1000"/>
                  <a:pt x="1024" y="999"/>
                </a:cubicBezTo>
                <a:cubicBezTo>
                  <a:pt x="1020" y="1003"/>
                  <a:pt x="1016" y="1007"/>
                  <a:pt x="1012" y="1012"/>
                </a:cubicBezTo>
                <a:cubicBezTo>
                  <a:pt x="1010" y="1012"/>
                  <a:pt x="1011" y="1008"/>
                  <a:pt x="1009" y="1008"/>
                </a:cubicBezTo>
                <a:cubicBezTo>
                  <a:pt x="1004" y="1017"/>
                  <a:pt x="990" y="1020"/>
                  <a:pt x="984" y="1030"/>
                </a:cubicBezTo>
                <a:cubicBezTo>
                  <a:pt x="988" y="1032"/>
                  <a:pt x="987" y="1027"/>
                  <a:pt x="989" y="1027"/>
                </a:cubicBezTo>
                <a:cubicBezTo>
                  <a:pt x="998" y="1028"/>
                  <a:pt x="1005" y="1014"/>
                  <a:pt x="1015" y="1019"/>
                </a:cubicBezTo>
                <a:close/>
                <a:moveTo>
                  <a:pt x="910" y="1114"/>
                </a:moveTo>
                <a:cubicBezTo>
                  <a:pt x="897" y="1124"/>
                  <a:pt x="876" y="1122"/>
                  <a:pt x="863" y="1132"/>
                </a:cubicBezTo>
                <a:cubicBezTo>
                  <a:pt x="857" y="1129"/>
                  <a:pt x="843" y="1133"/>
                  <a:pt x="841" y="1139"/>
                </a:cubicBezTo>
                <a:cubicBezTo>
                  <a:pt x="839" y="1138"/>
                  <a:pt x="836" y="1137"/>
                  <a:pt x="836" y="1134"/>
                </a:cubicBezTo>
                <a:cubicBezTo>
                  <a:pt x="838" y="1129"/>
                  <a:pt x="849" y="1134"/>
                  <a:pt x="848" y="1126"/>
                </a:cubicBezTo>
                <a:cubicBezTo>
                  <a:pt x="841" y="1128"/>
                  <a:pt x="829" y="1131"/>
                  <a:pt x="831" y="1137"/>
                </a:cubicBezTo>
                <a:cubicBezTo>
                  <a:pt x="829" y="1137"/>
                  <a:pt x="829" y="1139"/>
                  <a:pt x="827" y="1138"/>
                </a:cubicBezTo>
                <a:cubicBezTo>
                  <a:pt x="827" y="1142"/>
                  <a:pt x="831" y="1141"/>
                  <a:pt x="830" y="1145"/>
                </a:cubicBezTo>
                <a:cubicBezTo>
                  <a:pt x="828" y="1146"/>
                  <a:pt x="825" y="1147"/>
                  <a:pt x="822" y="1148"/>
                </a:cubicBezTo>
                <a:cubicBezTo>
                  <a:pt x="821" y="1152"/>
                  <a:pt x="827" y="1149"/>
                  <a:pt x="828" y="1151"/>
                </a:cubicBezTo>
                <a:cubicBezTo>
                  <a:pt x="824" y="1157"/>
                  <a:pt x="822" y="1166"/>
                  <a:pt x="813" y="1168"/>
                </a:cubicBezTo>
                <a:cubicBezTo>
                  <a:pt x="815" y="1171"/>
                  <a:pt x="819" y="1167"/>
                  <a:pt x="819" y="1169"/>
                </a:cubicBezTo>
                <a:cubicBezTo>
                  <a:pt x="814" y="1172"/>
                  <a:pt x="807" y="1182"/>
                  <a:pt x="798" y="1176"/>
                </a:cubicBezTo>
                <a:cubicBezTo>
                  <a:pt x="800" y="1170"/>
                  <a:pt x="804" y="1165"/>
                  <a:pt x="810" y="1162"/>
                </a:cubicBezTo>
                <a:cubicBezTo>
                  <a:pt x="807" y="1160"/>
                  <a:pt x="811" y="1156"/>
                  <a:pt x="809" y="1153"/>
                </a:cubicBezTo>
                <a:cubicBezTo>
                  <a:pt x="802" y="1152"/>
                  <a:pt x="790" y="1156"/>
                  <a:pt x="784" y="1161"/>
                </a:cubicBezTo>
                <a:cubicBezTo>
                  <a:pt x="770" y="1155"/>
                  <a:pt x="771" y="1176"/>
                  <a:pt x="773" y="1184"/>
                </a:cubicBezTo>
                <a:cubicBezTo>
                  <a:pt x="778" y="1178"/>
                  <a:pt x="783" y="1191"/>
                  <a:pt x="788" y="1194"/>
                </a:cubicBezTo>
                <a:cubicBezTo>
                  <a:pt x="797" y="1185"/>
                  <a:pt x="809" y="1181"/>
                  <a:pt x="821" y="1176"/>
                </a:cubicBezTo>
                <a:cubicBezTo>
                  <a:pt x="823" y="1167"/>
                  <a:pt x="835" y="1169"/>
                  <a:pt x="835" y="1159"/>
                </a:cubicBezTo>
                <a:cubicBezTo>
                  <a:pt x="846" y="1154"/>
                  <a:pt x="857" y="1150"/>
                  <a:pt x="866" y="1143"/>
                </a:cubicBezTo>
                <a:cubicBezTo>
                  <a:pt x="866" y="1141"/>
                  <a:pt x="861" y="1143"/>
                  <a:pt x="862" y="1139"/>
                </a:cubicBezTo>
                <a:cubicBezTo>
                  <a:pt x="869" y="1135"/>
                  <a:pt x="879" y="1137"/>
                  <a:pt x="886" y="1135"/>
                </a:cubicBezTo>
                <a:cubicBezTo>
                  <a:pt x="899" y="1126"/>
                  <a:pt x="914" y="1127"/>
                  <a:pt x="930" y="1121"/>
                </a:cubicBezTo>
                <a:cubicBezTo>
                  <a:pt x="930" y="1118"/>
                  <a:pt x="932" y="1118"/>
                  <a:pt x="932" y="1116"/>
                </a:cubicBezTo>
                <a:cubicBezTo>
                  <a:pt x="925" y="1119"/>
                  <a:pt x="920" y="1120"/>
                  <a:pt x="910" y="1122"/>
                </a:cubicBezTo>
                <a:cubicBezTo>
                  <a:pt x="911" y="1120"/>
                  <a:pt x="913" y="1115"/>
                  <a:pt x="910" y="1114"/>
                </a:cubicBezTo>
                <a:close/>
                <a:moveTo>
                  <a:pt x="856" y="1146"/>
                </a:moveTo>
                <a:cubicBezTo>
                  <a:pt x="851" y="1147"/>
                  <a:pt x="846" y="1149"/>
                  <a:pt x="840" y="1148"/>
                </a:cubicBezTo>
                <a:cubicBezTo>
                  <a:pt x="845" y="1146"/>
                  <a:pt x="851" y="1140"/>
                  <a:pt x="857" y="1141"/>
                </a:cubicBezTo>
                <a:cubicBezTo>
                  <a:pt x="857" y="1143"/>
                  <a:pt x="855" y="1143"/>
                  <a:pt x="856" y="1146"/>
                </a:cubicBezTo>
                <a:close/>
                <a:moveTo>
                  <a:pt x="645" y="1128"/>
                </a:moveTo>
                <a:cubicBezTo>
                  <a:pt x="633" y="1130"/>
                  <a:pt x="623" y="1134"/>
                  <a:pt x="613" y="1138"/>
                </a:cubicBezTo>
                <a:cubicBezTo>
                  <a:pt x="617" y="1140"/>
                  <a:pt x="619" y="1140"/>
                  <a:pt x="616" y="1143"/>
                </a:cubicBezTo>
                <a:cubicBezTo>
                  <a:pt x="616" y="1144"/>
                  <a:pt x="618" y="1144"/>
                  <a:pt x="618" y="1146"/>
                </a:cubicBezTo>
                <a:cubicBezTo>
                  <a:pt x="627" y="1143"/>
                  <a:pt x="633" y="1139"/>
                  <a:pt x="641" y="1136"/>
                </a:cubicBezTo>
                <a:cubicBezTo>
                  <a:pt x="641" y="1133"/>
                  <a:pt x="642" y="1130"/>
                  <a:pt x="645" y="1128"/>
                </a:cubicBezTo>
                <a:close/>
                <a:moveTo>
                  <a:pt x="619" y="1141"/>
                </a:moveTo>
                <a:cubicBezTo>
                  <a:pt x="619" y="1137"/>
                  <a:pt x="625" y="1139"/>
                  <a:pt x="627" y="1137"/>
                </a:cubicBezTo>
                <a:cubicBezTo>
                  <a:pt x="626" y="1141"/>
                  <a:pt x="622" y="1140"/>
                  <a:pt x="619" y="1141"/>
                </a:cubicBezTo>
                <a:close/>
              </a:path>
            </a:pathLst>
          </a:custGeom>
          <a:solidFill>
            <a:srgbClr val="2c3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4"/>
          <p:cNvGrpSpPr/>
          <p:nvPr/>
        </p:nvGrpSpPr>
        <p:grpSpPr>
          <a:xfrm>
            <a:off x="7190280" y="3049560"/>
            <a:ext cx="1387080" cy="619200"/>
            <a:chOff x="7190280" y="3049560"/>
            <a:chExt cx="1387080" cy="619200"/>
          </a:xfrm>
        </p:grpSpPr>
        <p:sp>
          <p:nvSpPr>
            <p:cNvPr id="138" name="Freeform 5"/>
            <p:cNvSpPr/>
            <p:nvPr/>
          </p:nvSpPr>
          <p:spPr>
            <a:xfrm flipH="1">
              <a:off x="7240320" y="3049560"/>
              <a:ext cx="1337040" cy="619200"/>
            </a:xfrm>
            <a:custGeom>
              <a:avLst/>
              <a:gdLst/>
              <a:ahLst/>
              <a:rect l="l" t="t" r="r" b="b"/>
              <a:pathLst>
                <a:path w="920" h="424">
                  <a:moveTo>
                    <a:pt x="411" y="186"/>
                  </a:moveTo>
                  <a:cubicBezTo>
                    <a:pt x="383" y="127"/>
                    <a:pt x="293" y="147"/>
                    <a:pt x="280" y="198"/>
                  </a:cubicBezTo>
                  <a:cubicBezTo>
                    <a:pt x="248" y="202"/>
                    <a:pt x="233" y="240"/>
                    <a:pt x="237" y="260"/>
                  </a:cubicBezTo>
                  <a:cubicBezTo>
                    <a:pt x="242" y="287"/>
                    <a:pt x="270" y="304"/>
                    <a:pt x="298" y="289"/>
                  </a:cubicBezTo>
                  <a:cubicBezTo>
                    <a:pt x="340" y="374"/>
                    <a:pt x="404" y="390"/>
                    <a:pt x="509" y="390"/>
                  </a:cubicBezTo>
                  <a:cubicBezTo>
                    <a:pt x="382" y="416"/>
                    <a:pt x="338" y="391"/>
                    <a:pt x="294" y="350"/>
                  </a:cubicBezTo>
                  <a:cubicBezTo>
                    <a:pt x="260" y="318"/>
                    <a:pt x="217" y="298"/>
                    <a:pt x="191" y="302"/>
                  </a:cubicBezTo>
                  <a:cubicBezTo>
                    <a:pt x="139" y="308"/>
                    <a:pt x="97" y="332"/>
                    <a:pt x="126" y="365"/>
                  </a:cubicBezTo>
                  <a:cubicBezTo>
                    <a:pt x="106" y="311"/>
                    <a:pt x="186" y="317"/>
                    <a:pt x="190" y="359"/>
                  </a:cubicBezTo>
                  <a:cubicBezTo>
                    <a:pt x="194" y="397"/>
                    <a:pt x="156" y="424"/>
                    <a:pt x="109" y="419"/>
                  </a:cubicBezTo>
                  <a:cubicBezTo>
                    <a:pt x="46" y="414"/>
                    <a:pt x="39" y="336"/>
                    <a:pt x="58" y="310"/>
                  </a:cubicBezTo>
                  <a:cubicBezTo>
                    <a:pt x="0" y="264"/>
                    <a:pt x="84" y="207"/>
                    <a:pt x="115" y="235"/>
                  </a:cubicBezTo>
                  <a:cubicBezTo>
                    <a:pt x="136" y="254"/>
                    <a:pt x="160" y="253"/>
                    <a:pt x="177" y="251"/>
                  </a:cubicBezTo>
                  <a:cubicBezTo>
                    <a:pt x="199" y="247"/>
                    <a:pt x="231" y="233"/>
                    <a:pt x="231" y="206"/>
                  </a:cubicBezTo>
                  <a:cubicBezTo>
                    <a:pt x="232" y="156"/>
                    <a:pt x="183" y="159"/>
                    <a:pt x="175" y="172"/>
                  </a:cubicBezTo>
                  <a:cubicBezTo>
                    <a:pt x="195" y="168"/>
                    <a:pt x="223" y="175"/>
                    <a:pt x="222" y="206"/>
                  </a:cubicBezTo>
                  <a:cubicBezTo>
                    <a:pt x="221" y="241"/>
                    <a:pt x="151" y="254"/>
                    <a:pt x="134" y="226"/>
                  </a:cubicBezTo>
                  <a:cubicBezTo>
                    <a:pt x="116" y="198"/>
                    <a:pt x="116" y="155"/>
                    <a:pt x="169" y="147"/>
                  </a:cubicBezTo>
                  <a:cubicBezTo>
                    <a:pt x="149" y="113"/>
                    <a:pt x="202" y="59"/>
                    <a:pt x="250" y="82"/>
                  </a:cubicBezTo>
                  <a:cubicBezTo>
                    <a:pt x="269" y="26"/>
                    <a:pt x="347" y="0"/>
                    <a:pt x="397" y="56"/>
                  </a:cubicBezTo>
                  <a:cubicBezTo>
                    <a:pt x="426" y="34"/>
                    <a:pt x="464" y="41"/>
                    <a:pt x="475" y="83"/>
                  </a:cubicBezTo>
                  <a:cubicBezTo>
                    <a:pt x="486" y="125"/>
                    <a:pt x="468" y="151"/>
                    <a:pt x="436" y="151"/>
                  </a:cubicBezTo>
                  <a:cubicBezTo>
                    <a:pt x="412" y="151"/>
                    <a:pt x="383" y="110"/>
                    <a:pt x="431" y="89"/>
                  </a:cubicBezTo>
                  <a:cubicBezTo>
                    <a:pt x="402" y="88"/>
                    <a:pt x="387" y="114"/>
                    <a:pt x="400" y="141"/>
                  </a:cubicBezTo>
                  <a:cubicBezTo>
                    <a:pt x="407" y="154"/>
                    <a:pt x="423" y="165"/>
                    <a:pt x="446" y="162"/>
                  </a:cubicBezTo>
                  <a:cubicBezTo>
                    <a:pt x="477" y="157"/>
                    <a:pt x="488" y="136"/>
                    <a:pt x="490" y="109"/>
                  </a:cubicBezTo>
                  <a:cubicBezTo>
                    <a:pt x="493" y="59"/>
                    <a:pt x="545" y="75"/>
                    <a:pt x="551" y="97"/>
                  </a:cubicBezTo>
                  <a:cubicBezTo>
                    <a:pt x="595" y="75"/>
                    <a:pt x="643" y="108"/>
                    <a:pt x="622" y="162"/>
                  </a:cubicBezTo>
                  <a:cubicBezTo>
                    <a:pt x="674" y="155"/>
                    <a:pt x="695" y="217"/>
                    <a:pt x="658" y="241"/>
                  </a:cubicBezTo>
                  <a:cubicBezTo>
                    <a:pt x="622" y="265"/>
                    <a:pt x="588" y="252"/>
                    <a:pt x="585" y="229"/>
                  </a:cubicBezTo>
                  <a:cubicBezTo>
                    <a:pt x="581" y="200"/>
                    <a:pt x="603" y="188"/>
                    <a:pt x="620" y="196"/>
                  </a:cubicBezTo>
                  <a:cubicBezTo>
                    <a:pt x="633" y="203"/>
                    <a:pt x="638" y="215"/>
                    <a:pt x="629" y="225"/>
                  </a:cubicBezTo>
                  <a:cubicBezTo>
                    <a:pt x="648" y="223"/>
                    <a:pt x="648" y="204"/>
                    <a:pt x="629" y="189"/>
                  </a:cubicBezTo>
                  <a:cubicBezTo>
                    <a:pt x="608" y="172"/>
                    <a:pt x="568" y="191"/>
                    <a:pt x="569" y="219"/>
                  </a:cubicBezTo>
                  <a:cubicBezTo>
                    <a:pt x="569" y="247"/>
                    <a:pt x="585" y="266"/>
                    <a:pt x="615" y="266"/>
                  </a:cubicBezTo>
                  <a:cubicBezTo>
                    <a:pt x="669" y="265"/>
                    <a:pt x="671" y="235"/>
                    <a:pt x="702" y="224"/>
                  </a:cubicBezTo>
                  <a:cubicBezTo>
                    <a:pt x="744" y="210"/>
                    <a:pt x="794" y="208"/>
                    <a:pt x="827" y="244"/>
                  </a:cubicBezTo>
                  <a:cubicBezTo>
                    <a:pt x="850" y="269"/>
                    <a:pt x="881" y="284"/>
                    <a:pt x="920" y="298"/>
                  </a:cubicBezTo>
                  <a:cubicBezTo>
                    <a:pt x="855" y="306"/>
                    <a:pt x="815" y="249"/>
                    <a:pt x="759" y="242"/>
                  </a:cubicBezTo>
                  <a:cubicBezTo>
                    <a:pt x="724" y="238"/>
                    <a:pt x="693" y="253"/>
                    <a:pt x="657" y="283"/>
                  </a:cubicBezTo>
                  <a:cubicBezTo>
                    <a:pt x="616" y="317"/>
                    <a:pt x="555" y="336"/>
                    <a:pt x="495" y="297"/>
                  </a:cubicBezTo>
                  <a:cubicBezTo>
                    <a:pt x="539" y="272"/>
                    <a:pt x="514" y="224"/>
                    <a:pt x="492" y="199"/>
                  </a:cubicBezTo>
                  <a:cubicBezTo>
                    <a:pt x="476" y="182"/>
                    <a:pt x="439" y="170"/>
                    <a:pt x="411" y="186"/>
                  </a:cubicBezTo>
                  <a:close/>
                </a:path>
              </a:pathLst>
            </a:custGeom>
            <a:solidFill>
              <a:srgbClr val="2c3c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6"/>
            <p:cNvSpPr/>
            <p:nvPr/>
          </p:nvSpPr>
          <p:spPr>
            <a:xfrm flipH="1">
              <a:off x="7189920" y="3241800"/>
              <a:ext cx="1029960" cy="367920"/>
            </a:xfrm>
            <a:custGeom>
              <a:avLst/>
              <a:gdLst>
                <a:gd name="textAreaLeft" fmla="*/ -360 w 1029960"/>
                <a:gd name="textAreaRight" fmla="*/ 1029960 w 1029960"/>
                <a:gd name="textAreaTop" fmla="*/ 0 h 367920"/>
                <a:gd name="textAreaBottom" fmla="*/ 368280 h 367920"/>
              </a:gdLst>
              <a:ahLst/>
              <a:rect l="textAreaLeft" t="textAreaTop" r="textAreaRight" b="textAreaBottom"/>
              <a:pathLst>
                <a:path w="709" h="252">
                  <a:moveTo>
                    <a:pt x="57" y="138"/>
                  </a:moveTo>
                  <a:cubicBezTo>
                    <a:pt x="38" y="158"/>
                    <a:pt x="16" y="152"/>
                    <a:pt x="8" y="133"/>
                  </a:cubicBezTo>
                  <a:cubicBezTo>
                    <a:pt x="0" y="113"/>
                    <a:pt x="8" y="83"/>
                    <a:pt x="44" y="77"/>
                  </a:cubicBezTo>
                  <a:cubicBezTo>
                    <a:pt x="45" y="42"/>
                    <a:pt x="123" y="0"/>
                    <a:pt x="163" y="68"/>
                  </a:cubicBezTo>
                  <a:cubicBezTo>
                    <a:pt x="205" y="49"/>
                    <a:pt x="249" y="70"/>
                    <a:pt x="259" y="118"/>
                  </a:cubicBezTo>
                  <a:cubicBezTo>
                    <a:pt x="266" y="153"/>
                    <a:pt x="212" y="180"/>
                    <a:pt x="194" y="156"/>
                  </a:cubicBezTo>
                  <a:cubicBezTo>
                    <a:pt x="185" y="143"/>
                    <a:pt x="185" y="119"/>
                    <a:pt x="205" y="115"/>
                  </a:cubicBezTo>
                  <a:cubicBezTo>
                    <a:pt x="218" y="112"/>
                    <a:pt x="229" y="122"/>
                    <a:pt x="227" y="137"/>
                  </a:cubicBezTo>
                  <a:cubicBezTo>
                    <a:pt x="238" y="134"/>
                    <a:pt x="228" y="101"/>
                    <a:pt x="213" y="100"/>
                  </a:cubicBezTo>
                  <a:cubicBezTo>
                    <a:pt x="184" y="99"/>
                    <a:pt x="168" y="131"/>
                    <a:pt x="180" y="155"/>
                  </a:cubicBezTo>
                  <a:cubicBezTo>
                    <a:pt x="193" y="181"/>
                    <a:pt x="211" y="183"/>
                    <a:pt x="241" y="174"/>
                  </a:cubicBezTo>
                  <a:cubicBezTo>
                    <a:pt x="267" y="192"/>
                    <a:pt x="290" y="201"/>
                    <a:pt x="321" y="199"/>
                  </a:cubicBezTo>
                  <a:cubicBezTo>
                    <a:pt x="381" y="194"/>
                    <a:pt x="400" y="177"/>
                    <a:pt x="437" y="147"/>
                  </a:cubicBezTo>
                  <a:cubicBezTo>
                    <a:pt x="482" y="110"/>
                    <a:pt x="528" y="118"/>
                    <a:pt x="554" y="135"/>
                  </a:cubicBezTo>
                  <a:cubicBezTo>
                    <a:pt x="593" y="160"/>
                    <a:pt x="630" y="188"/>
                    <a:pt x="709" y="170"/>
                  </a:cubicBezTo>
                  <a:cubicBezTo>
                    <a:pt x="668" y="191"/>
                    <a:pt x="626" y="199"/>
                    <a:pt x="592" y="184"/>
                  </a:cubicBezTo>
                  <a:cubicBezTo>
                    <a:pt x="551" y="166"/>
                    <a:pt x="525" y="154"/>
                    <a:pt x="492" y="159"/>
                  </a:cubicBezTo>
                  <a:cubicBezTo>
                    <a:pt x="463" y="163"/>
                    <a:pt x="424" y="211"/>
                    <a:pt x="361" y="228"/>
                  </a:cubicBezTo>
                  <a:cubicBezTo>
                    <a:pt x="302" y="245"/>
                    <a:pt x="248" y="252"/>
                    <a:pt x="186" y="239"/>
                  </a:cubicBezTo>
                  <a:cubicBezTo>
                    <a:pt x="136" y="229"/>
                    <a:pt x="89" y="211"/>
                    <a:pt x="57" y="138"/>
                  </a:cubicBezTo>
                  <a:close/>
                </a:path>
              </a:pathLst>
            </a:custGeom>
            <a:solidFill>
              <a:srgbClr val="2c3c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7"/>
            <p:cNvSpPr/>
            <p:nvPr/>
          </p:nvSpPr>
          <p:spPr>
            <a:xfrm flipH="1">
              <a:off x="7352280" y="3224160"/>
              <a:ext cx="188640" cy="184320"/>
            </a:xfrm>
            <a:custGeom>
              <a:avLst/>
              <a:gdLst>
                <a:gd name="textAreaLeft" fmla="*/ 360 w 188640"/>
                <a:gd name="textAreaRight" fmla="*/ 189360 w 18864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130" h="126">
                  <a:moveTo>
                    <a:pt x="27" y="55"/>
                  </a:moveTo>
                  <a:cubicBezTo>
                    <a:pt x="12" y="40"/>
                    <a:pt x="24" y="24"/>
                    <a:pt x="35" y="18"/>
                  </a:cubicBezTo>
                  <a:cubicBezTo>
                    <a:pt x="17" y="8"/>
                    <a:pt x="0" y="31"/>
                    <a:pt x="2" y="49"/>
                  </a:cubicBezTo>
                  <a:cubicBezTo>
                    <a:pt x="3" y="65"/>
                    <a:pt x="10" y="82"/>
                    <a:pt x="29" y="82"/>
                  </a:cubicBezTo>
                  <a:cubicBezTo>
                    <a:pt x="53" y="83"/>
                    <a:pt x="103" y="90"/>
                    <a:pt x="130" y="126"/>
                  </a:cubicBezTo>
                  <a:cubicBezTo>
                    <a:pt x="121" y="98"/>
                    <a:pt x="99" y="75"/>
                    <a:pt x="80" y="73"/>
                  </a:cubicBezTo>
                  <a:cubicBezTo>
                    <a:pt x="61" y="70"/>
                    <a:pt x="51" y="61"/>
                    <a:pt x="51" y="47"/>
                  </a:cubicBezTo>
                  <a:cubicBezTo>
                    <a:pt x="51" y="35"/>
                    <a:pt x="61" y="23"/>
                    <a:pt x="71" y="23"/>
                  </a:cubicBezTo>
                  <a:cubicBezTo>
                    <a:pt x="84" y="22"/>
                    <a:pt x="89" y="30"/>
                    <a:pt x="89" y="44"/>
                  </a:cubicBezTo>
                  <a:cubicBezTo>
                    <a:pt x="84" y="39"/>
                    <a:pt x="83" y="31"/>
                    <a:pt x="75" y="32"/>
                  </a:cubicBezTo>
                  <a:cubicBezTo>
                    <a:pt x="63" y="32"/>
                    <a:pt x="55" y="43"/>
                    <a:pt x="61" y="55"/>
                  </a:cubicBezTo>
                  <a:cubicBezTo>
                    <a:pt x="67" y="66"/>
                    <a:pt x="88" y="67"/>
                    <a:pt x="99" y="60"/>
                  </a:cubicBezTo>
                  <a:cubicBezTo>
                    <a:pt x="109" y="54"/>
                    <a:pt x="111" y="40"/>
                    <a:pt x="108" y="27"/>
                  </a:cubicBezTo>
                  <a:cubicBezTo>
                    <a:pt x="105" y="13"/>
                    <a:pt x="88" y="0"/>
                    <a:pt x="65" y="4"/>
                  </a:cubicBezTo>
                  <a:cubicBezTo>
                    <a:pt x="41" y="9"/>
                    <a:pt x="20" y="40"/>
                    <a:pt x="27" y="55"/>
                  </a:cubicBezTo>
                  <a:close/>
                </a:path>
              </a:pathLst>
            </a:custGeom>
            <a:solidFill>
              <a:srgbClr val="2c3c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2"/>
          <p:cNvSpPr/>
          <p:nvPr/>
        </p:nvSpPr>
        <p:spPr>
          <a:xfrm>
            <a:off x="0" y="6534000"/>
            <a:ext cx="12192120" cy="324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矩形 3"/>
          <p:cNvGrpSpPr/>
          <p:nvPr/>
        </p:nvGrpSpPr>
        <p:grpSpPr>
          <a:xfrm>
            <a:off x="-6480" y="6504120"/>
            <a:ext cx="12204720" cy="42840"/>
            <a:chOff x="-6480" y="6504120"/>
            <a:chExt cx="12204720" cy="42840"/>
          </a:xfrm>
        </p:grpSpPr>
        <p:pic>
          <p:nvPicPr>
            <p:cNvPr id="180" name="矩形 3" descr=""/>
            <p:cNvPicPr/>
            <p:nvPr/>
          </p:nvPicPr>
          <p:blipFill>
            <a:blip r:embed="rId4"/>
            <a:stretch/>
          </p:blipFill>
          <p:spPr>
            <a:xfrm>
              <a:off x="-6480" y="6504120"/>
              <a:ext cx="12204720" cy="4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0" y="6507000"/>
              <a:ext cx="12192120" cy="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矩形 4"/>
          <p:cNvSpPr/>
          <p:nvPr/>
        </p:nvSpPr>
        <p:spPr>
          <a:xfrm>
            <a:off x="0" y="361800"/>
            <a:ext cx="17928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矩形 5"/>
          <p:cNvGrpSpPr/>
          <p:nvPr/>
        </p:nvGrpSpPr>
        <p:grpSpPr>
          <a:xfrm>
            <a:off x="171360" y="353880"/>
            <a:ext cx="47880" cy="444600"/>
            <a:chOff x="171360" y="353880"/>
            <a:chExt cx="47880" cy="444600"/>
          </a:xfrm>
        </p:grpSpPr>
        <p:pic>
          <p:nvPicPr>
            <p:cNvPr id="184" name="矩形 5" descr=""/>
            <p:cNvPicPr/>
            <p:nvPr/>
          </p:nvPicPr>
          <p:blipFill>
            <a:blip r:embed="rId6"/>
            <a:stretch/>
          </p:blipFill>
          <p:spPr>
            <a:xfrm>
              <a:off x="171360" y="353880"/>
              <a:ext cx="4788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174600" y="361800"/>
              <a:ext cx="363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组合 6"/>
          <p:cNvGrpSpPr/>
          <p:nvPr/>
        </p:nvGrpSpPr>
        <p:grpSpPr>
          <a:xfrm>
            <a:off x="11472840" y="330120"/>
            <a:ext cx="444600" cy="493920"/>
            <a:chOff x="11472840" y="330120"/>
            <a:chExt cx="444600" cy="493920"/>
          </a:xfrm>
        </p:grpSpPr>
        <p:sp>
          <p:nvSpPr>
            <p:cNvPr id="187" name="任意多边形 8"/>
            <p:cNvSpPr/>
            <p:nvPr/>
          </p:nvSpPr>
          <p:spPr>
            <a:xfrm>
              <a:off x="11501280" y="419040"/>
              <a:ext cx="71280" cy="211320"/>
            </a:xfrm>
            <a:custGeom>
              <a:avLst/>
              <a:gdLst/>
              <a:ahLst/>
              <a:rect l="l" t="t" r="r" b="b"/>
              <a:pathLst>
                <a:path w="360000" h="1072434">
                  <a:moveTo>
                    <a:pt x="180000" y="0"/>
                  </a:moveTo>
                  <a:cubicBezTo>
                    <a:pt x="266985" y="0"/>
                    <a:pt x="339559" y="61701"/>
                    <a:pt x="356343" y="143724"/>
                  </a:cubicBezTo>
                  <a:lnTo>
                    <a:pt x="358846" y="168550"/>
                  </a:lnTo>
                  <a:lnTo>
                    <a:pt x="360000" y="191410"/>
                  </a:lnTo>
                  <a:lnTo>
                    <a:pt x="360000" y="191450"/>
                  </a:lnTo>
                  <a:lnTo>
                    <a:pt x="353496" y="320258"/>
                  </a:lnTo>
                  <a:cubicBezTo>
                    <a:pt x="327686" y="574403"/>
                    <a:pt x="226347" y="806220"/>
                    <a:pt x="72278" y="992907"/>
                  </a:cubicBezTo>
                  <a:lnTo>
                    <a:pt x="0" y="1072434"/>
                  </a:lnTo>
                  <a:lnTo>
                    <a:pt x="0" y="180000"/>
                  </a:lnTo>
                  <a:cubicBezTo>
                    <a:pt x="0" y="80589"/>
                    <a:pt x="80589" y="0"/>
                    <a:pt x="180000" y="0"/>
                  </a:cubicBez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任意多边形 9"/>
            <p:cNvSpPr/>
            <p:nvPr/>
          </p:nvSpPr>
          <p:spPr>
            <a:xfrm>
              <a:off x="11501280" y="487440"/>
              <a:ext cx="71280" cy="247680"/>
            </a:xfrm>
            <a:custGeom>
              <a:avLst/>
              <a:gdLst/>
              <a:ahLst/>
              <a:rect l="l" t="t" r="r" b="b"/>
              <a:pathLst>
                <a:path w="360000" h="1259979">
                  <a:moveTo>
                    <a:pt x="360000" y="0"/>
                  </a:moveTo>
                  <a:lnTo>
                    <a:pt x="360000" y="1079979"/>
                  </a:lnTo>
                  <a:cubicBezTo>
                    <a:pt x="360000" y="1179390"/>
                    <a:pt x="279411" y="1259979"/>
                    <a:pt x="180000" y="1259979"/>
                  </a:cubicBezTo>
                  <a:cubicBezTo>
                    <a:pt x="80589" y="1259979"/>
                    <a:pt x="0" y="1179390"/>
                    <a:pt x="0" y="1079979"/>
                  </a:cubicBezTo>
                  <a:lnTo>
                    <a:pt x="0" y="880984"/>
                  </a:lnTo>
                  <a:lnTo>
                    <a:pt x="72278" y="801457"/>
                  </a:lnTo>
                  <a:cubicBezTo>
                    <a:pt x="226347" y="614770"/>
                    <a:pt x="327686" y="382953"/>
                    <a:pt x="353496" y="128808"/>
                  </a:cubicBez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圆角矩形 10"/>
            <p:cNvSpPr/>
            <p:nvPr/>
          </p:nvSpPr>
          <p:spPr>
            <a:xfrm>
              <a:off x="11638080" y="330120"/>
              <a:ext cx="71280" cy="69840"/>
            </a:xfrm>
            <a:prstGeom prst="roundRect">
              <a:avLst>
                <a:gd name="adj" fmla="val 50000"/>
              </a:avLst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任意多边形 11"/>
            <p:cNvSpPr/>
            <p:nvPr/>
          </p:nvSpPr>
          <p:spPr>
            <a:xfrm>
              <a:off x="11669760" y="334800"/>
              <a:ext cx="244440" cy="424080"/>
            </a:xfrm>
            <a:custGeom>
              <a:avLst/>
              <a:gdLst/>
              <a:ahLst/>
              <a:rect l="l" t="t" r="r" b="b"/>
              <a:pathLst>
                <a:path w="1245685" h="2160000">
                  <a:moveTo>
                    <a:pt x="0" y="0"/>
                  </a:moveTo>
                  <a:cubicBezTo>
                    <a:pt x="608894" y="0"/>
                    <a:pt x="1116911" y="431905"/>
                    <a:pt x="1234401" y="1006066"/>
                  </a:cubicBezTo>
                  <a:lnTo>
                    <a:pt x="1245685" y="1080000"/>
                  </a:lnTo>
                  <a:lnTo>
                    <a:pt x="1234401" y="1153934"/>
                  </a:lnTo>
                  <a:cubicBezTo>
                    <a:pt x="1116911" y="1728095"/>
                    <a:pt x="608894" y="2160000"/>
                    <a:pt x="0" y="2160000"/>
                  </a:cubicBezTo>
                  <a:cubicBezTo>
                    <a:pt x="497056" y="2160000"/>
                    <a:pt x="900000" y="1757056"/>
                    <a:pt x="900000" y="1260000"/>
                  </a:cubicBezTo>
                  <a:cubicBezTo>
                    <a:pt x="900000" y="1228934"/>
                    <a:pt x="898426" y="1198236"/>
                    <a:pt x="895353" y="1167980"/>
                  </a:cubicBezTo>
                  <a:lnTo>
                    <a:pt x="881926" y="1080000"/>
                  </a:lnTo>
                  <a:lnTo>
                    <a:pt x="895353" y="992020"/>
                  </a:lnTo>
                  <a:cubicBezTo>
                    <a:pt x="898426" y="961765"/>
                    <a:pt x="900000" y="931066"/>
                    <a:pt x="900000" y="900000"/>
                  </a:cubicBezTo>
                  <a:cubicBezTo>
                    <a:pt x="900000" y="402944"/>
                    <a:pt x="497056" y="0"/>
                    <a:pt x="0" y="0"/>
                  </a:cubicBez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任意多边形 12"/>
            <p:cNvSpPr/>
            <p:nvPr/>
          </p:nvSpPr>
          <p:spPr>
            <a:xfrm>
              <a:off x="11669760" y="330120"/>
              <a:ext cx="176040" cy="211320"/>
            </a:xfrm>
            <a:custGeom>
              <a:avLst/>
              <a:gdLst/>
              <a:ahLst/>
              <a:rect l="l" t="t" r="r" b="b"/>
              <a:pathLst>
                <a:path w="900000" h="1080000">
                  <a:moveTo>
                    <a:pt x="0" y="0"/>
                  </a:moveTo>
                  <a:cubicBezTo>
                    <a:pt x="497056" y="0"/>
                    <a:pt x="900000" y="402944"/>
                    <a:pt x="900000" y="900000"/>
                  </a:cubicBezTo>
                  <a:cubicBezTo>
                    <a:pt x="900000" y="931066"/>
                    <a:pt x="898426" y="961765"/>
                    <a:pt x="895353" y="992020"/>
                  </a:cubicBezTo>
                  <a:lnTo>
                    <a:pt x="881926" y="1080000"/>
                  </a:lnTo>
                  <a:lnTo>
                    <a:pt x="881715" y="1078619"/>
                  </a:lnTo>
                  <a:cubicBezTo>
                    <a:pt x="797794" y="668504"/>
                    <a:pt x="434924" y="360000"/>
                    <a:pt x="0" y="36000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任意多边形 13"/>
            <p:cNvSpPr/>
            <p:nvPr/>
          </p:nvSpPr>
          <p:spPr>
            <a:xfrm>
              <a:off x="11669760" y="541440"/>
              <a:ext cx="247680" cy="282600"/>
            </a:xfrm>
            <a:custGeom>
              <a:avLst/>
              <a:gdLst/>
              <a:ahLst/>
              <a:rect l="l" t="t" r="r" b="b"/>
              <a:pathLst>
                <a:path w="1260000" h="1440000">
                  <a:moveTo>
                    <a:pt x="1245685" y="0"/>
                  </a:moveTo>
                  <a:lnTo>
                    <a:pt x="1253495" y="51172"/>
                  </a:lnTo>
                  <a:cubicBezTo>
                    <a:pt x="1257797" y="93530"/>
                    <a:pt x="1260000" y="136508"/>
                    <a:pt x="1260000" y="180000"/>
                  </a:cubicBezTo>
                  <a:cubicBezTo>
                    <a:pt x="1260000" y="875879"/>
                    <a:pt x="695879" y="1440000"/>
                    <a:pt x="0" y="1440000"/>
                  </a:cubicBezTo>
                  <a:lnTo>
                    <a:pt x="0" y="1080000"/>
                  </a:lnTo>
                  <a:cubicBezTo>
                    <a:pt x="608894" y="1080000"/>
                    <a:pt x="1116911" y="648095"/>
                    <a:pt x="1234401" y="73934"/>
                  </a:cubicBezTo>
                  <a:lnTo>
                    <a:pt x="1245685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圆角矩形 14"/>
            <p:cNvSpPr/>
            <p:nvPr/>
          </p:nvSpPr>
          <p:spPr>
            <a:xfrm>
              <a:off x="11472840" y="754200"/>
              <a:ext cx="235080" cy="69840"/>
            </a:xfrm>
            <a:prstGeom prst="roundRect">
              <a:avLst>
                <a:gd name="adj" fmla="val 50000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椭圆 15"/>
            <p:cNvSpPr/>
            <p:nvPr/>
          </p:nvSpPr>
          <p:spPr>
            <a:xfrm>
              <a:off x="11501280" y="330120"/>
              <a:ext cx="71280" cy="69840"/>
            </a:xfrm>
            <a:prstGeom prst="ellips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任意多边形 16"/>
          <p:cNvSpPr/>
          <p:nvPr/>
        </p:nvSpPr>
        <p:spPr>
          <a:xfrm>
            <a:off x="7748640" y="369720"/>
            <a:ext cx="3514680" cy="414360"/>
          </a:xfrm>
          <a:custGeom>
            <a:avLst/>
            <a:gdLst/>
            <a:ahLst/>
            <a:rect l="l" t="t" r="r" b="b"/>
            <a:pathLst>
              <a:path w="2425224" h="285597">
                <a:moveTo>
                  <a:pt x="1005158" y="75708"/>
                </a:moveTo>
                <a:cubicBezTo>
                  <a:pt x="1025040" y="75708"/>
                  <a:pt x="1041158" y="91826"/>
                  <a:pt x="1041158" y="111708"/>
                </a:cubicBezTo>
                <a:cubicBezTo>
                  <a:pt x="1041158" y="131590"/>
                  <a:pt x="1025040" y="147708"/>
                  <a:pt x="1005158" y="147708"/>
                </a:cubicBezTo>
                <a:cubicBezTo>
                  <a:pt x="985276" y="147708"/>
                  <a:pt x="969158" y="131590"/>
                  <a:pt x="969158" y="111708"/>
                </a:cubicBezTo>
                <a:cubicBezTo>
                  <a:pt x="969158" y="91826"/>
                  <a:pt x="985276" y="75708"/>
                  <a:pt x="1005158" y="75708"/>
                </a:cubicBezTo>
                <a:close/>
                <a:moveTo>
                  <a:pt x="2292331" y="66141"/>
                </a:moveTo>
                <a:lnTo>
                  <a:pt x="2348110" y="66141"/>
                </a:lnTo>
                <a:lnTo>
                  <a:pt x="2348110" y="145999"/>
                </a:lnTo>
                <a:cubicBezTo>
                  <a:pt x="2348110" y="154736"/>
                  <a:pt x="2351767" y="159105"/>
                  <a:pt x="2359082" y="159105"/>
                </a:cubicBezTo>
                <a:cubicBezTo>
                  <a:pt x="2365991" y="159105"/>
                  <a:pt x="2369446" y="154228"/>
                  <a:pt x="2369446" y="144475"/>
                </a:cubicBezTo>
                <a:lnTo>
                  <a:pt x="2369446" y="66141"/>
                </a:lnTo>
                <a:lnTo>
                  <a:pt x="2425224" y="66141"/>
                </a:lnTo>
                <a:lnTo>
                  <a:pt x="2425224" y="198729"/>
                </a:lnTo>
                <a:cubicBezTo>
                  <a:pt x="2425224" y="225552"/>
                  <a:pt x="2417096" y="246735"/>
                  <a:pt x="2400840" y="262280"/>
                </a:cubicBezTo>
                <a:cubicBezTo>
                  <a:pt x="2384584" y="277825"/>
                  <a:pt x="2365890" y="285597"/>
                  <a:pt x="2344757" y="285597"/>
                </a:cubicBezTo>
                <a:cubicBezTo>
                  <a:pt x="2334394" y="285597"/>
                  <a:pt x="2323929" y="283667"/>
                  <a:pt x="2313362" y="279806"/>
                </a:cubicBezTo>
                <a:lnTo>
                  <a:pt x="2313362" y="231343"/>
                </a:lnTo>
                <a:cubicBezTo>
                  <a:pt x="2320678" y="234391"/>
                  <a:pt x="2327485" y="235915"/>
                  <a:pt x="2333784" y="235915"/>
                </a:cubicBezTo>
                <a:cubicBezTo>
                  <a:pt x="2351056" y="235915"/>
                  <a:pt x="2362537" y="225755"/>
                  <a:pt x="2368226" y="205435"/>
                </a:cubicBezTo>
                <a:cubicBezTo>
                  <a:pt x="2358676" y="211124"/>
                  <a:pt x="2349024" y="213969"/>
                  <a:pt x="2339271" y="213969"/>
                </a:cubicBezTo>
                <a:cubicBezTo>
                  <a:pt x="2325859" y="213969"/>
                  <a:pt x="2314683" y="208940"/>
                  <a:pt x="2305742" y="198882"/>
                </a:cubicBezTo>
                <a:cubicBezTo>
                  <a:pt x="2296802" y="188823"/>
                  <a:pt x="2292331" y="175666"/>
                  <a:pt x="2292331" y="159410"/>
                </a:cubicBezTo>
                <a:close/>
                <a:moveTo>
                  <a:pt x="2103660" y="66141"/>
                </a:moveTo>
                <a:lnTo>
                  <a:pt x="2159439" y="66141"/>
                </a:lnTo>
                <a:lnTo>
                  <a:pt x="2159439" y="214579"/>
                </a:lnTo>
                <a:lnTo>
                  <a:pt x="2103660" y="214579"/>
                </a:lnTo>
                <a:close/>
                <a:moveTo>
                  <a:pt x="1963147" y="66141"/>
                </a:moveTo>
                <a:lnTo>
                  <a:pt x="2016183" y="66141"/>
                </a:lnTo>
                <a:lnTo>
                  <a:pt x="2032032" y="106375"/>
                </a:lnTo>
                <a:lnTo>
                  <a:pt x="2049101" y="66141"/>
                </a:lnTo>
                <a:lnTo>
                  <a:pt x="2100917" y="66141"/>
                </a:lnTo>
                <a:lnTo>
                  <a:pt x="2031727" y="220370"/>
                </a:lnTo>
                <a:close/>
                <a:moveTo>
                  <a:pt x="1903635" y="66141"/>
                </a:moveTo>
                <a:lnTo>
                  <a:pt x="1959414" y="66141"/>
                </a:lnTo>
                <a:lnTo>
                  <a:pt x="1959414" y="214579"/>
                </a:lnTo>
                <a:lnTo>
                  <a:pt x="1903635" y="214579"/>
                </a:lnTo>
                <a:close/>
                <a:moveTo>
                  <a:pt x="500558" y="66141"/>
                </a:moveTo>
                <a:lnTo>
                  <a:pt x="556337" y="66141"/>
                </a:lnTo>
                <a:lnTo>
                  <a:pt x="556337" y="214579"/>
                </a:lnTo>
                <a:lnTo>
                  <a:pt x="500558" y="214579"/>
                </a:lnTo>
                <a:close/>
                <a:moveTo>
                  <a:pt x="462458" y="66141"/>
                </a:moveTo>
                <a:lnTo>
                  <a:pt x="479527" y="66141"/>
                </a:lnTo>
                <a:lnTo>
                  <a:pt x="479527" y="124663"/>
                </a:lnTo>
                <a:cubicBezTo>
                  <a:pt x="470789" y="124663"/>
                  <a:pt x="465100" y="126187"/>
                  <a:pt x="462458" y="129235"/>
                </a:cubicBezTo>
                <a:cubicBezTo>
                  <a:pt x="459817" y="132283"/>
                  <a:pt x="458191" y="137464"/>
                  <a:pt x="457581" y="144780"/>
                </a:cubicBezTo>
                <a:cubicBezTo>
                  <a:pt x="453314" y="191312"/>
                  <a:pt x="427406" y="214579"/>
                  <a:pt x="379857" y="214579"/>
                </a:cubicBezTo>
                <a:lnTo>
                  <a:pt x="372237" y="214579"/>
                </a:lnTo>
                <a:lnTo>
                  <a:pt x="372237" y="155752"/>
                </a:lnTo>
                <a:cubicBezTo>
                  <a:pt x="382804" y="155752"/>
                  <a:pt x="390017" y="153873"/>
                  <a:pt x="393878" y="150114"/>
                </a:cubicBezTo>
                <a:cubicBezTo>
                  <a:pt x="397739" y="146354"/>
                  <a:pt x="399974" y="139801"/>
                  <a:pt x="400584" y="130454"/>
                </a:cubicBezTo>
                <a:cubicBezTo>
                  <a:pt x="401397" y="116433"/>
                  <a:pt x="402565" y="106730"/>
                  <a:pt x="404089" y="101346"/>
                </a:cubicBezTo>
                <a:cubicBezTo>
                  <a:pt x="405613" y="95961"/>
                  <a:pt x="409067" y="90373"/>
                  <a:pt x="414452" y="84582"/>
                </a:cubicBezTo>
                <a:cubicBezTo>
                  <a:pt x="419837" y="78790"/>
                  <a:pt x="426441" y="74269"/>
                  <a:pt x="434264" y="71018"/>
                </a:cubicBezTo>
                <a:cubicBezTo>
                  <a:pt x="442087" y="67767"/>
                  <a:pt x="451485" y="66141"/>
                  <a:pt x="462458" y="66141"/>
                </a:cubicBezTo>
                <a:close/>
                <a:moveTo>
                  <a:pt x="1687075" y="62788"/>
                </a:moveTo>
                <a:cubicBezTo>
                  <a:pt x="1711052" y="62788"/>
                  <a:pt x="1730001" y="69799"/>
                  <a:pt x="1743920" y="83820"/>
                </a:cubicBezTo>
                <a:cubicBezTo>
                  <a:pt x="1757839" y="97840"/>
                  <a:pt x="1764799" y="117043"/>
                  <a:pt x="1764799" y="141427"/>
                </a:cubicBezTo>
                <a:lnTo>
                  <a:pt x="1764799" y="214579"/>
                </a:lnTo>
                <a:lnTo>
                  <a:pt x="1709020" y="214579"/>
                </a:lnTo>
                <a:lnTo>
                  <a:pt x="1709020" y="145389"/>
                </a:lnTo>
                <a:cubicBezTo>
                  <a:pt x="1709020" y="137464"/>
                  <a:pt x="1707090" y="131216"/>
                  <a:pt x="1703229" y="126644"/>
                </a:cubicBezTo>
                <a:cubicBezTo>
                  <a:pt x="1699368" y="122072"/>
                  <a:pt x="1694288" y="119786"/>
                  <a:pt x="1687989" y="119786"/>
                </a:cubicBezTo>
                <a:cubicBezTo>
                  <a:pt x="1682096" y="119786"/>
                  <a:pt x="1677016" y="121970"/>
                  <a:pt x="1672749" y="126339"/>
                </a:cubicBezTo>
                <a:cubicBezTo>
                  <a:pt x="1668482" y="130708"/>
                  <a:pt x="1666348" y="135940"/>
                  <a:pt x="1666348" y="142036"/>
                </a:cubicBezTo>
                <a:cubicBezTo>
                  <a:pt x="1666348" y="148132"/>
                  <a:pt x="1668279" y="153162"/>
                  <a:pt x="1672140" y="157124"/>
                </a:cubicBezTo>
                <a:cubicBezTo>
                  <a:pt x="1676000" y="161086"/>
                  <a:pt x="1681080" y="163068"/>
                  <a:pt x="1687380" y="163068"/>
                </a:cubicBezTo>
                <a:cubicBezTo>
                  <a:pt x="1692053" y="163068"/>
                  <a:pt x="1696422" y="161848"/>
                  <a:pt x="1700486" y="159410"/>
                </a:cubicBezTo>
                <a:lnTo>
                  <a:pt x="1700486" y="216712"/>
                </a:lnTo>
                <a:cubicBezTo>
                  <a:pt x="1696422" y="217525"/>
                  <a:pt x="1692256" y="217932"/>
                  <a:pt x="1687989" y="217932"/>
                </a:cubicBezTo>
                <a:cubicBezTo>
                  <a:pt x="1665637" y="217932"/>
                  <a:pt x="1646994" y="210464"/>
                  <a:pt x="1632058" y="195529"/>
                </a:cubicBezTo>
                <a:cubicBezTo>
                  <a:pt x="1617123" y="180594"/>
                  <a:pt x="1609656" y="162153"/>
                  <a:pt x="1609656" y="140208"/>
                </a:cubicBezTo>
                <a:cubicBezTo>
                  <a:pt x="1609656" y="118872"/>
                  <a:pt x="1617225" y="100634"/>
                  <a:pt x="1632363" y="85496"/>
                </a:cubicBezTo>
                <a:cubicBezTo>
                  <a:pt x="1647501" y="70358"/>
                  <a:pt x="1665739" y="62788"/>
                  <a:pt x="1687075" y="62788"/>
                </a:cubicBezTo>
                <a:close/>
                <a:moveTo>
                  <a:pt x="1516844" y="62788"/>
                </a:moveTo>
                <a:cubicBezTo>
                  <a:pt x="1538180" y="62788"/>
                  <a:pt x="1556214" y="70053"/>
                  <a:pt x="1570946" y="84582"/>
                </a:cubicBezTo>
                <a:cubicBezTo>
                  <a:pt x="1585678" y="99110"/>
                  <a:pt x="1593044" y="117144"/>
                  <a:pt x="1593044" y="138684"/>
                </a:cubicBezTo>
                <a:cubicBezTo>
                  <a:pt x="1593044" y="139496"/>
                  <a:pt x="1592841" y="142951"/>
                  <a:pt x="1592434" y="149047"/>
                </a:cubicBezTo>
                <a:lnTo>
                  <a:pt x="1508005" y="149047"/>
                </a:lnTo>
                <a:cubicBezTo>
                  <a:pt x="1506582" y="144983"/>
                  <a:pt x="1505871" y="140919"/>
                  <a:pt x="1505871" y="136855"/>
                </a:cubicBezTo>
                <a:cubicBezTo>
                  <a:pt x="1505871" y="132384"/>
                  <a:pt x="1506786" y="127711"/>
                  <a:pt x="1508614" y="122834"/>
                </a:cubicBezTo>
                <a:lnTo>
                  <a:pt x="1536961" y="122834"/>
                </a:lnTo>
                <a:cubicBezTo>
                  <a:pt x="1535132" y="111658"/>
                  <a:pt x="1528934" y="106070"/>
                  <a:pt x="1518368" y="106070"/>
                </a:cubicBezTo>
                <a:cubicBezTo>
                  <a:pt x="1511662" y="106070"/>
                  <a:pt x="1506074" y="109016"/>
                  <a:pt x="1501604" y="114909"/>
                </a:cubicBezTo>
                <a:cubicBezTo>
                  <a:pt x="1497134" y="120802"/>
                  <a:pt x="1494898" y="128422"/>
                  <a:pt x="1494898" y="137769"/>
                </a:cubicBezTo>
                <a:cubicBezTo>
                  <a:pt x="1494898" y="147320"/>
                  <a:pt x="1497032" y="155194"/>
                  <a:pt x="1501299" y="161391"/>
                </a:cubicBezTo>
                <a:cubicBezTo>
                  <a:pt x="1505566" y="167589"/>
                  <a:pt x="1511053" y="170688"/>
                  <a:pt x="1517758" y="170688"/>
                </a:cubicBezTo>
                <a:cubicBezTo>
                  <a:pt x="1523448" y="170688"/>
                  <a:pt x="1528833" y="167843"/>
                  <a:pt x="1533913" y="162153"/>
                </a:cubicBezTo>
                <a:lnTo>
                  <a:pt x="1565612" y="200558"/>
                </a:lnTo>
                <a:cubicBezTo>
                  <a:pt x="1550982" y="212140"/>
                  <a:pt x="1534522" y="217932"/>
                  <a:pt x="1516234" y="217932"/>
                </a:cubicBezTo>
                <a:cubicBezTo>
                  <a:pt x="1494492" y="217932"/>
                  <a:pt x="1476052" y="210464"/>
                  <a:pt x="1460913" y="195529"/>
                </a:cubicBezTo>
                <a:cubicBezTo>
                  <a:pt x="1445775" y="180594"/>
                  <a:pt x="1438206" y="162153"/>
                  <a:pt x="1438206" y="140208"/>
                </a:cubicBezTo>
                <a:cubicBezTo>
                  <a:pt x="1438206" y="118465"/>
                  <a:pt x="1445724" y="100126"/>
                  <a:pt x="1460761" y="85191"/>
                </a:cubicBezTo>
                <a:cubicBezTo>
                  <a:pt x="1475798" y="70256"/>
                  <a:pt x="1494492" y="62788"/>
                  <a:pt x="1516844" y="62788"/>
                </a:cubicBezTo>
                <a:close/>
                <a:moveTo>
                  <a:pt x="1414888" y="62788"/>
                </a:moveTo>
                <a:cubicBezTo>
                  <a:pt x="1420578" y="62788"/>
                  <a:pt x="1426471" y="63398"/>
                  <a:pt x="1432567" y="64617"/>
                </a:cubicBezTo>
                <a:lnTo>
                  <a:pt x="1432567" y="124358"/>
                </a:lnTo>
                <a:cubicBezTo>
                  <a:pt x="1428503" y="121920"/>
                  <a:pt x="1424744" y="120700"/>
                  <a:pt x="1421289" y="120700"/>
                </a:cubicBezTo>
                <a:cubicBezTo>
                  <a:pt x="1416819" y="120700"/>
                  <a:pt x="1413314" y="122732"/>
                  <a:pt x="1410774" y="126796"/>
                </a:cubicBezTo>
                <a:cubicBezTo>
                  <a:pt x="1408234" y="130860"/>
                  <a:pt x="1406964" y="136652"/>
                  <a:pt x="1406964" y="144170"/>
                </a:cubicBezTo>
                <a:lnTo>
                  <a:pt x="1406964" y="214579"/>
                </a:lnTo>
                <a:lnTo>
                  <a:pt x="1351185" y="214579"/>
                </a:lnTo>
                <a:lnTo>
                  <a:pt x="1351185" y="133502"/>
                </a:lnTo>
                <a:cubicBezTo>
                  <a:pt x="1351185" y="111760"/>
                  <a:pt x="1356926" y="94538"/>
                  <a:pt x="1368406" y="81838"/>
                </a:cubicBezTo>
                <a:cubicBezTo>
                  <a:pt x="1379887" y="69138"/>
                  <a:pt x="1395381" y="62788"/>
                  <a:pt x="1414888" y="62788"/>
                </a:cubicBezTo>
                <a:close/>
                <a:moveTo>
                  <a:pt x="823875" y="62788"/>
                </a:moveTo>
                <a:cubicBezTo>
                  <a:pt x="844195" y="62788"/>
                  <a:pt x="860298" y="69240"/>
                  <a:pt x="872186" y="82143"/>
                </a:cubicBezTo>
                <a:cubicBezTo>
                  <a:pt x="884073" y="95046"/>
                  <a:pt x="890016" y="112979"/>
                  <a:pt x="890016" y="135940"/>
                </a:cubicBezTo>
                <a:lnTo>
                  <a:pt x="890016" y="214579"/>
                </a:lnTo>
                <a:lnTo>
                  <a:pt x="834543" y="214579"/>
                </a:lnTo>
                <a:lnTo>
                  <a:pt x="834543" y="130454"/>
                </a:lnTo>
                <a:cubicBezTo>
                  <a:pt x="834543" y="121920"/>
                  <a:pt x="830987" y="117652"/>
                  <a:pt x="823875" y="117652"/>
                </a:cubicBezTo>
                <a:cubicBezTo>
                  <a:pt x="816966" y="117652"/>
                  <a:pt x="813512" y="121920"/>
                  <a:pt x="813512" y="130454"/>
                </a:cubicBezTo>
                <a:lnTo>
                  <a:pt x="813512" y="214579"/>
                </a:lnTo>
                <a:lnTo>
                  <a:pt x="757733" y="214579"/>
                </a:lnTo>
                <a:lnTo>
                  <a:pt x="757733" y="131673"/>
                </a:lnTo>
                <a:cubicBezTo>
                  <a:pt x="757733" y="112369"/>
                  <a:pt x="764134" y="96062"/>
                  <a:pt x="776936" y="82753"/>
                </a:cubicBezTo>
                <a:cubicBezTo>
                  <a:pt x="789737" y="69443"/>
                  <a:pt x="805384" y="62788"/>
                  <a:pt x="823875" y="62788"/>
                </a:cubicBezTo>
                <a:close/>
                <a:moveTo>
                  <a:pt x="655778" y="62788"/>
                </a:moveTo>
                <a:cubicBezTo>
                  <a:pt x="679146" y="62788"/>
                  <a:pt x="697230" y="69850"/>
                  <a:pt x="710032" y="83972"/>
                </a:cubicBezTo>
                <a:cubicBezTo>
                  <a:pt x="722834" y="98094"/>
                  <a:pt x="729234" y="118465"/>
                  <a:pt x="729234" y="145084"/>
                </a:cubicBezTo>
                <a:lnTo>
                  <a:pt x="729234" y="193852"/>
                </a:lnTo>
                <a:cubicBezTo>
                  <a:pt x="729234" y="219659"/>
                  <a:pt x="721970" y="240944"/>
                  <a:pt x="707441" y="257708"/>
                </a:cubicBezTo>
                <a:cubicBezTo>
                  <a:pt x="692912" y="274472"/>
                  <a:pt x="674269" y="282854"/>
                  <a:pt x="651510" y="282854"/>
                </a:cubicBezTo>
                <a:cubicBezTo>
                  <a:pt x="641350" y="282854"/>
                  <a:pt x="630886" y="281127"/>
                  <a:pt x="620116" y="277672"/>
                </a:cubicBezTo>
                <a:lnTo>
                  <a:pt x="620116" y="227076"/>
                </a:lnTo>
                <a:cubicBezTo>
                  <a:pt x="628244" y="231140"/>
                  <a:pt x="635966" y="233172"/>
                  <a:pt x="643281" y="233172"/>
                </a:cubicBezTo>
                <a:cubicBezTo>
                  <a:pt x="652628" y="233172"/>
                  <a:pt x="660045" y="229819"/>
                  <a:pt x="665531" y="223113"/>
                </a:cubicBezTo>
                <a:cubicBezTo>
                  <a:pt x="671018" y="216408"/>
                  <a:pt x="673761" y="206959"/>
                  <a:pt x="673761" y="194767"/>
                </a:cubicBezTo>
                <a:lnTo>
                  <a:pt x="673761" y="138988"/>
                </a:lnTo>
                <a:cubicBezTo>
                  <a:pt x="673761" y="123342"/>
                  <a:pt x="667462" y="115519"/>
                  <a:pt x="654863" y="115519"/>
                </a:cubicBezTo>
                <a:cubicBezTo>
                  <a:pt x="649580" y="115519"/>
                  <a:pt x="644906" y="117500"/>
                  <a:pt x="640842" y="121462"/>
                </a:cubicBezTo>
                <a:cubicBezTo>
                  <a:pt x="636778" y="125425"/>
                  <a:pt x="634746" y="130251"/>
                  <a:pt x="634746" y="135940"/>
                </a:cubicBezTo>
                <a:cubicBezTo>
                  <a:pt x="634746" y="141630"/>
                  <a:pt x="636677" y="146354"/>
                  <a:pt x="640538" y="150114"/>
                </a:cubicBezTo>
                <a:cubicBezTo>
                  <a:pt x="644398" y="153873"/>
                  <a:pt x="649072" y="155752"/>
                  <a:pt x="654558" y="155752"/>
                </a:cubicBezTo>
                <a:cubicBezTo>
                  <a:pt x="658216" y="155752"/>
                  <a:pt x="661874" y="154838"/>
                  <a:pt x="665531" y="153009"/>
                </a:cubicBezTo>
                <a:lnTo>
                  <a:pt x="665531" y="204216"/>
                </a:lnTo>
                <a:cubicBezTo>
                  <a:pt x="657810" y="206857"/>
                  <a:pt x="650088" y="208178"/>
                  <a:pt x="642366" y="208178"/>
                </a:cubicBezTo>
                <a:cubicBezTo>
                  <a:pt x="624282" y="208178"/>
                  <a:pt x="609042" y="201523"/>
                  <a:pt x="596646" y="188214"/>
                </a:cubicBezTo>
                <a:cubicBezTo>
                  <a:pt x="584251" y="174904"/>
                  <a:pt x="578054" y="158292"/>
                  <a:pt x="578054" y="138379"/>
                </a:cubicBezTo>
                <a:cubicBezTo>
                  <a:pt x="578054" y="117449"/>
                  <a:pt x="585572" y="99618"/>
                  <a:pt x="600609" y="84886"/>
                </a:cubicBezTo>
                <a:cubicBezTo>
                  <a:pt x="615646" y="70154"/>
                  <a:pt x="634035" y="62788"/>
                  <a:pt x="655778" y="62788"/>
                </a:cubicBezTo>
                <a:close/>
                <a:moveTo>
                  <a:pt x="285217" y="62788"/>
                </a:moveTo>
                <a:cubicBezTo>
                  <a:pt x="306553" y="62788"/>
                  <a:pt x="324587" y="70053"/>
                  <a:pt x="339319" y="84582"/>
                </a:cubicBezTo>
                <a:cubicBezTo>
                  <a:pt x="354051" y="99110"/>
                  <a:pt x="361417" y="117144"/>
                  <a:pt x="361417" y="138684"/>
                </a:cubicBezTo>
                <a:cubicBezTo>
                  <a:pt x="361417" y="139496"/>
                  <a:pt x="361214" y="142951"/>
                  <a:pt x="360807" y="149047"/>
                </a:cubicBezTo>
                <a:lnTo>
                  <a:pt x="276378" y="149047"/>
                </a:lnTo>
                <a:cubicBezTo>
                  <a:pt x="274955" y="144983"/>
                  <a:pt x="274244" y="140919"/>
                  <a:pt x="274244" y="136855"/>
                </a:cubicBezTo>
                <a:cubicBezTo>
                  <a:pt x="274244" y="132384"/>
                  <a:pt x="275159" y="127711"/>
                  <a:pt x="276987" y="122834"/>
                </a:cubicBezTo>
                <a:lnTo>
                  <a:pt x="305334" y="122834"/>
                </a:lnTo>
                <a:cubicBezTo>
                  <a:pt x="303505" y="111658"/>
                  <a:pt x="297307" y="106070"/>
                  <a:pt x="286741" y="106070"/>
                </a:cubicBezTo>
                <a:cubicBezTo>
                  <a:pt x="280035" y="106070"/>
                  <a:pt x="274447" y="109016"/>
                  <a:pt x="269977" y="114909"/>
                </a:cubicBezTo>
                <a:cubicBezTo>
                  <a:pt x="265507" y="120802"/>
                  <a:pt x="263271" y="128422"/>
                  <a:pt x="263271" y="137769"/>
                </a:cubicBezTo>
                <a:cubicBezTo>
                  <a:pt x="263271" y="147320"/>
                  <a:pt x="265405" y="155194"/>
                  <a:pt x="269672" y="161391"/>
                </a:cubicBezTo>
                <a:cubicBezTo>
                  <a:pt x="273939" y="167589"/>
                  <a:pt x="279426" y="170688"/>
                  <a:pt x="286131" y="170688"/>
                </a:cubicBezTo>
                <a:cubicBezTo>
                  <a:pt x="291821" y="170688"/>
                  <a:pt x="297206" y="167843"/>
                  <a:pt x="302286" y="162153"/>
                </a:cubicBezTo>
                <a:lnTo>
                  <a:pt x="333985" y="200558"/>
                </a:lnTo>
                <a:cubicBezTo>
                  <a:pt x="319355" y="212140"/>
                  <a:pt x="302895" y="217932"/>
                  <a:pt x="284607" y="217932"/>
                </a:cubicBezTo>
                <a:cubicBezTo>
                  <a:pt x="262865" y="217932"/>
                  <a:pt x="244425" y="210464"/>
                  <a:pt x="229286" y="195529"/>
                </a:cubicBezTo>
                <a:cubicBezTo>
                  <a:pt x="214148" y="180594"/>
                  <a:pt x="206579" y="162153"/>
                  <a:pt x="206579" y="140208"/>
                </a:cubicBezTo>
                <a:cubicBezTo>
                  <a:pt x="206579" y="118465"/>
                  <a:pt x="214097" y="100126"/>
                  <a:pt x="229134" y="85191"/>
                </a:cubicBezTo>
                <a:cubicBezTo>
                  <a:pt x="244171" y="70256"/>
                  <a:pt x="262865" y="62788"/>
                  <a:pt x="285217" y="62788"/>
                </a:cubicBezTo>
                <a:close/>
                <a:moveTo>
                  <a:pt x="2183289" y="11277"/>
                </a:moveTo>
                <a:lnTo>
                  <a:pt x="2239067" y="11277"/>
                </a:lnTo>
                <a:lnTo>
                  <a:pt x="2239067" y="69494"/>
                </a:lnTo>
                <a:lnTo>
                  <a:pt x="2264061" y="69494"/>
                </a:lnTo>
                <a:lnTo>
                  <a:pt x="2264061" y="128320"/>
                </a:lnTo>
                <a:lnTo>
                  <a:pt x="2239067" y="128320"/>
                </a:lnTo>
                <a:cubicBezTo>
                  <a:pt x="2239067" y="140106"/>
                  <a:pt x="2240896" y="148234"/>
                  <a:pt x="2244554" y="152704"/>
                </a:cubicBezTo>
                <a:cubicBezTo>
                  <a:pt x="2248212" y="157175"/>
                  <a:pt x="2255019" y="159410"/>
                  <a:pt x="2264975" y="159410"/>
                </a:cubicBezTo>
                <a:lnTo>
                  <a:pt x="2264975" y="217932"/>
                </a:lnTo>
                <a:cubicBezTo>
                  <a:pt x="2239372" y="217932"/>
                  <a:pt x="2219357" y="210667"/>
                  <a:pt x="2204930" y="196138"/>
                </a:cubicBezTo>
                <a:cubicBezTo>
                  <a:pt x="2190503" y="181610"/>
                  <a:pt x="2183289" y="161036"/>
                  <a:pt x="2183289" y="134416"/>
                </a:cubicBezTo>
                <a:close/>
                <a:moveTo>
                  <a:pt x="1792764" y="11277"/>
                </a:moveTo>
                <a:lnTo>
                  <a:pt x="1848543" y="11277"/>
                </a:lnTo>
                <a:lnTo>
                  <a:pt x="1848543" y="69494"/>
                </a:lnTo>
                <a:lnTo>
                  <a:pt x="1873536" y="69494"/>
                </a:lnTo>
                <a:lnTo>
                  <a:pt x="1873536" y="128320"/>
                </a:lnTo>
                <a:lnTo>
                  <a:pt x="1848543" y="128320"/>
                </a:lnTo>
                <a:cubicBezTo>
                  <a:pt x="1848543" y="140106"/>
                  <a:pt x="1850371" y="148234"/>
                  <a:pt x="1854029" y="152704"/>
                </a:cubicBezTo>
                <a:cubicBezTo>
                  <a:pt x="1857687" y="157175"/>
                  <a:pt x="1864494" y="159410"/>
                  <a:pt x="1874451" y="159410"/>
                </a:cubicBezTo>
                <a:lnTo>
                  <a:pt x="1874451" y="217932"/>
                </a:lnTo>
                <a:cubicBezTo>
                  <a:pt x="1848847" y="217932"/>
                  <a:pt x="1828832" y="210667"/>
                  <a:pt x="1814405" y="196138"/>
                </a:cubicBezTo>
                <a:cubicBezTo>
                  <a:pt x="1799978" y="181610"/>
                  <a:pt x="1792764" y="161036"/>
                  <a:pt x="1792764" y="134416"/>
                </a:cubicBezTo>
                <a:close/>
                <a:moveTo>
                  <a:pt x="0" y="11277"/>
                </a:moveTo>
                <a:lnTo>
                  <a:pt x="78639" y="11277"/>
                </a:lnTo>
                <a:cubicBezTo>
                  <a:pt x="114605" y="11277"/>
                  <a:pt x="142952" y="20320"/>
                  <a:pt x="163678" y="38404"/>
                </a:cubicBezTo>
                <a:cubicBezTo>
                  <a:pt x="184404" y="56489"/>
                  <a:pt x="194768" y="80772"/>
                  <a:pt x="194768" y="111252"/>
                </a:cubicBezTo>
                <a:cubicBezTo>
                  <a:pt x="194768" y="141935"/>
                  <a:pt x="184811" y="166979"/>
                  <a:pt x="164897" y="186385"/>
                </a:cubicBezTo>
                <a:cubicBezTo>
                  <a:pt x="144984" y="205790"/>
                  <a:pt x="119380" y="215493"/>
                  <a:pt x="88088" y="215493"/>
                </a:cubicBezTo>
                <a:cubicBezTo>
                  <a:pt x="86868" y="215493"/>
                  <a:pt x="80874" y="215290"/>
                  <a:pt x="70104" y="214884"/>
                </a:cubicBezTo>
                <a:lnTo>
                  <a:pt x="70104" y="155143"/>
                </a:lnTo>
                <a:lnTo>
                  <a:pt x="79858" y="155143"/>
                </a:lnTo>
                <a:cubicBezTo>
                  <a:pt x="115215" y="155143"/>
                  <a:pt x="132893" y="140512"/>
                  <a:pt x="132893" y="111252"/>
                </a:cubicBezTo>
                <a:cubicBezTo>
                  <a:pt x="132893" y="83616"/>
                  <a:pt x="115520" y="69799"/>
                  <a:pt x="80772" y="69799"/>
                </a:cubicBezTo>
                <a:lnTo>
                  <a:pt x="60351" y="69799"/>
                </a:lnTo>
                <a:lnTo>
                  <a:pt x="60351" y="214579"/>
                </a:lnTo>
                <a:lnTo>
                  <a:pt x="0" y="214579"/>
                </a:lnTo>
                <a:close/>
                <a:moveTo>
                  <a:pt x="1222560" y="6400"/>
                </a:moveTo>
                <a:cubicBezTo>
                  <a:pt x="1248569" y="6400"/>
                  <a:pt x="1270921" y="14020"/>
                  <a:pt x="1289616" y="29260"/>
                </a:cubicBezTo>
                <a:cubicBezTo>
                  <a:pt x="1308310" y="44500"/>
                  <a:pt x="1320705" y="66446"/>
                  <a:pt x="1326801" y="95097"/>
                </a:cubicBezTo>
                <a:lnTo>
                  <a:pt x="1262184" y="99669"/>
                </a:lnTo>
                <a:cubicBezTo>
                  <a:pt x="1255072" y="77317"/>
                  <a:pt x="1241356" y="66141"/>
                  <a:pt x="1221036" y="66141"/>
                </a:cubicBezTo>
                <a:cubicBezTo>
                  <a:pt x="1208234" y="66141"/>
                  <a:pt x="1197617" y="70510"/>
                  <a:pt x="1189184" y="79248"/>
                </a:cubicBezTo>
                <a:cubicBezTo>
                  <a:pt x="1180751" y="87985"/>
                  <a:pt x="1176535" y="99263"/>
                  <a:pt x="1176535" y="113080"/>
                </a:cubicBezTo>
                <a:cubicBezTo>
                  <a:pt x="1176535" y="126288"/>
                  <a:pt x="1180650" y="137109"/>
                  <a:pt x="1188879" y="145542"/>
                </a:cubicBezTo>
                <a:cubicBezTo>
                  <a:pt x="1197109" y="153974"/>
                  <a:pt x="1207523" y="158191"/>
                  <a:pt x="1220121" y="158191"/>
                </a:cubicBezTo>
                <a:cubicBezTo>
                  <a:pt x="1246334" y="158191"/>
                  <a:pt x="1261066" y="143357"/>
                  <a:pt x="1264317" y="113690"/>
                </a:cubicBezTo>
                <a:lnTo>
                  <a:pt x="1327411" y="115519"/>
                </a:lnTo>
                <a:cubicBezTo>
                  <a:pt x="1322940" y="148640"/>
                  <a:pt x="1311460" y="173990"/>
                  <a:pt x="1292968" y="191566"/>
                </a:cubicBezTo>
                <a:cubicBezTo>
                  <a:pt x="1274477" y="209143"/>
                  <a:pt x="1250500" y="217932"/>
                  <a:pt x="1221036" y="217932"/>
                </a:cubicBezTo>
                <a:cubicBezTo>
                  <a:pt x="1190352" y="217932"/>
                  <a:pt x="1164902" y="207975"/>
                  <a:pt x="1144683" y="188061"/>
                </a:cubicBezTo>
                <a:cubicBezTo>
                  <a:pt x="1124465" y="168148"/>
                  <a:pt x="1114356" y="143154"/>
                  <a:pt x="1114356" y="113080"/>
                </a:cubicBezTo>
                <a:cubicBezTo>
                  <a:pt x="1114356" y="82804"/>
                  <a:pt x="1124719" y="57454"/>
                  <a:pt x="1145445" y="37033"/>
                </a:cubicBezTo>
                <a:cubicBezTo>
                  <a:pt x="1166172" y="16611"/>
                  <a:pt x="1191876" y="6400"/>
                  <a:pt x="1222560" y="6400"/>
                </a:cubicBezTo>
                <a:close/>
                <a:moveTo>
                  <a:pt x="2132006" y="0"/>
                </a:moveTo>
                <a:cubicBezTo>
                  <a:pt x="2139525" y="0"/>
                  <a:pt x="2145875" y="2590"/>
                  <a:pt x="2151056" y="7772"/>
                </a:cubicBezTo>
                <a:cubicBezTo>
                  <a:pt x="2156238" y="12954"/>
                  <a:pt x="2158829" y="19304"/>
                  <a:pt x="2158829" y="26822"/>
                </a:cubicBezTo>
                <a:cubicBezTo>
                  <a:pt x="2158829" y="34340"/>
                  <a:pt x="2156238" y="40690"/>
                  <a:pt x="2151056" y="45872"/>
                </a:cubicBezTo>
                <a:cubicBezTo>
                  <a:pt x="2145875" y="51054"/>
                  <a:pt x="2139525" y="53644"/>
                  <a:pt x="2132006" y="53644"/>
                </a:cubicBezTo>
                <a:cubicBezTo>
                  <a:pt x="2124488" y="53644"/>
                  <a:pt x="2118138" y="51054"/>
                  <a:pt x="2112956" y="45872"/>
                </a:cubicBezTo>
                <a:cubicBezTo>
                  <a:pt x="2107775" y="40690"/>
                  <a:pt x="2105184" y="34340"/>
                  <a:pt x="2105184" y="26822"/>
                </a:cubicBezTo>
                <a:cubicBezTo>
                  <a:pt x="2105184" y="19304"/>
                  <a:pt x="2107775" y="12954"/>
                  <a:pt x="2112956" y="7772"/>
                </a:cubicBezTo>
                <a:cubicBezTo>
                  <a:pt x="2118138" y="2590"/>
                  <a:pt x="2124488" y="0"/>
                  <a:pt x="2132006" y="0"/>
                </a:cubicBezTo>
                <a:close/>
                <a:moveTo>
                  <a:pt x="1931982" y="0"/>
                </a:moveTo>
                <a:cubicBezTo>
                  <a:pt x="1939500" y="0"/>
                  <a:pt x="1945850" y="2590"/>
                  <a:pt x="1951032" y="7772"/>
                </a:cubicBezTo>
                <a:cubicBezTo>
                  <a:pt x="1956213" y="12954"/>
                  <a:pt x="1958804" y="19304"/>
                  <a:pt x="1958804" y="26822"/>
                </a:cubicBezTo>
                <a:cubicBezTo>
                  <a:pt x="1958804" y="34340"/>
                  <a:pt x="1956213" y="40690"/>
                  <a:pt x="1951032" y="45872"/>
                </a:cubicBezTo>
                <a:cubicBezTo>
                  <a:pt x="1945850" y="51054"/>
                  <a:pt x="1939500" y="53644"/>
                  <a:pt x="1931982" y="53644"/>
                </a:cubicBezTo>
                <a:cubicBezTo>
                  <a:pt x="1924463" y="53644"/>
                  <a:pt x="1918113" y="51054"/>
                  <a:pt x="1912932" y="45872"/>
                </a:cubicBezTo>
                <a:cubicBezTo>
                  <a:pt x="1907750" y="40690"/>
                  <a:pt x="1905159" y="34340"/>
                  <a:pt x="1905159" y="26822"/>
                </a:cubicBezTo>
                <a:cubicBezTo>
                  <a:pt x="1905159" y="19304"/>
                  <a:pt x="1907750" y="12954"/>
                  <a:pt x="1912932" y="7772"/>
                </a:cubicBezTo>
                <a:cubicBezTo>
                  <a:pt x="1918113" y="2590"/>
                  <a:pt x="1924463" y="0"/>
                  <a:pt x="1931982" y="0"/>
                </a:cubicBezTo>
                <a:close/>
                <a:moveTo>
                  <a:pt x="528905" y="0"/>
                </a:moveTo>
                <a:cubicBezTo>
                  <a:pt x="536423" y="0"/>
                  <a:pt x="542773" y="2590"/>
                  <a:pt x="547955" y="7772"/>
                </a:cubicBezTo>
                <a:cubicBezTo>
                  <a:pt x="553136" y="12954"/>
                  <a:pt x="555727" y="19304"/>
                  <a:pt x="555727" y="26822"/>
                </a:cubicBezTo>
                <a:cubicBezTo>
                  <a:pt x="555727" y="34340"/>
                  <a:pt x="553136" y="40690"/>
                  <a:pt x="547955" y="45872"/>
                </a:cubicBezTo>
                <a:cubicBezTo>
                  <a:pt x="542773" y="51054"/>
                  <a:pt x="536423" y="53644"/>
                  <a:pt x="528905" y="53644"/>
                </a:cubicBezTo>
                <a:cubicBezTo>
                  <a:pt x="521386" y="53644"/>
                  <a:pt x="515036" y="51054"/>
                  <a:pt x="509855" y="45872"/>
                </a:cubicBezTo>
                <a:cubicBezTo>
                  <a:pt x="504673" y="40690"/>
                  <a:pt x="502082" y="34340"/>
                  <a:pt x="502082" y="26822"/>
                </a:cubicBezTo>
                <a:cubicBezTo>
                  <a:pt x="502082" y="19304"/>
                  <a:pt x="504673" y="12954"/>
                  <a:pt x="509855" y="7772"/>
                </a:cubicBezTo>
                <a:cubicBezTo>
                  <a:pt x="515036" y="2590"/>
                  <a:pt x="521386" y="0"/>
                  <a:pt x="528905" y="0"/>
                </a:cubicBezTo>
                <a:close/>
              </a:path>
            </a:pathLst>
          </a:custGeom>
          <a:solidFill>
            <a:srgbClr val="7f7f7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"/>
          <p:cNvSpPr/>
          <p:nvPr/>
        </p:nvSpPr>
        <p:spPr>
          <a:xfrm>
            <a:off x="4734000" y="2092320"/>
            <a:ext cx="2787480" cy="2789280"/>
          </a:xfrm>
          <a:prstGeom prst="rect">
            <a:avLst/>
          </a:prstGeom>
          <a:solidFill>
            <a:srgbClr val="2c3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图片 3" descr=""/>
          <p:cNvPicPr/>
          <p:nvPr/>
        </p:nvPicPr>
        <p:blipFill>
          <a:blip r:embed="rId3"/>
          <a:srcRect l="17207" t="6614" r="17176" b="22233"/>
          <a:stretch/>
        </p:blipFill>
        <p:spPr>
          <a:xfrm>
            <a:off x="4829040" y="2187720"/>
            <a:ext cx="2598840" cy="2598480"/>
          </a:xfrm>
          <a:prstGeom prst="rect">
            <a:avLst/>
          </a:prstGeom>
          <a:ln w="0">
            <a:noFill/>
          </a:ln>
        </p:spPr>
      </p:pic>
      <p:sp>
        <p:nvSpPr>
          <p:cNvPr id="235" name="文本框 3"/>
          <p:cNvSpPr/>
          <p:nvPr/>
        </p:nvSpPr>
        <p:spPr>
          <a:xfrm>
            <a:off x="5427720" y="49752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d5070"/>
                </a:solidFill>
                <a:latin typeface="等线"/>
                <a:ea typeface="腾祥铁山楷书简"/>
              </a:rPr>
              <a:t>个人微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5"/>
          <p:cNvSpPr/>
          <p:nvPr/>
        </p:nvSpPr>
        <p:spPr>
          <a:xfrm>
            <a:off x="1401840" y="2092320"/>
            <a:ext cx="2787480" cy="2789280"/>
          </a:xfrm>
          <a:prstGeom prst="rect">
            <a:avLst/>
          </a:prstGeom>
          <a:solidFill>
            <a:srgbClr val="2c3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图片 7" descr=""/>
          <p:cNvPicPr/>
          <p:nvPr/>
        </p:nvPicPr>
        <p:blipFill>
          <a:blip r:embed="rId4"/>
          <a:srcRect l="5836" t="5836" r="5836" b="5836"/>
          <a:stretch/>
        </p:blipFill>
        <p:spPr>
          <a:xfrm>
            <a:off x="1495440" y="2187720"/>
            <a:ext cx="2598840" cy="2598480"/>
          </a:xfrm>
          <a:prstGeom prst="rect">
            <a:avLst/>
          </a:prstGeom>
          <a:ln w="0">
            <a:noFill/>
          </a:ln>
        </p:spPr>
      </p:pic>
      <p:sp>
        <p:nvSpPr>
          <p:cNvPr id="238" name="文本框 6"/>
          <p:cNvSpPr/>
          <p:nvPr/>
        </p:nvSpPr>
        <p:spPr>
          <a:xfrm>
            <a:off x="2247840" y="49752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d5070"/>
                </a:solidFill>
                <a:latin typeface="等线"/>
                <a:ea typeface="腾祥铁山楷书简"/>
              </a:rPr>
              <a:t>公众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9"/>
          <p:cNvSpPr/>
          <p:nvPr/>
        </p:nvSpPr>
        <p:spPr>
          <a:xfrm>
            <a:off x="8066160" y="2092320"/>
            <a:ext cx="2789280" cy="2789280"/>
          </a:xfrm>
          <a:prstGeom prst="rect">
            <a:avLst/>
          </a:prstGeom>
          <a:solidFill>
            <a:srgbClr val="2c3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图片 10" descr=""/>
          <p:cNvPicPr/>
          <p:nvPr/>
        </p:nvPicPr>
        <p:blipFill>
          <a:blip r:embed="rId5"/>
          <a:srcRect l="5999" t="6170" r="6124" b="5960"/>
          <a:stretch/>
        </p:blipFill>
        <p:spPr>
          <a:xfrm>
            <a:off x="8161200" y="2187720"/>
            <a:ext cx="2598840" cy="2598480"/>
          </a:xfrm>
          <a:prstGeom prst="rect">
            <a:avLst/>
          </a:prstGeom>
          <a:ln w="0">
            <a:noFill/>
          </a:ln>
        </p:spPr>
      </p:pic>
      <p:sp>
        <p:nvSpPr>
          <p:cNvPr id="241" name="文本框 9"/>
          <p:cNvSpPr/>
          <p:nvPr/>
        </p:nvSpPr>
        <p:spPr>
          <a:xfrm>
            <a:off x="8760600" y="49752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d5070"/>
                </a:solidFill>
                <a:latin typeface="等线"/>
                <a:ea typeface="腾祥铁山楷书简"/>
              </a:rPr>
              <a:t>个人微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文本框 799"/>
          <p:cNvSpPr/>
          <p:nvPr/>
        </p:nvSpPr>
        <p:spPr>
          <a:xfrm>
            <a:off x="3324240" y="208404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d5070"/>
                </a:solidFill>
                <a:latin typeface="李旭科书法"/>
                <a:ea typeface="李旭科书法"/>
              </a:rPr>
              <a:t>公司年终汇报总结模板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文本框 10444"/>
          <p:cNvSpPr/>
          <p:nvPr/>
        </p:nvSpPr>
        <p:spPr>
          <a:xfrm>
            <a:off x="4435200" y="3982320"/>
            <a:ext cx="332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070"/>
                </a:solidFill>
                <a:latin typeface="李旭科书法"/>
                <a:ea typeface="李旭科书法"/>
              </a:rPr>
              <a:t>ppt.downhot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307440" y="318960"/>
            <a:ext cx="6432840" cy="5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6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d5070"/>
                </a:solidFill>
                <a:latin typeface="李旭科书法"/>
                <a:ea typeface="李旭科书法"/>
              </a:rPr>
              <a:t>请在此处添加标题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346" name="组合 2"/>
          <p:cNvGrpSpPr/>
          <p:nvPr/>
        </p:nvGrpSpPr>
        <p:grpSpPr>
          <a:xfrm>
            <a:off x="5451480" y="2832120"/>
            <a:ext cx="1434600" cy="1488960"/>
            <a:chOff x="5451480" y="2832120"/>
            <a:chExt cx="1434600" cy="1488960"/>
          </a:xfrm>
        </p:grpSpPr>
        <p:sp>
          <p:nvSpPr>
            <p:cNvPr id="347" name="文本框 3"/>
            <p:cNvSpPr/>
            <p:nvPr/>
          </p:nvSpPr>
          <p:spPr>
            <a:xfrm>
              <a:off x="5451480" y="2990880"/>
              <a:ext cx="1254240" cy="1330200"/>
            </a:xfrm>
            <a:custGeom>
              <a:avLst/>
              <a:gdLst>
                <a:gd name="textAreaLeft" fmla="*/ 0 w 1254240"/>
                <a:gd name="textAreaRight" fmla="*/ 1254240 w 125424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45878" h="896989">
                  <a:moveTo>
                    <a:pt x="0" y="0"/>
                  </a:moveTo>
                  <a:lnTo>
                    <a:pt x="145703" y="0"/>
                  </a:lnTo>
                  <a:lnTo>
                    <a:pt x="282810" y="448159"/>
                  </a:lnTo>
                  <a:cubicBezTo>
                    <a:pt x="289632" y="470260"/>
                    <a:pt x="293861" y="491133"/>
                    <a:pt x="295499" y="510779"/>
                  </a:cubicBezTo>
                  <a:lnTo>
                    <a:pt x="297954" y="510779"/>
                  </a:lnTo>
                  <a:cubicBezTo>
                    <a:pt x="300137" y="490588"/>
                    <a:pt x="304775" y="469169"/>
                    <a:pt x="311870" y="446522"/>
                  </a:cubicBezTo>
                  <a:lnTo>
                    <a:pt x="448978" y="0"/>
                  </a:lnTo>
                  <a:lnTo>
                    <a:pt x="590178" y="0"/>
                  </a:lnTo>
                  <a:lnTo>
                    <a:pt x="490444" y="287153"/>
                  </a:lnTo>
                  <a:lnTo>
                    <a:pt x="562096" y="253553"/>
                  </a:lnTo>
                  <a:cubicBezTo>
                    <a:pt x="591803" y="245402"/>
                    <a:pt x="625142" y="241326"/>
                    <a:pt x="662113" y="241326"/>
                  </a:cubicBezTo>
                  <a:cubicBezTo>
                    <a:pt x="724050" y="241326"/>
                    <a:pt x="776028" y="249375"/>
                    <a:pt x="818048" y="265474"/>
                  </a:cubicBezTo>
                  <a:lnTo>
                    <a:pt x="818048" y="392350"/>
                  </a:lnTo>
                  <a:cubicBezTo>
                    <a:pt x="775483" y="363427"/>
                    <a:pt x="725687" y="348966"/>
                    <a:pt x="668661" y="348966"/>
                  </a:cubicBezTo>
                  <a:cubicBezTo>
                    <a:pt x="635373" y="348966"/>
                    <a:pt x="608770" y="355037"/>
                    <a:pt x="588852" y="367179"/>
                  </a:cubicBezTo>
                  <a:cubicBezTo>
                    <a:pt x="568934" y="379321"/>
                    <a:pt x="558975" y="395624"/>
                    <a:pt x="558975" y="416088"/>
                  </a:cubicBezTo>
                  <a:cubicBezTo>
                    <a:pt x="558975" y="432459"/>
                    <a:pt x="565796" y="447534"/>
                    <a:pt x="579439" y="461313"/>
                  </a:cubicBezTo>
                  <a:cubicBezTo>
                    <a:pt x="593081" y="475092"/>
                    <a:pt x="626779" y="493714"/>
                    <a:pt x="680530" y="517179"/>
                  </a:cubicBezTo>
                  <a:cubicBezTo>
                    <a:pt x="743559" y="544192"/>
                    <a:pt x="786874" y="572705"/>
                    <a:pt x="810476" y="602718"/>
                  </a:cubicBezTo>
                  <a:cubicBezTo>
                    <a:pt x="834078" y="632732"/>
                    <a:pt x="845878" y="668475"/>
                    <a:pt x="845878" y="709949"/>
                  </a:cubicBezTo>
                  <a:cubicBezTo>
                    <a:pt x="845878" y="770795"/>
                    <a:pt x="824323" y="817180"/>
                    <a:pt x="781213" y="849103"/>
                  </a:cubicBezTo>
                  <a:cubicBezTo>
                    <a:pt x="738102" y="881027"/>
                    <a:pt x="676847" y="896989"/>
                    <a:pt x="597447" y="896989"/>
                  </a:cubicBezTo>
                  <a:cubicBezTo>
                    <a:pt x="524869" y="896989"/>
                    <a:pt x="465387" y="885256"/>
                    <a:pt x="419002" y="861791"/>
                  </a:cubicBezTo>
                  <a:lnTo>
                    <a:pt x="419002" y="726320"/>
                  </a:lnTo>
                  <a:cubicBezTo>
                    <a:pt x="470025" y="768612"/>
                    <a:pt x="528006" y="789758"/>
                    <a:pt x="592945" y="789758"/>
                  </a:cubicBezTo>
                  <a:cubicBezTo>
                    <a:pt x="629780" y="789758"/>
                    <a:pt x="657474" y="783414"/>
                    <a:pt x="676028" y="770727"/>
                  </a:cubicBezTo>
                  <a:cubicBezTo>
                    <a:pt x="694582" y="758039"/>
                    <a:pt x="703859" y="741736"/>
                    <a:pt x="703859" y="721818"/>
                  </a:cubicBezTo>
                  <a:cubicBezTo>
                    <a:pt x="703859" y="704628"/>
                    <a:pt x="696492" y="688394"/>
                    <a:pt x="681758" y="673114"/>
                  </a:cubicBezTo>
                  <a:cubicBezTo>
                    <a:pt x="667024" y="657834"/>
                    <a:pt x="628143" y="637098"/>
                    <a:pt x="565114" y="610904"/>
                  </a:cubicBezTo>
                  <a:cubicBezTo>
                    <a:pt x="490830" y="579389"/>
                    <a:pt x="444403" y="537132"/>
                    <a:pt x="425832" y="484130"/>
                  </a:cubicBezTo>
                  <a:lnTo>
                    <a:pt x="424612" y="476696"/>
                  </a:lnTo>
                  <a:lnTo>
                    <a:pt x="369987" y="633971"/>
                  </a:lnTo>
                  <a:lnTo>
                    <a:pt x="217326" y="633971"/>
                  </a:lnTo>
                  <a:close/>
                </a:path>
              </a:pathLst>
            </a:custGeom>
            <a:solidFill>
              <a:srgbClr val="2c3c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直接连接符 4"/>
            <p:cNvSpPr/>
            <p:nvPr/>
          </p:nvSpPr>
          <p:spPr>
            <a:xfrm flipH="1">
              <a:off x="6524280" y="2832120"/>
              <a:ext cx="361800" cy="361800"/>
            </a:xfrm>
            <a:prstGeom prst="line">
              <a:avLst/>
            </a:prstGeom>
            <a:ln cap="rnd" w="12600">
              <a:solidFill>
                <a:srgbClr val="2c3c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直接连接符 5"/>
            <p:cNvSpPr/>
            <p:nvPr/>
          </p:nvSpPr>
          <p:spPr>
            <a:xfrm flipH="1">
              <a:off x="5490720" y="3959280"/>
              <a:ext cx="361800" cy="361800"/>
            </a:xfrm>
            <a:prstGeom prst="line">
              <a:avLst/>
            </a:prstGeom>
            <a:ln cap="rnd" w="12600">
              <a:solidFill>
                <a:srgbClr val="2c3c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Freeform 192"/>
          <p:cNvSpPr/>
          <p:nvPr/>
        </p:nvSpPr>
        <p:spPr>
          <a:xfrm flipH="1" flipV="1" rot="10800000">
            <a:off x="1651680" y="1852560"/>
            <a:ext cx="3485880" cy="581040"/>
          </a:xfrm>
          <a:custGeom>
            <a:avLst/>
            <a:gdLst>
              <a:gd name="textAreaLeft" fmla="*/ -360 w 3485880"/>
              <a:gd name="textAreaRight" fmla="*/ 3485880 w 3485880"/>
              <a:gd name="textAreaTop" fmla="*/ 360 h 581040"/>
              <a:gd name="textAreaBottom" fmla="*/ 581760 h 581040"/>
            </a:gdLst>
            <a:ahLst/>
            <a:rect l="textAreaLeft" t="textAreaTop" r="textAreaRight" b="textAreaBottom"/>
            <a:pathLst>
              <a:path w="478" h="77">
                <a:moveTo>
                  <a:pt x="478" y="13"/>
                </a:moveTo>
                <a:cubicBezTo>
                  <a:pt x="472" y="13"/>
                  <a:pt x="468" y="13"/>
                  <a:pt x="462" y="12"/>
                </a:cubicBezTo>
                <a:cubicBezTo>
                  <a:pt x="461" y="11"/>
                  <a:pt x="465" y="12"/>
                  <a:pt x="464" y="11"/>
                </a:cubicBezTo>
                <a:cubicBezTo>
                  <a:pt x="434" y="9"/>
                  <a:pt x="403" y="9"/>
                  <a:pt x="373" y="7"/>
                </a:cubicBezTo>
                <a:cubicBezTo>
                  <a:pt x="402" y="6"/>
                  <a:pt x="431" y="10"/>
                  <a:pt x="460" y="10"/>
                </a:cubicBezTo>
                <a:cubicBezTo>
                  <a:pt x="436" y="6"/>
                  <a:pt x="407" y="7"/>
                  <a:pt x="381" y="5"/>
                </a:cubicBezTo>
                <a:cubicBezTo>
                  <a:pt x="288" y="3"/>
                  <a:pt x="288" y="3"/>
                  <a:pt x="288" y="3"/>
                </a:cubicBezTo>
                <a:cubicBezTo>
                  <a:pt x="222" y="3"/>
                  <a:pt x="222" y="3"/>
                  <a:pt x="222" y="3"/>
                </a:cubicBezTo>
                <a:cubicBezTo>
                  <a:pt x="130" y="4"/>
                  <a:pt x="130" y="4"/>
                  <a:pt x="130" y="4"/>
                </a:cubicBezTo>
                <a:cubicBezTo>
                  <a:pt x="130" y="3"/>
                  <a:pt x="130" y="3"/>
                  <a:pt x="130" y="3"/>
                </a:cubicBezTo>
                <a:cubicBezTo>
                  <a:pt x="127" y="2"/>
                  <a:pt x="125" y="3"/>
                  <a:pt x="123" y="3"/>
                </a:cubicBezTo>
                <a:cubicBezTo>
                  <a:pt x="124" y="3"/>
                  <a:pt x="125" y="3"/>
                  <a:pt x="125" y="4"/>
                </a:cubicBezTo>
                <a:cubicBezTo>
                  <a:pt x="122" y="4"/>
                  <a:pt x="118" y="3"/>
                  <a:pt x="115" y="4"/>
                </a:cubicBezTo>
                <a:cubicBezTo>
                  <a:pt x="112" y="3"/>
                  <a:pt x="107" y="4"/>
                  <a:pt x="102" y="3"/>
                </a:cubicBezTo>
                <a:cubicBezTo>
                  <a:pt x="100" y="2"/>
                  <a:pt x="98" y="2"/>
                  <a:pt x="95" y="2"/>
                </a:cubicBezTo>
                <a:cubicBezTo>
                  <a:pt x="70" y="2"/>
                  <a:pt x="50" y="0"/>
                  <a:pt x="24" y="1"/>
                </a:cubicBezTo>
                <a:cubicBezTo>
                  <a:pt x="18" y="2"/>
                  <a:pt x="10" y="1"/>
                  <a:pt x="6" y="4"/>
                </a:cubicBezTo>
                <a:cubicBezTo>
                  <a:pt x="6" y="5"/>
                  <a:pt x="8" y="5"/>
                  <a:pt x="8" y="5"/>
                </a:cubicBezTo>
                <a:cubicBezTo>
                  <a:pt x="7" y="5"/>
                  <a:pt x="6" y="6"/>
                  <a:pt x="5" y="5"/>
                </a:cubicBezTo>
                <a:cubicBezTo>
                  <a:pt x="5" y="5"/>
                  <a:pt x="5" y="5"/>
                  <a:pt x="5" y="5"/>
                </a:cubicBezTo>
                <a:cubicBezTo>
                  <a:pt x="0" y="6"/>
                  <a:pt x="0" y="6"/>
                  <a:pt x="0" y="6"/>
                </a:cubicBezTo>
                <a:cubicBezTo>
                  <a:pt x="2" y="7"/>
                  <a:pt x="2" y="7"/>
                  <a:pt x="2" y="7"/>
                </a:cubicBezTo>
                <a:cubicBezTo>
                  <a:pt x="2" y="7"/>
                  <a:pt x="2" y="7"/>
                  <a:pt x="2" y="7"/>
                </a:cubicBezTo>
                <a:cubicBezTo>
                  <a:pt x="4" y="8"/>
                  <a:pt x="4" y="8"/>
                  <a:pt x="4" y="8"/>
                </a:cubicBezTo>
                <a:cubicBezTo>
                  <a:pt x="3" y="8"/>
                  <a:pt x="1" y="9"/>
                  <a:pt x="0" y="9"/>
                </a:cubicBezTo>
                <a:cubicBezTo>
                  <a:pt x="0" y="11"/>
                  <a:pt x="0" y="13"/>
                  <a:pt x="3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5"/>
                  <a:pt x="2" y="15"/>
                  <a:pt x="3" y="15"/>
                </a:cubicBezTo>
                <a:cubicBezTo>
                  <a:pt x="1" y="17"/>
                  <a:pt x="1" y="17"/>
                  <a:pt x="1" y="17"/>
                </a:cubicBezTo>
                <a:cubicBezTo>
                  <a:pt x="2" y="17"/>
                  <a:pt x="2" y="17"/>
                  <a:pt x="2" y="17"/>
                </a:cubicBezTo>
                <a:cubicBezTo>
                  <a:pt x="1" y="18"/>
                  <a:pt x="1" y="18"/>
                  <a:pt x="1" y="18"/>
                </a:cubicBezTo>
                <a:cubicBezTo>
                  <a:pt x="3" y="18"/>
                  <a:pt x="1" y="19"/>
                  <a:pt x="1" y="19"/>
                </a:cubicBezTo>
                <a:cubicBezTo>
                  <a:pt x="4" y="20"/>
                  <a:pt x="4" y="20"/>
                  <a:pt x="4" y="20"/>
                </a:cubicBezTo>
                <a:cubicBezTo>
                  <a:pt x="5" y="21"/>
                  <a:pt x="2" y="20"/>
                  <a:pt x="2" y="20"/>
                </a:cubicBezTo>
                <a:cubicBezTo>
                  <a:pt x="3" y="21"/>
                  <a:pt x="5" y="21"/>
                  <a:pt x="6" y="21"/>
                </a:cubicBezTo>
                <a:cubicBezTo>
                  <a:pt x="5" y="22"/>
                  <a:pt x="3" y="21"/>
                  <a:pt x="1" y="21"/>
                </a:cubicBezTo>
                <a:cubicBezTo>
                  <a:pt x="1" y="22"/>
                  <a:pt x="1" y="22"/>
                  <a:pt x="1" y="22"/>
                </a:cubicBezTo>
                <a:cubicBezTo>
                  <a:pt x="2" y="24"/>
                  <a:pt x="6" y="24"/>
                  <a:pt x="10" y="24"/>
                </a:cubicBezTo>
                <a:cubicBezTo>
                  <a:pt x="7" y="25"/>
                  <a:pt x="5" y="25"/>
                  <a:pt x="2" y="25"/>
                </a:cubicBezTo>
                <a:cubicBezTo>
                  <a:pt x="2" y="26"/>
                  <a:pt x="2" y="26"/>
                  <a:pt x="2" y="26"/>
                </a:cubicBezTo>
                <a:cubicBezTo>
                  <a:pt x="3" y="27"/>
                  <a:pt x="5" y="26"/>
                  <a:pt x="5" y="27"/>
                </a:cubicBezTo>
                <a:cubicBezTo>
                  <a:pt x="10" y="27"/>
                  <a:pt x="10" y="27"/>
                  <a:pt x="10" y="27"/>
                </a:cubicBezTo>
                <a:cubicBezTo>
                  <a:pt x="9" y="27"/>
                  <a:pt x="9" y="27"/>
                  <a:pt x="9" y="27"/>
                </a:cubicBezTo>
                <a:cubicBezTo>
                  <a:pt x="9" y="26"/>
                  <a:pt x="10" y="26"/>
                  <a:pt x="11" y="26"/>
                </a:cubicBezTo>
                <a:cubicBezTo>
                  <a:pt x="15" y="26"/>
                  <a:pt x="12" y="30"/>
                  <a:pt x="14" y="30"/>
                </a:cubicBezTo>
                <a:cubicBezTo>
                  <a:pt x="12" y="32"/>
                  <a:pt x="9" y="30"/>
                  <a:pt x="6" y="31"/>
                </a:cubicBezTo>
                <a:cubicBezTo>
                  <a:pt x="9" y="32"/>
                  <a:pt x="12" y="31"/>
                  <a:pt x="16" y="31"/>
                </a:cubicBezTo>
                <a:cubicBezTo>
                  <a:pt x="17" y="34"/>
                  <a:pt x="17" y="34"/>
                  <a:pt x="17" y="34"/>
                </a:cubicBezTo>
                <a:cubicBezTo>
                  <a:pt x="14" y="35"/>
                  <a:pt x="14" y="35"/>
                  <a:pt x="14" y="35"/>
                </a:cubicBezTo>
                <a:cubicBezTo>
                  <a:pt x="21" y="35"/>
                  <a:pt x="21" y="35"/>
                  <a:pt x="21" y="35"/>
                </a:cubicBezTo>
                <a:cubicBezTo>
                  <a:pt x="22" y="35"/>
                  <a:pt x="23" y="35"/>
                  <a:pt x="23" y="36"/>
                </a:cubicBezTo>
                <a:cubicBezTo>
                  <a:pt x="23" y="37"/>
                  <a:pt x="22" y="37"/>
                  <a:pt x="21" y="37"/>
                </a:cubicBezTo>
                <a:cubicBezTo>
                  <a:pt x="18" y="41"/>
                  <a:pt x="11" y="37"/>
                  <a:pt x="6" y="38"/>
                </a:cubicBezTo>
                <a:cubicBezTo>
                  <a:pt x="7" y="39"/>
                  <a:pt x="10" y="39"/>
                  <a:pt x="12" y="40"/>
                </a:cubicBezTo>
                <a:cubicBezTo>
                  <a:pt x="16" y="39"/>
                  <a:pt x="18" y="38"/>
                  <a:pt x="21" y="39"/>
                </a:cubicBezTo>
                <a:cubicBezTo>
                  <a:pt x="19" y="40"/>
                  <a:pt x="19" y="40"/>
                  <a:pt x="19" y="40"/>
                </a:cubicBezTo>
                <a:cubicBezTo>
                  <a:pt x="20" y="40"/>
                  <a:pt x="20" y="40"/>
                  <a:pt x="20" y="40"/>
                </a:cubicBezTo>
                <a:cubicBezTo>
                  <a:pt x="20" y="40"/>
                  <a:pt x="21" y="40"/>
                  <a:pt x="21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9" y="41"/>
                  <a:pt x="19" y="41"/>
                  <a:pt x="19" y="41"/>
                </a:cubicBezTo>
                <a:cubicBezTo>
                  <a:pt x="20" y="41"/>
                  <a:pt x="21" y="42"/>
                  <a:pt x="22" y="41"/>
                </a:cubicBezTo>
                <a:cubicBezTo>
                  <a:pt x="22" y="43"/>
                  <a:pt x="22" y="43"/>
                  <a:pt x="22" y="43"/>
                </a:cubicBezTo>
                <a:cubicBezTo>
                  <a:pt x="20" y="44"/>
                  <a:pt x="22" y="46"/>
                  <a:pt x="19" y="46"/>
                </a:cubicBezTo>
                <a:cubicBezTo>
                  <a:pt x="20" y="46"/>
                  <a:pt x="20" y="46"/>
                  <a:pt x="20" y="46"/>
                </a:cubicBezTo>
                <a:cubicBezTo>
                  <a:pt x="16" y="47"/>
                  <a:pt x="12" y="44"/>
                  <a:pt x="9" y="46"/>
                </a:cubicBezTo>
                <a:cubicBezTo>
                  <a:pt x="13" y="47"/>
                  <a:pt x="19" y="46"/>
                  <a:pt x="23" y="48"/>
                </a:cubicBezTo>
                <a:cubicBezTo>
                  <a:pt x="22" y="49"/>
                  <a:pt x="22" y="49"/>
                  <a:pt x="22" y="49"/>
                </a:cubicBezTo>
                <a:cubicBezTo>
                  <a:pt x="21" y="48"/>
                  <a:pt x="21" y="48"/>
                  <a:pt x="21" y="48"/>
                </a:cubicBezTo>
                <a:cubicBezTo>
                  <a:pt x="19" y="48"/>
                  <a:pt x="17" y="49"/>
                  <a:pt x="16" y="49"/>
                </a:cubicBezTo>
                <a:cubicBezTo>
                  <a:pt x="17" y="49"/>
                  <a:pt x="19" y="49"/>
                  <a:pt x="20" y="49"/>
                </a:cubicBezTo>
                <a:cubicBezTo>
                  <a:pt x="22" y="50"/>
                  <a:pt x="25" y="51"/>
                  <a:pt x="24" y="53"/>
                </a:cubicBezTo>
                <a:cubicBezTo>
                  <a:pt x="19" y="53"/>
                  <a:pt x="19" y="53"/>
                  <a:pt x="19" y="53"/>
                </a:cubicBezTo>
                <a:cubicBezTo>
                  <a:pt x="26" y="55"/>
                  <a:pt x="26" y="55"/>
                  <a:pt x="26" y="55"/>
                </a:cubicBezTo>
                <a:cubicBezTo>
                  <a:pt x="25" y="57"/>
                  <a:pt x="29" y="58"/>
                  <a:pt x="30" y="59"/>
                </a:cubicBezTo>
                <a:cubicBezTo>
                  <a:pt x="29" y="60"/>
                  <a:pt x="27" y="59"/>
                  <a:pt x="26" y="60"/>
                </a:cubicBezTo>
                <a:cubicBezTo>
                  <a:pt x="22" y="61"/>
                  <a:pt x="28" y="62"/>
                  <a:pt x="26" y="64"/>
                </a:cubicBezTo>
                <a:cubicBezTo>
                  <a:pt x="27" y="64"/>
                  <a:pt x="29" y="64"/>
                  <a:pt x="30" y="65"/>
                </a:cubicBezTo>
                <a:cubicBezTo>
                  <a:pt x="30" y="65"/>
                  <a:pt x="29" y="66"/>
                  <a:pt x="29" y="66"/>
                </a:cubicBezTo>
                <a:cubicBezTo>
                  <a:pt x="25" y="64"/>
                  <a:pt x="21" y="63"/>
                  <a:pt x="17" y="63"/>
                </a:cubicBezTo>
                <a:cubicBezTo>
                  <a:pt x="22" y="66"/>
                  <a:pt x="22" y="66"/>
                  <a:pt x="22" y="66"/>
                </a:cubicBezTo>
                <a:cubicBezTo>
                  <a:pt x="30" y="66"/>
                  <a:pt x="36" y="70"/>
                  <a:pt x="44" y="70"/>
                </a:cubicBezTo>
                <a:cubicBezTo>
                  <a:pt x="51" y="73"/>
                  <a:pt x="61" y="73"/>
                  <a:pt x="70" y="75"/>
                </a:cubicBezTo>
                <a:cubicBezTo>
                  <a:pt x="82" y="75"/>
                  <a:pt x="93" y="77"/>
                  <a:pt x="104" y="77"/>
                </a:cubicBezTo>
                <a:cubicBezTo>
                  <a:pt x="123" y="76"/>
                  <a:pt x="142" y="76"/>
                  <a:pt x="161" y="76"/>
                </a:cubicBezTo>
                <a:cubicBezTo>
                  <a:pt x="258" y="76"/>
                  <a:pt x="258" y="76"/>
                  <a:pt x="258" y="76"/>
                </a:cubicBezTo>
                <a:cubicBezTo>
                  <a:pt x="286" y="75"/>
                  <a:pt x="315" y="77"/>
                  <a:pt x="341" y="75"/>
                </a:cubicBezTo>
                <a:cubicBezTo>
                  <a:pt x="336" y="75"/>
                  <a:pt x="331" y="74"/>
                  <a:pt x="326" y="75"/>
                </a:cubicBezTo>
                <a:cubicBezTo>
                  <a:pt x="323" y="75"/>
                  <a:pt x="321" y="74"/>
                  <a:pt x="319" y="75"/>
                </a:cubicBezTo>
                <a:cubicBezTo>
                  <a:pt x="316" y="75"/>
                  <a:pt x="313" y="75"/>
                  <a:pt x="311" y="74"/>
                </a:cubicBezTo>
                <a:cubicBezTo>
                  <a:pt x="280" y="74"/>
                  <a:pt x="280" y="74"/>
                  <a:pt x="280" y="74"/>
                </a:cubicBezTo>
                <a:cubicBezTo>
                  <a:pt x="279" y="74"/>
                  <a:pt x="279" y="74"/>
                  <a:pt x="279" y="74"/>
                </a:cubicBezTo>
                <a:cubicBezTo>
                  <a:pt x="276" y="74"/>
                  <a:pt x="272" y="75"/>
                  <a:pt x="270" y="74"/>
                </a:cubicBezTo>
                <a:cubicBezTo>
                  <a:pt x="271" y="73"/>
                  <a:pt x="271" y="73"/>
                  <a:pt x="271" y="73"/>
                </a:cubicBezTo>
                <a:cubicBezTo>
                  <a:pt x="401" y="73"/>
                  <a:pt x="401" y="73"/>
                  <a:pt x="401" y="73"/>
                </a:cubicBezTo>
                <a:cubicBezTo>
                  <a:pt x="415" y="72"/>
                  <a:pt x="415" y="72"/>
                  <a:pt x="415" y="72"/>
                </a:cubicBezTo>
                <a:cubicBezTo>
                  <a:pt x="384" y="72"/>
                  <a:pt x="352" y="72"/>
                  <a:pt x="320" y="71"/>
                </a:cubicBezTo>
                <a:cubicBezTo>
                  <a:pt x="309" y="71"/>
                  <a:pt x="297" y="72"/>
                  <a:pt x="286" y="70"/>
                </a:cubicBezTo>
                <a:cubicBezTo>
                  <a:pt x="312" y="70"/>
                  <a:pt x="341" y="71"/>
                  <a:pt x="368" y="70"/>
                </a:cubicBezTo>
                <a:cubicBezTo>
                  <a:pt x="368" y="70"/>
                  <a:pt x="368" y="70"/>
                  <a:pt x="368" y="70"/>
                </a:cubicBezTo>
                <a:cubicBezTo>
                  <a:pt x="369" y="69"/>
                  <a:pt x="369" y="69"/>
                  <a:pt x="369" y="69"/>
                </a:cubicBezTo>
                <a:cubicBezTo>
                  <a:pt x="370" y="70"/>
                  <a:pt x="371" y="69"/>
                  <a:pt x="372" y="69"/>
                </a:cubicBezTo>
                <a:cubicBezTo>
                  <a:pt x="376" y="69"/>
                  <a:pt x="383" y="71"/>
                  <a:pt x="387" y="69"/>
                </a:cubicBezTo>
                <a:cubicBezTo>
                  <a:pt x="373" y="68"/>
                  <a:pt x="373" y="68"/>
                  <a:pt x="373" y="68"/>
                </a:cubicBezTo>
                <a:cubicBezTo>
                  <a:pt x="372" y="68"/>
                  <a:pt x="372" y="68"/>
                  <a:pt x="372" y="68"/>
                </a:cubicBezTo>
                <a:cubicBezTo>
                  <a:pt x="374" y="67"/>
                  <a:pt x="374" y="67"/>
                  <a:pt x="374" y="67"/>
                </a:cubicBezTo>
                <a:cubicBezTo>
                  <a:pt x="371" y="67"/>
                  <a:pt x="371" y="67"/>
                  <a:pt x="371" y="67"/>
                </a:cubicBezTo>
                <a:cubicBezTo>
                  <a:pt x="371" y="67"/>
                  <a:pt x="370" y="67"/>
                  <a:pt x="370" y="66"/>
                </a:cubicBezTo>
                <a:cubicBezTo>
                  <a:pt x="371" y="66"/>
                  <a:pt x="373" y="65"/>
                  <a:pt x="374" y="66"/>
                </a:cubicBezTo>
                <a:cubicBezTo>
                  <a:pt x="374" y="66"/>
                  <a:pt x="372" y="66"/>
                  <a:pt x="372" y="66"/>
                </a:cubicBezTo>
                <a:cubicBezTo>
                  <a:pt x="378" y="66"/>
                  <a:pt x="387" y="67"/>
                  <a:pt x="395" y="67"/>
                </a:cubicBezTo>
                <a:cubicBezTo>
                  <a:pt x="394" y="67"/>
                  <a:pt x="394" y="67"/>
                  <a:pt x="394" y="67"/>
                </a:cubicBezTo>
                <a:cubicBezTo>
                  <a:pt x="398" y="68"/>
                  <a:pt x="405" y="68"/>
                  <a:pt x="408" y="67"/>
                </a:cubicBezTo>
                <a:cubicBezTo>
                  <a:pt x="410" y="66"/>
                  <a:pt x="410" y="67"/>
                  <a:pt x="410" y="67"/>
                </a:cubicBezTo>
                <a:cubicBezTo>
                  <a:pt x="412" y="68"/>
                  <a:pt x="411" y="67"/>
                  <a:pt x="412" y="66"/>
                </a:cubicBezTo>
                <a:cubicBezTo>
                  <a:pt x="429" y="66"/>
                  <a:pt x="429" y="66"/>
                  <a:pt x="429" y="66"/>
                </a:cubicBezTo>
                <a:cubicBezTo>
                  <a:pt x="429" y="67"/>
                  <a:pt x="429" y="67"/>
                  <a:pt x="429" y="67"/>
                </a:cubicBezTo>
                <a:cubicBezTo>
                  <a:pt x="424" y="67"/>
                  <a:pt x="419" y="67"/>
                  <a:pt x="414" y="67"/>
                </a:cubicBezTo>
                <a:cubicBezTo>
                  <a:pt x="421" y="68"/>
                  <a:pt x="431" y="68"/>
                  <a:pt x="436" y="67"/>
                </a:cubicBezTo>
                <a:cubicBezTo>
                  <a:pt x="434" y="67"/>
                  <a:pt x="431" y="67"/>
                  <a:pt x="429" y="66"/>
                </a:cubicBezTo>
                <a:cubicBezTo>
                  <a:pt x="440" y="66"/>
                  <a:pt x="453" y="66"/>
                  <a:pt x="465" y="66"/>
                </a:cubicBezTo>
                <a:cubicBezTo>
                  <a:pt x="463" y="65"/>
                  <a:pt x="459" y="66"/>
                  <a:pt x="456" y="65"/>
                </a:cubicBezTo>
                <a:cubicBezTo>
                  <a:pt x="457" y="65"/>
                  <a:pt x="457" y="65"/>
                  <a:pt x="457" y="65"/>
                </a:cubicBezTo>
                <a:cubicBezTo>
                  <a:pt x="455" y="66"/>
                  <a:pt x="453" y="64"/>
                  <a:pt x="451" y="65"/>
                </a:cubicBezTo>
                <a:cubicBezTo>
                  <a:pt x="441" y="65"/>
                  <a:pt x="428" y="65"/>
                  <a:pt x="415" y="65"/>
                </a:cubicBezTo>
                <a:cubicBezTo>
                  <a:pt x="414" y="64"/>
                  <a:pt x="414" y="64"/>
                  <a:pt x="414" y="64"/>
                </a:cubicBezTo>
                <a:cubicBezTo>
                  <a:pt x="413" y="64"/>
                  <a:pt x="413" y="65"/>
                  <a:pt x="411" y="65"/>
                </a:cubicBezTo>
                <a:cubicBezTo>
                  <a:pt x="410" y="63"/>
                  <a:pt x="409" y="66"/>
                  <a:pt x="407" y="64"/>
                </a:cubicBezTo>
                <a:cubicBezTo>
                  <a:pt x="407" y="64"/>
                  <a:pt x="407" y="64"/>
                  <a:pt x="407" y="64"/>
                </a:cubicBezTo>
                <a:cubicBezTo>
                  <a:pt x="403" y="65"/>
                  <a:pt x="397" y="65"/>
                  <a:pt x="393" y="64"/>
                </a:cubicBezTo>
                <a:cubicBezTo>
                  <a:pt x="373" y="64"/>
                  <a:pt x="373" y="64"/>
                  <a:pt x="373" y="64"/>
                </a:cubicBezTo>
                <a:cubicBezTo>
                  <a:pt x="371" y="65"/>
                  <a:pt x="367" y="65"/>
                  <a:pt x="365" y="64"/>
                </a:cubicBezTo>
                <a:cubicBezTo>
                  <a:pt x="367" y="64"/>
                  <a:pt x="367" y="64"/>
                  <a:pt x="367" y="64"/>
                </a:cubicBezTo>
                <a:cubicBezTo>
                  <a:pt x="363" y="64"/>
                  <a:pt x="359" y="63"/>
                  <a:pt x="356" y="64"/>
                </a:cubicBezTo>
                <a:cubicBezTo>
                  <a:pt x="347" y="64"/>
                  <a:pt x="338" y="65"/>
                  <a:pt x="330" y="63"/>
                </a:cubicBezTo>
                <a:cubicBezTo>
                  <a:pt x="344" y="62"/>
                  <a:pt x="354" y="64"/>
                  <a:pt x="368" y="62"/>
                </a:cubicBezTo>
                <a:cubicBezTo>
                  <a:pt x="335" y="62"/>
                  <a:pt x="335" y="62"/>
                  <a:pt x="335" y="62"/>
                </a:cubicBezTo>
                <a:cubicBezTo>
                  <a:pt x="345" y="61"/>
                  <a:pt x="357" y="61"/>
                  <a:pt x="368" y="61"/>
                </a:cubicBezTo>
                <a:cubicBezTo>
                  <a:pt x="369" y="61"/>
                  <a:pt x="369" y="60"/>
                  <a:pt x="370" y="61"/>
                </a:cubicBezTo>
                <a:cubicBezTo>
                  <a:pt x="371" y="59"/>
                  <a:pt x="375" y="60"/>
                  <a:pt x="378" y="60"/>
                </a:cubicBezTo>
                <a:cubicBezTo>
                  <a:pt x="375" y="61"/>
                  <a:pt x="375" y="61"/>
                  <a:pt x="375" y="61"/>
                </a:cubicBezTo>
                <a:cubicBezTo>
                  <a:pt x="382" y="61"/>
                  <a:pt x="391" y="61"/>
                  <a:pt x="399" y="61"/>
                </a:cubicBezTo>
                <a:cubicBezTo>
                  <a:pt x="400" y="60"/>
                  <a:pt x="400" y="60"/>
                  <a:pt x="400" y="60"/>
                </a:cubicBezTo>
                <a:cubicBezTo>
                  <a:pt x="402" y="59"/>
                  <a:pt x="404" y="61"/>
                  <a:pt x="406" y="60"/>
                </a:cubicBezTo>
                <a:cubicBezTo>
                  <a:pt x="406" y="60"/>
                  <a:pt x="406" y="60"/>
                  <a:pt x="406" y="60"/>
                </a:cubicBezTo>
                <a:cubicBezTo>
                  <a:pt x="426" y="61"/>
                  <a:pt x="450" y="60"/>
                  <a:pt x="471" y="60"/>
                </a:cubicBezTo>
                <a:cubicBezTo>
                  <a:pt x="453" y="59"/>
                  <a:pt x="433" y="59"/>
                  <a:pt x="415" y="59"/>
                </a:cubicBezTo>
                <a:cubicBezTo>
                  <a:pt x="415" y="59"/>
                  <a:pt x="415" y="59"/>
                  <a:pt x="415" y="59"/>
                </a:cubicBezTo>
                <a:cubicBezTo>
                  <a:pt x="414" y="59"/>
                  <a:pt x="414" y="59"/>
                  <a:pt x="414" y="59"/>
                </a:cubicBezTo>
                <a:cubicBezTo>
                  <a:pt x="410" y="57"/>
                  <a:pt x="407" y="61"/>
                  <a:pt x="403" y="59"/>
                </a:cubicBezTo>
                <a:cubicBezTo>
                  <a:pt x="396" y="61"/>
                  <a:pt x="390" y="57"/>
                  <a:pt x="383" y="59"/>
                </a:cubicBezTo>
                <a:cubicBezTo>
                  <a:pt x="381" y="58"/>
                  <a:pt x="381" y="58"/>
                  <a:pt x="381" y="58"/>
                </a:cubicBezTo>
                <a:cubicBezTo>
                  <a:pt x="393" y="57"/>
                  <a:pt x="403" y="59"/>
                  <a:pt x="414" y="58"/>
                </a:cubicBezTo>
                <a:cubicBezTo>
                  <a:pt x="404" y="57"/>
                  <a:pt x="404" y="57"/>
                  <a:pt x="404" y="57"/>
                </a:cubicBezTo>
                <a:cubicBezTo>
                  <a:pt x="403" y="57"/>
                  <a:pt x="399" y="58"/>
                  <a:pt x="399" y="56"/>
                </a:cubicBezTo>
                <a:cubicBezTo>
                  <a:pt x="381" y="55"/>
                  <a:pt x="381" y="55"/>
                  <a:pt x="381" y="55"/>
                </a:cubicBezTo>
                <a:cubicBezTo>
                  <a:pt x="380" y="55"/>
                  <a:pt x="379" y="55"/>
                  <a:pt x="379" y="54"/>
                </a:cubicBezTo>
                <a:cubicBezTo>
                  <a:pt x="380" y="54"/>
                  <a:pt x="381" y="54"/>
                  <a:pt x="382" y="54"/>
                </a:cubicBezTo>
                <a:cubicBezTo>
                  <a:pt x="382" y="54"/>
                  <a:pt x="382" y="54"/>
                  <a:pt x="382" y="54"/>
                </a:cubicBezTo>
                <a:cubicBezTo>
                  <a:pt x="382" y="54"/>
                  <a:pt x="381" y="54"/>
                  <a:pt x="381" y="54"/>
                </a:cubicBezTo>
                <a:cubicBezTo>
                  <a:pt x="383" y="54"/>
                  <a:pt x="383" y="54"/>
                  <a:pt x="383" y="54"/>
                </a:cubicBezTo>
                <a:cubicBezTo>
                  <a:pt x="383" y="54"/>
                  <a:pt x="383" y="54"/>
                  <a:pt x="382" y="54"/>
                </a:cubicBezTo>
                <a:cubicBezTo>
                  <a:pt x="383" y="54"/>
                  <a:pt x="383" y="54"/>
                  <a:pt x="383" y="54"/>
                </a:cubicBezTo>
                <a:cubicBezTo>
                  <a:pt x="384" y="54"/>
                  <a:pt x="387" y="53"/>
                  <a:pt x="388" y="54"/>
                </a:cubicBezTo>
                <a:cubicBezTo>
                  <a:pt x="388" y="54"/>
                  <a:pt x="388" y="54"/>
                  <a:pt x="388" y="54"/>
                </a:cubicBezTo>
                <a:cubicBezTo>
                  <a:pt x="426" y="54"/>
                  <a:pt x="426" y="54"/>
                  <a:pt x="426" y="54"/>
                </a:cubicBezTo>
                <a:cubicBezTo>
                  <a:pt x="425" y="53"/>
                  <a:pt x="425" y="53"/>
                  <a:pt x="425" y="53"/>
                </a:cubicBezTo>
                <a:cubicBezTo>
                  <a:pt x="407" y="52"/>
                  <a:pt x="386" y="52"/>
                  <a:pt x="368" y="51"/>
                </a:cubicBezTo>
                <a:cubicBezTo>
                  <a:pt x="366" y="51"/>
                  <a:pt x="360" y="51"/>
                  <a:pt x="362" y="49"/>
                </a:cubicBezTo>
                <a:cubicBezTo>
                  <a:pt x="364" y="50"/>
                  <a:pt x="365" y="48"/>
                  <a:pt x="367" y="49"/>
                </a:cubicBezTo>
                <a:cubicBezTo>
                  <a:pt x="366" y="49"/>
                  <a:pt x="366" y="49"/>
                  <a:pt x="366" y="49"/>
                </a:cubicBezTo>
                <a:cubicBezTo>
                  <a:pt x="367" y="49"/>
                  <a:pt x="367" y="49"/>
                  <a:pt x="367" y="49"/>
                </a:cubicBezTo>
                <a:cubicBezTo>
                  <a:pt x="367" y="49"/>
                  <a:pt x="367" y="49"/>
                  <a:pt x="367" y="49"/>
                </a:cubicBezTo>
                <a:cubicBezTo>
                  <a:pt x="368" y="49"/>
                  <a:pt x="368" y="49"/>
                  <a:pt x="368" y="49"/>
                </a:cubicBezTo>
                <a:cubicBezTo>
                  <a:pt x="383" y="49"/>
                  <a:pt x="383" y="49"/>
                  <a:pt x="383" y="49"/>
                </a:cubicBezTo>
                <a:cubicBezTo>
                  <a:pt x="387" y="48"/>
                  <a:pt x="387" y="48"/>
                  <a:pt x="387" y="48"/>
                </a:cubicBezTo>
                <a:cubicBezTo>
                  <a:pt x="381" y="48"/>
                  <a:pt x="375" y="48"/>
                  <a:pt x="369" y="48"/>
                </a:cubicBezTo>
                <a:cubicBezTo>
                  <a:pt x="368" y="47"/>
                  <a:pt x="368" y="47"/>
                  <a:pt x="368" y="47"/>
                </a:cubicBezTo>
                <a:cubicBezTo>
                  <a:pt x="372" y="46"/>
                  <a:pt x="378" y="47"/>
                  <a:pt x="381" y="46"/>
                </a:cubicBezTo>
                <a:cubicBezTo>
                  <a:pt x="376" y="45"/>
                  <a:pt x="373" y="46"/>
                  <a:pt x="368" y="46"/>
                </a:cubicBezTo>
                <a:cubicBezTo>
                  <a:pt x="368" y="45"/>
                  <a:pt x="368" y="45"/>
                  <a:pt x="368" y="45"/>
                </a:cubicBezTo>
                <a:cubicBezTo>
                  <a:pt x="368" y="45"/>
                  <a:pt x="369" y="45"/>
                  <a:pt x="370" y="45"/>
                </a:cubicBezTo>
                <a:cubicBezTo>
                  <a:pt x="372" y="43"/>
                  <a:pt x="375" y="44"/>
                  <a:pt x="378" y="44"/>
                </a:cubicBezTo>
                <a:cubicBezTo>
                  <a:pt x="382" y="44"/>
                  <a:pt x="385" y="44"/>
                  <a:pt x="388" y="44"/>
                </a:cubicBezTo>
                <a:cubicBezTo>
                  <a:pt x="391" y="43"/>
                  <a:pt x="397" y="44"/>
                  <a:pt x="400" y="44"/>
                </a:cubicBezTo>
                <a:cubicBezTo>
                  <a:pt x="400" y="44"/>
                  <a:pt x="399" y="44"/>
                  <a:pt x="399" y="44"/>
                </a:cubicBezTo>
                <a:cubicBezTo>
                  <a:pt x="400" y="43"/>
                  <a:pt x="400" y="42"/>
                  <a:pt x="402" y="42"/>
                </a:cubicBezTo>
                <a:cubicBezTo>
                  <a:pt x="403" y="42"/>
                  <a:pt x="404" y="42"/>
                  <a:pt x="404" y="43"/>
                </a:cubicBezTo>
                <a:cubicBezTo>
                  <a:pt x="405" y="43"/>
                  <a:pt x="407" y="43"/>
                  <a:pt x="408" y="43"/>
                </a:cubicBezTo>
                <a:cubicBezTo>
                  <a:pt x="408" y="42"/>
                  <a:pt x="408" y="42"/>
                  <a:pt x="408" y="42"/>
                </a:cubicBezTo>
                <a:cubicBezTo>
                  <a:pt x="409" y="43"/>
                  <a:pt x="411" y="42"/>
                  <a:pt x="412" y="43"/>
                </a:cubicBezTo>
                <a:cubicBezTo>
                  <a:pt x="412" y="43"/>
                  <a:pt x="412" y="43"/>
                  <a:pt x="412" y="43"/>
                </a:cubicBezTo>
                <a:cubicBezTo>
                  <a:pt x="419" y="43"/>
                  <a:pt x="428" y="44"/>
                  <a:pt x="435" y="43"/>
                </a:cubicBezTo>
                <a:cubicBezTo>
                  <a:pt x="437" y="43"/>
                  <a:pt x="445" y="43"/>
                  <a:pt x="450" y="43"/>
                </a:cubicBezTo>
                <a:cubicBezTo>
                  <a:pt x="451" y="42"/>
                  <a:pt x="451" y="42"/>
                  <a:pt x="451" y="42"/>
                </a:cubicBezTo>
                <a:cubicBezTo>
                  <a:pt x="435" y="42"/>
                  <a:pt x="435" y="42"/>
                  <a:pt x="435" y="42"/>
                </a:cubicBezTo>
                <a:cubicBezTo>
                  <a:pt x="434" y="42"/>
                  <a:pt x="434" y="42"/>
                  <a:pt x="434" y="42"/>
                </a:cubicBezTo>
                <a:cubicBezTo>
                  <a:pt x="424" y="42"/>
                  <a:pt x="424" y="42"/>
                  <a:pt x="424" y="42"/>
                </a:cubicBezTo>
                <a:cubicBezTo>
                  <a:pt x="414" y="40"/>
                  <a:pt x="402" y="40"/>
                  <a:pt x="391" y="40"/>
                </a:cubicBezTo>
                <a:cubicBezTo>
                  <a:pt x="385" y="39"/>
                  <a:pt x="379" y="39"/>
                  <a:pt x="373" y="38"/>
                </a:cubicBezTo>
                <a:cubicBezTo>
                  <a:pt x="380" y="36"/>
                  <a:pt x="388" y="37"/>
                  <a:pt x="396" y="36"/>
                </a:cubicBezTo>
                <a:cubicBezTo>
                  <a:pt x="390" y="35"/>
                  <a:pt x="382" y="36"/>
                  <a:pt x="376" y="35"/>
                </a:cubicBezTo>
                <a:cubicBezTo>
                  <a:pt x="402" y="35"/>
                  <a:pt x="431" y="37"/>
                  <a:pt x="459" y="36"/>
                </a:cubicBezTo>
                <a:cubicBezTo>
                  <a:pt x="460" y="35"/>
                  <a:pt x="460" y="35"/>
                  <a:pt x="460" y="35"/>
                </a:cubicBezTo>
                <a:cubicBezTo>
                  <a:pt x="452" y="34"/>
                  <a:pt x="443" y="35"/>
                  <a:pt x="435" y="34"/>
                </a:cubicBezTo>
                <a:cubicBezTo>
                  <a:pt x="435" y="33"/>
                  <a:pt x="435" y="33"/>
                  <a:pt x="435" y="33"/>
                </a:cubicBezTo>
                <a:cubicBezTo>
                  <a:pt x="445" y="33"/>
                  <a:pt x="445" y="33"/>
                  <a:pt x="445" y="33"/>
                </a:cubicBezTo>
                <a:cubicBezTo>
                  <a:pt x="429" y="32"/>
                  <a:pt x="414" y="31"/>
                  <a:pt x="397" y="32"/>
                </a:cubicBezTo>
                <a:cubicBezTo>
                  <a:pt x="395" y="31"/>
                  <a:pt x="393" y="31"/>
                  <a:pt x="391" y="30"/>
                </a:cubicBezTo>
                <a:cubicBezTo>
                  <a:pt x="410" y="30"/>
                  <a:pt x="428" y="32"/>
                  <a:pt x="445" y="31"/>
                </a:cubicBezTo>
                <a:cubicBezTo>
                  <a:pt x="439" y="31"/>
                  <a:pt x="434" y="30"/>
                  <a:pt x="428" y="30"/>
                </a:cubicBezTo>
                <a:cubicBezTo>
                  <a:pt x="426" y="30"/>
                  <a:pt x="426" y="30"/>
                  <a:pt x="426" y="30"/>
                </a:cubicBezTo>
                <a:cubicBezTo>
                  <a:pt x="428" y="29"/>
                  <a:pt x="428" y="29"/>
                  <a:pt x="428" y="29"/>
                </a:cubicBezTo>
                <a:cubicBezTo>
                  <a:pt x="449" y="29"/>
                  <a:pt x="449" y="29"/>
                  <a:pt x="449" y="29"/>
                </a:cubicBezTo>
                <a:cubicBezTo>
                  <a:pt x="449" y="29"/>
                  <a:pt x="449" y="29"/>
                  <a:pt x="449" y="29"/>
                </a:cubicBezTo>
                <a:cubicBezTo>
                  <a:pt x="432" y="28"/>
                  <a:pt x="415" y="28"/>
                  <a:pt x="398" y="27"/>
                </a:cubicBezTo>
                <a:cubicBezTo>
                  <a:pt x="399" y="26"/>
                  <a:pt x="399" y="26"/>
                  <a:pt x="399" y="26"/>
                </a:cubicBezTo>
                <a:cubicBezTo>
                  <a:pt x="417" y="24"/>
                  <a:pt x="432" y="30"/>
                  <a:pt x="449" y="27"/>
                </a:cubicBezTo>
                <a:cubicBezTo>
                  <a:pt x="444" y="26"/>
                  <a:pt x="440" y="27"/>
                  <a:pt x="436" y="26"/>
                </a:cubicBezTo>
                <a:cubicBezTo>
                  <a:pt x="445" y="26"/>
                  <a:pt x="455" y="25"/>
                  <a:pt x="464" y="25"/>
                </a:cubicBezTo>
                <a:cubicBezTo>
                  <a:pt x="463" y="23"/>
                  <a:pt x="471" y="25"/>
                  <a:pt x="474" y="23"/>
                </a:cubicBezTo>
                <a:cubicBezTo>
                  <a:pt x="461" y="23"/>
                  <a:pt x="447" y="23"/>
                  <a:pt x="435" y="22"/>
                </a:cubicBezTo>
                <a:cubicBezTo>
                  <a:pt x="438" y="21"/>
                  <a:pt x="441" y="21"/>
                  <a:pt x="444" y="21"/>
                </a:cubicBezTo>
                <a:cubicBezTo>
                  <a:pt x="443" y="21"/>
                  <a:pt x="443" y="21"/>
                  <a:pt x="443" y="20"/>
                </a:cubicBezTo>
                <a:cubicBezTo>
                  <a:pt x="443" y="20"/>
                  <a:pt x="443" y="20"/>
                  <a:pt x="443" y="20"/>
                </a:cubicBezTo>
                <a:cubicBezTo>
                  <a:pt x="452" y="20"/>
                  <a:pt x="460" y="21"/>
                  <a:pt x="468" y="19"/>
                </a:cubicBezTo>
                <a:cubicBezTo>
                  <a:pt x="464" y="19"/>
                  <a:pt x="460" y="19"/>
                  <a:pt x="457" y="18"/>
                </a:cubicBezTo>
                <a:cubicBezTo>
                  <a:pt x="457" y="18"/>
                  <a:pt x="458" y="17"/>
                  <a:pt x="458" y="17"/>
                </a:cubicBezTo>
                <a:cubicBezTo>
                  <a:pt x="457" y="17"/>
                  <a:pt x="455" y="17"/>
                  <a:pt x="454" y="16"/>
                </a:cubicBezTo>
                <a:cubicBezTo>
                  <a:pt x="455" y="15"/>
                  <a:pt x="455" y="15"/>
                  <a:pt x="455" y="15"/>
                </a:cubicBezTo>
                <a:cubicBezTo>
                  <a:pt x="459" y="17"/>
                  <a:pt x="463" y="15"/>
                  <a:pt x="467" y="15"/>
                </a:cubicBezTo>
                <a:cubicBezTo>
                  <a:pt x="446" y="13"/>
                  <a:pt x="446" y="13"/>
                  <a:pt x="446" y="13"/>
                </a:cubicBezTo>
                <a:cubicBezTo>
                  <a:pt x="457" y="13"/>
                  <a:pt x="467" y="13"/>
                  <a:pt x="478" y="13"/>
                </a:cubicBezTo>
                <a:close/>
                <a:moveTo>
                  <a:pt x="20" y="46"/>
                </a:moveTo>
                <a:cubicBezTo>
                  <a:pt x="22" y="46"/>
                  <a:pt x="22" y="46"/>
                  <a:pt x="22" y="46"/>
                </a:cubicBezTo>
                <a:cubicBezTo>
                  <a:pt x="22" y="46"/>
                  <a:pt x="22" y="46"/>
                  <a:pt x="22" y="46"/>
                </a:cubicBezTo>
                <a:lnTo>
                  <a:pt x="20" y="46"/>
                </a:lnTo>
                <a:close/>
                <a:moveTo>
                  <a:pt x="224" y="74"/>
                </a:moveTo>
                <a:cubicBezTo>
                  <a:pt x="214" y="74"/>
                  <a:pt x="214" y="74"/>
                  <a:pt x="214" y="74"/>
                </a:cubicBezTo>
                <a:cubicBezTo>
                  <a:pt x="213" y="74"/>
                  <a:pt x="213" y="74"/>
                  <a:pt x="212" y="74"/>
                </a:cubicBezTo>
                <a:cubicBezTo>
                  <a:pt x="214" y="74"/>
                  <a:pt x="214" y="74"/>
                  <a:pt x="214" y="74"/>
                </a:cubicBezTo>
                <a:cubicBezTo>
                  <a:pt x="216" y="74"/>
                  <a:pt x="217" y="73"/>
                  <a:pt x="218" y="73"/>
                </a:cubicBezTo>
                <a:cubicBezTo>
                  <a:pt x="234" y="73"/>
                  <a:pt x="234" y="73"/>
                  <a:pt x="234" y="73"/>
                </a:cubicBezTo>
                <a:cubicBezTo>
                  <a:pt x="234" y="73"/>
                  <a:pt x="234" y="73"/>
                  <a:pt x="235" y="73"/>
                </a:cubicBezTo>
                <a:cubicBezTo>
                  <a:pt x="234" y="73"/>
                  <a:pt x="234" y="73"/>
                  <a:pt x="234" y="73"/>
                </a:cubicBezTo>
                <a:cubicBezTo>
                  <a:pt x="230" y="73"/>
                  <a:pt x="227" y="73"/>
                  <a:pt x="224" y="74"/>
                </a:cubicBezTo>
                <a:close/>
                <a:moveTo>
                  <a:pt x="380" y="69"/>
                </a:moveTo>
                <a:cubicBezTo>
                  <a:pt x="379" y="69"/>
                  <a:pt x="378" y="69"/>
                  <a:pt x="377" y="69"/>
                </a:cubicBezTo>
                <a:cubicBezTo>
                  <a:pt x="377" y="69"/>
                  <a:pt x="379" y="69"/>
                  <a:pt x="380" y="69"/>
                </a:cubicBezTo>
                <a:close/>
                <a:moveTo>
                  <a:pt x="367" y="70"/>
                </a:moveTo>
                <a:cubicBezTo>
                  <a:pt x="364" y="70"/>
                  <a:pt x="364" y="70"/>
                  <a:pt x="364" y="70"/>
                </a:cubicBezTo>
                <a:cubicBezTo>
                  <a:pt x="364" y="70"/>
                  <a:pt x="364" y="70"/>
                  <a:pt x="364" y="70"/>
                </a:cubicBezTo>
                <a:cubicBezTo>
                  <a:pt x="364" y="70"/>
                  <a:pt x="364" y="70"/>
                  <a:pt x="364" y="70"/>
                </a:cubicBezTo>
                <a:cubicBezTo>
                  <a:pt x="365" y="70"/>
                  <a:pt x="366" y="69"/>
                  <a:pt x="367" y="70"/>
                </a:cubicBezTo>
                <a:close/>
                <a:moveTo>
                  <a:pt x="415" y="11"/>
                </a:moveTo>
                <a:cubicBezTo>
                  <a:pt x="410" y="11"/>
                  <a:pt x="410" y="11"/>
                  <a:pt x="410" y="11"/>
                </a:cubicBezTo>
                <a:cubicBezTo>
                  <a:pt x="411" y="11"/>
                  <a:pt x="413" y="11"/>
                  <a:pt x="415" y="11"/>
                </a:cubicBezTo>
                <a:cubicBezTo>
                  <a:pt x="419" y="11"/>
                  <a:pt x="419" y="11"/>
                  <a:pt x="419" y="11"/>
                </a:cubicBezTo>
                <a:cubicBezTo>
                  <a:pt x="417" y="12"/>
                  <a:pt x="416" y="11"/>
                  <a:pt x="415" y="11"/>
                </a:cubicBezTo>
                <a:close/>
                <a:moveTo>
                  <a:pt x="422" y="12"/>
                </a:moveTo>
                <a:cubicBezTo>
                  <a:pt x="428" y="12"/>
                  <a:pt x="433" y="12"/>
                  <a:pt x="439" y="13"/>
                </a:cubicBezTo>
                <a:cubicBezTo>
                  <a:pt x="433" y="12"/>
                  <a:pt x="428" y="12"/>
                  <a:pt x="422" y="12"/>
                </a:cubicBezTo>
                <a:close/>
              </a:path>
            </a:pathLst>
          </a:custGeom>
          <a:solidFill>
            <a:srgbClr val="2c3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192"/>
          <p:cNvSpPr/>
          <p:nvPr/>
        </p:nvSpPr>
        <p:spPr>
          <a:xfrm flipH="1" flipV="1" rot="10800000">
            <a:off x="7567560" y="1852560"/>
            <a:ext cx="3486240" cy="581040"/>
          </a:xfrm>
          <a:custGeom>
            <a:avLst/>
            <a:gdLst>
              <a:gd name="textAreaLeft" fmla="*/ 360 w 3486240"/>
              <a:gd name="textAreaRight" fmla="*/ 3486960 w 3486240"/>
              <a:gd name="textAreaTop" fmla="*/ 360 h 581040"/>
              <a:gd name="textAreaBottom" fmla="*/ 581760 h 581040"/>
            </a:gdLst>
            <a:ahLst/>
            <a:rect l="textAreaLeft" t="textAreaTop" r="textAreaRight" b="textAreaBottom"/>
            <a:pathLst>
              <a:path w="478" h="77">
                <a:moveTo>
                  <a:pt x="478" y="13"/>
                </a:moveTo>
                <a:cubicBezTo>
                  <a:pt x="472" y="13"/>
                  <a:pt x="468" y="13"/>
                  <a:pt x="462" y="12"/>
                </a:cubicBezTo>
                <a:cubicBezTo>
                  <a:pt x="461" y="11"/>
                  <a:pt x="465" y="12"/>
                  <a:pt x="464" y="11"/>
                </a:cubicBezTo>
                <a:cubicBezTo>
                  <a:pt x="434" y="9"/>
                  <a:pt x="403" y="9"/>
                  <a:pt x="373" y="7"/>
                </a:cubicBezTo>
                <a:cubicBezTo>
                  <a:pt x="402" y="6"/>
                  <a:pt x="431" y="10"/>
                  <a:pt x="460" y="10"/>
                </a:cubicBezTo>
                <a:cubicBezTo>
                  <a:pt x="436" y="6"/>
                  <a:pt x="407" y="7"/>
                  <a:pt x="381" y="5"/>
                </a:cubicBezTo>
                <a:cubicBezTo>
                  <a:pt x="288" y="3"/>
                  <a:pt x="288" y="3"/>
                  <a:pt x="288" y="3"/>
                </a:cubicBezTo>
                <a:cubicBezTo>
                  <a:pt x="222" y="3"/>
                  <a:pt x="222" y="3"/>
                  <a:pt x="222" y="3"/>
                </a:cubicBezTo>
                <a:cubicBezTo>
                  <a:pt x="130" y="4"/>
                  <a:pt x="130" y="4"/>
                  <a:pt x="130" y="4"/>
                </a:cubicBezTo>
                <a:cubicBezTo>
                  <a:pt x="130" y="3"/>
                  <a:pt x="130" y="3"/>
                  <a:pt x="130" y="3"/>
                </a:cubicBezTo>
                <a:cubicBezTo>
                  <a:pt x="127" y="2"/>
                  <a:pt x="125" y="3"/>
                  <a:pt x="123" y="3"/>
                </a:cubicBezTo>
                <a:cubicBezTo>
                  <a:pt x="124" y="3"/>
                  <a:pt x="125" y="3"/>
                  <a:pt x="125" y="4"/>
                </a:cubicBezTo>
                <a:cubicBezTo>
                  <a:pt x="122" y="4"/>
                  <a:pt x="118" y="3"/>
                  <a:pt x="115" y="4"/>
                </a:cubicBezTo>
                <a:cubicBezTo>
                  <a:pt x="112" y="3"/>
                  <a:pt x="107" y="4"/>
                  <a:pt x="102" y="3"/>
                </a:cubicBezTo>
                <a:cubicBezTo>
                  <a:pt x="100" y="2"/>
                  <a:pt x="98" y="2"/>
                  <a:pt x="95" y="2"/>
                </a:cubicBezTo>
                <a:cubicBezTo>
                  <a:pt x="70" y="2"/>
                  <a:pt x="50" y="0"/>
                  <a:pt x="24" y="1"/>
                </a:cubicBezTo>
                <a:cubicBezTo>
                  <a:pt x="18" y="2"/>
                  <a:pt x="10" y="1"/>
                  <a:pt x="6" y="4"/>
                </a:cubicBezTo>
                <a:cubicBezTo>
                  <a:pt x="6" y="5"/>
                  <a:pt x="8" y="5"/>
                  <a:pt x="8" y="5"/>
                </a:cubicBezTo>
                <a:cubicBezTo>
                  <a:pt x="7" y="5"/>
                  <a:pt x="6" y="6"/>
                  <a:pt x="5" y="5"/>
                </a:cubicBezTo>
                <a:cubicBezTo>
                  <a:pt x="5" y="5"/>
                  <a:pt x="5" y="5"/>
                  <a:pt x="5" y="5"/>
                </a:cubicBezTo>
                <a:cubicBezTo>
                  <a:pt x="0" y="6"/>
                  <a:pt x="0" y="6"/>
                  <a:pt x="0" y="6"/>
                </a:cubicBezTo>
                <a:cubicBezTo>
                  <a:pt x="2" y="7"/>
                  <a:pt x="2" y="7"/>
                  <a:pt x="2" y="7"/>
                </a:cubicBezTo>
                <a:cubicBezTo>
                  <a:pt x="2" y="7"/>
                  <a:pt x="2" y="7"/>
                  <a:pt x="2" y="7"/>
                </a:cubicBezTo>
                <a:cubicBezTo>
                  <a:pt x="4" y="8"/>
                  <a:pt x="4" y="8"/>
                  <a:pt x="4" y="8"/>
                </a:cubicBezTo>
                <a:cubicBezTo>
                  <a:pt x="3" y="8"/>
                  <a:pt x="1" y="9"/>
                  <a:pt x="0" y="9"/>
                </a:cubicBezTo>
                <a:cubicBezTo>
                  <a:pt x="0" y="11"/>
                  <a:pt x="0" y="13"/>
                  <a:pt x="3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5"/>
                  <a:pt x="2" y="15"/>
                  <a:pt x="3" y="15"/>
                </a:cubicBezTo>
                <a:cubicBezTo>
                  <a:pt x="1" y="17"/>
                  <a:pt x="1" y="17"/>
                  <a:pt x="1" y="17"/>
                </a:cubicBezTo>
                <a:cubicBezTo>
                  <a:pt x="2" y="17"/>
                  <a:pt x="2" y="17"/>
                  <a:pt x="2" y="17"/>
                </a:cubicBezTo>
                <a:cubicBezTo>
                  <a:pt x="1" y="18"/>
                  <a:pt x="1" y="18"/>
                  <a:pt x="1" y="18"/>
                </a:cubicBezTo>
                <a:cubicBezTo>
                  <a:pt x="3" y="18"/>
                  <a:pt x="1" y="19"/>
                  <a:pt x="1" y="19"/>
                </a:cubicBezTo>
                <a:cubicBezTo>
                  <a:pt x="4" y="20"/>
                  <a:pt x="4" y="20"/>
                  <a:pt x="4" y="20"/>
                </a:cubicBezTo>
                <a:cubicBezTo>
                  <a:pt x="5" y="21"/>
                  <a:pt x="2" y="20"/>
                  <a:pt x="2" y="20"/>
                </a:cubicBezTo>
                <a:cubicBezTo>
                  <a:pt x="3" y="21"/>
                  <a:pt x="5" y="21"/>
                  <a:pt x="6" y="21"/>
                </a:cubicBezTo>
                <a:cubicBezTo>
                  <a:pt x="5" y="22"/>
                  <a:pt x="3" y="21"/>
                  <a:pt x="1" y="21"/>
                </a:cubicBezTo>
                <a:cubicBezTo>
                  <a:pt x="1" y="22"/>
                  <a:pt x="1" y="22"/>
                  <a:pt x="1" y="22"/>
                </a:cubicBezTo>
                <a:cubicBezTo>
                  <a:pt x="2" y="24"/>
                  <a:pt x="6" y="24"/>
                  <a:pt x="10" y="24"/>
                </a:cubicBezTo>
                <a:cubicBezTo>
                  <a:pt x="7" y="25"/>
                  <a:pt x="5" y="25"/>
                  <a:pt x="2" y="25"/>
                </a:cubicBezTo>
                <a:cubicBezTo>
                  <a:pt x="2" y="26"/>
                  <a:pt x="2" y="26"/>
                  <a:pt x="2" y="26"/>
                </a:cubicBezTo>
                <a:cubicBezTo>
                  <a:pt x="3" y="27"/>
                  <a:pt x="5" y="26"/>
                  <a:pt x="5" y="27"/>
                </a:cubicBezTo>
                <a:cubicBezTo>
                  <a:pt x="10" y="27"/>
                  <a:pt x="10" y="27"/>
                  <a:pt x="10" y="27"/>
                </a:cubicBezTo>
                <a:cubicBezTo>
                  <a:pt x="9" y="27"/>
                  <a:pt x="9" y="27"/>
                  <a:pt x="9" y="27"/>
                </a:cubicBezTo>
                <a:cubicBezTo>
                  <a:pt x="9" y="26"/>
                  <a:pt x="10" y="26"/>
                  <a:pt x="11" y="26"/>
                </a:cubicBezTo>
                <a:cubicBezTo>
                  <a:pt x="15" y="26"/>
                  <a:pt x="12" y="30"/>
                  <a:pt x="14" y="30"/>
                </a:cubicBezTo>
                <a:cubicBezTo>
                  <a:pt x="12" y="32"/>
                  <a:pt x="9" y="30"/>
                  <a:pt x="6" y="31"/>
                </a:cubicBezTo>
                <a:cubicBezTo>
                  <a:pt x="9" y="32"/>
                  <a:pt x="12" y="31"/>
                  <a:pt x="16" y="31"/>
                </a:cubicBezTo>
                <a:cubicBezTo>
                  <a:pt x="17" y="34"/>
                  <a:pt x="17" y="34"/>
                  <a:pt x="17" y="34"/>
                </a:cubicBezTo>
                <a:cubicBezTo>
                  <a:pt x="14" y="35"/>
                  <a:pt x="14" y="35"/>
                  <a:pt x="14" y="35"/>
                </a:cubicBezTo>
                <a:cubicBezTo>
                  <a:pt x="21" y="35"/>
                  <a:pt x="21" y="35"/>
                  <a:pt x="21" y="35"/>
                </a:cubicBezTo>
                <a:cubicBezTo>
                  <a:pt x="22" y="35"/>
                  <a:pt x="23" y="35"/>
                  <a:pt x="23" y="36"/>
                </a:cubicBezTo>
                <a:cubicBezTo>
                  <a:pt x="23" y="37"/>
                  <a:pt x="22" y="37"/>
                  <a:pt x="21" y="37"/>
                </a:cubicBezTo>
                <a:cubicBezTo>
                  <a:pt x="18" y="41"/>
                  <a:pt x="11" y="37"/>
                  <a:pt x="6" y="38"/>
                </a:cubicBezTo>
                <a:cubicBezTo>
                  <a:pt x="7" y="39"/>
                  <a:pt x="10" y="39"/>
                  <a:pt x="12" y="40"/>
                </a:cubicBezTo>
                <a:cubicBezTo>
                  <a:pt x="16" y="39"/>
                  <a:pt x="18" y="38"/>
                  <a:pt x="21" y="39"/>
                </a:cubicBezTo>
                <a:cubicBezTo>
                  <a:pt x="19" y="40"/>
                  <a:pt x="19" y="40"/>
                  <a:pt x="19" y="40"/>
                </a:cubicBezTo>
                <a:cubicBezTo>
                  <a:pt x="20" y="40"/>
                  <a:pt x="20" y="40"/>
                  <a:pt x="20" y="40"/>
                </a:cubicBezTo>
                <a:cubicBezTo>
                  <a:pt x="20" y="40"/>
                  <a:pt x="21" y="40"/>
                  <a:pt x="21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9" y="41"/>
                  <a:pt x="19" y="41"/>
                  <a:pt x="19" y="41"/>
                </a:cubicBezTo>
                <a:cubicBezTo>
                  <a:pt x="20" y="41"/>
                  <a:pt x="21" y="42"/>
                  <a:pt x="22" y="41"/>
                </a:cubicBezTo>
                <a:cubicBezTo>
                  <a:pt x="22" y="43"/>
                  <a:pt x="22" y="43"/>
                  <a:pt x="22" y="43"/>
                </a:cubicBezTo>
                <a:cubicBezTo>
                  <a:pt x="20" y="44"/>
                  <a:pt x="22" y="46"/>
                  <a:pt x="19" y="46"/>
                </a:cubicBezTo>
                <a:cubicBezTo>
                  <a:pt x="20" y="46"/>
                  <a:pt x="20" y="46"/>
                  <a:pt x="20" y="46"/>
                </a:cubicBezTo>
                <a:cubicBezTo>
                  <a:pt x="16" y="47"/>
                  <a:pt x="12" y="44"/>
                  <a:pt x="9" y="46"/>
                </a:cubicBezTo>
                <a:cubicBezTo>
                  <a:pt x="13" y="47"/>
                  <a:pt x="19" y="46"/>
                  <a:pt x="23" y="48"/>
                </a:cubicBezTo>
                <a:cubicBezTo>
                  <a:pt x="22" y="49"/>
                  <a:pt x="22" y="49"/>
                  <a:pt x="22" y="49"/>
                </a:cubicBezTo>
                <a:cubicBezTo>
                  <a:pt x="21" y="48"/>
                  <a:pt x="21" y="48"/>
                  <a:pt x="21" y="48"/>
                </a:cubicBezTo>
                <a:cubicBezTo>
                  <a:pt x="19" y="48"/>
                  <a:pt x="17" y="49"/>
                  <a:pt x="16" y="49"/>
                </a:cubicBezTo>
                <a:cubicBezTo>
                  <a:pt x="17" y="49"/>
                  <a:pt x="19" y="49"/>
                  <a:pt x="20" y="49"/>
                </a:cubicBezTo>
                <a:cubicBezTo>
                  <a:pt x="22" y="50"/>
                  <a:pt x="25" y="51"/>
                  <a:pt x="24" y="53"/>
                </a:cubicBezTo>
                <a:cubicBezTo>
                  <a:pt x="19" y="53"/>
                  <a:pt x="19" y="53"/>
                  <a:pt x="19" y="53"/>
                </a:cubicBezTo>
                <a:cubicBezTo>
                  <a:pt x="26" y="55"/>
                  <a:pt x="26" y="55"/>
                  <a:pt x="26" y="55"/>
                </a:cubicBezTo>
                <a:cubicBezTo>
                  <a:pt x="25" y="57"/>
                  <a:pt x="29" y="58"/>
                  <a:pt x="30" y="59"/>
                </a:cubicBezTo>
                <a:cubicBezTo>
                  <a:pt x="29" y="60"/>
                  <a:pt x="27" y="59"/>
                  <a:pt x="26" y="60"/>
                </a:cubicBezTo>
                <a:cubicBezTo>
                  <a:pt x="22" y="61"/>
                  <a:pt x="28" y="62"/>
                  <a:pt x="26" y="64"/>
                </a:cubicBezTo>
                <a:cubicBezTo>
                  <a:pt x="27" y="64"/>
                  <a:pt x="29" y="64"/>
                  <a:pt x="30" y="65"/>
                </a:cubicBezTo>
                <a:cubicBezTo>
                  <a:pt x="30" y="65"/>
                  <a:pt x="29" y="66"/>
                  <a:pt x="29" y="66"/>
                </a:cubicBezTo>
                <a:cubicBezTo>
                  <a:pt x="25" y="64"/>
                  <a:pt x="21" y="63"/>
                  <a:pt x="17" y="63"/>
                </a:cubicBezTo>
                <a:cubicBezTo>
                  <a:pt x="22" y="66"/>
                  <a:pt x="22" y="66"/>
                  <a:pt x="22" y="66"/>
                </a:cubicBezTo>
                <a:cubicBezTo>
                  <a:pt x="30" y="66"/>
                  <a:pt x="36" y="70"/>
                  <a:pt x="44" y="70"/>
                </a:cubicBezTo>
                <a:cubicBezTo>
                  <a:pt x="51" y="73"/>
                  <a:pt x="61" y="73"/>
                  <a:pt x="70" y="75"/>
                </a:cubicBezTo>
                <a:cubicBezTo>
                  <a:pt x="82" y="75"/>
                  <a:pt x="93" y="77"/>
                  <a:pt x="104" y="77"/>
                </a:cubicBezTo>
                <a:cubicBezTo>
                  <a:pt x="123" y="76"/>
                  <a:pt x="142" y="76"/>
                  <a:pt x="161" y="76"/>
                </a:cubicBezTo>
                <a:cubicBezTo>
                  <a:pt x="258" y="76"/>
                  <a:pt x="258" y="76"/>
                  <a:pt x="258" y="76"/>
                </a:cubicBezTo>
                <a:cubicBezTo>
                  <a:pt x="286" y="75"/>
                  <a:pt x="315" y="77"/>
                  <a:pt x="341" y="75"/>
                </a:cubicBezTo>
                <a:cubicBezTo>
                  <a:pt x="336" y="75"/>
                  <a:pt x="331" y="74"/>
                  <a:pt x="326" y="75"/>
                </a:cubicBezTo>
                <a:cubicBezTo>
                  <a:pt x="323" y="75"/>
                  <a:pt x="321" y="74"/>
                  <a:pt x="319" y="75"/>
                </a:cubicBezTo>
                <a:cubicBezTo>
                  <a:pt x="316" y="75"/>
                  <a:pt x="313" y="75"/>
                  <a:pt x="311" y="74"/>
                </a:cubicBezTo>
                <a:cubicBezTo>
                  <a:pt x="280" y="74"/>
                  <a:pt x="280" y="74"/>
                  <a:pt x="280" y="74"/>
                </a:cubicBezTo>
                <a:cubicBezTo>
                  <a:pt x="279" y="74"/>
                  <a:pt x="279" y="74"/>
                  <a:pt x="279" y="74"/>
                </a:cubicBezTo>
                <a:cubicBezTo>
                  <a:pt x="276" y="74"/>
                  <a:pt x="272" y="75"/>
                  <a:pt x="270" y="74"/>
                </a:cubicBezTo>
                <a:cubicBezTo>
                  <a:pt x="271" y="73"/>
                  <a:pt x="271" y="73"/>
                  <a:pt x="271" y="73"/>
                </a:cubicBezTo>
                <a:cubicBezTo>
                  <a:pt x="401" y="73"/>
                  <a:pt x="401" y="73"/>
                  <a:pt x="401" y="73"/>
                </a:cubicBezTo>
                <a:cubicBezTo>
                  <a:pt x="415" y="72"/>
                  <a:pt x="415" y="72"/>
                  <a:pt x="415" y="72"/>
                </a:cubicBezTo>
                <a:cubicBezTo>
                  <a:pt x="384" y="72"/>
                  <a:pt x="352" y="72"/>
                  <a:pt x="320" y="71"/>
                </a:cubicBezTo>
                <a:cubicBezTo>
                  <a:pt x="309" y="71"/>
                  <a:pt x="297" y="72"/>
                  <a:pt x="286" y="70"/>
                </a:cubicBezTo>
                <a:cubicBezTo>
                  <a:pt x="312" y="70"/>
                  <a:pt x="341" y="71"/>
                  <a:pt x="368" y="70"/>
                </a:cubicBezTo>
                <a:cubicBezTo>
                  <a:pt x="368" y="70"/>
                  <a:pt x="368" y="70"/>
                  <a:pt x="368" y="70"/>
                </a:cubicBezTo>
                <a:cubicBezTo>
                  <a:pt x="369" y="69"/>
                  <a:pt x="369" y="69"/>
                  <a:pt x="369" y="69"/>
                </a:cubicBezTo>
                <a:cubicBezTo>
                  <a:pt x="370" y="70"/>
                  <a:pt x="371" y="69"/>
                  <a:pt x="372" y="69"/>
                </a:cubicBezTo>
                <a:cubicBezTo>
                  <a:pt x="376" y="69"/>
                  <a:pt x="383" y="71"/>
                  <a:pt x="387" y="69"/>
                </a:cubicBezTo>
                <a:cubicBezTo>
                  <a:pt x="373" y="68"/>
                  <a:pt x="373" y="68"/>
                  <a:pt x="373" y="68"/>
                </a:cubicBezTo>
                <a:cubicBezTo>
                  <a:pt x="372" y="68"/>
                  <a:pt x="372" y="68"/>
                  <a:pt x="372" y="68"/>
                </a:cubicBezTo>
                <a:cubicBezTo>
                  <a:pt x="374" y="67"/>
                  <a:pt x="374" y="67"/>
                  <a:pt x="374" y="67"/>
                </a:cubicBezTo>
                <a:cubicBezTo>
                  <a:pt x="371" y="67"/>
                  <a:pt x="371" y="67"/>
                  <a:pt x="371" y="67"/>
                </a:cubicBezTo>
                <a:cubicBezTo>
                  <a:pt x="371" y="67"/>
                  <a:pt x="370" y="67"/>
                  <a:pt x="370" y="66"/>
                </a:cubicBezTo>
                <a:cubicBezTo>
                  <a:pt x="371" y="66"/>
                  <a:pt x="373" y="65"/>
                  <a:pt x="374" y="66"/>
                </a:cubicBezTo>
                <a:cubicBezTo>
                  <a:pt x="374" y="66"/>
                  <a:pt x="372" y="66"/>
                  <a:pt x="372" y="66"/>
                </a:cubicBezTo>
                <a:cubicBezTo>
                  <a:pt x="378" y="66"/>
                  <a:pt x="387" y="67"/>
                  <a:pt x="395" y="67"/>
                </a:cubicBezTo>
                <a:cubicBezTo>
                  <a:pt x="394" y="67"/>
                  <a:pt x="394" y="67"/>
                  <a:pt x="394" y="67"/>
                </a:cubicBezTo>
                <a:cubicBezTo>
                  <a:pt x="398" y="68"/>
                  <a:pt x="405" y="68"/>
                  <a:pt x="408" y="67"/>
                </a:cubicBezTo>
                <a:cubicBezTo>
                  <a:pt x="410" y="66"/>
                  <a:pt x="410" y="67"/>
                  <a:pt x="410" y="67"/>
                </a:cubicBezTo>
                <a:cubicBezTo>
                  <a:pt x="412" y="68"/>
                  <a:pt x="411" y="67"/>
                  <a:pt x="412" y="66"/>
                </a:cubicBezTo>
                <a:cubicBezTo>
                  <a:pt x="429" y="66"/>
                  <a:pt x="429" y="66"/>
                  <a:pt x="429" y="66"/>
                </a:cubicBezTo>
                <a:cubicBezTo>
                  <a:pt x="429" y="67"/>
                  <a:pt x="429" y="67"/>
                  <a:pt x="429" y="67"/>
                </a:cubicBezTo>
                <a:cubicBezTo>
                  <a:pt x="424" y="67"/>
                  <a:pt x="419" y="67"/>
                  <a:pt x="414" y="67"/>
                </a:cubicBezTo>
                <a:cubicBezTo>
                  <a:pt x="421" y="68"/>
                  <a:pt x="431" y="68"/>
                  <a:pt x="436" y="67"/>
                </a:cubicBezTo>
                <a:cubicBezTo>
                  <a:pt x="434" y="67"/>
                  <a:pt x="431" y="67"/>
                  <a:pt x="429" y="66"/>
                </a:cubicBezTo>
                <a:cubicBezTo>
                  <a:pt x="440" y="66"/>
                  <a:pt x="453" y="66"/>
                  <a:pt x="465" y="66"/>
                </a:cubicBezTo>
                <a:cubicBezTo>
                  <a:pt x="463" y="65"/>
                  <a:pt x="459" y="66"/>
                  <a:pt x="456" y="65"/>
                </a:cubicBezTo>
                <a:cubicBezTo>
                  <a:pt x="457" y="65"/>
                  <a:pt x="457" y="65"/>
                  <a:pt x="457" y="65"/>
                </a:cubicBezTo>
                <a:cubicBezTo>
                  <a:pt x="455" y="66"/>
                  <a:pt x="453" y="64"/>
                  <a:pt x="451" y="65"/>
                </a:cubicBezTo>
                <a:cubicBezTo>
                  <a:pt x="441" y="65"/>
                  <a:pt x="428" y="65"/>
                  <a:pt x="415" y="65"/>
                </a:cubicBezTo>
                <a:cubicBezTo>
                  <a:pt x="414" y="64"/>
                  <a:pt x="414" y="64"/>
                  <a:pt x="414" y="64"/>
                </a:cubicBezTo>
                <a:cubicBezTo>
                  <a:pt x="413" y="64"/>
                  <a:pt x="413" y="65"/>
                  <a:pt x="411" y="65"/>
                </a:cubicBezTo>
                <a:cubicBezTo>
                  <a:pt x="410" y="63"/>
                  <a:pt x="409" y="66"/>
                  <a:pt x="407" y="64"/>
                </a:cubicBezTo>
                <a:cubicBezTo>
                  <a:pt x="407" y="64"/>
                  <a:pt x="407" y="64"/>
                  <a:pt x="407" y="64"/>
                </a:cubicBezTo>
                <a:cubicBezTo>
                  <a:pt x="403" y="65"/>
                  <a:pt x="397" y="65"/>
                  <a:pt x="393" y="64"/>
                </a:cubicBezTo>
                <a:cubicBezTo>
                  <a:pt x="373" y="64"/>
                  <a:pt x="373" y="64"/>
                  <a:pt x="373" y="64"/>
                </a:cubicBezTo>
                <a:cubicBezTo>
                  <a:pt x="371" y="65"/>
                  <a:pt x="367" y="65"/>
                  <a:pt x="365" y="64"/>
                </a:cubicBezTo>
                <a:cubicBezTo>
                  <a:pt x="367" y="64"/>
                  <a:pt x="367" y="64"/>
                  <a:pt x="367" y="64"/>
                </a:cubicBezTo>
                <a:cubicBezTo>
                  <a:pt x="363" y="64"/>
                  <a:pt x="359" y="63"/>
                  <a:pt x="356" y="64"/>
                </a:cubicBezTo>
                <a:cubicBezTo>
                  <a:pt x="347" y="64"/>
                  <a:pt x="338" y="65"/>
                  <a:pt x="330" y="63"/>
                </a:cubicBezTo>
                <a:cubicBezTo>
                  <a:pt x="344" y="62"/>
                  <a:pt x="354" y="64"/>
                  <a:pt x="368" y="62"/>
                </a:cubicBezTo>
                <a:cubicBezTo>
                  <a:pt x="335" y="62"/>
                  <a:pt x="335" y="62"/>
                  <a:pt x="335" y="62"/>
                </a:cubicBezTo>
                <a:cubicBezTo>
                  <a:pt x="345" y="61"/>
                  <a:pt x="357" y="61"/>
                  <a:pt x="368" y="61"/>
                </a:cubicBezTo>
                <a:cubicBezTo>
                  <a:pt x="369" y="61"/>
                  <a:pt x="369" y="60"/>
                  <a:pt x="370" y="61"/>
                </a:cubicBezTo>
                <a:cubicBezTo>
                  <a:pt x="371" y="59"/>
                  <a:pt x="375" y="60"/>
                  <a:pt x="378" y="60"/>
                </a:cubicBezTo>
                <a:cubicBezTo>
                  <a:pt x="375" y="61"/>
                  <a:pt x="375" y="61"/>
                  <a:pt x="375" y="61"/>
                </a:cubicBezTo>
                <a:cubicBezTo>
                  <a:pt x="382" y="61"/>
                  <a:pt x="391" y="61"/>
                  <a:pt x="399" y="61"/>
                </a:cubicBezTo>
                <a:cubicBezTo>
                  <a:pt x="400" y="60"/>
                  <a:pt x="400" y="60"/>
                  <a:pt x="400" y="60"/>
                </a:cubicBezTo>
                <a:cubicBezTo>
                  <a:pt x="402" y="59"/>
                  <a:pt x="404" y="61"/>
                  <a:pt x="406" y="60"/>
                </a:cubicBezTo>
                <a:cubicBezTo>
                  <a:pt x="406" y="60"/>
                  <a:pt x="406" y="60"/>
                  <a:pt x="406" y="60"/>
                </a:cubicBezTo>
                <a:cubicBezTo>
                  <a:pt x="426" y="61"/>
                  <a:pt x="450" y="60"/>
                  <a:pt x="471" y="60"/>
                </a:cubicBezTo>
                <a:cubicBezTo>
                  <a:pt x="453" y="59"/>
                  <a:pt x="433" y="59"/>
                  <a:pt x="415" y="59"/>
                </a:cubicBezTo>
                <a:cubicBezTo>
                  <a:pt x="415" y="59"/>
                  <a:pt x="415" y="59"/>
                  <a:pt x="415" y="59"/>
                </a:cubicBezTo>
                <a:cubicBezTo>
                  <a:pt x="414" y="59"/>
                  <a:pt x="414" y="59"/>
                  <a:pt x="414" y="59"/>
                </a:cubicBezTo>
                <a:cubicBezTo>
                  <a:pt x="410" y="57"/>
                  <a:pt x="407" y="61"/>
                  <a:pt x="403" y="59"/>
                </a:cubicBezTo>
                <a:cubicBezTo>
                  <a:pt x="396" y="61"/>
                  <a:pt x="390" y="57"/>
                  <a:pt x="383" y="59"/>
                </a:cubicBezTo>
                <a:cubicBezTo>
                  <a:pt x="381" y="58"/>
                  <a:pt x="381" y="58"/>
                  <a:pt x="381" y="58"/>
                </a:cubicBezTo>
                <a:cubicBezTo>
                  <a:pt x="393" y="57"/>
                  <a:pt x="403" y="59"/>
                  <a:pt x="414" y="58"/>
                </a:cubicBezTo>
                <a:cubicBezTo>
                  <a:pt x="404" y="57"/>
                  <a:pt x="404" y="57"/>
                  <a:pt x="404" y="57"/>
                </a:cubicBezTo>
                <a:cubicBezTo>
                  <a:pt x="403" y="57"/>
                  <a:pt x="399" y="58"/>
                  <a:pt x="399" y="56"/>
                </a:cubicBezTo>
                <a:cubicBezTo>
                  <a:pt x="381" y="55"/>
                  <a:pt x="381" y="55"/>
                  <a:pt x="381" y="55"/>
                </a:cubicBezTo>
                <a:cubicBezTo>
                  <a:pt x="380" y="55"/>
                  <a:pt x="379" y="55"/>
                  <a:pt x="379" y="54"/>
                </a:cubicBezTo>
                <a:cubicBezTo>
                  <a:pt x="380" y="54"/>
                  <a:pt x="381" y="54"/>
                  <a:pt x="382" y="54"/>
                </a:cubicBezTo>
                <a:cubicBezTo>
                  <a:pt x="382" y="54"/>
                  <a:pt x="382" y="54"/>
                  <a:pt x="382" y="54"/>
                </a:cubicBezTo>
                <a:cubicBezTo>
                  <a:pt x="382" y="54"/>
                  <a:pt x="381" y="54"/>
                  <a:pt x="381" y="54"/>
                </a:cubicBezTo>
                <a:cubicBezTo>
                  <a:pt x="383" y="54"/>
                  <a:pt x="383" y="54"/>
                  <a:pt x="383" y="54"/>
                </a:cubicBezTo>
                <a:cubicBezTo>
                  <a:pt x="383" y="54"/>
                  <a:pt x="383" y="54"/>
                  <a:pt x="382" y="54"/>
                </a:cubicBezTo>
                <a:cubicBezTo>
                  <a:pt x="383" y="54"/>
                  <a:pt x="383" y="54"/>
                  <a:pt x="383" y="54"/>
                </a:cubicBezTo>
                <a:cubicBezTo>
                  <a:pt x="384" y="54"/>
                  <a:pt x="387" y="53"/>
                  <a:pt x="388" y="54"/>
                </a:cubicBezTo>
                <a:cubicBezTo>
                  <a:pt x="388" y="54"/>
                  <a:pt x="388" y="54"/>
                  <a:pt x="388" y="54"/>
                </a:cubicBezTo>
                <a:cubicBezTo>
                  <a:pt x="426" y="54"/>
                  <a:pt x="426" y="54"/>
                  <a:pt x="426" y="54"/>
                </a:cubicBezTo>
                <a:cubicBezTo>
                  <a:pt x="425" y="53"/>
                  <a:pt x="425" y="53"/>
                  <a:pt x="425" y="53"/>
                </a:cubicBezTo>
                <a:cubicBezTo>
                  <a:pt x="407" y="52"/>
                  <a:pt x="386" y="52"/>
                  <a:pt x="368" y="51"/>
                </a:cubicBezTo>
                <a:cubicBezTo>
                  <a:pt x="366" y="51"/>
                  <a:pt x="360" y="51"/>
                  <a:pt x="362" y="49"/>
                </a:cubicBezTo>
                <a:cubicBezTo>
                  <a:pt x="364" y="50"/>
                  <a:pt x="365" y="48"/>
                  <a:pt x="367" y="49"/>
                </a:cubicBezTo>
                <a:cubicBezTo>
                  <a:pt x="366" y="49"/>
                  <a:pt x="366" y="49"/>
                  <a:pt x="366" y="49"/>
                </a:cubicBezTo>
                <a:cubicBezTo>
                  <a:pt x="367" y="49"/>
                  <a:pt x="367" y="49"/>
                  <a:pt x="367" y="49"/>
                </a:cubicBezTo>
                <a:cubicBezTo>
                  <a:pt x="367" y="49"/>
                  <a:pt x="367" y="49"/>
                  <a:pt x="367" y="49"/>
                </a:cubicBezTo>
                <a:cubicBezTo>
                  <a:pt x="368" y="49"/>
                  <a:pt x="368" y="49"/>
                  <a:pt x="368" y="49"/>
                </a:cubicBezTo>
                <a:cubicBezTo>
                  <a:pt x="383" y="49"/>
                  <a:pt x="383" y="49"/>
                  <a:pt x="383" y="49"/>
                </a:cubicBezTo>
                <a:cubicBezTo>
                  <a:pt x="387" y="48"/>
                  <a:pt x="387" y="48"/>
                  <a:pt x="387" y="48"/>
                </a:cubicBezTo>
                <a:cubicBezTo>
                  <a:pt x="381" y="48"/>
                  <a:pt x="375" y="48"/>
                  <a:pt x="369" y="48"/>
                </a:cubicBezTo>
                <a:cubicBezTo>
                  <a:pt x="368" y="47"/>
                  <a:pt x="368" y="47"/>
                  <a:pt x="368" y="47"/>
                </a:cubicBezTo>
                <a:cubicBezTo>
                  <a:pt x="372" y="46"/>
                  <a:pt x="378" y="47"/>
                  <a:pt x="381" y="46"/>
                </a:cubicBezTo>
                <a:cubicBezTo>
                  <a:pt x="376" y="45"/>
                  <a:pt x="373" y="46"/>
                  <a:pt x="368" y="46"/>
                </a:cubicBezTo>
                <a:cubicBezTo>
                  <a:pt x="368" y="45"/>
                  <a:pt x="368" y="45"/>
                  <a:pt x="368" y="45"/>
                </a:cubicBezTo>
                <a:cubicBezTo>
                  <a:pt x="368" y="45"/>
                  <a:pt x="369" y="45"/>
                  <a:pt x="370" y="45"/>
                </a:cubicBezTo>
                <a:cubicBezTo>
                  <a:pt x="372" y="43"/>
                  <a:pt x="375" y="44"/>
                  <a:pt x="378" y="44"/>
                </a:cubicBezTo>
                <a:cubicBezTo>
                  <a:pt x="382" y="44"/>
                  <a:pt x="385" y="44"/>
                  <a:pt x="388" y="44"/>
                </a:cubicBezTo>
                <a:cubicBezTo>
                  <a:pt x="391" y="43"/>
                  <a:pt x="397" y="44"/>
                  <a:pt x="400" y="44"/>
                </a:cubicBezTo>
                <a:cubicBezTo>
                  <a:pt x="400" y="44"/>
                  <a:pt x="399" y="44"/>
                  <a:pt x="399" y="44"/>
                </a:cubicBezTo>
                <a:cubicBezTo>
                  <a:pt x="400" y="43"/>
                  <a:pt x="400" y="42"/>
                  <a:pt x="402" y="42"/>
                </a:cubicBezTo>
                <a:cubicBezTo>
                  <a:pt x="403" y="42"/>
                  <a:pt x="404" y="42"/>
                  <a:pt x="404" y="43"/>
                </a:cubicBezTo>
                <a:cubicBezTo>
                  <a:pt x="405" y="43"/>
                  <a:pt x="407" y="43"/>
                  <a:pt x="408" y="43"/>
                </a:cubicBezTo>
                <a:cubicBezTo>
                  <a:pt x="408" y="42"/>
                  <a:pt x="408" y="42"/>
                  <a:pt x="408" y="42"/>
                </a:cubicBezTo>
                <a:cubicBezTo>
                  <a:pt x="409" y="43"/>
                  <a:pt x="411" y="42"/>
                  <a:pt x="412" y="43"/>
                </a:cubicBezTo>
                <a:cubicBezTo>
                  <a:pt x="412" y="43"/>
                  <a:pt x="412" y="43"/>
                  <a:pt x="412" y="43"/>
                </a:cubicBezTo>
                <a:cubicBezTo>
                  <a:pt x="419" y="43"/>
                  <a:pt x="428" y="44"/>
                  <a:pt x="435" y="43"/>
                </a:cubicBezTo>
                <a:cubicBezTo>
                  <a:pt x="437" y="43"/>
                  <a:pt x="445" y="43"/>
                  <a:pt x="450" y="43"/>
                </a:cubicBezTo>
                <a:cubicBezTo>
                  <a:pt x="451" y="42"/>
                  <a:pt x="451" y="42"/>
                  <a:pt x="451" y="42"/>
                </a:cubicBezTo>
                <a:cubicBezTo>
                  <a:pt x="435" y="42"/>
                  <a:pt x="435" y="42"/>
                  <a:pt x="435" y="42"/>
                </a:cubicBezTo>
                <a:cubicBezTo>
                  <a:pt x="434" y="42"/>
                  <a:pt x="434" y="42"/>
                  <a:pt x="434" y="42"/>
                </a:cubicBezTo>
                <a:cubicBezTo>
                  <a:pt x="424" y="42"/>
                  <a:pt x="424" y="42"/>
                  <a:pt x="424" y="42"/>
                </a:cubicBezTo>
                <a:cubicBezTo>
                  <a:pt x="414" y="40"/>
                  <a:pt x="402" y="40"/>
                  <a:pt x="391" y="40"/>
                </a:cubicBezTo>
                <a:cubicBezTo>
                  <a:pt x="385" y="39"/>
                  <a:pt x="379" y="39"/>
                  <a:pt x="373" y="38"/>
                </a:cubicBezTo>
                <a:cubicBezTo>
                  <a:pt x="380" y="36"/>
                  <a:pt x="388" y="37"/>
                  <a:pt x="396" y="36"/>
                </a:cubicBezTo>
                <a:cubicBezTo>
                  <a:pt x="390" y="35"/>
                  <a:pt x="382" y="36"/>
                  <a:pt x="376" y="35"/>
                </a:cubicBezTo>
                <a:cubicBezTo>
                  <a:pt x="402" y="35"/>
                  <a:pt x="431" y="37"/>
                  <a:pt x="459" y="36"/>
                </a:cubicBezTo>
                <a:cubicBezTo>
                  <a:pt x="460" y="35"/>
                  <a:pt x="460" y="35"/>
                  <a:pt x="460" y="35"/>
                </a:cubicBezTo>
                <a:cubicBezTo>
                  <a:pt x="452" y="34"/>
                  <a:pt x="443" y="35"/>
                  <a:pt x="435" y="34"/>
                </a:cubicBezTo>
                <a:cubicBezTo>
                  <a:pt x="435" y="33"/>
                  <a:pt x="435" y="33"/>
                  <a:pt x="435" y="33"/>
                </a:cubicBezTo>
                <a:cubicBezTo>
                  <a:pt x="445" y="33"/>
                  <a:pt x="445" y="33"/>
                  <a:pt x="445" y="33"/>
                </a:cubicBezTo>
                <a:cubicBezTo>
                  <a:pt x="429" y="32"/>
                  <a:pt x="414" y="31"/>
                  <a:pt x="397" y="32"/>
                </a:cubicBezTo>
                <a:cubicBezTo>
                  <a:pt x="395" y="31"/>
                  <a:pt x="393" y="31"/>
                  <a:pt x="391" y="30"/>
                </a:cubicBezTo>
                <a:cubicBezTo>
                  <a:pt x="410" y="30"/>
                  <a:pt x="428" y="32"/>
                  <a:pt x="445" y="31"/>
                </a:cubicBezTo>
                <a:cubicBezTo>
                  <a:pt x="439" y="31"/>
                  <a:pt x="434" y="30"/>
                  <a:pt x="428" y="30"/>
                </a:cubicBezTo>
                <a:cubicBezTo>
                  <a:pt x="426" y="30"/>
                  <a:pt x="426" y="30"/>
                  <a:pt x="426" y="30"/>
                </a:cubicBezTo>
                <a:cubicBezTo>
                  <a:pt x="428" y="29"/>
                  <a:pt x="428" y="29"/>
                  <a:pt x="428" y="29"/>
                </a:cubicBezTo>
                <a:cubicBezTo>
                  <a:pt x="449" y="29"/>
                  <a:pt x="449" y="29"/>
                  <a:pt x="449" y="29"/>
                </a:cubicBezTo>
                <a:cubicBezTo>
                  <a:pt x="449" y="29"/>
                  <a:pt x="449" y="29"/>
                  <a:pt x="449" y="29"/>
                </a:cubicBezTo>
                <a:cubicBezTo>
                  <a:pt x="432" y="28"/>
                  <a:pt x="415" y="28"/>
                  <a:pt x="398" y="27"/>
                </a:cubicBezTo>
                <a:cubicBezTo>
                  <a:pt x="399" y="26"/>
                  <a:pt x="399" y="26"/>
                  <a:pt x="399" y="26"/>
                </a:cubicBezTo>
                <a:cubicBezTo>
                  <a:pt x="417" y="24"/>
                  <a:pt x="432" y="30"/>
                  <a:pt x="449" y="27"/>
                </a:cubicBezTo>
                <a:cubicBezTo>
                  <a:pt x="444" y="26"/>
                  <a:pt x="440" y="27"/>
                  <a:pt x="436" y="26"/>
                </a:cubicBezTo>
                <a:cubicBezTo>
                  <a:pt x="445" y="26"/>
                  <a:pt x="455" y="25"/>
                  <a:pt x="464" y="25"/>
                </a:cubicBezTo>
                <a:cubicBezTo>
                  <a:pt x="463" y="23"/>
                  <a:pt x="471" y="25"/>
                  <a:pt x="474" y="23"/>
                </a:cubicBezTo>
                <a:cubicBezTo>
                  <a:pt x="461" y="23"/>
                  <a:pt x="447" y="23"/>
                  <a:pt x="435" y="22"/>
                </a:cubicBezTo>
                <a:cubicBezTo>
                  <a:pt x="438" y="21"/>
                  <a:pt x="441" y="21"/>
                  <a:pt x="444" y="21"/>
                </a:cubicBezTo>
                <a:cubicBezTo>
                  <a:pt x="443" y="21"/>
                  <a:pt x="443" y="21"/>
                  <a:pt x="443" y="20"/>
                </a:cubicBezTo>
                <a:cubicBezTo>
                  <a:pt x="443" y="20"/>
                  <a:pt x="443" y="20"/>
                  <a:pt x="443" y="20"/>
                </a:cubicBezTo>
                <a:cubicBezTo>
                  <a:pt x="452" y="20"/>
                  <a:pt x="460" y="21"/>
                  <a:pt x="468" y="19"/>
                </a:cubicBezTo>
                <a:cubicBezTo>
                  <a:pt x="464" y="19"/>
                  <a:pt x="460" y="19"/>
                  <a:pt x="457" y="18"/>
                </a:cubicBezTo>
                <a:cubicBezTo>
                  <a:pt x="457" y="18"/>
                  <a:pt x="458" y="17"/>
                  <a:pt x="458" y="17"/>
                </a:cubicBezTo>
                <a:cubicBezTo>
                  <a:pt x="457" y="17"/>
                  <a:pt x="455" y="17"/>
                  <a:pt x="454" y="16"/>
                </a:cubicBezTo>
                <a:cubicBezTo>
                  <a:pt x="455" y="15"/>
                  <a:pt x="455" y="15"/>
                  <a:pt x="455" y="15"/>
                </a:cubicBezTo>
                <a:cubicBezTo>
                  <a:pt x="459" y="17"/>
                  <a:pt x="463" y="15"/>
                  <a:pt x="467" y="15"/>
                </a:cubicBezTo>
                <a:cubicBezTo>
                  <a:pt x="446" y="13"/>
                  <a:pt x="446" y="13"/>
                  <a:pt x="446" y="13"/>
                </a:cubicBezTo>
                <a:cubicBezTo>
                  <a:pt x="457" y="13"/>
                  <a:pt x="467" y="13"/>
                  <a:pt x="478" y="13"/>
                </a:cubicBezTo>
                <a:close/>
                <a:moveTo>
                  <a:pt x="20" y="46"/>
                </a:moveTo>
                <a:cubicBezTo>
                  <a:pt x="22" y="46"/>
                  <a:pt x="22" y="46"/>
                  <a:pt x="22" y="46"/>
                </a:cubicBezTo>
                <a:cubicBezTo>
                  <a:pt x="22" y="46"/>
                  <a:pt x="22" y="46"/>
                  <a:pt x="22" y="46"/>
                </a:cubicBezTo>
                <a:lnTo>
                  <a:pt x="20" y="46"/>
                </a:lnTo>
                <a:close/>
                <a:moveTo>
                  <a:pt x="224" y="74"/>
                </a:moveTo>
                <a:cubicBezTo>
                  <a:pt x="214" y="74"/>
                  <a:pt x="214" y="74"/>
                  <a:pt x="214" y="74"/>
                </a:cubicBezTo>
                <a:cubicBezTo>
                  <a:pt x="213" y="74"/>
                  <a:pt x="213" y="74"/>
                  <a:pt x="212" y="74"/>
                </a:cubicBezTo>
                <a:cubicBezTo>
                  <a:pt x="214" y="74"/>
                  <a:pt x="214" y="74"/>
                  <a:pt x="214" y="74"/>
                </a:cubicBezTo>
                <a:cubicBezTo>
                  <a:pt x="216" y="74"/>
                  <a:pt x="217" y="73"/>
                  <a:pt x="218" y="73"/>
                </a:cubicBezTo>
                <a:cubicBezTo>
                  <a:pt x="234" y="73"/>
                  <a:pt x="234" y="73"/>
                  <a:pt x="234" y="73"/>
                </a:cubicBezTo>
                <a:cubicBezTo>
                  <a:pt x="234" y="73"/>
                  <a:pt x="234" y="73"/>
                  <a:pt x="235" y="73"/>
                </a:cubicBezTo>
                <a:cubicBezTo>
                  <a:pt x="234" y="73"/>
                  <a:pt x="234" y="73"/>
                  <a:pt x="234" y="73"/>
                </a:cubicBezTo>
                <a:cubicBezTo>
                  <a:pt x="230" y="73"/>
                  <a:pt x="227" y="73"/>
                  <a:pt x="224" y="74"/>
                </a:cubicBezTo>
                <a:close/>
                <a:moveTo>
                  <a:pt x="380" y="69"/>
                </a:moveTo>
                <a:cubicBezTo>
                  <a:pt x="379" y="69"/>
                  <a:pt x="378" y="69"/>
                  <a:pt x="377" y="69"/>
                </a:cubicBezTo>
                <a:cubicBezTo>
                  <a:pt x="377" y="69"/>
                  <a:pt x="379" y="69"/>
                  <a:pt x="380" y="69"/>
                </a:cubicBezTo>
                <a:close/>
                <a:moveTo>
                  <a:pt x="367" y="70"/>
                </a:moveTo>
                <a:cubicBezTo>
                  <a:pt x="364" y="70"/>
                  <a:pt x="364" y="70"/>
                  <a:pt x="364" y="70"/>
                </a:cubicBezTo>
                <a:cubicBezTo>
                  <a:pt x="364" y="70"/>
                  <a:pt x="364" y="70"/>
                  <a:pt x="364" y="70"/>
                </a:cubicBezTo>
                <a:cubicBezTo>
                  <a:pt x="364" y="70"/>
                  <a:pt x="364" y="70"/>
                  <a:pt x="364" y="70"/>
                </a:cubicBezTo>
                <a:cubicBezTo>
                  <a:pt x="365" y="70"/>
                  <a:pt x="366" y="69"/>
                  <a:pt x="367" y="70"/>
                </a:cubicBezTo>
                <a:close/>
                <a:moveTo>
                  <a:pt x="415" y="11"/>
                </a:moveTo>
                <a:cubicBezTo>
                  <a:pt x="410" y="11"/>
                  <a:pt x="410" y="11"/>
                  <a:pt x="410" y="11"/>
                </a:cubicBezTo>
                <a:cubicBezTo>
                  <a:pt x="411" y="11"/>
                  <a:pt x="413" y="11"/>
                  <a:pt x="415" y="11"/>
                </a:cubicBezTo>
                <a:cubicBezTo>
                  <a:pt x="419" y="11"/>
                  <a:pt x="419" y="11"/>
                  <a:pt x="419" y="11"/>
                </a:cubicBezTo>
                <a:cubicBezTo>
                  <a:pt x="417" y="12"/>
                  <a:pt x="416" y="11"/>
                  <a:pt x="415" y="11"/>
                </a:cubicBezTo>
                <a:close/>
                <a:moveTo>
                  <a:pt x="422" y="12"/>
                </a:moveTo>
                <a:cubicBezTo>
                  <a:pt x="428" y="12"/>
                  <a:pt x="433" y="12"/>
                  <a:pt x="439" y="13"/>
                </a:cubicBezTo>
                <a:cubicBezTo>
                  <a:pt x="433" y="12"/>
                  <a:pt x="428" y="12"/>
                  <a:pt x="422" y="12"/>
                </a:cubicBezTo>
                <a:close/>
              </a:path>
            </a:pathLst>
          </a:custGeom>
          <a:solidFill>
            <a:srgbClr val="2c3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文本框 7"/>
          <p:cNvSpPr/>
          <p:nvPr/>
        </p:nvSpPr>
        <p:spPr>
          <a:xfrm>
            <a:off x="2559600" y="1926720"/>
            <a:ext cx="11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腾祥铁山楷书简"/>
                <a:ea typeface="腾祥铁山楷书简"/>
              </a:rPr>
              <a:t>PPT</a:t>
            </a:r>
            <a:r>
              <a:rPr b="0" lang="zh-CN" sz="2400" spc="-1" strike="noStrike">
                <a:solidFill>
                  <a:srgbClr val="ffffff"/>
                </a:solidFill>
                <a:latin typeface="腾祥铁山楷书简"/>
                <a:ea typeface="腾祥铁山楷书简"/>
              </a:rPr>
              <a:t>图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文本框 9"/>
          <p:cNvSpPr/>
          <p:nvPr/>
        </p:nvSpPr>
        <p:spPr>
          <a:xfrm>
            <a:off x="8474760" y="1926720"/>
            <a:ext cx="11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腾祥铁山楷书简"/>
                <a:ea typeface="腾祥铁山楷书简"/>
              </a:rPr>
              <a:t>PPT</a:t>
            </a:r>
            <a:r>
              <a:rPr b="0" lang="zh-CN" sz="2400" spc="-1" strike="noStrike">
                <a:solidFill>
                  <a:srgbClr val="ffffff"/>
                </a:solidFill>
                <a:latin typeface="腾祥铁山楷书简"/>
                <a:ea typeface="腾祥铁山楷书简"/>
              </a:rPr>
              <a:t>模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矩形 10"/>
          <p:cNvSpPr/>
          <p:nvPr/>
        </p:nvSpPr>
        <p:spPr>
          <a:xfrm>
            <a:off x="1652760" y="4491000"/>
            <a:ext cx="29430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D</a:t>
            </a:r>
            <a:r>
              <a:rPr b="0" lang="zh-CN" sz="18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意空间工作室成立于</a:t>
            </a:r>
            <a:r>
              <a:rPr b="0" lang="en-US" sz="18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2015</a:t>
            </a:r>
            <a:r>
              <a:rPr b="0" lang="zh-CN" sz="18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年</a:t>
            </a:r>
            <a:r>
              <a:rPr b="0" lang="en-US" sz="18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10</a:t>
            </a:r>
            <a:r>
              <a:rPr b="0" lang="zh-CN" sz="18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月，只要是与演示相关的，我们竭诚为您服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矩形 11"/>
          <p:cNvSpPr/>
          <p:nvPr/>
        </p:nvSpPr>
        <p:spPr>
          <a:xfrm>
            <a:off x="7561440" y="4491000"/>
            <a:ext cx="29430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D</a:t>
            </a:r>
            <a:r>
              <a:rPr b="0" lang="zh-CN" sz="18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意空间工作室成立于</a:t>
            </a:r>
            <a:r>
              <a:rPr b="0" lang="en-US" sz="18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2015</a:t>
            </a:r>
            <a:r>
              <a:rPr b="0" lang="zh-CN" sz="18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年</a:t>
            </a:r>
            <a:r>
              <a:rPr b="0" lang="en-US" sz="18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10</a:t>
            </a:r>
            <a:r>
              <a:rPr b="0" lang="zh-CN" sz="18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月，只要是与演示相关的，我们竭诚为您服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虚尾箭头 12"/>
          <p:cNvSpPr/>
          <p:nvPr/>
        </p:nvSpPr>
        <p:spPr>
          <a:xfrm rot="16200000">
            <a:off x="1544760" y="2992320"/>
            <a:ext cx="1177920" cy="961920"/>
          </a:xfrm>
          <a:custGeom>
            <a:avLst/>
            <a:gdLst>
              <a:gd name="textAreaLeft" fmla="*/ 150120 w 1177920"/>
              <a:gd name="textAreaRight" fmla="*/ 937440 w 1177920"/>
              <a:gd name="textAreaTop" fmla="*/ 240480 h 961920"/>
              <a:gd name="textAreaBottom" fmla="*/ 721440 h 961920"/>
            </a:gdLst>
            <a:ahLst/>
            <a:rect l="textAreaLeft" t="textAreaTop" r="textAreaRight" b="textAreaBottom"/>
            <a:pathLst>
              <a:path w="1177925" h="962025">
                <a:moveTo>
                  <a:pt x="0" y="240506"/>
                </a:moveTo>
                <a:lnTo>
                  <a:pt x="30063" y="240506"/>
                </a:lnTo>
                <a:lnTo>
                  <a:pt x="30063" y="721519"/>
                </a:lnTo>
                <a:lnTo>
                  <a:pt x="0" y="721519"/>
                </a:lnTo>
                <a:close/>
                <a:moveTo>
                  <a:pt x="60127" y="240506"/>
                </a:moveTo>
                <a:lnTo>
                  <a:pt x="120253" y="240506"/>
                </a:lnTo>
                <a:lnTo>
                  <a:pt x="120253" y="721519"/>
                </a:lnTo>
                <a:lnTo>
                  <a:pt x="60127" y="721519"/>
                </a:lnTo>
                <a:close/>
                <a:moveTo>
                  <a:pt x="150316" y="240506"/>
                </a:moveTo>
                <a:lnTo>
                  <a:pt x="696913" y="240506"/>
                </a:lnTo>
                <a:lnTo>
                  <a:pt x="696913" y="0"/>
                </a:lnTo>
                <a:lnTo>
                  <a:pt x="1177925" y="481013"/>
                </a:lnTo>
                <a:lnTo>
                  <a:pt x="696913" y="962025"/>
                </a:lnTo>
                <a:lnTo>
                  <a:pt x="696913" y="721519"/>
                </a:lnTo>
                <a:lnTo>
                  <a:pt x="150316" y="721519"/>
                </a:lnTo>
                <a:close/>
              </a:path>
            </a:pathLst>
          </a:custGeom>
          <a:solidFill>
            <a:srgbClr val="2c3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文本框 16"/>
          <p:cNvSpPr/>
          <p:nvPr/>
        </p:nvSpPr>
        <p:spPr>
          <a:xfrm>
            <a:off x="2672280" y="2877840"/>
            <a:ext cx="160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c3c5e"/>
                </a:solidFill>
                <a:latin typeface="腾祥铁山楷书简"/>
                <a:ea typeface="腾祥铁山楷书简"/>
              </a:rPr>
              <a:t>40</a:t>
            </a:r>
            <a:r>
              <a:rPr b="0" lang="en-US" sz="3600" spc="-1" strike="noStrike">
                <a:solidFill>
                  <a:srgbClr val="2c3c5e"/>
                </a:solidFill>
                <a:latin typeface="腾祥铁山楷书简"/>
                <a:ea typeface="腾祥铁山楷书简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虚尾箭头 18"/>
          <p:cNvSpPr/>
          <p:nvPr/>
        </p:nvSpPr>
        <p:spPr>
          <a:xfrm rot="16200000">
            <a:off x="7453440" y="2992320"/>
            <a:ext cx="1177920" cy="961920"/>
          </a:xfrm>
          <a:custGeom>
            <a:avLst/>
            <a:gdLst>
              <a:gd name="textAreaLeft" fmla="*/ 150120 w 1177920"/>
              <a:gd name="textAreaRight" fmla="*/ 937440 w 1177920"/>
              <a:gd name="textAreaTop" fmla="*/ 240480 h 961920"/>
              <a:gd name="textAreaBottom" fmla="*/ 721440 h 961920"/>
            </a:gdLst>
            <a:ahLst/>
            <a:rect l="textAreaLeft" t="textAreaTop" r="textAreaRight" b="textAreaBottom"/>
            <a:pathLst>
              <a:path w="1177925" h="962025">
                <a:moveTo>
                  <a:pt x="0" y="240506"/>
                </a:moveTo>
                <a:lnTo>
                  <a:pt x="30063" y="240506"/>
                </a:lnTo>
                <a:lnTo>
                  <a:pt x="30063" y="721519"/>
                </a:lnTo>
                <a:lnTo>
                  <a:pt x="0" y="721519"/>
                </a:lnTo>
                <a:close/>
                <a:moveTo>
                  <a:pt x="60127" y="240506"/>
                </a:moveTo>
                <a:lnTo>
                  <a:pt x="120253" y="240506"/>
                </a:lnTo>
                <a:lnTo>
                  <a:pt x="120253" y="721519"/>
                </a:lnTo>
                <a:lnTo>
                  <a:pt x="60127" y="721519"/>
                </a:lnTo>
                <a:close/>
                <a:moveTo>
                  <a:pt x="150316" y="240506"/>
                </a:moveTo>
                <a:lnTo>
                  <a:pt x="696913" y="240506"/>
                </a:lnTo>
                <a:lnTo>
                  <a:pt x="696913" y="0"/>
                </a:lnTo>
                <a:lnTo>
                  <a:pt x="1177925" y="481013"/>
                </a:lnTo>
                <a:lnTo>
                  <a:pt x="696913" y="962025"/>
                </a:lnTo>
                <a:lnTo>
                  <a:pt x="696913" y="721519"/>
                </a:lnTo>
                <a:lnTo>
                  <a:pt x="150316" y="721519"/>
                </a:lnTo>
                <a:close/>
              </a:path>
            </a:pathLst>
          </a:custGeom>
          <a:solidFill>
            <a:srgbClr val="2c3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文本框 19"/>
          <p:cNvSpPr/>
          <p:nvPr/>
        </p:nvSpPr>
        <p:spPr>
          <a:xfrm>
            <a:off x="8580960" y="2877840"/>
            <a:ext cx="160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c3c5e"/>
                </a:solidFill>
                <a:latin typeface="腾祥铁山楷书简"/>
                <a:ea typeface="腾祥铁山楷书简"/>
              </a:rPr>
              <a:t>80</a:t>
            </a:r>
            <a:r>
              <a:rPr b="0" lang="en-US" sz="3600" spc="-1" strike="noStrike">
                <a:solidFill>
                  <a:srgbClr val="2c3c5e"/>
                </a:solidFill>
                <a:latin typeface="腾祥铁山楷书简"/>
                <a:ea typeface="腾祥铁山楷书简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Freeform 10428"/>
          <p:cNvSpPr/>
          <p:nvPr/>
        </p:nvSpPr>
        <p:spPr>
          <a:xfrm rot="16200000">
            <a:off x="4591800" y="2384640"/>
            <a:ext cx="2863800" cy="2674800"/>
          </a:xfrm>
          <a:custGeom>
            <a:avLst/>
            <a:gdLst>
              <a:gd name="textAreaLeft" fmla="*/ 0 w 2863800"/>
              <a:gd name="textAreaRight" fmla="*/ 2864160 w 2863800"/>
              <a:gd name="textAreaTop" fmla="*/ 0 h 2674800"/>
              <a:gd name="textAreaBottom" fmla="*/ 2675160 h 2674800"/>
            </a:gdLst>
            <a:ahLst/>
            <a:rect l="textAreaLeft" t="textAreaTop" r="textAreaRight" b="textAreaBottom"/>
            <a:pathLst>
              <a:path w="165" h="154">
                <a:moveTo>
                  <a:pt x="92" y="6"/>
                </a:moveTo>
                <a:cubicBezTo>
                  <a:pt x="99" y="6"/>
                  <a:pt x="101" y="11"/>
                  <a:pt x="107" y="12"/>
                </a:cubicBezTo>
                <a:cubicBezTo>
                  <a:pt x="106" y="10"/>
                  <a:pt x="108" y="10"/>
                  <a:pt x="108" y="9"/>
                </a:cubicBezTo>
                <a:cubicBezTo>
                  <a:pt x="99" y="8"/>
                  <a:pt x="96" y="1"/>
                  <a:pt x="87" y="0"/>
                </a:cubicBezTo>
                <a:cubicBezTo>
                  <a:pt x="87" y="4"/>
                  <a:pt x="93" y="2"/>
                  <a:pt x="92" y="6"/>
                </a:cubicBezTo>
                <a:close/>
                <a:moveTo>
                  <a:pt x="89" y="15"/>
                </a:moveTo>
                <a:cubicBezTo>
                  <a:pt x="92" y="15"/>
                  <a:pt x="95" y="20"/>
                  <a:pt x="97" y="17"/>
                </a:cubicBezTo>
                <a:cubicBezTo>
                  <a:pt x="94" y="16"/>
                  <a:pt x="91" y="13"/>
                  <a:pt x="89" y="15"/>
                </a:cubicBezTo>
                <a:close/>
                <a:moveTo>
                  <a:pt x="20" y="32"/>
                </a:moveTo>
                <a:cubicBezTo>
                  <a:pt x="19" y="36"/>
                  <a:pt x="14" y="43"/>
                  <a:pt x="17" y="46"/>
                </a:cubicBezTo>
                <a:cubicBezTo>
                  <a:pt x="19" y="43"/>
                  <a:pt x="21" y="36"/>
                  <a:pt x="20" y="32"/>
                </a:cubicBezTo>
                <a:close/>
                <a:moveTo>
                  <a:pt x="12" y="48"/>
                </a:moveTo>
                <a:cubicBezTo>
                  <a:pt x="11" y="48"/>
                  <a:pt x="11" y="47"/>
                  <a:pt x="11" y="45"/>
                </a:cubicBezTo>
                <a:cubicBezTo>
                  <a:pt x="9" y="43"/>
                  <a:pt x="10" y="45"/>
                  <a:pt x="7" y="45"/>
                </a:cubicBezTo>
                <a:cubicBezTo>
                  <a:pt x="7" y="43"/>
                  <a:pt x="7" y="41"/>
                  <a:pt x="6" y="40"/>
                </a:cubicBezTo>
                <a:cubicBezTo>
                  <a:pt x="0" y="45"/>
                  <a:pt x="8" y="54"/>
                  <a:pt x="12" y="48"/>
                </a:cubicBezTo>
                <a:close/>
                <a:moveTo>
                  <a:pt x="151" y="52"/>
                </a:moveTo>
                <a:cubicBezTo>
                  <a:pt x="152" y="51"/>
                  <a:pt x="151" y="47"/>
                  <a:pt x="150" y="45"/>
                </a:cubicBezTo>
                <a:cubicBezTo>
                  <a:pt x="151" y="48"/>
                  <a:pt x="148" y="50"/>
                  <a:pt x="151" y="52"/>
                </a:cubicBezTo>
                <a:close/>
                <a:moveTo>
                  <a:pt x="152" y="82"/>
                </a:moveTo>
                <a:cubicBezTo>
                  <a:pt x="149" y="82"/>
                  <a:pt x="149" y="82"/>
                  <a:pt x="149" y="82"/>
                </a:cubicBezTo>
                <a:cubicBezTo>
                  <a:pt x="149" y="85"/>
                  <a:pt x="151" y="86"/>
                  <a:pt x="149" y="87"/>
                </a:cubicBezTo>
                <a:cubicBezTo>
                  <a:pt x="152" y="87"/>
                  <a:pt x="151" y="84"/>
                  <a:pt x="152" y="82"/>
                </a:cubicBezTo>
                <a:close/>
                <a:moveTo>
                  <a:pt x="132" y="131"/>
                </a:moveTo>
                <a:cubicBezTo>
                  <a:pt x="138" y="122"/>
                  <a:pt x="141" y="110"/>
                  <a:pt x="148" y="102"/>
                </a:cubicBezTo>
                <a:cubicBezTo>
                  <a:pt x="147" y="101"/>
                  <a:pt x="145" y="101"/>
                  <a:pt x="145" y="100"/>
                </a:cubicBezTo>
                <a:cubicBezTo>
                  <a:pt x="148" y="89"/>
                  <a:pt x="145" y="79"/>
                  <a:pt x="147" y="69"/>
                </a:cubicBezTo>
                <a:cubicBezTo>
                  <a:pt x="144" y="69"/>
                  <a:pt x="148" y="72"/>
                  <a:pt x="146" y="73"/>
                </a:cubicBezTo>
                <a:cubicBezTo>
                  <a:pt x="140" y="66"/>
                  <a:pt x="144" y="50"/>
                  <a:pt x="136" y="45"/>
                </a:cubicBezTo>
                <a:cubicBezTo>
                  <a:pt x="133" y="31"/>
                  <a:pt x="122" y="26"/>
                  <a:pt x="113" y="18"/>
                </a:cubicBezTo>
                <a:cubicBezTo>
                  <a:pt x="113" y="23"/>
                  <a:pt x="121" y="25"/>
                  <a:pt x="119" y="30"/>
                </a:cubicBezTo>
                <a:cubicBezTo>
                  <a:pt x="112" y="26"/>
                  <a:pt x="108" y="15"/>
                  <a:pt x="97" y="17"/>
                </a:cubicBezTo>
                <a:cubicBezTo>
                  <a:pt x="102" y="19"/>
                  <a:pt x="96" y="19"/>
                  <a:pt x="95" y="19"/>
                </a:cubicBezTo>
                <a:cubicBezTo>
                  <a:pt x="96" y="20"/>
                  <a:pt x="100" y="22"/>
                  <a:pt x="98" y="22"/>
                </a:cubicBezTo>
                <a:cubicBezTo>
                  <a:pt x="87" y="15"/>
                  <a:pt x="68" y="25"/>
                  <a:pt x="58" y="24"/>
                </a:cubicBezTo>
                <a:cubicBezTo>
                  <a:pt x="62" y="22"/>
                  <a:pt x="66" y="22"/>
                  <a:pt x="69" y="21"/>
                </a:cubicBezTo>
                <a:cubicBezTo>
                  <a:pt x="63" y="17"/>
                  <a:pt x="52" y="17"/>
                  <a:pt x="47" y="22"/>
                </a:cubicBezTo>
                <a:cubicBezTo>
                  <a:pt x="41" y="14"/>
                  <a:pt x="36" y="29"/>
                  <a:pt x="31" y="27"/>
                </a:cubicBezTo>
                <a:cubicBezTo>
                  <a:pt x="35" y="30"/>
                  <a:pt x="27" y="38"/>
                  <a:pt x="26" y="43"/>
                </a:cubicBezTo>
                <a:cubicBezTo>
                  <a:pt x="25" y="42"/>
                  <a:pt x="25" y="40"/>
                  <a:pt x="23" y="40"/>
                </a:cubicBezTo>
                <a:cubicBezTo>
                  <a:pt x="19" y="48"/>
                  <a:pt x="17" y="56"/>
                  <a:pt x="17" y="66"/>
                </a:cubicBezTo>
                <a:cubicBezTo>
                  <a:pt x="16" y="66"/>
                  <a:pt x="16" y="65"/>
                  <a:pt x="15" y="65"/>
                </a:cubicBezTo>
                <a:cubicBezTo>
                  <a:pt x="13" y="66"/>
                  <a:pt x="18" y="68"/>
                  <a:pt x="14" y="69"/>
                </a:cubicBezTo>
                <a:cubicBezTo>
                  <a:pt x="12" y="67"/>
                  <a:pt x="16" y="65"/>
                  <a:pt x="14" y="63"/>
                </a:cubicBezTo>
                <a:cubicBezTo>
                  <a:pt x="12" y="65"/>
                  <a:pt x="13" y="57"/>
                  <a:pt x="12" y="56"/>
                </a:cubicBezTo>
                <a:cubicBezTo>
                  <a:pt x="10" y="68"/>
                  <a:pt x="11" y="83"/>
                  <a:pt x="13" y="96"/>
                </a:cubicBezTo>
                <a:cubicBezTo>
                  <a:pt x="11" y="97"/>
                  <a:pt x="11" y="95"/>
                  <a:pt x="9" y="95"/>
                </a:cubicBezTo>
                <a:cubicBezTo>
                  <a:pt x="10" y="101"/>
                  <a:pt x="12" y="105"/>
                  <a:pt x="12" y="112"/>
                </a:cubicBezTo>
                <a:cubicBezTo>
                  <a:pt x="20" y="125"/>
                  <a:pt x="33" y="133"/>
                  <a:pt x="43" y="145"/>
                </a:cubicBezTo>
                <a:cubicBezTo>
                  <a:pt x="55" y="149"/>
                  <a:pt x="72" y="151"/>
                  <a:pt x="87" y="151"/>
                </a:cubicBezTo>
                <a:cubicBezTo>
                  <a:pt x="97" y="154"/>
                  <a:pt x="109" y="146"/>
                  <a:pt x="117" y="141"/>
                </a:cubicBezTo>
                <a:cubicBezTo>
                  <a:pt x="117" y="142"/>
                  <a:pt x="115" y="144"/>
                  <a:pt x="117" y="144"/>
                </a:cubicBezTo>
                <a:cubicBezTo>
                  <a:pt x="124" y="140"/>
                  <a:pt x="132" y="137"/>
                  <a:pt x="136" y="129"/>
                </a:cubicBezTo>
                <a:cubicBezTo>
                  <a:pt x="134" y="129"/>
                  <a:pt x="133" y="132"/>
                  <a:pt x="132" y="131"/>
                </a:cubicBezTo>
                <a:close/>
                <a:moveTo>
                  <a:pt x="31" y="37"/>
                </a:moveTo>
                <a:cubicBezTo>
                  <a:pt x="31" y="33"/>
                  <a:pt x="33" y="31"/>
                  <a:pt x="35" y="29"/>
                </a:cubicBezTo>
                <a:cubicBezTo>
                  <a:pt x="36" y="29"/>
                  <a:pt x="36" y="30"/>
                  <a:pt x="37" y="30"/>
                </a:cubicBezTo>
                <a:cubicBezTo>
                  <a:pt x="36" y="33"/>
                  <a:pt x="35" y="36"/>
                  <a:pt x="31" y="37"/>
                </a:cubicBezTo>
                <a:close/>
                <a:moveTo>
                  <a:pt x="77" y="30"/>
                </a:moveTo>
                <a:cubicBezTo>
                  <a:pt x="79" y="29"/>
                  <a:pt x="82" y="29"/>
                  <a:pt x="84" y="30"/>
                </a:cubicBezTo>
                <a:cubicBezTo>
                  <a:pt x="83" y="33"/>
                  <a:pt x="80" y="30"/>
                  <a:pt x="77" y="30"/>
                </a:cubicBezTo>
                <a:close/>
                <a:moveTo>
                  <a:pt x="101" y="34"/>
                </a:moveTo>
                <a:cubicBezTo>
                  <a:pt x="94" y="34"/>
                  <a:pt x="91" y="30"/>
                  <a:pt x="87" y="25"/>
                </a:cubicBezTo>
                <a:cubicBezTo>
                  <a:pt x="94" y="27"/>
                  <a:pt x="97" y="27"/>
                  <a:pt x="101" y="34"/>
                </a:cubicBezTo>
                <a:close/>
                <a:moveTo>
                  <a:pt x="89" y="31"/>
                </a:moveTo>
                <a:cubicBezTo>
                  <a:pt x="95" y="33"/>
                  <a:pt x="98" y="38"/>
                  <a:pt x="102" y="43"/>
                </a:cubicBezTo>
                <a:cubicBezTo>
                  <a:pt x="98" y="39"/>
                  <a:pt x="92" y="36"/>
                  <a:pt x="89" y="31"/>
                </a:cubicBezTo>
                <a:close/>
                <a:moveTo>
                  <a:pt x="110" y="32"/>
                </a:moveTo>
                <a:cubicBezTo>
                  <a:pt x="107" y="32"/>
                  <a:pt x="105" y="30"/>
                  <a:pt x="103" y="29"/>
                </a:cubicBezTo>
                <a:cubicBezTo>
                  <a:pt x="106" y="27"/>
                  <a:pt x="110" y="29"/>
                  <a:pt x="110" y="32"/>
                </a:cubicBezTo>
                <a:close/>
                <a:moveTo>
                  <a:pt x="164" y="77"/>
                </a:moveTo>
                <a:cubicBezTo>
                  <a:pt x="162" y="79"/>
                  <a:pt x="163" y="83"/>
                  <a:pt x="162" y="86"/>
                </a:cubicBezTo>
                <a:cubicBezTo>
                  <a:pt x="165" y="84"/>
                  <a:pt x="164" y="79"/>
                  <a:pt x="164" y="77"/>
                </a:cubicBezTo>
                <a:close/>
                <a:moveTo>
                  <a:pt x="158" y="100"/>
                </a:moveTo>
                <a:cubicBezTo>
                  <a:pt x="158" y="96"/>
                  <a:pt x="162" y="93"/>
                  <a:pt x="160" y="89"/>
                </a:cubicBezTo>
                <a:cubicBezTo>
                  <a:pt x="160" y="93"/>
                  <a:pt x="156" y="97"/>
                  <a:pt x="158" y="100"/>
                </a:cubicBezTo>
                <a:close/>
                <a:moveTo>
                  <a:pt x="141" y="125"/>
                </a:moveTo>
                <a:cubicBezTo>
                  <a:pt x="147" y="126"/>
                  <a:pt x="149" y="121"/>
                  <a:pt x="149" y="115"/>
                </a:cubicBezTo>
                <a:cubicBezTo>
                  <a:pt x="154" y="113"/>
                  <a:pt x="158" y="103"/>
                  <a:pt x="157" y="101"/>
                </a:cubicBezTo>
                <a:cubicBezTo>
                  <a:pt x="152" y="110"/>
                  <a:pt x="147" y="118"/>
                  <a:pt x="141" y="125"/>
                </a:cubicBezTo>
                <a:close/>
              </a:path>
            </a:pathLst>
          </a:custGeom>
          <a:solidFill>
            <a:srgbClr val="2c3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307440" y="318960"/>
            <a:ext cx="6432840" cy="5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6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d5070"/>
                </a:solidFill>
                <a:latin typeface="李旭科书法"/>
                <a:ea typeface="李旭科书法"/>
              </a:rPr>
              <a:t>请在此处添加标题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2" name="Freeform 115"/>
          <p:cNvSpPr/>
          <p:nvPr/>
        </p:nvSpPr>
        <p:spPr>
          <a:xfrm>
            <a:off x="2495520" y="3651120"/>
            <a:ext cx="7201080" cy="142920"/>
          </a:xfrm>
          <a:custGeom>
            <a:avLst/>
            <a:gdLst>
              <a:gd name="textAreaLeft" fmla="*/ 0 w 7201080"/>
              <a:gd name="textAreaRight" fmla="*/ 7201440 w 720108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469" h="71">
                <a:moveTo>
                  <a:pt x="468" y="35"/>
                </a:moveTo>
                <a:cubicBezTo>
                  <a:pt x="469" y="34"/>
                  <a:pt x="469" y="34"/>
                  <a:pt x="469" y="34"/>
                </a:cubicBezTo>
                <a:cubicBezTo>
                  <a:pt x="461" y="34"/>
                  <a:pt x="452" y="32"/>
                  <a:pt x="445" y="32"/>
                </a:cubicBezTo>
                <a:cubicBezTo>
                  <a:pt x="449" y="31"/>
                  <a:pt x="455" y="31"/>
                  <a:pt x="459" y="30"/>
                </a:cubicBezTo>
                <a:cubicBezTo>
                  <a:pt x="458" y="30"/>
                  <a:pt x="456" y="31"/>
                  <a:pt x="455" y="30"/>
                </a:cubicBezTo>
                <a:cubicBezTo>
                  <a:pt x="458" y="29"/>
                  <a:pt x="462" y="30"/>
                  <a:pt x="465" y="29"/>
                </a:cubicBezTo>
                <a:cubicBezTo>
                  <a:pt x="447" y="27"/>
                  <a:pt x="447" y="27"/>
                  <a:pt x="447" y="27"/>
                </a:cubicBezTo>
                <a:cubicBezTo>
                  <a:pt x="443" y="26"/>
                  <a:pt x="438" y="27"/>
                  <a:pt x="434" y="26"/>
                </a:cubicBezTo>
                <a:cubicBezTo>
                  <a:pt x="438" y="25"/>
                  <a:pt x="443" y="26"/>
                  <a:pt x="447" y="25"/>
                </a:cubicBezTo>
                <a:cubicBezTo>
                  <a:pt x="446" y="25"/>
                  <a:pt x="446" y="25"/>
                  <a:pt x="446" y="25"/>
                </a:cubicBezTo>
                <a:cubicBezTo>
                  <a:pt x="450" y="24"/>
                  <a:pt x="450" y="24"/>
                  <a:pt x="450" y="24"/>
                </a:cubicBezTo>
                <a:cubicBezTo>
                  <a:pt x="445" y="23"/>
                  <a:pt x="440" y="22"/>
                  <a:pt x="435" y="22"/>
                </a:cubicBezTo>
                <a:cubicBezTo>
                  <a:pt x="432" y="19"/>
                  <a:pt x="424" y="22"/>
                  <a:pt x="420" y="19"/>
                </a:cubicBezTo>
                <a:cubicBezTo>
                  <a:pt x="418" y="21"/>
                  <a:pt x="415" y="18"/>
                  <a:pt x="413" y="20"/>
                </a:cubicBezTo>
                <a:cubicBezTo>
                  <a:pt x="410" y="20"/>
                  <a:pt x="406" y="20"/>
                  <a:pt x="403" y="20"/>
                </a:cubicBezTo>
                <a:cubicBezTo>
                  <a:pt x="404" y="19"/>
                  <a:pt x="404" y="19"/>
                  <a:pt x="404" y="19"/>
                </a:cubicBezTo>
                <a:cubicBezTo>
                  <a:pt x="399" y="18"/>
                  <a:pt x="399" y="18"/>
                  <a:pt x="399" y="18"/>
                </a:cubicBezTo>
                <a:cubicBezTo>
                  <a:pt x="400" y="18"/>
                  <a:pt x="400" y="17"/>
                  <a:pt x="400" y="18"/>
                </a:cubicBezTo>
                <a:cubicBezTo>
                  <a:pt x="400" y="17"/>
                  <a:pt x="400" y="17"/>
                  <a:pt x="400" y="17"/>
                </a:cubicBezTo>
                <a:cubicBezTo>
                  <a:pt x="394" y="17"/>
                  <a:pt x="394" y="17"/>
                  <a:pt x="394" y="17"/>
                </a:cubicBezTo>
                <a:cubicBezTo>
                  <a:pt x="394" y="16"/>
                  <a:pt x="395" y="16"/>
                  <a:pt x="395" y="16"/>
                </a:cubicBezTo>
                <a:cubicBezTo>
                  <a:pt x="389" y="16"/>
                  <a:pt x="389" y="16"/>
                  <a:pt x="389" y="16"/>
                </a:cubicBezTo>
                <a:cubicBezTo>
                  <a:pt x="247" y="14"/>
                  <a:pt x="247" y="14"/>
                  <a:pt x="247" y="14"/>
                </a:cubicBezTo>
                <a:cubicBezTo>
                  <a:pt x="250" y="13"/>
                  <a:pt x="250" y="13"/>
                  <a:pt x="250" y="13"/>
                </a:cubicBezTo>
                <a:cubicBezTo>
                  <a:pt x="244" y="13"/>
                  <a:pt x="244" y="13"/>
                  <a:pt x="244" y="13"/>
                </a:cubicBezTo>
                <a:cubicBezTo>
                  <a:pt x="244" y="12"/>
                  <a:pt x="244" y="12"/>
                  <a:pt x="244" y="12"/>
                </a:cubicBezTo>
                <a:cubicBezTo>
                  <a:pt x="248" y="12"/>
                  <a:pt x="248" y="12"/>
                  <a:pt x="248" y="12"/>
                </a:cubicBezTo>
                <a:cubicBezTo>
                  <a:pt x="316" y="13"/>
                  <a:pt x="316" y="13"/>
                  <a:pt x="316" y="13"/>
                </a:cubicBezTo>
                <a:cubicBezTo>
                  <a:pt x="337" y="14"/>
                  <a:pt x="337" y="14"/>
                  <a:pt x="337" y="14"/>
                </a:cubicBezTo>
                <a:cubicBezTo>
                  <a:pt x="340" y="14"/>
                  <a:pt x="345" y="16"/>
                  <a:pt x="348" y="14"/>
                </a:cubicBezTo>
                <a:cubicBezTo>
                  <a:pt x="349" y="14"/>
                  <a:pt x="350" y="14"/>
                  <a:pt x="350" y="14"/>
                </a:cubicBezTo>
                <a:cubicBezTo>
                  <a:pt x="350" y="15"/>
                  <a:pt x="349" y="15"/>
                  <a:pt x="349" y="15"/>
                </a:cubicBezTo>
                <a:cubicBezTo>
                  <a:pt x="367" y="15"/>
                  <a:pt x="367" y="15"/>
                  <a:pt x="367" y="15"/>
                </a:cubicBezTo>
                <a:cubicBezTo>
                  <a:pt x="369" y="13"/>
                  <a:pt x="376" y="14"/>
                  <a:pt x="381" y="14"/>
                </a:cubicBezTo>
                <a:cubicBezTo>
                  <a:pt x="381" y="14"/>
                  <a:pt x="381" y="14"/>
                  <a:pt x="381" y="14"/>
                </a:cubicBezTo>
                <a:cubicBezTo>
                  <a:pt x="414" y="13"/>
                  <a:pt x="414" y="13"/>
                  <a:pt x="414" y="13"/>
                </a:cubicBezTo>
                <a:cubicBezTo>
                  <a:pt x="393" y="13"/>
                  <a:pt x="370" y="12"/>
                  <a:pt x="348" y="12"/>
                </a:cubicBezTo>
                <a:cubicBezTo>
                  <a:pt x="348" y="11"/>
                  <a:pt x="350" y="12"/>
                  <a:pt x="350" y="11"/>
                </a:cubicBezTo>
                <a:cubicBezTo>
                  <a:pt x="334" y="11"/>
                  <a:pt x="318" y="10"/>
                  <a:pt x="301" y="10"/>
                </a:cubicBezTo>
                <a:cubicBezTo>
                  <a:pt x="300" y="11"/>
                  <a:pt x="300" y="11"/>
                  <a:pt x="300" y="11"/>
                </a:cubicBezTo>
                <a:cubicBezTo>
                  <a:pt x="195" y="11"/>
                  <a:pt x="195" y="11"/>
                  <a:pt x="195" y="11"/>
                </a:cubicBezTo>
                <a:cubicBezTo>
                  <a:pt x="192" y="10"/>
                  <a:pt x="192" y="10"/>
                  <a:pt x="192" y="10"/>
                </a:cubicBezTo>
                <a:cubicBezTo>
                  <a:pt x="199" y="9"/>
                  <a:pt x="207" y="10"/>
                  <a:pt x="214" y="9"/>
                </a:cubicBezTo>
                <a:cubicBezTo>
                  <a:pt x="215" y="10"/>
                  <a:pt x="215" y="10"/>
                  <a:pt x="215" y="10"/>
                </a:cubicBezTo>
                <a:cubicBezTo>
                  <a:pt x="253" y="9"/>
                  <a:pt x="253" y="9"/>
                  <a:pt x="253" y="9"/>
                </a:cubicBezTo>
                <a:cubicBezTo>
                  <a:pt x="238" y="9"/>
                  <a:pt x="221" y="9"/>
                  <a:pt x="206" y="9"/>
                </a:cubicBezTo>
                <a:cubicBezTo>
                  <a:pt x="101" y="8"/>
                  <a:pt x="101" y="8"/>
                  <a:pt x="101" y="8"/>
                </a:cubicBezTo>
                <a:cubicBezTo>
                  <a:pt x="62" y="8"/>
                  <a:pt x="62" y="8"/>
                  <a:pt x="62" y="8"/>
                </a:cubicBezTo>
                <a:cubicBezTo>
                  <a:pt x="62" y="7"/>
                  <a:pt x="62" y="7"/>
                  <a:pt x="62" y="7"/>
                </a:cubicBezTo>
                <a:cubicBezTo>
                  <a:pt x="160" y="7"/>
                  <a:pt x="160" y="7"/>
                  <a:pt x="160" y="7"/>
                </a:cubicBezTo>
                <a:cubicBezTo>
                  <a:pt x="233" y="8"/>
                  <a:pt x="233" y="8"/>
                  <a:pt x="233" y="8"/>
                </a:cubicBezTo>
                <a:cubicBezTo>
                  <a:pt x="239" y="7"/>
                  <a:pt x="239" y="7"/>
                  <a:pt x="239" y="7"/>
                </a:cubicBezTo>
                <a:cubicBezTo>
                  <a:pt x="182" y="6"/>
                  <a:pt x="182" y="6"/>
                  <a:pt x="182" y="6"/>
                </a:cubicBezTo>
                <a:cubicBezTo>
                  <a:pt x="111" y="6"/>
                  <a:pt x="111" y="6"/>
                  <a:pt x="111" y="6"/>
                </a:cubicBezTo>
                <a:cubicBezTo>
                  <a:pt x="66" y="5"/>
                  <a:pt x="66" y="5"/>
                  <a:pt x="66" y="5"/>
                </a:cubicBezTo>
                <a:cubicBezTo>
                  <a:pt x="228" y="5"/>
                  <a:pt x="228" y="5"/>
                  <a:pt x="228" y="5"/>
                </a:cubicBezTo>
                <a:cubicBezTo>
                  <a:pt x="322" y="6"/>
                  <a:pt x="322" y="6"/>
                  <a:pt x="322" y="6"/>
                </a:cubicBezTo>
                <a:cubicBezTo>
                  <a:pt x="379" y="6"/>
                  <a:pt x="379" y="6"/>
                  <a:pt x="379" y="6"/>
                </a:cubicBezTo>
                <a:cubicBezTo>
                  <a:pt x="379" y="6"/>
                  <a:pt x="379" y="6"/>
                  <a:pt x="379" y="6"/>
                </a:cubicBezTo>
                <a:cubicBezTo>
                  <a:pt x="298" y="5"/>
                  <a:pt x="298" y="5"/>
                  <a:pt x="298" y="5"/>
                </a:cubicBezTo>
                <a:cubicBezTo>
                  <a:pt x="175" y="4"/>
                  <a:pt x="175" y="4"/>
                  <a:pt x="175" y="4"/>
                </a:cubicBezTo>
                <a:cubicBezTo>
                  <a:pt x="101" y="4"/>
                  <a:pt x="101" y="4"/>
                  <a:pt x="101" y="4"/>
                </a:cubicBezTo>
                <a:cubicBezTo>
                  <a:pt x="79" y="3"/>
                  <a:pt x="79" y="3"/>
                  <a:pt x="79" y="3"/>
                </a:cubicBezTo>
                <a:cubicBezTo>
                  <a:pt x="78" y="3"/>
                  <a:pt x="77" y="5"/>
                  <a:pt x="76" y="3"/>
                </a:cubicBezTo>
                <a:cubicBezTo>
                  <a:pt x="32" y="3"/>
                  <a:pt x="32" y="3"/>
                  <a:pt x="32" y="3"/>
                </a:cubicBezTo>
                <a:cubicBezTo>
                  <a:pt x="22" y="4"/>
                  <a:pt x="11" y="0"/>
                  <a:pt x="3" y="5"/>
                </a:cubicBezTo>
                <a:cubicBezTo>
                  <a:pt x="3" y="5"/>
                  <a:pt x="4" y="5"/>
                  <a:pt x="5" y="5"/>
                </a:cubicBezTo>
                <a:cubicBezTo>
                  <a:pt x="4" y="7"/>
                  <a:pt x="3" y="6"/>
                  <a:pt x="2" y="7"/>
                </a:cubicBezTo>
                <a:cubicBezTo>
                  <a:pt x="3" y="8"/>
                  <a:pt x="3" y="8"/>
                  <a:pt x="3" y="8"/>
                </a:cubicBezTo>
                <a:cubicBezTo>
                  <a:pt x="2" y="8"/>
                  <a:pt x="2" y="8"/>
                  <a:pt x="2" y="8"/>
                </a:cubicBezTo>
                <a:cubicBezTo>
                  <a:pt x="3" y="8"/>
                  <a:pt x="5" y="8"/>
                  <a:pt x="6" y="9"/>
                </a:cubicBezTo>
                <a:cubicBezTo>
                  <a:pt x="4" y="8"/>
                  <a:pt x="3" y="11"/>
                  <a:pt x="0" y="11"/>
                </a:cubicBezTo>
                <a:cubicBezTo>
                  <a:pt x="1" y="12"/>
                  <a:pt x="3" y="12"/>
                  <a:pt x="4" y="12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3"/>
                  <a:pt x="6" y="14"/>
                  <a:pt x="7" y="14"/>
                </a:cubicBezTo>
                <a:cubicBezTo>
                  <a:pt x="6" y="14"/>
                  <a:pt x="6" y="14"/>
                  <a:pt x="6" y="14"/>
                </a:cubicBezTo>
                <a:cubicBezTo>
                  <a:pt x="5" y="15"/>
                  <a:pt x="4" y="15"/>
                  <a:pt x="4" y="16"/>
                </a:cubicBezTo>
                <a:cubicBezTo>
                  <a:pt x="0" y="18"/>
                  <a:pt x="2" y="21"/>
                  <a:pt x="1" y="25"/>
                </a:cubicBezTo>
                <a:cubicBezTo>
                  <a:pt x="1" y="28"/>
                  <a:pt x="4" y="29"/>
                  <a:pt x="6" y="31"/>
                </a:cubicBezTo>
                <a:cubicBezTo>
                  <a:pt x="3" y="32"/>
                  <a:pt x="8" y="35"/>
                  <a:pt x="4" y="36"/>
                </a:cubicBezTo>
                <a:cubicBezTo>
                  <a:pt x="5" y="37"/>
                  <a:pt x="5" y="37"/>
                  <a:pt x="5" y="37"/>
                </a:cubicBezTo>
                <a:cubicBezTo>
                  <a:pt x="4" y="38"/>
                  <a:pt x="7" y="39"/>
                  <a:pt x="5" y="40"/>
                </a:cubicBezTo>
                <a:cubicBezTo>
                  <a:pt x="6" y="43"/>
                  <a:pt x="7" y="46"/>
                  <a:pt x="11" y="47"/>
                </a:cubicBezTo>
                <a:cubicBezTo>
                  <a:pt x="8" y="49"/>
                  <a:pt x="8" y="49"/>
                  <a:pt x="8" y="49"/>
                </a:cubicBezTo>
                <a:cubicBezTo>
                  <a:pt x="7" y="52"/>
                  <a:pt x="12" y="53"/>
                  <a:pt x="12" y="56"/>
                </a:cubicBezTo>
                <a:cubicBezTo>
                  <a:pt x="32" y="64"/>
                  <a:pt x="57" y="65"/>
                  <a:pt x="80" y="66"/>
                </a:cubicBezTo>
                <a:cubicBezTo>
                  <a:pt x="121" y="66"/>
                  <a:pt x="159" y="68"/>
                  <a:pt x="197" y="68"/>
                </a:cubicBezTo>
                <a:cubicBezTo>
                  <a:pt x="277" y="68"/>
                  <a:pt x="277" y="68"/>
                  <a:pt x="277" y="68"/>
                </a:cubicBezTo>
                <a:cubicBezTo>
                  <a:pt x="290" y="69"/>
                  <a:pt x="303" y="68"/>
                  <a:pt x="315" y="69"/>
                </a:cubicBezTo>
                <a:cubicBezTo>
                  <a:pt x="346" y="71"/>
                  <a:pt x="382" y="68"/>
                  <a:pt x="411" y="67"/>
                </a:cubicBezTo>
                <a:cubicBezTo>
                  <a:pt x="425" y="65"/>
                  <a:pt x="439" y="67"/>
                  <a:pt x="452" y="64"/>
                </a:cubicBezTo>
                <a:cubicBezTo>
                  <a:pt x="436" y="65"/>
                  <a:pt x="418" y="65"/>
                  <a:pt x="401" y="65"/>
                </a:cubicBezTo>
                <a:cubicBezTo>
                  <a:pt x="414" y="63"/>
                  <a:pt x="426" y="64"/>
                  <a:pt x="440" y="63"/>
                </a:cubicBezTo>
                <a:cubicBezTo>
                  <a:pt x="441" y="62"/>
                  <a:pt x="444" y="62"/>
                  <a:pt x="443" y="61"/>
                </a:cubicBezTo>
                <a:cubicBezTo>
                  <a:pt x="461" y="59"/>
                  <a:pt x="461" y="59"/>
                  <a:pt x="461" y="59"/>
                </a:cubicBezTo>
                <a:cubicBezTo>
                  <a:pt x="451" y="58"/>
                  <a:pt x="451" y="58"/>
                  <a:pt x="451" y="58"/>
                </a:cubicBezTo>
                <a:cubicBezTo>
                  <a:pt x="455" y="57"/>
                  <a:pt x="461" y="58"/>
                  <a:pt x="464" y="56"/>
                </a:cubicBezTo>
                <a:cubicBezTo>
                  <a:pt x="454" y="57"/>
                  <a:pt x="441" y="55"/>
                  <a:pt x="429" y="55"/>
                </a:cubicBezTo>
                <a:cubicBezTo>
                  <a:pt x="439" y="54"/>
                  <a:pt x="450" y="54"/>
                  <a:pt x="459" y="53"/>
                </a:cubicBezTo>
                <a:cubicBezTo>
                  <a:pt x="457" y="53"/>
                  <a:pt x="454" y="54"/>
                  <a:pt x="452" y="52"/>
                </a:cubicBezTo>
                <a:cubicBezTo>
                  <a:pt x="453" y="51"/>
                  <a:pt x="453" y="51"/>
                  <a:pt x="453" y="51"/>
                </a:cubicBezTo>
                <a:cubicBezTo>
                  <a:pt x="456" y="52"/>
                  <a:pt x="461" y="50"/>
                  <a:pt x="461" y="50"/>
                </a:cubicBezTo>
                <a:cubicBezTo>
                  <a:pt x="450" y="49"/>
                  <a:pt x="450" y="49"/>
                  <a:pt x="450" y="49"/>
                </a:cubicBezTo>
                <a:cubicBezTo>
                  <a:pt x="454" y="50"/>
                  <a:pt x="457" y="48"/>
                  <a:pt x="461" y="47"/>
                </a:cubicBezTo>
                <a:cubicBezTo>
                  <a:pt x="461" y="47"/>
                  <a:pt x="461" y="47"/>
                  <a:pt x="461" y="47"/>
                </a:cubicBezTo>
                <a:cubicBezTo>
                  <a:pt x="456" y="45"/>
                  <a:pt x="449" y="48"/>
                  <a:pt x="445" y="45"/>
                </a:cubicBezTo>
                <a:cubicBezTo>
                  <a:pt x="452" y="45"/>
                  <a:pt x="460" y="45"/>
                  <a:pt x="466" y="43"/>
                </a:cubicBezTo>
                <a:cubicBezTo>
                  <a:pt x="459" y="43"/>
                  <a:pt x="459" y="43"/>
                  <a:pt x="459" y="43"/>
                </a:cubicBezTo>
                <a:cubicBezTo>
                  <a:pt x="460" y="39"/>
                  <a:pt x="453" y="42"/>
                  <a:pt x="451" y="40"/>
                </a:cubicBezTo>
                <a:cubicBezTo>
                  <a:pt x="453" y="39"/>
                  <a:pt x="456" y="40"/>
                  <a:pt x="458" y="39"/>
                </a:cubicBezTo>
                <a:cubicBezTo>
                  <a:pt x="457" y="39"/>
                  <a:pt x="455" y="39"/>
                  <a:pt x="454" y="38"/>
                </a:cubicBezTo>
                <a:cubicBezTo>
                  <a:pt x="458" y="37"/>
                  <a:pt x="463" y="38"/>
                  <a:pt x="467" y="37"/>
                </a:cubicBezTo>
                <a:cubicBezTo>
                  <a:pt x="462" y="36"/>
                  <a:pt x="456" y="37"/>
                  <a:pt x="451" y="36"/>
                </a:cubicBezTo>
                <a:cubicBezTo>
                  <a:pt x="457" y="35"/>
                  <a:pt x="463" y="36"/>
                  <a:pt x="468" y="35"/>
                </a:cubicBezTo>
                <a:close/>
                <a:moveTo>
                  <a:pt x="230" y="13"/>
                </a:moveTo>
                <a:cubicBezTo>
                  <a:pt x="232" y="12"/>
                  <a:pt x="232" y="12"/>
                  <a:pt x="232" y="12"/>
                </a:cubicBezTo>
                <a:cubicBezTo>
                  <a:pt x="232" y="13"/>
                  <a:pt x="232" y="13"/>
                  <a:pt x="232" y="13"/>
                </a:cubicBezTo>
                <a:lnTo>
                  <a:pt x="230" y="13"/>
                </a:lnTo>
                <a:close/>
                <a:moveTo>
                  <a:pt x="237" y="13"/>
                </a:moveTo>
                <a:cubicBezTo>
                  <a:pt x="237" y="12"/>
                  <a:pt x="237" y="12"/>
                  <a:pt x="237" y="12"/>
                </a:cubicBezTo>
                <a:cubicBezTo>
                  <a:pt x="242" y="13"/>
                  <a:pt x="242" y="13"/>
                  <a:pt x="242" y="13"/>
                </a:cubicBezTo>
                <a:lnTo>
                  <a:pt x="237" y="13"/>
                </a:lnTo>
                <a:close/>
              </a:path>
            </a:pathLst>
          </a:custGeom>
          <a:solidFill>
            <a:srgbClr val="2c3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reeform 115"/>
          <p:cNvSpPr/>
          <p:nvPr/>
        </p:nvSpPr>
        <p:spPr>
          <a:xfrm rot="5400000">
            <a:off x="3935160" y="3651120"/>
            <a:ext cx="4321080" cy="142920"/>
          </a:xfrm>
          <a:custGeom>
            <a:avLst/>
            <a:gdLst>
              <a:gd name="textAreaLeft" fmla="*/ 0 w 4321080"/>
              <a:gd name="textAreaRight" fmla="*/ 4321440 w 432108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469" h="71">
                <a:moveTo>
                  <a:pt x="468" y="35"/>
                </a:moveTo>
                <a:cubicBezTo>
                  <a:pt x="469" y="34"/>
                  <a:pt x="469" y="34"/>
                  <a:pt x="469" y="34"/>
                </a:cubicBezTo>
                <a:cubicBezTo>
                  <a:pt x="461" y="34"/>
                  <a:pt x="452" y="32"/>
                  <a:pt x="445" y="32"/>
                </a:cubicBezTo>
                <a:cubicBezTo>
                  <a:pt x="449" y="31"/>
                  <a:pt x="455" y="31"/>
                  <a:pt x="459" y="30"/>
                </a:cubicBezTo>
                <a:cubicBezTo>
                  <a:pt x="458" y="30"/>
                  <a:pt x="456" y="31"/>
                  <a:pt x="455" y="30"/>
                </a:cubicBezTo>
                <a:cubicBezTo>
                  <a:pt x="458" y="29"/>
                  <a:pt x="462" y="30"/>
                  <a:pt x="465" y="29"/>
                </a:cubicBezTo>
                <a:cubicBezTo>
                  <a:pt x="447" y="27"/>
                  <a:pt x="447" y="27"/>
                  <a:pt x="447" y="27"/>
                </a:cubicBezTo>
                <a:cubicBezTo>
                  <a:pt x="443" y="26"/>
                  <a:pt x="438" y="27"/>
                  <a:pt x="434" y="26"/>
                </a:cubicBezTo>
                <a:cubicBezTo>
                  <a:pt x="438" y="25"/>
                  <a:pt x="443" y="26"/>
                  <a:pt x="447" y="25"/>
                </a:cubicBezTo>
                <a:cubicBezTo>
                  <a:pt x="446" y="25"/>
                  <a:pt x="446" y="25"/>
                  <a:pt x="446" y="25"/>
                </a:cubicBezTo>
                <a:cubicBezTo>
                  <a:pt x="450" y="24"/>
                  <a:pt x="450" y="24"/>
                  <a:pt x="450" y="24"/>
                </a:cubicBezTo>
                <a:cubicBezTo>
                  <a:pt x="445" y="23"/>
                  <a:pt x="440" y="22"/>
                  <a:pt x="435" y="22"/>
                </a:cubicBezTo>
                <a:cubicBezTo>
                  <a:pt x="432" y="19"/>
                  <a:pt x="424" y="22"/>
                  <a:pt x="420" y="19"/>
                </a:cubicBezTo>
                <a:cubicBezTo>
                  <a:pt x="418" y="21"/>
                  <a:pt x="415" y="18"/>
                  <a:pt x="413" y="20"/>
                </a:cubicBezTo>
                <a:cubicBezTo>
                  <a:pt x="410" y="20"/>
                  <a:pt x="406" y="20"/>
                  <a:pt x="403" y="20"/>
                </a:cubicBezTo>
                <a:cubicBezTo>
                  <a:pt x="404" y="19"/>
                  <a:pt x="404" y="19"/>
                  <a:pt x="404" y="19"/>
                </a:cubicBezTo>
                <a:cubicBezTo>
                  <a:pt x="399" y="18"/>
                  <a:pt x="399" y="18"/>
                  <a:pt x="399" y="18"/>
                </a:cubicBezTo>
                <a:cubicBezTo>
                  <a:pt x="400" y="18"/>
                  <a:pt x="400" y="17"/>
                  <a:pt x="400" y="18"/>
                </a:cubicBezTo>
                <a:cubicBezTo>
                  <a:pt x="400" y="17"/>
                  <a:pt x="400" y="17"/>
                  <a:pt x="400" y="17"/>
                </a:cubicBezTo>
                <a:cubicBezTo>
                  <a:pt x="394" y="17"/>
                  <a:pt x="394" y="17"/>
                  <a:pt x="394" y="17"/>
                </a:cubicBezTo>
                <a:cubicBezTo>
                  <a:pt x="394" y="16"/>
                  <a:pt x="395" y="16"/>
                  <a:pt x="395" y="16"/>
                </a:cubicBezTo>
                <a:cubicBezTo>
                  <a:pt x="389" y="16"/>
                  <a:pt x="389" y="16"/>
                  <a:pt x="389" y="16"/>
                </a:cubicBezTo>
                <a:cubicBezTo>
                  <a:pt x="247" y="14"/>
                  <a:pt x="247" y="14"/>
                  <a:pt x="247" y="14"/>
                </a:cubicBezTo>
                <a:cubicBezTo>
                  <a:pt x="250" y="13"/>
                  <a:pt x="250" y="13"/>
                  <a:pt x="250" y="13"/>
                </a:cubicBezTo>
                <a:cubicBezTo>
                  <a:pt x="244" y="13"/>
                  <a:pt x="244" y="13"/>
                  <a:pt x="244" y="13"/>
                </a:cubicBezTo>
                <a:cubicBezTo>
                  <a:pt x="244" y="12"/>
                  <a:pt x="244" y="12"/>
                  <a:pt x="244" y="12"/>
                </a:cubicBezTo>
                <a:cubicBezTo>
                  <a:pt x="248" y="12"/>
                  <a:pt x="248" y="12"/>
                  <a:pt x="248" y="12"/>
                </a:cubicBezTo>
                <a:cubicBezTo>
                  <a:pt x="316" y="13"/>
                  <a:pt x="316" y="13"/>
                  <a:pt x="316" y="13"/>
                </a:cubicBezTo>
                <a:cubicBezTo>
                  <a:pt x="337" y="14"/>
                  <a:pt x="337" y="14"/>
                  <a:pt x="337" y="14"/>
                </a:cubicBezTo>
                <a:cubicBezTo>
                  <a:pt x="340" y="14"/>
                  <a:pt x="345" y="16"/>
                  <a:pt x="348" y="14"/>
                </a:cubicBezTo>
                <a:cubicBezTo>
                  <a:pt x="349" y="14"/>
                  <a:pt x="350" y="14"/>
                  <a:pt x="350" y="14"/>
                </a:cubicBezTo>
                <a:cubicBezTo>
                  <a:pt x="350" y="15"/>
                  <a:pt x="349" y="15"/>
                  <a:pt x="349" y="15"/>
                </a:cubicBezTo>
                <a:cubicBezTo>
                  <a:pt x="367" y="15"/>
                  <a:pt x="367" y="15"/>
                  <a:pt x="367" y="15"/>
                </a:cubicBezTo>
                <a:cubicBezTo>
                  <a:pt x="369" y="13"/>
                  <a:pt x="376" y="14"/>
                  <a:pt x="381" y="14"/>
                </a:cubicBezTo>
                <a:cubicBezTo>
                  <a:pt x="381" y="14"/>
                  <a:pt x="381" y="14"/>
                  <a:pt x="381" y="14"/>
                </a:cubicBezTo>
                <a:cubicBezTo>
                  <a:pt x="414" y="13"/>
                  <a:pt x="414" y="13"/>
                  <a:pt x="414" y="13"/>
                </a:cubicBezTo>
                <a:cubicBezTo>
                  <a:pt x="393" y="13"/>
                  <a:pt x="370" y="12"/>
                  <a:pt x="348" y="12"/>
                </a:cubicBezTo>
                <a:cubicBezTo>
                  <a:pt x="348" y="11"/>
                  <a:pt x="350" y="12"/>
                  <a:pt x="350" y="11"/>
                </a:cubicBezTo>
                <a:cubicBezTo>
                  <a:pt x="334" y="11"/>
                  <a:pt x="318" y="10"/>
                  <a:pt x="301" y="10"/>
                </a:cubicBezTo>
                <a:cubicBezTo>
                  <a:pt x="300" y="11"/>
                  <a:pt x="300" y="11"/>
                  <a:pt x="300" y="11"/>
                </a:cubicBezTo>
                <a:cubicBezTo>
                  <a:pt x="195" y="11"/>
                  <a:pt x="195" y="11"/>
                  <a:pt x="195" y="11"/>
                </a:cubicBezTo>
                <a:cubicBezTo>
                  <a:pt x="192" y="10"/>
                  <a:pt x="192" y="10"/>
                  <a:pt x="192" y="10"/>
                </a:cubicBezTo>
                <a:cubicBezTo>
                  <a:pt x="199" y="9"/>
                  <a:pt x="207" y="10"/>
                  <a:pt x="214" y="9"/>
                </a:cubicBezTo>
                <a:cubicBezTo>
                  <a:pt x="215" y="10"/>
                  <a:pt x="215" y="10"/>
                  <a:pt x="215" y="10"/>
                </a:cubicBezTo>
                <a:cubicBezTo>
                  <a:pt x="253" y="9"/>
                  <a:pt x="253" y="9"/>
                  <a:pt x="253" y="9"/>
                </a:cubicBezTo>
                <a:cubicBezTo>
                  <a:pt x="238" y="9"/>
                  <a:pt x="221" y="9"/>
                  <a:pt x="206" y="9"/>
                </a:cubicBezTo>
                <a:cubicBezTo>
                  <a:pt x="101" y="8"/>
                  <a:pt x="101" y="8"/>
                  <a:pt x="101" y="8"/>
                </a:cubicBezTo>
                <a:cubicBezTo>
                  <a:pt x="62" y="8"/>
                  <a:pt x="62" y="8"/>
                  <a:pt x="62" y="8"/>
                </a:cubicBezTo>
                <a:cubicBezTo>
                  <a:pt x="62" y="7"/>
                  <a:pt x="62" y="7"/>
                  <a:pt x="62" y="7"/>
                </a:cubicBezTo>
                <a:cubicBezTo>
                  <a:pt x="160" y="7"/>
                  <a:pt x="160" y="7"/>
                  <a:pt x="160" y="7"/>
                </a:cubicBezTo>
                <a:cubicBezTo>
                  <a:pt x="233" y="8"/>
                  <a:pt x="233" y="8"/>
                  <a:pt x="233" y="8"/>
                </a:cubicBezTo>
                <a:cubicBezTo>
                  <a:pt x="239" y="7"/>
                  <a:pt x="239" y="7"/>
                  <a:pt x="239" y="7"/>
                </a:cubicBezTo>
                <a:cubicBezTo>
                  <a:pt x="182" y="6"/>
                  <a:pt x="182" y="6"/>
                  <a:pt x="182" y="6"/>
                </a:cubicBezTo>
                <a:cubicBezTo>
                  <a:pt x="111" y="6"/>
                  <a:pt x="111" y="6"/>
                  <a:pt x="111" y="6"/>
                </a:cubicBezTo>
                <a:cubicBezTo>
                  <a:pt x="66" y="5"/>
                  <a:pt x="66" y="5"/>
                  <a:pt x="66" y="5"/>
                </a:cubicBezTo>
                <a:cubicBezTo>
                  <a:pt x="228" y="5"/>
                  <a:pt x="228" y="5"/>
                  <a:pt x="228" y="5"/>
                </a:cubicBezTo>
                <a:cubicBezTo>
                  <a:pt x="322" y="6"/>
                  <a:pt x="322" y="6"/>
                  <a:pt x="322" y="6"/>
                </a:cubicBezTo>
                <a:cubicBezTo>
                  <a:pt x="379" y="6"/>
                  <a:pt x="379" y="6"/>
                  <a:pt x="379" y="6"/>
                </a:cubicBezTo>
                <a:cubicBezTo>
                  <a:pt x="379" y="6"/>
                  <a:pt x="379" y="6"/>
                  <a:pt x="379" y="6"/>
                </a:cubicBezTo>
                <a:cubicBezTo>
                  <a:pt x="298" y="5"/>
                  <a:pt x="298" y="5"/>
                  <a:pt x="298" y="5"/>
                </a:cubicBezTo>
                <a:cubicBezTo>
                  <a:pt x="175" y="4"/>
                  <a:pt x="175" y="4"/>
                  <a:pt x="175" y="4"/>
                </a:cubicBezTo>
                <a:cubicBezTo>
                  <a:pt x="101" y="4"/>
                  <a:pt x="101" y="4"/>
                  <a:pt x="101" y="4"/>
                </a:cubicBezTo>
                <a:cubicBezTo>
                  <a:pt x="79" y="3"/>
                  <a:pt x="79" y="3"/>
                  <a:pt x="79" y="3"/>
                </a:cubicBezTo>
                <a:cubicBezTo>
                  <a:pt x="78" y="3"/>
                  <a:pt x="77" y="5"/>
                  <a:pt x="76" y="3"/>
                </a:cubicBezTo>
                <a:cubicBezTo>
                  <a:pt x="32" y="3"/>
                  <a:pt x="32" y="3"/>
                  <a:pt x="32" y="3"/>
                </a:cubicBezTo>
                <a:cubicBezTo>
                  <a:pt x="22" y="4"/>
                  <a:pt x="11" y="0"/>
                  <a:pt x="3" y="5"/>
                </a:cubicBezTo>
                <a:cubicBezTo>
                  <a:pt x="3" y="5"/>
                  <a:pt x="4" y="5"/>
                  <a:pt x="5" y="5"/>
                </a:cubicBezTo>
                <a:cubicBezTo>
                  <a:pt x="4" y="7"/>
                  <a:pt x="3" y="6"/>
                  <a:pt x="2" y="7"/>
                </a:cubicBezTo>
                <a:cubicBezTo>
                  <a:pt x="3" y="8"/>
                  <a:pt x="3" y="8"/>
                  <a:pt x="3" y="8"/>
                </a:cubicBezTo>
                <a:cubicBezTo>
                  <a:pt x="2" y="8"/>
                  <a:pt x="2" y="8"/>
                  <a:pt x="2" y="8"/>
                </a:cubicBezTo>
                <a:cubicBezTo>
                  <a:pt x="3" y="8"/>
                  <a:pt x="5" y="8"/>
                  <a:pt x="6" y="9"/>
                </a:cubicBezTo>
                <a:cubicBezTo>
                  <a:pt x="4" y="8"/>
                  <a:pt x="3" y="11"/>
                  <a:pt x="0" y="11"/>
                </a:cubicBezTo>
                <a:cubicBezTo>
                  <a:pt x="1" y="12"/>
                  <a:pt x="3" y="12"/>
                  <a:pt x="4" y="12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3"/>
                  <a:pt x="6" y="14"/>
                  <a:pt x="7" y="14"/>
                </a:cubicBezTo>
                <a:cubicBezTo>
                  <a:pt x="6" y="14"/>
                  <a:pt x="6" y="14"/>
                  <a:pt x="6" y="14"/>
                </a:cubicBezTo>
                <a:cubicBezTo>
                  <a:pt x="5" y="15"/>
                  <a:pt x="4" y="15"/>
                  <a:pt x="4" y="16"/>
                </a:cubicBezTo>
                <a:cubicBezTo>
                  <a:pt x="0" y="18"/>
                  <a:pt x="2" y="21"/>
                  <a:pt x="1" y="25"/>
                </a:cubicBezTo>
                <a:cubicBezTo>
                  <a:pt x="1" y="28"/>
                  <a:pt x="4" y="29"/>
                  <a:pt x="6" y="31"/>
                </a:cubicBezTo>
                <a:cubicBezTo>
                  <a:pt x="3" y="32"/>
                  <a:pt x="8" y="35"/>
                  <a:pt x="4" y="36"/>
                </a:cubicBezTo>
                <a:cubicBezTo>
                  <a:pt x="5" y="37"/>
                  <a:pt x="5" y="37"/>
                  <a:pt x="5" y="37"/>
                </a:cubicBezTo>
                <a:cubicBezTo>
                  <a:pt x="4" y="38"/>
                  <a:pt x="7" y="39"/>
                  <a:pt x="5" y="40"/>
                </a:cubicBezTo>
                <a:cubicBezTo>
                  <a:pt x="6" y="43"/>
                  <a:pt x="7" y="46"/>
                  <a:pt x="11" y="47"/>
                </a:cubicBezTo>
                <a:cubicBezTo>
                  <a:pt x="8" y="49"/>
                  <a:pt x="8" y="49"/>
                  <a:pt x="8" y="49"/>
                </a:cubicBezTo>
                <a:cubicBezTo>
                  <a:pt x="7" y="52"/>
                  <a:pt x="12" y="53"/>
                  <a:pt x="12" y="56"/>
                </a:cubicBezTo>
                <a:cubicBezTo>
                  <a:pt x="32" y="64"/>
                  <a:pt x="57" y="65"/>
                  <a:pt x="80" y="66"/>
                </a:cubicBezTo>
                <a:cubicBezTo>
                  <a:pt x="121" y="66"/>
                  <a:pt x="159" y="68"/>
                  <a:pt x="197" y="68"/>
                </a:cubicBezTo>
                <a:cubicBezTo>
                  <a:pt x="277" y="68"/>
                  <a:pt x="277" y="68"/>
                  <a:pt x="277" y="68"/>
                </a:cubicBezTo>
                <a:cubicBezTo>
                  <a:pt x="290" y="69"/>
                  <a:pt x="303" y="68"/>
                  <a:pt x="315" y="69"/>
                </a:cubicBezTo>
                <a:cubicBezTo>
                  <a:pt x="346" y="71"/>
                  <a:pt x="382" y="68"/>
                  <a:pt x="411" y="67"/>
                </a:cubicBezTo>
                <a:cubicBezTo>
                  <a:pt x="425" y="65"/>
                  <a:pt x="439" y="67"/>
                  <a:pt x="452" y="64"/>
                </a:cubicBezTo>
                <a:cubicBezTo>
                  <a:pt x="436" y="65"/>
                  <a:pt x="418" y="65"/>
                  <a:pt x="401" y="65"/>
                </a:cubicBezTo>
                <a:cubicBezTo>
                  <a:pt x="414" y="63"/>
                  <a:pt x="426" y="64"/>
                  <a:pt x="440" y="63"/>
                </a:cubicBezTo>
                <a:cubicBezTo>
                  <a:pt x="441" y="62"/>
                  <a:pt x="444" y="62"/>
                  <a:pt x="443" y="61"/>
                </a:cubicBezTo>
                <a:cubicBezTo>
                  <a:pt x="461" y="59"/>
                  <a:pt x="461" y="59"/>
                  <a:pt x="461" y="59"/>
                </a:cubicBezTo>
                <a:cubicBezTo>
                  <a:pt x="451" y="58"/>
                  <a:pt x="451" y="58"/>
                  <a:pt x="451" y="58"/>
                </a:cubicBezTo>
                <a:cubicBezTo>
                  <a:pt x="455" y="57"/>
                  <a:pt x="461" y="58"/>
                  <a:pt x="464" y="56"/>
                </a:cubicBezTo>
                <a:cubicBezTo>
                  <a:pt x="454" y="57"/>
                  <a:pt x="441" y="55"/>
                  <a:pt x="429" y="55"/>
                </a:cubicBezTo>
                <a:cubicBezTo>
                  <a:pt x="439" y="54"/>
                  <a:pt x="450" y="54"/>
                  <a:pt x="459" y="53"/>
                </a:cubicBezTo>
                <a:cubicBezTo>
                  <a:pt x="457" y="53"/>
                  <a:pt x="454" y="54"/>
                  <a:pt x="452" y="52"/>
                </a:cubicBezTo>
                <a:cubicBezTo>
                  <a:pt x="453" y="51"/>
                  <a:pt x="453" y="51"/>
                  <a:pt x="453" y="51"/>
                </a:cubicBezTo>
                <a:cubicBezTo>
                  <a:pt x="456" y="52"/>
                  <a:pt x="461" y="50"/>
                  <a:pt x="461" y="50"/>
                </a:cubicBezTo>
                <a:cubicBezTo>
                  <a:pt x="450" y="49"/>
                  <a:pt x="450" y="49"/>
                  <a:pt x="450" y="49"/>
                </a:cubicBezTo>
                <a:cubicBezTo>
                  <a:pt x="454" y="50"/>
                  <a:pt x="457" y="48"/>
                  <a:pt x="461" y="47"/>
                </a:cubicBezTo>
                <a:cubicBezTo>
                  <a:pt x="461" y="47"/>
                  <a:pt x="461" y="47"/>
                  <a:pt x="461" y="47"/>
                </a:cubicBezTo>
                <a:cubicBezTo>
                  <a:pt x="456" y="45"/>
                  <a:pt x="449" y="48"/>
                  <a:pt x="445" y="45"/>
                </a:cubicBezTo>
                <a:cubicBezTo>
                  <a:pt x="452" y="45"/>
                  <a:pt x="460" y="45"/>
                  <a:pt x="466" y="43"/>
                </a:cubicBezTo>
                <a:cubicBezTo>
                  <a:pt x="459" y="43"/>
                  <a:pt x="459" y="43"/>
                  <a:pt x="459" y="43"/>
                </a:cubicBezTo>
                <a:cubicBezTo>
                  <a:pt x="460" y="39"/>
                  <a:pt x="453" y="42"/>
                  <a:pt x="451" y="40"/>
                </a:cubicBezTo>
                <a:cubicBezTo>
                  <a:pt x="453" y="39"/>
                  <a:pt x="456" y="40"/>
                  <a:pt x="458" y="39"/>
                </a:cubicBezTo>
                <a:cubicBezTo>
                  <a:pt x="457" y="39"/>
                  <a:pt x="455" y="39"/>
                  <a:pt x="454" y="38"/>
                </a:cubicBezTo>
                <a:cubicBezTo>
                  <a:pt x="458" y="37"/>
                  <a:pt x="463" y="38"/>
                  <a:pt x="467" y="37"/>
                </a:cubicBezTo>
                <a:cubicBezTo>
                  <a:pt x="462" y="36"/>
                  <a:pt x="456" y="37"/>
                  <a:pt x="451" y="36"/>
                </a:cubicBezTo>
                <a:cubicBezTo>
                  <a:pt x="457" y="35"/>
                  <a:pt x="463" y="36"/>
                  <a:pt x="468" y="35"/>
                </a:cubicBezTo>
                <a:close/>
                <a:moveTo>
                  <a:pt x="230" y="13"/>
                </a:moveTo>
                <a:cubicBezTo>
                  <a:pt x="232" y="12"/>
                  <a:pt x="232" y="12"/>
                  <a:pt x="232" y="12"/>
                </a:cubicBezTo>
                <a:cubicBezTo>
                  <a:pt x="232" y="13"/>
                  <a:pt x="232" y="13"/>
                  <a:pt x="232" y="13"/>
                </a:cubicBezTo>
                <a:lnTo>
                  <a:pt x="230" y="13"/>
                </a:lnTo>
                <a:close/>
                <a:moveTo>
                  <a:pt x="237" y="13"/>
                </a:moveTo>
                <a:cubicBezTo>
                  <a:pt x="237" y="12"/>
                  <a:pt x="237" y="12"/>
                  <a:pt x="237" y="12"/>
                </a:cubicBezTo>
                <a:cubicBezTo>
                  <a:pt x="242" y="13"/>
                  <a:pt x="242" y="13"/>
                  <a:pt x="242" y="13"/>
                </a:cubicBezTo>
                <a:lnTo>
                  <a:pt x="237" y="13"/>
                </a:lnTo>
                <a:close/>
              </a:path>
            </a:pathLst>
          </a:custGeom>
          <a:solidFill>
            <a:srgbClr val="2c3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文本框 10"/>
          <p:cNvSpPr/>
          <p:nvPr/>
        </p:nvSpPr>
        <p:spPr>
          <a:xfrm>
            <a:off x="5277960" y="2547360"/>
            <a:ext cx="64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李旭科书法"/>
                <a:ea typeface="李旭科书法"/>
              </a:rPr>
              <a:t>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文本框 11"/>
          <p:cNvSpPr/>
          <p:nvPr/>
        </p:nvSpPr>
        <p:spPr>
          <a:xfrm>
            <a:off x="6113160" y="2547360"/>
            <a:ext cx="960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李旭科书法"/>
                <a:ea typeface="李旭科书法"/>
              </a:rPr>
              <a:t>W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文本框 12"/>
          <p:cNvSpPr/>
          <p:nvPr/>
        </p:nvSpPr>
        <p:spPr>
          <a:xfrm>
            <a:off x="5180400" y="3655440"/>
            <a:ext cx="835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李旭科书法"/>
                <a:ea typeface="李旭科书法"/>
              </a:rPr>
              <a:t>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文本框 13"/>
          <p:cNvSpPr/>
          <p:nvPr/>
        </p:nvSpPr>
        <p:spPr>
          <a:xfrm>
            <a:off x="6270120" y="3655440"/>
            <a:ext cx="64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李旭科书法"/>
                <a:ea typeface="李旭科书法"/>
              </a:rPr>
              <a:t>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矩形 7"/>
          <p:cNvSpPr/>
          <p:nvPr/>
        </p:nvSpPr>
        <p:spPr>
          <a:xfrm>
            <a:off x="5033880" y="3668760"/>
            <a:ext cx="2268720" cy="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矩形 15"/>
          <p:cNvSpPr/>
          <p:nvPr/>
        </p:nvSpPr>
        <p:spPr>
          <a:xfrm rot="5400000">
            <a:off x="4939200" y="3740760"/>
            <a:ext cx="2313000" cy="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矩形 9"/>
          <p:cNvSpPr/>
          <p:nvPr/>
        </p:nvSpPr>
        <p:spPr>
          <a:xfrm>
            <a:off x="1590840" y="2081160"/>
            <a:ext cx="29430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D</a:t>
            </a:r>
            <a:r>
              <a:rPr b="0" lang="zh-CN" sz="18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意空间工作室成立于</a:t>
            </a:r>
            <a:r>
              <a:rPr b="0" lang="en-US" sz="18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2015</a:t>
            </a:r>
            <a:r>
              <a:rPr b="0" lang="zh-CN" sz="18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年</a:t>
            </a:r>
            <a:r>
              <a:rPr b="0" lang="en-US" sz="18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10</a:t>
            </a:r>
            <a:r>
              <a:rPr b="0" lang="zh-CN" sz="18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月，只要是与演示相关的，我们竭诚为您服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矩形 16"/>
          <p:cNvSpPr/>
          <p:nvPr/>
        </p:nvSpPr>
        <p:spPr>
          <a:xfrm>
            <a:off x="7658280" y="2081160"/>
            <a:ext cx="29430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D</a:t>
            </a:r>
            <a:r>
              <a:rPr b="0" lang="zh-CN" sz="18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意空间工作室成立于</a:t>
            </a:r>
            <a:r>
              <a:rPr b="0" lang="en-US" sz="18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2015</a:t>
            </a:r>
            <a:r>
              <a:rPr b="0" lang="zh-CN" sz="18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年</a:t>
            </a:r>
            <a:r>
              <a:rPr b="0" lang="en-US" sz="18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10</a:t>
            </a:r>
            <a:r>
              <a:rPr b="0" lang="zh-CN" sz="18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月，只要是与演示相关的，我们竭诚为您服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矩形 19"/>
          <p:cNvSpPr/>
          <p:nvPr/>
        </p:nvSpPr>
        <p:spPr>
          <a:xfrm>
            <a:off x="1590840" y="4260960"/>
            <a:ext cx="29430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D</a:t>
            </a:r>
            <a:r>
              <a:rPr b="0" lang="zh-CN" sz="18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意空间工作室成立于</a:t>
            </a:r>
            <a:r>
              <a:rPr b="0" lang="en-US" sz="18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2015</a:t>
            </a:r>
            <a:r>
              <a:rPr b="0" lang="zh-CN" sz="18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年</a:t>
            </a:r>
            <a:r>
              <a:rPr b="0" lang="en-US" sz="18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10</a:t>
            </a:r>
            <a:r>
              <a:rPr b="0" lang="zh-CN" sz="18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月，只要是与演示相关的，我们竭诚为您服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矩形 20"/>
          <p:cNvSpPr/>
          <p:nvPr/>
        </p:nvSpPr>
        <p:spPr>
          <a:xfrm>
            <a:off x="7658280" y="4260960"/>
            <a:ext cx="29430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D</a:t>
            </a:r>
            <a:r>
              <a:rPr b="0" lang="zh-CN" sz="18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意空间工作室成立于</a:t>
            </a:r>
            <a:r>
              <a:rPr b="0" lang="en-US" sz="18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2015</a:t>
            </a:r>
            <a:r>
              <a:rPr b="0" lang="zh-CN" sz="18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年</a:t>
            </a:r>
            <a:r>
              <a:rPr b="0" lang="en-US" sz="18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10</a:t>
            </a:r>
            <a:r>
              <a:rPr b="0" lang="zh-CN" sz="18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月，只要是与演示相关的，我们竭诚为您服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5638680" y="2211120"/>
            <a:ext cx="914400" cy="112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李旭科书法"/>
                <a:ea typeface="李旭科书法"/>
              </a:rPr>
              <a:t>肆</a:t>
            </a:r>
            <a:endParaRPr b="0" lang="en-US" sz="8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709720" y="3998880"/>
            <a:ext cx="67723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d5070"/>
                </a:solidFill>
                <a:latin typeface="李旭科书法"/>
                <a:ea typeface="李旭科书法"/>
              </a:rPr>
              <a:t>请在此处添加标题</a:t>
            </a:r>
            <a:endParaRPr b="0" lang="en-US" sz="5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Freeform 192"/>
          <p:cNvSpPr/>
          <p:nvPr/>
        </p:nvSpPr>
        <p:spPr>
          <a:xfrm flipH="1" flipV="1" rot="10800000">
            <a:off x="7151760" y="1359360"/>
            <a:ext cx="3860640" cy="582840"/>
          </a:xfrm>
          <a:custGeom>
            <a:avLst/>
            <a:gdLst>
              <a:gd name="textAreaLeft" fmla="*/ 360 w 3860640"/>
              <a:gd name="textAreaRight" fmla="*/ 3861360 w 3860640"/>
              <a:gd name="textAreaTop" fmla="*/ -360 h 582840"/>
              <a:gd name="textAreaBottom" fmla="*/ 582840 h 582840"/>
            </a:gdLst>
            <a:ahLst/>
            <a:rect l="textAreaLeft" t="textAreaTop" r="textAreaRight" b="textAreaBottom"/>
            <a:pathLst>
              <a:path w="478" h="77">
                <a:moveTo>
                  <a:pt x="478" y="13"/>
                </a:moveTo>
                <a:cubicBezTo>
                  <a:pt x="472" y="13"/>
                  <a:pt x="468" y="13"/>
                  <a:pt x="462" y="12"/>
                </a:cubicBezTo>
                <a:cubicBezTo>
                  <a:pt x="461" y="11"/>
                  <a:pt x="465" y="12"/>
                  <a:pt x="464" y="11"/>
                </a:cubicBezTo>
                <a:cubicBezTo>
                  <a:pt x="434" y="9"/>
                  <a:pt x="403" y="9"/>
                  <a:pt x="373" y="7"/>
                </a:cubicBezTo>
                <a:cubicBezTo>
                  <a:pt x="402" y="6"/>
                  <a:pt x="431" y="10"/>
                  <a:pt x="460" y="10"/>
                </a:cubicBezTo>
                <a:cubicBezTo>
                  <a:pt x="436" y="6"/>
                  <a:pt x="407" y="7"/>
                  <a:pt x="381" y="5"/>
                </a:cubicBezTo>
                <a:cubicBezTo>
                  <a:pt x="288" y="3"/>
                  <a:pt x="288" y="3"/>
                  <a:pt x="288" y="3"/>
                </a:cubicBezTo>
                <a:cubicBezTo>
                  <a:pt x="222" y="3"/>
                  <a:pt x="222" y="3"/>
                  <a:pt x="222" y="3"/>
                </a:cubicBezTo>
                <a:cubicBezTo>
                  <a:pt x="130" y="4"/>
                  <a:pt x="130" y="4"/>
                  <a:pt x="130" y="4"/>
                </a:cubicBezTo>
                <a:cubicBezTo>
                  <a:pt x="130" y="3"/>
                  <a:pt x="130" y="3"/>
                  <a:pt x="130" y="3"/>
                </a:cubicBezTo>
                <a:cubicBezTo>
                  <a:pt x="127" y="2"/>
                  <a:pt x="125" y="3"/>
                  <a:pt x="123" y="3"/>
                </a:cubicBezTo>
                <a:cubicBezTo>
                  <a:pt x="124" y="3"/>
                  <a:pt x="125" y="3"/>
                  <a:pt x="125" y="4"/>
                </a:cubicBezTo>
                <a:cubicBezTo>
                  <a:pt x="122" y="4"/>
                  <a:pt x="118" y="3"/>
                  <a:pt x="115" y="4"/>
                </a:cubicBezTo>
                <a:cubicBezTo>
                  <a:pt x="112" y="3"/>
                  <a:pt x="107" y="4"/>
                  <a:pt x="102" y="3"/>
                </a:cubicBezTo>
                <a:cubicBezTo>
                  <a:pt x="100" y="2"/>
                  <a:pt x="98" y="2"/>
                  <a:pt x="95" y="2"/>
                </a:cubicBezTo>
                <a:cubicBezTo>
                  <a:pt x="70" y="2"/>
                  <a:pt x="50" y="0"/>
                  <a:pt x="24" y="1"/>
                </a:cubicBezTo>
                <a:cubicBezTo>
                  <a:pt x="18" y="2"/>
                  <a:pt x="10" y="1"/>
                  <a:pt x="6" y="4"/>
                </a:cubicBezTo>
                <a:cubicBezTo>
                  <a:pt x="6" y="5"/>
                  <a:pt x="8" y="5"/>
                  <a:pt x="8" y="5"/>
                </a:cubicBezTo>
                <a:cubicBezTo>
                  <a:pt x="7" y="5"/>
                  <a:pt x="6" y="6"/>
                  <a:pt x="5" y="5"/>
                </a:cubicBezTo>
                <a:cubicBezTo>
                  <a:pt x="5" y="5"/>
                  <a:pt x="5" y="5"/>
                  <a:pt x="5" y="5"/>
                </a:cubicBezTo>
                <a:cubicBezTo>
                  <a:pt x="0" y="6"/>
                  <a:pt x="0" y="6"/>
                  <a:pt x="0" y="6"/>
                </a:cubicBezTo>
                <a:cubicBezTo>
                  <a:pt x="2" y="7"/>
                  <a:pt x="2" y="7"/>
                  <a:pt x="2" y="7"/>
                </a:cubicBezTo>
                <a:cubicBezTo>
                  <a:pt x="2" y="7"/>
                  <a:pt x="2" y="7"/>
                  <a:pt x="2" y="7"/>
                </a:cubicBezTo>
                <a:cubicBezTo>
                  <a:pt x="4" y="8"/>
                  <a:pt x="4" y="8"/>
                  <a:pt x="4" y="8"/>
                </a:cubicBezTo>
                <a:cubicBezTo>
                  <a:pt x="3" y="8"/>
                  <a:pt x="1" y="9"/>
                  <a:pt x="0" y="9"/>
                </a:cubicBezTo>
                <a:cubicBezTo>
                  <a:pt x="0" y="11"/>
                  <a:pt x="0" y="13"/>
                  <a:pt x="3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5"/>
                  <a:pt x="2" y="15"/>
                  <a:pt x="3" y="15"/>
                </a:cubicBezTo>
                <a:cubicBezTo>
                  <a:pt x="1" y="17"/>
                  <a:pt x="1" y="17"/>
                  <a:pt x="1" y="17"/>
                </a:cubicBezTo>
                <a:cubicBezTo>
                  <a:pt x="2" y="17"/>
                  <a:pt x="2" y="17"/>
                  <a:pt x="2" y="17"/>
                </a:cubicBezTo>
                <a:cubicBezTo>
                  <a:pt x="1" y="18"/>
                  <a:pt x="1" y="18"/>
                  <a:pt x="1" y="18"/>
                </a:cubicBezTo>
                <a:cubicBezTo>
                  <a:pt x="3" y="18"/>
                  <a:pt x="1" y="19"/>
                  <a:pt x="1" y="19"/>
                </a:cubicBezTo>
                <a:cubicBezTo>
                  <a:pt x="4" y="20"/>
                  <a:pt x="4" y="20"/>
                  <a:pt x="4" y="20"/>
                </a:cubicBezTo>
                <a:cubicBezTo>
                  <a:pt x="5" y="21"/>
                  <a:pt x="2" y="20"/>
                  <a:pt x="2" y="20"/>
                </a:cubicBezTo>
                <a:cubicBezTo>
                  <a:pt x="3" y="21"/>
                  <a:pt x="5" y="21"/>
                  <a:pt x="6" y="21"/>
                </a:cubicBezTo>
                <a:cubicBezTo>
                  <a:pt x="5" y="22"/>
                  <a:pt x="3" y="21"/>
                  <a:pt x="1" y="21"/>
                </a:cubicBezTo>
                <a:cubicBezTo>
                  <a:pt x="1" y="22"/>
                  <a:pt x="1" y="22"/>
                  <a:pt x="1" y="22"/>
                </a:cubicBezTo>
                <a:cubicBezTo>
                  <a:pt x="2" y="24"/>
                  <a:pt x="6" y="24"/>
                  <a:pt x="10" y="24"/>
                </a:cubicBezTo>
                <a:cubicBezTo>
                  <a:pt x="7" y="25"/>
                  <a:pt x="5" y="25"/>
                  <a:pt x="2" y="25"/>
                </a:cubicBezTo>
                <a:cubicBezTo>
                  <a:pt x="2" y="26"/>
                  <a:pt x="2" y="26"/>
                  <a:pt x="2" y="26"/>
                </a:cubicBezTo>
                <a:cubicBezTo>
                  <a:pt x="3" y="27"/>
                  <a:pt x="5" y="26"/>
                  <a:pt x="5" y="27"/>
                </a:cubicBezTo>
                <a:cubicBezTo>
                  <a:pt x="10" y="27"/>
                  <a:pt x="10" y="27"/>
                  <a:pt x="10" y="27"/>
                </a:cubicBezTo>
                <a:cubicBezTo>
                  <a:pt x="9" y="27"/>
                  <a:pt x="9" y="27"/>
                  <a:pt x="9" y="27"/>
                </a:cubicBezTo>
                <a:cubicBezTo>
                  <a:pt x="9" y="26"/>
                  <a:pt x="10" y="26"/>
                  <a:pt x="11" y="26"/>
                </a:cubicBezTo>
                <a:cubicBezTo>
                  <a:pt x="15" y="26"/>
                  <a:pt x="12" y="30"/>
                  <a:pt x="14" y="30"/>
                </a:cubicBezTo>
                <a:cubicBezTo>
                  <a:pt x="12" y="32"/>
                  <a:pt x="9" y="30"/>
                  <a:pt x="6" y="31"/>
                </a:cubicBezTo>
                <a:cubicBezTo>
                  <a:pt x="9" y="32"/>
                  <a:pt x="12" y="31"/>
                  <a:pt x="16" y="31"/>
                </a:cubicBezTo>
                <a:cubicBezTo>
                  <a:pt x="17" y="34"/>
                  <a:pt x="17" y="34"/>
                  <a:pt x="17" y="34"/>
                </a:cubicBezTo>
                <a:cubicBezTo>
                  <a:pt x="14" y="35"/>
                  <a:pt x="14" y="35"/>
                  <a:pt x="14" y="35"/>
                </a:cubicBezTo>
                <a:cubicBezTo>
                  <a:pt x="21" y="35"/>
                  <a:pt x="21" y="35"/>
                  <a:pt x="21" y="35"/>
                </a:cubicBezTo>
                <a:cubicBezTo>
                  <a:pt x="22" y="35"/>
                  <a:pt x="23" y="35"/>
                  <a:pt x="23" y="36"/>
                </a:cubicBezTo>
                <a:cubicBezTo>
                  <a:pt x="23" y="37"/>
                  <a:pt x="22" y="37"/>
                  <a:pt x="21" y="37"/>
                </a:cubicBezTo>
                <a:cubicBezTo>
                  <a:pt x="18" y="41"/>
                  <a:pt x="11" y="37"/>
                  <a:pt x="6" y="38"/>
                </a:cubicBezTo>
                <a:cubicBezTo>
                  <a:pt x="7" y="39"/>
                  <a:pt x="10" y="39"/>
                  <a:pt x="12" y="40"/>
                </a:cubicBezTo>
                <a:cubicBezTo>
                  <a:pt x="16" y="39"/>
                  <a:pt x="18" y="38"/>
                  <a:pt x="21" y="39"/>
                </a:cubicBezTo>
                <a:cubicBezTo>
                  <a:pt x="19" y="40"/>
                  <a:pt x="19" y="40"/>
                  <a:pt x="19" y="40"/>
                </a:cubicBezTo>
                <a:cubicBezTo>
                  <a:pt x="20" y="40"/>
                  <a:pt x="20" y="40"/>
                  <a:pt x="20" y="40"/>
                </a:cubicBezTo>
                <a:cubicBezTo>
                  <a:pt x="20" y="40"/>
                  <a:pt x="21" y="40"/>
                  <a:pt x="21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9" y="41"/>
                  <a:pt x="19" y="41"/>
                  <a:pt x="19" y="41"/>
                </a:cubicBezTo>
                <a:cubicBezTo>
                  <a:pt x="20" y="41"/>
                  <a:pt x="21" y="42"/>
                  <a:pt x="22" y="41"/>
                </a:cubicBezTo>
                <a:cubicBezTo>
                  <a:pt x="22" y="43"/>
                  <a:pt x="22" y="43"/>
                  <a:pt x="22" y="43"/>
                </a:cubicBezTo>
                <a:cubicBezTo>
                  <a:pt x="20" y="44"/>
                  <a:pt x="22" y="46"/>
                  <a:pt x="19" y="46"/>
                </a:cubicBezTo>
                <a:cubicBezTo>
                  <a:pt x="20" y="46"/>
                  <a:pt x="20" y="46"/>
                  <a:pt x="20" y="46"/>
                </a:cubicBezTo>
                <a:cubicBezTo>
                  <a:pt x="16" y="47"/>
                  <a:pt x="12" y="44"/>
                  <a:pt x="9" y="46"/>
                </a:cubicBezTo>
                <a:cubicBezTo>
                  <a:pt x="13" y="47"/>
                  <a:pt x="19" y="46"/>
                  <a:pt x="23" y="48"/>
                </a:cubicBezTo>
                <a:cubicBezTo>
                  <a:pt x="22" y="49"/>
                  <a:pt x="22" y="49"/>
                  <a:pt x="22" y="49"/>
                </a:cubicBezTo>
                <a:cubicBezTo>
                  <a:pt x="21" y="48"/>
                  <a:pt x="21" y="48"/>
                  <a:pt x="21" y="48"/>
                </a:cubicBezTo>
                <a:cubicBezTo>
                  <a:pt x="19" y="48"/>
                  <a:pt x="17" y="49"/>
                  <a:pt x="16" y="49"/>
                </a:cubicBezTo>
                <a:cubicBezTo>
                  <a:pt x="17" y="49"/>
                  <a:pt x="19" y="49"/>
                  <a:pt x="20" y="49"/>
                </a:cubicBezTo>
                <a:cubicBezTo>
                  <a:pt x="22" y="50"/>
                  <a:pt x="25" y="51"/>
                  <a:pt x="24" y="53"/>
                </a:cubicBezTo>
                <a:cubicBezTo>
                  <a:pt x="19" y="53"/>
                  <a:pt x="19" y="53"/>
                  <a:pt x="19" y="53"/>
                </a:cubicBezTo>
                <a:cubicBezTo>
                  <a:pt x="26" y="55"/>
                  <a:pt x="26" y="55"/>
                  <a:pt x="26" y="55"/>
                </a:cubicBezTo>
                <a:cubicBezTo>
                  <a:pt x="25" y="57"/>
                  <a:pt x="29" y="58"/>
                  <a:pt x="30" y="59"/>
                </a:cubicBezTo>
                <a:cubicBezTo>
                  <a:pt x="29" y="60"/>
                  <a:pt x="27" y="59"/>
                  <a:pt x="26" y="60"/>
                </a:cubicBezTo>
                <a:cubicBezTo>
                  <a:pt x="22" y="61"/>
                  <a:pt x="28" y="62"/>
                  <a:pt x="26" y="64"/>
                </a:cubicBezTo>
                <a:cubicBezTo>
                  <a:pt x="27" y="64"/>
                  <a:pt x="29" y="64"/>
                  <a:pt x="30" y="65"/>
                </a:cubicBezTo>
                <a:cubicBezTo>
                  <a:pt x="30" y="65"/>
                  <a:pt x="29" y="66"/>
                  <a:pt x="29" y="66"/>
                </a:cubicBezTo>
                <a:cubicBezTo>
                  <a:pt x="25" y="64"/>
                  <a:pt x="21" y="63"/>
                  <a:pt x="17" y="63"/>
                </a:cubicBezTo>
                <a:cubicBezTo>
                  <a:pt x="22" y="66"/>
                  <a:pt x="22" y="66"/>
                  <a:pt x="22" y="66"/>
                </a:cubicBezTo>
                <a:cubicBezTo>
                  <a:pt x="30" y="66"/>
                  <a:pt x="36" y="70"/>
                  <a:pt x="44" y="70"/>
                </a:cubicBezTo>
                <a:cubicBezTo>
                  <a:pt x="51" y="73"/>
                  <a:pt x="61" y="73"/>
                  <a:pt x="70" y="75"/>
                </a:cubicBezTo>
                <a:cubicBezTo>
                  <a:pt x="82" y="75"/>
                  <a:pt x="93" y="77"/>
                  <a:pt x="104" y="77"/>
                </a:cubicBezTo>
                <a:cubicBezTo>
                  <a:pt x="123" y="76"/>
                  <a:pt x="142" y="76"/>
                  <a:pt x="161" y="76"/>
                </a:cubicBezTo>
                <a:cubicBezTo>
                  <a:pt x="258" y="76"/>
                  <a:pt x="258" y="76"/>
                  <a:pt x="258" y="76"/>
                </a:cubicBezTo>
                <a:cubicBezTo>
                  <a:pt x="286" y="75"/>
                  <a:pt x="315" y="77"/>
                  <a:pt x="341" y="75"/>
                </a:cubicBezTo>
                <a:cubicBezTo>
                  <a:pt x="336" y="75"/>
                  <a:pt x="331" y="74"/>
                  <a:pt x="326" y="75"/>
                </a:cubicBezTo>
                <a:cubicBezTo>
                  <a:pt x="323" y="75"/>
                  <a:pt x="321" y="74"/>
                  <a:pt x="319" y="75"/>
                </a:cubicBezTo>
                <a:cubicBezTo>
                  <a:pt x="316" y="75"/>
                  <a:pt x="313" y="75"/>
                  <a:pt x="311" y="74"/>
                </a:cubicBezTo>
                <a:cubicBezTo>
                  <a:pt x="280" y="74"/>
                  <a:pt x="280" y="74"/>
                  <a:pt x="280" y="74"/>
                </a:cubicBezTo>
                <a:cubicBezTo>
                  <a:pt x="279" y="74"/>
                  <a:pt x="279" y="74"/>
                  <a:pt x="279" y="74"/>
                </a:cubicBezTo>
                <a:cubicBezTo>
                  <a:pt x="276" y="74"/>
                  <a:pt x="272" y="75"/>
                  <a:pt x="270" y="74"/>
                </a:cubicBezTo>
                <a:cubicBezTo>
                  <a:pt x="271" y="73"/>
                  <a:pt x="271" y="73"/>
                  <a:pt x="271" y="73"/>
                </a:cubicBezTo>
                <a:cubicBezTo>
                  <a:pt x="401" y="73"/>
                  <a:pt x="401" y="73"/>
                  <a:pt x="401" y="73"/>
                </a:cubicBezTo>
                <a:cubicBezTo>
                  <a:pt x="415" y="72"/>
                  <a:pt x="415" y="72"/>
                  <a:pt x="415" y="72"/>
                </a:cubicBezTo>
                <a:cubicBezTo>
                  <a:pt x="384" y="72"/>
                  <a:pt x="352" y="72"/>
                  <a:pt x="320" y="71"/>
                </a:cubicBezTo>
                <a:cubicBezTo>
                  <a:pt x="309" y="71"/>
                  <a:pt x="297" y="72"/>
                  <a:pt x="286" y="70"/>
                </a:cubicBezTo>
                <a:cubicBezTo>
                  <a:pt x="312" y="70"/>
                  <a:pt x="341" y="71"/>
                  <a:pt x="368" y="70"/>
                </a:cubicBezTo>
                <a:cubicBezTo>
                  <a:pt x="368" y="70"/>
                  <a:pt x="368" y="70"/>
                  <a:pt x="368" y="70"/>
                </a:cubicBezTo>
                <a:cubicBezTo>
                  <a:pt x="369" y="69"/>
                  <a:pt x="369" y="69"/>
                  <a:pt x="369" y="69"/>
                </a:cubicBezTo>
                <a:cubicBezTo>
                  <a:pt x="370" y="70"/>
                  <a:pt x="371" y="69"/>
                  <a:pt x="372" y="69"/>
                </a:cubicBezTo>
                <a:cubicBezTo>
                  <a:pt x="376" y="69"/>
                  <a:pt x="383" y="71"/>
                  <a:pt x="387" y="69"/>
                </a:cubicBezTo>
                <a:cubicBezTo>
                  <a:pt x="373" y="68"/>
                  <a:pt x="373" y="68"/>
                  <a:pt x="373" y="68"/>
                </a:cubicBezTo>
                <a:cubicBezTo>
                  <a:pt x="372" y="68"/>
                  <a:pt x="372" y="68"/>
                  <a:pt x="372" y="68"/>
                </a:cubicBezTo>
                <a:cubicBezTo>
                  <a:pt x="374" y="67"/>
                  <a:pt x="374" y="67"/>
                  <a:pt x="374" y="67"/>
                </a:cubicBezTo>
                <a:cubicBezTo>
                  <a:pt x="371" y="67"/>
                  <a:pt x="371" y="67"/>
                  <a:pt x="371" y="67"/>
                </a:cubicBezTo>
                <a:cubicBezTo>
                  <a:pt x="371" y="67"/>
                  <a:pt x="370" y="67"/>
                  <a:pt x="370" y="66"/>
                </a:cubicBezTo>
                <a:cubicBezTo>
                  <a:pt x="371" y="66"/>
                  <a:pt x="373" y="65"/>
                  <a:pt x="374" y="66"/>
                </a:cubicBezTo>
                <a:cubicBezTo>
                  <a:pt x="374" y="66"/>
                  <a:pt x="372" y="66"/>
                  <a:pt x="372" y="66"/>
                </a:cubicBezTo>
                <a:cubicBezTo>
                  <a:pt x="378" y="66"/>
                  <a:pt x="387" y="67"/>
                  <a:pt x="395" y="67"/>
                </a:cubicBezTo>
                <a:cubicBezTo>
                  <a:pt x="394" y="67"/>
                  <a:pt x="394" y="67"/>
                  <a:pt x="394" y="67"/>
                </a:cubicBezTo>
                <a:cubicBezTo>
                  <a:pt x="398" y="68"/>
                  <a:pt x="405" y="68"/>
                  <a:pt x="408" y="67"/>
                </a:cubicBezTo>
                <a:cubicBezTo>
                  <a:pt x="410" y="66"/>
                  <a:pt x="410" y="67"/>
                  <a:pt x="410" y="67"/>
                </a:cubicBezTo>
                <a:cubicBezTo>
                  <a:pt x="412" y="68"/>
                  <a:pt x="411" y="67"/>
                  <a:pt x="412" y="66"/>
                </a:cubicBezTo>
                <a:cubicBezTo>
                  <a:pt x="429" y="66"/>
                  <a:pt x="429" y="66"/>
                  <a:pt x="429" y="66"/>
                </a:cubicBezTo>
                <a:cubicBezTo>
                  <a:pt x="429" y="67"/>
                  <a:pt x="429" y="67"/>
                  <a:pt x="429" y="67"/>
                </a:cubicBezTo>
                <a:cubicBezTo>
                  <a:pt x="424" y="67"/>
                  <a:pt x="419" y="67"/>
                  <a:pt x="414" y="67"/>
                </a:cubicBezTo>
                <a:cubicBezTo>
                  <a:pt x="421" y="68"/>
                  <a:pt x="431" y="68"/>
                  <a:pt x="436" y="67"/>
                </a:cubicBezTo>
                <a:cubicBezTo>
                  <a:pt x="434" y="67"/>
                  <a:pt x="431" y="67"/>
                  <a:pt x="429" y="66"/>
                </a:cubicBezTo>
                <a:cubicBezTo>
                  <a:pt x="440" y="66"/>
                  <a:pt x="453" y="66"/>
                  <a:pt x="465" y="66"/>
                </a:cubicBezTo>
                <a:cubicBezTo>
                  <a:pt x="463" y="65"/>
                  <a:pt x="459" y="66"/>
                  <a:pt x="456" y="65"/>
                </a:cubicBezTo>
                <a:cubicBezTo>
                  <a:pt x="457" y="65"/>
                  <a:pt x="457" y="65"/>
                  <a:pt x="457" y="65"/>
                </a:cubicBezTo>
                <a:cubicBezTo>
                  <a:pt x="455" y="66"/>
                  <a:pt x="453" y="64"/>
                  <a:pt x="451" y="65"/>
                </a:cubicBezTo>
                <a:cubicBezTo>
                  <a:pt x="441" y="65"/>
                  <a:pt x="428" y="65"/>
                  <a:pt x="415" y="65"/>
                </a:cubicBezTo>
                <a:cubicBezTo>
                  <a:pt x="414" y="64"/>
                  <a:pt x="414" y="64"/>
                  <a:pt x="414" y="64"/>
                </a:cubicBezTo>
                <a:cubicBezTo>
                  <a:pt x="413" y="64"/>
                  <a:pt x="413" y="65"/>
                  <a:pt x="411" y="65"/>
                </a:cubicBezTo>
                <a:cubicBezTo>
                  <a:pt x="410" y="63"/>
                  <a:pt x="409" y="66"/>
                  <a:pt x="407" y="64"/>
                </a:cubicBezTo>
                <a:cubicBezTo>
                  <a:pt x="407" y="64"/>
                  <a:pt x="407" y="64"/>
                  <a:pt x="407" y="64"/>
                </a:cubicBezTo>
                <a:cubicBezTo>
                  <a:pt x="403" y="65"/>
                  <a:pt x="397" y="65"/>
                  <a:pt x="393" y="64"/>
                </a:cubicBezTo>
                <a:cubicBezTo>
                  <a:pt x="373" y="64"/>
                  <a:pt x="373" y="64"/>
                  <a:pt x="373" y="64"/>
                </a:cubicBezTo>
                <a:cubicBezTo>
                  <a:pt x="371" y="65"/>
                  <a:pt x="367" y="65"/>
                  <a:pt x="365" y="64"/>
                </a:cubicBezTo>
                <a:cubicBezTo>
                  <a:pt x="367" y="64"/>
                  <a:pt x="367" y="64"/>
                  <a:pt x="367" y="64"/>
                </a:cubicBezTo>
                <a:cubicBezTo>
                  <a:pt x="363" y="64"/>
                  <a:pt x="359" y="63"/>
                  <a:pt x="356" y="64"/>
                </a:cubicBezTo>
                <a:cubicBezTo>
                  <a:pt x="347" y="64"/>
                  <a:pt x="338" y="65"/>
                  <a:pt x="330" y="63"/>
                </a:cubicBezTo>
                <a:cubicBezTo>
                  <a:pt x="344" y="62"/>
                  <a:pt x="354" y="64"/>
                  <a:pt x="368" y="62"/>
                </a:cubicBezTo>
                <a:cubicBezTo>
                  <a:pt x="335" y="62"/>
                  <a:pt x="335" y="62"/>
                  <a:pt x="335" y="62"/>
                </a:cubicBezTo>
                <a:cubicBezTo>
                  <a:pt x="345" y="61"/>
                  <a:pt x="357" y="61"/>
                  <a:pt x="368" y="61"/>
                </a:cubicBezTo>
                <a:cubicBezTo>
                  <a:pt x="369" y="61"/>
                  <a:pt x="369" y="60"/>
                  <a:pt x="370" y="61"/>
                </a:cubicBezTo>
                <a:cubicBezTo>
                  <a:pt x="371" y="59"/>
                  <a:pt x="375" y="60"/>
                  <a:pt x="378" y="60"/>
                </a:cubicBezTo>
                <a:cubicBezTo>
                  <a:pt x="375" y="61"/>
                  <a:pt x="375" y="61"/>
                  <a:pt x="375" y="61"/>
                </a:cubicBezTo>
                <a:cubicBezTo>
                  <a:pt x="382" y="61"/>
                  <a:pt x="391" y="61"/>
                  <a:pt x="399" y="61"/>
                </a:cubicBezTo>
                <a:cubicBezTo>
                  <a:pt x="400" y="60"/>
                  <a:pt x="400" y="60"/>
                  <a:pt x="400" y="60"/>
                </a:cubicBezTo>
                <a:cubicBezTo>
                  <a:pt x="402" y="59"/>
                  <a:pt x="404" y="61"/>
                  <a:pt x="406" y="60"/>
                </a:cubicBezTo>
                <a:cubicBezTo>
                  <a:pt x="406" y="60"/>
                  <a:pt x="406" y="60"/>
                  <a:pt x="406" y="60"/>
                </a:cubicBezTo>
                <a:cubicBezTo>
                  <a:pt x="426" y="61"/>
                  <a:pt x="450" y="60"/>
                  <a:pt x="471" y="60"/>
                </a:cubicBezTo>
                <a:cubicBezTo>
                  <a:pt x="453" y="59"/>
                  <a:pt x="433" y="59"/>
                  <a:pt x="415" y="59"/>
                </a:cubicBezTo>
                <a:cubicBezTo>
                  <a:pt x="415" y="59"/>
                  <a:pt x="415" y="59"/>
                  <a:pt x="415" y="59"/>
                </a:cubicBezTo>
                <a:cubicBezTo>
                  <a:pt x="414" y="59"/>
                  <a:pt x="414" y="59"/>
                  <a:pt x="414" y="59"/>
                </a:cubicBezTo>
                <a:cubicBezTo>
                  <a:pt x="410" y="57"/>
                  <a:pt x="407" y="61"/>
                  <a:pt x="403" y="59"/>
                </a:cubicBezTo>
                <a:cubicBezTo>
                  <a:pt x="396" y="61"/>
                  <a:pt x="390" y="57"/>
                  <a:pt x="383" y="59"/>
                </a:cubicBezTo>
                <a:cubicBezTo>
                  <a:pt x="381" y="58"/>
                  <a:pt x="381" y="58"/>
                  <a:pt x="381" y="58"/>
                </a:cubicBezTo>
                <a:cubicBezTo>
                  <a:pt x="393" y="57"/>
                  <a:pt x="403" y="59"/>
                  <a:pt x="414" y="58"/>
                </a:cubicBezTo>
                <a:cubicBezTo>
                  <a:pt x="404" y="57"/>
                  <a:pt x="404" y="57"/>
                  <a:pt x="404" y="57"/>
                </a:cubicBezTo>
                <a:cubicBezTo>
                  <a:pt x="403" y="57"/>
                  <a:pt x="399" y="58"/>
                  <a:pt x="399" y="56"/>
                </a:cubicBezTo>
                <a:cubicBezTo>
                  <a:pt x="381" y="55"/>
                  <a:pt x="381" y="55"/>
                  <a:pt x="381" y="55"/>
                </a:cubicBezTo>
                <a:cubicBezTo>
                  <a:pt x="380" y="55"/>
                  <a:pt x="379" y="55"/>
                  <a:pt x="379" y="54"/>
                </a:cubicBezTo>
                <a:cubicBezTo>
                  <a:pt x="380" y="54"/>
                  <a:pt x="381" y="54"/>
                  <a:pt x="382" y="54"/>
                </a:cubicBezTo>
                <a:cubicBezTo>
                  <a:pt x="382" y="54"/>
                  <a:pt x="382" y="54"/>
                  <a:pt x="382" y="54"/>
                </a:cubicBezTo>
                <a:cubicBezTo>
                  <a:pt x="382" y="54"/>
                  <a:pt x="381" y="54"/>
                  <a:pt x="381" y="54"/>
                </a:cubicBezTo>
                <a:cubicBezTo>
                  <a:pt x="383" y="54"/>
                  <a:pt x="383" y="54"/>
                  <a:pt x="383" y="54"/>
                </a:cubicBezTo>
                <a:cubicBezTo>
                  <a:pt x="383" y="54"/>
                  <a:pt x="383" y="54"/>
                  <a:pt x="382" y="54"/>
                </a:cubicBezTo>
                <a:cubicBezTo>
                  <a:pt x="383" y="54"/>
                  <a:pt x="383" y="54"/>
                  <a:pt x="383" y="54"/>
                </a:cubicBezTo>
                <a:cubicBezTo>
                  <a:pt x="384" y="54"/>
                  <a:pt x="387" y="53"/>
                  <a:pt x="388" y="54"/>
                </a:cubicBezTo>
                <a:cubicBezTo>
                  <a:pt x="388" y="54"/>
                  <a:pt x="388" y="54"/>
                  <a:pt x="388" y="54"/>
                </a:cubicBezTo>
                <a:cubicBezTo>
                  <a:pt x="426" y="54"/>
                  <a:pt x="426" y="54"/>
                  <a:pt x="426" y="54"/>
                </a:cubicBezTo>
                <a:cubicBezTo>
                  <a:pt x="425" y="53"/>
                  <a:pt x="425" y="53"/>
                  <a:pt x="425" y="53"/>
                </a:cubicBezTo>
                <a:cubicBezTo>
                  <a:pt x="407" y="52"/>
                  <a:pt x="386" y="52"/>
                  <a:pt x="368" y="51"/>
                </a:cubicBezTo>
                <a:cubicBezTo>
                  <a:pt x="366" y="51"/>
                  <a:pt x="360" y="51"/>
                  <a:pt x="362" y="49"/>
                </a:cubicBezTo>
                <a:cubicBezTo>
                  <a:pt x="364" y="50"/>
                  <a:pt x="365" y="48"/>
                  <a:pt x="367" y="49"/>
                </a:cubicBezTo>
                <a:cubicBezTo>
                  <a:pt x="366" y="49"/>
                  <a:pt x="366" y="49"/>
                  <a:pt x="366" y="49"/>
                </a:cubicBezTo>
                <a:cubicBezTo>
                  <a:pt x="367" y="49"/>
                  <a:pt x="367" y="49"/>
                  <a:pt x="367" y="49"/>
                </a:cubicBezTo>
                <a:cubicBezTo>
                  <a:pt x="367" y="49"/>
                  <a:pt x="367" y="49"/>
                  <a:pt x="367" y="49"/>
                </a:cubicBezTo>
                <a:cubicBezTo>
                  <a:pt x="368" y="49"/>
                  <a:pt x="368" y="49"/>
                  <a:pt x="368" y="49"/>
                </a:cubicBezTo>
                <a:cubicBezTo>
                  <a:pt x="383" y="49"/>
                  <a:pt x="383" y="49"/>
                  <a:pt x="383" y="49"/>
                </a:cubicBezTo>
                <a:cubicBezTo>
                  <a:pt x="387" y="48"/>
                  <a:pt x="387" y="48"/>
                  <a:pt x="387" y="48"/>
                </a:cubicBezTo>
                <a:cubicBezTo>
                  <a:pt x="381" y="48"/>
                  <a:pt x="375" y="48"/>
                  <a:pt x="369" y="48"/>
                </a:cubicBezTo>
                <a:cubicBezTo>
                  <a:pt x="368" y="47"/>
                  <a:pt x="368" y="47"/>
                  <a:pt x="368" y="47"/>
                </a:cubicBezTo>
                <a:cubicBezTo>
                  <a:pt x="372" y="46"/>
                  <a:pt x="378" y="47"/>
                  <a:pt x="381" y="46"/>
                </a:cubicBezTo>
                <a:cubicBezTo>
                  <a:pt x="376" y="45"/>
                  <a:pt x="373" y="46"/>
                  <a:pt x="368" y="46"/>
                </a:cubicBezTo>
                <a:cubicBezTo>
                  <a:pt x="368" y="45"/>
                  <a:pt x="368" y="45"/>
                  <a:pt x="368" y="45"/>
                </a:cubicBezTo>
                <a:cubicBezTo>
                  <a:pt x="368" y="45"/>
                  <a:pt x="369" y="45"/>
                  <a:pt x="370" y="45"/>
                </a:cubicBezTo>
                <a:cubicBezTo>
                  <a:pt x="372" y="43"/>
                  <a:pt x="375" y="44"/>
                  <a:pt x="378" y="44"/>
                </a:cubicBezTo>
                <a:cubicBezTo>
                  <a:pt x="382" y="44"/>
                  <a:pt x="385" y="44"/>
                  <a:pt x="388" y="44"/>
                </a:cubicBezTo>
                <a:cubicBezTo>
                  <a:pt x="391" y="43"/>
                  <a:pt x="397" y="44"/>
                  <a:pt x="400" y="44"/>
                </a:cubicBezTo>
                <a:cubicBezTo>
                  <a:pt x="400" y="44"/>
                  <a:pt x="399" y="44"/>
                  <a:pt x="399" y="44"/>
                </a:cubicBezTo>
                <a:cubicBezTo>
                  <a:pt x="400" y="43"/>
                  <a:pt x="400" y="42"/>
                  <a:pt x="402" y="42"/>
                </a:cubicBezTo>
                <a:cubicBezTo>
                  <a:pt x="403" y="42"/>
                  <a:pt x="404" y="42"/>
                  <a:pt x="404" y="43"/>
                </a:cubicBezTo>
                <a:cubicBezTo>
                  <a:pt x="405" y="43"/>
                  <a:pt x="407" y="43"/>
                  <a:pt x="408" y="43"/>
                </a:cubicBezTo>
                <a:cubicBezTo>
                  <a:pt x="408" y="42"/>
                  <a:pt x="408" y="42"/>
                  <a:pt x="408" y="42"/>
                </a:cubicBezTo>
                <a:cubicBezTo>
                  <a:pt x="409" y="43"/>
                  <a:pt x="411" y="42"/>
                  <a:pt x="412" y="43"/>
                </a:cubicBezTo>
                <a:cubicBezTo>
                  <a:pt x="412" y="43"/>
                  <a:pt x="412" y="43"/>
                  <a:pt x="412" y="43"/>
                </a:cubicBezTo>
                <a:cubicBezTo>
                  <a:pt x="419" y="43"/>
                  <a:pt x="428" y="44"/>
                  <a:pt x="435" y="43"/>
                </a:cubicBezTo>
                <a:cubicBezTo>
                  <a:pt x="437" y="43"/>
                  <a:pt x="445" y="43"/>
                  <a:pt x="450" y="43"/>
                </a:cubicBezTo>
                <a:cubicBezTo>
                  <a:pt x="451" y="42"/>
                  <a:pt x="451" y="42"/>
                  <a:pt x="451" y="42"/>
                </a:cubicBezTo>
                <a:cubicBezTo>
                  <a:pt x="435" y="42"/>
                  <a:pt x="435" y="42"/>
                  <a:pt x="435" y="42"/>
                </a:cubicBezTo>
                <a:cubicBezTo>
                  <a:pt x="434" y="42"/>
                  <a:pt x="434" y="42"/>
                  <a:pt x="434" y="42"/>
                </a:cubicBezTo>
                <a:cubicBezTo>
                  <a:pt x="424" y="42"/>
                  <a:pt x="424" y="42"/>
                  <a:pt x="424" y="42"/>
                </a:cubicBezTo>
                <a:cubicBezTo>
                  <a:pt x="414" y="40"/>
                  <a:pt x="402" y="40"/>
                  <a:pt x="391" y="40"/>
                </a:cubicBezTo>
                <a:cubicBezTo>
                  <a:pt x="385" y="39"/>
                  <a:pt x="379" y="39"/>
                  <a:pt x="373" y="38"/>
                </a:cubicBezTo>
                <a:cubicBezTo>
                  <a:pt x="380" y="36"/>
                  <a:pt x="388" y="37"/>
                  <a:pt x="396" y="36"/>
                </a:cubicBezTo>
                <a:cubicBezTo>
                  <a:pt x="390" y="35"/>
                  <a:pt x="382" y="36"/>
                  <a:pt x="376" y="35"/>
                </a:cubicBezTo>
                <a:cubicBezTo>
                  <a:pt x="402" y="35"/>
                  <a:pt x="431" y="37"/>
                  <a:pt x="459" y="36"/>
                </a:cubicBezTo>
                <a:cubicBezTo>
                  <a:pt x="460" y="35"/>
                  <a:pt x="460" y="35"/>
                  <a:pt x="460" y="35"/>
                </a:cubicBezTo>
                <a:cubicBezTo>
                  <a:pt x="452" y="34"/>
                  <a:pt x="443" y="35"/>
                  <a:pt x="435" y="34"/>
                </a:cubicBezTo>
                <a:cubicBezTo>
                  <a:pt x="435" y="33"/>
                  <a:pt x="435" y="33"/>
                  <a:pt x="435" y="33"/>
                </a:cubicBezTo>
                <a:cubicBezTo>
                  <a:pt x="445" y="33"/>
                  <a:pt x="445" y="33"/>
                  <a:pt x="445" y="33"/>
                </a:cubicBezTo>
                <a:cubicBezTo>
                  <a:pt x="429" y="32"/>
                  <a:pt x="414" y="31"/>
                  <a:pt x="397" y="32"/>
                </a:cubicBezTo>
                <a:cubicBezTo>
                  <a:pt x="395" y="31"/>
                  <a:pt x="393" y="31"/>
                  <a:pt x="391" y="30"/>
                </a:cubicBezTo>
                <a:cubicBezTo>
                  <a:pt x="410" y="30"/>
                  <a:pt x="428" y="32"/>
                  <a:pt x="445" y="31"/>
                </a:cubicBezTo>
                <a:cubicBezTo>
                  <a:pt x="439" y="31"/>
                  <a:pt x="434" y="30"/>
                  <a:pt x="428" y="30"/>
                </a:cubicBezTo>
                <a:cubicBezTo>
                  <a:pt x="426" y="30"/>
                  <a:pt x="426" y="30"/>
                  <a:pt x="426" y="30"/>
                </a:cubicBezTo>
                <a:cubicBezTo>
                  <a:pt x="428" y="29"/>
                  <a:pt x="428" y="29"/>
                  <a:pt x="428" y="29"/>
                </a:cubicBezTo>
                <a:cubicBezTo>
                  <a:pt x="449" y="29"/>
                  <a:pt x="449" y="29"/>
                  <a:pt x="449" y="29"/>
                </a:cubicBezTo>
                <a:cubicBezTo>
                  <a:pt x="449" y="29"/>
                  <a:pt x="449" y="29"/>
                  <a:pt x="449" y="29"/>
                </a:cubicBezTo>
                <a:cubicBezTo>
                  <a:pt x="432" y="28"/>
                  <a:pt x="415" y="28"/>
                  <a:pt x="398" y="27"/>
                </a:cubicBezTo>
                <a:cubicBezTo>
                  <a:pt x="399" y="26"/>
                  <a:pt x="399" y="26"/>
                  <a:pt x="399" y="26"/>
                </a:cubicBezTo>
                <a:cubicBezTo>
                  <a:pt x="417" y="24"/>
                  <a:pt x="432" y="30"/>
                  <a:pt x="449" y="27"/>
                </a:cubicBezTo>
                <a:cubicBezTo>
                  <a:pt x="444" y="26"/>
                  <a:pt x="440" y="27"/>
                  <a:pt x="436" y="26"/>
                </a:cubicBezTo>
                <a:cubicBezTo>
                  <a:pt x="445" y="26"/>
                  <a:pt x="455" y="25"/>
                  <a:pt x="464" y="25"/>
                </a:cubicBezTo>
                <a:cubicBezTo>
                  <a:pt x="463" y="23"/>
                  <a:pt x="471" y="25"/>
                  <a:pt x="474" y="23"/>
                </a:cubicBezTo>
                <a:cubicBezTo>
                  <a:pt x="461" y="23"/>
                  <a:pt x="447" y="23"/>
                  <a:pt x="435" y="22"/>
                </a:cubicBezTo>
                <a:cubicBezTo>
                  <a:pt x="438" y="21"/>
                  <a:pt x="441" y="21"/>
                  <a:pt x="444" y="21"/>
                </a:cubicBezTo>
                <a:cubicBezTo>
                  <a:pt x="443" y="21"/>
                  <a:pt x="443" y="21"/>
                  <a:pt x="443" y="20"/>
                </a:cubicBezTo>
                <a:cubicBezTo>
                  <a:pt x="443" y="20"/>
                  <a:pt x="443" y="20"/>
                  <a:pt x="443" y="20"/>
                </a:cubicBezTo>
                <a:cubicBezTo>
                  <a:pt x="452" y="20"/>
                  <a:pt x="460" y="21"/>
                  <a:pt x="468" y="19"/>
                </a:cubicBezTo>
                <a:cubicBezTo>
                  <a:pt x="464" y="19"/>
                  <a:pt x="460" y="19"/>
                  <a:pt x="457" y="18"/>
                </a:cubicBezTo>
                <a:cubicBezTo>
                  <a:pt x="457" y="18"/>
                  <a:pt x="458" y="17"/>
                  <a:pt x="458" y="17"/>
                </a:cubicBezTo>
                <a:cubicBezTo>
                  <a:pt x="457" y="17"/>
                  <a:pt x="455" y="17"/>
                  <a:pt x="454" y="16"/>
                </a:cubicBezTo>
                <a:cubicBezTo>
                  <a:pt x="455" y="15"/>
                  <a:pt x="455" y="15"/>
                  <a:pt x="455" y="15"/>
                </a:cubicBezTo>
                <a:cubicBezTo>
                  <a:pt x="459" y="17"/>
                  <a:pt x="463" y="15"/>
                  <a:pt x="467" y="15"/>
                </a:cubicBezTo>
                <a:cubicBezTo>
                  <a:pt x="446" y="13"/>
                  <a:pt x="446" y="13"/>
                  <a:pt x="446" y="13"/>
                </a:cubicBezTo>
                <a:cubicBezTo>
                  <a:pt x="457" y="13"/>
                  <a:pt x="467" y="13"/>
                  <a:pt x="478" y="13"/>
                </a:cubicBezTo>
                <a:close/>
                <a:moveTo>
                  <a:pt x="20" y="46"/>
                </a:moveTo>
                <a:cubicBezTo>
                  <a:pt x="22" y="46"/>
                  <a:pt x="22" y="46"/>
                  <a:pt x="22" y="46"/>
                </a:cubicBezTo>
                <a:cubicBezTo>
                  <a:pt x="22" y="46"/>
                  <a:pt x="22" y="46"/>
                  <a:pt x="22" y="46"/>
                </a:cubicBezTo>
                <a:lnTo>
                  <a:pt x="20" y="46"/>
                </a:lnTo>
                <a:close/>
                <a:moveTo>
                  <a:pt x="224" y="74"/>
                </a:moveTo>
                <a:cubicBezTo>
                  <a:pt x="214" y="74"/>
                  <a:pt x="214" y="74"/>
                  <a:pt x="214" y="74"/>
                </a:cubicBezTo>
                <a:cubicBezTo>
                  <a:pt x="213" y="74"/>
                  <a:pt x="213" y="74"/>
                  <a:pt x="212" y="74"/>
                </a:cubicBezTo>
                <a:cubicBezTo>
                  <a:pt x="214" y="74"/>
                  <a:pt x="214" y="74"/>
                  <a:pt x="214" y="74"/>
                </a:cubicBezTo>
                <a:cubicBezTo>
                  <a:pt x="216" y="74"/>
                  <a:pt x="217" y="73"/>
                  <a:pt x="218" y="73"/>
                </a:cubicBezTo>
                <a:cubicBezTo>
                  <a:pt x="234" y="73"/>
                  <a:pt x="234" y="73"/>
                  <a:pt x="234" y="73"/>
                </a:cubicBezTo>
                <a:cubicBezTo>
                  <a:pt x="234" y="73"/>
                  <a:pt x="234" y="73"/>
                  <a:pt x="235" y="73"/>
                </a:cubicBezTo>
                <a:cubicBezTo>
                  <a:pt x="234" y="73"/>
                  <a:pt x="234" y="73"/>
                  <a:pt x="234" y="73"/>
                </a:cubicBezTo>
                <a:cubicBezTo>
                  <a:pt x="230" y="73"/>
                  <a:pt x="227" y="73"/>
                  <a:pt x="224" y="74"/>
                </a:cubicBezTo>
                <a:close/>
                <a:moveTo>
                  <a:pt x="380" y="69"/>
                </a:moveTo>
                <a:cubicBezTo>
                  <a:pt x="379" y="69"/>
                  <a:pt x="378" y="69"/>
                  <a:pt x="377" y="69"/>
                </a:cubicBezTo>
                <a:cubicBezTo>
                  <a:pt x="377" y="69"/>
                  <a:pt x="379" y="69"/>
                  <a:pt x="380" y="69"/>
                </a:cubicBezTo>
                <a:close/>
                <a:moveTo>
                  <a:pt x="367" y="70"/>
                </a:moveTo>
                <a:cubicBezTo>
                  <a:pt x="364" y="70"/>
                  <a:pt x="364" y="70"/>
                  <a:pt x="364" y="70"/>
                </a:cubicBezTo>
                <a:cubicBezTo>
                  <a:pt x="364" y="70"/>
                  <a:pt x="364" y="70"/>
                  <a:pt x="364" y="70"/>
                </a:cubicBezTo>
                <a:cubicBezTo>
                  <a:pt x="364" y="70"/>
                  <a:pt x="364" y="70"/>
                  <a:pt x="364" y="70"/>
                </a:cubicBezTo>
                <a:cubicBezTo>
                  <a:pt x="365" y="70"/>
                  <a:pt x="366" y="69"/>
                  <a:pt x="367" y="70"/>
                </a:cubicBezTo>
                <a:close/>
                <a:moveTo>
                  <a:pt x="415" y="11"/>
                </a:moveTo>
                <a:cubicBezTo>
                  <a:pt x="410" y="11"/>
                  <a:pt x="410" y="11"/>
                  <a:pt x="410" y="11"/>
                </a:cubicBezTo>
                <a:cubicBezTo>
                  <a:pt x="411" y="11"/>
                  <a:pt x="413" y="11"/>
                  <a:pt x="415" y="11"/>
                </a:cubicBezTo>
                <a:cubicBezTo>
                  <a:pt x="419" y="11"/>
                  <a:pt x="419" y="11"/>
                  <a:pt x="419" y="11"/>
                </a:cubicBezTo>
                <a:cubicBezTo>
                  <a:pt x="417" y="12"/>
                  <a:pt x="416" y="11"/>
                  <a:pt x="415" y="11"/>
                </a:cubicBezTo>
                <a:close/>
                <a:moveTo>
                  <a:pt x="422" y="12"/>
                </a:moveTo>
                <a:cubicBezTo>
                  <a:pt x="428" y="12"/>
                  <a:pt x="433" y="12"/>
                  <a:pt x="439" y="13"/>
                </a:cubicBezTo>
                <a:cubicBezTo>
                  <a:pt x="433" y="12"/>
                  <a:pt x="428" y="12"/>
                  <a:pt x="422" y="12"/>
                </a:cubicBezTo>
                <a:close/>
              </a:path>
            </a:pathLst>
          </a:custGeom>
          <a:solidFill>
            <a:srgbClr val="2c3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307440" y="318960"/>
            <a:ext cx="6432840" cy="5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6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d5070"/>
                </a:solidFill>
                <a:latin typeface="李旭科书法"/>
                <a:ea typeface="李旭科书法"/>
              </a:rPr>
              <a:t>请在此处添加标题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378" name="组合 1" descr=""/>
          <p:cNvPicPr/>
          <p:nvPr/>
        </p:nvPicPr>
        <p:blipFill>
          <a:blip r:embed="rId1"/>
          <a:stretch/>
        </p:blipFill>
        <p:spPr>
          <a:xfrm>
            <a:off x="738360" y="1212840"/>
            <a:ext cx="5844960" cy="4846680"/>
          </a:xfrm>
          <a:prstGeom prst="rect">
            <a:avLst/>
          </a:prstGeom>
          <a:ln w="0">
            <a:noFill/>
          </a:ln>
        </p:spPr>
      </p:pic>
      <p:sp>
        <p:nvSpPr>
          <p:cNvPr id="379" name="矩形 42"/>
          <p:cNvSpPr/>
          <p:nvPr/>
        </p:nvSpPr>
        <p:spPr>
          <a:xfrm>
            <a:off x="7221600" y="2017800"/>
            <a:ext cx="387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c3c5e"/>
                </a:solidFill>
                <a:latin typeface="腾祥铁山楷书简"/>
                <a:ea typeface="腾祥铁山楷书简"/>
              </a:rPr>
              <a:t>D</a:t>
            </a:r>
            <a:r>
              <a:rPr b="0" lang="zh-CN" sz="1400" spc="-1" strike="noStrike">
                <a:solidFill>
                  <a:srgbClr val="2c3c5e"/>
                </a:solidFill>
                <a:latin typeface="腾祥铁山楷书简"/>
                <a:ea typeface="腾祥铁山楷书简"/>
              </a:rPr>
              <a:t>意空间工作室成立于</a:t>
            </a:r>
            <a:r>
              <a:rPr b="0" lang="en-US" sz="1400" spc="-1" strike="noStrike">
                <a:solidFill>
                  <a:srgbClr val="2c3c5e"/>
                </a:solidFill>
                <a:latin typeface="腾祥铁山楷书简"/>
                <a:ea typeface="腾祥铁山楷书简"/>
              </a:rPr>
              <a:t>2015</a:t>
            </a:r>
            <a:r>
              <a:rPr b="0" lang="zh-CN" sz="1400" spc="-1" strike="noStrike">
                <a:solidFill>
                  <a:srgbClr val="2c3c5e"/>
                </a:solidFill>
                <a:latin typeface="腾祥铁山楷书简"/>
                <a:ea typeface="腾祥铁山楷书简"/>
              </a:rPr>
              <a:t>年</a:t>
            </a:r>
            <a:r>
              <a:rPr b="0" lang="en-US" sz="1400" spc="-1" strike="noStrike">
                <a:solidFill>
                  <a:srgbClr val="2c3c5e"/>
                </a:solidFill>
                <a:latin typeface="腾祥铁山楷书简"/>
                <a:ea typeface="腾祥铁山楷书简"/>
              </a:rPr>
              <a:t>10</a:t>
            </a:r>
            <a:r>
              <a:rPr b="0" lang="zh-CN" sz="1400" spc="-1" strike="noStrike">
                <a:solidFill>
                  <a:srgbClr val="2c3c5e"/>
                </a:solidFill>
                <a:latin typeface="腾祥铁山楷书简"/>
                <a:ea typeface="腾祥铁山楷书简"/>
              </a:rPr>
              <a:t>月，始终致力于专业的</a:t>
            </a:r>
            <a:r>
              <a:rPr b="0" lang="en-US" sz="1400" spc="-1" strike="noStrike">
                <a:solidFill>
                  <a:srgbClr val="2c3c5e"/>
                </a:solidFill>
                <a:latin typeface="腾祥铁山楷书简"/>
                <a:ea typeface="腾祥铁山楷书简"/>
              </a:rPr>
              <a:t>PPT</a:t>
            </a:r>
            <a:r>
              <a:rPr b="0" lang="zh-CN" sz="1400" spc="-1" strike="noStrike">
                <a:solidFill>
                  <a:srgbClr val="2c3c5e"/>
                </a:solidFill>
                <a:latin typeface="腾祥铁山楷书简"/>
                <a:ea typeface="腾祥铁山楷书简"/>
              </a:rPr>
              <a:t>模板制作、美化、定制，</a:t>
            </a:r>
            <a:r>
              <a:rPr b="0" lang="en-US" sz="1400" spc="-1" strike="noStrike">
                <a:solidFill>
                  <a:srgbClr val="2c3c5e"/>
                </a:solidFill>
                <a:latin typeface="腾祥铁山楷书简"/>
                <a:ea typeface="腾祥铁山楷书简"/>
              </a:rPr>
              <a:t>Keynote</a:t>
            </a:r>
            <a:r>
              <a:rPr b="0" lang="zh-CN" sz="1400" spc="-1" strike="noStrike">
                <a:solidFill>
                  <a:srgbClr val="2c3c5e"/>
                </a:solidFill>
                <a:latin typeface="腾祥铁山楷书简"/>
                <a:ea typeface="腾祥铁山楷书简"/>
              </a:rPr>
              <a:t>模板制作、美化、定制，只要是与演示相关的，我们竭诚为您服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流程图: 离页连接符 43"/>
          <p:cNvSpPr/>
          <p:nvPr/>
        </p:nvSpPr>
        <p:spPr>
          <a:xfrm>
            <a:off x="4573440" y="2593800"/>
            <a:ext cx="770040" cy="455760"/>
          </a:xfrm>
          <a:prstGeom prst="flowChartOffpageConnector">
            <a:avLst/>
          </a:prstGeom>
          <a:solidFill>
            <a:srgbClr val="2c3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腾祥铁山楷书简"/>
                <a:ea typeface="腾祥铁山楷书简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文本框 44"/>
          <p:cNvSpPr/>
          <p:nvPr/>
        </p:nvSpPr>
        <p:spPr>
          <a:xfrm>
            <a:off x="7842240" y="142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腾祥铁山楷书简"/>
                <a:ea typeface="腾祥铁山楷书简"/>
              </a:rPr>
              <a:t>客户分布情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流程图: 离页连接符 46"/>
          <p:cNvSpPr/>
          <p:nvPr/>
        </p:nvSpPr>
        <p:spPr>
          <a:xfrm>
            <a:off x="5405400" y="3711600"/>
            <a:ext cx="770040" cy="453960"/>
          </a:xfrm>
          <a:prstGeom prst="flowChartOffpageConnector">
            <a:avLst/>
          </a:prstGeom>
          <a:solidFill>
            <a:srgbClr val="2c3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腾祥铁山楷书简"/>
                <a:ea typeface="腾祥铁山楷书简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流程图: 离页连接符 47"/>
          <p:cNvSpPr/>
          <p:nvPr/>
        </p:nvSpPr>
        <p:spPr>
          <a:xfrm>
            <a:off x="4686480" y="4879800"/>
            <a:ext cx="769680" cy="455760"/>
          </a:xfrm>
          <a:prstGeom prst="flowChartOffpageConnector">
            <a:avLst/>
          </a:prstGeom>
          <a:solidFill>
            <a:srgbClr val="2c3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腾祥铁山楷书简"/>
                <a:ea typeface="腾祥铁山楷书简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10428"/>
          <p:cNvSpPr/>
          <p:nvPr/>
        </p:nvSpPr>
        <p:spPr>
          <a:xfrm rot="16200000">
            <a:off x="7126200" y="3379320"/>
            <a:ext cx="763560" cy="712800"/>
          </a:xfrm>
          <a:custGeom>
            <a:avLst/>
            <a:gdLst>
              <a:gd name="textAreaLeft" fmla="*/ 0 w 763560"/>
              <a:gd name="textAreaRight" fmla="*/ 763920 w 76356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165" h="154">
                <a:moveTo>
                  <a:pt x="92" y="6"/>
                </a:moveTo>
                <a:cubicBezTo>
                  <a:pt x="99" y="6"/>
                  <a:pt x="101" y="11"/>
                  <a:pt x="107" y="12"/>
                </a:cubicBezTo>
                <a:cubicBezTo>
                  <a:pt x="106" y="10"/>
                  <a:pt x="108" y="10"/>
                  <a:pt x="108" y="9"/>
                </a:cubicBezTo>
                <a:cubicBezTo>
                  <a:pt x="99" y="8"/>
                  <a:pt x="96" y="1"/>
                  <a:pt x="87" y="0"/>
                </a:cubicBezTo>
                <a:cubicBezTo>
                  <a:pt x="87" y="4"/>
                  <a:pt x="93" y="2"/>
                  <a:pt x="92" y="6"/>
                </a:cubicBezTo>
                <a:close/>
                <a:moveTo>
                  <a:pt x="89" y="15"/>
                </a:moveTo>
                <a:cubicBezTo>
                  <a:pt x="92" y="15"/>
                  <a:pt x="95" y="20"/>
                  <a:pt x="97" y="17"/>
                </a:cubicBezTo>
                <a:cubicBezTo>
                  <a:pt x="94" y="16"/>
                  <a:pt x="91" y="13"/>
                  <a:pt x="89" y="15"/>
                </a:cubicBezTo>
                <a:close/>
                <a:moveTo>
                  <a:pt x="20" y="32"/>
                </a:moveTo>
                <a:cubicBezTo>
                  <a:pt x="19" y="36"/>
                  <a:pt x="14" y="43"/>
                  <a:pt x="17" y="46"/>
                </a:cubicBezTo>
                <a:cubicBezTo>
                  <a:pt x="19" y="43"/>
                  <a:pt x="21" y="36"/>
                  <a:pt x="20" y="32"/>
                </a:cubicBezTo>
                <a:close/>
                <a:moveTo>
                  <a:pt x="12" y="48"/>
                </a:moveTo>
                <a:cubicBezTo>
                  <a:pt x="11" y="48"/>
                  <a:pt x="11" y="47"/>
                  <a:pt x="11" y="45"/>
                </a:cubicBezTo>
                <a:cubicBezTo>
                  <a:pt x="9" y="43"/>
                  <a:pt x="10" y="45"/>
                  <a:pt x="7" y="45"/>
                </a:cubicBezTo>
                <a:cubicBezTo>
                  <a:pt x="7" y="43"/>
                  <a:pt x="7" y="41"/>
                  <a:pt x="6" y="40"/>
                </a:cubicBezTo>
                <a:cubicBezTo>
                  <a:pt x="0" y="45"/>
                  <a:pt x="8" y="54"/>
                  <a:pt x="12" y="48"/>
                </a:cubicBezTo>
                <a:close/>
                <a:moveTo>
                  <a:pt x="151" y="52"/>
                </a:moveTo>
                <a:cubicBezTo>
                  <a:pt x="152" y="51"/>
                  <a:pt x="151" y="47"/>
                  <a:pt x="150" y="45"/>
                </a:cubicBezTo>
                <a:cubicBezTo>
                  <a:pt x="151" y="48"/>
                  <a:pt x="148" y="50"/>
                  <a:pt x="151" y="52"/>
                </a:cubicBezTo>
                <a:close/>
                <a:moveTo>
                  <a:pt x="152" y="82"/>
                </a:moveTo>
                <a:cubicBezTo>
                  <a:pt x="149" y="82"/>
                  <a:pt x="149" y="82"/>
                  <a:pt x="149" y="82"/>
                </a:cubicBezTo>
                <a:cubicBezTo>
                  <a:pt x="149" y="85"/>
                  <a:pt x="151" y="86"/>
                  <a:pt x="149" y="87"/>
                </a:cubicBezTo>
                <a:cubicBezTo>
                  <a:pt x="152" y="87"/>
                  <a:pt x="151" y="84"/>
                  <a:pt x="152" y="82"/>
                </a:cubicBezTo>
                <a:close/>
                <a:moveTo>
                  <a:pt x="132" y="131"/>
                </a:moveTo>
                <a:cubicBezTo>
                  <a:pt x="138" y="122"/>
                  <a:pt x="141" y="110"/>
                  <a:pt x="148" y="102"/>
                </a:cubicBezTo>
                <a:cubicBezTo>
                  <a:pt x="147" y="101"/>
                  <a:pt x="145" y="101"/>
                  <a:pt x="145" y="100"/>
                </a:cubicBezTo>
                <a:cubicBezTo>
                  <a:pt x="148" y="89"/>
                  <a:pt x="145" y="79"/>
                  <a:pt x="147" y="69"/>
                </a:cubicBezTo>
                <a:cubicBezTo>
                  <a:pt x="144" y="69"/>
                  <a:pt x="148" y="72"/>
                  <a:pt x="146" y="73"/>
                </a:cubicBezTo>
                <a:cubicBezTo>
                  <a:pt x="140" y="66"/>
                  <a:pt x="144" y="50"/>
                  <a:pt x="136" y="45"/>
                </a:cubicBezTo>
                <a:cubicBezTo>
                  <a:pt x="133" y="31"/>
                  <a:pt x="122" y="26"/>
                  <a:pt x="113" y="18"/>
                </a:cubicBezTo>
                <a:cubicBezTo>
                  <a:pt x="113" y="23"/>
                  <a:pt x="121" y="25"/>
                  <a:pt x="119" y="30"/>
                </a:cubicBezTo>
                <a:cubicBezTo>
                  <a:pt x="112" y="26"/>
                  <a:pt x="108" y="15"/>
                  <a:pt x="97" y="17"/>
                </a:cubicBezTo>
                <a:cubicBezTo>
                  <a:pt x="102" y="19"/>
                  <a:pt x="96" y="19"/>
                  <a:pt x="95" y="19"/>
                </a:cubicBezTo>
                <a:cubicBezTo>
                  <a:pt x="96" y="20"/>
                  <a:pt x="100" y="22"/>
                  <a:pt x="98" y="22"/>
                </a:cubicBezTo>
                <a:cubicBezTo>
                  <a:pt x="87" y="15"/>
                  <a:pt x="68" y="25"/>
                  <a:pt x="58" y="24"/>
                </a:cubicBezTo>
                <a:cubicBezTo>
                  <a:pt x="62" y="22"/>
                  <a:pt x="66" y="22"/>
                  <a:pt x="69" y="21"/>
                </a:cubicBezTo>
                <a:cubicBezTo>
                  <a:pt x="63" y="17"/>
                  <a:pt x="52" y="17"/>
                  <a:pt x="47" y="22"/>
                </a:cubicBezTo>
                <a:cubicBezTo>
                  <a:pt x="41" y="14"/>
                  <a:pt x="36" y="29"/>
                  <a:pt x="31" y="27"/>
                </a:cubicBezTo>
                <a:cubicBezTo>
                  <a:pt x="35" y="30"/>
                  <a:pt x="27" y="38"/>
                  <a:pt x="26" y="43"/>
                </a:cubicBezTo>
                <a:cubicBezTo>
                  <a:pt x="25" y="42"/>
                  <a:pt x="25" y="40"/>
                  <a:pt x="23" y="40"/>
                </a:cubicBezTo>
                <a:cubicBezTo>
                  <a:pt x="19" y="48"/>
                  <a:pt x="17" y="56"/>
                  <a:pt x="17" y="66"/>
                </a:cubicBezTo>
                <a:cubicBezTo>
                  <a:pt x="16" y="66"/>
                  <a:pt x="16" y="65"/>
                  <a:pt x="15" y="65"/>
                </a:cubicBezTo>
                <a:cubicBezTo>
                  <a:pt x="13" y="66"/>
                  <a:pt x="18" y="68"/>
                  <a:pt x="14" y="69"/>
                </a:cubicBezTo>
                <a:cubicBezTo>
                  <a:pt x="12" y="67"/>
                  <a:pt x="16" y="65"/>
                  <a:pt x="14" y="63"/>
                </a:cubicBezTo>
                <a:cubicBezTo>
                  <a:pt x="12" y="65"/>
                  <a:pt x="13" y="57"/>
                  <a:pt x="12" y="56"/>
                </a:cubicBezTo>
                <a:cubicBezTo>
                  <a:pt x="10" y="68"/>
                  <a:pt x="11" y="83"/>
                  <a:pt x="13" y="96"/>
                </a:cubicBezTo>
                <a:cubicBezTo>
                  <a:pt x="11" y="97"/>
                  <a:pt x="11" y="95"/>
                  <a:pt x="9" y="95"/>
                </a:cubicBezTo>
                <a:cubicBezTo>
                  <a:pt x="10" y="101"/>
                  <a:pt x="12" y="105"/>
                  <a:pt x="12" y="112"/>
                </a:cubicBezTo>
                <a:cubicBezTo>
                  <a:pt x="20" y="125"/>
                  <a:pt x="33" y="133"/>
                  <a:pt x="43" y="145"/>
                </a:cubicBezTo>
                <a:cubicBezTo>
                  <a:pt x="55" y="149"/>
                  <a:pt x="72" y="151"/>
                  <a:pt x="87" y="151"/>
                </a:cubicBezTo>
                <a:cubicBezTo>
                  <a:pt x="97" y="154"/>
                  <a:pt x="109" y="146"/>
                  <a:pt x="117" y="141"/>
                </a:cubicBezTo>
                <a:cubicBezTo>
                  <a:pt x="117" y="142"/>
                  <a:pt x="115" y="144"/>
                  <a:pt x="117" y="144"/>
                </a:cubicBezTo>
                <a:cubicBezTo>
                  <a:pt x="124" y="140"/>
                  <a:pt x="132" y="137"/>
                  <a:pt x="136" y="129"/>
                </a:cubicBezTo>
                <a:cubicBezTo>
                  <a:pt x="134" y="129"/>
                  <a:pt x="133" y="132"/>
                  <a:pt x="132" y="131"/>
                </a:cubicBezTo>
                <a:close/>
                <a:moveTo>
                  <a:pt x="31" y="37"/>
                </a:moveTo>
                <a:cubicBezTo>
                  <a:pt x="31" y="33"/>
                  <a:pt x="33" y="31"/>
                  <a:pt x="35" y="29"/>
                </a:cubicBezTo>
                <a:cubicBezTo>
                  <a:pt x="36" y="29"/>
                  <a:pt x="36" y="30"/>
                  <a:pt x="37" y="30"/>
                </a:cubicBezTo>
                <a:cubicBezTo>
                  <a:pt x="36" y="33"/>
                  <a:pt x="35" y="36"/>
                  <a:pt x="31" y="37"/>
                </a:cubicBezTo>
                <a:close/>
                <a:moveTo>
                  <a:pt x="77" y="30"/>
                </a:moveTo>
                <a:cubicBezTo>
                  <a:pt x="79" y="29"/>
                  <a:pt x="82" y="29"/>
                  <a:pt x="84" y="30"/>
                </a:cubicBezTo>
                <a:cubicBezTo>
                  <a:pt x="83" y="33"/>
                  <a:pt x="80" y="30"/>
                  <a:pt x="77" y="30"/>
                </a:cubicBezTo>
                <a:close/>
                <a:moveTo>
                  <a:pt x="101" y="34"/>
                </a:moveTo>
                <a:cubicBezTo>
                  <a:pt x="94" y="34"/>
                  <a:pt x="91" y="30"/>
                  <a:pt x="87" y="25"/>
                </a:cubicBezTo>
                <a:cubicBezTo>
                  <a:pt x="94" y="27"/>
                  <a:pt x="97" y="27"/>
                  <a:pt x="101" y="34"/>
                </a:cubicBezTo>
                <a:close/>
                <a:moveTo>
                  <a:pt x="89" y="31"/>
                </a:moveTo>
                <a:cubicBezTo>
                  <a:pt x="95" y="33"/>
                  <a:pt x="98" y="38"/>
                  <a:pt x="102" y="43"/>
                </a:cubicBezTo>
                <a:cubicBezTo>
                  <a:pt x="98" y="39"/>
                  <a:pt x="92" y="36"/>
                  <a:pt x="89" y="31"/>
                </a:cubicBezTo>
                <a:close/>
                <a:moveTo>
                  <a:pt x="110" y="32"/>
                </a:moveTo>
                <a:cubicBezTo>
                  <a:pt x="107" y="32"/>
                  <a:pt x="105" y="30"/>
                  <a:pt x="103" y="29"/>
                </a:cubicBezTo>
                <a:cubicBezTo>
                  <a:pt x="106" y="27"/>
                  <a:pt x="110" y="29"/>
                  <a:pt x="110" y="32"/>
                </a:cubicBezTo>
                <a:close/>
                <a:moveTo>
                  <a:pt x="164" y="77"/>
                </a:moveTo>
                <a:cubicBezTo>
                  <a:pt x="162" y="79"/>
                  <a:pt x="163" y="83"/>
                  <a:pt x="162" y="86"/>
                </a:cubicBezTo>
                <a:cubicBezTo>
                  <a:pt x="165" y="84"/>
                  <a:pt x="164" y="79"/>
                  <a:pt x="164" y="77"/>
                </a:cubicBezTo>
                <a:close/>
                <a:moveTo>
                  <a:pt x="158" y="100"/>
                </a:moveTo>
                <a:cubicBezTo>
                  <a:pt x="158" y="96"/>
                  <a:pt x="162" y="93"/>
                  <a:pt x="160" y="89"/>
                </a:cubicBezTo>
                <a:cubicBezTo>
                  <a:pt x="160" y="93"/>
                  <a:pt x="156" y="97"/>
                  <a:pt x="158" y="100"/>
                </a:cubicBezTo>
                <a:close/>
                <a:moveTo>
                  <a:pt x="141" y="125"/>
                </a:moveTo>
                <a:cubicBezTo>
                  <a:pt x="147" y="126"/>
                  <a:pt x="149" y="121"/>
                  <a:pt x="149" y="115"/>
                </a:cubicBezTo>
                <a:cubicBezTo>
                  <a:pt x="154" y="113"/>
                  <a:pt x="158" y="103"/>
                  <a:pt x="157" y="101"/>
                </a:cubicBezTo>
                <a:cubicBezTo>
                  <a:pt x="152" y="110"/>
                  <a:pt x="147" y="118"/>
                  <a:pt x="141" y="125"/>
                </a:cubicBezTo>
                <a:close/>
              </a:path>
            </a:pathLst>
          </a:custGeom>
          <a:solidFill>
            <a:srgbClr val="2c3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9"/>
          <p:cNvSpPr/>
          <p:nvPr/>
        </p:nvSpPr>
        <p:spPr>
          <a:xfrm>
            <a:off x="7864560" y="3409920"/>
            <a:ext cx="3228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D</a:t>
            </a:r>
            <a:r>
              <a:rPr b="0" lang="zh-CN" sz="14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意空间工作室成立于</a:t>
            </a:r>
            <a:r>
              <a:rPr b="0" lang="en-US" sz="14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2015</a:t>
            </a:r>
            <a:r>
              <a:rPr b="0" lang="zh-CN" sz="14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年</a:t>
            </a:r>
            <a:r>
              <a:rPr b="0" lang="en-US" sz="14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10</a:t>
            </a:r>
            <a:r>
              <a:rPr b="0" lang="zh-CN" sz="14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月，只要是与演示相关的，我们竭诚为您服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文本框 50"/>
          <p:cNvSpPr/>
          <p:nvPr/>
        </p:nvSpPr>
        <p:spPr>
          <a:xfrm>
            <a:off x="7341840" y="34700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腾祥铁山楷书简"/>
                <a:ea typeface="腾祥铁山楷书简"/>
              </a:rPr>
              <a:t>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10428"/>
          <p:cNvSpPr/>
          <p:nvPr/>
        </p:nvSpPr>
        <p:spPr>
          <a:xfrm rot="16200000">
            <a:off x="7126200" y="4230000"/>
            <a:ext cx="763560" cy="712800"/>
          </a:xfrm>
          <a:custGeom>
            <a:avLst/>
            <a:gdLst>
              <a:gd name="textAreaLeft" fmla="*/ 0 w 763560"/>
              <a:gd name="textAreaRight" fmla="*/ 763920 w 76356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165" h="154">
                <a:moveTo>
                  <a:pt x="92" y="6"/>
                </a:moveTo>
                <a:cubicBezTo>
                  <a:pt x="99" y="6"/>
                  <a:pt x="101" y="11"/>
                  <a:pt x="107" y="12"/>
                </a:cubicBezTo>
                <a:cubicBezTo>
                  <a:pt x="106" y="10"/>
                  <a:pt x="108" y="10"/>
                  <a:pt x="108" y="9"/>
                </a:cubicBezTo>
                <a:cubicBezTo>
                  <a:pt x="99" y="8"/>
                  <a:pt x="96" y="1"/>
                  <a:pt x="87" y="0"/>
                </a:cubicBezTo>
                <a:cubicBezTo>
                  <a:pt x="87" y="4"/>
                  <a:pt x="93" y="2"/>
                  <a:pt x="92" y="6"/>
                </a:cubicBezTo>
                <a:close/>
                <a:moveTo>
                  <a:pt x="89" y="15"/>
                </a:moveTo>
                <a:cubicBezTo>
                  <a:pt x="92" y="15"/>
                  <a:pt x="95" y="20"/>
                  <a:pt x="97" y="17"/>
                </a:cubicBezTo>
                <a:cubicBezTo>
                  <a:pt x="94" y="16"/>
                  <a:pt x="91" y="13"/>
                  <a:pt x="89" y="15"/>
                </a:cubicBezTo>
                <a:close/>
                <a:moveTo>
                  <a:pt x="20" y="32"/>
                </a:moveTo>
                <a:cubicBezTo>
                  <a:pt x="19" y="36"/>
                  <a:pt x="14" y="43"/>
                  <a:pt x="17" y="46"/>
                </a:cubicBezTo>
                <a:cubicBezTo>
                  <a:pt x="19" y="43"/>
                  <a:pt x="21" y="36"/>
                  <a:pt x="20" y="32"/>
                </a:cubicBezTo>
                <a:close/>
                <a:moveTo>
                  <a:pt x="12" y="48"/>
                </a:moveTo>
                <a:cubicBezTo>
                  <a:pt x="11" y="48"/>
                  <a:pt x="11" y="47"/>
                  <a:pt x="11" y="45"/>
                </a:cubicBezTo>
                <a:cubicBezTo>
                  <a:pt x="9" y="43"/>
                  <a:pt x="10" y="45"/>
                  <a:pt x="7" y="45"/>
                </a:cubicBezTo>
                <a:cubicBezTo>
                  <a:pt x="7" y="43"/>
                  <a:pt x="7" y="41"/>
                  <a:pt x="6" y="40"/>
                </a:cubicBezTo>
                <a:cubicBezTo>
                  <a:pt x="0" y="45"/>
                  <a:pt x="8" y="54"/>
                  <a:pt x="12" y="48"/>
                </a:cubicBezTo>
                <a:close/>
                <a:moveTo>
                  <a:pt x="151" y="52"/>
                </a:moveTo>
                <a:cubicBezTo>
                  <a:pt x="152" y="51"/>
                  <a:pt x="151" y="47"/>
                  <a:pt x="150" y="45"/>
                </a:cubicBezTo>
                <a:cubicBezTo>
                  <a:pt x="151" y="48"/>
                  <a:pt x="148" y="50"/>
                  <a:pt x="151" y="52"/>
                </a:cubicBezTo>
                <a:close/>
                <a:moveTo>
                  <a:pt x="152" y="82"/>
                </a:moveTo>
                <a:cubicBezTo>
                  <a:pt x="149" y="82"/>
                  <a:pt x="149" y="82"/>
                  <a:pt x="149" y="82"/>
                </a:cubicBezTo>
                <a:cubicBezTo>
                  <a:pt x="149" y="85"/>
                  <a:pt x="151" y="86"/>
                  <a:pt x="149" y="87"/>
                </a:cubicBezTo>
                <a:cubicBezTo>
                  <a:pt x="152" y="87"/>
                  <a:pt x="151" y="84"/>
                  <a:pt x="152" y="82"/>
                </a:cubicBezTo>
                <a:close/>
                <a:moveTo>
                  <a:pt x="132" y="131"/>
                </a:moveTo>
                <a:cubicBezTo>
                  <a:pt x="138" y="122"/>
                  <a:pt x="141" y="110"/>
                  <a:pt x="148" y="102"/>
                </a:cubicBezTo>
                <a:cubicBezTo>
                  <a:pt x="147" y="101"/>
                  <a:pt x="145" y="101"/>
                  <a:pt x="145" y="100"/>
                </a:cubicBezTo>
                <a:cubicBezTo>
                  <a:pt x="148" y="89"/>
                  <a:pt x="145" y="79"/>
                  <a:pt x="147" y="69"/>
                </a:cubicBezTo>
                <a:cubicBezTo>
                  <a:pt x="144" y="69"/>
                  <a:pt x="148" y="72"/>
                  <a:pt x="146" y="73"/>
                </a:cubicBezTo>
                <a:cubicBezTo>
                  <a:pt x="140" y="66"/>
                  <a:pt x="144" y="50"/>
                  <a:pt x="136" y="45"/>
                </a:cubicBezTo>
                <a:cubicBezTo>
                  <a:pt x="133" y="31"/>
                  <a:pt x="122" y="26"/>
                  <a:pt x="113" y="18"/>
                </a:cubicBezTo>
                <a:cubicBezTo>
                  <a:pt x="113" y="23"/>
                  <a:pt x="121" y="25"/>
                  <a:pt x="119" y="30"/>
                </a:cubicBezTo>
                <a:cubicBezTo>
                  <a:pt x="112" y="26"/>
                  <a:pt x="108" y="15"/>
                  <a:pt x="97" y="17"/>
                </a:cubicBezTo>
                <a:cubicBezTo>
                  <a:pt x="102" y="19"/>
                  <a:pt x="96" y="19"/>
                  <a:pt x="95" y="19"/>
                </a:cubicBezTo>
                <a:cubicBezTo>
                  <a:pt x="96" y="20"/>
                  <a:pt x="100" y="22"/>
                  <a:pt x="98" y="22"/>
                </a:cubicBezTo>
                <a:cubicBezTo>
                  <a:pt x="87" y="15"/>
                  <a:pt x="68" y="25"/>
                  <a:pt x="58" y="24"/>
                </a:cubicBezTo>
                <a:cubicBezTo>
                  <a:pt x="62" y="22"/>
                  <a:pt x="66" y="22"/>
                  <a:pt x="69" y="21"/>
                </a:cubicBezTo>
                <a:cubicBezTo>
                  <a:pt x="63" y="17"/>
                  <a:pt x="52" y="17"/>
                  <a:pt x="47" y="22"/>
                </a:cubicBezTo>
                <a:cubicBezTo>
                  <a:pt x="41" y="14"/>
                  <a:pt x="36" y="29"/>
                  <a:pt x="31" y="27"/>
                </a:cubicBezTo>
                <a:cubicBezTo>
                  <a:pt x="35" y="30"/>
                  <a:pt x="27" y="38"/>
                  <a:pt x="26" y="43"/>
                </a:cubicBezTo>
                <a:cubicBezTo>
                  <a:pt x="25" y="42"/>
                  <a:pt x="25" y="40"/>
                  <a:pt x="23" y="40"/>
                </a:cubicBezTo>
                <a:cubicBezTo>
                  <a:pt x="19" y="48"/>
                  <a:pt x="17" y="56"/>
                  <a:pt x="17" y="66"/>
                </a:cubicBezTo>
                <a:cubicBezTo>
                  <a:pt x="16" y="66"/>
                  <a:pt x="16" y="65"/>
                  <a:pt x="15" y="65"/>
                </a:cubicBezTo>
                <a:cubicBezTo>
                  <a:pt x="13" y="66"/>
                  <a:pt x="18" y="68"/>
                  <a:pt x="14" y="69"/>
                </a:cubicBezTo>
                <a:cubicBezTo>
                  <a:pt x="12" y="67"/>
                  <a:pt x="16" y="65"/>
                  <a:pt x="14" y="63"/>
                </a:cubicBezTo>
                <a:cubicBezTo>
                  <a:pt x="12" y="65"/>
                  <a:pt x="13" y="57"/>
                  <a:pt x="12" y="56"/>
                </a:cubicBezTo>
                <a:cubicBezTo>
                  <a:pt x="10" y="68"/>
                  <a:pt x="11" y="83"/>
                  <a:pt x="13" y="96"/>
                </a:cubicBezTo>
                <a:cubicBezTo>
                  <a:pt x="11" y="97"/>
                  <a:pt x="11" y="95"/>
                  <a:pt x="9" y="95"/>
                </a:cubicBezTo>
                <a:cubicBezTo>
                  <a:pt x="10" y="101"/>
                  <a:pt x="12" y="105"/>
                  <a:pt x="12" y="112"/>
                </a:cubicBezTo>
                <a:cubicBezTo>
                  <a:pt x="20" y="125"/>
                  <a:pt x="33" y="133"/>
                  <a:pt x="43" y="145"/>
                </a:cubicBezTo>
                <a:cubicBezTo>
                  <a:pt x="55" y="149"/>
                  <a:pt x="72" y="151"/>
                  <a:pt x="87" y="151"/>
                </a:cubicBezTo>
                <a:cubicBezTo>
                  <a:pt x="97" y="154"/>
                  <a:pt x="109" y="146"/>
                  <a:pt x="117" y="141"/>
                </a:cubicBezTo>
                <a:cubicBezTo>
                  <a:pt x="117" y="142"/>
                  <a:pt x="115" y="144"/>
                  <a:pt x="117" y="144"/>
                </a:cubicBezTo>
                <a:cubicBezTo>
                  <a:pt x="124" y="140"/>
                  <a:pt x="132" y="137"/>
                  <a:pt x="136" y="129"/>
                </a:cubicBezTo>
                <a:cubicBezTo>
                  <a:pt x="134" y="129"/>
                  <a:pt x="133" y="132"/>
                  <a:pt x="132" y="131"/>
                </a:cubicBezTo>
                <a:close/>
                <a:moveTo>
                  <a:pt x="31" y="37"/>
                </a:moveTo>
                <a:cubicBezTo>
                  <a:pt x="31" y="33"/>
                  <a:pt x="33" y="31"/>
                  <a:pt x="35" y="29"/>
                </a:cubicBezTo>
                <a:cubicBezTo>
                  <a:pt x="36" y="29"/>
                  <a:pt x="36" y="30"/>
                  <a:pt x="37" y="30"/>
                </a:cubicBezTo>
                <a:cubicBezTo>
                  <a:pt x="36" y="33"/>
                  <a:pt x="35" y="36"/>
                  <a:pt x="31" y="37"/>
                </a:cubicBezTo>
                <a:close/>
                <a:moveTo>
                  <a:pt x="77" y="30"/>
                </a:moveTo>
                <a:cubicBezTo>
                  <a:pt x="79" y="29"/>
                  <a:pt x="82" y="29"/>
                  <a:pt x="84" y="30"/>
                </a:cubicBezTo>
                <a:cubicBezTo>
                  <a:pt x="83" y="33"/>
                  <a:pt x="80" y="30"/>
                  <a:pt x="77" y="30"/>
                </a:cubicBezTo>
                <a:close/>
                <a:moveTo>
                  <a:pt x="101" y="34"/>
                </a:moveTo>
                <a:cubicBezTo>
                  <a:pt x="94" y="34"/>
                  <a:pt x="91" y="30"/>
                  <a:pt x="87" y="25"/>
                </a:cubicBezTo>
                <a:cubicBezTo>
                  <a:pt x="94" y="27"/>
                  <a:pt x="97" y="27"/>
                  <a:pt x="101" y="34"/>
                </a:cubicBezTo>
                <a:close/>
                <a:moveTo>
                  <a:pt x="89" y="31"/>
                </a:moveTo>
                <a:cubicBezTo>
                  <a:pt x="95" y="33"/>
                  <a:pt x="98" y="38"/>
                  <a:pt x="102" y="43"/>
                </a:cubicBezTo>
                <a:cubicBezTo>
                  <a:pt x="98" y="39"/>
                  <a:pt x="92" y="36"/>
                  <a:pt x="89" y="31"/>
                </a:cubicBezTo>
                <a:close/>
                <a:moveTo>
                  <a:pt x="110" y="32"/>
                </a:moveTo>
                <a:cubicBezTo>
                  <a:pt x="107" y="32"/>
                  <a:pt x="105" y="30"/>
                  <a:pt x="103" y="29"/>
                </a:cubicBezTo>
                <a:cubicBezTo>
                  <a:pt x="106" y="27"/>
                  <a:pt x="110" y="29"/>
                  <a:pt x="110" y="32"/>
                </a:cubicBezTo>
                <a:close/>
                <a:moveTo>
                  <a:pt x="164" y="77"/>
                </a:moveTo>
                <a:cubicBezTo>
                  <a:pt x="162" y="79"/>
                  <a:pt x="163" y="83"/>
                  <a:pt x="162" y="86"/>
                </a:cubicBezTo>
                <a:cubicBezTo>
                  <a:pt x="165" y="84"/>
                  <a:pt x="164" y="79"/>
                  <a:pt x="164" y="77"/>
                </a:cubicBezTo>
                <a:close/>
                <a:moveTo>
                  <a:pt x="158" y="100"/>
                </a:moveTo>
                <a:cubicBezTo>
                  <a:pt x="158" y="96"/>
                  <a:pt x="162" y="93"/>
                  <a:pt x="160" y="89"/>
                </a:cubicBezTo>
                <a:cubicBezTo>
                  <a:pt x="160" y="93"/>
                  <a:pt x="156" y="97"/>
                  <a:pt x="158" y="100"/>
                </a:cubicBezTo>
                <a:close/>
                <a:moveTo>
                  <a:pt x="141" y="125"/>
                </a:moveTo>
                <a:cubicBezTo>
                  <a:pt x="147" y="126"/>
                  <a:pt x="149" y="121"/>
                  <a:pt x="149" y="115"/>
                </a:cubicBezTo>
                <a:cubicBezTo>
                  <a:pt x="154" y="113"/>
                  <a:pt x="158" y="103"/>
                  <a:pt x="157" y="101"/>
                </a:cubicBezTo>
                <a:cubicBezTo>
                  <a:pt x="152" y="110"/>
                  <a:pt x="147" y="118"/>
                  <a:pt x="141" y="125"/>
                </a:cubicBezTo>
                <a:close/>
              </a:path>
            </a:pathLst>
          </a:custGeom>
          <a:solidFill>
            <a:srgbClr val="2c3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54"/>
          <p:cNvSpPr/>
          <p:nvPr/>
        </p:nvSpPr>
        <p:spPr>
          <a:xfrm>
            <a:off x="7864560" y="4260960"/>
            <a:ext cx="3228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D</a:t>
            </a:r>
            <a:r>
              <a:rPr b="0" lang="zh-CN" sz="14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意空间工作室成立于</a:t>
            </a:r>
            <a:r>
              <a:rPr b="0" lang="en-US" sz="14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2015</a:t>
            </a:r>
            <a:r>
              <a:rPr b="0" lang="zh-CN" sz="14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年</a:t>
            </a:r>
            <a:r>
              <a:rPr b="0" lang="en-US" sz="14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10</a:t>
            </a:r>
            <a:r>
              <a:rPr b="0" lang="zh-CN" sz="14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月，只要是与演示相关的，我们竭诚为您服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文本框 55"/>
          <p:cNvSpPr/>
          <p:nvPr/>
        </p:nvSpPr>
        <p:spPr>
          <a:xfrm>
            <a:off x="7341840" y="43203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腾祥铁山楷书简"/>
                <a:ea typeface="腾祥铁山楷书简"/>
              </a:rPr>
              <a:t>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eform 10428"/>
          <p:cNvSpPr/>
          <p:nvPr/>
        </p:nvSpPr>
        <p:spPr>
          <a:xfrm rot="16200000">
            <a:off x="7126200" y="5081040"/>
            <a:ext cx="763560" cy="712800"/>
          </a:xfrm>
          <a:custGeom>
            <a:avLst/>
            <a:gdLst>
              <a:gd name="textAreaLeft" fmla="*/ 0 w 763560"/>
              <a:gd name="textAreaRight" fmla="*/ 763920 w 76356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165" h="154">
                <a:moveTo>
                  <a:pt x="92" y="6"/>
                </a:moveTo>
                <a:cubicBezTo>
                  <a:pt x="99" y="6"/>
                  <a:pt x="101" y="11"/>
                  <a:pt x="107" y="12"/>
                </a:cubicBezTo>
                <a:cubicBezTo>
                  <a:pt x="106" y="10"/>
                  <a:pt x="108" y="10"/>
                  <a:pt x="108" y="9"/>
                </a:cubicBezTo>
                <a:cubicBezTo>
                  <a:pt x="99" y="8"/>
                  <a:pt x="96" y="1"/>
                  <a:pt x="87" y="0"/>
                </a:cubicBezTo>
                <a:cubicBezTo>
                  <a:pt x="87" y="4"/>
                  <a:pt x="93" y="2"/>
                  <a:pt x="92" y="6"/>
                </a:cubicBezTo>
                <a:close/>
                <a:moveTo>
                  <a:pt x="89" y="15"/>
                </a:moveTo>
                <a:cubicBezTo>
                  <a:pt x="92" y="15"/>
                  <a:pt x="95" y="20"/>
                  <a:pt x="97" y="17"/>
                </a:cubicBezTo>
                <a:cubicBezTo>
                  <a:pt x="94" y="16"/>
                  <a:pt x="91" y="13"/>
                  <a:pt x="89" y="15"/>
                </a:cubicBezTo>
                <a:close/>
                <a:moveTo>
                  <a:pt x="20" y="32"/>
                </a:moveTo>
                <a:cubicBezTo>
                  <a:pt x="19" y="36"/>
                  <a:pt x="14" y="43"/>
                  <a:pt x="17" y="46"/>
                </a:cubicBezTo>
                <a:cubicBezTo>
                  <a:pt x="19" y="43"/>
                  <a:pt x="21" y="36"/>
                  <a:pt x="20" y="32"/>
                </a:cubicBezTo>
                <a:close/>
                <a:moveTo>
                  <a:pt x="12" y="48"/>
                </a:moveTo>
                <a:cubicBezTo>
                  <a:pt x="11" y="48"/>
                  <a:pt x="11" y="47"/>
                  <a:pt x="11" y="45"/>
                </a:cubicBezTo>
                <a:cubicBezTo>
                  <a:pt x="9" y="43"/>
                  <a:pt x="10" y="45"/>
                  <a:pt x="7" y="45"/>
                </a:cubicBezTo>
                <a:cubicBezTo>
                  <a:pt x="7" y="43"/>
                  <a:pt x="7" y="41"/>
                  <a:pt x="6" y="40"/>
                </a:cubicBezTo>
                <a:cubicBezTo>
                  <a:pt x="0" y="45"/>
                  <a:pt x="8" y="54"/>
                  <a:pt x="12" y="48"/>
                </a:cubicBezTo>
                <a:close/>
                <a:moveTo>
                  <a:pt x="151" y="52"/>
                </a:moveTo>
                <a:cubicBezTo>
                  <a:pt x="152" y="51"/>
                  <a:pt x="151" y="47"/>
                  <a:pt x="150" y="45"/>
                </a:cubicBezTo>
                <a:cubicBezTo>
                  <a:pt x="151" y="48"/>
                  <a:pt x="148" y="50"/>
                  <a:pt x="151" y="52"/>
                </a:cubicBezTo>
                <a:close/>
                <a:moveTo>
                  <a:pt x="152" y="82"/>
                </a:moveTo>
                <a:cubicBezTo>
                  <a:pt x="149" y="82"/>
                  <a:pt x="149" y="82"/>
                  <a:pt x="149" y="82"/>
                </a:cubicBezTo>
                <a:cubicBezTo>
                  <a:pt x="149" y="85"/>
                  <a:pt x="151" y="86"/>
                  <a:pt x="149" y="87"/>
                </a:cubicBezTo>
                <a:cubicBezTo>
                  <a:pt x="152" y="87"/>
                  <a:pt x="151" y="84"/>
                  <a:pt x="152" y="82"/>
                </a:cubicBezTo>
                <a:close/>
                <a:moveTo>
                  <a:pt x="132" y="131"/>
                </a:moveTo>
                <a:cubicBezTo>
                  <a:pt x="138" y="122"/>
                  <a:pt x="141" y="110"/>
                  <a:pt x="148" y="102"/>
                </a:cubicBezTo>
                <a:cubicBezTo>
                  <a:pt x="147" y="101"/>
                  <a:pt x="145" y="101"/>
                  <a:pt x="145" y="100"/>
                </a:cubicBezTo>
                <a:cubicBezTo>
                  <a:pt x="148" y="89"/>
                  <a:pt x="145" y="79"/>
                  <a:pt x="147" y="69"/>
                </a:cubicBezTo>
                <a:cubicBezTo>
                  <a:pt x="144" y="69"/>
                  <a:pt x="148" y="72"/>
                  <a:pt x="146" y="73"/>
                </a:cubicBezTo>
                <a:cubicBezTo>
                  <a:pt x="140" y="66"/>
                  <a:pt x="144" y="50"/>
                  <a:pt x="136" y="45"/>
                </a:cubicBezTo>
                <a:cubicBezTo>
                  <a:pt x="133" y="31"/>
                  <a:pt x="122" y="26"/>
                  <a:pt x="113" y="18"/>
                </a:cubicBezTo>
                <a:cubicBezTo>
                  <a:pt x="113" y="23"/>
                  <a:pt x="121" y="25"/>
                  <a:pt x="119" y="30"/>
                </a:cubicBezTo>
                <a:cubicBezTo>
                  <a:pt x="112" y="26"/>
                  <a:pt x="108" y="15"/>
                  <a:pt x="97" y="17"/>
                </a:cubicBezTo>
                <a:cubicBezTo>
                  <a:pt x="102" y="19"/>
                  <a:pt x="96" y="19"/>
                  <a:pt x="95" y="19"/>
                </a:cubicBezTo>
                <a:cubicBezTo>
                  <a:pt x="96" y="20"/>
                  <a:pt x="100" y="22"/>
                  <a:pt x="98" y="22"/>
                </a:cubicBezTo>
                <a:cubicBezTo>
                  <a:pt x="87" y="15"/>
                  <a:pt x="68" y="25"/>
                  <a:pt x="58" y="24"/>
                </a:cubicBezTo>
                <a:cubicBezTo>
                  <a:pt x="62" y="22"/>
                  <a:pt x="66" y="22"/>
                  <a:pt x="69" y="21"/>
                </a:cubicBezTo>
                <a:cubicBezTo>
                  <a:pt x="63" y="17"/>
                  <a:pt x="52" y="17"/>
                  <a:pt x="47" y="22"/>
                </a:cubicBezTo>
                <a:cubicBezTo>
                  <a:pt x="41" y="14"/>
                  <a:pt x="36" y="29"/>
                  <a:pt x="31" y="27"/>
                </a:cubicBezTo>
                <a:cubicBezTo>
                  <a:pt x="35" y="30"/>
                  <a:pt x="27" y="38"/>
                  <a:pt x="26" y="43"/>
                </a:cubicBezTo>
                <a:cubicBezTo>
                  <a:pt x="25" y="42"/>
                  <a:pt x="25" y="40"/>
                  <a:pt x="23" y="40"/>
                </a:cubicBezTo>
                <a:cubicBezTo>
                  <a:pt x="19" y="48"/>
                  <a:pt x="17" y="56"/>
                  <a:pt x="17" y="66"/>
                </a:cubicBezTo>
                <a:cubicBezTo>
                  <a:pt x="16" y="66"/>
                  <a:pt x="16" y="65"/>
                  <a:pt x="15" y="65"/>
                </a:cubicBezTo>
                <a:cubicBezTo>
                  <a:pt x="13" y="66"/>
                  <a:pt x="18" y="68"/>
                  <a:pt x="14" y="69"/>
                </a:cubicBezTo>
                <a:cubicBezTo>
                  <a:pt x="12" y="67"/>
                  <a:pt x="16" y="65"/>
                  <a:pt x="14" y="63"/>
                </a:cubicBezTo>
                <a:cubicBezTo>
                  <a:pt x="12" y="65"/>
                  <a:pt x="13" y="57"/>
                  <a:pt x="12" y="56"/>
                </a:cubicBezTo>
                <a:cubicBezTo>
                  <a:pt x="10" y="68"/>
                  <a:pt x="11" y="83"/>
                  <a:pt x="13" y="96"/>
                </a:cubicBezTo>
                <a:cubicBezTo>
                  <a:pt x="11" y="97"/>
                  <a:pt x="11" y="95"/>
                  <a:pt x="9" y="95"/>
                </a:cubicBezTo>
                <a:cubicBezTo>
                  <a:pt x="10" y="101"/>
                  <a:pt x="12" y="105"/>
                  <a:pt x="12" y="112"/>
                </a:cubicBezTo>
                <a:cubicBezTo>
                  <a:pt x="20" y="125"/>
                  <a:pt x="33" y="133"/>
                  <a:pt x="43" y="145"/>
                </a:cubicBezTo>
                <a:cubicBezTo>
                  <a:pt x="55" y="149"/>
                  <a:pt x="72" y="151"/>
                  <a:pt x="87" y="151"/>
                </a:cubicBezTo>
                <a:cubicBezTo>
                  <a:pt x="97" y="154"/>
                  <a:pt x="109" y="146"/>
                  <a:pt x="117" y="141"/>
                </a:cubicBezTo>
                <a:cubicBezTo>
                  <a:pt x="117" y="142"/>
                  <a:pt x="115" y="144"/>
                  <a:pt x="117" y="144"/>
                </a:cubicBezTo>
                <a:cubicBezTo>
                  <a:pt x="124" y="140"/>
                  <a:pt x="132" y="137"/>
                  <a:pt x="136" y="129"/>
                </a:cubicBezTo>
                <a:cubicBezTo>
                  <a:pt x="134" y="129"/>
                  <a:pt x="133" y="132"/>
                  <a:pt x="132" y="131"/>
                </a:cubicBezTo>
                <a:close/>
                <a:moveTo>
                  <a:pt x="31" y="37"/>
                </a:moveTo>
                <a:cubicBezTo>
                  <a:pt x="31" y="33"/>
                  <a:pt x="33" y="31"/>
                  <a:pt x="35" y="29"/>
                </a:cubicBezTo>
                <a:cubicBezTo>
                  <a:pt x="36" y="29"/>
                  <a:pt x="36" y="30"/>
                  <a:pt x="37" y="30"/>
                </a:cubicBezTo>
                <a:cubicBezTo>
                  <a:pt x="36" y="33"/>
                  <a:pt x="35" y="36"/>
                  <a:pt x="31" y="37"/>
                </a:cubicBezTo>
                <a:close/>
                <a:moveTo>
                  <a:pt x="77" y="30"/>
                </a:moveTo>
                <a:cubicBezTo>
                  <a:pt x="79" y="29"/>
                  <a:pt x="82" y="29"/>
                  <a:pt x="84" y="30"/>
                </a:cubicBezTo>
                <a:cubicBezTo>
                  <a:pt x="83" y="33"/>
                  <a:pt x="80" y="30"/>
                  <a:pt x="77" y="30"/>
                </a:cubicBezTo>
                <a:close/>
                <a:moveTo>
                  <a:pt x="101" y="34"/>
                </a:moveTo>
                <a:cubicBezTo>
                  <a:pt x="94" y="34"/>
                  <a:pt x="91" y="30"/>
                  <a:pt x="87" y="25"/>
                </a:cubicBezTo>
                <a:cubicBezTo>
                  <a:pt x="94" y="27"/>
                  <a:pt x="97" y="27"/>
                  <a:pt x="101" y="34"/>
                </a:cubicBezTo>
                <a:close/>
                <a:moveTo>
                  <a:pt x="89" y="31"/>
                </a:moveTo>
                <a:cubicBezTo>
                  <a:pt x="95" y="33"/>
                  <a:pt x="98" y="38"/>
                  <a:pt x="102" y="43"/>
                </a:cubicBezTo>
                <a:cubicBezTo>
                  <a:pt x="98" y="39"/>
                  <a:pt x="92" y="36"/>
                  <a:pt x="89" y="31"/>
                </a:cubicBezTo>
                <a:close/>
                <a:moveTo>
                  <a:pt x="110" y="32"/>
                </a:moveTo>
                <a:cubicBezTo>
                  <a:pt x="107" y="32"/>
                  <a:pt x="105" y="30"/>
                  <a:pt x="103" y="29"/>
                </a:cubicBezTo>
                <a:cubicBezTo>
                  <a:pt x="106" y="27"/>
                  <a:pt x="110" y="29"/>
                  <a:pt x="110" y="32"/>
                </a:cubicBezTo>
                <a:close/>
                <a:moveTo>
                  <a:pt x="164" y="77"/>
                </a:moveTo>
                <a:cubicBezTo>
                  <a:pt x="162" y="79"/>
                  <a:pt x="163" y="83"/>
                  <a:pt x="162" y="86"/>
                </a:cubicBezTo>
                <a:cubicBezTo>
                  <a:pt x="165" y="84"/>
                  <a:pt x="164" y="79"/>
                  <a:pt x="164" y="77"/>
                </a:cubicBezTo>
                <a:close/>
                <a:moveTo>
                  <a:pt x="158" y="100"/>
                </a:moveTo>
                <a:cubicBezTo>
                  <a:pt x="158" y="96"/>
                  <a:pt x="162" y="93"/>
                  <a:pt x="160" y="89"/>
                </a:cubicBezTo>
                <a:cubicBezTo>
                  <a:pt x="160" y="93"/>
                  <a:pt x="156" y="97"/>
                  <a:pt x="158" y="100"/>
                </a:cubicBezTo>
                <a:close/>
                <a:moveTo>
                  <a:pt x="141" y="125"/>
                </a:moveTo>
                <a:cubicBezTo>
                  <a:pt x="147" y="126"/>
                  <a:pt x="149" y="121"/>
                  <a:pt x="149" y="115"/>
                </a:cubicBezTo>
                <a:cubicBezTo>
                  <a:pt x="154" y="113"/>
                  <a:pt x="158" y="103"/>
                  <a:pt x="157" y="101"/>
                </a:cubicBezTo>
                <a:cubicBezTo>
                  <a:pt x="152" y="110"/>
                  <a:pt x="147" y="118"/>
                  <a:pt x="141" y="125"/>
                </a:cubicBezTo>
                <a:close/>
              </a:path>
            </a:pathLst>
          </a:custGeom>
          <a:solidFill>
            <a:srgbClr val="2c3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矩形 58"/>
          <p:cNvSpPr/>
          <p:nvPr/>
        </p:nvSpPr>
        <p:spPr>
          <a:xfrm>
            <a:off x="7864560" y="5111640"/>
            <a:ext cx="3228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D</a:t>
            </a:r>
            <a:r>
              <a:rPr b="0" lang="zh-CN" sz="14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意空间工作室成立于</a:t>
            </a:r>
            <a:r>
              <a:rPr b="0" lang="en-US" sz="14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2015</a:t>
            </a:r>
            <a:r>
              <a:rPr b="0" lang="zh-CN" sz="14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年</a:t>
            </a:r>
            <a:r>
              <a:rPr b="0" lang="en-US" sz="14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10</a:t>
            </a:r>
            <a:r>
              <a:rPr b="0" lang="zh-CN" sz="14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月，只要是与演示相关的，我们竭诚为您服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文本框 59"/>
          <p:cNvSpPr/>
          <p:nvPr/>
        </p:nvSpPr>
        <p:spPr>
          <a:xfrm>
            <a:off x="7341840" y="51703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腾祥铁山楷书简"/>
                <a:ea typeface="腾祥铁山楷书简"/>
              </a:rPr>
              <a:t>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307440" y="318960"/>
            <a:ext cx="6432840" cy="5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6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d5070"/>
                </a:solidFill>
                <a:latin typeface="李旭科书法"/>
                <a:ea typeface="李旭科书法"/>
              </a:rPr>
              <a:t>请在此处添加标题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4" name="Freeform 10428"/>
          <p:cNvSpPr/>
          <p:nvPr/>
        </p:nvSpPr>
        <p:spPr>
          <a:xfrm rot="16200000">
            <a:off x="862560" y="1673640"/>
            <a:ext cx="2109960" cy="1971360"/>
          </a:xfrm>
          <a:custGeom>
            <a:avLst/>
            <a:gdLst>
              <a:gd name="textAreaLeft" fmla="*/ 0 w 2109960"/>
              <a:gd name="textAreaRight" fmla="*/ 2109960 w 2109960"/>
              <a:gd name="textAreaTop" fmla="*/ 0 h 1971360"/>
              <a:gd name="textAreaBottom" fmla="*/ 1971720 h 1971360"/>
            </a:gdLst>
            <a:ahLst/>
            <a:rect l="textAreaLeft" t="textAreaTop" r="textAreaRight" b="textAreaBottom"/>
            <a:pathLst>
              <a:path w="165" h="154">
                <a:moveTo>
                  <a:pt x="92" y="6"/>
                </a:moveTo>
                <a:cubicBezTo>
                  <a:pt x="99" y="6"/>
                  <a:pt x="101" y="11"/>
                  <a:pt x="107" y="12"/>
                </a:cubicBezTo>
                <a:cubicBezTo>
                  <a:pt x="106" y="10"/>
                  <a:pt x="108" y="10"/>
                  <a:pt x="108" y="9"/>
                </a:cubicBezTo>
                <a:cubicBezTo>
                  <a:pt x="99" y="8"/>
                  <a:pt x="96" y="1"/>
                  <a:pt x="87" y="0"/>
                </a:cubicBezTo>
                <a:cubicBezTo>
                  <a:pt x="87" y="4"/>
                  <a:pt x="93" y="2"/>
                  <a:pt x="92" y="6"/>
                </a:cubicBezTo>
                <a:close/>
                <a:moveTo>
                  <a:pt x="89" y="15"/>
                </a:moveTo>
                <a:cubicBezTo>
                  <a:pt x="92" y="15"/>
                  <a:pt x="95" y="20"/>
                  <a:pt x="97" y="17"/>
                </a:cubicBezTo>
                <a:cubicBezTo>
                  <a:pt x="94" y="16"/>
                  <a:pt x="91" y="13"/>
                  <a:pt x="89" y="15"/>
                </a:cubicBezTo>
                <a:close/>
                <a:moveTo>
                  <a:pt x="20" y="32"/>
                </a:moveTo>
                <a:cubicBezTo>
                  <a:pt x="19" y="36"/>
                  <a:pt x="14" y="43"/>
                  <a:pt x="17" y="46"/>
                </a:cubicBezTo>
                <a:cubicBezTo>
                  <a:pt x="19" y="43"/>
                  <a:pt x="21" y="36"/>
                  <a:pt x="20" y="32"/>
                </a:cubicBezTo>
                <a:close/>
                <a:moveTo>
                  <a:pt x="12" y="48"/>
                </a:moveTo>
                <a:cubicBezTo>
                  <a:pt x="11" y="48"/>
                  <a:pt x="11" y="47"/>
                  <a:pt x="11" y="45"/>
                </a:cubicBezTo>
                <a:cubicBezTo>
                  <a:pt x="9" y="43"/>
                  <a:pt x="10" y="45"/>
                  <a:pt x="7" y="45"/>
                </a:cubicBezTo>
                <a:cubicBezTo>
                  <a:pt x="7" y="43"/>
                  <a:pt x="7" y="41"/>
                  <a:pt x="6" y="40"/>
                </a:cubicBezTo>
                <a:cubicBezTo>
                  <a:pt x="0" y="45"/>
                  <a:pt x="8" y="54"/>
                  <a:pt x="12" y="48"/>
                </a:cubicBezTo>
                <a:close/>
                <a:moveTo>
                  <a:pt x="151" y="52"/>
                </a:moveTo>
                <a:cubicBezTo>
                  <a:pt x="152" y="51"/>
                  <a:pt x="151" y="47"/>
                  <a:pt x="150" y="45"/>
                </a:cubicBezTo>
                <a:cubicBezTo>
                  <a:pt x="151" y="48"/>
                  <a:pt x="148" y="50"/>
                  <a:pt x="151" y="52"/>
                </a:cubicBezTo>
                <a:close/>
                <a:moveTo>
                  <a:pt x="152" y="82"/>
                </a:moveTo>
                <a:cubicBezTo>
                  <a:pt x="149" y="82"/>
                  <a:pt x="149" y="82"/>
                  <a:pt x="149" y="82"/>
                </a:cubicBezTo>
                <a:cubicBezTo>
                  <a:pt x="149" y="85"/>
                  <a:pt x="151" y="86"/>
                  <a:pt x="149" y="87"/>
                </a:cubicBezTo>
                <a:cubicBezTo>
                  <a:pt x="152" y="87"/>
                  <a:pt x="151" y="84"/>
                  <a:pt x="152" y="82"/>
                </a:cubicBezTo>
                <a:close/>
                <a:moveTo>
                  <a:pt x="132" y="131"/>
                </a:moveTo>
                <a:cubicBezTo>
                  <a:pt x="138" y="122"/>
                  <a:pt x="141" y="110"/>
                  <a:pt x="148" y="102"/>
                </a:cubicBezTo>
                <a:cubicBezTo>
                  <a:pt x="147" y="101"/>
                  <a:pt x="145" y="101"/>
                  <a:pt x="145" y="100"/>
                </a:cubicBezTo>
                <a:cubicBezTo>
                  <a:pt x="148" y="89"/>
                  <a:pt x="145" y="79"/>
                  <a:pt x="147" y="69"/>
                </a:cubicBezTo>
                <a:cubicBezTo>
                  <a:pt x="144" y="69"/>
                  <a:pt x="148" y="72"/>
                  <a:pt x="146" y="73"/>
                </a:cubicBezTo>
                <a:cubicBezTo>
                  <a:pt x="140" y="66"/>
                  <a:pt x="144" y="50"/>
                  <a:pt x="136" y="45"/>
                </a:cubicBezTo>
                <a:cubicBezTo>
                  <a:pt x="133" y="31"/>
                  <a:pt x="122" y="26"/>
                  <a:pt x="113" y="18"/>
                </a:cubicBezTo>
                <a:cubicBezTo>
                  <a:pt x="113" y="23"/>
                  <a:pt x="121" y="25"/>
                  <a:pt x="119" y="30"/>
                </a:cubicBezTo>
                <a:cubicBezTo>
                  <a:pt x="112" y="26"/>
                  <a:pt x="108" y="15"/>
                  <a:pt x="97" y="17"/>
                </a:cubicBezTo>
                <a:cubicBezTo>
                  <a:pt x="102" y="19"/>
                  <a:pt x="96" y="19"/>
                  <a:pt x="95" y="19"/>
                </a:cubicBezTo>
                <a:cubicBezTo>
                  <a:pt x="96" y="20"/>
                  <a:pt x="100" y="22"/>
                  <a:pt x="98" y="22"/>
                </a:cubicBezTo>
                <a:cubicBezTo>
                  <a:pt x="87" y="15"/>
                  <a:pt x="68" y="25"/>
                  <a:pt x="58" y="24"/>
                </a:cubicBezTo>
                <a:cubicBezTo>
                  <a:pt x="62" y="22"/>
                  <a:pt x="66" y="22"/>
                  <a:pt x="69" y="21"/>
                </a:cubicBezTo>
                <a:cubicBezTo>
                  <a:pt x="63" y="17"/>
                  <a:pt x="52" y="17"/>
                  <a:pt x="47" y="22"/>
                </a:cubicBezTo>
                <a:cubicBezTo>
                  <a:pt x="41" y="14"/>
                  <a:pt x="36" y="29"/>
                  <a:pt x="31" y="27"/>
                </a:cubicBezTo>
                <a:cubicBezTo>
                  <a:pt x="35" y="30"/>
                  <a:pt x="27" y="38"/>
                  <a:pt x="26" y="43"/>
                </a:cubicBezTo>
                <a:cubicBezTo>
                  <a:pt x="25" y="42"/>
                  <a:pt x="25" y="40"/>
                  <a:pt x="23" y="40"/>
                </a:cubicBezTo>
                <a:cubicBezTo>
                  <a:pt x="19" y="48"/>
                  <a:pt x="17" y="56"/>
                  <a:pt x="17" y="66"/>
                </a:cubicBezTo>
                <a:cubicBezTo>
                  <a:pt x="16" y="66"/>
                  <a:pt x="16" y="65"/>
                  <a:pt x="15" y="65"/>
                </a:cubicBezTo>
                <a:cubicBezTo>
                  <a:pt x="13" y="66"/>
                  <a:pt x="18" y="68"/>
                  <a:pt x="14" y="69"/>
                </a:cubicBezTo>
                <a:cubicBezTo>
                  <a:pt x="12" y="67"/>
                  <a:pt x="16" y="65"/>
                  <a:pt x="14" y="63"/>
                </a:cubicBezTo>
                <a:cubicBezTo>
                  <a:pt x="12" y="65"/>
                  <a:pt x="13" y="57"/>
                  <a:pt x="12" y="56"/>
                </a:cubicBezTo>
                <a:cubicBezTo>
                  <a:pt x="10" y="68"/>
                  <a:pt x="11" y="83"/>
                  <a:pt x="13" y="96"/>
                </a:cubicBezTo>
                <a:cubicBezTo>
                  <a:pt x="11" y="97"/>
                  <a:pt x="11" y="95"/>
                  <a:pt x="9" y="95"/>
                </a:cubicBezTo>
                <a:cubicBezTo>
                  <a:pt x="10" y="101"/>
                  <a:pt x="12" y="105"/>
                  <a:pt x="12" y="112"/>
                </a:cubicBezTo>
                <a:cubicBezTo>
                  <a:pt x="20" y="125"/>
                  <a:pt x="33" y="133"/>
                  <a:pt x="43" y="145"/>
                </a:cubicBezTo>
                <a:cubicBezTo>
                  <a:pt x="55" y="149"/>
                  <a:pt x="72" y="151"/>
                  <a:pt x="87" y="151"/>
                </a:cubicBezTo>
                <a:cubicBezTo>
                  <a:pt x="97" y="154"/>
                  <a:pt x="109" y="146"/>
                  <a:pt x="117" y="141"/>
                </a:cubicBezTo>
                <a:cubicBezTo>
                  <a:pt x="117" y="142"/>
                  <a:pt x="115" y="144"/>
                  <a:pt x="117" y="144"/>
                </a:cubicBezTo>
                <a:cubicBezTo>
                  <a:pt x="124" y="140"/>
                  <a:pt x="132" y="137"/>
                  <a:pt x="136" y="129"/>
                </a:cubicBezTo>
                <a:cubicBezTo>
                  <a:pt x="134" y="129"/>
                  <a:pt x="133" y="132"/>
                  <a:pt x="132" y="131"/>
                </a:cubicBezTo>
                <a:close/>
                <a:moveTo>
                  <a:pt x="31" y="37"/>
                </a:moveTo>
                <a:cubicBezTo>
                  <a:pt x="31" y="33"/>
                  <a:pt x="33" y="31"/>
                  <a:pt x="35" y="29"/>
                </a:cubicBezTo>
                <a:cubicBezTo>
                  <a:pt x="36" y="29"/>
                  <a:pt x="36" y="30"/>
                  <a:pt x="37" y="30"/>
                </a:cubicBezTo>
                <a:cubicBezTo>
                  <a:pt x="36" y="33"/>
                  <a:pt x="35" y="36"/>
                  <a:pt x="31" y="37"/>
                </a:cubicBezTo>
                <a:close/>
                <a:moveTo>
                  <a:pt x="77" y="30"/>
                </a:moveTo>
                <a:cubicBezTo>
                  <a:pt x="79" y="29"/>
                  <a:pt x="82" y="29"/>
                  <a:pt x="84" y="30"/>
                </a:cubicBezTo>
                <a:cubicBezTo>
                  <a:pt x="83" y="33"/>
                  <a:pt x="80" y="30"/>
                  <a:pt x="77" y="30"/>
                </a:cubicBezTo>
                <a:close/>
                <a:moveTo>
                  <a:pt x="101" y="34"/>
                </a:moveTo>
                <a:cubicBezTo>
                  <a:pt x="94" y="34"/>
                  <a:pt x="91" y="30"/>
                  <a:pt x="87" y="25"/>
                </a:cubicBezTo>
                <a:cubicBezTo>
                  <a:pt x="94" y="27"/>
                  <a:pt x="97" y="27"/>
                  <a:pt x="101" y="34"/>
                </a:cubicBezTo>
                <a:close/>
                <a:moveTo>
                  <a:pt x="89" y="31"/>
                </a:moveTo>
                <a:cubicBezTo>
                  <a:pt x="95" y="33"/>
                  <a:pt x="98" y="38"/>
                  <a:pt x="102" y="43"/>
                </a:cubicBezTo>
                <a:cubicBezTo>
                  <a:pt x="98" y="39"/>
                  <a:pt x="92" y="36"/>
                  <a:pt x="89" y="31"/>
                </a:cubicBezTo>
                <a:close/>
                <a:moveTo>
                  <a:pt x="110" y="32"/>
                </a:moveTo>
                <a:cubicBezTo>
                  <a:pt x="107" y="32"/>
                  <a:pt x="105" y="30"/>
                  <a:pt x="103" y="29"/>
                </a:cubicBezTo>
                <a:cubicBezTo>
                  <a:pt x="106" y="27"/>
                  <a:pt x="110" y="29"/>
                  <a:pt x="110" y="32"/>
                </a:cubicBezTo>
                <a:close/>
                <a:moveTo>
                  <a:pt x="164" y="77"/>
                </a:moveTo>
                <a:cubicBezTo>
                  <a:pt x="162" y="79"/>
                  <a:pt x="163" y="83"/>
                  <a:pt x="162" y="86"/>
                </a:cubicBezTo>
                <a:cubicBezTo>
                  <a:pt x="165" y="84"/>
                  <a:pt x="164" y="79"/>
                  <a:pt x="164" y="77"/>
                </a:cubicBezTo>
                <a:close/>
                <a:moveTo>
                  <a:pt x="158" y="100"/>
                </a:moveTo>
                <a:cubicBezTo>
                  <a:pt x="158" y="96"/>
                  <a:pt x="162" y="93"/>
                  <a:pt x="160" y="89"/>
                </a:cubicBezTo>
                <a:cubicBezTo>
                  <a:pt x="160" y="93"/>
                  <a:pt x="156" y="97"/>
                  <a:pt x="158" y="100"/>
                </a:cubicBezTo>
                <a:close/>
                <a:moveTo>
                  <a:pt x="141" y="125"/>
                </a:moveTo>
                <a:cubicBezTo>
                  <a:pt x="147" y="126"/>
                  <a:pt x="149" y="121"/>
                  <a:pt x="149" y="115"/>
                </a:cubicBezTo>
                <a:cubicBezTo>
                  <a:pt x="154" y="113"/>
                  <a:pt x="158" y="103"/>
                  <a:pt x="157" y="101"/>
                </a:cubicBezTo>
                <a:cubicBezTo>
                  <a:pt x="152" y="110"/>
                  <a:pt x="147" y="118"/>
                  <a:pt x="141" y="125"/>
                </a:cubicBezTo>
                <a:close/>
              </a:path>
            </a:pathLst>
          </a:custGeom>
          <a:solidFill>
            <a:srgbClr val="2c3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图表 4" descr=""/>
          <p:cNvPicPr/>
          <p:nvPr/>
        </p:nvPicPr>
        <p:blipFill>
          <a:blip r:embed="rId1"/>
          <a:stretch/>
        </p:blipFill>
        <p:spPr>
          <a:xfrm>
            <a:off x="1173240" y="1832040"/>
            <a:ext cx="1746000" cy="1747800"/>
          </a:xfrm>
          <a:prstGeom prst="rect">
            <a:avLst/>
          </a:prstGeom>
          <a:ln w="0">
            <a:noFill/>
          </a:ln>
        </p:spPr>
      </p:pic>
      <p:sp>
        <p:nvSpPr>
          <p:cNvPr id="396" name="文本框 6"/>
          <p:cNvSpPr/>
          <p:nvPr/>
        </p:nvSpPr>
        <p:spPr>
          <a:xfrm>
            <a:off x="1501200" y="2293920"/>
            <a:ext cx="109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腾祥铁山楷书简"/>
                <a:ea typeface="腾祥铁山楷书简"/>
              </a:rPr>
              <a:t>60</a:t>
            </a:r>
            <a:r>
              <a:rPr b="0" lang="en-US" sz="2000" spc="-1" strike="noStrike">
                <a:solidFill>
                  <a:srgbClr val="ffffff"/>
                </a:solidFill>
                <a:latin typeface="腾祥铁山楷书简"/>
                <a:ea typeface="腾祥铁山楷书简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矩形 7"/>
          <p:cNvSpPr/>
          <p:nvPr/>
        </p:nvSpPr>
        <p:spPr>
          <a:xfrm>
            <a:off x="2916360" y="2565360"/>
            <a:ext cx="3228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D</a:t>
            </a:r>
            <a:r>
              <a:rPr b="0" lang="zh-CN" sz="14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意空间工作室成立于</a:t>
            </a:r>
            <a:r>
              <a:rPr b="0" lang="en-US" sz="14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2015</a:t>
            </a:r>
            <a:r>
              <a:rPr b="0" lang="zh-CN" sz="14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年</a:t>
            </a:r>
            <a:r>
              <a:rPr b="0" lang="en-US" sz="14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10</a:t>
            </a:r>
            <a:r>
              <a:rPr b="0" lang="zh-CN" sz="14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月，只要是与演示相关的，我们竭诚为您服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文本框 9"/>
          <p:cNvSpPr/>
          <p:nvPr/>
        </p:nvSpPr>
        <p:spPr>
          <a:xfrm>
            <a:off x="3003480" y="2072880"/>
            <a:ext cx="11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c5e"/>
                </a:solidFill>
                <a:latin typeface="腾祥铁山楷书简"/>
                <a:ea typeface="腾祥铁山楷书简"/>
              </a:rPr>
              <a:t>PPT</a:t>
            </a:r>
            <a:r>
              <a:rPr b="0" lang="zh-CN" sz="2400" spc="-1" strike="noStrike">
                <a:solidFill>
                  <a:srgbClr val="2c3c5e"/>
                </a:solidFill>
                <a:latin typeface="腾祥铁山楷书简"/>
                <a:ea typeface="腾祥铁山楷书简"/>
              </a:rPr>
              <a:t>模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eform 10428"/>
          <p:cNvSpPr/>
          <p:nvPr/>
        </p:nvSpPr>
        <p:spPr>
          <a:xfrm rot="16200000">
            <a:off x="6337080" y="1674360"/>
            <a:ext cx="2109960" cy="1969920"/>
          </a:xfrm>
          <a:custGeom>
            <a:avLst/>
            <a:gdLst>
              <a:gd name="textAreaLeft" fmla="*/ 0 w 2109960"/>
              <a:gd name="textAreaRight" fmla="*/ 2109960 w 2109960"/>
              <a:gd name="textAreaTop" fmla="*/ 0 h 1969920"/>
              <a:gd name="textAreaBottom" fmla="*/ 1970280 h 1969920"/>
            </a:gdLst>
            <a:ahLst/>
            <a:rect l="textAreaLeft" t="textAreaTop" r="textAreaRight" b="textAreaBottom"/>
            <a:pathLst>
              <a:path w="165" h="154">
                <a:moveTo>
                  <a:pt x="92" y="6"/>
                </a:moveTo>
                <a:cubicBezTo>
                  <a:pt x="99" y="6"/>
                  <a:pt x="101" y="11"/>
                  <a:pt x="107" y="12"/>
                </a:cubicBezTo>
                <a:cubicBezTo>
                  <a:pt x="106" y="10"/>
                  <a:pt x="108" y="10"/>
                  <a:pt x="108" y="9"/>
                </a:cubicBezTo>
                <a:cubicBezTo>
                  <a:pt x="99" y="8"/>
                  <a:pt x="96" y="1"/>
                  <a:pt x="87" y="0"/>
                </a:cubicBezTo>
                <a:cubicBezTo>
                  <a:pt x="87" y="4"/>
                  <a:pt x="93" y="2"/>
                  <a:pt x="92" y="6"/>
                </a:cubicBezTo>
                <a:close/>
                <a:moveTo>
                  <a:pt x="89" y="15"/>
                </a:moveTo>
                <a:cubicBezTo>
                  <a:pt x="92" y="15"/>
                  <a:pt x="95" y="20"/>
                  <a:pt x="97" y="17"/>
                </a:cubicBezTo>
                <a:cubicBezTo>
                  <a:pt x="94" y="16"/>
                  <a:pt x="91" y="13"/>
                  <a:pt x="89" y="15"/>
                </a:cubicBezTo>
                <a:close/>
                <a:moveTo>
                  <a:pt x="20" y="32"/>
                </a:moveTo>
                <a:cubicBezTo>
                  <a:pt x="19" y="36"/>
                  <a:pt x="14" y="43"/>
                  <a:pt x="17" y="46"/>
                </a:cubicBezTo>
                <a:cubicBezTo>
                  <a:pt x="19" y="43"/>
                  <a:pt x="21" y="36"/>
                  <a:pt x="20" y="32"/>
                </a:cubicBezTo>
                <a:close/>
                <a:moveTo>
                  <a:pt x="12" y="48"/>
                </a:moveTo>
                <a:cubicBezTo>
                  <a:pt x="11" y="48"/>
                  <a:pt x="11" y="47"/>
                  <a:pt x="11" y="45"/>
                </a:cubicBezTo>
                <a:cubicBezTo>
                  <a:pt x="9" y="43"/>
                  <a:pt x="10" y="45"/>
                  <a:pt x="7" y="45"/>
                </a:cubicBezTo>
                <a:cubicBezTo>
                  <a:pt x="7" y="43"/>
                  <a:pt x="7" y="41"/>
                  <a:pt x="6" y="40"/>
                </a:cubicBezTo>
                <a:cubicBezTo>
                  <a:pt x="0" y="45"/>
                  <a:pt x="8" y="54"/>
                  <a:pt x="12" y="48"/>
                </a:cubicBezTo>
                <a:close/>
                <a:moveTo>
                  <a:pt x="151" y="52"/>
                </a:moveTo>
                <a:cubicBezTo>
                  <a:pt x="152" y="51"/>
                  <a:pt x="151" y="47"/>
                  <a:pt x="150" y="45"/>
                </a:cubicBezTo>
                <a:cubicBezTo>
                  <a:pt x="151" y="48"/>
                  <a:pt x="148" y="50"/>
                  <a:pt x="151" y="52"/>
                </a:cubicBezTo>
                <a:close/>
                <a:moveTo>
                  <a:pt x="152" y="82"/>
                </a:moveTo>
                <a:cubicBezTo>
                  <a:pt x="149" y="82"/>
                  <a:pt x="149" y="82"/>
                  <a:pt x="149" y="82"/>
                </a:cubicBezTo>
                <a:cubicBezTo>
                  <a:pt x="149" y="85"/>
                  <a:pt x="151" y="86"/>
                  <a:pt x="149" y="87"/>
                </a:cubicBezTo>
                <a:cubicBezTo>
                  <a:pt x="152" y="87"/>
                  <a:pt x="151" y="84"/>
                  <a:pt x="152" y="82"/>
                </a:cubicBezTo>
                <a:close/>
                <a:moveTo>
                  <a:pt x="132" y="131"/>
                </a:moveTo>
                <a:cubicBezTo>
                  <a:pt x="138" y="122"/>
                  <a:pt x="141" y="110"/>
                  <a:pt x="148" y="102"/>
                </a:cubicBezTo>
                <a:cubicBezTo>
                  <a:pt x="147" y="101"/>
                  <a:pt x="145" y="101"/>
                  <a:pt x="145" y="100"/>
                </a:cubicBezTo>
                <a:cubicBezTo>
                  <a:pt x="148" y="89"/>
                  <a:pt x="145" y="79"/>
                  <a:pt x="147" y="69"/>
                </a:cubicBezTo>
                <a:cubicBezTo>
                  <a:pt x="144" y="69"/>
                  <a:pt x="148" y="72"/>
                  <a:pt x="146" y="73"/>
                </a:cubicBezTo>
                <a:cubicBezTo>
                  <a:pt x="140" y="66"/>
                  <a:pt x="144" y="50"/>
                  <a:pt x="136" y="45"/>
                </a:cubicBezTo>
                <a:cubicBezTo>
                  <a:pt x="133" y="31"/>
                  <a:pt x="122" y="26"/>
                  <a:pt x="113" y="18"/>
                </a:cubicBezTo>
                <a:cubicBezTo>
                  <a:pt x="113" y="23"/>
                  <a:pt x="121" y="25"/>
                  <a:pt x="119" y="30"/>
                </a:cubicBezTo>
                <a:cubicBezTo>
                  <a:pt x="112" y="26"/>
                  <a:pt x="108" y="15"/>
                  <a:pt x="97" y="17"/>
                </a:cubicBezTo>
                <a:cubicBezTo>
                  <a:pt x="102" y="19"/>
                  <a:pt x="96" y="19"/>
                  <a:pt x="95" y="19"/>
                </a:cubicBezTo>
                <a:cubicBezTo>
                  <a:pt x="96" y="20"/>
                  <a:pt x="100" y="22"/>
                  <a:pt x="98" y="22"/>
                </a:cubicBezTo>
                <a:cubicBezTo>
                  <a:pt x="87" y="15"/>
                  <a:pt x="68" y="25"/>
                  <a:pt x="58" y="24"/>
                </a:cubicBezTo>
                <a:cubicBezTo>
                  <a:pt x="62" y="22"/>
                  <a:pt x="66" y="22"/>
                  <a:pt x="69" y="21"/>
                </a:cubicBezTo>
                <a:cubicBezTo>
                  <a:pt x="63" y="17"/>
                  <a:pt x="52" y="17"/>
                  <a:pt x="47" y="22"/>
                </a:cubicBezTo>
                <a:cubicBezTo>
                  <a:pt x="41" y="14"/>
                  <a:pt x="36" y="29"/>
                  <a:pt x="31" y="27"/>
                </a:cubicBezTo>
                <a:cubicBezTo>
                  <a:pt x="35" y="30"/>
                  <a:pt x="27" y="38"/>
                  <a:pt x="26" y="43"/>
                </a:cubicBezTo>
                <a:cubicBezTo>
                  <a:pt x="25" y="42"/>
                  <a:pt x="25" y="40"/>
                  <a:pt x="23" y="40"/>
                </a:cubicBezTo>
                <a:cubicBezTo>
                  <a:pt x="19" y="48"/>
                  <a:pt x="17" y="56"/>
                  <a:pt x="17" y="66"/>
                </a:cubicBezTo>
                <a:cubicBezTo>
                  <a:pt x="16" y="66"/>
                  <a:pt x="16" y="65"/>
                  <a:pt x="15" y="65"/>
                </a:cubicBezTo>
                <a:cubicBezTo>
                  <a:pt x="13" y="66"/>
                  <a:pt x="18" y="68"/>
                  <a:pt x="14" y="69"/>
                </a:cubicBezTo>
                <a:cubicBezTo>
                  <a:pt x="12" y="67"/>
                  <a:pt x="16" y="65"/>
                  <a:pt x="14" y="63"/>
                </a:cubicBezTo>
                <a:cubicBezTo>
                  <a:pt x="12" y="65"/>
                  <a:pt x="13" y="57"/>
                  <a:pt x="12" y="56"/>
                </a:cubicBezTo>
                <a:cubicBezTo>
                  <a:pt x="10" y="68"/>
                  <a:pt x="11" y="83"/>
                  <a:pt x="13" y="96"/>
                </a:cubicBezTo>
                <a:cubicBezTo>
                  <a:pt x="11" y="97"/>
                  <a:pt x="11" y="95"/>
                  <a:pt x="9" y="95"/>
                </a:cubicBezTo>
                <a:cubicBezTo>
                  <a:pt x="10" y="101"/>
                  <a:pt x="12" y="105"/>
                  <a:pt x="12" y="112"/>
                </a:cubicBezTo>
                <a:cubicBezTo>
                  <a:pt x="20" y="125"/>
                  <a:pt x="33" y="133"/>
                  <a:pt x="43" y="145"/>
                </a:cubicBezTo>
                <a:cubicBezTo>
                  <a:pt x="55" y="149"/>
                  <a:pt x="72" y="151"/>
                  <a:pt x="87" y="151"/>
                </a:cubicBezTo>
                <a:cubicBezTo>
                  <a:pt x="97" y="154"/>
                  <a:pt x="109" y="146"/>
                  <a:pt x="117" y="141"/>
                </a:cubicBezTo>
                <a:cubicBezTo>
                  <a:pt x="117" y="142"/>
                  <a:pt x="115" y="144"/>
                  <a:pt x="117" y="144"/>
                </a:cubicBezTo>
                <a:cubicBezTo>
                  <a:pt x="124" y="140"/>
                  <a:pt x="132" y="137"/>
                  <a:pt x="136" y="129"/>
                </a:cubicBezTo>
                <a:cubicBezTo>
                  <a:pt x="134" y="129"/>
                  <a:pt x="133" y="132"/>
                  <a:pt x="132" y="131"/>
                </a:cubicBezTo>
                <a:close/>
                <a:moveTo>
                  <a:pt x="31" y="37"/>
                </a:moveTo>
                <a:cubicBezTo>
                  <a:pt x="31" y="33"/>
                  <a:pt x="33" y="31"/>
                  <a:pt x="35" y="29"/>
                </a:cubicBezTo>
                <a:cubicBezTo>
                  <a:pt x="36" y="29"/>
                  <a:pt x="36" y="30"/>
                  <a:pt x="37" y="30"/>
                </a:cubicBezTo>
                <a:cubicBezTo>
                  <a:pt x="36" y="33"/>
                  <a:pt x="35" y="36"/>
                  <a:pt x="31" y="37"/>
                </a:cubicBezTo>
                <a:close/>
                <a:moveTo>
                  <a:pt x="77" y="30"/>
                </a:moveTo>
                <a:cubicBezTo>
                  <a:pt x="79" y="29"/>
                  <a:pt x="82" y="29"/>
                  <a:pt x="84" y="30"/>
                </a:cubicBezTo>
                <a:cubicBezTo>
                  <a:pt x="83" y="33"/>
                  <a:pt x="80" y="30"/>
                  <a:pt x="77" y="30"/>
                </a:cubicBezTo>
                <a:close/>
                <a:moveTo>
                  <a:pt x="101" y="34"/>
                </a:moveTo>
                <a:cubicBezTo>
                  <a:pt x="94" y="34"/>
                  <a:pt x="91" y="30"/>
                  <a:pt x="87" y="25"/>
                </a:cubicBezTo>
                <a:cubicBezTo>
                  <a:pt x="94" y="27"/>
                  <a:pt x="97" y="27"/>
                  <a:pt x="101" y="34"/>
                </a:cubicBezTo>
                <a:close/>
                <a:moveTo>
                  <a:pt x="89" y="31"/>
                </a:moveTo>
                <a:cubicBezTo>
                  <a:pt x="95" y="33"/>
                  <a:pt x="98" y="38"/>
                  <a:pt x="102" y="43"/>
                </a:cubicBezTo>
                <a:cubicBezTo>
                  <a:pt x="98" y="39"/>
                  <a:pt x="92" y="36"/>
                  <a:pt x="89" y="31"/>
                </a:cubicBezTo>
                <a:close/>
                <a:moveTo>
                  <a:pt x="110" y="32"/>
                </a:moveTo>
                <a:cubicBezTo>
                  <a:pt x="107" y="32"/>
                  <a:pt x="105" y="30"/>
                  <a:pt x="103" y="29"/>
                </a:cubicBezTo>
                <a:cubicBezTo>
                  <a:pt x="106" y="27"/>
                  <a:pt x="110" y="29"/>
                  <a:pt x="110" y="32"/>
                </a:cubicBezTo>
                <a:close/>
                <a:moveTo>
                  <a:pt x="164" y="77"/>
                </a:moveTo>
                <a:cubicBezTo>
                  <a:pt x="162" y="79"/>
                  <a:pt x="163" y="83"/>
                  <a:pt x="162" y="86"/>
                </a:cubicBezTo>
                <a:cubicBezTo>
                  <a:pt x="165" y="84"/>
                  <a:pt x="164" y="79"/>
                  <a:pt x="164" y="77"/>
                </a:cubicBezTo>
                <a:close/>
                <a:moveTo>
                  <a:pt x="158" y="100"/>
                </a:moveTo>
                <a:cubicBezTo>
                  <a:pt x="158" y="96"/>
                  <a:pt x="162" y="93"/>
                  <a:pt x="160" y="89"/>
                </a:cubicBezTo>
                <a:cubicBezTo>
                  <a:pt x="160" y="93"/>
                  <a:pt x="156" y="97"/>
                  <a:pt x="158" y="100"/>
                </a:cubicBezTo>
                <a:close/>
                <a:moveTo>
                  <a:pt x="141" y="125"/>
                </a:moveTo>
                <a:cubicBezTo>
                  <a:pt x="147" y="126"/>
                  <a:pt x="149" y="121"/>
                  <a:pt x="149" y="115"/>
                </a:cubicBezTo>
                <a:cubicBezTo>
                  <a:pt x="154" y="113"/>
                  <a:pt x="158" y="103"/>
                  <a:pt x="157" y="101"/>
                </a:cubicBezTo>
                <a:cubicBezTo>
                  <a:pt x="152" y="110"/>
                  <a:pt x="147" y="118"/>
                  <a:pt x="141" y="125"/>
                </a:cubicBezTo>
                <a:close/>
              </a:path>
            </a:pathLst>
          </a:custGeom>
          <a:solidFill>
            <a:srgbClr val="2c3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图表 18" descr=""/>
          <p:cNvPicPr/>
          <p:nvPr/>
        </p:nvPicPr>
        <p:blipFill>
          <a:blip r:embed="rId2"/>
          <a:stretch/>
        </p:blipFill>
        <p:spPr>
          <a:xfrm>
            <a:off x="6647040" y="1832040"/>
            <a:ext cx="1747800" cy="1747800"/>
          </a:xfrm>
          <a:prstGeom prst="rect">
            <a:avLst/>
          </a:prstGeom>
          <a:ln w="0">
            <a:noFill/>
          </a:ln>
        </p:spPr>
      </p:pic>
      <p:sp>
        <p:nvSpPr>
          <p:cNvPr id="401" name="文本框 19"/>
          <p:cNvSpPr/>
          <p:nvPr/>
        </p:nvSpPr>
        <p:spPr>
          <a:xfrm>
            <a:off x="6975720" y="2293920"/>
            <a:ext cx="109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腾祥铁山楷书简"/>
                <a:ea typeface="腾祥铁山楷书简"/>
              </a:rPr>
              <a:t>40</a:t>
            </a:r>
            <a:r>
              <a:rPr b="0" lang="en-US" sz="2000" spc="-1" strike="noStrike">
                <a:solidFill>
                  <a:srgbClr val="ffffff"/>
                </a:solidFill>
                <a:latin typeface="腾祥铁山楷书简"/>
                <a:ea typeface="腾祥铁山楷书简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矩形 20"/>
          <p:cNvSpPr/>
          <p:nvPr/>
        </p:nvSpPr>
        <p:spPr>
          <a:xfrm>
            <a:off x="8391600" y="2565360"/>
            <a:ext cx="3228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D</a:t>
            </a:r>
            <a:r>
              <a:rPr b="0" lang="zh-CN" sz="14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意空间工作室成立于</a:t>
            </a:r>
            <a:r>
              <a:rPr b="0" lang="en-US" sz="14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2015</a:t>
            </a:r>
            <a:r>
              <a:rPr b="0" lang="zh-CN" sz="14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年</a:t>
            </a:r>
            <a:r>
              <a:rPr b="0" lang="en-US" sz="14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10</a:t>
            </a:r>
            <a:r>
              <a:rPr b="0" lang="zh-CN" sz="14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月，只要是与演示相关的，我们竭诚为您服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文本框 21"/>
          <p:cNvSpPr/>
          <p:nvPr/>
        </p:nvSpPr>
        <p:spPr>
          <a:xfrm>
            <a:off x="8478000" y="2072880"/>
            <a:ext cx="11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c5e"/>
                </a:solidFill>
                <a:latin typeface="腾祥铁山楷书简"/>
                <a:ea typeface="腾祥铁山楷书简"/>
              </a:rPr>
              <a:t>PPT</a:t>
            </a:r>
            <a:r>
              <a:rPr b="0" lang="zh-CN" sz="2400" spc="-1" strike="noStrike">
                <a:solidFill>
                  <a:srgbClr val="2c3c5e"/>
                </a:solidFill>
                <a:latin typeface="腾祥铁山楷书简"/>
                <a:ea typeface="腾祥铁山楷书简"/>
              </a:rPr>
              <a:t>图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10428"/>
          <p:cNvSpPr/>
          <p:nvPr/>
        </p:nvSpPr>
        <p:spPr>
          <a:xfrm rot="16200000">
            <a:off x="861840" y="3989160"/>
            <a:ext cx="2111400" cy="1971360"/>
          </a:xfrm>
          <a:custGeom>
            <a:avLst/>
            <a:gdLst>
              <a:gd name="textAreaLeft" fmla="*/ 0 w 2111400"/>
              <a:gd name="textAreaRight" fmla="*/ 2111760 w 2111400"/>
              <a:gd name="textAreaTop" fmla="*/ 0 h 1971360"/>
              <a:gd name="textAreaBottom" fmla="*/ 1971720 h 1971360"/>
            </a:gdLst>
            <a:ahLst/>
            <a:rect l="textAreaLeft" t="textAreaTop" r="textAreaRight" b="textAreaBottom"/>
            <a:pathLst>
              <a:path w="165" h="154">
                <a:moveTo>
                  <a:pt x="92" y="6"/>
                </a:moveTo>
                <a:cubicBezTo>
                  <a:pt x="99" y="6"/>
                  <a:pt x="101" y="11"/>
                  <a:pt x="107" y="12"/>
                </a:cubicBezTo>
                <a:cubicBezTo>
                  <a:pt x="106" y="10"/>
                  <a:pt x="108" y="10"/>
                  <a:pt x="108" y="9"/>
                </a:cubicBezTo>
                <a:cubicBezTo>
                  <a:pt x="99" y="8"/>
                  <a:pt x="96" y="1"/>
                  <a:pt x="87" y="0"/>
                </a:cubicBezTo>
                <a:cubicBezTo>
                  <a:pt x="87" y="4"/>
                  <a:pt x="93" y="2"/>
                  <a:pt x="92" y="6"/>
                </a:cubicBezTo>
                <a:close/>
                <a:moveTo>
                  <a:pt x="89" y="15"/>
                </a:moveTo>
                <a:cubicBezTo>
                  <a:pt x="92" y="15"/>
                  <a:pt x="95" y="20"/>
                  <a:pt x="97" y="17"/>
                </a:cubicBezTo>
                <a:cubicBezTo>
                  <a:pt x="94" y="16"/>
                  <a:pt x="91" y="13"/>
                  <a:pt x="89" y="15"/>
                </a:cubicBezTo>
                <a:close/>
                <a:moveTo>
                  <a:pt x="20" y="32"/>
                </a:moveTo>
                <a:cubicBezTo>
                  <a:pt x="19" y="36"/>
                  <a:pt x="14" y="43"/>
                  <a:pt x="17" y="46"/>
                </a:cubicBezTo>
                <a:cubicBezTo>
                  <a:pt x="19" y="43"/>
                  <a:pt x="21" y="36"/>
                  <a:pt x="20" y="32"/>
                </a:cubicBezTo>
                <a:close/>
                <a:moveTo>
                  <a:pt x="12" y="48"/>
                </a:moveTo>
                <a:cubicBezTo>
                  <a:pt x="11" y="48"/>
                  <a:pt x="11" y="47"/>
                  <a:pt x="11" y="45"/>
                </a:cubicBezTo>
                <a:cubicBezTo>
                  <a:pt x="9" y="43"/>
                  <a:pt x="10" y="45"/>
                  <a:pt x="7" y="45"/>
                </a:cubicBezTo>
                <a:cubicBezTo>
                  <a:pt x="7" y="43"/>
                  <a:pt x="7" y="41"/>
                  <a:pt x="6" y="40"/>
                </a:cubicBezTo>
                <a:cubicBezTo>
                  <a:pt x="0" y="45"/>
                  <a:pt x="8" y="54"/>
                  <a:pt x="12" y="48"/>
                </a:cubicBezTo>
                <a:close/>
                <a:moveTo>
                  <a:pt x="151" y="52"/>
                </a:moveTo>
                <a:cubicBezTo>
                  <a:pt x="152" y="51"/>
                  <a:pt x="151" y="47"/>
                  <a:pt x="150" y="45"/>
                </a:cubicBezTo>
                <a:cubicBezTo>
                  <a:pt x="151" y="48"/>
                  <a:pt x="148" y="50"/>
                  <a:pt x="151" y="52"/>
                </a:cubicBezTo>
                <a:close/>
                <a:moveTo>
                  <a:pt x="152" y="82"/>
                </a:moveTo>
                <a:cubicBezTo>
                  <a:pt x="149" y="82"/>
                  <a:pt x="149" y="82"/>
                  <a:pt x="149" y="82"/>
                </a:cubicBezTo>
                <a:cubicBezTo>
                  <a:pt x="149" y="85"/>
                  <a:pt x="151" y="86"/>
                  <a:pt x="149" y="87"/>
                </a:cubicBezTo>
                <a:cubicBezTo>
                  <a:pt x="152" y="87"/>
                  <a:pt x="151" y="84"/>
                  <a:pt x="152" y="82"/>
                </a:cubicBezTo>
                <a:close/>
                <a:moveTo>
                  <a:pt x="132" y="131"/>
                </a:moveTo>
                <a:cubicBezTo>
                  <a:pt x="138" y="122"/>
                  <a:pt x="141" y="110"/>
                  <a:pt x="148" y="102"/>
                </a:cubicBezTo>
                <a:cubicBezTo>
                  <a:pt x="147" y="101"/>
                  <a:pt x="145" y="101"/>
                  <a:pt x="145" y="100"/>
                </a:cubicBezTo>
                <a:cubicBezTo>
                  <a:pt x="148" y="89"/>
                  <a:pt x="145" y="79"/>
                  <a:pt x="147" y="69"/>
                </a:cubicBezTo>
                <a:cubicBezTo>
                  <a:pt x="144" y="69"/>
                  <a:pt x="148" y="72"/>
                  <a:pt x="146" y="73"/>
                </a:cubicBezTo>
                <a:cubicBezTo>
                  <a:pt x="140" y="66"/>
                  <a:pt x="144" y="50"/>
                  <a:pt x="136" y="45"/>
                </a:cubicBezTo>
                <a:cubicBezTo>
                  <a:pt x="133" y="31"/>
                  <a:pt x="122" y="26"/>
                  <a:pt x="113" y="18"/>
                </a:cubicBezTo>
                <a:cubicBezTo>
                  <a:pt x="113" y="23"/>
                  <a:pt x="121" y="25"/>
                  <a:pt x="119" y="30"/>
                </a:cubicBezTo>
                <a:cubicBezTo>
                  <a:pt x="112" y="26"/>
                  <a:pt x="108" y="15"/>
                  <a:pt x="97" y="17"/>
                </a:cubicBezTo>
                <a:cubicBezTo>
                  <a:pt x="102" y="19"/>
                  <a:pt x="96" y="19"/>
                  <a:pt x="95" y="19"/>
                </a:cubicBezTo>
                <a:cubicBezTo>
                  <a:pt x="96" y="20"/>
                  <a:pt x="100" y="22"/>
                  <a:pt x="98" y="22"/>
                </a:cubicBezTo>
                <a:cubicBezTo>
                  <a:pt x="87" y="15"/>
                  <a:pt x="68" y="25"/>
                  <a:pt x="58" y="24"/>
                </a:cubicBezTo>
                <a:cubicBezTo>
                  <a:pt x="62" y="22"/>
                  <a:pt x="66" y="22"/>
                  <a:pt x="69" y="21"/>
                </a:cubicBezTo>
                <a:cubicBezTo>
                  <a:pt x="63" y="17"/>
                  <a:pt x="52" y="17"/>
                  <a:pt x="47" y="22"/>
                </a:cubicBezTo>
                <a:cubicBezTo>
                  <a:pt x="41" y="14"/>
                  <a:pt x="36" y="29"/>
                  <a:pt x="31" y="27"/>
                </a:cubicBezTo>
                <a:cubicBezTo>
                  <a:pt x="35" y="30"/>
                  <a:pt x="27" y="38"/>
                  <a:pt x="26" y="43"/>
                </a:cubicBezTo>
                <a:cubicBezTo>
                  <a:pt x="25" y="42"/>
                  <a:pt x="25" y="40"/>
                  <a:pt x="23" y="40"/>
                </a:cubicBezTo>
                <a:cubicBezTo>
                  <a:pt x="19" y="48"/>
                  <a:pt x="17" y="56"/>
                  <a:pt x="17" y="66"/>
                </a:cubicBezTo>
                <a:cubicBezTo>
                  <a:pt x="16" y="66"/>
                  <a:pt x="16" y="65"/>
                  <a:pt x="15" y="65"/>
                </a:cubicBezTo>
                <a:cubicBezTo>
                  <a:pt x="13" y="66"/>
                  <a:pt x="18" y="68"/>
                  <a:pt x="14" y="69"/>
                </a:cubicBezTo>
                <a:cubicBezTo>
                  <a:pt x="12" y="67"/>
                  <a:pt x="16" y="65"/>
                  <a:pt x="14" y="63"/>
                </a:cubicBezTo>
                <a:cubicBezTo>
                  <a:pt x="12" y="65"/>
                  <a:pt x="13" y="57"/>
                  <a:pt x="12" y="56"/>
                </a:cubicBezTo>
                <a:cubicBezTo>
                  <a:pt x="10" y="68"/>
                  <a:pt x="11" y="83"/>
                  <a:pt x="13" y="96"/>
                </a:cubicBezTo>
                <a:cubicBezTo>
                  <a:pt x="11" y="97"/>
                  <a:pt x="11" y="95"/>
                  <a:pt x="9" y="95"/>
                </a:cubicBezTo>
                <a:cubicBezTo>
                  <a:pt x="10" y="101"/>
                  <a:pt x="12" y="105"/>
                  <a:pt x="12" y="112"/>
                </a:cubicBezTo>
                <a:cubicBezTo>
                  <a:pt x="20" y="125"/>
                  <a:pt x="33" y="133"/>
                  <a:pt x="43" y="145"/>
                </a:cubicBezTo>
                <a:cubicBezTo>
                  <a:pt x="55" y="149"/>
                  <a:pt x="72" y="151"/>
                  <a:pt x="87" y="151"/>
                </a:cubicBezTo>
                <a:cubicBezTo>
                  <a:pt x="97" y="154"/>
                  <a:pt x="109" y="146"/>
                  <a:pt x="117" y="141"/>
                </a:cubicBezTo>
                <a:cubicBezTo>
                  <a:pt x="117" y="142"/>
                  <a:pt x="115" y="144"/>
                  <a:pt x="117" y="144"/>
                </a:cubicBezTo>
                <a:cubicBezTo>
                  <a:pt x="124" y="140"/>
                  <a:pt x="132" y="137"/>
                  <a:pt x="136" y="129"/>
                </a:cubicBezTo>
                <a:cubicBezTo>
                  <a:pt x="134" y="129"/>
                  <a:pt x="133" y="132"/>
                  <a:pt x="132" y="131"/>
                </a:cubicBezTo>
                <a:close/>
                <a:moveTo>
                  <a:pt x="31" y="37"/>
                </a:moveTo>
                <a:cubicBezTo>
                  <a:pt x="31" y="33"/>
                  <a:pt x="33" y="31"/>
                  <a:pt x="35" y="29"/>
                </a:cubicBezTo>
                <a:cubicBezTo>
                  <a:pt x="36" y="29"/>
                  <a:pt x="36" y="30"/>
                  <a:pt x="37" y="30"/>
                </a:cubicBezTo>
                <a:cubicBezTo>
                  <a:pt x="36" y="33"/>
                  <a:pt x="35" y="36"/>
                  <a:pt x="31" y="37"/>
                </a:cubicBezTo>
                <a:close/>
                <a:moveTo>
                  <a:pt x="77" y="30"/>
                </a:moveTo>
                <a:cubicBezTo>
                  <a:pt x="79" y="29"/>
                  <a:pt x="82" y="29"/>
                  <a:pt x="84" y="30"/>
                </a:cubicBezTo>
                <a:cubicBezTo>
                  <a:pt x="83" y="33"/>
                  <a:pt x="80" y="30"/>
                  <a:pt x="77" y="30"/>
                </a:cubicBezTo>
                <a:close/>
                <a:moveTo>
                  <a:pt x="101" y="34"/>
                </a:moveTo>
                <a:cubicBezTo>
                  <a:pt x="94" y="34"/>
                  <a:pt x="91" y="30"/>
                  <a:pt x="87" y="25"/>
                </a:cubicBezTo>
                <a:cubicBezTo>
                  <a:pt x="94" y="27"/>
                  <a:pt x="97" y="27"/>
                  <a:pt x="101" y="34"/>
                </a:cubicBezTo>
                <a:close/>
                <a:moveTo>
                  <a:pt x="89" y="31"/>
                </a:moveTo>
                <a:cubicBezTo>
                  <a:pt x="95" y="33"/>
                  <a:pt x="98" y="38"/>
                  <a:pt x="102" y="43"/>
                </a:cubicBezTo>
                <a:cubicBezTo>
                  <a:pt x="98" y="39"/>
                  <a:pt x="92" y="36"/>
                  <a:pt x="89" y="31"/>
                </a:cubicBezTo>
                <a:close/>
                <a:moveTo>
                  <a:pt x="110" y="32"/>
                </a:moveTo>
                <a:cubicBezTo>
                  <a:pt x="107" y="32"/>
                  <a:pt x="105" y="30"/>
                  <a:pt x="103" y="29"/>
                </a:cubicBezTo>
                <a:cubicBezTo>
                  <a:pt x="106" y="27"/>
                  <a:pt x="110" y="29"/>
                  <a:pt x="110" y="32"/>
                </a:cubicBezTo>
                <a:close/>
                <a:moveTo>
                  <a:pt x="164" y="77"/>
                </a:moveTo>
                <a:cubicBezTo>
                  <a:pt x="162" y="79"/>
                  <a:pt x="163" y="83"/>
                  <a:pt x="162" y="86"/>
                </a:cubicBezTo>
                <a:cubicBezTo>
                  <a:pt x="165" y="84"/>
                  <a:pt x="164" y="79"/>
                  <a:pt x="164" y="77"/>
                </a:cubicBezTo>
                <a:close/>
                <a:moveTo>
                  <a:pt x="158" y="100"/>
                </a:moveTo>
                <a:cubicBezTo>
                  <a:pt x="158" y="96"/>
                  <a:pt x="162" y="93"/>
                  <a:pt x="160" y="89"/>
                </a:cubicBezTo>
                <a:cubicBezTo>
                  <a:pt x="160" y="93"/>
                  <a:pt x="156" y="97"/>
                  <a:pt x="158" y="100"/>
                </a:cubicBezTo>
                <a:close/>
                <a:moveTo>
                  <a:pt x="141" y="125"/>
                </a:moveTo>
                <a:cubicBezTo>
                  <a:pt x="147" y="126"/>
                  <a:pt x="149" y="121"/>
                  <a:pt x="149" y="115"/>
                </a:cubicBezTo>
                <a:cubicBezTo>
                  <a:pt x="154" y="113"/>
                  <a:pt x="158" y="103"/>
                  <a:pt x="157" y="101"/>
                </a:cubicBezTo>
                <a:cubicBezTo>
                  <a:pt x="152" y="110"/>
                  <a:pt x="147" y="118"/>
                  <a:pt x="141" y="125"/>
                </a:cubicBezTo>
                <a:close/>
              </a:path>
            </a:pathLst>
          </a:custGeom>
          <a:solidFill>
            <a:srgbClr val="2c3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图表 25" descr=""/>
          <p:cNvPicPr/>
          <p:nvPr/>
        </p:nvPicPr>
        <p:blipFill>
          <a:blip r:embed="rId3"/>
          <a:stretch/>
        </p:blipFill>
        <p:spPr>
          <a:xfrm>
            <a:off x="1173240" y="4148280"/>
            <a:ext cx="1746000" cy="1747800"/>
          </a:xfrm>
          <a:prstGeom prst="rect">
            <a:avLst/>
          </a:prstGeom>
          <a:ln w="0">
            <a:noFill/>
          </a:ln>
        </p:spPr>
      </p:pic>
      <p:sp>
        <p:nvSpPr>
          <p:cNvPr id="406" name="文本框 26"/>
          <p:cNvSpPr/>
          <p:nvPr/>
        </p:nvSpPr>
        <p:spPr>
          <a:xfrm>
            <a:off x="1501200" y="4608720"/>
            <a:ext cx="109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腾祥铁山楷书简"/>
                <a:ea typeface="腾祥铁山楷书简"/>
              </a:rPr>
              <a:t>30</a:t>
            </a:r>
            <a:r>
              <a:rPr b="0" lang="en-US" sz="2000" spc="-1" strike="noStrike">
                <a:solidFill>
                  <a:srgbClr val="ffffff"/>
                </a:solidFill>
                <a:latin typeface="腾祥铁山楷书简"/>
                <a:ea typeface="腾祥铁山楷书简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矩形 27"/>
          <p:cNvSpPr/>
          <p:nvPr/>
        </p:nvSpPr>
        <p:spPr>
          <a:xfrm>
            <a:off x="2916360" y="4879800"/>
            <a:ext cx="3228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D</a:t>
            </a:r>
            <a:r>
              <a:rPr b="0" lang="zh-CN" sz="14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意空间工作室成立于</a:t>
            </a:r>
            <a:r>
              <a:rPr b="0" lang="en-US" sz="14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2015</a:t>
            </a:r>
            <a:r>
              <a:rPr b="0" lang="zh-CN" sz="14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年</a:t>
            </a:r>
            <a:r>
              <a:rPr b="0" lang="en-US" sz="14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10</a:t>
            </a:r>
            <a:r>
              <a:rPr b="0" lang="zh-CN" sz="14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月，只要是与演示相关的，我们竭诚为您服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文本框 29"/>
          <p:cNvSpPr/>
          <p:nvPr/>
        </p:nvSpPr>
        <p:spPr>
          <a:xfrm>
            <a:off x="3003480" y="4388040"/>
            <a:ext cx="11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c5e"/>
                </a:solidFill>
                <a:latin typeface="腾祥铁山楷书简"/>
                <a:ea typeface="腾祥铁山楷书简"/>
              </a:rPr>
              <a:t>PPT</a:t>
            </a:r>
            <a:r>
              <a:rPr b="0" lang="zh-CN" sz="2400" spc="-1" strike="noStrike">
                <a:solidFill>
                  <a:srgbClr val="2c3c5e"/>
                </a:solidFill>
                <a:latin typeface="腾祥铁山楷书简"/>
                <a:ea typeface="腾祥铁山楷书简"/>
              </a:rPr>
              <a:t>作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eform 10428"/>
          <p:cNvSpPr/>
          <p:nvPr/>
        </p:nvSpPr>
        <p:spPr>
          <a:xfrm rot="16200000">
            <a:off x="6336360" y="3989880"/>
            <a:ext cx="2111400" cy="1969920"/>
          </a:xfrm>
          <a:custGeom>
            <a:avLst/>
            <a:gdLst>
              <a:gd name="textAreaLeft" fmla="*/ 0 w 2111400"/>
              <a:gd name="textAreaRight" fmla="*/ 2111760 w 2111400"/>
              <a:gd name="textAreaTop" fmla="*/ 0 h 1969920"/>
              <a:gd name="textAreaBottom" fmla="*/ 1970280 h 1969920"/>
            </a:gdLst>
            <a:ahLst/>
            <a:rect l="textAreaLeft" t="textAreaTop" r="textAreaRight" b="textAreaBottom"/>
            <a:pathLst>
              <a:path w="165" h="154">
                <a:moveTo>
                  <a:pt x="92" y="6"/>
                </a:moveTo>
                <a:cubicBezTo>
                  <a:pt x="99" y="6"/>
                  <a:pt x="101" y="11"/>
                  <a:pt x="107" y="12"/>
                </a:cubicBezTo>
                <a:cubicBezTo>
                  <a:pt x="106" y="10"/>
                  <a:pt x="108" y="10"/>
                  <a:pt x="108" y="9"/>
                </a:cubicBezTo>
                <a:cubicBezTo>
                  <a:pt x="99" y="8"/>
                  <a:pt x="96" y="1"/>
                  <a:pt x="87" y="0"/>
                </a:cubicBezTo>
                <a:cubicBezTo>
                  <a:pt x="87" y="4"/>
                  <a:pt x="93" y="2"/>
                  <a:pt x="92" y="6"/>
                </a:cubicBezTo>
                <a:close/>
                <a:moveTo>
                  <a:pt x="89" y="15"/>
                </a:moveTo>
                <a:cubicBezTo>
                  <a:pt x="92" y="15"/>
                  <a:pt x="95" y="20"/>
                  <a:pt x="97" y="17"/>
                </a:cubicBezTo>
                <a:cubicBezTo>
                  <a:pt x="94" y="16"/>
                  <a:pt x="91" y="13"/>
                  <a:pt x="89" y="15"/>
                </a:cubicBezTo>
                <a:close/>
                <a:moveTo>
                  <a:pt x="20" y="32"/>
                </a:moveTo>
                <a:cubicBezTo>
                  <a:pt x="19" y="36"/>
                  <a:pt x="14" y="43"/>
                  <a:pt x="17" y="46"/>
                </a:cubicBezTo>
                <a:cubicBezTo>
                  <a:pt x="19" y="43"/>
                  <a:pt x="21" y="36"/>
                  <a:pt x="20" y="32"/>
                </a:cubicBezTo>
                <a:close/>
                <a:moveTo>
                  <a:pt x="12" y="48"/>
                </a:moveTo>
                <a:cubicBezTo>
                  <a:pt x="11" y="48"/>
                  <a:pt x="11" y="47"/>
                  <a:pt x="11" y="45"/>
                </a:cubicBezTo>
                <a:cubicBezTo>
                  <a:pt x="9" y="43"/>
                  <a:pt x="10" y="45"/>
                  <a:pt x="7" y="45"/>
                </a:cubicBezTo>
                <a:cubicBezTo>
                  <a:pt x="7" y="43"/>
                  <a:pt x="7" y="41"/>
                  <a:pt x="6" y="40"/>
                </a:cubicBezTo>
                <a:cubicBezTo>
                  <a:pt x="0" y="45"/>
                  <a:pt x="8" y="54"/>
                  <a:pt x="12" y="48"/>
                </a:cubicBezTo>
                <a:close/>
                <a:moveTo>
                  <a:pt x="151" y="52"/>
                </a:moveTo>
                <a:cubicBezTo>
                  <a:pt x="152" y="51"/>
                  <a:pt x="151" y="47"/>
                  <a:pt x="150" y="45"/>
                </a:cubicBezTo>
                <a:cubicBezTo>
                  <a:pt x="151" y="48"/>
                  <a:pt x="148" y="50"/>
                  <a:pt x="151" y="52"/>
                </a:cubicBezTo>
                <a:close/>
                <a:moveTo>
                  <a:pt x="152" y="82"/>
                </a:moveTo>
                <a:cubicBezTo>
                  <a:pt x="149" y="82"/>
                  <a:pt x="149" y="82"/>
                  <a:pt x="149" y="82"/>
                </a:cubicBezTo>
                <a:cubicBezTo>
                  <a:pt x="149" y="85"/>
                  <a:pt x="151" y="86"/>
                  <a:pt x="149" y="87"/>
                </a:cubicBezTo>
                <a:cubicBezTo>
                  <a:pt x="152" y="87"/>
                  <a:pt x="151" y="84"/>
                  <a:pt x="152" y="82"/>
                </a:cubicBezTo>
                <a:close/>
                <a:moveTo>
                  <a:pt x="132" y="131"/>
                </a:moveTo>
                <a:cubicBezTo>
                  <a:pt x="138" y="122"/>
                  <a:pt x="141" y="110"/>
                  <a:pt x="148" y="102"/>
                </a:cubicBezTo>
                <a:cubicBezTo>
                  <a:pt x="147" y="101"/>
                  <a:pt x="145" y="101"/>
                  <a:pt x="145" y="100"/>
                </a:cubicBezTo>
                <a:cubicBezTo>
                  <a:pt x="148" y="89"/>
                  <a:pt x="145" y="79"/>
                  <a:pt x="147" y="69"/>
                </a:cubicBezTo>
                <a:cubicBezTo>
                  <a:pt x="144" y="69"/>
                  <a:pt x="148" y="72"/>
                  <a:pt x="146" y="73"/>
                </a:cubicBezTo>
                <a:cubicBezTo>
                  <a:pt x="140" y="66"/>
                  <a:pt x="144" y="50"/>
                  <a:pt x="136" y="45"/>
                </a:cubicBezTo>
                <a:cubicBezTo>
                  <a:pt x="133" y="31"/>
                  <a:pt x="122" y="26"/>
                  <a:pt x="113" y="18"/>
                </a:cubicBezTo>
                <a:cubicBezTo>
                  <a:pt x="113" y="23"/>
                  <a:pt x="121" y="25"/>
                  <a:pt x="119" y="30"/>
                </a:cubicBezTo>
                <a:cubicBezTo>
                  <a:pt x="112" y="26"/>
                  <a:pt x="108" y="15"/>
                  <a:pt x="97" y="17"/>
                </a:cubicBezTo>
                <a:cubicBezTo>
                  <a:pt x="102" y="19"/>
                  <a:pt x="96" y="19"/>
                  <a:pt x="95" y="19"/>
                </a:cubicBezTo>
                <a:cubicBezTo>
                  <a:pt x="96" y="20"/>
                  <a:pt x="100" y="22"/>
                  <a:pt x="98" y="22"/>
                </a:cubicBezTo>
                <a:cubicBezTo>
                  <a:pt x="87" y="15"/>
                  <a:pt x="68" y="25"/>
                  <a:pt x="58" y="24"/>
                </a:cubicBezTo>
                <a:cubicBezTo>
                  <a:pt x="62" y="22"/>
                  <a:pt x="66" y="22"/>
                  <a:pt x="69" y="21"/>
                </a:cubicBezTo>
                <a:cubicBezTo>
                  <a:pt x="63" y="17"/>
                  <a:pt x="52" y="17"/>
                  <a:pt x="47" y="22"/>
                </a:cubicBezTo>
                <a:cubicBezTo>
                  <a:pt x="41" y="14"/>
                  <a:pt x="36" y="29"/>
                  <a:pt x="31" y="27"/>
                </a:cubicBezTo>
                <a:cubicBezTo>
                  <a:pt x="35" y="30"/>
                  <a:pt x="27" y="38"/>
                  <a:pt x="26" y="43"/>
                </a:cubicBezTo>
                <a:cubicBezTo>
                  <a:pt x="25" y="42"/>
                  <a:pt x="25" y="40"/>
                  <a:pt x="23" y="40"/>
                </a:cubicBezTo>
                <a:cubicBezTo>
                  <a:pt x="19" y="48"/>
                  <a:pt x="17" y="56"/>
                  <a:pt x="17" y="66"/>
                </a:cubicBezTo>
                <a:cubicBezTo>
                  <a:pt x="16" y="66"/>
                  <a:pt x="16" y="65"/>
                  <a:pt x="15" y="65"/>
                </a:cubicBezTo>
                <a:cubicBezTo>
                  <a:pt x="13" y="66"/>
                  <a:pt x="18" y="68"/>
                  <a:pt x="14" y="69"/>
                </a:cubicBezTo>
                <a:cubicBezTo>
                  <a:pt x="12" y="67"/>
                  <a:pt x="16" y="65"/>
                  <a:pt x="14" y="63"/>
                </a:cubicBezTo>
                <a:cubicBezTo>
                  <a:pt x="12" y="65"/>
                  <a:pt x="13" y="57"/>
                  <a:pt x="12" y="56"/>
                </a:cubicBezTo>
                <a:cubicBezTo>
                  <a:pt x="10" y="68"/>
                  <a:pt x="11" y="83"/>
                  <a:pt x="13" y="96"/>
                </a:cubicBezTo>
                <a:cubicBezTo>
                  <a:pt x="11" y="97"/>
                  <a:pt x="11" y="95"/>
                  <a:pt x="9" y="95"/>
                </a:cubicBezTo>
                <a:cubicBezTo>
                  <a:pt x="10" y="101"/>
                  <a:pt x="12" y="105"/>
                  <a:pt x="12" y="112"/>
                </a:cubicBezTo>
                <a:cubicBezTo>
                  <a:pt x="20" y="125"/>
                  <a:pt x="33" y="133"/>
                  <a:pt x="43" y="145"/>
                </a:cubicBezTo>
                <a:cubicBezTo>
                  <a:pt x="55" y="149"/>
                  <a:pt x="72" y="151"/>
                  <a:pt x="87" y="151"/>
                </a:cubicBezTo>
                <a:cubicBezTo>
                  <a:pt x="97" y="154"/>
                  <a:pt x="109" y="146"/>
                  <a:pt x="117" y="141"/>
                </a:cubicBezTo>
                <a:cubicBezTo>
                  <a:pt x="117" y="142"/>
                  <a:pt x="115" y="144"/>
                  <a:pt x="117" y="144"/>
                </a:cubicBezTo>
                <a:cubicBezTo>
                  <a:pt x="124" y="140"/>
                  <a:pt x="132" y="137"/>
                  <a:pt x="136" y="129"/>
                </a:cubicBezTo>
                <a:cubicBezTo>
                  <a:pt x="134" y="129"/>
                  <a:pt x="133" y="132"/>
                  <a:pt x="132" y="131"/>
                </a:cubicBezTo>
                <a:close/>
                <a:moveTo>
                  <a:pt x="31" y="37"/>
                </a:moveTo>
                <a:cubicBezTo>
                  <a:pt x="31" y="33"/>
                  <a:pt x="33" y="31"/>
                  <a:pt x="35" y="29"/>
                </a:cubicBezTo>
                <a:cubicBezTo>
                  <a:pt x="36" y="29"/>
                  <a:pt x="36" y="30"/>
                  <a:pt x="37" y="30"/>
                </a:cubicBezTo>
                <a:cubicBezTo>
                  <a:pt x="36" y="33"/>
                  <a:pt x="35" y="36"/>
                  <a:pt x="31" y="37"/>
                </a:cubicBezTo>
                <a:close/>
                <a:moveTo>
                  <a:pt x="77" y="30"/>
                </a:moveTo>
                <a:cubicBezTo>
                  <a:pt x="79" y="29"/>
                  <a:pt x="82" y="29"/>
                  <a:pt x="84" y="30"/>
                </a:cubicBezTo>
                <a:cubicBezTo>
                  <a:pt x="83" y="33"/>
                  <a:pt x="80" y="30"/>
                  <a:pt x="77" y="30"/>
                </a:cubicBezTo>
                <a:close/>
                <a:moveTo>
                  <a:pt x="101" y="34"/>
                </a:moveTo>
                <a:cubicBezTo>
                  <a:pt x="94" y="34"/>
                  <a:pt x="91" y="30"/>
                  <a:pt x="87" y="25"/>
                </a:cubicBezTo>
                <a:cubicBezTo>
                  <a:pt x="94" y="27"/>
                  <a:pt x="97" y="27"/>
                  <a:pt x="101" y="34"/>
                </a:cubicBezTo>
                <a:close/>
                <a:moveTo>
                  <a:pt x="89" y="31"/>
                </a:moveTo>
                <a:cubicBezTo>
                  <a:pt x="95" y="33"/>
                  <a:pt x="98" y="38"/>
                  <a:pt x="102" y="43"/>
                </a:cubicBezTo>
                <a:cubicBezTo>
                  <a:pt x="98" y="39"/>
                  <a:pt x="92" y="36"/>
                  <a:pt x="89" y="31"/>
                </a:cubicBezTo>
                <a:close/>
                <a:moveTo>
                  <a:pt x="110" y="32"/>
                </a:moveTo>
                <a:cubicBezTo>
                  <a:pt x="107" y="32"/>
                  <a:pt x="105" y="30"/>
                  <a:pt x="103" y="29"/>
                </a:cubicBezTo>
                <a:cubicBezTo>
                  <a:pt x="106" y="27"/>
                  <a:pt x="110" y="29"/>
                  <a:pt x="110" y="32"/>
                </a:cubicBezTo>
                <a:close/>
                <a:moveTo>
                  <a:pt x="164" y="77"/>
                </a:moveTo>
                <a:cubicBezTo>
                  <a:pt x="162" y="79"/>
                  <a:pt x="163" y="83"/>
                  <a:pt x="162" y="86"/>
                </a:cubicBezTo>
                <a:cubicBezTo>
                  <a:pt x="165" y="84"/>
                  <a:pt x="164" y="79"/>
                  <a:pt x="164" y="77"/>
                </a:cubicBezTo>
                <a:close/>
                <a:moveTo>
                  <a:pt x="158" y="100"/>
                </a:moveTo>
                <a:cubicBezTo>
                  <a:pt x="158" y="96"/>
                  <a:pt x="162" y="93"/>
                  <a:pt x="160" y="89"/>
                </a:cubicBezTo>
                <a:cubicBezTo>
                  <a:pt x="160" y="93"/>
                  <a:pt x="156" y="97"/>
                  <a:pt x="158" y="100"/>
                </a:cubicBezTo>
                <a:close/>
                <a:moveTo>
                  <a:pt x="141" y="125"/>
                </a:moveTo>
                <a:cubicBezTo>
                  <a:pt x="147" y="126"/>
                  <a:pt x="149" y="121"/>
                  <a:pt x="149" y="115"/>
                </a:cubicBezTo>
                <a:cubicBezTo>
                  <a:pt x="154" y="113"/>
                  <a:pt x="158" y="103"/>
                  <a:pt x="157" y="101"/>
                </a:cubicBezTo>
                <a:cubicBezTo>
                  <a:pt x="152" y="110"/>
                  <a:pt x="147" y="118"/>
                  <a:pt x="141" y="125"/>
                </a:cubicBezTo>
                <a:close/>
              </a:path>
            </a:pathLst>
          </a:custGeom>
          <a:solidFill>
            <a:srgbClr val="2c3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图表 32" descr=""/>
          <p:cNvPicPr/>
          <p:nvPr/>
        </p:nvPicPr>
        <p:blipFill>
          <a:blip r:embed="rId4"/>
          <a:stretch/>
        </p:blipFill>
        <p:spPr>
          <a:xfrm>
            <a:off x="6647040" y="4148280"/>
            <a:ext cx="1747800" cy="1747800"/>
          </a:xfrm>
          <a:prstGeom prst="rect">
            <a:avLst/>
          </a:prstGeom>
          <a:ln w="0">
            <a:noFill/>
          </a:ln>
        </p:spPr>
      </p:pic>
      <p:sp>
        <p:nvSpPr>
          <p:cNvPr id="411" name="文本框 33"/>
          <p:cNvSpPr/>
          <p:nvPr/>
        </p:nvSpPr>
        <p:spPr>
          <a:xfrm>
            <a:off x="6975720" y="4608720"/>
            <a:ext cx="109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腾祥铁山楷书简"/>
                <a:ea typeface="腾祥铁山楷书简"/>
              </a:rPr>
              <a:t>80</a:t>
            </a:r>
            <a:r>
              <a:rPr b="0" lang="en-US" sz="2000" spc="-1" strike="noStrike">
                <a:solidFill>
                  <a:srgbClr val="ffffff"/>
                </a:solidFill>
                <a:latin typeface="腾祥铁山楷书简"/>
                <a:ea typeface="腾祥铁山楷书简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矩形 34"/>
          <p:cNvSpPr/>
          <p:nvPr/>
        </p:nvSpPr>
        <p:spPr>
          <a:xfrm>
            <a:off x="8391600" y="4879800"/>
            <a:ext cx="3228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D</a:t>
            </a:r>
            <a:r>
              <a:rPr b="0" lang="zh-CN" sz="14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意空间工作室成立于</a:t>
            </a:r>
            <a:r>
              <a:rPr b="0" lang="en-US" sz="14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2015</a:t>
            </a:r>
            <a:r>
              <a:rPr b="0" lang="zh-CN" sz="14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年</a:t>
            </a:r>
            <a:r>
              <a:rPr b="0" lang="en-US" sz="14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10</a:t>
            </a:r>
            <a:r>
              <a:rPr b="0" lang="zh-CN" sz="14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月，只要是与演示相关的，我们竭诚为您服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文本框 35"/>
          <p:cNvSpPr/>
          <p:nvPr/>
        </p:nvSpPr>
        <p:spPr>
          <a:xfrm>
            <a:off x="8478000" y="4388040"/>
            <a:ext cx="11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c5e"/>
                </a:solidFill>
                <a:latin typeface="腾祥铁山楷书简"/>
                <a:ea typeface="腾祥铁山楷书简"/>
              </a:rPr>
              <a:t>PPT</a:t>
            </a:r>
            <a:r>
              <a:rPr b="0" lang="zh-CN" sz="2400" spc="-1" strike="noStrike">
                <a:solidFill>
                  <a:srgbClr val="2c3c5e"/>
                </a:solidFill>
                <a:latin typeface="腾祥铁山楷书简"/>
                <a:ea typeface="腾祥铁山楷书简"/>
              </a:rPr>
              <a:t>定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文本框 799"/>
          <p:cNvSpPr/>
          <p:nvPr/>
        </p:nvSpPr>
        <p:spPr>
          <a:xfrm>
            <a:off x="4848480" y="2023200"/>
            <a:ext cx="261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3d5070"/>
                </a:solidFill>
                <a:latin typeface="李旭科书法"/>
                <a:ea typeface="李旭科书法"/>
              </a:rPr>
              <a:t>谢谢观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文本框 799"/>
          <p:cNvSpPr/>
          <p:nvPr/>
        </p:nvSpPr>
        <p:spPr>
          <a:xfrm>
            <a:off x="4309560" y="3414240"/>
            <a:ext cx="357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5070"/>
                </a:solidFill>
                <a:latin typeface="腾祥铁山楷书简"/>
                <a:ea typeface="腾祥铁山楷书简"/>
              </a:rPr>
              <a:t>http://d1-space.yanj.cn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eform 9"/>
          <p:cNvSpPr/>
          <p:nvPr/>
        </p:nvSpPr>
        <p:spPr>
          <a:xfrm>
            <a:off x="3444840" y="3454560"/>
            <a:ext cx="459000" cy="379080"/>
          </a:xfrm>
          <a:custGeom>
            <a:avLst/>
            <a:gdLst>
              <a:gd name="textAreaLeft" fmla="*/ 0 w 459000"/>
              <a:gd name="textAreaRight" fmla="*/ 459360 w 459000"/>
              <a:gd name="textAreaTop" fmla="*/ 0 h 379080"/>
              <a:gd name="textAreaBottom" fmla="*/ 379440 h 379080"/>
            </a:gdLst>
            <a:ahLst/>
            <a:rect l="textAreaLeft" t="textAreaTop" r="textAreaRight" b="textAreaBottom"/>
            <a:pathLst>
              <a:path w="600" h="493">
                <a:moveTo>
                  <a:pt x="302" y="265"/>
                </a:moveTo>
                <a:cubicBezTo>
                  <a:pt x="297" y="269"/>
                  <a:pt x="292" y="271"/>
                  <a:pt x="290" y="274"/>
                </a:cubicBezTo>
                <a:cubicBezTo>
                  <a:pt x="287" y="276"/>
                  <a:pt x="284" y="281"/>
                  <a:pt x="283" y="288"/>
                </a:cubicBezTo>
                <a:cubicBezTo>
                  <a:pt x="281" y="294"/>
                  <a:pt x="279" y="299"/>
                  <a:pt x="278" y="301"/>
                </a:cubicBezTo>
                <a:cubicBezTo>
                  <a:pt x="280" y="301"/>
                  <a:pt x="282" y="300"/>
                  <a:pt x="283" y="300"/>
                </a:cubicBezTo>
                <a:cubicBezTo>
                  <a:pt x="291" y="299"/>
                  <a:pt x="298" y="297"/>
                  <a:pt x="302" y="294"/>
                </a:cubicBezTo>
                <a:cubicBezTo>
                  <a:pt x="309" y="289"/>
                  <a:pt x="312" y="282"/>
                  <a:pt x="313" y="275"/>
                </a:cubicBezTo>
                <a:cubicBezTo>
                  <a:pt x="314" y="272"/>
                  <a:pt x="314" y="269"/>
                  <a:pt x="313" y="267"/>
                </a:cubicBezTo>
                <a:cubicBezTo>
                  <a:pt x="313" y="264"/>
                  <a:pt x="312" y="261"/>
                  <a:pt x="312" y="258"/>
                </a:cubicBezTo>
                <a:cubicBezTo>
                  <a:pt x="311" y="260"/>
                  <a:pt x="307" y="262"/>
                  <a:pt x="302" y="265"/>
                </a:cubicBezTo>
                <a:close/>
                <a:moveTo>
                  <a:pt x="585" y="84"/>
                </a:moveTo>
                <a:cubicBezTo>
                  <a:pt x="589" y="94"/>
                  <a:pt x="594" y="102"/>
                  <a:pt x="600" y="108"/>
                </a:cubicBezTo>
                <a:cubicBezTo>
                  <a:pt x="598" y="111"/>
                  <a:pt x="595" y="113"/>
                  <a:pt x="592" y="113"/>
                </a:cubicBezTo>
                <a:cubicBezTo>
                  <a:pt x="588" y="113"/>
                  <a:pt x="584" y="110"/>
                  <a:pt x="581" y="106"/>
                </a:cubicBezTo>
                <a:cubicBezTo>
                  <a:pt x="581" y="110"/>
                  <a:pt x="582" y="114"/>
                  <a:pt x="582" y="118"/>
                </a:cubicBezTo>
                <a:cubicBezTo>
                  <a:pt x="582" y="136"/>
                  <a:pt x="574" y="147"/>
                  <a:pt x="559" y="152"/>
                </a:cubicBezTo>
                <a:cubicBezTo>
                  <a:pt x="565" y="132"/>
                  <a:pt x="569" y="122"/>
                  <a:pt x="569" y="120"/>
                </a:cubicBezTo>
                <a:cubicBezTo>
                  <a:pt x="570" y="113"/>
                  <a:pt x="571" y="104"/>
                  <a:pt x="571" y="92"/>
                </a:cubicBezTo>
                <a:cubicBezTo>
                  <a:pt x="571" y="61"/>
                  <a:pt x="561" y="38"/>
                  <a:pt x="543" y="22"/>
                </a:cubicBezTo>
                <a:cubicBezTo>
                  <a:pt x="532" y="13"/>
                  <a:pt x="520" y="8"/>
                  <a:pt x="506" y="5"/>
                </a:cubicBezTo>
                <a:cubicBezTo>
                  <a:pt x="516" y="10"/>
                  <a:pt x="525" y="18"/>
                  <a:pt x="532" y="30"/>
                </a:cubicBezTo>
                <a:cubicBezTo>
                  <a:pt x="535" y="29"/>
                  <a:pt x="543" y="37"/>
                  <a:pt x="549" y="51"/>
                </a:cubicBezTo>
                <a:cubicBezTo>
                  <a:pt x="564" y="91"/>
                  <a:pt x="551" y="134"/>
                  <a:pt x="527" y="169"/>
                </a:cubicBezTo>
                <a:cubicBezTo>
                  <a:pt x="518" y="182"/>
                  <a:pt x="506" y="196"/>
                  <a:pt x="494" y="208"/>
                </a:cubicBezTo>
                <a:cubicBezTo>
                  <a:pt x="486" y="215"/>
                  <a:pt x="479" y="222"/>
                  <a:pt x="471" y="228"/>
                </a:cubicBezTo>
                <a:cubicBezTo>
                  <a:pt x="465" y="232"/>
                  <a:pt x="460" y="236"/>
                  <a:pt x="454" y="240"/>
                </a:cubicBezTo>
                <a:cubicBezTo>
                  <a:pt x="454" y="240"/>
                  <a:pt x="454" y="240"/>
                  <a:pt x="454" y="240"/>
                </a:cubicBezTo>
                <a:cubicBezTo>
                  <a:pt x="450" y="244"/>
                  <a:pt x="447" y="248"/>
                  <a:pt x="443" y="252"/>
                </a:cubicBezTo>
                <a:cubicBezTo>
                  <a:pt x="412" y="293"/>
                  <a:pt x="388" y="349"/>
                  <a:pt x="417" y="397"/>
                </a:cubicBezTo>
                <a:cubicBezTo>
                  <a:pt x="423" y="408"/>
                  <a:pt x="432" y="417"/>
                  <a:pt x="439" y="421"/>
                </a:cubicBezTo>
                <a:cubicBezTo>
                  <a:pt x="452" y="428"/>
                  <a:pt x="461" y="424"/>
                  <a:pt x="464" y="420"/>
                </a:cubicBezTo>
                <a:cubicBezTo>
                  <a:pt x="467" y="417"/>
                  <a:pt x="468" y="413"/>
                  <a:pt x="467" y="410"/>
                </a:cubicBezTo>
                <a:cubicBezTo>
                  <a:pt x="485" y="422"/>
                  <a:pt x="504" y="422"/>
                  <a:pt x="518" y="406"/>
                </a:cubicBezTo>
                <a:cubicBezTo>
                  <a:pt x="528" y="394"/>
                  <a:pt x="528" y="381"/>
                  <a:pt x="521" y="371"/>
                </a:cubicBezTo>
                <a:cubicBezTo>
                  <a:pt x="513" y="361"/>
                  <a:pt x="500" y="355"/>
                  <a:pt x="488" y="358"/>
                </a:cubicBezTo>
                <a:cubicBezTo>
                  <a:pt x="485" y="358"/>
                  <a:pt x="482" y="359"/>
                  <a:pt x="480" y="361"/>
                </a:cubicBezTo>
                <a:cubicBezTo>
                  <a:pt x="478" y="359"/>
                  <a:pt x="477" y="356"/>
                  <a:pt x="476" y="354"/>
                </a:cubicBezTo>
                <a:cubicBezTo>
                  <a:pt x="475" y="348"/>
                  <a:pt x="478" y="342"/>
                  <a:pt x="482" y="337"/>
                </a:cubicBezTo>
                <a:cubicBezTo>
                  <a:pt x="500" y="316"/>
                  <a:pt x="531" y="325"/>
                  <a:pt x="550" y="341"/>
                </a:cubicBezTo>
                <a:cubicBezTo>
                  <a:pt x="582" y="369"/>
                  <a:pt x="584" y="420"/>
                  <a:pt x="555" y="452"/>
                </a:cubicBezTo>
                <a:cubicBezTo>
                  <a:pt x="516" y="493"/>
                  <a:pt x="457" y="489"/>
                  <a:pt x="422" y="449"/>
                </a:cubicBezTo>
                <a:cubicBezTo>
                  <a:pt x="399" y="423"/>
                  <a:pt x="386" y="390"/>
                  <a:pt x="387" y="355"/>
                </a:cubicBezTo>
                <a:cubicBezTo>
                  <a:pt x="388" y="331"/>
                  <a:pt x="395" y="306"/>
                  <a:pt x="406" y="285"/>
                </a:cubicBezTo>
                <a:cubicBezTo>
                  <a:pt x="409" y="279"/>
                  <a:pt x="412" y="275"/>
                  <a:pt x="416" y="270"/>
                </a:cubicBezTo>
                <a:cubicBezTo>
                  <a:pt x="384" y="295"/>
                  <a:pt x="356" y="312"/>
                  <a:pt x="332" y="321"/>
                </a:cubicBezTo>
                <a:cubicBezTo>
                  <a:pt x="312" y="329"/>
                  <a:pt x="294" y="332"/>
                  <a:pt x="276" y="330"/>
                </a:cubicBezTo>
                <a:cubicBezTo>
                  <a:pt x="273" y="329"/>
                  <a:pt x="269" y="328"/>
                  <a:pt x="264" y="327"/>
                </a:cubicBezTo>
                <a:cubicBezTo>
                  <a:pt x="260" y="326"/>
                  <a:pt x="256" y="325"/>
                  <a:pt x="252" y="324"/>
                </a:cubicBezTo>
                <a:cubicBezTo>
                  <a:pt x="252" y="326"/>
                  <a:pt x="252" y="327"/>
                  <a:pt x="251" y="329"/>
                </a:cubicBezTo>
                <a:cubicBezTo>
                  <a:pt x="251" y="330"/>
                  <a:pt x="249" y="330"/>
                  <a:pt x="246" y="329"/>
                </a:cubicBezTo>
                <a:cubicBezTo>
                  <a:pt x="244" y="328"/>
                  <a:pt x="243" y="327"/>
                  <a:pt x="243" y="326"/>
                </a:cubicBezTo>
                <a:cubicBezTo>
                  <a:pt x="243" y="324"/>
                  <a:pt x="244" y="323"/>
                  <a:pt x="244" y="323"/>
                </a:cubicBezTo>
                <a:cubicBezTo>
                  <a:pt x="230" y="320"/>
                  <a:pt x="230" y="320"/>
                  <a:pt x="230" y="320"/>
                </a:cubicBezTo>
                <a:cubicBezTo>
                  <a:pt x="216" y="318"/>
                  <a:pt x="204" y="318"/>
                  <a:pt x="194" y="320"/>
                </a:cubicBezTo>
                <a:cubicBezTo>
                  <a:pt x="184" y="322"/>
                  <a:pt x="176" y="325"/>
                  <a:pt x="171" y="330"/>
                </a:cubicBezTo>
                <a:cubicBezTo>
                  <a:pt x="171" y="322"/>
                  <a:pt x="172" y="317"/>
                  <a:pt x="174" y="314"/>
                </a:cubicBezTo>
                <a:cubicBezTo>
                  <a:pt x="177" y="308"/>
                  <a:pt x="182" y="304"/>
                  <a:pt x="188" y="302"/>
                </a:cubicBezTo>
                <a:cubicBezTo>
                  <a:pt x="192" y="301"/>
                  <a:pt x="196" y="300"/>
                  <a:pt x="201" y="301"/>
                </a:cubicBezTo>
                <a:cubicBezTo>
                  <a:pt x="202" y="301"/>
                  <a:pt x="202" y="301"/>
                  <a:pt x="203" y="301"/>
                </a:cubicBezTo>
                <a:cubicBezTo>
                  <a:pt x="197" y="298"/>
                  <a:pt x="191" y="295"/>
                  <a:pt x="183" y="295"/>
                </a:cubicBezTo>
                <a:cubicBezTo>
                  <a:pt x="181" y="292"/>
                  <a:pt x="184" y="287"/>
                  <a:pt x="188" y="289"/>
                </a:cubicBezTo>
                <a:cubicBezTo>
                  <a:pt x="169" y="280"/>
                  <a:pt x="126" y="271"/>
                  <a:pt x="106" y="309"/>
                </a:cubicBezTo>
                <a:cubicBezTo>
                  <a:pt x="103" y="309"/>
                  <a:pt x="101" y="304"/>
                  <a:pt x="102" y="301"/>
                </a:cubicBezTo>
                <a:cubicBezTo>
                  <a:pt x="92" y="309"/>
                  <a:pt x="95" y="340"/>
                  <a:pt x="110" y="344"/>
                </a:cubicBezTo>
                <a:cubicBezTo>
                  <a:pt x="112" y="339"/>
                  <a:pt x="116" y="341"/>
                  <a:pt x="117" y="344"/>
                </a:cubicBezTo>
                <a:cubicBezTo>
                  <a:pt x="119" y="348"/>
                  <a:pt x="116" y="350"/>
                  <a:pt x="113" y="351"/>
                </a:cubicBezTo>
                <a:cubicBezTo>
                  <a:pt x="108" y="352"/>
                  <a:pt x="95" y="344"/>
                  <a:pt x="92" y="329"/>
                </a:cubicBezTo>
                <a:cubicBezTo>
                  <a:pt x="88" y="314"/>
                  <a:pt x="90" y="288"/>
                  <a:pt x="125" y="275"/>
                </a:cubicBezTo>
                <a:cubicBezTo>
                  <a:pt x="136" y="271"/>
                  <a:pt x="149" y="270"/>
                  <a:pt x="160" y="272"/>
                </a:cubicBezTo>
                <a:cubicBezTo>
                  <a:pt x="159" y="271"/>
                  <a:pt x="158" y="270"/>
                  <a:pt x="156" y="270"/>
                </a:cubicBezTo>
                <a:cubicBezTo>
                  <a:pt x="152" y="268"/>
                  <a:pt x="149" y="267"/>
                  <a:pt x="148" y="267"/>
                </a:cubicBezTo>
                <a:cubicBezTo>
                  <a:pt x="146" y="267"/>
                  <a:pt x="144" y="266"/>
                  <a:pt x="141" y="266"/>
                </a:cubicBezTo>
                <a:cubicBezTo>
                  <a:pt x="139" y="265"/>
                  <a:pt x="136" y="265"/>
                  <a:pt x="133" y="266"/>
                </a:cubicBezTo>
                <a:cubicBezTo>
                  <a:pt x="128" y="266"/>
                  <a:pt x="122" y="269"/>
                  <a:pt x="113" y="273"/>
                </a:cubicBezTo>
                <a:cubicBezTo>
                  <a:pt x="113" y="270"/>
                  <a:pt x="113" y="267"/>
                  <a:pt x="113" y="264"/>
                </a:cubicBezTo>
                <a:cubicBezTo>
                  <a:pt x="114" y="260"/>
                  <a:pt x="118" y="258"/>
                  <a:pt x="124" y="257"/>
                </a:cubicBezTo>
                <a:cubicBezTo>
                  <a:pt x="120" y="255"/>
                  <a:pt x="117" y="253"/>
                  <a:pt x="115" y="251"/>
                </a:cubicBezTo>
                <a:cubicBezTo>
                  <a:pt x="111" y="248"/>
                  <a:pt x="107" y="245"/>
                  <a:pt x="105" y="242"/>
                </a:cubicBezTo>
                <a:cubicBezTo>
                  <a:pt x="100" y="236"/>
                  <a:pt x="97" y="232"/>
                  <a:pt x="96" y="231"/>
                </a:cubicBezTo>
                <a:cubicBezTo>
                  <a:pt x="92" y="226"/>
                  <a:pt x="90" y="220"/>
                  <a:pt x="89" y="213"/>
                </a:cubicBezTo>
                <a:cubicBezTo>
                  <a:pt x="96" y="214"/>
                  <a:pt x="102" y="216"/>
                  <a:pt x="108" y="219"/>
                </a:cubicBezTo>
                <a:cubicBezTo>
                  <a:pt x="112" y="221"/>
                  <a:pt x="116" y="223"/>
                  <a:pt x="119" y="226"/>
                </a:cubicBezTo>
                <a:cubicBezTo>
                  <a:pt x="124" y="230"/>
                  <a:pt x="127" y="233"/>
                  <a:pt x="130" y="238"/>
                </a:cubicBezTo>
                <a:cubicBezTo>
                  <a:pt x="132" y="240"/>
                  <a:pt x="133" y="241"/>
                  <a:pt x="135" y="243"/>
                </a:cubicBezTo>
                <a:cubicBezTo>
                  <a:pt x="134" y="241"/>
                  <a:pt x="134" y="240"/>
                  <a:pt x="134" y="238"/>
                </a:cubicBezTo>
                <a:cubicBezTo>
                  <a:pt x="133" y="233"/>
                  <a:pt x="133" y="230"/>
                  <a:pt x="134" y="228"/>
                </a:cubicBezTo>
                <a:cubicBezTo>
                  <a:pt x="134" y="226"/>
                  <a:pt x="135" y="225"/>
                  <a:pt x="137" y="223"/>
                </a:cubicBezTo>
                <a:cubicBezTo>
                  <a:pt x="139" y="232"/>
                  <a:pt x="141" y="237"/>
                  <a:pt x="142" y="241"/>
                </a:cubicBezTo>
                <a:cubicBezTo>
                  <a:pt x="143" y="244"/>
                  <a:pt x="145" y="248"/>
                  <a:pt x="148" y="251"/>
                </a:cubicBezTo>
                <a:cubicBezTo>
                  <a:pt x="149" y="254"/>
                  <a:pt x="151" y="256"/>
                  <a:pt x="154" y="259"/>
                </a:cubicBezTo>
                <a:cubicBezTo>
                  <a:pt x="158" y="264"/>
                  <a:pt x="162" y="268"/>
                  <a:pt x="166" y="273"/>
                </a:cubicBezTo>
                <a:cubicBezTo>
                  <a:pt x="168" y="274"/>
                  <a:pt x="171" y="274"/>
                  <a:pt x="174" y="275"/>
                </a:cubicBezTo>
                <a:cubicBezTo>
                  <a:pt x="182" y="278"/>
                  <a:pt x="189" y="281"/>
                  <a:pt x="196" y="285"/>
                </a:cubicBezTo>
                <a:cubicBezTo>
                  <a:pt x="163" y="238"/>
                  <a:pt x="124" y="206"/>
                  <a:pt x="99" y="194"/>
                </a:cubicBezTo>
                <a:cubicBezTo>
                  <a:pt x="76" y="183"/>
                  <a:pt x="49" y="178"/>
                  <a:pt x="32" y="186"/>
                </a:cubicBezTo>
                <a:cubicBezTo>
                  <a:pt x="18" y="191"/>
                  <a:pt x="9" y="210"/>
                  <a:pt x="14" y="227"/>
                </a:cubicBezTo>
                <a:cubicBezTo>
                  <a:pt x="20" y="245"/>
                  <a:pt x="33" y="258"/>
                  <a:pt x="53" y="254"/>
                </a:cubicBezTo>
                <a:cubicBezTo>
                  <a:pt x="64" y="252"/>
                  <a:pt x="72" y="239"/>
                  <a:pt x="67" y="228"/>
                </a:cubicBezTo>
                <a:cubicBezTo>
                  <a:pt x="65" y="225"/>
                  <a:pt x="63" y="222"/>
                  <a:pt x="60" y="221"/>
                </a:cubicBezTo>
                <a:cubicBezTo>
                  <a:pt x="57" y="224"/>
                  <a:pt x="56" y="232"/>
                  <a:pt x="47" y="229"/>
                </a:cubicBezTo>
                <a:cubicBezTo>
                  <a:pt x="44" y="228"/>
                  <a:pt x="42" y="224"/>
                  <a:pt x="42" y="221"/>
                </a:cubicBezTo>
                <a:cubicBezTo>
                  <a:pt x="42" y="214"/>
                  <a:pt x="47" y="210"/>
                  <a:pt x="54" y="209"/>
                </a:cubicBezTo>
                <a:cubicBezTo>
                  <a:pt x="64" y="207"/>
                  <a:pt x="73" y="216"/>
                  <a:pt x="76" y="225"/>
                </a:cubicBezTo>
                <a:cubicBezTo>
                  <a:pt x="81" y="240"/>
                  <a:pt x="75" y="259"/>
                  <a:pt x="59" y="264"/>
                </a:cubicBezTo>
                <a:cubicBezTo>
                  <a:pt x="34" y="272"/>
                  <a:pt x="15" y="257"/>
                  <a:pt x="6" y="229"/>
                </a:cubicBezTo>
                <a:cubicBezTo>
                  <a:pt x="0" y="209"/>
                  <a:pt x="8" y="184"/>
                  <a:pt x="28" y="175"/>
                </a:cubicBezTo>
                <a:cubicBezTo>
                  <a:pt x="44" y="168"/>
                  <a:pt x="69" y="167"/>
                  <a:pt x="101" y="186"/>
                </a:cubicBezTo>
                <a:cubicBezTo>
                  <a:pt x="128" y="201"/>
                  <a:pt x="158" y="226"/>
                  <a:pt x="184" y="257"/>
                </a:cubicBezTo>
                <a:cubicBezTo>
                  <a:pt x="181" y="245"/>
                  <a:pt x="180" y="233"/>
                  <a:pt x="181" y="220"/>
                </a:cubicBezTo>
                <a:cubicBezTo>
                  <a:pt x="184" y="198"/>
                  <a:pt x="194" y="180"/>
                  <a:pt x="212" y="167"/>
                </a:cubicBezTo>
                <a:cubicBezTo>
                  <a:pt x="229" y="154"/>
                  <a:pt x="251" y="149"/>
                  <a:pt x="277" y="153"/>
                </a:cubicBezTo>
                <a:cubicBezTo>
                  <a:pt x="288" y="154"/>
                  <a:pt x="298" y="158"/>
                  <a:pt x="306" y="165"/>
                </a:cubicBezTo>
                <a:cubicBezTo>
                  <a:pt x="317" y="174"/>
                  <a:pt x="324" y="185"/>
                  <a:pt x="328" y="198"/>
                </a:cubicBezTo>
                <a:cubicBezTo>
                  <a:pt x="329" y="203"/>
                  <a:pt x="330" y="210"/>
                  <a:pt x="330" y="219"/>
                </a:cubicBezTo>
                <a:cubicBezTo>
                  <a:pt x="330" y="228"/>
                  <a:pt x="331" y="235"/>
                  <a:pt x="332" y="239"/>
                </a:cubicBezTo>
                <a:cubicBezTo>
                  <a:pt x="334" y="250"/>
                  <a:pt x="339" y="256"/>
                  <a:pt x="347" y="257"/>
                </a:cubicBezTo>
                <a:cubicBezTo>
                  <a:pt x="353" y="257"/>
                  <a:pt x="358" y="257"/>
                  <a:pt x="361" y="254"/>
                </a:cubicBezTo>
                <a:cubicBezTo>
                  <a:pt x="365" y="252"/>
                  <a:pt x="368" y="247"/>
                  <a:pt x="370" y="240"/>
                </a:cubicBezTo>
                <a:cubicBezTo>
                  <a:pt x="374" y="245"/>
                  <a:pt x="375" y="252"/>
                  <a:pt x="374" y="259"/>
                </a:cubicBezTo>
                <a:cubicBezTo>
                  <a:pt x="373" y="265"/>
                  <a:pt x="371" y="270"/>
                  <a:pt x="366" y="274"/>
                </a:cubicBezTo>
                <a:cubicBezTo>
                  <a:pt x="362" y="278"/>
                  <a:pt x="356" y="280"/>
                  <a:pt x="349" y="279"/>
                </a:cubicBezTo>
                <a:cubicBezTo>
                  <a:pt x="340" y="278"/>
                  <a:pt x="333" y="272"/>
                  <a:pt x="328" y="263"/>
                </a:cubicBezTo>
                <a:cubicBezTo>
                  <a:pt x="322" y="254"/>
                  <a:pt x="321" y="246"/>
                  <a:pt x="323" y="238"/>
                </a:cubicBezTo>
                <a:cubicBezTo>
                  <a:pt x="317" y="247"/>
                  <a:pt x="310" y="254"/>
                  <a:pt x="302" y="258"/>
                </a:cubicBezTo>
                <a:cubicBezTo>
                  <a:pt x="292" y="264"/>
                  <a:pt x="282" y="266"/>
                  <a:pt x="271" y="265"/>
                </a:cubicBezTo>
                <a:cubicBezTo>
                  <a:pt x="260" y="263"/>
                  <a:pt x="252" y="259"/>
                  <a:pt x="246" y="250"/>
                </a:cubicBezTo>
                <a:cubicBezTo>
                  <a:pt x="240" y="242"/>
                  <a:pt x="238" y="233"/>
                  <a:pt x="239" y="224"/>
                </a:cubicBezTo>
                <a:cubicBezTo>
                  <a:pt x="240" y="214"/>
                  <a:pt x="243" y="206"/>
                  <a:pt x="249" y="200"/>
                </a:cubicBezTo>
                <a:cubicBezTo>
                  <a:pt x="255" y="194"/>
                  <a:pt x="263" y="191"/>
                  <a:pt x="273" y="192"/>
                </a:cubicBezTo>
                <a:cubicBezTo>
                  <a:pt x="277" y="193"/>
                  <a:pt x="280" y="195"/>
                  <a:pt x="283" y="198"/>
                </a:cubicBezTo>
                <a:cubicBezTo>
                  <a:pt x="287" y="202"/>
                  <a:pt x="289" y="208"/>
                  <a:pt x="288" y="214"/>
                </a:cubicBezTo>
                <a:cubicBezTo>
                  <a:pt x="287" y="221"/>
                  <a:pt x="283" y="226"/>
                  <a:pt x="275" y="227"/>
                </a:cubicBezTo>
                <a:cubicBezTo>
                  <a:pt x="274" y="227"/>
                  <a:pt x="272" y="227"/>
                  <a:pt x="269" y="227"/>
                </a:cubicBezTo>
                <a:cubicBezTo>
                  <a:pt x="270" y="226"/>
                  <a:pt x="270" y="225"/>
                  <a:pt x="270" y="222"/>
                </a:cubicBezTo>
                <a:cubicBezTo>
                  <a:pt x="271" y="218"/>
                  <a:pt x="270" y="214"/>
                  <a:pt x="269" y="212"/>
                </a:cubicBezTo>
                <a:cubicBezTo>
                  <a:pt x="267" y="210"/>
                  <a:pt x="264" y="209"/>
                  <a:pt x="261" y="209"/>
                </a:cubicBezTo>
                <a:cubicBezTo>
                  <a:pt x="257" y="208"/>
                  <a:pt x="254" y="210"/>
                  <a:pt x="251" y="213"/>
                </a:cubicBezTo>
                <a:cubicBezTo>
                  <a:pt x="247" y="216"/>
                  <a:pt x="245" y="220"/>
                  <a:pt x="245" y="224"/>
                </a:cubicBezTo>
                <a:cubicBezTo>
                  <a:pt x="244" y="233"/>
                  <a:pt x="245" y="241"/>
                  <a:pt x="249" y="247"/>
                </a:cubicBezTo>
                <a:cubicBezTo>
                  <a:pt x="255" y="254"/>
                  <a:pt x="262" y="259"/>
                  <a:pt x="272" y="260"/>
                </a:cubicBezTo>
                <a:cubicBezTo>
                  <a:pt x="284" y="261"/>
                  <a:pt x="295" y="258"/>
                  <a:pt x="305" y="251"/>
                </a:cubicBezTo>
                <a:cubicBezTo>
                  <a:pt x="315" y="244"/>
                  <a:pt x="321" y="233"/>
                  <a:pt x="323" y="220"/>
                </a:cubicBezTo>
                <a:cubicBezTo>
                  <a:pt x="325" y="203"/>
                  <a:pt x="320" y="188"/>
                  <a:pt x="309" y="176"/>
                </a:cubicBezTo>
                <a:cubicBezTo>
                  <a:pt x="299" y="165"/>
                  <a:pt x="288" y="159"/>
                  <a:pt x="274" y="158"/>
                </a:cubicBezTo>
                <a:cubicBezTo>
                  <a:pt x="247" y="154"/>
                  <a:pt x="227" y="161"/>
                  <a:pt x="212" y="177"/>
                </a:cubicBezTo>
                <a:cubicBezTo>
                  <a:pt x="200" y="189"/>
                  <a:pt x="194" y="204"/>
                  <a:pt x="192" y="222"/>
                </a:cubicBezTo>
                <a:cubicBezTo>
                  <a:pt x="189" y="244"/>
                  <a:pt x="193" y="264"/>
                  <a:pt x="203" y="280"/>
                </a:cubicBezTo>
                <a:cubicBezTo>
                  <a:pt x="211" y="293"/>
                  <a:pt x="220" y="302"/>
                  <a:pt x="232" y="310"/>
                </a:cubicBezTo>
                <a:cubicBezTo>
                  <a:pt x="237" y="313"/>
                  <a:pt x="242" y="314"/>
                  <a:pt x="245" y="315"/>
                </a:cubicBezTo>
                <a:cubicBezTo>
                  <a:pt x="245" y="311"/>
                  <a:pt x="247" y="310"/>
                  <a:pt x="250" y="310"/>
                </a:cubicBezTo>
                <a:cubicBezTo>
                  <a:pt x="254" y="311"/>
                  <a:pt x="256" y="313"/>
                  <a:pt x="254" y="318"/>
                </a:cubicBezTo>
                <a:cubicBezTo>
                  <a:pt x="262" y="320"/>
                  <a:pt x="269" y="322"/>
                  <a:pt x="275" y="322"/>
                </a:cubicBezTo>
                <a:cubicBezTo>
                  <a:pt x="298" y="325"/>
                  <a:pt x="323" y="320"/>
                  <a:pt x="349" y="307"/>
                </a:cubicBezTo>
                <a:cubicBezTo>
                  <a:pt x="369" y="298"/>
                  <a:pt x="392" y="283"/>
                  <a:pt x="418" y="261"/>
                </a:cubicBezTo>
                <a:cubicBezTo>
                  <a:pt x="425" y="255"/>
                  <a:pt x="432" y="249"/>
                  <a:pt x="438" y="244"/>
                </a:cubicBezTo>
                <a:cubicBezTo>
                  <a:pt x="439" y="243"/>
                  <a:pt x="439" y="243"/>
                  <a:pt x="439" y="242"/>
                </a:cubicBezTo>
                <a:cubicBezTo>
                  <a:pt x="430" y="245"/>
                  <a:pt x="420" y="247"/>
                  <a:pt x="410" y="247"/>
                </a:cubicBezTo>
                <a:cubicBezTo>
                  <a:pt x="386" y="247"/>
                  <a:pt x="364" y="237"/>
                  <a:pt x="347" y="221"/>
                </a:cubicBezTo>
                <a:cubicBezTo>
                  <a:pt x="319" y="196"/>
                  <a:pt x="318" y="155"/>
                  <a:pt x="347" y="130"/>
                </a:cubicBezTo>
                <a:cubicBezTo>
                  <a:pt x="370" y="110"/>
                  <a:pt x="404" y="113"/>
                  <a:pt x="423" y="135"/>
                </a:cubicBezTo>
                <a:cubicBezTo>
                  <a:pt x="434" y="149"/>
                  <a:pt x="439" y="170"/>
                  <a:pt x="425" y="182"/>
                </a:cubicBezTo>
                <a:cubicBezTo>
                  <a:pt x="421" y="185"/>
                  <a:pt x="417" y="186"/>
                  <a:pt x="413" y="185"/>
                </a:cubicBezTo>
                <a:cubicBezTo>
                  <a:pt x="411" y="185"/>
                  <a:pt x="410" y="184"/>
                  <a:pt x="408" y="182"/>
                </a:cubicBezTo>
                <a:cubicBezTo>
                  <a:pt x="409" y="181"/>
                  <a:pt x="410" y="180"/>
                  <a:pt x="411" y="178"/>
                </a:cubicBezTo>
                <a:cubicBezTo>
                  <a:pt x="412" y="169"/>
                  <a:pt x="408" y="160"/>
                  <a:pt x="402" y="155"/>
                </a:cubicBezTo>
                <a:cubicBezTo>
                  <a:pt x="395" y="149"/>
                  <a:pt x="387" y="149"/>
                  <a:pt x="378" y="156"/>
                </a:cubicBezTo>
                <a:cubicBezTo>
                  <a:pt x="367" y="165"/>
                  <a:pt x="366" y="179"/>
                  <a:pt x="375" y="191"/>
                </a:cubicBezTo>
                <a:cubicBezTo>
                  <a:pt x="372" y="190"/>
                  <a:pt x="369" y="190"/>
                  <a:pt x="367" y="192"/>
                </a:cubicBezTo>
                <a:cubicBezTo>
                  <a:pt x="365" y="195"/>
                  <a:pt x="361" y="201"/>
                  <a:pt x="366" y="210"/>
                </a:cubicBezTo>
                <a:cubicBezTo>
                  <a:pt x="369" y="215"/>
                  <a:pt x="375" y="221"/>
                  <a:pt x="382" y="225"/>
                </a:cubicBezTo>
                <a:cubicBezTo>
                  <a:pt x="407" y="241"/>
                  <a:pt x="436" y="236"/>
                  <a:pt x="462" y="223"/>
                </a:cubicBezTo>
                <a:cubicBezTo>
                  <a:pt x="467" y="218"/>
                  <a:pt x="473" y="214"/>
                  <a:pt x="478" y="211"/>
                </a:cubicBezTo>
                <a:cubicBezTo>
                  <a:pt x="493" y="197"/>
                  <a:pt x="506" y="182"/>
                  <a:pt x="516" y="168"/>
                </a:cubicBezTo>
                <a:cubicBezTo>
                  <a:pt x="539" y="135"/>
                  <a:pt x="549" y="94"/>
                  <a:pt x="537" y="56"/>
                </a:cubicBezTo>
                <a:cubicBezTo>
                  <a:pt x="531" y="37"/>
                  <a:pt x="520" y="21"/>
                  <a:pt x="501" y="14"/>
                </a:cubicBezTo>
                <a:cubicBezTo>
                  <a:pt x="478" y="6"/>
                  <a:pt x="461" y="18"/>
                  <a:pt x="458" y="21"/>
                </a:cubicBezTo>
                <a:cubicBezTo>
                  <a:pt x="455" y="21"/>
                  <a:pt x="454" y="13"/>
                  <a:pt x="460" y="9"/>
                </a:cubicBezTo>
                <a:cubicBezTo>
                  <a:pt x="449" y="17"/>
                  <a:pt x="438" y="25"/>
                  <a:pt x="440" y="43"/>
                </a:cubicBezTo>
                <a:cubicBezTo>
                  <a:pt x="441" y="61"/>
                  <a:pt x="453" y="69"/>
                  <a:pt x="458" y="64"/>
                </a:cubicBezTo>
                <a:cubicBezTo>
                  <a:pt x="460" y="62"/>
                  <a:pt x="456" y="60"/>
                  <a:pt x="459" y="59"/>
                </a:cubicBezTo>
                <a:cubicBezTo>
                  <a:pt x="462" y="58"/>
                  <a:pt x="462" y="62"/>
                  <a:pt x="462" y="64"/>
                </a:cubicBezTo>
                <a:cubicBezTo>
                  <a:pt x="462" y="68"/>
                  <a:pt x="446" y="78"/>
                  <a:pt x="436" y="52"/>
                </a:cubicBezTo>
                <a:cubicBezTo>
                  <a:pt x="438" y="61"/>
                  <a:pt x="442" y="72"/>
                  <a:pt x="448" y="79"/>
                </a:cubicBezTo>
                <a:cubicBezTo>
                  <a:pt x="454" y="86"/>
                  <a:pt x="464" y="90"/>
                  <a:pt x="473" y="87"/>
                </a:cubicBezTo>
                <a:cubicBezTo>
                  <a:pt x="481" y="85"/>
                  <a:pt x="486" y="76"/>
                  <a:pt x="482" y="69"/>
                </a:cubicBezTo>
                <a:cubicBezTo>
                  <a:pt x="481" y="67"/>
                  <a:pt x="480" y="65"/>
                  <a:pt x="478" y="63"/>
                </a:cubicBezTo>
                <a:cubicBezTo>
                  <a:pt x="475" y="60"/>
                  <a:pt x="472" y="63"/>
                  <a:pt x="472" y="64"/>
                </a:cubicBezTo>
                <a:cubicBezTo>
                  <a:pt x="472" y="66"/>
                  <a:pt x="467" y="68"/>
                  <a:pt x="467" y="64"/>
                </a:cubicBezTo>
                <a:cubicBezTo>
                  <a:pt x="466" y="59"/>
                  <a:pt x="473" y="57"/>
                  <a:pt x="477" y="58"/>
                </a:cubicBezTo>
                <a:cubicBezTo>
                  <a:pt x="476" y="55"/>
                  <a:pt x="478" y="41"/>
                  <a:pt x="492" y="43"/>
                </a:cubicBezTo>
                <a:cubicBezTo>
                  <a:pt x="491" y="37"/>
                  <a:pt x="498" y="34"/>
                  <a:pt x="503" y="33"/>
                </a:cubicBezTo>
                <a:cubicBezTo>
                  <a:pt x="509" y="31"/>
                  <a:pt x="520" y="37"/>
                  <a:pt x="518" y="43"/>
                </a:cubicBezTo>
                <a:cubicBezTo>
                  <a:pt x="522" y="44"/>
                  <a:pt x="522" y="55"/>
                  <a:pt x="517" y="54"/>
                </a:cubicBezTo>
                <a:cubicBezTo>
                  <a:pt x="517" y="49"/>
                  <a:pt x="515" y="46"/>
                  <a:pt x="511" y="48"/>
                </a:cubicBezTo>
                <a:cubicBezTo>
                  <a:pt x="509" y="48"/>
                  <a:pt x="508" y="51"/>
                  <a:pt x="508" y="53"/>
                </a:cubicBezTo>
                <a:cubicBezTo>
                  <a:pt x="511" y="70"/>
                  <a:pt x="501" y="88"/>
                  <a:pt x="485" y="95"/>
                </a:cubicBezTo>
                <a:cubicBezTo>
                  <a:pt x="461" y="105"/>
                  <a:pt x="441" y="92"/>
                  <a:pt x="433" y="74"/>
                </a:cubicBezTo>
                <a:cubicBezTo>
                  <a:pt x="421" y="48"/>
                  <a:pt x="430" y="13"/>
                  <a:pt x="460" y="4"/>
                </a:cubicBezTo>
                <a:cubicBezTo>
                  <a:pt x="470" y="1"/>
                  <a:pt x="479" y="0"/>
                  <a:pt x="487" y="0"/>
                </a:cubicBezTo>
                <a:cubicBezTo>
                  <a:pt x="487" y="0"/>
                  <a:pt x="487" y="0"/>
                  <a:pt x="487" y="0"/>
                </a:cubicBezTo>
                <a:cubicBezTo>
                  <a:pt x="506" y="0"/>
                  <a:pt x="524" y="5"/>
                  <a:pt x="540" y="16"/>
                </a:cubicBezTo>
                <a:cubicBezTo>
                  <a:pt x="554" y="24"/>
                  <a:pt x="565" y="34"/>
                  <a:pt x="571" y="46"/>
                </a:cubicBezTo>
                <a:cubicBezTo>
                  <a:pt x="575" y="54"/>
                  <a:pt x="580" y="66"/>
                  <a:pt x="585" y="84"/>
                </a:cubicBezTo>
                <a:close/>
              </a:path>
            </a:pathLst>
          </a:custGeom>
          <a:solidFill>
            <a:srgbClr val="2c3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reeform 9"/>
          <p:cNvSpPr/>
          <p:nvPr/>
        </p:nvSpPr>
        <p:spPr>
          <a:xfrm rot="10800000">
            <a:off x="8287920" y="3454200"/>
            <a:ext cx="459000" cy="379080"/>
          </a:xfrm>
          <a:custGeom>
            <a:avLst/>
            <a:gdLst>
              <a:gd name="textAreaLeft" fmla="*/ 0 w 459000"/>
              <a:gd name="textAreaRight" fmla="*/ 459360 w 459000"/>
              <a:gd name="textAreaTop" fmla="*/ 0 h 379080"/>
              <a:gd name="textAreaBottom" fmla="*/ 379440 h 379080"/>
            </a:gdLst>
            <a:ahLst/>
            <a:rect l="textAreaLeft" t="textAreaTop" r="textAreaRight" b="textAreaBottom"/>
            <a:pathLst>
              <a:path w="600" h="493">
                <a:moveTo>
                  <a:pt x="302" y="265"/>
                </a:moveTo>
                <a:cubicBezTo>
                  <a:pt x="297" y="269"/>
                  <a:pt x="292" y="271"/>
                  <a:pt x="290" y="274"/>
                </a:cubicBezTo>
                <a:cubicBezTo>
                  <a:pt x="287" y="276"/>
                  <a:pt x="284" y="281"/>
                  <a:pt x="283" y="288"/>
                </a:cubicBezTo>
                <a:cubicBezTo>
                  <a:pt x="281" y="294"/>
                  <a:pt x="279" y="299"/>
                  <a:pt x="278" y="301"/>
                </a:cubicBezTo>
                <a:cubicBezTo>
                  <a:pt x="280" y="301"/>
                  <a:pt x="282" y="300"/>
                  <a:pt x="283" y="300"/>
                </a:cubicBezTo>
                <a:cubicBezTo>
                  <a:pt x="291" y="299"/>
                  <a:pt x="298" y="297"/>
                  <a:pt x="302" y="294"/>
                </a:cubicBezTo>
                <a:cubicBezTo>
                  <a:pt x="309" y="289"/>
                  <a:pt x="312" y="282"/>
                  <a:pt x="313" y="275"/>
                </a:cubicBezTo>
                <a:cubicBezTo>
                  <a:pt x="314" y="272"/>
                  <a:pt x="314" y="269"/>
                  <a:pt x="313" y="267"/>
                </a:cubicBezTo>
                <a:cubicBezTo>
                  <a:pt x="313" y="264"/>
                  <a:pt x="312" y="261"/>
                  <a:pt x="312" y="258"/>
                </a:cubicBezTo>
                <a:cubicBezTo>
                  <a:pt x="311" y="260"/>
                  <a:pt x="307" y="262"/>
                  <a:pt x="302" y="265"/>
                </a:cubicBezTo>
                <a:close/>
                <a:moveTo>
                  <a:pt x="585" y="84"/>
                </a:moveTo>
                <a:cubicBezTo>
                  <a:pt x="589" y="94"/>
                  <a:pt x="594" y="102"/>
                  <a:pt x="600" y="108"/>
                </a:cubicBezTo>
                <a:cubicBezTo>
                  <a:pt x="598" y="111"/>
                  <a:pt x="595" y="113"/>
                  <a:pt x="592" y="113"/>
                </a:cubicBezTo>
                <a:cubicBezTo>
                  <a:pt x="588" y="113"/>
                  <a:pt x="584" y="110"/>
                  <a:pt x="581" y="106"/>
                </a:cubicBezTo>
                <a:cubicBezTo>
                  <a:pt x="581" y="110"/>
                  <a:pt x="582" y="114"/>
                  <a:pt x="582" y="118"/>
                </a:cubicBezTo>
                <a:cubicBezTo>
                  <a:pt x="582" y="136"/>
                  <a:pt x="574" y="147"/>
                  <a:pt x="559" y="152"/>
                </a:cubicBezTo>
                <a:cubicBezTo>
                  <a:pt x="565" y="132"/>
                  <a:pt x="569" y="122"/>
                  <a:pt x="569" y="120"/>
                </a:cubicBezTo>
                <a:cubicBezTo>
                  <a:pt x="570" y="113"/>
                  <a:pt x="571" y="104"/>
                  <a:pt x="571" y="92"/>
                </a:cubicBezTo>
                <a:cubicBezTo>
                  <a:pt x="571" y="61"/>
                  <a:pt x="561" y="38"/>
                  <a:pt x="543" y="22"/>
                </a:cubicBezTo>
                <a:cubicBezTo>
                  <a:pt x="532" y="13"/>
                  <a:pt x="520" y="8"/>
                  <a:pt x="506" y="5"/>
                </a:cubicBezTo>
                <a:cubicBezTo>
                  <a:pt x="516" y="10"/>
                  <a:pt x="525" y="18"/>
                  <a:pt x="532" y="30"/>
                </a:cubicBezTo>
                <a:cubicBezTo>
                  <a:pt x="535" y="29"/>
                  <a:pt x="543" y="37"/>
                  <a:pt x="549" y="51"/>
                </a:cubicBezTo>
                <a:cubicBezTo>
                  <a:pt x="564" y="91"/>
                  <a:pt x="551" y="134"/>
                  <a:pt x="527" y="169"/>
                </a:cubicBezTo>
                <a:cubicBezTo>
                  <a:pt x="518" y="182"/>
                  <a:pt x="506" y="196"/>
                  <a:pt x="494" y="208"/>
                </a:cubicBezTo>
                <a:cubicBezTo>
                  <a:pt x="486" y="215"/>
                  <a:pt x="479" y="222"/>
                  <a:pt x="471" y="228"/>
                </a:cubicBezTo>
                <a:cubicBezTo>
                  <a:pt x="465" y="232"/>
                  <a:pt x="460" y="236"/>
                  <a:pt x="454" y="240"/>
                </a:cubicBezTo>
                <a:cubicBezTo>
                  <a:pt x="454" y="240"/>
                  <a:pt x="454" y="240"/>
                  <a:pt x="454" y="240"/>
                </a:cubicBezTo>
                <a:cubicBezTo>
                  <a:pt x="450" y="244"/>
                  <a:pt x="447" y="248"/>
                  <a:pt x="443" y="252"/>
                </a:cubicBezTo>
                <a:cubicBezTo>
                  <a:pt x="412" y="293"/>
                  <a:pt x="388" y="349"/>
                  <a:pt x="417" y="397"/>
                </a:cubicBezTo>
                <a:cubicBezTo>
                  <a:pt x="423" y="408"/>
                  <a:pt x="432" y="417"/>
                  <a:pt x="439" y="421"/>
                </a:cubicBezTo>
                <a:cubicBezTo>
                  <a:pt x="452" y="428"/>
                  <a:pt x="461" y="424"/>
                  <a:pt x="464" y="420"/>
                </a:cubicBezTo>
                <a:cubicBezTo>
                  <a:pt x="467" y="417"/>
                  <a:pt x="468" y="413"/>
                  <a:pt x="467" y="410"/>
                </a:cubicBezTo>
                <a:cubicBezTo>
                  <a:pt x="485" y="422"/>
                  <a:pt x="504" y="422"/>
                  <a:pt x="518" y="406"/>
                </a:cubicBezTo>
                <a:cubicBezTo>
                  <a:pt x="528" y="394"/>
                  <a:pt x="528" y="381"/>
                  <a:pt x="521" y="371"/>
                </a:cubicBezTo>
                <a:cubicBezTo>
                  <a:pt x="513" y="361"/>
                  <a:pt x="500" y="355"/>
                  <a:pt x="488" y="358"/>
                </a:cubicBezTo>
                <a:cubicBezTo>
                  <a:pt x="485" y="358"/>
                  <a:pt x="482" y="359"/>
                  <a:pt x="480" y="361"/>
                </a:cubicBezTo>
                <a:cubicBezTo>
                  <a:pt x="478" y="359"/>
                  <a:pt x="477" y="356"/>
                  <a:pt x="476" y="354"/>
                </a:cubicBezTo>
                <a:cubicBezTo>
                  <a:pt x="475" y="348"/>
                  <a:pt x="478" y="342"/>
                  <a:pt x="482" y="337"/>
                </a:cubicBezTo>
                <a:cubicBezTo>
                  <a:pt x="500" y="316"/>
                  <a:pt x="531" y="325"/>
                  <a:pt x="550" y="341"/>
                </a:cubicBezTo>
                <a:cubicBezTo>
                  <a:pt x="582" y="369"/>
                  <a:pt x="584" y="420"/>
                  <a:pt x="555" y="452"/>
                </a:cubicBezTo>
                <a:cubicBezTo>
                  <a:pt x="516" y="493"/>
                  <a:pt x="457" y="489"/>
                  <a:pt x="422" y="449"/>
                </a:cubicBezTo>
                <a:cubicBezTo>
                  <a:pt x="399" y="423"/>
                  <a:pt x="386" y="390"/>
                  <a:pt x="387" y="355"/>
                </a:cubicBezTo>
                <a:cubicBezTo>
                  <a:pt x="388" y="331"/>
                  <a:pt x="395" y="306"/>
                  <a:pt x="406" y="285"/>
                </a:cubicBezTo>
                <a:cubicBezTo>
                  <a:pt x="409" y="279"/>
                  <a:pt x="412" y="275"/>
                  <a:pt x="416" y="270"/>
                </a:cubicBezTo>
                <a:cubicBezTo>
                  <a:pt x="384" y="295"/>
                  <a:pt x="356" y="312"/>
                  <a:pt x="332" y="321"/>
                </a:cubicBezTo>
                <a:cubicBezTo>
                  <a:pt x="312" y="329"/>
                  <a:pt x="294" y="332"/>
                  <a:pt x="276" y="330"/>
                </a:cubicBezTo>
                <a:cubicBezTo>
                  <a:pt x="273" y="329"/>
                  <a:pt x="269" y="328"/>
                  <a:pt x="264" y="327"/>
                </a:cubicBezTo>
                <a:cubicBezTo>
                  <a:pt x="260" y="326"/>
                  <a:pt x="256" y="325"/>
                  <a:pt x="252" y="324"/>
                </a:cubicBezTo>
                <a:cubicBezTo>
                  <a:pt x="252" y="326"/>
                  <a:pt x="252" y="327"/>
                  <a:pt x="251" y="329"/>
                </a:cubicBezTo>
                <a:cubicBezTo>
                  <a:pt x="251" y="330"/>
                  <a:pt x="249" y="330"/>
                  <a:pt x="246" y="329"/>
                </a:cubicBezTo>
                <a:cubicBezTo>
                  <a:pt x="244" y="328"/>
                  <a:pt x="243" y="327"/>
                  <a:pt x="243" y="326"/>
                </a:cubicBezTo>
                <a:cubicBezTo>
                  <a:pt x="243" y="324"/>
                  <a:pt x="244" y="323"/>
                  <a:pt x="244" y="323"/>
                </a:cubicBezTo>
                <a:cubicBezTo>
                  <a:pt x="230" y="320"/>
                  <a:pt x="230" y="320"/>
                  <a:pt x="230" y="320"/>
                </a:cubicBezTo>
                <a:cubicBezTo>
                  <a:pt x="216" y="318"/>
                  <a:pt x="204" y="318"/>
                  <a:pt x="194" y="320"/>
                </a:cubicBezTo>
                <a:cubicBezTo>
                  <a:pt x="184" y="322"/>
                  <a:pt x="176" y="325"/>
                  <a:pt x="171" y="330"/>
                </a:cubicBezTo>
                <a:cubicBezTo>
                  <a:pt x="171" y="322"/>
                  <a:pt x="172" y="317"/>
                  <a:pt x="174" y="314"/>
                </a:cubicBezTo>
                <a:cubicBezTo>
                  <a:pt x="177" y="308"/>
                  <a:pt x="182" y="304"/>
                  <a:pt x="188" y="302"/>
                </a:cubicBezTo>
                <a:cubicBezTo>
                  <a:pt x="192" y="301"/>
                  <a:pt x="196" y="300"/>
                  <a:pt x="201" y="301"/>
                </a:cubicBezTo>
                <a:cubicBezTo>
                  <a:pt x="202" y="301"/>
                  <a:pt x="202" y="301"/>
                  <a:pt x="203" y="301"/>
                </a:cubicBezTo>
                <a:cubicBezTo>
                  <a:pt x="197" y="298"/>
                  <a:pt x="191" y="295"/>
                  <a:pt x="183" y="295"/>
                </a:cubicBezTo>
                <a:cubicBezTo>
                  <a:pt x="181" y="292"/>
                  <a:pt x="184" y="287"/>
                  <a:pt x="188" y="289"/>
                </a:cubicBezTo>
                <a:cubicBezTo>
                  <a:pt x="169" y="280"/>
                  <a:pt x="126" y="271"/>
                  <a:pt x="106" y="309"/>
                </a:cubicBezTo>
                <a:cubicBezTo>
                  <a:pt x="103" y="309"/>
                  <a:pt x="101" y="304"/>
                  <a:pt x="102" y="301"/>
                </a:cubicBezTo>
                <a:cubicBezTo>
                  <a:pt x="92" y="309"/>
                  <a:pt x="95" y="340"/>
                  <a:pt x="110" y="344"/>
                </a:cubicBezTo>
                <a:cubicBezTo>
                  <a:pt x="112" y="339"/>
                  <a:pt x="116" y="341"/>
                  <a:pt x="117" y="344"/>
                </a:cubicBezTo>
                <a:cubicBezTo>
                  <a:pt x="119" y="348"/>
                  <a:pt x="116" y="350"/>
                  <a:pt x="113" y="351"/>
                </a:cubicBezTo>
                <a:cubicBezTo>
                  <a:pt x="108" y="352"/>
                  <a:pt x="95" y="344"/>
                  <a:pt x="92" y="329"/>
                </a:cubicBezTo>
                <a:cubicBezTo>
                  <a:pt x="88" y="314"/>
                  <a:pt x="90" y="288"/>
                  <a:pt x="125" y="275"/>
                </a:cubicBezTo>
                <a:cubicBezTo>
                  <a:pt x="136" y="271"/>
                  <a:pt x="149" y="270"/>
                  <a:pt x="160" y="272"/>
                </a:cubicBezTo>
                <a:cubicBezTo>
                  <a:pt x="159" y="271"/>
                  <a:pt x="158" y="270"/>
                  <a:pt x="156" y="270"/>
                </a:cubicBezTo>
                <a:cubicBezTo>
                  <a:pt x="152" y="268"/>
                  <a:pt x="149" y="267"/>
                  <a:pt x="148" y="267"/>
                </a:cubicBezTo>
                <a:cubicBezTo>
                  <a:pt x="146" y="267"/>
                  <a:pt x="144" y="266"/>
                  <a:pt x="141" y="266"/>
                </a:cubicBezTo>
                <a:cubicBezTo>
                  <a:pt x="139" y="265"/>
                  <a:pt x="136" y="265"/>
                  <a:pt x="133" y="266"/>
                </a:cubicBezTo>
                <a:cubicBezTo>
                  <a:pt x="128" y="266"/>
                  <a:pt x="122" y="269"/>
                  <a:pt x="113" y="273"/>
                </a:cubicBezTo>
                <a:cubicBezTo>
                  <a:pt x="113" y="270"/>
                  <a:pt x="113" y="267"/>
                  <a:pt x="113" y="264"/>
                </a:cubicBezTo>
                <a:cubicBezTo>
                  <a:pt x="114" y="260"/>
                  <a:pt x="118" y="258"/>
                  <a:pt x="124" y="257"/>
                </a:cubicBezTo>
                <a:cubicBezTo>
                  <a:pt x="120" y="255"/>
                  <a:pt x="117" y="253"/>
                  <a:pt x="115" y="251"/>
                </a:cubicBezTo>
                <a:cubicBezTo>
                  <a:pt x="111" y="248"/>
                  <a:pt x="107" y="245"/>
                  <a:pt x="105" y="242"/>
                </a:cubicBezTo>
                <a:cubicBezTo>
                  <a:pt x="100" y="236"/>
                  <a:pt x="97" y="232"/>
                  <a:pt x="96" y="231"/>
                </a:cubicBezTo>
                <a:cubicBezTo>
                  <a:pt x="92" y="226"/>
                  <a:pt x="90" y="220"/>
                  <a:pt x="89" y="213"/>
                </a:cubicBezTo>
                <a:cubicBezTo>
                  <a:pt x="96" y="214"/>
                  <a:pt x="102" y="216"/>
                  <a:pt x="108" y="219"/>
                </a:cubicBezTo>
                <a:cubicBezTo>
                  <a:pt x="112" y="221"/>
                  <a:pt x="116" y="223"/>
                  <a:pt x="119" y="226"/>
                </a:cubicBezTo>
                <a:cubicBezTo>
                  <a:pt x="124" y="230"/>
                  <a:pt x="127" y="233"/>
                  <a:pt x="130" y="238"/>
                </a:cubicBezTo>
                <a:cubicBezTo>
                  <a:pt x="132" y="240"/>
                  <a:pt x="133" y="241"/>
                  <a:pt x="135" y="243"/>
                </a:cubicBezTo>
                <a:cubicBezTo>
                  <a:pt x="134" y="241"/>
                  <a:pt x="134" y="240"/>
                  <a:pt x="134" y="238"/>
                </a:cubicBezTo>
                <a:cubicBezTo>
                  <a:pt x="133" y="233"/>
                  <a:pt x="133" y="230"/>
                  <a:pt x="134" y="228"/>
                </a:cubicBezTo>
                <a:cubicBezTo>
                  <a:pt x="134" y="226"/>
                  <a:pt x="135" y="225"/>
                  <a:pt x="137" y="223"/>
                </a:cubicBezTo>
                <a:cubicBezTo>
                  <a:pt x="139" y="232"/>
                  <a:pt x="141" y="237"/>
                  <a:pt x="142" y="241"/>
                </a:cubicBezTo>
                <a:cubicBezTo>
                  <a:pt x="143" y="244"/>
                  <a:pt x="145" y="248"/>
                  <a:pt x="148" y="251"/>
                </a:cubicBezTo>
                <a:cubicBezTo>
                  <a:pt x="149" y="254"/>
                  <a:pt x="151" y="256"/>
                  <a:pt x="154" y="259"/>
                </a:cubicBezTo>
                <a:cubicBezTo>
                  <a:pt x="158" y="264"/>
                  <a:pt x="162" y="268"/>
                  <a:pt x="166" y="273"/>
                </a:cubicBezTo>
                <a:cubicBezTo>
                  <a:pt x="168" y="274"/>
                  <a:pt x="171" y="274"/>
                  <a:pt x="174" y="275"/>
                </a:cubicBezTo>
                <a:cubicBezTo>
                  <a:pt x="182" y="278"/>
                  <a:pt x="189" y="281"/>
                  <a:pt x="196" y="285"/>
                </a:cubicBezTo>
                <a:cubicBezTo>
                  <a:pt x="163" y="238"/>
                  <a:pt x="124" y="206"/>
                  <a:pt x="99" y="194"/>
                </a:cubicBezTo>
                <a:cubicBezTo>
                  <a:pt x="76" y="183"/>
                  <a:pt x="49" y="178"/>
                  <a:pt x="32" y="186"/>
                </a:cubicBezTo>
                <a:cubicBezTo>
                  <a:pt x="18" y="191"/>
                  <a:pt x="9" y="210"/>
                  <a:pt x="14" y="227"/>
                </a:cubicBezTo>
                <a:cubicBezTo>
                  <a:pt x="20" y="245"/>
                  <a:pt x="33" y="258"/>
                  <a:pt x="53" y="254"/>
                </a:cubicBezTo>
                <a:cubicBezTo>
                  <a:pt x="64" y="252"/>
                  <a:pt x="72" y="239"/>
                  <a:pt x="67" y="228"/>
                </a:cubicBezTo>
                <a:cubicBezTo>
                  <a:pt x="65" y="225"/>
                  <a:pt x="63" y="222"/>
                  <a:pt x="60" y="221"/>
                </a:cubicBezTo>
                <a:cubicBezTo>
                  <a:pt x="57" y="224"/>
                  <a:pt x="56" y="232"/>
                  <a:pt x="47" y="229"/>
                </a:cubicBezTo>
                <a:cubicBezTo>
                  <a:pt x="44" y="228"/>
                  <a:pt x="42" y="224"/>
                  <a:pt x="42" y="221"/>
                </a:cubicBezTo>
                <a:cubicBezTo>
                  <a:pt x="42" y="214"/>
                  <a:pt x="47" y="210"/>
                  <a:pt x="54" y="209"/>
                </a:cubicBezTo>
                <a:cubicBezTo>
                  <a:pt x="64" y="207"/>
                  <a:pt x="73" y="216"/>
                  <a:pt x="76" y="225"/>
                </a:cubicBezTo>
                <a:cubicBezTo>
                  <a:pt x="81" y="240"/>
                  <a:pt x="75" y="259"/>
                  <a:pt x="59" y="264"/>
                </a:cubicBezTo>
                <a:cubicBezTo>
                  <a:pt x="34" y="272"/>
                  <a:pt x="15" y="257"/>
                  <a:pt x="6" y="229"/>
                </a:cubicBezTo>
                <a:cubicBezTo>
                  <a:pt x="0" y="209"/>
                  <a:pt x="8" y="184"/>
                  <a:pt x="28" y="175"/>
                </a:cubicBezTo>
                <a:cubicBezTo>
                  <a:pt x="44" y="168"/>
                  <a:pt x="69" y="167"/>
                  <a:pt x="101" y="186"/>
                </a:cubicBezTo>
                <a:cubicBezTo>
                  <a:pt x="128" y="201"/>
                  <a:pt x="158" y="226"/>
                  <a:pt x="184" y="257"/>
                </a:cubicBezTo>
                <a:cubicBezTo>
                  <a:pt x="181" y="245"/>
                  <a:pt x="180" y="233"/>
                  <a:pt x="181" y="220"/>
                </a:cubicBezTo>
                <a:cubicBezTo>
                  <a:pt x="184" y="198"/>
                  <a:pt x="194" y="180"/>
                  <a:pt x="212" y="167"/>
                </a:cubicBezTo>
                <a:cubicBezTo>
                  <a:pt x="229" y="154"/>
                  <a:pt x="251" y="149"/>
                  <a:pt x="277" y="153"/>
                </a:cubicBezTo>
                <a:cubicBezTo>
                  <a:pt x="288" y="154"/>
                  <a:pt x="298" y="158"/>
                  <a:pt x="306" y="165"/>
                </a:cubicBezTo>
                <a:cubicBezTo>
                  <a:pt x="317" y="174"/>
                  <a:pt x="324" y="185"/>
                  <a:pt x="328" y="198"/>
                </a:cubicBezTo>
                <a:cubicBezTo>
                  <a:pt x="329" y="203"/>
                  <a:pt x="330" y="210"/>
                  <a:pt x="330" y="219"/>
                </a:cubicBezTo>
                <a:cubicBezTo>
                  <a:pt x="330" y="228"/>
                  <a:pt x="331" y="235"/>
                  <a:pt x="332" y="239"/>
                </a:cubicBezTo>
                <a:cubicBezTo>
                  <a:pt x="334" y="250"/>
                  <a:pt x="339" y="256"/>
                  <a:pt x="347" y="257"/>
                </a:cubicBezTo>
                <a:cubicBezTo>
                  <a:pt x="353" y="257"/>
                  <a:pt x="358" y="257"/>
                  <a:pt x="361" y="254"/>
                </a:cubicBezTo>
                <a:cubicBezTo>
                  <a:pt x="365" y="252"/>
                  <a:pt x="368" y="247"/>
                  <a:pt x="370" y="240"/>
                </a:cubicBezTo>
                <a:cubicBezTo>
                  <a:pt x="374" y="245"/>
                  <a:pt x="375" y="252"/>
                  <a:pt x="374" y="259"/>
                </a:cubicBezTo>
                <a:cubicBezTo>
                  <a:pt x="373" y="265"/>
                  <a:pt x="371" y="270"/>
                  <a:pt x="366" y="274"/>
                </a:cubicBezTo>
                <a:cubicBezTo>
                  <a:pt x="362" y="278"/>
                  <a:pt x="356" y="280"/>
                  <a:pt x="349" y="279"/>
                </a:cubicBezTo>
                <a:cubicBezTo>
                  <a:pt x="340" y="278"/>
                  <a:pt x="333" y="272"/>
                  <a:pt x="328" y="263"/>
                </a:cubicBezTo>
                <a:cubicBezTo>
                  <a:pt x="322" y="254"/>
                  <a:pt x="321" y="246"/>
                  <a:pt x="323" y="238"/>
                </a:cubicBezTo>
                <a:cubicBezTo>
                  <a:pt x="317" y="247"/>
                  <a:pt x="310" y="254"/>
                  <a:pt x="302" y="258"/>
                </a:cubicBezTo>
                <a:cubicBezTo>
                  <a:pt x="292" y="264"/>
                  <a:pt x="282" y="266"/>
                  <a:pt x="271" y="265"/>
                </a:cubicBezTo>
                <a:cubicBezTo>
                  <a:pt x="260" y="263"/>
                  <a:pt x="252" y="259"/>
                  <a:pt x="246" y="250"/>
                </a:cubicBezTo>
                <a:cubicBezTo>
                  <a:pt x="240" y="242"/>
                  <a:pt x="238" y="233"/>
                  <a:pt x="239" y="224"/>
                </a:cubicBezTo>
                <a:cubicBezTo>
                  <a:pt x="240" y="214"/>
                  <a:pt x="243" y="206"/>
                  <a:pt x="249" y="200"/>
                </a:cubicBezTo>
                <a:cubicBezTo>
                  <a:pt x="255" y="194"/>
                  <a:pt x="263" y="191"/>
                  <a:pt x="273" y="192"/>
                </a:cubicBezTo>
                <a:cubicBezTo>
                  <a:pt x="277" y="193"/>
                  <a:pt x="280" y="195"/>
                  <a:pt x="283" y="198"/>
                </a:cubicBezTo>
                <a:cubicBezTo>
                  <a:pt x="287" y="202"/>
                  <a:pt x="289" y="208"/>
                  <a:pt x="288" y="214"/>
                </a:cubicBezTo>
                <a:cubicBezTo>
                  <a:pt x="287" y="221"/>
                  <a:pt x="283" y="226"/>
                  <a:pt x="275" y="227"/>
                </a:cubicBezTo>
                <a:cubicBezTo>
                  <a:pt x="274" y="227"/>
                  <a:pt x="272" y="227"/>
                  <a:pt x="269" y="227"/>
                </a:cubicBezTo>
                <a:cubicBezTo>
                  <a:pt x="270" y="226"/>
                  <a:pt x="270" y="225"/>
                  <a:pt x="270" y="222"/>
                </a:cubicBezTo>
                <a:cubicBezTo>
                  <a:pt x="271" y="218"/>
                  <a:pt x="270" y="214"/>
                  <a:pt x="269" y="212"/>
                </a:cubicBezTo>
                <a:cubicBezTo>
                  <a:pt x="267" y="210"/>
                  <a:pt x="264" y="209"/>
                  <a:pt x="261" y="209"/>
                </a:cubicBezTo>
                <a:cubicBezTo>
                  <a:pt x="257" y="208"/>
                  <a:pt x="254" y="210"/>
                  <a:pt x="251" y="213"/>
                </a:cubicBezTo>
                <a:cubicBezTo>
                  <a:pt x="247" y="216"/>
                  <a:pt x="245" y="220"/>
                  <a:pt x="245" y="224"/>
                </a:cubicBezTo>
                <a:cubicBezTo>
                  <a:pt x="244" y="233"/>
                  <a:pt x="245" y="241"/>
                  <a:pt x="249" y="247"/>
                </a:cubicBezTo>
                <a:cubicBezTo>
                  <a:pt x="255" y="254"/>
                  <a:pt x="262" y="259"/>
                  <a:pt x="272" y="260"/>
                </a:cubicBezTo>
                <a:cubicBezTo>
                  <a:pt x="284" y="261"/>
                  <a:pt x="295" y="258"/>
                  <a:pt x="305" y="251"/>
                </a:cubicBezTo>
                <a:cubicBezTo>
                  <a:pt x="315" y="244"/>
                  <a:pt x="321" y="233"/>
                  <a:pt x="323" y="220"/>
                </a:cubicBezTo>
                <a:cubicBezTo>
                  <a:pt x="325" y="203"/>
                  <a:pt x="320" y="188"/>
                  <a:pt x="309" y="176"/>
                </a:cubicBezTo>
                <a:cubicBezTo>
                  <a:pt x="299" y="165"/>
                  <a:pt x="288" y="159"/>
                  <a:pt x="274" y="158"/>
                </a:cubicBezTo>
                <a:cubicBezTo>
                  <a:pt x="247" y="154"/>
                  <a:pt x="227" y="161"/>
                  <a:pt x="212" y="177"/>
                </a:cubicBezTo>
                <a:cubicBezTo>
                  <a:pt x="200" y="189"/>
                  <a:pt x="194" y="204"/>
                  <a:pt x="192" y="222"/>
                </a:cubicBezTo>
                <a:cubicBezTo>
                  <a:pt x="189" y="244"/>
                  <a:pt x="193" y="264"/>
                  <a:pt x="203" y="280"/>
                </a:cubicBezTo>
                <a:cubicBezTo>
                  <a:pt x="211" y="293"/>
                  <a:pt x="220" y="302"/>
                  <a:pt x="232" y="310"/>
                </a:cubicBezTo>
                <a:cubicBezTo>
                  <a:pt x="237" y="313"/>
                  <a:pt x="242" y="314"/>
                  <a:pt x="245" y="315"/>
                </a:cubicBezTo>
                <a:cubicBezTo>
                  <a:pt x="245" y="311"/>
                  <a:pt x="247" y="310"/>
                  <a:pt x="250" y="310"/>
                </a:cubicBezTo>
                <a:cubicBezTo>
                  <a:pt x="254" y="311"/>
                  <a:pt x="256" y="313"/>
                  <a:pt x="254" y="318"/>
                </a:cubicBezTo>
                <a:cubicBezTo>
                  <a:pt x="262" y="320"/>
                  <a:pt x="269" y="322"/>
                  <a:pt x="275" y="322"/>
                </a:cubicBezTo>
                <a:cubicBezTo>
                  <a:pt x="298" y="325"/>
                  <a:pt x="323" y="320"/>
                  <a:pt x="349" y="307"/>
                </a:cubicBezTo>
                <a:cubicBezTo>
                  <a:pt x="369" y="298"/>
                  <a:pt x="392" y="283"/>
                  <a:pt x="418" y="261"/>
                </a:cubicBezTo>
                <a:cubicBezTo>
                  <a:pt x="425" y="255"/>
                  <a:pt x="432" y="249"/>
                  <a:pt x="438" y="244"/>
                </a:cubicBezTo>
                <a:cubicBezTo>
                  <a:pt x="439" y="243"/>
                  <a:pt x="439" y="243"/>
                  <a:pt x="439" y="242"/>
                </a:cubicBezTo>
                <a:cubicBezTo>
                  <a:pt x="430" y="245"/>
                  <a:pt x="420" y="247"/>
                  <a:pt x="410" y="247"/>
                </a:cubicBezTo>
                <a:cubicBezTo>
                  <a:pt x="386" y="247"/>
                  <a:pt x="364" y="237"/>
                  <a:pt x="347" y="221"/>
                </a:cubicBezTo>
                <a:cubicBezTo>
                  <a:pt x="319" y="196"/>
                  <a:pt x="318" y="155"/>
                  <a:pt x="347" y="130"/>
                </a:cubicBezTo>
                <a:cubicBezTo>
                  <a:pt x="370" y="110"/>
                  <a:pt x="404" y="113"/>
                  <a:pt x="423" y="135"/>
                </a:cubicBezTo>
                <a:cubicBezTo>
                  <a:pt x="434" y="149"/>
                  <a:pt x="439" y="170"/>
                  <a:pt x="425" y="182"/>
                </a:cubicBezTo>
                <a:cubicBezTo>
                  <a:pt x="421" y="185"/>
                  <a:pt x="417" y="186"/>
                  <a:pt x="413" y="185"/>
                </a:cubicBezTo>
                <a:cubicBezTo>
                  <a:pt x="411" y="185"/>
                  <a:pt x="410" y="184"/>
                  <a:pt x="408" y="182"/>
                </a:cubicBezTo>
                <a:cubicBezTo>
                  <a:pt x="409" y="181"/>
                  <a:pt x="410" y="180"/>
                  <a:pt x="411" y="178"/>
                </a:cubicBezTo>
                <a:cubicBezTo>
                  <a:pt x="412" y="169"/>
                  <a:pt x="408" y="160"/>
                  <a:pt x="402" y="155"/>
                </a:cubicBezTo>
                <a:cubicBezTo>
                  <a:pt x="395" y="149"/>
                  <a:pt x="387" y="149"/>
                  <a:pt x="378" y="156"/>
                </a:cubicBezTo>
                <a:cubicBezTo>
                  <a:pt x="367" y="165"/>
                  <a:pt x="366" y="179"/>
                  <a:pt x="375" y="191"/>
                </a:cubicBezTo>
                <a:cubicBezTo>
                  <a:pt x="372" y="190"/>
                  <a:pt x="369" y="190"/>
                  <a:pt x="367" y="192"/>
                </a:cubicBezTo>
                <a:cubicBezTo>
                  <a:pt x="365" y="195"/>
                  <a:pt x="361" y="201"/>
                  <a:pt x="366" y="210"/>
                </a:cubicBezTo>
                <a:cubicBezTo>
                  <a:pt x="369" y="215"/>
                  <a:pt x="375" y="221"/>
                  <a:pt x="382" y="225"/>
                </a:cubicBezTo>
                <a:cubicBezTo>
                  <a:pt x="407" y="241"/>
                  <a:pt x="436" y="236"/>
                  <a:pt x="462" y="223"/>
                </a:cubicBezTo>
                <a:cubicBezTo>
                  <a:pt x="467" y="218"/>
                  <a:pt x="473" y="214"/>
                  <a:pt x="478" y="211"/>
                </a:cubicBezTo>
                <a:cubicBezTo>
                  <a:pt x="493" y="197"/>
                  <a:pt x="506" y="182"/>
                  <a:pt x="516" y="168"/>
                </a:cubicBezTo>
                <a:cubicBezTo>
                  <a:pt x="539" y="135"/>
                  <a:pt x="549" y="94"/>
                  <a:pt x="537" y="56"/>
                </a:cubicBezTo>
                <a:cubicBezTo>
                  <a:pt x="531" y="37"/>
                  <a:pt x="520" y="21"/>
                  <a:pt x="501" y="14"/>
                </a:cubicBezTo>
                <a:cubicBezTo>
                  <a:pt x="478" y="6"/>
                  <a:pt x="461" y="18"/>
                  <a:pt x="458" y="21"/>
                </a:cubicBezTo>
                <a:cubicBezTo>
                  <a:pt x="455" y="21"/>
                  <a:pt x="454" y="13"/>
                  <a:pt x="460" y="9"/>
                </a:cubicBezTo>
                <a:cubicBezTo>
                  <a:pt x="449" y="17"/>
                  <a:pt x="438" y="25"/>
                  <a:pt x="440" y="43"/>
                </a:cubicBezTo>
                <a:cubicBezTo>
                  <a:pt x="441" y="61"/>
                  <a:pt x="453" y="69"/>
                  <a:pt x="458" y="64"/>
                </a:cubicBezTo>
                <a:cubicBezTo>
                  <a:pt x="460" y="62"/>
                  <a:pt x="456" y="60"/>
                  <a:pt x="459" y="59"/>
                </a:cubicBezTo>
                <a:cubicBezTo>
                  <a:pt x="462" y="58"/>
                  <a:pt x="462" y="62"/>
                  <a:pt x="462" y="64"/>
                </a:cubicBezTo>
                <a:cubicBezTo>
                  <a:pt x="462" y="68"/>
                  <a:pt x="446" y="78"/>
                  <a:pt x="436" y="52"/>
                </a:cubicBezTo>
                <a:cubicBezTo>
                  <a:pt x="438" y="61"/>
                  <a:pt x="442" y="72"/>
                  <a:pt x="448" y="79"/>
                </a:cubicBezTo>
                <a:cubicBezTo>
                  <a:pt x="454" y="86"/>
                  <a:pt x="464" y="90"/>
                  <a:pt x="473" y="87"/>
                </a:cubicBezTo>
                <a:cubicBezTo>
                  <a:pt x="481" y="85"/>
                  <a:pt x="486" y="76"/>
                  <a:pt x="482" y="69"/>
                </a:cubicBezTo>
                <a:cubicBezTo>
                  <a:pt x="481" y="67"/>
                  <a:pt x="480" y="65"/>
                  <a:pt x="478" y="63"/>
                </a:cubicBezTo>
                <a:cubicBezTo>
                  <a:pt x="475" y="60"/>
                  <a:pt x="472" y="63"/>
                  <a:pt x="472" y="64"/>
                </a:cubicBezTo>
                <a:cubicBezTo>
                  <a:pt x="472" y="66"/>
                  <a:pt x="467" y="68"/>
                  <a:pt x="467" y="64"/>
                </a:cubicBezTo>
                <a:cubicBezTo>
                  <a:pt x="466" y="59"/>
                  <a:pt x="473" y="57"/>
                  <a:pt x="477" y="58"/>
                </a:cubicBezTo>
                <a:cubicBezTo>
                  <a:pt x="476" y="55"/>
                  <a:pt x="478" y="41"/>
                  <a:pt x="492" y="43"/>
                </a:cubicBezTo>
                <a:cubicBezTo>
                  <a:pt x="491" y="37"/>
                  <a:pt x="498" y="34"/>
                  <a:pt x="503" y="33"/>
                </a:cubicBezTo>
                <a:cubicBezTo>
                  <a:pt x="509" y="31"/>
                  <a:pt x="520" y="37"/>
                  <a:pt x="518" y="43"/>
                </a:cubicBezTo>
                <a:cubicBezTo>
                  <a:pt x="522" y="44"/>
                  <a:pt x="522" y="55"/>
                  <a:pt x="517" y="54"/>
                </a:cubicBezTo>
                <a:cubicBezTo>
                  <a:pt x="517" y="49"/>
                  <a:pt x="515" y="46"/>
                  <a:pt x="511" y="48"/>
                </a:cubicBezTo>
                <a:cubicBezTo>
                  <a:pt x="509" y="48"/>
                  <a:pt x="508" y="51"/>
                  <a:pt x="508" y="53"/>
                </a:cubicBezTo>
                <a:cubicBezTo>
                  <a:pt x="511" y="70"/>
                  <a:pt x="501" y="88"/>
                  <a:pt x="485" y="95"/>
                </a:cubicBezTo>
                <a:cubicBezTo>
                  <a:pt x="461" y="105"/>
                  <a:pt x="441" y="92"/>
                  <a:pt x="433" y="74"/>
                </a:cubicBezTo>
                <a:cubicBezTo>
                  <a:pt x="421" y="48"/>
                  <a:pt x="430" y="13"/>
                  <a:pt x="460" y="4"/>
                </a:cubicBezTo>
                <a:cubicBezTo>
                  <a:pt x="470" y="1"/>
                  <a:pt x="479" y="0"/>
                  <a:pt x="487" y="0"/>
                </a:cubicBezTo>
                <a:cubicBezTo>
                  <a:pt x="487" y="0"/>
                  <a:pt x="487" y="0"/>
                  <a:pt x="487" y="0"/>
                </a:cubicBezTo>
                <a:cubicBezTo>
                  <a:pt x="506" y="0"/>
                  <a:pt x="524" y="5"/>
                  <a:pt x="540" y="16"/>
                </a:cubicBezTo>
                <a:cubicBezTo>
                  <a:pt x="554" y="24"/>
                  <a:pt x="565" y="34"/>
                  <a:pt x="571" y="46"/>
                </a:cubicBezTo>
                <a:cubicBezTo>
                  <a:pt x="575" y="54"/>
                  <a:pt x="580" y="66"/>
                  <a:pt x="585" y="84"/>
                </a:cubicBezTo>
                <a:close/>
              </a:path>
            </a:pathLst>
          </a:custGeom>
          <a:solidFill>
            <a:srgbClr val="2c3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reeform 10428"/>
          <p:cNvSpPr/>
          <p:nvPr/>
        </p:nvSpPr>
        <p:spPr>
          <a:xfrm>
            <a:off x="5778360" y="1460520"/>
            <a:ext cx="897120" cy="838080"/>
          </a:xfrm>
          <a:prstGeom prst="pie">
            <a:avLst/>
          </a:prstGeom>
          <a:solidFill>
            <a:srgbClr val="2c3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李旭科书法"/>
                <a:ea typeface="李旭科书法"/>
              </a:rPr>
              <a:t>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10428"/>
          <p:cNvSpPr/>
          <p:nvPr/>
        </p:nvSpPr>
        <p:spPr>
          <a:xfrm>
            <a:off x="5778360" y="2494080"/>
            <a:ext cx="897120" cy="838080"/>
          </a:xfrm>
          <a:prstGeom prst="pie">
            <a:avLst/>
          </a:prstGeom>
          <a:solidFill>
            <a:srgbClr val="2c3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李旭科书法"/>
                <a:ea typeface="李旭科书法"/>
              </a:rPr>
              <a:t>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10428"/>
          <p:cNvSpPr/>
          <p:nvPr/>
        </p:nvSpPr>
        <p:spPr>
          <a:xfrm>
            <a:off x="5778360" y="3525840"/>
            <a:ext cx="897120" cy="838080"/>
          </a:xfrm>
          <a:prstGeom prst="pie">
            <a:avLst/>
          </a:prstGeom>
          <a:solidFill>
            <a:srgbClr val="2c3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李旭科书法"/>
                <a:ea typeface="李旭科书法"/>
              </a:rPr>
              <a:t>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10428"/>
          <p:cNvSpPr/>
          <p:nvPr/>
        </p:nvSpPr>
        <p:spPr>
          <a:xfrm>
            <a:off x="5778360" y="4559400"/>
            <a:ext cx="897120" cy="838080"/>
          </a:xfrm>
          <a:prstGeom prst="pie">
            <a:avLst/>
          </a:prstGeom>
          <a:solidFill>
            <a:srgbClr val="2c3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李旭科书法"/>
                <a:ea typeface="李旭科书法"/>
              </a:rPr>
              <a:t>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文本框 799"/>
          <p:cNvSpPr/>
          <p:nvPr/>
        </p:nvSpPr>
        <p:spPr>
          <a:xfrm>
            <a:off x="7533000" y="152784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d5070"/>
                </a:solidFill>
                <a:latin typeface="李旭科书法"/>
                <a:ea typeface="李旭科书法"/>
              </a:rPr>
              <a:t>请在此处添加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文本框 799"/>
          <p:cNvSpPr/>
          <p:nvPr/>
        </p:nvSpPr>
        <p:spPr>
          <a:xfrm>
            <a:off x="7533000" y="256104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d5070"/>
                </a:solidFill>
                <a:latin typeface="李旭科书法"/>
                <a:ea typeface="李旭科书法"/>
              </a:rPr>
              <a:t>请在此处添加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本框 799"/>
          <p:cNvSpPr/>
          <p:nvPr/>
        </p:nvSpPr>
        <p:spPr>
          <a:xfrm>
            <a:off x="7533000" y="359316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d5070"/>
                </a:solidFill>
                <a:latin typeface="李旭科书法"/>
                <a:ea typeface="李旭科书法"/>
              </a:rPr>
              <a:t>请在此处添加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文本框 799"/>
          <p:cNvSpPr/>
          <p:nvPr/>
        </p:nvSpPr>
        <p:spPr>
          <a:xfrm>
            <a:off x="7533000" y="462672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d5070"/>
                </a:solidFill>
                <a:latin typeface="李旭科书法"/>
                <a:ea typeface="李旭科书法"/>
              </a:rPr>
              <a:t>请在此处添加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5638680" y="2211120"/>
            <a:ext cx="914400" cy="112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李旭科书法"/>
                <a:ea typeface="李旭科书法"/>
              </a:rPr>
              <a:t>壹</a:t>
            </a:r>
            <a:endParaRPr b="0" lang="en-US" sz="8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709720" y="3998880"/>
            <a:ext cx="67723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d5070"/>
                </a:solidFill>
                <a:latin typeface="李旭科书法"/>
                <a:ea typeface="李旭科书法"/>
              </a:rPr>
              <a:t>请在此处添加标题</a:t>
            </a:r>
            <a:endParaRPr b="0" lang="en-US" sz="5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307440" y="318960"/>
            <a:ext cx="6432840" cy="5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6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d5070"/>
                </a:solidFill>
                <a:latin typeface="李旭科书法"/>
                <a:ea typeface="李旭科书法"/>
              </a:rPr>
              <a:t>请在此处添加标题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91" name="Freeform 173"/>
          <p:cNvSpPr/>
          <p:nvPr/>
        </p:nvSpPr>
        <p:spPr>
          <a:xfrm rot="5400000">
            <a:off x="8982000" y="5025960"/>
            <a:ext cx="1523880" cy="60624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606240"/>
              <a:gd name="textAreaBottom" fmla="*/ 606600 h 606240"/>
            </a:gdLst>
            <a:ahLst/>
            <a:rect l="textAreaLeft" t="textAreaTop" r="textAreaRight" b="textAreaBottom"/>
            <a:pathLst>
              <a:path w="419" h="71">
                <a:moveTo>
                  <a:pt x="313" y="63"/>
                </a:moveTo>
                <a:cubicBezTo>
                  <a:pt x="313" y="62"/>
                  <a:pt x="313" y="62"/>
                  <a:pt x="313" y="62"/>
                </a:cubicBezTo>
                <a:cubicBezTo>
                  <a:pt x="317" y="62"/>
                  <a:pt x="321" y="62"/>
                  <a:pt x="325" y="62"/>
                </a:cubicBezTo>
                <a:cubicBezTo>
                  <a:pt x="326" y="62"/>
                  <a:pt x="326" y="62"/>
                  <a:pt x="326" y="62"/>
                </a:cubicBezTo>
                <a:cubicBezTo>
                  <a:pt x="325" y="62"/>
                  <a:pt x="323" y="62"/>
                  <a:pt x="322" y="61"/>
                </a:cubicBezTo>
                <a:cubicBezTo>
                  <a:pt x="353" y="61"/>
                  <a:pt x="353" y="61"/>
                  <a:pt x="353" y="61"/>
                </a:cubicBezTo>
                <a:cubicBezTo>
                  <a:pt x="355" y="61"/>
                  <a:pt x="355" y="61"/>
                  <a:pt x="355" y="61"/>
                </a:cubicBezTo>
                <a:cubicBezTo>
                  <a:pt x="372" y="61"/>
                  <a:pt x="390" y="62"/>
                  <a:pt x="406" y="61"/>
                </a:cubicBezTo>
                <a:cubicBezTo>
                  <a:pt x="404" y="60"/>
                  <a:pt x="404" y="60"/>
                  <a:pt x="404" y="60"/>
                </a:cubicBezTo>
                <a:cubicBezTo>
                  <a:pt x="409" y="60"/>
                  <a:pt x="415" y="60"/>
                  <a:pt x="419" y="59"/>
                </a:cubicBezTo>
                <a:cubicBezTo>
                  <a:pt x="384" y="58"/>
                  <a:pt x="349" y="60"/>
                  <a:pt x="316" y="57"/>
                </a:cubicBezTo>
                <a:cubicBezTo>
                  <a:pt x="316" y="57"/>
                  <a:pt x="317" y="57"/>
                  <a:pt x="317" y="56"/>
                </a:cubicBezTo>
                <a:cubicBezTo>
                  <a:pt x="349" y="56"/>
                  <a:pt x="382" y="59"/>
                  <a:pt x="414" y="57"/>
                </a:cubicBezTo>
                <a:cubicBezTo>
                  <a:pt x="405" y="56"/>
                  <a:pt x="394" y="56"/>
                  <a:pt x="385" y="55"/>
                </a:cubicBezTo>
                <a:cubicBezTo>
                  <a:pt x="385" y="55"/>
                  <a:pt x="385" y="55"/>
                  <a:pt x="385" y="55"/>
                </a:cubicBezTo>
                <a:cubicBezTo>
                  <a:pt x="400" y="55"/>
                  <a:pt x="400" y="55"/>
                  <a:pt x="400" y="55"/>
                </a:cubicBezTo>
                <a:cubicBezTo>
                  <a:pt x="377" y="54"/>
                  <a:pt x="377" y="54"/>
                  <a:pt x="377" y="54"/>
                </a:cubicBezTo>
                <a:cubicBezTo>
                  <a:pt x="377" y="55"/>
                  <a:pt x="378" y="55"/>
                  <a:pt x="377" y="55"/>
                </a:cubicBezTo>
                <a:cubicBezTo>
                  <a:pt x="376" y="55"/>
                  <a:pt x="374" y="55"/>
                  <a:pt x="374" y="54"/>
                </a:cubicBezTo>
                <a:cubicBezTo>
                  <a:pt x="373" y="55"/>
                  <a:pt x="371" y="54"/>
                  <a:pt x="371" y="55"/>
                </a:cubicBezTo>
                <a:cubicBezTo>
                  <a:pt x="363" y="55"/>
                  <a:pt x="354" y="54"/>
                  <a:pt x="344" y="54"/>
                </a:cubicBezTo>
                <a:cubicBezTo>
                  <a:pt x="343" y="53"/>
                  <a:pt x="343" y="53"/>
                  <a:pt x="343" y="53"/>
                </a:cubicBezTo>
                <a:cubicBezTo>
                  <a:pt x="345" y="53"/>
                  <a:pt x="345" y="53"/>
                  <a:pt x="345" y="53"/>
                </a:cubicBezTo>
                <a:cubicBezTo>
                  <a:pt x="365" y="53"/>
                  <a:pt x="385" y="54"/>
                  <a:pt x="403" y="53"/>
                </a:cubicBezTo>
                <a:cubicBezTo>
                  <a:pt x="379" y="52"/>
                  <a:pt x="353" y="52"/>
                  <a:pt x="329" y="50"/>
                </a:cubicBezTo>
                <a:cubicBezTo>
                  <a:pt x="349" y="50"/>
                  <a:pt x="370" y="51"/>
                  <a:pt x="391" y="51"/>
                </a:cubicBezTo>
                <a:cubicBezTo>
                  <a:pt x="393" y="50"/>
                  <a:pt x="393" y="50"/>
                  <a:pt x="393" y="50"/>
                </a:cubicBezTo>
                <a:cubicBezTo>
                  <a:pt x="408" y="50"/>
                  <a:pt x="408" y="50"/>
                  <a:pt x="408" y="50"/>
                </a:cubicBezTo>
                <a:cubicBezTo>
                  <a:pt x="384" y="49"/>
                  <a:pt x="359" y="48"/>
                  <a:pt x="334" y="48"/>
                </a:cubicBezTo>
                <a:cubicBezTo>
                  <a:pt x="335" y="47"/>
                  <a:pt x="336" y="47"/>
                  <a:pt x="337" y="47"/>
                </a:cubicBezTo>
                <a:cubicBezTo>
                  <a:pt x="359" y="48"/>
                  <a:pt x="381" y="49"/>
                  <a:pt x="403" y="48"/>
                </a:cubicBezTo>
                <a:cubicBezTo>
                  <a:pt x="397" y="48"/>
                  <a:pt x="391" y="47"/>
                  <a:pt x="385" y="46"/>
                </a:cubicBezTo>
                <a:cubicBezTo>
                  <a:pt x="388" y="45"/>
                  <a:pt x="393" y="47"/>
                  <a:pt x="397" y="46"/>
                </a:cubicBezTo>
                <a:cubicBezTo>
                  <a:pt x="388" y="45"/>
                  <a:pt x="388" y="45"/>
                  <a:pt x="388" y="45"/>
                </a:cubicBezTo>
                <a:cubicBezTo>
                  <a:pt x="386" y="43"/>
                  <a:pt x="380" y="45"/>
                  <a:pt x="377" y="43"/>
                </a:cubicBezTo>
                <a:cubicBezTo>
                  <a:pt x="381" y="43"/>
                  <a:pt x="381" y="43"/>
                  <a:pt x="381" y="43"/>
                </a:cubicBezTo>
                <a:cubicBezTo>
                  <a:pt x="359" y="41"/>
                  <a:pt x="359" y="41"/>
                  <a:pt x="359" y="41"/>
                </a:cubicBezTo>
                <a:cubicBezTo>
                  <a:pt x="389" y="41"/>
                  <a:pt x="389" y="41"/>
                  <a:pt x="389" y="41"/>
                </a:cubicBezTo>
                <a:cubicBezTo>
                  <a:pt x="391" y="39"/>
                  <a:pt x="396" y="41"/>
                  <a:pt x="398" y="40"/>
                </a:cubicBezTo>
                <a:cubicBezTo>
                  <a:pt x="378" y="39"/>
                  <a:pt x="378" y="39"/>
                  <a:pt x="378" y="39"/>
                </a:cubicBezTo>
                <a:cubicBezTo>
                  <a:pt x="377" y="39"/>
                  <a:pt x="377" y="39"/>
                  <a:pt x="377" y="39"/>
                </a:cubicBezTo>
                <a:cubicBezTo>
                  <a:pt x="381" y="38"/>
                  <a:pt x="386" y="40"/>
                  <a:pt x="391" y="39"/>
                </a:cubicBezTo>
                <a:cubicBezTo>
                  <a:pt x="395" y="38"/>
                  <a:pt x="400" y="39"/>
                  <a:pt x="404" y="38"/>
                </a:cubicBezTo>
                <a:cubicBezTo>
                  <a:pt x="378" y="38"/>
                  <a:pt x="355" y="36"/>
                  <a:pt x="329" y="35"/>
                </a:cubicBezTo>
                <a:cubicBezTo>
                  <a:pt x="328" y="35"/>
                  <a:pt x="328" y="35"/>
                  <a:pt x="328" y="35"/>
                </a:cubicBezTo>
                <a:cubicBezTo>
                  <a:pt x="328" y="34"/>
                  <a:pt x="329" y="35"/>
                  <a:pt x="330" y="35"/>
                </a:cubicBezTo>
                <a:cubicBezTo>
                  <a:pt x="324" y="33"/>
                  <a:pt x="316" y="34"/>
                  <a:pt x="309" y="33"/>
                </a:cubicBezTo>
                <a:cubicBezTo>
                  <a:pt x="331" y="32"/>
                  <a:pt x="354" y="35"/>
                  <a:pt x="377" y="34"/>
                </a:cubicBezTo>
                <a:cubicBezTo>
                  <a:pt x="357" y="32"/>
                  <a:pt x="335" y="32"/>
                  <a:pt x="314" y="31"/>
                </a:cubicBezTo>
                <a:cubicBezTo>
                  <a:pt x="317" y="30"/>
                  <a:pt x="322" y="31"/>
                  <a:pt x="325" y="30"/>
                </a:cubicBezTo>
                <a:cubicBezTo>
                  <a:pt x="329" y="31"/>
                  <a:pt x="333" y="31"/>
                  <a:pt x="337" y="31"/>
                </a:cubicBezTo>
                <a:cubicBezTo>
                  <a:pt x="331" y="29"/>
                  <a:pt x="325" y="31"/>
                  <a:pt x="320" y="30"/>
                </a:cubicBezTo>
                <a:cubicBezTo>
                  <a:pt x="335" y="28"/>
                  <a:pt x="349" y="31"/>
                  <a:pt x="364" y="30"/>
                </a:cubicBezTo>
                <a:cubicBezTo>
                  <a:pt x="349" y="29"/>
                  <a:pt x="349" y="29"/>
                  <a:pt x="349" y="29"/>
                </a:cubicBezTo>
                <a:cubicBezTo>
                  <a:pt x="344" y="27"/>
                  <a:pt x="337" y="29"/>
                  <a:pt x="333" y="27"/>
                </a:cubicBezTo>
                <a:cubicBezTo>
                  <a:pt x="346" y="26"/>
                  <a:pt x="358" y="27"/>
                  <a:pt x="370" y="28"/>
                </a:cubicBezTo>
                <a:cubicBezTo>
                  <a:pt x="367" y="28"/>
                  <a:pt x="362" y="28"/>
                  <a:pt x="359" y="28"/>
                </a:cubicBezTo>
                <a:cubicBezTo>
                  <a:pt x="359" y="28"/>
                  <a:pt x="359" y="28"/>
                  <a:pt x="359" y="28"/>
                </a:cubicBezTo>
                <a:cubicBezTo>
                  <a:pt x="364" y="27"/>
                  <a:pt x="369" y="29"/>
                  <a:pt x="373" y="28"/>
                </a:cubicBezTo>
                <a:cubicBezTo>
                  <a:pt x="372" y="28"/>
                  <a:pt x="371" y="28"/>
                  <a:pt x="371" y="28"/>
                </a:cubicBezTo>
                <a:cubicBezTo>
                  <a:pt x="379" y="27"/>
                  <a:pt x="388" y="29"/>
                  <a:pt x="396" y="28"/>
                </a:cubicBezTo>
                <a:cubicBezTo>
                  <a:pt x="379" y="27"/>
                  <a:pt x="379" y="27"/>
                  <a:pt x="379" y="27"/>
                </a:cubicBezTo>
                <a:cubicBezTo>
                  <a:pt x="372" y="26"/>
                  <a:pt x="366" y="27"/>
                  <a:pt x="358" y="26"/>
                </a:cubicBezTo>
                <a:cubicBezTo>
                  <a:pt x="359" y="25"/>
                  <a:pt x="359" y="25"/>
                  <a:pt x="359" y="25"/>
                </a:cubicBezTo>
                <a:cubicBezTo>
                  <a:pt x="377" y="27"/>
                  <a:pt x="391" y="24"/>
                  <a:pt x="410" y="25"/>
                </a:cubicBezTo>
                <a:cubicBezTo>
                  <a:pt x="409" y="25"/>
                  <a:pt x="409" y="25"/>
                  <a:pt x="409" y="25"/>
                </a:cubicBezTo>
                <a:cubicBezTo>
                  <a:pt x="337" y="22"/>
                  <a:pt x="337" y="22"/>
                  <a:pt x="337" y="22"/>
                </a:cubicBezTo>
                <a:cubicBezTo>
                  <a:pt x="326" y="22"/>
                  <a:pt x="326" y="22"/>
                  <a:pt x="326" y="22"/>
                </a:cubicBezTo>
                <a:cubicBezTo>
                  <a:pt x="337" y="21"/>
                  <a:pt x="347" y="23"/>
                  <a:pt x="358" y="22"/>
                </a:cubicBezTo>
                <a:cubicBezTo>
                  <a:pt x="350" y="21"/>
                  <a:pt x="341" y="21"/>
                  <a:pt x="333" y="21"/>
                </a:cubicBezTo>
                <a:cubicBezTo>
                  <a:pt x="334" y="20"/>
                  <a:pt x="334" y="20"/>
                  <a:pt x="334" y="20"/>
                </a:cubicBezTo>
                <a:cubicBezTo>
                  <a:pt x="344" y="20"/>
                  <a:pt x="357" y="21"/>
                  <a:pt x="366" y="19"/>
                </a:cubicBezTo>
                <a:cubicBezTo>
                  <a:pt x="365" y="19"/>
                  <a:pt x="364" y="19"/>
                  <a:pt x="364" y="19"/>
                </a:cubicBezTo>
                <a:cubicBezTo>
                  <a:pt x="366" y="18"/>
                  <a:pt x="366" y="18"/>
                  <a:pt x="366" y="18"/>
                </a:cubicBezTo>
                <a:cubicBezTo>
                  <a:pt x="355" y="18"/>
                  <a:pt x="355" y="18"/>
                  <a:pt x="355" y="18"/>
                </a:cubicBezTo>
                <a:cubicBezTo>
                  <a:pt x="352" y="16"/>
                  <a:pt x="346" y="17"/>
                  <a:pt x="342" y="16"/>
                </a:cubicBezTo>
                <a:cubicBezTo>
                  <a:pt x="343" y="16"/>
                  <a:pt x="343" y="16"/>
                  <a:pt x="343" y="16"/>
                </a:cubicBezTo>
                <a:cubicBezTo>
                  <a:pt x="353" y="16"/>
                  <a:pt x="364" y="16"/>
                  <a:pt x="374" y="16"/>
                </a:cubicBezTo>
                <a:cubicBezTo>
                  <a:pt x="344" y="15"/>
                  <a:pt x="344" y="15"/>
                  <a:pt x="344" y="15"/>
                </a:cubicBezTo>
                <a:cubicBezTo>
                  <a:pt x="349" y="14"/>
                  <a:pt x="354" y="15"/>
                  <a:pt x="359" y="14"/>
                </a:cubicBezTo>
                <a:cubicBezTo>
                  <a:pt x="358" y="14"/>
                  <a:pt x="358" y="14"/>
                  <a:pt x="358" y="14"/>
                </a:cubicBezTo>
                <a:cubicBezTo>
                  <a:pt x="347" y="14"/>
                  <a:pt x="337" y="13"/>
                  <a:pt x="326" y="13"/>
                </a:cubicBezTo>
                <a:cubicBezTo>
                  <a:pt x="337" y="12"/>
                  <a:pt x="347" y="13"/>
                  <a:pt x="357" y="13"/>
                </a:cubicBezTo>
                <a:cubicBezTo>
                  <a:pt x="348" y="12"/>
                  <a:pt x="348" y="12"/>
                  <a:pt x="348" y="12"/>
                </a:cubicBezTo>
                <a:cubicBezTo>
                  <a:pt x="358" y="12"/>
                  <a:pt x="366" y="13"/>
                  <a:pt x="376" y="12"/>
                </a:cubicBezTo>
                <a:cubicBezTo>
                  <a:pt x="352" y="10"/>
                  <a:pt x="328" y="10"/>
                  <a:pt x="303" y="9"/>
                </a:cubicBezTo>
                <a:cubicBezTo>
                  <a:pt x="307" y="7"/>
                  <a:pt x="313" y="9"/>
                  <a:pt x="315" y="8"/>
                </a:cubicBezTo>
                <a:cubicBezTo>
                  <a:pt x="305" y="7"/>
                  <a:pt x="294" y="7"/>
                  <a:pt x="283" y="7"/>
                </a:cubicBezTo>
                <a:cubicBezTo>
                  <a:pt x="281" y="7"/>
                  <a:pt x="283" y="6"/>
                  <a:pt x="281" y="6"/>
                </a:cubicBezTo>
                <a:cubicBezTo>
                  <a:pt x="282" y="6"/>
                  <a:pt x="283" y="6"/>
                  <a:pt x="284" y="6"/>
                </a:cubicBezTo>
                <a:cubicBezTo>
                  <a:pt x="353" y="8"/>
                  <a:pt x="353" y="8"/>
                  <a:pt x="353" y="8"/>
                </a:cubicBezTo>
                <a:cubicBezTo>
                  <a:pt x="363" y="9"/>
                  <a:pt x="373" y="9"/>
                  <a:pt x="382" y="9"/>
                </a:cubicBezTo>
                <a:cubicBezTo>
                  <a:pt x="358" y="8"/>
                  <a:pt x="358" y="8"/>
                  <a:pt x="358" y="8"/>
                </a:cubicBezTo>
                <a:cubicBezTo>
                  <a:pt x="357" y="8"/>
                  <a:pt x="357" y="8"/>
                  <a:pt x="357" y="8"/>
                </a:cubicBezTo>
                <a:cubicBezTo>
                  <a:pt x="368" y="8"/>
                  <a:pt x="379" y="9"/>
                  <a:pt x="390" y="8"/>
                </a:cubicBezTo>
                <a:cubicBezTo>
                  <a:pt x="373" y="9"/>
                  <a:pt x="358" y="4"/>
                  <a:pt x="342" y="5"/>
                </a:cubicBezTo>
                <a:cubicBezTo>
                  <a:pt x="343" y="5"/>
                  <a:pt x="343" y="5"/>
                  <a:pt x="343" y="6"/>
                </a:cubicBezTo>
                <a:cubicBezTo>
                  <a:pt x="340" y="6"/>
                  <a:pt x="337" y="6"/>
                  <a:pt x="334" y="5"/>
                </a:cubicBezTo>
                <a:cubicBezTo>
                  <a:pt x="334" y="5"/>
                  <a:pt x="334" y="5"/>
                  <a:pt x="334" y="5"/>
                </a:cubicBezTo>
                <a:cubicBezTo>
                  <a:pt x="334" y="5"/>
                  <a:pt x="334" y="5"/>
                  <a:pt x="334" y="5"/>
                </a:cubicBezTo>
                <a:cubicBezTo>
                  <a:pt x="334" y="5"/>
                  <a:pt x="333" y="5"/>
                  <a:pt x="333" y="5"/>
                </a:cubicBezTo>
                <a:cubicBezTo>
                  <a:pt x="331" y="5"/>
                  <a:pt x="328" y="6"/>
                  <a:pt x="327" y="4"/>
                </a:cubicBezTo>
                <a:cubicBezTo>
                  <a:pt x="326" y="5"/>
                  <a:pt x="326" y="5"/>
                  <a:pt x="326" y="5"/>
                </a:cubicBezTo>
                <a:cubicBezTo>
                  <a:pt x="324" y="4"/>
                  <a:pt x="324" y="4"/>
                  <a:pt x="324" y="4"/>
                </a:cubicBezTo>
                <a:cubicBezTo>
                  <a:pt x="324" y="5"/>
                  <a:pt x="324" y="5"/>
                  <a:pt x="324" y="5"/>
                </a:cubicBezTo>
                <a:cubicBezTo>
                  <a:pt x="285" y="4"/>
                  <a:pt x="285" y="4"/>
                  <a:pt x="285" y="4"/>
                </a:cubicBezTo>
                <a:cubicBezTo>
                  <a:pt x="286" y="3"/>
                  <a:pt x="286" y="3"/>
                  <a:pt x="286" y="3"/>
                </a:cubicBezTo>
                <a:cubicBezTo>
                  <a:pt x="284" y="4"/>
                  <a:pt x="280" y="2"/>
                  <a:pt x="280" y="4"/>
                </a:cubicBezTo>
                <a:cubicBezTo>
                  <a:pt x="259" y="4"/>
                  <a:pt x="259" y="4"/>
                  <a:pt x="259" y="4"/>
                </a:cubicBezTo>
                <a:cubicBezTo>
                  <a:pt x="258" y="3"/>
                  <a:pt x="258" y="3"/>
                  <a:pt x="258" y="3"/>
                </a:cubicBezTo>
                <a:cubicBezTo>
                  <a:pt x="258" y="3"/>
                  <a:pt x="258" y="3"/>
                  <a:pt x="258" y="3"/>
                </a:cubicBezTo>
                <a:cubicBezTo>
                  <a:pt x="255" y="3"/>
                  <a:pt x="255" y="3"/>
                  <a:pt x="255" y="3"/>
                </a:cubicBezTo>
                <a:cubicBezTo>
                  <a:pt x="255" y="3"/>
                  <a:pt x="255" y="3"/>
                  <a:pt x="255" y="3"/>
                </a:cubicBezTo>
                <a:cubicBezTo>
                  <a:pt x="251" y="4"/>
                  <a:pt x="246" y="4"/>
                  <a:pt x="241" y="3"/>
                </a:cubicBezTo>
                <a:cubicBezTo>
                  <a:pt x="241" y="3"/>
                  <a:pt x="242" y="3"/>
                  <a:pt x="242" y="3"/>
                </a:cubicBezTo>
                <a:cubicBezTo>
                  <a:pt x="237" y="3"/>
                  <a:pt x="237" y="3"/>
                  <a:pt x="237" y="3"/>
                </a:cubicBezTo>
                <a:cubicBezTo>
                  <a:pt x="237" y="3"/>
                  <a:pt x="237" y="3"/>
                  <a:pt x="237" y="3"/>
                </a:cubicBezTo>
                <a:cubicBezTo>
                  <a:pt x="230" y="4"/>
                  <a:pt x="223" y="3"/>
                  <a:pt x="216" y="3"/>
                </a:cubicBezTo>
                <a:cubicBezTo>
                  <a:pt x="216" y="2"/>
                  <a:pt x="216" y="2"/>
                  <a:pt x="216" y="2"/>
                </a:cubicBezTo>
                <a:cubicBezTo>
                  <a:pt x="215" y="2"/>
                  <a:pt x="214" y="2"/>
                  <a:pt x="214" y="2"/>
                </a:cubicBezTo>
                <a:cubicBezTo>
                  <a:pt x="210" y="2"/>
                  <a:pt x="206" y="1"/>
                  <a:pt x="204" y="3"/>
                </a:cubicBezTo>
                <a:cubicBezTo>
                  <a:pt x="203" y="2"/>
                  <a:pt x="202" y="2"/>
                  <a:pt x="201" y="3"/>
                </a:cubicBezTo>
                <a:cubicBezTo>
                  <a:pt x="199" y="1"/>
                  <a:pt x="194" y="2"/>
                  <a:pt x="190" y="2"/>
                </a:cubicBezTo>
                <a:cubicBezTo>
                  <a:pt x="190" y="3"/>
                  <a:pt x="186" y="3"/>
                  <a:pt x="184" y="3"/>
                </a:cubicBezTo>
                <a:cubicBezTo>
                  <a:pt x="183" y="2"/>
                  <a:pt x="181" y="3"/>
                  <a:pt x="181" y="2"/>
                </a:cubicBezTo>
                <a:cubicBezTo>
                  <a:pt x="175" y="0"/>
                  <a:pt x="170" y="4"/>
                  <a:pt x="164" y="2"/>
                </a:cubicBezTo>
                <a:cubicBezTo>
                  <a:pt x="163" y="2"/>
                  <a:pt x="163" y="2"/>
                  <a:pt x="163" y="2"/>
                </a:cubicBezTo>
                <a:cubicBezTo>
                  <a:pt x="162" y="2"/>
                  <a:pt x="162" y="2"/>
                  <a:pt x="162" y="2"/>
                </a:cubicBezTo>
                <a:cubicBezTo>
                  <a:pt x="161" y="2"/>
                  <a:pt x="161" y="2"/>
                  <a:pt x="161" y="2"/>
                </a:cubicBezTo>
                <a:cubicBezTo>
                  <a:pt x="158" y="2"/>
                  <a:pt x="153" y="1"/>
                  <a:pt x="150" y="2"/>
                </a:cubicBezTo>
                <a:cubicBezTo>
                  <a:pt x="147" y="2"/>
                  <a:pt x="146" y="2"/>
                  <a:pt x="144" y="2"/>
                </a:cubicBezTo>
                <a:cubicBezTo>
                  <a:pt x="78" y="2"/>
                  <a:pt x="78" y="2"/>
                  <a:pt x="78" y="2"/>
                </a:cubicBezTo>
                <a:cubicBezTo>
                  <a:pt x="78" y="1"/>
                  <a:pt x="78" y="1"/>
                  <a:pt x="78" y="1"/>
                </a:cubicBezTo>
                <a:cubicBezTo>
                  <a:pt x="80" y="1"/>
                  <a:pt x="86" y="1"/>
                  <a:pt x="85" y="1"/>
                </a:cubicBezTo>
                <a:cubicBezTo>
                  <a:pt x="77" y="1"/>
                  <a:pt x="69" y="1"/>
                  <a:pt x="61" y="2"/>
                </a:cubicBezTo>
                <a:cubicBezTo>
                  <a:pt x="42" y="4"/>
                  <a:pt x="20" y="3"/>
                  <a:pt x="2" y="7"/>
                </a:cubicBezTo>
                <a:cubicBezTo>
                  <a:pt x="3" y="7"/>
                  <a:pt x="4" y="7"/>
                  <a:pt x="4" y="7"/>
                </a:cubicBezTo>
                <a:cubicBezTo>
                  <a:pt x="3" y="7"/>
                  <a:pt x="2" y="8"/>
                  <a:pt x="1" y="9"/>
                </a:cubicBezTo>
                <a:cubicBezTo>
                  <a:pt x="2" y="9"/>
                  <a:pt x="3" y="9"/>
                  <a:pt x="3" y="9"/>
                </a:cubicBezTo>
                <a:cubicBezTo>
                  <a:pt x="3" y="10"/>
                  <a:pt x="2" y="10"/>
                  <a:pt x="1" y="10"/>
                </a:cubicBezTo>
                <a:cubicBezTo>
                  <a:pt x="2" y="10"/>
                  <a:pt x="3" y="10"/>
                  <a:pt x="4" y="11"/>
                </a:cubicBezTo>
                <a:cubicBezTo>
                  <a:pt x="1" y="12"/>
                  <a:pt x="1" y="12"/>
                  <a:pt x="1" y="12"/>
                </a:cubicBezTo>
                <a:cubicBezTo>
                  <a:pt x="3" y="12"/>
                  <a:pt x="0" y="12"/>
                  <a:pt x="1" y="13"/>
                </a:cubicBezTo>
                <a:cubicBezTo>
                  <a:pt x="4" y="14"/>
                  <a:pt x="4" y="14"/>
                  <a:pt x="4" y="14"/>
                </a:cubicBezTo>
                <a:cubicBezTo>
                  <a:pt x="4" y="15"/>
                  <a:pt x="0" y="15"/>
                  <a:pt x="2" y="16"/>
                </a:cubicBezTo>
                <a:cubicBezTo>
                  <a:pt x="2" y="16"/>
                  <a:pt x="3" y="17"/>
                  <a:pt x="4" y="17"/>
                </a:cubicBezTo>
                <a:cubicBezTo>
                  <a:pt x="4" y="17"/>
                  <a:pt x="3" y="17"/>
                  <a:pt x="3" y="17"/>
                </a:cubicBezTo>
                <a:cubicBezTo>
                  <a:pt x="3" y="17"/>
                  <a:pt x="3" y="18"/>
                  <a:pt x="2" y="18"/>
                </a:cubicBezTo>
                <a:cubicBezTo>
                  <a:pt x="5" y="19"/>
                  <a:pt x="2" y="21"/>
                  <a:pt x="6" y="21"/>
                </a:cubicBezTo>
                <a:cubicBezTo>
                  <a:pt x="4" y="22"/>
                  <a:pt x="4" y="22"/>
                  <a:pt x="4" y="22"/>
                </a:cubicBezTo>
                <a:cubicBezTo>
                  <a:pt x="5" y="21"/>
                  <a:pt x="6" y="22"/>
                  <a:pt x="7" y="22"/>
                </a:cubicBezTo>
                <a:cubicBezTo>
                  <a:pt x="6" y="23"/>
                  <a:pt x="4" y="22"/>
                  <a:pt x="3" y="23"/>
                </a:cubicBezTo>
                <a:cubicBezTo>
                  <a:pt x="5" y="24"/>
                  <a:pt x="5" y="24"/>
                  <a:pt x="5" y="24"/>
                </a:cubicBezTo>
                <a:cubicBezTo>
                  <a:pt x="3" y="25"/>
                  <a:pt x="3" y="25"/>
                  <a:pt x="3" y="25"/>
                </a:cubicBezTo>
                <a:cubicBezTo>
                  <a:pt x="4" y="25"/>
                  <a:pt x="4" y="25"/>
                  <a:pt x="4" y="25"/>
                </a:cubicBezTo>
                <a:cubicBezTo>
                  <a:pt x="5" y="25"/>
                  <a:pt x="5" y="26"/>
                  <a:pt x="5" y="26"/>
                </a:cubicBezTo>
                <a:cubicBezTo>
                  <a:pt x="6" y="26"/>
                  <a:pt x="7" y="26"/>
                  <a:pt x="8" y="27"/>
                </a:cubicBezTo>
                <a:cubicBezTo>
                  <a:pt x="7" y="27"/>
                  <a:pt x="6" y="27"/>
                  <a:pt x="5" y="27"/>
                </a:cubicBezTo>
                <a:cubicBezTo>
                  <a:pt x="6" y="27"/>
                  <a:pt x="8" y="27"/>
                  <a:pt x="7" y="28"/>
                </a:cubicBezTo>
                <a:cubicBezTo>
                  <a:pt x="7" y="28"/>
                  <a:pt x="7" y="28"/>
                  <a:pt x="6" y="28"/>
                </a:cubicBezTo>
                <a:cubicBezTo>
                  <a:pt x="7" y="29"/>
                  <a:pt x="7" y="29"/>
                  <a:pt x="7" y="29"/>
                </a:cubicBezTo>
                <a:cubicBezTo>
                  <a:pt x="4" y="29"/>
                  <a:pt x="8" y="30"/>
                  <a:pt x="7" y="31"/>
                </a:cubicBezTo>
                <a:cubicBezTo>
                  <a:pt x="8" y="32"/>
                  <a:pt x="10" y="33"/>
                  <a:pt x="12" y="33"/>
                </a:cubicBezTo>
                <a:cubicBezTo>
                  <a:pt x="11" y="34"/>
                  <a:pt x="9" y="33"/>
                  <a:pt x="8" y="34"/>
                </a:cubicBezTo>
                <a:cubicBezTo>
                  <a:pt x="6" y="34"/>
                  <a:pt x="9" y="34"/>
                  <a:pt x="7" y="34"/>
                </a:cubicBezTo>
                <a:cubicBezTo>
                  <a:pt x="8" y="36"/>
                  <a:pt x="12" y="34"/>
                  <a:pt x="14" y="36"/>
                </a:cubicBezTo>
                <a:cubicBezTo>
                  <a:pt x="12" y="37"/>
                  <a:pt x="9" y="35"/>
                  <a:pt x="8" y="37"/>
                </a:cubicBezTo>
                <a:cubicBezTo>
                  <a:pt x="10" y="37"/>
                  <a:pt x="11" y="37"/>
                  <a:pt x="12" y="37"/>
                </a:cubicBezTo>
                <a:cubicBezTo>
                  <a:pt x="10" y="38"/>
                  <a:pt x="9" y="38"/>
                  <a:pt x="9" y="39"/>
                </a:cubicBezTo>
                <a:cubicBezTo>
                  <a:pt x="12" y="40"/>
                  <a:pt x="12" y="40"/>
                  <a:pt x="12" y="40"/>
                </a:cubicBezTo>
                <a:cubicBezTo>
                  <a:pt x="8" y="40"/>
                  <a:pt x="12" y="43"/>
                  <a:pt x="8" y="42"/>
                </a:cubicBezTo>
                <a:cubicBezTo>
                  <a:pt x="10" y="42"/>
                  <a:pt x="10" y="42"/>
                  <a:pt x="10" y="42"/>
                </a:cubicBezTo>
                <a:cubicBezTo>
                  <a:pt x="9" y="43"/>
                  <a:pt x="12" y="43"/>
                  <a:pt x="10" y="44"/>
                </a:cubicBezTo>
                <a:cubicBezTo>
                  <a:pt x="12" y="45"/>
                  <a:pt x="12" y="45"/>
                  <a:pt x="12" y="45"/>
                </a:cubicBezTo>
                <a:cubicBezTo>
                  <a:pt x="10" y="46"/>
                  <a:pt x="10" y="46"/>
                  <a:pt x="10" y="46"/>
                </a:cubicBezTo>
                <a:cubicBezTo>
                  <a:pt x="11" y="47"/>
                  <a:pt x="14" y="46"/>
                  <a:pt x="15" y="47"/>
                </a:cubicBezTo>
                <a:cubicBezTo>
                  <a:pt x="13" y="48"/>
                  <a:pt x="10" y="48"/>
                  <a:pt x="10" y="48"/>
                </a:cubicBezTo>
                <a:cubicBezTo>
                  <a:pt x="11" y="49"/>
                  <a:pt x="11" y="49"/>
                  <a:pt x="11" y="49"/>
                </a:cubicBezTo>
                <a:cubicBezTo>
                  <a:pt x="11" y="49"/>
                  <a:pt x="10" y="49"/>
                  <a:pt x="9" y="49"/>
                </a:cubicBezTo>
                <a:cubicBezTo>
                  <a:pt x="13" y="50"/>
                  <a:pt x="13" y="50"/>
                  <a:pt x="13" y="50"/>
                </a:cubicBezTo>
                <a:cubicBezTo>
                  <a:pt x="12" y="50"/>
                  <a:pt x="12" y="50"/>
                  <a:pt x="12" y="50"/>
                </a:cubicBezTo>
                <a:cubicBezTo>
                  <a:pt x="15" y="51"/>
                  <a:pt x="15" y="51"/>
                  <a:pt x="15" y="51"/>
                </a:cubicBezTo>
                <a:cubicBezTo>
                  <a:pt x="14" y="51"/>
                  <a:pt x="13" y="52"/>
                  <a:pt x="11" y="52"/>
                </a:cubicBezTo>
                <a:cubicBezTo>
                  <a:pt x="12" y="52"/>
                  <a:pt x="12" y="52"/>
                  <a:pt x="12" y="52"/>
                </a:cubicBezTo>
                <a:cubicBezTo>
                  <a:pt x="12" y="53"/>
                  <a:pt x="12" y="53"/>
                  <a:pt x="11" y="53"/>
                </a:cubicBezTo>
                <a:cubicBezTo>
                  <a:pt x="13" y="53"/>
                  <a:pt x="16" y="52"/>
                  <a:pt x="17" y="53"/>
                </a:cubicBezTo>
                <a:cubicBezTo>
                  <a:pt x="15" y="55"/>
                  <a:pt x="12" y="53"/>
                  <a:pt x="11" y="54"/>
                </a:cubicBezTo>
                <a:cubicBezTo>
                  <a:pt x="14" y="55"/>
                  <a:pt x="18" y="55"/>
                  <a:pt x="22" y="55"/>
                </a:cubicBezTo>
                <a:cubicBezTo>
                  <a:pt x="18" y="57"/>
                  <a:pt x="14" y="56"/>
                  <a:pt x="9" y="57"/>
                </a:cubicBezTo>
                <a:cubicBezTo>
                  <a:pt x="10" y="57"/>
                  <a:pt x="11" y="57"/>
                  <a:pt x="12" y="58"/>
                </a:cubicBezTo>
                <a:cubicBezTo>
                  <a:pt x="11" y="58"/>
                  <a:pt x="11" y="58"/>
                  <a:pt x="11" y="58"/>
                </a:cubicBezTo>
                <a:cubicBezTo>
                  <a:pt x="16" y="59"/>
                  <a:pt x="16" y="59"/>
                  <a:pt x="16" y="59"/>
                </a:cubicBezTo>
                <a:cubicBezTo>
                  <a:pt x="14" y="60"/>
                  <a:pt x="14" y="60"/>
                  <a:pt x="14" y="60"/>
                </a:cubicBezTo>
                <a:cubicBezTo>
                  <a:pt x="14" y="60"/>
                  <a:pt x="14" y="60"/>
                  <a:pt x="14" y="60"/>
                </a:cubicBezTo>
                <a:cubicBezTo>
                  <a:pt x="13" y="61"/>
                  <a:pt x="13" y="60"/>
                  <a:pt x="12" y="61"/>
                </a:cubicBezTo>
                <a:cubicBezTo>
                  <a:pt x="14" y="62"/>
                  <a:pt x="15" y="62"/>
                  <a:pt x="17" y="62"/>
                </a:cubicBezTo>
                <a:cubicBezTo>
                  <a:pt x="28" y="67"/>
                  <a:pt x="44" y="68"/>
                  <a:pt x="58" y="68"/>
                </a:cubicBezTo>
                <a:cubicBezTo>
                  <a:pt x="58" y="68"/>
                  <a:pt x="58" y="68"/>
                  <a:pt x="58" y="68"/>
                </a:cubicBezTo>
                <a:cubicBezTo>
                  <a:pt x="83" y="69"/>
                  <a:pt x="83" y="69"/>
                  <a:pt x="83" y="69"/>
                </a:cubicBezTo>
                <a:cubicBezTo>
                  <a:pt x="84" y="70"/>
                  <a:pt x="86" y="70"/>
                  <a:pt x="88" y="70"/>
                </a:cubicBezTo>
                <a:cubicBezTo>
                  <a:pt x="137" y="67"/>
                  <a:pt x="190" y="70"/>
                  <a:pt x="238" y="70"/>
                </a:cubicBezTo>
                <a:cubicBezTo>
                  <a:pt x="241" y="71"/>
                  <a:pt x="245" y="71"/>
                  <a:pt x="247" y="70"/>
                </a:cubicBezTo>
                <a:cubicBezTo>
                  <a:pt x="305" y="70"/>
                  <a:pt x="305" y="70"/>
                  <a:pt x="305" y="70"/>
                </a:cubicBezTo>
                <a:cubicBezTo>
                  <a:pt x="304" y="70"/>
                  <a:pt x="304" y="70"/>
                  <a:pt x="304" y="70"/>
                </a:cubicBezTo>
                <a:cubicBezTo>
                  <a:pt x="310" y="70"/>
                  <a:pt x="315" y="70"/>
                  <a:pt x="321" y="69"/>
                </a:cubicBezTo>
                <a:cubicBezTo>
                  <a:pt x="322" y="70"/>
                  <a:pt x="322" y="70"/>
                  <a:pt x="322" y="70"/>
                </a:cubicBezTo>
                <a:cubicBezTo>
                  <a:pt x="337" y="69"/>
                  <a:pt x="337" y="69"/>
                  <a:pt x="337" y="69"/>
                </a:cubicBezTo>
                <a:cubicBezTo>
                  <a:pt x="360" y="68"/>
                  <a:pt x="380" y="70"/>
                  <a:pt x="402" y="68"/>
                </a:cubicBezTo>
                <a:cubicBezTo>
                  <a:pt x="398" y="67"/>
                  <a:pt x="394" y="68"/>
                  <a:pt x="391" y="67"/>
                </a:cubicBezTo>
                <a:cubicBezTo>
                  <a:pt x="400" y="67"/>
                  <a:pt x="408" y="65"/>
                  <a:pt x="417" y="64"/>
                </a:cubicBezTo>
                <a:cubicBezTo>
                  <a:pt x="383" y="64"/>
                  <a:pt x="348" y="64"/>
                  <a:pt x="313" y="63"/>
                </a:cubicBezTo>
                <a:close/>
                <a:moveTo>
                  <a:pt x="336" y="14"/>
                </a:moveTo>
                <a:cubicBezTo>
                  <a:pt x="334" y="14"/>
                  <a:pt x="334" y="14"/>
                  <a:pt x="334" y="14"/>
                </a:cubicBezTo>
                <a:cubicBezTo>
                  <a:pt x="332" y="14"/>
                  <a:pt x="332" y="14"/>
                  <a:pt x="332" y="14"/>
                </a:cubicBezTo>
                <a:lnTo>
                  <a:pt x="336" y="14"/>
                </a:lnTo>
                <a:close/>
                <a:moveTo>
                  <a:pt x="310" y="69"/>
                </a:moveTo>
                <a:cubicBezTo>
                  <a:pt x="312" y="69"/>
                  <a:pt x="314" y="68"/>
                  <a:pt x="316" y="69"/>
                </a:cubicBezTo>
                <a:cubicBezTo>
                  <a:pt x="314" y="69"/>
                  <a:pt x="312" y="69"/>
                  <a:pt x="310" y="69"/>
                </a:cubicBezTo>
                <a:close/>
                <a:moveTo>
                  <a:pt x="322" y="66"/>
                </a:moveTo>
                <a:cubicBezTo>
                  <a:pt x="320" y="66"/>
                  <a:pt x="320" y="66"/>
                  <a:pt x="320" y="66"/>
                </a:cubicBezTo>
                <a:cubicBezTo>
                  <a:pt x="310" y="66"/>
                  <a:pt x="298" y="66"/>
                  <a:pt x="287" y="66"/>
                </a:cubicBezTo>
                <a:cubicBezTo>
                  <a:pt x="285" y="66"/>
                  <a:pt x="284" y="66"/>
                  <a:pt x="282" y="66"/>
                </a:cubicBezTo>
                <a:cubicBezTo>
                  <a:pt x="284" y="66"/>
                  <a:pt x="285" y="66"/>
                  <a:pt x="287" y="66"/>
                </a:cubicBezTo>
                <a:cubicBezTo>
                  <a:pt x="300" y="65"/>
                  <a:pt x="313" y="65"/>
                  <a:pt x="326" y="65"/>
                </a:cubicBezTo>
                <a:cubicBezTo>
                  <a:pt x="329" y="66"/>
                  <a:pt x="329" y="66"/>
                  <a:pt x="329" y="66"/>
                </a:cubicBezTo>
                <a:cubicBezTo>
                  <a:pt x="348" y="66"/>
                  <a:pt x="348" y="66"/>
                  <a:pt x="348" y="66"/>
                </a:cubicBezTo>
                <a:lnTo>
                  <a:pt x="322" y="66"/>
                </a:lnTo>
                <a:close/>
                <a:moveTo>
                  <a:pt x="377" y="67"/>
                </a:moveTo>
                <a:cubicBezTo>
                  <a:pt x="369" y="67"/>
                  <a:pt x="360" y="67"/>
                  <a:pt x="353" y="67"/>
                </a:cubicBezTo>
                <a:cubicBezTo>
                  <a:pt x="353" y="66"/>
                  <a:pt x="353" y="66"/>
                  <a:pt x="353" y="66"/>
                </a:cubicBezTo>
                <a:cubicBezTo>
                  <a:pt x="360" y="67"/>
                  <a:pt x="369" y="67"/>
                  <a:pt x="377" y="67"/>
                </a:cubicBezTo>
                <a:cubicBezTo>
                  <a:pt x="381" y="67"/>
                  <a:pt x="385" y="67"/>
                  <a:pt x="389" y="67"/>
                </a:cubicBezTo>
                <a:cubicBezTo>
                  <a:pt x="385" y="67"/>
                  <a:pt x="381" y="67"/>
                  <a:pt x="377" y="67"/>
                </a:cubicBezTo>
                <a:close/>
              </a:path>
            </a:pathLst>
          </a:custGeom>
          <a:solidFill>
            <a:srgbClr val="2c3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173"/>
          <p:cNvSpPr/>
          <p:nvPr/>
        </p:nvSpPr>
        <p:spPr>
          <a:xfrm rot="5400000">
            <a:off x="9745560" y="5025960"/>
            <a:ext cx="1523880" cy="60624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606240"/>
              <a:gd name="textAreaBottom" fmla="*/ 606600 h 606240"/>
            </a:gdLst>
            <a:ahLst/>
            <a:rect l="textAreaLeft" t="textAreaTop" r="textAreaRight" b="textAreaBottom"/>
            <a:pathLst>
              <a:path w="419" h="71">
                <a:moveTo>
                  <a:pt x="313" y="63"/>
                </a:moveTo>
                <a:cubicBezTo>
                  <a:pt x="313" y="62"/>
                  <a:pt x="313" y="62"/>
                  <a:pt x="313" y="62"/>
                </a:cubicBezTo>
                <a:cubicBezTo>
                  <a:pt x="317" y="62"/>
                  <a:pt x="321" y="62"/>
                  <a:pt x="325" y="62"/>
                </a:cubicBezTo>
                <a:cubicBezTo>
                  <a:pt x="326" y="62"/>
                  <a:pt x="326" y="62"/>
                  <a:pt x="326" y="62"/>
                </a:cubicBezTo>
                <a:cubicBezTo>
                  <a:pt x="325" y="62"/>
                  <a:pt x="323" y="62"/>
                  <a:pt x="322" y="61"/>
                </a:cubicBezTo>
                <a:cubicBezTo>
                  <a:pt x="353" y="61"/>
                  <a:pt x="353" y="61"/>
                  <a:pt x="353" y="61"/>
                </a:cubicBezTo>
                <a:cubicBezTo>
                  <a:pt x="355" y="61"/>
                  <a:pt x="355" y="61"/>
                  <a:pt x="355" y="61"/>
                </a:cubicBezTo>
                <a:cubicBezTo>
                  <a:pt x="372" y="61"/>
                  <a:pt x="390" y="62"/>
                  <a:pt x="406" y="61"/>
                </a:cubicBezTo>
                <a:cubicBezTo>
                  <a:pt x="404" y="60"/>
                  <a:pt x="404" y="60"/>
                  <a:pt x="404" y="60"/>
                </a:cubicBezTo>
                <a:cubicBezTo>
                  <a:pt x="409" y="60"/>
                  <a:pt x="415" y="60"/>
                  <a:pt x="419" y="59"/>
                </a:cubicBezTo>
                <a:cubicBezTo>
                  <a:pt x="384" y="58"/>
                  <a:pt x="349" y="60"/>
                  <a:pt x="316" y="57"/>
                </a:cubicBezTo>
                <a:cubicBezTo>
                  <a:pt x="316" y="57"/>
                  <a:pt x="317" y="57"/>
                  <a:pt x="317" y="56"/>
                </a:cubicBezTo>
                <a:cubicBezTo>
                  <a:pt x="349" y="56"/>
                  <a:pt x="382" y="59"/>
                  <a:pt x="414" y="57"/>
                </a:cubicBezTo>
                <a:cubicBezTo>
                  <a:pt x="405" y="56"/>
                  <a:pt x="394" y="56"/>
                  <a:pt x="385" y="55"/>
                </a:cubicBezTo>
                <a:cubicBezTo>
                  <a:pt x="385" y="55"/>
                  <a:pt x="385" y="55"/>
                  <a:pt x="385" y="55"/>
                </a:cubicBezTo>
                <a:cubicBezTo>
                  <a:pt x="400" y="55"/>
                  <a:pt x="400" y="55"/>
                  <a:pt x="400" y="55"/>
                </a:cubicBezTo>
                <a:cubicBezTo>
                  <a:pt x="377" y="54"/>
                  <a:pt x="377" y="54"/>
                  <a:pt x="377" y="54"/>
                </a:cubicBezTo>
                <a:cubicBezTo>
                  <a:pt x="377" y="55"/>
                  <a:pt x="378" y="55"/>
                  <a:pt x="377" y="55"/>
                </a:cubicBezTo>
                <a:cubicBezTo>
                  <a:pt x="376" y="55"/>
                  <a:pt x="374" y="55"/>
                  <a:pt x="374" y="54"/>
                </a:cubicBezTo>
                <a:cubicBezTo>
                  <a:pt x="373" y="55"/>
                  <a:pt x="371" y="54"/>
                  <a:pt x="371" y="55"/>
                </a:cubicBezTo>
                <a:cubicBezTo>
                  <a:pt x="363" y="55"/>
                  <a:pt x="354" y="54"/>
                  <a:pt x="344" y="54"/>
                </a:cubicBezTo>
                <a:cubicBezTo>
                  <a:pt x="343" y="53"/>
                  <a:pt x="343" y="53"/>
                  <a:pt x="343" y="53"/>
                </a:cubicBezTo>
                <a:cubicBezTo>
                  <a:pt x="345" y="53"/>
                  <a:pt x="345" y="53"/>
                  <a:pt x="345" y="53"/>
                </a:cubicBezTo>
                <a:cubicBezTo>
                  <a:pt x="365" y="53"/>
                  <a:pt x="385" y="54"/>
                  <a:pt x="403" y="53"/>
                </a:cubicBezTo>
                <a:cubicBezTo>
                  <a:pt x="379" y="52"/>
                  <a:pt x="353" y="52"/>
                  <a:pt x="329" y="50"/>
                </a:cubicBezTo>
                <a:cubicBezTo>
                  <a:pt x="349" y="50"/>
                  <a:pt x="370" y="51"/>
                  <a:pt x="391" y="51"/>
                </a:cubicBezTo>
                <a:cubicBezTo>
                  <a:pt x="393" y="50"/>
                  <a:pt x="393" y="50"/>
                  <a:pt x="393" y="50"/>
                </a:cubicBezTo>
                <a:cubicBezTo>
                  <a:pt x="408" y="50"/>
                  <a:pt x="408" y="50"/>
                  <a:pt x="408" y="50"/>
                </a:cubicBezTo>
                <a:cubicBezTo>
                  <a:pt x="384" y="49"/>
                  <a:pt x="359" y="48"/>
                  <a:pt x="334" y="48"/>
                </a:cubicBezTo>
                <a:cubicBezTo>
                  <a:pt x="335" y="47"/>
                  <a:pt x="336" y="47"/>
                  <a:pt x="337" y="47"/>
                </a:cubicBezTo>
                <a:cubicBezTo>
                  <a:pt x="359" y="48"/>
                  <a:pt x="381" y="49"/>
                  <a:pt x="403" y="48"/>
                </a:cubicBezTo>
                <a:cubicBezTo>
                  <a:pt x="397" y="48"/>
                  <a:pt x="391" y="47"/>
                  <a:pt x="385" y="46"/>
                </a:cubicBezTo>
                <a:cubicBezTo>
                  <a:pt x="388" y="45"/>
                  <a:pt x="393" y="47"/>
                  <a:pt x="397" y="46"/>
                </a:cubicBezTo>
                <a:cubicBezTo>
                  <a:pt x="388" y="45"/>
                  <a:pt x="388" y="45"/>
                  <a:pt x="388" y="45"/>
                </a:cubicBezTo>
                <a:cubicBezTo>
                  <a:pt x="386" y="43"/>
                  <a:pt x="380" y="45"/>
                  <a:pt x="377" y="43"/>
                </a:cubicBezTo>
                <a:cubicBezTo>
                  <a:pt x="381" y="43"/>
                  <a:pt x="381" y="43"/>
                  <a:pt x="381" y="43"/>
                </a:cubicBezTo>
                <a:cubicBezTo>
                  <a:pt x="359" y="41"/>
                  <a:pt x="359" y="41"/>
                  <a:pt x="359" y="41"/>
                </a:cubicBezTo>
                <a:cubicBezTo>
                  <a:pt x="389" y="41"/>
                  <a:pt x="389" y="41"/>
                  <a:pt x="389" y="41"/>
                </a:cubicBezTo>
                <a:cubicBezTo>
                  <a:pt x="391" y="39"/>
                  <a:pt x="396" y="41"/>
                  <a:pt x="398" y="40"/>
                </a:cubicBezTo>
                <a:cubicBezTo>
                  <a:pt x="378" y="39"/>
                  <a:pt x="378" y="39"/>
                  <a:pt x="378" y="39"/>
                </a:cubicBezTo>
                <a:cubicBezTo>
                  <a:pt x="377" y="39"/>
                  <a:pt x="377" y="39"/>
                  <a:pt x="377" y="39"/>
                </a:cubicBezTo>
                <a:cubicBezTo>
                  <a:pt x="381" y="38"/>
                  <a:pt x="386" y="40"/>
                  <a:pt x="391" y="39"/>
                </a:cubicBezTo>
                <a:cubicBezTo>
                  <a:pt x="395" y="38"/>
                  <a:pt x="400" y="39"/>
                  <a:pt x="404" y="38"/>
                </a:cubicBezTo>
                <a:cubicBezTo>
                  <a:pt x="378" y="38"/>
                  <a:pt x="355" y="36"/>
                  <a:pt x="329" y="35"/>
                </a:cubicBezTo>
                <a:cubicBezTo>
                  <a:pt x="328" y="35"/>
                  <a:pt x="328" y="35"/>
                  <a:pt x="328" y="35"/>
                </a:cubicBezTo>
                <a:cubicBezTo>
                  <a:pt x="328" y="34"/>
                  <a:pt x="329" y="35"/>
                  <a:pt x="330" y="35"/>
                </a:cubicBezTo>
                <a:cubicBezTo>
                  <a:pt x="324" y="33"/>
                  <a:pt x="316" y="34"/>
                  <a:pt x="309" y="33"/>
                </a:cubicBezTo>
                <a:cubicBezTo>
                  <a:pt x="331" y="32"/>
                  <a:pt x="354" y="35"/>
                  <a:pt x="377" y="34"/>
                </a:cubicBezTo>
                <a:cubicBezTo>
                  <a:pt x="357" y="32"/>
                  <a:pt x="335" y="32"/>
                  <a:pt x="314" y="31"/>
                </a:cubicBezTo>
                <a:cubicBezTo>
                  <a:pt x="317" y="30"/>
                  <a:pt x="322" y="31"/>
                  <a:pt x="325" y="30"/>
                </a:cubicBezTo>
                <a:cubicBezTo>
                  <a:pt x="329" y="31"/>
                  <a:pt x="333" y="31"/>
                  <a:pt x="337" y="31"/>
                </a:cubicBezTo>
                <a:cubicBezTo>
                  <a:pt x="331" y="29"/>
                  <a:pt x="325" y="31"/>
                  <a:pt x="320" y="30"/>
                </a:cubicBezTo>
                <a:cubicBezTo>
                  <a:pt x="335" y="28"/>
                  <a:pt x="349" y="31"/>
                  <a:pt x="364" y="30"/>
                </a:cubicBezTo>
                <a:cubicBezTo>
                  <a:pt x="349" y="29"/>
                  <a:pt x="349" y="29"/>
                  <a:pt x="349" y="29"/>
                </a:cubicBezTo>
                <a:cubicBezTo>
                  <a:pt x="344" y="27"/>
                  <a:pt x="337" y="29"/>
                  <a:pt x="333" y="27"/>
                </a:cubicBezTo>
                <a:cubicBezTo>
                  <a:pt x="346" y="26"/>
                  <a:pt x="358" y="27"/>
                  <a:pt x="370" y="28"/>
                </a:cubicBezTo>
                <a:cubicBezTo>
                  <a:pt x="367" y="28"/>
                  <a:pt x="362" y="28"/>
                  <a:pt x="359" y="28"/>
                </a:cubicBezTo>
                <a:cubicBezTo>
                  <a:pt x="359" y="28"/>
                  <a:pt x="359" y="28"/>
                  <a:pt x="359" y="28"/>
                </a:cubicBezTo>
                <a:cubicBezTo>
                  <a:pt x="364" y="27"/>
                  <a:pt x="369" y="29"/>
                  <a:pt x="373" y="28"/>
                </a:cubicBezTo>
                <a:cubicBezTo>
                  <a:pt x="372" y="28"/>
                  <a:pt x="371" y="28"/>
                  <a:pt x="371" y="28"/>
                </a:cubicBezTo>
                <a:cubicBezTo>
                  <a:pt x="379" y="27"/>
                  <a:pt x="388" y="29"/>
                  <a:pt x="396" y="28"/>
                </a:cubicBezTo>
                <a:cubicBezTo>
                  <a:pt x="379" y="27"/>
                  <a:pt x="379" y="27"/>
                  <a:pt x="379" y="27"/>
                </a:cubicBezTo>
                <a:cubicBezTo>
                  <a:pt x="372" y="26"/>
                  <a:pt x="366" y="27"/>
                  <a:pt x="358" y="26"/>
                </a:cubicBezTo>
                <a:cubicBezTo>
                  <a:pt x="359" y="25"/>
                  <a:pt x="359" y="25"/>
                  <a:pt x="359" y="25"/>
                </a:cubicBezTo>
                <a:cubicBezTo>
                  <a:pt x="377" y="27"/>
                  <a:pt x="391" y="24"/>
                  <a:pt x="410" y="25"/>
                </a:cubicBezTo>
                <a:cubicBezTo>
                  <a:pt x="409" y="25"/>
                  <a:pt x="409" y="25"/>
                  <a:pt x="409" y="25"/>
                </a:cubicBezTo>
                <a:cubicBezTo>
                  <a:pt x="337" y="22"/>
                  <a:pt x="337" y="22"/>
                  <a:pt x="337" y="22"/>
                </a:cubicBezTo>
                <a:cubicBezTo>
                  <a:pt x="326" y="22"/>
                  <a:pt x="326" y="22"/>
                  <a:pt x="326" y="22"/>
                </a:cubicBezTo>
                <a:cubicBezTo>
                  <a:pt x="337" y="21"/>
                  <a:pt x="347" y="23"/>
                  <a:pt x="358" y="22"/>
                </a:cubicBezTo>
                <a:cubicBezTo>
                  <a:pt x="350" y="21"/>
                  <a:pt x="341" y="21"/>
                  <a:pt x="333" y="21"/>
                </a:cubicBezTo>
                <a:cubicBezTo>
                  <a:pt x="334" y="20"/>
                  <a:pt x="334" y="20"/>
                  <a:pt x="334" y="20"/>
                </a:cubicBezTo>
                <a:cubicBezTo>
                  <a:pt x="344" y="20"/>
                  <a:pt x="357" y="21"/>
                  <a:pt x="366" y="19"/>
                </a:cubicBezTo>
                <a:cubicBezTo>
                  <a:pt x="365" y="19"/>
                  <a:pt x="364" y="19"/>
                  <a:pt x="364" y="19"/>
                </a:cubicBezTo>
                <a:cubicBezTo>
                  <a:pt x="366" y="18"/>
                  <a:pt x="366" y="18"/>
                  <a:pt x="366" y="18"/>
                </a:cubicBezTo>
                <a:cubicBezTo>
                  <a:pt x="355" y="18"/>
                  <a:pt x="355" y="18"/>
                  <a:pt x="355" y="18"/>
                </a:cubicBezTo>
                <a:cubicBezTo>
                  <a:pt x="352" y="16"/>
                  <a:pt x="346" y="17"/>
                  <a:pt x="342" y="16"/>
                </a:cubicBezTo>
                <a:cubicBezTo>
                  <a:pt x="343" y="16"/>
                  <a:pt x="343" y="16"/>
                  <a:pt x="343" y="16"/>
                </a:cubicBezTo>
                <a:cubicBezTo>
                  <a:pt x="353" y="16"/>
                  <a:pt x="364" y="16"/>
                  <a:pt x="374" y="16"/>
                </a:cubicBezTo>
                <a:cubicBezTo>
                  <a:pt x="344" y="15"/>
                  <a:pt x="344" y="15"/>
                  <a:pt x="344" y="15"/>
                </a:cubicBezTo>
                <a:cubicBezTo>
                  <a:pt x="349" y="14"/>
                  <a:pt x="354" y="15"/>
                  <a:pt x="359" y="14"/>
                </a:cubicBezTo>
                <a:cubicBezTo>
                  <a:pt x="358" y="14"/>
                  <a:pt x="358" y="14"/>
                  <a:pt x="358" y="14"/>
                </a:cubicBezTo>
                <a:cubicBezTo>
                  <a:pt x="347" y="14"/>
                  <a:pt x="337" y="13"/>
                  <a:pt x="326" y="13"/>
                </a:cubicBezTo>
                <a:cubicBezTo>
                  <a:pt x="337" y="12"/>
                  <a:pt x="347" y="13"/>
                  <a:pt x="357" y="13"/>
                </a:cubicBezTo>
                <a:cubicBezTo>
                  <a:pt x="348" y="12"/>
                  <a:pt x="348" y="12"/>
                  <a:pt x="348" y="12"/>
                </a:cubicBezTo>
                <a:cubicBezTo>
                  <a:pt x="358" y="12"/>
                  <a:pt x="366" y="13"/>
                  <a:pt x="376" y="12"/>
                </a:cubicBezTo>
                <a:cubicBezTo>
                  <a:pt x="352" y="10"/>
                  <a:pt x="328" y="10"/>
                  <a:pt x="303" y="9"/>
                </a:cubicBezTo>
                <a:cubicBezTo>
                  <a:pt x="307" y="7"/>
                  <a:pt x="313" y="9"/>
                  <a:pt x="315" y="8"/>
                </a:cubicBezTo>
                <a:cubicBezTo>
                  <a:pt x="305" y="7"/>
                  <a:pt x="294" y="7"/>
                  <a:pt x="283" y="7"/>
                </a:cubicBezTo>
                <a:cubicBezTo>
                  <a:pt x="281" y="7"/>
                  <a:pt x="283" y="6"/>
                  <a:pt x="281" y="6"/>
                </a:cubicBezTo>
                <a:cubicBezTo>
                  <a:pt x="282" y="6"/>
                  <a:pt x="283" y="6"/>
                  <a:pt x="284" y="6"/>
                </a:cubicBezTo>
                <a:cubicBezTo>
                  <a:pt x="353" y="8"/>
                  <a:pt x="353" y="8"/>
                  <a:pt x="353" y="8"/>
                </a:cubicBezTo>
                <a:cubicBezTo>
                  <a:pt x="363" y="9"/>
                  <a:pt x="373" y="9"/>
                  <a:pt x="382" y="9"/>
                </a:cubicBezTo>
                <a:cubicBezTo>
                  <a:pt x="358" y="8"/>
                  <a:pt x="358" y="8"/>
                  <a:pt x="358" y="8"/>
                </a:cubicBezTo>
                <a:cubicBezTo>
                  <a:pt x="357" y="8"/>
                  <a:pt x="357" y="8"/>
                  <a:pt x="357" y="8"/>
                </a:cubicBezTo>
                <a:cubicBezTo>
                  <a:pt x="368" y="8"/>
                  <a:pt x="379" y="9"/>
                  <a:pt x="390" y="8"/>
                </a:cubicBezTo>
                <a:cubicBezTo>
                  <a:pt x="373" y="9"/>
                  <a:pt x="358" y="4"/>
                  <a:pt x="342" y="5"/>
                </a:cubicBezTo>
                <a:cubicBezTo>
                  <a:pt x="343" y="5"/>
                  <a:pt x="343" y="5"/>
                  <a:pt x="343" y="6"/>
                </a:cubicBezTo>
                <a:cubicBezTo>
                  <a:pt x="340" y="6"/>
                  <a:pt x="337" y="6"/>
                  <a:pt x="334" y="5"/>
                </a:cubicBezTo>
                <a:cubicBezTo>
                  <a:pt x="334" y="5"/>
                  <a:pt x="334" y="5"/>
                  <a:pt x="334" y="5"/>
                </a:cubicBezTo>
                <a:cubicBezTo>
                  <a:pt x="334" y="5"/>
                  <a:pt x="334" y="5"/>
                  <a:pt x="334" y="5"/>
                </a:cubicBezTo>
                <a:cubicBezTo>
                  <a:pt x="334" y="5"/>
                  <a:pt x="333" y="5"/>
                  <a:pt x="333" y="5"/>
                </a:cubicBezTo>
                <a:cubicBezTo>
                  <a:pt x="331" y="5"/>
                  <a:pt x="328" y="6"/>
                  <a:pt x="327" y="4"/>
                </a:cubicBezTo>
                <a:cubicBezTo>
                  <a:pt x="326" y="5"/>
                  <a:pt x="326" y="5"/>
                  <a:pt x="326" y="5"/>
                </a:cubicBezTo>
                <a:cubicBezTo>
                  <a:pt x="324" y="4"/>
                  <a:pt x="324" y="4"/>
                  <a:pt x="324" y="4"/>
                </a:cubicBezTo>
                <a:cubicBezTo>
                  <a:pt x="324" y="5"/>
                  <a:pt x="324" y="5"/>
                  <a:pt x="324" y="5"/>
                </a:cubicBezTo>
                <a:cubicBezTo>
                  <a:pt x="285" y="4"/>
                  <a:pt x="285" y="4"/>
                  <a:pt x="285" y="4"/>
                </a:cubicBezTo>
                <a:cubicBezTo>
                  <a:pt x="286" y="3"/>
                  <a:pt x="286" y="3"/>
                  <a:pt x="286" y="3"/>
                </a:cubicBezTo>
                <a:cubicBezTo>
                  <a:pt x="284" y="4"/>
                  <a:pt x="280" y="2"/>
                  <a:pt x="280" y="4"/>
                </a:cubicBezTo>
                <a:cubicBezTo>
                  <a:pt x="259" y="4"/>
                  <a:pt x="259" y="4"/>
                  <a:pt x="259" y="4"/>
                </a:cubicBezTo>
                <a:cubicBezTo>
                  <a:pt x="258" y="3"/>
                  <a:pt x="258" y="3"/>
                  <a:pt x="258" y="3"/>
                </a:cubicBezTo>
                <a:cubicBezTo>
                  <a:pt x="258" y="3"/>
                  <a:pt x="258" y="3"/>
                  <a:pt x="258" y="3"/>
                </a:cubicBezTo>
                <a:cubicBezTo>
                  <a:pt x="255" y="3"/>
                  <a:pt x="255" y="3"/>
                  <a:pt x="255" y="3"/>
                </a:cubicBezTo>
                <a:cubicBezTo>
                  <a:pt x="255" y="3"/>
                  <a:pt x="255" y="3"/>
                  <a:pt x="255" y="3"/>
                </a:cubicBezTo>
                <a:cubicBezTo>
                  <a:pt x="251" y="4"/>
                  <a:pt x="246" y="4"/>
                  <a:pt x="241" y="3"/>
                </a:cubicBezTo>
                <a:cubicBezTo>
                  <a:pt x="241" y="3"/>
                  <a:pt x="242" y="3"/>
                  <a:pt x="242" y="3"/>
                </a:cubicBezTo>
                <a:cubicBezTo>
                  <a:pt x="237" y="3"/>
                  <a:pt x="237" y="3"/>
                  <a:pt x="237" y="3"/>
                </a:cubicBezTo>
                <a:cubicBezTo>
                  <a:pt x="237" y="3"/>
                  <a:pt x="237" y="3"/>
                  <a:pt x="237" y="3"/>
                </a:cubicBezTo>
                <a:cubicBezTo>
                  <a:pt x="230" y="4"/>
                  <a:pt x="223" y="3"/>
                  <a:pt x="216" y="3"/>
                </a:cubicBezTo>
                <a:cubicBezTo>
                  <a:pt x="216" y="2"/>
                  <a:pt x="216" y="2"/>
                  <a:pt x="216" y="2"/>
                </a:cubicBezTo>
                <a:cubicBezTo>
                  <a:pt x="215" y="2"/>
                  <a:pt x="214" y="2"/>
                  <a:pt x="214" y="2"/>
                </a:cubicBezTo>
                <a:cubicBezTo>
                  <a:pt x="210" y="2"/>
                  <a:pt x="206" y="1"/>
                  <a:pt x="204" y="3"/>
                </a:cubicBezTo>
                <a:cubicBezTo>
                  <a:pt x="203" y="2"/>
                  <a:pt x="202" y="2"/>
                  <a:pt x="201" y="3"/>
                </a:cubicBezTo>
                <a:cubicBezTo>
                  <a:pt x="199" y="1"/>
                  <a:pt x="194" y="2"/>
                  <a:pt x="190" y="2"/>
                </a:cubicBezTo>
                <a:cubicBezTo>
                  <a:pt x="190" y="3"/>
                  <a:pt x="186" y="3"/>
                  <a:pt x="184" y="3"/>
                </a:cubicBezTo>
                <a:cubicBezTo>
                  <a:pt x="183" y="2"/>
                  <a:pt x="181" y="3"/>
                  <a:pt x="181" y="2"/>
                </a:cubicBezTo>
                <a:cubicBezTo>
                  <a:pt x="175" y="0"/>
                  <a:pt x="170" y="4"/>
                  <a:pt x="164" y="2"/>
                </a:cubicBezTo>
                <a:cubicBezTo>
                  <a:pt x="163" y="2"/>
                  <a:pt x="163" y="2"/>
                  <a:pt x="163" y="2"/>
                </a:cubicBezTo>
                <a:cubicBezTo>
                  <a:pt x="162" y="2"/>
                  <a:pt x="162" y="2"/>
                  <a:pt x="162" y="2"/>
                </a:cubicBezTo>
                <a:cubicBezTo>
                  <a:pt x="161" y="2"/>
                  <a:pt x="161" y="2"/>
                  <a:pt x="161" y="2"/>
                </a:cubicBezTo>
                <a:cubicBezTo>
                  <a:pt x="158" y="2"/>
                  <a:pt x="153" y="1"/>
                  <a:pt x="150" y="2"/>
                </a:cubicBezTo>
                <a:cubicBezTo>
                  <a:pt x="147" y="2"/>
                  <a:pt x="146" y="2"/>
                  <a:pt x="144" y="2"/>
                </a:cubicBezTo>
                <a:cubicBezTo>
                  <a:pt x="78" y="2"/>
                  <a:pt x="78" y="2"/>
                  <a:pt x="78" y="2"/>
                </a:cubicBezTo>
                <a:cubicBezTo>
                  <a:pt x="78" y="1"/>
                  <a:pt x="78" y="1"/>
                  <a:pt x="78" y="1"/>
                </a:cubicBezTo>
                <a:cubicBezTo>
                  <a:pt x="80" y="1"/>
                  <a:pt x="86" y="1"/>
                  <a:pt x="85" y="1"/>
                </a:cubicBezTo>
                <a:cubicBezTo>
                  <a:pt x="77" y="1"/>
                  <a:pt x="69" y="1"/>
                  <a:pt x="61" y="2"/>
                </a:cubicBezTo>
                <a:cubicBezTo>
                  <a:pt x="42" y="4"/>
                  <a:pt x="20" y="3"/>
                  <a:pt x="2" y="7"/>
                </a:cubicBezTo>
                <a:cubicBezTo>
                  <a:pt x="3" y="7"/>
                  <a:pt x="4" y="7"/>
                  <a:pt x="4" y="7"/>
                </a:cubicBezTo>
                <a:cubicBezTo>
                  <a:pt x="3" y="7"/>
                  <a:pt x="2" y="8"/>
                  <a:pt x="1" y="9"/>
                </a:cubicBezTo>
                <a:cubicBezTo>
                  <a:pt x="2" y="9"/>
                  <a:pt x="3" y="9"/>
                  <a:pt x="3" y="9"/>
                </a:cubicBezTo>
                <a:cubicBezTo>
                  <a:pt x="3" y="10"/>
                  <a:pt x="2" y="10"/>
                  <a:pt x="1" y="10"/>
                </a:cubicBezTo>
                <a:cubicBezTo>
                  <a:pt x="2" y="10"/>
                  <a:pt x="3" y="10"/>
                  <a:pt x="4" y="11"/>
                </a:cubicBezTo>
                <a:cubicBezTo>
                  <a:pt x="1" y="12"/>
                  <a:pt x="1" y="12"/>
                  <a:pt x="1" y="12"/>
                </a:cubicBezTo>
                <a:cubicBezTo>
                  <a:pt x="3" y="12"/>
                  <a:pt x="0" y="12"/>
                  <a:pt x="1" y="13"/>
                </a:cubicBezTo>
                <a:cubicBezTo>
                  <a:pt x="4" y="14"/>
                  <a:pt x="4" y="14"/>
                  <a:pt x="4" y="14"/>
                </a:cubicBezTo>
                <a:cubicBezTo>
                  <a:pt x="4" y="15"/>
                  <a:pt x="0" y="15"/>
                  <a:pt x="2" y="16"/>
                </a:cubicBezTo>
                <a:cubicBezTo>
                  <a:pt x="2" y="16"/>
                  <a:pt x="3" y="17"/>
                  <a:pt x="4" y="17"/>
                </a:cubicBezTo>
                <a:cubicBezTo>
                  <a:pt x="4" y="17"/>
                  <a:pt x="3" y="17"/>
                  <a:pt x="3" y="17"/>
                </a:cubicBezTo>
                <a:cubicBezTo>
                  <a:pt x="3" y="17"/>
                  <a:pt x="3" y="18"/>
                  <a:pt x="2" y="18"/>
                </a:cubicBezTo>
                <a:cubicBezTo>
                  <a:pt x="5" y="19"/>
                  <a:pt x="2" y="21"/>
                  <a:pt x="6" y="21"/>
                </a:cubicBezTo>
                <a:cubicBezTo>
                  <a:pt x="4" y="22"/>
                  <a:pt x="4" y="22"/>
                  <a:pt x="4" y="22"/>
                </a:cubicBezTo>
                <a:cubicBezTo>
                  <a:pt x="5" y="21"/>
                  <a:pt x="6" y="22"/>
                  <a:pt x="7" y="22"/>
                </a:cubicBezTo>
                <a:cubicBezTo>
                  <a:pt x="6" y="23"/>
                  <a:pt x="4" y="22"/>
                  <a:pt x="3" y="23"/>
                </a:cubicBezTo>
                <a:cubicBezTo>
                  <a:pt x="5" y="24"/>
                  <a:pt x="5" y="24"/>
                  <a:pt x="5" y="24"/>
                </a:cubicBezTo>
                <a:cubicBezTo>
                  <a:pt x="3" y="25"/>
                  <a:pt x="3" y="25"/>
                  <a:pt x="3" y="25"/>
                </a:cubicBezTo>
                <a:cubicBezTo>
                  <a:pt x="4" y="25"/>
                  <a:pt x="4" y="25"/>
                  <a:pt x="4" y="25"/>
                </a:cubicBezTo>
                <a:cubicBezTo>
                  <a:pt x="5" y="25"/>
                  <a:pt x="5" y="26"/>
                  <a:pt x="5" y="26"/>
                </a:cubicBezTo>
                <a:cubicBezTo>
                  <a:pt x="6" y="26"/>
                  <a:pt x="7" y="26"/>
                  <a:pt x="8" y="27"/>
                </a:cubicBezTo>
                <a:cubicBezTo>
                  <a:pt x="7" y="27"/>
                  <a:pt x="6" y="27"/>
                  <a:pt x="5" y="27"/>
                </a:cubicBezTo>
                <a:cubicBezTo>
                  <a:pt x="6" y="27"/>
                  <a:pt x="8" y="27"/>
                  <a:pt x="7" y="28"/>
                </a:cubicBezTo>
                <a:cubicBezTo>
                  <a:pt x="7" y="28"/>
                  <a:pt x="7" y="28"/>
                  <a:pt x="6" y="28"/>
                </a:cubicBezTo>
                <a:cubicBezTo>
                  <a:pt x="7" y="29"/>
                  <a:pt x="7" y="29"/>
                  <a:pt x="7" y="29"/>
                </a:cubicBezTo>
                <a:cubicBezTo>
                  <a:pt x="4" y="29"/>
                  <a:pt x="8" y="30"/>
                  <a:pt x="7" y="31"/>
                </a:cubicBezTo>
                <a:cubicBezTo>
                  <a:pt x="8" y="32"/>
                  <a:pt x="10" y="33"/>
                  <a:pt x="12" y="33"/>
                </a:cubicBezTo>
                <a:cubicBezTo>
                  <a:pt x="11" y="34"/>
                  <a:pt x="9" y="33"/>
                  <a:pt x="8" y="34"/>
                </a:cubicBezTo>
                <a:cubicBezTo>
                  <a:pt x="6" y="34"/>
                  <a:pt x="9" y="34"/>
                  <a:pt x="7" y="34"/>
                </a:cubicBezTo>
                <a:cubicBezTo>
                  <a:pt x="8" y="36"/>
                  <a:pt x="12" y="34"/>
                  <a:pt x="14" y="36"/>
                </a:cubicBezTo>
                <a:cubicBezTo>
                  <a:pt x="12" y="37"/>
                  <a:pt x="9" y="35"/>
                  <a:pt x="8" y="37"/>
                </a:cubicBezTo>
                <a:cubicBezTo>
                  <a:pt x="10" y="37"/>
                  <a:pt x="11" y="37"/>
                  <a:pt x="12" y="37"/>
                </a:cubicBezTo>
                <a:cubicBezTo>
                  <a:pt x="10" y="38"/>
                  <a:pt x="9" y="38"/>
                  <a:pt x="9" y="39"/>
                </a:cubicBezTo>
                <a:cubicBezTo>
                  <a:pt x="12" y="40"/>
                  <a:pt x="12" y="40"/>
                  <a:pt x="12" y="40"/>
                </a:cubicBezTo>
                <a:cubicBezTo>
                  <a:pt x="8" y="40"/>
                  <a:pt x="12" y="43"/>
                  <a:pt x="8" y="42"/>
                </a:cubicBezTo>
                <a:cubicBezTo>
                  <a:pt x="10" y="42"/>
                  <a:pt x="10" y="42"/>
                  <a:pt x="10" y="42"/>
                </a:cubicBezTo>
                <a:cubicBezTo>
                  <a:pt x="9" y="43"/>
                  <a:pt x="12" y="43"/>
                  <a:pt x="10" y="44"/>
                </a:cubicBezTo>
                <a:cubicBezTo>
                  <a:pt x="12" y="45"/>
                  <a:pt x="12" y="45"/>
                  <a:pt x="12" y="45"/>
                </a:cubicBezTo>
                <a:cubicBezTo>
                  <a:pt x="10" y="46"/>
                  <a:pt x="10" y="46"/>
                  <a:pt x="10" y="46"/>
                </a:cubicBezTo>
                <a:cubicBezTo>
                  <a:pt x="11" y="47"/>
                  <a:pt x="14" y="46"/>
                  <a:pt x="15" y="47"/>
                </a:cubicBezTo>
                <a:cubicBezTo>
                  <a:pt x="13" y="48"/>
                  <a:pt x="10" y="48"/>
                  <a:pt x="10" y="48"/>
                </a:cubicBezTo>
                <a:cubicBezTo>
                  <a:pt x="11" y="49"/>
                  <a:pt x="11" y="49"/>
                  <a:pt x="11" y="49"/>
                </a:cubicBezTo>
                <a:cubicBezTo>
                  <a:pt x="11" y="49"/>
                  <a:pt x="10" y="49"/>
                  <a:pt x="9" y="49"/>
                </a:cubicBezTo>
                <a:cubicBezTo>
                  <a:pt x="13" y="50"/>
                  <a:pt x="13" y="50"/>
                  <a:pt x="13" y="50"/>
                </a:cubicBezTo>
                <a:cubicBezTo>
                  <a:pt x="12" y="50"/>
                  <a:pt x="12" y="50"/>
                  <a:pt x="12" y="50"/>
                </a:cubicBezTo>
                <a:cubicBezTo>
                  <a:pt x="15" y="51"/>
                  <a:pt x="15" y="51"/>
                  <a:pt x="15" y="51"/>
                </a:cubicBezTo>
                <a:cubicBezTo>
                  <a:pt x="14" y="51"/>
                  <a:pt x="13" y="52"/>
                  <a:pt x="11" y="52"/>
                </a:cubicBezTo>
                <a:cubicBezTo>
                  <a:pt x="12" y="52"/>
                  <a:pt x="12" y="52"/>
                  <a:pt x="12" y="52"/>
                </a:cubicBezTo>
                <a:cubicBezTo>
                  <a:pt x="12" y="53"/>
                  <a:pt x="12" y="53"/>
                  <a:pt x="11" y="53"/>
                </a:cubicBezTo>
                <a:cubicBezTo>
                  <a:pt x="13" y="53"/>
                  <a:pt x="16" y="52"/>
                  <a:pt x="17" y="53"/>
                </a:cubicBezTo>
                <a:cubicBezTo>
                  <a:pt x="15" y="55"/>
                  <a:pt x="12" y="53"/>
                  <a:pt x="11" y="54"/>
                </a:cubicBezTo>
                <a:cubicBezTo>
                  <a:pt x="14" y="55"/>
                  <a:pt x="18" y="55"/>
                  <a:pt x="22" y="55"/>
                </a:cubicBezTo>
                <a:cubicBezTo>
                  <a:pt x="18" y="57"/>
                  <a:pt x="14" y="56"/>
                  <a:pt x="9" y="57"/>
                </a:cubicBezTo>
                <a:cubicBezTo>
                  <a:pt x="10" y="57"/>
                  <a:pt x="11" y="57"/>
                  <a:pt x="12" y="58"/>
                </a:cubicBezTo>
                <a:cubicBezTo>
                  <a:pt x="11" y="58"/>
                  <a:pt x="11" y="58"/>
                  <a:pt x="11" y="58"/>
                </a:cubicBezTo>
                <a:cubicBezTo>
                  <a:pt x="16" y="59"/>
                  <a:pt x="16" y="59"/>
                  <a:pt x="16" y="59"/>
                </a:cubicBezTo>
                <a:cubicBezTo>
                  <a:pt x="14" y="60"/>
                  <a:pt x="14" y="60"/>
                  <a:pt x="14" y="60"/>
                </a:cubicBezTo>
                <a:cubicBezTo>
                  <a:pt x="14" y="60"/>
                  <a:pt x="14" y="60"/>
                  <a:pt x="14" y="60"/>
                </a:cubicBezTo>
                <a:cubicBezTo>
                  <a:pt x="13" y="61"/>
                  <a:pt x="13" y="60"/>
                  <a:pt x="12" y="61"/>
                </a:cubicBezTo>
                <a:cubicBezTo>
                  <a:pt x="14" y="62"/>
                  <a:pt x="15" y="62"/>
                  <a:pt x="17" y="62"/>
                </a:cubicBezTo>
                <a:cubicBezTo>
                  <a:pt x="28" y="67"/>
                  <a:pt x="44" y="68"/>
                  <a:pt x="58" y="68"/>
                </a:cubicBezTo>
                <a:cubicBezTo>
                  <a:pt x="58" y="68"/>
                  <a:pt x="58" y="68"/>
                  <a:pt x="58" y="68"/>
                </a:cubicBezTo>
                <a:cubicBezTo>
                  <a:pt x="83" y="69"/>
                  <a:pt x="83" y="69"/>
                  <a:pt x="83" y="69"/>
                </a:cubicBezTo>
                <a:cubicBezTo>
                  <a:pt x="84" y="70"/>
                  <a:pt x="86" y="70"/>
                  <a:pt x="88" y="70"/>
                </a:cubicBezTo>
                <a:cubicBezTo>
                  <a:pt x="137" y="67"/>
                  <a:pt x="190" y="70"/>
                  <a:pt x="238" y="70"/>
                </a:cubicBezTo>
                <a:cubicBezTo>
                  <a:pt x="241" y="71"/>
                  <a:pt x="245" y="71"/>
                  <a:pt x="247" y="70"/>
                </a:cubicBezTo>
                <a:cubicBezTo>
                  <a:pt x="305" y="70"/>
                  <a:pt x="305" y="70"/>
                  <a:pt x="305" y="70"/>
                </a:cubicBezTo>
                <a:cubicBezTo>
                  <a:pt x="304" y="70"/>
                  <a:pt x="304" y="70"/>
                  <a:pt x="304" y="70"/>
                </a:cubicBezTo>
                <a:cubicBezTo>
                  <a:pt x="310" y="70"/>
                  <a:pt x="315" y="70"/>
                  <a:pt x="321" y="69"/>
                </a:cubicBezTo>
                <a:cubicBezTo>
                  <a:pt x="322" y="70"/>
                  <a:pt x="322" y="70"/>
                  <a:pt x="322" y="70"/>
                </a:cubicBezTo>
                <a:cubicBezTo>
                  <a:pt x="337" y="69"/>
                  <a:pt x="337" y="69"/>
                  <a:pt x="337" y="69"/>
                </a:cubicBezTo>
                <a:cubicBezTo>
                  <a:pt x="360" y="68"/>
                  <a:pt x="380" y="70"/>
                  <a:pt x="402" y="68"/>
                </a:cubicBezTo>
                <a:cubicBezTo>
                  <a:pt x="398" y="67"/>
                  <a:pt x="394" y="68"/>
                  <a:pt x="391" y="67"/>
                </a:cubicBezTo>
                <a:cubicBezTo>
                  <a:pt x="400" y="67"/>
                  <a:pt x="408" y="65"/>
                  <a:pt x="417" y="64"/>
                </a:cubicBezTo>
                <a:cubicBezTo>
                  <a:pt x="383" y="64"/>
                  <a:pt x="348" y="64"/>
                  <a:pt x="313" y="63"/>
                </a:cubicBezTo>
                <a:close/>
                <a:moveTo>
                  <a:pt x="336" y="14"/>
                </a:moveTo>
                <a:cubicBezTo>
                  <a:pt x="334" y="14"/>
                  <a:pt x="334" y="14"/>
                  <a:pt x="334" y="14"/>
                </a:cubicBezTo>
                <a:cubicBezTo>
                  <a:pt x="332" y="14"/>
                  <a:pt x="332" y="14"/>
                  <a:pt x="332" y="14"/>
                </a:cubicBezTo>
                <a:lnTo>
                  <a:pt x="336" y="14"/>
                </a:lnTo>
                <a:close/>
                <a:moveTo>
                  <a:pt x="310" y="69"/>
                </a:moveTo>
                <a:cubicBezTo>
                  <a:pt x="312" y="69"/>
                  <a:pt x="314" y="68"/>
                  <a:pt x="316" y="69"/>
                </a:cubicBezTo>
                <a:cubicBezTo>
                  <a:pt x="314" y="69"/>
                  <a:pt x="312" y="69"/>
                  <a:pt x="310" y="69"/>
                </a:cubicBezTo>
                <a:close/>
                <a:moveTo>
                  <a:pt x="322" y="66"/>
                </a:moveTo>
                <a:cubicBezTo>
                  <a:pt x="320" y="66"/>
                  <a:pt x="320" y="66"/>
                  <a:pt x="320" y="66"/>
                </a:cubicBezTo>
                <a:cubicBezTo>
                  <a:pt x="310" y="66"/>
                  <a:pt x="298" y="66"/>
                  <a:pt x="287" y="66"/>
                </a:cubicBezTo>
                <a:cubicBezTo>
                  <a:pt x="285" y="66"/>
                  <a:pt x="284" y="66"/>
                  <a:pt x="282" y="66"/>
                </a:cubicBezTo>
                <a:cubicBezTo>
                  <a:pt x="284" y="66"/>
                  <a:pt x="285" y="66"/>
                  <a:pt x="287" y="66"/>
                </a:cubicBezTo>
                <a:cubicBezTo>
                  <a:pt x="300" y="65"/>
                  <a:pt x="313" y="65"/>
                  <a:pt x="326" y="65"/>
                </a:cubicBezTo>
                <a:cubicBezTo>
                  <a:pt x="329" y="66"/>
                  <a:pt x="329" y="66"/>
                  <a:pt x="329" y="66"/>
                </a:cubicBezTo>
                <a:cubicBezTo>
                  <a:pt x="348" y="66"/>
                  <a:pt x="348" y="66"/>
                  <a:pt x="348" y="66"/>
                </a:cubicBezTo>
                <a:lnTo>
                  <a:pt x="322" y="66"/>
                </a:lnTo>
                <a:close/>
                <a:moveTo>
                  <a:pt x="377" y="67"/>
                </a:moveTo>
                <a:cubicBezTo>
                  <a:pt x="369" y="67"/>
                  <a:pt x="360" y="67"/>
                  <a:pt x="353" y="67"/>
                </a:cubicBezTo>
                <a:cubicBezTo>
                  <a:pt x="353" y="66"/>
                  <a:pt x="353" y="66"/>
                  <a:pt x="353" y="66"/>
                </a:cubicBezTo>
                <a:cubicBezTo>
                  <a:pt x="360" y="67"/>
                  <a:pt x="369" y="67"/>
                  <a:pt x="377" y="67"/>
                </a:cubicBezTo>
                <a:cubicBezTo>
                  <a:pt x="381" y="67"/>
                  <a:pt x="385" y="67"/>
                  <a:pt x="389" y="67"/>
                </a:cubicBezTo>
                <a:cubicBezTo>
                  <a:pt x="385" y="67"/>
                  <a:pt x="381" y="67"/>
                  <a:pt x="377" y="67"/>
                </a:cubicBezTo>
                <a:close/>
              </a:path>
            </a:pathLst>
          </a:custGeom>
          <a:solidFill>
            <a:srgbClr val="2c3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173"/>
          <p:cNvSpPr/>
          <p:nvPr/>
        </p:nvSpPr>
        <p:spPr>
          <a:xfrm rot="5400000">
            <a:off x="8218440" y="5025960"/>
            <a:ext cx="1523880" cy="60624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606240"/>
              <a:gd name="textAreaBottom" fmla="*/ 606600 h 606240"/>
            </a:gdLst>
            <a:ahLst/>
            <a:rect l="textAreaLeft" t="textAreaTop" r="textAreaRight" b="textAreaBottom"/>
            <a:pathLst>
              <a:path w="419" h="71">
                <a:moveTo>
                  <a:pt x="313" y="63"/>
                </a:moveTo>
                <a:cubicBezTo>
                  <a:pt x="313" y="62"/>
                  <a:pt x="313" y="62"/>
                  <a:pt x="313" y="62"/>
                </a:cubicBezTo>
                <a:cubicBezTo>
                  <a:pt x="317" y="62"/>
                  <a:pt x="321" y="62"/>
                  <a:pt x="325" y="62"/>
                </a:cubicBezTo>
                <a:cubicBezTo>
                  <a:pt x="326" y="62"/>
                  <a:pt x="326" y="62"/>
                  <a:pt x="326" y="62"/>
                </a:cubicBezTo>
                <a:cubicBezTo>
                  <a:pt x="325" y="62"/>
                  <a:pt x="323" y="62"/>
                  <a:pt x="322" y="61"/>
                </a:cubicBezTo>
                <a:cubicBezTo>
                  <a:pt x="353" y="61"/>
                  <a:pt x="353" y="61"/>
                  <a:pt x="353" y="61"/>
                </a:cubicBezTo>
                <a:cubicBezTo>
                  <a:pt x="355" y="61"/>
                  <a:pt x="355" y="61"/>
                  <a:pt x="355" y="61"/>
                </a:cubicBezTo>
                <a:cubicBezTo>
                  <a:pt x="372" y="61"/>
                  <a:pt x="390" y="62"/>
                  <a:pt x="406" y="61"/>
                </a:cubicBezTo>
                <a:cubicBezTo>
                  <a:pt x="404" y="60"/>
                  <a:pt x="404" y="60"/>
                  <a:pt x="404" y="60"/>
                </a:cubicBezTo>
                <a:cubicBezTo>
                  <a:pt x="409" y="60"/>
                  <a:pt x="415" y="60"/>
                  <a:pt x="419" y="59"/>
                </a:cubicBezTo>
                <a:cubicBezTo>
                  <a:pt x="384" y="58"/>
                  <a:pt x="349" y="60"/>
                  <a:pt x="316" y="57"/>
                </a:cubicBezTo>
                <a:cubicBezTo>
                  <a:pt x="316" y="57"/>
                  <a:pt x="317" y="57"/>
                  <a:pt x="317" y="56"/>
                </a:cubicBezTo>
                <a:cubicBezTo>
                  <a:pt x="349" y="56"/>
                  <a:pt x="382" y="59"/>
                  <a:pt x="414" y="57"/>
                </a:cubicBezTo>
                <a:cubicBezTo>
                  <a:pt x="405" y="56"/>
                  <a:pt x="394" y="56"/>
                  <a:pt x="385" y="55"/>
                </a:cubicBezTo>
                <a:cubicBezTo>
                  <a:pt x="385" y="55"/>
                  <a:pt x="385" y="55"/>
                  <a:pt x="385" y="55"/>
                </a:cubicBezTo>
                <a:cubicBezTo>
                  <a:pt x="400" y="55"/>
                  <a:pt x="400" y="55"/>
                  <a:pt x="400" y="55"/>
                </a:cubicBezTo>
                <a:cubicBezTo>
                  <a:pt x="377" y="54"/>
                  <a:pt x="377" y="54"/>
                  <a:pt x="377" y="54"/>
                </a:cubicBezTo>
                <a:cubicBezTo>
                  <a:pt x="377" y="55"/>
                  <a:pt x="378" y="55"/>
                  <a:pt x="377" y="55"/>
                </a:cubicBezTo>
                <a:cubicBezTo>
                  <a:pt x="376" y="55"/>
                  <a:pt x="374" y="55"/>
                  <a:pt x="374" y="54"/>
                </a:cubicBezTo>
                <a:cubicBezTo>
                  <a:pt x="373" y="55"/>
                  <a:pt x="371" y="54"/>
                  <a:pt x="371" y="55"/>
                </a:cubicBezTo>
                <a:cubicBezTo>
                  <a:pt x="363" y="55"/>
                  <a:pt x="354" y="54"/>
                  <a:pt x="344" y="54"/>
                </a:cubicBezTo>
                <a:cubicBezTo>
                  <a:pt x="343" y="53"/>
                  <a:pt x="343" y="53"/>
                  <a:pt x="343" y="53"/>
                </a:cubicBezTo>
                <a:cubicBezTo>
                  <a:pt x="345" y="53"/>
                  <a:pt x="345" y="53"/>
                  <a:pt x="345" y="53"/>
                </a:cubicBezTo>
                <a:cubicBezTo>
                  <a:pt x="365" y="53"/>
                  <a:pt x="385" y="54"/>
                  <a:pt x="403" y="53"/>
                </a:cubicBezTo>
                <a:cubicBezTo>
                  <a:pt x="379" y="52"/>
                  <a:pt x="353" y="52"/>
                  <a:pt x="329" y="50"/>
                </a:cubicBezTo>
                <a:cubicBezTo>
                  <a:pt x="349" y="50"/>
                  <a:pt x="370" y="51"/>
                  <a:pt x="391" y="51"/>
                </a:cubicBezTo>
                <a:cubicBezTo>
                  <a:pt x="393" y="50"/>
                  <a:pt x="393" y="50"/>
                  <a:pt x="393" y="50"/>
                </a:cubicBezTo>
                <a:cubicBezTo>
                  <a:pt x="408" y="50"/>
                  <a:pt x="408" y="50"/>
                  <a:pt x="408" y="50"/>
                </a:cubicBezTo>
                <a:cubicBezTo>
                  <a:pt x="384" y="49"/>
                  <a:pt x="359" y="48"/>
                  <a:pt x="334" y="48"/>
                </a:cubicBezTo>
                <a:cubicBezTo>
                  <a:pt x="335" y="47"/>
                  <a:pt x="336" y="47"/>
                  <a:pt x="337" y="47"/>
                </a:cubicBezTo>
                <a:cubicBezTo>
                  <a:pt x="359" y="48"/>
                  <a:pt x="381" y="49"/>
                  <a:pt x="403" y="48"/>
                </a:cubicBezTo>
                <a:cubicBezTo>
                  <a:pt x="397" y="48"/>
                  <a:pt x="391" y="47"/>
                  <a:pt x="385" y="46"/>
                </a:cubicBezTo>
                <a:cubicBezTo>
                  <a:pt x="388" y="45"/>
                  <a:pt x="393" y="47"/>
                  <a:pt x="397" y="46"/>
                </a:cubicBezTo>
                <a:cubicBezTo>
                  <a:pt x="388" y="45"/>
                  <a:pt x="388" y="45"/>
                  <a:pt x="388" y="45"/>
                </a:cubicBezTo>
                <a:cubicBezTo>
                  <a:pt x="386" y="43"/>
                  <a:pt x="380" y="45"/>
                  <a:pt x="377" y="43"/>
                </a:cubicBezTo>
                <a:cubicBezTo>
                  <a:pt x="381" y="43"/>
                  <a:pt x="381" y="43"/>
                  <a:pt x="381" y="43"/>
                </a:cubicBezTo>
                <a:cubicBezTo>
                  <a:pt x="359" y="41"/>
                  <a:pt x="359" y="41"/>
                  <a:pt x="359" y="41"/>
                </a:cubicBezTo>
                <a:cubicBezTo>
                  <a:pt x="389" y="41"/>
                  <a:pt x="389" y="41"/>
                  <a:pt x="389" y="41"/>
                </a:cubicBezTo>
                <a:cubicBezTo>
                  <a:pt x="391" y="39"/>
                  <a:pt x="396" y="41"/>
                  <a:pt x="398" y="40"/>
                </a:cubicBezTo>
                <a:cubicBezTo>
                  <a:pt x="378" y="39"/>
                  <a:pt x="378" y="39"/>
                  <a:pt x="378" y="39"/>
                </a:cubicBezTo>
                <a:cubicBezTo>
                  <a:pt x="377" y="39"/>
                  <a:pt x="377" y="39"/>
                  <a:pt x="377" y="39"/>
                </a:cubicBezTo>
                <a:cubicBezTo>
                  <a:pt x="381" y="38"/>
                  <a:pt x="386" y="40"/>
                  <a:pt x="391" y="39"/>
                </a:cubicBezTo>
                <a:cubicBezTo>
                  <a:pt x="395" y="38"/>
                  <a:pt x="400" y="39"/>
                  <a:pt x="404" y="38"/>
                </a:cubicBezTo>
                <a:cubicBezTo>
                  <a:pt x="378" y="38"/>
                  <a:pt x="355" y="36"/>
                  <a:pt x="329" y="35"/>
                </a:cubicBezTo>
                <a:cubicBezTo>
                  <a:pt x="328" y="35"/>
                  <a:pt x="328" y="35"/>
                  <a:pt x="328" y="35"/>
                </a:cubicBezTo>
                <a:cubicBezTo>
                  <a:pt x="328" y="34"/>
                  <a:pt x="329" y="35"/>
                  <a:pt x="330" y="35"/>
                </a:cubicBezTo>
                <a:cubicBezTo>
                  <a:pt x="324" y="33"/>
                  <a:pt x="316" y="34"/>
                  <a:pt x="309" y="33"/>
                </a:cubicBezTo>
                <a:cubicBezTo>
                  <a:pt x="331" y="32"/>
                  <a:pt x="354" y="35"/>
                  <a:pt x="377" y="34"/>
                </a:cubicBezTo>
                <a:cubicBezTo>
                  <a:pt x="357" y="32"/>
                  <a:pt x="335" y="32"/>
                  <a:pt x="314" y="31"/>
                </a:cubicBezTo>
                <a:cubicBezTo>
                  <a:pt x="317" y="30"/>
                  <a:pt x="322" y="31"/>
                  <a:pt x="325" y="30"/>
                </a:cubicBezTo>
                <a:cubicBezTo>
                  <a:pt x="329" y="31"/>
                  <a:pt x="333" y="31"/>
                  <a:pt x="337" y="31"/>
                </a:cubicBezTo>
                <a:cubicBezTo>
                  <a:pt x="331" y="29"/>
                  <a:pt x="325" y="31"/>
                  <a:pt x="320" y="30"/>
                </a:cubicBezTo>
                <a:cubicBezTo>
                  <a:pt x="335" y="28"/>
                  <a:pt x="349" y="31"/>
                  <a:pt x="364" y="30"/>
                </a:cubicBezTo>
                <a:cubicBezTo>
                  <a:pt x="349" y="29"/>
                  <a:pt x="349" y="29"/>
                  <a:pt x="349" y="29"/>
                </a:cubicBezTo>
                <a:cubicBezTo>
                  <a:pt x="344" y="27"/>
                  <a:pt x="337" y="29"/>
                  <a:pt x="333" y="27"/>
                </a:cubicBezTo>
                <a:cubicBezTo>
                  <a:pt x="346" y="26"/>
                  <a:pt x="358" y="27"/>
                  <a:pt x="370" y="28"/>
                </a:cubicBezTo>
                <a:cubicBezTo>
                  <a:pt x="367" y="28"/>
                  <a:pt x="362" y="28"/>
                  <a:pt x="359" y="28"/>
                </a:cubicBezTo>
                <a:cubicBezTo>
                  <a:pt x="359" y="28"/>
                  <a:pt x="359" y="28"/>
                  <a:pt x="359" y="28"/>
                </a:cubicBezTo>
                <a:cubicBezTo>
                  <a:pt x="364" y="27"/>
                  <a:pt x="369" y="29"/>
                  <a:pt x="373" y="28"/>
                </a:cubicBezTo>
                <a:cubicBezTo>
                  <a:pt x="372" y="28"/>
                  <a:pt x="371" y="28"/>
                  <a:pt x="371" y="28"/>
                </a:cubicBezTo>
                <a:cubicBezTo>
                  <a:pt x="379" y="27"/>
                  <a:pt x="388" y="29"/>
                  <a:pt x="396" y="28"/>
                </a:cubicBezTo>
                <a:cubicBezTo>
                  <a:pt x="379" y="27"/>
                  <a:pt x="379" y="27"/>
                  <a:pt x="379" y="27"/>
                </a:cubicBezTo>
                <a:cubicBezTo>
                  <a:pt x="372" y="26"/>
                  <a:pt x="366" y="27"/>
                  <a:pt x="358" y="26"/>
                </a:cubicBezTo>
                <a:cubicBezTo>
                  <a:pt x="359" y="25"/>
                  <a:pt x="359" y="25"/>
                  <a:pt x="359" y="25"/>
                </a:cubicBezTo>
                <a:cubicBezTo>
                  <a:pt x="377" y="27"/>
                  <a:pt x="391" y="24"/>
                  <a:pt x="410" y="25"/>
                </a:cubicBezTo>
                <a:cubicBezTo>
                  <a:pt x="409" y="25"/>
                  <a:pt x="409" y="25"/>
                  <a:pt x="409" y="25"/>
                </a:cubicBezTo>
                <a:cubicBezTo>
                  <a:pt x="337" y="22"/>
                  <a:pt x="337" y="22"/>
                  <a:pt x="337" y="22"/>
                </a:cubicBezTo>
                <a:cubicBezTo>
                  <a:pt x="326" y="22"/>
                  <a:pt x="326" y="22"/>
                  <a:pt x="326" y="22"/>
                </a:cubicBezTo>
                <a:cubicBezTo>
                  <a:pt x="337" y="21"/>
                  <a:pt x="347" y="23"/>
                  <a:pt x="358" y="22"/>
                </a:cubicBezTo>
                <a:cubicBezTo>
                  <a:pt x="350" y="21"/>
                  <a:pt x="341" y="21"/>
                  <a:pt x="333" y="21"/>
                </a:cubicBezTo>
                <a:cubicBezTo>
                  <a:pt x="334" y="20"/>
                  <a:pt x="334" y="20"/>
                  <a:pt x="334" y="20"/>
                </a:cubicBezTo>
                <a:cubicBezTo>
                  <a:pt x="344" y="20"/>
                  <a:pt x="357" y="21"/>
                  <a:pt x="366" y="19"/>
                </a:cubicBezTo>
                <a:cubicBezTo>
                  <a:pt x="365" y="19"/>
                  <a:pt x="364" y="19"/>
                  <a:pt x="364" y="19"/>
                </a:cubicBezTo>
                <a:cubicBezTo>
                  <a:pt x="366" y="18"/>
                  <a:pt x="366" y="18"/>
                  <a:pt x="366" y="18"/>
                </a:cubicBezTo>
                <a:cubicBezTo>
                  <a:pt x="355" y="18"/>
                  <a:pt x="355" y="18"/>
                  <a:pt x="355" y="18"/>
                </a:cubicBezTo>
                <a:cubicBezTo>
                  <a:pt x="352" y="16"/>
                  <a:pt x="346" y="17"/>
                  <a:pt x="342" y="16"/>
                </a:cubicBezTo>
                <a:cubicBezTo>
                  <a:pt x="343" y="16"/>
                  <a:pt x="343" y="16"/>
                  <a:pt x="343" y="16"/>
                </a:cubicBezTo>
                <a:cubicBezTo>
                  <a:pt x="353" y="16"/>
                  <a:pt x="364" y="16"/>
                  <a:pt x="374" y="16"/>
                </a:cubicBezTo>
                <a:cubicBezTo>
                  <a:pt x="344" y="15"/>
                  <a:pt x="344" y="15"/>
                  <a:pt x="344" y="15"/>
                </a:cubicBezTo>
                <a:cubicBezTo>
                  <a:pt x="349" y="14"/>
                  <a:pt x="354" y="15"/>
                  <a:pt x="359" y="14"/>
                </a:cubicBezTo>
                <a:cubicBezTo>
                  <a:pt x="358" y="14"/>
                  <a:pt x="358" y="14"/>
                  <a:pt x="358" y="14"/>
                </a:cubicBezTo>
                <a:cubicBezTo>
                  <a:pt x="347" y="14"/>
                  <a:pt x="337" y="13"/>
                  <a:pt x="326" y="13"/>
                </a:cubicBezTo>
                <a:cubicBezTo>
                  <a:pt x="337" y="12"/>
                  <a:pt x="347" y="13"/>
                  <a:pt x="357" y="13"/>
                </a:cubicBezTo>
                <a:cubicBezTo>
                  <a:pt x="348" y="12"/>
                  <a:pt x="348" y="12"/>
                  <a:pt x="348" y="12"/>
                </a:cubicBezTo>
                <a:cubicBezTo>
                  <a:pt x="358" y="12"/>
                  <a:pt x="366" y="13"/>
                  <a:pt x="376" y="12"/>
                </a:cubicBezTo>
                <a:cubicBezTo>
                  <a:pt x="352" y="10"/>
                  <a:pt x="328" y="10"/>
                  <a:pt x="303" y="9"/>
                </a:cubicBezTo>
                <a:cubicBezTo>
                  <a:pt x="307" y="7"/>
                  <a:pt x="313" y="9"/>
                  <a:pt x="315" y="8"/>
                </a:cubicBezTo>
                <a:cubicBezTo>
                  <a:pt x="305" y="7"/>
                  <a:pt x="294" y="7"/>
                  <a:pt x="283" y="7"/>
                </a:cubicBezTo>
                <a:cubicBezTo>
                  <a:pt x="281" y="7"/>
                  <a:pt x="283" y="6"/>
                  <a:pt x="281" y="6"/>
                </a:cubicBezTo>
                <a:cubicBezTo>
                  <a:pt x="282" y="6"/>
                  <a:pt x="283" y="6"/>
                  <a:pt x="284" y="6"/>
                </a:cubicBezTo>
                <a:cubicBezTo>
                  <a:pt x="353" y="8"/>
                  <a:pt x="353" y="8"/>
                  <a:pt x="353" y="8"/>
                </a:cubicBezTo>
                <a:cubicBezTo>
                  <a:pt x="363" y="9"/>
                  <a:pt x="373" y="9"/>
                  <a:pt x="382" y="9"/>
                </a:cubicBezTo>
                <a:cubicBezTo>
                  <a:pt x="358" y="8"/>
                  <a:pt x="358" y="8"/>
                  <a:pt x="358" y="8"/>
                </a:cubicBezTo>
                <a:cubicBezTo>
                  <a:pt x="357" y="8"/>
                  <a:pt x="357" y="8"/>
                  <a:pt x="357" y="8"/>
                </a:cubicBezTo>
                <a:cubicBezTo>
                  <a:pt x="368" y="8"/>
                  <a:pt x="379" y="9"/>
                  <a:pt x="390" y="8"/>
                </a:cubicBezTo>
                <a:cubicBezTo>
                  <a:pt x="373" y="9"/>
                  <a:pt x="358" y="4"/>
                  <a:pt x="342" y="5"/>
                </a:cubicBezTo>
                <a:cubicBezTo>
                  <a:pt x="343" y="5"/>
                  <a:pt x="343" y="5"/>
                  <a:pt x="343" y="6"/>
                </a:cubicBezTo>
                <a:cubicBezTo>
                  <a:pt x="340" y="6"/>
                  <a:pt x="337" y="6"/>
                  <a:pt x="334" y="5"/>
                </a:cubicBezTo>
                <a:cubicBezTo>
                  <a:pt x="334" y="5"/>
                  <a:pt x="334" y="5"/>
                  <a:pt x="334" y="5"/>
                </a:cubicBezTo>
                <a:cubicBezTo>
                  <a:pt x="334" y="5"/>
                  <a:pt x="334" y="5"/>
                  <a:pt x="334" y="5"/>
                </a:cubicBezTo>
                <a:cubicBezTo>
                  <a:pt x="334" y="5"/>
                  <a:pt x="333" y="5"/>
                  <a:pt x="333" y="5"/>
                </a:cubicBezTo>
                <a:cubicBezTo>
                  <a:pt x="331" y="5"/>
                  <a:pt x="328" y="6"/>
                  <a:pt x="327" y="4"/>
                </a:cubicBezTo>
                <a:cubicBezTo>
                  <a:pt x="326" y="5"/>
                  <a:pt x="326" y="5"/>
                  <a:pt x="326" y="5"/>
                </a:cubicBezTo>
                <a:cubicBezTo>
                  <a:pt x="324" y="4"/>
                  <a:pt x="324" y="4"/>
                  <a:pt x="324" y="4"/>
                </a:cubicBezTo>
                <a:cubicBezTo>
                  <a:pt x="324" y="5"/>
                  <a:pt x="324" y="5"/>
                  <a:pt x="324" y="5"/>
                </a:cubicBezTo>
                <a:cubicBezTo>
                  <a:pt x="285" y="4"/>
                  <a:pt x="285" y="4"/>
                  <a:pt x="285" y="4"/>
                </a:cubicBezTo>
                <a:cubicBezTo>
                  <a:pt x="286" y="3"/>
                  <a:pt x="286" y="3"/>
                  <a:pt x="286" y="3"/>
                </a:cubicBezTo>
                <a:cubicBezTo>
                  <a:pt x="284" y="4"/>
                  <a:pt x="280" y="2"/>
                  <a:pt x="280" y="4"/>
                </a:cubicBezTo>
                <a:cubicBezTo>
                  <a:pt x="259" y="4"/>
                  <a:pt x="259" y="4"/>
                  <a:pt x="259" y="4"/>
                </a:cubicBezTo>
                <a:cubicBezTo>
                  <a:pt x="258" y="3"/>
                  <a:pt x="258" y="3"/>
                  <a:pt x="258" y="3"/>
                </a:cubicBezTo>
                <a:cubicBezTo>
                  <a:pt x="258" y="3"/>
                  <a:pt x="258" y="3"/>
                  <a:pt x="258" y="3"/>
                </a:cubicBezTo>
                <a:cubicBezTo>
                  <a:pt x="255" y="3"/>
                  <a:pt x="255" y="3"/>
                  <a:pt x="255" y="3"/>
                </a:cubicBezTo>
                <a:cubicBezTo>
                  <a:pt x="255" y="3"/>
                  <a:pt x="255" y="3"/>
                  <a:pt x="255" y="3"/>
                </a:cubicBezTo>
                <a:cubicBezTo>
                  <a:pt x="251" y="4"/>
                  <a:pt x="246" y="4"/>
                  <a:pt x="241" y="3"/>
                </a:cubicBezTo>
                <a:cubicBezTo>
                  <a:pt x="241" y="3"/>
                  <a:pt x="242" y="3"/>
                  <a:pt x="242" y="3"/>
                </a:cubicBezTo>
                <a:cubicBezTo>
                  <a:pt x="237" y="3"/>
                  <a:pt x="237" y="3"/>
                  <a:pt x="237" y="3"/>
                </a:cubicBezTo>
                <a:cubicBezTo>
                  <a:pt x="237" y="3"/>
                  <a:pt x="237" y="3"/>
                  <a:pt x="237" y="3"/>
                </a:cubicBezTo>
                <a:cubicBezTo>
                  <a:pt x="230" y="4"/>
                  <a:pt x="223" y="3"/>
                  <a:pt x="216" y="3"/>
                </a:cubicBezTo>
                <a:cubicBezTo>
                  <a:pt x="216" y="2"/>
                  <a:pt x="216" y="2"/>
                  <a:pt x="216" y="2"/>
                </a:cubicBezTo>
                <a:cubicBezTo>
                  <a:pt x="215" y="2"/>
                  <a:pt x="214" y="2"/>
                  <a:pt x="214" y="2"/>
                </a:cubicBezTo>
                <a:cubicBezTo>
                  <a:pt x="210" y="2"/>
                  <a:pt x="206" y="1"/>
                  <a:pt x="204" y="3"/>
                </a:cubicBezTo>
                <a:cubicBezTo>
                  <a:pt x="203" y="2"/>
                  <a:pt x="202" y="2"/>
                  <a:pt x="201" y="3"/>
                </a:cubicBezTo>
                <a:cubicBezTo>
                  <a:pt x="199" y="1"/>
                  <a:pt x="194" y="2"/>
                  <a:pt x="190" y="2"/>
                </a:cubicBezTo>
                <a:cubicBezTo>
                  <a:pt x="190" y="3"/>
                  <a:pt x="186" y="3"/>
                  <a:pt x="184" y="3"/>
                </a:cubicBezTo>
                <a:cubicBezTo>
                  <a:pt x="183" y="2"/>
                  <a:pt x="181" y="3"/>
                  <a:pt x="181" y="2"/>
                </a:cubicBezTo>
                <a:cubicBezTo>
                  <a:pt x="175" y="0"/>
                  <a:pt x="170" y="4"/>
                  <a:pt x="164" y="2"/>
                </a:cubicBezTo>
                <a:cubicBezTo>
                  <a:pt x="163" y="2"/>
                  <a:pt x="163" y="2"/>
                  <a:pt x="163" y="2"/>
                </a:cubicBezTo>
                <a:cubicBezTo>
                  <a:pt x="162" y="2"/>
                  <a:pt x="162" y="2"/>
                  <a:pt x="162" y="2"/>
                </a:cubicBezTo>
                <a:cubicBezTo>
                  <a:pt x="161" y="2"/>
                  <a:pt x="161" y="2"/>
                  <a:pt x="161" y="2"/>
                </a:cubicBezTo>
                <a:cubicBezTo>
                  <a:pt x="158" y="2"/>
                  <a:pt x="153" y="1"/>
                  <a:pt x="150" y="2"/>
                </a:cubicBezTo>
                <a:cubicBezTo>
                  <a:pt x="147" y="2"/>
                  <a:pt x="146" y="2"/>
                  <a:pt x="144" y="2"/>
                </a:cubicBezTo>
                <a:cubicBezTo>
                  <a:pt x="78" y="2"/>
                  <a:pt x="78" y="2"/>
                  <a:pt x="78" y="2"/>
                </a:cubicBezTo>
                <a:cubicBezTo>
                  <a:pt x="78" y="1"/>
                  <a:pt x="78" y="1"/>
                  <a:pt x="78" y="1"/>
                </a:cubicBezTo>
                <a:cubicBezTo>
                  <a:pt x="80" y="1"/>
                  <a:pt x="86" y="1"/>
                  <a:pt x="85" y="1"/>
                </a:cubicBezTo>
                <a:cubicBezTo>
                  <a:pt x="77" y="1"/>
                  <a:pt x="69" y="1"/>
                  <a:pt x="61" y="2"/>
                </a:cubicBezTo>
                <a:cubicBezTo>
                  <a:pt x="42" y="4"/>
                  <a:pt x="20" y="3"/>
                  <a:pt x="2" y="7"/>
                </a:cubicBezTo>
                <a:cubicBezTo>
                  <a:pt x="3" y="7"/>
                  <a:pt x="4" y="7"/>
                  <a:pt x="4" y="7"/>
                </a:cubicBezTo>
                <a:cubicBezTo>
                  <a:pt x="3" y="7"/>
                  <a:pt x="2" y="8"/>
                  <a:pt x="1" y="9"/>
                </a:cubicBezTo>
                <a:cubicBezTo>
                  <a:pt x="2" y="9"/>
                  <a:pt x="3" y="9"/>
                  <a:pt x="3" y="9"/>
                </a:cubicBezTo>
                <a:cubicBezTo>
                  <a:pt x="3" y="10"/>
                  <a:pt x="2" y="10"/>
                  <a:pt x="1" y="10"/>
                </a:cubicBezTo>
                <a:cubicBezTo>
                  <a:pt x="2" y="10"/>
                  <a:pt x="3" y="10"/>
                  <a:pt x="4" y="11"/>
                </a:cubicBezTo>
                <a:cubicBezTo>
                  <a:pt x="1" y="12"/>
                  <a:pt x="1" y="12"/>
                  <a:pt x="1" y="12"/>
                </a:cubicBezTo>
                <a:cubicBezTo>
                  <a:pt x="3" y="12"/>
                  <a:pt x="0" y="12"/>
                  <a:pt x="1" y="13"/>
                </a:cubicBezTo>
                <a:cubicBezTo>
                  <a:pt x="4" y="14"/>
                  <a:pt x="4" y="14"/>
                  <a:pt x="4" y="14"/>
                </a:cubicBezTo>
                <a:cubicBezTo>
                  <a:pt x="4" y="15"/>
                  <a:pt x="0" y="15"/>
                  <a:pt x="2" y="16"/>
                </a:cubicBezTo>
                <a:cubicBezTo>
                  <a:pt x="2" y="16"/>
                  <a:pt x="3" y="17"/>
                  <a:pt x="4" y="17"/>
                </a:cubicBezTo>
                <a:cubicBezTo>
                  <a:pt x="4" y="17"/>
                  <a:pt x="3" y="17"/>
                  <a:pt x="3" y="17"/>
                </a:cubicBezTo>
                <a:cubicBezTo>
                  <a:pt x="3" y="17"/>
                  <a:pt x="3" y="18"/>
                  <a:pt x="2" y="18"/>
                </a:cubicBezTo>
                <a:cubicBezTo>
                  <a:pt x="5" y="19"/>
                  <a:pt x="2" y="21"/>
                  <a:pt x="6" y="21"/>
                </a:cubicBezTo>
                <a:cubicBezTo>
                  <a:pt x="4" y="22"/>
                  <a:pt x="4" y="22"/>
                  <a:pt x="4" y="22"/>
                </a:cubicBezTo>
                <a:cubicBezTo>
                  <a:pt x="5" y="21"/>
                  <a:pt x="6" y="22"/>
                  <a:pt x="7" y="22"/>
                </a:cubicBezTo>
                <a:cubicBezTo>
                  <a:pt x="6" y="23"/>
                  <a:pt x="4" y="22"/>
                  <a:pt x="3" y="23"/>
                </a:cubicBezTo>
                <a:cubicBezTo>
                  <a:pt x="5" y="24"/>
                  <a:pt x="5" y="24"/>
                  <a:pt x="5" y="24"/>
                </a:cubicBezTo>
                <a:cubicBezTo>
                  <a:pt x="3" y="25"/>
                  <a:pt x="3" y="25"/>
                  <a:pt x="3" y="25"/>
                </a:cubicBezTo>
                <a:cubicBezTo>
                  <a:pt x="4" y="25"/>
                  <a:pt x="4" y="25"/>
                  <a:pt x="4" y="25"/>
                </a:cubicBezTo>
                <a:cubicBezTo>
                  <a:pt x="5" y="25"/>
                  <a:pt x="5" y="26"/>
                  <a:pt x="5" y="26"/>
                </a:cubicBezTo>
                <a:cubicBezTo>
                  <a:pt x="6" y="26"/>
                  <a:pt x="7" y="26"/>
                  <a:pt x="8" y="27"/>
                </a:cubicBezTo>
                <a:cubicBezTo>
                  <a:pt x="7" y="27"/>
                  <a:pt x="6" y="27"/>
                  <a:pt x="5" y="27"/>
                </a:cubicBezTo>
                <a:cubicBezTo>
                  <a:pt x="6" y="27"/>
                  <a:pt x="8" y="27"/>
                  <a:pt x="7" y="28"/>
                </a:cubicBezTo>
                <a:cubicBezTo>
                  <a:pt x="7" y="28"/>
                  <a:pt x="7" y="28"/>
                  <a:pt x="6" y="28"/>
                </a:cubicBezTo>
                <a:cubicBezTo>
                  <a:pt x="7" y="29"/>
                  <a:pt x="7" y="29"/>
                  <a:pt x="7" y="29"/>
                </a:cubicBezTo>
                <a:cubicBezTo>
                  <a:pt x="4" y="29"/>
                  <a:pt x="8" y="30"/>
                  <a:pt x="7" y="31"/>
                </a:cubicBezTo>
                <a:cubicBezTo>
                  <a:pt x="8" y="32"/>
                  <a:pt x="10" y="33"/>
                  <a:pt x="12" y="33"/>
                </a:cubicBezTo>
                <a:cubicBezTo>
                  <a:pt x="11" y="34"/>
                  <a:pt x="9" y="33"/>
                  <a:pt x="8" y="34"/>
                </a:cubicBezTo>
                <a:cubicBezTo>
                  <a:pt x="6" y="34"/>
                  <a:pt x="9" y="34"/>
                  <a:pt x="7" y="34"/>
                </a:cubicBezTo>
                <a:cubicBezTo>
                  <a:pt x="8" y="36"/>
                  <a:pt x="12" y="34"/>
                  <a:pt x="14" y="36"/>
                </a:cubicBezTo>
                <a:cubicBezTo>
                  <a:pt x="12" y="37"/>
                  <a:pt x="9" y="35"/>
                  <a:pt x="8" y="37"/>
                </a:cubicBezTo>
                <a:cubicBezTo>
                  <a:pt x="10" y="37"/>
                  <a:pt x="11" y="37"/>
                  <a:pt x="12" y="37"/>
                </a:cubicBezTo>
                <a:cubicBezTo>
                  <a:pt x="10" y="38"/>
                  <a:pt x="9" y="38"/>
                  <a:pt x="9" y="39"/>
                </a:cubicBezTo>
                <a:cubicBezTo>
                  <a:pt x="12" y="40"/>
                  <a:pt x="12" y="40"/>
                  <a:pt x="12" y="40"/>
                </a:cubicBezTo>
                <a:cubicBezTo>
                  <a:pt x="8" y="40"/>
                  <a:pt x="12" y="43"/>
                  <a:pt x="8" y="42"/>
                </a:cubicBezTo>
                <a:cubicBezTo>
                  <a:pt x="10" y="42"/>
                  <a:pt x="10" y="42"/>
                  <a:pt x="10" y="42"/>
                </a:cubicBezTo>
                <a:cubicBezTo>
                  <a:pt x="9" y="43"/>
                  <a:pt x="12" y="43"/>
                  <a:pt x="10" y="44"/>
                </a:cubicBezTo>
                <a:cubicBezTo>
                  <a:pt x="12" y="45"/>
                  <a:pt x="12" y="45"/>
                  <a:pt x="12" y="45"/>
                </a:cubicBezTo>
                <a:cubicBezTo>
                  <a:pt x="10" y="46"/>
                  <a:pt x="10" y="46"/>
                  <a:pt x="10" y="46"/>
                </a:cubicBezTo>
                <a:cubicBezTo>
                  <a:pt x="11" y="47"/>
                  <a:pt x="14" y="46"/>
                  <a:pt x="15" y="47"/>
                </a:cubicBezTo>
                <a:cubicBezTo>
                  <a:pt x="13" y="48"/>
                  <a:pt x="10" y="48"/>
                  <a:pt x="10" y="48"/>
                </a:cubicBezTo>
                <a:cubicBezTo>
                  <a:pt x="11" y="49"/>
                  <a:pt x="11" y="49"/>
                  <a:pt x="11" y="49"/>
                </a:cubicBezTo>
                <a:cubicBezTo>
                  <a:pt x="11" y="49"/>
                  <a:pt x="10" y="49"/>
                  <a:pt x="9" y="49"/>
                </a:cubicBezTo>
                <a:cubicBezTo>
                  <a:pt x="13" y="50"/>
                  <a:pt x="13" y="50"/>
                  <a:pt x="13" y="50"/>
                </a:cubicBezTo>
                <a:cubicBezTo>
                  <a:pt x="12" y="50"/>
                  <a:pt x="12" y="50"/>
                  <a:pt x="12" y="50"/>
                </a:cubicBezTo>
                <a:cubicBezTo>
                  <a:pt x="15" y="51"/>
                  <a:pt x="15" y="51"/>
                  <a:pt x="15" y="51"/>
                </a:cubicBezTo>
                <a:cubicBezTo>
                  <a:pt x="14" y="51"/>
                  <a:pt x="13" y="52"/>
                  <a:pt x="11" y="52"/>
                </a:cubicBezTo>
                <a:cubicBezTo>
                  <a:pt x="12" y="52"/>
                  <a:pt x="12" y="52"/>
                  <a:pt x="12" y="52"/>
                </a:cubicBezTo>
                <a:cubicBezTo>
                  <a:pt x="12" y="53"/>
                  <a:pt x="12" y="53"/>
                  <a:pt x="11" y="53"/>
                </a:cubicBezTo>
                <a:cubicBezTo>
                  <a:pt x="13" y="53"/>
                  <a:pt x="16" y="52"/>
                  <a:pt x="17" y="53"/>
                </a:cubicBezTo>
                <a:cubicBezTo>
                  <a:pt x="15" y="55"/>
                  <a:pt x="12" y="53"/>
                  <a:pt x="11" y="54"/>
                </a:cubicBezTo>
                <a:cubicBezTo>
                  <a:pt x="14" y="55"/>
                  <a:pt x="18" y="55"/>
                  <a:pt x="22" y="55"/>
                </a:cubicBezTo>
                <a:cubicBezTo>
                  <a:pt x="18" y="57"/>
                  <a:pt x="14" y="56"/>
                  <a:pt x="9" y="57"/>
                </a:cubicBezTo>
                <a:cubicBezTo>
                  <a:pt x="10" y="57"/>
                  <a:pt x="11" y="57"/>
                  <a:pt x="12" y="58"/>
                </a:cubicBezTo>
                <a:cubicBezTo>
                  <a:pt x="11" y="58"/>
                  <a:pt x="11" y="58"/>
                  <a:pt x="11" y="58"/>
                </a:cubicBezTo>
                <a:cubicBezTo>
                  <a:pt x="16" y="59"/>
                  <a:pt x="16" y="59"/>
                  <a:pt x="16" y="59"/>
                </a:cubicBezTo>
                <a:cubicBezTo>
                  <a:pt x="14" y="60"/>
                  <a:pt x="14" y="60"/>
                  <a:pt x="14" y="60"/>
                </a:cubicBezTo>
                <a:cubicBezTo>
                  <a:pt x="14" y="60"/>
                  <a:pt x="14" y="60"/>
                  <a:pt x="14" y="60"/>
                </a:cubicBezTo>
                <a:cubicBezTo>
                  <a:pt x="13" y="61"/>
                  <a:pt x="13" y="60"/>
                  <a:pt x="12" y="61"/>
                </a:cubicBezTo>
                <a:cubicBezTo>
                  <a:pt x="14" y="62"/>
                  <a:pt x="15" y="62"/>
                  <a:pt x="17" y="62"/>
                </a:cubicBezTo>
                <a:cubicBezTo>
                  <a:pt x="28" y="67"/>
                  <a:pt x="44" y="68"/>
                  <a:pt x="58" y="68"/>
                </a:cubicBezTo>
                <a:cubicBezTo>
                  <a:pt x="58" y="68"/>
                  <a:pt x="58" y="68"/>
                  <a:pt x="58" y="68"/>
                </a:cubicBezTo>
                <a:cubicBezTo>
                  <a:pt x="83" y="69"/>
                  <a:pt x="83" y="69"/>
                  <a:pt x="83" y="69"/>
                </a:cubicBezTo>
                <a:cubicBezTo>
                  <a:pt x="84" y="70"/>
                  <a:pt x="86" y="70"/>
                  <a:pt x="88" y="70"/>
                </a:cubicBezTo>
                <a:cubicBezTo>
                  <a:pt x="137" y="67"/>
                  <a:pt x="190" y="70"/>
                  <a:pt x="238" y="70"/>
                </a:cubicBezTo>
                <a:cubicBezTo>
                  <a:pt x="241" y="71"/>
                  <a:pt x="245" y="71"/>
                  <a:pt x="247" y="70"/>
                </a:cubicBezTo>
                <a:cubicBezTo>
                  <a:pt x="305" y="70"/>
                  <a:pt x="305" y="70"/>
                  <a:pt x="305" y="70"/>
                </a:cubicBezTo>
                <a:cubicBezTo>
                  <a:pt x="304" y="70"/>
                  <a:pt x="304" y="70"/>
                  <a:pt x="304" y="70"/>
                </a:cubicBezTo>
                <a:cubicBezTo>
                  <a:pt x="310" y="70"/>
                  <a:pt x="315" y="70"/>
                  <a:pt x="321" y="69"/>
                </a:cubicBezTo>
                <a:cubicBezTo>
                  <a:pt x="322" y="70"/>
                  <a:pt x="322" y="70"/>
                  <a:pt x="322" y="70"/>
                </a:cubicBezTo>
                <a:cubicBezTo>
                  <a:pt x="337" y="69"/>
                  <a:pt x="337" y="69"/>
                  <a:pt x="337" y="69"/>
                </a:cubicBezTo>
                <a:cubicBezTo>
                  <a:pt x="360" y="68"/>
                  <a:pt x="380" y="70"/>
                  <a:pt x="402" y="68"/>
                </a:cubicBezTo>
                <a:cubicBezTo>
                  <a:pt x="398" y="67"/>
                  <a:pt x="394" y="68"/>
                  <a:pt x="391" y="67"/>
                </a:cubicBezTo>
                <a:cubicBezTo>
                  <a:pt x="400" y="67"/>
                  <a:pt x="408" y="65"/>
                  <a:pt x="417" y="64"/>
                </a:cubicBezTo>
                <a:cubicBezTo>
                  <a:pt x="383" y="64"/>
                  <a:pt x="348" y="64"/>
                  <a:pt x="313" y="63"/>
                </a:cubicBezTo>
                <a:close/>
                <a:moveTo>
                  <a:pt x="336" y="14"/>
                </a:moveTo>
                <a:cubicBezTo>
                  <a:pt x="334" y="14"/>
                  <a:pt x="334" y="14"/>
                  <a:pt x="334" y="14"/>
                </a:cubicBezTo>
                <a:cubicBezTo>
                  <a:pt x="332" y="14"/>
                  <a:pt x="332" y="14"/>
                  <a:pt x="332" y="14"/>
                </a:cubicBezTo>
                <a:lnTo>
                  <a:pt x="336" y="14"/>
                </a:lnTo>
                <a:close/>
                <a:moveTo>
                  <a:pt x="310" y="69"/>
                </a:moveTo>
                <a:cubicBezTo>
                  <a:pt x="312" y="69"/>
                  <a:pt x="314" y="68"/>
                  <a:pt x="316" y="69"/>
                </a:cubicBezTo>
                <a:cubicBezTo>
                  <a:pt x="314" y="69"/>
                  <a:pt x="312" y="69"/>
                  <a:pt x="310" y="69"/>
                </a:cubicBezTo>
                <a:close/>
                <a:moveTo>
                  <a:pt x="322" y="66"/>
                </a:moveTo>
                <a:cubicBezTo>
                  <a:pt x="320" y="66"/>
                  <a:pt x="320" y="66"/>
                  <a:pt x="320" y="66"/>
                </a:cubicBezTo>
                <a:cubicBezTo>
                  <a:pt x="310" y="66"/>
                  <a:pt x="298" y="66"/>
                  <a:pt x="287" y="66"/>
                </a:cubicBezTo>
                <a:cubicBezTo>
                  <a:pt x="285" y="66"/>
                  <a:pt x="284" y="66"/>
                  <a:pt x="282" y="66"/>
                </a:cubicBezTo>
                <a:cubicBezTo>
                  <a:pt x="284" y="66"/>
                  <a:pt x="285" y="66"/>
                  <a:pt x="287" y="66"/>
                </a:cubicBezTo>
                <a:cubicBezTo>
                  <a:pt x="300" y="65"/>
                  <a:pt x="313" y="65"/>
                  <a:pt x="326" y="65"/>
                </a:cubicBezTo>
                <a:cubicBezTo>
                  <a:pt x="329" y="66"/>
                  <a:pt x="329" y="66"/>
                  <a:pt x="329" y="66"/>
                </a:cubicBezTo>
                <a:cubicBezTo>
                  <a:pt x="348" y="66"/>
                  <a:pt x="348" y="66"/>
                  <a:pt x="348" y="66"/>
                </a:cubicBezTo>
                <a:lnTo>
                  <a:pt x="322" y="66"/>
                </a:lnTo>
                <a:close/>
                <a:moveTo>
                  <a:pt x="377" y="67"/>
                </a:moveTo>
                <a:cubicBezTo>
                  <a:pt x="369" y="67"/>
                  <a:pt x="360" y="67"/>
                  <a:pt x="353" y="67"/>
                </a:cubicBezTo>
                <a:cubicBezTo>
                  <a:pt x="353" y="66"/>
                  <a:pt x="353" y="66"/>
                  <a:pt x="353" y="66"/>
                </a:cubicBezTo>
                <a:cubicBezTo>
                  <a:pt x="360" y="67"/>
                  <a:pt x="369" y="67"/>
                  <a:pt x="377" y="67"/>
                </a:cubicBezTo>
                <a:cubicBezTo>
                  <a:pt x="381" y="67"/>
                  <a:pt x="385" y="67"/>
                  <a:pt x="389" y="67"/>
                </a:cubicBezTo>
                <a:cubicBezTo>
                  <a:pt x="385" y="67"/>
                  <a:pt x="381" y="67"/>
                  <a:pt x="377" y="67"/>
                </a:cubicBezTo>
                <a:close/>
              </a:path>
            </a:pathLst>
          </a:custGeom>
          <a:solidFill>
            <a:srgbClr val="2c3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图片 2" descr=""/>
          <p:cNvPicPr/>
          <p:nvPr/>
        </p:nvPicPr>
        <p:blipFill>
          <a:blip r:embed="rId1"/>
          <a:srcRect l="0" t="22657" r="0" b="395"/>
          <a:stretch/>
        </p:blipFill>
        <p:spPr>
          <a:xfrm>
            <a:off x="1309680" y="1698480"/>
            <a:ext cx="6686640" cy="2632320"/>
          </a:xfrm>
          <a:prstGeom prst="rect">
            <a:avLst/>
          </a:prstGeom>
          <a:ln w="50760">
            <a:solidFill>
              <a:srgbClr val="2c3c5e"/>
            </a:solidFill>
            <a:miter/>
          </a:ln>
        </p:spPr>
      </p:pic>
      <p:sp>
        <p:nvSpPr>
          <p:cNvPr id="295" name="矩形 6"/>
          <p:cNvSpPr/>
          <p:nvPr/>
        </p:nvSpPr>
        <p:spPr>
          <a:xfrm>
            <a:off x="1309680" y="4643280"/>
            <a:ext cx="668664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3c5e"/>
                </a:solidFill>
                <a:latin typeface="腾祥铁山楷书简"/>
                <a:ea typeface="腾祥铁山楷书简"/>
              </a:rPr>
              <a:t>D</a:t>
            </a:r>
            <a:r>
              <a:rPr b="0" lang="zh-CN" sz="1800" spc="-1" strike="noStrike">
                <a:solidFill>
                  <a:srgbClr val="2c3c5e"/>
                </a:solidFill>
                <a:latin typeface="腾祥铁山楷书简"/>
                <a:ea typeface="腾祥铁山楷书简"/>
              </a:rPr>
              <a:t>意空间工作室成立于</a:t>
            </a:r>
            <a:r>
              <a:rPr b="0" lang="en-US" sz="1800" spc="-1" strike="noStrike">
                <a:solidFill>
                  <a:srgbClr val="2c3c5e"/>
                </a:solidFill>
                <a:latin typeface="腾祥铁山楷书简"/>
                <a:ea typeface="腾祥铁山楷书简"/>
              </a:rPr>
              <a:t>2015</a:t>
            </a:r>
            <a:r>
              <a:rPr b="0" lang="zh-CN" sz="1800" spc="-1" strike="noStrike">
                <a:solidFill>
                  <a:srgbClr val="2c3c5e"/>
                </a:solidFill>
                <a:latin typeface="腾祥铁山楷书简"/>
                <a:ea typeface="腾祥铁山楷书简"/>
              </a:rPr>
              <a:t>年</a:t>
            </a:r>
            <a:r>
              <a:rPr b="0" lang="en-US" sz="1800" spc="-1" strike="noStrike">
                <a:solidFill>
                  <a:srgbClr val="2c3c5e"/>
                </a:solidFill>
                <a:latin typeface="腾祥铁山楷书简"/>
                <a:ea typeface="腾祥铁山楷书简"/>
              </a:rPr>
              <a:t>10</a:t>
            </a:r>
            <a:r>
              <a:rPr b="0" lang="zh-CN" sz="1800" spc="-1" strike="noStrike">
                <a:solidFill>
                  <a:srgbClr val="2c3c5e"/>
                </a:solidFill>
                <a:latin typeface="腾祥铁山楷书简"/>
                <a:ea typeface="腾祥铁山楷书简"/>
              </a:rPr>
              <a:t>月，始终致力于专业的</a:t>
            </a:r>
            <a:r>
              <a:rPr b="0" lang="en-US" sz="1800" spc="-1" strike="noStrike">
                <a:solidFill>
                  <a:srgbClr val="2c3c5e"/>
                </a:solidFill>
                <a:latin typeface="腾祥铁山楷书简"/>
                <a:ea typeface="腾祥铁山楷书简"/>
              </a:rPr>
              <a:t>PPT</a:t>
            </a:r>
            <a:r>
              <a:rPr b="0" lang="zh-CN" sz="1800" spc="-1" strike="noStrike">
                <a:solidFill>
                  <a:srgbClr val="2c3c5e"/>
                </a:solidFill>
                <a:latin typeface="腾祥铁山楷书简"/>
                <a:ea typeface="腾祥铁山楷书简"/>
              </a:rPr>
              <a:t>模板制作、美化、定制，</a:t>
            </a:r>
            <a:r>
              <a:rPr b="0" lang="en-US" sz="1800" spc="-1" strike="noStrike">
                <a:solidFill>
                  <a:srgbClr val="2c3c5e"/>
                </a:solidFill>
                <a:latin typeface="腾祥铁山楷书简"/>
                <a:ea typeface="腾祥铁山楷书简"/>
              </a:rPr>
              <a:t>Keynote</a:t>
            </a:r>
            <a:r>
              <a:rPr b="0" lang="zh-CN" sz="1800" spc="-1" strike="noStrike">
                <a:solidFill>
                  <a:srgbClr val="2c3c5e"/>
                </a:solidFill>
                <a:latin typeface="腾祥铁山楷书简"/>
                <a:ea typeface="腾祥铁山楷书简"/>
              </a:rPr>
              <a:t>模板制作、美化、定制，只要是与演示相关的，我们竭诚为您服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文本框 15"/>
          <p:cNvSpPr/>
          <p:nvPr/>
        </p:nvSpPr>
        <p:spPr>
          <a:xfrm>
            <a:off x="8682120" y="4608360"/>
            <a:ext cx="66780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腾祥铁山楷书简"/>
                <a:ea typeface="腾祥铁山楷书简"/>
              </a:rPr>
              <a:t>专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文本框 16"/>
          <p:cNvSpPr/>
          <p:nvPr/>
        </p:nvSpPr>
        <p:spPr>
          <a:xfrm>
            <a:off x="9446040" y="4608360"/>
            <a:ext cx="66780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腾祥铁山楷书简"/>
                <a:ea typeface="腾祥铁山楷书简"/>
              </a:rPr>
              <a:t>专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文本框 17"/>
          <p:cNvSpPr/>
          <p:nvPr/>
        </p:nvSpPr>
        <p:spPr>
          <a:xfrm>
            <a:off x="10209600" y="4608360"/>
            <a:ext cx="66780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腾祥铁山楷书简"/>
                <a:ea typeface="腾祥铁山楷书简"/>
              </a:rPr>
              <a:t>专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组合 3"/>
          <p:cNvGrpSpPr/>
          <p:nvPr/>
        </p:nvGrpSpPr>
        <p:grpSpPr>
          <a:xfrm>
            <a:off x="8677080" y="1688400"/>
            <a:ext cx="1751040" cy="520560"/>
            <a:chOff x="8677080" y="1688400"/>
            <a:chExt cx="1751040" cy="520560"/>
          </a:xfrm>
        </p:grpSpPr>
        <p:sp>
          <p:nvSpPr>
            <p:cNvPr id="300" name="文本框 8"/>
            <p:cNvSpPr/>
            <p:nvPr/>
          </p:nvSpPr>
          <p:spPr>
            <a:xfrm>
              <a:off x="9107640" y="1688400"/>
              <a:ext cx="1320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2c3c5e"/>
                  </a:solidFill>
                  <a:latin typeface="腾祥铁山楷书简"/>
                  <a:ea typeface="腾祥铁山楷书简"/>
                </a:rPr>
                <a:t>PPT</a:t>
              </a:r>
              <a:r>
                <a:rPr b="0" lang="zh-CN" sz="2800" spc="-1" strike="noStrike">
                  <a:solidFill>
                    <a:srgbClr val="2c3c5e"/>
                  </a:solidFill>
                  <a:latin typeface="腾祥铁山楷书简"/>
                  <a:ea typeface="腾祥铁山楷书简"/>
                </a:rPr>
                <a:t>模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0428"/>
            <p:cNvSpPr/>
            <p:nvPr/>
          </p:nvSpPr>
          <p:spPr>
            <a:xfrm flipV="1" rot="10800000">
              <a:off x="8677080" y="1800720"/>
              <a:ext cx="315720" cy="29340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-360 h 293400"/>
                <a:gd name="textAreaBottom" fmla="*/ 293400 h 293400"/>
              </a:gdLst>
              <a:ahLst/>
              <a:rect l="textAreaLeft" t="textAreaTop" r="textAreaRight" b="textAreaBottom"/>
              <a:pathLst>
                <a:path w="165" h="154">
                  <a:moveTo>
                    <a:pt x="92" y="6"/>
                  </a:moveTo>
                  <a:cubicBezTo>
                    <a:pt x="99" y="6"/>
                    <a:pt x="101" y="11"/>
                    <a:pt x="107" y="12"/>
                  </a:cubicBezTo>
                  <a:cubicBezTo>
                    <a:pt x="106" y="10"/>
                    <a:pt x="108" y="10"/>
                    <a:pt x="108" y="9"/>
                  </a:cubicBezTo>
                  <a:cubicBezTo>
                    <a:pt x="99" y="8"/>
                    <a:pt x="96" y="1"/>
                    <a:pt x="87" y="0"/>
                  </a:cubicBezTo>
                  <a:cubicBezTo>
                    <a:pt x="87" y="4"/>
                    <a:pt x="93" y="2"/>
                    <a:pt x="92" y="6"/>
                  </a:cubicBezTo>
                  <a:close/>
                  <a:moveTo>
                    <a:pt x="89" y="15"/>
                  </a:moveTo>
                  <a:cubicBezTo>
                    <a:pt x="92" y="15"/>
                    <a:pt x="95" y="20"/>
                    <a:pt x="97" y="17"/>
                  </a:cubicBezTo>
                  <a:cubicBezTo>
                    <a:pt x="94" y="16"/>
                    <a:pt x="91" y="13"/>
                    <a:pt x="89" y="15"/>
                  </a:cubicBezTo>
                  <a:close/>
                  <a:moveTo>
                    <a:pt x="20" y="32"/>
                  </a:moveTo>
                  <a:cubicBezTo>
                    <a:pt x="19" y="36"/>
                    <a:pt x="14" y="43"/>
                    <a:pt x="17" y="46"/>
                  </a:cubicBezTo>
                  <a:cubicBezTo>
                    <a:pt x="19" y="43"/>
                    <a:pt x="21" y="36"/>
                    <a:pt x="20" y="32"/>
                  </a:cubicBezTo>
                  <a:close/>
                  <a:moveTo>
                    <a:pt x="12" y="48"/>
                  </a:moveTo>
                  <a:cubicBezTo>
                    <a:pt x="11" y="48"/>
                    <a:pt x="11" y="47"/>
                    <a:pt x="11" y="45"/>
                  </a:cubicBezTo>
                  <a:cubicBezTo>
                    <a:pt x="9" y="43"/>
                    <a:pt x="10" y="45"/>
                    <a:pt x="7" y="45"/>
                  </a:cubicBezTo>
                  <a:cubicBezTo>
                    <a:pt x="7" y="43"/>
                    <a:pt x="7" y="41"/>
                    <a:pt x="6" y="40"/>
                  </a:cubicBezTo>
                  <a:cubicBezTo>
                    <a:pt x="0" y="45"/>
                    <a:pt x="8" y="54"/>
                    <a:pt x="12" y="48"/>
                  </a:cubicBezTo>
                  <a:close/>
                  <a:moveTo>
                    <a:pt x="151" y="52"/>
                  </a:moveTo>
                  <a:cubicBezTo>
                    <a:pt x="152" y="51"/>
                    <a:pt x="151" y="47"/>
                    <a:pt x="150" y="45"/>
                  </a:cubicBezTo>
                  <a:cubicBezTo>
                    <a:pt x="151" y="48"/>
                    <a:pt x="148" y="50"/>
                    <a:pt x="151" y="52"/>
                  </a:cubicBezTo>
                  <a:close/>
                  <a:moveTo>
                    <a:pt x="152" y="82"/>
                  </a:moveTo>
                  <a:cubicBezTo>
                    <a:pt x="149" y="82"/>
                    <a:pt x="149" y="82"/>
                    <a:pt x="149" y="82"/>
                  </a:cubicBezTo>
                  <a:cubicBezTo>
                    <a:pt x="149" y="85"/>
                    <a:pt x="151" y="86"/>
                    <a:pt x="149" y="87"/>
                  </a:cubicBezTo>
                  <a:cubicBezTo>
                    <a:pt x="152" y="87"/>
                    <a:pt x="151" y="84"/>
                    <a:pt x="152" y="82"/>
                  </a:cubicBezTo>
                  <a:close/>
                  <a:moveTo>
                    <a:pt x="132" y="131"/>
                  </a:moveTo>
                  <a:cubicBezTo>
                    <a:pt x="138" y="122"/>
                    <a:pt x="141" y="110"/>
                    <a:pt x="148" y="102"/>
                  </a:cubicBezTo>
                  <a:cubicBezTo>
                    <a:pt x="147" y="101"/>
                    <a:pt x="145" y="101"/>
                    <a:pt x="145" y="100"/>
                  </a:cubicBezTo>
                  <a:cubicBezTo>
                    <a:pt x="148" y="89"/>
                    <a:pt x="145" y="79"/>
                    <a:pt x="147" y="69"/>
                  </a:cubicBezTo>
                  <a:cubicBezTo>
                    <a:pt x="144" y="69"/>
                    <a:pt x="148" y="72"/>
                    <a:pt x="146" y="73"/>
                  </a:cubicBezTo>
                  <a:cubicBezTo>
                    <a:pt x="140" y="66"/>
                    <a:pt x="144" y="50"/>
                    <a:pt x="136" y="45"/>
                  </a:cubicBezTo>
                  <a:cubicBezTo>
                    <a:pt x="133" y="31"/>
                    <a:pt x="122" y="26"/>
                    <a:pt x="113" y="18"/>
                  </a:cubicBezTo>
                  <a:cubicBezTo>
                    <a:pt x="113" y="23"/>
                    <a:pt x="121" y="25"/>
                    <a:pt x="119" y="30"/>
                  </a:cubicBezTo>
                  <a:cubicBezTo>
                    <a:pt x="112" y="26"/>
                    <a:pt x="108" y="15"/>
                    <a:pt x="97" y="17"/>
                  </a:cubicBezTo>
                  <a:cubicBezTo>
                    <a:pt x="102" y="19"/>
                    <a:pt x="96" y="19"/>
                    <a:pt x="95" y="19"/>
                  </a:cubicBezTo>
                  <a:cubicBezTo>
                    <a:pt x="96" y="20"/>
                    <a:pt x="100" y="22"/>
                    <a:pt x="98" y="22"/>
                  </a:cubicBezTo>
                  <a:cubicBezTo>
                    <a:pt x="87" y="15"/>
                    <a:pt x="68" y="25"/>
                    <a:pt x="58" y="24"/>
                  </a:cubicBezTo>
                  <a:cubicBezTo>
                    <a:pt x="62" y="22"/>
                    <a:pt x="66" y="22"/>
                    <a:pt x="69" y="21"/>
                  </a:cubicBezTo>
                  <a:cubicBezTo>
                    <a:pt x="63" y="17"/>
                    <a:pt x="52" y="17"/>
                    <a:pt x="47" y="22"/>
                  </a:cubicBezTo>
                  <a:cubicBezTo>
                    <a:pt x="41" y="14"/>
                    <a:pt x="36" y="29"/>
                    <a:pt x="31" y="27"/>
                  </a:cubicBezTo>
                  <a:cubicBezTo>
                    <a:pt x="35" y="30"/>
                    <a:pt x="27" y="38"/>
                    <a:pt x="26" y="43"/>
                  </a:cubicBezTo>
                  <a:cubicBezTo>
                    <a:pt x="25" y="42"/>
                    <a:pt x="25" y="40"/>
                    <a:pt x="23" y="40"/>
                  </a:cubicBezTo>
                  <a:cubicBezTo>
                    <a:pt x="19" y="48"/>
                    <a:pt x="17" y="56"/>
                    <a:pt x="17" y="66"/>
                  </a:cubicBezTo>
                  <a:cubicBezTo>
                    <a:pt x="16" y="66"/>
                    <a:pt x="16" y="65"/>
                    <a:pt x="15" y="65"/>
                  </a:cubicBezTo>
                  <a:cubicBezTo>
                    <a:pt x="13" y="66"/>
                    <a:pt x="18" y="68"/>
                    <a:pt x="14" y="69"/>
                  </a:cubicBezTo>
                  <a:cubicBezTo>
                    <a:pt x="12" y="67"/>
                    <a:pt x="16" y="65"/>
                    <a:pt x="14" y="63"/>
                  </a:cubicBezTo>
                  <a:cubicBezTo>
                    <a:pt x="12" y="65"/>
                    <a:pt x="13" y="57"/>
                    <a:pt x="12" y="56"/>
                  </a:cubicBezTo>
                  <a:cubicBezTo>
                    <a:pt x="10" y="68"/>
                    <a:pt x="11" y="83"/>
                    <a:pt x="13" y="96"/>
                  </a:cubicBezTo>
                  <a:cubicBezTo>
                    <a:pt x="11" y="97"/>
                    <a:pt x="11" y="95"/>
                    <a:pt x="9" y="95"/>
                  </a:cubicBezTo>
                  <a:cubicBezTo>
                    <a:pt x="10" y="101"/>
                    <a:pt x="12" y="105"/>
                    <a:pt x="12" y="112"/>
                  </a:cubicBezTo>
                  <a:cubicBezTo>
                    <a:pt x="20" y="125"/>
                    <a:pt x="33" y="133"/>
                    <a:pt x="43" y="145"/>
                  </a:cubicBezTo>
                  <a:cubicBezTo>
                    <a:pt x="55" y="149"/>
                    <a:pt x="72" y="151"/>
                    <a:pt x="87" y="151"/>
                  </a:cubicBezTo>
                  <a:cubicBezTo>
                    <a:pt x="97" y="154"/>
                    <a:pt x="109" y="146"/>
                    <a:pt x="117" y="141"/>
                  </a:cubicBezTo>
                  <a:cubicBezTo>
                    <a:pt x="117" y="142"/>
                    <a:pt x="115" y="144"/>
                    <a:pt x="117" y="144"/>
                  </a:cubicBezTo>
                  <a:cubicBezTo>
                    <a:pt x="124" y="140"/>
                    <a:pt x="132" y="137"/>
                    <a:pt x="136" y="129"/>
                  </a:cubicBezTo>
                  <a:cubicBezTo>
                    <a:pt x="134" y="129"/>
                    <a:pt x="133" y="132"/>
                    <a:pt x="132" y="131"/>
                  </a:cubicBezTo>
                  <a:close/>
                  <a:moveTo>
                    <a:pt x="31" y="37"/>
                  </a:moveTo>
                  <a:cubicBezTo>
                    <a:pt x="31" y="33"/>
                    <a:pt x="33" y="31"/>
                    <a:pt x="35" y="29"/>
                  </a:cubicBezTo>
                  <a:cubicBezTo>
                    <a:pt x="36" y="29"/>
                    <a:pt x="36" y="30"/>
                    <a:pt x="37" y="30"/>
                  </a:cubicBezTo>
                  <a:cubicBezTo>
                    <a:pt x="36" y="33"/>
                    <a:pt x="35" y="36"/>
                    <a:pt x="31" y="37"/>
                  </a:cubicBezTo>
                  <a:close/>
                  <a:moveTo>
                    <a:pt x="77" y="30"/>
                  </a:moveTo>
                  <a:cubicBezTo>
                    <a:pt x="79" y="29"/>
                    <a:pt x="82" y="29"/>
                    <a:pt x="84" y="30"/>
                  </a:cubicBezTo>
                  <a:cubicBezTo>
                    <a:pt x="83" y="33"/>
                    <a:pt x="80" y="30"/>
                    <a:pt x="77" y="30"/>
                  </a:cubicBezTo>
                  <a:close/>
                  <a:moveTo>
                    <a:pt x="101" y="34"/>
                  </a:moveTo>
                  <a:cubicBezTo>
                    <a:pt x="94" y="34"/>
                    <a:pt x="91" y="30"/>
                    <a:pt x="87" y="25"/>
                  </a:cubicBezTo>
                  <a:cubicBezTo>
                    <a:pt x="94" y="27"/>
                    <a:pt x="97" y="27"/>
                    <a:pt x="101" y="34"/>
                  </a:cubicBezTo>
                  <a:close/>
                  <a:moveTo>
                    <a:pt x="89" y="31"/>
                  </a:moveTo>
                  <a:cubicBezTo>
                    <a:pt x="95" y="33"/>
                    <a:pt x="98" y="38"/>
                    <a:pt x="102" y="43"/>
                  </a:cubicBezTo>
                  <a:cubicBezTo>
                    <a:pt x="98" y="39"/>
                    <a:pt x="92" y="36"/>
                    <a:pt x="89" y="31"/>
                  </a:cubicBezTo>
                  <a:close/>
                  <a:moveTo>
                    <a:pt x="110" y="32"/>
                  </a:moveTo>
                  <a:cubicBezTo>
                    <a:pt x="107" y="32"/>
                    <a:pt x="105" y="30"/>
                    <a:pt x="103" y="29"/>
                  </a:cubicBezTo>
                  <a:cubicBezTo>
                    <a:pt x="106" y="27"/>
                    <a:pt x="110" y="29"/>
                    <a:pt x="110" y="32"/>
                  </a:cubicBezTo>
                  <a:close/>
                  <a:moveTo>
                    <a:pt x="164" y="77"/>
                  </a:moveTo>
                  <a:cubicBezTo>
                    <a:pt x="162" y="79"/>
                    <a:pt x="163" y="83"/>
                    <a:pt x="162" y="86"/>
                  </a:cubicBezTo>
                  <a:cubicBezTo>
                    <a:pt x="165" y="84"/>
                    <a:pt x="164" y="79"/>
                    <a:pt x="164" y="77"/>
                  </a:cubicBezTo>
                  <a:close/>
                  <a:moveTo>
                    <a:pt x="158" y="100"/>
                  </a:moveTo>
                  <a:cubicBezTo>
                    <a:pt x="158" y="96"/>
                    <a:pt x="162" y="93"/>
                    <a:pt x="160" y="89"/>
                  </a:cubicBezTo>
                  <a:cubicBezTo>
                    <a:pt x="160" y="93"/>
                    <a:pt x="156" y="97"/>
                    <a:pt x="158" y="100"/>
                  </a:cubicBezTo>
                  <a:close/>
                  <a:moveTo>
                    <a:pt x="141" y="125"/>
                  </a:moveTo>
                  <a:cubicBezTo>
                    <a:pt x="147" y="126"/>
                    <a:pt x="149" y="121"/>
                    <a:pt x="149" y="115"/>
                  </a:cubicBezTo>
                  <a:cubicBezTo>
                    <a:pt x="154" y="113"/>
                    <a:pt x="158" y="103"/>
                    <a:pt x="157" y="101"/>
                  </a:cubicBezTo>
                  <a:cubicBezTo>
                    <a:pt x="152" y="110"/>
                    <a:pt x="147" y="118"/>
                    <a:pt x="141" y="125"/>
                  </a:cubicBezTo>
                  <a:close/>
                </a:path>
              </a:pathLst>
            </a:custGeom>
            <a:solidFill>
              <a:srgbClr val="2c3c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组合 1"/>
          <p:cNvGrpSpPr/>
          <p:nvPr/>
        </p:nvGrpSpPr>
        <p:grpSpPr>
          <a:xfrm>
            <a:off x="8677080" y="2344680"/>
            <a:ext cx="1751040" cy="520560"/>
            <a:chOff x="8677080" y="2344680"/>
            <a:chExt cx="1751040" cy="520560"/>
          </a:xfrm>
        </p:grpSpPr>
        <p:sp>
          <p:nvSpPr>
            <p:cNvPr id="303" name="文本框 10"/>
            <p:cNvSpPr/>
            <p:nvPr/>
          </p:nvSpPr>
          <p:spPr>
            <a:xfrm>
              <a:off x="9107640" y="2344680"/>
              <a:ext cx="1320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2c3c5e"/>
                  </a:solidFill>
                  <a:latin typeface="腾祥铁山楷书简"/>
                  <a:ea typeface="腾祥铁山楷书简"/>
                </a:rPr>
                <a:t>PPT</a:t>
              </a:r>
              <a:r>
                <a:rPr b="0" lang="zh-CN" sz="2800" spc="-1" strike="noStrike">
                  <a:solidFill>
                    <a:srgbClr val="2c3c5e"/>
                  </a:solidFill>
                  <a:latin typeface="腾祥铁山楷书简"/>
                  <a:ea typeface="腾祥铁山楷书简"/>
                </a:rPr>
                <a:t>图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0428"/>
            <p:cNvSpPr/>
            <p:nvPr/>
          </p:nvSpPr>
          <p:spPr>
            <a:xfrm flipV="1" rot="10800000">
              <a:off x="8677080" y="2457360"/>
              <a:ext cx="315720" cy="29520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360 h 295200"/>
                <a:gd name="textAreaBottom" fmla="*/ 295920 h 295200"/>
              </a:gdLst>
              <a:ahLst/>
              <a:rect l="textAreaLeft" t="textAreaTop" r="textAreaRight" b="textAreaBottom"/>
              <a:pathLst>
                <a:path w="165" h="154">
                  <a:moveTo>
                    <a:pt x="92" y="6"/>
                  </a:moveTo>
                  <a:cubicBezTo>
                    <a:pt x="99" y="6"/>
                    <a:pt x="101" y="11"/>
                    <a:pt x="107" y="12"/>
                  </a:cubicBezTo>
                  <a:cubicBezTo>
                    <a:pt x="106" y="10"/>
                    <a:pt x="108" y="10"/>
                    <a:pt x="108" y="9"/>
                  </a:cubicBezTo>
                  <a:cubicBezTo>
                    <a:pt x="99" y="8"/>
                    <a:pt x="96" y="1"/>
                    <a:pt x="87" y="0"/>
                  </a:cubicBezTo>
                  <a:cubicBezTo>
                    <a:pt x="87" y="4"/>
                    <a:pt x="93" y="2"/>
                    <a:pt x="92" y="6"/>
                  </a:cubicBezTo>
                  <a:close/>
                  <a:moveTo>
                    <a:pt x="89" y="15"/>
                  </a:moveTo>
                  <a:cubicBezTo>
                    <a:pt x="92" y="15"/>
                    <a:pt x="95" y="20"/>
                    <a:pt x="97" y="17"/>
                  </a:cubicBezTo>
                  <a:cubicBezTo>
                    <a:pt x="94" y="16"/>
                    <a:pt x="91" y="13"/>
                    <a:pt x="89" y="15"/>
                  </a:cubicBezTo>
                  <a:close/>
                  <a:moveTo>
                    <a:pt x="20" y="32"/>
                  </a:moveTo>
                  <a:cubicBezTo>
                    <a:pt x="19" y="36"/>
                    <a:pt x="14" y="43"/>
                    <a:pt x="17" y="46"/>
                  </a:cubicBezTo>
                  <a:cubicBezTo>
                    <a:pt x="19" y="43"/>
                    <a:pt x="21" y="36"/>
                    <a:pt x="20" y="32"/>
                  </a:cubicBezTo>
                  <a:close/>
                  <a:moveTo>
                    <a:pt x="12" y="48"/>
                  </a:moveTo>
                  <a:cubicBezTo>
                    <a:pt x="11" y="48"/>
                    <a:pt x="11" y="47"/>
                    <a:pt x="11" y="45"/>
                  </a:cubicBezTo>
                  <a:cubicBezTo>
                    <a:pt x="9" y="43"/>
                    <a:pt x="10" y="45"/>
                    <a:pt x="7" y="45"/>
                  </a:cubicBezTo>
                  <a:cubicBezTo>
                    <a:pt x="7" y="43"/>
                    <a:pt x="7" y="41"/>
                    <a:pt x="6" y="40"/>
                  </a:cubicBezTo>
                  <a:cubicBezTo>
                    <a:pt x="0" y="45"/>
                    <a:pt x="8" y="54"/>
                    <a:pt x="12" y="48"/>
                  </a:cubicBezTo>
                  <a:close/>
                  <a:moveTo>
                    <a:pt x="151" y="52"/>
                  </a:moveTo>
                  <a:cubicBezTo>
                    <a:pt x="152" y="51"/>
                    <a:pt x="151" y="47"/>
                    <a:pt x="150" y="45"/>
                  </a:cubicBezTo>
                  <a:cubicBezTo>
                    <a:pt x="151" y="48"/>
                    <a:pt x="148" y="50"/>
                    <a:pt x="151" y="52"/>
                  </a:cubicBezTo>
                  <a:close/>
                  <a:moveTo>
                    <a:pt x="152" y="82"/>
                  </a:moveTo>
                  <a:cubicBezTo>
                    <a:pt x="149" y="82"/>
                    <a:pt x="149" y="82"/>
                    <a:pt x="149" y="82"/>
                  </a:cubicBezTo>
                  <a:cubicBezTo>
                    <a:pt x="149" y="85"/>
                    <a:pt x="151" y="86"/>
                    <a:pt x="149" y="87"/>
                  </a:cubicBezTo>
                  <a:cubicBezTo>
                    <a:pt x="152" y="87"/>
                    <a:pt x="151" y="84"/>
                    <a:pt x="152" y="82"/>
                  </a:cubicBezTo>
                  <a:close/>
                  <a:moveTo>
                    <a:pt x="132" y="131"/>
                  </a:moveTo>
                  <a:cubicBezTo>
                    <a:pt x="138" y="122"/>
                    <a:pt x="141" y="110"/>
                    <a:pt x="148" y="102"/>
                  </a:cubicBezTo>
                  <a:cubicBezTo>
                    <a:pt x="147" y="101"/>
                    <a:pt x="145" y="101"/>
                    <a:pt x="145" y="100"/>
                  </a:cubicBezTo>
                  <a:cubicBezTo>
                    <a:pt x="148" y="89"/>
                    <a:pt x="145" y="79"/>
                    <a:pt x="147" y="69"/>
                  </a:cubicBezTo>
                  <a:cubicBezTo>
                    <a:pt x="144" y="69"/>
                    <a:pt x="148" y="72"/>
                    <a:pt x="146" y="73"/>
                  </a:cubicBezTo>
                  <a:cubicBezTo>
                    <a:pt x="140" y="66"/>
                    <a:pt x="144" y="50"/>
                    <a:pt x="136" y="45"/>
                  </a:cubicBezTo>
                  <a:cubicBezTo>
                    <a:pt x="133" y="31"/>
                    <a:pt x="122" y="26"/>
                    <a:pt x="113" y="18"/>
                  </a:cubicBezTo>
                  <a:cubicBezTo>
                    <a:pt x="113" y="23"/>
                    <a:pt x="121" y="25"/>
                    <a:pt x="119" y="30"/>
                  </a:cubicBezTo>
                  <a:cubicBezTo>
                    <a:pt x="112" y="26"/>
                    <a:pt x="108" y="15"/>
                    <a:pt x="97" y="17"/>
                  </a:cubicBezTo>
                  <a:cubicBezTo>
                    <a:pt x="102" y="19"/>
                    <a:pt x="96" y="19"/>
                    <a:pt x="95" y="19"/>
                  </a:cubicBezTo>
                  <a:cubicBezTo>
                    <a:pt x="96" y="20"/>
                    <a:pt x="100" y="22"/>
                    <a:pt x="98" y="22"/>
                  </a:cubicBezTo>
                  <a:cubicBezTo>
                    <a:pt x="87" y="15"/>
                    <a:pt x="68" y="25"/>
                    <a:pt x="58" y="24"/>
                  </a:cubicBezTo>
                  <a:cubicBezTo>
                    <a:pt x="62" y="22"/>
                    <a:pt x="66" y="22"/>
                    <a:pt x="69" y="21"/>
                  </a:cubicBezTo>
                  <a:cubicBezTo>
                    <a:pt x="63" y="17"/>
                    <a:pt x="52" y="17"/>
                    <a:pt x="47" y="22"/>
                  </a:cubicBezTo>
                  <a:cubicBezTo>
                    <a:pt x="41" y="14"/>
                    <a:pt x="36" y="29"/>
                    <a:pt x="31" y="27"/>
                  </a:cubicBezTo>
                  <a:cubicBezTo>
                    <a:pt x="35" y="30"/>
                    <a:pt x="27" y="38"/>
                    <a:pt x="26" y="43"/>
                  </a:cubicBezTo>
                  <a:cubicBezTo>
                    <a:pt x="25" y="42"/>
                    <a:pt x="25" y="40"/>
                    <a:pt x="23" y="40"/>
                  </a:cubicBezTo>
                  <a:cubicBezTo>
                    <a:pt x="19" y="48"/>
                    <a:pt x="17" y="56"/>
                    <a:pt x="17" y="66"/>
                  </a:cubicBezTo>
                  <a:cubicBezTo>
                    <a:pt x="16" y="66"/>
                    <a:pt x="16" y="65"/>
                    <a:pt x="15" y="65"/>
                  </a:cubicBezTo>
                  <a:cubicBezTo>
                    <a:pt x="13" y="66"/>
                    <a:pt x="18" y="68"/>
                    <a:pt x="14" y="69"/>
                  </a:cubicBezTo>
                  <a:cubicBezTo>
                    <a:pt x="12" y="67"/>
                    <a:pt x="16" y="65"/>
                    <a:pt x="14" y="63"/>
                  </a:cubicBezTo>
                  <a:cubicBezTo>
                    <a:pt x="12" y="65"/>
                    <a:pt x="13" y="57"/>
                    <a:pt x="12" y="56"/>
                  </a:cubicBezTo>
                  <a:cubicBezTo>
                    <a:pt x="10" y="68"/>
                    <a:pt x="11" y="83"/>
                    <a:pt x="13" y="96"/>
                  </a:cubicBezTo>
                  <a:cubicBezTo>
                    <a:pt x="11" y="97"/>
                    <a:pt x="11" y="95"/>
                    <a:pt x="9" y="95"/>
                  </a:cubicBezTo>
                  <a:cubicBezTo>
                    <a:pt x="10" y="101"/>
                    <a:pt x="12" y="105"/>
                    <a:pt x="12" y="112"/>
                  </a:cubicBezTo>
                  <a:cubicBezTo>
                    <a:pt x="20" y="125"/>
                    <a:pt x="33" y="133"/>
                    <a:pt x="43" y="145"/>
                  </a:cubicBezTo>
                  <a:cubicBezTo>
                    <a:pt x="55" y="149"/>
                    <a:pt x="72" y="151"/>
                    <a:pt x="87" y="151"/>
                  </a:cubicBezTo>
                  <a:cubicBezTo>
                    <a:pt x="97" y="154"/>
                    <a:pt x="109" y="146"/>
                    <a:pt x="117" y="141"/>
                  </a:cubicBezTo>
                  <a:cubicBezTo>
                    <a:pt x="117" y="142"/>
                    <a:pt x="115" y="144"/>
                    <a:pt x="117" y="144"/>
                  </a:cubicBezTo>
                  <a:cubicBezTo>
                    <a:pt x="124" y="140"/>
                    <a:pt x="132" y="137"/>
                    <a:pt x="136" y="129"/>
                  </a:cubicBezTo>
                  <a:cubicBezTo>
                    <a:pt x="134" y="129"/>
                    <a:pt x="133" y="132"/>
                    <a:pt x="132" y="131"/>
                  </a:cubicBezTo>
                  <a:close/>
                  <a:moveTo>
                    <a:pt x="31" y="37"/>
                  </a:moveTo>
                  <a:cubicBezTo>
                    <a:pt x="31" y="33"/>
                    <a:pt x="33" y="31"/>
                    <a:pt x="35" y="29"/>
                  </a:cubicBezTo>
                  <a:cubicBezTo>
                    <a:pt x="36" y="29"/>
                    <a:pt x="36" y="30"/>
                    <a:pt x="37" y="30"/>
                  </a:cubicBezTo>
                  <a:cubicBezTo>
                    <a:pt x="36" y="33"/>
                    <a:pt x="35" y="36"/>
                    <a:pt x="31" y="37"/>
                  </a:cubicBezTo>
                  <a:close/>
                  <a:moveTo>
                    <a:pt x="77" y="30"/>
                  </a:moveTo>
                  <a:cubicBezTo>
                    <a:pt x="79" y="29"/>
                    <a:pt x="82" y="29"/>
                    <a:pt x="84" y="30"/>
                  </a:cubicBezTo>
                  <a:cubicBezTo>
                    <a:pt x="83" y="33"/>
                    <a:pt x="80" y="30"/>
                    <a:pt x="77" y="30"/>
                  </a:cubicBezTo>
                  <a:close/>
                  <a:moveTo>
                    <a:pt x="101" y="34"/>
                  </a:moveTo>
                  <a:cubicBezTo>
                    <a:pt x="94" y="34"/>
                    <a:pt x="91" y="30"/>
                    <a:pt x="87" y="25"/>
                  </a:cubicBezTo>
                  <a:cubicBezTo>
                    <a:pt x="94" y="27"/>
                    <a:pt x="97" y="27"/>
                    <a:pt x="101" y="34"/>
                  </a:cubicBezTo>
                  <a:close/>
                  <a:moveTo>
                    <a:pt x="89" y="31"/>
                  </a:moveTo>
                  <a:cubicBezTo>
                    <a:pt x="95" y="33"/>
                    <a:pt x="98" y="38"/>
                    <a:pt x="102" y="43"/>
                  </a:cubicBezTo>
                  <a:cubicBezTo>
                    <a:pt x="98" y="39"/>
                    <a:pt x="92" y="36"/>
                    <a:pt x="89" y="31"/>
                  </a:cubicBezTo>
                  <a:close/>
                  <a:moveTo>
                    <a:pt x="110" y="32"/>
                  </a:moveTo>
                  <a:cubicBezTo>
                    <a:pt x="107" y="32"/>
                    <a:pt x="105" y="30"/>
                    <a:pt x="103" y="29"/>
                  </a:cubicBezTo>
                  <a:cubicBezTo>
                    <a:pt x="106" y="27"/>
                    <a:pt x="110" y="29"/>
                    <a:pt x="110" y="32"/>
                  </a:cubicBezTo>
                  <a:close/>
                  <a:moveTo>
                    <a:pt x="164" y="77"/>
                  </a:moveTo>
                  <a:cubicBezTo>
                    <a:pt x="162" y="79"/>
                    <a:pt x="163" y="83"/>
                    <a:pt x="162" y="86"/>
                  </a:cubicBezTo>
                  <a:cubicBezTo>
                    <a:pt x="165" y="84"/>
                    <a:pt x="164" y="79"/>
                    <a:pt x="164" y="77"/>
                  </a:cubicBezTo>
                  <a:close/>
                  <a:moveTo>
                    <a:pt x="158" y="100"/>
                  </a:moveTo>
                  <a:cubicBezTo>
                    <a:pt x="158" y="96"/>
                    <a:pt x="162" y="93"/>
                    <a:pt x="160" y="89"/>
                  </a:cubicBezTo>
                  <a:cubicBezTo>
                    <a:pt x="160" y="93"/>
                    <a:pt x="156" y="97"/>
                    <a:pt x="158" y="100"/>
                  </a:cubicBezTo>
                  <a:close/>
                  <a:moveTo>
                    <a:pt x="141" y="125"/>
                  </a:moveTo>
                  <a:cubicBezTo>
                    <a:pt x="147" y="126"/>
                    <a:pt x="149" y="121"/>
                    <a:pt x="149" y="115"/>
                  </a:cubicBezTo>
                  <a:cubicBezTo>
                    <a:pt x="154" y="113"/>
                    <a:pt x="158" y="103"/>
                    <a:pt x="157" y="101"/>
                  </a:cubicBezTo>
                  <a:cubicBezTo>
                    <a:pt x="152" y="110"/>
                    <a:pt x="147" y="118"/>
                    <a:pt x="141" y="125"/>
                  </a:cubicBezTo>
                  <a:close/>
                </a:path>
              </a:pathLst>
            </a:custGeom>
            <a:solidFill>
              <a:srgbClr val="2c3c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组合 4"/>
          <p:cNvGrpSpPr/>
          <p:nvPr/>
        </p:nvGrpSpPr>
        <p:grpSpPr>
          <a:xfrm>
            <a:off x="8677080" y="3002040"/>
            <a:ext cx="1751040" cy="520560"/>
            <a:chOff x="8677080" y="3002040"/>
            <a:chExt cx="1751040" cy="520560"/>
          </a:xfrm>
        </p:grpSpPr>
        <p:sp>
          <p:nvSpPr>
            <p:cNvPr id="306" name="文本框 12"/>
            <p:cNvSpPr/>
            <p:nvPr/>
          </p:nvSpPr>
          <p:spPr>
            <a:xfrm>
              <a:off x="9107640" y="3002040"/>
              <a:ext cx="1320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2c3c5e"/>
                  </a:solidFill>
                  <a:latin typeface="腾祥铁山楷书简"/>
                  <a:ea typeface="腾祥铁山楷书简"/>
                </a:rPr>
                <a:t>PPT</a:t>
              </a:r>
              <a:r>
                <a:rPr b="0" lang="zh-CN" sz="2800" spc="-1" strike="noStrike">
                  <a:solidFill>
                    <a:srgbClr val="2c3c5e"/>
                  </a:solidFill>
                  <a:latin typeface="腾祥铁山楷书简"/>
                  <a:ea typeface="腾祥铁山楷书简"/>
                </a:rPr>
                <a:t>作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0428"/>
            <p:cNvSpPr/>
            <p:nvPr/>
          </p:nvSpPr>
          <p:spPr>
            <a:xfrm flipV="1" rot="10800000">
              <a:off x="8677080" y="3113280"/>
              <a:ext cx="315720" cy="29556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-360 h 295560"/>
                <a:gd name="textAreaBottom" fmla="*/ 295560 h 295560"/>
              </a:gdLst>
              <a:ahLst/>
              <a:rect l="textAreaLeft" t="textAreaTop" r="textAreaRight" b="textAreaBottom"/>
              <a:pathLst>
                <a:path w="165" h="154">
                  <a:moveTo>
                    <a:pt x="92" y="6"/>
                  </a:moveTo>
                  <a:cubicBezTo>
                    <a:pt x="99" y="6"/>
                    <a:pt x="101" y="11"/>
                    <a:pt x="107" y="12"/>
                  </a:cubicBezTo>
                  <a:cubicBezTo>
                    <a:pt x="106" y="10"/>
                    <a:pt x="108" y="10"/>
                    <a:pt x="108" y="9"/>
                  </a:cubicBezTo>
                  <a:cubicBezTo>
                    <a:pt x="99" y="8"/>
                    <a:pt x="96" y="1"/>
                    <a:pt x="87" y="0"/>
                  </a:cubicBezTo>
                  <a:cubicBezTo>
                    <a:pt x="87" y="4"/>
                    <a:pt x="93" y="2"/>
                    <a:pt x="92" y="6"/>
                  </a:cubicBezTo>
                  <a:close/>
                  <a:moveTo>
                    <a:pt x="89" y="15"/>
                  </a:moveTo>
                  <a:cubicBezTo>
                    <a:pt x="92" y="15"/>
                    <a:pt x="95" y="20"/>
                    <a:pt x="97" y="17"/>
                  </a:cubicBezTo>
                  <a:cubicBezTo>
                    <a:pt x="94" y="16"/>
                    <a:pt x="91" y="13"/>
                    <a:pt x="89" y="15"/>
                  </a:cubicBezTo>
                  <a:close/>
                  <a:moveTo>
                    <a:pt x="20" y="32"/>
                  </a:moveTo>
                  <a:cubicBezTo>
                    <a:pt x="19" y="36"/>
                    <a:pt x="14" y="43"/>
                    <a:pt x="17" y="46"/>
                  </a:cubicBezTo>
                  <a:cubicBezTo>
                    <a:pt x="19" y="43"/>
                    <a:pt x="21" y="36"/>
                    <a:pt x="20" y="32"/>
                  </a:cubicBezTo>
                  <a:close/>
                  <a:moveTo>
                    <a:pt x="12" y="48"/>
                  </a:moveTo>
                  <a:cubicBezTo>
                    <a:pt x="11" y="48"/>
                    <a:pt x="11" y="47"/>
                    <a:pt x="11" y="45"/>
                  </a:cubicBezTo>
                  <a:cubicBezTo>
                    <a:pt x="9" y="43"/>
                    <a:pt x="10" y="45"/>
                    <a:pt x="7" y="45"/>
                  </a:cubicBezTo>
                  <a:cubicBezTo>
                    <a:pt x="7" y="43"/>
                    <a:pt x="7" y="41"/>
                    <a:pt x="6" y="40"/>
                  </a:cubicBezTo>
                  <a:cubicBezTo>
                    <a:pt x="0" y="45"/>
                    <a:pt x="8" y="54"/>
                    <a:pt x="12" y="48"/>
                  </a:cubicBezTo>
                  <a:close/>
                  <a:moveTo>
                    <a:pt x="151" y="52"/>
                  </a:moveTo>
                  <a:cubicBezTo>
                    <a:pt x="152" y="51"/>
                    <a:pt x="151" y="47"/>
                    <a:pt x="150" y="45"/>
                  </a:cubicBezTo>
                  <a:cubicBezTo>
                    <a:pt x="151" y="48"/>
                    <a:pt x="148" y="50"/>
                    <a:pt x="151" y="52"/>
                  </a:cubicBezTo>
                  <a:close/>
                  <a:moveTo>
                    <a:pt x="152" y="82"/>
                  </a:moveTo>
                  <a:cubicBezTo>
                    <a:pt x="149" y="82"/>
                    <a:pt x="149" y="82"/>
                    <a:pt x="149" y="82"/>
                  </a:cubicBezTo>
                  <a:cubicBezTo>
                    <a:pt x="149" y="85"/>
                    <a:pt x="151" y="86"/>
                    <a:pt x="149" y="87"/>
                  </a:cubicBezTo>
                  <a:cubicBezTo>
                    <a:pt x="152" y="87"/>
                    <a:pt x="151" y="84"/>
                    <a:pt x="152" y="82"/>
                  </a:cubicBezTo>
                  <a:close/>
                  <a:moveTo>
                    <a:pt x="132" y="131"/>
                  </a:moveTo>
                  <a:cubicBezTo>
                    <a:pt x="138" y="122"/>
                    <a:pt x="141" y="110"/>
                    <a:pt x="148" y="102"/>
                  </a:cubicBezTo>
                  <a:cubicBezTo>
                    <a:pt x="147" y="101"/>
                    <a:pt x="145" y="101"/>
                    <a:pt x="145" y="100"/>
                  </a:cubicBezTo>
                  <a:cubicBezTo>
                    <a:pt x="148" y="89"/>
                    <a:pt x="145" y="79"/>
                    <a:pt x="147" y="69"/>
                  </a:cubicBezTo>
                  <a:cubicBezTo>
                    <a:pt x="144" y="69"/>
                    <a:pt x="148" y="72"/>
                    <a:pt x="146" y="73"/>
                  </a:cubicBezTo>
                  <a:cubicBezTo>
                    <a:pt x="140" y="66"/>
                    <a:pt x="144" y="50"/>
                    <a:pt x="136" y="45"/>
                  </a:cubicBezTo>
                  <a:cubicBezTo>
                    <a:pt x="133" y="31"/>
                    <a:pt x="122" y="26"/>
                    <a:pt x="113" y="18"/>
                  </a:cubicBezTo>
                  <a:cubicBezTo>
                    <a:pt x="113" y="23"/>
                    <a:pt x="121" y="25"/>
                    <a:pt x="119" y="30"/>
                  </a:cubicBezTo>
                  <a:cubicBezTo>
                    <a:pt x="112" y="26"/>
                    <a:pt x="108" y="15"/>
                    <a:pt x="97" y="17"/>
                  </a:cubicBezTo>
                  <a:cubicBezTo>
                    <a:pt x="102" y="19"/>
                    <a:pt x="96" y="19"/>
                    <a:pt x="95" y="19"/>
                  </a:cubicBezTo>
                  <a:cubicBezTo>
                    <a:pt x="96" y="20"/>
                    <a:pt x="100" y="22"/>
                    <a:pt x="98" y="22"/>
                  </a:cubicBezTo>
                  <a:cubicBezTo>
                    <a:pt x="87" y="15"/>
                    <a:pt x="68" y="25"/>
                    <a:pt x="58" y="24"/>
                  </a:cubicBezTo>
                  <a:cubicBezTo>
                    <a:pt x="62" y="22"/>
                    <a:pt x="66" y="22"/>
                    <a:pt x="69" y="21"/>
                  </a:cubicBezTo>
                  <a:cubicBezTo>
                    <a:pt x="63" y="17"/>
                    <a:pt x="52" y="17"/>
                    <a:pt x="47" y="22"/>
                  </a:cubicBezTo>
                  <a:cubicBezTo>
                    <a:pt x="41" y="14"/>
                    <a:pt x="36" y="29"/>
                    <a:pt x="31" y="27"/>
                  </a:cubicBezTo>
                  <a:cubicBezTo>
                    <a:pt x="35" y="30"/>
                    <a:pt x="27" y="38"/>
                    <a:pt x="26" y="43"/>
                  </a:cubicBezTo>
                  <a:cubicBezTo>
                    <a:pt x="25" y="42"/>
                    <a:pt x="25" y="40"/>
                    <a:pt x="23" y="40"/>
                  </a:cubicBezTo>
                  <a:cubicBezTo>
                    <a:pt x="19" y="48"/>
                    <a:pt x="17" y="56"/>
                    <a:pt x="17" y="66"/>
                  </a:cubicBezTo>
                  <a:cubicBezTo>
                    <a:pt x="16" y="66"/>
                    <a:pt x="16" y="65"/>
                    <a:pt x="15" y="65"/>
                  </a:cubicBezTo>
                  <a:cubicBezTo>
                    <a:pt x="13" y="66"/>
                    <a:pt x="18" y="68"/>
                    <a:pt x="14" y="69"/>
                  </a:cubicBezTo>
                  <a:cubicBezTo>
                    <a:pt x="12" y="67"/>
                    <a:pt x="16" y="65"/>
                    <a:pt x="14" y="63"/>
                  </a:cubicBezTo>
                  <a:cubicBezTo>
                    <a:pt x="12" y="65"/>
                    <a:pt x="13" y="57"/>
                    <a:pt x="12" y="56"/>
                  </a:cubicBezTo>
                  <a:cubicBezTo>
                    <a:pt x="10" y="68"/>
                    <a:pt x="11" y="83"/>
                    <a:pt x="13" y="96"/>
                  </a:cubicBezTo>
                  <a:cubicBezTo>
                    <a:pt x="11" y="97"/>
                    <a:pt x="11" y="95"/>
                    <a:pt x="9" y="95"/>
                  </a:cubicBezTo>
                  <a:cubicBezTo>
                    <a:pt x="10" y="101"/>
                    <a:pt x="12" y="105"/>
                    <a:pt x="12" y="112"/>
                  </a:cubicBezTo>
                  <a:cubicBezTo>
                    <a:pt x="20" y="125"/>
                    <a:pt x="33" y="133"/>
                    <a:pt x="43" y="145"/>
                  </a:cubicBezTo>
                  <a:cubicBezTo>
                    <a:pt x="55" y="149"/>
                    <a:pt x="72" y="151"/>
                    <a:pt x="87" y="151"/>
                  </a:cubicBezTo>
                  <a:cubicBezTo>
                    <a:pt x="97" y="154"/>
                    <a:pt x="109" y="146"/>
                    <a:pt x="117" y="141"/>
                  </a:cubicBezTo>
                  <a:cubicBezTo>
                    <a:pt x="117" y="142"/>
                    <a:pt x="115" y="144"/>
                    <a:pt x="117" y="144"/>
                  </a:cubicBezTo>
                  <a:cubicBezTo>
                    <a:pt x="124" y="140"/>
                    <a:pt x="132" y="137"/>
                    <a:pt x="136" y="129"/>
                  </a:cubicBezTo>
                  <a:cubicBezTo>
                    <a:pt x="134" y="129"/>
                    <a:pt x="133" y="132"/>
                    <a:pt x="132" y="131"/>
                  </a:cubicBezTo>
                  <a:close/>
                  <a:moveTo>
                    <a:pt x="31" y="37"/>
                  </a:moveTo>
                  <a:cubicBezTo>
                    <a:pt x="31" y="33"/>
                    <a:pt x="33" y="31"/>
                    <a:pt x="35" y="29"/>
                  </a:cubicBezTo>
                  <a:cubicBezTo>
                    <a:pt x="36" y="29"/>
                    <a:pt x="36" y="30"/>
                    <a:pt x="37" y="30"/>
                  </a:cubicBezTo>
                  <a:cubicBezTo>
                    <a:pt x="36" y="33"/>
                    <a:pt x="35" y="36"/>
                    <a:pt x="31" y="37"/>
                  </a:cubicBezTo>
                  <a:close/>
                  <a:moveTo>
                    <a:pt x="77" y="30"/>
                  </a:moveTo>
                  <a:cubicBezTo>
                    <a:pt x="79" y="29"/>
                    <a:pt x="82" y="29"/>
                    <a:pt x="84" y="30"/>
                  </a:cubicBezTo>
                  <a:cubicBezTo>
                    <a:pt x="83" y="33"/>
                    <a:pt x="80" y="30"/>
                    <a:pt x="77" y="30"/>
                  </a:cubicBezTo>
                  <a:close/>
                  <a:moveTo>
                    <a:pt x="101" y="34"/>
                  </a:moveTo>
                  <a:cubicBezTo>
                    <a:pt x="94" y="34"/>
                    <a:pt x="91" y="30"/>
                    <a:pt x="87" y="25"/>
                  </a:cubicBezTo>
                  <a:cubicBezTo>
                    <a:pt x="94" y="27"/>
                    <a:pt x="97" y="27"/>
                    <a:pt x="101" y="34"/>
                  </a:cubicBezTo>
                  <a:close/>
                  <a:moveTo>
                    <a:pt x="89" y="31"/>
                  </a:moveTo>
                  <a:cubicBezTo>
                    <a:pt x="95" y="33"/>
                    <a:pt x="98" y="38"/>
                    <a:pt x="102" y="43"/>
                  </a:cubicBezTo>
                  <a:cubicBezTo>
                    <a:pt x="98" y="39"/>
                    <a:pt x="92" y="36"/>
                    <a:pt x="89" y="31"/>
                  </a:cubicBezTo>
                  <a:close/>
                  <a:moveTo>
                    <a:pt x="110" y="32"/>
                  </a:moveTo>
                  <a:cubicBezTo>
                    <a:pt x="107" y="32"/>
                    <a:pt x="105" y="30"/>
                    <a:pt x="103" y="29"/>
                  </a:cubicBezTo>
                  <a:cubicBezTo>
                    <a:pt x="106" y="27"/>
                    <a:pt x="110" y="29"/>
                    <a:pt x="110" y="32"/>
                  </a:cubicBezTo>
                  <a:close/>
                  <a:moveTo>
                    <a:pt x="164" y="77"/>
                  </a:moveTo>
                  <a:cubicBezTo>
                    <a:pt x="162" y="79"/>
                    <a:pt x="163" y="83"/>
                    <a:pt x="162" y="86"/>
                  </a:cubicBezTo>
                  <a:cubicBezTo>
                    <a:pt x="165" y="84"/>
                    <a:pt x="164" y="79"/>
                    <a:pt x="164" y="77"/>
                  </a:cubicBezTo>
                  <a:close/>
                  <a:moveTo>
                    <a:pt x="158" y="100"/>
                  </a:moveTo>
                  <a:cubicBezTo>
                    <a:pt x="158" y="96"/>
                    <a:pt x="162" y="93"/>
                    <a:pt x="160" y="89"/>
                  </a:cubicBezTo>
                  <a:cubicBezTo>
                    <a:pt x="160" y="93"/>
                    <a:pt x="156" y="97"/>
                    <a:pt x="158" y="100"/>
                  </a:cubicBezTo>
                  <a:close/>
                  <a:moveTo>
                    <a:pt x="141" y="125"/>
                  </a:moveTo>
                  <a:cubicBezTo>
                    <a:pt x="147" y="126"/>
                    <a:pt x="149" y="121"/>
                    <a:pt x="149" y="115"/>
                  </a:cubicBezTo>
                  <a:cubicBezTo>
                    <a:pt x="154" y="113"/>
                    <a:pt x="158" y="103"/>
                    <a:pt x="157" y="101"/>
                  </a:cubicBezTo>
                  <a:cubicBezTo>
                    <a:pt x="152" y="110"/>
                    <a:pt x="147" y="118"/>
                    <a:pt x="141" y="125"/>
                  </a:cubicBezTo>
                  <a:close/>
                </a:path>
              </a:pathLst>
            </a:custGeom>
            <a:solidFill>
              <a:srgbClr val="2c3c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组合 5"/>
          <p:cNvGrpSpPr/>
          <p:nvPr/>
        </p:nvGrpSpPr>
        <p:grpSpPr>
          <a:xfrm>
            <a:off x="8677080" y="3658320"/>
            <a:ext cx="1751040" cy="520560"/>
            <a:chOff x="8677080" y="3658320"/>
            <a:chExt cx="1751040" cy="520560"/>
          </a:xfrm>
        </p:grpSpPr>
        <p:sp>
          <p:nvSpPr>
            <p:cNvPr id="309" name="文本框 14"/>
            <p:cNvSpPr/>
            <p:nvPr/>
          </p:nvSpPr>
          <p:spPr>
            <a:xfrm>
              <a:off x="9107640" y="3658320"/>
              <a:ext cx="1320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2c3c5e"/>
                  </a:solidFill>
                  <a:latin typeface="腾祥铁山楷书简"/>
                  <a:ea typeface="腾祥铁山楷书简"/>
                </a:rPr>
                <a:t>PPT</a:t>
              </a:r>
              <a:r>
                <a:rPr b="0" lang="zh-CN" sz="2800" spc="-1" strike="noStrike">
                  <a:solidFill>
                    <a:srgbClr val="2c3c5e"/>
                  </a:solidFill>
                  <a:latin typeface="腾祥铁山楷书简"/>
                  <a:ea typeface="腾祥铁山楷书简"/>
                </a:rPr>
                <a:t>定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0428"/>
            <p:cNvSpPr/>
            <p:nvPr/>
          </p:nvSpPr>
          <p:spPr>
            <a:xfrm flipV="1" rot="10800000">
              <a:off x="8677080" y="3771720"/>
              <a:ext cx="315720" cy="29376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360 h 293760"/>
                <a:gd name="textAreaBottom" fmla="*/ 294480 h 293760"/>
              </a:gdLst>
              <a:ahLst/>
              <a:rect l="textAreaLeft" t="textAreaTop" r="textAreaRight" b="textAreaBottom"/>
              <a:pathLst>
                <a:path w="165" h="154">
                  <a:moveTo>
                    <a:pt x="92" y="6"/>
                  </a:moveTo>
                  <a:cubicBezTo>
                    <a:pt x="99" y="6"/>
                    <a:pt x="101" y="11"/>
                    <a:pt x="107" y="12"/>
                  </a:cubicBezTo>
                  <a:cubicBezTo>
                    <a:pt x="106" y="10"/>
                    <a:pt x="108" y="10"/>
                    <a:pt x="108" y="9"/>
                  </a:cubicBezTo>
                  <a:cubicBezTo>
                    <a:pt x="99" y="8"/>
                    <a:pt x="96" y="1"/>
                    <a:pt x="87" y="0"/>
                  </a:cubicBezTo>
                  <a:cubicBezTo>
                    <a:pt x="87" y="4"/>
                    <a:pt x="93" y="2"/>
                    <a:pt x="92" y="6"/>
                  </a:cubicBezTo>
                  <a:close/>
                  <a:moveTo>
                    <a:pt x="89" y="15"/>
                  </a:moveTo>
                  <a:cubicBezTo>
                    <a:pt x="92" y="15"/>
                    <a:pt x="95" y="20"/>
                    <a:pt x="97" y="17"/>
                  </a:cubicBezTo>
                  <a:cubicBezTo>
                    <a:pt x="94" y="16"/>
                    <a:pt x="91" y="13"/>
                    <a:pt x="89" y="15"/>
                  </a:cubicBezTo>
                  <a:close/>
                  <a:moveTo>
                    <a:pt x="20" y="32"/>
                  </a:moveTo>
                  <a:cubicBezTo>
                    <a:pt x="19" y="36"/>
                    <a:pt x="14" y="43"/>
                    <a:pt x="17" y="46"/>
                  </a:cubicBezTo>
                  <a:cubicBezTo>
                    <a:pt x="19" y="43"/>
                    <a:pt x="21" y="36"/>
                    <a:pt x="20" y="32"/>
                  </a:cubicBezTo>
                  <a:close/>
                  <a:moveTo>
                    <a:pt x="12" y="48"/>
                  </a:moveTo>
                  <a:cubicBezTo>
                    <a:pt x="11" y="48"/>
                    <a:pt x="11" y="47"/>
                    <a:pt x="11" y="45"/>
                  </a:cubicBezTo>
                  <a:cubicBezTo>
                    <a:pt x="9" y="43"/>
                    <a:pt x="10" y="45"/>
                    <a:pt x="7" y="45"/>
                  </a:cubicBezTo>
                  <a:cubicBezTo>
                    <a:pt x="7" y="43"/>
                    <a:pt x="7" y="41"/>
                    <a:pt x="6" y="40"/>
                  </a:cubicBezTo>
                  <a:cubicBezTo>
                    <a:pt x="0" y="45"/>
                    <a:pt x="8" y="54"/>
                    <a:pt x="12" y="48"/>
                  </a:cubicBezTo>
                  <a:close/>
                  <a:moveTo>
                    <a:pt x="151" y="52"/>
                  </a:moveTo>
                  <a:cubicBezTo>
                    <a:pt x="152" y="51"/>
                    <a:pt x="151" y="47"/>
                    <a:pt x="150" y="45"/>
                  </a:cubicBezTo>
                  <a:cubicBezTo>
                    <a:pt x="151" y="48"/>
                    <a:pt x="148" y="50"/>
                    <a:pt x="151" y="52"/>
                  </a:cubicBezTo>
                  <a:close/>
                  <a:moveTo>
                    <a:pt x="152" y="82"/>
                  </a:moveTo>
                  <a:cubicBezTo>
                    <a:pt x="149" y="82"/>
                    <a:pt x="149" y="82"/>
                    <a:pt x="149" y="82"/>
                  </a:cubicBezTo>
                  <a:cubicBezTo>
                    <a:pt x="149" y="85"/>
                    <a:pt x="151" y="86"/>
                    <a:pt x="149" y="87"/>
                  </a:cubicBezTo>
                  <a:cubicBezTo>
                    <a:pt x="152" y="87"/>
                    <a:pt x="151" y="84"/>
                    <a:pt x="152" y="82"/>
                  </a:cubicBezTo>
                  <a:close/>
                  <a:moveTo>
                    <a:pt x="132" y="131"/>
                  </a:moveTo>
                  <a:cubicBezTo>
                    <a:pt x="138" y="122"/>
                    <a:pt x="141" y="110"/>
                    <a:pt x="148" y="102"/>
                  </a:cubicBezTo>
                  <a:cubicBezTo>
                    <a:pt x="147" y="101"/>
                    <a:pt x="145" y="101"/>
                    <a:pt x="145" y="100"/>
                  </a:cubicBezTo>
                  <a:cubicBezTo>
                    <a:pt x="148" y="89"/>
                    <a:pt x="145" y="79"/>
                    <a:pt x="147" y="69"/>
                  </a:cubicBezTo>
                  <a:cubicBezTo>
                    <a:pt x="144" y="69"/>
                    <a:pt x="148" y="72"/>
                    <a:pt x="146" y="73"/>
                  </a:cubicBezTo>
                  <a:cubicBezTo>
                    <a:pt x="140" y="66"/>
                    <a:pt x="144" y="50"/>
                    <a:pt x="136" y="45"/>
                  </a:cubicBezTo>
                  <a:cubicBezTo>
                    <a:pt x="133" y="31"/>
                    <a:pt x="122" y="26"/>
                    <a:pt x="113" y="18"/>
                  </a:cubicBezTo>
                  <a:cubicBezTo>
                    <a:pt x="113" y="23"/>
                    <a:pt x="121" y="25"/>
                    <a:pt x="119" y="30"/>
                  </a:cubicBezTo>
                  <a:cubicBezTo>
                    <a:pt x="112" y="26"/>
                    <a:pt x="108" y="15"/>
                    <a:pt x="97" y="17"/>
                  </a:cubicBezTo>
                  <a:cubicBezTo>
                    <a:pt x="102" y="19"/>
                    <a:pt x="96" y="19"/>
                    <a:pt x="95" y="19"/>
                  </a:cubicBezTo>
                  <a:cubicBezTo>
                    <a:pt x="96" y="20"/>
                    <a:pt x="100" y="22"/>
                    <a:pt x="98" y="22"/>
                  </a:cubicBezTo>
                  <a:cubicBezTo>
                    <a:pt x="87" y="15"/>
                    <a:pt x="68" y="25"/>
                    <a:pt x="58" y="24"/>
                  </a:cubicBezTo>
                  <a:cubicBezTo>
                    <a:pt x="62" y="22"/>
                    <a:pt x="66" y="22"/>
                    <a:pt x="69" y="21"/>
                  </a:cubicBezTo>
                  <a:cubicBezTo>
                    <a:pt x="63" y="17"/>
                    <a:pt x="52" y="17"/>
                    <a:pt x="47" y="22"/>
                  </a:cubicBezTo>
                  <a:cubicBezTo>
                    <a:pt x="41" y="14"/>
                    <a:pt x="36" y="29"/>
                    <a:pt x="31" y="27"/>
                  </a:cubicBezTo>
                  <a:cubicBezTo>
                    <a:pt x="35" y="30"/>
                    <a:pt x="27" y="38"/>
                    <a:pt x="26" y="43"/>
                  </a:cubicBezTo>
                  <a:cubicBezTo>
                    <a:pt x="25" y="42"/>
                    <a:pt x="25" y="40"/>
                    <a:pt x="23" y="40"/>
                  </a:cubicBezTo>
                  <a:cubicBezTo>
                    <a:pt x="19" y="48"/>
                    <a:pt x="17" y="56"/>
                    <a:pt x="17" y="66"/>
                  </a:cubicBezTo>
                  <a:cubicBezTo>
                    <a:pt x="16" y="66"/>
                    <a:pt x="16" y="65"/>
                    <a:pt x="15" y="65"/>
                  </a:cubicBezTo>
                  <a:cubicBezTo>
                    <a:pt x="13" y="66"/>
                    <a:pt x="18" y="68"/>
                    <a:pt x="14" y="69"/>
                  </a:cubicBezTo>
                  <a:cubicBezTo>
                    <a:pt x="12" y="67"/>
                    <a:pt x="16" y="65"/>
                    <a:pt x="14" y="63"/>
                  </a:cubicBezTo>
                  <a:cubicBezTo>
                    <a:pt x="12" y="65"/>
                    <a:pt x="13" y="57"/>
                    <a:pt x="12" y="56"/>
                  </a:cubicBezTo>
                  <a:cubicBezTo>
                    <a:pt x="10" y="68"/>
                    <a:pt x="11" y="83"/>
                    <a:pt x="13" y="96"/>
                  </a:cubicBezTo>
                  <a:cubicBezTo>
                    <a:pt x="11" y="97"/>
                    <a:pt x="11" y="95"/>
                    <a:pt x="9" y="95"/>
                  </a:cubicBezTo>
                  <a:cubicBezTo>
                    <a:pt x="10" y="101"/>
                    <a:pt x="12" y="105"/>
                    <a:pt x="12" y="112"/>
                  </a:cubicBezTo>
                  <a:cubicBezTo>
                    <a:pt x="20" y="125"/>
                    <a:pt x="33" y="133"/>
                    <a:pt x="43" y="145"/>
                  </a:cubicBezTo>
                  <a:cubicBezTo>
                    <a:pt x="55" y="149"/>
                    <a:pt x="72" y="151"/>
                    <a:pt x="87" y="151"/>
                  </a:cubicBezTo>
                  <a:cubicBezTo>
                    <a:pt x="97" y="154"/>
                    <a:pt x="109" y="146"/>
                    <a:pt x="117" y="141"/>
                  </a:cubicBezTo>
                  <a:cubicBezTo>
                    <a:pt x="117" y="142"/>
                    <a:pt x="115" y="144"/>
                    <a:pt x="117" y="144"/>
                  </a:cubicBezTo>
                  <a:cubicBezTo>
                    <a:pt x="124" y="140"/>
                    <a:pt x="132" y="137"/>
                    <a:pt x="136" y="129"/>
                  </a:cubicBezTo>
                  <a:cubicBezTo>
                    <a:pt x="134" y="129"/>
                    <a:pt x="133" y="132"/>
                    <a:pt x="132" y="131"/>
                  </a:cubicBezTo>
                  <a:close/>
                  <a:moveTo>
                    <a:pt x="31" y="37"/>
                  </a:moveTo>
                  <a:cubicBezTo>
                    <a:pt x="31" y="33"/>
                    <a:pt x="33" y="31"/>
                    <a:pt x="35" y="29"/>
                  </a:cubicBezTo>
                  <a:cubicBezTo>
                    <a:pt x="36" y="29"/>
                    <a:pt x="36" y="30"/>
                    <a:pt x="37" y="30"/>
                  </a:cubicBezTo>
                  <a:cubicBezTo>
                    <a:pt x="36" y="33"/>
                    <a:pt x="35" y="36"/>
                    <a:pt x="31" y="37"/>
                  </a:cubicBezTo>
                  <a:close/>
                  <a:moveTo>
                    <a:pt x="77" y="30"/>
                  </a:moveTo>
                  <a:cubicBezTo>
                    <a:pt x="79" y="29"/>
                    <a:pt x="82" y="29"/>
                    <a:pt x="84" y="30"/>
                  </a:cubicBezTo>
                  <a:cubicBezTo>
                    <a:pt x="83" y="33"/>
                    <a:pt x="80" y="30"/>
                    <a:pt x="77" y="30"/>
                  </a:cubicBezTo>
                  <a:close/>
                  <a:moveTo>
                    <a:pt x="101" y="34"/>
                  </a:moveTo>
                  <a:cubicBezTo>
                    <a:pt x="94" y="34"/>
                    <a:pt x="91" y="30"/>
                    <a:pt x="87" y="25"/>
                  </a:cubicBezTo>
                  <a:cubicBezTo>
                    <a:pt x="94" y="27"/>
                    <a:pt x="97" y="27"/>
                    <a:pt x="101" y="34"/>
                  </a:cubicBezTo>
                  <a:close/>
                  <a:moveTo>
                    <a:pt x="89" y="31"/>
                  </a:moveTo>
                  <a:cubicBezTo>
                    <a:pt x="95" y="33"/>
                    <a:pt x="98" y="38"/>
                    <a:pt x="102" y="43"/>
                  </a:cubicBezTo>
                  <a:cubicBezTo>
                    <a:pt x="98" y="39"/>
                    <a:pt x="92" y="36"/>
                    <a:pt x="89" y="31"/>
                  </a:cubicBezTo>
                  <a:close/>
                  <a:moveTo>
                    <a:pt x="110" y="32"/>
                  </a:moveTo>
                  <a:cubicBezTo>
                    <a:pt x="107" y="32"/>
                    <a:pt x="105" y="30"/>
                    <a:pt x="103" y="29"/>
                  </a:cubicBezTo>
                  <a:cubicBezTo>
                    <a:pt x="106" y="27"/>
                    <a:pt x="110" y="29"/>
                    <a:pt x="110" y="32"/>
                  </a:cubicBezTo>
                  <a:close/>
                  <a:moveTo>
                    <a:pt x="164" y="77"/>
                  </a:moveTo>
                  <a:cubicBezTo>
                    <a:pt x="162" y="79"/>
                    <a:pt x="163" y="83"/>
                    <a:pt x="162" y="86"/>
                  </a:cubicBezTo>
                  <a:cubicBezTo>
                    <a:pt x="165" y="84"/>
                    <a:pt x="164" y="79"/>
                    <a:pt x="164" y="77"/>
                  </a:cubicBezTo>
                  <a:close/>
                  <a:moveTo>
                    <a:pt x="158" y="100"/>
                  </a:moveTo>
                  <a:cubicBezTo>
                    <a:pt x="158" y="96"/>
                    <a:pt x="162" y="93"/>
                    <a:pt x="160" y="89"/>
                  </a:cubicBezTo>
                  <a:cubicBezTo>
                    <a:pt x="160" y="93"/>
                    <a:pt x="156" y="97"/>
                    <a:pt x="158" y="100"/>
                  </a:cubicBezTo>
                  <a:close/>
                  <a:moveTo>
                    <a:pt x="141" y="125"/>
                  </a:moveTo>
                  <a:cubicBezTo>
                    <a:pt x="147" y="126"/>
                    <a:pt x="149" y="121"/>
                    <a:pt x="149" y="115"/>
                  </a:cubicBezTo>
                  <a:cubicBezTo>
                    <a:pt x="154" y="113"/>
                    <a:pt x="158" y="103"/>
                    <a:pt x="157" y="101"/>
                  </a:cubicBezTo>
                  <a:cubicBezTo>
                    <a:pt x="152" y="110"/>
                    <a:pt x="147" y="118"/>
                    <a:pt x="141" y="125"/>
                  </a:cubicBezTo>
                  <a:close/>
                </a:path>
              </a:pathLst>
            </a:custGeom>
            <a:solidFill>
              <a:srgbClr val="2c3c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307440" y="318960"/>
            <a:ext cx="6432840" cy="5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6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d5070"/>
                </a:solidFill>
                <a:latin typeface="李旭科书法"/>
                <a:ea typeface="李旭科书法"/>
              </a:rPr>
              <a:t>请在此处添加标题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2" name="Freeform 10428"/>
          <p:cNvSpPr/>
          <p:nvPr/>
        </p:nvSpPr>
        <p:spPr>
          <a:xfrm rot="16200000">
            <a:off x="1548720" y="1654560"/>
            <a:ext cx="2328840" cy="2174760"/>
          </a:xfrm>
          <a:custGeom>
            <a:avLst/>
            <a:gdLst>
              <a:gd name="textAreaLeft" fmla="*/ 0 w 2328840"/>
              <a:gd name="textAreaRight" fmla="*/ 2329200 w 2328840"/>
              <a:gd name="textAreaTop" fmla="*/ 0 h 2174760"/>
              <a:gd name="textAreaBottom" fmla="*/ 2175120 h 2174760"/>
            </a:gdLst>
            <a:ahLst/>
            <a:rect l="textAreaLeft" t="textAreaTop" r="textAreaRight" b="textAreaBottom"/>
            <a:pathLst>
              <a:path w="165" h="154">
                <a:moveTo>
                  <a:pt x="92" y="6"/>
                </a:moveTo>
                <a:cubicBezTo>
                  <a:pt x="99" y="6"/>
                  <a:pt x="101" y="11"/>
                  <a:pt x="107" y="12"/>
                </a:cubicBezTo>
                <a:cubicBezTo>
                  <a:pt x="106" y="10"/>
                  <a:pt x="108" y="10"/>
                  <a:pt x="108" y="9"/>
                </a:cubicBezTo>
                <a:cubicBezTo>
                  <a:pt x="99" y="8"/>
                  <a:pt x="96" y="1"/>
                  <a:pt x="87" y="0"/>
                </a:cubicBezTo>
                <a:cubicBezTo>
                  <a:pt x="87" y="4"/>
                  <a:pt x="93" y="2"/>
                  <a:pt x="92" y="6"/>
                </a:cubicBezTo>
                <a:close/>
                <a:moveTo>
                  <a:pt x="89" y="15"/>
                </a:moveTo>
                <a:cubicBezTo>
                  <a:pt x="92" y="15"/>
                  <a:pt x="95" y="20"/>
                  <a:pt x="97" y="17"/>
                </a:cubicBezTo>
                <a:cubicBezTo>
                  <a:pt x="94" y="16"/>
                  <a:pt x="91" y="13"/>
                  <a:pt x="89" y="15"/>
                </a:cubicBezTo>
                <a:close/>
                <a:moveTo>
                  <a:pt x="20" y="32"/>
                </a:moveTo>
                <a:cubicBezTo>
                  <a:pt x="19" y="36"/>
                  <a:pt x="14" y="43"/>
                  <a:pt x="17" y="46"/>
                </a:cubicBezTo>
                <a:cubicBezTo>
                  <a:pt x="19" y="43"/>
                  <a:pt x="21" y="36"/>
                  <a:pt x="20" y="32"/>
                </a:cubicBezTo>
                <a:close/>
                <a:moveTo>
                  <a:pt x="12" y="48"/>
                </a:moveTo>
                <a:cubicBezTo>
                  <a:pt x="11" y="48"/>
                  <a:pt x="11" y="47"/>
                  <a:pt x="11" y="45"/>
                </a:cubicBezTo>
                <a:cubicBezTo>
                  <a:pt x="9" y="43"/>
                  <a:pt x="10" y="45"/>
                  <a:pt x="7" y="45"/>
                </a:cubicBezTo>
                <a:cubicBezTo>
                  <a:pt x="7" y="43"/>
                  <a:pt x="7" y="41"/>
                  <a:pt x="6" y="40"/>
                </a:cubicBezTo>
                <a:cubicBezTo>
                  <a:pt x="0" y="45"/>
                  <a:pt x="8" y="54"/>
                  <a:pt x="12" y="48"/>
                </a:cubicBezTo>
                <a:close/>
                <a:moveTo>
                  <a:pt x="151" y="52"/>
                </a:moveTo>
                <a:cubicBezTo>
                  <a:pt x="152" y="51"/>
                  <a:pt x="151" y="47"/>
                  <a:pt x="150" y="45"/>
                </a:cubicBezTo>
                <a:cubicBezTo>
                  <a:pt x="151" y="48"/>
                  <a:pt x="148" y="50"/>
                  <a:pt x="151" y="52"/>
                </a:cubicBezTo>
                <a:close/>
                <a:moveTo>
                  <a:pt x="152" y="82"/>
                </a:moveTo>
                <a:cubicBezTo>
                  <a:pt x="149" y="82"/>
                  <a:pt x="149" y="82"/>
                  <a:pt x="149" y="82"/>
                </a:cubicBezTo>
                <a:cubicBezTo>
                  <a:pt x="149" y="85"/>
                  <a:pt x="151" y="86"/>
                  <a:pt x="149" y="87"/>
                </a:cubicBezTo>
                <a:cubicBezTo>
                  <a:pt x="152" y="87"/>
                  <a:pt x="151" y="84"/>
                  <a:pt x="152" y="82"/>
                </a:cubicBezTo>
                <a:close/>
                <a:moveTo>
                  <a:pt x="132" y="131"/>
                </a:moveTo>
                <a:cubicBezTo>
                  <a:pt x="138" y="122"/>
                  <a:pt x="141" y="110"/>
                  <a:pt x="148" y="102"/>
                </a:cubicBezTo>
                <a:cubicBezTo>
                  <a:pt x="147" y="101"/>
                  <a:pt x="145" y="101"/>
                  <a:pt x="145" y="100"/>
                </a:cubicBezTo>
                <a:cubicBezTo>
                  <a:pt x="148" y="89"/>
                  <a:pt x="145" y="79"/>
                  <a:pt x="147" y="69"/>
                </a:cubicBezTo>
                <a:cubicBezTo>
                  <a:pt x="144" y="69"/>
                  <a:pt x="148" y="72"/>
                  <a:pt x="146" y="73"/>
                </a:cubicBezTo>
                <a:cubicBezTo>
                  <a:pt x="140" y="66"/>
                  <a:pt x="144" y="50"/>
                  <a:pt x="136" y="45"/>
                </a:cubicBezTo>
                <a:cubicBezTo>
                  <a:pt x="133" y="31"/>
                  <a:pt x="122" y="26"/>
                  <a:pt x="113" y="18"/>
                </a:cubicBezTo>
                <a:cubicBezTo>
                  <a:pt x="113" y="23"/>
                  <a:pt x="121" y="25"/>
                  <a:pt x="119" y="30"/>
                </a:cubicBezTo>
                <a:cubicBezTo>
                  <a:pt x="112" y="26"/>
                  <a:pt x="108" y="15"/>
                  <a:pt x="97" y="17"/>
                </a:cubicBezTo>
                <a:cubicBezTo>
                  <a:pt x="102" y="19"/>
                  <a:pt x="96" y="19"/>
                  <a:pt x="95" y="19"/>
                </a:cubicBezTo>
                <a:cubicBezTo>
                  <a:pt x="96" y="20"/>
                  <a:pt x="100" y="22"/>
                  <a:pt x="98" y="22"/>
                </a:cubicBezTo>
                <a:cubicBezTo>
                  <a:pt x="87" y="15"/>
                  <a:pt x="68" y="25"/>
                  <a:pt x="58" y="24"/>
                </a:cubicBezTo>
                <a:cubicBezTo>
                  <a:pt x="62" y="22"/>
                  <a:pt x="66" y="22"/>
                  <a:pt x="69" y="21"/>
                </a:cubicBezTo>
                <a:cubicBezTo>
                  <a:pt x="63" y="17"/>
                  <a:pt x="52" y="17"/>
                  <a:pt x="47" y="22"/>
                </a:cubicBezTo>
                <a:cubicBezTo>
                  <a:pt x="41" y="14"/>
                  <a:pt x="36" y="29"/>
                  <a:pt x="31" y="27"/>
                </a:cubicBezTo>
                <a:cubicBezTo>
                  <a:pt x="35" y="30"/>
                  <a:pt x="27" y="38"/>
                  <a:pt x="26" y="43"/>
                </a:cubicBezTo>
                <a:cubicBezTo>
                  <a:pt x="25" y="42"/>
                  <a:pt x="25" y="40"/>
                  <a:pt x="23" y="40"/>
                </a:cubicBezTo>
                <a:cubicBezTo>
                  <a:pt x="19" y="48"/>
                  <a:pt x="17" y="56"/>
                  <a:pt x="17" y="66"/>
                </a:cubicBezTo>
                <a:cubicBezTo>
                  <a:pt x="16" y="66"/>
                  <a:pt x="16" y="65"/>
                  <a:pt x="15" y="65"/>
                </a:cubicBezTo>
                <a:cubicBezTo>
                  <a:pt x="13" y="66"/>
                  <a:pt x="18" y="68"/>
                  <a:pt x="14" y="69"/>
                </a:cubicBezTo>
                <a:cubicBezTo>
                  <a:pt x="12" y="67"/>
                  <a:pt x="16" y="65"/>
                  <a:pt x="14" y="63"/>
                </a:cubicBezTo>
                <a:cubicBezTo>
                  <a:pt x="12" y="65"/>
                  <a:pt x="13" y="57"/>
                  <a:pt x="12" y="56"/>
                </a:cubicBezTo>
                <a:cubicBezTo>
                  <a:pt x="10" y="68"/>
                  <a:pt x="11" y="83"/>
                  <a:pt x="13" y="96"/>
                </a:cubicBezTo>
                <a:cubicBezTo>
                  <a:pt x="11" y="97"/>
                  <a:pt x="11" y="95"/>
                  <a:pt x="9" y="95"/>
                </a:cubicBezTo>
                <a:cubicBezTo>
                  <a:pt x="10" y="101"/>
                  <a:pt x="12" y="105"/>
                  <a:pt x="12" y="112"/>
                </a:cubicBezTo>
                <a:cubicBezTo>
                  <a:pt x="20" y="125"/>
                  <a:pt x="33" y="133"/>
                  <a:pt x="43" y="145"/>
                </a:cubicBezTo>
                <a:cubicBezTo>
                  <a:pt x="55" y="149"/>
                  <a:pt x="72" y="151"/>
                  <a:pt x="87" y="151"/>
                </a:cubicBezTo>
                <a:cubicBezTo>
                  <a:pt x="97" y="154"/>
                  <a:pt x="109" y="146"/>
                  <a:pt x="117" y="141"/>
                </a:cubicBezTo>
                <a:cubicBezTo>
                  <a:pt x="117" y="142"/>
                  <a:pt x="115" y="144"/>
                  <a:pt x="117" y="144"/>
                </a:cubicBezTo>
                <a:cubicBezTo>
                  <a:pt x="124" y="140"/>
                  <a:pt x="132" y="137"/>
                  <a:pt x="136" y="129"/>
                </a:cubicBezTo>
                <a:cubicBezTo>
                  <a:pt x="134" y="129"/>
                  <a:pt x="133" y="132"/>
                  <a:pt x="132" y="131"/>
                </a:cubicBezTo>
                <a:close/>
                <a:moveTo>
                  <a:pt x="31" y="37"/>
                </a:moveTo>
                <a:cubicBezTo>
                  <a:pt x="31" y="33"/>
                  <a:pt x="33" y="31"/>
                  <a:pt x="35" y="29"/>
                </a:cubicBezTo>
                <a:cubicBezTo>
                  <a:pt x="36" y="29"/>
                  <a:pt x="36" y="30"/>
                  <a:pt x="37" y="30"/>
                </a:cubicBezTo>
                <a:cubicBezTo>
                  <a:pt x="36" y="33"/>
                  <a:pt x="35" y="36"/>
                  <a:pt x="31" y="37"/>
                </a:cubicBezTo>
                <a:close/>
                <a:moveTo>
                  <a:pt x="77" y="30"/>
                </a:moveTo>
                <a:cubicBezTo>
                  <a:pt x="79" y="29"/>
                  <a:pt x="82" y="29"/>
                  <a:pt x="84" y="30"/>
                </a:cubicBezTo>
                <a:cubicBezTo>
                  <a:pt x="83" y="33"/>
                  <a:pt x="80" y="30"/>
                  <a:pt x="77" y="30"/>
                </a:cubicBezTo>
                <a:close/>
                <a:moveTo>
                  <a:pt x="101" y="34"/>
                </a:moveTo>
                <a:cubicBezTo>
                  <a:pt x="94" y="34"/>
                  <a:pt x="91" y="30"/>
                  <a:pt x="87" y="25"/>
                </a:cubicBezTo>
                <a:cubicBezTo>
                  <a:pt x="94" y="27"/>
                  <a:pt x="97" y="27"/>
                  <a:pt x="101" y="34"/>
                </a:cubicBezTo>
                <a:close/>
                <a:moveTo>
                  <a:pt x="89" y="31"/>
                </a:moveTo>
                <a:cubicBezTo>
                  <a:pt x="95" y="33"/>
                  <a:pt x="98" y="38"/>
                  <a:pt x="102" y="43"/>
                </a:cubicBezTo>
                <a:cubicBezTo>
                  <a:pt x="98" y="39"/>
                  <a:pt x="92" y="36"/>
                  <a:pt x="89" y="31"/>
                </a:cubicBezTo>
                <a:close/>
                <a:moveTo>
                  <a:pt x="110" y="32"/>
                </a:moveTo>
                <a:cubicBezTo>
                  <a:pt x="107" y="32"/>
                  <a:pt x="105" y="30"/>
                  <a:pt x="103" y="29"/>
                </a:cubicBezTo>
                <a:cubicBezTo>
                  <a:pt x="106" y="27"/>
                  <a:pt x="110" y="29"/>
                  <a:pt x="110" y="32"/>
                </a:cubicBezTo>
                <a:close/>
                <a:moveTo>
                  <a:pt x="164" y="77"/>
                </a:moveTo>
                <a:cubicBezTo>
                  <a:pt x="162" y="79"/>
                  <a:pt x="163" y="83"/>
                  <a:pt x="162" y="86"/>
                </a:cubicBezTo>
                <a:cubicBezTo>
                  <a:pt x="165" y="84"/>
                  <a:pt x="164" y="79"/>
                  <a:pt x="164" y="77"/>
                </a:cubicBezTo>
                <a:close/>
                <a:moveTo>
                  <a:pt x="158" y="100"/>
                </a:moveTo>
                <a:cubicBezTo>
                  <a:pt x="158" y="96"/>
                  <a:pt x="162" y="93"/>
                  <a:pt x="160" y="89"/>
                </a:cubicBezTo>
                <a:cubicBezTo>
                  <a:pt x="160" y="93"/>
                  <a:pt x="156" y="97"/>
                  <a:pt x="158" y="100"/>
                </a:cubicBezTo>
                <a:close/>
                <a:moveTo>
                  <a:pt x="141" y="125"/>
                </a:moveTo>
                <a:cubicBezTo>
                  <a:pt x="147" y="126"/>
                  <a:pt x="149" y="121"/>
                  <a:pt x="149" y="115"/>
                </a:cubicBezTo>
                <a:cubicBezTo>
                  <a:pt x="154" y="113"/>
                  <a:pt x="158" y="103"/>
                  <a:pt x="157" y="101"/>
                </a:cubicBezTo>
                <a:cubicBezTo>
                  <a:pt x="152" y="110"/>
                  <a:pt x="147" y="118"/>
                  <a:pt x="141" y="125"/>
                </a:cubicBezTo>
                <a:close/>
              </a:path>
            </a:pathLst>
          </a:custGeom>
          <a:solidFill>
            <a:srgbClr val="2c3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图片 12" descr=""/>
          <p:cNvPicPr/>
          <p:nvPr/>
        </p:nvPicPr>
        <p:blipFill>
          <a:blip r:embed="rId1"/>
          <a:srcRect l="26472" t="0" r="29553" b="33964"/>
          <a:stretch/>
        </p:blipFill>
        <p:spPr>
          <a:xfrm>
            <a:off x="1969920" y="1951200"/>
            <a:ext cx="1692360" cy="1690560"/>
          </a:xfrm>
          <a:prstGeom prst="rect">
            <a:avLst/>
          </a:prstGeom>
          <a:ln w="0">
            <a:noFill/>
          </a:ln>
        </p:spPr>
      </p:pic>
      <p:sp>
        <p:nvSpPr>
          <p:cNvPr id="314" name="Freeform 10428"/>
          <p:cNvSpPr/>
          <p:nvPr/>
        </p:nvSpPr>
        <p:spPr>
          <a:xfrm rot="16200000">
            <a:off x="8314560" y="1654560"/>
            <a:ext cx="2328840" cy="2174760"/>
          </a:xfrm>
          <a:custGeom>
            <a:avLst/>
            <a:gdLst>
              <a:gd name="textAreaLeft" fmla="*/ 0 w 2328840"/>
              <a:gd name="textAreaRight" fmla="*/ 2329200 w 2328840"/>
              <a:gd name="textAreaTop" fmla="*/ 0 h 2174760"/>
              <a:gd name="textAreaBottom" fmla="*/ 2175120 h 2174760"/>
            </a:gdLst>
            <a:ahLst/>
            <a:rect l="textAreaLeft" t="textAreaTop" r="textAreaRight" b="textAreaBottom"/>
            <a:pathLst>
              <a:path w="165" h="154">
                <a:moveTo>
                  <a:pt x="92" y="6"/>
                </a:moveTo>
                <a:cubicBezTo>
                  <a:pt x="99" y="6"/>
                  <a:pt x="101" y="11"/>
                  <a:pt x="107" y="12"/>
                </a:cubicBezTo>
                <a:cubicBezTo>
                  <a:pt x="106" y="10"/>
                  <a:pt x="108" y="10"/>
                  <a:pt x="108" y="9"/>
                </a:cubicBezTo>
                <a:cubicBezTo>
                  <a:pt x="99" y="8"/>
                  <a:pt x="96" y="1"/>
                  <a:pt x="87" y="0"/>
                </a:cubicBezTo>
                <a:cubicBezTo>
                  <a:pt x="87" y="4"/>
                  <a:pt x="93" y="2"/>
                  <a:pt x="92" y="6"/>
                </a:cubicBezTo>
                <a:close/>
                <a:moveTo>
                  <a:pt x="89" y="15"/>
                </a:moveTo>
                <a:cubicBezTo>
                  <a:pt x="92" y="15"/>
                  <a:pt x="95" y="20"/>
                  <a:pt x="97" y="17"/>
                </a:cubicBezTo>
                <a:cubicBezTo>
                  <a:pt x="94" y="16"/>
                  <a:pt x="91" y="13"/>
                  <a:pt x="89" y="15"/>
                </a:cubicBezTo>
                <a:close/>
                <a:moveTo>
                  <a:pt x="20" y="32"/>
                </a:moveTo>
                <a:cubicBezTo>
                  <a:pt x="19" y="36"/>
                  <a:pt x="14" y="43"/>
                  <a:pt x="17" y="46"/>
                </a:cubicBezTo>
                <a:cubicBezTo>
                  <a:pt x="19" y="43"/>
                  <a:pt x="21" y="36"/>
                  <a:pt x="20" y="32"/>
                </a:cubicBezTo>
                <a:close/>
                <a:moveTo>
                  <a:pt x="12" y="48"/>
                </a:moveTo>
                <a:cubicBezTo>
                  <a:pt x="11" y="48"/>
                  <a:pt x="11" y="47"/>
                  <a:pt x="11" y="45"/>
                </a:cubicBezTo>
                <a:cubicBezTo>
                  <a:pt x="9" y="43"/>
                  <a:pt x="10" y="45"/>
                  <a:pt x="7" y="45"/>
                </a:cubicBezTo>
                <a:cubicBezTo>
                  <a:pt x="7" y="43"/>
                  <a:pt x="7" y="41"/>
                  <a:pt x="6" y="40"/>
                </a:cubicBezTo>
                <a:cubicBezTo>
                  <a:pt x="0" y="45"/>
                  <a:pt x="8" y="54"/>
                  <a:pt x="12" y="48"/>
                </a:cubicBezTo>
                <a:close/>
                <a:moveTo>
                  <a:pt x="151" y="52"/>
                </a:moveTo>
                <a:cubicBezTo>
                  <a:pt x="152" y="51"/>
                  <a:pt x="151" y="47"/>
                  <a:pt x="150" y="45"/>
                </a:cubicBezTo>
                <a:cubicBezTo>
                  <a:pt x="151" y="48"/>
                  <a:pt x="148" y="50"/>
                  <a:pt x="151" y="52"/>
                </a:cubicBezTo>
                <a:close/>
                <a:moveTo>
                  <a:pt x="152" y="82"/>
                </a:moveTo>
                <a:cubicBezTo>
                  <a:pt x="149" y="82"/>
                  <a:pt x="149" y="82"/>
                  <a:pt x="149" y="82"/>
                </a:cubicBezTo>
                <a:cubicBezTo>
                  <a:pt x="149" y="85"/>
                  <a:pt x="151" y="86"/>
                  <a:pt x="149" y="87"/>
                </a:cubicBezTo>
                <a:cubicBezTo>
                  <a:pt x="152" y="87"/>
                  <a:pt x="151" y="84"/>
                  <a:pt x="152" y="82"/>
                </a:cubicBezTo>
                <a:close/>
                <a:moveTo>
                  <a:pt x="132" y="131"/>
                </a:moveTo>
                <a:cubicBezTo>
                  <a:pt x="138" y="122"/>
                  <a:pt x="141" y="110"/>
                  <a:pt x="148" y="102"/>
                </a:cubicBezTo>
                <a:cubicBezTo>
                  <a:pt x="147" y="101"/>
                  <a:pt x="145" y="101"/>
                  <a:pt x="145" y="100"/>
                </a:cubicBezTo>
                <a:cubicBezTo>
                  <a:pt x="148" y="89"/>
                  <a:pt x="145" y="79"/>
                  <a:pt x="147" y="69"/>
                </a:cubicBezTo>
                <a:cubicBezTo>
                  <a:pt x="144" y="69"/>
                  <a:pt x="148" y="72"/>
                  <a:pt x="146" y="73"/>
                </a:cubicBezTo>
                <a:cubicBezTo>
                  <a:pt x="140" y="66"/>
                  <a:pt x="144" y="50"/>
                  <a:pt x="136" y="45"/>
                </a:cubicBezTo>
                <a:cubicBezTo>
                  <a:pt x="133" y="31"/>
                  <a:pt x="122" y="26"/>
                  <a:pt x="113" y="18"/>
                </a:cubicBezTo>
                <a:cubicBezTo>
                  <a:pt x="113" y="23"/>
                  <a:pt x="121" y="25"/>
                  <a:pt x="119" y="30"/>
                </a:cubicBezTo>
                <a:cubicBezTo>
                  <a:pt x="112" y="26"/>
                  <a:pt x="108" y="15"/>
                  <a:pt x="97" y="17"/>
                </a:cubicBezTo>
                <a:cubicBezTo>
                  <a:pt x="102" y="19"/>
                  <a:pt x="96" y="19"/>
                  <a:pt x="95" y="19"/>
                </a:cubicBezTo>
                <a:cubicBezTo>
                  <a:pt x="96" y="20"/>
                  <a:pt x="100" y="22"/>
                  <a:pt x="98" y="22"/>
                </a:cubicBezTo>
                <a:cubicBezTo>
                  <a:pt x="87" y="15"/>
                  <a:pt x="68" y="25"/>
                  <a:pt x="58" y="24"/>
                </a:cubicBezTo>
                <a:cubicBezTo>
                  <a:pt x="62" y="22"/>
                  <a:pt x="66" y="22"/>
                  <a:pt x="69" y="21"/>
                </a:cubicBezTo>
                <a:cubicBezTo>
                  <a:pt x="63" y="17"/>
                  <a:pt x="52" y="17"/>
                  <a:pt x="47" y="22"/>
                </a:cubicBezTo>
                <a:cubicBezTo>
                  <a:pt x="41" y="14"/>
                  <a:pt x="36" y="29"/>
                  <a:pt x="31" y="27"/>
                </a:cubicBezTo>
                <a:cubicBezTo>
                  <a:pt x="35" y="30"/>
                  <a:pt x="27" y="38"/>
                  <a:pt x="26" y="43"/>
                </a:cubicBezTo>
                <a:cubicBezTo>
                  <a:pt x="25" y="42"/>
                  <a:pt x="25" y="40"/>
                  <a:pt x="23" y="40"/>
                </a:cubicBezTo>
                <a:cubicBezTo>
                  <a:pt x="19" y="48"/>
                  <a:pt x="17" y="56"/>
                  <a:pt x="17" y="66"/>
                </a:cubicBezTo>
                <a:cubicBezTo>
                  <a:pt x="16" y="66"/>
                  <a:pt x="16" y="65"/>
                  <a:pt x="15" y="65"/>
                </a:cubicBezTo>
                <a:cubicBezTo>
                  <a:pt x="13" y="66"/>
                  <a:pt x="18" y="68"/>
                  <a:pt x="14" y="69"/>
                </a:cubicBezTo>
                <a:cubicBezTo>
                  <a:pt x="12" y="67"/>
                  <a:pt x="16" y="65"/>
                  <a:pt x="14" y="63"/>
                </a:cubicBezTo>
                <a:cubicBezTo>
                  <a:pt x="12" y="65"/>
                  <a:pt x="13" y="57"/>
                  <a:pt x="12" y="56"/>
                </a:cubicBezTo>
                <a:cubicBezTo>
                  <a:pt x="10" y="68"/>
                  <a:pt x="11" y="83"/>
                  <a:pt x="13" y="96"/>
                </a:cubicBezTo>
                <a:cubicBezTo>
                  <a:pt x="11" y="97"/>
                  <a:pt x="11" y="95"/>
                  <a:pt x="9" y="95"/>
                </a:cubicBezTo>
                <a:cubicBezTo>
                  <a:pt x="10" y="101"/>
                  <a:pt x="12" y="105"/>
                  <a:pt x="12" y="112"/>
                </a:cubicBezTo>
                <a:cubicBezTo>
                  <a:pt x="20" y="125"/>
                  <a:pt x="33" y="133"/>
                  <a:pt x="43" y="145"/>
                </a:cubicBezTo>
                <a:cubicBezTo>
                  <a:pt x="55" y="149"/>
                  <a:pt x="72" y="151"/>
                  <a:pt x="87" y="151"/>
                </a:cubicBezTo>
                <a:cubicBezTo>
                  <a:pt x="97" y="154"/>
                  <a:pt x="109" y="146"/>
                  <a:pt x="117" y="141"/>
                </a:cubicBezTo>
                <a:cubicBezTo>
                  <a:pt x="117" y="142"/>
                  <a:pt x="115" y="144"/>
                  <a:pt x="117" y="144"/>
                </a:cubicBezTo>
                <a:cubicBezTo>
                  <a:pt x="124" y="140"/>
                  <a:pt x="132" y="137"/>
                  <a:pt x="136" y="129"/>
                </a:cubicBezTo>
                <a:cubicBezTo>
                  <a:pt x="134" y="129"/>
                  <a:pt x="133" y="132"/>
                  <a:pt x="132" y="131"/>
                </a:cubicBezTo>
                <a:close/>
                <a:moveTo>
                  <a:pt x="31" y="37"/>
                </a:moveTo>
                <a:cubicBezTo>
                  <a:pt x="31" y="33"/>
                  <a:pt x="33" y="31"/>
                  <a:pt x="35" y="29"/>
                </a:cubicBezTo>
                <a:cubicBezTo>
                  <a:pt x="36" y="29"/>
                  <a:pt x="36" y="30"/>
                  <a:pt x="37" y="30"/>
                </a:cubicBezTo>
                <a:cubicBezTo>
                  <a:pt x="36" y="33"/>
                  <a:pt x="35" y="36"/>
                  <a:pt x="31" y="37"/>
                </a:cubicBezTo>
                <a:close/>
                <a:moveTo>
                  <a:pt x="77" y="30"/>
                </a:moveTo>
                <a:cubicBezTo>
                  <a:pt x="79" y="29"/>
                  <a:pt x="82" y="29"/>
                  <a:pt x="84" y="30"/>
                </a:cubicBezTo>
                <a:cubicBezTo>
                  <a:pt x="83" y="33"/>
                  <a:pt x="80" y="30"/>
                  <a:pt x="77" y="30"/>
                </a:cubicBezTo>
                <a:close/>
                <a:moveTo>
                  <a:pt x="101" y="34"/>
                </a:moveTo>
                <a:cubicBezTo>
                  <a:pt x="94" y="34"/>
                  <a:pt x="91" y="30"/>
                  <a:pt x="87" y="25"/>
                </a:cubicBezTo>
                <a:cubicBezTo>
                  <a:pt x="94" y="27"/>
                  <a:pt x="97" y="27"/>
                  <a:pt x="101" y="34"/>
                </a:cubicBezTo>
                <a:close/>
                <a:moveTo>
                  <a:pt x="89" y="31"/>
                </a:moveTo>
                <a:cubicBezTo>
                  <a:pt x="95" y="33"/>
                  <a:pt x="98" y="38"/>
                  <a:pt x="102" y="43"/>
                </a:cubicBezTo>
                <a:cubicBezTo>
                  <a:pt x="98" y="39"/>
                  <a:pt x="92" y="36"/>
                  <a:pt x="89" y="31"/>
                </a:cubicBezTo>
                <a:close/>
                <a:moveTo>
                  <a:pt x="110" y="32"/>
                </a:moveTo>
                <a:cubicBezTo>
                  <a:pt x="107" y="32"/>
                  <a:pt x="105" y="30"/>
                  <a:pt x="103" y="29"/>
                </a:cubicBezTo>
                <a:cubicBezTo>
                  <a:pt x="106" y="27"/>
                  <a:pt x="110" y="29"/>
                  <a:pt x="110" y="32"/>
                </a:cubicBezTo>
                <a:close/>
                <a:moveTo>
                  <a:pt x="164" y="77"/>
                </a:moveTo>
                <a:cubicBezTo>
                  <a:pt x="162" y="79"/>
                  <a:pt x="163" y="83"/>
                  <a:pt x="162" y="86"/>
                </a:cubicBezTo>
                <a:cubicBezTo>
                  <a:pt x="165" y="84"/>
                  <a:pt x="164" y="79"/>
                  <a:pt x="164" y="77"/>
                </a:cubicBezTo>
                <a:close/>
                <a:moveTo>
                  <a:pt x="158" y="100"/>
                </a:moveTo>
                <a:cubicBezTo>
                  <a:pt x="158" y="96"/>
                  <a:pt x="162" y="93"/>
                  <a:pt x="160" y="89"/>
                </a:cubicBezTo>
                <a:cubicBezTo>
                  <a:pt x="160" y="93"/>
                  <a:pt x="156" y="97"/>
                  <a:pt x="158" y="100"/>
                </a:cubicBezTo>
                <a:close/>
                <a:moveTo>
                  <a:pt x="141" y="125"/>
                </a:moveTo>
                <a:cubicBezTo>
                  <a:pt x="147" y="126"/>
                  <a:pt x="149" y="121"/>
                  <a:pt x="149" y="115"/>
                </a:cubicBezTo>
                <a:cubicBezTo>
                  <a:pt x="154" y="113"/>
                  <a:pt x="158" y="103"/>
                  <a:pt x="157" y="101"/>
                </a:cubicBezTo>
                <a:cubicBezTo>
                  <a:pt x="152" y="110"/>
                  <a:pt x="147" y="118"/>
                  <a:pt x="141" y="125"/>
                </a:cubicBezTo>
                <a:close/>
              </a:path>
            </a:pathLst>
          </a:custGeom>
          <a:solidFill>
            <a:srgbClr val="2c3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图片 8" descr=""/>
          <p:cNvPicPr/>
          <p:nvPr/>
        </p:nvPicPr>
        <p:blipFill>
          <a:blip r:embed="rId2"/>
          <a:srcRect l="22470" t="1452" r="18956" b="41296"/>
          <a:stretch/>
        </p:blipFill>
        <p:spPr>
          <a:xfrm>
            <a:off x="8736120" y="1951200"/>
            <a:ext cx="1692000" cy="1690560"/>
          </a:xfrm>
          <a:prstGeom prst="rect">
            <a:avLst/>
          </a:prstGeom>
          <a:ln w="0">
            <a:noFill/>
          </a:ln>
        </p:spPr>
      </p:pic>
      <p:sp>
        <p:nvSpPr>
          <p:cNvPr id="316" name="Freeform 10428"/>
          <p:cNvSpPr/>
          <p:nvPr/>
        </p:nvSpPr>
        <p:spPr>
          <a:xfrm rot="16200000">
            <a:off x="4931640" y="1654560"/>
            <a:ext cx="2328840" cy="2174760"/>
          </a:xfrm>
          <a:custGeom>
            <a:avLst/>
            <a:gdLst>
              <a:gd name="textAreaLeft" fmla="*/ 0 w 2328840"/>
              <a:gd name="textAreaRight" fmla="*/ 2329200 w 2328840"/>
              <a:gd name="textAreaTop" fmla="*/ 0 h 2174760"/>
              <a:gd name="textAreaBottom" fmla="*/ 2175120 h 2174760"/>
            </a:gdLst>
            <a:ahLst/>
            <a:rect l="textAreaLeft" t="textAreaTop" r="textAreaRight" b="textAreaBottom"/>
            <a:pathLst>
              <a:path w="165" h="154">
                <a:moveTo>
                  <a:pt x="92" y="6"/>
                </a:moveTo>
                <a:cubicBezTo>
                  <a:pt x="99" y="6"/>
                  <a:pt x="101" y="11"/>
                  <a:pt x="107" y="12"/>
                </a:cubicBezTo>
                <a:cubicBezTo>
                  <a:pt x="106" y="10"/>
                  <a:pt x="108" y="10"/>
                  <a:pt x="108" y="9"/>
                </a:cubicBezTo>
                <a:cubicBezTo>
                  <a:pt x="99" y="8"/>
                  <a:pt x="96" y="1"/>
                  <a:pt x="87" y="0"/>
                </a:cubicBezTo>
                <a:cubicBezTo>
                  <a:pt x="87" y="4"/>
                  <a:pt x="93" y="2"/>
                  <a:pt x="92" y="6"/>
                </a:cubicBezTo>
                <a:close/>
                <a:moveTo>
                  <a:pt x="89" y="15"/>
                </a:moveTo>
                <a:cubicBezTo>
                  <a:pt x="92" y="15"/>
                  <a:pt x="95" y="20"/>
                  <a:pt x="97" y="17"/>
                </a:cubicBezTo>
                <a:cubicBezTo>
                  <a:pt x="94" y="16"/>
                  <a:pt x="91" y="13"/>
                  <a:pt x="89" y="15"/>
                </a:cubicBezTo>
                <a:close/>
                <a:moveTo>
                  <a:pt x="20" y="32"/>
                </a:moveTo>
                <a:cubicBezTo>
                  <a:pt x="19" y="36"/>
                  <a:pt x="14" y="43"/>
                  <a:pt x="17" y="46"/>
                </a:cubicBezTo>
                <a:cubicBezTo>
                  <a:pt x="19" y="43"/>
                  <a:pt x="21" y="36"/>
                  <a:pt x="20" y="32"/>
                </a:cubicBezTo>
                <a:close/>
                <a:moveTo>
                  <a:pt x="12" y="48"/>
                </a:moveTo>
                <a:cubicBezTo>
                  <a:pt x="11" y="48"/>
                  <a:pt x="11" y="47"/>
                  <a:pt x="11" y="45"/>
                </a:cubicBezTo>
                <a:cubicBezTo>
                  <a:pt x="9" y="43"/>
                  <a:pt x="10" y="45"/>
                  <a:pt x="7" y="45"/>
                </a:cubicBezTo>
                <a:cubicBezTo>
                  <a:pt x="7" y="43"/>
                  <a:pt x="7" y="41"/>
                  <a:pt x="6" y="40"/>
                </a:cubicBezTo>
                <a:cubicBezTo>
                  <a:pt x="0" y="45"/>
                  <a:pt x="8" y="54"/>
                  <a:pt x="12" y="48"/>
                </a:cubicBezTo>
                <a:close/>
                <a:moveTo>
                  <a:pt x="151" y="52"/>
                </a:moveTo>
                <a:cubicBezTo>
                  <a:pt x="152" y="51"/>
                  <a:pt x="151" y="47"/>
                  <a:pt x="150" y="45"/>
                </a:cubicBezTo>
                <a:cubicBezTo>
                  <a:pt x="151" y="48"/>
                  <a:pt x="148" y="50"/>
                  <a:pt x="151" y="52"/>
                </a:cubicBezTo>
                <a:close/>
                <a:moveTo>
                  <a:pt x="152" y="82"/>
                </a:moveTo>
                <a:cubicBezTo>
                  <a:pt x="149" y="82"/>
                  <a:pt x="149" y="82"/>
                  <a:pt x="149" y="82"/>
                </a:cubicBezTo>
                <a:cubicBezTo>
                  <a:pt x="149" y="85"/>
                  <a:pt x="151" y="86"/>
                  <a:pt x="149" y="87"/>
                </a:cubicBezTo>
                <a:cubicBezTo>
                  <a:pt x="152" y="87"/>
                  <a:pt x="151" y="84"/>
                  <a:pt x="152" y="82"/>
                </a:cubicBezTo>
                <a:close/>
                <a:moveTo>
                  <a:pt x="132" y="131"/>
                </a:moveTo>
                <a:cubicBezTo>
                  <a:pt x="138" y="122"/>
                  <a:pt x="141" y="110"/>
                  <a:pt x="148" y="102"/>
                </a:cubicBezTo>
                <a:cubicBezTo>
                  <a:pt x="147" y="101"/>
                  <a:pt x="145" y="101"/>
                  <a:pt x="145" y="100"/>
                </a:cubicBezTo>
                <a:cubicBezTo>
                  <a:pt x="148" y="89"/>
                  <a:pt x="145" y="79"/>
                  <a:pt x="147" y="69"/>
                </a:cubicBezTo>
                <a:cubicBezTo>
                  <a:pt x="144" y="69"/>
                  <a:pt x="148" y="72"/>
                  <a:pt x="146" y="73"/>
                </a:cubicBezTo>
                <a:cubicBezTo>
                  <a:pt x="140" y="66"/>
                  <a:pt x="144" y="50"/>
                  <a:pt x="136" y="45"/>
                </a:cubicBezTo>
                <a:cubicBezTo>
                  <a:pt x="133" y="31"/>
                  <a:pt x="122" y="26"/>
                  <a:pt x="113" y="18"/>
                </a:cubicBezTo>
                <a:cubicBezTo>
                  <a:pt x="113" y="23"/>
                  <a:pt x="121" y="25"/>
                  <a:pt x="119" y="30"/>
                </a:cubicBezTo>
                <a:cubicBezTo>
                  <a:pt x="112" y="26"/>
                  <a:pt x="108" y="15"/>
                  <a:pt x="97" y="17"/>
                </a:cubicBezTo>
                <a:cubicBezTo>
                  <a:pt x="102" y="19"/>
                  <a:pt x="96" y="19"/>
                  <a:pt x="95" y="19"/>
                </a:cubicBezTo>
                <a:cubicBezTo>
                  <a:pt x="96" y="20"/>
                  <a:pt x="100" y="22"/>
                  <a:pt x="98" y="22"/>
                </a:cubicBezTo>
                <a:cubicBezTo>
                  <a:pt x="87" y="15"/>
                  <a:pt x="68" y="25"/>
                  <a:pt x="58" y="24"/>
                </a:cubicBezTo>
                <a:cubicBezTo>
                  <a:pt x="62" y="22"/>
                  <a:pt x="66" y="22"/>
                  <a:pt x="69" y="21"/>
                </a:cubicBezTo>
                <a:cubicBezTo>
                  <a:pt x="63" y="17"/>
                  <a:pt x="52" y="17"/>
                  <a:pt x="47" y="22"/>
                </a:cubicBezTo>
                <a:cubicBezTo>
                  <a:pt x="41" y="14"/>
                  <a:pt x="36" y="29"/>
                  <a:pt x="31" y="27"/>
                </a:cubicBezTo>
                <a:cubicBezTo>
                  <a:pt x="35" y="30"/>
                  <a:pt x="27" y="38"/>
                  <a:pt x="26" y="43"/>
                </a:cubicBezTo>
                <a:cubicBezTo>
                  <a:pt x="25" y="42"/>
                  <a:pt x="25" y="40"/>
                  <a:pt x="23" y="40"/>
                </a:cubicBezTo>
                <a:cubicBezTo>
                  <a:pt x="19" y="48"/>
                  <a:pt x="17" y="56"/>
                  <a:pt x="17" y="66"/>
                </a:cubicBezTo>
                <a:cubicBezTo>
                  <a:pt x="16" y="66"/>
                  <a:pt x="16" y="65"/>
                  <a:pt x="15" y="65"/>
                </a:cubicBezTo>
                <a:cubicBezTo>
                  <a:pt x="13" y="66"/>
                  <a:pt x="18" y="68"/>
                  <a:pt x="14" y="69"/>
                </a:cubicBezTo>
                <a:cubicBezTo>
                  <a:pt x="12" y="67"/>
                  <a:pt x="16" y="65"/>
                  <a:pt x="14" y="63"/>
                </a:cubicBezTo>
                <a:cubicBezTo>
                  <a:pt x="12" y="65"/>
                  <a:pt x="13" y="57"/>
                  <a:pt x="12" y="56"/>
                </a:cubicBezTo>
                <a:cubicBezTo>
                  <a:pt x="10" y="68"/>
                  <a:pt x="11" y="83"/>
                  <a:pt x="13" y="96"/>
                </a:cubicBezTo>
                <a:cubicBezTo>
                  <a:pt x="11" y="97"/>
                  <a:pt x="11" y="95"/>
                  <a:pt x="9" y="95"/>
                </a:cubicBezTo>
                <a:cubicBezTo>
                  <a:pt x="10" y="101"/>
                  <a:pt x="12" y="105"/>
                  <a:pt x="12" y="112"/>
                </a:cubicBezTo>
                <a:cubicBezTo>
                  <a:pt x="20" y="125"/>
                  <a:pt x="33" y="133"/>
                  <a:pt x="43" y="145"/>
                </a:cubicBezTo>
                <a:cubicBezTo>
                  <a:pt x="55" y="149"/>
                  <a:pt x="72" y="151"/>
                  <a:pt x="87" y="151"/>
                </a:cubicBezTo>
                <a:cubicBezTo>
                  <a:pt x="97" y="154"/>
                  <a:pt x="109" y="146"/>
                  <a:pt x="117" y="141"/>
                </a:cubicBezTo>
                <a:cubicBezTo>
                  <a:pt x="117" y="142"/>
                  <a:pt x="115" y="144"/>
                  <a:pt x="117" y="144"/>
                </a:cubicBezTo>
                <a:cubicBezTo>
                  <a:pt x="124" y="140"/>
                  <a:pt x="132" y="137"/>
                  <a:pt x="136" y="129"/>
                </a:cubicBezTo>
                <a:cubicBezTo>
                  <a:pt x="134" y="129"/>
                  <a:pt x="133" y="132"/>
                  <a:pt x="132" y="131"/>
                </a:cubicBezTo>
                <a:close/>
                <a:moveTo>
                  <a:pt x="31" y="37"/>
                </a:moveTo>
                <a:cubicBezTo>
                  <a:pt x="31" y="33"/>
                  <a:pt x="33" y="31"/>
                  <a:pt x="35" y="29"/>
                </a:cubicBezTo>
                <a:cubicBezTo>
                  <a:pt x="36" y="29"/>
                  <a:pt x="36" y="30"/>
                  <a:pt x="37" y="30"/>
                </a:cubicBezTo>
                <a:cubicBezTo>
                  <a:pt x="36" y="33"/>
                  <a:pt x="35" y="36"/>
                  <a:pt x="31" y="37"/>
                </a:cubicBezTo>
                <a:close/>
                <a:moveTo>
                  <a:pt x="77" y="30"/>
                </a:moveTo>
                <a:cubicBezTo>
                  <a:pt x="79" y="29"/>
                  <a:pt x="82" y="29"/>
                  <a:pt x="84" y="30"/>
                </a:cubicBezTo>
                <a:cubicBezTo>
                  <a:pt x="83" y="33"/>
                  <a:pt x="80" y="30"/>
                  <a:pt x="77" y="30"/>
                </a:cubicBezTo>
                <a:close/>
                <a:moveTo>
                  <a:pt x="101" y="34"/>
                </a:moveTo>
                <a:cubicBezTo>
                  <a:pt x="94" y="34"/>
                  <a:pt x="91" y="30"/>
                  <a:pt x="87" y="25"/>
                </a:cubicBezTo>
                <a:cubicBezTo>
                  <a:pt x="94" y="27"/>
                  <a:pt x="97" y="27"/>
                  <a:pt x="101" y="34"/>
                </a:cubicBezTo>
                <a:close/>
                <a:moveTo>
                  <a:pt x="89" y="31"/>
                </a:moveTo>
                <a:cubicBezTo>
                  <a:pt x="95" y="33"/>
                  <a:pt x="98" y="38"/>
                  <a:pt x="102" y="43"/>
                </a:cubicBezTo>
                <a:cubicBezTo>
                  <a:pt x="98" y="39"/>
                  <a:pt x="92" y="36"/>
                  <a:pt x="89" y="31"/>
                </a:cubicBezTo>
                <a:close/>
                <a:moveTo>
                  <a:pt x="110" y="32"/>
                </a:moveTo>
                <a:cubicBezTo>
                  <a:pt x="107" y="32"/>
                  <a:pt x="105" y="30"/>
                  <a:pt x="103" y="29"/>
                </a:cubicBezTo>
                <a:cubicBezTo>
                  <a:pt x="106" y="27"/>
                  <a:pt x="110" y="29"/>
                  <a:pt x="110" y="32"/>
                </a:cubicBezTo>
                <a:close/>
                <a:moveTo>
                  <a:pt x="164" y="77"/>
                </a:moveTo>
                <a:cubicBezTo>
                  <a:pt x="162" y="79"/>
                  <a:pt x="163" y="83"/>
                  <a:pt x="162" y="86"/>
                </a:cubicBezTo>
                <a:cubicBezTo>
                  <a:pt x="165" y="84"/>
                  <a:pt x="164" y="79"/>
                  <a:pt x="164" y="77"/>
                </a:cubicBezTo>
                <a:close/>
                <a:moveTo>
                  <a:pt x="158" y="100"/>
                </a:moveTo>
                <a:cubicBezTo>
                  <a:pt x="158" y="96"/>
                  <a:pt x="162" y="93"/>
                  <a:pt x="160" y="89"/>
                </a:cubicBezTo>
                <a:cubicBezTo>
                  <a:pt x="160" y="93"/>
                  <a:pt x="156" y="97"/>
                  <a:pt x="158" y="100"/>
                </a:cubicBezTo>
                <a:close/>
                <a:moveTo>
                  <a:pt x="141" y="125"/>
                </a:moveTo>
                <a:cubicBezTo>
                  <a:pt x="147" y="126"/>
                  <a:pt x="149" y="121"/>
                  <a:pt x="149" y="115"/>
                </a:cubicBezTo>
                <a:cubicBezTo>
                  <a:pt x="154" y="113"/>
                  <a:pt x="158" y="103"/>
                  <a:pt x="157" y="101"/>
                </a:cubicBezTo>
                <a:cubicBezTo>
                  <a:pt x="152" y="110"/>
                  <a:pt x="147" y="118"/>
                  <a:pt x="141" y="125"/>
                </a:cubicBezTo>
                <a:close/>
              </a:path>
            </a:pathLst>
          </a:custGeom>
          <a:solidFill>
            <a:srgbClr val="2c3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图片 10" descr=""/>
          <p:cNvPicPr/>
          <p:nvPr/>
        </p:nvPicPr>
        <p:blipFill>
          <a:blip r:embed="rId3"/>
          <a:srcRect l="15309" t="0" r="20439" b="52069"/>
          <a:stretch/>
        </p:blipFill>
        <p:spPr>
          <a:xfrm>
            <a:off x="5353200" y="1951200"/>
            <a:ext cx="1692000" cy="1690560"/>
          </a:xfrm>
          <a:prstGeom prst="rect">
            <a:avLst/>
          </a:prstGeom>
          <a:ln w="0">
            <a:noFill/>
          </a:ln>
        </p:spPr>
      </p:pic>
      <p:sp>
        <p:nvSpPr>
          <p:cNvPr id="318" name="矩形 22"/>
          <p:cNvSpPr/>
          <p:nvPr/>
        </p:nvSpPr>
        <p:spPr>
          <a:xfrm>
            <a:off x="1797120" y="4538520"/>
            <a:ext cx="20365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D</a:t>
            </a:r>
            <a:r>
              <a:rPr b="0" lang="zh-CN" sz="14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意空间工作室成立于</a:t>
            </a:r>
            <a:r>
              <a:rPr b="0" lang="en-US" sz="14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2015</a:t>
            </a:r>
            <a:r>
              <a:rPr b="0" lang="zh-CN" sz="14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年</a:t>
            </a:r>
            <a:r>
              <a:rPr b="0" lang="en-US" sz="14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10</a:t>
            </a:r>
            <a:r>
              <a:rPr b="0" lang="zh-CN" sz="14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月，只要是与演示相关的，我们竭诚为您服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文本框 23"/>
          <p:cNvSpPr/>
          <p:nvPr/>
        </p:nvSpPr>
        <p:spPr>
          <a:xfrm>
            <a:off x="2298240" y="3962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d5070"/>
                </a:solidFill>
                <a:latin typeface="等线"/>
                <a:ea typeface="腾祥铁山楷书简"/>
              </a:rPr>
              <a:t>设计总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矩形 24"/>
          <p:cNvSpPr/>
          <p:nvPr/>
        </p:nvSpPr>
        <p:spPr>
          <a:xfrm>
            <a:off x="5181480" y="4484520"/>
            <a:ext cx="20368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D</a:t>
            </a:r>
            <a:r>
              <a:rPr b="0" lang="zh-CN" sz="14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意空间工作室成立于</a:t>
            </a:r>
            <a:r>
              <a:rPr b="0" lang="en-US" sz="14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2015</a:t>
            </a:r>
            <a:r>
              <a:rPr b="0" lang="zh-CN" sz="14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年</a:t>
            </a:r>
            <a:r>
              <a:rPr b="0" lang="en-US" sz="14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10</a:t>
            </a:r>
            <a:r>
              <a:rPr b="0" lang="zh-CN" sz="14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月，只要是与演示相关的，我们竭诚为您服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文本框 25"/>
          <p:cNvSpPr/>
          <p:nvPr/>
        </p:nvSpPr>
        <p:spPr>
          <a:xfrm>
            <a:off x="5682600" y="3962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d5070"/>
                </a:solidFill>
                <a:latin typeface="等线"/>
                <a:ea typeface="腾祥铁山楷书简"/>
              </a:rPr>
              <a:t>产品总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30"/>
          <p:cNvSpPr/>
          <p:nvPr/>
        </p:nvSpPr>
        <p:spPr>
          <a:xfrm>
            <a:off x="8564400" y="4484520"/>
            <a:ext cx="20368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D</a:t>
            </a:r>
            <a:r>
              <a:rPr b="0" lang="zh-CN" sz="14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意空间工作室成立于</a:t>
            </a:r>
            <a:r>
              <a:rPr b="0" lang="en-US" sz="14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2015</a:t>
            </a:r>
            <a:r>
              <a:rPr b="0" lang="zh-CN" sz="14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年</a:t>
            </a:r>
            <a:r>
              <a:rPr b="0" lang="en-US" sz="14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10</a:t>
            </a:r>
            <a:r>
              <a:rPr b="0" lang="zh-CN" sz="14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月，只要是与演示相关的，我们竭诚为您服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文本框 31"/>
          <p:cNvSpPr/>
          <p:nvPr/>
        </p:nvSpPr>
        <p:spPr>
          <a:xfrm>
            <a:off x="9065520" y="3962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d5070"/>
                </a:solidFill>
                <a:latin typeface="等线"/>
                <a:ea typeface="腾祥铁山楷书简"/>
              </a:rPr>
              <a:t>财务总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5638680" y="2211120"/>
            <a:ext cx="914400" cy="112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李旭科书法"/>
                <a:ea typeface="李旭科书法"/>
              </a:rPr>
              <a:t>贰</a:t>
            </a:r>
            <a:endParaRPr b="0" lang="en-US" sz="8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709720" y="3998880"/>
            <a:ext cx="67723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d5070"/>
                </a:solidFill>
                <a:latin typeface="李旭科书法"/>
                <a:ea typeface="李旭科书法"/>
              </a:rPr>
              <a:t>请在此处添加标题</a:t>
            </a:r>
            <a:endParaRPr b="0" lang="en-US" sz="5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Freeform 160" hidden="1"/>
          <p:cNvSpPr/>
          <p:nvPr/>
        </p:nvSpPr>
        <p:spPr>
          <a:xfrm>
            <a:off x="2971800" y="1370160"/>
            <a:ext cx="6896160" cy="376200"/>
          </a:xfrm>
          <a:custGeom>
            <a:avLst/>
            <a:gdLst>
              <a:gd name="textAreaLeft" fmla="*/ 0 w 6896160"/>
              <a:gd name="textAreaRight" fmla="*/ 6896520 w 689616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449" h="79">
                <a:moveTo>
                  <a:pt x="435" y="69"/>
                </a:moveTo>
                <a:cubicBezTo>
                  <a:pt x="436" y="69"/>
                  <a:pt x="436" y="69"/>
                  <a:pt x="436" y="69"/>
                </a:cubicBezTo>
                <a:cubicBezTo>
                  <a:pt x="436" y="68"/>
                  <a:pt x="435" y="68"/>
                  <a:pt x="435" y="68"/>
                </a:cubicBezTo>
                <a:cubicBezTo>
                  <a:pt x="437" y="67"/>
                  <a:pt x="437" y="67"/>
                  <a:pt x="437" y="67"/>
                </a:cubicBezTo>
                <a:cubicBezTo>
                  <a:pt x="436" y="67"/>
                  <a:pt x="435" y="67"/>
                  <a:pt x="434" y="67"/>
                </a:cubicBezTo>
                <a:cubicBezTo>
                  <a:pt x="437" y="66"/>
                  <a:pt x="439" y="66"/>
                  <a:pt x="442" y="65"/>
                </a:cubicBezTo>
                <a:cubicBezTo>
                  <a:pt x="439" y="64"/>
                  <a:pt x="439" y="64"/>
                  <a:pt x="439" y="64"/>
                </a:cubicBezTo>
                <a:cubicBezTo>
                  <a:pt x="442" y="63"/>
                  <a:pt x="446" y="64"/>
                  <a:pt x="449" y="63"/>
                </a:cubicBezTo>
                <a:cubicBezTo>
                  <a:pt x="416" y="64"/>
                  <a:pt x="416" y="64"/>
                  <a:pt x="416" y="64"/>
                </a:cubicBezTo>
                <a:cubicBezTo>
                  <a:pt x="415" y="63"/>
                  <a:pt x="415" y="63"/>
                  <a:pt x="415" y="63"/>
                </a:cubicBezTo>
                <a:cubicBezTo>
                  <a:pt x="422" y="62"/>
                  <a:pt x="429" y="62"/>
                  <a:pt x="436" y="60"/>
                </a:cubicBezTo>
                <a:cubicBezTo>
                  <a:pt x="434" y="60"/>
                  <a:pt x="429" y="61"/>
                  <a:pt x="431" y="59"/>
                </a:cubicBezTo>
                <a:cubicBezTo>
                  <a:pt x="431" y="59"/>
                  <a:pt x="432" y="58"/>
                  <a:pt x="433" y="59"/>
                </a:cubicBezTo>
                <a:cubicBezTo>
                  <a:pt x="427" y="58"/>
                  <a:pt x="418" y="58"/>
                  <a:pt x="412" y="57"/>
                </a:cubicBezTo>
                <a:cubicBezTo>
                  <a:pt x="414" y="57"/>
                  <a:pt x="416" y="56"/>
                  <a:pt x="419" y="57"/>
                </a:cubicBezTo>
                <a:cubicBezTo>
                  <a:pt x="427" y="55"/>
                  <a:pt x="437" y="55"/>
                  <a:pt x="446" y="54"/>
                </a:cubicBezTo>
                <a:cubicBezTo>
                  <a:pt x="441" y="53"/>
                  <a:pt x="435" y="53"/>
                  <a:pt x="430" y="52"/>
                </a:cubicBezTo>
                <a:cubicBezTo>
                  <a:pt x="431" y="51"/>
                  <a:pt x="431" y="51"/>
                  <a:pt x="431" y="51"/>
                </a:cubicBezTo>
                <a:cubicBezTo>
                  <a:pt x="429" y="51"/>
                  <a:pt x="426" y="52"/>
                  <a:pt x="424" y="51"/>
                </a:cubicBezTo>
                <a:cubicBezTo>
                  <a:pt x="424" y="50"/>
                  <a:pt x="424" y="50"/>
                  <a:pt x="424" y="50"/>
                </a:cubicBezTo>
                <a:cubicBezTo>
                  <a:pt x="425" y="50"/>
                  <a:pt x="425" y="49"/>
                  <a:pt x="427" y="50"/>
                </a:cubicBezTo>
                <a:cubicBezTo>
                  <a:pt x="429" y="49"/>
                  <a:pt x="432" y="49"/>
                  <a:pt x="433" y="48"/>
                </a:cubicBezTo>
                <a:cubicBezTo>
                  <a:pt x="433" y="48"/>
                  <a:pt x="433" y="48"/>
                  <a:pt x="433" y="48"/>
                </a:cubicBezTo>
                <a:cubicBezTo>
                  <a:pt x="436" y="47"/>
                  <a:pt x="440" y="47"/>
                  <a:pt x="443" y="47"/>
                </a:cubicBezTo>
                <a:cubicBezTo>
                  <a:pt x="421" y="47"/>
                  <a:pt x="421" y="47"/>
                  <a:pt x="421" y="47"/>
                </a:cubicBezTo>
                <a:cubicBezTo>
                  <a:pt x="420" y="46"/>
                  <a:pt x="421" y="46"/>
                  <a:pt x="420" y="45"/>
                </a:cubicBezTo>
                <a:cubicBezTo>
                  <a:pt x="423" y="43"/>
                  <a:pt x="428" y="44"/>
                  <a:pt x="432" y="43"/>
                </a:cubicBezTo>
                <a:cubicBezTo>
                  <a:pt x="429" y="42"/>
                  <a:pt x="429" y="42"/>
                  <a:pt x="429" y="42"/>
                </a:cubicBezTo>
                <a:cubicBezTo>
                  <a:pt x="430" y="42"/>
                  <a:pt x="430" y="42"/>
                  <a:pt x="430" y="42"/>
                </a:cubicBezTo>
                <a:cubicBezTo>
                  <a:pt x="415" y="42"/>
                  <a:pt x="415" y="42"/>
                  <a:pt x="415" y="42"/>
                </a:cubicBezTo>
                <a:cubicBezTo>
                  <a:pt x="417" y="41"/>
                  <a:pt x="420" y="41"/>
                  <a:pt x="422" y="41"/>
                </a:cubicBezTo>
                <a:cubicBezTo>
                  <a:pt x="421" y="39"/>
                  <a:pt x="418" y="40"/>
                  <a:pt x="415" y="39"/>
                </a:cubicBezTo>
                <a:cubicBezTo>
                  <a:pt x="421" y="38"/>
                  <a:pt x="421" y="38"/>
                  <a:pt x="421" y="38"/>
                </a:cubicBezTo>
                <a:cubicBezTo>
                  <a:pt x="423" y="38"/>
                  <a:pt x="420" y="37"/>
                  <a:pt x="422" y="37"/>
                </a:cubicBezTo>
                <a:cubicBezTo>
                  <a:pt x="422" y="36"/>
                  <a:pt x="422" y="36"/>
                  <a:pt x="421" y="36"/>
                </a:cubicBezTo>
                <a:cubicBezTo>
                  <a:pt x="422" y="34"/>
                  <a:pt x="424" y="35"/>
                  <a:pt x="425" y="35"/>
                </a:cubicBezTo>
                <a:cubicBezTo>
                  <a:pt x="416" y="34"/>
                  <a:pt x="416" y="34"/>
                  <a:pt x="416" y="34"/>
                </a:cubicBezTo>
                <a:cubicBezTo>
                  <a:pt x="418" y="33"/>
                  <a:pt x="421" y="34"/>
                  <a:pt x="423" y="34"/>
                </a:cubicBezTo>
                <a:cubicBezTo>
                  <a:pt x="422" y="33"/>
                  <a:pt x="422" y="33"/>
                  <a:pt x="422" y="33"/>
                </a:cubicBezTo>
                <a:cubicBezTo>
                  <a:pt x="424" y="32"/>
                  <a:pt x="425" y="32"/>
                  <a:pt x="428" y="32"/>
                </a:cubicBezTo>
                <a:cubicBezTo>
                  <a:pt x="425" y="31"/>
                  <a:pt x="419" y="33"/>
                  <a:pt x="417" y="31"/>
                </a:cubicBezTo>
                <a:cubicBezTo>
                  <a:pt x="420" y="30"/>
                  <a:pt x="423" y="29"/>
                  <a:pt x="426" y="29"/>
                </a:cubicBezTo>
                <a:cubicBezTo>
                  <a:pt x="423" y="28"/>
                  <a:pt x="422" y="27"/>
                  <a:pt x="419" y="27"/>
                </a:cubicBezTo>
                <a:cubicBezTo>
                  <a:pt x="422" y="26"/>
                  <a:pt x="426" y="26"/>
                  <a:pt x="430" y="25"/>
                </a:cubicBezTo>
                <a:cubicBezTo>
                  <a:pt x="414" y="25"/>
                  <a:pt x="414" y="25"/>
                  <a:pt x="414" y="25"/>
                </a:cubicBezTo>
                <a:cubicBezTo>
                  <a:pt x="416" y="24"/>
                  <a:pt x="419" y="24"/>
                  <a:pt x="421" y="24"/>
                </a:cubicBezTo>
                <a:cubicBezTo>
                  <a:pt x="421" y="22"/>
                  <a:pt x="425" y="23"/>
                  <a:pt x="425" y="22"/>
                </a:cubicBezTo>
                <a:cubicBezTo>
                  <a:pt x="424" y="21"/>
                  <a:pt x="420" y="22"/>
                  <a:pt x="418" y="21"/>
                </a:cubicBezTo>
                <a:cubicBezTo>
                  <a:pt x="421" y="21"/>
                  <a:pt x="424" y="19"/>
                  <a:pt x="427" y="20"/>
                </a:cubicBezTo>
                <a:cubicBezTo>
                  <a:pt x="422" y="18"/>
                  <a:pt x="416" y="19"/>
                  <a:pt x="409" y="19"/>
                </a:cubicBezTo>
                <a:cubicBezTo>
                  <a:pt x="415" y="17"/>
                  <a:pt x="421" y="18"/>
                  <a:pt x="427" y="17"/>
                </a:cubicBezTo>
                <a:cubicBezTo>
                  <a:pt x="424" y="16"/>
                  <a:pt x="424" y="16"/>
                  <a:pt x="424" y="16"/>
                </a:cubicBezTo>
                <a:cubicBezTo>
                  <a:pt x="422" y="16"/>
                  <a:pt x="419" y="16"/>
                  <a:pt x="418" y="15"/>
                </a:cubicBezTo>
                <a:cubicBezTo>
                  <a:pt x="432" y="14"/>
                  <a:pt x="432" y="14"/>
                  <a:pt x="432" y="14"/>
                </a:cubicBezTo>
                <a:cubicBezTo>
                  <a:pt x="429" y="14"/>
                  <a:pt x="429" y="14"/>
                  <a:pt x="429" y="14"/>
                </a:cubicBezTo>
                <a:cubicBezTo>
                  <a:pt x="422" y="12"/>
                  <a:pt x="413" y="13"/>
                  <a:pt x="405" y="12"/>
                </a:cubicBezTo>
                <a:cubicBezTo>
                  <a:pt x="409" y="9"/>
                  <a:pt x="415" y="11"/>
                  <a:pt x="420" y="10"/>
                </a:cubicBezTo>
                <a:cubicBezTo>
                  <a:pt x="417" y="10"/>
                  <a:pt x="415" y="10"/>
                  <a:pt x="412" y="10"/>
                </a:cubicBezTo>
                <a:cubicBezTo>
                  <a:pt x="418" y="10"/>
                  <a:pt x="423" y="9"/>
                  <a:pt x="429" y="9"/>
                </a:cubicBezTo>
                <a:cubicBezTo>
                  <a:pt x="413" y="8"/>
                  <a:pt x="397" y="6"/>
                  <a:pt x="381" y="6"/>
                </a:cubicBezTo>
                <a:cubicBezTo>
                  <a:pt x="285" y="3"/>
                  <a:pt x="285" y="3"/>
                  <a:pt x="285" y="3"/>
                </a:cubicBezTo>
                <a:cubicBezTo>
                  <a:pt x="216" y="3"/>
                  <a:pt x="216" y="3"/>
                  <a:pt x="216" y="3"/>
                </a:cubicBezTo>
                <a:cubicBezTo>
                  <a:pt x="216" y="2"/>
                  <a:pt x="216" y="2"/>
                  <a:pt x="216" y="2"/>
                </a:cubicBezTo>
                <a:cubicBezTo>
                  <a:pt x="221" y="2"/>
                  <a:pt x="226" y="2"/>
                  <a:pt x="231" y="2"/>
                </a:cubicBezTo>
                <a:cubicBezTo>
                  <a:pt x="199" y="2"/>
                  <a:pt x="166" y="1"/>
                  <a:pt x="134" y="0"/>
                </a:cubicBezTo>
                <a:cubicBezTo>
                  <a:pt x="62" y="0"/>
                  <a:pt x="62" y="0"/>
                  <a:pt x="62" y="0"/>
                </a:cubicBezTo>
                <a:cubicBezTo>
                  <a:pt x="10" y="2"/>
                  <a:pt x="10" y="2"/>
                  <a:pt x="10" y="2"/>
                </a:cubicBezTo>
                <a:cubicBezTo>
                  <a:pt x="4" y="3"/>
                  <a:pt x="4" y="3"/>
                  <a:pt x="4" y="3"/>
                </a:cubicBezTo>
                <a:cubicBezTo>
                  <a:pt x="5" y="4"/>
                  <a:pt x="5" y="4"/>
                  <a:pt x="5" y="4"/>
                </a:cubicBezTo>
                <a:cubicBezTo>
                  <a:pt x="4" y="4"/>
                  <a:pt x="3" y="5"/>
                  <a:pt x="3" y="5"/>
                </a:cubicBezTo>
                <a:cubicBezTo>
                  <a:pt x="4" y="6"/>
                  <a:pt x="4" y="6"/>
                  <a:pt x="4" y="6"/>
                </a:cubicBezTo>
                <a:cubicBezTo>
                  <a:pt x="3" y="7"/>
                  <a:pt x="3" y="7"/>
                  <a:pt x="3" y="7"/>
                </a:cubicBezTo>
                <a:cubicBezTo>
                  <a:pt x="4" y="7"/>
                  <a:pt x="4" y="7"/>
                  <a:pt x="5" y="7"/>
                </a:cubicBezTo>
                <a:cubicBezTo>
                  <a:pt x="3" y="8"/>
                  <a:pt x="3" y="8"/>
                  <a:pt x="3" y="8"/>
                </a:cubicBezTo>
                <a:cubicBezTo>
                  <a:pt x="3" y="9"/>
                  <a:pt x="3" y="9"/>
                  <a:pt x="3" y="9"/>
                </a:cubicBezTo>
                <a:cubicBezTo>
                  <a:pt x="3" y="9"/>
                  <a:pt x="3" y="9"/>
                  <a:pt x="3" y="9"/>
                </a:cubicBezTo>
                <a:cubicBezTo>
                  <a:pt x="0" y="11"/>
                  <a:pt x="4" y="10"/>
                  <a:pt x="5" y="11"/>
                </a:cubicBezTo>
                <a:cubicBezTo>
                  <a:pt x="2" y="13"/>
                  <a:pt x="2" y="13"/>
                  <a:pt x="2" y="13"/>
                </a:cubicBezTo>
                <a:cubicBezTo>
                  <a:pt x="4" y="13"/>
                  <a:pt x="1" y="14"/>
                  <a:pt x="4" y="15"/>
                </a:cubicBezTo>
                <a:cubicBezTo>
                  <a:pt x="4" y="15"/>
                  <a:pt x="3" y="15"/>
                  <a:pt x="3" y="15"/>
                </a:cubicBezTo>
                <a:cubicBezTo>
                  <a:pt x="3" y="15"/>
                  <a:pt x="3" y="16"/>
                  <a:pt x="3" y="16"/>
                </a:cubicBezTo>
                <a:cubicBezTo>
                  <a:pt x="2" y="17"/>
                  <a:pt x="2" y="17"/>
                  <a:pt x="2" y="17"/>
                </a:cubicBezTo>
                <a:cubicBezTo>
                  <a:pt x="3" y="17"/>
                  <a:pt x="4" y="17"/>
                  <a:pt x="5" y="18"/>
                </a:cubicBezTo>
                <a:cubicBezTo>
                  <a:pt x="3" y="18"/>
                  <a:pt x="3" y="18"/>
                  <a:pt x="3" y="18"/>
                </a:cubicBezTo>
                <a:cubicBezTo>
                  <a:pt x="5" y="19"/>
                  <a:pt x="5" y="19"/>
                  <a:pt x="5" y="19"/>
                </a:cubicBezTo>
                <a:cubicBezTo>
                  <a:pt x="5" y="19"/>
                  <a:pt x="4" y="19"/>
                  <a:pt x="4" y="20"/>
                </a:cubicBezTo>
                <a:cubicBezTo>
                  <a:pt x="5" y="20"/>
                  <a:pt x="5" y="20"/>
                  <a:pt x="5" y="20"/>
                </a:cubicBezTo>
                <a:cubicBezTo>
                  <a:pt x="1" y="21"/>
                  <a:pt x="6" y="22"/>
                  <a:pt x="3" y="23"/>
                </a:cubicBezTo>
                <a:cubicBezTo>
                  <a:pt x="5" y="24"/>
                  <a:pt x="5" y="24"/>
                  <a:pt x="5" y="24"/>
                </a:cubicBezTo>
                <a:cubicBezTo>
                  <a:pt x="4" y="25"/>
                  <a:pt x="3" y="25"/>
                  <a:pt x="2" y="25"/>
                </a:cubicBezTo>
                <a:cubicBezTo>
                  <a:pt x="4" y="26"/>
                  <a:pt x="6" y="26"/>
                  <a:pt x="7" y="27"/>
                </a:cubicBezTo>
                <a:cubicBezTo>
                  <a:pt x="6" y="27"/>
                  <a:pt x="5" y="28"/>
                  <a:pt x="4" y="28"/>
                </a:cubicBezTo>
                <a:cubicBezTo>
                  <a:pt x="4" y="30"/>
                  <a:pt x="4" y="30"/>
                  <a:pt x="6" y="30"/>
                </a:cubicBezTo>
                <a:cubicBezTo>
                  <a:pt x="4" y="32"/>
                  <a:pt x="9" y="32"/>
                  <a:pt x="11" y="33"/>
                </a:cubicBezTo>
                <a:cubicBezTo>
                  <a:pt x="9" y="34"/>
                  <a:pt x="5" y="33"/>
                  <a:pt x="3" y="34"/>
                </a:cubicBezTo>
                <a:cubicBezTo>
                  <a:pt x="5" y="35"/>
                  <a:pt x="8" y="35"/>
                  <a:pt x="10" y="36"/>
                </a:cubicBezTo>
                <a:cubicBezTo>
                  <a:pt x="5" y="37"/>
                  <a:pt x="5" y="37"/>
                  <a:pt x="5" y="37"/>
                </a:cubicBezTo>
                <a:cubicBezTo>
                  <a:pt x="6" y="37"/>
                  <a:pt x="6" y="37"/>
                  <a:pt x="6" y="37"/>
                </a:cubicBezTo>
                <a:cubicBezTo>
                  <a:pt x="6" y="37"/>
                  <a:pt x="5" y="38"/>
                  <a:pt x="4" y="38"/>
                </a:cubicBezTo>
                <a:cubicBezTo>
                  <a:pt x="6" y="39"/>
                  <a:pt x="6" y="39"/>
                  <a:pt x="6" y="39"/>
                </a:cubicBezTo>
                <a:cubicBezTo>
                  <a:pt x="6" y="39"/>
                  <a:pt x="5" y="40"/>
                  <a:pt x="6" y="40"/>
                </a:cubicBezTo>
                <a:cubicBezTo>
                  <a:pt x="7" y="41"/>
                  <a:pt x="8" y="40"/>
                  <a:pt x="9" y="41"/>
                </a:cubicBezTo>
                <a:cubicBezTo>
                  <a:pt x="9" y="42"/>
                  <a:pt x="5" y="41"/>
                  <a:pt x="6" y="42"/>
                </a:cubicBezTo>
                <a:cubicBezTo>
                  <a:pt x="7" y="42"/>
                  <a:pt x="5" y="42"/>
                  <a:pt x="5" y="42"/>
                </a:cubicBezTo>
                <a:cubicBezTo>
                  <a:pt x="8" y="44"/>
                  <a:pt x="8" y="44"/>
                  <a:pt x="8" y="44"/>
                </a:cubicBezTo>
                <a:cubicBezTo>
                  <a:pt x="7" y="45"/>
                  <a:pt x="5" y="44"/>
                  <a:pt x="4" y="45"/>
                </a:cubicBezTo>
                <a:cubicBezTo>
                  <a:pt x="6" y="45"/>
                  <a:pt x="7" y="45"/>
                  <a:pt x="8" y="46"/>
                </a:cubicBezTo>
                <a:cubicBezTo>
                  <a:pt x="4" y="47"/>
                  <a:pt x="4" y="47"/>
                  <a:pt x="4" y="47"/>
                </a:cubicBezTo>
                <a:cubicBezTo>
                  <a:pt x="6" y="47"/>
                  <a:pt x="8" y="48"/>
                  <a:pt x="10" y="48"/>
                </a:cubicBezTo>
                <a:cubicBezTo>
                  <a:pt x="8" y="50"/>
                  <a:pt x="5" y="49"/>
                  <a:pt x="3" y="50"/>
                </a:cubicBezTo>
                <a:cubicBezTo>
                  <a:pt x="6" y="50"/>
                  <a:pt x="7" y="52"/>
                  <a:pt x="9" y="53"/>
                </a:cubicBezTo>
                <a:cubicBezTo>
                  <a:pt x="8" y="53"/>
                  <a:pt x="6" y="53"/>
                  <a:pt x="5" y="54"/>
                </a:cubicBezTo>
                <a:cubicBezTo>
                  <a:pt x="7" y="55"/>
                  <a:pt x="7" y="55"/>
                  <a:pt x="7" y="55"/>
                </a:cubicBezTo>
                <a:cubicBezTo>
                  <a:pt x="5" y="55"/>
                  <a:pt x="5" y="55"/>
                  <a:pt x="5" y="55"/>
                </a:cubicBezTo>
                <a:cubicBezTo>
                  <a:pt x="5" y="56"/>
                  <a:pt x="5" y="56"/>
                  <a:pt x="5" y="56"/>
                </a:cubicBezTo>
                <a:cubicBezTo>
                  <a:pt x="4" y="57"/>
                  <a:pt x="4" y="57"/>
                  <a:pt x="4" y="57"/>
                </a:cubicBezTo>
                <a:cubicBezTo>
                  <a:pt x="10" y="59"/>
                  <a:pt x="10" y="59"/>
                  <a:pt x="10" y="59"/>
                </a:cubicBezTo>
                <a:cubicBezTo>
                  <a:pt x="8" y="60"/>
                  <a:pt x="5" y="59"/>
                  <a:pt x="3" y="60"/>
                </a:cubicBezTo>
                <a:cubicBezTo>
                  <a:pt x="4" y="60"/>
                  <a:pt x="6" y="60"/>
                  <a:pt x="7" y="61"/>
                </a:cubicBezTo>
                <a:cubicBezTo>
                  <a:pt x="6" y="62"/>
                  <a:pt x="4" y="62"/>
                  <a:pt x="3" y="62"/>
                </a:cubicBezTo>
                <a:cubicBezTo>
                  <a:pt x="5" y="63"/>
                  <a:pt x="8" y="64"/>
                  <a:pt x="10" y="64"/>
                </a:cubicBezTo>
                <a:cubicBezTo>
                  <a:pt x="5" y="64"/>
                  <a:pt x="5" y="64"/>
                  <a:pt x="5" y="64"/>
                </a:cubicBezTo>
                <a:cubicBezTo>
                  <a:pt x="23" y="72"/>
                  <a:pt x="44" y="73"/>
                  <a:pt x="66" y="73"/>
                </a:cubicBezTo>
                <a:cubicBezTo>
                  <a:pt x="67" y="73"/>
                  <a:pt x="67" y="73"/>
                  <a:pt x="67" y="73"/>
                </a:cubicBezTo>
                <a:cubicBezTo>
                  <a:pt x="90" y="75"/>
                  <a:pt x="112" y="73"/>
                  <a:pt x="135" y="74"/>
                </a:cubicBezTo>
                <a:cubicBezTo>
                  <a:pt x="132" y="75"/>
                  <a:pt x="132" y="75"/>
                  <a:pt x="132" y="75"/>
                </a:cubicBezTo>
                <a:cubicBezTo>
                  <a:pt x="146" y="75"/>
                  <a:pt x="161" y="74"/>
                  <a:pt x="175" y="75"/>
                </a:cubicBezTo>
                <a:cubicBezTo>
                  <a:pt x="175" y="76"/>
                  <a:pt x="172" y="75"/>
                  <a:pt x="171" y="76"/>
                </a:cubicBezTo>
                <a:cubicBezTo>
                  <a:pt x="180" y="76"/>
                  <a:pt x="187" y="75"/>
                  <a:pt x="196" y="75"/>
                </a:cubicBezTo>
                <a:cubicBezTo>
                  <a:pt x="213" y="76"/>
                  <a:pt x="229" y="74"/>
                  <a:pt x="246" y="75"/>
                </a:cubicBezTo>
                <a:cubicBezTo>
                  <a:pt x="242" y="76"/>
                  <a:pt x="242" y="76"/>
                  <a:pt x="242" y="76"/>
                </a:cubicBezTo>
                <a:cubicBezTo>
                  <a:pt x="244" y="76"/>
                  <a:pt x="245" y="75"/>
                  <a:pt x="247" y="76"/>
                </a:cubicBezTo>
                <a:cubicBezTo>
                  <a:pt x="247" y="76"/>
                  <a:pt x="247" y="76"/>
                  <a:pt x="247" y="76"/>
                </a:cubicBezTo>
                <a:cubicBezTo>
                  <a:pt x="248" y="76"/>
                  <a:pt x="248" y="76"/>
                  <a:pt x="248" y="76"/>
                </a:cubicBezTo>
                <a:cubicBezTo>
                  <a:pt x="248" y="76"/>
                  <a:pt x="248" y="76"/>
                  <a:pt x="248" y="76"/>
                </a:cubicBezTo>
                <a:cubicBezTo>
                  <a:pt x="249" y="75"/>
                  <a:pt x="251" y="75"/>
                  <a:pt x="253" y="76"/>
                </a:cubicBezTo>
                <a:cubicBezTo>
                  <a:pt x="251" y="76"/>
                  <a:pt x="251" y="76"/>
                  <a:pt x="251" y="76"/>
                </a:cubicBezTo>
                <a:cubicBezTo>
                  <a:pt x="254" y="77"/>
                  <a:pt x="254" y="75"/>
                  <a:pt x="256" y="75"/>
                </a:cubicBezTo>
                <a:cubicBezTo>
                  <a:pt x="286" y="75"/>
                  <a:pt x="286" y="75"/>
                  <a:pt x="286" y="75"/>
                </a:cubicBezTo>
                <a:cubicBezTo>
                  <a:pt x="287" y="76"/>
                  <a:pt x="287" y="76"/>
                  <a:pt x="287" y="76"/>
                </a:cubicBezTo>
                <a:cubicBezTo>
                  <a:pt x="285" y="76"/>
                  <a:pt x="285" y="76"/>
                  <a:pt x="285" y="76"/>
                </a:cubicBezTo>
                <a:cubicBezTo>
                  <a:pt x="299" y="76"/>
                  <a:pt x="313" y="75"/>
                  <a:pt x="327" y="77"/>
                </a:cubicBezTo>
                <a:cubicBezTo>
                  <a:pt x="326" y="78"/>
                  <a:pt x="324" y="77"/>
                  <a:pt x="323" y="78"/>
                </a:cubicBezTo>
                <a:cubicBezTo>
                  <a:pt x="325" y="78"/>
                  <a:pt x="329" y="79"/>
                  <a:pt x="331" y="77"/>
                </a:cubicBezTo>
                <a:cubicBezTo>
                  <a:pt x="362" y="77"/>
                  <a:pt x="391" y="79"/>
                  <a:pt x="421" y="75"/>
                </a:cubicBezTo>
                <a:cubicBezTo>
                  <a:pt x="417" y="75"/>
                  <a:pt x="417" y="75"/>
                  <a:pt x="417" y="75"/>
                </a:cubicBezTo>
                <a:cubicBezTo>
                  <a:pt x="427" y="73"/>
                  <a:pt x="434" y="69"/>
                  <a:pt x="444" y="69"/>
                </a:cubicBezTo>
                <a:lnTo>
                  <a:pt x="435" y="69"/>
                </a:lnTo>
                <a:close/>
              </a:path>
            </a:pathLst>
          </a:custGeom>
          <a:solidFill>
            <a:srgbClr val="2c3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图表 6" descr=""/>
          <p:cNvPicPr/>
          <p:nvPr/>
        </p:nvPicPr>
        <p:blipFill>
          <a:blip r:embed="rId1"/>
          <a:stretch/>
        </p:blipFill>
        <p:spPr>
          <a:xfrm>
            <a:off x="1957320" y="1527120"/>
            <a:ext cx="8277120" cy="323856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307440" y="318960"/>
            <a:ext cx="6432840" cy="5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6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d5070"/>
                </a:solidFill>
                <a:latin typeface="李旭科书法"/>
                <a:ea typeface="李旭科书法"/>
              </a:rPr>
              <a:t>请在此处添加标题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9" name="Freeform 10428" hidden="1"/>
          <p:cNvSpPr/>
          <p:nvPr/>
        </p:nvSpPr>
        <p:spPr>
          <a:xfrm rot="16200000">
            <a:off x="10810080" y="3296160"/>
            <a:ext cx="685800" cy="639720"/>
          </a:xfrm>
          <a:custGeom>
            <a:avLst/>
            <a:gdLst>
              <a:gd name="textAreaLeft" fmla="*/ 0 w 685800"/>
              <a:gd name="textAreaRight" fmla="*/ 686160 w 68580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165" h="154">
                <a:moveTo>
                  <a:pt x="92" y="6"/>
                </a:moveTo>
                <a:cubicBezTo>
                  <a:pt x="99" y="6"/>
                  <a:pt x="101" y="11"/>
                  <a:pt x="107" y="12"/>
                </a:cubicBezTo>
                <a:cubicBezTo>
                  <a:pt x="106" y="10"/>
                  <a:pt x="108" y="10"/>
                  <a:pt x="108" y="9"/>
                </a:cubicBezTo>
                <a:cubicBezTo>
                  <a:pt x="99" y="8"/>
                  <a:pt x="96" y="1"/>
                  <a:pt x="87" y="0"/>
                </a:cubicBezTo>
                <a:cubicBezTo>
                  <a:pt x="87" y="4"/>
                  <a:pt x="93" y="2"/>
                  <a:pt x="92" y="6"/>
                </a:cubicBezTo>
                <a:close/>
                <a:moveTo>
                  <a:pt x="89" y="15"/>
                </a:moveTo>
                <a:cubicBezTo>
                  <a:pt x="92" y="15"/>
                  <a:pt x="95" y="20"/>
                  <a:pt x="97" y="17"/>
                </a:cubicBezTo>
                <a:cubicBezTo>
                  <a:pt x="94" y="16"/>
                  <a:pt x="91" y="13"/>
                  <a:pt x="89" y="15"/>
                </a:cubicBezTo>
                <a:close/>
                <a:moveTo>
                  <a:pt x="20" y="32"/>
                </a:moveTo>
                <a:cubicBezTo>
                  <a:pt x="19" y="36"/>
                  <a:pt x="14" y="43"/>
                  <a:pt x="17" y="46"/>
                </a:cubicBezTo>
                <a:cubicBezTo>
                  <a:pt x="19" y="43"/>
                  <a:pt x="21" y="36"/>
                  <a:pt x="20" y="32"/>
                </a:cubicBezTo>
                <a:close/>
                <a:moveTo>
                  <a:pt x="12" y="48"/>
                </a:moveTo>
                <a:cubicBezTo>
                  <a:pt x="11" y="48"/>
                  <a:pt x="11" y="47"/>
                  <a:pt x="11" y="45"/>
                </a:cubicBezTo>
                <a:cubicBezTo>
                  <a:pt x="9" y="43"/>
                  <a:pt x="10" y="45"/>
                  <a:pt x="7" y="45"/>
                </a:cubicBezTo>
                <a:cubicBezTo>
                  <a:pt x="7" y="43"/>
                  <a:pt x="7" y="41"/>
                  <a:pt x="6" y="40"/>
                </a:cubicBezTo>
                <a:cubicBezTo>
                  <a:pt x="0" y="45"/>
                  <a:pt x="8" y="54"/>
                  <a:pt x="12" y="48"/>
                </a:cubicBezTo>
                <a:close/>
                <a:moveTo>
                  <a:pt x="151" y="52"/>
                </a:moveTo>
                <a:cubicBezTo>
                  <a:pt x="152" y="51"/>
                  <a:pt x="151" y="47"/>
                  <a:pt x="150" y="45"/>
                </a:cubicBezTo>
                <a:cubicBezTo>
                  <a:pt x="151" y="48"/>
                  <a:pt x="148" y="50"/>
                  <a:pt x="151" y="52"/>
                </a:cubicBezTo>
                <a:close/>
                <a:moveTo>
                  <a:pt x="152" y="82"/>
                </a:moveTo>
                <a:cubicBezTo>
                  <a:pt x="149" y="82"/>
                  <a:pt x="149" y="82"/>
                  <a:pt x="149" y="82"/>
                </a:cubicBezTo>
                <a:cubicBezTo>
                  <a:pt x="149" y="85"/>
                  <a:pt x="151" y="86"/>
                  <a:pt x="149" y="87"/>
                </a:cubicBezTo>
                <a:cubicBezTo>
                  <a:pt x="152" y="87"/>
                  <a:pt x="151" y="84"/>
                  <a:pt x="152" y="82"/>
                </a:cubicBezTo>
                <a:close/>
                <a:moveTo>
                  <a:pt x="132" y="131"/>
                </a:moveTo>
                <a:cubicBezTo>
                  <a:pt x="138" y="122"/>
                  <a:pt x="141" y="110"/>
                  <a:pt x="148" y="102"/>
                </a:cubicBezTo>
                <a:cubicBezTo>
                  <a:pt x="147" y="101"/>
                  <a:pt x="145" y="101"/>
                  <a:pt x="145" y="100"/>
                </a:cubicBezTo>
                <a:cubicBezTo>
                  <a:pt x="148" y="89"/>
                  <a:pt x="145" y="79"/>
                  <a:pt x="147" y="69"/>
                </a:cubicBezTo>
                <a:cubicBezTo>
                  <a:pt x="144" y="69"/>
                  <a:pt x="148" y="72"/>
                  <a:pt x="146" y="73"/>
                </a:cubicBezTo>
                <a:cubicBezTo>
                  <a:pt x="140" y="66"/>
                  <a:pt x="144" y="50"/>
                  <a:pt x="136" y="45"/>
                </a:cubicBezTo>
                <a:cubicBezTo>
                  <a:pt x="133" y="31"/>
                  <a:pt x="122" y="26"/>
                  <a:pt x="113" y="18"/>
                </a:cubicBezTo>
                <a:cubicBezTo>
                  <a:pt x="113" y="23"/>
                  <a:pt x="121" y="25"/>
                  <a:pt x="119" y="30"/>
                </a:cubicBezTo>
                <a:cubicBezTo>
                  <a:pt x="112" y="26"/>
                  <a:pt x="108" y="15"/>
                  <a:pt x="97" y="17"/>
                </a:cubicBezTo>
                <a:cubicBezTo>
                  <a:pt x="102" y="19"/>
                  <a:pt x="96" y="19"/>
                  <a:pt x="95" y="19"/>
                </a:cubicBezTo>
                <a:cubicBezTo>
                  <a:pt x="96" y="20"/>
                  <a:pt x="100" y="22"/>
                  <a:pt x="98" y="22"/>
                </a:cubicBezTo>
                <a:cubicBezTo>
                  <a:pt x="87" y="15"/>
                  <a:pt x="68" y="25"/>
                  <a:pt x="58" y="24"/>
                </a:cubicBezTo>
                <a:cubicBezTo>
                  <a:pt x="62" y="22"/>
                  <a:pt x="66" y="22"/>
                  <a:pt x="69" y="21"/>
                </a:cubicBezTo>
                <a:cubicBezTo>
                  <a:pt x="63" y="17"/>
                  <a:pt x="52" y="17"/>
                  <a:pt x="47" y="22"/>
                </a:cubicBezTo>
                <a:cubicBezTo>
                  <a:pt x="41" y="14"/>
                  <a:pt x="36" y="29"/>
                  <a:pt x="31" y="27"/>
                </a:cubicBezTo>
                <a:cubicBezTo>
                  <a:pt x="35" y="30"/>
                  <a:pt x="27" y="38"/>
                  <a:pt x="26" y="43"/>
                </a:cubicBezTo>
                <a:cubicBezTo>
                  <a:pt x="25" y="42"/>
                  <a:pt x="25" y="40"/>
                  <a:pt x="23" y="40"/>
                </a:cubicBezTo>
                <a:cubicBezTo>
                  <a:pt x="19" y="48"/>
                  <a:pt x="17" y="56"/>
                  <a:pt x="17" y="66"/>
                </a:cubicBezTo>
                <a:cubicBezTo>
                  <a:pt x="16" y="66"/>
                  <a:pt x="16" y="65"/>
                  <a:pt x="15" y="65"/>
                </a:cubicBezTo>
                <a:cubicBezTo>
                  <a:pt x="13" y="66"/>
                  <a:pt x="18" y="68"/>
                  <a:pt x="14" y="69"/>
                </a:cubicBezTo>
                <a:cubicBezTo>
                  <a:pt x="12" y="67"/>
                  <a:pt x="16" y="65"/>
                  <a:pt x="14" y="63"/>
                </a:cubicBezTo>
                <a:cubicBezTo>
                  <a:pt x="12" y="65"/>
                  <a:pt x="13" y="57"/>
                  <a:pt x="12" y="56"/>
                </a:cubicBezTo>
                <a:cubicBezTo>
                  <a:pt x="10" y="68"/>
                  <a:pt x="11" y="83"/>
                  <a:pt x="13" y="96"/>
                </a:cubicBezTo>
                <a:cubicBezTo>
                  <a:pt x="11" y="97"/>
                  <a:pt x="11" y="95"/>
                  <a:pt x="9" y="95"/>
                </a:cubicBezTo>
                <a:cubicBezTo>
                  <a:pt x="10" y="101"/>
                  <a:pt x="12" y="105"/>
                  <a:pt x="12" y="112"/>
                </a:cubicBezTo>
                <a:cubicBezTo>
                  <a:pt x="20" y="125"/>
                  <a:pt x="33" y="133"/>
                  <a:pt x="43" y="145"/>
                </a:cubicBezTo>
                <a:cubicBezTo>
                  <a:pt x="55" y="149"/>
                  <a:pt x="72" y="151"/>
                  <a:pt x="87" y="151"/>
                </a:cubicBezTo>
                <a:cubicBezTo>
                  <a:pt x="97" y="154"/>
                  <a:pt x="109" y="146"/>
                  <a:pt x="117" y="141"/>
                </a:cubicBezTo>
                <a:cubicBezTo>
                  <a:pt x="117" y="142"/>
                  <a:pt x="115" y="144"/>
                  <a:pt x="117" y="144"/>
                </a:cubicBezTo>
                <a:cubicBezTo>
                  <a:pt x="124" y="140"/>
                  <a:pt x="132" y="137"/>
                  <a:pt x="136" y="129"/>
                </a:cubicBezTo>
                <a:cubicBezTo>
                  <a:pt x="134" y="129"/>
                  <a:pt x="133" y="132"/>
                  <a:pt x="132" y="131"/>
                </a:cubicBezTo>
                <a:close/>
                <a:moveTo>
                  <a:pt x="31" y="37"/>
                </a:moveTo>
                <a:cubicBezTo>
                  <a:pt x="31" y="33"/>
                  <a:pt x="33" y="31"/>
                  <a:pt x="35" y="29"/>
                </a:cubicBezTo>
                <a:cubicBezTo>
                  <a:pt x="36" y="29"/>
                  <a:pt x="36" y="30"/>
                  <a:pt x="37" y="30"/>
                </a:cubicBezTo>
                <a:cubicBezTo>
                  <a:pt x="36" y="33"/>
                  <a:pt x="35" y="36"/>
                  <a:pt x="31" y="37"/>
                </a:cubicBezTo>
                <a:close/>
                <a:moveTo>
                  <a:pt x="77" y="30"/>
                </a:moveTo>
                <a:cubicBezTo>
                  <a:pt x="79" y="29"/>
                  <a:pt x="82" y="29"/>
                  <a:pt x="84" y="30"/>
                </a:cubicBezTo>
                <a:cubicBezTo>
                  <a:pt x="83" y="33"/>
                  <a:pt x="80" y="30"/>
                  <a:pt x="77" y="30"/>
                </a:cubicBezTo>
                <a:close/>
                <a:moveTo>
                  <a:pt x="101" y="34"/>
                </a:moveTo>
                <a:cubicBezTo>
                  <a:pt x="94" y="34"/>
                  <a:pt x="91" y="30"/>
                  <a:pt x="87" y="25"/>
                </a:cubicBezTo>
                <a:cubicBezTo>
                  <a:pt x="94" y="27"/>
                  <a:pt x="97" y="27"/>
                  <a:pt x="101" y="34"/>
                </a:cubicBezTo>
                <a:close/>
                <a:moveTo>
                  <a:pt x="89" y="31"/>
                </a:moveTo>
                <a:cubicBezTo>
                  <a:pt x="95" y="33"/>
                  <a:pt x="98" y="38"/>
                  <a:pt x="102" y="43"/>
                </a:cubicBezTo>
                <a:cubicBezTo>
                  <a:pt x="98" y="39"/>
                  <a:pt x="92" y="36"/>
                  <a:pt x="89" y="31"/>
                </a:cubicBezTo>
                <a:close/>
                <a:moveTo>
                  <a:pt x="110" y="32"/>
                </a:moveTo>
                <a:cubicBezTo>
                  <a:pt x="107" y="32"/>
                  <a:pt x="105" y="30"/>
                  <a:pt x="103" y="29"/>
                </a:cubicBezTo>
                <a:cubicBezTo>
                  <a:pt x="106" y="27"/>
                  <a:pt x="110" y="29"/>
                  <a:pt x="110" y="32"/>
                </a:cubicBezTo>
                <a:close/>
                <a:moveTo>
                  <a:pt x="164" y="77"/>
                </a:moveTo>
                <a:cubicBezTo>
                  <a:pt x="162" y="79"/>
                  <a:pt x="163" y="83"/>
                  <a:pt x="162" y="86"/>
                </a:cubicBezTo>
                <a:cubicBezTo>
                  <a:pt x="165" y="84"/>
                  <a:pt x="164" y="79"/>
                  <a:pt x="164" y="77"/>
                </a:cubicBezTo>
                <a:close/>
                <a:moveTo>
                  <a:pt x="158" y="100"/>
                </a:moveTo>
                <a:cubicBezTo>
                  <a:pt x="158" y="96"/>
                  <a:pt x="162" y="93"/>
                  <a:pt x="160" y="89"/>
                </a:cubicBezTo>
                <a:cubicBezTo>
                  <a:pt x="160" y="93"/>
                  <a:pt x="156" y="97"/>
                  <a:pt x="158" y="100"/>
                </a:cubicBezTo>
                <a:close/>
                <a:moveTo>
                  <a:pt x="141" y="125"/>
                </a:moveTo>
                <a:cubicBezTo>
                  <a:pt x="147" y="126"/>
                  <a:pt x="149" y="121"/>
                  <a:pt x="149" y="115"/>
                </a:cubicBezTo>
                <a:cubicBezTo>
                  <a:pt x="154" y="113"/>
                  <a:pt x="158" y="103"/>
                  <a:pt x="157" y="101"/>
                </a:cubicBezTo>
                <a:cubicBezTo>
                  <a:pt x="152" y="110"/>
                  <a:pt x="147" y="118"/>
                  <a:pt x="141" y="125"/>
                </a:cubicBezTo>
                <a:close/>
              </a:path>
            </a:pathLst>
          </a:custGeom>
          <a:solidFill>
            <a:srgbClr val="2c3c5e"/>
          </a:solidFill>
          <a:ln w="0">
            <a:noFill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矩形 7"/>
          <p:cNvSpPr/>
          <p:nvPr/>
        </p:nvSpPr>
        <p:spPr>
          <a:xfrm>
            <a:off x="1525680" y="5060880"/>
            <a:ext cx="914076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3c5e"/>
                </a:solidFill>
                <a:latin typeface="腾祥铁山楷书简"/>
                <a:ea typeface="腾祥铁山楷书简"/>
              </a:rPr>
              <a:t>D</a:t>
            </a:r>
            <a:r>
              <a:rPr b="0" lang="zh-CN" sz="1800" spc="-1" strike="noStrike">
                <a:solidFill>
                  <a:srgbClr val="2c3c5e"/>
                </a:solidFill>
                <a:latin typeface="腾祥铁山楷书简"/>
                <a:ea typeface="腾祥铁山楷书简"/>
              </a:rPr>
              <a:t>意空间工作室成立于</a:t>
            </a:r>
            <a:r>
              <a:rPr b="0" lang="en-US" sz="1800" spc="-1" strike="noStrike">
                <a:solidFill>
                  <a:srgbClr val="2c3c5e"/>
                </a:solidFill>
                <a:latin typeface="腾祥铁山楷书简"/>
                <a:ea typeface="腾祥铁山楷书简"/>
              </a:rPr>
              <a:t>2015</a:t>
            </a:r>
            <a:r>
              <a:rPr b="0" lang="zh-CN" sz="1800" spc="-1" strike="noStrike">
                <a:solidFill>
                  <a:srgbClr val="2c3c5e"/>
                </a:solidFill>
                <a:latin typeface="腾祥铁山楷书简"/>
                <a:ea typeface="腾祥铁山楷书简"/>
              </a:rPr>
              <a:t>年</a:t>
            </a:r>
            <a:r>
              <a:rPr b="0" lang="en-US" sz="1800" spc="-1" strike="noStrike">
                <a:solidFill>
                  <a:srgbClr val="2c3c5e"/>
                </a:solidFill>
                <a:latin typeface="腾祥铁山楷书简"/>
                <a:ea typeface="腾祥铁山楷书简"/>
              </a:rPr>
              <a:t>10</a:t>
            </a:r>
            <a:r>
              <a:rPr b="0" lang="zh-CN" sz="1800" spc="-1" strike="noStrike">
                <a:solidFill>
                  <a:srgbClr val="2c3c5e"/>
                </a:solidFill>
                <a:latin typeface="腾祥铁山楷书简"/>
                <a:ea typeface="腾祥铁山楷书简"/>
              </a:rPr>
              <a:t>月，始终致力于专业的</a:t>
            </a:r>
            <a:r>
              <a:rPr b="0" lang="en-US" sz="1800" spc="-1" strike="noStrike">
                <a:solidFill>
                  <a:srgbClr val="2c3c5e"/>
                </a:solidFill>
                <a:latin typeface="腾祥铁山楷书简"/>
                <a:ea typeface="腾祥铁山楷书简"/>
              </a:rPr>
              <a:t>PPT</a:t>
            </a:r>
            <a:r>
              <a:rPr b="0" lang="zh-CN" sz="1800" spc="-1" strike="noStrike">
                <a:solidFill>
                  <a:srgbClr val="2c3c5e"/>
                </a:solidFill>
                <a:latin typeface="腾祥铁山楷书简"/>
                <a:ea typeface="腾祥铁山楷书简"/>
              </a:rPr>
              <a:t>模板制作、美化、定制，</a:t>
            </a:r>
            <a:r>
              <a:rPr b="0" lang="en-US" sz="1800" spc="-1" strike="noStrike">
                <a:solidFill>
                  <a:srgbClr val="2c3c5e"/>
                </a:solidFill>
                <a:latin typeface="腾祥铁山楷书简"/>
                <a:ea typeface="腾祥铁山楷书简"/>
              </a:rPr>
              <a:t>Keynote</a:t>
            </a:r>
            <a:r>
              <a:rPr b="0" lang="zh-CN" sz="1800" spc="-1" strike="noStrike">
                <a:solidFill>
                  <a:srgbClr val="2c3c5e"/>
                </a:solidFill>
                <a:latin typeface="腾祥铁山楷书简"/>
                <a:ea typeface="腾祥铁山楷书简"/>
              </a:rPr>
              <a:t>模板制作、美化、定制，只要是与演示相关的，我们竭诚为您服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307440" y="318960"/>
            <a:ext cx="6432840" cy="5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6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d5070"/>
                </a:solidFill>
                <a:latin typeface="李旭科书法"/>
                <a:ea typeface="李旭科书法"/>
              </a:rPr>
              <a:t>请在此处添加标题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332" name="图表 31" descr=""/>
          <p:cNvPicPr/>
          <p:nvPr/>
        </p:nvPicPr>
        <p:blipFill>
          <a:blip r:embed="rId1"/>
          <a:stretch/>
        </p:blipFill>
        <p:spPr>
          <a:xfrm>
            <a:off x="631800" y="1533600"/>
            <a:ext cx="7080120" cy="4098960"/>
          </a:xfrm>
          <a:prstGeom prst="rect">
            <a:avLst/>
          </a:prstGeom>
          <a:ln w="0">
            <a:noFill/>
          </a:ln>
        </p:spPr>
      </p:pic>
      <p:sp>
        <p:nvSpPr>
          <p:cNvPr id="333" name="Freeform 192" hidden="1"/>
          <p:cNvSpPr/>
          <p:nvPr/>
        </p:nvSpPr>
        <p:spPr>
          <a:xfrm rot="5400000">
            <a:off x="-1384920" y="3525120"/>
            <a:ext cx="4489200" cy="722160"/>
          </a:xfrm>
          <a:custGeom>
            <a:avLst/>
            <a:gdLst>
              <a:gd name="textAreaLeft" fmla="*/ 0 w 4489200"/>
              <a:gd name="textAreaRight" fmla="*/ 4489560 w 4489200"/>
              <a:gd name="textAreaTop" fmla="*/ 0 h 722160"/>
              <a:gd name="textAreaBottom" fmla="*/ 722520 h 722160"/>
            </a:gdLst>
            <a:ahLst/>
            <a:rect l="textAreaLeft" t="textAreaTop" r="textAreaRight" b="textAreaBottom"/>
            <a:pathLst>
              <a:path w="478" h="77">
                <a:moveTo>
                  <a:pt x="478" y="13"/>
                </a:moveTo>
                <a:cubicBezTo>
                  <a:pt x="472" y="13"/>
                  <a:pt x="468" y="13"/>
                  <a:pt x="462" y="12"/>
                </a:cubicBezTo>
                <a:cubicBezTo>
                  <a:pt x="461" y="11"/>
                  <a:pt x="465" y="12"/>
                  <a:pt x="464" y="11"/>
                </a:cubicBezTo>
                <a:cubicBezTo>
                  <a:pt x="434" y="9"/>
                  <a:pt x="403" y="9"/>
                  <a:pt x="373" y="7"/>
                </a:cubicBezTo>
                <a:cubicBezTo>
                  <a:pt x="402" y="6"/>
                  <a:pt x="431" y="10"/>
                  <a:pt x="460" y="10"/>
                </a:cubicBezTo>
                <a:cubicBezTo>
                  <a:pt x="436" y="6"/>
                  <a:pt x="407" y="7"/>
                  <a:pt x="381" y="5"/>
                </a:cubicBezTo>
                <a:cubicBezTo>
                  <a:pt x="288" y="3"/>
                  <a:pt x="288" y="3"/>
                  <a:pt x="288" y="3"/>
                </a:cubicBezTo>
                <a:cubicBezTo>
                  <a:pt x="222" y="3"/>
                  <a:pt x="222" y="3"/>
                  <a:pt x="222" y="3"/>
                </a:cubicBezTo>
                <a:cubicBezTo>
                  <a:pt x="130" y="4"/>
                  <a:pt x="130" y="4"/>
                  <a:pt x="130" y="4"/>
                </a:cubicBezTo>
                <a:cubicBezTo>
                  <a:pt x="130" y="3"/>
                  <a:pt x="130" y="3"/>
                  <a:pt x="130" y="3"/>
                </a:cubicBezTo>
                <a:cubicBezTo>
                  <a:pt x="127" y="2"/>
                  <a:pt x="125" y="3"/>
                  <a:pt x="123" y="3"/>
                </a:cubicBezTo>
                <a:cubicBezTo>
                  <a:pt x="124" y="3"/>
                  <a:pt x="125" y="3"/>
                  <a:pt x="125" y="4"/>
                </a:cubicBezTo>
                <a:cubicBezTo>
                  <a:pt x="122" y="4"/>
                  <a:pt x="118" y="3"/>
                  <a:pt x="115" y="4"/>
                </a:cubicBezTo>
                <a:cubicBezTo>
                  <a:pt x="112" y="3"/>
                  <a:pt x="107" y="4"/>
                  <a:pt x="102" y="3"/>
                </a:cubicBezTo>
                <a:cubicBezTo>
                  <a:pt x="100" y="2"/>
                  <a:pt x="98" y="2"/>
                  <a:pt x="95" y="2"/>
                </a:cubicBezTo>
                <a:cubicBezTo>
                  <a:pt x="70" y="2"/>
                  <a:pt x="50" y="0"/>
                  <a:pt x="24" y="1"/>
                </a:cubicBezTo>
                <a:cubicBezTo>
                  <a:pt x="18" y="2"/>
                  <a:pt x="10" y="1"/>
                  <a:pt x="6" y="4"/>
                </a:cubicBezTo>
                <a:cubicBezTo>
                  <a:pt x="6" y="5"/>
                  <a:pt x="8" y="5"/>
                  <a:pt x="8" y="5"/>
                </a:cubicBezTo>
                <a:cubicBezTo>
                  <a:pt x="7" y="5"/>
                  <a:pt x="6" y="6"/>
                  <a:pt x="5" y="5"/>
                </a:cubicBezTo>
                <a:cubicBezTo>
                  <a:pt x="5" y="5"/>
                  <a:pt x="5" y="5"/>
                  <a:pt x="5" y="5"/>
                </a:cubicBezTo>
                <a:cubicBezTo>
                  <a:pt x="0" y="6"/>
                  <a:pt x="0" y="6"/>
                  <a:pt x="0" y="6"/>
                </a:cubicBezTo>
                <a:cubicBezTo>
                  <a:pt x="2" y="7"/>
                  <a:pt x="2" y="7"/>
                  <a:pt x="2" y="7"/>
                </a:cubicBezTo>
                <a:cubicBezTo>
                  <a:pt x="2" y="7"/>
                  <a:pt x="2" y="7"/>
                  <a:pt x="2" y="7"/>
                </a:cubicBezTo>
                <a:cubicBezTo>
                  <a:pt x="4" y="8"/>
                  <a:pt x="4" y="8"/>
                  <a:pt x="4" y="8"/>
                </a:cubicBezTo>
                <a:cubicBezTo>
                  <a:pt x="3" y="8"/>
                  <a:pt x="1" y="9"/>
                  <a:pt x="0" y="9"/>
                </a:cubicBezTo>
                <a:cubicBezTo>
                  <a:pt x="0" y="11"/>
                  <a:pt x="0" y="13"/>
                  <a:pt x="3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5"/>
                  <a:pt x="2" y="15"/>
                  <a:pt x="3" y="15"/>
                </a:cubicBezTo>
                <a:cubicBezTo>
                  <a:pt x="1" y="17"/>
                  <a:pt x="1" y="17"/>
                  <a:pt x="1" y="17"/>
                </a:cubicBezTo>
                <a:cubicBezTo>
                  <a:pt x="2" y="17"/>
                  <a:pt x="2" y="17"/>
                  <a:pt x="2" y="17"/>
                </a:cubicBezTo>
                <a:cubicBezTo>
                  <a:pt x="1" y="18"/>
                  <a:pt x="1" y="18"/>
                  <a:pt x="1" y="18"/>
                </a:cubicBezTo>
                <a:cubicBezTo>
                  <a:pt x="3" y="18"/>
                  <a:pt x="1" y="19"/>
                  <a:pt x="1" y="19"/>
                </a:cubicBezTo>
                <a:cubicBezTo>
                  <a:pt x="4" y="20"/>
                  <a:pt x="4" y="20"/>
                  <a:pt x="4" y="20"/>
                </a:cubicBezTo>
                <a:cubicBezTo>
                  <a:pt x="5" y="21"/>
                  <a:pt x="2" y="20"/>
                  <a:pt x="2" y="20"/>
                </a:cubicBezTo>
                <a:cubicBezTo>
                  <a:pt x="3" y="21"/>
                  <a:pt x="5" y="21"/>
                  <a:pt x="6" y="21"/>
                </a:cubicBezTo>
                <a:cubicBezTo>
                  <a:pt x="5" y="22"/>
                  <a:pt x="3" y="21"/>
                  <a:pt x="1" y="21"/>
                </a:cubicBezTo>
                <a:cubicBezTo>
                  <a:pt x="1" y="22"/>
                  <a:pt x="1" y="22"/>
                  <a:pt x="1" y="22"/>
                </a:cubicBezTo>
                <a:cubicBezTo>
                  <a:pt x="2" y="24"/>
                  <a:pt x="6" y="24"/>
                  <a:pt x="10" y="24"/>
                </a:cubicBezTo>
                <a:cubicBezTo>
                  <a:pt x="7" y="25"/>
                  <a:pt x="5" y="25"/>
                  <a:pt x="2" y="25"/>
                </a:cubicBezTo>
                <a:cubicBezTo>
                  <a:pt x="2" y="26"/>
                  <a:pt x="2" y="26"/>
                  <a:pt x="2" y="26"/>
                </a:cubicBezTo>
                <a:cubicBezTo>
                  <a:pt x="3" y="27"/>
                  <a:pt x="5" y="26"/>
                  <a:pt x="5" y="27"/>
                </a:cubicBezTo>
                <a:cubicBezTo>
                  <a:pt x="10" y="27"/>
                  <a:pt x="10" y="27"/>
                  <a:pt x="10" y="27"/>
                </a:cubicBezTo>
                <a:cubicBezTo>
                  <a:pt x="9" y="27"/>
                  <a:pt x="9" y="27"/>
                  <a:pt x="9" y="27"/>
                </a:cubicBezTo>
                <a:cubicBezTo>
                  <a:pt x="9" y="26"/>
                  <a:pt x="10" y="26"/>
                  <a:pt x="11" y="26"/>
                </a:cubicBezTo>
                <a:cubicBezTo>
                  <a:pt x="15" y="26"/>
                  <a:pt x="12" y="30"/>
                  <a:pt x="14" y="30"/>
                </a:cubicBezTo>
                <a:cubicBezTo>
                  <a:pt x="12" y="32"/>
                  <a:pt x="9" y="30"/>
                  <a:pt x="6" y="31"/>
                </a:cubicBezTo>
                <a:cubicBezTo>
                  <a:pt x="9" y="32"/>
                  <a:pt x="12" y="31"/>
                  <a:pt x="16" y="31"/>
                </a:cubicBezTo>
                <a:cubicBezTo>
                  <a:pt x="17" y="34"/>
                  <a:pt x="17" y="34"/>
                  <a:pt x="17" y="34"/>
                </a:cubicBezTo>
                <a:cubicBezTo>
                  <a:pt x="14" y="35"/>
                  <a:pt x="14" y="35"/>
                  <a:pt x="14" y="35"/>
                </a:cubicBezTo>
                <a:cubicBezTo>
                  <a:pt x="21" y="35"/>
                  <a:pt x="21" y="35"/>
                  <a:pt x="21" y="35"/>
                </a:cubicBezTo>
                <a:cubicBezTo>
                  <a:pt x="22" y="35"/>
                  <a:pt x="23" y="35"/>
                  <a:pt x="23" y="36"/>
                </a:cubicBezTo>
                <a:cubicBezTo>
                  <a:pt x="23" y="37"/>
                  <a:pt x="22" y="37"/>
                  <a:pt x="21" y="37"/>
                </a:cubicBezTo>
                <a:cubicBezTo>
                  <a:pt x="18" y="41"/>
                  <a:pt x="11" y="37"/>
                  <a:pt x="6" y="38"/>
                </a:cubicBezTo>
                <a:cubicBezTo>
                  <a:pt x="7" y="39"/>
                  <a:pt x="10" y="39"/>
                  <a:pt x="12" y="40"/>
                </a:cubicBezTo>
                <a:cubicBezTo>
                  <a:pt x="16" y="39"/>
                  <a:pt x="18" y="38"/>
                  <a:pt x="21" y="39"/>
                </a:cubicBezTo>
                <a:cubicBezTo>
                  <a:pt x="19" y="40"/>
                  <a:pt x="19" y="40"/>
                  <a:pt x="19" y="40"/>
                </a:cubicBezTo>
                <a:cubicBezTo>
                  <a:pt x="20" y="40"/>
                  <a:pt x="20" y="40"/>
                  <a:pt x="20" y="40"/>
                </a:cubicBezTo>
                <a:cubicBezTo>
                  <a:pt x="20" y="40"/>
                  <a:pt x="21" y="40"/>
                  <a:pt x="21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9" y="41"/>
                  <a:pt x="19" y="41"/>
                  <a:pt x="19" y="41"/>
                </a:cubicBezTo>
                <a:cubicBezTo>
                  <a:pt x="20" y="41"/>
                  <a:pt x="21" y="42"/>
                  <a:pt x="22" y="41"/>
                </a:cubicBezTo>
                <a:cubicBezTo>
                  <a:pt x="22" y="43"/>
                  <a:pt x="22" y="43"/>
                  <a:pt x="22" y="43"/>
                </a:cubicBezTo>
                <a:cubicBezTo>
                  <a:pt x="20" y="44"/>
                  <a:pt x="22" y="46"/>
                  <a:pt x="19" y="46"/>
                </a:cubicBezTo>
                <a:cubicBezTo>
                  <a:pt x="20" y="46"/>
                  <a:pt x="20" y="46"/>
                  <a:pt x="20" y="46"/>
                </a:cubicBezTo>
                <a:cubicBezTo>
                  <a:pt x="16" y="47"/>
                  <a:pt x="12" y="44"/>
                  <a:pt x="9" y="46"/>
                </a:cubicBezTo>
                <a:cubicBezTo>
                  <a:pt x="13" y="47"/>
                  <a:pt x="19" y="46"/>
                  <a:pt x="23" y="48"/>
                </a:cubicBezTo>
                <a:cubicBezTo>
                  <a:pt x="22" y="49"/>
                  <a:pt x="22" y="49"/>
                  <a:pt x="22" y="49"/>
                </a:cubicBezTo>
                <a:cubicBezTo>
                  <a:pt x="21" y="48"/>
                  <a:pt x="21" y="48"/>
                  <a:pt x="21" y="48"/>
                </a:cubicBezTo>
                <a:cubicBezTo>
                  <a:pt x="19" y="48"/>
                  <a:pt x="17" y="49"/>
                  <a:pt x="16" y="49"/>
                </a:cubicBezTo>
                <a:cubicBezTo>
                  <a:pt x="17" y="49"/>
                  <a:pt x="19" y="49"/>
                  <a:pt x="20" y="49"/>
                </a:cubicBezTo>
                <a:cubicBezTo>
                  <a:pt x="22" y="50"/>
                  <a:pt x="25" y="51"/>
                  <a:pt x="24" y="53"/>
                </a:cubicBezTo>
                <a:cubicBezTo>
                  <a:pt x="19" y="53"/>
                  <a:pt x="19" y="53"/>
                  <a:pt x="19" y="53"/>
                </a:cubicBezTo>
                <a:cubicBezTo>
                  <a:pt x="26" y="55"/>
                  <a:pt x="26" y="55"/>
                  <a:pt x="26" y="55"/>
                </a:cubicBezTo>
                <a:cubicBezTo>
                  <a:pt x="25" y="57"/>
                  <a:pt x="29" y="58"/>
                  <a:pt x="30" y="59"/>
                </a:cubicBezTo>
                <a:cubicBezTo>
                  <a:pt x="29" y="60"/>
                  <a:pt x="27" y="59"/>
                  <a:pt x="26" y="60"/>
                </a:cubicBezTo>
                <a:cubicBezTo>
                  <a:pt x="22" y="61"/>
                  <a:pt x="28" y="62"/>
                  <a:pt x="26" y="64"/>
                </a:cubicBezTo>
                <a:cubicBezTo>
                  <a:pt x="27" y="64"/>
                  <a:pt x="29" y="64"/>
                  <a:pt x="30" y="65"/>
                </a:cubicBezTo>
                <a:cubicBezTo>
                  <a:pt x="30" y="65"/>
                  <a:pt x="29" y="66"/>
                  <a:pt x="29" y="66"/>
                </a:cubicBezTo>
                <a:cubicBezTo>
                  <a:pt x="25" y="64"/>
                  <a:pt x="21" y="63"/>
                  <a:pt x="17" y="63"/>
                </a:cubicBezTo>
                <a:cubicBezTo>
                  <a:pt x="22" y="66"/>
                  <a:pt x="22" y="66"/>
                  <a:pt x="22" y="66"/>
                </a:cubicBezTo>
                <a:cubicBezTo>
                  <a:pt x="30" y="66"/>
                  <a:pt x="36" y="70"/>
                  <a:pt x="44" y="70"/>
                </a:cubicBezTo>
                <a:cubicBezTo>
                  <a:pt x="51" y="73"/>
                  <a:pt x="61" y="73"/>
                  <a:pt x="70" y="75"/>
                </a:cubicBezTo>
                <a:cubicBezTo>
                  <a:pt x="82" y="75"/>
                  <a:pt x="93" y="77"/>
                  <a:pt x="104" y="77"/>
                </a:cubicBezTo>
                <a:cubicBezTo>
                  <a:pt x="123" y="76"/>
                  <a:pt x="142" y="76"/>
                  <a:pt x="161" y="76"/>
                </a:cubicBezTo>
                <a:cubicBezTo>
                  <a:pt x="258" y="76"/>
                  <a:pt x="258" y="76"/>
                  <a:pt x="258" y="76"/>
                </a:cubicBezTo>
                <a:cubicBezTo>
                  <a:pt x="286" y="75"/>
                  <a:pt x="315" y="77"/>
                  <a:pt x="341" y="75"/>
                </a:cubicBezTo>
                <a:cubicBezTo>
                  <a:pt x="336" y="75"/>
                  <a:pt x="331" y="74"/>
                  <a:pt x="326" y="75"/>
                </a:cubicBezTo>
                <a:cubicBezTo>
                  <a:pt x="323" y="75"/>
                  <a:pt x="321" y="74"/>
                  <a:pt x="319" y="75"/>
                </a:cubicBezTo>
                <a:cubicBezTo>
                  <a:pt x="316" y="75"/>
                  <a:pt x="313" y="75"/>
                  <a:pt x="311" y="74"/>
                </a:cubicBezTo>
                <a:cubicBezTo>
                  <a:pt x="280" y="74"/>
                  <a:pt x="280" y="74"/>
                  <a:pt x="280" y="74"/>
                </a:cubicBezTo>
                <a:cubicBezTo>
                  <a:pt x="279" y="74"/>
                  <a:pt x="279" y="74"/>
                  <a:pt x="279" y="74"/>
                </a:cubicBezTo>
                <a:cubicBezTo>
                  <a:pt x="276" y="74"/>
                  <a:pt x="272" y="75"/>
                  <a:pt x="270" y="74"/>
                </a:cubicBezTo>
                <a:cubicBezTo>
                  <a:pt x="271" y="73"/>
                  <a:pt x="271" y="73"/>
                  <a:pt x="271" y="73"/>
                </a:cubicBezTo>
                <a:cubicBezTo>
                  <a:pt x="401" y="73"/>
                  <a:pt x="401" y="73"/>
                  <a:pt x="401" y="73"/>
                </a:cubicBezTo>
                <a:cubicBezTo>
                  <a:pt x="415" y="72"/>
                  <a:pt x="415" y="72"/>
                  <a:pt x="415" y="72"/>
                </a:cubicBezTo>
                <a:cubicBezTo>
                  <a:pt x="384" y="72"/>
                  <a:pt x="352" y="72"/>
                  <a:pt x="320" y="71"/>
                </a:cubicBezTo>
                <a:cubicBezTo>
                  <a:pt x="309" y="71"/>
                  <a:pt x="297" y="72"/>
                  <a:pt x="286" y="70"/>
                </a:cubicBezTo>
                <a:cubicBezTo>
                  <a:pt x="312" y="70"/>
                  <a:pt x="341" y="71"/>
                  <a:pt x="368" y="70"/>
                </a:cubicBezTo>
                <a:cubicBezTo>
                  <a:pt x="368" y="70"/>
                  <a:pt x="368" y="70"/>
                  <a:pt x="368" y="70"/>
                </a:cubicBezTo>
                <a:cubicBezTo>
                  <a:pt x="369" y="69"/>
                  <a:pt x="369" y="69"/>
                  <a:pt x="369" y="69"/>
                </a:cubicBezTo>
                <a:cubicBezTo>
                  <a:pt x="370" y="70"/>
                  <a:pt x="371" y="69"/>
                  <a:pt x="372" y="69"/>
                </a:cubicBezTo>
                <a:cubicBezTo>
                  <a:pt x="376" y="69"/>
                  <a:pt x="383" y="71"/>
                  <a:pt x="387" y="69"/>
                </a:cubicBezTo>
                <a:cubicBezTo>
                  <a:pt x="373" y="68"/>
                  <a:pt x="373" y="68"/>
                  <a:pt x="373" y="68"/>
                </a:cubicBezTo>
                <a:cubicBezTo>
                  <a:pt x="372" y="68"/>
                  <a:pt x="372" y="68"/>
                  <a:pt x="372" y="68"/>
                </a:cubicBezTo>
                <a:cubicBezTo>
                  <a:pt x="374" y="67"/>
                  <a:pt x="374" y="67"/>
                  <a:pt x="374" y="67"/>
                </a:cubicBezTo>
                <a:cubicBezTo>
                  <a:pt x="371" y="67"/>
                  <a:pt x="371" y="67"/>
                  <a:pt x="371" y="67"/>
                </a:cubicBezTo>
                <a:cubicBezTo>
                  <a:pt x="371" y="67"/>
                  <a:pt x="370" y="67"/>
                  <a:pt x="370" y="66"/>
                </a:cubicBezTo>
                <a:cubicBezTo>
                  <a:pt x="371" y="66"/>
                  <a:pt x="373" y="65"/>
                  <a:pt x="374" y="66"/>
                </a:cubicBezTo>
                <a:cubicBezTo>
                  <a:pt x="374" y="66"/>
                  <a:pt x="372" y="66"/>
                  <a:pt x="372" y="66"/>
                </a:cubicBezTo>
                <a:cubicBezTo>
                  <a:pt x="378" y="66"/>
                  <a:pt x="387" y="67"/>
                  <a:pt x="395" y="67"/>
                </a:cubicBezTo>
                <a:cubicBezTo>
                  <a:pt x="394" y="67"/>
                  <a:pt x="394" y="67"/>
                  <a:pt x="394" y="67"/>
                </a:cubicBezTo>
                <a:cubicBezTo>
                  <a:pt x="398" y="68"/>
                  <a:pt x="405" y="68"/>
                  <a:pt x="408" y="67"/>
                </a:cubicBezTo>
                <a:cubicBezTo>
                  <a:pt x="410" y="66"/>
                  <a:pt x="410" y="67"/>
                  <a:pt x="410" y="67"/>
                </a:cubicBezTo>
                <a:cubicBezTo>
                  <a:pt x="412" y="68"/>
                  <a:pt x="411" y="67"/>
                  <a:pt x="412" y="66"/>
                </a:cubicBezTo>
                <a:cubicBezTo>
                  <a:pt x="429" y="66"/>
                  <a:pt x="429" y="66"/>
                  <a:pt x="429" y="66"/>
                </a:cubicBezTo>
                <a:cubicBezTo>
                  <a:pt x="429" y="67"/>
                  <a:pt x="429" y="67"/>
                  <a:pt x="429" y="67"/>
                </a:cubicBezTo>
                <a:cubicBezTo>
                  <a:pt x="424" y="67"/>
                  <a:pt x="419" y="67"/>
                  <a:pt x="414" y="67"/>
                </a:cubicBezTo>
                <a:cubicBezTo>
                  <a:pt x="421" y="68"/>
                  <a:pt x="431" y="68"/>
                  <a:pt x="436" y="67"/>
                </a:cubicBezTo>
                <a:cubicBezTo>
                  <a:pt x="434" y="67"/>
                  <a:pt x="431" y="67"/>
                  <a:pt x="429" y="66"/>
                </a:cubicBezTo>
                <a:cubicBezTo>
                  <a:pt x="440" y="66"/>
                  <a:pt x="453" y="66"/>
                  <a:pt x="465" y="66"/>
                </a:cubicBezTo>
                <a:cubicBezTo>
                  <a:pt x="463" y="65"/>
                  <a:pt x="459" y="66"/>
                  <a:pt x="456" y="65"/>
                </a:cubicBezTo>
                <a:cubicBezTo>
                  <a:pt x="457" y="65"/>
                  <a:pt x="457" y="65"/>
                  <a:pt x="457" y="65"/>
                </a:cubicBezTo>
                <a:cubicBezTo>
                  <a:pt x="455" y="66"/>
                  <a:pt x="453" y="64"/>
                  <a:pt x="451" y="65"/>
                </a:cubicBezTo>
                <a:cubicBezTo>
                  <a:pt x="441" y="65"/>
                  <a:pt x="428" y="65"/>
                  <a:pt x="415" y="65"/>
                </a:cubicBezTo>
                <a:cubicBezTo>
                  <a:pt x="414" y="64"/>
                  <a:pt x="414" y="64"/>
                  <a:pt x="414" y="64"/>
                </a:cubicBezTo>
                <a:cubicBezTo>
                  <a:pt x="413" y="64"/>
                  <a:pt x="413" y="65"/>
                  <a:pt x="411" y="65"/>
                </a:cubicBezTo>
                <a:cubicBezTo>
                  <a:pt x="410" y="63"/>
                  <a:pt x="409" y="66"/>
                  <a:pt x="407" y="64"/>
                </a:cubicBezTo>
                <a:cubicBezTo>
                  <a:pt x="407" y="64"/>
                  <a:pt x="407" y="64"/>
                  <a:pt x="407" y="64"/>
                </a:cubicBezTo>
                <a:cubicBezTo>
                  <a:pt x="403" y="65"/>
                  <a:pt x="397" y="65"/>
                  <a:pt x="393" y="64"/>
                </a:cubicBezTo>
                <a:cubicBezTo>
                  <a:pt x="373" y="64"/>
                  <a:pt x="373" y="64"/>
                  <a:pt x="373" y="64"/>
                </a:cubicBezTo>
                <a:cubicBezTo>
                  <a:pt x="371" y="65"/>
                  <a:pt x="367" y="65"/>
                  <a:pt x="365" y="64"/>
                </a:cubicBezTo>
                <a:cubicBezTo>
                  <a:pt x="367" y="64"/>
                  <a:pt x="367" y="64"/>
                  <a:pt x="367" y="64"/>
                </a:cubicBezTo>
                <a:cubicBezTo>
                  <a:pt x="363" y="64"/>
                  <a:pt x="359" y="63"/>
                  <a:pt x="356" y="64"/>
                </a:cubicBezTo>
                <a:cubicBezTo>
                  <a:pt x="347" y="64"/>
                  <a:pt x="338" y="65"/>
                  <a:pt x="330" y="63"/>
                </a:cubicBezTo>
                <a:cubicBezTo>
                  <a:pt x="344" y="62"/>
                  <a:pt x="354" y="64"/>
                  <a:pt x="368" y="62"/>
                </a:cubicBezTo>
                <a:cubicBezTo>
                  <a:pt x="335" y="62"/>
                  <a:pt x="335" y="62"/>
                  <a:pt x="335" y="62"/>
                </a:cubicBezTo>
                <a:cubicBezTo>
                  <a:pt x="345" y="61"/>
                  <a:pt x="357" y="61"/>
                  <a:pt x="368" y="61"/>
                </a:cubicBezTo>
                <a:cubicBezTo>
                  <a:pt x="369" y="61"/>
                  <a:pt x="369" y="60"/>
                  <a:pt x="370" y="61"/>
                </a:cubicBezTo>
                <a:cubicBezTo>
                  <a:pt x="371" y="59"/>
                  <a:pt x="375" y="60"/>
                  <a:pt x="378" y="60"/>
                </a:cubicBezTo>
                <a:cubicBezTo>
                  <a:pt x="375" y="61"/>
                  <a:pt x="375" y="61"/>
                  <a:pt x="375" y="61"/>
                </a:cubicBezTo>
                <a:cubicBezTo>
                  <a:pt x="382" y="61"/>
                  <a:pt x="391" y="61"/>
                  <a:pt x="399" y="61"/>
                </a:cubicBezTo>
                <a:cubicBezTo>
                  <a:pt x="400" y="60"/>
                  <a:pt x="400" y="60"/>
                  <a:pt x="400" y="60"/>
                </a:cubicBezTo>
                <a:cubicBezTo>
                  <a:pt x="402" y="59"/>
                  <a:pt x="404" y="61"/>
                  <a:pt x="406" y="60"/>
                </a:cubicBezTo>
                <a:cubicBezTo>
                  <a:pt x="406" y="60"/>
                  <a:pt x="406" y="60"/>
                  <a:pt x="406" y="60"/>
                </a:cubicBezTo>
                <a:cubicBezTo>
                  <a:pt x="426" y="61"/>
                  <a:pt x="450" y="60"/>
                  <a:pt x="471" y="60"/>
                </a:cubicBezTo>
                <a:cubicBezTo>
                  <a:pt x="453" y="59"/>
                  <a:pt x="433" y="59"/>
                  <a:pt x="415" y="59"/>
                </a:cubicBezTo>
                <a:cubicBezTo>
                  <a:pt x="415" y="59"/>
                  <a:pt x="415" y="59"/>
                  <a:pt x="415" y="59"/>
                </a:cubicBezTo>
                <a:cubicBezTo>
                  <a:pt x="414" y="59"/>
                  <a:pt x="414" y="59"/>
                  <a:pt x="414" y="59"/>
                </a:cubicBezTo>
                <a:cubicBezTo>
                  <a:pt x="410" y="57"/>
                  <a:pt x="407" y="61"/>
                  <a:pt x="403" y="59"/>
                </a:cubicBezTo>
                <a:cubicBezTo>
                  <a:pt x="396" y="61"/>
                  <a:pt x="390" y="57"/>
                  <a:pt x="383" y="59"/>
                </a:cubicBezTo>
                <a:cubicBezTo>
                  <a:pt x="381" y="58"/>
                  <a:pt x="381" y="58"/>
                  <a:pt x="381" y="58"/>
                </a:cubicBezTo>
                <a:cubicBezTo>
                  <a:pt x="393" y="57"/>
                  <a:pt x="403" y="59"/>
                  <a:pt x="414" y="58"/>
                </a:cubicBezTo>
                <a:cubicBezTo>
                  <a:pt x="404" y="57"/>
                  <a:pt x="404" y="57"/>
                  <a:pt x="404" y="57"/>
                </a:cubicBezTo>
                <a:cubicBezTo>
                  <a:pt x="403" y="57"/>
                  <a:pt x="399" y="58"/>
                  <a:pt x="399" y="56"/>
                </a:cubicBezTo>
                <a:cubicBezTo>
                  <a:pt x="381" y="55"/>
                  <a:pt x="381" y="55"/>
                  <a:pt x="381" y="55"/>
                </a:cubicBezTo>
                <a:cubicBezTo>
                  <a:pt x="380" y="55"/>
                  <a:pt x="379" y="55"/>
                  <a:pt x="379" y="54"/>
                </a:cubicBezTo>
                <a:cubicBezTo>
                  <a:pt x="380" y="54"/>
                  <a:pt x="381" y="54"/>
                  <a:pt x="382" y="54"/>
                </a:cubicBezTo>
                <a:cubicBezTo>
                  <a:pt x="382" y="54"/>
                  <a:pt x="382" y="54"/>
                  <a:pt x="382" y="54"/>
                </a:cubicBezTo>
                <a:cubicBezTo>
                  <a:pt x="382" y="54"/>
                  <a:pt x="381" y="54"/>
                  <a:pt x="381" y="54"/>
                </a:cubicBezTo>
                <a:cubicBezTo>
                  <a:pt x="383" y="54"/>
                  <a:pt x="383" y="54"/>
                  <a:pt x="383" y="54"/>
                </a:cubicBezTo>
                <a:cubicBezTo>
                  <a:pt x="383" y="54"/>
                  <a:pt x="383" y="54"/>
                  <a:pt x="382" y="54"/>
                </a:cubicBezTo>
                <a:cubicBezTo>
                  <a:pt x="383" y="54"/>
                  <a:pt x="383" y="54"/>
                  <a:pt x="383" y="54"/>
                </a:cubicBezTo>
                <a:cubicBezTo>
                  <a:pt x="384" y="54"/>
                  <a:pt x="387" y="53"/>
                  <a:pt x="388" y="54"/>
                </a:cubicBezTo>
                <a:cubicBezTo>
                  <a:pt x="388" y="54"/>
                  <a:pt x="388" y="54"/>
                  <a:pt x="388" y="54"/>
                </a:cubicBezTo>
                <a:cubicBezTo>
                  <a:pt x="426" y="54"/>
                  <a:pt x="426" y="54"/>
                  <a:pt x="426" y="54"/>
                </a:cubicBezTo>
                <a:cubicBezTo>
                  <a:pt x="425" y="53"/>
                  <a:pt x="425" y="53"/>
                  <a:pt x="425" y="53"/>
                </a:cubicBezTo>
                <a:cubicBezTo>
                  <a:pt x="407" y="52"/>
                  <a:pt x="386" y="52"/>
                  <a:pt x="368" y="51"/>
                </a:cubicBezTo>
                <a:cubicBezTo>
                  <a:pt x="366" y="51"/>
                  <a:pt x="360" y="51"/>
                  <a:pt x="362" y="49"/>
                </a:cubicBezTo>
                <a:cubicBezTo>
                  <a:pt x="364" y="50"/>
                  <a:pt x="365" y="48"/>
                  <a:pt x="367" y="49"/>
                </a:cubicBezTo>
                <a:cubicBezTo>
                  <a:pt x="366" y="49"/>
                  <a:pt x="366" y="49"/>
                  <a:pt x="366" y="49"/>
                </a:cubicBezTo>
                <a:cubicBezTo>
                  <a:pt x="367" y="49"/>
                  <a:pt x="367" y="49"/>
                  <a:pt x="367" y="49"/>
                </a:cubicBezTo>
                <a:cubicBezTo>
                  <a:pt x="367" y="49"/>
                  <a:pt x="367" y="49"/>
                  <a:pt x="367" y="49"/>
                </a:cubicBezTo>
                <a:cubicBezTo>
                  <a:pt x="368" y="49"/>
                  <a:pt x="368" y="49"/>
                  <a:pt x="368" y="49"/>
                </a:cubicBezTo>
                <a:cubicBezTo>
                  <a:pt x="383" y="49"/>
                  <a:pt x="383" y="49"/>
                  <a:pt x="383" y="49"/>
                </a:cubicBezTo>
                <a:cubicBezTo>
                  <a:pt x="387" y="48"/>
                  <a:pt x="387" y="48"/>
                  <a:pt x="387" y="48"/>
                </a:cubicBezTo>
                <a:cubicBezTo>
                  <a:pt x="381" y="48"/>
                  <a:pt x="375" y="48"/>
                  <a:pt x="369" y="48"/>
                </a:cubicBezTo>
                <a:cubicBezTo>
                  <a:pt x="368" y="47"/>
                  <a:pt x="368" y="47"/>
                  <a:pt x="368" y="47"/>
                </a:cubicBezTo>
                <a:cubicBezTo>
                  <a:pt x="372" y="46"/>
                  <a:pt x="378" y="47"/>
                  <a:pt x="381" y="46"/>
                </a:cubicBezTo>
                <a:cubicBezTo>
                  <a:pt x="376" y="45"/>
                  <a:pt x="373" y="46"/>
                  <a:pt x="368" y="46"/>
                </a:cubicBezTo>
                <a:cubicBezTo>
                  <a:pt x="368" y="45"/>
                  <a:pt x="368" y="45"/>
                  <a:pt x="368" y="45"/>
                </a:cubicBezTo>
                <a:cubicBezTo>
                  <a:pt x="368" y="45"/>
                  <a:pt x="369" y="45"/>
                  <a:pt x="370" y="45"/>
                </a:cubicBezTo>
                <a:cubicBezTo>
                  <a:pt x="372" y="43"/>
                  <a:pt x="375" y="44"/>
                  <a:pt x="378" y="44"/>
                </a:cubicBezTo>
                <a:cubicBezTo>
                  <a:pt x="382" y="44"/>
                  <a:pt x="385" y="44"/>
                  <a:pt x="388" y="44"/>
                </a:cubicBezTo>
                <a:cubicBezTo>
                  <a:pt x="391" y="43"/>
                  <a:pt x="397" y="44"/>
                  <a:pt x="400" y="44"/>
                </a:cubicBezTo>
                <a:cubicBezTo>
                  <a:pt x="400" y="44"/>
                  <a:pt x="399" y="44"/>
                  <a:pt x="399" y="44"/>
                </a:cubicBezTo>
                <a:cubicBezTo>
                  <a:pt x="400" y="43"/>
                  <a:pt x="400" y="42"/>
                  <a:pt x="402" y="42"/>
                </a:cubicBezTo>
                <a:cubicBezTo>
                  <a:pt x="403" y="42"/>
                  <a:pt x="404" y="42"/>
                  <a:pt x="404" y="43"/>
                </a:cubicBezTo>
                <a:cubicBezTo>
                  <a:pt x="405" y="43"/>
                  <a:pt x="407" y="43"/>
                  <a:pt x="408" y="43"/>
                </a:cubicBezTo>
                <a:cubicBezTo>
                  <a:pt x="408" y="42"/>
                  <a:pt x="408" y="42"/>
                  <a:pt x="408" y="42"/>
                </a:cubicBezTo>
                <a:cubicBezTo>
                  <a:pt x="409" y="43"/>
                  <a:pt x="411" y="42"/>
                  <a:pt x="412" y="43"/>
                </a:cubicBezTo>
                <a:cubicBezTo>
                  <a:pt x="412" y="43"/>
                  <a:pt x="412" y="43"/>
                  <a:pt x="412" y="43"/>
                </a:cubicBezTo>
                <a:cubicBezTo>
                  <a:pt x="419" y="43"/>
                  <a:pt x="428" y="44"/>
                  <a:pt x="435" y="43"/>
                </a:cubicBezTo>
                <a:cubicBezTo>
                  <a:pt x="437" y="43"/>
                  <a:pt x="445" y="43"/>
                  <a:pt x="450" y="43"/>
                </a:cubicBezTo>
                <a:cubicBezTo>
                  <a:pt x="451" y="42"/>
                  <a:pt x="451" y="42"/>
                  <a:pt x="451" y="42"/>
                </a:cubicBezTo>
                <a:cubicBezTo>
                  <a:pt x="435" y="42"/>
                  <a:pt x="435" y="42"/>
                  <a:pt x="435" y="42"/>
                </a:cubicBezTo>
                <a:cubicBezTo>
                  <a:pt x="434" y="42"/>
                  <a:pt x="434" y="42"/>
                  <a:pt x="434" y="42"/>
                </a:cubicBezTo>
                <a:cubicBezTo>
                  <a:pt x="424" y="42"/>
                  <a:pt x="424" y="42"/>
                  <a:pt x="424" y="42"/>
                </a:cubicBezTo>
                <a:cubicBezTo>
                  <a:pt x="414" y="40"/>
                  <a:pt x="402" y="40"/>
                  <a:pt x="391" y="40"/>
                </a:cubicBezTo>
                <a:cubicBezTo>
                  <a:pt x="385" y="39"/>
                  <a:pt x="379" y="39"/>
                  <a:pt x="373" y="38"/>
                </a:cubicBezTo>
                <a:cubicBezTo>
                  <a:pt x="380" y="36"/>
                  <a:pt x="388" y="37"/>
                  <a:pt x="396" y="36"/>
                </a:cubicBezTo>
                <a:cubicBezTo>
                  <a:pt x="390" y="35"/>
                  <a:pt x="382" y="36"/>
                  <a:pt x="376" y="35"/>
                </a:cubicBezTo>
                <a:cubicBezTo>
                  <a:pt x="402" y="35"/>
                  <a:pt x="431" y="37"/>
                  <a:pt x="459" y="36"/>
                </a:cubicBezTo>
                <a:cubicBezTo>
                  <a:pt x="460" y="35"/>
                  <a:pt x="460" y="35"/>
                  <a:pt x="460" y="35"/>
                </a:cubicBezTo>
                <a:cubicBezTo>
                  <a:pt x="452" y="34"/>
                  <a:pt x="443" y="35"/>
                  <a:pt x="435" y="34"/>
                </a:cubicBezTo>
                <a:cubicBezTo>
                  <a:pt x="435" y="33"/>
                  <a:pt x="435" y="33"/>
                  <a:pt x="435" y="33"/>
                </a:cubicBezTo>
                <a:cubicBezTo>
                  <a:pt x="445" y="33"/>
                  <a:pt x="445" y="33"/>
                  <a:pt x="445" y="33"/>
                </a:cubicBezTo>
                <a:cubicBezTo>
                  <a:pt x="429" y="32"/>
                  <a:pt x="414" y="31"/>
                  <a:pt x="397" y="32"/>
                </a:cubicBezTo>
                <a:cubicBezTo>
                  <a:pt x="395" y="31"/>
                  <a:pt x="393" y="31"/>
                  <a:pt x="391" y="30"/>
                </a:cubicBezTo>
                <a:cubicBezTo>
                  <a:pt x="410" y="30"/>
                  <a:pt x="428" y="32"/>
                  <a:pt x="445" y="31"/>
                </a:cubicBezTo>
                <a:cubicBezTo>
                  <a:pt x="439" y="31"/>
                  <a:pt x="434" y="30"/>
                  <a:pt x="428" y="30"/>
                </a:cubicBezTo>
                <a:cubicBezTo>
                  <a:pt x="426" y="30"/>
                  <a:pt x="426" y="30"/>
                  <a:pt x="426" y="30"/>
                </a:cubicBezTo>
                <a:cubicBezTo>
                  <a:pt x="428" y="29"/>
                  <a:pt x="428" y="29"/>
                  <a:pt x="428" y="29"/>
                </a:cubicBezTo>
                <a:cubicBezTo>
                  <a:pt x="449" y="29"/>
                  <a:pt x="449" y="29"/>
                  <a:pt x="449" y="29"/>
                </a:cubicBezTo>
                <a:cubicBezTo>
                  <a:pt x="449" y="29"/>
                  <a:pt x="449" y="29"/>
                  <a:pt x="449" y="29"/>
                </a:cubicBezTo>
                <a:cubicBezTo>
                  <a:pt x="432" y="28"/>
                  <a:pt x="415" y="28"/>
                  <a:pt x="398" y="27"/>
                </a:cubicBezTo>
                <a:cubicBezTo>
                  <a:pt x="399" y="26"/>
                  <a:pt x="399" y="26"/>
                  <a:pt x="399" y="26"/>
                </a:cubicBezTo>
                <a:cubicBezTo>
                  <a:pt x="417" y="24"/>
                  <a:pt x="432" y="30"/>
                  <a:pt x="449" y="27"/>
                </a:cubicBezTo>
                <a:cubicBezTo>
                  <a:pt x="444" y="26"/>
                  <a:pt x="440" y="27"/>
                  <a:pt x="436" y="26"/>
                </a:cubicBezTo>
                <a:cubicBezTo>
                  <a:pt x="445" y="26"/>
                  <a:pt x="455" y="25"/>
                  <a:pt x="464" y="25"/>
                </a:cubicBezTo>
                <a:cubicBezTo>
                  <a:pt x="463" y="23"/>
                  <a:pt x="471" y="25"/>
                  <a:pt x="474" y="23"/>
                </a:cubicBezTo>
                <a:cubicBezTo>
                  <a:pt x="461" y="23"/>
                  <a:pt x="447" y="23"/>
                  <a:pt x="435" y="22"/>
                </a:cubicBezTo>
                <a:cubicBezTo>
                  <a:pt x="438" y="21"/>
                  <a:pt x="441" y="21"/>
                  <a:pt x="444" y="21"/>
                </a:cubicBezTo>
                <a:cubicBezTo>
                  <a:pt x="443" y="21"/>
                  <a:pt x="443" y="21"/>
                  <a:pt x="443" y="20"/>
                </a:cubicBezTo>
                <a:cubicBezTo>
                  <a:pt x="443" y="20"/>
                  <a:pt x="443" y="20"/>
                  <a:pt x="443" y="20"/>
                </a:cubicBezTo>
                <a:cubicBezTo>
                  <a:pt x="452" y="20"/>
                  <a:pt x="460" y="21"/>
                  <a:pt x="468" y="19"/>
                </a:cubicBezTo>
                <a:cubicBezTo>
                  <a:pt x="464" y="19"/>
                  <a:pt x="460" y="19"/>
                  <a:pt x="457" y="18"/>
                </a:cubicBezTo>
                <a:cubicBezTo>
                  <a:pt x="457" y="18"/>
                  <a:pt x="458" y="17"/>
                  <a:pt x="458" y="17"/>
                </a:cubicBezTo>
                <a:cubicBezTo>
                  <a:pt x="457" y="17"/>
                  <a:pt x="455" y="17"/>
                  <a:pt x="454" y="16"/>
                </a:cubicBezTo>
                <a:cubicBezTo>
                  <a:pt x="455" y="15"/>
                  <a:pt x="455" y="15"/>
                  <a:pt x="455" y="15"/>
                </a:cubicBezTo>
                <a:cubicBezTo>
                  <a:pt x="459" y="17"/>
                  <a:pt x="463" y="15"/>
                  <a:pt x="467" y="15"/>
                </a:cubicBezTo>
                <a:cubicBezTo>
                  <a:pt x="446" y="13"/>
                  <a:pt x="446" y="13"/>
                  <a:pt x="446" y="13"/>
                </a:cubicBezTo>
                <a:cubicBezTo>
                  <a:pt x="457" y="13"/>
                  <a:pt x="467" y="13"/>
                  <a:pt x="478" y="13"/>
                </a:cubicBezTo>
                <a:close/>
                <a:moveTo>
                  <a:pt x="20" y="46"/>
                </a:moveTo>
                <a:cubicBezTo>
                  <a:pt x="22" y="46"/>
                  <a:pt x="22" y="46"/>
                  <a:pt x="22" y="46"/>
                </a:cubicBezTo>
                <a:cubicBezTo>
                  <a:pt x="22" y="46"/>
                  <a:pt x="22" y="46"/>
                  <a:pt x="22" y="46"/>
                </a:cubicBezTo>
                <a:lnTo>
                  <a:pt x="20" y="46"/>
                </a:lnTo>
                <a:close/>
                <a:moveTo>
                  <a:pt x="224" y="74"/>
                </a:moveTo>
                <a:cubicBezTo>
                  <a:pt x="214" y="74"/>
                  <a:pt x="214" y="74"/>
                  <a:pt x="214" y="74"/>
                </a:cubicBezTo>
                <a:cubicBezTo>
                  <a:pt x="213" y="74"/>
                  <a:pt x="213" y="74"/>
                  <a:pt x="212" y="74"/>
                </a:cubicBezTo>
                <a:cubicBezTo>
                  <a:pt x="214" y="74"/>
                  <a:pt x="214" y="74"/>
                  <a:pt x="214" y="74"/>
                </a:cubicBezTo>
                <a:cubicBezTo>
                  <a:pt x="216" y="74"/>
                  <a:pt x="217" y="73"/>
                  <a:pt x="218" y="73"/>
                </a:cubicBezTo>
                <a:cubicBezTo>
                  <a:pt x="234" y="73"/>
                  <a:pt x="234" y="73"/>
                  <a:pt x="234" y="73"/>
                </a:cubicBezTo>
                <a:cubicBezTo>
                  <a:pt x="234" y="73"/>
                  <a:pt x="234" y="73"/>
                  <a:pt x="235" y="73"/>
                </a:cubicBezTo>
                <a:cubicBezTo>
                  <a:pt x="234" y="73"/>
                  <a:pt x="234" y="73"/>
                  <a:pt x="234" y="73"/>
                </a:cubicBezTo>
                <a:cubicBezTo>
                  <a:pt x="230" y="73"/>
                  <a:pt x="227" y="73"/>
                  <a:pt x="224" y="74"/>
                </a:cubicBezTo>
                <a:close/>
                <a:moveTo>
                  <a:pt x="380" y="69"/>
                </a:moveTo>
                <a:cubicBezTo>
                  <a:pt x="379" y="69"/>
                  <a:pt x="378" y="69"/>
                  <a:pt x="377" y="69"/>
                </a:cubicBezTo>
                <a:cubicBezTo>
                  <a:pt x="377" y="69"/>
                  <a:pt x="379" y="69"/>
                  <a:pt x="380" y="69"/>
                </a:cubicBezTo>
                <a:close/>
                <a:moveTo>
                  <a:pt x="367" y="70"/>
                </a:moveTo>
                <a:cubicBezTo>
                  <a:pt x="364" y="70"/>
                  <a:pt x="364" y="70"/>
                  <a:pt x="364" y="70"/>
                </a:cubicBezTo>
                <a:cubicBezTo>
                  <a:pt x="364" y="70"/>
                  <a:pt x="364" y="70"/>
                  <a:pt x="364" y="70"/>
                </a:cubicBezTo>
                <a:cubicBezTo>
                  <a:pt x="364" y="70"/>
                  <a:pt x="364" y="70"/>
                  <a:pt x="364" y="70"/>
                </a:cubicBezTo>
                <a:cubicBezTo>
                  <a:pt x="365" y="70"/>
                  <a:pt x="366" y="69"/>
                  <a:pt x="367" y="70"/>
                </a:cubicBezTo>
                <a:close/>
                <a:moveTo>
                  <a:pt x="415" y="11"/>
                </a:moveTo>
                <a:cubicBezTo>
                  <a:pt x="410" y="11"/>
                  <a:pt x="410" y="11"/>
                  <a:pt x="410" y="11"/>
                </a:cubicBezTo>
                <a:cubicBezTo>
                  <a:pt x="411" y="11"/>
                  <a:pt x="413" y="11"/>
                  <a:pt x="415" y="11"/>
                </a:cubicBezTo>
                <a:cubicBezTo>
                  <a:pt x="419" y="11"/>
                  <a:pt x="419" y="11"/>
                  <a:pt x="419" y="11"/>
                </a:cubicBezTo>
                <a:cubicBezTo>
                  <a:pt x="417" y="12"/>
                  <a:pt x="416" y="11"/>
                  <a:pt x="415" y="11"/>
                </a:cubicBezTo>
                <a:close/>
                <a:moveTo>
                  <a:pt x="422" y="12"/>
                </a:moveTo>
                <a:cubicBezTo>
                  <a:pt x="428" y="12"/>
                  <a:pt x="433" y="12"/>
                  <a:pt x="439" y="13"/>
                </a:cubicBezTo>
                <a:cubicBezTo>
                  <a:pt x="433" y="12"/>
                  <a:pt x="428" y="12"/>
                  <a:pt x="422" y="12"/>
                </a:cubicBezTo>
                <a:close/>
              </a:path>
            </a:pathLst>
          </a:custGeom>
          <a:solidFill>
            <a:srgbClr val="2c3c5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192"/>
          <p:cNvSpPr/>
          <p:nvPr/>
        </p:nvSpPr>
        <p:spPr>
          <a:xfrm>
            <a:off x="8012160" y="1782720"/>
            <a:ext cx="2787480" cy="438120"/>
          </a:xfrm>
          <a:custGeom>
            <a:avLst/>
            <a:gdLst>
              <a:gd name="textAreaLeft" fmla="*/ 0 w 2787480"/>
              <a:gd name="textAreaRight" fmla="*/ 2787840 w 2787480"/>
              <a:gd name="textAreaTop" fmla="*/ 0 h 438120"/>
              <a:gd name="textAreaBottom" fmla="*/ 438480 h 438120"/>
            </a:gdLst>
            <a:ahLst/>
            <a:rect l="textAreaLeft" t="textAreaTop" r="textAreaRight" b="textAreaBottom"/>
            <a:pathLst>
              <a:path w="478" h="77">
                <a:moveTo>
                  <a:pt x="478" y="13"/>
                </a:moveTo>
                <a:cubicBezTo>
                  <a:pt x="472" y="13"/>
                  <a:pt x="468" y="13"/>
                  <a:pt x="462" y="12"/>
                </a:cubicBezTo>
                <a:cubicBezTo>
                  <a:pt x="461" y="11"/>
                  <a:pt x="465" y="12"/>
                  <a:pt x="464" y="11"/>
                </a:cubicBezTo>
                <a:cubicBezTo>
                  <a:pt x="434" y="9"/>
                  <a:pt x="403" y="9"/>
                  <a:pt x="373" y="7"/>
                </a:cubicBezTo>
                <a:cubicBezTo>
                  <a:pt x="402" y="6"/>
                  <a:pt x="431" y="10"/>
                  <a:pt x="460" y="10"/>
                </a:cubicBezTo>
                <a:cubicBezTo>
                  <a:pt x="436" y="6"/>
                  <a:pt x="407" y="7"/>
                  <a:pt x="381" y="5"/>
                </a:cubicBezTo>
                <a:cubicBezTo>
                  <a:pt x="288" y="3"/>
                  <a:pt x="288" y="3"/>
                  <a:pt x="288" y="3"/>
                </a:cubicBezTo>
                <a:cubicBezTo>
                  <a:pt x="222" y="3"/>
                  <a:pt x="222" y="3"/>
                  <a:pt x="222" y="3"/>
                </a:cubicBezTo>
                <a:cubicBezTo>
                  <a:pt x="130" y="4"/>
                  <a:pt x="130" y="4"/>
                  <a:pt x="130" y="4"/>
                </a:cubicBezTo>
                <a:cubicBezTo>
                  <a:pt x="130" y="3"/>
                  <a:pt x="130" y="3"/>
                  <a:pt x="130" y="3"/>
                </a:cubicBezTo>
                <a:cubicBezTo>
                  <a:pt x="127" y="2"/>
                  <a:pt x="125" y="3"/>
                  <a:pt x="123" y="3"/>
                </a:cubicBezTo>
                <a:cubicBezTo>
                  <a:pt x="124" y="3"/>
                  <a:pt x="125" y="3"/>
                  <a:pt x="125" y="4"/>
                </a:cubicBezTo>
                <a:cubicBezTo>
                  <a:pt x="122" y="4"/>
                  <a:pt x="118" y="3"/>
                  <a:pt x="115" y="4"/>
                </a:cubicBezTo>
                <a:cubicBezTo>
                  <a:pt x="112" y="3"/>
                  <a:pt x="107" y="4"/>
                  <a:pt x="102" y="3"/>
                </a:cubicBezTo>
                <a:cubicBezTo>
                  <a:pt x="100" y="2"/>
                  <a:pt x="98" y="2"/>
                  <a:pt x="95" y="2"/>
                </a:cubicBezTo>
                <a:cubicBezTo>
                  <a:pt x="70" y="2"/>
                  <a:pt x="50" y="0"/>
                  <a:pt x="24" y="1"/>
                </a:cubicBezTo>
                <a:cubicBezTo>
                  <a:pt x="18" y="2"/>
                  <a:pt x="10" y="1"/>
                  <a:pt x="6" y="4"/>
                </a:cubicBezTo>
                <a:cubicBezTo>
                  <a:pt x="6" y="5"/>
                  <a:pt x="8" y="5"/>
                  <a:pt x="8" y="5"/>
                </a:cubicBezTo>
                <a:cubicBezTo>
                  <a:pt x="7" y="5"/>
                  <a:pt x="6" y="6"/>
                  <a:pt x="5" y="5"/>
                </a:cubicBezTo>
                <a:cubicBezTo>
                  <a:pt x="5" y="5"/>
                  <a:pt x="5" y="5"/>
                  <a:pt x="5" y="5"/>
                </a:cubicBezTo>
                <a:cubicBezTo>
                  <a:pt x="0" y="6"/>
                  <a:pt x="0" y="6"/>
                  <a:pt x="0" y="6"/>
                </a:cubicBezTo>
                <a:cubicBezTo>
                  <a:pt x="2" y="7"/>
                  <a:pt x="2" y="7"/>
                  <a:pt x="2" y="7"/>
                </a:cubicBezTo>
                <a:cubicBezTo>
                  <a:pt x="2" y="7"/>
                  <a:pt x="2" y="7"/>
                  <a:pt x="2" y="7"/>
                </a:cubicBezTo>
                <a:cubicBezTo>
                  <a:pt x="4" y="8"/>
                  <a:pt x="4" y="8"/>
                  <a:pt x="4" y="8"/>
                </a:cubicBezTo>
                <a:cubicBezTo>
                  <a:pt x="3" y="8"/>
                  <a:pt x="1" y="9"/>
                  <a:pt x="0" y="9"/>
                </a:cubicBezTo>
                <a:cubicBezTo>
                  <a:pt x="0" y="11"/>
                  <a:pt x="0" y="13"/>
                  <a:pt x="3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5"/>
                  <a:pt x="2" y="15"/>
                  <a:pt x="3" y="15"/>
                </a:cubicBezTo>
                <a:cubicBezTo>
                  <a:pt x="1" y="17"/>
                  <a:pt x="1" y="17"/>
                  <a:pt x="1" y="17"/>
                </a:cubicBezTo>
                <a:cubicBezTo>
                  <a:pt x="2" y="17"/>
                  <a:pt x="2" y="17"/>
                  <a:pt x="2" y="17"/>
                </a:cubicBezTo>
                <a:cubicBezTo>
                  <a:pt x="1" y="18"/>
                  <a:pt x="1" y="18"/>
                  <a:pt x="1" y="18"/>
                </a:cubicBezTo>
                <a:cubicBezTo>
                  <a:pt x="3" y="18"/>
                  <a:pt x="1" y="19"/>
                  <a:pt x="1" y="19"/>
                </a:cubicBezTo>
                <a:cubicBezTo>
                  <a:pt x="4" y="20"/>
                  <a:pt x="4" y="20"/>
                  <a:pt x="4" y="20"/>
                </a:cubicBezTo>
                <a:cubicBezTo>
                  <a:pt x="5" y="21"/>
                  <a:pt x="2" y="20"/>
                  <a:pt x="2" y="20"/>
                </a:cubicBezTo>
                <a:cubicBezTo>
                  <a:pt x="3" y="21"/>
                  <a:pt x="5" y="21"/>
                  <a:pt x="6" y="21"/>
                </a:cubicBezTo>
                <a:cubicBezTo>
                  <a:pt x="5" y="22"/>
                  <a:pt x="3" y="21"/>
                  <a:pt x="1" y="21"/>
                </a:cubicBezTo>
                <a:cubicBezTo>
                  <a:pt x="1" y="22"/>
                  <a:pt x="1" y="22"/>
                  <a:pt x="1" y="22"/>
                </a:cubicBezTo>
                <a:cubicBezTo>
                  <a:pt x="2" y="24"/>
                  <a:pt x="6" y="24"/>
                  <a:pt x="10" y="24"/>
                </a:cubicBezTo>
                <a:cubicBezTo>
                  <a:pt x="7" y="25"/>
                  <a:pt x="5" y="25"/>
                  <a:pt x="2" y="25"/>
                </a:cubicBezTo>
                <a:cubicBezTo>
                  <a:pt x="2" y="26"/>
                  <a:pt x="2" y="26"/>
                  <a:pt x="2" y="26"/>
                </a:cubicBezTo>
                <a:cubicBezTo>
                  <a:pt x="3" y="27"/>
                  <a:pt x="5" y="26"/>
                  <a:pt x="5" y="27"/>
                </a:cubicBezTo>
                <a:cubicBezTo>
                  <a:pt x="10" y="27"/>
                  <a:pt x="10" y="27"/>
                  <a:pt x="10" y="27"/>
                </a:cubicBezTo>
                <a:cubicBezTo>
                  <a:pt x="9" y="27"/>
                  <a:pt x="9" y="27"/>
                  <a:pt x="9" y="27"/>
                </a:cubicBezTo>
                <a:cubicBezTo>
                  <a:pt x="9" y="26"/>
                  <a:pt x="10" y="26"/>
                  <a:pt x="11" y="26"/>
                </a:cubicBezTo>
                <a:cubicBezTo>
                  <a:pt x="15" y="26"/>
                  <a:pt x="12" y="30"/>
                  <a:pt x="14" y="30"/>
                </a:cubicBezTo>
                <a:cubicBezTo>
                  <a:pt x="12" y="32"/>
                  <a:pt x="9" y="30"/>
                  <a:pt x="6" y="31"/>
                </a:cubicBezTo>
                <a:cubicBezTo>
                  <a:pt x="9" y="32"/>
                  <a:pt x="12" y="31"/>
                  <a:pt x="16" y="31"/>
                </a:cubicBezTo>
                <a:cubicBezTo>
                  <a:pt x="17" y="34"/>
                  <a:pt x="17" y="34"/>
                  <a:pt x="17" y="34"/>
                </a:cubicBezTo>
                <a:cubicBezTo>
                  <a:pt x="14" y="35"/>
                  <a:pt x="14" y="35"/>
                  <a:pt x="14" y="35"/>
                </a:cubicBezTo>
                <a:cubicBezTo>
                  <a:pt x="21" y="35"/>
                  <a:pt x="21" y="35"/>
                  <a:pt x="21" y="35"/>
                </a:cubicBezTo>
                <a:cubicBezTo>
                  <a:pt x="22" y="35"/>
                  <a:pt x="23" y="35"/>
                  <a:pt x="23" y="36"/>
                </a:cubicBezTo>
                <a:cubicBezTo>
                  <a:pt x="23" y="37"/>
                  <a:pt x="22" y="37"/>
                  <a:pt x="21" y="37"/>
                </a:cubicBezTo>
                <a:cubicBezTo>
                  <a:pt x="18" y="41"/>
                  <a:pt x="11" y="37"/>
                  <a:pt x="6" y="38"/>
                </a:cubicBezTo>
                <a:cubicBezTo>
                  <a:pt x="7" y="39"/>
                  <a:pt x="10" y="39"/>
                  <a:pt x="12" y="40"/>
                </a:cubicBezTo>
                <a:cubicBezTo>
                  <a:pt x="16" y="39"/>
                  <a:pt x="18" y="38"/>
                  <a:pt x="21" y="39"/>
                </a:cubicBezTo>
                <a:cubicBezTo>
                  <a:pt x="19" y="40"/>
                  <a:pt x="19" y="40"/>
                  <a:pt x="19" y="40"/>
                </a:cubicBezTo>
                <a:cubicBezTo>
                  <a:pt x="20" y="40"/>
                  <a:pt x="20" y="40"/>
                  <a:pt x="20" y="40"/>
                </a:cubicBezTo>
                <a:cubicBezTo>
                  <a:pt x="20" y="40"/>
                  <a:pt x="21" y="40"/>
                  <a:pt x="21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9" y="41"/>
                  <a:pt x="19" y="41"/>
                  <a:pt x="19" y="41"/>
                </a:cubicBezTo>
                <a:cubicBezTo>
                  <a:pt x="20" y="41"/>
                  <a:pt x="21" y="42"/>
                  <a:pt x="22" y="41"/>
                </a:cubicBezTo>
                <a:cubicBezTo>
                  <a:pt x="22" y="43"/>
                  <a:pt x="22" y="43"/>
                  <a:pt x="22" y="43"/>
                </a:cubicBezTo>
                <a:cubicBezTo>
                  <a:pt x="20" y="44"/>
                  <a:pt x="22" y="46"/>
                  <a:pt x="19" y="46"/>
                </a:cubicBezTo>
                <a:cubicBezTo>
                  <a:pt x="20" y="46"/>
                  <a:pt x="20" y="46"/>
                  <a:pt x="20" y="46"/>
                </a:cubicBezTo>
                <a:cubicBezTo>
                  <a:pt x="16" y="47"/>
                  <a:pt x="12" y="44"/>
                  <a:pt x="9" y="46"/>
                </a:cubicBezTo>
                <a:cubicBezTo>
                  <a:pt x="13" y="47"/>
                  <a:pt x="19" y="46"/>
                  <a:pt x="23" y="48"/>
                </a:cubicBezTo>
                <a:cubicBezTo>
                  <a:pt x="22" y="49"/>
                  <a:pt x="22" y="49"/>
                  <a:pt x="22" y="49"/>
                </a:cubicBezTo>
                <a:cubicBezTo>
                  <a:pt x="21" y="48"/>
                  <a:pt x="21" y="48"/>
                  <a:pt x="21" y="48"/>
                </a:cubicBezTo>
                <a:cubicBezTo>
                  <a:pt x="19" y="48"/>
                  <a:pt x="17" y="49"/>
                  <a:pt x="16" y="49"/>
                </a:cubicBezTo>
                <a:cubicBezTo>
                  <a:pt x="17" y="49"/>
                  <a:pt x="19" y="49"/>
                  <a:pt x="20" y="49"/>
                </a:cubicBezTo>
                <a:cubicBezTo>
                  <a:pt x="22" y="50"/>
                  <a:pt x="25" y="51"/>
                  <a:pt x="24" y="53"/>
                </a:cubicBezTo>
                <a:cubicBezTo>
                  <a:pt x="19" y="53"/>
                  <a:pt x="19" y="53"/>
                  <a:pt x="19" y="53"/>
                </a:cubicBezTo>
                <a:cubicBezTo>
                  <a:pt x="26" y="55"/>
                  <a:pt x="26" y="55"/>
                  <a:pt x="26" y="55"/>
                </a:cubicBezTo>
                <a:cubicBezTo>
                  <a:pt x="25" y="57"/>
                  <a:pt x="29" y="58"/>
                  <a:pt x="30" y="59"/>
                </a:cubicBezTo>
                <a:cubicBezTo>
                  <a:pt x="29" y="60"/>
                  <a:pt x="27" y="59"/>
                  <a:pt x="26" y="60"/>
                </a:cubicBezTo>
                <a:cubicBezTo>
                  <a:pt x="22" y="61"/>
                  <a:pt x="28" y="62"/>
                  <a:pt x="26" y="64"/>
                </a:cubicBezTo>
                <a:cubicBezTo>
                  <a:pt x="27" y="64"/>
                  <a:pt x="29" y="64"/>
                  <a:pt x="30" y="65"/>
                </a:cubicBezTo>
                <a:cubicBezTo>
                  <a:pt x="30" y="65"/>
                  <a:pt x="29" y="66"/>
                  <a:pt x="29" y="66"/>
                </a:cubicBezTo>
                <a:cubicBezTo>
                  <a:pt x="25" y="64"/>
                  <a:pt x="21" y="63"/>
                  <a:pt x="17" y="63"/>
                </a:cubicBezTo>
                <a:cubicBezTo>
                  <a:pt x="22" y="66"/>
                  <a:pt x="22" y="66"/>
                  <a:pt x="22" y="66"/>
                </a:cubicBezTo>
                <a:cubicBezTo>
                  <a:pt x="30" y="66"/>
                  <a:pt x="36" y="70"/>
                  <a:pt x="44" y="70"/>
                </a:cubicBezTo>
                <a:cubicBezTo>
                  <a:pt x="51" y="73"/>
                  <a:pt x="61" y="73"/>
                  <a:pt x="70" y="75"/>
                </a:cubicBezTo>
                <a:cubicBezTo>
                  <a:pt x="82" y="75"/>
                  <a:pt x="93" y="77"/>
                  <a:pt x="104" y="77"/>
                </a:cubicBezTo>
                <a:cubicBezTo>
                  <a:pt x="123" y="76"/>
                  <a:pt x="142" y="76"/>
                  <a:pt x="161" y="76"/>
                </a:cubicBezTo>
                <a:cubicBezTo>
                  <a:pt x="258" y="76"/>
                  <a:pt x="258" y="76"/>
                  <a:pt x="258" y="76"/>
                </a:cubicBezTo>
                <a:cubicBezTo>
                  <a:pt x="286" y="75"/>
                  <a:pt x="315" y="77"/>
                  <a:pt x="341" y="75"/>
                </a:cubicBezTo>
                <a:cubicBezTo>
                  <a:pt x="336" y="75"/>
                  <a:pt x="331" y="74"/>
                  <a:pt x="326" y="75"/>
                </a:cubicBezTo>
                <a:cubicBezTo>
                  <a:pt x="323" y="75"/>
                  <a:pt x="321" y="74"/>
                  <a:pt x="319" y="75"/>
                </a:cubicBezTo>
                <a:cubicBezTo>
                  <a:pt x="316" y="75"/>
                  <a:pt x="313" y="75"/>
                  <a:pt x="311" y="74"/>
                </a:cubicBezTo>
                <a:cubicBezTo>
                  <a:pt x="280" y="74"/>
                  <a:pt x="280" y="74"/>
                  <a:pt x="280" y="74"/>
                </a:cubicBezTo>
                <a:cubicBezTo>
                  <a:pt x="279" y="74"/>
                  <a:pt x="279" y="74"/>
                  <a:pt x="279" y="74"/>
                </a:cubicBezTo>
                <a:cubicBezTo>
                  <a:pt x="276" y="74"/>
                  <a:pt x="272" y="75"/>
                  <a:pt x="270" y="74"/>
                </a:cubicBezTo>
                <a:cubicBezTo>
                  <a:pt x="271" y="73"/>
                  <a:pt x="271" y="73"/>
                  <a:pt x="271" y="73"/>
                </a:cubicBezTo>
                <a:cubicBezTo>
                  <a:pt x="401" y="73"/>
                  <a:pt x="401" y="73"/>
                  <a:pt x="401" y="73"/>
                </a:cubicBezTo>
                <a:cubicBezTo>
                  <a:pt x="415" y="72"/>
                  <a:pt x="415" y="72"/>
                  <a:pt x="415" y="72"/>
                </a:cubicBezTo>
                <a:cubicBezTo>
                  <a:pt x="384" y="72"/>
                  <a:pt x="352" y="72"/>
                  <a:pt x="320" y="71"/>
                </a:cubicBezTo>
                <a:cubicBezTo>
                  <a:pt x="309" y="71"/>
                  <a:pt x="297" y="72"/>
                  <a:pt x="286" y="70"/>
                </a:cubicBezTo>
                <a:cubicBezTo>
                  <a:pt x="312" y="70"/>
                  <a:pt x="341" y="71"/>
                  <a:pt x="368" y="70"/>
                </a:cubicBezTo>
                <a:cubicBezTo>
                  <a:pt x="368" y="70"/>
                  <a:pt x="368" y="70"/>
                  <a:pt x="368" y="70"/>
                </a:cubicBezTo>
                <a:cubicBezTo>
                  <a:pt x="369" y="69"/>
                  <a:pt x="369" y="69"/>
                  <a:pt x="369" y="69"/>
                </a:cubicBezTo>
                <a:cubicBezTo>
                  <a:pt x="370" y="70"/>
                  <a:pt x="371" y="69"/>
                  <a:pt x="372" y="69"/>
                </a:cubicBezTo>
                <a:cubicBezTo>
                  <a:pt x="376" y="69"/>
                  <a:pt x="383" y="71"/>
                  <a:pt x="387" y="69"/>
                </a:cubicBezTo>
                <a:cubicBezTo>
                  <a:pt x="373" y="68"/>
                  <a:pt x="373" y="68"/>
                  <a:pt x="373" y="68"/>
                </a:cubicBezTo>
                <a:cubicBezTo>
                  <a:pt x="372" y="68"/>
                  <a:pt x="372" y="68"/>
                  <a:pt x="372" y="68"/>
                </a:cubicBezTo>
                <a:cubicBezTo>
                  <a:pt x="374" y="67"/>
                  <a:pt x="374" y="67"/>
                  <a:pt x="374" y="67"/>
                </a:cubicBezTo>
                <a:cubicBezTo>
                  <a:pt x="371" y="67"/>
                  <a:pt x="371" y="67"/>
                  <a:pt x="371" y="67"/>
                </a:cubicBezTo>
                <a:cubicBezTo>
                  <a:pt x="371" y="67"/>
                  <a:pt x="370" y="67"/>
                  <a:pt x="370" y="66"/>
                </a:cubicBezTo>
                <a:cubicBezTo>
                  <a:pt x="371" y="66"/>
                  <a:pt x="373" y="65"/>
                  <a:pt x="374" y="66"/>
                </a:cubicBezTo>
                <a:cubicBezTo>
                  <a:pt x="374" y="66"/>
                  <a:pt x="372" y="66"/>
                  <a:pt x="372" y="66"/>
                </a:cubicBezTo>
                <a:cubicBezTo>
                  <a:pt x="378" y="66"/>
                  <a:pt x="387" y="67"/>
                  <a:pt x="395" y="67"/>
                </a:cubicBezTo>
                <a:cubicBezTo>
                  <a:pt x="394" y="67"/>
                  <a:pt x="394" y="67"/>
                  <a:pt x="394" y="67"/>
                </a:cubicBezTo>
                <a:cubicBezTo>
                  <a:pt x="398" y="68"/>
                  <a:pt x="405" y="68"/>
                  <a:pt x="408" y="67"/>
                </a:cubicBezTo>
                <a:cubicBezTo>
                  <a:pt x="410" y="66"/>
                  <a:pt x="410" y="67"/>
                  <a:pt x="410" y="67"/>
                </a:cubicBezTo>
                <a:cubicBezTo>
                  <a:pt x="412" y="68"/>
                  <a:pt x="411" y="67"/>
                  <a:pt x="412" y="66"/>
                </a:cubicBezTo>
                <a:cubicBezTo>
                  <a:pt x="429" y="66"/>
                  <a:pt x="429" y="66"/>
                  <a:pt x="429" y="66"/>
                </a:cubicBezTo>
                <a:cubicBezTo>
                  <a:pt x="429" y="67"/>
                  <a:pt x="429" y="67"/>
                  <a:pt x="429" y="67"/>
                </a:cubicBezTo>
                <a:cubicBezTo>
                  <a:pt x="424" y="67"/>
                  <a:pt x="419" y="67"/>
                  <a:pt x="414" y="67"/>
                </a:cubicBezTo>
                <a:cubicBezTo>
                  <a:pt x="421" y="68"/>
                  <a:pt x="431" y="68"/>
                  <a:pt x="436" y="67"/>
                </a:cubicBezTo>
                <a:cubicBezTo>
                  <a:pt x="434" y="67"/>
                  <a:pt x="431" y="67"/>
                  <a:pt x="429" y="66"/>
                </a:cubicBezTo>
                <a:cubicBezTo>
                  <a:pt x="440" y="66"/>
                  <a:pt x="453" y="66"/>
                  <a:pt x="465" y="66"/>
                </a:cubicBezTo>
                <a:cubicBezTo>
                  <a:pt x="463" y="65"/>
                  <a:pt x="459" y="66"/>
                  <a:pt x="456" y="65"/>
                </a:cubicBezTo>
                <a:cubicBezTo>
                  <a:pt x="457" y="65"/>
                  <a:pt x="457" y="65"/>
                  <a:pt x="457" y="65"/>
                </a:cubicBezTo>
                <a:cubicBezTo>
                  <a:pt x="455" y="66"/>
                  <a:pt x="453" y="64"/>
                  <a:pt x="451" y="65"/>
                </a:cubicBezTo>
                <a:cubicBezTo>
                  <a:pt x="441" y="65"/>
                  <a:pt x="428" y="65"/>
                  <a:pt x="415" y="65"/>
                </a:cubicBezTo>
                <a:cubicBezTo>
                  <a:pt x="414" y="64"/>
                  <a:pt x="414" y="64"/>
                  <a:pt x="414" y="64"/>
                </a:cubicBezTo>
                <a:cubicBezTo>
                  <a:pt x="413" y="64"/>
                  <a:pt x="413" y="65"/>
                  <a:pt x="411" y="65"/>
                </a:cubicBezTo>
                <a:cubicBezTo>
                  <a:pt x="410" y="63"/>
                  <a:pt x="409" y="66"/>
                  <a:pt x="407" y="64"/>
                </a:cubicBezTo>
                <a:cubicBezTo>
                  <a:pt x="407" y="64"/>
                  <a:pt x="407" y="64"/>
                  <a:pt x="407" y="64"/>
                </a:cubicBezTo>
                <a:cubicBezTo>
                  <a:pt x="403" y="65"/>
                  <a:pt x="397" y="65"/>
                  <a:pt x="393" y="64"/>
                </a:cubicBezTo>
                <a:cubicBezTo>
                  <a:pt x="373" y="64"/>
                  <a:pt x="373" y="64"/>
                  <a:pt x="373" y="64"/>
                </a:cubicBezTo>
                <a:cubicBezTo>
                  <a:pt x="371" y="65"/>
                  <a:pt x="367" y="65"/>
                  <a:pt x="365" y="64"/>
                </a:cubicBezTo>
                <a:cubicBezTo>
                  <a:pt x="367" y="64"/>
                  <a:pt x="367" y="64"/>
                  <a:pt x="367" y="64"/>
                </a:cubicBezTo>
                <a:cubicBezTo>
                  <a:pt x="363" y="64"/>
                  <a:pt x="359" y="63"/>
                  <a:pt x="356" y="64"/>
                </a:cubicBezTo>
                <a:cubicBezTo>
                  <a:pt x="347" y="64"/>
                  <a:pt x="338" y="65"/>
                  <a:pt x="330" y="63"/>
                </a:cubicBezTo>
                <a:cubicBezTo>
                  <a:pt x="344" y="62"/>
                  <a:pt x="354" y="64"/>
                  <a:pt x="368" y="62"/>
                </a:cubicBezTo>
                <a:cubicBezTo>
                  <a:pt x="335" y="62"/>
                  <a:pt x="335" y="62"/>
                  <a:pt x="335" y="62"/>
                </a:cubicBezTo>
                <a:cubicBezTo>
                  <a:pt x="345" y="61"/>
                  <a:pt x="357" y="61"/>
                  <a:pt x="368" y="61"/>
                </a:cubicBezTo>
                <a:cubicBezTo>
                  <a:pt x="369" y="61"/>
                  <a:pt x="369" y="60"/>
                  <a:pt x="370" y="61"/>
                </a:cubicBezTo>
                <a:cubicBezTo>
                  <a:pt x="371" y="59"/>
                  <a:pt x="375" y="60"/>
                  <a:pt x="378" y="60"/>
                </a:cubicBezTo>
                <a:cubicBezTo>
                  <a:pt x="375" y="61"/>
                  <a:pt x="375" y="61"/>
                  <a:pt x="375" y="61"/>
                </a:cubicBezTo>
                <a:cubicBezTo>
                  <a:pt x="382" y="61"/>
                  <a:pt x="391" y="61"/>
                  <a:pt x="399" y="61"/>
                </a:cubicBezTo>
                <a:cubicBezTo>
                  <a:pt x="400" y="60"/>
                  <a:pt x="400" y="60"/>
                  <a:pt x="400" y="60"/>
                </a:cubicBezTo>
                <a:cubicBezTo>
                  <a:pt x="402" y="59"/>
                  <a:pt x="404" y="61"/>
                  <a:pt x="406" y="60"/>
                </a:cubicBezTo>
                <a:cubicBezTo>
                  <a:pt x="406" y="60"/>
                  <a:pt x="406" y="60"/>
                  <a:pt x="406" y="60"/>
                </a:cubicBezTo>
                <a:cubicBezTo>
                  <a:pt x="426" y="61"/>
                  <a:pt x="450" y="60"/>
                  <a:pt x="471" y="60"/>
                </a:cubicBezTo>
                <a:cubicBezTo>
                  <a:pt x="453" y="59"/>
                  <a:pt x="433" y="59"/>
                  <a:pt x="415" y="59"/>
                </a:cubicBezTo>
                <a:cubicBezTo>
                  <a:pt x="415" y="59"/>
                  <a:pt x="415" y="59"/>
                  <a:pt x="415" y="59"/>
                </a:cubicBezTo>
                <a:cubicBezTo>
                  <a:pt x="414" y="59"/>
                  <a:pt x="414" y="59"/>
                  <a:pt x="414" y="59"/>
                </a:cubicBezTo>
                <a:cubicBezTo>
                  <a:pt x="410" y="57"/>
                  <a:pt x="407" y="61"/>
                  <a:pt x="403" y="59"/>
                </a:cubicBezTo>
                <a:cubicBezTo>
                  <a:pt x="396" y="61"/>
                  <a:pt x="390" y="57"/>
                  <a:pt x="383" y="59"/>
                </a:cubicBezTo>
                <a:cubicBezTo>
                  <a:pt x="381" y="58"/>
                  <a:pt x="381" y="58"/>
                  <a:pt x="381" y="58"/>
                </a:cubicBezTo>
                <a:cubicBezTo>
                  <a:pt x="393" y="57"/>
                  <a:pt x="403" y="59"/>
                  <a:pt x="414" y="58"/>
                </a:cubicBezTo>
                <a:cubicBezTo>
                  <a:pt x="404" y="57"/>
                  <a:pt x="404" y="57"/>
                  <a:pt x="404" y="57"/>
                </a:cubicBezTo>
                <a:cubicBezTo>
                  <a:pt x="403" y="57"/>
                  <a:pt x="399" y="58"/>
                  <a:pt x="399" y="56"/>
                </a:cubicBezTo>
                <a:cubicBezTo>
                  <a:pt x="381" y="55"/>
                  <a:pt x="381" y="55"/>
                  <a:pt x="381" y="55"/>
                </a:cubicBezTo>
                <a:cubicBezTo>
                  <a:pt x="380" y="55"/>
                  <a:pt x="379" y="55"/>
                  <a:pt x="379" y="54"/>
                </a:cubicBezTo>
                <a:cubicBezTo>
                  <a:pt x="380" y="54"/>
                  <a:pt x="381" y="54"/>
                  <a:pt x="382" y="54"/>
                </a:cubicBezTo>
                <a:cubicBezTo>
                  <a:pt x="382" y="54"/>
                  <a:pt x="382" y="54"/>
                  <a:pt x="382" y="54"/>
                </a:cubicBezTo>
                <a:cubicBezTo>
                  <a:pt x="382" y="54"/>
                  <a:pt x="381" y="54"/>
                  <a:pt x="381" y="54"/>
                </a:cubicBezTo>
                <a:cubicBezTo>
                  <a:pt x="383" y="54"/>
                  <a:pt x="383" y="54"/>
                  <a:pt x="383" y="54"/>
                </a:cubicBezTo>
                <a:cubicBezTo>
                  <a:pt x="383" y="54"/>
                  <a:pt x="383" y="54"/>
                  <a:pt x="382" y="54"/>
                </a:cubicBezTo>
                <a:cubicBezTo>
                  <a:pt x="383" y="54"/>
                  <a:pt x="383" y="54"/>
                  <a:pt x="383" y="54"/>
                </a:cubicBezTo>
                <a:cubicBezTo>
                  <a:pt x="384" y="54"/>
                  <a:pt x="387" y="53"/>
                  <a:pt x="388" y="54"/>
                </a:cubicBezTo>
                <a:cubicBezTo>
                  <a:pt x="388" y="54"/>
                  <a:pt x="388" y="54"/>
                  <a:pt x="388" y="54"/>
                </a:cubicBezTo>
                <a:cubicBezTo>
                  <a:pt x="426" y="54"/>
                  <a:pt x="426" y="54"/>
                  <a:pt x="426" y="54"/>
                </a:cubicBezTo>
                <a:cubicBezTo>
                  <a:pt x="425" y="53"/>
                  <a:pt x="425" y="53"/>
                  <a:pt x="425" y="53"/>
                </a:cubicBezTo>
                <a:cubicBezTo>
                  <a:pt x="407" y="52"/>
                  <a:pt x="386" y="52"/>
                  <a:pt x="368" y="51"/>
                </a:cubicBezTo>
                <a:cubicBezTo>
                  <a:pt x="366" y="51"/>
                  <a:pt x="360" y="51"/>
                  <a:pt x="362" y="49"/>
                </a:cubicBezTo>
                <a:cubicBezTo>
                  <a:pt x="364" y="50"/>
                  <a:pt x="365" y="48"/>
                  <a:pt x="367" y="49"/>
                </a:cubicBezTo>
                <a:cubicBezTo>
                  <a:pt x="366" y="49"/>
                  <a:pt x="366" y="49"/>
                  <a:pt x="366" y="49"/>
                </a:cubicBezTo>
                <a:cubicBezTo>
                  <a:pt x="367" y="49"/>
                  <a:pt x="367" y="49"/>
                  <a:pt x="367" y="49"/>
                </a:cubicBezTo>
                <a:cubicBezTo>
                  <a:pt x="367" y="49"/>
                  <a:pt x="367" y="49"/>
                  <a:pt x="367" y="49"/>
                </a:cubicBezTo>
                <a:cubicBezTo>
                  <a:pt x="368" y="49"/>
                  <a:pt x="368" y="49"/>
                  <a:pt x="368" y="49"/>
                </a:cubicBezTo>
                <a:cubicBezTo>
                  <a:pt x="383" y="49"/>
                  <a:pt x="383" y="49"/>
                  <a:pt x="383" y="49"/>
                </a:cubicBezTo>
                <a:cubicBezTo>
                  <a:pt x="387" y="48"/>
                  <a:pt x="387" y="48"/>
                  <a:pt x="387" y="48"/>
                </a:cubicBezTo>
                <a:cubicBezTo>
                  <a:pt x="381" y="48"/>
                  <a:pt x="375" y="48"/>
                  <a:pt x="369" y="48"/>
                </a:cubicBezTo>
                <a:cubicBezTo>
                  <a:pt x="368" y="47"/>
                  <a:pt x="368" y="47"/>
                  <a:pt x="368" y="47"/>
                </a:cubicBezTo>
                <a:cubicBezTo>
                  <a:pt x="372" y="46"/>
                  <a:pt x="378" y="47"/>
                  <a:pt x="381" y="46"/>
                </a:cubicBezTo>
                <a:cubicBezTo>
                  <a:pt x="376" y="45"/>
                  <a:pt x="373" y="46"/>
                  <a:pt x="368" y="46"/>
                </a:cubicBezTo>
                <a:cubicBezTo>
                  <a:pt x="368" y="45"/>
                  <a:pt x="368" y="45"/>
                  <a:pt x="368" y="45"/>
                </a:cubicBezTo>
                <a:cubicBezTo>
                  <a:pt x="368" y="45"/>
                  <a:pt x="369" y="45"/>
                  <a:pt x="370" y="45"/>
                </a:cubicBezTo>
                <a:cubicBezTo>
                  <a:pt x="372" y="43"/>
                  <a:pt x="375" y="44"/>
                  <a:pt x="378" y="44"/>
                </a:cubicBezTo>
                <a:cubicBezTo>
                  <a:pt x="382" y="44"/>
                  <a:pt x="385" y="44"/>
                  <a:pt x="388" y="44"/>
                </a:cubicBezTo>
                <a:cubicBezTo>
                  <a:pt x="391" y="43"/>
                  <a:pt x="397" y="44"/>
                  <a:pt x="400" y="44"/>
                </a:cubicBezTo>
                <a:cubicBezTo>
                  <a:pt x="400" y="44"/>
                  <a:pt x="399" y="44"/>
                  <a:pt x="399" y="44"/>
                </a:cubicBezTo>
                <a:cubicBezTo>
                  <a:pt x="400" y="43"/>
                  <a:pt x="400" y="42"/>
                  <a:pt x="402" y="42"/>
                </a:cubicBezTo>
                <a:cubicBezTo>
                  <a:pt x="403" y="42"/>
                  <a:pt x="404" y="42"/>
                  <a:pt x="404" y="43"/>
                </a:cubicBezTo>
                <a:cubicBezTo>
                  <a:pt x="405" y="43"/>
                  <a:pt x="407" y="43"/>
                  <a:pt x="408" y="43"/>
                </a:cubicBezTo>
                <a:cubicBezTo>
                  <a:pt x="408" y="42"/>
                  <a:pt x="408" y="42"/>
                  <a:pt x="408" y="42"/>
                </a:cubicBezTo>
                <a:cubicBezTo>
                  <a:pt x="409" y="43"/>
                  <a:pt x="411" y="42"/>
                  <a:pt x="412" y="43"/>
                </a:cubicBezTo>
                <a:cubicBezTo>
                  <a:pt x="412" y="43"/>
                  <a:pt x="412" y="43"/>
                  <a:pt x="412" y="43"/>
                </a:cubicBezTo>
                <a:cubicBezTo>
                  <a:pt x="419" y="43"/>
                  <a:pt x="428" y="44"/>
                  <a:pt x="435" y="43"/>
                </a:cubicBezTo>
                <a:cubicBezTo>
                  <a:pt x="437" y="43"/>
                  <a:pt x="445" y="43"/>
                  <a:pt x="450" y="43"/>
                </a:cubicBezTo>
                <a:cubicBezTo>
                  <a:pt x="451" y="42"/>
                  <a:pt x="451" y="42"/>
                  <a:pt x="451" y="42"/>
                </a:cubicBezTo>
                <a:cubicBezTo>
                  <a:pt x="435" y="42"/>
                  <a:pt x="435" y="42"/>
                  <a:pt x="435" y="42"/>
                </a:cubicBezTo>
                <a:cubicBezTo>
                  <a:pt x="434" y="42"/>
                  <a:pt x="434" y="42"/>
                  <a:pt x="434" y="42"/>
                </a:cubicBezTo>
                <a:cubicBezTo>
                  <a:pt x="424" y="42"/>
                  <a:pt x="424" y="42"/>
                  <a:pt x="424" y="42"/>
                </a:cubicBezTo>
                <a:cubicBezTo>
                  <a:pt x="414" y="40"/>
                  <a:pt x="402" y="40"/>
                  <a:pt x="391" y="40"/>
                </a:cubicBezTo>
                <a:cubicBezTo>
                  <a:pt x="385" y="39"/>
                  <a:pt x="379" y="39"/>
                  <a:pt x="373" y="38"/>
                </a:cubicBezTo>
                <a:cubicBezTo>
                  <a:pt x="380" y="36"/>
                  <a:pt x="388" y="37"/>
                  <a:pt x="396" y="36"/>
                </a:cubicBezTo>
                <a:cubicBezTo>
                  <a:pt x="390" y="35"/>
                  <a:pt x="382" y="36"/>
                  <a:pt x="376" y="35"/>
                </a:cubicBezTo>
                <a:cubicBezTo>
                  <a:pt x="402" y="35"/>
                  <a:pt x="431" y="37"/>
                  <a:pt x="459" y="36"/>
                </a:cubicBezTo>
                <a:cubicBezTo>
                  <a:pt x="460" y="35"/>
                  <a:pt x="460" y="35"/>
                  <a:pt x="460" y="35"/>
                </a:cubicBezTo>
                <a:cubicBezTo>
                  <a:pt x="452" y="34"/>
                  <a:pt x="443" y="35"/>
                  <a:pt x="435" y="34"/>
                </a:cubicBezTo>
                <a:cubicBezTo>
                  <a:pt x="435" y="33"/>
                  <a:pt x="435" y="33"/>
                  <a:pt x="435" y="33"/>
                </a:cubicBezTo>
                <a:cubicBezTo>
                  <a:pt x="445" y="33"/>
                  <a:pt x="445" y="33"/>
                  <a:pt x="445" y="33"/>
                </a:cubicBezTo>
                <a:cubicBezTo>
                  <a:pt x="429" y="32"/>
                  <a:pt x="414" y="31"/>
                  <a:pt x="397" y="32"/>
                </a:cubicBezTo>
                <a:cubicBezTo>
                  <a:pt x="395" y="31"/>
                  <a:pt x="393" y="31"/>
                  <a:pt x="391" y="30"/>
                </a:cubicBezTo>
                <a:cubicBezTo>
                  <a:pt x="410" y="30"/>
                  <a:pt x="428" y="32"/>
                  <a:pt x="445" y="31"/>
                </a:cubicBezTo>
                <a:cubicBezTo>
                  <a:pt x="439" y="31"/>
                  <a:pt x="434" y="30"/>
                  <a:pt x="428" y="30"/>
                </a:cubicBezTo>
                <a:cubicBezTo>
                  <a:pt x="426" y="30"/>
                  <a:pt x="426" y="30"/>
                  <a:pt x="426" y="30"/>
                </a:cubicBezTo>
                <a:cubicBezTo>
                  <a:pt x="428" y="29"/>
                  <a:pt x="428" y="29"/>
                  <a:pt x="428" y="29"/>
                </a:cubicBezTo>
                <a:cubicBezTo>
                  <a:pt x="449" y="29"/>
                  <a:pt x="449" y="29"/>
                  <a:pt x="449" y="29"/>
                </a:cubicBezTo>
                <a:cubicBezTo>
                  <a:pt x="449" y="29"/>
                  <a:pt x="449" y="29"/>
                  <a:pt x="449" y="29"/>
                </a:cubicBezTo>
                <a:cubicBezTo>
                  <a:pt x="432" y="28"/>
                  <a:pt x="415" y="28"/>
                  <a:pt x="398" y="27"/>
                </a:cubicBezTo>
                <a:cubicBezTo>
                  <a:pt x="399" y="26"/>
                  <a:pt x="399" y="26"/>
                  <a:pt x="399" y="26"/>
                </a:cubicBezTo>
                <a:cubicBezTo>
                  <a:pt x="417" y="24"/>
                  <a:pt x="432" y="30"/>
                  <a:pt x="449" y="27"/>
                </a:cubicBezTo>
                <a:cubicBezTo>
                  <a:pt x="444" y="26"/>
                  <a:pt x="440" y="27"/>
                  <a:pt x="436" y="26"/>
                </a:cubicBezTo>
                <a:cubicBezTo>
                  <a:pt x="445" y="26"/>
                  <a:pt x="455" y="25"/>
                  <a:pt x="464" y="25"/>
                </a:cubicBezTo>
                <a:cubicBezTo>
                  <a:pt x="463" y="23"/>
                  <a:pt x="471" y="25"/>
                  <a:pt x="474" y="23"/>
                </a:cubicBezTo>
                <a:cubicBezTo>
                  <a:pt x="461" y="23"/>
                  <a:pt x="447" y="23"/>
                  <a:pt x="435" y="22"/>
                </a:cubicBezTo>
                <a:cubicBezTo>
                  <a:pt x="438" y="21"/>
                  <a:pt x="441" y="21"/>
                  <a:pt x="444" y="21"/>
                </a:cubicBezTo>
                <a:cubicBezTo>
                  <a:pt x="443" y="21"/>
                  <a:pt x="443" y="21"/>
                  <a:pt x="443" y="20"/>
                </a:cubicBezTo>
                <a:cubicBezTo>
                  <a:pt x="443" y="20"/>
                  <a:pt x="443" y="20"/>
                  <a:pt x="443" y="20"/>
                </a:cubicBezTo>
                <a:cubicBezTo>
                  <a:pt x="452" y="20"/>
                  <a:pt x="460" y="21"/>
                  <a:pt x="468" y="19"/>
                </a:cubicBezTo>
                <a:cubicBezTo>
                  <a:pt x="464" y="19"/>
                  <a:pt x="460" y="19"/>
                  <a:pt x="457" y="18"/>
                </a:cubicBezTo>
                <a:cubicBezTo>
                  <a:pt x="457" y="18"/>
                  <a:pt x="458" y="17"/>
                  <a:pt x="458" y="17"/>
                </a:cubicBezTo>
                <a:cubicBezTo>
                  <a:pt x="457" y="17"/>
                  <a:pt x="455" y="17"/>
                  <a:pt x="454" y="16"/>
                </a:cubicBezTo>
                <a:cubicBezTo>
                  <a:pt x="455" y="15"/>
                  <a:pt x="455" y="15"/>
                  <a:pt x="455" y="15"/>
                </a:cubicBezTo>
                <a:cubicBezTo>
                  <a:pt x="459" y="17"/>
                  <a:pt x="463" y="15"/>
                  <a:pt x="467" y="15"/>
                </a:cubicBezTo>
                <a:cubicBezTo>
                  <a:pt x="446" y="13"/>
                  <a:pt x="446" y="13"/>
                  <a:pt x="446" y="13"/>
                </a:cubicBezTo>
                <a:cubicBezTo>
                  <a:pt x="457" y="13"/>
                  <a:pt x="467" y="13"/>
                  <a:pt x="478" y="13"/>
                </a:cubicBezTo>
                <a:close/>
                <a:moveTo>
                  <a:pt x="20" y="46"/>
                </a:moveTo>
                <a:cubicBezTo>
                  <a:pt x="22" y="46"/>
                  <a:pt x="22" y="46"/>
                  <a:pt x="22" y="46"/>
                </a:cubicBezTo>
                <a:cubicBezTo>
                  <a:pt x="22" y="46"/>
                  <a:pt x="22" y="46"/>
                  <a:pt x="22" y="46"/>
                </a:cubicBezTo>
                <a:lnTo>
                  <a:pt x="20" y="46"/>
                </a:lnTo>
                <a:close/>
                <a:moveTo>
                  <a:pt x="224" y="74"/>
                </a:moveTo>
                <a:cubicBezTo>
                  <a:pt x="214" y="74"/>
                  <a:pt x="214" y="74"/>
                  <a:pt x="214" y="74"/>
                </a:cubicBezTo>
                <a:cubicBezTo>
                  <a:pt x="213" y="74"/>
                  <a:pt x="213" y="74"/>
                  <a:pt x="212" y="74"/>
                </a:cubicBezTo>
                <a:cubicBezTo>
                  <a:pt x="214" y="74"/>
                  <a:pt x="214" y="74"/>
                  <a:pt x="214" y="74"/>
                </a:cubicBezTo>
                <a:cubicBezTo>
                  <a:pt x="216" y="74"/>
                  <a:pt x="217" y="73"/>
                  <a:pt x="218" y="73"/>
                </a:cubicBezTo>
                <a:cubicBezTo>
                  <a:pt x="234" y="73"/>
                  <a:pt x="234" y="73"/>
                  <a:pt x="234" y="73"/>
                </a:cubicBezTo>
                <a:cubicBezTo>
                  <a:pt x="234" y="73"/>
                  <a:pt x="234" y="73"/>
                  <a:pt x="235" y="73"/>
                </a:cubicBezTo>
                <a:cubicBezTo>
                  <a:pt x="234" y="73"/>
                  <a:pt x="234" y="73"/>
                  <a:pt x="234" y="73"/>
                </a:cubicBezTo>
                <a:cubicBezTo>
                  <a:pt x="230" y="73"/>
                  <a:pt x="227" y="73"/>
                  <a:pt x="224" y="74"/>
                </a:cubicBezTo>
                <a:close/>
                <a:moveTo>
                  <a:pt x="380" y="69"/>
                </a:moveTo>
                <a:cubicBezTo>
                  <a:pt x="379" y="69"/>
                  <a:pt x="378" y="69"/>
                  <a:pt x="377" y="69"/>
                </a:cubicBezTo>
                <a:cubicBezTo>
                  <a:pt x="377" y="69"/>
                  <a:pt x="379" y="69"/>
                  <a:pt x="380" y="69"/>
                </a:cubicBezTo>
                <a:close/>
                <a:moveTo>
                  <a:pt x="367" y="70"/>
                </a:moveTo>
                <a:cubicBezTo>
                  <a:pt x="364" y="70"/>
                  <a:pt x="364" y="70"/>
                  <a:pt x="364" y="70"/>
                </a:cubicBezTo>
                <a:cubicBezTo>
                  <a:pt x="364" y="70"/>
                  <a:pt x="364" y="70"/>
                  <a:pt x="364" y="70"/>
                </a:cubicBezTo>
                <a:cubicBezTo>
                  <a:pt x="364" y="70"/>
                  <a:pt x="364" y="70"/>
                  <a:pt x="364" y="70"/>
                </a:cubicBezTo>
                <a:cubicBezTo>
                  <a:pt x="365" y="70"/>
                  <a:pt x="366" y="69"/>
                  <a:pt x="367" y="70"/>
                </a:cubicBezTo>
                <a:close/>
                <a:moveTo>
                  <a:pt x="415" y="11"/>
                </a:moveTo>
                <a:cubicBezTo>
                  <a:pt x="410" y="11"/>
                  <a:pt x="410" y="11"/>
                  <a:pt x="410" y="11"/>
                </a:cubicBezTo>
                <a:cubicBezTo>
                  <a:pt x="411" y="11"/>
                  <a:pt x="413" y="11"/>
                  <a:pt x="415" y="11"/>
                </a:cubicBezTo>
                <a:cubicBezTo>
                  <a:pt x="419" y="11"/>
                  <a:pt x="419" y="11"/>
                  <a:pt x="419" y="11"/>
                </a:cubicBezTo>
                <a:cubicBezTo>
                  <a:pt x="417" y="12"/>
                  <a:pt x="416" y="11"/>
                  <a:pt x="415" y="11"/>
                </a:cubicBezTo>
                <a:close/>
                <a:moveTo>
                  <a:pt x="422" y="12"/>
                </a:moveTo>
                <a:cubicBezTo>
                  <a:pt x="428" y="12"/>
                  <a:pt x="433" y="12"/>
                  <a:pt x="439" y="13"/>
                </a:cubicBezTo>
                <a:cubicBezTo>
                  <a:pt x="433" y="12"/>
                  <a:pt x="428" y="12"/>
                  <a:pt x="422" y="12"/>
                </a:cubicBezTo>
                <a:close/>
              </a:path>
            </a:pathLst>
          </a:custGeom>
          <a:solidFill>
            <a:srgbClr val="2c3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文本框 34"/>
          <p:cNvSpPr/>
          <p:nvPr/>
        </p:nvSpPr>
        <p:spPr>
          <a:xfrm>
            <a:off x="8397720" y="1771200"/>
            <a:ext cx="11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腾祥铁山楷书简"/>
                <a:ea typeface="腾祥铁山楷书简"/>
              </a:rPr>
              <a:t>PPT</a:t>
            </a:r>
            <a:r>
              <a:rPr b="0" lang="zh-CN" sz="2400" spc="-1" strike="noStrike">
                <a:solidFill>
                  <a:srgbClr val="ffffff"/>
                </a:solidFill>
                <a:latin typeface="腾祥铁山楷书简"/>
                <a:ea typeface="腾祥铁山楷书简"/>
              </a:rPr>
              <a:t>模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35"/>
          <p:cNvSpPr/>
          <p:nvPr/>
        </p:nvSpPr>
        <p:spPr>
          <a:xfrm>
            <a:off x="8012160" y="2220840"/>
            <a:ext cx="3376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D</a:t>
            </a:r>
            <a:r>
              <a:rPr b="0" lang="zh-CN" sz="14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意空间工作室成立于</a:t>
            </a:r>
            <a:r>
              <a:rPr b="0" lang="en-US" sz="14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2015</a:t>
            </a:r>
            <a:r>
              <a:rPr b="0" lang="zh-CN" sz="14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年</a:t>
            </a:r>
            <a:r>
              <a:rPr b="0" lang="en-US" sz="14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10</a:t>
            </a:r>
            <a:r>
              <a:rPr b="0" lang="zh-CN" sz="14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月，只要是与演示相关的，我们竭诚为您服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192"/>
          <p:cNvSpPr/>
          <p:nvPr/>
        </p:nvSpPr>
        <p:spPr>
          <a:xfrm>
            <a:off x="8012160" y="3124080"/>
            <a:ext cx="2787480" cy="436680"/>
          </a:xfrm>
          <a:custGeom>
            <a:avLst/>
            <a:gdLst>
              <a:gd name="textAreaLeft" fmla="*/ 0 w 2787480"/>
              <a:gd name="textAreaRight" fmla="*/ 2787840 w 2787480"/>
              <a:gd name="textAreaTop" fmla="*/ 0 h 436680"/>
              <a:gd name="textAreaBottom" fmla="*/ 437040 h 436680"/>
            </a:gdLst>
            <a:ahLst/>
            <a:rect l="textAreaLeft" t="textAreaTop" r="textAreaRight" b="textAreaBottom"/>
            <a:pathLst>
              <a:path w="478" h="77">
                <a:moveTo>
                  <a:pt x="478" y="13"/>
                </a:moveTo>
                <a:cubicBezTo>
                  <a:pt x="472" y="13"/>
                  <a:pt x="468" y="13"/>
                  <a:pt x="462" y="12"/>
                </a:cubicBezTo>
                <a:cubicBezTo>
                  <a:pt x="461" y="11"/>
                  <a:pt x="465" y="12"/>
                  <a:pt x="464" y="11"/>
                </a:cubicBezTo>
                <a:cubicBezTo>
                  <a:pt x="434" y="9"/>
                  <a:pt x="403" y="9"/>
                  <a:pt x="373" y="7"/>
                </a:cubicBezTo>
                <a:cubicBezTo>
                  <a:pt x="402" y="6"/>
                  <a:pt x="431" y="10"/>
                  <a:pt x="460" y="10"/>
                </a:cubicBezTo>
                <a:cubicBezTo>
                  <a:pt x="436" y="6"/>
                  <a:pt x="407" y="7"/>
                  <a:pt x="381" y="5"/>
                </a:cubicBezTo>
                <a:cubicBezTo>
                  <a:pt x="288" y="3"/>
                  <a:pt x="288" y="3"/>
                  <a:pt x="288" y="3"/>
                </a:cubicBezTo>
                <a:cubicBezTo>
                  <a:pt x="222" y="3"/>
                  <a:pt x="222" y="3"/>
                  <a:pt x="222" y="3"/>
                </a:cubicBezTo>
                <a:cubicBezTo>
                  <a:pt x="130" y="4"/>
                  <a:pt x="130" y="4"/>
                  <a:pt x="130" y="4"/>
                </a:cubicBezTo>
                <a:cubicBezTo>
                  <a:pt x="130" y="3"/>
                  <a:pt x="130" y="3"/>
                  <a:pt x="130" y="3"/>
                </a:cubicBezTo>
                <a:cubicBezTo>
                  <a:pt x="127" y="2"/>
                  <a:pt x="125" y="3"/>
                  <a:pt x="123" y="3"/>
                </a:cubicBezTo>
                <a:cubicBezTo>
                  <a:pt x="124" y="3"/>
                  <a:pt x="125" y="3"/>
                  <a:pt x="125" y="4"/>
                </a:cubicBezTo>
                <a:cubicBezTo>
                  <a:pt x="122" y="4"/>
                  <a:pt x="118" y="3"/>
                  <a:pt x="115" y="4"/>
                </a:cubicBezTo>
                <a:cubicBezTo>
                  <a:pt x="112" y="3"/>
                  <a:pt x="107" y="4"/>
                  <a:pt x="102" y="3"/>
                </a:cubicBezTo>
                <a:cubicBezTo>
                  <a:pt x="100" y="2"/>
                  <a:pt x="98" y="2"/>
                  <a:pt x="95" y="2"/>
                </a:cubicBezTo>
                <a:cubicBezTo>
                  <a:pt x="70" y="2"/>
                  <a:pt x="50" y="0"/>
                  <a:pt x="24" y="1"/>
                </a:cubicBezTo>
                <a:cubicBezTo>
                  <a:pt x="18" y="2"/>
                  <a:pt x="10" y="1"/>
                  <a:pt x="6" y="4"/>
                </a:cubicBezTo>
                <a:cubicBezTo>
                  <a:pt x="6" y="5"/>
                  <a:pt x="8" y="5"/>
                  <a:pt x="8" y="5"/>
                </a:cubicBezTo>
                <a:cubicBezTo>
                  <a:pt x="7" y="5"/>
                  <a:pt x="6" y="6"/>
                  <a:pt x="5" y="5"/>
                </a:cubicBezTo>
                <a:cubicBezTo>
                  <a:pt x="5" y="5"/>
                  <a:pt x="5" y="5"/>
                  <a:pt x="5" y="5"/>
                </a:cubicBezTo>
                <a:cubicBezTo>
                  <a:pt x="0" y="6"/>
                  <a:pt x="0" y="6"/>
                  <a:pt x="0" y="6"/>
                </a:cubicBezTo>
                <a:cubicBezTo>
                  <a:pt x="2" y="7"/>
                  <a:pt x="2" y="7"/>
                  <a:pt x="2" y="7"/>
                </a:cubicBezTo>
                <a:cubicBezTo>
                  <a:pt x="2" y="7"/>
                  <a:pt x="2" y="7"/>
                  <a:pt x="2" y="7"/>
                </a:cubicBezTo>
                <a:cubicBezTo>
                  <a:pt x="4" y="8"/>
                  <a:pt x="4" y="8"/>
                  <a:pt x="4" y="8"/>
                </a:cubicBezTo>
                <a:cubicBezTo>
                  <a:pt x="3" y="8"/>
                  <a:pt x="1" y="9"/>
                  <a:pt x="0" y="9"/>
                </a:cubicBezTo>
                <a:cubicBezTo>
                  <a:pt x="0" y="11"/>
                  <a:pt x="0" y="13"/>
                  <a:pt x="3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5"/>
                  <a:pt x="2" y="15"/>
                  <a:pt x="3" y="15"/>
                </a:cubicBezTo>
                <a:cubicBezTo>
                  <a:pt x="1" y="17"/>
                  <a:pt x="1" y="17"/>
                  <a:pt x="1" y="17"/>
                </a:cubicBezTo>
                <a:cubicBezTo>
                  <a:pt x="2" y="17"/>
                  <a:pt x="2" y="17"/>
                  <a:pt x="2" y="17"/>
                </a:cubicBezTo>
                <a:cubicBezTo>
                  <a:pt x="1" y="18"/>
                  <a:pt x="1" y="18"/>
                  <a:pt x="1" y="18"/>
                </a:cubicBezTo>
                <a:cubicBezTo>
                  <a:pt x="3" y="18"/>
                  <a:pt x="1" y="19"/>
                  <a:pt x="1" y="19"/>
                </a:cubicBezTo>
                <a:cubicBezTo>
                  <a:pt x="4" y="20"/>
                  <a:pt x="4" y="20"/>
                  <a:pt x="4" y="20"/>
                </a:cubicBezTo>
                <a:cubicBezTo>
                  <a:pt x="5" y="21"/>
                  <a:pt x="2" y="20"/>
                  <a:pt x="2" y="20"/>
                </a:cubicBezTo>
                <a:cubicBezTo>
                  <a:pt x="3" y="21"/>
                  <a:pt x="5" y="21"/>
                  <a:pt x="6" y="21"/>
                </a:cubicBezTo>
                <a:cubicBezTo>
                  <a:pt x="5" y="22"/>
                  <a:pt x="3" y="21"/>
                  <a:pt x="1" y="21"/>
                </a:cubicBezTo>
                <a:cubicBezTo>
                  <a:pt x="1" y="22"/>
                  <a:pt x="1" y="22"/>
                  <a:pt x="1" y="22"/>
                </a:cubicBezTo>
                <a:cubicBezTo>
                  <a:pt x="2" y="24"/>
                  <a:pt x="6" y="24"/>
                  <a:pt x="10" y="24"/>
                </a:cubicBezTo>
                <a:cubicBezTo>
                  <a:pt x="7" y="25"/>
                  <a:pt x="5" y="25"/>
                  <a:pt x="2" y="25"/>
                </a:cubicBezTo>
                <a:cubicBezTo>
                  <a:pt x="2" y="26"/>
                  <a:pt x="2" y="26"/>
                  <a:pt x="2" y="26"/>
                </a:cubicBezTo>
                <a:cubicBezTo>
                  <a:pt x="3" y="27"/>
                  <a:pt x="5" y="26"/>
                  <a:pt x="5" y="27"/>
                </a:cubicBezTo>
                <a:cubicBezTo>
                  <a:pt x="10" y="27"/>
                  <a:pt x="10" y="27"/>
                  <a:pt x="10" y="27"/>
                </a:cubicBezTo>
                <a:cubicBezTo>
                  <a:pt x="9" y="27"/>
                  <a:pt x="9" y="27"/>
                  <a:pt x="9" y="27"/>
                </a:cubicBezTo>
                <a:cubicBezTo>
                  <a:pt x="9" y="26"/>
                  <a:pt x="10" y="26"/>
                  <a:pt x="11" y="26"/>
                </a:cubicBezTo>
                <a:cubicBezTo>
                  <a:pt x="15" y="26"/>
                  <a:pt x="12" y="30"/>
                  <a:pt x="14" y="30"/>
                </a:cubicBezTo>
                <a:cubicBezTo>
                  <a:pt x="12" y="32"/>
                  <a:pt x="9" y="30"/>
                  <a:pt x="6" y="31"/>
                </a:cubicBezTo>
                <a:cubicBezTo>
                  <a:pt x="9" y="32"/>
                  <a:pt x="12" y="31"/>
                  <a:pt x="16" y="31"/>
                </a:cubicBezTo>
                <a:cubicBezTo>
                  <a:pt x="17" y="34"/>
                  <a:pt x="17" y="34"/>
                  <a:pt x="17" y="34"/>
                </a:cubicBezTo>
                <a:cubicBezTo>
                  <a:pt x="14" y="35"/>
                  <a:pt x="14" y="35"/>
                  <a:pt x="14" y="35"/>
                </a:cubicBezTo>
                <a:cubicBezTo>
                  <a:pt x="21" y="35"/>
                  <a:pt x="21" y="35"/>
                  <a:pt x="21" y="35"/>
                </a:cubicBezTo>
                <a:cubicBezTo>
                  <a:pt x="22" y="35"/>
                  <a:pt x="23" y="35"/>
                  <a:pt x="23" y="36"/>
                </a:cubicBezTo>
                <a:cubicBezTo>
                  <a:pt x="23" y="37"/>
                  <a:pt x="22" y="37"/>
                  <a:pt x="21" y="37"/>
                </a:cubicBezTo>
                <a:cubicBezTo>
                  <a:pt x="18" y="41"/>
                  <a:pt x="11" y="37"/>
                  <a:pt x="6" y="38"/>
                </a:cubicBezTo>
                <a:cubicBezTo>
                  <a:pt x="7" y="39"/>
                  <a:pt x="10" y="39"/>
                  <a:pt x="12" y="40"/>
                </a:cubicBezTo>
                <a:cubicBezTo>
                  <a:pt x="16" y="39"/>
                  <a:pt x="18" y="38"/>
                  <a:pt x="21" y="39"/>
                </a:cubicBezTo>
                <a:cubicBezTo>
                  <a:pt x="19" y="40"/>
                  <a:pt x="19" y="40"/>
                  <a:pt x="19" y="40"/>
                </a:cubicBezTo>
                <a:cubicBezTo>
                  <a:pt x="20" y="40"/>
                  <a:pt x="20" y="40"/>
                  <a:pt x="20" y="40"/>
                </a:cubicBezTo>
                <a:cubicBezTo>
                  <a:pt x="20" y="40"/>
                  <a:pt x="21" y="40"/>
                  <a:pt x="21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9" y="41"/>
                  <a:pt x="19" y="41"/>
                  <a:pt x="19" y="41"/>
                </a:cubicBezTo>
                <a:cubicBezTo>
                  <a:pt x="20" y="41"/>
                  <a:pt x="21" y="42"/>
                  <a:pt x="22" y="41"/>
                </a:cubicBezTo>
                <a:cubicBezTo>
                  <a:pt x="22" y="43"/>
                  <a:pt x="22" y="43"/>
                  <a:pt x="22" y="43"/>
                </a:cubicBezTo>
                <a:cubicBezTo>
                  <a:pt x="20" y="44"/>
                  <a:pt x="22" y="46"/>
                  <a:pt x="19" y="46"/>
                </a:cubicBezTo>
                <a:cubicBezTo>
                  <a:pt x="20" y="46"/>
                  <a:pt x="20" y="46"/>
                  <a:pt x="20" y="46"/>
                </a:cubicBezTo>
                <a:cubicBezTo>
                  <a:pt x="16" y="47"/>
                  <a:pt x="12" y="44"/>
                  <a:pt x="9" y="46"/>
                </a:cubicBezTo>
                <a:cubicBezTo>
                  <a:pt x="13" y="47"/>
                  <a:pt x="19" y="46"/>
                  <a:pt x="23" y="48"/>
                </a:cubicBezTo>
                <a:cubicBezTo>
                  <a:pt x="22" y="49"/>
                  <a:pt x="22" y="49"/>
                  <a:pt x="22" y="49"/>
                </a:cubicBezTo>
                <a:cubicBezTo>
                  <a:pt x="21" y="48"/>
                  <a:pt x="21" y="48"/>
                  <a:pt x="21" y="48"/>
                </a:cubicBezTo>
                <a:cubicBezTo>
                  <a:pt x="19" y="48"/>
                  <a:pt x="17" y="49"/>
                  <a:pt x="16" y="49"/>
                </a:cubicBezTo>
                <a:cubicBezTo>
                  <a:pt x="17" y="49"/>
                  <a:pt x="19" y="49"/>
                  <a:pt x="20" y="49"/>
                </a:cubicBezTo>
                <a:cubicBezTo>
                  <a:pt x="22" y="50"/>
                  <a:pt x="25" y="51"/>
                  <a:pt x="24" y="53"/>
                </a:cubicBezTo>
                <a:cubicBezTo>
                  <a:pt x="19" y="53"/>
                  <a:pt x="19" y="53"/>
                  <a:pt x="19" y="53"/>
                </a:cubicBezTo>
                <a:cubicBezTo>
                  <a:pt x="26" y="55"/>
                  <a:pt x="26" y="55"/>
                  <a:pt x="26" y="55"/>
                </a:cubicBezTo>
                <a:cubicBezTo>
                  <a:pt x="25" y="57"/>
                  <a:pt x="29" y="58"/>
                  <a:pt x="30" y="59"/>
                </a:cubicBezTo>
                <a:cubicBezTo>
                  <a:pt x="29" y="60"/>
                  <a:pt x="27" y="59"/>
                  <a:pt x="26" y="60"/>
                </a:cubicBezTo>
                <a:cubicBezTo>
                  <a:pt x="22" y="61"/>
                  <a:pt x="28" y="62"/>
                  <a:pt x="26" y="64"/>
                </a:cubicBezTo>
                <a:cubicBezTo>
                  <a:pt x="27" y="64"/>
                  <a:pt x="29" y="64"/>
                  <a:pt x="30" y="65"/>
                </a:cubicBezTo>
                <a:cubicBezTo>
                  <a:pt x="30" y="65"/>
                  <a:pt x="29" y="66"/>
                  <a:pt x="29" y="66"/>
                </a:cubicBezTo>
                <a:cubicBezTo>
                  <a:pt x="25" y="64"/>
                  <a:pt x="21" y="63"/>
                  <a:pt x="17" y="63"/>
                </a:cubicBezTo>
                <a:cubicBezTo>
                  <a:pt x="22" y="66"/>
                  <a:pt x="22" y="66"/>
                  <a:pt x="22" y="66"/>
                </a:cubicBezTo>
                <a:cubicBezTo>
                  <a:pt x="30" y="66"/>
                  <a:pt x="36" y="70"/>
                  <a:pt x="44" y="70"/>
                </a:cubicBezTo>
                <a:cubicBezTo>
                  <a:pt x="51" y="73"/>
                  <a:pt x="61" y="73"/>
                  <a:pt x="70" y="75"/>
                </a:cubicBezTo>
                <a:cubicBezTo>
                  <a:pt x="82" y="75"/>
                  <a:pt x="93" y="77"/>
                  <a:pt x="104" y="77"/>
                </a:cubicBezTo>
                <a:cubicBezTo>
                  <a:pt x="123" y="76"/>
                  <a:pt x="142" y="76"/>
                  <a:pt x="161" y="76"/>
                </a:cubicBezTo>
                <a:cubicBezTo>
                  <a:pt x="258" y="76"/>
                  <a:pt x="258" y="76"/>
                  <a:pt x="258" y="76"/>
                </a:cubicBezTo>
                <a:cubicBezTo>
                  <a:pt x="286" y="75"/>
                  <a:pt x="315" y="77"/>
                  <a:pt x="341" y="75"/>
                </a:cubicBezTo>
                <a:cubicBezTo>
                  <a:pt x="336" y="75"/>
                  <a:pt x="331" y="74"/>
                  <a:pt x="326" y="75"/>
                </a:cubicBezTo>
                <a:cubicBezTo>
                  <a:pt x="323" y="75"/>
                  <a:pt x="321" y="74"/>
                  <a:pt x="319" y="75"/>
                </a:cubicBezTo>
                <a:cubicBezTo>
                  <a:pt x="316" y="75"/>
                  <a:pt x="313" y="75"/>
                  <a:pt x="311" y="74"/>
                </a:cubicBezTo>
                <a:cubicBezTo>
                  <a:pt x="280" y="74"/>
                  <a:pt x="280" y="74"/>
                  <a:pt x="280" y="74"/>
                </a:cubicBezTo>
                <a:cubicBezTo>
                  <a:pt x="279" y="74"/>
                  <a:pt x="279" y="74"/>
                  <a:pt x="279" y="74"/>
                </a:cubicBezTo>
                <a:cubicBezTo>
                  <a:pt x="276" y="74"/>
                  <a:pt x="272" y="75"/>
                  <a:pt x="270" y="74"/>
                </a:cubicBezTo>
                <a:cubicBezTo>
                  <a:pt x="271" y="73"/>
                  <a:pt x="271" y="73"/>
                  <a:pt x="271" y="73"/>
                </a:cubicBezTo>
                <a:cubicBezTo>
                  <a:pt x="401" y="73"/>
                  <a:pt x="401" y="73"/>
                  <a:pt x="401" y="73"/>
                </a:cubicBezTo>
                <a:cubicBezTo>
                  <a:pt x="415" y="72"/>
                  <a:pt x="415" y="72"/>
                  <a:pt x="415" y="72"/>
                </a:cubicBezTo>
                <a:cubicBezTo>
                  <a:pt x="384" y="72"/>
                  <a:pt x="352" y="72"/>
                  <a:pt x="320" y="71"/>
                </a:cubicBezTo>
                <a:cubicBezTo>
                  <a:pt x="309" y="71"/>
                  <a:pt x="297" y="72"/>
                  <a:pt x="286" y="70"/>
                </a:cubicBezTo>
                <a:cubicBezTo>
                  <a:pt x="312" y="70"/>
                  <a:pt x="341" y="71"/>
                  <a:pt x="368" y="70"/>
                </a:cubicBezTo>
                <a:cubicBezTo>
                  <a:pt x="368" y="70"/>
                  <a:pt x="368" y="70"/>
                  <a:pt x="368" y="70"/>
                </a:cubicBezTo>
                <a:cubicBezTo>
                  <a:pt x="369" y="69"/>
                  <a:pt x="369" y="69"/>
                  <a:pt x="369" y="69"/>
                </a:cubicBezTo>
                <a:cubicBezTo>
                  <a:pt x="370" y="70"/>
                  <a:pt x="371" y="69"/>
                  <a:pt x="372" y="69"/>
                </a:cubicBezTo>
                <a:cubicBezTo>
                  <a:pt x="376" y="69"/>
                  <a:pt x="383" y="71"/>
                  <a:pt x="387" y="69"/>
                </a:cubicBezTo>
                <a:cubicBezTo>
                  <a:pt x="373" y="68"/>
                  <a:pt x="373" y="68"/>
                  <a:pt x="373" y="68"/>
                </a:cubicBezTo>
                <a:cubicBezTo>
                  <a:pt x="372" y="68"/>
                  <a:pt x="372" y="68"/>
                  <a:pt x="372" y="68"/>
                </a:cubicBezTo>
                <a:cubicBezTo>
                  <a:pt x="374" y="67"/>
                  <a:pt x="374" y="67"/>
                  <a:pt x="374" y="67"/>
                </a:cubicBezTo>
                <a:cubicBezTo>
                  <a:pt x="371" y="67"/>
                  <a:pt x="371" y="67"/>
                  <a:pt x="371" y="67"/>
                </a:cubicBezTo>
                <a:cubicBezTo>
                  <a:pt x="371" y="67"/>
                  <a:pt x="370" y="67"/>
                  <a:pt x="370" y="66"/>
                </a:cubicBezTo>
                <a:cubicBezTo>
                  <a:pt x="371" y="66"/>
                  <a:pt x="373" y="65"/>
                  <a:pt x="374" y="66"/>
                </a:cubicBezTo>
                <a:cubicBezTo>
                  <a:pt x="374" y="66"/>
                  <a:pt x="372" y="66"/>
                  <a:pt x="372" y="66"/>
                </a:cubicBezTo>
                <a:cubicBezTo>
                  <a:pt x="378" y="66"/>
                  <a:pt x="387" y="67"/>
                  <a:pt x="395" y="67"/>
                </a:cubicBezTo>
                <a:cubicBezTo>
                  <a:pt x="394" y="67"/>
                  <a:pt x="394" y="67"/>
                  <a:pt x="394" y="67"/>
                </a:cubicBezTo>
                <a:cubicBezTo>
                  <a:pt x="398" y="68"/>
                  <a:pt x="405" y="68"/>
                  <a:pt x="408" y="67"/>
                </a:cubicBezTo>
                <a:cubicBezTo>
                  <a:pt x="410" y="66"/>
                  <a:pt x="410" y="67"/>
                  <a:pt x="410" y="67"/>
                </a:cubicBezTo>
                <a:cubicBezTo>
                  <a:pt x="412" y="68"/>
                  <a:pt x="411" y="67"/>
                  <a:pt x="412" y="66"/>
                </a:cubicBezTo>
                <a:cubicBezTo>
                  <a:pt x="429" y="66"/>
                  <a:pt x="429" y="66"/>
                  <a:pt x="429" y="66"/>
                </a:cubicBezTo>
                <a:cubicBezTo>
                  <a:pt x="429" y="67"/>
                  <a:pt x="429" y="67"/>
                  <a:pt x="429" y="67"/>
                </a:cubicBezTo>
                <a:cubicBezTo>
                  <a:pt x="424" y="67"/>
                  <a:pt x="419" y="67"/>
                  <a:pt x="414" y="67"/>
                </a:cubicBezTo>
                <a:cubicBezTo>
                  <a:pt x="421" y="68"/>
                  <a:pt x="431" y="68"/>
                  <a:pt x="436" y="67"/>
                </a:cubicBezTo>
                <a:cubicBezTo>
                  <a:pt x="434" y="67"/>
                  <a:pt x="431" y="67"/>
                  <a:pt x="429" y="66"/>
                </a:cubicBezTo>
                <a:cubicBezTo>
                  <a:pt x="440" y="66"/>
                  <a:pt x="453" y="66"/>
                  <a:pt x="465" y="66"/>
                </a:cubicBezTo>
                <a:cubicBezTo>
                  <a:pt x="463" y="65"/>
                  <a:pt x="459" y="66"/>
                  <a:pt x="456" y="65"/>
                </a:cubicBezTo>
                <a:cubicBezTo>
                  <a:pt x="457" y="65"/>
                  <a:pt x="457" y="65"/>
                  <a:pt x="457" y="65"/>
                </a:cubicBezTo>
                <a:cubicBezTo>
                  <a:pt x="455" y="66"/>
                  <a:pt x="453" y="64"/>
                  <a:pt x="451" y="65"/>
                </a:cubicBezTo>
                <a:cubicBezTo>
                  <a:pt x="441" y="65"/>
                  <a:pt x="428" y="65"/>
                  <a:pt x="415" y="65"/>
                </a:cubicBezTo>
                <a:cubicBezTo>
                  <a:pt x="414" y="64"/>
                  <a:pt x="414" y="64"/>
                  <a:pt x="414" y="64"/>
                </a:cubicBezTo>
                <a:cubicBezTo>
                  <a:pt x="413" y="64"/>
                  <a:pt x="413" y="65"/>
                  <a:pt x="411" y="65"/>
                </a:cubicBezTo>
                <a:cubicBezTo>
                  <a:pt x="410" y="63"/>
                  <a:pt x="409" y="66"/>
                  <a:pt x="407" y="64"/>
                </a:cubicBezTo>
                <a:cubicBezTo>
                  <a:pt x="407" y="64"/>
                  <a:pt x="407" y="64"/>
                  <a:pt x="407" y="64"/>
                </a:cubicBezTo>
                <a:cubicBezTo>
                  <a:pt x="403" y="65"/>
                  <a:pt x="397" y="65"/>
                  <a:pt x="393" y="64"/>
                </a:cubicBezTo>
                <a:cubicBezTo>
                  <a:pt x="373" y="64"/>
                  <a:pt x="373" y="64"/>
                  <a:pt x="373" y="64"/>
                </a:cubicBezTo>
                <a:cubicBezTo>
                  <a:pt x="371" y="65"/>
                  <a:pt x="367" y="65"/>
                  <a:pt x="365" y="64"/>
                </a:cubicBezTo>
                <a:cubicBezTo>
                  <a:pt x="367" y="64"/>
                  <a:pt x="367" y="64"/>
                  <a:pt x="367" y="64"/>
                </a:cubicBezTo>
                <a:cubicBezTo>
                  <a:pt x="363" y="64"/>
                  <a:pt x="359" y="63"/>
                  <a:pt x="356" y="64"/>
                </a:cubicBezTo>
                <a:cubicBezTo>
                  <a:pt x="347" y="64"/>
                  <a:pt x="338" y="65"/>
                  <a:pt x="330" y="63"/>
                </a:cubicBezTo>
                <a:cubicBezTo>
                  <a:pt x="344" y="62"/>
                  <a:pt x="354" y="64"/>
                  <a:pt x="368" y="62"/>
                </a:cubicBezTo>
                <a:cubicBezTo>
                  <a:pt x="335" y="62"/>
                  <a:pt x="335" y="62"/>
                  <a:pt x="335" y="62"/>
                </a:cubicBezTo>
                <a:cubicBezTo>
                  <a:pt x="345" y="61"/>
                  <a:pt x="357" y="61"/>
                  <a:pt x="368" y="61"/>
                </a:cubicBezTo>
                <a:cubicBezTo>
                  <a:pt x="369" y="61"/>
                  <a:pt x="369" y="60"/>
                  <a:pt x="370" y="61"/>
                </a:cubicBezTo>
                <a:cubicBezTo>
                  <a:pt x="371" y="59"/>
                  <a:pt x="375" y="60"/>
                  <a:pt x="378" y="60"/>
                </a:cubicBezTo>
                <a:cubicBezTo>
                  <a:pt x="375" y="61"/>
                  <a:pt x="375" y="61"/>
                  <a:pt x="375" y="61"/>
                </a:cubicBezTo>
                <a:cubicBezTo>
                  <a:pt x="382" y="61"/>
                  <a:pt x="391" y="61"/>
                  <a:pt x="399" y="61"/>
                </a:cubicBezTo>
                <a:cubicBezTo>
                  <a:pt x="400" y="60"/>
                  <a:pt x="400" y="60"/>
                  <a:pt x="400" y="60"/>
                </a:cubicBezTo>
                <a:cubicBezTo>
                  <a:pt x="402" y="59"/>
                  <a:pt x="404" y="61"/>
                  <a:pt x="406" y="60"/>
                </a:cubicBezTo>
                <a:cubicBezTo>
                  <a:pt x="406" y="60"/>
                  <a:pt x="406" y="60"/>
                  <a:pt x="406" y="60"/>
                </a:cubicBezTo>
                <a:cubicBezTo>
                  <a:pt x="426" y="61"/>
                  <a:pt x="450" y="60"/>
                  <a:pt x="471" y="60"/>
                </a:cubicBezTo>
                <a:cubicBezTo>
                  <a:pt x="453" y="59"/>
                  <a:pt x="433" y="59"/>
                  <a:pt x="415" y="59"/>
                </a:cubicBezTo>
                <a:cubicBezTo>
                  <a:pt x="415" y="59"/>
                  <a:pt x="415" y="59"/>
                  <a:pt x="415" y="59"/>
                </a:cubicBezTo>
                <a:cubicBezTo>
                  <a:pt x="414" y="59"/>
                  <a:pt x="414" y="59"/>
                  <a:pt x="414" y="59"/>
                </a:cubicBezTo>
                <a:cubicBezTo>
                  <a:pt x="410" y="57"/>
                  <a:pt x="407" y="61"/>
                  <a:pt x="403" y="59"/>
                </a:cubicBezTo>
                <a:cubicBezTo>
                  <a:pt x="396" y="61"/>
                  <a:pt x="390" y="57"/>
                  <a:pt x="383" y="59"/>
                </a:cubicBezTo>
                <a:cubicBezTo>
                  <a:pt x="381" y="58"/>
                  <a:pt x="381" y="58"/>
                  <a:pt x="381" y="58"/>
                </a:cubicBezTo>
                <a:cubicBezTo>
                  <a:pt x="393" y="57"/>
                  <a:pt x="403" y="59"/>
                  <a:pt x="414" y="58"/>
                </a:cubicBezTo>
                <a:cubicBezTo>
                  <a:pt x="404" y="57"/>
                  <a:pt x="404" y="57"/>
                  <a:pt x="404" y="57"/>
                </a:cubicBezTo>
                <a:cubicBezTo>
                  <a:pt x="403" y="57"/>
                  <a:pt x="399" y="58"/>
                  <a:pt x="399" y="56"/>
                </a:cubicBezTo>
                <a:cubicBezTo>
                  <a:pt x="381" y="55"/>
                  <a:pt x="381" y="55"/>
                  <a:pt x="381" y="55"/>
                </a:cubicBezTo>
                <a:cubicBezTo>
                  <a:pt x="380" y="55"/>
                  <a:pt x="379" y="55"/>
                  <a:pt x="379" y="54"/>
                </a:cubicBezTo>
                <a:cubicBezTo>
                  <a:pt x="380" y="54"/>
                  <a:pt x="381" y="54"/>
                  <a:pt x="382" y="54"/>
                </a:cubicBezTo>
                <a:cubicBezTo>
                  <a:pt x="382" y="54"/>
                  <a:pt x="382" y="54"/>
                  <a:pt x="382" y="54"/>
                </a:cubicBezTo>
                <a:cubicBezTo>
                  <a:pt x="382" y="54"/>
                  <a:pt x="381" y="54"/>
                  <a:pt x="381" y="54"/>
                </a:cubicBezTo>
                <a:cubicBezTo>
                  <a:pt x="383" y="54"/>
                  <a:pt x="383" y="54"/>
                  <a:pt x="383" y="54"/>
                </a:cubicBezTo>
                <a:cubicBezTo>
                  <a:pt x="383" y="54"/>
                  <a:pt x="383" y="54"/>
                  <a:pt x="382" y="54"/>
                </a:cubicBezTo>
                <a:cubicBezTo>
                  <a:pt x="383" y="54"/>
                  <a:pt x="383" y="54"/>
                  <a:pt x="383" y="54"/>
                </a:cubicBezTo>
                <a:cubicBezTo>
                  <a:pt x="384" y="54"/>
                  <a:pt x="387" y="53"/>
                  <a:pt x="388" y="54"/>
                </a:cubicBezTo>
                <a:cubicBezTo>
                  <a:pt x="388" y="54"/>
                  <a:pt x="388" y="54"/>
                  <a:pt x="388" y="54"/>
                </a:cubicBezTo>
                <a:cubicBezTo>
                  <a:pt x="426" y="54"/>
                  <a:pt x="426" y="54"/>
                  <a:pt x="426" y="54"/>
                </a:cubicBezTo>
                <a:cubicBezTo>
                  <a:pt x="425" y="53"/>
                  <a:pt x="425" y="53"/>
                  <a:pt x="425" y="53"/>
                </a:cubicBezTo>
                <a:cubicBezTo>
                  <a:pt x="407" y="52"/>
                  <a:pt x="386" y="52"/>
                  <a:pt x="368" y="51"/>
                </a:cubicBezTo>
                <a:cubicBezTo>
                  <a:pt x="366" y="51"/>
                  <a:pt x="360" y="51"/>
                  <a:pt x="362" y="49"/>
                </a:cubicBezTo>
                <a:cubicBezTo>
                  <a:pt x="364" y="50"/>
                  <a:pt x="365" y="48"/>
                  <a:pt x="367" y="49"/>
                </a:cubicBezTo>
                <a:cubicBezTo>
                  <a:pt x="366" y="49"/>
                  <a:pt x="366" y="49"/>
                  <a:pt x="366" y="49"/>
                </a:cubicBezTo>
                <a:cubicBezTo>
                  <a:pt x="367" y="49"/>
                  <a:pt x="367" y="49"/>
                  <a:pt x="367" y="49"/>
                </a:cubicBezTo>
                <a:cubicBezTo>
                  <a:pt x="367" y="49"/>
                  <a:pt x="367" y="49"/>
                  <a:pt x="367" y="49"/>
                </a:cubicBezTo>
                <a:cubicBezTo>
                  <a:pt x="368" y="49"/>
                  <a:pt x="368" y="49"/>
                  <a:pt x="368" y="49"/>
                </a:cubicBezTo>
                <a:cubicBezTo>
                  <a:pt x="383" y="49"/>
                  <a:pt x="383" y="49"/>
                  <a:pt x="383" y="49"/>
                </a:cubicBezTo>
                <a:cubicBezTo>
                  <a:pt x="387" y="48"/>
                  <a:pt x="387" y="48"/>
                  <a:pt x="387" y="48"/>
                </a:cubicBezTo>
                <a:cubicBezTo>
                  <a:pt x="381" y="48"/>
                  <a:pt x="375" y="48"/>
                  <a:pt x="369" y="48"/>
                </a:cubicBezTo>
                <a:cubicBezTo>
                  <a:pt x="368" y="47"/>
                  <a:pt x="368" y="47"/>
                  <a:pt x="368" y="47"/>
                </a:cubicBezTo>
                <a:cubicBezTo>
                  <a:pt x="372" y="46"/>
                  <a:pt x="378" y="47"/>
                  <a:pt x="381" y="46"/>
                </a:cubicBezTo>
                <a:cubicBezTo>
                  <a:pt x="376" y="45"/>
                  <a:pt x="373" y="46"/>
                  <a:pt x="368" y="46"/>
                </a:cubicBezTo>
                <a:cubicBezTo>
                  <a:pt x="368" y="45"/>
                  <a:pt x="368" y="45"/>
                  <a:pt x="368" y="45"/>
                </a:cubicBezTo>
                <a:cubicBezTo>
                  <a:pt x="368" y="45"/>
                  <a:pt x="369" y="45"/>
                  <a:pt x="370" y="45"/>
                </a:cubicBezTo>
                <a:cubicBezTo>
                  <a:pt x="372" y="43"/>
                  <a:pt x="375" y="44"/>
                  <a:pt x="378" y="44"/>
                </a:cubicBezTo>
                <a:cubicBezTo>
                  <a:pt x="382" y="44"/>
                  <a:pt x="385" y="44"/>
                  <a:pt x="388" y="44"/>
                </a:cubicBezTo>
                <a:cubicBezTo>
                  <a:pt x="391" y="43"/>
                  <a:pt x="397" y="44"/>
                  <a:pt x="400" y="44"/>
                </a:cubicBezTo>
                <a:cubicBezTo>
                  <a:pt x="400" y="44"/>
                  <a:pt x="399" y="44"/>
                  <a:pt x="399" y="44"/>
                </a:cubicBezTo>
                <a:cubicBezTo>
                  <a:pt x="400" y="43"/>
                  <a:pt x="400" y="42"/>
                  <a:pt x="402" y="42"/>
                </a:cubicBezTo>
                <a:cubicBezTo>
                  <a:pt x="403" y="42"/>
                  <a:pt x="404" y="42"/>
                  <a:pt x="404" y="43"/>
                </a:cubicBezTo>
                <a:cubicBezTo>
                  <a:pt x="405" y="43"/>
                  <a:pt x="407" y="43"/>
                  <a:pt x="408" y="43"/>
                </a:cubicBezTo>
                <a:cubicBezTo>
                  <a:pt x="408" y="42"/>
                  <a:pt x="408" y="42"/>
                  <a:pt x="408" y="42"/>
                </a:cubicBezTo>
                <a:cubicBezTo>
                  <a:pt x="409" y="43"/>
                  <a:pt x="411" y="42"/>
                  <a:pt x="412" y="43"/>
                </a:cubicBezTo>
                <a:cubicBezTo>
                  <a:pt x="412" y="43"/>
                  <a:pt x="412" y="43"/>
                  <a:pt x="412" y="43"/>
                </a:cubicBezTo>
                <a:cubicBezTo>
                  <a:pt x="419" y="43"/>
                  <a:pt x="428" y="44"/>
                  <a:pt x="435" y="43"/>
                </a:cubicBezTo>
                <a:cubicBezTo>
                  <a:pt x="437" y="43"/>
                  <a:pt x="445" y="43"/>
                  <a:pt x="450" y="43"/>
                </a:cubicBezTo>
                <a:cubicBezTo>
                  <a:pt x="451" y="42"/>
                  <a:pt x="451" y="42"/>
                  <a:pt x="451" y="42"/>
                </a:cubicBezTo>
                <a:cubicBezTo>
                  <a:pt x="435" y="42"/>
                  <a:pt x="435" y="42"/>
                  <a:pt x="435" y="42"/>
                </a:cubicBezTo>
                <a:cubicBezTo>
                  <a:pt x="434" y="42"/>
                  <a:pt x="434" y="42"/>
                  <a:pt x="434" y="42"/>
                </a:cubicBezTo>
                <a:cubicBezTo>
                  <a:pt x="424" y="42"/>
                  <a:pt x="424" y="42"/>
                  <a:pt x="424" y="42"/>
                </a:cubicBezTo>
                <a:cubicBezTo>
                  <a:pt x="414" y="40"/>
                  <a:pt x="402" y="40"/>
                  <a:pt x="391" y="40"/>
                </a:cubicBezTo>
                <a:cubicBezTo>
                  <a:pt x="385" y="39"/>
                  <a:pt x="379" y="39"/>
                  <a:pt x="373" y="38"/>
                </a:cubicBezTo>
                <a:cubicBezTo>
                  <a:pt x="380" y="36"/>
                  <a:pt x="388" y="37"/>
                  <a:pt x="396" y="36"/>
                </a:cubicBezTo>
                <a:cubicBezTo>
                  <a:pt x="390" y="35"/>
                  <a:pt x="382" y="36"/>
                  <a:pt x="376" y="35"/>
                </a:cubicBezTo>
                <a:cubicBezTo>
                  <a:pt x="402" y="35"/>
                  <a:pt x="431" y="37"/>
                  <a:pt x="459" y="36"/>
                </a:cubicBezTo>
                <a:cubicBezTo>
                  <a:pt x="460" y="35"/>
                  <a:pt x="460" y="35"/>
                  <a:pt x="460" y="35"/>
                </a:cubicBezTo>
                <a:cubicBezTo>
                  <a:pt x="452" y="34"/>
                  <a:pt x="443" y="35"/>
                  <a:pt x="435" y="34"/>
                </a:cubicBezTo>
                <a:cubicBezTo>
                  <a:pt x="435" y="33"/>
                  <a:pt x="435" y="33"/>
                  <a:pt x="435" y="33"/>
                </a:cubicBezTo>
                <a:cubicBezTo>
                  <a:pt x="445" y="33"/>
                  <a:pt x="445" y="33"/>
                  <a:pt x="445" y="33"/>
                </a:cubicBezTo>
                <a:cubicBezTo>
                  <a:pt x="429" y="32"/>
                  <a:pt x="414" y="31"/>
                  <a:pt x="397" y="32"/>
                </a:cubicBezTo>
                <a:cubicBezTo>
                  <a:pt x="395" y="31"/>
                  <a:pt x="393" y="31"/>
                  <a:pt x="391" y="30"/>
                </a:cubicBezTo>
                <a:cubicBezTo>
                  <a:pt x="410" y="30"/>
                  <a:pt x="428" y="32"/>
                  <a:pt x="445" y="31"/>
                </a:cubicBezTo>
                <a:cubicBezTo>
                  <a:pt x="439" y="31"/>
                  <a:pt x="434" y="30"/>
                  <a:pt x="428" y="30"/>
                </a:cubicBezTo>
                <a:cubicBezTo>
                  <a:pt x="426" y="30"/>
                  <a:pt x="426" y="30"/>
                  <a:pt x="426" y="30"/>
                </a:cubicBezTo>
                <a:cubicBezTo>
                  <a:pt x="428" y="29"/>
                  <a:pt x="428" y="29"/>
                  <a:pt x="428" y="29"/>
                </a:cubicBezTo>
                <a:cubicBezTo>
                  <a:pt x="449" y="29"/>
                  <a:pt x="449" y="29"/>
                  <a:pt x="449" y="29"/>
                </a:cubicBezTo>
                <a:cubicBezTo>
                  <a:pt x="449" y="29"/>
                  <a:pt x="449" y="29"/>
                  <a:pt x="449" y="29"/>
                </a:cubicBezTo>
                <a:cubicBezTo>
                  <a:pt x="432" y="28"/>
                  <a:pt x="415" y="28"/>
                  <a:pt x="398" y="27"/>
                </a:cubicBezTo>
                <a:cubicBezTo>
                  <a:pt x="399" y="26"/>
                  <a:pt x="399" y="26"/>
                  <a:pt x="399" y="26"/>
                </a:cubicBezTo>
                <a:cubicBezTo>
                  <a:pt x="417" y="24"/>
                  <a:pt x="432" y="30"/>
                  <a:pt x="449" y="27"/>
                </a:cubicBezTo>
                <a:cubicBezTo>
                  <a:pt x="444" y="26"/>
                  <a:pt x="440" y="27"/>
                  <a:pt x="436" y="26"/>
                </a:cubicBezTo>
                <a:cubicBezTo>
                  <a:pt x="445" y="26"/>
                  <a:pt x="455" y="25"/>
                  <a:pt x="464" y="25"/>
                </a:cubicBezTo>
                <a:cubicBezTo>
                  <a:pt x="463" y="23"/>
                  <a:pt x="471" y="25"/>
                  <a:pt x="474" y="23"/>
                </a:cubicBezTo>
                <a:cubicBezTo>
                  <a:pt x="461" y="23"/>
                  <a:pt x="447" y="23"/>
                  <a:pt x="435" y="22"/>
                </a:cubicBezTo>
                <a:cubicBezTo>
                  <a:pt x="438" y="21"/>
                  <a:pt x="441" y="21"/>
                  <a:pt x="444" y="21"/>
                </a:cubicBezTo>
                <a:cubicBezTo>
                  <a:pt x="443" y="21"/>
                  <a:pt x="443" y="21"/>
                  <a:pt x="443" y="20"/>
                </a:cubicBezTo>
                <a:cubicBezTo>
                  <a:pt x="443" y="20"/>
                  <a:pt x="443" y="20"/>
                  <a:pt x="443" y="20"/>
                </a:cubicBezTo>
                <a:cubicBezTo>
                  <a:pt x="452" y="20"/>
                  <a:pt x="460" y="21"/>
                  <a:pt x="468" y="19"/>
                </a:cubicBezTo>
                <a:cubicBezTo>
                  <a:pt x="464" y="19"/>
                  <a:pt x="460" y="19"/>
                  <a:pt x="457" y="18"/>
                </a:cubicBezTo>
                <a:cubicBezTo>
                  <a:pt x="457" y="18"/>
                  <a:pt x="458" y="17"/>
                  <a:pt x="458" y="17"/>
                </a:cubicBezTo>
                <a:cubicBezTo>
                  <a:pt x="457" y="17"/>
                  <a:pt x="455" y="17"/>
                  <a:pt x="454" y="16"/>
                </a:cubicBezTo>
                <a:cubicBezTo>
                  <a:pt x="455" y="15"/>
                  <a:pt x="455" y="15"/>
                  <a:pt x="455" y="15"/>
                </a:cubicBezTo>
                <a:cubicBezTo>
                  <a:pt x="459" y="17"/>
                  <a:pt x="463" y="15"/>
                  <a:pt x="467" y="15"/>
                </a:cubicBezTo>
                <a:cubicBezTo>
                  <a:pt x="446" y="13"/>
                  <a:pt x="446" y="13"/>
                  <a:pt x="446" y="13"/>
                </a:cubicBezTo>
                <a:cubicBezTo>
                  <a:pt x="457" y="13"/>
                  <a:pt x="467" y="13"/>
                  <a:pt x="478" y="13"/>
                </a:cubicBezTo>
                <a:close/>
                <a:moveTo>
                  <a:pt x="20" y="46"/>
                </a:moveTo>
                <a:cubicBezTo>
                  <a:pt x="22" y="46"/>
                  <a:pt x="22" y="46"/>
                  <a:pt x="22" y="46"/>
                </a:cubicBezTo>
                <a:cubicBezTo>
                  <a:pt x="22" y="46"/>
                  <a:pt x="22" y="46"/>
                  <a:pt x="22" y="46"/>
                </a:cubicBezTo>
                <a:lnTo>
                  <a:pt x="20" y="46"/>
                </a:lnTo>
                <a:close/>
                <a:moveTo>
                  <a:pt x="224" y="74"/>
                </a:moveTo>
                <a:cubicBezTo>
                  <a:pt x="214" y="74"/>
                  <a:pt x="214" y="74"/>
                  <a:pt x="214" y="74"/>
                </a:cubicBezTo>
                <a:cubicBezTo>
                  <a:pt x="213" y="74"/>
                  <a:pt x="213" y="74"/>
                  <a:pt x="212" y="74"/>
                </a:cubicBezTo>
                <a:cubicBezTo>
                  <a:pt x="214" y="74"/>
                  <a:pt x="214" y="74"/>
                  <a:pt x="214" y="74"/>
                </a:cubicBezTo>
                <a:cubicBezTo>
                  <a:pt x="216" y="74"/>
                  <a:pt x="217" y="73"/>
                  <a:pt x="218" y="73"/>
                </a:cubicBezTo>
                <a:cubicBezTo>
                  <a:pt x="234" y="73"/>
                  <a:pt x="234" y="73"/>
                  <a:pt x="234" y="73"/>
                </a:cubicBezTo>
                <a:cubicBezTo>
                  <a:pt x="234" y="73"/>
                  <a:pt x="234" y="73"/>
                  <a:pt x="235" y="73"/>
                </a:cubicBezTo>
                <a:cubicBezTo>
                  <a:pt x="234" y="73"/>
                  <a:pt x="234" y="73"/>
                  <a:pt x="234" y="73"/>
                </a:cubicBezTo>
                <a:cubicBezTo>
                  <a:pt x="230" y="73"/>
                  <a:pt x="227" y="73"/>
                  <a:pt x="224" y="74"/>
                </a:cubicBezTo>
                <a:close/>
                <a:moveTo>
                  <a:pt x="380" y="69"/>
                </a:moveTo>
                <a:cubicBezTo>
                  <a:pt x="379" y="69"/>
                  <a:pt x="378" y="69"/>
                  <a:pt x="377" y="69"/>
                </a:cubicBezTo>
                <a:cubicBezTo>
                  <a:pt x="377" y="69"/>
                  <a:pt x="379" y="69"/>
                  <a:pt x="380" y="69"/>
                </a:cubicBezTo>
                <a:close/>
                <a:moveTo>
                  <a:pt x="367" y="70"/>
                </a:moveTo>
                <a:cubicBezTo>
                  <a:pt x="364" y="70"/>
                  <a:pt x="364" y="70"/>
                  <a:pt x="364" y="70"/>
                </a:cubicBezTo>
                <a:cubicBezTo>
                  <a:pt x="364" y="70"/>
                  <a:pt x="364" y="70"/>
                  <a:pt x="364" y="70"/>
                </a:cubicBezTo>
                <a:cubicBezTo>
                  <a:pt x="364" y="70"/>
                  <a:pt x="364" y="70"/>
                  <a:pt x="364" y="70"/>
                </a:cubicBezTo>
                <a:cubicBezTo>
                  <a:pt x="365" y="70"/>
                  <a:pt x="366" y="69"/>
                  <a:pt x="367" y="70"/>
                </a:cubicBezTo>
                <a:close/>
                <a:moveTo>
                  <a:pt x="415" y="11"/>
                </a:moveTo>
                <a:cubicBezTo>
                  <a:pt x="410" y="11"/>
                  <a:pt x="410" y="11"/>
                  <a:pt x="410" y="11"/>
                </a:cubicBezTo>
                <a:cubicBezTo>
                  <a:pt x="411" y="11"/>
                  <a:pt x="413" y="11"/>
                  <a:pt x="415" y="11"/>
                </a:cubicBezTo>
                <a:cubicBezTo>
                  <a:pt x="419" y="11"/>
                  <a:pt x="419" y="11"/>
                  <a:pt x="419" y="11"/>
                </a:cubicBezTo>
                <a:cubicBezTo>
                  <a:pt x="417" y="12"/>
                  <a:pt x="416" y="11"/>
                  <a:pt x="415" y="11"/>
                </a:cubicBezTo>
                <a:close/>
                <a:moveTo>
                  <a:pt x="422" y="12"/>
                </a:moveTo>
                <a:cubicBezTo>
                  <a:pt x="428" y="12"/>
                  <a:pt x="433" y="12"/>
                  <a:pt x="439" y="13"/>
                </a:cubicBezTo>
                <a:cubicBezTo>
                  <a:pt x="433" y="12"/>
                  <a:pt x="428" y="12"/>
                  <a:pt x="422" y="12"/>
                </a:cubicBezTo>
                <a:close/>
              </a:path>
            </a:pathLst>
          </a:custGeom>
          <a:solidFill>
            <a:srgbClr val="626c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文本框 42"/>
          <p:cNvSpPr/>
          <p:nvPr/>
        </p:nvSpPr>
        <p:spPr>
          <a:xfrm>
            <a:off x="8397720" y="3112560"/>
            <a:ext cx="11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腾祥铁山楷书简"/>
                <a:ea typeface="腾祥铁山楷书简"/>
              </a:rPr>
              <a:t>PPT</a:t>
            </a:r>
            <a:r>
              <a:rPr b="0" lang="zh-CN" sz="2400" spc="-1" strike="noStrike">
                <a:solidFill>
                  <a:srgbClr val="ffffff"/>
                </a:solidFill>
                <a:latin typeface="腾祥铁山楷书简"/>
                <a:ea typeface="腾祥铁山楷书简"/>
              </a:rPr>
              <a:t>图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矩形 43"/>
          <p:cNvSpPr/>
          <p:nvPr/>
        </p:nvSpPr>
        <p:spPr>
          <a:xfrm>
            <a:off x="8012160" y="3560760"/>
            <a:ext cx="3376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D</a:t>
            </a:r>
            <a:r>
              <a:rPr b="0" lang="zh-CN" sz="14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意空间工作室成立于</a:t>
            </a:r>
            <a:r>
              <a:rPr b="0" lang="en-US" sz="14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2015</a:t>
            </a:r>
            <a:r>
              <a:rPr b="0" lang="zh-CN" sz="14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年</a:t>
            </a:r>
            <a:r>
              <a:rPr b="0" lang="en-US" sz="14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10</a:t>
            </a:r>
            <a:r>
              <a:rPr b="0" lang="zh-CN" sz="14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月，只要是与演示相关的，我们竭诚为您服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192"/>
          <p:cNvSpPr/>
          <p:nvPr/>
        </p:nvSpPr>
        <p:spPr>
          <a:xfrm>
            <a:off x="8012160" y="4464000"/>
            <a:ext cx="2787480" cy="438120"/>
          </a:xfrm>
          <a:custGeom>
            <a:avLst/>
            <a:gdLst>
              <a:gd name="textAreaLeft" fmla="*/ 0 w 2787480"/>
              <a:gd name="textAreaRight" fmla="*/ 2787840 w 2787480"/>
              <a:gd name="textAreaTop" fmla="*/ 0 h 438120"/>
              <a:gd name="textAreaBottom" fmla="*/ 438480 h 438120"/>
            </a:gdLst>
            <a:ahLst/>
            <a:rect l="textAreaLeft" t="textAreaTop" r="textAreaRight" b="textAreaBottom"/>
            <a:pathLst>
              <a:path w="478" h="77">
                <a:moveTo>
                  <a:pt x="478" y="13"/>
                </a:moveTo>
                <a:cubicBezTo>
                  <a:pt x="472" y="13"/>
                  <a:pt x="468" y="13"/>
                  <a:pt x="462" y="12"/>
                </a:cubicBezTo>
                <a:cubicBezTo>
                  <a:pt x="461" y="11"/>
                  <a:pt x="465" y="12"/>
                  <a:pt x="464" y="11"/>
                </a:cubicBezTo>
                <a:cubicBezTo>
                  <a:pt x="434" y="9"/>
                  <a:pt x="403" y="9"/>
                  <a:pt x="373" y="7"/>
                </a:cubicBezTo>
                <a:cubicBezTo>
                  <a:pt x="402" y="6"/>
                  <a:pt x="431" y="10"/>
                  <a:pt x="460" y="10"/>
                </a:cubicBezTo>
                <a:cubicBezTo>
                  <a:pt x="436" y="6"/>
                  <a:pt x="407" y="7"/>
                  <a:pt x="381" y="5"/>
                </a:cubicBezTo>
                <a:cubicBezTo>
                  <a:pt x="288" y="3"/>
                  <a:pt x="288" y="3"/>
                  <a:pt x="288" y="3"/>
                </a:cubicBezTo>
                <a:cubicBezTo>
                  <a:pt x="222" y="3"/>
                  <a:pt x="222" y="3"/>
                  <a:pt x="222" y="3"/>
                </a:cubicBezTo>
                <a:cubicBezTo>
                  <a:pt x="130" y="4"/>
                  <a:pt x="130" y="4"/>
                  <a:pt x="130" y="4"/>
                </a:cubicBezTo>
                <a:cubicBezTo>
                  <a:pt x="130" y="3"/>
                  <a:pt x="130" y="3"/>
                  <a:pt x="130" y="3"/>
                </a:cubicBezTo>
                <a:cubicBezTo>
                  <a:pt x="127" y="2"/>
                  <a:pt x="125" y="3"/>
                  <a:pt x="123" y="3"/>
                </a:cubicBezTo>
                <a:cubicBezTo>
                  <a:pt x="124" y="3"/>
                  <a:pt x="125" y="3"/>
                  <a:pt x="125" y="4"/>
                </a:cubicBezTo>
                <a:cubicBezTo>
                  <a:pt x="122" y="4"/>
                  <a:pt x="118" y="3"/>
                  <a:pt x="115" y="4"/>
                </a:cubicBezTo>
                <a:cubicBezTo>
                  <a:pt x="112" y="3"/>
                  <a:pt x="107" y="4"/>
                  <a:pt x="102" y="3"/>
                </a:cubicBezTo>
                <a:cubicBezTo>
                  <a:pt x="100" y="2"/>
                  <a:pt x="98" y="2"/>
                  <a:pt x="95" y="2"/>
                </a:cubicBezTo>
                <a:cubicBezTo>
                  <a:pt x="70" y="2"/>
                  <a:pt x="50" y="0"/>
                  <a:pt x="24" y="1"/>
                </a:cubicBezTo>
                <a:cubicBezTo>
                  <a:pt x="18" y="2"/>
                  <a:pt x="10" y="1"/>
                  <a:pt x="6" y="4"/>
                </a:cubicBezTo>
                <a:cubicBezTo>
                  <a:pt x="6" y="5"/>
                  <a:pt x="8" y="5"/>
                  <a:pt x="8" y="5"/>
                </a:cubicBezTo>
                <a:cubicBezTo>
                  <a:pt x="7" y="5"/>
                  <a:pt x="6" y="6"/>
                  <a:pt x="5" y="5"/>
                </a:cubicBezTo>
                <a:cubicBezTo>
                  <a:pt x="5" y="5"/>
                  <a:pt x="5" y="5"/>
                  <a:pt x="5" y="5"/>
                </a:cubicBezTo>
                <a:cubicBezTo>
                  <a:pt x="0" y="6"/>
                  <a:pt x="0" y="6"/>
                  <a:pt x="0" y="6"/>
                </a:cubicBezTo>
                <a:cubicBezTo>
                  <a:pt x="2" y="7"/>
                  <a:pt x="2" y="7"/>
                  <a:pt x="2" y="7"/>
                </a:cubicBezTo>
                <a:cubicBezTo>
                  <a:pt x="2" y="7"/>
                  <a:pt x="2" y="7"/>
                  <a:pt x="2" y="7"/>
                </a:cubicBezTo>
                <a:cubicBezTo>
                  <a:pt x="4" y="8"/>
                  <a:pt x="4" y="8"/>
                  <a:pt x="4" y="8"/>
                </a:cubicBezTo>
                <a:cubicBezTo>
                  <a:pt x="3" y="8"/>
                  <a:pt x="1" y="9"/>
                  <a:pt x="0" y="9"/>
                </a:cubicBezTo>
                <a:cubicBezTo>
                  <a:pt x="0" y="11"/>
                  <a:pt x="0" y="13"/>
                  <a:pt x="3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5"/>
                  <a:pt x="2" y="15"/>
                  <a:pt x="3" y="15"/>
                </a:cubicBezTo>
                <a:cubicBezTo>
                  <a:pt x="1" y="17"/>
                  <a:pt x="1" y="17"/>
                  <a:pt x="1" y="17"/>
                </a:cubicBezTo>
                <a:cubicBezTo>
                  <a:pt x="2" y="17"/>
                  <a:pt x="2" y="17"/>
                  <a:pt x="2" y="17"/>
                </a:cubicBezTo>
                <a:cubicBezTo>
                  <a:pt x="1" y="18"/>
                  <a:pt x="1" y="18"/>
                  <a:pt x="1" y="18"/>
                </a:cubicBezTo>
                <a:cubicBezTo>
                  <a:pt x="3" y="18"/>
                  <a:pt x="1" y="19"/>
                  <a:pt x="1" y="19"/>
                </a:cubicBezTo>
                <a:cubicBezTo>
                  <a:pt x="4" y="20"/>
                  <a:pt x="4" y="20"/>
                  <a:pt x="4" y="20"/>
                </a:cubicBezTo>
                <a:cubicBezTo>
                  <a:pt x="5" y="21"/>
                  <a:pt x="2" y="20"/>
                  <a:pt x="2" y="20"/>
                </a:cubicBezTo>
                <a:cubicBezTo>
                  <a:pt x="3" y="21"/>
                  <a:pt x="5" y="21"/>
                  <a:pt x="6" y="21"/>
                </a:cubicBezTo>
                <a:cubicBezTo>
                  <a:pt x="5" y="22"/>
                  <a:pt x="3" y="21"/>
                  <a:pt x="1" y="21"/>
                </a:cubicBezTo>
                <a:cubicBezTo>
                  <a:pt x="1" y="22"/>
                  <a:pt x="1" y="22"/>
                  <a:pt x="1" y="22"/>
                </a:cubicBezTo>
                <a:cubicBezTo>
                  <a:pt x="2" y="24"/>
                  <a:pt x="6" y="24"/>
                  <a:pt x="10" y="24"/>
                </a:cubicBezTo>
                <a:cubicBezTo>
                  <a:pt x="7" y="25"/>
                  <a:pt x="5" y="25"/>
                  <a:pt x="2" y="25"/>
                </a:cubicBezTo>
                <a:cubicBezTo>
                  <a:pt x="2" y="26"/>
                  <a:pt x="2" y="26"/>
                  <a:pt x="2" y="26"/>
                </a:cubicBezTo>
                <a:cubicBezTo>
                  <a:pt x="3" y="27"/>
                  <a:pt x="5" y="26"/>
                  <a:pt x="5" y="27"/>
                </a:cubicBezTo>
                <a:cubicBezTo>
                  <a:pt x="10" y="27"/>
                  <a:pt x="10" y="27"/>
                  <a:pt x="10" y="27"/>
                </a:cubicBezTo>
                <a:cubicBezTo>
                  <a:pt x="9" y="27"/>
                  <a:pt x="9" y="27"/>
                  <a:pt x="9" y="27"/>
                </a:cubicBezTo>
                <a:cubicBezTo>
                  <a:pt x="9" y="26"/>
                  <a:pt x="10" y="26"/>
                  <a:pt x="11" y="26"/>
                </a:cubicBezTo>
                <a:cubicBezTo>
                  <a:pt x="15" y="26"/>
                  <a:pt x="12" y="30"/>
                  <a:pt x="14" y="30"/>
                </a:cubicBezTo>
                <a:cubicBezTo>
                  <a:pt x="12" y="32"/>
                  <a:pt x="9" y="30"/>
                  <a:pt x="6" y="31"/>
                </a:cubicBezTo>
                <a:cubicBezTo>
                  <a:pt x="9" y="32"/>
                  <a:pt x="12" y="31"/>
                  <a:pt x="16" y="31"/>
                </a:cubicBezTo>
                <a:cubicBezTo>
                  <a:pt x="17" y="34"/>
                  <a:pt x="17" y="34"/>
                  <a:pt x="17" y="34"/>
                </a:cubicBezTo>
                <a:cubicBezTo>
                  <a:pt x="14" y="35"/>
                  <a:pt x="14" y="35"/>
                  <a:pt x="14" y="35"/>
                </a:cubicBezTo>
                <a:cubicBezTo>
                  <a:pt x="21" y="35"/>
                  <a:pt x="21" y="35"/>
                  <a:pt x="21" y="35"/>
                </a:cubicBezTo>
                <a:cubicBezTo>
                  <a:pt x="22" y="35"/>
                  <a:pt x="23" y="35"/>
                  <a:pt x="23" y="36"/>
                </a:cubicBezTo>
                <a:cubicBezTo>
                  <a:pt x="23" y="37"/>
                  <a:pt x="22" y="37"/>
                  <a:pt x="21" y="37"/>
                </a:cubicBezTo>
                <a:cubicBezTo>
                  <a:pt x="18" y="41"/>
                  <a:pt x="11" y="37"/>
                  <a:pt x="6" y="38"/>
                </a:cubicBezTo>
                <a:cubicBezTo>
                  <a:pt x="7" y="39"/>
                  <a:pt x="10" y="39"/>
                  <a:pt x="12" y="40"/>
                </a:cubicBezTo>
                <a:cubicBezTo>
                  <a:pt x="16" y="39"/>
                  <a:pt x="18" y="38"/>
                  <a:pt x="21" y="39"/>
                </a:cubicBezTo>
                <a:cubicBezTo>
                  <a:pt x="19" y="40"/>
                  <a:pt x="19" y="40"/>
                  <a:pt x="19" y="40"/>
                </a:cubicBezTo>
                <a:cubicBezTo>
                  <a:pt x="20" y="40"/>
                  <a:pt x="20" y="40"/>
                  <a:pt x="20" y="40"/>
                </a:cubicBezTo>
                <a:cubicBezTo>
                  <a:pt x="20" y="40"/>
                  <a:pt x="21" y="40"/>
                  <a:pt x="21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9" y="41"/>
                  <a:pt x="19" y="41"/>
                  <a:pt x="19" y="41"/>
                </a:cubicBezTo>
                <a:cubicBezTo>
                  <a:pt x="20" y="41"/>
                  <a:pt x="21" y="42"/>
                  <a:pt x="22" y="41"/>
                </a:cubicBezTo>
                <a:cubicBezTo>
                  <a:pt x="22" y="43"/>
                  <a:pt x="22" y="43"/>
                  <a:pt x="22" y="43"/>
                </a:cubicBezTo>
                <a:cubicBezTo>
                  <a:pt x="20" y="44"/>
                  <a:pt x="22" y="46"/>
                  <a:pt x="19" y="46"/>
                </a:cubicBezTo>
                <a:cubicBezTo>
                  <a:pt x="20" y="46"/>
                  <a:pt x="20" y="46"/>
                  <a:pt x="20" y="46"/>
                </a:cubicBezTo>
                <a:cubicBezTo>
                  <a:pt x="16" y="47"/>
                  <a:pt x="12" y="44"/>
                  <a:pt x="9" y="46"/>
                </a:cubicBezTo>
                <a:cubicBezTo>
                  <a:pt x="13" y="47"/>
                  <a:pt x="19" y="46"/>
                  <a:pt x="23" y="48"/>
                </a:cubicBezTo>
                <a:cubicBezTo>
                  <a:pt x="22" y="49"/>
                  <a:pt x="22" y="49"/>
                  <a:pt x="22" y="49"/>
                </a:cubicBezTo>
                <a:cubicBezTo>
                  <a:pt x="21" y="48"/>
                  <a:pt x="21" y="48"/>
                  <a:pt x="21" y="48"/>
                </a:cubicBezTo>
                <a:cubicBezTo>
                  <a:pt x="19" y="48"/>
                  <a:pt x="17" y="49"/>
                  <a:pt x="16" y="49"/>
                </a:cubicBezTo>
                <a:cubicBezTo>
                  <a:pt x="17" y="49"/>
                  <a:pt x="19" y="49"/>
                  <a:pt x="20" y="49"/>
                </a:cubicBezTo>
                <a:cubicBezTo>
                  <a:pt x="22" y="50"/>
                  <a:pt x="25" y="51"/>
                  <a:pt x="24" y="53"/>
                </a:cubicBezTo>
                <a:cubicBezTo>
                  <a:pt x="19" y="53"/>
                  <a:pt x="19" y="53"/>
                  <a:pt x="19" y="53"/>
                </a:cubicBezTo>
                <a:cubicBezTo>
                  <a:pt x="26" y="55"/>
                  <a:pt x="26" y="55"/>
                  <a:pt x="26" y="55"/>
                </a:cubicBezTo>
                <a:cubicBezTo>
                  <a:pt x="25" y="57"/>
                  <a:pt x="29" y="58"/>
                  <a:pt x="30" y="59"/>
                </a:cubicBezTo>
                <a:cubicBezTo>
                  <a:pt x="29" y="60"/>
                  <a:pt x="27" y="59"/>
                  <a:pt x="26" y="60"/>
                </a:cubicBezTo>
                <a:cubicBezTo>
                  <a:pt x="22" y="61"/>
                  <a:pt x="28" y="62"/>
                  <a:pt x="26" y="64"/>
                </a:cubicBezTo>
                <a:cubicBezTo>
                  <a:pt x="27" y="64"/>
                  <a:pt x="29" y="64"/>
                  <a:pt x="30" y="65"/>
                </a:cubicBezTo>
                <a:cubicBezTo>
                  <a:pt x="30" y="65"/>
                  <a:pt x="29" y="66"/>
                  <a:pt x="29" y="66"/>
                </a:cubicBezTo>
                <a:cubicBezTo>
                  <a:pt x="25" y="64"/>
                  <a:pt x="21" y="63"/>
                  <a:pt x="17" y="63"/>
                </a:cubicBezTo>
                <a:cubicBezTo>
                  <a:pt x="22" y="66"/>
                  <a:pt x="22" y="66"/>
                  <a:pt x="22" y="66"/>
                </a:cubicBezTo>
                <a:cubicBezTo>
                  <a:pt x="30" y="66"/>
                  <a:pt x="36" y="70"/>
                  <a:pt x="44" y="70"/>
                </a:cubicBezTo>
                <a:cubicBezTo>
                  <a:pt x="51" y="73"/>
                  <a:pt x="61" y="73"/>
                  <a:pt x="70" y="75"/>
                </a:cubicBezTo>
                <a:cubicBezTo>
                  <a:pt x="82" y="75"/>
                  <a:pt x="93" y="77"/>
                  <a:pt x="104" y="77"/>
                </a:cubicBezTo>
                <a:cubicBezTo>
                  <a:pt x="123" y="76"/>
                  <a:pt x="142" y="76"/>
                  <a:pt x="161" y="76"/>
                </a:cubicBezTo>
                <a:cubicBezTo>
                  <a:pt x="258" y="76"/>
                  <a:pt x="258" y="76"/>
                  <a:pt x="258" y="76"/>
                </a:cubicBezTo>
                <a:cubicBezTo>
                  <a:pt x="286" y="75"/>
                  <a:pt x="315" y="77"/>
                  <a:pt x="341" y="75"/>
                </a:cubicBezTo>
                <a:cubicBezTo>
                  <a:pt x="336" y="75"/>
                  <a:pt x="331" y="74"/>
                  <a:pt x="326" y="75"/>
                </a:cubicBezTo>
                <a:cubicBezTo>
                  <a:pt x="323" y="75"/>
                  <a:pt x="321" y="74"/>
                  <a:pt x="319" y="75"/>
                </a:cubicBezTo>
                <a:cubicBezTo>
                  <a:pt x="316" y="75"/>
                  <a:pt x="313" y="75"/>
                  <a:pt x="311" y="74"/>
                </a:cubicBezTo>
                <a:cubicBezTo>
                  <a:pt x="280" y="74"/>
                  <a:pt x="280" y="74"/>
                  <a:pt x="280" y="74"/>
                </a:cubicBezTo>
                <a:cubicBezTo>
                  <a:pt x="279" y="74"/>
                  <a:pt x="279" y="74"/>
                  <a:pt x="279" y="74"/>
                </a:cubicBezTo>
                <a:cubicBezTo>
                  <a:pt x="276" y="74"/>
                  <a:pt x="272" y="75"/>
                  <a:pt x="270" y="74"/>
                </a:cubicBezTo>
                <a:cubicBezTo>
                  <a:pt x="271" y="73"/>
                  <a:pt x="271" y="73"/>
                  <a:pt x="271" y="73"/>
                </a:cubicBezTo>
                <a:cubicBezTo>
                  <a:pt x="401" y="73"/>
                  <a:pt x="401" y="73"/>
                  <a:pt x="401" y="73"/>
                </a:cubicBezTo>
                <a:cubicBezTo>
                  <a:pt x="415" y="72"/>
                  <a:pt x="415" y="72"/>
                  <a:pt x="415" y="72"/>
                </a:cubicBezTo>
                <a:cubicBezTo>
                  <a:pt x="384" y="72"/>
                  <a:pt x="352" y="72"/>
                  <a:pt x="320" y="71"/>
                </a:cubicBezTo>
                <a:cubicBezTo>
                  <a:pt x="309" y="71"/>
                  <a:pt x="297" y="72"/>
                  <a:pt x="286" y="70"/>
                </a:cubicBezTo>
                <a:cubicBezTo>
                  <a:pt x="312" y="70"/>
                  <a:pt x="341" y="71"/>
                  <a:pt x="368" y="70"/>
                </a:cubicBezTo>
                <a:cubicBezTo>
                  <a:pt x="368" y="70"/>
                  <a:pt x="368" y="70"/>
                  <a:pt x="368" y="70"/>
                </a:cubicBezTo>
                <a:cubicBezTo>
                  <a:pt x="369" y="69"/>
                  <a:pt x="369" y="69"/>
                  <a:pt x="369" y="69"/>
                </a:cubicBezTo>
                <a:cubicBezTo>
                  <a:pt x="370" y="70"/>
                  <a:pt x="371" y="69"/>
                  <a:pt x="372" y="69"/>
                </a:cubicBezTo>
                <a:cubicBezTo>
                  <a:pt x="376" y="69"/>
                  <a:pt x="383" y="71"/>
                  <a:pt x="387" y="69"/>
                </a:cubicBezTo>
                <a:cubicBezTo>
                  <a:pt x="373" y="68"/>
                  <a:pt x="373" y="68"/>
                  <a:pt x="373" y="68"/>
                </a:cubicBezTo>
                <a:cubicBezTo>
                  <a:pt x="372" y="68"/>
                  <a:pt x="372" y="68"/>
                  <a:pt x="372" y="68"/>
                </a:cubicBezTo>
                <a:cubicBezTo>
                  <a:pt x="374" y="67"/>
                  <a:pt x="374" y="67"/>
                  <a:pt x="374" y="67"/>
                </a:cubicBezTo>
                <a:cubicBezTo>
                  <a:pt x="371" y="67"/>
                  <a:pt x="371" y="67"/>
                  <a:pt x="371" y="67"/>
                </a:cubicBezTo>
                <a:cubicBezTo>
                  <a:pt x="371" y="67"/>
                  <a:pt x="370" y="67"/>
                  <a:pt x="370" y="66"/>
                </a:cubicBezTo>
                <a:cubicBezTo>
                  <a:pt x="371" y="66"/>
                  <a:pt x="373" y="65"/>
                  <a:pt x="374" y="66"/>
                </a:cubicBezTo>
                <a:cubicBezTo>
                  <a:pt x="374" y="66"/>
                  <a:pt x="372" y="66"/>
                  <a:pt x="372" y="66"/>
                </a:cubicBezTo>
                <a:cubicBezTo>
                  <a:pt x="378" y="66"/>
                  <a:pt x="387" y="67"/>
                  <a:pt x="395" y="67"/>
                </a:cubicBezTo>
                <a:cubicBezTo>
                  <a:pt x="394" y="67"/>
                  <a:pt x="394" y="67"/>
                  <a:pt x="394" y="67"/>
                </a:cubicBezTo>
                <a:cubicBezTo>
                  <a:pt x="398" y="68"/>
                  <a:pt x="405" y="68"/>
                  <a:pt x="408" y="67"/>
                </a:cubicBezTo>
                <a:cubicBezTo>
                  <a:pt x="410" y="66"/>
                  <a:pt x="410" y="67"/>
                  <a:pt x="410" y="67"/>
                </a:cubicBezTo>
                <a:cubicBezTo>
                  <a:pt x="412" y="68"/>
                  <a:pt x="411" y="67"/>
                  <a:pt x="412" y="66"/>
                </a:cubicBezTo>
                <a:cubicBezTo>
                  <a:pt x="429" y="66"/>
                  <a:pt x="429" y="66"/>
                  <a:pt x="429" y="66"/>
                </a:cubicBezTo>
                <a:cubicBezTo>
                  <a:pt x="429" y="67"/>
                  <a:pt x="429" y="67"/>
                  <a:pt x="429" y="67"/>
                </a:cubicBezTo>
                <a:cubicBezTo>
                  <a:pt x="424" y="67"/>
                  <a:pt x="419" y="67"/>
                  <a:pt x="414" y="67"/>
                </a:cubicBezTo>
                <a:cubicBezTo>
                  <a:pt x="421" y="68"/>
                  <a:pt x="431" y="68"/>
                  <a:pt x="436" y="67"/>
                </a:cubicBezTo>
                <a:cubicBezTo>
                  <a:pt x="434" y="67"/>
                  <a:pt x="431" y="67"/>
                  <a:pt x="429" y="66"/>
                </a:cubicBezTo>
                <a:cubicBezTo>
                  <a:pt x="440" y="66"/>
                  <a:pt x="453" y="66"/>
                  <a:pt x="465" y="66"/>
                </a:cubicBezTo>
                <a:cubicBezTo>
                  <a:pt x="463" y="65"/>
                  <a:pt x="459" y="66"/>
                  <a:pt x="456" y="65"/>
                </a:cubicBezTo>
                <a:cubicBezTo>
                  <a:pt x="457" y="65"/>
                  <a:pt x="457" y="65"/>
                  <a:pt x="457" y="65"/>
                </a:cubicBezTo>
                <a:cubicBezTo>
                  <a:pt x="455" y="66"/>
                  <a:pt x="453" y="64"/>
                  <a:pt x="451" y="65"/>
                </a:cubicBezTo>
                <a:cubicBezTo>
                  <a:pt x="441" y="65"/>
                  <a:pt x="428" y="65"/>
                  <a:pt x="415" y="65"/>
                </a:cubicBezTo>
                <a:cubicBezTo>
                  <a:pt x="414" y="64"/>
                  <a:pt x="414" y="64"/>
                  <a:pt x="414" y="64"/>
                </a:cubicBezTo>
                <a:cubicBezTo>
                  <a:pt x="413" y="64"/>
                  <a:pt x="413" y="65"/>
                  <a:pt x="411" y="65"/>
                </a:cubicBezTo>
                <a:cubicBezTo>
                  <a:pt x="410" y="63"/>
                  <a:pt x="409" y="66"/>
                  <a:pt x="407" y="64"/>
                </a:cubicBezTo>
                <a:cubicBezTo>
                  <a:pt x="407" y="64"/>
                  <a:pt x="407" y="64"/>
                  <a:pt x="407" y="64"/>
                </a:cubicBezTo>
                <a:cubicBezTo>
                  <a:pt x="403" y="65"/>
                  <a:pt x="397" y="65"/>
                  <a:pt x="393" y="64"/>
                </a:cubicBezTo>
                <a:cubicBezTo>
                  <a:pt x="373" y="64"/>
                  <a:pt x="373" y="64"/>
                  <a:pt x="373" y="64"/>
                </a:cubicBezTo>
                <a:cubicBezTo>
                  <a:pt x="371" y="65"/>
                  <a:pt x="367" y="65"/>
                  <a:pt x="365" y="64"/>
                </a:cubicBezTo>
                <a:cubicBezTo>
                  <a:pt x="367" y="64"/>
                  <a:pt x="367" y="64"/>
                  <a:pt x="367" y="64"/>
                </a:cubicBezTo>
                <a:cubicBezTo>
                  <a:pt x="363" y="64"/>
                  <a:pt x="359" y="63"/>
                  <a:pt x="356" y="64"/>
                </a:cubicBezTo>
                <a:cubicBezTo>
                  <a:pt x="347" y="64"/>
                  <a:pt x="338" y="65"/>
                  <a:pt x="330" y="63"/>
                </a:cubicBezTo>
                <a:cubicBezTo>
                  <a:pt x="344" y="62"/>
                  <a:pt x="354" y="64"/>
                  <a:pt x="368" y="62"/>
                </a:cubicBezTo>
                <a:cubicBezTo>
                  <a:pt x="335" y="62"/>
                  <a:pt x="335" y="62"/>
                  <a:pt x="335" y="62"/>
                </a:cubicBezTo>
                <a:cubicBezTo>
                  <a:pt x="345" y="61"/>
                  <a:pt x="357" y="61"/>
                  <a:pt x="368" y="61"/>
                </a:cubicBezTo>
                <a:cubicBezTo>
                  <a:pt x="369" y="61"/>
                  <a:pt x="369" y="60"/>
                  <a:pt x="370" y="61"/>
                </a:cubicBezTo>
                <a:cubicBezTo>
                  <a:pt x="371" y="59"/>
                  <a:pt x="375" y="60"/>
                  <a:pt x="378" y="60"/>
                </a:cubicBezTo>
                <a:cubicBezTo>
                  <a:pt x="375" y="61"/>
                  <a:pt x="375" y="61"/>
                  <a:pt x="375" y="61"/>
                </a:cubicBezTo>
                <a:cubicBezTo>
                  <a:pt x="382" y="61"/>
                  <a:pt x="391" y="61"/>
                  <a:pt x="399" y="61"/>
                </a:cubicBezTo>
                <a:cubicBezTo>
                  <a:pt x="400" y="60"/>
                  <a:pt x="400" y="60"/>
                  <a:pt x="400" y="60"/>
                </a:cubicBezTo>
                <a:cubicBezTo>
                  <a:pt x="402" y="59"/>
                  <a:pt x="404" y="61"/>
                  <a:pt x="406" y="60"/>
                </a:cubicBezTo>
                <a:cubicBezTo>
                  <a:pt x="406" y="60"/>
                  <a:pt x="406" y="60"/>
                  <a:pt x="406" y="60"/>
                </a:cubicBezTo>
                <a:cubicBezTo>
                  <a:pt x="426" y="61"/>
                  <a:pt x="450" y="60"/>
                  <a:pt x="471" y="60"/>
                </a:cubicBezTo>
                <a:cubicBezTo>
                  <a:pt x="453" y="59"/>
                  <a:pt x="433" y="59"/>
                  <a:pt x="415" y="59"/>
                </a:cubicBezTo>
                <a:cubicBezTo>
                  <a:pt x="415" y="59"/>
                  <a:pt x="415" y="59"/>
                  <a:pt x="415" y="59"/>
                </a:cubicBezTo>
                <a:cubicBezTo>
                  <a:pt x="414" y="59"/>
                  <a:pt x="414" y="59"/>
                  <a:pt x="414" y="59"/>
                </a:cubicBezTo>
                <a:cubicBezTo>
                  <a:pt x="410" y="57"/>
                  <a:pt x="407" y="61"/>
                  <a:pt x="403" y="59"/>
                </a:cubicBezTo>
                <a:cubicBezTo>
                  <a:pt x="396" y="61"/>
                  <a:pt x="390" y="57"/>
                  <a:pt x="383" y="59"/>
                </a:cubicBezTo>
                <a:cubicBezTo>
                  <a:pt x="381" y="58"/>
                  <a:pt x="381" y="58"/>
                  <a:pt x="381" y="58"/>
                </a:cubicBezTo>
                <a:cubicBezTo>
                  <a:pt x="393" y="57"/>
                  <a:pt x="403" y="59"/>
                  <a:pt x="414" y="58"/>
                </a:cubicBezTo>
                <a:cubicBezTo>
                  <a:pt x="404" y="57"/>
                  <a:pt x="404" y="57"/>
                  <a:pt x="404" y="57"/>
                </a:cubicBezTo>
                <a:cubicBezTo>
                  <a:pt x="403" y="57"/>
                  <a:pt x="399" y="58"/>
                  <a:pt x="399" y="56"/>
                </a:cubicBezTo>
                <a:cubicBezTo>
                  <a:pt x="381" y="55"/>
                  <a:pt x="381" y="55"/>
                  <a:pt x="381" y="55"/>
                </a:cubicBezTo>
                <a:cubicBezTo>
                  <a:pt x="380" y="55"/>
                  <a:pt x="379" y="55"/>
                  <a:pt x="379" y="54"/>
                </a:cubicBezTo>
                <a:cubicBezTo>
                  <a:pt x="380" y="54"/>
                  <a:pt x="381" y="54"/>
                  <a:pt x="382" y="54"/>
                </a:cubicBezTo>
                <a:cubicBezTo>
                  <a:pt x="382" y="54"/>
                  <a:pt x="382" y="54"/>
                  <a:pt x="382" y="54"/>
                </a:cubicBezTo>
                <a:cubicBezTo>
                  <a:pt x="382" y="54"/>
                  <a:pt x="381" y="54"/>
                  <a:pt x="381" y="54"/>
                </a:cubicBezTo>
                <a:cubicBezTo>
                  <a:pt x="383" y="54"/>
                  <a:pt x="383" y="54"/>
                  <a:pt x="383" y="54"/>
                </a:cubicBezTo>
                <a:cubicBezTo>
                  <a:pt x="383" y="54"/>
                  <a:pt x="383" y="54"/>
                  <a:pt x="382" y="54"/>
                </a:cubicBezTo>
                <a:cubicBezTo>
                  <a:pt x="383" y="54"/>
                  <a:pt x="383" y="54"/>
                  <a:pt x="383" y="54"/>
                </a:cubicBezTo>
                <a:cubicBezTo>
                  <a:pt x="384" y="54"/>
                  <a:pt x="387" y="53"/>
                  <a:pt x="388" y="54"/>
                </a:cubicBezTo>
                <a:cubicBezTo>
                  <a:pt x="388" y="54"/>
                  <a:pt x="388" y="54"/>
                  <a:pt x="388" y="54"/>
                </a:cubicBezTo>
                <a:cubicBezTo>
                  <a:pt x="426" y="54"/>
                  <a:pt x="426" y="54"/>
                  <a:pt x="426" y="54"/>
                </a:cubicBezTo>
                <a:cubicBezTo>
                  <a:pt x="425" y="53"/>
                  <a:pt x="425" y="53"/>
                  <a:pt x="425" y="53"/>
                </a:cubicBezTo>
                <a:cubicBezTo>
                  <a:pt x="407" y="52"/>
                  <a:pt x="386" y="52"/>
                  <a:pt x="368" y="51"/>
                </a:cubicBezTo>
                <a:cubicBezTo>
                  <a:pt x="366" y="51"/>
                  <a:pt x="360" y="51"/>
                  <a:pt x="362" y="49"/>
                </a:cubicBezTo>
                <a:cubicBezTo>
                  <a:pt x="364" y="50"/>
                  <a:pt x="365" y="48"/>
                  <a:pt x="367" y="49"/>
                </a:cubicBezTo>
                <a:cubicBezTo>
                  <a:pt x="366" y="49"/>
                  <a:pt x="366" y="49"/>
                  <a:pt x="366" y="49"/>
                </a:cubicBezTo>
                <a:cubicBezTo>
                  <a:pt x="367" y="49"/>
                  <a:pt x="367" y="49"/>
                  <a:pt x="367" y="49"/>
                </a:cubicBezTo>
                <a:cubicBezTo>
                  <a:pt x="367" y="49"/>
                  <a:pt x="367" y="49"/>
                  <a:pt x="367" y="49"/>
                </a:cubicBezTo>
                <a:cubicBezTo>
                  <a:pt x="368" y="49"/>
                  <a:pt x="368" y="49"/>
                  <a:pt x="368" y="49"/>
                </a:cubicBezTo>
                <a:cubicBezTo>
                  <a:pt x="383" y="49"/>
                  <a:pt x="383" y="49"/>
                  <a:pt x="383" y="49"/>
                </a:cubicBezTo>
                <a:cubicBezTo>
                  <a:pt x="387" y="48"/>
                  <a:pt x="387" y="48"/>
                  <a:pt x="387" y="48"/>
                </a:cubicBezTo>
                <a:cubicBezTo>
                  <a:pt x="381" y="48"/>
                  <a:pt x="375" y="48"/>
                  <a:pt x="369" y="48"/>
                </a:cubicBezTo>
                <a:cubicBezTo>
                  <a:pt x="368" y="47"/>
                  <a:pt x="368" y="47"/>
                  <a:pt x="368" y="47"/>
                </a:cubicBezTo>
                <a:cubicBezTo>
                  <a:pt x="372" y="46"/>
                  <a:pt x="378" y="47"/>
                  <a:pt x="381" y="46"/>
                </a:cubicBezTo>
                <a:cubicBezTo>
                  <a:pt x="376" y="45"/>
                  <a:pt x="373" y="46"/>
                  <a:pt x="368" y="46"/>
                </a:cubicBezTo>
                <a:cubicBezTo>
                  <a:pt x="368" y="45"/>
                  <a:pt x="368" y="45"/>
                  <a:pt x="368" y="45"/>
                </a:cubicBezTo>
                <a:cubicBezTo>
                  <a:pt x="368" y="45"/>
                  <a:pt x="369" y="45"/>
                  <a:pt x="370" y="45"/>
                </a:cubicBezTo>
                <a:cubicBezTo>
                  <a:pt x="372" y="43"/>
                  <a:pt x="375" y="44"/>
                  <a:pt x="378" y="44"/>
                </a:cubicBezTo>
                <a:cubicBezTo>
                  <a:pt x="382" y="44"/>
                  <a:pt x="385" y="44"/>
                  <a:pt x="388" y="44"/>
                </a:cubicBezTo>
                <a:cubicBezTo>
                  <a:pt x="391" y="43"/>
                  <a:pt x="397" y="44"/>
                  <a:pt x="400" y="44"/>
                </a:cubicBezTo>
                <a:cubicBezTo>
                  <a:pt x="400" y="44"/>
                  <a:pt x="399" y="44"/>
                  <a:pt x="399" y="44"/>
                </a:cubicBezTo>
                <a:cubicBezTo>
                  <a:pt x="400" y="43"/>
                  <a:pt x="400" y="42"/>
                  <a:pt x="402" y="42"/>
                </a:cubicBezTo>
                <a:cubicBezTo>
                  <a:pt x="403" y="42"/>
                  <a:pt x="404" y="42"/>
                  <a:pt x="404" y="43"/>
                </a:cubicBezTo>
                <a:cubicBezTo>
                  <a:pt x="405" y="43"/>
                  <a:pt x="407" y="43"/>
                  <a:pt x="408" y="43"/>
                </a:cubicBezTo>
                <a:cubicBezTo>
                  <a:pt x="408" y="42"/>
                  <a:pt x="408" y="42"/>
                  <a:pt x="408" y="42"/>
                </a:cubicBezTo>
                <a:cubicBezTo>
                  <a:pt x="409" y="43"/>
                  <a:pt x="411" y="42"/>
                  <a:pt x="412" y="43"/>
                </a:cubicBezTo>
                <a:cubicBezTo>
                  <a:pt x="412" y="43"/>
                  <a:pt x="412" y="43"/>
                  <a:pt x="412" y="43"/>
                </a:cubicBezTo>
                <a:cubicBezTo>
                  <a:pt x="419" y="43"/>
                  <a:pt x="428" y="44"/>
                  <a:pt x="435" y="43"/>
                </a:cubicBezTo>
                <a:cubicBezTo>
                  <a:pt x="437" y="43"/>
                  <a:pt x="445" y="43"/>
                  <a:pt x="450" y="43"/>
                </a:cubicBezTo>
                <a:cubicBezTo>
                  <a:pt x="451" y="42"/>
                  <a:pt x="451" y="42"/>
                  <a:pt x="451" y="42"/>
                </a:cubicBezTo>
                <a:cubicBezTo>
                  <a:pt x="435" y="42"/>
                  <a:pt x="435" y="42"/>
                  <a:pt x="435" y="42"/>
                </a:cubicBezTo>
                <a:cubicBezTo>
                  <a:pt x="434" y="42"/>
                  <a:pt x="434" y="42"/>
                  <a:pt x="434" y="42"/>
                </a:cubicBezTo>
                <a:cubicBezTo>
                  <a:pt x="424" y="42"/>
                  <a:pt x="424" y="42"/>
                  <a:pt x="424" y="42"/>
                </a:cubicBezTo>
                <a:cubicBezTo>
                  <a:pt x="414" y="40"/>
                  <a:pt x="402" y="40"/>
                  <a:pt x="391" y="40"/>
                </a:cubicBezTo>
                <a:cubicBezTo>
                  <a:pt x="385" y="39"/>
                  <a:pt x="379" y="39"/>
                  <a:pt x="373" y="38"/>
                </a:cubicBezTo>
                <a:cubicBezTo>
                  <a:pt x="380" y="36"/>
                  <a:pt x="388" y="37"/>
                  <a:pt x="396" y="36"/>
                </a:cubicBezTo>
                <a:cubicBezTo>
                  <a:pt x="390" y="35"/>
                  <a:pt x="382" y="36"/>
                  <a:pt x="376" y="35"/>
                </a:cubicBezTo>
                <a:cubicBezTo>
                  <a:pt x="402" y="35"/>
                  <a:pt x="431" y="37"/>
                  <a:pt x="459" y="36"/>
                </a:cubicBezTo>
                <a:cubicBezTo>
                  <a:pt x="460" y="35"/>
                  <a:pt x="460" y="35"/>
                  <a:pt x="460" y="35"/>
                </a:cubicBezTo>
                <a:cubicBezTo>
                  <a:pt x="452" y="34"/>
                  <a:pt x="443" y="35"/>
                  <a:pt x="435" y="34"/>
                </a:cubicBezTo>
                <a:cubicBezTo>
                  <a:pt x="435" y="33"/>
                  <a:pt x="435" y="33"/>
                  <a:pt x="435" y="33"/>
                </a:cubicBezTo>
                <a:cubicBezTo>
                  <a:pt x="445" y="33"/>
                  <a:pt x="445" y="33"/>
                  <a:pt x="445" y="33"/>
                </a:cubicBezTo>
                <a:cubicBezTo>
                  <a:pt x="429" y="32"/>
                  <a:pt x="414" y="31"/>
                  <a:pt x="397" y="32"/>
                </a:cubicBezTo>
                <a:cubicBezTo>
                  <a:pt x="395" y="31"/>
                  <a:pt x="393" y="31"/>
                  <a:pt x="391" y="30"/>
                </a:cubicBezTo>
                <a:cubicBezTo>
                  <a:pt x="410" y="30"/>
                  <a:pt x="428" y="32"/>
                  <a:pt x="445" y="31"/>
                </a:cubicBezTo>
                <a:cubicBezTo>
                  <a:pt x="439" y="31"/>
                  <a:pt x="434" y="30"/>
                  <a:pt x="428" y="30"/>
                </a:cubicBezTo>
                <a:cubicBezTo>
                  <a:pt x="426" y="30"/>
                  <a:pt x="426" y="30"/>
                  <a:pt x="426" y="30"/>
                </a:cubicBezTo>
                <a:cubicBezTo>
                  <a:pt x="428" y="29"/>
                  <a:pt x="428" y="29"/>
                  <a:pt x="428" y="29"/>
                </a:cubicBezTo>
                <a:cubicBezTo>
                  <a:pt x="449" y="29"/>
                  <a:pt x="449" y="29"/>
                  <a:pt x="449" y="29"/>
                </a:cubicBezTo>
                <a:cubicBezTo>
                  <a:pt x="449" y="29"/>
                  <a:pt x="449" y="29"/>
                  <a:pt x="449" y="29"/>
                </a:cubicBezTo>
                <a:cubicBezTo>
                  <a:pt x="432" y="28"/>
                  <a:pt x="415" y="28"/>
                  <a:pt x="398" y="27"/>
                </a:cubicBezTo>
                <a:cubicBezTo>
                  <a:pt x="399" y="26"/>
                  <a:pt x="399" y="26"/>
                  <a:pt x="399" y="26"/>
                </a:cubicBezTo>
                <a:cubicBezTo>
                  <a:pt x="417" y="24"/>
                  <a:pt x="432" y="30"/>
                  <a:pt x="449" y="27"/>
                </a:cubicBezTo>
                <a:cubicBezTo>
                  <a:pt x="444" y="26"/>
                  <a:pt x="440" y="27"/>
                  <a:pt x="436" y="26"/>
                </a:cubicBezTo>
                <a:cubicBezTo>
                  <a:pt x="445" y="26"/>
                  <a:pt x="455" y="25"/>
                  <a:pt x="464" y="25"/>
                </a:cubicBezTo>
                <a:cubicBezTo>
                  <a:pt x="463" y="23"/>
                  <a:pt x="471" y="25"/>
                  <a:pt x="474" y="23"/>
                </a:cubicBezTo>
                <a:cubicBezTo>
                  <a:pt x="461" y="23"/>
                  <a:pt x="447" y="23"/>
                  <a:pt x="435" y="22"/>
                </a:cubicBezTo>
                <a:cubicBezTo>
                  <a:pt x="438" y="21"/>
                  <a:pt x="441" y="21"/>
                  <a:pt x="444" y="21"/>
                </a:cubicBezTo>
                <a:cubicBezTo>
                  <a:pt x="443" y="21"/>
                  <a:pt x="443" y="21"/>
                  <a:pt x="443" y="20"/>
                </a:cubicBezTo>
                <a:cubicBezTo>
                  <a:pt x="443" y="20"/>
                  <a:pt x="443" y="20"/>
                  <a:pt x="443" y="20"/>
                </a:cubicBezTo>
                <a:cubicBezTo>
                  <a:pt x="452" y="20"/>
                  <a:pt x="460" y="21"/>
                  <a:pt x="468" y="19"/>
                </a:cubicBezTo>
                <a:cubicBezTo>
                  <a:pt x="464" y="19"/>
                  <a:pt x="460" y="19"/>
                  <a:pt x="457" y="18"/>
                </a:cubicBezTo>
                <a:cubicBezTo>
                  <a:pt x="457" y="18"/>
                  <a:pt x="458" y="17"/>
                  <a:pt x="458" y="17"/>
                </a:cubicBezTo>
                <a:cubicBezTo>
                  <a:pt x="457" y="17"/>
                  <a:pt x="455" y="17"/>
                  <a:pt x="454" y="16"/>
                </a:cubicBezTo>
                <a:cubicBezTo>
                  <a:pt x="455" y="15"/>
                  <a:pt x="455" y="15"/>
                  <a:pt x="455" y="15"/>
                </a:cubicBezTo>
                <a:cubicBezTo>
                  <a:pt x="459" y="17"/>
                  <a:pt x="463" y="15"/>
                  <a:pt x="467" y="15"/>
                </a:cubicBezTo>
                <a:cubicBezTo>
                  <a:pt x="446" y="13"/>
                  <a:pt x="446" y="13"/>
                  <a:pt x="446" y="13"/>
                </a:cubicBezTo>
                <a:cubicBezTo>
                  <a:pt x="457" y="13"/>
                  <a:pt x="467" y="13"/>
                  <a:pt x="478" y="13"/>
                </a:cubicBezTo>
                <a:close/>
                <a:moveTo>
                  <a:pt x="20" y="46"/>
                </a:moveTo>
                <a:cubicBezTo>
                  <a:pt x="22" y="46"/>
                  <a:pt x="22" y="46"/>
                  <a:pt x="22" y="46"/>
                </a:cubicBezTo>
                <a:cubicBezTo>
                  <a:pt x="22" y="46"/>
                  <a:pt x="22" y="46"/>
                  <a:pt x="22" y="46"/>
                </a:cubicBezTo>
                <a:lnTo>
                  <a:pt x="20" y="46"/>
                </a:lnTo>
                <a:close/>
                <a:moveTo>
                  <a:pt x="224" y="74"/>
                </a:moveTo>
                <a:cubicBezTo>
                  <a:pt x="214" y="74"/>
                  <a:pt x="214" y="74"/>
                  <a:pt x="214" y="74"/>
                </a:cubicBezTo>
                <a:cubicBezTo>
                  <a:pt x="213" y="74"/>
                  <a:pt x="213" y="74"/>
                  <a:pt x="212" y="74"/>
                </a:cubicBezTo>
                <a:cubicBezTo>
                  <a:pt x="214" y="74"/>
                  <a:pt x="214" y="74"/>
                  <a:pt x="214" y="74"/>
                </a:cubicBezTo>
                <a:cubicBezTo>
                  <a:pt x="216" y="74"/>
                  <a:pt x="217" y="73"/>
                  <a:pt x="218" y="73"/>
                </a:cubicBezTo>
                <a:cubicBezTo>
                  <a:pt x="234" y="73"/>
                  <a:pt x="234" y="73"/>
                  <a:pt x="234" y="73"/>
                </a:cubicBezTo>
                <a:cubicBezTo>
                  <a:pt x="234" y="73"/>
                  <a:pt x="234" y="73"/>
                  <a:pt x="235" y="73"/>
                </a:cubicBezTo>
                <a:cubicBezTo>
                  <a:pt x="234" y="73"/>
                  <a:pt x="234" y="73"/>
                  <a:pt x="234" y="73"/>
                </a:cubicBezTo>
                <a:cubicBezTo>
                  <a:pt x="230" y="73"/>
                  <a:pt x="227" y="73"/>
                  <a:pt x="224" y="74"/>
                </a:cubicBezTo>
                <a:close/>
                <a:moveTo>
                  <a:pt x="380" y="69"/>
                </a:moveTo>
                <a:cubicBezTo>
                  <a:pt x="379" y="69"/>
                  <a:pt x="378" y="69"/>
                  <a:pt x="377" y="69"/>
                </a:cubicBezTo>
                <a:cubicBezTo>
                  <a:pt x="377" y="69"/>
                  <a:pt x="379" y="69"/>
                  <a:pt x="380" y="69"/>
                </a:cubicBezTo>
                <a:close/>
                <a:moveTo>
                  <a:pt x="367" y="70"/>
                </a:moveTo>
                <a:cubicBezTo>
                  <a:pt x="364" y="70"/>
                  <a:pt x="364" y="70"/>
                  <a:pt x="364" y="70"/>
                </a:cubicBezTo>
                <a:cubicBezTo>
                  <a:pt x="364" y="70"/>
                  <a:pt x="364" y="70"/>
                  <a:pt x="364" y="70"/>
                </a:cubicBezTo>
                <a:cubicBezTo>
                  <a:pt x="364" y="70"/>
                  <a:pt x="364" y="70"/>
                  <a:pt x="364" y="70"/>
                </a:cubicBezTo>
                <a:cubicBezTo>
                  <a:pt x="365" y="70"/>
                  <a:pt x="366" y="69"/>
                  <a:pt x="367" y="70"/>
                </a:cubicBezTo>
                <a:close/>
                <a:moveTo>
                  <a:pt x="415" y="11"/>
                </a:moveTo>
                <a:cubicBezTo>
                  <a:pt x="410" y="11"/>
                  <a:pt x="410" y="11"/>
                  <a:pt x="410" y="11"/>
                </a:cubicBezTo>
                <a:cubicBezTo>
                  <a:pt x="411" y="11"/>
                  <a:pt x="413" y="11"/>
                  <a:pt x="415" y="11"/>
                </a:cubicBezTo>
                <a:cubicBezTo>
                  <a:pt x="419" y="11"/>
                  <a:pt x="419" y="11"/>
                  <a:pt x="419" y="11"/>
                </a:cubicBezTo>
                <a:cubicBezTo>
                  <a:pt x="417" y="12"/>
                  <a:pt x="416" y="11"/>
                  <a:pt x="415" y="11"/>
                </a:cubicBezTo>
                <a:close/>
                <a:moveTo>
                  <a:pt x="422" y="12"/>
                </a:moveTo>
                <a:cubicBezTo>
                  <a:pt x="428" y="12"/>
                  <a:pt x="433" y="12"/>
                  <a:pt x="439" y="13"/>
                </a:cubicBezTo>
                <a:cubicBezTo>
                  <a:pt x="433" y="12"/>
                  <a:pt x="428" y="12"/>
                  <a:pt x="422" y="12"/>
                </a:cubicBezTo>
                <a:close/>
              </a:path>
            </a:pathLst>
          </a:custGeom>
          <a:solidFill>
            <a:srgbClr val="a3a9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46"/>
          <p:cNvSpPr/>
          <p:nvPr/>
        </p:nvSpPr>
        <p:spPr>
          <a:xfrm>
            <a:off x="8397720" y="4453920"/>
            <a:ext cx="11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腾祥铁山楷书简"/>
                <a:ea typeface="腾祥铁山楷书简"/>
              </a:rPr>
              <a:t>PPT</a:t>
            </a:r>
            <a:r>
              <a:rPr b="0" lang="zh-CN" sz="2400" spc="-1" strike="noStrike">
                <a:solidFill>
                  <a:srgbClr val="ffffff"/>
                </a:solidFill>
                <a:latin typeface="腾祥铁山楷书简"/>
                <a:ea typeface="腾祥铁山楷书简"/>
              </a:rPr>
              <a:t>定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矩形 47"/>
          <p:cNvSpPr/>
          <p:nvPr/>
        </p:nvSpPr>
        <p:spPr>
          <a:xfrm>
            <a:off x="8012160" y="4902120"/>
            <a:ext cx="3376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D</a:t>
            </a:r>
            <a:r>
              <a:rPr b="0" lang="zh-CN" sz="14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意空间工作室成立于</a:t>
            </a:r>
            <a:r>
              <a:rPr b="0" lang="en-US" sz="14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2015</a:t>
            </a:r>
            <a:r>
              <a:rPr b="0" lang="zh-CN" sz="14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年</a:t>
            </a:r>
            <a:r>
              <a:rPr b="0" lang="en-US" sz="14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10</a:t>
            </a:r>
            <a:r>
              <a:rPr b="0" lang="zh-CN" sz="1400" spc="-1" strike="noStrike">
                <a:solidFill>
                  <a:srgbClr val="44546a"/>
                </a:solidFill>
                <a:latin typeface="腾祥铁山楷书简"/>
                <a:ea typeface="腾祥铁山楷书简"/>
              </a:rPr>
              <a:t>月，只要是与演示相关的，我们竭诚为您服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5638680" y="2211120"/>
            <a:ext cx="914400" cy="112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李旭科书法"/>
                <a:ea typeface="李旭科书法"/>
              </a:rPr>
              <a:t>叁</a:t>
            </a:r>
            <a:endParaRPr b="0" lang="en-US" sz="8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709720" y="3998880"/>
            <a:ext cx="67723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d5070"/>
                </a:solidFill>
                <a:latin typeface="李旭科书法"/>
                <a:ea typeface="李旭科书法"/>
              </a:rPr>
              <a:t>请在此处添加标题</a:t>
            </a:r>
            <a:endParaRPr b="0" lang="en-US" sz="5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7T06:48:33Z</dcterms:created>
  <dc:creator>D意空间</dc:creator>
  <dc:description/>
  <dc:language>en-US</dc:language>
  <cp:lastModifiedBy>weiying</cp:lastModifiedBy>
  <dcterms:modified xsi:type="dcterms:W3CDTF">2016-03-25T09:18:26Z</dcterms:modified>
  <cp:revision>73</cp:revision>
  <dc:subject/>
  <dc:title>PowerPoint 演示文稿</dc:title>
</cp:coreProperties>
</file>