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49B-21BD-4D18-9373-079F28D7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2BF-70CE-454D-B2F3-9D27ED68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DB876-425C-4005-B1A4-D8E4C493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AFFE6-7529-45BE-997C-82B99447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74219-DF1E-4EAB-A235-6B1CB6DD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86ADA-BA41-4F3C-93FF-70202D45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50971-A060-475B-9C4D-837F60B9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354B8-7D06-41AD-9D00-8DCD1D9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28A07-7D90-41CA-8BA3-13556897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42185-14A0-4F32-9EDD-2AFF3B51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A2B77-B5C3-4108-A9D1-BF70921A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C347E-63E4-4832-936B-2EAB239E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CED-6071-4545-AF9B-49C12FB3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8462D-E995-4439-AF81-7EC03FDF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02861-D9FB-4F95-B96C-3901EDEE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43FC6-CDCF-4B7C-B764-A3D69C5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1C8ED-153E-4ED5-B797-889A319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B5C96-CC38-45CD-8B4B-68BC3B08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FB6F0-232C-41B6-AC91-FA915BB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C7174-8CA5-428A-BB4A-EDA1364E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BB437-1543-4BFD-9070-26D5B4B7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BDC66-58C1-402E-875E-B4491C94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8B1F3-53F3-4C47-AE90-225A1F5D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245-C043-441D-8F6A-6E54AB67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4DE93-7D24-4273-94BD-15866195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6AF79-5F53-45AB-8FF0-747FE269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E35E3-314E-4C0F-8B3E-A721CA4B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FA70C-A116-491C-9DB7-1870E949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02B36-B69A-4992-9F80-009A17D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3DA32-C350-499F-ADF6-C1B6CB7D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69205-9FCE-4143-ACB9-DC3F69FD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9A7DD-CD77-4556-AE60-591E212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2D6EB-D490-4FCD-9AA2-CCCFD67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23D3E-497C-4168-A8F1-4E2EF60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E30-DCE7-4D0E-95B6-D17C2CAD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F4B55-9436-4A3A-A702-2A9E5B12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4AF75-0649-4A8A-BE59-531B5796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CB83F-413D-4E40-A2AF-C6068717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AD173-FFB9-4335-A141-878CEDF1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0E969-D09A-4607-B9A0-BE77472B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77C92-3B82-4CC4-8ACE-655FD1A0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5A6FC-E83D-4B00-8906-9EB5A9F9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1D2C4-543E-4F22-A7ED-2DEFB9BB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9D1E7-6490-4BFE-9974-C31F4F3D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7C236-2532-4563-95FF-91FE5D30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B748-EF22-4DE0-AA6F-47988A76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C6DD3-ED38-4F36-AE5C-4143C096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A8E93-C6C1-4EEB-B4C4-DE123EBB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C2A79-B82A-4EF4-B92F-A1570112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BF745-543E-4C84-AF89-8EB92084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36328-CBF3-438D-B20F-874FA3A0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E672D-7208-4871-BCB8-173F1A64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62E7E-90B6-4742-851E-C8FD80CD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B974F-2DBF-4E42-8D3B-0C2A054C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82575-BE0C-4D72-B74D-DFF955AC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A9CB6-5A9B-4DD0-B2AE-4D39791F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4B60-3FE7-4EF7-B67F-6CFF0421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9850D-691B-410D-B34A-CB515F03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D3E31-A58D-49FA-917B-D3305301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8A40D-092B-4C34-83E9-353CB4F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BE561-D235-4105-A66E-8534AE9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6022E-B5EA-450B-B66D-41504A1C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024D3-CFE6-42A7-93E1-97381D93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46F9D-BA78-4D88-90FF-E14120F5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7187-0322-48D2-8F24-DD186A9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7B71-1B9E-4AE6-8D76-3A31A3F3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8F0-D845-4174-AF6D-7FFE52A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2CC8-0F44-4EE7-A4F0-36122A5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CD8-B0CB-4A0A-A291-920EA3EC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7628-0A07-4EFC-B441-726ACC9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9C98-9BBC-4D38-916B-C973DB8F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1FCF-A184-4DEE-83A4-36DF3B45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3BEE-A812-401B-8488-01A35388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A859-CA6B-4260-9C3E-DC6BF95D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E1D2-E927-44C0-AD4A-B633E265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C471-1C26-4D26-9189-1B93165C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1040-643C-4CB7-930A-7066FB7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FF96-89E4-40A1-B3A8-BE114D5F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3368-1147-4FCB-A968-19C44017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7D5-276F-4BBF-ACC6-A889BA99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6846-848B-4F5A-B6F7-88C21C96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81D9-E4C7-462D-8360-1232F260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8A85-53F9-4BFF-97DA-B30C801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E15B-93E6-4E4A-88FC-7C2CE3F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EB4B-3A91-440A-B436-7740DD1D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CBCD-F37C-4433-A2C9-1126C342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B2CBA-578F-4B5D-A70A-454EC2E7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1AD2-5DCF-435B-B862-51CE3D43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9E0E-7829-428F-9443-7A708677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776E-D04D-4B2D-AECF-8E6EE578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9A8-DF68-4B6C-8990-0128660D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378C-E435-4B3E-9D69-29CD933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5E0FB-FE18-4310-9FF1-547B9627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6230-B984-4C09-BD60-5764D485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9BB8-B00E-4EE9-9107-3F6036F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CE9A-D1C8-4612-BC8B-C168369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A9AD-58EB-477C-A6B5-4374F9C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A1CAA-129E-4AAD-A8E8-E22BC5C7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0876-FEB4-4C9E-B246-565F25ED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E4FC-01FB-4688-8156-818AFEE3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2A4C-78CC-487F-BE8D-81F88026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BC1-2EE2-42A9-948C-8E701E0A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F5E43-CCF9-473C-9CA6-7363A612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EE2A-F8F5-4401-ADA2-0E977C87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6990-1455-452E-9FA8-85CA52C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2239C-3342-4C93-8803-C1BCC735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E6D4-EF9B-476C-93A4-7463B109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30E3-503C-416C-97AA-D83C2E8F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651C4-8030-40CF-9677-B9D8C2DE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202B-1084-4EB0-89DB-864DA02D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30F8-EC75-48F6-B9C5-24BCB02B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4ACA6-2D54-4D98-B56E-E8305DF3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E09-5676-42AC-AF8F-BA737F69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D42A-5925-41C5-97F9-BA3650BA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627F-DD65-463E-8230-B0DDB339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451DA-ACE4-41BA-9108-4E34C144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508F5-A8A3-47E8-AA98-1ACDE1DB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55196-0FF8-449F-89FF-EBD7E940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9C26-2499-4154-821B-641E5F81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E1B39-A43D-43B8-83B4-485C33AA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4B344-EA8E-4C84-A71D-6443075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84129-EA00-443D-A45E-B3CF9026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660C-69B3-4876-A8E6-2B2A81B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EB7-ED77-42D6-BA2A-6B2E4BB0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BF7FA-6EA4-46F6-8147-26B7987F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99F7C-81F9-4E22-84D6-524BAB77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DD597-5719-4B1B-89FE-3FD6614B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0C23F-83A7-491B-BD21-320A84C3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F346-E599-41B6-87B4-6EC9668A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32694-5CC0-437C-B019-3FB89C81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6B5F-3599-47C5-96D0-A5E0EDCD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41507-061F-480C-8E08-C591DDE2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B3B6-FBB4-4021-AEBC-3469D81D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7BF29-42A2-4C7A-BB34-3A13D542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478-B6A6-4D03-BCF4-2C5920D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8A122-4CBC-4DEC-9037-0A2B57B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53491-F854-4F59-955B-BB3CC09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4C12-8C78-457E-802E-1CBAFA82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C14A0-B696-4813-9083-29800E3C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B23BF-C4C8-4D81-BE13-478C45D7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8B06-E685-4155-8A86-5D76CC0F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5949-3B8E-4F1B-AE87-C88E061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A8584-4F00-4F29-BEC2-BB819982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AF3A1-4436-4B04-BF97-78DB0E53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27BCA-DEF5-4A3B-8F13-0AE90125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581-7AD6-4A61-80C6-2ABA918F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B0165-A013-4D5A-B086-89DAB4C4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A2B88-A091-4BC7-93AC-C6201E1A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801FC-73FC-4B6B-9B23-1AFEB42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2E709-0C5F-4F47-B6C9-8488862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C0866-8813-46F0-8860-1F364042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659CF-717C-4E8F-B07A-995CF121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D2AC2-649F-4D5A-9D66-D4B886B6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EED8A-7643-46C0-9A52-6C5D13B8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DB45F-B79B-49BA-A26F-942ED362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6A6F8-7D9C-436D-82BB-26ED4C0E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2E50-9407-4C4D-9DF6-DDE0421073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6DE6-6232-4BE7-89A4-8024704149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9228-98D1-477B-9D1A-7F4650CA9C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A37E-539C-409C-84FB-EA3A06718C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C5A7-F7ED-47D3-BB79-94DD6347495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BC7F-8B1A-428B-8B6B-102A2B30A0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1987-D30B-452A-A51D-20FBED98AE4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B571-6E70-4412-8A85-1009891B94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2925-ECB5-4358-BE6E-5DD03274D1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18F9-1702-481E-92CD-A00D57187D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497E-F358-4359-9442-172436C964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331D-AAFB-44A6-A09C-883B6FF733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473-03EE-4EFC-979C-0245735D84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A6E1-4B37-4477-9D58-9156E0B3BE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1AF8-B028-493F-95BF-95BBC94592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F2CD-5492-40C8-B0D5-30C92A5D88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4214-ECCD-462E-A529-E46C638C18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C1C-F69D-4F69-A1A0-503C0CE04F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E417-D6D3-4726-9611-0D1473BEA1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07B2-ACD8-44B4-BE7F-7BB5F865C7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BC68-59B3-427E-A8F4-A35380772E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D38A-1577-4ADE-8603-33359A7AC3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F37F-0C22-4167-969B-A0DBDAB18E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A2C9-78F5-4CAF-9A2C-62D7167964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6AB1-7FF2-4363-AFD5-33DDC3F933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E90D-A9D7-4E6F-85A7-B777D281FD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0"/>
          <p:cNvGrpSpPr/>
          <p:nvPr/>
        </p:nvGrpSpPr>
        <p:grpSpPr>
          <a:xfrm>
            <a:off x="2376000" y="1727280"/>
            <a:ext cx="4294440" cy="4324320"/>
            <a:chOff x="2376000" y="1727280"/>
            <a:chExt cx="4294440" cy="4324320"/>
          </a:xfrm>
        </p:grpSpPr>
        <p:grpSp>
          <p:nvGrpSpPr>
            <p:cNvPr id="716" name="组合 18"/>
            <p:cNvGrpSpPr/>
            <p:nvPr/>
          </p:nvGrpSpPr>
          <p:grpSpPr>
            <a:xfrm>
              <a:off x="2376000" y="1727280"/>
              <a:ext cx="4294440" cy="4324320"/>
              <a:chOff x="2376000" y="1727280"/>
              <a:chExt cx="4294440" cy="4324320"/>
            </a:xfrm>
          </p:grpSpPr>
          <p:sp>
            <p:nvSpPr>
              <p:cNvPr id="717" name="椭圆 2"/>
              <p:cNvSpPr/>
              <p:nvPr/>
            </p:nvSpPr>
            <p:spPr>
              <a:xfrm>
                <a:off x="2543040" y="1727280"/>
                <a:ext cx="3893040" cy="38941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椭圆 11"/>
              <p:cNvSpPr/>
              <p:nvPr/>
            </p:nvSpPr>
            <p:spPr>
              <a:xfrm flipH="1">
                <a:off x="2375640" y="246240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椭圆 12"/>
              <p:cNvSpPr/>
              <p:nvPr/>
            </p:nvSpPr>
            <p:spPr>
              <a:xfrm flipH="1">
                <a:off x="6060600" y="243396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椭圆 13"/>
              <p:cNvSpPr/>
              <p:nvPr/>
            </p:nvSpPr>
            <p:spPr>
              <a:xfrm flipH="1">
                <a:off x="4231440" y="5441760"/>
                <a:ext cx="609480" cy="6098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组合 1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722" name="组合 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723" name="组合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724" name="组合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725" name="椭圆 15"/>
              <p:cNvSpPr/>
              <p:nvPr/>
            </p:nvSpPr>
            <p:spPr>
              <a:xfrm>
                <a:off x="3844800" y="2988000"/>
                <a:ext cx="1343160" cy="134496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矩形 4"/>
            <p:cNvSpPr/>
            <p:nvPr/>
          </p:nvSpPr>
          <p:spPr>
            <a:xfrm rot="19873800">
              <a:off x="3221640" y="25070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矩形 5"/>
            <p:cNvSpPr/>
            <p:nvPr/>
          </p:nvSpPr>
          <p:spPr>
            <a:xfrm rot="5572800">
              <a:off x="3764160" y="3973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矩形 6"/>
            <p:cNvSpPr/>
            <p:nvPr/>
          </p:nvSpPr>
          <p:spPr>
            <a:xfrm rot="12802800">
              <a:off x="2370600" y="35964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Picture 2" descr="D:\PPT模版\素材\png素材\web sites\web sites2\32x32\yen_currency_sign.png"/>
            <p:cNvPicPr/>
            <p:nvPr/>
          </p:nvPicPr>
          <p:blipFill>
            <a:blip r:embed="rId1"/>
            <a:stretch/>
          </p:blipFill>
          <p:spPr>
            <a:xfrm>
              <a:off x="4348080" y="5528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3" descr="D:\PPT模版\素材\png素材\web sites\web sites2\32x32\dollar_currency_sign.png"/>
            <p:cNvPicPr/>
            <p:nvPr/>
          </p:nvPicPr>
          <p:blipFill>
            <a:blip r:embed="rId2"/>
            <a:stretch/>
          </p:blipFill>
          <p:spPr>
            <a:xfrm>
              <a:off x="2491560" y="254880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4" descr="D:\PPT模版\素材\png素材\web sites\web sites2\32x32\euro_currency_sign.png"/>
            <p:cNvPicPr/>
            <p:nvPr/>
          </p:nvPicPr>
          <p:blipFill>
            <a:blip r:embed="rId3"/>
            <a:stretch/>
          </p:blipFill>
          <p:spPr>
            <a:xfrm>
              <a:off x="6162840" y="2535120"/>
              <a:ext cx="40608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TextBox 25"/>
          <p:cNvSpPr/>
          <p:nvPr/>
        </p:nvSpPr>
        <p:spPr>
          <a:xfrm>
            <a:off x="76320" y="221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6"/>
          <p:cNvSpPr/>
          <p:nvPr/>
        </p:nvSpPr>
        <p:spPr>
          <a:xfrm>
            <a:off x="6629400" y="221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7"/>
          <p:cNvSpPr/>
          <p:nvPr/>
        </p:nvSpPr>
        <p:spPr>
          <a:xfrm>
            <a:off x="4870440" y="5965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​​ 9"/>
          <p:cNvSpPr/>
          <p:nvPr/>
        </p:nvSpPr>
        <p:spPr>
          <a:xfrm>
            <a:off x="6054840" y="3554280"/>
            <a:ext cx="7189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​​ 11"/>
          <p:cNvSpPr/>
          <p:nvPr/>
        </p:nvSpPr>
        <p:spPr>
          <a:xfrm>
            <a:off x="448308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​​ 13"/>
          <p:cNvSpPr/>
          <p:nvPr/>
        </p:nvSpPr>
        <p:spPr>
          <a:xfrm>
            <a:off x="4483080" y="509112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​​ 14"/>
          <p:cNvSpPr/>
          <p:nvPr/>
        </p:nvSpPr>
        <p:spPr>
          <a:xfrm>
            <a:off x="5268960" y="509112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​​ 17"/>
          <p:cNvSpPr/>
          <p:nvPr/>
        </p:nvSpPr>
        <p:spPr>
          <a:xfrm>
            <a:off x="6054840" y="509112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​​ 18"/>
          <p:cNvSpPr/>
          <p:nvPr/>
        </p:nvSpPr>
        <p:spPr>
          <a:xfrm>
            <a:off x="6840360" y="509112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261040" y="6022440"/>
            <a:ext cx="1759320" cy="720"/>
            <a:chOff x="5261040" y="6022440"/>
            <a:chExt cx="1759320" cy="720"/>
          </a:xfrm>
        </p:grpSpPr>
        <p:cxnSp>
          <p:nvCxnSpPr>
            <p:cNvPr id="753" name="直接箭头​​连接符 20"/>
            <p:cNvCxnSpPr/>
            <p:nvPr/>
          </p:nvCxnSpPr>
          <p:spPr>
            <a:xfrm>
              <a:off x="5261040" y="6022440"/>
              <a:ext cx="17596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</p:cxnSp>
        <p:sp>
          <p:nvSpPr>
            <p:cNvPr id="754" name=""/>
            <p:cNvSpPr txBox="1"/>
            <p:nvPr/>
          </p:nvSpPr>
          <p:spPr>
            <a:xfrm>
              <a:off x="5261040" y="6022440"/>
              <a:ext cx="175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7846200" y="3112200"/>
            <a:ext cx="2520" cy="2265840"/>
            <a:chOff x="7846200" y="3112200"/>
            <a:chExt cx="2520" cy="2265840"/>
          </a:xfrm>
        </p:grpSpPr>
        <p:cxnSp>
          <p:nvCxnSpPr>
            <p:cNvPr id="756" name="直接箭头​​连接符 22"/>
            <p:cNvCxnSpPr/>
            <p:nvPr/>
          </p:nvCxnSpPr>
          <p:spPr>
            <a:xfrm flipV="1">
              <a:off x="7846560" y="3112560"/>
              <a:ext cx="2520" cy="2265840"/>
            </a:xfrm>
            <a:prstGeom prst="straightConnector1">
              <a:avLst/>
            </a:prstGeom>
            <a:ln w="381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</p:cxnSp>
        <p:sp>
          <p:nvSpPr>
            <p:cNvPr id="757" name=""/>
            <p:cNvSpPr txBox="1"/>
            <p:nvPr/>
          </p:nvSpPr>
          <p:spPr>
            <a:xfrm rot="10800000">
              <a:off x="7846200" y="3112200"/>
              <a:ext cx="1800" cy="226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​​ 25"/>
          <p:cNvSpPr/>
          <p:nvPr/>
        </p:nvSpPr>
        <p:spPr>
          <a:xfrm>
            <a:off x="952560" y="4044960"/>
            <a:ext cx="492120" cy="4921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4"/>
          <p:cNvSpPr/>
          <p:nvPr/>
        </p:nvSpPr>
        <p:spPr>
          <a:xfrm>
            <a:off x="182160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5"/>
          <p:cNvSpPr/>
          <p:nvPr/>
        </p:nvSpPr>
        <p:spPr>
          <a:xfrm>
            <a:off x="186624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6"/>
          <p:cNvSpPr/>
          <p:nvPr/>
        </p:nvSpPr>
        <p:spPr>
          <a:xfrm>
            <a:off x="1896120" y="42163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37"/>
          <p:cNvSpPr/>
          <p:nvPr/>
        </p:nvSpPr>
        <p:spPr>
          <a:xfrm>
            <a:off x="1912320" y="5064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38"/>
          <p:cNvSpPr/>
          <p:nvPr/>
        </p:nvSpPr>
        <p:spPr>
          <a:xfrm>
            <a:off x="1942920" y="53434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组合 6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776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组合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779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组合 13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782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14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785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Box 17"/>
          <p:cNvSpPr/>
          <p:nvPr/>
        </p:nvSpPr>
        <p:spPr>
          <a:xfrm>
            <a:off x="6168960" y="1725480"/>
            <a:ext cx="29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8"/>
          <p:cNvSpPr/>
          <p:nvPr/>
        </p:nvSpPr>
        <p:spPr>
          <a:xfrm>
            <a:off x="6168960" y="5130720"/>
            <a:ext cx="29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9"/>
          <p:cNvSpPr/>
          <p:nvPr/>
        </p:nvSpPr>
        <p:spPr>
          <a:xfrm>
            <a:off x="363600" y="1878120"/>
            <a:ext cx="29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2" name="组合 3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793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13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799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4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805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组合 20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811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26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817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组合 41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824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组合 7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827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fbd4b4"/>
                  </a:gs>
                  <a:gs pos="100000">
                    <a:srgbClr val="fabf8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Group 3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832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7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5" name="组合 42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836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11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839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ccc0d9"/>
                  </a:gs>
                  <a:gs pos="100000">
                    <a:srgbClr val="ccc0d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43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85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组合 15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85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46"/>
                  <a:gd name="vf" fmla="val 115470"/>
                </a:avLst>
              </a:prstGeom>
              <a:gradFill rotWithShape="0">
                <a:gsLst>
                  <a:gs pos="0">
                    <a:srgbClr val="eaf1dd"/>
                  </a:gs>
                  <a:gs pos="100000">
                    <a:srgbClr val="c2d5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22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85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​​ 4"/>
          <p:cNvSpPr/>
          <p:nvPr/>
        </p:nvSpPr>
        <p:spPr>
          <a:xfrm>
            <a:off x="5238720" y="3025800"/>
            <a:ext cx="2919600" cy="291780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​​ 3"/>
          <p:cNvSpPr/>
          <p:nvPr/>
        </p:nvSpPr>
        <p:spPr>
          <a:xfrm>
            <a:off x="5762520" y="4079880"/>
            <a:ext cx="1871640" cy="187164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1"/>
          <p:cNvSpPr/>
          <p:nvPr/>
        </p:nvSpPr>
        <p:spPr>
          <a:xfrm>
            <a:off x="1089360" y="25401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3"/>
          <p:cNvSpPr/>
          <p:nvPr/>
        </p:nvSpPr>
        <p:spPr>
          <a:xfrm>
            <a:off x="108936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5"/>
          <p:cNvSpPr/>
          <p:nvPr/>
        </p:nvSpPr>
        <p:spPr>
          <a:xfrm>
            <a:off x="108936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组合 14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879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5484960" y="3017880"/>
              <a:ext cx="2759400" cy="720"/>
              <a:chOff x="5484960" y="3017880"/>
              <a:chExt cx="2759400" cy="720"/>
            </a:xfrm>
          </p:grpSpPr>
          <p:cxnSp>
            <p:nvCxnSpPr>
              <p:cNvPr id="881" name="直接箭头​​连接符 16"/>
              <p:cNvCxnSpPr/>
              <p:nvPr/>
            </p:nvCxnSpPr>
            <p:spPr>
              <a:xfrm>
                <a:off x="5484960" y="3017880"/>
                <a:ext cx="2759760" cy="1080"/>
              </a:xfrm>
              <a:prstGeom prst="straightConnector1">
                <a:avLst/>
              </a:prstGeom>
              <a:ln w="57240">
                <a:solidFill>
                  <a:srgbClr val="8064a2"/>
                </a:solidFill>
                <a:bevel/>
                <a:tailEnd len="med" type="triangle" w="sm"/>
              </a:ln>
            </p:spPr>
          </p:cxnSp>
          <p:sp>
            <p:nvSpPr>
              <p:cNvPr id="882" name=""/>
              <p:cNvSpPr txBox="1"/>
              <p:nvPr/>
            </p:nvSpPr>
            <p:spPr>
              <a:xfrm>
                <a:off x="5484960" y="3017880"/>
                <a:ext cx="275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3" name=""/>
          <p:cNvGrpSpPr/>
          <p:nvPr/>
        </p:nvGrpSpPr>
        <p:grpSpPr>
          <a:xfrm>
            <a:off x="3668400" y="5398560"/>
            <a:ext cx="1800" cy="678240"/>
            <a:chOff x="3668400" y="5398560"/>
            <a:chExt cx="1800" cy="678240"/>
          </a:xfrm>
        </p:grpSpPr>
        <p:cxnSp>
          <p:nvCxnSpPr>
            <p:cNvPr id="884" name="直接箭头​​连接符 18"/>
            <p:cNvCxnSpPr/>
            <p:nvPr/>
          </p:nvCxnSpPr>
          <p:spPr>
            <a:xfrm flipH="1">
              <a:off x="3668400" y="5398560"/>
              <a:ext cx="2160" cy="678600"/>
            </a:xfrm>
            <a:prstGeom prst="straightConnector1">
              <a:avLst/>
            </a:prstGeom>
            <a:ln w="57240">
              <a:solidFill>
                <a:srgbClr val="f79646"/>
              </a:solidFill>
              <a:bevel/>
              <a:tailEnd len="med" type="triangle" w="sm"/>
            </a:ln>
          </p:spPr>
        </p:cxnSp>
        <p:sp>
          <p:nvSpPr>
            <p:cNvPr id="885" name=""/>
            <p:cNvSpPr txBox="1"/>
            <p:nvPr/>
          </p:nvSpPr>
          <p:spPr>
            <a:xfrm>
              <a:off x="3668760" y="5398560"/>
              <a:ext cx="1440" cy="67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12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887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107360" y="3017160"/>
              <a:ext cx="2376720" cy="720"/>
              <a:chOff x="1107360" y="3017160"/>
              <a:chExt cx="2376720" cy="720"/>
            </a:xfrm>
          </p:grpSpPr>
          <p:cxnSp>
            <p:nvCxnSpPr>
              <p:cNvPr id="889" name="直接箭头​​连接符 10"/>
              <p:cNvCxnSpPr/>
              <p:nvPr/>
            </p:nvCxnSpPr>
            <p:spPr>
              <a:xfrm flipH="1">
                <a:off x="1107360" y="3017160"/>
                <a:ext cx="2377080" cy="1080"/>
              </a:xfrm>
              <a:prstGeom prst="straightConnector1">
                <a:avLst/>
              </a:prstGeom>
              <a:ln w="57240">
                <a:solidFill>
                  <a:srgbClr val="9bbb59"/>
                </a:solidFill>
                <a:bevel/>
                <a:tailEnd len="med" type="triangle" w="sm"/>
              </a:ln>
            </p:spPr>
          </p:cxnSp>
          <p:sp>
            <p:nvSpPr>
              <p:cNvPr id="890" name=""/>
              <p:cNvSpPr txBox="1"/>
              <p:nvPr/>
            </p:nvSpPr>
            <p:spPr>
              <a:xfrm>
                <a:off x="1107720" y="3017160"/>
                <a:ext cx="23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等腰三角形​​ 3"/>
          <p:cNvSpPr/>
          <p:nvPr/>
        </p:nvSpPr>
        <p:spPr>
          <a:xfrm>
            <a:off x="3060720" y="2492280"/>
            <a:ext cx="283860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梯形 4"/>
          <p:cNvSpPr/>
          <p:nvPr/>
        </p:nvSpPr>
        <p:spPr>
          <a:xfrm flipV="1" rot="3589200">
            <a:off x="3819600" y="3450240"/>
            <a:ext cx="3243240" cy="3128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梯形 5"/>
          <p:cNvSpPr/>
          <p:nvPr/>
        </p:nvSpPr>
        <p:spPr>
          <a:xfrm flipV="1" rot="18057000">
            <a:off x="1928880" y="3418560"/>
            <a:ext cx="3190680" cy="31284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5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2520 w 3191040"/>
              <a:gd name="textAreaRight" fmla="*/ 264852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46" y="21600"/>
                </a:lnTo>
                <a:lnTo>
                  <a:pt x="17854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39636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25"/>
          <p:cNvSpPr/>
          <p:nvPr/>
        </p:nvSpPr>
        <p:spPr>
          <a:xfrm>
            <a:off x="10591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6"/>
          <p:cNvSpPr/>
          <p:nvPr/>
        </p:nvSpPr>
        <p:spPr>
          <a:xfrm>
            <a:off x="6181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27"/>
          <p:cNvSpPr/>
          <p:nvPr/>
        </p:nvSpPr>
        <p:spPr>
          <a:xfrm>
            <a:off x="4061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​​ 31"/>
          <p:cNvSpPr/>
          <p:nvPr/>
        </p:nvSpPr>
        <p:spPr>
          <a:xfrm>
            <a:off x="7404120" y="2381400"/>
            <a:ext cx="520560" cy="519120"/>
          </a:xfrm>
          <a:prstGeom prst="ellipse">
            <a:avLst/>
          </a:prstGeom>
          <a:noFill/>
          <a:ln w="381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33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904" name="Freeform 34"/>
            <p:cNvSpPr/>
            <p:nvPr/>
          </p:nvSpPr>
          <p:spPr>
            <a:xfrm>
              <a:off x="7502400" y="2480040"/>
              <a:ext cx="324000" cy="3758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24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909" name="Group 125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910" name="Freeform 126"/>
              <p:cNvSpPr/>
              <p:nvPr/>
            </p:nvSpPr>
            <p:spPr>
              <a:xfrm flipH="1">
                <a:off x="322092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28"/>
              <p:cNvSpPr/>
              <p:nvPr/>
            </p:nvSpPr>
            <p:spPr>
              <a:xfrm flipH="1">
                <a:off x="3194280" y="558756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29"/>
              <p:cNvSpPr/>
              <p:nvPr/>
            </p:nvSpPr>
            <p:spPr>
              <a:xfrm flipH="1">
                <a:off x="321804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1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916" name="Freeform 132"/>
              <p:cNvSpPr/>
              <p:nvPr/>
            </p:nvSpPr>
            <p:spPr>
              <a:xfrm flipH="1">
                <a:off x="331812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34"/>
              <p:cNvSpPr/>
              <p:nvPr/>
            </p:nvSpPr>
            <p:spPr>
              <a:xfrm flipH="1">
                <a:off x="3291480" y="565704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35"/>
              <p:cNvSpPr/>
              <p:nvPr/>
            </p:nvSpPr>
            <p:spPr>
              <a:xfrm flipH="1">
                <a:off x="331524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Group 137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922" name="Freeform 138"/>
              <p:cNvSpPr/>
              <p:nvPr/>
            </p:nvSpPr>
            <p:spPr>
              <a:xfrm flipH="1">
                <a:off x="311904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40"/>
              <p:cNvSpPr/>
              <p:nvPr/>
            </p:nvSpPr>
            <p:spPr>
              <a:xfrm flipH="1">
                <a:off x="3092400" y="56692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41"/>
              <p:cNvSpPr/>
              <p:nvPr/>
            </p:nvSpPr>
            <p:spPr>
              <a:xfrm flipH="1">
                <a:off x="311616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7" name="椭圆​​ 76"/>
          <p:cNvSpPr/>
          <p:nvPr/>
        </p:nvSpPr>
        <p:spPr>
          <a:xfrm>
            <a:off x="1270080" y="2381400"/>
            <a:ext cx="519120" cy="519120"/>
          </a:xfrm>
          <a:prstGeom prst="ellipse">
            <a:avLst/>
          </a:prstGeom>
          <a:noFill/>
          <a:ln w="381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83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929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86"/>
            <p:cNvSpPr/>
            <p:nvPr/>
          </p:nvSpPr>
          <p:spPr>
            <a:xfrm flipH="1">
              <a:off x="148536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组合 5"/>
          <p:cNvGrpSpPr/>
          <p:nvPr/>
        </p:nvGrpSpPr>
        <p:grpSpPr>
          <a:xfrm>
            <a:off x="2808360" y="2492280"/>
            <a:ext cx="3529080" cy="3529080"/>
            <a:chOff x="2808360" y="2492280"/>
            <a:chExt cx="3529080" cy="3529080"/>
          </a:xfrm>
        </p:grpSpPr>
        <p:sp>
          <p:nvSpPr>
            <p:cNvPr id="935" name="椭圆​​ 3"/>
            <p:cNvSpPr/>
            <p:nvPr/>
          </p:nvSpPr>
          <p:spPr>
            <a:xfrm>
              <a:off x="2808360" y="2492280"/>
              <a:ext cx="35290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椭圆​​ 4"/>
            <p:cNvSpPr/>
            <p:nvPr/>
          </p:nvSpPr>
          <p:spPr>
            <a:xfrm>
              <a:off x="3247200" y="2917800"/>
              <a:ext cx="267768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椭圆​​ 7"/>
          <p:cNvSpPr/>
          <p:nvPr/>
        </p:nvSpPr>
        <p:spPr>
          <a:xfrm>
            <a:off x="3803760" y="2048040"/>
            <a:ext cx="1536480" cy="153648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​​ 8"/>
          <p:cNvSpPr/>
          <p:nvPr/>
        </p:nvSpPr>
        <p:spPr>
          <a:xfrm>
            <a:off x="5076720" y="4484520"/>
            <a:ext cx="15368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​​ 10"/>
          <p:cNvSpPr/>
          <p:nvPr/>
        </p:nvSpPr>
        <p:spPr>
          <a:xfrm>
            <a:off x="2513160" y="3284640"/>
            <a:ext cx="0" cy="973080"/>
          </a:xfrm>
          <a:prstGeom prst="line">
            <a:avLst/>
          </a:prstGeom>
          <a:ln w="7632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4"/>
          <p:cNvSpPr/>
          <p:nvPr/>
        </p:nvSpPr>
        <p:spPr>
          <a:xfrm>
            <a:off x="5624640" y="151272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6"/>
          <p:cNvSpPr/>
          <p:nvPr/>
        </p:nvSpPr>
        <p:spPr>
          <a:xfrm>
            <a:off x="-106200" y="3232080"/>
            <a:ext cx="25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7" name="组合 10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948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组合 17"/>
          <p:cNvGrpSpPr/>
          <p:nvPr/>
        </p:nvGrpSpPr>
        <p:grpSpPr>
          <a:xfrm>
            <a:off x="5502240" y="2360520"/>
            <a:ext cx="2770200" cy="3618000"/>
            <a:chOff x="5502240" y="2360520"/>
            <a:chExt cx="2770200" cy="3618000"/>
          </a:xfrm>
        </p:grpSpPr>
        <p:sp>
          <p:nvSpPr>
            <p:cNvPr id="954" name="矩形 12"/>
            <p:cNvSpPr/>
            <p:nvPr/>
          </p:nvSpPr>
          <p:spPr>
            <a:xfrm>
              <a:off x="5502240" y="2633400"/>
              <a:ext cx="2770200" cy="334512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14"/>
            <p:cNvSpPr/>
            <p:nvPr/>
          </p:nvSpPr>
          <p:spPr>
            <a:xfrm>
              <a:off x="5597640" y="27424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15"/>
            <p:cNvSpPr/>
            <p:nvPr/>
          </p:nvSpPr>
          <p:spPr>
            <a:xfrm>
              <a:off x="5586120" y="38509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16"/>
            <p:cNvSpPr/>
            <p:nvPr/>
          </p:nvSpPr>
          <p:spPr>
            <a:xfrm>
              <a:off x="5613480" y="49431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左右箭头 14"/>
          <p:cNvSpPr/>
          <p:nvPr/>
        </p:nvSpPr>
        <p:spPr>
          <a:xfrm>
            <a:off x="3789360" y="3492360"/>
            <a:ext cx="1582920" cy="186876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组合 46"/>
          <p:cNvGrpSpPr/>
          <p:nvPr/>
        </p:nvGrpSpPr>
        <p:grpSpPr>
          <a:xfrm>
            <a:off x="2603520" y="2058840"/>
            <a:ext cx="3810240" cy="3899160"/>
            <a:chOff x="2603520" y="2058840"/>
            <a:chExt cx="3810240" cy="3899160"/>
          </a:xfrm>
        </p:grpSpPr>
        <p:sp>
          <p:nvSpPr>
            <p:cNvPr id="962" name="椭圆 2"/>
            <p:cNvSpPr/>
            <p:nvPr/>
          </p:nvSpPr>
          <p:spPr>
            <a:xfrm>
              <a:off x="3559680" y="3292200"/>
              <a:ext cx="148320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组合 9"/>
            <p:cNvGrpSpPr/>
            <p:nvPr/>
          </p:nvGrpSpPr>
          <p:grpSpPr>
            <a:xfrm>
              <a:off x="4585320" y="2058840"/>
              <a:ext cx="692640" cy="1246680"/>
              <a:chOff x="4585320" y="2058840"/>
              <a:chExt cx="692640" cy="1246680"/>
            </a:xfrm>
          </p:grpSpPr>
          <p:sp>
            <p:nvSpPr>
              <p:cNvPr id="964" name="直接连接符 4"/>
              <p:cNvSpPr/>
              <p:nvPr/>
            </p:nvSpPr>
            <p:spPr>
              <a:xfrm flipH="1">
                <a:off x="458532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椭圆 8"/>
              <p:cNvSpPr/>
              <p:nvPr/>
            </p:nvSpPr>
            <p:spPr>
              <a:xfrm>
                <a:off x="501444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组合 19"/>
            <p:cNvGrpSpPr/>
            <p:nvPr/>
          </p:nvGrpSpPr>
          <p:grpSpPr>
            <a:xfrm>
              <a:off x="4820760" y="2649960"/>
              <a:ext cx="962280" cy="876960"/>
              <a:chOff x="4820760" y="2649960"/>
              <a:chExt cx="962280" cy="876960"/>
            </a:xfrm>
          </p:grpSpPr>
          <p:sp>
            <p:nvSpPr>
              <p:cNvPr id="967" name="椭圆 12"/>
              <p:cNvSpPr/>
              <p:nvPr/>
            </p:nvSpPr>
            <p:spPr>
              <a:xfrm rot="999000">
                <a:off x="556380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直接连接符 15"/>
              <p:cNvSpPr/>
              <p:nvPr/>
            </p:nvSpPr>
            <p:spPr>
              <a:xfrm flipH="1">
                <a:off x="4820760" y="2818080"/>
                <a:ext cx="75456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组合 20"/>
            <p:cNvGrpSpPr/>
            <p:nvPr/>
          </p:nvGrpSpPr>
          <p:grpSpPr>
            <a:xfrm>
              <a:off x="5077080" y="3326040"/>
              <a:ext cx="1336680" cy="478800"/>
              <a:chOff x="5077080" y="3326040"/>
              <a:chExt cx="1336680" cy="478800"/>
            </a:xfrm>
          </p:grpSpPr>
          <p:sp>
            <p:nvSpPr>
              <p:cNvPr id="970" name="直接连接符 21"/>
              <p:cNvSpPr/>
              <p:nvPr/>
            </p:nvSpPr>
            <p:spPr>
              <a:xfrm flipH="1">
                <a:off x="5077080" y="3548880"/>
                <a:ext cx="1017000" cy="255960"/>
              </a:xfrm>
              <a:prstGeom prst="line">
                <a:avLst/>
              </a:prstGeom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椭圆 22"/>
              <p:cNvSpPr/>
              <p:nvPr/>
            </p:nvSpPr>
            <p:spPr>
              <a:xfrm rot="2982600">
                <a:off x="6114240" y="3374280"/>
                <a:ext cx="24516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组合 26"/>
            <p:cNvGrpSpPr/>
            <p:nvPr/>
          </p:nvGrpSpPr>
          <p:grpSpPr>
            <a:xfrm>
              <a:off x="5081040" y="4086000"/>
              <a:ext cx="1253160" cy="286200"/>
              <a:chOff x="5081040" y="4086000"/>
              <a:chExt cx="1253160" cy="286200"/>
            </a:xfrm>
          </p:grpSpPr>
          <p:sp>
            <p:nvSpPr>
              <p:cNvPr id="97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25"/>
              <p:cNvSpPr/>
              <p:nvPr/>
            </p:nvSpPr>
            <p:spPr>
              <a:xfrm flipH="1" flipV="1">
                <a:off x="5081040" y="4086000"/>
                <a:ext cx="1023120" cy="160200"/>
              </a:xfrm>
              <a:prstGeom prst="line">
                <a:avLst/>
              </a:prstGeom>
              <a:ln w="5724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31"/>
            <p:cNvGrpSpPr/>
            <p:nvPr/>
          </p:nvGrpSpPr>
          <p:grpSpPr>
            <a:xfrm>
              <a:off x="4901040" y="4512960"/>
              <a:ext cx="997560" cy="812520"/>
              <a:chOff x="4901040" y="4512960"/>
              <a:chExt cx="997560" cy="812520"/>
            </a:xfrm>
          </p:grpSpPr>
          <p:sp>
            <p:nvSpPr>
              <p:cNvPr id="976" name="直接连接符 28"/>
              <p:cNvSpPr/>
              <p:nvPr/>
            </p:nvSpPr>
            <p:spPr>
              <a:xfrm flipH="1" flipV="1">
                <a:off x="4901040" y="4512960"/>
                <a:ext cx="75096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椭圆 29"/>
              <p:cNvSpPr/>
              <p:nvPr/>
            </p:nvSpPr>
            <p:spPr>
              <a:xfrm rot="5864400">
                <a:off x="561816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组合 32"/>
            <p:cNvGrpSpPr/>
            <p:nvPr/>
          </p:nvGrpSpPr>
          <p:grpSpPr>
            <a:xfrm>
              <a:off x="4642560" y="4733640"/>
              <a:ext cx="578160" cy="1224360"/>
              <a:chOff x="4642560" y="4733640"/>
              <a:chExt cx="578160" cy="1224360"/>
            </a:xfrm>
          </p:grpSpPr>
          <p:sp>
            <p:nvSpPr>
              <p:cNvPr id="979" name="椭圆 33"/>
              <p:cNvSpPr/>
              <p:nvPr/>
            </p:nvSpPr>
            <p:spPr>
              <a:xfrm rot="7615200">
                <a:off x="4984920" y="572292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直接连接符 34"/>
              <p:cNvSpPr/>
              <p:nvPr/>
            </p:nvSpPr>
            <p:spPr>
              <a:xfrm flipH="1" flipV="1">
                <a:off x="4642560" y="4733640"/>
                <a:ext cx="404280" cy="953280"/>
              </a:xfrm>
              <a:prstGeom prst="line">
                <a:avLst/>
              </a:prstGeom>
              <a:ln w="5724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直接连接符 38"/>
            <p:cNvSpPr/>
            <p:nvPr/>
          </p:nvSpPr>
          <p:spPr>
            <a:xfrm flipH="1" flipV="1">
              <a:off x="3031920" y="3084480"/>
              <a:ext cx="638280" cy="42840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直接连接符 39"/>
            <p:cNvSpPr/>
            <p:nvPr/>
          </p:nvSpPr>
          <p:spPr>
            <a:xfrm flipH="1" flipV="1">
              <a:off x="2728800" y="3887280"/>
              <a:ext cx="748080" cy="1404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直接连接符 41"/>
            <p:cNvSpPr/>
            <p:nvPr/>
          </p:nvSpPr>
          <p:spPr>
            <a:xfrm flipH="1">
              <a:off x="2852640" y="4371120"/>
              <a:ext cx="735120" cy="345960"/>
            </a:xfrm>
            <a:prstGeom prst="line">
              <a:avLst/>
            </a:prstGeom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椭圆 43"/>
            <p:cNvSpPr/>
            <p:nvPr/>
          </p:nvSpPr>
          <p:spPr>
            <a:xfrm>
              <a:off x="2838240" y="291744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4"/>
            <p:cNvSpPr/>
            <p:nvPr/>
          </p:nvSpPr>
          <p:spPr>
            <a:xfrm>
              <a:off x="2603520" y="374940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椭圆 45"/>
            <p:cNvSpPr/>
            <p:nvPr/>
          </p:nvSpPr>
          <p:spPr>
            <a:xfrm>
              <a:off x="2728800" y="463536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TextBox 47"/>
          <p:cNvSpPr/>
          <p:nvPr/>
        </p:nvSpPr>
        <p:spPr>
          <a:xfrm>
            <a:off x="534672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48"/>
          <p:cNvSpPr/>
          <p:nvPr/>
        </p:nvSpPr>
        <p:spPr>
          <a:xfrm>
            <a:off x="580392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50"/>
          <p:cNvSpPr/>
          <p:nvPr/>
        </p:nvSpPr>
        <p:spPr>
          <a:xfrm>
            <a:off x="6388200" y="416412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55"/>
          <p:cNvSpPr/>
          <p:nvPr/>
        </p:nvSpPr>
        <p:spPr>
          <a:xfrm>
            <a:off x="31752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66200" y="184464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何更改本模板并添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菜单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视图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幻灯片母版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将你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添加到第一页中即可为所有的幻灯片添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此外通过此方法，还可以修改本模板内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组合 33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537" name="组合 8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53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35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43" name="组合 8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3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4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组合 8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55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TextBox 26"/>
          <p:cNvSpPr/>
          <p:nvPr/>
        </p:nvSpPr>
        <p:spPr>
          <a:xfrm>
            <a:off x="1244520" y="40528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8"/>
          <p:cNvSpPr/>
          <p:nvPr/>
        </p:nvSpPr>
        <p:spPr>
          <a:xfrm>
            <a:off x="3897360" y="34146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0"/>
          <p:cNvSpPr/>
          <p:nvPr/>
        </p:nvSpPr>
        <p:spPr>
          <a:xfrm>
            <a:off x="6526080" y="2952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组合 26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563" name="组合 17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564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27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570" name="组合 6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571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29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577" name="组合 12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578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30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584" name="组合 7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585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组合 46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593" name="组合 5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594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椭圆 4"/>
            <p:cNvSpPr/>
            <p:nvPr/>
          </p:nvSpPr>
          <p:spPr>
            <a:xfrm>
              <a:off x="160308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直接连接符 6"/>
            <p:cNvSpPr/>
            <p:nvPr/>
          </p:nvSpPr>
          <p:spPr>
            <a:xfrm flipV="1">
              <a:off x="4110120" y="3357000"/>
              <a:ext cx="2098800" cy="1584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直接连接符 7"/>
            <p:cNvSpPr/>
            <p:nvPr/>
          </p:nvSpPr>
          <p:spPr>
            <a:xfrm flipV="1">
              <a:off x="6293160" y="2810880"/>
              <a:ext cx="1622520" cy="1584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7000"/>
                </a:srgbClr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组合 43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608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44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611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45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614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42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617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41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620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组合 4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623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2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626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gradFill rotWithShape="0">
              <a:gsLst>
                <a:gs pos="0">
                  <a:srgbClr val="29869f"/>
                </a:gs>
                <a:gs pos="100000">
                  <a:srgbClr val="33b3d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gradFill rotWithShape="0">
            <a:gsLst>
              <a:gs pos="0">
                <a:srgbClr val="a5a5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组合 8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647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9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650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23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653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组合 2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656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组合 38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664" name="组合 1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65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39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667" name="组合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68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37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670" name="组合 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71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42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673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Picture 2" descr="D:\PPT模版\素材\png素材\web sites\web sites2\32x32\yen_currency_sign.png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组合 41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676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Picture 3" descr="D:\PPT模版\素材\png素材\web sites\web sites2\32x32\dollar_currency_sign.png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8" name="组合 40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679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Picture 4" descr="D:\PPT模版\素材\png素材\web sites\web sites2\32x32\euro_currency_sign.png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组合 3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682" name="组合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83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组合 47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686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Picture 2" descr="D:\PPT模版\素材\png素材\web sites\web sites2\32x32\sterling_pound_currency_sign.png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TextBox 49"/>
          <p:cNvSpPr/>
          <p:nvPr/>
        </p:nvSpPr>
        <p:spPr>
          <a:xfrm>
            <a:off x="5197320" y="1295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燕尾形 6"/>
          <p:cNvSpPr/>
          <p:nvPr/>
        </p:nvSpPr>
        <p:spPr>
          <a:xfrm>
            <a:off x="627552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931680" y="4444560"/>
            <a:ext cx="720" cy="1794240"/>
            <a:chOff x="931680" y="4444560"/>
            <a:chExt cx="720" cy="1794240"/>
          </a:xfrm>
        </p:grpSpPr>
        <p:cxnSp>
          <p:nvCxnSpPr>
            <p:cNvPr id="699" name="直接箭头​​连接符 9"/>
            <p:cNvCxnSpPr/>
            <p:nvPr/>
          </p:nvCxnSpPr>
          <p:spPr>
            <a:xfrm>
              <a:off x="931680" y="4444560"/>
              <a:ext cx="1080" cy="1794600"/>
            </a:xfrm>
            <a:prstGeom prst="straightConnector1">
              <a:avLst/>
            </a:prstGeom>
            <a:ln w="28440">
              <a:solidFill>
                <a:srgbClr val="9bbb59"/>
              </a:solidFill>
              <a:prstDash val="sysDash"/>
              <a:bevel/>
              <a:tailEnd len="med" type="arrow" w="med"/>
            </a:ln>
          </p:spPr>
        </p:cxnSp>
        <p:sp>
          <p:nvSpPr>
            <p:cNvPr id="700" name=""/>
            <p:cNvSpPr txBox="1"/>
            <p:nvPr/>
          </p:nvSpPr>
          <p:spPr>
            <a:xfrm>
              <a:off x="931680" y="4444560"/>
              <a:ext cx="360" cy="179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510080" y="4444560"/>
            <a:ext cx="1800" cy="1794240"/>
            <a:chOff x="4510080" y="4444560"/>
            <a:chExt cx="1800" cy="1794240"/>
          </a:xfrm>
        </p:grpSpPr>
        <p:cxnSp>
          <p:nvCxnSpPr>
            <p:cNvPr id="702" name="直接箭头​​连接符 11"/>
            <p:cNvCxnSpPr/>
            <p:nvPr/>
          </p:nvCxnSpPr>
          <p:spPr>
            <a:xfrm>
              <a:off x="4510080" y="4444560"/>
              <a:ext cx="2160" cy="1794600"/>
            </a:xfrm>
            <a:prstGeom prst="straightConnector1">
              <a:avLst/>
            </a:prstGeom>
            <a:ln w="28440">
              <a:solidFill>
                <a:srgbClr val="4bacc6"/>
              </a:solidFill>
              <a:prstDash val="sysDash"/>
              <a:bevel/>
              <a:tailEnd len="med" type="arrow" w="med"/>
            </a:ln>
          </p:spPr>
        </p:cxnSp>
        <p:sp>
          <p:nvSpPr>
            <p:cNvPr id="703" name=""/>
            <p:cNvSpPr txBox="1"/>
            <p:nvPr/>
          </p:nvSpPr>
          <p:spPr>
            <a:xfrm>
              <a:off x="4510080" y="4444560"/>
              <a:ext cx="1440" cy="179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745720" y="1197720"/>
            <a:ext cx="1080" cy="1799280"/>
            <a:chOff x="2745720" y="1197720"/>
            <a:chExt cx="1080" cy="1799280"/>
          </a:xfrm>
        </p:grpSpPr>
        <p:cxnSp>
          <p:nvCxnSpPr>
            <p:cNvPr id="705" name="直接箭头​​连接符 12"/>
            <p:cNvCxnSpPr/>
            <p:nvPr/>
          </p:nvCxnSpPr>
          <p:spPr>
            <a:xfrm flipV="1">
              <a:off x="2746080" y="1197720"/>
              <a:ext cx="1080" cy="1799640"/>
            </a:xfrm>
            <a:prstGeom prst="straightConnector1">
              <a:avLst/>
            </a:prstGeom>
            <a:ln w="28440">
              <a:solidFill>
                <a:srgbClr val="8064a2"/>
              </a:solidFill>
              <a:prstDash val="sysDash"/>
              <a:bevel/>
              <a:tailEnd len="med" type="arrow" w="med"/>
            </a:ln>
          </p:spPr>
        </p:cxnSp>
        <p:sp>
          <p:nvSpPr>
            <p:cNvPr id="706" name=""/>
            <p:cNvSpPr txBox="1"/>
            <p:nvPr/>
          </p:nvSpPr>
          <p:spPr>
            <a:xfrm rot="10800000">
              <a:off x="2745720" y="1197720"/>
              <a:ext cx="360" cy="17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6266880" y="1197720"/>
            <a:ext cx="1080" cy="1799280"/>
            <a:chOff x="6266880" y="1197720"/>
            <a:chExt cx="1080" cy="1799280"/>
          </a:xfrm>
        </p:grpSpPr>
        <p:cxnSp>
          <p:nvCxnSpPr>
            <p:cNvPr id="708" name="直接箭头​​连接符 16"/>
            <p:cNvCxnSpPr/>
            <p:nvPr/>
          </p:nvCxnSpPr>
          <p:spPr>
            <a:xfrm flipV="1">
              <a:off x="6267240" y="1197720"/>
              <a:ext cx="1080" cy="1799640"/>
            </a:xfrm>
            <a:prstGeom prst="straightConnector1">
              <a:avLst/>
            </a:prstGeom>
            <a:ln w="28440">
              <a:solidFill>
                <a:srgbClr val="f79646"/>
              </a:solidFill>
              <a:prstDash val="sysDash"/>
              <a:bevel/>
              <a:tailEnd len="med" type="arrow" w="med"/>
            </a:ln>
          </p:spPr>
        </p:cxnSp>
        <p:sp>
          <p:nvSpPr>
            <p:cNvPr id="709" name=""/>
            <p:cNvSpPr txBox="1"/>
            <p:nvPr/>
          </p:nvSpPr>
          <p:spPr>
            <a:xfrm rot="10800000">
              <a:off x="6266880" y="1197720"/>
              <a:ext cx="360" cy="17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TextBox 15"/>
          <p:cNvSpPr/>
          <p:nvPr/>
        </p:nvSpPr>
        <p:spPr>
          <a:xfrm>
            <a:off x="3131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8"/>
          <p:cNvSpPr/>
          <p:nvPr/>
        </p:nvSpPr>
        <p:spPr>
          <a:xfrm>
            <a:off x="661572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20"/>
          <p:cNvSpPr/>
          <p:nvPr/>
        </p:nvSpPr>
        <p:spPr>
          <a:xfrm>
            <a:off x="482076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dcterms:modified xsi:type="dcterms:W3CDTF">2016-12-16T02:17:46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