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7A1-A589-4EFD-BFAA-8365A364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A35-B84F-4EFD-8301-891D5298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FEB-2C07-4394-9EB9-CA987A62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531-A34A-447C-80ED-AD9E013F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69C-751A-47E3-87D2-3FD534E8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1EA7-0A77-4A2F-A409-B96D0E39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2B8D-9D53-4F9F-A0AB-242383FD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9A8-8FFC-4049-8F2B-232D4A33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8C1-7CE4-4951-A2A4-9429C7A4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CEF-0164-4E2F-B07B-1E795071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284-54C8-4FD3-A3E7-C88FE8B8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E95-AD50-4B41-B753-2F02154B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7D04-789F-4C34-A314-F1720F77AAA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F216-1E94-421B-805D-914163035F9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4876920" cy="3649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4025880" y="2568600"/>
            <a:ext cx="430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经典行书简"/>
                <a:ea typeface="微软雅黑"/>
              </a:rPr>
              <a:t>如何写总结和规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7924680" y="3797280"/>
            <a:ext cx="304920" cy="31752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7550280" y="3746520"/>
            <a:ext cx="74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6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9"/>
          <p:cNvSpPr/>
          <p:nvPr/>
        </p:nvSpPr>
        <p:spPr>
          <a:xfrm>
            <a:off x="533520" y="54864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8077320" y="498492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1"/>
          <p:cNvSpPr/>
          <p:nvPr/>
        </p:nvSpPr>
        <p:spPr>
          <a:xfrm>
            <a:off x="7467480" y="5538960"/>
            <a:ext cx="1676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经典行书简"/>
                <a:ea typeface="经典行书简"/>
              </a:rPr>
              <a:t>总结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239840" y="1847880"/>
            <a:ext cx="1558800" cy="2357280"/>
          </a:xfrm>
          <a:prstGeom prst="rect">
            <a:avLst/>
          </a:prstGeom>
          <a:ln w="0">
            <a:noFill/>
          </a:ln>
        </p:spPr>
      </p:pic>
      <p:sp>
        <p:nvSpPr>
          <p:cNvPr id="173" name="Straight Connector 17"/>
          <p:cNvSpPr/>
          <p:nvPr/>
        </p:nvSpPr>
        <p:spPr>
          <a:xfrm>
            <a:off x="2971800" y="304812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8"/>
          <p:cNvSpPr/>
          <p:nvPr/>
        </p:nvSpPr>
        <p:spPr>
          <a:xfrm>
            <a:off x="2971800" y="4264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3048120" y="21337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2"/>
          <p:cNvSpPr/>
          <p:nvPr/>
        </p:nvSpPr>
        <p:spPr>
          <a:xfrm>
            <a:off x="3030480" y="3352680"/>
            <a:ext cx="504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B80-1F3B-4018-9E3D-99EB3AE7D543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066680" y="1714680"/>
            <a:ext cx="2324160" cy="23238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9"/>
          <p:cNvSpPr/>
          <p:nvPr/>
        </p:nvSpPr>
        <p:spPr>
          <a:xfrm>
            <a:off x="304920" y="54864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经典行书简"/>
                <a:ea typeface="经典行书简"/>
              </a:rPr>
              <a:t>总结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5"/>
          <p:cNvSpPr/>
          <p:nvPr/>
        </p:nvSpPr>
        <p:spPr>
          <a:xfrm flipV="1">
            <a:off x="1020600" y="609480"/>
            <a:ext cx="1800" cy="4375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ight Arrow 30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1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"/>
          <p:cNvSpPr/>
          <p:nvPr/>
        </p:nvSpPr>
        <p:spPr>
          <a:xfrm>
            <a:off x="33480" y="-65160"/>
            <a:ext cx="1522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3429000" y="2743200"/>
            <a:ext cx="491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24"/>
          <p:cNvSpPr/>
          <p:nvPr/>
        </p:nvSpPr>
        <p:spPr>
          <a:xfrm>
            <a:off x="3276720" y="259092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5"/>
          <p:cNvSpPr/>
          <p:nvPr/>
        </p:nvSpPr>
        <p:spPr>
          <a:xfrm>
            <a:off x="3276720" y="1676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E0D-F090-4AC2-882C-7079933B8976}" type="slidenum">
              <a:t>11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29"/>
          <p:cNvSpPr/>
          <p:nvPr/>
        </p:nvSpPr>
        <p:spPr>
          <a:xfrm>
            <a:off x="762120" y="488880"/>
            <a:ext cx="31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工作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5"/>
          <p:cNvSpPr/>
          <p:nvPr/>
        </p:nvSpPr>
        <p:spPr>
          <a:xfrm flipV="1">
            <a:off x="1020600" y="609480"/>
            <a:ext cx="1800" cy="4375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-Shape 17"/>
          <p:cNvSpPr/>
          <p:nvPr/>
        </p:nvSpPr>
        <p:spPr>
          <a:xfrm rot="5400000">
            <a:off x="2395080" y="3322440"/>
            <a:ext cx="987480" cy="2273400"/>
          </a:xfrm>
          <a:custGeom>
            <a:avLst/>
            <a:gdLst>
              <a:gd name="textAreaLeft" fmla="*/ 0 w 987480"/>
              <a:gd name="textAreaRight" fmla="*/ 987840 w 987480"/>
              <a:gd name="textAreaTop" fmla="*/ 0 h 2273400"/>
              <a:gd name="textAreaBottom" fmla="*/ 2273760 h 2273400"/>
            </a:gdLst>
            <a:ahLst/>
            <a:rect l="textAreaLeft" t="textAreaTop" r="textAreaRight" b="textAreaBottom"/>
            <a:pathLst>
              <a:path w="1554" h="3581">
                <a:moveTo>
                  <a:pt x="0" y="0"/>
                </a:moveTo>
                <a:lnTo>
                  <a:pt x="250" y="0"/>
                </a:lnTo>
                <a:lnTo>
                  <a:pt x="250" y="3330"/>
                </a:lnTo>
                <a:lnTo>
                  <a:pt x="1554" y="3330"/>
                </a:lnTo>
                <a:lnTo>
                  <a:pt x="1554" y="3581"/>
                </a:lnTo>
                <a:lnTo>
                  <a:pt x="0" y="3581"/>
                </a:lnTo>
                <a:close/>
              </a:path>
            </a:pathLst>
          </a:cu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-Shape 18"/>
          <p:cNvSpPr/>
          <p:nvPr/>
        </p:nvSpPr>
        <p:spPr>
          <a:xfrm rot="5400000">
            <a:off x="4655160" y="2448360"/>
            <a:ext cx="765000" cy="2268360"/>
          </a:xfrm>
          <a:custGeom>
            <a:avLst/>
            <a:gdLst>
              <a:gd name="textAreaLeft" fmla="*/ 0 w 765000"/>
              <a:gd name="textAreaRight" fmla="*/ 765360 w 765000"/>
              <a:gd name="textAreaTop" fmla="*/ 0 h 2268360"/>
              <a:gd name="textAreaBottom" fmla="*/ 2268720 h 2268360"/>
            </a:gdLst>
            <a:ahLst/>
            <a:rect l="textAreaLeft" t="textAreaTop" r="textAreaRight" b="textAreaBottom"/>
            <a:pathLst>
              <a:path w="1206" h="3573">
                <a:moveTo>
                  <a:pt x="0" y="0"/>
                </a:moveTo>
                <a:lnTo>
                  <a:pt x="194" y="0"/>
                </a:lnTo>
                <a:lnTo>
                  <a:pt x="194" y="3378"/>
                </a:lnTo>
                <a:lnTo>
                  <a:pt x="1206" y="3378"/>
                </a:lnTo>
                <a:lnTo>
                  <a:pt x="1206" y="3573"/>
                </a:lnTo>
                <a:lnTo>
                  <a:pt x="0" y="3573"/>
                </a:lnTo>
                <a:close/>
              </a:path>
            </a:pathLst>
          </a:cu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-Shape 20"/>
          <p:cNvSpPr/>
          <p:nvPr/>
        </p:nvSpPr>
        <p:spPr>
          <a:xfrm rot="5400000">
            <a:off x="6847200" y="1888200"/>
            <a:ext cx="760320" cy="2111400"/>
          </a:xfrm>
          <a:custGeom>
            <a:avLst/>
            <a:gdLst>
              <a:gd name="textAreaLeft" fmla="*/ 0 w 760320"/>
              <a:gd name="textAreaRight" fmla="*/ 760680 w 7603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1198" h="3324">
                <a:moveTo>
                  <a:pt x="0" y="0"/>
                </a:moveTo>
                <a:lnTo>
                  <a:pt x="192" y="0"/>
                </a:lnTo>
                <a:lnTo>
                  <a:pt x="192" y="3130"/>
                </a:lnTo>
                <a:lnTo>
                  <a:pt x="1198" y="3130"/>
                </a:lnTo>
                <a:lnTo>
                  <a:pt x="1198" y="3324"/>
                </a:lnTo>
                <a:lnTo>
                  <a:pt x="0" y="3324"/>
                </a:lnTo>
                <a:close/>
              </a:path>
            </a:pathLst>
          </a:cu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23623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599ff"/>
                </a:solidFill>
                <a:latin typeface="微软雅黑"/>
                <a:ea typeface="微软雅黑"/>
              </a:rPr>
              <a:t>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1"/>
          <p:cNvSpPr/>
          <p:nvPr/>
        </p:nvSpPr>
        <p:spPr>
          <a:xfrm>
            <a:off x="4419720" y="34196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599ff"/>
                </a:solidFill>
                <a:latin typeface="微软雅黑"/>
                <a:ea typeface="微软雅黑"/>
              </a:rPr>
              <a:t>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6629400" y="28004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599ff"/>
                </a:solidFill>
                <a:latin typeface="微软雅黑"/>
                <a:ea typeface="微软雅黑"/>
              </a:rPr>
              <a:t>完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5"/>
          <p:cNvSpPr/>
          <p:nvPr/>
        </p:nvSpPr>
        <p:spPr>
          <a:xfrm>
            <a:off x="1752480" y="3287880"/>
            <a:ext cx="21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EF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ight Arrow 38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1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3"/>
          <p:cNvSpPr/>
          <p:nvPr/>
        </p:nvSpPr>
        <p:spPr>
          <a:xfrm>
            <a:off x="304920" y="54864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经典行书简"/>
                <a:ea typeface="经典行书简"/>
              </a:rPr>
              <a:t>总结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6"/>
          <p:cNvSpPr/>
          <p:nvPr/>
        </p:nvSpPr>
        <p:spPr>
          <a:xfrm>
            <a:off x="3038400" y="5516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工作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7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8d8d8"/>
                </a:solidFill>
                <a:latin typeface="经典行书简"/>
                <a:ea typeface="经典行书简"/>
              </a:rPr>
              <a:t>工作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6477120" y="4984920"/>
            <a:ext cx="380880" cy="392040"/>
          </a:xfrm>
          <a:prstGeom prst="ellipse">
            <a:avLst/>
          </a:prstGeom>
          <a:solidFill>
            <a:srgbClr val="65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3602160" y="4997520"/>
            <a:ext cx="380880" cy="392040"/>
          </a:xfrm>
          <a:prstGeom prst="ellipse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214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Oval 45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Box 24"/>
          <p:cNvSpPr/>
          <p:nvPr/>
        </p:nvSpPr>
        <p:spPr>
          <a:xfrm>
            <a:off x="3932280" y="2548080"/>
            <a:ext cx="21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EF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6"/>
          <p:cNvSpPr/>
          <p:nvPr/>
        </p:nvSpPr>
        <p:spPr>
          <a:xfrm>
            <a:off x="6210360" y="1905120"/>
            <a:ext cx="21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EF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F96-83C3-43F6-9F59-93D564C62BCA}" type="slidenum">
              <a:t>12</a:t>
            </a:fld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traight Connector 5"/>
          <p:cNvSpPr/>
          <p:nvPr/>
        </p:nvSpPr>
        <p:spPr>
          <a:xfrm flipV="1">
            <a:off x="1020600" y="609480"/>
            <a:ext cx="1800" cy="4375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3772080" y="1498680"/>
            <a:ext cx="1701720" cy="17017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"/>
          <p:cNvSpPr/>
          <p:nvPr/>
        </p:nvSpPr>
        <p:spPr>
          <a:xfrm>
            <a:off x="2386080" y="2873520"/>
            <a:ext cx="1209600" cy="3999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761080" y="2819520"/>
            <a:ext cx="1209600" cy="3999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1574640" y="3429000"/>
            <a:ext cx="31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是工作一的细分工作成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2"/>
          <p:cNvSpPr/>
          <p:nvPr/>
        </p:nvSpPr>
        <p:spPr>
          <a:xfrm>
            <a:off x="622440" y="511200"/>
            <a:ext cx="31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工作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0" y="4797360"/>
            <a:ext cx="9540720" cy="1544760"/>
            <a:chOff x="0" y="4797360"/>
            <a:chExt cx="9540720" cy="1544760"/>
          </a:xfrm>
        </p:grpSpPr>
        <p:sp>
          <p:nvSpPr>
            <p:cNvPr id="225" name="Right Arrow 44"/>
            <p:cNvSpPr/>
            <p:nvPr/>
          </p:nvSpPr>
          <p:spPr>
            <a:xfrm>
              <a:off x="0" y="4797360"/>
              <a:ext cx="9540720" cy="79200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45"/>
            <p:cNvSpPr/>
            <p:nvPr/>
          </p:nvSpPr>
          <p:spPr>
            <a:xfrm>
              <a:off x="830520" y="4983840"/>
              <a:ext cx="380880" cy="393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46"/>
            <p:cNvSpPr/>
            <p:nvPr/>
          </p:nvSpPr>
          <p:spPr>
            <a:xfrm>
              <a:off x="304560" y="5486400"/>
              <a:ext cx="16002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c000"/>
                  </a:solidFill>
                  <a:latin typeface="经典行书简"/>
                  <a:ea typeface="经典行书简"/>
                </a:rPr>
                <a:t>总结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47"/>
            <p:cNvSpPr/>
            <p:nvPr/>
          </p:nvSpPr>
          <p:spPr>
            <a:xfrm>
              <a:off x="3038400" y="55173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经典行书简"/>
                  <a:ea typeface="经典行书简"/>
                </a:rPr>
                <a:t>工作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48"/>
            <p:cNvSpPr/>
            <p:nvPr/>
          </p:nvSpPr>
          <p:spPr>
            <a:xfrm>
              <a:off x="5867640" y="55396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d8d8d8"/>
                  </a:solidFill>
                  <a:latin typeface="经典行书简"/>
                  <a:ea typeface="经典行书简"/>
                </a:rPr>
                <a:t>工作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49"/>
            <p:cNvSpPr/>
            <p:nvPr/>
          </p:nvSpPr>
          <p:spPr>
            <a:xfrm>
              <a:off x="6477120" y="4983840"/>
              <a:ext cx="380880" cy="393120"/>
            </a:xfrm>
            <a:prstGeom prst="ellipse">
              <a:avLst/>
            </a:prstGeom>
            <a:solidFill>
              <a:srgbClr val="65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232" name="Picture 2" descr=""/>
            <p:cNvPicPr/>
            <p:nvPr/>
          </p:nvPicPr>
          <p:blipFill>
            <a:blip r:embed="rId2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53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Oval 54"/>
          <p:cNvSpPr/>
          <p:nvPr/>
        </p:nvSpPr>
        <p:spPr>
          <a:xfrm>
            <a:off x="3602160" y="4997520"/>
            <a:ext cx="380880" cy="392040"/>
          </a:xfrm>
          <a:prstGeom prst="ellipse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4869000" y="342756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是工作一的细分工作成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5D7-11E6-41F6-9B3D-55BC7D6C824A}" type="slidenum">
              <a:t>13</a:t>
            </a:fld>
          </a:p>
        </p:txBody>
      </p:sp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traight Connector 5"/>
          <p:cNvSpPr/>
          <p:nvPr/>
        </p:nvSpPr>
        <p:spPr>
          <a:xfrm flipV="1">
            <a:off x="1020600" y="609480"/>
            <a:ext cx="1800" cy="4375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2"/>
          <p:cNvSpPr/>
          <p:nvPr/>
        </p:nvSpPr>
        <p:spPr>
          <a:xfrm>
            <a:off x="1143000" y="514440"/>
            <a:ext cx="22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工作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90720" y="1295280"/>
            <a:ext cx="7999200" cy="1314720"/>
            <a:chOff x="990720" y="1295280"/>
            <a:chExt cx="7999200" cy="1314720"/>
          </a:xfrm>
        </p:grpSpPr>
        <p:grpSp>
          <p:nvGrpSpPr>
            <p:cNvPr id="239" name=""/>
            <p:cNvGrpSpPr/>
            <p:nvPr/>
          </p:nvGrpSpPr>
          <p:grpSpPr>
            <a:xfrm>
              <a:off x="990720" y="1872720"/>
              <a:ext cx="7999200" cy="138240"/>
              <a:chOff x="990720" y="1872720"/>
              <a:chExt cx="7999200" cy="138240"/>
            </a:xfrm>
          </p:grpSpPr>
          <p:sp>
            <p:nvSpPr>
              <p:cNvPr id="240" name="Straight Connector 47"/>
              <p:cNvSpPr/>
              <p:nvPr/>
            </p:nvSpPr>
            <p:spPr>
              <a:xfrm>
                <a:off x="990720" y="1872720"/>
                <a:ext cx="7999200" cy="0"/>
              </a:xfrm>
              <a:prstGeom prst="line">
                <a:avLst/>
              </a:prstGeom>
              <a:ln w="93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Straight Connector 48"/>
              <p:cNvSpPr/>
              <p:nvPr/>
            </p:nvSpPr>
            <p:spPr>
              <a:xfrm>
                <a:off x="990720" y="1941840"/>
                <a:ext cx="7999200" cy="0"/>
              </a:xfrm>
              <a:prstGeom prst="line">
                <a:avLst/>
              </a:prstGeom>
              <a:ln w="633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Straight Connector 49"/>
              <p:cNvSpPr/>
              <p:nvPr/>
            </p:nvSpPr>
            <p:spPr>
              <a:xfrm>
                <a:off x="990720" y="2010960"/>
                <a:ext cx="7999200" cy="0"/>
              </a:xfrm>
              <a:prstGeom prst="line">
                <a:avLst/>
              </a:prstGeom>
              <a:ln w="93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Oval 20"/>
            <p:cNvSpPr/>
            <p:nvPr/>
          </p:nvSpPr>
          <p:spPr>
            <a:xfrm>
              <a:off x="1390680" y="1388160"/>
              <a:ext cx="1066320" cy="1107360"/>
            </a:xfrm>
            <a:prstGeom prst="ellipse">
              <a:avLst/>
            </a:prstGeom>
            <a:solidFill>
              <a:srgbClr val="c3d9ff"/>
            </a:solidFill>
            <a:ln w="25560">
              <a:solidFill>
                <a:srgbClr val="c3d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年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1"/>
            <p:cNvSpPr/>
            <p:nvPr/>
          </p:nvSpPr>
          <p:spPr>
            <a:xfrm>
              <a:off x="1290600" y="1295280"/>
              <a:ext cx="1266480" cy="1314720"/>
            </a:xfrm>
            <a:prstGeom prst="ellipse">
              <a:avLst/>
            </a:prstGeom>
            <a:noFill/>
            <a:ln w="25560">
              <a:solidFill>
                <a:srgbClr val="c3d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3079800" y="1641240"/>
              <a:ext cx="577080" cy="599040"/>
              <a:chOff x="3079800" y="1641240"/>
              <a:chExt cx="577080" cy="599040"/>
            </a:xfrm>
          </p:grpSpPr>
          <p:sp>
            <p:nvSpPr>
              <p:cNvPr id="246" name="Oval 45"/>
              <p:cNvSpPr/>
              <p:nvPr/>
            </p:nvSpPr>
            <p:spPr>
              <a:xfrm>
                <a:off x="3156840" y="1710360"/>
                <a:ext cx="433440" cy="450000"/>
              </a:xfrm>
              <a:prstGeom prst="ellipse">
                <a:avLst/>
              </a:prstGeom>
              <a:solidFill>
                <a:srgbClr val="c3d9ff"/>
              </a:solidFill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46"/>
              <p:cNvSpPr/>
              <p:nvPr/>
            </p:nvSpPr>
            <p:spPr>
              <a:xfrm>
                <a:off x="3079800" y="1641240"/>
                <a:ext cx="577080" cy="599040"/>
              </a:xfrm>
              <a:prstGeom prst="ellipse">
                <a:avLst/>
              </a:prstGeom>
              <a:noFill/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4146480" y="1641240"/>
              <a:ext cx="577080" cy="599040"/>
              <a:chOff x="4146480" y="1641240"/>
              <a:chExt cx="577080" cy="599040"/>
            </a:xfrm>
          </p:grpSpPr>
          <p:sp>
            <p:nvSpPr>
              <p:cNvPr id="249" name="Oval 43"/>
              <p:cNvSpPr/>
              <p:nvPr/>
            </p:nvSpPr>
            <p:spPr>
              <a:xfrm>
                <a:off x="4223520" y="1710360"/>
                <a:ext cx="433440" cy="450000"/>
              </a:xfrm>
              <a:prstGeom prst="ellipse">
                <a:avLst/>
              </a:prstGeom>
              <a:solidFill>
                <a:srgbClr val="c3d9ff"/>
              </a:solidFill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44"/>
              <p:cNvSpPr/>
              <p:nvPr/>
            </p:nvSpPr>
            <p:spPr>
              <a:xfrm>
                <a:off x="4146480" y="1641240"/>
                <a:ext cx="577080" cy="599040"/>
              </a:xfrm>
              <a:prstGeom prst="ellipse">
                <a:avLst/>
              </a:prstGeom>
              <a:noFill/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5213160" y="1641240"/>
              <a:ext cx="577080" cy="599040"/>
              <a:chOff x="5213160" y="1641240"/>
              <a:chExt cx="577080" cy="599040"/>
            </a:xfrm>
          </p:grpSpPr>
          <p:sp>
            <p:nvSpPr>
              <p:cNvPr id="252" name="Oval 37"/>
              <p:cNvSpPr/>
              <p:nvPr/>
            </p:nvSpPr>
            <p:spPr>
              <a:xfrm>
                <a:off x="5290200" y="1710360"/>
                <a:ext cx="433440" cy="450000"/>
              </a:xfrm>
              <a:prstGeom prst="ellipse">
                <a:avLst/>
              </a:prstGeom>
              <a:solidFill>
                <a:srgbClr val="c3d9ff"/>
              </a:solidFill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40"/>
              <p:cNvSpPr/>
              <p:nvPr/>
            </p:nvSpPr>
            <p:spPr>
              <a:xfrm>
                <a:off x="5213160" y="1641240"/>
                <a:ext cx="577080" cy="599040"/>
              </a:xfrm>
              <a:prstGeom prst="ellipse">
                <a:avLst/>
              </a:prstGeom>
              <a:noFill/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279840" y="1634040"/>
              <a:ext cx="577080" cy="599040"/>
              <a:chOff x="6279840" y="1634040"/>
              <a:chExt cx="577080" cy="599040"/>
            </a:xfrm>
          </p:grpSpPr>
          <p:sp>
            <p:nvSpPr>
              <p:cNvPr id="255" name="Oval 35"/>
              <p:cNvSpPr/>
              <p:nvPr/>
            </p:nvSpPr>
            <p:spPr>
              <a:xfrm>
                <a:off x="6356880" y="1703160"/>
                <a:ext cx="433440" cy="450000"/>
              </a:xfrm>
              <a:prstGeom prst="ellipse">
                <a:avLst/>
              </a:prstGeom>
              <a:solidFill>
                <a:srgbClr val="c3d9ff"/>
              </a:solidFill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36"/>
              <p:cNvSpPr/>
              <p:nvPr/>
            </p:nvSpPr>
            <p:spPr>
              <a:xfrm>
                <a:off x="6279840" y="1634040"/>
                <a:ext cx="577080" cy="599040"/>
              </a:xfrm>
              <a:prstGeom prst="ellipse">
                <a:avLst/>
              </a:prstGeom>
              <a:noFill/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Round Same Side Corner Rectangle 50"/>
          <p:cNvSpPr/>
          <p:nvPr/>
        </p:nvSpPr>
        <p:spPr>
          <a:xfrm>
            <a:off x="1601640" y="2809800"/>
            <a:ext cx="1446480" cy="1832040"/>
          </a:xfrm>
          <a:custGeom>
            <a:avLst/>
            <a:gdLst>
              <a:gd name="textAreaLeft" fmla="*/ 0 w 1446480"/>
              <a:gd name="textAreaRight" fmla="*/ 1446840 w 1446480"/>
              <a:gd name="textAreaTop" fmla="*/ 0 h 1832040"/>
              <a:gd name="textAreaBottom" fmla="*/ 1832400 h 1832040"/>
            </a:gdLst>
            <a:ahLst/>
            <a:rect l="textAreaLeft" t="textAreaTop" r="textAreaRight" b="textAreaBottom"/>
            <a:pathLst>
              <a:path w="2277" h="2885">
                <a:moveTo>
                  <a:pt x="379" y="0"/>
                </a:moveTo>
                <a:lnTo>
                  <a:pt x="1897" y="0"/>
                </a:lnTo>
                <a:lnTo>
                  <a:pt x="1897" y="0"/>
                </a:lnTo>
                <a:arcTo wR="379" hR="379" stAng="-5400000" swAng="5400000"/>
                <a:lnTo>
                  <a:pt x="2277" y="2885"/>
                </a:lnTo>
                <a:lnTo>
                  <a:pt x="2277" y="2885"/>
                </a:lnTo>
                <a:arcTo wR="0" hR="0" stAng="0" swAng="0"/>
                <a:lnTo>
                  <a:pt x="0" y="2885"/>
                </a:lnTo>
                <a:lnTo>
                  <a:pt x="0" y="2885"/>
                </a:lnTo>
                <a:arcTo wR="0" hR="0" stAng="0" swAng="0"/>
                <a:lnTo>
                  <a:pt x="0" y="379"/>
                </a:lnTo>
                <a:lnTo>
                  <a:pt x="0" y="379"/>
                </a:lnTo>
                <a:arcTo wR="379" hR="379" stAng="10800000" swAng="5400000"/>
                <a:close/>
              </a:path>
            </a:pathLst>
          </a:custGeom>
          <a:solidFill>
            <a:srgbClr val="c3d9ff"/>
          </a:solidFill>
          <a:ln w="25560">
            <a:solidFill>
              <a:srgbClr val="c3d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 Same Side Corner Rectangle 51"/>
          <p:cNvSpPr/>
          <p:nvPr/>
        </p:nvSpPr>
        <p:spPr>
          <a:xfrm>
            <a:off x="3348000" y="2949480"/>
            <a:ext cx="1452600" cy="175572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w="2288" h="2765">
                <a:moveTo>
                  <a:pt x="381" y="0"/>
                </a:moveTo>
                <a:lnTo>
                  <a:pt x="1906" y="0"/>
                </a:lnTo>
                <a:lnTo>
                  <a:pt x="1906" y="0"/>
                </a:lnTo>
                <a:arcTo wR="381" hR="381" stAng="-5400000" swAng="5400000"/>
                <a:lnTo>
                  <a:pt x="2288" y="2765"/>
                </a:lnTo>
                <a:lnTo>
                  <a:pt x="2288" y="2765"/>
                </a:lnTo>
                <a:arcTo wR="0" hR="0" stAng="0" swAng="0"/>
                <a:lnTo>
                  <a:pt x="0" y="2765"/>
                </a:lnTo>
                <a:lnTo>
                  <a:pt x="0" y="2765"/>
                </a:lnTo>
                <a:arcTo wR="0" hR="0" stAng="0" swAng="0"/>
                <a:lnTo>
                  <a:pt x="0" y="381"/>
                </a:lnTo>
                <a:lnTo>
                  <a:pt x="0" y="381"/>
                </a:lnTo>
                <a:arcTo wR="381" hR="381" stAng="10800000" swAng="5400000"/>
                <a:close/>
              </a:path>
            </a:pathLst>
          </a:custGeom>
          <a:solidFill>
            <a:srgbClr val="c3d9ff"/>
          </a:solidFill>
          <a:ln w="25560">
            <a:solidFill>
              <a:srgbClr val="c3d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ound Same Side Corner Rectangle 52"/>
          <p:cNvSpPr/>
          <p:nvPr/>
        </p:nvSpPr>
        <p:spPr>
          <a:xfrm>
            <a:off x="5100480" y="3067200"/>
            <a:ext cx="1452600" cy="170784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1707840"/>
              <a:gd name="textAreaBottom" fmla="*/ 1708200 h 1707840"/>
            </a:gdLst>
            <a:ahLst/>
            <a:rect l="textAreaLeft" t="textAreaTop" r="textAreaRight" b="textAreaBottom"/>
            <a:pathLst>
              <a:path w="2288" h="2690">
                <a:moveTo>
                  <a:pt x="381" y="0"/>
                </a:moveTo>
                <a:lnTo>
                  <a:pt x="1906" y="0"/>
                </a:lnTo>
                <a:lnTo>
                  <a:pt x="1906" y="0"/>
                </a:lnTo>
                <a:arcTo wR="381" hR="381" stAng="-5400000" swAng="5400000"/>
                <a:lnTo>
                  <a:pt x="2288" y="2690"/>
                </a:lnTo>
                <a:lnTo>
                  <a:pt x="2288" y="2690"/>
                </a:lnTo>
                <a:arcTo wR="0" hR="0" stAng="0" swAng="0"/>
                <a:lnTo>
                  <a:pt x="0" y="2690"/>
                </a:lnTo>
                <a:lnTo>
                  <a:pt x="0" y="2690"/>
                </a:lnTo>
                <a:arcTo wR="0" hR="0" stAng="0" swAng="0"/>
                <a:lnTo>
                  <a:pt x="0" y="381"/>
                </a:lnTo>
                <a:lnTo>
                  <a:pt x="0" y="381"/>
                </a:lnTo>
                <a:arcTo wR="381" hR="381" stAng="10800000" swAng="5400000"/>
                <a:close/>
              </a:path>
            </a:pathLst>
          </a:custGeom>
          <a:solidFill>
            <a:srgbClr val="c3d9ff"/>
          </a:solidFill>
          <a:ln w="25560">
            <a:solidFill>
              <a:srgbClr val="c3d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und Same Side Corner Rectangle 53"/>
          <p:cNvSpPr/>
          <p:nvPr/>
        </p:nvSpPr>
        <p:spPr>
          <a:xfrm>
            <a:off x="6853320" y="3016080"/>
            <a:ext cx="1452600" cy="162252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1622520"/>
              <a:gd name="textAreaBottom" fmla="*/ 1622880 h 1622520"/>
            </a:gdLst>
            <a:ahLst/>
            <a:rect l="textAreaLeft" t="textAreaTop" r="textAreaRight" b="textAreaBottom"/>
            <a:pathLst>
              <a:path w="2288" h="2556">
                <a:moveTo>
                  <a:pt x="381" y="0"/>
                </a:moveTo>
                <a:lnTo>
                  <a:pt x="1906" y="0"/>
                </a:lnTo>
                <a:lnTo>
                  <a:pt x="1906" y="0"/>
                </a:lnTo>
                <a:arcTo wR="381" hR="381" stAng="-5400000" swAng="5400000"/>
                <a:lnTo>
                  <a:pt x="2288" y="2556"/>
                </a:lnTo>
                <a:lnTo>
                  <a:pt x="2288" y="2556"/>
                </a:lnTo>
                <a:arcTo wR="0" hR="0" stAng="0" swAng="0"/>
                <a:lnTo>
                  <a:pt x="0" y="2556"/>
                </a:lnTo>
                <a:lnTo>
                  <a:pt x="0" y="2556"/>
                </a:lnTo>
                <a:arcTo wR="0" hR="0" stAng="0" swAng="0"/>
                <a:lnTo>
                  <a:pt x="0" y="381"/>
                </a:lnTo>
                <a:lnTo>
                  <a:pt x="0" y="381"/>
                </a:lnTo>
                <a:arcTo wR="381" hR="381" stAng="10800000" swAng="5400000"/>
                <a:close/>
              </a:path>
            </a:pathLst>
          </a:custGeom>
          <a:solidFill>
            <a:srgbClr val="c3d9ff"/>
          </a:solidFill>
          <a:ln w="25560">
            <a:solidFill>
              <a:srgbClr val="c3d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ound Same Side Corner Rectangle 54"/>
          <p:cNvSpPr/>
          <p:nvPr/>
        </p:nvSpPr>
        <p:spPr>
          <a:xfrm>
            <a:off x="6853320" y="2836800"/>
            <a:ext cx="1452600" cy="34596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288" h="545">
                <a:moveTo>
                  <a:pt x="272" y="0"/>
                </a:moveTo>
                <a:lnTo>
                  <a:pt x="2015" y="0"/>
                </a:lnTo>
                <a:lnTo>
                  <a:pt x="2015" y="0"/>
                </a:lnTo>
                <a:arcTo wR="272" hR="272" stAng="-5400000" swAng="5400000"/>
                <a:lnTo>
                  <a:pt x="2288" y="544"/>
                </a:lnTo>
                <a:lnTo>
                  <a:pt x="2288" y="544"/>
                </a:lnTo>
                <a:arcTo wR="0" hR="0" stAng="0" swAng="0"/>
                <a:lnTo>
                  <a:pt x="0" y="545"/>
                </a:lnTo>
                <a:lnTo>
                  <a:pt x="0" y="545"/>
                </a:lnTo>
                <a:arcTo wR="0" hR="0" stAng="0" swAng="0"/>
                <a:lnTo>
                  <a:pt x="0" y="272"/>
                </a:lnTo>
                <a:lnTo>
                  <a:pt x="0" y="272"/>
                </a:lnTo>
                <a:arcTo wR="272" hR="272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 Same Side Corner Rectangle 55"/>
          <p:cNvSpPr/>
          <p:nvPr/>
        </p:nvSpPr>
        <p:spPr>
          <a:xfrm>
            <a:off x="5100480" y="2836800"/>
            <a:ext cx="1452600" cy="34596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288" h="545">
                <a:moveTo>
                  <a:pt x="272" y="0"/>
                </a:moveTo>
                <a:lnTo>
                  <a:pt x="2015" y="0"/>
                </a:lnTo>
                <a:lnTo>
                  <a:pt x="2015" y="0"/>
                </a:lnTo>
                <a:arcTo wR="272" hR="272" stAng="-5400000" swAng="5400000"/>
                <a:lnTo>
                  <a:pt x="2288" y="544"/>
                </a:lnTo>
                <a:lnTo>
                  <a:pt x="2288" y="544"/>
                </a:lnTo>
                <a:arcTo wR="0" hR="0" stAng="0" swAng="0"/>
                <a:lnTo>
                  <a:pt x="0" y="545"/>
                </a:lnTo>
                <a:lnTo>
                  <a:pt x="0" y="545"/>
                </a:lnTo>
                <a:arcTo wR="0" hR="0" stAng="0" swAng="0"/>
                <a:lnTo>
                  <a:pt x="0" y="272"/>
                </a:lnTo>
                <a:lnTo>
                  <a:pt x="0" y="272"/>
                </a:lnTo>
                <a:arcTo wR="272" hR="272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 Same Side Corner Rectangle 56"/>
          <p:cNvSpPr/>
          <p:nvPr/>
        </p:nvSpPr>
        <p:spPr>
          <a:xfrm>
            <a:off x="3335400" y="2833560"/>
            <a:ext cx="1452600" cy="34632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346320"/>
              <a:gd name="textAreaBottom" fmla="*/ 346680 h 346320"/>
            </a:gdLst>
            <a:ahLst/>
            <a:rect l="textAreaLeft" t="textAreaTop" r="textAreaRight" b="textAreaBottom"/>
            <a:pathLst>
              <a:path w="2288" h="545">
                <a:moveTo>
                  <a:pt x="272" y="0"/>
                </a:moveTo>
                <a:lnTo>
                  <a:pt x="2015" y="0"/>
                </a:lnTo>
                <a:lnTo>
                  <a:pt x="2015" y="0"/>
                </a:lnTo>
                <a:arcTo wR="272" hR="272" stAng="-5400000" swAng="5400000"/>
                <a:lnTo>
                  <a:pt x="2288" y="544"/>
                </a:lnTo>
                <a:lnTo>
                  <a:pt x="2288" y="544"/>
                </a:lnTo>
                <a:arcTo wR="0" hR="0" stAng="0" swAng="0"/>
                <a:lnTo>
                  <a:pt x="0" y="545"/>
                </a:lnTo>
                <a:lnTo>
                  <a:pt x="0" y="545"/>
                </a:lnTo>
                <a:arcTo wR="0" hR="0" stAng="0" swAng="0"/>
                <a:lnTo>
                  <a:pt x="0" y="272"/>
                </a:lnTo>
                <a:lnTo>
                  <a:pt x="0" y="272"/>
                </a:lnTo>
                <a:arcTo wR="272" hR="272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 Same Side Corner Rectangle 57"/>
          <p:cNvSpPr/>
          <p:nvPr/>
        </p:nvSpPr>
        <p:spPr>
          <a:xfrm>
            <a:off x="1595520" y="2819520"/>
            <a:ext cx="1452600" cy="34596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288" h="545">
                <a:moveTo>
                  <a:pt x="272" y="0"/>
                </a:moveTo>
                <a:lnTo>
                  <a:pt x="2015" y="0"/>
                </a:lnTo>
                <a:lnTo>
                  <a:pt x="2015" y="0"/>
                </a:lnTo>
                <a:arcTo wR="272" hR="272" stAng="-5400000" swAng="5400000"/>
                <a:lnTo>
                  <a:pt x="2288" y="544"/>
                </a:lnTo>
                <a:lnTo>
                  <a:pt x="2288" y="544"/>
                </a:lnTo>
                <a:arcTo wR="0" hR="0" stAng="0" swAng="0"/>
                <a:lnTo>
                  <a:pt x="0" y="545"/>
                </a:lnTo>
                <a:lnTo>
                  <a:pt x="0" y="545"/>
                </a:lnTo>
                <a:arcTo wR="0" hR="0" stAng="0" swAng="0"/>
                <a:lnTo>
                  <a:pt x="0" y="272"/>
                </a:lnTo>
                <a:lnTo>
                  <a:pt x="0" y="272"/>
                </a:lnTo>
                <a:arcTo wR="272" hR="272" stAng="108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58"/>
          <p:cNvSpPr/>
          <p:nvPr/>
        </p:nvSpPr>
        <p:spPr>
          <a:xfrm flipH="1">
            <a:off x="2209320" y="2217600"/>
            <a:ext cx="1032120" cy="59688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59"/>
          <p:cNvSpPr/>
          <p:nvPr/>
        </p:nvSpPr>
        <p:spPr>
          <a:xfrm flipH="1">
            <a:off x="3949560" y="2243160"/>
            <a:ext cx="455760" cy="595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60"/>
          <p:cNvSpPr/>
          <p:nvPr/>
        </p:nvSpPr>
        <p:spPr>
          <a:xfrm>
            <a:off x="5568840" y="2217600"/>
            <a:ext cx="146160" cy="6001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1"/>
          <p:cNvSpPr/>
          <p:nvPr/>
        </p:nvSpPr>
        <p:spPr>
          <a:xfrm>
            <a:off x="6734160" y="2209680"/>
            <a:ext cx="733320" cy="6066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0" y="4797360"/>
            <a:ext cx="9540720" cy="1544760"/>
            <a:chOff x="0" y="4797360"/>
            <a:chExt cx="9540720" cy="1544760"/>
          </a:xfrm>
        </p:grpSpPr>
        <p:sp>
          <p:nvSpPr>
            <p:cNvPr id="270" name="Right Arrow 72"/>
            <p:cNvSpPr/>
            <p:nvPr/>
          </p:nvSpPr>
          <p:spPr>
            <a:xfrm>
              <a:off x="0" y="4797360"/>
              <a:ext cx="9540720" cy="79200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79"/>
            <p:cNvSpPr/>
            <p:nvPr/>
          </p:nvSpPr>
          <p:spPr>
            <a:xfrm>
              <a:off x="3581280" y="4996800"/>
              <a:ext cx="380880" cy="393120"/>
            </a:xfrm>
            <a:prstGeom prst="ellipse">
              <a:avLst/>
            </a:prstGeom>
            <a:solidFill>
              <a:srgbClr val="65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73"/>
            <p:cNvSpPr/>
            <p:nvPr/>
          </p:nvSpPr>
          <p:spPr>
            <a:xfrm>
              <a:off x="830520" y="4983840"/>
              <a:ext cx="380880" cy="393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74"/>
            <p:cNvSpPr/>
            <p:nvPr/>
          </p:nvSpPr>
          <p:spPr>
            <a:xfrm>
              <a:off x="304560" y="5486400"/>
              <a:ext cx="1618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c000"/>
                  </a:solidFill>
                  <a:latin typeface="经典行书简"/>
                  <a:ea typeface="经典行书简"/>
                </a:rPr>
                <a:t>总结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75"/>
            <p:cNvSpPr/>
            <p:nvPr/>
          </p:nvSpPr>
          <p:spPr>
            <a:xfrm>
              <a:off x="3038400" y="55173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a5a5a5"/>
                  </a:solidFill>
                  <a:latin typeface="经典行书简"/>
                  <a:ea typeface="经典行书简"/>
                </a:rPr>
                <a:t>工作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76"/>
            <p:cNvSpPr/>
            <p:nvPr/>
          </p:nvSpPr>
          <p:spPr>
            <a:xfrm>
              <a:off x="5867640" y="55396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经典行书简"/>
                  <a:ea typeface="经典行书简"/>
                </a:rPr>
                <a:t>工作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277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Oval 83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Oval 84"/>
          <p:cNvSpPr/>
          <p:nvPr/>
        </p:nvSpPr>
        <p:spPr>
          <a:xfrm>
            <a:off x="6475320" y="4997520"/>
            <a:ext cx="381240" cy="392040"/>
          </a:xfrm>
          <a:prstGeom prst="ellipse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713-BC2D-4D9C-BAA1-153EE4823D56}" type="slidenum">
              <a:t>14</a:t>
            </a:fld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2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traight Connector 2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282" name="Straight Connector 4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284" name="Right Arrow 1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3"/>
          <a:stretch/>
        </p:blipFill>
        <p:spPr>
          <a:xfrm>
            <a:off x="1927080" y="1839960"/>
            <a:ext cx="1557360" cy="2357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283360" y="1839960"/>
            <a:ext cx="1600200" cy="235728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5"/>
          <p:cNvSpPr/>
          <p:nvPr/>
        </p:nvSpPr>
        <p:spPr>
          <a:xfrm>
            <a:off x="1905120" y="41799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6"/>
          <p:cNvSpPr/>
          <p:nvPr/>
        </p:nvSpPr>
        <p:spPr>
          <a:xfrm>
            <a:off x="5283360" y="4167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8"/>
          <p:cNvSpPr/>
          <p:nvPr/>
        </p:nvSpPr>
        <p:spPr>
          <a:xfrm>
            <a:off x="1295280" y="502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9"/>
          <p:cNvSpPr/>
          <p:nvPr/>
        </p:nvSpPr>
        <p:spPr>
          <a:xfrm>
            <a:off x="6629400" y="50007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1"/>
          <p:cNvSpPr/>
          <p:nvPr/>
        </p:nvSpPr>
        <p:spPr>
          <a:xfrm>
            <a:off x="5892840" y="501012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2"/>
          <p:cNvSpPr/>
          <p:nvPr/>
        </p:nvSpPr>
        <p:spPr>
          <a:xfrm>
            <a:off x="2514600" y="5006880"/>
            <a:ext cx="38088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D19-CAE7-45C8-A900-A5CF2F7DEDA9}" type="slidenum">
              <a:t>15</a:t>
            </a:fld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6FAC-D49A-45F9-AC81-6FFEE968607B}" type="slidenum">
              <a:t>16</a:t>
            </a:fld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730-159A-4728-8877-C622878C7803}" type="slidenum">
              <a:t>17</a:t>
            </a:fld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hart 6"/>
          <p:cNvSpPr/>
          <p:nvPr/>
        </p:nvSpPr>
        <p:spPr>
          <a:xfrm>
            <a:off x="1366920" y="1708200"/>
            <a:ext cx="350496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9"/>
          <p:cNvSpPr/>
          <p:nvPr/>
        </p:nvSpPr>
        <p:spPr>
          <a:xfrm>
            <a:off x="5486400" y="2817720"/>
            <a:ext cx="310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意强调你的数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368960" y="2136600"/>
            <a:ext cx="914760" cy="1095840"/>
            <a:chOff x="4368960" y="2136600"/>
            <a:chExt cx="914760" cy="1095840"/>
          </a:xfrm>
        </p:grpSpPr>
        <p:sp>
          <p:nvSpPr>
            <p:cNvPr id="322" name="Oval 4"/>
            <p:cNvSpPr/>
            <p:nvPr/>
          </p:nvSpPr>
          <p:spPr>
            <a:xfrm>
              <a:off x="4368960" y="2136600"/>
              <a:ext cx="685800" cy="686520"/>
            </a:xfrm>
            <a:prstGeom prst="ellipse">
              <a:avLst/>
            </a:prstGeom>
            <a:solidFill>
              <a:srgbClr val="dddddd">
                <a:alpha val="25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 rot="19309200">
              <a:off x="5060880" y="2692440"/>
              <a:ext cx="45720" cy="588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Oval 16"/>
          <p:cNvSpPr/>
          <p:nvPr/>
        </p:nvSpPr>
        <p:spPr>
          <a:xfrm>
            <a:off x="6400800" y="500076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8"/>
          <p:cNvSpPr/>
          <p:nvPr/>
        </p:nvSpPr>
        <p:spPr>
          <a:xfrm>
            <a:off x="2849400" y="5516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现状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1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经典行书简"/>
                <a:ea typeface="经典行书简"/>
              </a:rPr>
              <a:t>现状</a:t>
            </a:r>
            <a:r>
              <a:rPr b="0" lang="en-US" sz="2400" spc="-1" strike="noStrike">
                <a:solidFill>
                  <a:srgbClr val="595959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22"/>
          <p:cNvSpPr/>
          <p:nvPr/>
        </p:nvSpPr>
        <p:spPr>
          <a:xfrm>
            <a:off x="3459240" y="500220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6F3-BD3B-4F21-95A7-4194ADEF7287}" type="slidenum">
              <a:t>18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5"/>
          <p:cNvSpPr/>
          <p:nvPr/>
        </p:nvSpPr>
        <p:spPr>
          <a:xfrm>
            <a:off x="3336840" y="4987800"/>
            <a:ext cx="381240" cy="39240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6"/>
          <p:cNvSpPr/>
          <p:nvPr/>
        </p:nvSpPr>
        <p:spPr>
          <a:xfrm>
            <a:off x="6411960" y="49719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7"/>
          <p:cNvSpPr/>
          <p:nvPr/>
        </p:nvSpPr>
        <p:spPr>
          <a:xfrm>
            <a:off x="2849400" y="5516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经典行书简"/>
                <a:ea typeface="经典行书简"/>
              </a:rPr>
              <a:t>现状</a:t>
            </a:r>
            <a:r>
              <a:rPr b="0" lang="en-US" sz="2400" spc="-1" strike="noStrike">
                <a:solidFill>
                  <a:srgbClr val="595959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58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现状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EEFE-22AE-4B2D-9246-DCCB76AEB2F5}" type="slidenum">
              <a:t>19</a:t>
            </a:fld>
          </a:p>
        </p:txBody>
      </p: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3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traight Connector 2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4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1927080" y="1839960"/>
            <a:ext cx="1557360" cy="235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283360" y="1839960"/>
            <a:ext cx="1600200" cy="2357280"/>
          </a:xfrm>
          <a:prstGeom prst="rect">
            <a:avLst/>
          </a:prstGeom>
          <a:ln w="0">
            <a:noFill/>
          </a:ln>
        </p:spPr>
      </p:pic>
      <p:sp>
        <p:nvSpPr>
          <p:cNvPr id="51" name="Right Arrow 1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6"/>
          <p:cNvSpPr/>
          <p:nvPr/>
        </p:nvSpPr>
        <p:spPr>
          <a:xfrm>
            <a:off x="2514600" y="5010120"/>
            <a:ext cx="380880" cy="3938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7"/>
          <p:cNvSpPr/>
          <p:nvPr/>
        </p:nvSpPr>
        <p:spPr>
          <a:xfrm>
            <a:off x="1905120" y="41799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5283360" y="4167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22"/>
          <p:cNvSpPr/>
          <p:nvPr/>
        </p:nvSpPr>
        <p:spPr>
          <a:xfrm>
            <a:off x="5956200" y="500220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1295280" y="502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6629400" y="50007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407-47F3-4AEA-91D3-F3B29637F4D6}" type="slidenum">
              <a:t>2</a:t>
            </a:fld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344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37F-02FA-44B5-8020-9B9B1962959D}" type="slidenum">
              <a:t>20</a:t>
            </a:fld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2536920" y="2066760"/>
            <a:ext cx="1211040" cy="40032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6040440" y="2066760"/>
            <a:ext cx="1209600" cy="40032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1066680" y="3343320"/>
            <a:ext cx="1476360" cy="4316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5587920" y="3317760"/>
            <a:ext cx="1057320" cy="4334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6832440" y="3308400"/>
            <a:ext cx="1057320" cy="4334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2681280" y="3341520"/>
            <a:ext cx="933480" cy="4334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3753000" y="3316320"/>
            <a:ext cx="1187280" cy="4334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074600" y="3895560"/>
            <a:ext cx="7993080" cy="901800"/>
            <a:chOff x="1074600" y="3895560"/>
            <a:chExt cx="7993080" cy="901800"/>
          </a:xfrm>
        </p:grpSpPr>
        <p:sp>
          <p:nvSpPr>
            <p:cNvPr id="359" name="Arc 3"/>
            <p:cNvSpPr/>
            <p:nvPr/>
          </p:nvSpPr>
          <p:spPr>
            <a:xfrm>
              <a:off x="1158120" y="3895920"/>
              <a:ext cx="7838280" cy="275400"/>
            </a:xfrm>
            <a:custGeom>
              <a:avLst/>
              <a:gdLst>
                <a:gd name="textAreaLeft" fmla="*/ 0 w 7838280"/>
                <a:gd name="textAreaRight" fmla="*/ 7838640 w 783828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fill="none" w="43200" h="22326">
                  <a:moveTo>
                    <a:pt x="43194" y="232"/>
                  </a:moveTo>
                  <a:cubicBezTo>
                    <a:pt x="43198" y="397"/>
                    <a:pt x="43200" y="561"/>
                    <a:pt x="43200" y="726"/>
                  </a:cubicBezTo>
                  <a:cubicBezTo>
                    <a:pt x="43200" y="12655"/>
                    <a:pt x="33529" y="22326"/>
                    <a:pt x="21600" y="22326"/>
                  </a:cubicBezTo>
                  <a:cubicBezTo>
                    <a:pt x="9670" y="22326"/>
                    <a:pt x="0" y="12655"/>
                    <a:pt x="0" y="726"/>
                  </a:cubicBezTo>
                  <a:cubicBezTo>
                    <a:pt x="-1" y="483"/>
                    <a:pt x="4" y="241"/>
                    <a:pt x="12" y="0"/>
                  </a:cubicBezTo>
                </a:path>
                <a:path stroke="0" w="43200" h="22326">
                  <a:moveTo>
                    <a:pt x="43194" y="232"/>
                  </a:moveTo>
                  <a:cubicBezTo>
                    <a:pt x="43198" y="397"/>
                    <a:pt x="43200" y="561"/>
                    <a:pt x="43200" y="726"/>
                  </a:cubicBezTo>
                  <a:cubicBezTo>
                    <a:pt x="43200" y="12655"/>
                    <a:pt x="33529" y="22326"/>
                    <a:pt x="21600" y="22326"/>
                  </a:cubicBezTo>
                  <a:cubicBezTo>
                    <a:pt x="9670" y="22326"/>
                    <a:pt x="0" y="12655"/>
                    <a:pt x="0" y="726"/>
                  </a:cubicBezTo>
                  <a:cubicBezTo>
                    <a:pt x="-1" y="483"/>
                    <a:pt x="4" y="241"/>
                    <a:pt x="12" y="0"/>
                  </a:cubicBezTo>
                  <a:lnTo>
                    <a:pt x="21600" y="726"/>
                  </a:lnTo>
                  <a:close/>
                </a:path>
              </a:pathLst>
            </a:custGeom>
            <a:noFill/>
            <a:ln w="190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rc 4"/>
            <p:cNvSpPr/>
            <p:nvPr/>
          </p:nvSpPr>
          <p:spPr>
            <a:xfrm>
              <a:off x="3436920" y="3897000"/>
              <a:ext cx="3279240" cy="86400"/>
            </a:xfrm>
            <a:custGeom>
              <a:avLst/>
              <a:gdLst>
                <a:gd name="textAreaLeft" fmla="*/ 0 w 3279240"/>
                <a:gd name="textAreaRight" fmla="*/ 3279600 w 327924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fill="none" w="43200" h="21600">
                  <a:moveTo>
                    <a:pt x="43200" y="0"/>
                  </a:moveTo>
                  <a:cubicBezTo>
                    <a:pt x="43200" y="11929"/>
                    <a:pt x="33529" y="21600"/>
                    <a:pt x="21600" y="21600"/>
                  </a:cubicBezTo>
                  <a:cubicBezTo>
                    <a:pt x="9670" y="21600"/>
                    <a:pt x="0" y="11929"/>
                    <a:pt x="0" y="0"/>
                  </a:cubicBezTo>
                </a:path>
                <a:path stroke="0" w="43200" h="21600">
                  <a:moveTo>
                    <a:pt x="43200" y="0"/>
                  </a:moveTo>
                  <a:cubicBezTo>
                    <a:pt x="43200" y="11929"/>
                    <a:pt x="33529" y="21600"/>
                    <a:pt x="21600" y="21600"/>
                  </a:cubicBez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4720320" y="4022640"/>
              <a:ext cx="710280" cy="103680"/>
            </a:xfrm>
            <a:custGeom>
              <a:avLst/>
              <a:gdLst>
                <a:gd name="textAreaLeft" fmla="*/ 0 w 710280"/>
                <a:gd name="textAreaRight" fmla="*/ 710640 w 71028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432" h="213">
                  <a:moveTo>
                    <a:pt x="48" y="213"/>
                  </a:moveTo>
                  <a:lnTo>
                    <a:pt x="408" y="213"/>
                  </a:lnTo>
                  <a:lnTo>
                    <a:pt x="288" y="45"/>
                  </a:lnTo>
                  <a:lnTo>
                    <a:pt x="432" y="45"/>
                  </a:lnTo>
                  <a:lnTo>
                    <a:pt x="215" y="0"/>
                  </a:lnTo>
                  <a:lnTo>
                    <a:pt x="0" y="45"/>
                  </a:lnTo>
                  <a:lnTo>
                    <a:pt x="144" y="45"/>
                  </a:lnTo>
                  <a:lnTo>
                    <a:pt x="48" y="213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1074600" y="3895560"/>
              <a:ext cx="7993080" cy="1440"/>
              <a:chOff x="1074600" y="3895560"/>
              <a:chExt cx="7993080" cy="1440"/>
            </a:xfrm>
          </p:grpSpPr>
          <p:sp>
            <p:nvSpPr>
              <p:cNvPr id="363" name="Line 6"/>
              <p:cNvSpPr/>
              <p:nvPr/>
            </p:nvSpPr>
            <p:spPr>
              <a:xfrm>
                <a:off x="1074600" y="3895560"/>
                <a:ext cx="7993080" cy="144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 txBox="1"/>
              <p:nvPr/>
            </p:nvSpPr>
            <p:spPr>
              <a:xfrm>
                <a:off x="1074600" y="3895560"/>
                <a:ext cx="7993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2249280" y="3896640"/>
              <a:ext cx="5652720" cy="900720"/>
              <a:chOff x="2249280" y="3896640"/>
              <a:chExt cx="5652720" cy="90072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2249280" y="3896640"/>
                <a:ext cx="2846160" cy="900360"/>
                <a:chOff x="2249280" y="3896640"/>
                <a:chExt cx="2846160" cy="900360"/>
              </a:xfrm>
            </p:grpSpPr>
            <p:sp>
              <p:nvSpPr>
                <p:cNvPr id="367" name="Line 8"/>
                <p:cNvSpPr/>
                <p:nvPr/>
              </p:nvSpPr>
              <p:spPr>
                <a:xfrm flipV="1">
                  <a:off x="2249280" y="3896640"/>
                  <a:ext cx="2846160" cy="900360"/>
                </a:xfrm>
                <a:prstGeom prst="line">
                  <a:avLst/>
                </a:prstGeom>
                <a:ln w="255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 txBox="1"/>
                <p:nvPr/>
              </p:nvSpPr>
              <p:spPr>
                <a:xfrm rot="10800000">
                  <a:off x="2249280" y="3896640"/>
                  <a:ext cx="2846160" cy="9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5095440" y="3897000"/>
                <a:ext cx="2806560" cy="900360"/>
                <a:chOff x="5095440" y="3897000"/>
                <a:chExt cx="2806560" cy="900360"/>
              </a:xfrm>
            </p:grpSpPr>
            <p:sp>
              <p:nvSpPr>
                <p:cNvPr id="370" name="Line 9"/>
                <p:cNvSpPr/>
                <p:nvPr/>
              </p:nvSpPr>
              <p:spPr>
                <a:xfrm>
                  <a:off x="5095440" y="3897000"/>
                  <a:ext cx="2806560" cy="900360"/>
                </a:xfrm>
                <a:prstGeom prst="line">
                  <a:avLst/>
                </a:prstGeom>
                <a:ln w="255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 txBox="1"/>
                <p:nvPr/>
              </p:nvSpPr>
              <p:spPr>
                <a:xfrm>
                  <a:off x="5095440" y="3897000"/>
                  <a:ext cx="2806560" cy="9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1084680" y="3898800"/>
              <a:ext cx="3991680" cy="276840"/>
              <a:chOff x="1084680" y="3898800"/>
              <a:chExt cx="3991680" cy="276840"/>
            </a:xfrm>
          </p:grpSpPr>
          <p:sp>
            <p:nvSpPr>
              <p:cNvPr id="373" name="Line 10"/>
              <p:cNvSpPr/>
              <p:nvPr/>
            </p:nvSpPr>
            <p:spPr>
              <a:xfrm flipV="1">
                <a:off x="1085040" y="3898800"/>
                <a:ext cx="3991320" cy="276840"/>
              </a:xfrm>
              <a:prstGeom prst="line">
                <a:avLst/>
              </a:prstGeom>
              <a:ln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 rot="10800000">
                <a:off x="1084680" y="3898800"/>
                <a:ext cx="3991320" cy="27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5076360" y="3897000"/>
              <a:ext cx="3991320" cy="276840"/>
              <a:chOff x="5076360" y="3897000"/>
              <a:chExt cx="3991320" cy="276840"/>
            </a:xfrm>
          </p:grpSpPr>
          <p:sp>
            <p:nvSpPr>
              <p:cNvPr id="376" name="Line 11"/>
              <p:cNvSpPr/>
              <p:nvPr/>
            </p:nvSpPr>
            <p:spPr>
              <a:xfrm>
                <a:off x="5076360" y="3897000"/>
                <a:ext cx="3991320" cy="276840"/>
              </a:xfrm>
              <a:prstGeom prst="line">
                <a:avLst/>
              </a:prstGeom>
              <a:ln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5076360" y="3897000"/>
                <a:ext cx="3991320" cy="27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1084680" y="3897000"/>
              <a:ext cx="3991680" cy="138240"/>
              <a:chOff x="1084680" y="3897000"/>
              <a:chExt cx="3991680" cy="138240"/>
            </a:xfrm>
          </p:grpSpPr>
          <p:sp>
            <p:nvSpPr>
              <p:cNvPr id="379" name="Line 12"/>
              <p:cNvSpPr/>
              <p:nvPr/>
            </p:nvSpPr>
            <p:spPr>
              <a:xfrm flipV="1">
                <a:off x="1085040" y="3897000"/>
                <a:ext cx="3991320" cy="13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 txBox="1"/>
              <p:nvPr/>
            </p:nvSpPr>
            <p:spPr>
              <a:xfrm rot="10800000">
                <a:off x="1084680" y="3897000"/>
                <a:ext cx="3991320" cy="13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5076360" y="3897000"/>
              <a:ext cx="3991320" cy="138240"/>
              <a:chOff x="5076360" y="3897000"/>
              <a:chExt cx="3991320" cy="138240"/>
            </a:xfrm>
          </p:grpSpPr>
          <p:sp>
            <p:nvSpPr>
              <p:cNvPr id="382" name="Line 13"/>
              <p:cNvSpPr/>
              <p:nvPr/>
            </p:nvSpPr>
            <p:spPr>
              <a:xfrm>
                <a:off x="5076360" y="3897000"/>
                <a:ext cx="3991320" cy="13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>
                <a:off x="5076360" y="3897000"/>
                <a:ext cx="3991320" cy="13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1084680" y="3897000"/>
              <a:ext cx="3991680" cy="46080"/>
              <a:chOff x="1084680" y="3897000"/>
              <a:chExt cx="3991680" cy="46080"/>
            </a:xfrm>
          </p:grpSpPr>
          <p:sp>
            <p:nvSpPr>
              <p:cNvPr id="385" name="Line 14"/>
              <p:cNvSpPr/>
              <p:nvPr/>
            </p:nvSpPr>
            <p:spPr>
              <a:xfrm flipV="1">
                <a:off x="1085040" y="3897000"/>
                <a:ext cx="3991320" cy="460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 rot="10800000">
                <a:off x="1084680" y="3897000"/>
                <a:ext cx="3991320" cy="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720" bIns="-7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5076360" y="3897000"/>
              <a:ext cx="3991320" cy="46080"/>
              <a:chOff x="5076360" y="3897000"/>
              <a:chExt cx="3991320" cy="46080"/>
            </a:xfrm>
          </p:grpSpPr>
          <p:sp>
            <p:nvSpPr>
              <p:cNvPr id="388" name="Line 15"/>
              <p:cNvSpPr/>
              <p:nvPr/>
            </p:nvSpPr>
            <p:spPr>
              <a:xfrm>
                <a:off x="5076360" y="3897000"/>
                <a:ext cx="3991320" cy="460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 txBox="1"/>
              <p:nvPr/>
            </p:nvSpPr>
            <p:spPr>
              <a:xfrm>
                <a:off x="5076360" y="3897000"/>
                <a:ext cx="3991320" cy="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720" bIns="-7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17"/>
            <p:cNvSpPr/>
            <p:nvPr/>
          </p:nvSpPr>
          <p:spPr>
            <a:xfrm>
              <a:off x="5786640" y="4009680"/>
              <a:ext cx="1042920" cy="99720"/>
            </a:xfrm>
            <a:custGeom>
              <a:avLst/>
              <a:gdLst>
                <a:gd name="textAreaLeft" fmla="*/ 0 w 1042920"/>
                <a:gd name="textAreaRight" fmla="*/ 1043280 w 10429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635" h="208">
                  <a:moveTo>
                    <a:pt x="369" y="208"/>
                  </a:moveTo>
                  <a:lnTo>
                    <a:pt x="635" y="172"/>
                  </a:lnTo>
                  <a:lnTo>
                    <a:pt x="272" y="28"/>
                  </a:lnTo>
                  <a:lnTo>
                    <a:pt x="372" y="10"/>
                  </a:lnTo>
                  <a:lnTo>
                    <a:pt x="108" y="0"/>
                  </a:lnTo>
                  <a:lnTo>
                    <a:pt x="0" y="58"/>
                  </a:lnTo>
                  <a:lnTo>
                    <a:pt x="118" y="44"/>
                  </a:lnTo>
                  <a:lnTo>
                    <a:pt x="369" y="208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8"/>
            <p:cNvSpPr/>
            <p:nvPr/>
          </p:nvSpPr>
          <p:spPr>
            <a:xfrm flipH="1">
              <a:off x="3316680" y="4009680"/>
              <a:ext cx="1042920" cy="99720"/>
            </a:xfrm>
            <a:custGeom>
              <a:avLst/>
              <a:gdLst>
                <a:gd name="textAreaLeft" fmla="*/ -360 w 1042920"/>
                <a:gd name="textAreaRight" fmla="*/ 1042920 w 10429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635" h="208">
                  <a:moveTo>
                    <a:pt x="369" y="208"/>
                  </a:moveTo>
                  <a:lnTo>
                    <a:pt x="635" y="172"/>
                  </a:lnTo>
                  <a:lnTo>
                    <a:pt x="272" y="28"/>
                  </a:lnTo>
                  <a:lnTo>
                    <a:pt x="372" y="10"/>
                  </a:lnTo>
                  <a:lnTo>
                    <a:pt x="108" y="0"/>
                  </a:lnTo>
                  <a:lnTo>
                    <a:pt x="0" y="58"/>
                  </a:lnTo>
                  <a:lnTo>
                    <a:pt x="118" y="44"/>
                  </a:lnTo>
                  <a:lnTo>
                    <a:pt x="369" y="208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4172040" y="853920"/>
            <a:ext cx="1415880" cy="1414440"/>
          </a:xfrm>
          <a:prstGeom prst="rect">
            <a:avLst/>
          </a:prstGeom>
          <a:ln w="0">
            <a:noFill/>
          </a:ln>
        </p:spPr>
      </p:pic>
      <p:sp>
        <p:nvSpPr>
          <p:cNvPr id="393" name="Straight Connector 86"/>
          <p:cNvSpPr/>
          <p:nvPr/>
        </p:nvSpPr>
        <p:spPr>
          <a:xfrm flipH="1">
            <a:off x="1684080" y="2438280"/>
            <a:ext cx="1338120" cy="8748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87"/>
          <p:cNvSpPr/>
          <p:nvPr/>
        </p:nvSpPr>
        <p:spPr>
          <a:xfrm>
            <a:off x="3022560" y="2438280"/>
            <a:ext cx="4680" cy="87336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88"/>
          <p:cNvSpPr/>
          <p:nvPr/>
        </p:nvSpPr>
        <p:spPr>
          <a:xfrm>
            <a:off x="3022560" y="2438280"/>
            <a:ext cx="1203480" cy="8496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89"/>
          <p:cNvSpPr/>
          <p:nvPr/>
        </p:nvSpPr>
        <p:spPr>
          <a:xfrm>
            <a:off x="6524640" y="2438280"/>
            <a:ext cx="716040" cy="83988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90"/>
          <p:cNvSpPr/>
          <p:nvPr/>
        </p:nvSpPr>
        <p:spPr>
          <a:xfrm flipH="1">
            <a:off x="5996160" y="2438280"/>
            <a:ext cx="528480" cy="8496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91"/>
          <p:cNvSpPr/>
          <p:nvPr/>
        </p:nvSpPr>
        <p:spPr>
          <a:xfrm>
            <a:off x="6346800" y="499752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93"/>
          <p:cNvSpPr/>
          <p:nvPr/>
        </p:nvSpPr>
        <p:spPr>
          <a:xfrm>
            <a:off x="2760840" y="551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愿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94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95"/>
          <p:cNvSpPr/>
          <p:nvPr/>
        </p:nvSpPr>
        <p:spPr>
          <a:xfrm>
            <a:off x="3351240" y="500220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992-1D57-4C7F-8132-5901E5104604}" type="slidenum">
              <a:t>21</a:t>
            </a:fld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4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1"/>
          <p:cNvSpPr/>
          <p:nvPr/>
        </p:nvSpPr>
        <p:spPr>
          <a:xfrm>
            <a:off x="2643120" y="1157400"/>
            <a:ext cx="1009800" cy="4316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2"/>
          <p:cNvSpPr/>
          <p:nvPr/>
        </p:nvSpPr>
        <p:spPr>
          <a:xfrm>
            <a:off x="2643120" y="3314880"/>
            <a:ext cx="1009800" cy="4316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AutoShape 33"/>
          <p:cNvCxnSpPr/>
          <p:nvPr/>
        </p:nvCxnSpPr>
        <p:spPr>
          <a:xfrm flipV="1">
            <a:off x="2068560" y="1372680"/>
            <a:ext cx="575280" cy="1078560"/>
          </a:xfrm>
          <a:prstGeom prst="bentConnector3">
            <a:avLst>
              <a:gd name="adj1" fmla="val 498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AutoShape 34"/>
          <p:cNvCxnSpPr/>
          <p:nvPr/>
        </p:nvCxnSpPr>
        <p:spPr>
          <a:xfrm>
            <a:off x="2068560" y="2451240"/>
            <a:ext cx="575280" cy="1080000"/>
          </a:xfrm>
          <a:prstGeom prst="bentConnector3">
            <a:avLst>
              <a:gd name="adj1" fmla="val 498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Rectangle 35"/>
          <p:cNvSpPr/>
          <p:nvPr/>
        </p:nvSpPr>
        <p:spPr>
          <a:xfrm>
            <a:off x="4443480" y="86508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6"/>
          <p:cNvSpPr/>
          <p:nvPr/>
        </p:nvSpPr>
        <p:spPr>
          <a:xfrm>
            <a:off x="4443480" y="151596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7"/>
          <p:cNvSpPr/>
          <p:nvPr/>
        </p:nvSpPr>
        <p:spPr>
          <a:xfrm>
            <a:off x="4443480" y="248760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8"/>
          <p:cNvSpPr/>
          <p:nvPr/>
        </p:nvSpPr>
        <p:spPr>
          <a:xfrm>
            <a:off x="4443480" y="291924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AutoShape 39"/>
          <p:cNvCxnSpPr/>
          <p:nvPr/>
        </p:nvCxnSpPr>
        <p:spPr>
          <a:xfrm flipV="1">
            <a:off x="3652920" y="1045800"/>
            <a:ext cx="791280" cy="32760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AutoShape 40"/>
          <p:cNvCxnSpPr/>
          <p:nvPr/>
        </p:nvCxnSpPr>
        <p:spPr>
          <a:xfrm>
            <a:off x="3652920" y="1373040"/>
            <a:ext cx="791280" cy="3247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6" name="Rectangle 41"/>
          <p:cNvSpPr/>
          <p:nvPr/>
        </p:nvSpPr>
        <p:spPr>
          <a:xfrm>
            <a:off x="4443480" y="335124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2"/>
          <p:cNvSpPr/>
          <p:nvPr/>
        </p:nvSpPr>
        <p:spPr>
          <a:xfrm>
            <a:off x="4443480" y="378288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AutoShape 43"/>
          <p:cNvCxnSpPr/>
          <p:nvPr/>
        </p:nvCxnSpPr>
        <p:spPr>
          <a:xfrm flipV="1">
            <a:off x="3652920" y="2668320"/>
            <a:ext cx="791280" cy="86256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AutoShape 44"/>
          <p:cNvCxnSpPr/>
          <p:nvPr/>
        </p:nvCxnSpPr>
        <p:spPr>
          <a:xfrm flipV="1">
            <a:off x="3652920" y="3099600"/>
            <a:ext cx="791280" cy="4309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AutoShape 45"/>
          <p:cNvCxnSpPr/>
          <p:nvPr/>
        </p:nvCxnSpPr>
        <p:spPr>
          <a:xfrm>
            <a:off x="3652920" y="3530160"/>
            <a:ext cx="791280" cy="25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AutoShape 46"/>
          <p:cNvCxnSpPr/>
          <p:nvPr/>
        </p:nvCxnSpPr>
        <p:spPr>
          <a:xfrm>
            <a:off x="3652920" y="3530520"/>
            <a:ext cx="791280" cy="43416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Rectangle 47"/>
          <p:cNvSpPr/>
          <p:nvPr/>
        </p:nvSpPr>
        <p:spPr>
          <a:xfrm>
            <a:off x="4443480" y="428796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AutoShape 48"/>
          <p:cNvCxnSpPr/>
          <p:nvPr/>
        </p:nvCxnSpPr>
        <p:spPr>
          <a:xfrm>
            <a:off x="3652920" y="3530520"/>
            <a:ext cx="791280" cy="93888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AutoShape 50"/>
          <p:cNvSpPr/>
          <p:nvPr/>
        </p:nvSpPr>
        <p:spPr>
          <a:xfrm>
            <a:off x="5853240" y="865080"/>
            <a:ext cx="468360" cy="3673440"/>
          </a:xfrm>
          <a:custGeom>
            <a:avLst/>
            <a:gdLst>
              <a:gd name="textAreaLeft" fmla="*/ 299160 w 468360"/>
              <a:gd name="textAreaRight" fmla="*/ 468720 w 468360"/>
              <a:gd name="textAreaTop" fmla="*/ 22320 h 3673440"/>
              <a:gd name="textAreaBottom" fmla="*/ 365112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"/>
                  <a:pt x="10800" y="422"/>
                </a:cubicBezTo>
                <a:lnTo>
                  <a:pt x="10800" y="10277"/>
                </a:lnTo>
                <a:cubicBezTo>
                  <a:pt x="10800" y="10488"/>
                  <a:pt x="5400" y="10699"/>
                  <a:pt x="0" y="10699"/>
                </a:cubicBezTo>
                <a:cubicBezTo>
                  <a:pt x="5400" y="10699"/>
                  <a:pt x="10800" y="10910"/>
                  <a:pt x="10800" y="11121"/>
                </a:cubicBezTo>
                <a:lnTo>
                  <a:pt x="10800" y="21178"/>
                </a:lnTo>
                <a:cubicBezTo>
                  <a:pt x="10800" y="2138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"/>
          <p:cNvPicPr/>
          <p:nvPr/>
        </p:nvPicPr>
        <p:blipFill>
          <a:blip r:embed="rId1"/>
          <a:stretch/>
        </p:blipFill>
        <p:spPr>
          <a:xfrm>
            <a:off x="984240" y="19843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26" name="TextBox 70"/>
          <p:cNvSpPr/>
          <p:nvPr/>
        </p:nvSpPr>
        <p:spPr>
          <a:xfrm>
            <a:off x="2760840" y="551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愿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71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73"/>
          <p:cNvSpPr/>
          <p:nvPr/>
        </p:nvSpPr>
        <p:spPr>
          <a:xfrm>
            <a:off x="3370320" y="499752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74"/>
          <p:cNvSpPr/>
          <p:nvPr/>
        </p:nvSpPr>
        <p:spPr>
          <a:xfrm>
            <a:off x="6477120" y="500220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AF9-1166-460E-9528-1E4E26B3C7F0}" type="slidenum">
              <a:t>22</a:t>
            </a:fld>
          </a:p>
        </p:txBody>
      </p:sp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4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AAE-1439-4562-901E-DEC70D375048}" type="slidenum">
              <a:t>23</a:t>
            </a:fld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914400" y="5335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444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Oval 57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Right Arrow 1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2"/>
          <p:cNvSpPr/>
          <p:nvPr/>
        </p:nvSpPr>
        <p:spPr>
          <a:xfrm>
            <a:off x="533520" y="5486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3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4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15"/>
          <p:cNvSpPr/>
          <p:nvPr/>
        </p:nvSpPr>
        <p:spPr>
          <a:xfrm>
            <a:off x="2819520" y="499104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6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7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8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1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B83-575C-444E-9F46-393AD8E17CB0}" type="slidenum">
              <a:t>24</a:t>
            </a:fld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4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47"/>
          <p:cNvSpPr/>
          <p:nvPr/>
        </p:nvSpPr>
        <p:spPr>
          <a:xfrm>
            <a:off x="990720" y="5335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458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Oval 57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Right Arrow 19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20"/>
          <p:cNvSpPr/>
          <p:nvPr/>
        </p:nvSpPr>
        <p:spPr>
          <a:xfrm>
            <a:off x="533520" y="5486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2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3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24"/>
          <p:cNvSpPr/>
          <p:nvPr/>
        </p:nvSpPr>
        <p:spPr>
          <a:xfrm>
            <a:off x="4770360" y="500220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25"/>
          <p:cNvSpPr/>
          <p:nvPr/>
        </p:nvSpPr>
        <p:spPr>
          <a:xfrm>
            <a:off x="28288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8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868-B179-4BAB-AE73-EF8282F8D04C}" type="slidenum">
              <a:t>25</a:t>
            </a:fld>
          </a:p>
        </p:txBody>
      </p:sp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4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6"/>
          <p:cNvSpPr/>
          <p:nvPr/>
        </p:nvSpPr>
        <p:spPr>
          <a:xfrm>
            <a:off x="884160" y="533520"/>
            <a:ext cx="26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472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Oval 57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Right Arrow 16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7"/>
          <p:cNvSpPr/>
          <p:nvPr/>
        </p:nvSpPr>
        <p:spPr>
          <a:xfrm>
            <a:off x="533520" y="5486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8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19"/>
          <p:cNvSpPr/>
          <p:nvPr/>
        </p:nvSpPr>
        <p:spPr>
          <a:xfrm>
            <a:off x="2828880" y="497196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20"/>
          <p:cNvSpPr/>
          <p:nvPr/>
        </p:nvSpPr>
        <p:spPr>
          <a:xfrm>
            <a:off x="6800760" y="498492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21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31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32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33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371600" y="1184400"/>
            <a:ext cx="3046320" cy="3200400"/>
            <a:chOff x="1371600" y="1184400"/>
            <a:chExt cx="3046320" cy="3200400"/>
          </a:xfrm>
        </p:grpSpPr>
        <p:sp>
          <p:nvSpPr>
            <p:cNvPr id="484" name="Isosceles Triangle 35"/>
            <p:cNvSpPr/>
            <p:nvPr/>
          </p:nvSpPr>
          <p:spPr>
            <a:xfrm>
              <a:off x="1371600" y="1184400"/>
              <a:ext cx="3046320" cy="3200400"/>
            </a:xfrm>
            <a:prstGeom prst="triangle">
              <a:avLst>
                <a:gd name="adj" fmla="val 50000"/>
              </a:avLst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Straight Connector 36"/>
            <p:cNvSpPr/>
            <p:nvPr/>
          </p:nvSpPr>
          <p:spPr>
            <a:xfrm>
              <a:off x="2292840" y="2270880"/>
              <a:ext cx="1133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Straight Connector 37"/>
            <p:cNvSpPr/>
            <p:nvPr/>
          </p:nvSpPr>
          <p:spPr>
            <a:xfrm>
              <a:off x="1725480" y="3242160"/>
              <a:ext cx="2196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TextBox 38"/>
          <p:cNvSpPr/>
          <p:nvPr/>
        </p:nvSpPr>
        <p:spPr>
          <a:xfrm>
            <a:off x="1708200" y="2978280"/>
            <a:ext cx="24447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目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39"/>
          <p:cNvSpPr/>
          <p:nvPr/>
        </p:nvSpPr>
        <p:spPr>
          <a:xfrm>
            <a:off x="2398680" y="1568520"/>
            <a:ext cx="1000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40"/>
          <p:cNvSpPr/>
          <p:nvPr/>
        </p:nvSpPr>
        <p:spPr>
          <a:xfrm>
            <a:off x="2075040" y="2286000"/>
            <a:ext cx="170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目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ight Arrow 41"/>
          <p:cNvSpPr/>
          <p:nvPr/>
        </p:nvSpPr>
        <p:spPr>
          <a:xfrm>
            <a:off x="4452840" y="2286000"/>
            <a:ext cx="2892600" cy="1317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2"/>
          <p:cNvSpPr/>
          <p:nvPr/>
        </p:nvSpPr>
        <p:spPr>
          <a:xfrm>
            <a:off x="5053320" y="2517840"/>
            <a:ext cx="1636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65A-89C4-4231-A6A5-4AF6F07C9350}" type="slidenum">
              <a:t>26</a:t>
            </a:fld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4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500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8F6-E61C-4E51-ADF8-9C9FA5CC4DF3}" type="slidenum">
              <a:t>27</a:t>
            </a:fld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ight Arrow 11"/>
          <p:cNvSpPr/>
          <p:nvPr/>
        </p:nvSpPr>
        <p:spPr>
          <a:xfrm>
            <a:off x="0" y="4797360"/>
            <a:ext cx="5791320" cy="79236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6"/>
          <p:cNvSpPr/>
          <p:nvPr/>
        </p:nvSpPr>
        <p:spPr>
          <a:xfrm>
            <a:off x="2514600" y="501012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1"/>
          <p:cNvSpPr/>
          <p:nvPr/>
        </p:nvSpPr>
        <p:spPr>
          <a:xfrm>
            <a:off x="1295280" y="502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8"/>
          <p:cNvSpPr/>
          <p:nvPr/>
        </p:nvSpPr>
        <p:spPr>
          <a:xfrm>
            <a:off x="5943600" y="49593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5"/>
          <p:cNvSpPr/>
          <p:nvPr/>
        </p:nvSpPr>
        <p:spPr>
          <a:xfrm>
            <a:off x="0" y="2023920"/>
            <a:ext cx="9144000" cy="1846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831-2A26-48CA-87EF-57C3CB17B47D}" type="slidenum">
              <a:t>28</a:t>
            </a:fld>
          </a:p>
        </p:txBody>
      </p:sp>
    </p:spTree>
  </p:cSld>
  <p:transition spd="med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5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traight Connector 2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60" name="Straight Connector 4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62" name="Right Arrow 1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6"/>
          <p:cNvSpPr/>
          <p:nvPr/>
        </p:nvSpPr>
        <p:spPr>
          <a:xfrm>
            <a:off x="2514600" y="501012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1927080" y="1839960"/>
            <a:ext cx="1557360" cy="235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283360" y="1839960"/>
            <a:ext cx="1600200" cy="2357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5"/>
          <p:cNvSpPr/>
          <p:nvPr/>
        </p:nvSpPr>
        <p:spPr>
          <a:xfrm>
            <a:off x="1905120" y="41799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6"/>
          <p:cNvSpPr/>
          <p:nvPr/>
        </p:nvSpPr>
        <p:spPr>
          <a:xfrm>
            <a:off x="5283360" y="4167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7"/>
          <p:cNvSpPr/>
          <p:nvPr/>
        </p:nvSpPr>
        <p:spPr>
          <a:xfrm>
            <a:off x="5956200" y="500220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8"/>
          <p:cNvSpPr/>
          <p:nvPr/>
        </p:nvSpPr>
        <p:spPr>
          <a:xfrm>
            <a:off x="1295280" y="502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9"/>
          <p:cNvSpPr/>
          <p:nvPr/>
        </p:nvSpPr>
        <p:spPr>
          <a:xfrm>
            <a:off x="6629400" y="50007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7B1-28BA-460A-A17C-BFEBE1990CF2}" type="slidenum">
              <a:t>3</a:t>
            </a:fld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ight Arrow 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9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239840" y="1847880"/>
            <a:ext cx="1558800" cy="2357280"/>
          </a:xfrm>
          <a:prstGeom prst="rect">
            <a:avLst/>
          </a:prstGeom>
          <a:ln w="0">
            <a:noFill/>
          </a:ln>
        </p:spPr>
      </p:pic>
      <p:sp>
        <p:nvSpPr>
          <p:cNvPr id="74" name="Straight Connector 9"/>
          <p:cNvSpPr/>
          <p:nvPr/>
        </p:nvSpPr>
        <p:spPr>
          <a:xfrm>
            <a:off x="2971800" y="304812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40"/>
          <p:cNvSpPr/>
          <p:nvPr/>
        </p:nvSpPr>
        <p:spPr>
          <a:xfrm>
            <a:off x="2971800" y="4264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6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3048120" y="21337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1"/>
          <p:cNvSpPr/>
          <p:nvPr/>
        </p:nvSpPr>
        <p:spPr>
          <a:xfrm>
            <a:off x="3030480" y="3352680"/>
            <a:ext cx="504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5"/>
          <p:cNvSpPr/>
          <p:nvPr/>
        </p:nvSpPr>
        <p:spPr>
          <a:xfrm>
            <a:off x="121932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79DE-88B6-4586-A2F2-910BE9970355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239840" y="1847880"/>
            <a:ext cx="1558800" cy="2357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3200400" y="2895480"/>
            <a:ext cx="491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121932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5"/>
          <p:cNvSpPr/>
          <p:nvPr/>
        </p:nvSpPr>
        <p:spPr>
          <a:xfrm>
            <a:off x="3048120" y="274320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3048120" y="18288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9FD-916B-4FE9-9779-0053AEE3CA18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40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9"/>
          <p:cNvSpPr/>
          <p:nvPr/>
        </p:nvSpPr>
        <p:spPr>
          <a:xfrm>
            <a:off x="4767120" y="4997520"/>
            <a:ext cx="38124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Arrow 2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2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3"/>
          <p:cNvSpPr/>
          <p:nvPr/>
        </p:nvSpPr>
        <p:spPr>
          <a:xfrm>
            <a:off x="228600" y="5486400"/>
            <a:ext cx="143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2819520" y="49896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0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6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37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8"/>
          <p:cNvSpPr/>
          <p:nvPr/>
        </p:nvSpPr>
        <p:spPr>
          <a:xfrm>
            <a:off x="2819520" y="499104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1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2"/>
          <p:cNvSpPr/>
          <p:nvPr/>
        </p:nvSpPr>
        <p:spPr>
          <a:xfrm>
            <a:off x="1371600" y="5335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104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Oval 57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27"/>
          <p:cNvSpPr/>
          <p:nvPr/>
        </p:nvSpPr>
        <p:spPr>
          <a:xfrm>
            <a:off x="1447920" y="1295280"/>
            <a:ext cx="680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599ff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场，</a:t>
            </a:r>
            <a:r>
              <a:rPr b="0" lang="en-US" sz="1800" spc="-1" strike="noStrike">
                <a:solidFill>
                  <a:srgbClr val="6599ff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6599ff"/>
                </a:solidFill>
                <a:latin typeface="Arial"/>
                <a:ea typeface="微软雅黑"/>
              </a:rPr>
              <a:t>月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成交</a:t>
            </a:r>
            <a:r>
              <a:rPr b="0" lang="en-US" sz="1800" spc="-1" strike="noStrike">
                <a:solidFill>
                  <a:srgbClr val="6599ff"/>
                </a:solidFill>
                <a:latin typeface="Arial"/>
                <a:ea typeface="微软雅黑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，各项指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r>
              <a:rPr b="0" lang="en-US" sz="1800" spc="-1" strike="noStrike">
                <a:solidFill>
                  <a:srgbClr val="6599ff"/>
                </a:solidFill>
                <a:latin typeface="Arial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6599ff"/>
                </a:solidFill>
                <a:latin typeface="Arial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6599ff"/>
                </a:solidFill>
                <a:latin typeface="Arial"/>
                <a:ea typeface="微软雅黑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全年完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成交（要用数据说话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8"/>
          <p:cNvSpPr/>
          <p:nvPr/>
        </p:nvSpPr>
        <p:spPr>
          <a:xfrm>
            <a:off x="1447920" y="295920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599ff"/>
                </a:solidFill>
                <a:latin typeface="Arial"/>
                <a:ea typeface="微软雅黑"/>
              </a:rPr>
              <a:t>7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场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上线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合作完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用客观事实说话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6B3-767F-4CE5-AADF-B8C9DE858D80}" type="slidenum">
              <a:t>6</a:t>
            </a:fld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1488960" y="531720"/>
            <a:ext cx="25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-</a:t>
            </a: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hart 13"/>
          <p:cNvSpPr/>
          <p:nvPr/>
        </p:nvSpPr>
        <p:spPr>
          <a:xfrm>
            <a:off x="1184400" y="1212840"/>
            <a:ext cx="74628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1828800" y="4213080"/>
            <a:ext cx="6781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对图表的说明，突出重点数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如峰值</a:t>
            </a:r>
            <a:r>
              <a:rPr b="0" lang="en-US" sz="2800" spc="-1" strike="noStrike">
                <a:solidFill>
                  <a:srgbClr val="6599ff"/>
                </a:solidFill>
                <a:latin typeface="微软雅黑"/>
                <a:ea typeface="微软雅黑"/>
              </a:rPr>
              <a:t>8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，平均值</a:t>
            </a:r>
            <a:r>
              <a:rPr b="0" lang="en-US" sz="2800" spc="-1" strike="noStrike">
                <a:solidFill>
                  <a:srgbClr val="6599ff"/>
                </a:solidFill>
                <a:latin typeface="微软雅黑"/>
                <a:ea typeface="微软雅黑"/>
              </a:rPr>
              <a:t>8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，完成率</a:t>
            </a:r>
            <a:r>
              <a:rPr b="0" lang="en-US" sz="2800" spc="-1" strike="noStrike">
                <a:solidFill>
                  <a:srgbClr val="6599ff"/>
                </a:solidFill>
                <a:latin typeface="微软雅黑"/>
                <a:ea typeface="微软雅黑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117440" y="4253040"/>
            <a:ext cx="722520" cy="642600"/>
          </a:xfrm>
          <a:prstGeom prst="rect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114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Oval 23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Oval 18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8"/>
          <p:cNvSpPr/>
          <p:nvPr/>
        </p:nvSpPr>
        <p:spPr>
          <a:xfrm>
            <a:off x="4767120" y="4997520"/>
            <a:ext cx="38124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ight Arrow 29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0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2"/>
          <p:cNvSpPr/>
          <p:nvPr/>
        </p:nvSpPr>
        <p:spPr>
          <a:xfrm>
            <a:off x="2819520" y="49896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3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4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5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6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7"/>
          <p:cNvSpPr/>
          <p:nvPr/>
        </p:nvSpPr>
        <p:spPr>
          <a:xfrm>
            <a:off x="2819520" y="499104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8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9"/>
          <p:cNvSpPr/>
          <p:nvPr/>
        </p:nvSpPr>
        <p:spPr>
          <a:xfrm>
            <a:off x="228600" y="5486400"/>
            <a:ext cx="143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2E1-C4A6-4D94-A20E-A10E1D3F99D0}" type="slidenum">
              <a:t>7</a:t>
            </a:fld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hart 15"/>
          <p:cNvSpPr/>
          <p:nvPr/>
        </p:nvSpPr>
        <p:spPr>
          <a:xfrm>
            <a:off x="1211400" y="1285920"/>
            <a:ext cx="7365960" cy="29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131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Oval 30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Oval 18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4767120" y="4997520"/>
            <a:ext cx="38124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ight Arrow 29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2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4"/>
          <p:cNvSpPr/>
          <p:nvPr/>
        </p:nvSpPr>
        <p:spPr>
          <a:xfrm>
            <a:off x="2819520" y="49896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5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6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7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8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9"/>
          <p:cNvSpPr/>
          <p:nvPr/>
        </p:nvSpPr>
        <p:spPr>
          <a:xfrm>
            <a:off x="4770360" y="4991040"/>
            <a:ext cx="38124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1"/>
          <p:cNvSpPr/>
          <p:nvPr/>
        </p:nvSpPr>
        <p:spPr>
          <a:xfrm>
            <a:off x="1488960" y="531720"/>
            <a:ext cx="25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-</a:t>
            </a: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2"/>
          <p:cNvSpPr/>
          <p:nvPr/>
        </p:nvSpPr>
        <p:spPr>
          <a:xfrm>
            <a:off x="1828800" y="441972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也可以在使用趋势线功能，让老板了解运营的趋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3"/>
          <p:cNvSpPr/>
          <p:nvPr/>
        </p:nvSpPr>
        <p:spPr>
          <a:xfrm>
            <a:off x="1117440" y="4253040"/>
            <a:ext cx="722520" cy="642600"/>
          </a:xfrm>
          <a:prstGeom prst="rect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4"/>
          <p:cNvSpPr/>
          <p:nvPr/>
        </p:nvSpPr>
        <p:spPr>
          <a:xfrm>
            <a:off x="228600" y="5486400"/>
            <a:ext cx="143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750-0BDF-451A-99F0-38C20E6691A4}" type="slidenum">
              <a:t>8</a:t>
            </a:fld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ight Arrow 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498600" y="542880"/>
            <a:ext cx="34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6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2819520" y="49896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0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4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6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7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4707000" y="498492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158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Oval 25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Oval 28"/>
          <p:cNvSpPr/>
          <p:nvPr/>
        </p:nvSpPr>
        <p:spPr>
          <a:xfrm>
            <a:off x="6781680" y="499752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1"/>
          <p:cNvSpPr/>
          <p:nvPr/>
        </p:nvSpPr>
        <p:spPr>
          <a:xfrm>
            <a:off x="6248520" y="191448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可以做数据的对比，此处可以写数据的注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hart 30"/>
          <p:cNvSpPr/>
          <p:nvPr/>
        </p:nvSpPr>
        <p:spPr>
          <a:xfrm>
            <a:off x="1371600" y="903240"/>
            <a:ext cx="398304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hart 31"/>
          <p:cNvSpPr/>
          <p:nvPr/>
        </p:nvSpPr>
        <p:spPr>
          <a:xfrm>
            <a:off x="1450800" y="2971800"/>
            <a:ext cx="4251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33"/>
          <p:cNvSpPr/>
          <p:nvPr/>
        </p:nvSpPr>
        <p:spPr>
          <a:xfrm>
            <a:off x="1012680" y="3276720"/>
            <a:ext cx="78948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4"/>
          <p:cNvSpPr/>
          <p:nvPr/>
        </p:nvSpPr>
        <p:spPr>
          <a:xfrm>
            <a:off x="228600" y="5486400"/>
            <a:ext cx="143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65D-5E22-43C5-AB52-00A508813516}" type="slidenum">
              <a:t>9</a:t>
            </a:fld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haoyou@taobao.com</dc:creator>
  <dc:description/>
  <dc:language>en-US</dc:language>
  <cp:lastModifiedBy>User</cp:lastModifiedBy>
  <cp:lastPrinted>1899-12-30T00:00:00Z</cp:lastPrinted>
  <dcterms:modified xsi:type="dcterms:W3CDTF">2011-03-17T03:33:00Z</dcterms:modified>
  <cp:revision>238</cp:revision>
  <dc:subject/>
  <dc:title>规划模板-演说非常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