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43F9-FB78-48F1-B833-FC835FBA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DA3-22E4-4A79-9712-71FFEB76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F78-3473-4DE0-8809-DA4329E3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44D-C644-4A47-9B3C-67C5F474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8E7-EBA0-4BBC-A361-A19DDAEF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E599-86D2-402E-A208-444F6AE1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C3E-E148-46A7-A887-689DA1BB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BB04-023E-4962-9A78-9AC4EFF6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A12-7027-4110-A942-D22CD26F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9323-1836-481F-8E64-8C4C0979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656-F062-4713-B3AB-2824C3E5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E2CF-0A11-4A92-A4DB-A5F6D9D7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B7AE-8727-47C1-B7EF-F78410D40D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6720" y="404640"/>
            <a:ext cx="158436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ff00"/>
                </a:solidFill>
                <a:latin typeface="Arial"/>
              </a:rPr>
              <a:t>怒吼吧，黄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280" y="5300640"/>
            <a:ext cx="2484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电师附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李林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19051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7920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听着激动人心的《黄河大合唱》，想象着黄河水的奔腾咆哮。黄河精神就是中华人民抗日必胜的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后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、抄写生字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、熟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627280" y="2276640"/>
            <a:ext cx="403236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再  见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292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Arial"/>
              </a:rPr>
              <a:t>欣赏《黄河船夫曲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8820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体会团结一致、齐心协力的精神，展示中华民族的伟大与坚强。</a:t>
            </a: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228600"/>
            <a:ext cx="8381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创作背景和经过（作品简介）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黄河大合唱》表现了在抗日战争年代里，中国人民的苦难与顽强斗争，也表现了我们民族的伟大精神和不可战胜的力量，它以我们伟大民族的发源地——黄河为背景，展示了黄河两岸曾经发生过的事，以启迪人民起来保卫黄河，保卫华北，保卫全中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创作经过是：                                   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3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春，诗人光未然在山西吕梁山游击区的山沟里坠马受伤。冼星海来看望他，星海建议来一次合作，光未然便把打算要写的长诗《黄河吟》改写成《黄河大合唱》的歌词，然后由星海谱曲而成，排练演出后，毛泽东给予了高度赞扬：“为抗战发出怒吼，为大众谱出呼声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黄河大合唱》是一部表现革命内容，发映时代精神，具有中国作风和中国气派，为中国人民所喜闻乐见的大型音乐作品，是我国近代合唱音乐创作史上的一座光辉的里程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4067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认读生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280" y="1052640"/>
            <a:ext cx="79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阶段、陕西、惊涛骇浪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虎啸龙吟、窑洞、浊浪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762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组合作交流、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字音：“浊浪”一词的读音是“</a:t>
            </a:r>
            <a:r>
              <a:rPr b="0" lang="zh-CN" sz="3300" spc="-1" strike="noStrike">
                <a:solidFill>
                  <a:srgbClr val="000000"/>
                </a:solidFill>
                <a:latin typeface="Comic Sans MS"/>
              </a:rPr>
              <a:t>zhuó  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zh-CN" sz="3300" spc="-1" strike="noStrike">
                <a:solidFill>
                  <a:srgbClr val="000000"/>
                </a:solidFill>
                <a:latin typeface="Comic Sans MS"/>
              </a:rPr>
              <a:t>ng”</a:t>
            </a:r>
            <a:r>
              <a:rPr b="0" lang="zh-CN" sz="33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字形：“窑”和“窖”的区别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字义：虎啸龙吟：本课指黄河的响声巨大。你能说出几个用动物打头的词语吗？（如：虎头蛇尾、牛头马面、狼心狗肺等）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3683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积累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雷贯耳    心潮澎湃    刮目相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震天动地    竭尽全力    披荆斩棘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所向无敌    低回婉转    抑扬顿挫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斩钉截铁    意气风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关注重点语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91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首次公演的地点是延安最大的礼堂——陕北公学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3500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628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——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这句话中的作用是什么？（解释说明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852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隆隆的巨响，不正是轩辕黄帝披荆斩棘、所向无敌的战车轰鸣吗？那壶口瀑布的百丈云烟，不正是与洪水搏斗、杀出生路的大禹精神吗？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50840" y="3284640"/>
            <a:ext cx="50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反问句，表达肯定的意思  感受排比句的作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默读课文，思考：光未然、冼星海是怎样的人？你从哪些语句中感受到的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隆隆的巨响，不正是轩辕黄帝披荆斩棘、所向无敌的战车轰鸣吗？那壶口瀑布的百丈云烟，不正是与洪水搏斗、杀出生路的大禹精神吗？他脑海里突然闪过一个想法：他要写一首长诗，来歌颂祖国的母亲河，来书写民族的苦难，描绘斗争与光明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合时代背景理解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抗日战争使中国陷入深重的灾难之中。日本帝国主义在中国烧杀抢掠，犯下重重罪行。中国人民奋起反抗，不屈不挠。光未然要写这样一首诗，来歌颂祖国的母亲河，来书写民族的苦难，描绘斗争与光明，表现了诗人炽热的爱国精神与强烈的责任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12:42:42Z</dcterms:created>
  <dc:creator>www.edudown.net</dc:creator>
  <dc:description>www.edudown.net</dc:description>
  <cp:keywords>www.edudown.net</cp:keywords>
  <dc:language>en-US</dc:language>
  <cp:lastModifiedBy>微软用户</cp:lastModifiedBy>
  <dcterms:modified xsi:type="dcterms:W3CDTF">2011-09-20T05:48:01Z</dcterms:modified>
  <cp:revision>8</cp:revision>
  <dc:subject>www.edudown.net</dc:subject>
  <dc:title>www.edudown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5000000000001024120</vt:lpwstr>
  </property>
</Properties>
</file>