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2.gif" ContentType="image/gif"/>
  <Override PartName="/ppt/media/image7.gif" ContentType="image/gif"/>
  <Override PartName="/ppt/media/image16.gif" ContentType="image/gif"/>
  <Override PartName="/ppt/media/image15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2A3-B329-4507-9F76-9DD2801D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83C3-9363-42CD-947B-AD71A1EE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969-74FE-4BA5-9EE4-193A2516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314-2459-40BF-9DB7-D20554B0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00D-93B1-493B-9936-B585496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2D-07EC-4283-949A-9087BA2D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F5B8-C63E-42B8-81E0-ECABB480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6FB-0761-49B7-9F2C-3264A882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D60-FC4E-497E-AB11-B1E4682F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D128-9755-4461-95CF-DFB90598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78E-8C89-43C5-A1AF-AD714BF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B6DD-2A6B-4DF7-86E9-7722CD87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4651-02A4-4CEF-8D5F-0A1B1920C1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99"/>
          <p:cNvSpPr/>
          <p:nvPr/>
        </p:nvSpPr>
        <p:spPr>
          <a:xfrm>
            <a:off x="-7920" y="-66600"/>
            <a:ext cx="91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文天祥数年坚持抗元斗争，终于无力回天，他不得不面对国破家亡的现实。被俘后，他自杀未成，只能随元军北行。梅岭依旧，身边却没有战友陪伴，只剩下元军的脚步，何等孤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8198" descr="t01559eb560cc4a5300"/>
          <p:cNvPicPr/>
          <p:nvPr/>
        </p:nvPicPr>
        <p:blipFill>
          <a:blip r:embed="rId1"/>
          <a:stretch/>
        </p:blipFill>
        <p:spPr>
          <a:xfrm>
            <a:off x="-7920" y="4657680"/>
            <a:ext cx="9431280" cy="2212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3315"/>
          <p:cNvSpPr/>
          <p:nvPr/>
        </p:nvSpPr>
        <p:spPr>
          <a:xfrm>
            <a:off x="104760" y="600120"/>
            <a:ext cx="90392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首联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风雨梅花，心情沉重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颔联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自我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发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问，行程孤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颈联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悲愤激昂，希望复国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尾联：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典故明志，饿死殉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064" descr="t01d8fc1e703dd4e5be"/>
          <p:cNvPicPr/>
          <p:nvPr/>
        </p:nvPicPr>
        <p:blipFill>
          <a:blip r:embed="rId1"/>
          <a:stretch/>
        </p:blipFill>
        <p:spPr>
          <a:xfrm>
            <a:off x="0" y="4379760"/>
            <a:ext cx="9144000" cy="2478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450720"/>
            <a:ext cx="914400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简要说明诗人“归乡如不归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诗人被捕归来，壮志未成，无颜见家乡父老，不如战死沙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】请简要分析第三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对比手法。祖国山河依旧与城郭已面目全非进行对比，突出了诗人的亡国之痛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（或祖国山河万世永存与城郭一时沦陷进行对比，突出诗人对恢复大宋江山的信念和对元人的蔑视。）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2772" descr="70"/>
          <p:cNvPicPr/>
          <p:nvPr/>
        </p:nvPicPr>
        <p:blipFill>
          <a:blip r:embed="rId1"/>
          <a:stretch/>
        </p:blipFill>
        <p:spPr>
          <a:xfrm>
            <a:off x="0" y="6294600"/>
            <a:ext cx="9144000" cy="563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诗歌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12600" y="644040"/>
            <a:ext cx="914400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首联略点行程中的地点和景色。作者至南安军，正跨越了大庾岭（梅岭）的南北两路。此处写梅花不是实景，而是因梅岭而说到梅花，借以和“风雨”对照，初步显示了行程中心情的沉重。梅岭的梅花在风雨中摇曳，濡湿了押着兵败后就擒、往大都受审的文天祥的兵丁的征衣，此时，一阵冰袭上了他的心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67589" descr="welcome"/>
          <p:cNvPicPr/>
          <p:nvPr/>
        </p:nvPicPr>
        <p:blipFill>
          <a:blip r:embed="rId1"/>
          <a:stretch/>
        </p:blipFill>
        <p:spPr>
          <a:xfrm>
            <a:off x="-12600" y="6143760"/>
            <a:ext cx="9144000" cy="741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3756" descr="t01995fa0ee8f1eba75"/>
          <p:cNvPicPr/>
          <p:nvPr/>
        </p:nvPicPr>
        <p:blipFill>
          <a:blip r:embed="rId2"/>
          <a:stretch/>
        </p:blipFill>
        <p:spPr>
          <a:xfrm>
            <a:off x="-12600" y="-420840"/>
            <a:ext cx="934920" cy="1695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25920" y="-35280"/>
            <a:ext cx="9183960" cy="68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颔联两句，上句是说行程的孤单，而用问话的语气写出，显得分外沉痛。下句是说这次的北行，本来可以回到故乡庐陵，但身系拘囚，不能自由，虽经故乡而犹如不归。这两句抒写了这次行程中的悲苦心情，而两“出”字和两“归”字的重复对照，更使得声情激荡起来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3086" descr="t014a2f0187762f5ca8"/>
          <p:cNvPicPr/>
          <p:nvPr/>
        </p:nvPicPr>
        <p:blipFill>
          <a:blip r:embed="rId1"/>
          <a:stretch/>
        </p:blipFill>
        <p:spPr>
          <a:xfrm>
            <a:off x="-25560" y="4862520"/>
            <a:ext cx="9185400" cy="1996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39960" y="-35280"/>
            <a:ext cx="9171000" cy="69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颈联承首联抒写悲愤。上句化用杜甫《春望》“国破山河在”名句。而说“山河千古在”，意思是说，宋朝的山何是永远存在的，不会被元朝永远占领，言外之意是宋朝还会复兴，山河有重光之日。下句是化用丁令威化鹤歌中“城郭犹是人民非”句意，是说“城郭之非”只是暂时的，也就是说，宋朝人民还要继续反杭，继续斗争，广大的城池不会被元朝永远占据。这两句对仗整饰，蕴蓄着极深厚的爱国感情和自信心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-52920" y="-22680"/>
            <a:ext cx="9171000" cy="73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尾联表明自己的态度：决心饿死殉国。他出之以言，继之而行，于是开始绝食，意欲死在家乡。而在绝食第五天时，即已行过庐陵，没有能死在家乡。又过了三天，在监护人的强迫下，只好开始进食。诗中用伯夷、叔齐指责周武王代商为“以暴易暴”，因而隐居首阳山，不食周粟，采薇而食，以至饿死的故事。表示了绝不降元的决心。“饿死真吾事”，说得斩钉截铁，大义凛然，而且有实际行动，感人肺腑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73734" descr="t01bef1a65a11508885"/>
          <p:cNvPicPr/>
          <p:nvPr/>
        </p:nvPicPr>
        <p:blipFill>
          <a:blip r:embed="rId1"/>
          <a:stretch/>
        </p:blipFill>
        <p:spPr>
          <a:xfrm>
            <a:off x="6653160" y="6046920"/>
            <a:ext cx="2360520" cy="8571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208080"/>
            <a:ext cx="91440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课堂总结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作者对杜甫的诗用力甚深，其风格亦颇相近，即于质朴之中见深厚之性情，可以说是用血和泪写成的作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主题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思想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这首诗化用社甫诗句，抒写自己的胸怀，表现出强烈的爱国感情，显示出凛然的民族正气。这首诗逐层递进，声情激荡，不加雕饰，而自见功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19460" descr="t01dd4c6d80aca58938"/>
          <p:cNvPicPr/>
          <p:nvPr/>
        </p:nvPicPr>
        <p:blipFill>
          <a:blip r:embed="rId1"/>
          <a:stretch/>
        </p:blipFill>
        <p:spPr>
          <a:xfrm>
            <a:off x="0" y="5425920"/>
            <a:ext cx="914400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-12600" y="-73440"/>
            <a:ext cx="9131040" cy="694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家乡近在眼前，成为囚徒而归故里，还不如不归！山河依旧，城郭沦丧，一切都无可挽回。他决心绝食，死在家乡，好让自己的灵魂得到宁静和安慰，诗人以高亢的诗篇，唱出了他的爱国之志，唱出了他的“一片丹心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8198" descr="t01559eb560cc4a5300"/>
          <p:cNvPicPr/>
          <p:nvPr/>
        </p:nvPicPr>
        <p:blipFill>
          <a:blip r:embed="rId1"/>
          <a:stretch/>
        </p:blipFill>
        <p:spPr>
          <a:xfrm>
            <a:off x="-12600" y="4753080"/>
            <a:ext cx="9235800" cy="2119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66400" y="12240"/>
            <a:ext cx="2955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南安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3"/>
          <p:cNvSpPr/>
          <p:nvPr/>
        </p:nvSpPr>
        <p:spPr>
          <a:xfrm>
            <a:off x="3078000" y="1155600"/>
            <a:ext cx="418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文天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"/>
          <p:cNvSpPr/>
          <p:nvPr/>
        </p:nvSpPr>
        <p:spPr>
          <a:xfrm>
            <a:off x="3862440" y="2144880"/>
            <a:ext cx="389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爱国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1268" descr="t0199adfd4ee74624f3"/>
          <p:cNvPicPr/>
          <p:nvPr/>
        </p:nvPicPr>
        <p:blipFill>
          <a:blip r:embed="rId1"/>
          <a:stretch/>
        </p:blipFill>
        <p:spPr>
          <a:xfrm>
            <a:off x="-117360" y="3062160"/>
            <a:ext cx="9445680" cy="38149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651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560" y="501120"/>
            <a:ext cx="9105840" cy="530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复习有关文天祥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文言词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写作背景，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人强烈的爱国感情，凛然的民族正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9462" descr="t01ce14b42748697428"/>
          <p:cNvPicPr/>
          <p:nvPr/>
        </p:nvPicPr>
        <p:blipFill>
          <a:blip r:embed="rId1"/>
          <a:stretch/>
        </p:blipFill>
        <p:spPr>
          <a:xfrm>
            <a:off x="25560" y="5470560"/>
            <a:ext cx="910584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内容占位符 24577" descr="200492974258536"/>
          <p:cNvPicPr/>
          <p:nvPr/>
        </p:nvPicPr>
        <p:blipFill>
          <a:blip r:embed="rId1"/>
          <a:stretch/>
        </p:blipFill>
        <p:spPr>
          <a:xfrm>
            <a:off x="0" y="828720"/>
            <a:ext cx="2098800" cy="60292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24578"/>
          <p:cNvSpPr/>
          <p:nvPr/>
        </p:nvSpPr>
        <p:spPr>
          <a:xfrm>
            <a:off x="2098800" y="0"/>
            <a:ext cx="70452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天祥，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36—128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，字履善，自号文山、浮休道人。南宋杰出的民族英雄、爱国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中进士第一名，官至刑部郎官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7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被任命右丞相，派往元营谈判，遭扣留。后脱险，到福建坚持抗元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7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，文天祥兵败被俘。他被元军一路押解北行，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7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出大庚岭，经南安军（治所在今江西大庾）时写下此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诗选自《文天祥诗集校笺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4579"/>
          <p:cNvSpPr/>
          <p:nvPr/>
        </p:nvSpPr>
        <p:spPr>
          <a:xfrm>
            <a:off x="0" y="189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542520"/>
            <a:ext cx="915660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帝昺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bǐ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祥兴二年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27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），南宋最后一个据点厓山被元军攻陷，南宋朝庭灭亡。文天祥在前一年被俘北行，于五月四日出大庚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岭，经南安军（治所在今江西大庾）时写此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8462" descr="t01f647d906059fcdcf"/>
          <p:cNvPicPr/>
          <p:nvPr/>
        </p:nvPicPr>
        <p:blipFill>
          <a:blip r:embed="rId1"/>
          <a:stretch/>
        </p:blipFill>
        <p:spPr>
          <a:xfrm>
            <a:off x="-606600" y="3943440"/>
            <a:ext cx="10607760" cy="29350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920" y="144360"/>
            <a:ext cx="837252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诗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12600" y="790200"/>
            <a:ext cx="91440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军        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天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梅花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南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路，　  风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湿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征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出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谁出？　  归乡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归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河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千古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，　  城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时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饥死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真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吾志，　  梦中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采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66584" descr="t018f6a28ae7dca53b8"/>
          <p:cNvPicPr/>
          <p:nvPr/>
        </p:nvPicPr>
        <p:blipFill>
          <a:blip r:embed="rId1"/>
          <a:stretch/>
        </p:blipFill>
        <p:spPr>
          <a:xfrm>
            <a:off x="-12600" y="4822920"/>
            <a:ext cx="9144000" cy="2174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67606" descr="t018f0a99de9aeb01c7"/>
          <p:cNvPicPr/>
          <p:nvPr/>
        </p:nvPicPr>
        <p:blipFill>
          <a:blip r:embed="rId2"/>
          <a:stretch/>
        </p:blipFill>
        <p:spPr>
          <a:xfrm>
            <a:off x="-12600" y="144360"/>
            <a:ext cx="1352520" cy="1279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南安军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诗人被俘押解北上，途经家乡江西南安军，曾绝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梅花南北路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大庾岭上多植梅花，故名梅岭，南为广东南雄县，北为江西庾县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采薇：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商末孤竹君之子伯夷、叔齐，当周武王伐纣时，二人扣马而谏，商亡，逃入首阳山，誓不食周粟，采薇而食，饿死。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67612" descr="t01c6d9578c3fb5a389"/>
          <p:cNvPicPr/>
          <p:nvPr/>
        </p:nvPicPr>
        <p:blipFill>
          <a:blip r:embed="rId1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792000"/>
            <a:ext cx="9144000" cy="60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梅花岭上的南北路口，凄风苦雨把征衣湿透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越过梅岭谁与我同路，回到家乡却身为俘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山河将存在万古千秋，城郭却哲时落入敌手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饿死家乡是我的愿望，梦里采蔽在首阳山头。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67604" descr="t014c816e30942752c3"/>
          <p:cNvPicPr/>
          <p:nvPr/>
        </p:nvPicPr>
        <p:blipFill>
          <a:blip r:embed="rId1"/>
          <a:stretch/>
        </p:blipFill>
        <p:spPr>
          <a:xfrm>
            <a:off x="0" y="6094440"/>
            <a:ext cx="9144000" cy="76356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8T11:53:57Z</dcterms:created>
  <dc:creator>未知用户</dc:creator>
  <dc:description/>
  <dc:language>en-US</dc:language>
  <cp:lastModifiedBy>Administrator</cp:lastModifiedBy>
  <dcterms:modified xsi:type="dcterms:W3CDTF">2018-12-01T07:12:22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