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E4B-934F-4A46-92F9-2D3E8535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6B73-E4A1-4F9E-BBD9-9979CDDD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5A80-98D2-4579-9347-48CD89E1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C1E-0131-45AB-951A-87B7491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90B-E819-414A-978A-92B0B241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5BF-9FC8-4F02-92C4-DAFB7439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962-695D-4BE2-96F9-65125812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6F36-AE75-495D-AA3C-9C69C7CFF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2EC-07EA-4FAB-AD97-E8C6BD666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B97-1FC8-449A-B4E4-33EFDF53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3D88-2BE2-4B0A-B11E-592A93DA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E5C-52ED-48DB-8F03-FAC83DB6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2F4E-ED9A-4885-87E8-19C3543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C1F6-EE9F-48A5-A077-6B66D547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2695-3E65-4AF5-A55B-545792E7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9D40-B1F8-4693-A99D-D1BDEC5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B20-C7D1-4BD1-8AE2-5C26339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D86E-9CFF-4033-AA9F-1435DDC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AA67-909B-431A-A373-555A2EC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9544-D2E6-4747-9AFB-6D1B9AFE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2487-8A75-4D35-9E91-43D222E6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C2790-ACA5-4C6F-8603-855AC42F6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4257-2ABA-4E2B-BEE9-6C39F7C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39DB-BB86-4BFF-BFAB-4AC1801D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A3DE-AC87-4FCF-90A1-DCB8759B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00DC1-09B4-4BA7-A565-462E75C0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C618-EB29-43B5-B4B0-6E3A422C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F219-CDCA-43CD-9727-F9623F50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9B27E-D46E-4CA0-B342-5366FE75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7D9D2-B9A1-4BAB-A698-4CF6F414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5691-A9AF-4F16-BC02-5D1683AF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931A-B245-49D7-9146-815FD28E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7AB6-08C0-42B2-B7F4-BE094B18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A4758-FA44-4E08-B54A-2BF37DF0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1E99D-422F-4835-9196-E087ABF9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98A22-4457-42B6-98B3-B6BF1503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80E0C-F40C-4E95-A4DF-622E754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276D1-146F-4A2A-B6F5-2628E099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8A13A-C800-42B5-9A2D-A28185C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AD005-7A53-45DF-824E-57939330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841DE-D248-4BCA-AEF5-85669A3F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66C7-A34A-4BAB-B12D-EE1D4999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F39AA-4C5E-4EAF-8114-B72EC1DB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9BC07-F25E-4229-9C48-71B249FE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CFA2-CC66-45D0-9CF4-9E5B1B2A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49F1-537D-4DBE-8F92-A81C8531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2A9A-C8DD-4967-A0D2-5808B34D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FC48-5AAA-4F7E-9C79-F2D6EE9E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78D5-A521-4EFD-943E-D80483603CD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118C-8134-42C5-A400-F5781E1C89A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6626-827C-4707-9DF6-3ADCA0B18D4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7323-2B7E-46C1-BA11-9EAEF35A609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1"/>
          <p:cNvSpPr/>
          <p:nvPr/>
        </p:nvSpPr>
        <p:spPr>
          <a:xfrm>
            <a:off x="0" y="4149720"/>
            <a:ext cx="9144000" cy="1476360"/>
          </a:xfrm>
          <a:prstGeom prst="rect">
            <a:avLst/>
          </a:prstGeom>
          <a:solidFill>
            <a:srgbClr val="ddd9c3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1"/>
          <p:cNvSpPr/>
          <p:nvPr/>
        </p:nvSpPr>
        <p:spPr>
          <a:xfrm>
            <a:off x="2994120" y="4334040"/>
            <a:ext cx="315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南安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2" descr=""/>
          <p:cNvPicPr/>
          <p:nvPr/>
        </p:nvPicPr>
        <p:blipFill>
          <a:blip r:embed="rId1"/>
          <a:srcRect l="0" t="0" r="0" b="10331"/>
          <a:stretch/>
        </p:blipFill>
        <p:spPr>
          <a:xfrm>
            <a:off x="1182600" y="345960"/>
            <a:ext cx="6778800" cy="380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文本框 2"/>
          <p:cNvSpPr/>
          <p:nvPr/>
        </p:nvSpPr>
        <p:spPr>
          <a:xfrm>
            <a:off x="771480" y="1292400"/>
            <a:ext cx="760104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句说“城郭之非”只是暂时的，也就是说，宋朝人民还要继续反抗，继续斗争，广大的城池不会被元朝永远占据。这两句对仗工整，蕴蓄着极深厚的爱国情感和自信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文本框 1"/>
          <p:cNvSpPr/>
          <p:nvPr/>
        </p:nvSpPr>
        <p:spPr>
          <a:xfrm>
            <a:off x="404640" y="1328760"/>
            <a:ext cx="525780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饿死真吾事，梦中行采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图片 3" descr=""/>
          <p:cNvPicPr/>
          <p:nvPr/>
        </p:nvPicPr>
        <p:blipFill>
          <a:blip r:embed="rId1"/>
          <a:stretch/>
        </p:blipFill>
        <p:spPr>
          <a:xfrm>
            <a:off x="2451240" y="2230560"/>
            <a:ext cx="5327640" cy="383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文本框 2"/>
          <p:cNvSpPr/>
          <p:nvPr/>
        </p:nvSpPr>
        <p:spPr>
          <a:xfrm>
            <a:off x="347760" y="1544760"/>
            <a:ext cx="81421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后两句表明自己的态度：决心饿死殉国。他出之以言，继之以行，于是开始绝食，意欲死在家乡。而在绝食第五天时，即已行过庐陵，没有能死在家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文本框 2"/>
          <p:cNvSpPr/>
          <p:nvPr/>
        </p:nvSpPr>
        <p:spPr>
          <a:xfrm>
            <a:off x="541440" y="797040"/>
            <a:ext cx="806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又过了三天，在监护人的强迫下，只好开始进食。诗中用伯夷、叔齐指责周武王代商为“以暴易暴”，因而隐居首阳山，不食周粟，采薇而食，以至饿死的故事表示了不投降的决心。“饿死真吾事”，说得斩钉截铁，大义凛然，而且有实际行动，不是徒托空言，感人肺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文本框 2"/>
          <p:cNvSpPr/>
          <p:nvPr/>
        </p:nvSpPr>
        <p:spPr>
          <a:xfrm>
            <a:off x="392040" y="1446120"/>
            <a:ext cx="819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这首诗化用社甫诗句，抒写自己的胸怀，表现出强烈的爱国感情，显示出民族正气。这首诗逐层递进，声情激荡，不假雕饰，而自见功力。作者对杜甫的诗用力甚深，其风格亦颇相近，即于质朴之中见深厚之性情，可以说是用血和泪写成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478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文本框 3"/>
          <p:cNvSpPr/>
          <p:nvPr/>
        </p:nvSpPr>
        <p:spPr>
          <a:xfrm>
            <a:off x="527040" y="1709640"/>
            <a:ext cx="80899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帝昺祥兴二年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127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），南宋最后一个据点厓山被元军攻陷，宋朝灭亡。文天祥在前一年被俘北行，于五月四日出大庚岭，经南安军（治所在今江西大庾）时写此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45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写作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1"/>
          <p:cNvSpPr/>
          <p:nvPr/>
        </p:nvSpPr>
        <p:spPr>
          <a:xfrm>
            <a:off x="523800" y="1647720"/>
            <a:ext cx="7132680" cy="581400"/>
          </a:xfrm>
          <a:prstGeom prst="rect">
            <a:avLst/>
          </a:prstGeom>
          <a:noFill/>
          <a:ln w="12600">
            <a:solidFill>
              <a:srgbClr val="385d8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朗读课文，读准字音节奏，读出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927080" y="2587680"/>
            <a:ext cx="52912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梅花南北路，风雨湿征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岭同谁出？归乡如不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河千古在，城郭一时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饿死真吾事，梦中行采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45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文本框 1"/>
          <p:cNvSpPr/>
          <p:nvPr/>
        </p:nvSpPr>
        <p:spPr>
          <a:xfrm>
            <a:off x="366840" y="1328760"/>
            <a:ext cx="6643440" cy="581400"/>
          </a:xfrm>
          <a:prstGeom prst="rect">
            <a:avLst/>
          </a:prstGeom>
          <a:noFill/>
          <a:ln w="12600">
            <a:solidFill>
              <a:srgbClr val="385d8a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再读课文，结合注释理解课文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12"/>
          <p:cNvSpPr/>
          <p:nvPr/>
        </p:nvSpPr>
        <p:spPr>
          <a:xfrm>
            <a:off x="366840" y="2184480"/>
            <a:ext cx="824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梅花岭上的南北路口，凄风苦雨把征衣湿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越过梅岭谁与我同路，回到家乡却身为俘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山河将存在万古千秋，城郭却暂时落入敌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饿死家乡是我的愿望，梦里采薇在首阳山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19"/>
          <p:cNvGrpSpPr/>
          <p:nvPr/>
        </p:nvGrpSpPr>
        <p:grpSpPr>
          <a:xfrm>
            <a:off x="160200" y="492120"/>
            <a:ext cx="2319120" cy="700200"/>
            <a:chOff x="160200" y="492120"/>
            <a:chExt cx="2319120" cy="700200"/>
          </a:xfrm>
        </p:grpSpPr>
        <p:pic>
          <p:nvPicPr>
            <p:cNvPr id="461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160200" y="492120"/>
              <a:ext cx="231912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文本框 2"/>
            <p:cNvSpPr/>
            <p:nvPr/>
          </p:nvSpPr>
          <p:spPr>
            <a:xfrm>
              <a:off x="696600" y="568440"/>
              <a:ext cx="171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细读感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文本框 1"/>
          <p:cNvSpPr/>
          <p:nvPr/>
        </p:nvSpPr>
        <p:spPr>
          <a:xfrm>
            <a:off x="423720" y="1884240"/>
            <a:ext cx="513900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梅花南北路，风雨湿征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"/>
          <p:cNvSpPr/>
          <p:nvPr/>
        </p:nvSpPr>
        <p:spPr>
          <a:xfrm>
            <a:off x="423720" y="2755800"/>
            <a:ext cx="805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二两句略写行程中的地点和景色。作者至南安军，正跨越了大庾岭（梅岭）的南北两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文本框 2"/>
          <p:cNvSpPr/>
          <p:nvPr/>
        </p:nvSpPr>
        <p:spPr>
          <a:xfrm>
            <a:off x="558720" y="1168560"/>
            <a:ext cx="802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此处写梅花不是实景，而是因梅岭而说到梅花，借以和“风雨”对照，初步显示了行程中心情的沉重。梅岭的梅花在风雨中摇曳，濡湿了押着兵败后就擒、往大都受审的文天祥的兵丁的征衣，此时，一阵悲凉袭上了他的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文本框 1"/>
          <p:cNvSpPr/>
          <p:nvPr/>
        </p:nvSpPr>
        <p:spPr>
          <a:xfrm>
            <a:off x="512640" y="1725480"/>
            <a:ext cx="525780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岭同谁出？归乡如不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"/>
          <p:cNvSpPr/>
          <p:nvPr/>
        </p:nvSpPr>
        <p:spPr>
          <a:xfrm>
            <a:off x="554040" y="2708280"/>
            <a:ext cx="803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颔联两句，上句是说行程的孤单，而用问话的语气写出，显得分外沉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文本框 2"/>
          <p:cNvSpPr/>
          <p:nvPr/>
        </p:nvSpPr>
        <p:spPr>
          <a:xfrm>
            <a:off x="717480" y="1230480"/>
            <a:ext cx="770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句是说这次的北行，本来可以回到故乡庐陵，但身系拘囚，不能自由，虽经故乡而犹如不归。这两句抒写了这次行程中的悲苦心情，而两个“出”字和两个“归”字的重复对照，更使得声情激荡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文本框 1"/>
          <p:cNvSpPr/>
          <p:nvPr/>
        </p:nvSpPr>
        <p:spPr>
          <a:xfrm>
            <a:off x="555480" y="1447920"/>
            <a:ext cx="5180040" cy="581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山河千古在，城郭一时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2"/>
          <p:cNvSpPr/>
          <p:nvPr/>
        </p:nvSpPr>
        <p:spPr>
          <a:xfrm>
            <a:off x="439560" y="2330280"/>
            <a:ext cx="8153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颈联两句承首联抒写悲愤。上句化用杜甫《春望》“国破山河在”名句。而说“山河千古在”，意思是说，宋朝的山河是永远存在的，不会被元朝永远占领，言外之意是宋朝还会复兴，山河有重现之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5:53:56Z</dcterms:created>
  <dc:creator>User</dc:creator>
  <dc:description/>
  <dc:language>en-US</dc:language>
  <cp:lastModifiedBy>飞飞</cp:lastModifiedBy>
  <dcterms:modified xsi:type="dcterms:W3CDTF">2018-10-05T03:49:08Z</dcterms:modified>
  <cp:revision>2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