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814-EFCC-47DB-88EE-4D48E071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E2A6-5F16-48D8-BED0-5BC006B2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6C9-C6EE-49E0-9108-4B25E291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4F2-A9AA-411C-A94D-6C763142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1556-6FC5-4B4F-B4ED-7745DB19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5030-4D8C-45B6-B6CC-202E690B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BC4E-7018-4E41-BABD-94D93017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4D4E-F9E8-4709-A44E-A108425F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BC09-1B7F-4731-9135-0E270231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CA6C-3840-4FB5-A953-46BAA6AC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0D3F-79D4-4B11-80CC-A0D6744B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2D3-7CA4-4166-A6FA-9B6C5341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8BF0-B69D-46BC-9FBA-C8FC75C4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619A-6794-4FA3-B27C-648961DE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8C9A-E11E-4AB9-BDF6-3CBD18C3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AE04-6806-44DF-B8DF-EEB3BE02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71DE-42F6-4A40-88DA-610B743B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865A-8A04-4362-BF60-583BDA52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D766-9901-40CA-BFCD-8E324350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4B06-6FA3-4F72-8EA3-4DE8744E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5E2-670D-4E7A-A141-7A9EC977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BE9-311C-437C-8D91-D6038D2D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9215-E732-413F-9570-EE53BD19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AFA-E68D-4A3F-8F40-50B8D6B6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801D-7A0D-4A2C-937F-D0EE42B70D26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394A-D1C0-4C5A-AAC0-65CE15B36462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133720" y="1371600"/>
            <a:ext cx="525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卖油翁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3809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方正舒体"/>
              </a:rPr>
              <a:t>作者：陈宏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　　　字永叔，号醉翁，晚年又号六一居士（意即藏书一万卷，金石拓片一千件，琴一张，棋一局，酒一壶，醉翁一人），谥号文忠，唐宋八大家之一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　　　他是北宋文学革新运动的领导人物，为文以韩愈为宗，倡导写平实朴素的古文，创立了平易流畅、委曲婉转的文章风格，为北宋文学的发展作出了卓越贡献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　　　他是一位有着多方面文学才能的作家，在散文、诗、词、史传方面自成一家，留传后世的有《六一诗话》、《欧阳文忠公全集》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16880" y="-52560"/>
            <a:ext cx="28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介绍作者－－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欧阳修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07040" y="609588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韩愈、柳宗元、欧阳修、王安石、苏洵、苏轼、苏辙和曾巩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39040" y="5410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唐宋八大家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08000" y="44280"/>
            <a:ext cx="16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翻译全文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977760"/>
            <a:ext cx="8381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　　陈康肃　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公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　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善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　射，当世无双，公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以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此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自矜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。尝射于家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圃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，有卖油翁　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释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担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立，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　之，久而不去。见其发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矢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十中八九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但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　　微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颔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　　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之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　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38280" y="1600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擅长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96360" y="1600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对男子的尊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28600" y="3124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自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8280" y="19810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jī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3440" y="205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ǔ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7600" y="3581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nì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9720" y="50292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hà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4160" y="6019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指陈尧咨射箭十中八九这一情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30120" y="312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19160" y="3124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园子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61760" y="6019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点头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8280" y="60199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只、不过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70480" y="3124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指善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15720" y="464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84880" y="464832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斜着眼看，形容不在意的样子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0"/>
            <a:ext cx="80773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　　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康肃问曰：“汝亦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知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射乎？吾射不亦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乎？”翁曰：“　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无他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　，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但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　手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熟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　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尔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。”康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肃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忿然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曰：“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尔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　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安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敢　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轻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　吾射！”翁曰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以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酌油知　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之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　。”乃取一葫芦置于地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以钱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覆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其口，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徐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以杓酌油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沥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之，自钱孔入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而钱不湿。因曰：“我亦无他，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惟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手熟尔。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康肃笑而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ea typeface="楷体_GB2312"/>
              </a:rPr>
              <a:t>遣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之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82360" y="533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8920" y="14479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没有别的（奥妙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76360" y="144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不过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19360" y="144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熟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92800" y="1447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同“耳”，罢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6400" y="243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气愤愤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58120" y="243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81080" y="243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怎么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05320" y="2438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看轻，作动词用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74600" y="33526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凭、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86720" y="3352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指射箭也是凭手熟的道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86520" y="441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75240" y="441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慢慢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65720" y="4419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注、注入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0" y="5334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只，不过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33160" y="6400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打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7760" y="1600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fè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5320" y="2590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zhu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19240" y="36576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biā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7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73720" y="-9360"/>
            <a:ext cx="15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析课文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2240" y="72720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本文的体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4572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笔记小说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0332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短小精悍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17120" y="3581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楔子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28800" y="358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开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09880" y="358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发展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2368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高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2880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结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3320" y="472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尾声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78880" y="26668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复习小说的六要素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89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371600"/>
            <a:ext cx="1066680" cy="685800"/>
          </a:xfrm>
          <a:prstGeom prst="rightArrow">
            <a:avLst>
              <a:gd name="adj1" fmla="val 44046"/>
              <a:gd name="adj2" fmla="val 38885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67720" y="304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康肃公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44440" y="228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卖油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4960" y="114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一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60840" y="1143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开端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29800" y="11430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善射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42200" y="11430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以此自矜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58800" y="11430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睨之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47520" y="11430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但微颔之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3280" y="3352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二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60840" y="220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发展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10680" y="220968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吾射不亦精乎？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39680" y="220968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无他，但手熟尔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60840" y="3352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高潮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58400" y="33526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忿然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7200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酌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56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技高一筹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60840" y="4495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结局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80440" y="4495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笑而遣之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2514600"/>
            <a:ext cx="304920" cy="2209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86"/>
                </a:lnTo>
                <a:cubicBezTo>
                  <a:pt x="10800" y="10086"/>
                  <a:pt x="5400" y="10986"/>
                  <a:pt x="0" y="10986"/>
                </a:cubicBezTo>
                <a:cubicBezTo>
                  <a:pt x="5400" y="10986"/>
                  <a:pt x="10800" y="11886"/>
                  <a:pt x="10800" y="1278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6360" y="2286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77480" y="5105520"/>
            <a:ext cx="26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析康肃公与卖油翁的形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31320" y="5715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康肃公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83800" y="5715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自我炫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60320" y="5715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趾高气扬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31320" y="640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卖油翁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60120" y="640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身怀绝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60320" y="640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谦虚沉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48320" y="25416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这个故事揭示了什么道理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00600" y="1523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熟能生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76560" y="342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精益求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65760" y="25146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（作者用卖油翁酌油技巧的解释来揭示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31520" y="449568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（作者用康肃公的言行与卖油翁的言行作对比来揭示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13240" y="533520"/>
            <a:ext cx="15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四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布置作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75840" y="16002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复习上课所学的内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36160" y="3581280"/>
            <a:ext cx="7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预习《宋定伯捉鬼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63640" y="2590920"/>
            <a:ext cx="35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以本文为所揭示的道理来写一篇读后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2T12:28:26Z</dcterms:created>
  <dc:creator>陈宏华</dc:creator>
  <dc:description/>
  <dc:language>en-US</dc:language>
  <cp:lastModifiedBy>Administrator</cp:lastModifiedBy>
  <dcterms:modified xsi:type="dcterms:W3CDTF">2000-01-08T09:06:12Z</dcterms:modified>
  <cp:revision>31</cp:revision>
  <dc:subject/>
  <dc:title>PowerPoint 演示文稿</dc:title>
</cp:coreProperties>
</file>