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11.jpeg" ContentType="image/jpeg"/>
  <Override PartName="/ppt/media/TYPE.WAV" ContentType="audio/x-wav"/>
  <Override PartName="/ppt/media/image6.jpeg" ContentType="image/jpeg"/>
  <Override PartName="/ppt/media/image8.png" ContentType="image/png"/>
  <Override PartName="/ppt/media/chimes.wav" ContentType="audio/x-wav"/>
  <Override PartName="/ppt/media/image13.png" ContentType="image/png"/>
  <Override PartName="/ppt/media/image12.jpeg" ContentType="image/jpeg"/>
  <Override PartName="/ppt/media/image10.jpeg" ContentType="image/jpeg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03A-1393-4E75-B17E-06CD3441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C44-C094-49A1-BD0A-330A5D57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5BFCF-2C4B-471F-86C0-1C8E9FB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68ED5-52FB-4C3B-B85B-C39C53FE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8EDAB-A607-4995-B692-AA0DE0C7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96FEC-5A50-4D6A-B01C-4EFB8A4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6EE1A-64C0-4801-BFA1-DF90C3A4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6E15B-D0F1-4466-AF39-ABB38DBE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8D37E-84EE-4E3A-AFFA-D08EBEFB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D176A-5B9A-49ED-AB54-3B7694CC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9362F-3103-4C9B-8141-EB620779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9BCC6-748C-4CF9-B53A-49C0F4E6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CF2-BD70-40EF-BCCD-45A80716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CCB63-261A-40CC-A98F-F5C9A79A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15327-D735-4D4B-93F4-D53774E9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23887-444A-4525-9329-E3BA55DB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ACECF-40FE-4A51-B008-EFE6CC7A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94742-FDBC-4048-AD0C-5EA8CCCB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4D2D6-649A-4F4A-9F16-43C3C47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6817A-88D5-4041-ADE4-F09F7A6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BD2A3-C2C0-4A50-B6CC-2B9FF07A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FD2EA-1410-4CB2-918E-BA32961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D9C82-8127-4E14-9913-4B31BF2B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504-49A9-4443-BC46-ED2665E2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17344-50E8-4919-833F-E64FE9C1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A75E8-1294-4BF2-963D-313DF2B3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A7BC7-4824-4751-859C-527E70A0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56B24-3B6D-4A33-A2E0-9E06B561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CD525-7A34-40F8-B195-93357A0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4F5B7-820D-44E4-88CB-271D6448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A7DCC-AD8D-4AA5-A47A-A1DE8C1C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837D5-77B6-45CC-8A16-2B02DCF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00B12-4D28-4EF2-BBDF-E2BC992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65776-23BC-44CD-9355-90EBC2FA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5117-9D81-48A4-B9F6-2BB5236A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3D3FD-8570-4A03-945D-C4789691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6C421-DF8B-4C69-8A1F-02252F8D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22920-A975-4ACB-B299-90F09D5D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223E-9F29-4C8E-9CC7-B87263C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E405-8F2C-401D-861E-FD22EB2C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FC00-A824-441D-8D95-1F0B671D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66F6-C6F3-43AF-B6A8-6DABB277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C0EC-3996-41B2-9D02-3B4CA5B4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5B84-5574-46C7-8D1A-45C6243F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794-E083-4CB9-93FB-69683827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914A-AEF6-4CB9-AA98-61B8DEE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1922-57A0-46F8-8B30-E8F1CFF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0400-1272-435F-99ED-6D029BE2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4C7C-A5E9-42F4-AC42-47B81210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692E-7EC0-42D9-903D-0275087A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3E4E-CAA1-433F-92FC-4DE13502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3777-3EB4-4A30-AF9D-7A205089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A21E-E383-4C45-A65E-962E76DD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A7F1-149C-4482-9278-AE2DD210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D8AE-E61B-499B-B894-BA54F8D2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3B7-0850-4E41-8A74-DABAB6DF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90BF-F29E-4FC4-98A5-B9F87661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80BE-629C-4574-A710-6F051050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7C24-F4B8-4492-9A85-76512E24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B041-62FD-490C-9615-489D185F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4641-F407-481E-B0F9-86A517DB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49CA-C25C-4148-932B-4DA598D1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3FEC-C341-4862-9508-ABAD23AB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090E8-9206-4F36-976F-56B394A9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7E5E-0DA9-44C2-9E4E-F410ED1D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7594-D1F9-458B-9DD9-D7016E6C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401-AC28-4B67-AE80-69020FE3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D5C7-86E7-4BB7-A67F-84C1EF78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CD58A-F47A-4114-B132-3604220A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5B0A1-948F-488D-A105-4310E0E7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3CD7-3890-48EF-80D9-EDB8484B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738D-C00F-4512-BBF6-8A321376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1DC27-2C9D-4964-BCB3-32739A14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1F3E-B958-44CF-B777-71C9C665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450F-3C92-41CF-9EF4-6FAF66BD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CBD5-1DAE-45A3-8C52-B03D92C8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3782B-1B23-402F-A89F-E0F14B37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E58-B6E1-4230-8F41-82A4F2C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66FD-DA7F-47C9-B44C-9D749C00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3AC6-6594-42C4-A291-9D31C797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8A59-16E7-47FE-900B-D9F81AEB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D85E-75D9-4420-AE06-0AC0981D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46A5-B29E-43EC-8861-9976E65D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E487C-AB20-4CAA-88CB-DB148F8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5D10-1033-4D0B-A4F5-906E1C2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47286-92C4-4782-A2B8-F7ACAA37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75CBE-7EBD-41AA-B45C-8E4CB931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25C99-E4F9-47C1-97C3-9FABD0C3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23D-2B85-4412-98D9-EC3C7F5B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D452-794C-4C70-BAEF-A7811860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9F4F6-9047-4701-B971-F00AD4B1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11799-275F-4FEF-B050-F9D6E78C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4A02-7F99-4D6A-8432-09E7D841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8F36-B4D4-4DC7-8CFE-8B02960B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E3927-1570-430B-9F84-9B74275E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48BE-0CB9-4D38-9544-E808907C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F6028-41F1-475F-B9C7-8EFE459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DCEBE-8FA2-406C-B4B8-37663414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0F574-1451-4223-9356-D389C789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9B8-0DFD-4678-98C6-9347128C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FA80B-2E37-4BC0-B726-1A0CB6E3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A0985-1AA4-4885-A343-29542122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CF6BC-A312-489B-A85D-C0DE96B2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7AE9C-1A02-4012-BA64-55669C59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69FAA-B439-4096-B1DD-14E6B80F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591AB-A08C-4F8B-894A-F142C7AB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80AE5-48F6-40F1-B223-B978E9BE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74DDA-5F3B-45F4-A2B9-A828E5FC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2F55E-11B6-4515-853B-4DC3899B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D4589-16DD-47B4-9509-A6A8B7F0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128-E52E-4C73-898E-F9F40DF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F46BD-DEA7-4240-829C-B0475297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434A8-31B1-4111-8295-21CE199A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607C1-9322-4C13-B61D-4DB0A709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5607-2383-4B56-A46F-3FCDD4E0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474A-CE6D-4BF2-9376-B0BAA7F2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83835-F668-4881-8130-4C5B52E8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BCD03-B566-4110-B918-D6E0A1E8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95E6D-6F07-4A6A-827A-11F91C66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2A4E7-DA27-4CFA-B09E-C2ACB62B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F89A-0778-475E-8500-88F12E1F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0F7-4E71-4897-B3F7-2D6269A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6E941-EC3A-4E61-92F3-E96AF75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E5230-DF96-489C-AD11-B27CEF6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C0DB9-F37C-4DEC-8427-3628A3B9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4DCB6-2733-41AE-8735-1ADDF43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6814-FEAC-4A9C-B725-CF45854E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C9172-B8AB-4B15-B20B-B1F1A7B8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AC224-CD5E-44A5-9682-652E81FA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502D9-89FD-41C6-A850-7AEE2BD6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B4E09-C066-4B39-A093-5051D5CB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E70C1-BFBF-427F-8F94-52DFD75F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3A21-8D13-49E4-94FA-72E54D1861E8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8E94-6638-4AEE-A31D-265BD525EA83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11D9-A179-4E04-BF1B-FCE669F93E7A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7169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88E7-785A-4DF1-95E6-2C558255685B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39BD-FA35-44B5-BEFB-43FB224EE458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6ABF-85F4-4783-BE83-7F1249388660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968C-D13D-4892-B22E-9397605E02D7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C4AA-B6A0-4D44-9519-308974C9196A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4488-AE0A-4C51-9064-0DA42E4D6EA6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5E6D-C713-40E7-9B1B-AEE7BE9A878E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2232-7A85-41D5-8DEE-36CF2DA62E73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图片 2049" descr="d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文本框 2050"/>
          <p:cNvSpPr/>
          <p:nvPr/>
        </p:nvSpPr>
        <p:spPr>
          <a:xfrm>
            <a:off x="2514600" y="380880"/>
            <a:ext cx="4038480" cy="1434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dd7e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8800" spc="-1" strike="noStrike">
                <a:solidFill>
                  <a:srgbClr val="333333"/>
                </a:solidFill>
                <a:latin typeface="Times New Roman"/>
                <a:ea typeface="黑体"/>
              </a:rPr>
              <a:t>卖炭翁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文本框 2051"/>
          <p:cNvSpPr/>
          <p:nvPr/>
        </p:nvSpPr>
        <p:spPr>
          <a:xfrm>
            <a:off x="4419720" y="2735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7200" spc="-1" strike="noStrike">
                <a:solidFill>
                  <a:srgbClr val="ff0066"/>
                </a:solidFill>
                <a:latin typeface="黑体"/>
                <a:ea typeface="黑体"/>
              </a:rPr>
              <a:t>白居易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3073"/>
          <p:cNvSpPr/>
          <p:nvPr/>
        </p:nvSpPr>
        <p:spPr>
          <a:xfrm>
            <a:off x="1981080" y="30492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Times New Roman"/>
                <a:ea typeface="黑体"/>
              </a:rPr>
              <a:t> </a:t>
            </a:r>
            <a:r>
              <a:rPr b="1" lang="zh-CN" sz="8800" spc="-1" strike="noStrike">
                <a:solidFill>
                  <a:srgbClr val="ff0066"/>
                </a:solidFill>
                <a:latin typeface="Times New Roman"/>
                <a:ea typeface="黑体"/>
              </a:rPr>
              <a:t>教学目标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5" name="文本框 3074"/>
          <p:cNvSpPr/>
          <p:nvPr/>
        </p:nvSpPr>
        <p:spPr>
          <a:xfrm>
            <a:off x="762120" y="1905120"/>
            <a:ext cx="8001000" cy="3420360"/>
          </a:xfrm>
          <a:prstGeom prst="rect">
            <a:avLst/>
          </a:prstGeom>
          <a:gradFill rotWithShape="0">
            <a:gsLst>
              <a:gs pos="0">
                <a:srgbClr val="e1b7b7"/>
              </a:gs>
              <a:gs pos="100000">
                <a:srgbClr val="fbf5f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熟读课文，了解诗歌大意。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掌握文言词语的意思。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再读课文，力争背诵。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20481"/>
          <p:cNvSpPr/>
          <p:nvPr/>
        </p:nvSpPr>
        <p:spPr>
          <a:xfrm>
            <a:off x="990720" y="685800"/>
            <a:ext cx="7619760" cy="131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33"/>
                </a:solidFill>
                <a:latin typeface="Times New Roman"/>
                <a:ea typeface="黑体"/>
              </a:rPr>
              <a:t>听老师读课文，划出生字词和疑难处。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7" name="卖炭翁.wav" descr=""/>
          <p:cNvPicPr/>
          <p:nvPr/>
        </p:nvPicPr>
        <p:blipFill>
          <a:blip r:embed="rId2"/>
          <a:stretch/>
        </p:blipFill>
        <p:spPr>
          <a:xfrm>
            <a:off x="3733920" y="52578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30721"/>
          <p:cNvSpPr/>
          <p:nvPr/>
        </p:nvSpPr>
        <p:spPr>
          <a:xfrm>
            <a:off x="685800" y="1447920"/>
            <a:ext cx="7620120" cy="10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散读课文，理解大意。疑难处小组讨论，然后答题。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21505"/>
          <p:cNvSpPr/>
          <p:nvPr/>
        </p:nvSpPr>
        <p:spPr>
          <a:xfrm>
            <a:off x="838080" y="609480"/>
            <a:ext cx="754380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黑体"/>
              </a:rPr>
              <a:t>合上书，回答下列问题：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文本框 21506"/>
          <p:cNvSpPr/>
          <p:nvPr/>
        </p:nvSpPr>
        <p:spPr>
          <a:xfrm>
            <a:off x="685800" y="19810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、朗读并解释异色的字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1" name="文本框 21507"/>
          <p:cNvSpPr/>
          <p:nvPr/>
        </p:nvSpPr>
        <p:spPr>
          <a:xfrm>
            <a:off x="1066680" y="2971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33"/>
                </a:solidFill>
                <a:latin typeface="Times New Roman"/>
              </a:rPr>
              <a:t>晓驾炭车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碾</a:t>
            </a:r>
            <a:r>
              <a:rPr b="1" lang="zh-CN" sz="6600" spc="-1" strike="noStrike">
                <a:solidFill>
                  <a:srgbClr val="333333"/>
                </a:solidFill>
                <a:latin typeface="Times New Roman"/>
              </a:rPr>
              <a:t>冰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辙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2" name="文本框 21508"/>
          <p:cNvSpPr/>
          <p:nvPr/>
        </p:nvSpPr>
        <p:spPr>
          <a:xfrm>
            <a:off x="990720" y="396252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翩翩</a:t>
            </a:r>
            <a:r>
              <a:rPr b="1" lang="zh-CN" sz="6600" spc="-1" strike="noStrike">
                <a:solidFill>
                  <a:srgbClr val="333333"/>
                </a:solidFill>
                <a:latin typeface="Times New Roman"/>
              </a:rPr>
              <a:t>两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骑</a:t>
            </a:r>
            <a:r>
              <a:rPr b="1" lang="zh-CN" sz="6600" spc="-1" strike="noStrike">
                <a:solidFill>
                  <a:srgbClr val="333333"/>
                </a:solidFill>
                <a:latin typeface="Times New Roman"/>
              </a:rPr>
              <a:t>来是谁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文本框 21509"/>
          <p:cNvSpPr/>
          <p:nvPr/>
        </p:nvSpPr>
        <p:spPr>
          <a:xfrm>
            <a:off x="1219320" y="5181480"/>
            <a:ext cx="624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33"/>
                </a:solidFill>
                <a:latin typeface="Times New Roman"/>
                <a:ea typeface="黑体"/>
              </a:rPr>
              <a:t>伐</a:t>
            </a:r>
            <a:r>
              <a:rPr b="1" lang="zh-CN" sz="6600" spc="-1" strike="noStrike">
                <a:solidFill>
                  <a:srgbClr val="333333"/>
                </a:solidFill>
                <a:latin typeface="Times New Roman"/>
                <a:ea typeface="黑体"/>
              </a:rPr>
              <a:t>薪烧炭南山中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文本框 45057"/>
          <p:cNvSpPr/>
          <p:nvPr/>
        </p:nvSpPr>
        <p:spPr>
          <a:xfrm>
            <a:off x="1219320" y="685800"/>
            <a:ext cx="6629400" cy="143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33"/>
                </a:solidFill>
                <a:latin typeface="Times New Roman"/>
                <a:ea typeface="黑体"/>
              </a:rPr>
              <a:t>从上面找出一个错别字。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文本框 45058"/>
          <p:cNvSpPr/>
          <p:nvPr/>
        </p:nvSpPr>
        <p:spPr>
          <a:xfrm>
            <a:off x="990720" y="3886200"/>
            <a:ext cx="7086600" cy="109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33"/>
                </a:solidFill>
                <a:latin typeface="Times New Roman"/>
                <a:ea typeface="黑体"/>
              </a:rPr>
              <a:t>晓驾炭车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碾</a:t>
            </a:r>
            <a:r>
              <a:rPr b="1" lang="zh-CN" sz="6600" spc="-1" strike="noStrike">
                <a:solidFill>
                  <a:srgbClr val="333333"/>
                </a:solidFill>
                <a:latin typeface="Times New Roman"/>
                <a:ea typeface="黑体"/>
              </a:rPr>
              <a:t>冰辙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29697"/>
          <p:cNvSpPr/>
          <p:nvPr/>
        </p:nvSpPr>
        <p:spPr>
          <a:xfrm>
            <a:off x="380880" y="1219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黑体"/>
              </a:rPr>
              <a:t>、手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黑体"/>
              </a:rPr>
              <a:t>文书口称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敕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文本框 29698"/>
          <p:cNvSpPr/>
          <p:nvPr/>
        </p:nvSpPr>
        <p:spPr>
          <a:xfrm>
            <a:off x="304920" y="2514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Times New Roman"/>
                <a:ea typeface="黑体"/>
              </a:rPr>
              <a:t>3</a:t>
            </a:r>
            <a:r>
              <a:rPr b="1" lang="zh-CN" sz="7200" spc="-1" strike="noStrike">
                <a:solidFill>
                  <a:srgbClr val="333333"/>
                </a:solidFill>
                <a:latin typeface="Times New Roman"/>
                <a:ea typeface="黑体"/>
              </a:rPr>
              <a:t>、回车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黑体"/>
              </a:rPr>
              <a:t>叱</a:t>
            </a:r>
            <a:r>
              <a:rPr b="1" lang="zh-CN" sz="7200" spc="-1" strike="noStrike">
                <a:solidFill>
                  <a:srgbClr val="333333"/>
                </a:solidFill>
                <a:latin typeface="Times New Roman"/>
                <a:ea typeface="黑体"/>
              </a:rPr>
              <a:t>牛牵向北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文本框 29699"/>
          <p:cNvSpPr/>
          <p:nvPr/>
        </p:nvSpPr>
        <p:spPr>
          <a:xfrm>
            <a:off x="457200" y="4183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7200" spc="-1" strike="noStrike">
                <a:solidFill>
                  <a:srgbClr val="333333"/>
                </a:solidFill>
                <a:latin typeface="黑体"/>
                <a:ea typeface="黑体"/>
              </a:rPr>
              <a:t>、系向牛头充炭</a:t>
            </a: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直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15361"/>
          <p:cNvSpPr/>
          <p:nvPr/>
        </p:nvSpPr>
        <p:spPr>
          <a:xfrm>
            <a:off x="838080" y="1295280"/>
            <a:ext cx="7772400" cy="2531880"/>
          </a:xfrm>
          <a:prstGeom prst="rect">
            <a:avLst/>
          </a:prstGeom>
          <a:gradFill rotWithShape="0">
            <a:gsLst>
              <a:gs pos="0">
                <a:srgbClr val="a9bda9"/>
              </a:gs>
              <a:gs pos="100000">
                <a:srgbClr val="bdd7e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66"/>
                </a:solidFill>
                <a:latin typeface="Times New Roman"/>
              </a:rPr>
              <a:t>抢答：卖炭翁卖炭的钱打算作什么用？实现了吗？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文本框 27649"/>
          <p:cNvSpPr/>
          <p:nvPr/>
        </p:nvSpPr>
        <p:spPr>
          <a:xfrm>
            <a:off x="1219320" y="990720"/>
            <a:ext cx="6629400" cy="3110400"/>
          </a:xfrm>
          <a:prstGeom prst="rect">
            <a:avLst/>
          </a:prstGeom>
          <a:gradFill rotWithShape="0">
            <a:gsLst>
              <a:gs pos="0">
                <a:srgbClr val="bdd7e5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卖炭翁这么大岁数为什么还要干活？他为什么不让儿女赡养他呢？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文本框 16385"/>
          <p:cNvSpPr/>
          <p:nvPr/>
        </p:nvSpPr>
        <p:spPr>
          <a:xfrm>
            <a:off x="1143000" y="457200"/>
            <a:ext cx="7010280" cy="1191240"/>
          </a:xfrm>
          <a:prstGeom prst="rect">
            <a:avLst/>
          </a:prstGeom>
          <a:gradFill rotWithShape="0">
            <a:gsLst>
              <a:gs pos="0">
                <a:srgbClr val="bdd7e5"/>
              </a:gs>
              <a:gs pos="100000">
                <a:srgbClr val="a9bda9"/>
              </a:gs>
            </a:gsLst>
            <a:lin ang="2700000"/>
          </a:gradFill>
          <a:ln cap="sq"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文中是否有设问句？找出来并体会它们的含义和语气，然后把它们读出来。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34817"/>
          <p:cNvSpPr/>
          <p:nvPr/>
        </p:nvSpPr>
        <p:spPr>
          <a:xfrm>
            <a:off x="914400" y="3049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33"/>
                </a:solidFill>
                <a:latin typeface="Times New Roman"/>
                <a:ea typeface="黑体"/>
              </a:rPr>
              <a:t>第一个设问句表明了老人怎样的愿望？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3" name="矩形 34818"/>
          <p:cNvSpPr txBox="1"/>
          <p:nvPr/>
        </p:nvSpPr>
        <p:spPr>
          <a:xfrm>
            <a:off x="2362320" y="4038480"/>
            <a:ext cx="46479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660033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只求温饱</a:t>
            </a:r>
            <a:endParaRPr b="1" lang="en-US" sz="2800" spc="1" strike="noStrike">
              <a:ln cap="sq" w="12600">
                <a:solidFill>
                  <a:srgbClr val="660033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文本框 19457"/>
          <p:cNvSpPr/>
          <p:nvPr/>
        </p:nvSpPr>
        <p:spPr>
          <a:xfrm>
            <a:off x="1447920" y="685800"/>
            <a:ext cx="6553080" cy="1434600"/>
          </a:xfrm>
          <a:prstGeom prst="rect">
            <a:avLst/>
          </a:prstGeom>
          <a:gradFill rotWithShape="0">
            <a:gsLst>
              <a:gs pos="0">
                <a:srgbClr val="e1b7b7"/>
              </a:gs>
              <a:gs pos="100000">
                <a:srgbClr val="efd8d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黑体"/>
              </a:rPr>
              <a:t>不看书，谁能介绍一下白居易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35841"/>
          <p:cNvSpPr/>
          <p:nvPr/>
        </p:nvSpPr>
        <p:spPr>
          <a:xfrm>
            <a:off x="1219320" y="38088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33"/>
                </a:solidFill>
                <a:latin typeface="Times New Roman"/>
                <a:ea typeface="黑体"/>
              </a:rPr>
              <a:t>第二个设问句写出了宫使怎样的神态？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矩形 35842"/>
          <p:cNvSpPr txBox="1"/>
          <p:nvPr/>
        </p:nvSpPr>
        <p:spPr>
          <a:xfrm>
            <a:off x="1600200" y="4038480"/>
            <a:ext cx="5562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660033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趾高气扬</a:t>
            </a:r>
            <a:endParaRPr b="1" lang="en-US" sz="2800" spc="1" strike="noStrike">
              <a:ln cap="sq" w="12600">
                <a:solidFill>
                  <a:srgbClr val="660033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checker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文本框 10241"/>
          <p:cNvSpPr/>
          <p:nvPr/>
        </p:nvSpPr>
        <p:spPr>
          <a:xfrm>
            <a:off x="2057400" y="457200"/>
            <a:ext cx="4495680" cy="131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文本框 10242"/>
          <p:cNvSpPr/>
          <p:nvPr/>
        </p:nvSpPr>
        <p:spPr>
          <a:xfrm>
            <a:off x="1066680" y="2209680"/>
            <a:ext cx="7010640" cy="10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660033"/>
                </a:solidFill>
                <a:latin typeface="黑体"/>
                <a:ea typeface="黑体"/>
              </a:rPr>
              <a:t>、找出对卖炭翁肖像进行描写的诗句，想一想，卖炭翁的生活如何。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矩形 36865"/>
          <p:cNvSpPr txBox="1"/>
          <p:nvPr/>
        </p:nvSpPr>
        <p:spPr>
          <a:xfrm>
            <a:off x="1066680" y="609480"/>
            <a:ext cx="64771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660033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苦难生活（穷困）</a:t>
            </a:r>
            <a:endParaRPr b="1" lang="en-US" sz="2800" spc="1" strike="noStrike">
              <a:ln cap="sq" w="12600">
                <a:solidFill>
                  <a:srgbClr val="660033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9" name="矩形 36866"/>
          <p:cNvSpPr txBox="1"/>
          <p:nvPr/>
        </p:nvSpPr>
        <p:spPr>
          <a:xfrm>
            <a:off x="838080" y="3200400"/>
            <a:ext cx="76964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9360">
                  <a:solidFill>
                    <a:srgbClr val="660033"/>
                  </a:solidFill>
                  <a:round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炭，来之不易（辛劳）</a:t>
            </a:r>
            <a:endParaRPr b="1" lang="en-US" sz="2800" spc="1" strike="noStrike">
              <a:ln cap="sq" w="9360">
                <a:solidFill>
                  <a:srgbClr val="660033"/>
                </a:solidFill>
                <a:round/>
              </a:ln>
              <a:solidFill>
                <a:srgbClr val="ff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checke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11265"/>
          <p:cNvSpPr/>
          <p:nvPr/>
        </p:nvSpPr>
        <p:spPr>
          <a:xfrm>
            <a:off x="1371600" y="1066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黑体"/>
                <a:ea typeface="黑体"/>
              </a:rPr>
              <a:t>2</a:t>
            </a:r>
            <a:r>
              <a:rPr b="1" lang="zh-CN" sz="7200" spc="-1" strike="noStrike">
                <a:solidFill>
                  <a:srgbClr val="660033"/>
                </a:solidFill>
                <a:latin typeface="黑体"/>
                <a:ea typeface="黑体"/>
              </a:rPr>
              <a:t>、找出表现卖炭翁矛盾心理的诗句，并分析原因。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文本框 12289"/>
          <p:cNvSpPr/>
          <p:nvPr/>
        </p:nvSpPr>
        <p:spPr>
          <a:xfrm>
            <a:off x="838080" y="1676520"/>
            <a:ext cx="7315200" cy="155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a9a98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卖炭翁工作的地点离集市不太远，天又下了大雪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因此炭十分好卖，刚到集市就被抢购一空。最后，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卖炭翁买回了一些丝织品，打算做衣服取暖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矩形 12290"/>
          <p:cNvSpPr txBox="1"/>
          <p:nvPr/>
        </p:nvSpPr>
        <p:spPr>
          <a:xfrm>
            <a:off x="838080" y="3049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660033"/>
                  </a:solidFill>
                  <a:round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判断正误：</a:t>
            </a:r>
            <a:endParaRPr b="1" lang="en-US" sz="2800" spc="1" strike="noStrike">
              <a:ln cap="sq" w="12600">
                <a:solidFill>
                  <a:srgbClr val="660033"/>
                </a:solidFill>
                <a:round/>
              </a:ln>
              <a:solidFill>
                <a:srgbClr val="660033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checker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文本框 13313"/>
          <p:cNvSpPr/>
          <p:nvPr/>
        </p:nvSpPr>
        <p:spPr>
          <a:xfrm>
            <a:off x="1371600" y="754200"/>
            <a:ext cx="6705720" cy="1312920"/>
          </a:xfrm>
          <a:prstGeom prst="rect">
            <a:avLst/>
          </a:prstGeom>
          <a:gradFill rotWithShape="0">
            <a:gsLst>
              <a:gs pos="0">
                <a:srgbClr val="a9bda9"/>
              </a:gs>
              <a:gs pos="100000">
                <a:srgbClr val="bdd7e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、请用自己的话描述一下宫使的肖像和动作。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文本框 14337"/>
          <p:cNvSpPr/>
          <p:nvPr/>
        </p:nvSpPr>
        <p:spPr>
          <a:xfrm>
            <a:off x="1219320" y="9064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黑体"/>
                <a:ea typeface="黑体"/>
              </a:rPr>
              <a:t>5</a:t>
            </a:r>
            <a:r>
              <a:rPr b="1" lang="zh-CN" sz="7200" spc="-1" strike="noStrike">
                <a:solidFill>
                  <a:srgbClr val="660033"/>
                </a:solidFill>
                <a:latin typeface="黑体"/>
                <a:ea typeface="黑体"/>
              </a:rPr>
              <a:t>、你认为卖炭翁和老妪的命运哪个更悲惨？谈一谈你的见解。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文本框 31745"/>
          <p:cNvSpPr/>
          <p:nvPr/>
        </p:nvSpPr>
        <p:spPr>
          <a:xfrm>
            <a:off x="990720" y="1371600"/>
            <a:ext cx="6912000" cy="143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zh-CN" sz="8800" spc="-1" strike="noStrike">
                <a:solidFill>
                  <a:srgbClr val="333333"/>
                </a:solidFill>
                <a:latin typeface="Times New Roman"/>
              </a:rPr>
              <a:t>、概括本诗叙述的事件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38913"/>
          <p:cNvSpPr/>
          <p:nvPr/>
        </p:nvSpPr>
        <p:spPr>
          <a:xfrm>
            <a:off x="914400" y="1600200"/>
            <a:ext cx="72388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33"/>
                </a:solidFill>
                <a:latin typeface="黑体"/>
                <a:ea typeface="黑体"/>
              </a:rPr>
              <a:t>卖炭翁辛劳烧炭、运炭，终被夺炭的悲惨遭遇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文本框 32769"/>
          <p:cNvSpPr/>
          <p:nvPr/>
        </p:nvSpPr>
        <p:spPr>
          <a:xfrm>
            <a:off x="1066680" y="1440000"/>
            <a:ext cx="6782040" cy="10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黑体"/>
                <a:ea typeface="黑体"/>
              </a:rPr>
              <a:t>7</a:t>
            </a:r>
            <a:r>
              <a:rPr b="1" lang="zh-CN" sz="6000" spc="-1" strike="noStrike">
                <a:solidFill>
                  <a:srgbClr val="333333"/>
                </a:solidFill>
                <a:latin typeface="黑体"/>
                <a:ea typeface="黑体"/>
              </a:rPr>
              <a:t>、通过卖炭翁辛劳烧炭、运炭，终被夺炭的悲惨遭遇，表达了什么主题？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矩形 4198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7" name="组合 41989"/>
          <p:cNvGrpSpPr/>
          <p:nvPr/>
        </p:nvGrpSpPr>
        <p:grpSpPr>
          <a:xfrm>
            <a:off x="1143000" y="3200400"/>
            <a:ext cx="6858000" cy="360"/>
            <a:chOff x="1143000" y="3200400"/>
            <a:chExt cx="6858000" cy="360"/>
          </a:xfrm>
        </p:grpSpPr>
        <p:sp>
          <p:nvSpPr>
            <p:cNvPr id="458" name="矩形 41986"/>
            <p:cNvSpPr/>
            <p:nvPr/>
          </p:nvSpPr>
          <p:spPr>
            <a:xfrm>
              <a:off x="1143000" y="320040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矩形 41987"/>
            <p:cNvSpPr/>
            <p:nvPr/>
          </p:nvSpPr>
          <p:spPr>
            <a:xfrm>
              <a:off x="1143000" y="320040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60" name="矩形 41988"/>
          <p:cNvSpPr/>
          <p:nvPr/>
        </p:nvSpPr>
        <p:spPr>
          <a:xfrm>
            <a:off x="609480" y="304920"/>
            <a:ext cx="8153640" cy="60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白居易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(772--846)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，字乐天，自号香山居士，是杜甫之后，唐朝的又一杰出的现实主义诗人，是唐代诗人中作品最多的一个。他曾将自己的诗分为四类：讽谕、闲适、感伤、杂律。他本人最得意，价值也最高的是他的讽谕诗。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37889"/>
          <p:cNvSpPr/>
          <p:nvPr/>
        </p:nvSpPr>
        <p:spPr>
          <a:xfrm>
            <a:off x="1066680" y="685800"/>
            <a:ext cx="7315200" cy="21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33"/>
                </a:solidFill>
                <a:latin typeface="Times New Roman"/>
                <a:ea typeface="黑体"/>
              </a:rPr>
              <a:t>揭露了封建统治者对人民的残酷剥削，表达了诗人对“宫市”的谴责和对劳动人民的同情。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28677"/>
          <p:cNvSpPr/>
          <p:nvPr/>
        </p:nvSpPr>
        <p:spPr>
          <a:xfrm>
            <a:off x="1066680" y="1371600"/>
            <a:ext cx="472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文本框 28678"/>
          <p:cNvSpPr/>
          <p:nvPr/>
        </p:nvSpPr>
        <p:spPr>
          <a:xfrm>
            <a:off x="1143000" y="1066680"/>
            <a:ext cx="6781680" cy="1191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Times New Roman"/>
                <a:ea typeface="黑体"/>
              </a:rPr>
              <a:t>8</a:t>
            </a:r>
            <a:r>
              <a:rPr b="1" lang="zh-CN" sz="7200" spc="-1" strike="noStrike">
                <a:solidFill>
                  <a:srgbClr val="333333"/>
                </a:solidFill>
                <a:latin typeface="Times New Roman"/>
                <a:ea typeface="黑体"/>
              </a:rPr>
              <a:t>、对比的写法在本文运用比较突出，你能找出几处吗？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44033"/>
          <p:cNvSpPr/>
          <p:nvPr/>
        </p:nvSpPr>
        <p:spPr>
          <a:xfrm>
            <a:off x="1523880" y="380880"/>
            <a:ext cx="6477120" cy="143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33"/>
                </a:solidFill>
                <a:latin typeface="Times New Roman"/>
                <a:ea typeface="黑体"/>
              </a:rPr>
              <a:t>你来试着用第一人称复述一下卖炭翁的故事。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文本框 17410"/>
          <p:cNvSpPr/>
          <p:nvPr/>
        </p:nvSpPr>
        <p:spPr>
          <a:xfrm>
            <a:off x="1066680" y="1371600"/>
            <a:ext cx="670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0033"/>
                </a:solidFill>
                <a:latin typeface="Times New Roman"/>
              </a:rPr>
              <a:t>读课文，争取背下来！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43009"/>
          <p:cNvSpPr/>
          <p:nvPr/>
        </p:nvSpPr>
        <p:spPr>
          <a:xfrm>
            <a:off x="0" y="30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62" name="组合 43013"/>
          <p:cNvGrpSpPr/>
          <p:nvPr/>
        </p:nvGrpSpPr>
        <p:grpSpPr>
          <a:xfrm>
            <a:off x="1143000" y="3003480"/>
            <a:ext cx="6858000" cy="360"/>
            <a:chOff x="1143000" y="3003480"/>
            <a:chExt cx="6858000" cy="360"/>
          </a:xfrm>
        </p:grpSpPr>
        <p:sp>
          <p:nvSpPr>
            <p:cNvPr id="463" name="矩形 43010"/>
            <p:cNvSpPr/>
            <p:nvPr/>
          </p:nvSpPr>
          <p:spPr>
            <a:xfrm>
              <a:off x="1143000" y="300348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矩形 43011"/>
            <p:cNvSpPr/>
            <p:nvPr/>
          </p:nvSpPr>
          <p:spPr>
            <a:xfrm>
              <a:off x="1143000" y="300348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65" name="矩形 43012"/>
          <p:cNvSpPr/>
          <p:nvPr/>
        </p:nvSpPr>
        <p:spPr>
          <a:xfrm>
            <a:off x="0" y="304920"/>
            <a:ext cx="91440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他的讽谕诗主要包括了两方面的内容：一、广泛地反映人民的苦难。这其中有同情农民的作品，如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杜陵叟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，也有哀叹妇女命运的悲歌，如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上阳白发人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后宫词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等。二、深刻地揭露统治者的罪恶，如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卖炭翁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红绒毯</a:t>
            </a:r>
            <a:r>
              <a:rPr b="1" lang="en-US" sz="4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等。</a:t>
            </a:r>
            <a:r>
              <a:rPr b="1" lang="zh-CN" sz="54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文本框 40961"/>
          <p:cNvSpPr/>
          <p:nvPr/>
        </p:nvSpPr>
        <p:spPr>
          <a:xfrm>
            <a:off x="1523880" y="28954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Times New Roman"/>
                <a:ea typeface="黑体"/>
              </a:rPr>
              <a:t>解释：宫市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文本框 9217"/>
          <p:cNvSpPr/>
          <p:nvPr/>
        </p:nvSpPr>
        <p:spPr>
          <a:xfrm>
            <a:off x="914400" y="1447920"/>
            <a:ext cx="7162920" cy="1099440"/>
          </a:xfrm>
          <a:prstGeom prst="rect">
            <a:avLst/>
          </a:prstGeom>
          <a:gradFill rotWithShape="0">
            <a:gsLst>
              <a:gs pos="0">
                <a:srgbClr val="f2dfdf"/>
              </a:gs>
              <a:gs pos="100000">
                <a:srgbClr val="e1b7b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除了本文，你还能背一首白居易的诗吗？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26626"/>
          <p:cNvSpPr/>
          <p:nvPr/>
        </p:nvSpPr>
        <p:spPr>
          <a:xfrm>
            <a:off x="533520" y="91440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黑体"/>
                <a:ea typeface="黑体"/>
              </a:rPr>
              <a:t>赋得古原草送别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黑体"/>
                <a:ea typeface="黑体"/>
              </a:rPr>
              <a:t>离离原上草，一岁一枯荣。</a:t>
            </a:r>
            <a:br>
              <a:rPr sz="5400"/>
            </a:br>
            <a:r>
              <a:rPr b="1" lang="zh-CN" sz="5400" spc="-1" strike="noStrike">
                <a:solidFill>
                  <a:srgbClr val="333333"/>
                </a:solidFill>
                <a:latin typeface="黑体"/>
                <a:ea typeface="黑体"/>
              </a:rPr>
              <a:t>野火烧不尽，春风吹又生。</a:t>
            </a:r>
            <a:br>
              <a:rPr sz="5400"/>
            </a:br>
            <a:r>
              <a:rPr b="1" lang="zh-CN" sz="5400" spc="-1" strike="noStrike">
                <a:solidFill>
                  <a:srgbClr val="333333"/>
                </a:solidFill>
                <a:latin typeface="黑体"/>
                <a:ea typeface="黑体"/>
              </a:rPr>
              <a:t>远芳侵古道，晴翠接荒城。</a:t>
            </a:r>
            <a:br>
              <a:rPr sz="5400"/>
            </a:br>
            <a:r>
              <a:rPr b="1" lang="zh-CN" sz="5400" spc="-1" strike="noStrike">
                <a:solidFill>
                  <a:srgbClr val="333333"/>
                </a:solidFill>
                <a:latin typeface="黑体"/>
                <a:ea typeface="黑体"/>
              </a:rPr>
              <a:t>又送王孙去，萋萋满别情。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3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23553"/>
          <p:cNvSpPr/>
          <p:nvPr/>
        </p:nvSpPr>
        <p:spPr>
          <a:xfrm>
            <a:off x="1295280" y="304920"/>
            <a:ext cx="6248520" cy="1739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同是天涯沦落人，相逢何必曾相识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文本框 23554"/>
          <p:cNvSpPr/>
          <p:nvPr/>
        </p:nvSpPr>
        <p:spPr>
          <a:xfrm>
            <a:off x="1295280" y="228600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黑体"/>
              </a:rPr>
              <a:t>这句诗的出处是哪里？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矩形 23555"/>
          <p:cNvSpPr txBox="1"/>
          <p:nvPr/>
        </p:nvSpPr>
        <p:spPr>
          <a:xfrm>
            <a:off x="2438280" y="4572000"/>
            <a:ext cx="4648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9360">
                  <a:solidFill>
                    <a:srgbClr val="660033"/>
                  </a:solidFill>
                  <a:round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华文楷体"/>
              </a:rPr>
              <a:t>《琵琶行》</a:t>
            </a:r>
            <a:endParaRPr b="1" lang="en-US" sz="2800" spc="1" strike="noStrike">
              <a:ln cap="sq" w="9360">
                <a:solidFill>
                  <a:srgbClr val="660033"/>
                </a:solidFill>
                <a:round/>
              </a:ln>
              <a:solidFill>
                <a:srgbClr val="6600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华文楷体"/>
              <a:ea typeface="华文楷体"/>
            </a:endParaRPr>
          </a:p>
        </p:txBody>
      </p:sp>
    </p:spTree>
  </p:cSld>
  <p:transition spd="slow"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文本框 33793"/>
          <p:cNvSpPr/>
          <p:nvPr/>
        </p:nvSpPr>
        <p:spPr>
          <a:xfrm>
            <a:off x="1143000" y="838080"/>
            <a:ext cx="6705720" cy="21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白居易诗歌的语言特点是什么？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矩形 33794"/>
          <p:cNvSpPr txBox="1"/>
          <p:nvPr/>
        </p:nvSpPr>
        <p:spPr>
          <a:xfrm>
            <a:off x="2057400" y="3191040"/>
            <a:ext cx="434340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660033"/>
                  </a:solidFill>
                  <a:round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通俗易懂</a:t>
            </a:r>
            <a:endParaRPr b="1" lang="en-US" sz="2800" spc="1" strike="noStrike">
              <a:ln cap="sq" w="12600">
                <a:solidFill>
                  <a:srgbClr val="660033"/>
                </a:solidFill>
                <a:round/>
              </a:ln>
              <a:solidFill>
                <a:srgbClr val="660033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checke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3:23:00Z</dcterms:created>
  <dc:creator/>
  <dc:description/>
  <dc:language>en-US</dc:language>
  <cp:lastModifiedBy>admin</cp:lastModifiedBy>
  <dcterms:modified xsi:type="dcterms:W3CDTF">2019-04-02T06:42:12Z</dcterms:modified>
  <cp:revision>1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