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type.wav" ContentType="audio/x-wav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8CA8-5526-4E7C-8DF5-3C9EC355A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82F1-D279-40DC-9BC5-C4CBE76B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D4FC-5B2F-43CF-AA56-783BBEFFB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E332-BCB4-4101-946B-7F47D3BDA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88B7-36E8-4F17-86BC-AE8C57F8A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7B86-FFA9-4E42-B1F1-66DCFE8A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610A-945C-439E-B125-EA1DFF81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8013-5FCE-456A-AAE1-8E1A1A3E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4F1F-7DA0-47C6-98CA-81955B10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F3A9-DDB0-4033-92E6-8BFB2797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E392-4702-4B78-93E1-CA2F0EFC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0857-CF42-45B2-B6BF-8AE8FA99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4EC6-665A-4D4C-89C1-14C15F1D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CDD9-3652-4B59-BB4E-80FD9045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52AC-723D-4BBC-AA25-125D3753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830B-CF5D-4390-B447-011875CF3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598A-1585-4EEE-83EC-1BDA8BADD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B453-C2C6-47C8-BCBF-3E805A5F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15AD-02BA-4B51-9785-0E843AEB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CE4B-E275-454D-A808-4E6FB97D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3C84-D9BC-454F-8CD3-8C601E82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343E-AC0D-495F-B72A-5ADC5973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AF94-9426-48E9-9442-D9A93ECD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975F-BD9F-4F3E-91D9-1834FFF3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47B4-158A-47A6-8E06-7A763F5B5B6F}" type="slidenum">
              <a:rPr b="0" lang="zh-CN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6993-709E-4D2B-B1E0-584802E214D5}" type="slidenum">
              <a:rPr b="0" lang="zh-CN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27280" y="517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27560" y="1622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775480" y="2232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57400" y="1066680"/>
            <a:ext cx="5410080" cy="40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隶书"/>
              </a:rPr>
              <a:t>题目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隶书"/>
              </a:rPr>
              <a:t>: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《墨池记 》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隶书"/>
              </a:rPr>
              <a:t>学科：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语文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隶书"/>
              </a:rPr>
              <a:t>年级：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初四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隶书"/>
              </a:rPr>
              <a:t>制作：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常焕玲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华文中宋"/>
              </a:rPr>
              <a:t>                                      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320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4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29200" y="0"/>
            <a:ext cx="173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</a:rPr>
              <a:t>文章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分析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137160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第一部分：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从王羲之的事实出发， 托出题旨：说     明其之所以有卓越成就乃是由于不懈努力的结果。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38862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第二部分：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由王羲之善书法之技，推及到仁人庄士的教化、德行，勉励人们要刻苦学习道德修养。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4138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</a:rPr>
              <a:t>文章主题：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08040" y="1752480"/>
            <a:ext cx="634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64c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264c"/>
                </a:solidFill>
                <a:latin typeface="Times New Roman"/>
              </a:rPr>
              <a:t>文章以记为线索，以论为中心，阐明要想成功，必须刻苦努力学习，尤其是在道德修养上要达到很高成就者 ，更不能废学的道理。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8c0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5105160" cy="60962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651360" y="530064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Times New Roman"/>
                <a:ea typeface="华文琥珀"/>
              </a:rPr>
              <a:t>（完）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-1387440" y="24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0" y="4143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。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75480" y="170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35640" y="990720"/>
            <a:ext cx="4032360" cy="27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　　　                                           </a:t>
            </a:r>
            <a:r>
              <a:rPr b="1" lang="zh-CN" sz="4000" spc="-1" strike="noStrike">
                <a:solidFill>
                  <a:srgbClr val="ff0066"/>
                </a:solidFill>
                <a:latin typeface="华文隶书"/>
                <a:ea typeface="华文隶书"/>
              </a:rPr>
              <a:t>墨  梅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冕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我家洗砚池头树，朵朵花开淡墨痕。不要人夸颜色好，只留清气满乾坤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" dur="3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965240" y="18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3640" y="2077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800600" cy="6324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1447920"/>
            <a:ext cx="3657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       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14960" y="955080"/>
            <a:ext cx="152100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墨池记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华文隶书"/>
              </a:rPr>
              <a:t> 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38160" y="292572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70880" y="2713680"/>
            <a:ext cx="8506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Times New Roman"/>
                <a:ea typeface="华文隶书"/>
              </a:rPr>
              <a:t>曾巩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62200" y="178272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5486400" cy="6172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477200" y="124920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63240" y="-388440"/>
            <a:ext cx="1094760" cy="73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王羲之书法欣赏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543800" y="3505320"/>
            <a:ext cx="816120" cy="761760"/>
          </a:xfrm>
          <a:custGeom>
            <a:avLst/>
            <a:gdLst>
              <a:gd name="textAreaLeft" fmla="*/ 336240 w 816120"/>
              <a:gd name="textAreaRight" fmla="*/ 479880 w 816120"/>
              <a:gd name="textAreaTop" fmla="*/ 313920 h 761760"/>
              <a:gd name="textAreaBottom" fmla="*/ 4478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53280" y="914400"/>
            <a:ext cx="720720" cy="843120"/>
          </a:xfrm>
          <a:custGeom>
            <a:avLst/>
            <a:gdLst>
              <a:gd name="textAreaLeft" fmla="*/ 297000 w 720720"/>
              <a:gd name="textAreaRight" fmla="*/ 423720 w 720720"/>
              <a:gd name="textAreaTop" fmla="*/ 347400 h 843120"/>
              <a:gd name="textAreaBottom" fmla="*/ 495720 h 843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752560" y="-1116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解题之一：关于王羲之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74880" y="101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990720"/>
            <a:ext cx="62485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王羲之（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303-361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，一作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321-379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），东晋书法家，字逸少。原籍琅琊人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今属山东临沂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，居会稽山阴（浙江绍兴）。官至右军将军，会稽内史，人称“王右军”。他出身于两晋的名门望族。王羲之十二岁时经父亲传授笔法论，“语以大纲，即有所悟”。他小时候就从当时著名的女书法家卫夫人学习书法。以后他渡江北游名山，博采众长，草书师法张芝，正书得力于钟繇。观摩学习“兼撮众法，备成一家”，达到了“贵越群品，古今莫二”的高度。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281952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解题之二：关于曾巩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9907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曾巩（</a:t>
            </a: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1019</a:t>
            </a: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1083</a:t>
            </a: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），字子固。 北宋散文家，“唐宋八大家”之一 。曾巩的思想属儒学体系，他赞同孔孟的哲学观点，强调“仁”和“致诚”，认为只要按照“中庸之道”虚心自省、正诚修身就能认识世界和主宰世界。曾巩的文章对后世的影响也很大。南宋朱熹“爱其词严而理正，居尝诵习”。明代唐宋派散文家王慎中、唐顺之、茅坤、归有光，清代的桐城派方苞、刘大槐、姚鼐和钱鲁斯等人都把他的文章奉为圭臬。 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89154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临川之城东，有地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隐然而高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临于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溪，曰新城。新城之上，有池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窪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而方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以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长，曰王羲之之墨池者，荀伯子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临川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云也。羲之尝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慕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张芝，临池学书，池水尽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黑，此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其故迹，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岂信然邪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方羲之之不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仕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而尝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东方，出沧海，以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娱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其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14600" y="555480"/>
            <a:ext cx="183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2e4"/>
                </a:solidFill>
                <a:latin typeface="Times New Roman"/>
              </a:rPr>
              <a:t>突起的高地    而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-853920" y="47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993440" y="15159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2e4"/>
                </a:solidFill>
                <a:latin typeface="Times New Roman"/>
              </a:rPr>
              <a:t>而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15760" y="15685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2e4"/>
                </a:solidFill>
                <a:latin typeface="Times New Roman"/>
              </a:rPr>
              <a:t>低而深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39040" y="3860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2e4"/>
                </a:solidFill>
                <a:latin typeface="Times New Roman"/>
              </a:rPr>
              <a:t>仰慕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68240" y="4869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2e4"/>
                </a:solidFill>
                <a:latin typeface="Times New Roman"/>
              </a:rPr>
              <a:t>是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81280" y="5029200"/>
            <a:ext cx="24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2e4"/>
                </a:solidFill>
                <a:latin typeface="Times New Roman"/>
              </a:rPr>
              <a:t>难道是真的吗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244920" y="4976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2e4"/>
                </a:solidFill>
                <a:latin typeface="Times New Roman"/>
              </a:rPr>
              <a:t>当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0800" y="5970600"/>
            <a:ext cx="136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2e4"/>
                </a:solidFill>
                <a:latin typeface="Times New Roman"/>
              </a:rPr>
              <a:t>勉强  做官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26480" y="5935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2e4"/>
                </a:solidFill>
                <a:latin typeface="Times New Roman"/>
              </a:rPr>
              <a:t>遍游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17240" y="5935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2e4"/>
                </a:solidFill>
                <a:latin typeface="Times New Roman"/>
              </a:rPr>
              <a:t>快乐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33520" y="685800"/>
            <a:ext cx="8153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于山水之间，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岂有徜徉肆恣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而又尝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自休于此邪？羲之之书晚乃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则其所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盖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亦以精力自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者，非天成也。然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后世未有能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者，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其学不如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彼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邪？则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学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固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以少哉！况欲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深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道德者邪？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29440" y="1135080"/>
            <a:ext cx="538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2e4"/>
                </a:solidFill>
                <a:latin typeface="Times New Roman"/>
              </a:rPr>
              <a:t>心情　　　　　难道逍遥自在尽情游览时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16200" y="22017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2e4"/>
                </a:solidFill>
                <a:latin typeface="Times New Roman"/>
              </a:rPr>
              <a:t>好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357336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2e4"/>
                </a:solidFill>
                <a:latin typeface="Times New Roman"/>
              </a:rPr>
              <a:t>拥有的才能</a:t>
            </a:r>
            <a:r>
              <a:rPr b="1" lang="zh-CN" sz="3200" spc="-1" strike="noStrike">
                <a:solidFill>
                  <a:srgbClr val="0072e4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72e4"/>
                </a:solidFill>
                <a:latin typeface="Times New Roman"/>
              </a:rPr>
              <a:t>原来　　达到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4495680"/>
            <a:ext cx="512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2e4"/>
                </a:solidFill>
                <a:latin typeface="Times New Roman"/>
              </a:rPr>
              <a:t>赶上　难道（不是）　他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32280" y="4440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67880" y="5554800"/>
            <a:ext cx="45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2e4"/>
                </a:solidFill>
                <a:latin typeface="Times New Roman"/>
              </a:rPr>
              <a:t>本来难道　　　　　　取得成就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55760" y="5735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8839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 Unicode MS"/>
              </a:rPr>
              <a:t>墨池之上，今为州学舍。教授王君盛</a:t>
            </a:r>
            <a:r>
              <a:rPr b="1" lang="zh-CN" sz="3600" spc="-1" strike="noStrike">
                <a:solidFill>
                  <a:srgbClr val="ff0066"/>
                </a:solidFill>
                <a:latin typeface="Arial Unicode MS"/>
              </a:rPr>
              <a:t>恐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Unicode MS"/>
              </a:rPr>
              <a:t>其不</a:t>
            </a:r>
            <a:r>
              <a:rPr b="1" lang="zh-CN" sz="3600" spc="-1" strike="noStrike">
                <a:solidFill>
                  <a:srgbClr val="ff0066"/>
                </a:solidFill>
                <a:latin typeface="Arial Unicode MS"/>
              </a:rPr>
              <a:t>章</a:t>
            </a:r>
            <a:r>
              <a:rPr b="1" lang="zh-CN" sz="3600" spc="-1" strike="noStrike">
                <a:solidFill>
                  <a:srgbClr val="000000"/>
                </a:solidFill>
                <a:latin typeface="Arial Unicode MS"/>
              </a:rPr>
              <a:t>也，书“晋王右军墨池”之六字于楹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Unicode MS"/>
              </a:rPr>
              <a:t>间以</a:t>
            </a:r>
            <a:r>
              <a:rPr b="1" lang="zh-CN" sz="3600" spc="-1" strike="noStrike">
                <a:solidFill>
                  <a:srgbClr val="ff0066"/>
                </a:solidFill>
                <a:latin typeface="Arial Unicode MS"/>
              </a:rPr>
              <a:t>揭</a:t>
            </a:r>
            <a:r>
              <a:rPr b="1" lang="zh-CN" sz="3600" spc="-1" strike="noStrike">
                <a:solidFill>
                  <a:srgbClr val="000000"/>
                </a:solidFill>
                <a:latin typeface="Arial Unicode MS"/>
              </a:rPr>
              <a:t>之，又告于巩曰：“</a:t>
            </a:r>
            <a:r>
              <a:rPr b="1" lang="zh-CN" sz="3600" spc="-1" strike="noStrike">
                <a:solidFill>
                  <a:srgbClr val="ff0066"/>
                </a:solidFill>
                <a:latin typeface="Arial Unicode MS"/>
              </a:rPr>
              <a:t>愿</a:t>
            </a:r>
            <a:r>
              <a:rPr b="1" lang="zh-CN" sz="3600" spc="-1" strike="noStrike">
                <a:solidFill>
                  <a:srgbClr val="000000"/>
                </a:solidFill>
                <a:latin typeface="Arial Unicode MS"/>
              </a:rPr>
              <a:t>有记。”</a:t>
            </a:r>
            <a:r>
              <a:rPr b="1" lang="zh-CN" sz="3600" spc="-1" strike="noStrike">
                <a:solidFill>
                  <a:srgbClr val="ff0066"/>
                </a:solidFill>
                <a:latin typeface="Arial Unicode MS"/>
              </a:rPr>
              <a:t>推</a:t>
            </a:r>
            <a:r>
              <a:rPr b="1" lang="zh-CN" sz="3600" spc="-1" strike="noStrike">
                <a:solidFill>
                  <a:srgbClr val="000000"/>
                </a:solidFill>
                <a:latin typeface="Arial Unicode MS"/>
              </a:rPr>
              <a:t>王君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Unicode MS"/>
              </a:rPr>
              <a:t>之</a:t>
            </a:r>
            <a:r>
              <a:rPr b="1" lang="zh-CN" sz="3600" spc="-1" strike="noStrike">
                <a:solidFill>
                  <a:srgbClr val="ff0066"/>
                </a:solidFill>
                <a:latin typeface="Arial Unicode MS"/>
              </a:rPr>
              <a:t>心</a:t>
            </a:r>
            <a:r>
              <a:rPr b="1" lang="zh-CN" sz="3600" spc="-1" strike="noStrike">
                <a:solidFill>
                  <a:srgbClr val="000000"/>
                </a:solidFill>
                <a:latin typeface="Arial Unicode MS"/>
              </a:rPr>
              <a:t>，</a:t>
            </a:r>
            <a:r>
              <a:rPr b="1" lang="zh-CN" sz="3600" spc="-1" strike="noStrike">
                <a:solidFill>
                  <a:srgbClr val="ff0066"/>
                </a:solidFill>
                <a:latin typeface="Arial Unicode MS"/>
              </a:rPr>
              <a:t>岂</a:t>
            </a:r>
            <a:r>
              <a:rPr b="1" lang="zh-CN" sz="3600" spc="-1" strike="noStrike">
                <a:solidFill>
                  <a:srgbClr val="000000"/>
                </a:solidFill>
                <a:latin typeface="Arial Unicode MS"/>
              </a:rPr>
              <a:t>爱人之善，</a:t>
            </a:r>
            <a:r>
              <a:rPr b="1" lang="zh-CN" sz="3600" spc="-1" strike="noStrike">
                <a:solidFill>
                  <a:srgbClr val="ff0066"/>
                </a:solidFill>
                <a:latin typeface="Arial Unicode MS"/>
              </a:rPr>
              <a:t>虽一能不以废</a:t>
            </a:r>
            <a:r>
              <a:rPr b="1" lang="zh-CN" sz="3600" spc="-1" strike="noStrike">
                <a:solidFill>
                  <a:srgbClr val="000000"/>
                </a:solidFill>
                <a:latin typeface="Arial Unicode MS"/>
              </a:rPr>
              <a:t>，而</a:t>
            </a:r>
            <a:r>
              <a:rPr b="1" lang="zh-CN" sz="3600" spc="-1" strike="noStrike">
                <a:solidFill>
                  <a:srgbClr val="ff0066"/>
                </a:solidFill>
                <a:latin typeface="Arial Unicode MS"/>
              </a:rPr>
              <a:t>因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 Unicode MS"/>
              </a:rPr>
              <a:t>以及乎其迹邪</a:t>
            </a:r>
            <a:r>
              <a:rPr b="1" lang="zh-CN" sz="3600" spc="-1" strike="noStrike">
                <a:solidFill>
                  <a:srgbClr val="000000"/>
                </a:solidFill>
                <a:latin typeface="Arial Unicode MS"/>
              </a:rPr>
              <a:t>？</a:t>
            </a:r>
            <a:r>
              <a:rPr b="1" lang="zh-CN" sz="3600" spc="-1" strike="noStrike">
                <a:solidFill>
                  <a:srgbClr val="ff0066"/>
                </a:solidFill>
                <a:latin typeface="Arial Unicode MS"/>
              </a:rPr>
              <a:t>其</a:t>
            </a:r>
            <a:r>
              <a:rPr b="1" lang="zh-CN" sz="3600" spc="-1" strike="noStrike">
                <a:solidFill>
                  <a:srgbClr val="000000"/>
                </a:solidFill>
                <a:latin typeface="Arial Unicode MS"/>
              </a:rPr>
              <a:t>亦欲</a:t>
            </a:r>
            <a:r>
              <a:rPr b="1" lang="zh-CN" sz="3600" spc="-1" strike="noStrike">
                <a:solidFill>
                  <a:srgbClr val="ff0066"/>
                </a:solidFill>
                <a:latin typeface="Arial Unicode MS"/>
              </a:rPr>
              <a:t>推</a:t>
            </a:r>
            <a:r>
              <a:rPr b="1" lang="zh-CN" sz="3600" spc="-1" strike="noStrike">
                <a:solidFill>
                  <a:srgbClr val="000000"/>
                </a:solidFill>
                <a:latin typeface="Arial Unicode MS"/>
              </a:rPr>
              <a:t>其事以</a:t>
            </a:r>
            <a:r>
              <a:rPr b="1" lang="zh-CN" sz="3600" spc="-1" strike="noStrike">
                <a:solidFill>
                  <a:srgbClr val="ff0066"/>
                </a:solidFill>
                <a:latin typeface="Arial Unicode MS"/>
              </a:rPr>
              <a:t>勉</a:t>
            </a:r>
            <a:r>
              <a:rPr b="1" lang="zh-CN" sz="3600" spc="-1" strike="noStrike">
                <a:solidFill>
                  <a:srgbClr val="000000"/>
                </a:solidFill>
                <a:latin typeface="Arial Unicode MS"/>
              </a:rPr>
              <a:t>其学者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Unicode MS"/>
              </a:rPr>
              <a:t>邪？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77320" y="533520"/>
            <a:ext cx="110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2e4"/>
                </a:solidFill>
                <a:latin typeface="Times New Roman"/>
              </a:rPr>
              <a:t>担心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20920" y="159084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2e4"/>
                </a:solidFill>
                <a:latin typeface="Times New Roman"/>
              </a:rPr>
              <a:t>同“彰”，显扬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82840" y="2635200"/>
            <a:ext cx="64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2e4"/>
                </a:solidFill>
                <a:latin typeface="Times New Roman"/>
              </a:rPr>
              <a:t>揭示　　　　　　　　　　希望　　　　推究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436572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2e4"/>
                </a:solidFill>
                <a:latin typeface="Times New Roman"/>
              </a:rPr>
              <a:t>想法／难道不是／</a:t>
            </a:r>
            <a:r>
              <a:rPr b="1" lang="zh-CN" sz="2400" spc="-1" strike="noStrike">
                <a:solidFill>
                  <a:srgbClr val="0072e4"/>
                </a:solidFill>
                <a:latin typeface="Times New Roman"/>
              </a:rPr>
              <a:t>即使是一技之长也不肯使它埋没／因此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5516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2e4"/>
                </a:solidFill>
                <a:latin typeface="Times New Roman"/>
              </a:rPr>
              <a:t>连他的遗迹也加以爱护吗</a:t>
            </a:r>
            <a:r>
              <a:rPr b="1" lang="zh-CN" sz="2800" spc="-1" strike="noStrike">
                <a:solidFill>
                  <a:srgbClr val="0072e4"/>
                </a:solidFill>
                <a:latin typeface="Times New Roman"/>
              </a:rPr>
              <a:t>／</a:t>
            </a:r>
            <a:r>
              <a:rPr b="1" lang="zh-CN" sz="2400" spc="-1" strike="noStrike">
                <a:solidFill>
                  <a:srgbClr val="0072e4"/>
                </a:solidFill>
                <a:latin typeface="Times New Roman"/>
              </a:rPr>
              <a:t>表推测语气　／推崇／　勉励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80880" y="533520"/>
            <a:ext cx="8458200" cy="50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Unicode MS"/>
              </a:rPr>
              <a:t>夫人之有一能，而使后人</a:t>
            </a:r>
            <a:r>
              <a:rPr b="1" lang="zh-CN" sz="3600" spc="-1" strike="noStrike">
                <a:solidFill>
                  <a:srgbClr val="ff0066"/>
                </a:solidFill>
                <a:latin typeface="Arial Unicode MS"/>
              </a:rPr>
              <a:t>尚</a:t>
            </a:r>
            <a:r>
              <a:rPr b="1" lang="zh-CN" sz="3600" spc="-1" strike="noStrike">
                <a:solidFill>
                  <a:srgbClr val="000000"/>
                </a:solidFill>
                <a:latin typeface="Arial Unicode MS"/>
              </a:rPr>
              <a:t>之如此，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Unicode MS"/>
              </a:rPr>
              <a:t>况</a:t>
            </a:r>
            <a:r>
              <a:rPr b="1" lang="zh-CN" sz="3600" spc="-1" strike="noStrike">
                <a:solidFill>
                  <a:srgbClr val="ff0066"/>
                </a:solidFill>
                <a:latin typeface="Arial Unicode MS"/>
              </a:rPr>
              <a:t>仁人庄士</a:t>
            </a:r>
            <a:r>
              <a:rPr b="1" lang="zh-CN" sz="3600" spc="-1" strike="noStrike">
                <a:solidFill>
                  <a:srgbClr val="000000"/>
                </a:solidFill>
                <a:latin typeface="Arial Unicode MS"/>
              </a:rPr>
              <a:t>之</a:t>
            </a:r>
            <a:r>
              <a:rPr b="1" lang="zh-CN" sz="3600" spc="-1" strike="noStrike">
                <a:solidFill>
                  <a:srgbClr val="ff0066"/>
                </a:solidFill>
                <a:latin typeface="Arial Unicode MS"/>
              </a:rPr>
              <a:t>遗风余思</a:t>
            </a:r>
            <a:r>
              <a:rPr b="1" lang="zh-CN" sz="3600" spc="-1" strike="noStrike">
                <a:solidFill>
                  <a:srgbClr val="000000"/>
                </a:solidFill>
                <a:latin typeface="Arial Unicode MS"/>
              </a:rPr>
              <a:t>，</a:t>
            </a:r>
            <a:r>
              <a:rPr b="1" lang="zh-CN" sz="3600" spc="-1" strike="noStrike">
                <a:solidFill>
                  <a:srgbClr val="ff0066"/>
                </a:solidFill>
                <a:latin typeface="Arial Unicode MS"/>
              </a:rPr>
              <a:t>被</a:t>
            </a:r>
            <a:r>
              <a:rPr b="1" lang="zh-CN" sz="3600" spc="-1" strike="noStrike">
                <a:solidFill>
                  <a:srgbClr val="000000"/>
                </a:solidFill>
                <a:latin typeface="Arial Unicode MS"/>
              </a:rPr>
              <a:t>于来世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Unicode MS"/>
              </a:rPr>
              <a:t>者何如哉！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　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　      </a:t>
            </a:r>
            <a:r>
              <a:rPr b="1" lang="zh-CN" sz="3600" spc="-1" strike="noStrike">
                <a:solidFill>
                  <a:srgbClr val="00264c"/>
                </a:solidFill>
                <a:latin typeface="Times New Roman"/>
              </a:rPr>
              <a:t>庆历八年九月十二日，曾巩记。</a:t>
            </a:r>
            <a:r>
              <a:rPr b="0" lang="zh-CN" sz="2000" spc="-1" strike="noStrike">
                <a:solidFill>
                  <a:srgbClr val="00264c"/>
                </a:solidFill>
                <a:latin typeface="Times New Roman"/>
              </a:rPr>
              <a:t>                              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6160" y="982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2e4"/>
                </a:solidFill>
                <a:latin typeface="Times New Roman"/>
              </a:rPr>
              <a:t>崇尚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-777960" y="1316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22096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2e4"/>
                </a:solidFill>
                <a:latin typeface="Times New Roman"/>
              </a:rPr>
              <a:t>仁德之人／庄重之士／遗传的风范美德　／影响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6T01:44:29Z</dcterms:created>
  <dc:creator>csyw</dc:creator>
  <dc:description/>
  <dc:language>en-US</dc:language>
  <cp:lastModifiedBy>1</cp:lastModifiedBy>
  <dcterms:modified xsi:type="dcterms:W3CDTF">2003-10-01T00:24:23Z</dcterms:modified>
  <cp:revision>3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03000000000001024120</vt:lpwstr>
  </property>
</Properties>
</file>