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7.png" ContentType="image/png"/>
  <Override PartName="/ppt/media/cashreg.wav" ContentType="audio/x-wav"/>
  <Override PartName="/ppt/media/image22.jpeg" ContentType="image/jpeg"/>
  <Override PartName="/ppt/media/image9.png" ContentType="image/png"/>
  <Override PartName="/ppt/media/image20.jpeg" ContentType="image/jpeg"/>
  <Override PartName="/ppt/media/image27.png" ContentType="image/png"/>
  <Override PartName="/ppt/media/image4.png" ContentType="image/png"/>
  <Override PartName="/ppt/media/image28.jpeg" ContentType="image/jpeg"/>
  <Override PartName="/ppt/media/image18.png" ContentType="image/png"/>
  <Override PartName="/ppt/media/image8.png" ContentType="image/png"/>
  <Override PartName="/ppt/media/chimes.wav" ContentType="audio/x-wav"/>
  <Override PartName="/ppt/media/image16.jpeg" ContentType="image/jpeg"/>
  <Override PartName="/ppt/media/image29.jpeg" ContentType="image/jpeg"/>
  <Override PartName="/ppt/media/image5.png" ContentType="image/png"/>
  <Override PartName="/ppt/media/image10.png" ContentType="image/png"/>
  <Override PartName="/ppt/media/ZR959.WAV" ContentType="audio/x-wav"/>
  <Override PartName="/ppt/media/image3.png" ContentType="image/png"/>
  <Override PartName="/ppt/media/image17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ZR282.WAV" ContentType="audio/x-wav"/>
  <Override PartName="/ppt/media/image15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10A-A72C-43C1-B7C0-34FF711D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A1C-52F3-44EF-9740-6016A073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FD5D3-6F9C-49DF-9FB3-41CE09C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F2402-4B55-4D07-BF6F-3AD320BA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0CEAE-56A7-4A94-8D06-F13B8D82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2EC84-6099-4AE6-AA77-B588D18C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3C6B3-8770-4D58-B0F7-1E2D786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B021A-440B-45E7-80C2-6754F488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3FB56-2173-4179-9C95-919C8D9E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5B6BC-F9BC-4303-9915-31E0D8CA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45AC7-4521-43D7-8325-06848A2C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6D85A-AA8F-433A-85F0-6C98070F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44E-ECCE-40E0-8BD7-5AB708AA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CBAB0-4D2B-41CA-B2A6-2D1B7E66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1F3CC-759E-4F9F-9103-1959F35C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A6CA3-81CD-448D-A717-DDF96C04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789B1-F054-429E-83A7-80D22F7F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676E5-BA62-48FA-B3D0-9E4C8284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00B3E-567A-4075-AF2B-7A3A044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0B687-56D4-4FF6-8138-5388DA6F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6AF16-B68C-46B2-9940-EB9F1B51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059D4-D186-4F50-8244-5479968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F32BC-0191-4EB4-879D-C3F5F9CC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F93-8911-4E24-9473-10B5207D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A0672-F8EE-438B-BE79-23508E3C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8C4ED-E057-4285-A6F5-3D276D18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62AF4-0731-4A20-B2D6-80846918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F0CDD-9520-4E3B-A36B-934A012A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6CED9-423A-453B-BAFC-DF010AF0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1EBB3-59B6-44BB-9568-428B745A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AF2AE-ABE8-4771-80E9-C42448A8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5AC35-C79F-49A0-8249-08EC7636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0BED3-8646-477B-9193-523F31AC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61D78-2164-431E-B794-D9665FDC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1D5C-97AF-413C-BAA7-1E763846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79D68-35BD-420B-8B4B-6896CCE1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B1169-2995-42BB-9652-DAD35AB0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D828A-7814-4517-84E0-C79AEAA2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30019-B254-4407-A108-2538B6E3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D8898-2A50-4D39-BE0E-9621200D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FDE48-51AD-41F5-8BA7-1FE228F7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A46E6-28C0-4522-8899-C59ADB07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FFEA1-486B-497A-95D4-A13B465B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A52F2-3B0F-46EB-AEB8-1FD3883D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D84CC-EE20-4A5F-B98E-3E6F165B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66F3-4592-4675-A1FA-71DC4617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12D33-BB40-42CB-992E-5CF2E59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EB0E6-164B-4D22-B024-46B1E708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D8DF3-F41B-443B-B2C3-12D005AF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BDA68-DF9E-44C5-BC93-C17F354B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F115E-FB1D-4FFF-9C9E-388F74A2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0BA1-53C5-4C9C-9347-0F7F67B4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7251-F4E4-411B-816C-5917CD33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BE44-C3C2-499B-A99A-FFD7DD4A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D09C-5B02-4504-9434-0FC62371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0768-4D05-4FB9-B71A-D36F33F6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EFB-F646-46D2-ABDE-3D3A40B7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9E78-222C-46B8-9CE8-0FFCAE2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A9E0-064F-4C16-8D33-BF4A368B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5A96-BEE4-4D25-9B3C-FC40BD10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01C2-B2F9-4452-89FE-FA425598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49B1-2864-4F2F-A7E7-BB793F64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4E7A-043F-499C-875F-7214A146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53F8-C998-47C1-9E38-A6704C23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622C-D5B4-4EDD-A46B-83FF9A80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88E3-DE64-4097-B8BA-B60434B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4223-8AB4-4B86-8E78-FB561CE6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7B3-2AC2-48F9-AE52-2AC3BA90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9159-2A9D-4569-AEAE-7EBD3727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F454-4E65-4067-A274-91DC30CB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CDC7-ED62-4AE1-A4B5-66771F44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E4CA-C5FC-49EC-8C82-AFEB0DB7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C792A-396E-4D0B-BF94-FA42B61C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C66E-F9E0-4365-88E8-3F9806A9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FC8F-9C37-43C6-A7B4-95226B6F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DB529-94FC-4A30-8462-66920611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D44F4-EAEE-4675-886A-54FC6614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263A-DDD9-4C75-A225-C023BC2F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B9B-95D4-4E9B-AAE0-AA1A86EB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78DCD-36EB-40BB-A922-246E55E7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6DB6C-0CBD-429A-86EE-37A5DA4A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4300-89F6-4B4F-932B-3B7C65C4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6A84B-A9E1-425C-8B29-4D11427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18C63-5BA7-4203-86F0-EA1A9B7D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F0B3D-3D13-44CB-B432-FA02CD91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A6F8-3DFB-433C-B106-2C555091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5A4C1-8CC5-4B0E-87CC-CA4E0E2B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FB8ED-48B6-4554-8280-C2F4D1F0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3AAF-270E-4EBC-87AD-2FA1829F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BFF-6F5B-4C9F-A11E-26660792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AB910-6F53-41A7-BB4F-70417D28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288F0-081B-436B-9554-EE554A6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AE1B-1C7D-4E27-AADA-A8EC8E93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8D9FB-CC05-4963-8FB6-81101227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9751-160B-4837-B6C4-A61A402C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0BD14-2F8F-4667-868D-CB97A5C2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35BC-FA38-4394-A57A-D12CCEF2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4215-DFC9-4D68-9B7B-E01FCDEF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3081C-4804-402D-B375-D86F70EF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02E31-78DA-43F8-98B6-4124980C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B6E-06B5-4284-93E0-3C77FD79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7A9E3-C6B4-4049-AF5B-F96CF162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0E33-8882-4C9C-BBD7-13B1B39C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C0A34-D62B-471D-801F-18DD86CF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19E26-4CF4-4ACC-8517-ECC1F9CE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08163-E50C-4D0B-A636-9B1C6E29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9F5C1-2900-430C-9F35-F1AB0870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557BE-B5FF-4941-9219-B2109DC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E2CA-5FC6-42AA-BD0E-3A958B00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FEAA4-0644-4996-A45E-DB22259F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C0307-2681-44C2-86F9-DED2B4F3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1C0-3D1D-4B20-9A80-97FD55B2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EB7DF-53CD-4DDC-A2EB-FC26BCBE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9C2EB-F6C2-47DF-8938-46450651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3E384-0179-41AC-83C9-FFF8B97C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81363-1ADC-4CC8-9332-5B8A0575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9907B-0A98-48E2-BF58-38E1AFD5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1BAE4-9133-4D4F-8A8B-46FA3AF0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41A23-8F37-4F5C-B5D9-E517FC12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56BD8-17AA-430D-ABAC-2628B67E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365A-1242-49A0-BB75-BB81C826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0AA0F-835B-4ED9-BE31-43DE84EC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392-841D-4A5E-871E-554769D3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E97BB-35C5-43DB-AFDC-E39836C7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69111-8CF5-424C-A2C4-01591E6A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E60AE-A9FE-477B-9C88-179A3994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3C4A-83F9-42FF-B4D6-6F45E0F2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2386E-A5A1-49F1-A32D-298E992A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C5C39-B3EE-4EDB-BDD4-9878ABAF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97906-C3CA-49AA-8B6E-3E9C4C38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457DE-63A0-43AF-9189-8E68A15E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9DABF-13DA-47CB-A0C4-11333B25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5B2AE-A4D4-418D-8EDF-1F24976D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602-C626-401E-8F55-FFF8E344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E32BE-F748-41BC-ABB7-CDE6B62F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01F7F-0C44-4155-9CC7-D051FBD6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ADC2B-3DB9-4A6A-B60B-094E1CBD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4B63-3E8C-4F9A-864B-ACA0DCA1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668F6-3085-4514-8FF6-16631F77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215CF-C2FF-4982-8632-09D28F11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A7A14-FBB0-46DE-83F6-F21FFEEE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FDE38-45B6-4488-85C2-8736F919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C7173-F914-4E13-A487-88DC8653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5B626-90C7-4F73-ADBB-87EB2625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6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8D0C-D0DB-4D9F-8988-BE1C0867A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4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1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2" name="Line 10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B5EE-5CBC-4B10-A0D8-A0BFD16650E7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隶书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9172080" cy="6879960"/>
            <a:chOff x="0" y="0"/>
            <a:chExt cx="9172080" cy="6879960"/>
          </a:xfrm>
        </p:grpSpPr>
        <p:sp>
          <p:nvSpPr>
            <p:cNvPr id="485" name="AutoShape 3"/>
            <p:cNvSpPr/>
            <p:nvPr/>
          </p:nvSpPr>
          <p:spPr>
            <a:xfrm>
              <a:off x="0" y="0"/>
              <a:ext cx="9172080" cy="68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4"/>
            <p:cNvSpPr/>
            <p:nvPr/>
          </p:nvSpPr>
          <p:spPr>
            <a:xfrm>
              <a:off x="1440" y="0"/>
              <a:ext cx="9138960" cy="6879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5"/>
            <p:cNvSpPr/>
            <p:nvPr/>
          </p:nvSpPr>
          <p:spPr>
            <a:xfrm>
              <a:off x="600120" y="416880"/>
              <a:ext cx="4165560" cy="3363840"/>
            </a:xfrm>
            <a:custGeom>
              <a:avLst/>
              <a:gdLst/>
              <a:ahLst/>
              <a:rect l="l" t="t" r="r" b="b"/>
              <a:pathLst>
                <a:path w="7849" h="6315">
                  <a:moveTo>
                    <a:pt x="2807" y="325"/>
                  </a:moveTo>
                  <a:lnTo>
                    <a:pt x="2966" y="275"/>
                  </a:lnTo>
                  <a:lnTo>
                    <a:pt x="3127" y="229"/>
                  </a:lnTo>
                  <a:lnTo>
                    <a:pt x="3289" y="188"/>
                  </a:lnTo>
                  <a:lnTo>
                    <a:pt x="3452" y="151"/>
                  </a:lnTo>
                  <a:lnTo>
                    <a:pt x="3617" y="118"/>
                  </a:lnTo>
                  <a:lnTo>
                    <a:pt x="3782" y="89"/>
                  </a:lnTo>
                  <a:lnTo>
                    <a:pt x="3947" y="65"/>
                  </a:lnTo>
                  <a:lnTo>
                    <a:pt x="4112" y="43"/>
                  </a:lnTo>
                  <a:lnTo>
                    <a:pt x="4279" y="27"/>
                  </a:lnTo>
                  <a:lnTo>
                    <a:pt x="4445" y="14"/>
                  </a:lnTo>
                  <a:lnTo>
                    <a:pt x="4610" y="5"/>
                  </a:lnTo>
                  <a:lnTo>
                    <a:pt x="4777" y="1"/>
                  </a:lnTo>
                  <a:lnTo>
                    <a:pt x="4942" y="0"/>
                  </a:lnTo>
                  <a:lnTo>
                    <a:pt x="5107" y="3"/>
                  </a:lnTo>
                  <a:lnTo>
                    <a:pt x="5272" y="11"/>
                  </a:lnTo>
                  <a:lnTo>
                    <a:pt x="5436" y="22"/>
                  </a:lnTo>
                  <a:lnTo>
                    <a:pt x="5599" y="36"/>
                  </a:lnTo>
                  <a:lnTo>
                    <a:pt x="5761" y="54"/>
                  </a:lnTo>
                  <a:lnTo>
                    <a:pt x="5922" y="77"/>
                  </a:lnTo>
                  <a:lnTo>
                    <a:pt x="6082" y="101"/>
                  </a:lnTo>
                  <a:lnTo>
                    <a:pt x="6240" y="132"/>
                  </a:lnTo>
                  <a:lnTo>
                    <a:pt x="6397" y="164"/>
                  </a:lnTo>
                  <a:lnTo>
                    <a:pt x="6552" y="201"/>
                  </a:lnTo>
                  <a:lnTo>
                    <a:pt x="6705" y="241"/>
                  </a:lnTo>
                  <a:lnTo>
                    <a:pt x="6857" y="284"/>
                  </a:lnTo>
                  <a:lnTo>
                    <a:pt x="7006" y="330"/>
                  </a:lnTo>
                  <a:lnTo>
                    <a:pt x="7153" y="381"/>
                  </a:lnTo>
                  <a:lnTo>
                    <a:pt x="7297" y="435"/>
                  </a:lnTo>
                  <a:lnTo>
                    <a:pt x="7440" y="492"/>
                  </a:lnTo>
                  <a:lnTo>
                    <a:pt x="7579" y="553"/>
                  </a:lnTo>
                  <a:lnTo>
                    <a:pt x="7715" y="617"/>
                  </a:lnTo>
                  <a:lnTo>
                    <a:pt x="7849" y="684"/>
                  </a:lnTo>
                  <a:lnTo>
                    <a:pt x="7721" y="633"/>
                  </a:lnTo>
                  <a:lnTo>
                    <a:pt x="7591" y="584"/>
                  </a:lnTo>
                  <a:lnTo>
                    <a:pt x="7459" y="540"/>
                  </a:lnTo>
                  <a:lnTo>
                    <a:pt x="7325" y="497"/>
                  </a:lnTo>
                  <a:lnTo>
                    <a:pt x="7189" y="457"/>
                  </a:lnTo>
                  <a:lnTo>
                    <a:pt x="7052" y="420"/>
                  </a:lnTo>
                  <a:lnTo>
                    <a:pt x="6914" y="387"/>
                  </a:lnTo>
                  <a:lnTo>
                    <a:pt x="6773" y="355"/>
                  </a:lnTo>
                  <a:lnTo>
                    <a:pt x="6632" y="327"/>
                  </a:lnTo>
                  <a:lnTo>
                    <a:pt x="6489" y="301"/>
                  </a:lnTo>
                  <a:lnTo>
                    <a:pt x="6346" y="280"/>
                  </a:lnTo>
                  <a:lnTo>
                    <a:pt x="6201" y="259"/>
                  </a:lnTo>
                  <a:lnTo>
                    <a:pt x="6055" y="243"/>
                  </a:lnTo>
                  <a:lnTo>
                    <a:pt x="5909" y="230"/>
                  </a:lnTo>
                  <a:lnTo>
                    <a:pt x="5763" y="219"/>
                  </a:lnTo>
                  <a:lnTo>
                    <a:pt x="5615" y="212"/>
                  </a:lnTo>
                  <a:lnTo>
                    <a:pt x="5467" y="207"/>
                  </a:lnTo>
                  <a:lnTo>
                    <a:pt x="5318" y="206"/>
                  </a:lnTo>
                  <a:lnTo>
                    <a:pt x="5169" y="208"/>
                  </a:lnTo>
                  <a:lnTo>
                    <a:pt x="5020" y="214"/>
                  </a:lnTo>
                  <a:lnTo>
                    <a:pt x="4870" y="222"/>
                  </a:lnTo>
                  <a:lnTo>
                    <a:pt x="4721" y="233"/>
                  </a:lnTo>
                  <a:lnTo>
                    <a:pt x="4572" y="248"/>
                  </a:lnTo>
                  <a:lnTo>
                    <a:pt x="4423" y="267"/>
                  </a:lnTo>
                  <a:lnTo>
                    <a:pt x="4274" y="287"/>
                  </a:lnTo>
                  <a:lnTo>
                    <a:pt x="4126" y="312"/>
                  </a:lnTo>
                  <a:lnTo>
                    <a:pt x="3979" y="340"/>
                  </a:lnTo>
                  <a:lnTo>
                    <a:pt x="3832" y="371"/>
                  </a:lnTo>
                  <a:lnTo>
                    <a:pt x="3686" y="406"/>
                  </a:lnTo>
                  <a:lnTo>
                    <a:pt x="3540" y="445"/>
                  </a:lnTo>
                  <a:lnTo>
                    <a:pt x="3395" y="486"/>
                  </a:lnTo>
                  <a:lnTo>
                    <a:pt x="3253" y="531"/>
                  </a:lnTo>
                  <a:lnTo>
                    <a:pt x="3027" y="610"/>
                  </a:lnTo>
                  <a:lnTo>
                    <a:pt x="2811" y="695"/>
                  </a:lnTo>
                  <a:lnTo>
                    <a:pt x="2602" y="787"/>
                  </a:lnTo>
                  <a:lnTo>
                    <a:pt x="2404" y="886"/>
                  </a:lnTo>
                  <a:lnTo>
                    <a:pt x="2213" y="990"/>
                  </a:lnTo>
                  <a:lnTo>
                    <a:pt x="2031" y="1100"/>
                  </a:lnTo>
                  <a:lnTo>
                    <a:pt x="1858" y="1216"/>
                  </a:lnTo>
                  <a:lnTo>
                    <a:pt x="1694" y="1337"/>
                  </a:lnTo>
                  <a:lnTo>
                    <a:pt x="1540" y="1463"/>
                  </a:lnTo>
                  <a:lnTo>
                    <a:pt x="1395" y="1594"/>
                  </a:lnTo>
                  <a:lnTo>
                    <a:pt x="1260" y="1729"/>
                  </a:lnTo>
                  <a:lnTo>
                    <a:pt x="1135" y="1867"/>
                  </a:lnTo>
                  <a:lnTo>
                    <a:pt x="1019" y="2010"/>
                  </a:lnTo>
                  <a:lnTo>
                    <a:pt x="914" y="2157"/>
                  </a:lnTo>
                  <a:lnTo>
                    <a:pt x="819" y="2306"/>
                  </a:lnTo>
                  <a:lnTo>
                    <a:pt x="734" y="2458"/>
                  </a:lnTo>
                  <a:lnTo>
                    <a:pt x="661" y="2613"/>
                  </a:lnTo>
                  <a:lnTo>
                    <a:pt x="597" y="2770"/>
                  </a:lnTo>
                  <a:lnTo>
                    <a:pt x="544" y="2930"/>
                  </a:lnTo>
                  <a:lnTo>
                    <a:pt x="503" y="3091"/>
                  </a:lnTo>
                  <a:lnTo>
                    <a:pt x="472" y="3253"/>
                  </a:lnTo>
                  <a:lnTo>
                    <a:pt x="453" y="3417"/>
                  </a:lnTo>
                  <a:lnTo>
                    <a:pt x="445" y="3581"/>
                  </a:lnTo>
                  <a:lnTo>
                    <a:pt x="449" y="3746"/>
                  </a:lnTo>
                  <a:lnTo>
                    <a:pt x="464" y="3911"/>
                  </a:lnTo>
                  <a:lnTo>
                    <a:pt x="492" y="4077"/>
                  </a:lnTo>
                  <a:lnTo>
                    <a:pt x="531" y="4242"/>
                  </a:lnTo>
                  <a:lnTo>
                    <a:pt x="583" y="4407"/>
                  </a:lnTo>
                  <a:lnTo>
                    <a:pt x="647" y="4570"/>
                  </a:lnTo>
                  <a:lnTo>
                    <a:pt x="723" y="4733"/>
                  </a:lnTo>
                  <a:lnTo>
                    <a:pt x="812" y="4894"/>
                  </a:lnTo>
                  <a:lnTo>
                    <a:pt x="913" y="5054"/>
                  </a:lnTo>
                  <a:lnTo>
                    <a:pt x="947" y="5102"/>
                  </a:lnTo>
                  <a:lnTo>
                    <a:pt x="981" y="5149"/>
                  </a:lnTo>
                  <a:lnTo>
                    <a:pt x="1017" y="5197"/>
                  </a:lnTo>
                  <a:lnTo>
                    <a:pt x="1053" y="5243"/>
                  </a:lnTo>
                  <a:lnTo>
                    <a:pt x="1090" y="5290"/>
                  </a:lnTo>
                  <a:lnTo>
                    <a:pt x="1128" y="5335"/>
                  </a:lnTo>
                  <a:lnTo>
                    <a:pt x="1167" y="5379"/>
                  </a:lnTo>
                  <a:lnTo>
                    <a:pt x="1207" y="5423"/>
                  </a:lnTo>
                  <a:lnTo>
                    <a:pt x="1248" y="5468"/>
                  </a:lnTo>
                  <a:lnTo>
                    <a:pt x="1290" y="5511"/>
                  </a:lnTo>
                  <a:lnTo>
                    <a:pt x="1332" y="5553"/>
                  </a:lnTo>
                  <a:lnTo>
                    <a:pt x="1376" y="5595"/>
                  </a:lnTo>
                  <a:lnTo>
                    <a:pt x="1420" y="5637"/>
                  </a:lnTo>
                  <a:lnTo>
                    <a:pt x="1464" y="5677"/>
                  </a:lnTo>
                  <a:lnTo>
                    <a:pt x="1511" y="5718"/>
                  </a:lnTo>
                  <a:lnTo>
                    <a:pt x="1557" y="5758"/>
                  </a:lnTo>
                  <a:lnTo>
                    <a:pt x="1605" y="5797"/>
                  </a:lnTo>
                  <a:lnTo>
                    <a:pt x="1652" y="5836"/>
                  </a:lnTo>
                  <a:lnTo>
                    <a:pt x="1702" y="5874"/>
                  </a:lnTo>
                  <a:lnTo>
                    <a:pt x="1750" y="5912"/>
                  </a:lnTo>
                  <a:lnTo>
                    <a:pt x="1801" y="5948"/>
                  </a:lnTo>
                  <a:lnTo>
                    <a:pt x="1852" y="5985"/>
                  </a:lnTo>
                  <a:lnTo>
                    <a:pt x="1904" y="6021"/>
                  </a:lnTo>
                  <a:lnTo>
                    <a:pt x="1957" y="6056"/>
                  </a:lnTo>
                  <a:lnTo>
                    <a:pt x="2010" y="6091"/>
                  </a:lnTo>
                  <a:lnTo>
                    <a:pt x="2064" y="6124"/>
                  </a:lnTo>
                  <a:lnTo>
                    <a:pt x="2118" y="6158"/>
                  </a:lnTo>
                  <a:lnTo>
                    <a:pt x="2173" y="6190"/>
                  </a:lnTo>
                  <a:lnTo>
                    <a:pt x="2229" y="6223"/>
                  </a:lnTo>
                  <a:lnTo>
                    <a:pt x="2285" y="6254"/>
                  </a:lnTo>
                  <a:lnTo>
                    <a:pt x="2342" y="6285"/>
                  </a:lnTo>
                  <a:lnTo>
                    <a:pt x="2399" y="6315"/>
                  </a:lnTo>
                  <a:lnTo>
                    <a:pt x="2324" y="6284"/>
                  </a:lnTo>
                  <a:lnTo>
                    <a:pt x="2248" y="6252"/>
                  </a:lnTo>
                  <a:lnTo>
                    <a:pt x="2175" y="6217"/>
                  </a:lnTo>
                  <a:lnTo>
                    <a:pt x="2100" y="6183"/>
                  </a:lnTo>
                  <a:lnTo>
                    <a:pt x="2028" y="6147"/>
                  </a:lnTo>
                  <a:lnTo>
                    <a:pt x="1957" y="6111"/>
                  </a:lnTo>
                  <a:lnTo>
                    <a:pt x="1885" y="6074"/>
                  </a:lnTo>
                  <a:lnTo>
                    <a:pt x="1815" y="6035"/>
                  </a:lnTo>
                  <a:lnTo>
                    <a:pt x="1746" y="5996"/>
                  </a:lnTo>
                  <a:lnTo>
                    <a:pt x="1678" y="5956"/>
                  </a:lnTo>
                  <a:lnTo>
                    <a:pt x="1611" y="5914"/>
                  </a:lnTo>
                  <a:lnTo>
                    <a:pt x="1545" y="5873"/>
                  </a:lnTo>
                  <a:lnTo>
                    <a:pt x="1479" y="5829"/>
                  </a:lnTo>
                  <a:lnTo>
                    <a:pt x="1416" y="5785"/>
                  </a:lnTo>
                  <a:lnTo>
                    <a:pt x="1353" y="5741"/>
                  </a:lnTo>
                  <a:lnTo>
                    <a:pt x="1291" y="5694"/>
                  </a:lnTo>
                  <a:lnTo>
                    <a:pt x="1230" y="5648"/>
                  </a:lnTo>
                  <a:lnTo>
                    <a:pt x="1170" y="5601"/>
                  </a:lnTo>
                  <a:lnTo>
                    <a:pt x="1112" y="5553"/>
                  </a:lnTo>
                  <a:lnTo>
                    <a:pt x="1055" y="5503"/>
                  </a:lnTo>
                  <a:lnTo>
                    <a:pt x="999" y="5454"/>
                  </a:lnTo>
                  <a:lnTo>
                    <a:pt x="944" y="5403"/>
                  </a:lnTo>
                  <a:lnTo>
                    <a:pt x="891" y="5351"/>
                  </a:lnTo>
                  <a:lnTo>
                    <a:pt x="838" y="5298"/>
                  </a:lnTo>
                  <a:lnTo>
                    <a:pt x="787" y="5245"/>
                  </a:lnTo>
                  <a:lnTo>
                    <a:pt x="737" y="5190"/>
                  </a:lnTo>
                  <a:lnTo>
                    <a:pt x="689" y="5135"/>
                  </a:lnTo>
                  <a:lnTo>
                    <a:pt x="642" y="5080"/>
                  </a:lnTo>
                  <a:lnTo>
                    <a:pt x="596" y="5023"/>
                  </a:lnTo>
                  <a:lnTo>
                    <a:pt x="552" y="4966"/>
                  </a:lnTo>
                  <a:lnTo>
                    <a:pt x="509" y="4907"/>
                  </a:lnTo>
                  <a:lnTo>
                    <a:pt x="468" y="4848"/>
                  </a:lnTo>
                  <a:lnTo>
                    <a:pt x="366" y="4688"/>
                  </a:lnTo>
                  <a:lnTo>
                    <a:pt x="277" y="4527"/>
                  </a:lnTo>
                  <a:lnTo>
                    <a:pt x="201" y="4364"/>
                  </a:lnTo>
                  <a:lnTo>
                    <a:pt x="137" y="4201"/>
                  </a:lnTo>
                  <a:lnTo>
                    <a:pt x="85" y="4036"/>
                  </a:lnTo>
                  <a:lnTo>
                    <a:pt x="46" y="3870"/>
                  </a:lnTo>
                  <a:lnTo>
                    <a:pt x="18" y="3705"/>
                  </a:lnTo>
                  <a:lnTo>
                    <a:pt x="3" y="3540"/>
                  </a:lnTo>
                  <a:lnTo>
                    <a:pt x="0" y="3375"/>
                  </a:lnTo>
                  <a:lnTo>
                    <a:pt x="7" y="3211"/>
                  </a:lnTo>
                  <a:lnTo>
                    <a:pt x="27" y="3046"/>
                  </a:lnTo>
                  <a:lnTo>
                    <a:pt x="57" y="2884"/>
                  </a:lnTo>
                  <a:lnTo>
                    <a:pt x="98" y="2724"/>
                  </a:lnTo>
                  <a:lnTo>
                    <a:pt x="151" y="2564"/>
                  </a:lnTo>
                  <a:lnTo>
                    <a:pt x="215" y="2407"/>
                  </a:lnTo>
                  <a:lnTo>
                    <a:pt x="289" y="2252"/>
                  </a:lnTo>
                  <a:lnTo>
                    <a:pt x="373" y="2099"/>
                  </a:lnTo>
                  <a:lnTo>
                    <a:pt x="468" y="1950"/>
                  </a:lnTo>
                  <a:lnTo>
                    <a:pt x="574" y="1803"/>
                  </a:lnTo>
                  <a:lnTo>
                    <a:pt x="689" y="1661"/>
                  </a:lnTo>
                  <a:lnTo>
                    <a:pt x="814" y="1523"/>
                  </a:lnTo>
                  <a:lnTo>
                    <a:pt x="949" y="1388"/>
                  </a:lnTo>
                  <a:lnTo>
                    <a:pt x="1095" y="1257"/>
                  </a:lnTo>
                  <a:lnTo>
                    <a:pt x="1248" y="1131"/>
                  </a:lnTo>
                  <a:lnTo>
                    <a:pt x="1412" y="1010"/>
                  </a:lnTo>
                  <a:lnTo>
                    <a:pt x="1585" y="894"/>
                  </a:lnTo>
                  <a:lnTo>
                    <a:pt x="1767" y="784"/>
                  </a:lnTo>
                  <a:lnTo>
                    <a:pt x="1958" y="679"/>
                  </a:lnTo>
                  <a:lnTo>
                    <a:pt x="2156" y="581"/>
                  </a:lnTo>
                  <a:lnTo>
                    <a:pt x="2365" y="489"/>
                  </a:lnTo>
                  <a:lnTo>
                    <a:pt x="2582" y="404"/>
                  </a:lnTo>
                  <a:lnTo>
                    <a:pt x="2807" y="325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6"/>
            <p:cNvSpPr/>
            <p:nvPr/>
          </p:nvSpPr>
          <p:spPr>
            <a:xfrm>
              <a:off x="3992040" y="1730880"/>
              <a:ext cx="4167000" cy="3363840"/>
            </a:xfrm>
            <a:custGeom>
              <a:avLst/>
              <a:gdLst/>
              <a:ahLst/>
              <a:rect l="l" t="t" r="r" b="b"/>
              <a:pathLst>
                <a:path w="7851" h="6316">
                  <a:moveTo>
                    <a:pt x="5043" y="5991"/>
                  </a:moveTo>
                  <a:lnTo>
                    <a:pt x="4883" y="6041"/>
                  </a:lnTo>
                  <a:lnTo>
                    <a:pt x="4722" y="6087"/>
                  </a:lnTo>
                  <a:lnTo>
                    <a:pt x="4560" y="6128"/>
                  </a:lnTo>
                  <a:lnTo>
                    <a:pt x="4397" y="6165"/>
                  </a:lnTo>
                  <a:lnTo>
                    <a:pt x="4233" y="6198"/>
                  </a:lnTo>
                  <a:lnTo>
                    <a:pt x="4067" y="6227"/>
                  </a:lnTo>
                  <a:lnTo>
                    <a:pt x="3902" y="6252"/>
                  </a:lnTo>
                  <a:lnTo>
                    <a:pt x="3737" y="6273"/>
                  </a:lnTo>
                  <a:lnTo>
                    <a:pt x="3571" y="6289"/>
                  </a:lnTo>
                  <a:lnTo>
                    <a:pt x="3405" y="6302"/>
                  </a:lnTo>
                  <a:lnTo>
                    <a:pt x="3239" y="6311"/>
                  </a:lnTo>
                  <a:lnTo>
                    <a:pt x="3073" y="6315"/>
                  </a:lnTo>
                  <a:lnTo>
                    <a:pt x="2907" y="6316"/>
                  </a:lnTo>
                  <a:lnTo>
                    <a:pt x="2742" y="6313"/>
                  </a:lnTo>
                  <a:lnTo>
                    <a:pt x="2577" y="6305"/>
                  </a:lnTo>
                  <a:lnTo>
                    <a:pt x="2414" y="6294"/>
                  </a:lnTo>
                  <a:lnTo>
                    <a:pt x="2251" y="6280"/>
                  </a:lnTo>
                  <a:lnTo>
                    <a:pt x="2089" y="6262"/>
                  </a:lnTo>
                  <a:lnTo>
                    <a:pt x="1927" y="6239"/>
                  </a:lnTo>
                  <a:lnTo>
                    <a:pt x="1768" y="6214"/>
                  </a:lnTo>
                  <a:lnTo>
                    <a:pt x="1609" y="6185"/>
                  </a:lnTo>
                  <a:lnTo>
                    <a:pt x="1453" y="6152"/>
                  </a:lnTo>
                  <a:lnTo>
                    <a:pt x="1297" y="6115"/>
                  </a:lnTo>
                  <a:lnTo>
                    <a:pt x="1144" y="6075"/>
                  </a:lnTo>
                  <a:lnTo>
                    <a:pt x="993" y="6032"/>
                  </a:lnTo>
                  <a:lnTo>
                    <a:pt x="844" y="5985"/>
                  </a:lnTo>
                  <a:lnTo>
                    <a:pt x="697" y="5935"/>
                  </a:lnTo>
                  <a:lnTo>
                    <a:pt x="552" y="5881"/>
                  </a:lnTo>
                  <a:lnTo>
                    <a:pt x="410" y="5823"/>
                  </a:lnTo>
                  <a:lnTo>
                    <a:pt x="270" y="5763"/>
                  </a:lnTo>
                  <a:lnTo>
                    <a:pt x="134" y="5699"/>
                  </a:lnTo>
                  <a:lnTo>
                    <a:pt x="0" y="5632"/>
                  </a:lnTo>
                  <a:lnTo>
                    <a:pt x="129" y="5683"/>
                  </a:lnTo>
                  <a:lnTo>
                    <a:pt x="258" y="5732"/>
                  </a:lnTo>
                  <a:lnTo>
                    <a:pt x="391" y="5777"/>
                  </a:lnTo>
                  <a:lnTo>
                    <a:pt x="524" y="5819"/>
                  </a:lnTo>
                  <a:lnTo>
                    <a:pt x="660" y="5859"/>
                  </a:lnTo>
                  <a:lnTo>
                    <a:pt x="797" y="5896"/>
                  </a:lnTo>
                  <a:lnTo>
                    <a:pt x="935" y="5929"/>
                  </a:lnTo>
                  <a:lnTo>
                    <a:pt x="1076" y="5961"/>
                  </a:lnTo>
                  <a:lnTo>
                    <a:pt x="1217" y="5989"/>
                  </a:lnTo>
                  <a:lnTo>
                    <a:pt x="1360" y="6015"/>
                  </a:lnTo>
                  <a:lnTo>
                    <a:pt x="1503" y="6037"/>
                  </a:lnTo>
                  <a:lnTo>
                    <a:pt x="1648" y="6057"/>
                  </a:lnTo>
                  <a:lnTo>
                    <a:pt x="1794" y="6073"/>
                  </a:lnTo>
                  <a:lnTo>
                    <a:pt x="1940" y="6086"/>
                  </a:lnTo>
                  <a:lnTo>
                    <a:pt x="2088" y="6097"/>
                  </a:lnTo>
                  <a:lnTo>
                    <a:pt x="2235" y="6104"/>
                  </a:lnTo>
                  <a:lnTo>
                    <a:pt x="2384" y="6109"/>
                  </a:lnTo>
                  <a:lnTo>
                    <a:pt x="2532" y="6110"/>
                  </a:lnTo>
                  <a:lnTo>
                    <a:pt x="2681" y="6108"/>
                  </a:lnTo>
                  <a:lnTo>
                    <a:pt x="2830" y="6102"/>
                  </a:lnTo>
                  <a:lnTo>
                    <a:pt x="2979" y="6095"/>
                  </a:lnTo>
                  <a:lnTo>
                    <a:pt x="3128" y="6083"/>
                  </a:lnTo>
                  <a:lnTo>
                    <a:pt x="3277" y="6068"/>
                  </a:lnTo>
                  <a:lnTo>
                    <a:pt x="3426" y="6049"/>
                  </a:lnTo>
                  <a:lnTo>
                    <a:pt x="3575" y="6029"/>
                  </a:lnTo>
                  <a:lnTo>
                    <a:pt x="3723" y="6004"/>
                  </a:lnTo>
                  <a:lnTo>
                    <a:pt x="3871" y="5976"/>
                  </a:lnTo>
                  <a:lnTo>
                    <a:pt x="4018" y="5944"/>
                  </a:lnTo>
                  <a:lnTo>
                    <a:pt x="4163" y="5910"/>
                  </a:lnTo>
                  <a:lnTo>
                    <a:pt x="4309" y="5871"/>
                  </a:lnTo>
                  <a:lnTo>
                    <a:pt x="4454" y="5830"/>
                  </a:lnTo>
                  <a:lnTo>
                    <a:pt x="4598" y="5785"/>
                  </a:lnTo>
                  <a:lnTo>
                    <a:pt x="4822" y="5706"/>
                  </a:lnTo>
                  <a:lnTo>
                    <a:pt x="5038" y="5620"/>
                  </a:lnTo>
                  <a:lnTo>
                    <a:pt x="5247" y="5529"/>
                  </a:lnTo>
                  <a:lnTo>
                    <a:pt x="5446" y="5430"/>
                  </a:lnTo>
                  <a:lnTo>
                    <a:pt x="5637" y="5326"/>
                  </a:lnTo>
                  <a:lnTo>
                    <a:pt x="5819" y="5215"/>
                  </a:lnTo>
                  <a:lnTo>
                    <a:pt x="5992" y="5100"/>
                  </a:lnTo>
                  <a:lnTo>
                    <a:pt x="6155" y="4979"/>
                  </a:lnTo>
                  <a:lnTo>
                    <a:pt x="6309" y="4853"/>
                  </a:lnTo>
                  <a:lnTo>
                    <a:pt x="6454" y="4722"/>
                  </a:lnTo>
                  <a:lnTo>
                    <a:pt x="6589" y="4587"/>
                  </a:lnTo>
                  <a:lnTo>
                    <a:pt x="6714" y="4449"/>
                  </a:lnTo>
                  <a:lnTo>
                    <a:pt x="6830" y="4306"/>
                  </a:lnTo>
                  <a:lnTo>
                    <a:pt x="6935" y="4159"/>
                  </a:lnTo>
                  <a:lnTo>
                    <a:pt x="7030" y="4010"/>
                  </a:lnTo>
                  <a:lnTo>
                    <a:pt x="7115" y="3858"/>
                  </a:lnTo>
                  <a:lnTo>
                    <a:pt x="7190" y="3704"/>
                  </a:lnTo>
                  <a:lnTo>
                    <a:pt x="7252" y="3546"/>
                  </a:lnTo>
                  <a:lnTo>
                    <a:pt x="7305" y="3387"/>
                  </a:lnTo>
                  <a:lnTo>
                    <a:pt x="7347" y="3225"/>
                  </a:lnTo>
                  <a:lnTo>
                    <a:pt x="7378" y="3063"/>
                  </a:lnTo>
                  <a:lnTo>
                    <a:pt x="7397" y="2899"/>
                  </a:lnTo>
                  <a:lnTo>
                    <a:pt x="7405" y="2735"/>
                  </a:lnTo>
                  <a:lnTo>
                    <a:pt x="7400" y="2570"/>
                  </a:lnTo>
                  <a:lnTo>
                    <a:pt x="7385" y="2404"/>
                  </a:lnTo>
                  <a:lnTo>
                    <a:pt x="7358" y="2239"/>
                  </a:lnTo>
                  <a:lnTo>
                    <a:pt x="7318" y="2074"/>
                  </a:lnTo>
                  <a:lnTo>
                    <a:pt x="7266" y="1909"/>
                  </a:lnTo>
                  <a:lnTo>
                    <a:pt x="7203" y="1746"/>
                  </a:lnTo>
                  <a:lnTo>
                    <a:pt x="7127" y="1583"/>
                  </a:lnTo>
                  <a:lnTo>
                    <a:pt x="7037" y="1422"/>
                  </a:lnTo>
                  <a:lnTo>
                    <a:pt x="6936" y="1262"/>
                  </a:lnTo>
                  <a:lnTo>
                    <a:pt x="6902" y="1214"/>
                  </a:lnTo>
                  <a:lnTo>
                    <a:pt x="6868" y="1167"/>
                  </a:lnTo>
                  <a:lnTo>
                    <a:pt x="6832" y="1119"/>
                  </a:lnTo>
                  <a:lnTo>
                    <a:pt x="6796" y="1073"/>
                  </a:lnTo>
                  <a:lnTo>
                    <a:pt x="6759" y="1027"/>
                  </a:lnTo>
                  <a:lnTo>
                    <a:pt x="6721" y="981"/>
                  </a:lnTo>
                  <a:lnTo>
                    <a:pt x="6682" y="937"/>
                  </a:lnTo>
                  <a:lnTo>
                    <a:pt x="6642" y="892"/>
                  </a:lnTo>
                  <a:lnTo>
                    <a:pt x="6601" y="848"/>
                  </a:lnTo>
                  <a:lnTo>
                    <a:pt x="6560" y="805"/>
                  </a:lnTo>
                  <a:lnTo>
                    <a:pt x="6517" y="763"/>
                  </a:lnTo>
                  <a:lnTo>
                    <a:pt x="6474" y="721"/>
                  </a:lnTo>
                  <a:lnTo>
                    <a:pt x="6429" y="680"/>
                  </a:lnTo>
                  <a:lnTo>
                    <a:pt x="6385" y="639"/>
                  </a:lnTo>
                  <a:lnTo>
                    <a:pt x="6339" y="598"/>
                  </a:lnTo>
                  <a:lnTo>
                    <a:pt x="6292" y="558"/>
                  </a:lnTo>
                  <a:lnTo>
                    <a:pt x="6245" y="519"/>
                  </a:lnTo>
                  <a:lnTo>
                    <a:pt x="6197" y="480"/>
                  </a:lnTo>
                  <a:lnTo>
                    <a:pt x="6148" y="442"/>
                  </a:lnTo>
                  <a:lnTo>
                    <a:pt x="6099" y="404"/>
                  </a:lnTo>
                  <a:lnTo>
                    <a:pt x="6048" y="368"/>
                  </a:lnTo>
                  <a:lnTo>
                    <a:pt x="5997" y="331"/>
                  </a:lnTo>
                  <a:lnTo>
                    <a:pt x="5945" y="295"/>
                  </a:lnTo>
                  <a:lnTo>
                    <a:pt x="5893" y="260"/>
                  </a:lnTo>
                  <a:lnTo>
                    <a:pt x="5840" y="225"/>
                  </a:lnTo>
                  <a:lnTo>
                    <a:pt x="5786" y="192"/>
                  </a:lnTo>
                  <a:lnTo>
                    <a:pt x="5732" y="158"/>
                  </a:lnTo>
                  <a:lnTo>
                    <a:pt x="5677" y="126"/>
                  </a:lnTo>
                  <a:lnTo>
                    <a:pt x="5620" y="93"/>
                  </a:lnTo>
                  <a:lnTo>
                    <a:pt x="5564" y="62"/>
                  </a:lnTo>
                  <a:lnTo>
                    <a:pt x="5507" y="31"/>
                  </a:lnTo>
                  <a:lnTo>
                    <a:pt x="5450" y="0"/>
                  </a:lnTo>
                  <a:lnTo>
                    <a:pt x="5525" y="32"/>
                  </a:lnTo>
                  <a:lnTo>
                    <a:pt x="5601" y="65"/>
                  </a:lnTo>
                  <a:lnTo>
                    <a:pt x="5675" y="99"/>
                  </a:lnTo>
                  <a:lnTo>
                    <a:pt x="5749" y="133"/>
                  </a:lnTo>
                  <a:lnTo>
                    <a:pt x="5821" y="169"/>
                  </a:lnTo>
                  <a:lnTo>
                    <a:pt x="5894" y="206"/>
                  </a:lnTo>
                  <a:lnTo>
                    <a:pt x="5964" y="242"/>
                  </a:lnTo>
                  <a:lnTo>
                    <a:pt x="6034" y="281"/>
                  </a:lnTo>
                  <a:lnTo>
                    <a:pt x="6103" y="320"/>
                  </a:lnTo>
                  <a:lnTo>
                    <a:pt x="6171" y="361"/>
                  </a:lnTo>
                  <a:lnTo>
                    <a:pt x="6238" y="402"/>
                  </a:lnTo>
                  <a:lnTo>
                    <a:pt x="6304" y="444"/>
                  </a:lnTo>
                  <a:lnTo>
                    <a:pt x="6370" y="486"/>
                  </a:lnTo>
                  <a:lnTo>
                    <a:pt x="6434" y="531"/>
                  </a:lnTo>
                  <a:lnTo>
                    <a:pt x="6496" y="575"/>
                  </a:lnTo>
                  <a:lnTo>
                    <a:pt x="6559" y="621"/>
                  </a:lnTo>
                  <a:lnTo>
                    <a:pt x="6619" y="668"/>
                  </a:lnTo>
                  <a:lnTo>
                    <a:pt x="6679" y="715"/>
                  </a:lnTo>
                  <a:lnTo>
                    <a:pt x="6737" y="763"/>
                  </a:lnTo>
                  <a:lnTo>
                    <a:pt x="6794" y="813"/>
                  </a:lnTo>
                  <a:lnTo>
                    <a:pt x="6850" y="862"/>
                  </a:lnTo>
                  <a:lnTo>
                    <a:pt x="6906" y="913"/>
                  </a:lnTo>
                  <a:lnTo>
                    <a:pt x="6960" y="965"/>
                  </a:lnTo>
                  <a:lnTo>
                    <a:pt x="7011" y="1018"/>
                  </a:lnTo>
                  <a:lnTo>
                    <a:pt x="7062" y="1072"/>
                  </a:lnTo>
                  <a:lnTo>
                    <a:pt x="7112" y="1126"/>
                  </a:lnTo>
                  <a:lnTo>
                    <a:pt x="7160" y="1181"/>
                  </a:lnTo>
                  <a:lnTo>
                    <a:pt x="7208" y="1237"/>
                  </a:lnTo>
                  <a:lnTo>
                    <a:pt x="7253" y="1293"/>
                  </a:lnTo>
                  <a:lnTo>
                    <a:pt x="7298" y="1350"/>
                  </a:lnTo>
                  <a:lnTo>
                    <a:pt x="7340" y="1409"/>
                  </a:lnTo>
                  <a:lnTo>
                    <a:pt x="7382" y="1468"/>
                  </a:lnTo>
                  <a:lnTo>
                    <a:pt x="7483" y="1628"/>
                  </a:lnTo>
                  <a:lnTo>
                    <a:pt x="7572" y="1789"/>
                  </a:lnTo>
                  <a:lnTo>
                    <a:pt x="7649" y="1952"/>
                  </a:lnTo>
                  <a:lnTo>
                    <a:pt x="7712" y="2115"/>
                  </a:lnTo>
                  <a:lnTo>
                    <a:pt x="7764" y="2280"/>
                  </a:lnTo>
                  <a:lnTo>
                    <a:pt x="7803" y="2445"/>
                  </a:lnTo>
                  <a:lnTo>
                    <a:pt x="7831" y="2611"/>
                  </a:lnTo>
                  <a:lnTo>
                    <a:pt x="7846" y="2776"/>
                  </a:lnTo>
                  <a:lnTo>
                    <a:pt x="7851" y="2941"/>
                  </a:lnTo>
                  <a:lnTo>
                    <a:pt x="7842" y="3105"/>
                  </a:lnTo>
                  <a:lnTo>
                    <a:pt x="7824" y="3269"/>
                  </a:lnTo>
                  <a:lnTo>
                    <a:pt x="7792" y="3431"/>
                  </a:lnTo>
                  <a:lnTo>
                    <a:pt x="7751" y="3593"/>
                  </a:lnTo>
                  <a:lnTo>
                    <a:pt x="7698" y="3752"/>
                  </a:lnTo>
                  <a:lnTo>
                    <a:pt x="7635" y="3910"/>
                  </a:lnTo>
                  <a:lnTo>
                    <a:pt x="7561" y="4064"/>
                  </a:lnTo>
                  <a:lnTo>
                    <a:pt x="7476" y="4217"/>
                  </a:lnTo>
                  <a:lnTo>
                    <a:pt x="7381" y="4366"/>
                  </a:lnTo>
                  <a:lnTo>
                    <a:pt x="7276" y="4512"/>
                  </a:lnTo>
                  <a:lnTo>
                    <a:pt x="7160" y="4655"/>
                  </a:lnTo>
                  <a:lnTo>
                    <a:pt x="7035" y="4793"/>
                  </a:lnTo>
                  <a:lnTo>
                    <a:pt x="6900" y="4928"/>
                  </a:lnTo>
                  <a:lnTo>
                    <a:pt x="6755" y="5059"/>
                  </a:lnTo>
                  <a:lnTo>
                    <a:pt x="6601" y="5185"/>
                  </a:lnTo>
                  <a:lnTo>
                    <a:pt x="6437" y="5306"/>
                  </a:lnTo>
                  <a:lnTo>
                    <a:pt x="6264" y="5422"/>
                  </a:lnTo>
                  <a:lnTo>
                    <a:pt x="6083" y="5532"/>
                  </a:lnTo>
                  <a:lnTo>
                    <a:pt x="5891" y="5637"/>
                  </a:lnTo>
                  <a:lnTo>
                    <a:pt x="5693" y="5735"/>
                  </a:lnTo>
                  <a:lnTo>
                    <a:pt x="5484" y="5827"/>
                  </a:lnTo>
                  <a:lnTo>
                    <a:pt x="5268" y="5912"/>
                  </a:lnTo>
                  <a:lnTo>
                    <a:pt x="5043" y="5991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7"/>
            <p:cNvSpPr/>
            <p:nvPr/>
          </p:nvSpPr>
          <p:spPr>
            <a:xfrm>
              <a:off x="1440" y="4782960"/>
              <a:ext cx="9170640" cy="2097000"/>
            </a:xfrm>
            <a:custGeom>
              <a:avLst/>
              <a:gdLst/>
              <a:ahLst/>
              <a:rect l="l" t="t" r="r" b="b"/>
              <a:pathLst>
                <a:path w="17278" h="3934">
                  <a:moveTo>
                    <a:pt x="17278" y="30"/>
                  </a:moveTo>
                  <a:lnTo>
                    <a:pt x="17218" y="3934"/>
                  </a:lnTo>
                  <a:lnTo>
                    <a:pt x="0" y="3934"/>
                  </a:lnTo>
                  <a:lnTo>
                    <a:pt x="509" y="3524"/>
                  </a:lnTo>
                  <a:lnTo>
                    <a:pt x="1002" y="3142"/>
                  </a:lnTo>
                  <a:lnTo>
                    <a:pt x="1484" y="2789"/>
                  </a:lnTo>
                  <a:lnTo>
                    <a:pt x="1953" y="2463"/>
                  </a:lnTo>
                  <a:lnTo>
                    <a:pt x="2413" y="2164"/>
                  </a:lnTo>
                  <a:lnTo>
                    <a:pt x="2864" y="1889"/>
                  </a:lnTo>
                  <a:lnTo>
                    <a:pt x="3310" y="1638"/>
                  </a:lnTo>
                  <a:lnTo>
                    <a:pt x="3751" y="1410"/>
                  </a:lnTo>
                  <a:lnTo>
                    <a:pt x="4188" y="1204"/>
                  </a:lnTo>
                  <a:lnTo>
                    <a:pt x="4625" y="1018"/>
                  </a:lnTo>
                  <a:lnTo>
                    <a:pt x="5061" y="852"/>
                  </a:lnTo>
                  <a:lnTo>
                    <a:pt x="5501" y="705"/>
                  </a:lnTo>
                  <a:lnTo>
                    <a:pt x="5942" y="575"/>
                  </a:lnTo>
                  <a:lnTo>
                    <a:pt x="6391" y="462"/>
                  </a:lnTo>
                  <a:lnTo>
                    <a:pt x="6845" y="364"/>
                  </a:lnTo>
                  <a:lnTo>
                    <a:pt x="7309" y="280"/>
                  </a:lnTo>
                  <a:lnTo>
                    <a:pt x="7783" y="210"/>
                  </a:lnTo>
                  <a:lnTo>
                    <a:pt x="8269" y="152"/>
                  </a:lnTo>
                  <a:lnTo>
                    <a:pt x="8769" y="106"/>
                  </a:lnTo>
                  <a:lnTo>
                    <a:pt x="9284" y="69"/>
                  </a:lnTo>
                  <a:lnTo>
                    <a:pt x="9815" y="42"/>
                  </a:lnTo>
                  <a:lnTo>
                    <a:pt x="10367" y="21"/>
                  </a:lnTo>
                  <a:lnTo>
                    <a:pt x="10938" y="9"/>
                  </a:lnTo>
                  <a:lnTo>
                    <a:pt x="11531" y="2"/>
                  </a:lnTo>
                  <a:lnTo>
                    <a:pt x="12149" y="0"/>
                  </a:lnTo>
                  <a:lnTo>
                    <a:pt x="12792" y="2"/>
                  </a:lnTo>
                  <a:lnTo>
                    <a:pt x="13462" y="6"/>
                  </a:lnTo>
                  <a:lnTo>
                    <a:pt x="14161" y="12"/>
                  </a:lnTo>
                  <a:lnTo>
                    <a:pt x="14890" y="18"/>
                  </a:lnTo>
                  <a:lnTo>
                    <a:pt x="15652" y="25"/>
                  </a:lnTo>
                  <a:lnTo>
                    <a:pt x="16447" y="29"/>
                  </a:lnTo>
                  <a:lnTo>
                    <a:pt x="17278" y="30"/>
                  </a:lnTo>
                  <a:close/>
                </a:path>
              </a:pathLst>
            </a:custGeom>
            <a:solidFill>
              <a:srgbClr val="2c4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"/>
            <p:cNvSpPr/>
            <p:nvPr/>
          </p:nvSpPr>
          <p:spPr>
            <a:xfrm>
              <a:off x="1440" y="0"/>
              <a:ext cx="9138960" cy="888480"/>
            </a:xfrm>
            <a:prstGeom prst="rect">
              <a:avLst/>
            </a:prstGeom>
            <a:solidFill>
              <a:srgbClr val="2c4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440" y="0"/>
              <a:ext cx="3744000" cy="888480"/>
            </a:xfrm>
            <a:prstGeom prst="rect">
              <a:avLst/>
            </a:prstGeom>
            <a:solidFill>
              <a:srgbClr val="5d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1440" y="0"/>
              <a:ext cx="1974600" cy="888480"/>
            </a:xfrm>
            <a:prstGeom prst="rect">
              <a:avLst/>
            </a:pr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1440" y="0"/>
              <a:ext cx="1329840" cy="88848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1440" y="0"/>
              <a:ext cx="1046520" cy="888480"/>
            </a:xfrm>
            <a:prstGeom prst="rect">
              <a:avLst/>
            </a:prstGeom>
            <a:solidFill>
              <a:srgbClr val="b6d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DE25-4292-4148-9089-D03C92264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537" name="AutoShape 3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4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5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6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7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8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9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11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6150-EF68-4082-A090-04F1E168C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4CEE-6398-4276-88F2-60DC0FA50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480960" y="5308560"/>
            <a:ext cx="1076040" cy="1080720"/>
            <a:chOff x="480960" y="5308560"/>
            <a:chExt cx="1076040" cy="1080720"/>
          </a:xfrm>
        </p:grpSpPr>
        <p:sp>
          <p:nvSpPr>
            <p:cNvPr id="83" name="Freeform 3"/>
            <p:cNvSpPr/>
            <p:nvPr/>
          </p:nvSpPr>
          <p:spPr>
            <a:xfrm>
              <a:off x="480960" y="5308560"/>
              <a:ext cx="1076040" cy="108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864"/>
                  </a:lnTo>
                  <a:lnTo>
                    <a:pt x="21370" y="12929"/>
                  </a:lnTo>
                  <a:lnTo>
                    <a:pt x="21065" y="13918"/>
                  </a:lnTo>
                  <a:lnTo>
                    <a:pt x="20684" y="14982"/>
                  </a:lnTo>
                  <a:lnTo>
                    <a:pt x="20302" y="15895"/>
                  </a:lnTo>
                  <a:lnTo>
                    <a:pt x="19691" y="16732"/>
                  </a:lnTo>
                  <a:lnTo>
                    <a:pt x="19157" y="17644"/>
                  </a:lnTo>
                  <a:lnTo>
                    <a:pt x="18394" y="18405"/>
                  </a:lnTo>
                  <a:lnTo>
                    <a:pt x="17707" y="19089"/>
                  </a:lnTo>
                  <a:lnTo>
                    <a:pt x="16715" y="19698"/>
                  </a:lnTo>
                  <a:lnTo>
                    <a:pt x="15875" y="20307"/>
                  </a:lnTo>
                  <a:lnTo>
                    <a:pt x="15035" y="20687"/>
                  </a:lnTo>
                  <a:lnTo>
                    <a:pt x="13967" y="21067"/>
                  </a:lnTo>
                  <a:lnTo>
                    <a:pt x="12898" y="21371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71"/>
                  </a:lnTo>
                  <a:lnTo>
                    <a:pt x="7556" y="21067"/>
                  </a:lnTo>
                  <a:lnTo>
                    <a:pt x="6487" y="20687"/>
                  </a:lnTo>
                  <a:lnTo>
                    <a:pt x="5571" y="20307"/>
                  </a:lnTo>
                  <a:lnTo>
                    <a:pt x="4731" y="19698"/>
                  </a:lnTo>
                  <a:lnTo>
                    <a:pt x="3892" y="19089"/>
                  </a:lnTo>
                  <a:lnTo>
                    <a:pt x="3129" y="18405"/>
                  </a:lnTo>
                  <a:lnTo>
                    <a:pt x="2442" y="17644"/>
                  </a:lnTo>
                  <a:lnTo>
                    <a:pt x="1755" y="16732"/>
                  </a:lnTo>
                  <a:lnTo>
                    <a:pt x="1297" y="15895"/>
                  </a:lnTo>
                  <a:lnTo>
                    <a:pt x="839" y="14982"/>
                  </a:lnTo>
                  <a:lnTo>
                    <a:pt x="457" y="13918"/>
                  </a:lnTo>
                  <a:lnTo>
                    <a:pt x="152" y="12929"/>
                  </a:lnTo>
                  <a:lnTo>
                    <a:pt x="0" y="11864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82"/>
                  </a:lnTo>
                  <a:lnTo>
                    <a:pt x="152" y="8518"/>
                  </a:lnTo>
                  <a:lnTo>
                    <a:pt x="457" y="7529"/>
                  </a:lnTo>
                  <a:lnTo>
                    <a:pt x="839" y="6540"/>
                  </a:lnTo>
                  <a:lnTo>
                    <a:pt x="1297" y="5551"/>
                  </a:lnTo>
                  <a:lnTo>
                    <a:pt x="1755" y="4715"/>
                  </a:lnTo>
                  <a:lnTo>
                    <a:pt x="2442" y="3878"/>
                  </a:lnTo>
                  <a:lnTo>
                    <a:pt x="3129" y="3118"/>
                  </a:lnTo>
                  <a:lnTo>
                    <a:pt x="3892" y="2433"/>
                  </a:lnTo>
                  <a:lnTo>
                    <a:pt x="4731" y="1749"/>
                  </a:lnTo>
                  <a:lnTo>
                    <a:pt x="5571" y="1292"/>
                  </a:lnTo>
                  <a:lnTo>
                    <a:pt x="6487" y="836"/>
                  </a:lnTo>
                  <a:lnTo>
                    <a:pt x="7556" y="456"/>
                  </a:lnTo>
                  <a:lnTo>
                    <a:pt x="8548" y="151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151"/>
                  </a:lnTo>
                  <a:lnTo>
                    <a:pt x="13967" y="456"/>
                  </a:lnTo>
                  <a:lnTo>
                    <a:pt x="15035" y="836"/>
                  </a:lnTo>
                  <a:lnTo>
                    <a:pt x="15875" y="1292"/>
                  </a:lnTo>
                  <a:lnTo>
                    <a:pt x="16715" y="1749"/>
                  </a:lnTo>
                  <a:lnTo>
                    <a:pt x="17707" y="2433"/>
                  </a:lnTo>
                  <a:lnTo>
                    <a:pt x="18394" y="3118"/>
                  </a:lnTo>
                  <a:lnTo>
                    <a:pt x="19157" y="3878"/>
                  </a:lnTo>
                  <a:lnTo>
                    <a:pt x="19691" y="4715"/>
                  </a:lnTo>
                  <a:lnTo>
                    <a:pt x="20302" y="5551"/>
                  </a:lnTo>
                  <a:lnTo>
                    <a:pt x="20684" y="6540"/>
                  </a:lnTo>
                  <a:lnTo>
                    <a:pt x="21065" y="7529"/>
                  </a:lnTo>
                  <a:lnTo>
                    <a:pt x="21370" y="8518"/>
                  </a:lnTo>
                  <a:lnTo>
                    <a:pt x="21523" y="958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613440" y="5446080"/>
              <a:ext cx="807480" cy="80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497" y="12939"/>
                  </a:lnTo>
                  <a:lnTo>
                    <a:pt x="21192" y="14060"/>
                  </a:lnTo>
                  <a:lnTo>
                    <a:pt x="20784" y="15079"/>
                  </a:lnTo>
                  <a:lnTo>
                    <a:pt x="20275" y="15995"/>
                  </a:lnTo>
                  <a:lnTo>
                    <a:pt x="19765" y="16811"/>
                  </a:lnTo>
                  <a:lnTo>
                    <a:pt x="19154" y="17727"/>
                  </a:lnTo>
                  <a:lnTo>
                    <a:pt x="18441" y="18441"/>
                  </a:lnTo>
                  <a:lnTo>
                    <a:pt x="17727" y="19154"/>
                  </a:lnTo>
                  <a:lnTo>
                    <a:pt x="16811" y="19765"/>
                  </a:lnTo>
                  <a:lnTo>
                    <a:pt x="15995" y="20275"/>
                  </a:lnTo>
                  <a:lnTo>
                    <a:pt x="15079" y="20784"/>
                  </a:lnTo>
                  <a:lnTo>
                    <a:pt x="14060" y="21192"/>
                  </a:lnTo>
                  <a:lnTo>
                    <a:pt x="12939" y="21497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497"/>
                  </a:lnTo>
                  <a:lnTo>
                    <a:pt x="7641" y="21192"/>
                  </a:lnTo>
                  <a:lnTo>
                    <a:pt x="6622" y="20784"/>
                  </a:lnTo>
                  <a:lnTo>
                    <a:pt x="5705" y="20275"/>
                  </a:lnTo>
                  <a:lnTo>
                    <a:pt x="4788" y="19765"/>
                  </a:lnTo>
                  <a:lnTo>
                    <a:pt x="3871" y="19154"/>
                  </a:lnTo>
                  <a:lnTo>
                    <a:pt x="3158" y="18441"/>
                  </a:lnTo>
                  <a:lnTo>
                    <a:pt x="2445" y="17727"/>
                  </a:lnTo>
                  <a:lnTo>
                    <a:pt x="1833" y="16811"/>
                  </a:lnTo>
                  <a:lnTo>
                    <a:pt x="1426" y="15995"/>
                  </a:lnTo>
                  <a:lnTo>
                    <a:pt x="815" y="15079"/>
                  </a:lnTo>
                  <a:lnTo>
                    <a:pt x="509" y="14060"/>
                  </a:lnTo>
                  <a:lnTo>
                    <a:pt x="203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3" y="8660"/>
                  </a:lnTo>
                  <a:lnTo>
                    <a:pt x="509" y="7641"/>
                  </a:lnTo>
                  <a:lnTo>
                    <a:pt x="815" y="6622"/>
                  </a:lnTo>
                  <a:lnTo>
                    <a:pt x="1426" y="5705"/>
                  </a:lnTo>
                  <a:lnTo>
                    <a:pt x="1833" y="4788"/>
                  </a:lnTo>
                  <a:lnTo>
                    <a:pt x="2445" y="3871"/>
                  </a:lnTo>
                  <a:lnTo>
                    <a:pt x="3158" y="3158"/>
                  </a:lnTo>
                  <a:lnTo>
                    <a:pt x="3871" y="2445"/>
                  </a:lnTo>
                  <a:lnTo>
                    <a:pt x="4788" y="1833"/>
                  </a:lnTo>
                  <a:lnTo>
                    <a:pt x="5705" y="1426"/>
                  </a:lnTo>
                  <a:lnTo>
                    <a:pt x="6622" y="815"/>
                  </a:lnTo>
                  <a:lnTo>
                    <a:pt x="7641" y="509"/>
                  </a:lnTo>
                  <a:lnTo>
                    <a:pt x="8660" y="203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203"/>
                  </a:lnTo>
                  <a:lnTo>
                    <a:pt x="14060" y="509"/>
                  </a:lnTo>
                  <a:lnTo>
                    <a:pt x="15079" y="815"/>
                  </a:lnTo>
                  <a:lnTo>
                    <a:pt x="15995" y="1426"/>
                  </a:lnTo>
                  <a:lnTo>
                    <a:pt x="16811" y="1833"/>
                  </a:lnTo>
                  <a:lnTo>
                    <a:pt x="17727" y="2445"/>
                  </a:lnTo>
                  <a:lnTo>
                    <a:pt x="18441" y="3158"/>
                  </a:lnTo>
                  <a:lnTo>
                    <a:pt x="19154" y="3871"/>
                  </a:lnTo>
                  <a:lnTo>
                    <a:pt x="19765" y="4788"/>
                  </a:lnTo>
                  <a:lnTo>
                    <a:pt x="20275" y="5705"/>
                  </a:lnTo>
                  <a:lnTo>
                    <a:pt x="20784" y="6622"/>
                  </a:lnTo>
                  <a:lnTo>
                    <a:pt x="21192" y="7641"/>
                  </a:lnTo>
                  <a:lnTo>
                    <a:pt x="21497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754560" y="5585400"/>
              <a:ext cx="525240" cy="52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95"/>
                  </a:lnTo>
                  <a:lnTo>
                    <a:pt x="21443" y="12834"/>
                  </a:lnTo>
                  <a:lnTo>
                    <a:pt x="21286" y="13930"/>
                  </a:lnTo>
                  <a:lnTo>
                    <a:pt x="20817" y="15182"/>
                  </a:lnTo>
                  <a:lnTo>
                    <a:pt x="20347" y="15965"/>
                  </a:lnTo>
                  <a:lnTo>
                    <a:pt x="19721" y="16904"/>
                  </a:lnTo>
                  <a:lnTo>
                    <a:pt x="19095" y="17686"/>
                  </a:lnTo>
                  <a:lnTo>
                    <a:pt x="18469" y="18313"/>
                  </a:lnTo>
                  <a:lnTo>
                    <a:pt x="17686" y="19095"/>
                  </a:lnTo>
                  <a:lnTo>
                    <a:pt x="16904" y="19721"/>
                  </a:lnTo>
                  <a:lnTo>
                    <a:pt x="15965" y="20347"/>
                  </a:lnTo>
                  <a:lnTo>
                    <a:pt x="15182" y="20817"/>
                  </a:lnTo>
                  <a:lnTo>
                    <a:pt x="13930" y="21130"/>
                  </a:lnTo>
                  <a:lnTo>
                    <a:pt x="12991" y="21443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3"/>
                  </a:lnTo>
                  <a:lnTo>
                    <a:pt x="7669" y="21130"/>
                  </a:lnTo>
                  <a:lnTo>
                    <a:pt x="6573" y="20817"/>
                  </a:lnTo>
                  <a:lnTo>
                    <a:pt x="5634" y="20347"/>
                  </a:lnTo>
                  <a:lnTo>
                    <a:pt x="4851" y="19721"/>
                  </a:lnTo>
                  <a:lnTo>
                    <a:pt x="3912" y="19095"/>
                  </a:lnTo>
                  <a:lnTo>
                    <a:pt x="3130" y="18313"/>
                  </a:lnTo>
                  <a:lnTo>
                    <a:pt x="2347" y="17686"/>
                  </a:lnTo>
                  <a:lnTo>
                    <a:pt x="1878" y="16904"/>
                  </a:lnTo>
                  <a:lnTo>
                    <a:pt x="1252" y="15965"/>
                  </a:lnTo>
                  <a:lnTo>
                    <a:pt x="939" y="15182"/>
                  </a:lnTo>
                  <a:lnTo>
                    <a:pt x="469" y="13930"/>
                  </a:lnTo>
                  <a:lnTo>
                    <a:pt x="156" y="12834"/>
                  </a:lnTo>
                  <a:lnTo>
                    <a:pt x="0" y="11895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04"/>
                  </a:lnTo>
                  <a:lnTo>
                    <a:pt x="156" y="8608"/>
                  </a:lnTo>
                  <a:lnTo>
                    <a:pt x="469" y="7513"/>
                  </a:lnTo>
                  <a:lnTo>
                    <a:pt x="939" y="6573"/>
                  </a:lnTo>
                  <a:lnTo>
                    <a:pt x="1252" y="5634"/>
                  </a:lnTo>
                  <a:lnTo>
                    <a:pt x="1878" y="4695"/>
                  </a:lnTo>
                  <a:lnTo>
                    <a:pt x="2347" y="3912"/>
                  </a:lnTo>
                  <a:lnTo>
                    <a:pt x="3130" y="3130"/>
                  </a:lnTo>
                  <a:lnTo>
                    <a:pt x="3912" y="2347"/>
                  </a:lnTo>
                  <a:lnTo>
                    <a:pt x="4851" y="1878"/>
                  </a:lnTo>
                  <a:lnTo>
                    <a:pt x="5634" y="1252"/>
                  </a:lnTo>
                  <a:lnTo>
                    <a:pt x="6573" y="939"/>
                  </a:lnTo>
                  <a:lnTo>
                    <a:pt x="7669" y="469"/>
                  </a:lnTo>
                  <a:lnTo>
                    <a:pt x="8608" y="156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6"/>
                  </a:lnTo>
                  <a:lnTo>
                    <a:pt x="13930" y="469"/>
                  </a:lnTo>
                  <a:lnTo>
                    <a:pt x="15182" y="939"/>
                  </a:lnTo>
                  <a:lnTo>
                    <a:pt x="15965" y="1252"/>
                  </a:lnTo>
                  <a:lnTo>
                    <a:pt x="16904" y="1878"/>
                  </a:lnTo>
                  <a:lnTo>
                    <a:pt x="17686" y="2347"/>
                  </a:lnTo>
                  <a:lnTo>
                    <a:pt x="18469" y="3130"/>
                  </a:lnTo>
                  <a:lnTo>
                    <a:pt x="19095" y="3912"/>
                  </a:lnTo>
                  <a:lnTo>
                    <a:pt x="19721" y="4695"/>
                  </a:lnTo>
                  <a:lnTo>
                    <a:pt x="20347" y="5634"/>
                  </a:lnTo>
                  <a:lnTo>
                    <a:pt x="20817" y="6573"/>
                  </a:lnTo>
                  <a:lnTo>
                    <a:pt x="21286" y="7513"/>
                  </a:lnTo>
                  <a:lnTo>
                    <a:pt x="21443" y="8608"/>
                  </a:lnTo>
                  <a:lnTo>
                    <a:pt x="21600" y="9704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6"/>
          <p:cNvGrpSpPr/>
          <p:nvPr/>
        </p:nvGrpSpPr>
        <p:grpSpPr>
          <a:xfrm>
            <a:off x="407880" y="2660760"/>
            <a:ext cx="1077840" cy="1072800"/>
            <a:chOff x="407880" y="2660760"/>
            <a:chExt cx="1077840" cy="1072800"/>
          </a:xfrm>
        </p:grpSpPr>
        <p:sp>
          <p:nvSpPr>
            <p:cNvPr id="87" name="Freeform 7"/>
            <p:cNvSpPr/>
            <p:nvPr/>
          </p:nvSpPr>
          <p:spPr>
            <a:xfrm>
              <a:off x="407880" y="2660760"/>
              <a:ext cx="1077840" cy="107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684" y="15012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631" y="19148"/>
                  </a:lnTo>
                  <a:lnTo>
                    <a:pt x="16715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063"/>
                  </a:lnTo>
                  <a:lnTo>
                    <a:pt x="12898" y="21369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69"/>
                  </a:lnTo>
                  <a:lnTo>
                    <a:pt x="7556" y="21063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12"/>
                  </a:lnTo>
                  <a:lnTo>
                    <a:pt x="457" y="14016"/>
                  </a:lnTo>
                  <a:lnTo>
                    <a:pt x="152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51"/>
                  </a:lnTo>
                  <a:lnTo>
                    <a:pt x="152" y="8578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672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842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229"/>
                  </a:lnTo>
                  <a:lnTo>
                    <a:pt x="13967" y="535"/>
                  </a:lnTo>
                  <a:lnTo>
                    <a:pt x="15035" y="842"/>
                  </a:lnTo>
                  <a:lnTo>
                    <a:pt x="15875" y="1301"/>
                  </a:lnTo>
                  <a:lnTo>
                    <a:pt x="16715" y="1838"/>
                  </a:lnTo>
                  <a:lnTo>
                    <a:pt x="17631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672"/>
                  </a:lnTo>
                  <a:lnTo>
                    <a:pt x="20302" y="5667"/>
                  </a:lnTo>
                  <a:lnTo>
                    <a:pt x="20684" y="6587"/>
                  </a:lnTo>
                  <a:lnTo>
                    <a:pt x="21065" y="7582"/>
                  </a:lnTo>
                  <a:lnTo>
                    <a:pt x="21370" y="8578"/>
                  </a:lnTo>
                  <a:lnTo>
                    <a:pt x="21523" y="9651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543960" y="2793240"/>
              <a:ext cx="805320" cy="80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4" y="12939"/>
                  </a:lnTo>
                  <a:lnTo>
                    <a:pt x="21088" y="13958"/>
                  </a:lnTo>
                  <a:lnTo>
                    <a:pt x="20678" y="15079"/>
                  </a:lnTo>
                  <a:lnTo>
                    <a:pt x="20166" y="15894"/>
                  </a:lnTo>
                  <a:lnTo>
                    <a:pt x="19757" y="16811"/>
                  </a:lnTo>
                  <a:lnTo>
                    <a:pt x="19040" y="17626"/>
                  </a:lnTo>
                  <a:lnTo>
                    <a:pt x="18323" y="18441"/>
                  </a:lnTo>
                  <a:lnTo>
                    <a:pt x="17607" y="19052"/>
                  </a:lnTo>
                  <a:lnTo>
                    <a:pt x="16686" y="19765"/>
                  </a:lnTo>
                  <a:lnTo>
                    <a:pt x="15867" y="20275"/>
                  </a:lnTo>
                  <a:lnTo>
                    <a:pt x="14945" y="20784"/>
                  </a:lnTo>
                  <a:lnTo>
                    <a:pt x="13922" y="21090"/>
                  </a:lnTo>
                  <a:lnTo>
                    <a:pt x="12898" y="21395"/>
                  </a:lnTo>
                  <a:lnTo>
                    <a:pt x="11772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496" y="21395"/>
                  </a:lnTo>
                  <a:lnTo>
                    <a:pt x="7575" y="21090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052"/>
                  </a:lnTo>
                  <a:lnTo>
                    <a:pt x="3070" y="18441"/>
                  </a:lnTo>
                  <a:lnTo>
                    <a:pt x="2354" y="17626"/>
                  </a:lnTo>
                  <a:lnTo>
                    <a:pt x="1740" y="16811"/>
                  </a:lnTo>
                  <a:lnTo>
                    <a:pt x="1330" y="15894"/>
                  </a:lnTo>
                  <a:lnTo>
                    <a:pt x="716" y="15079"/>
                  </a:lnTo>
                  <a:lnTo>
                    <a:pt x="409" y="13958"/>
                  </a:lnTo>
                  <a:lnTo>
                    <a:pt x="102" y="12939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102" y="8558"/>
                  </a:lnTo>
                  <a:lnTo>
                    <a:pt x="409" y="7641"/>
                  </a:lnTo>
                  <a:lnTo>
                    <a:pt x="716" y="6520"/>
                  </a:lnTo>
                  <a:lnTo>
                    <a:pt x="1330" y="5705"/>
                  </a:lnTo>
                  <a:lnTo>
                    <a:pt x="1740" y="4686"/>
                  </a:lnTo>
                  <a:lnTo>
                    <a:pt x="2354" y="3871"/>
                  </a:lnTo>
                  <a:lnTo>
                    <a:pt x="3070" y="3056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324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496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772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4945" y="815"/>
                  </a:lnTo>
                  <a:lnTo>
                    <a:pt x="15867" y="1324"/>
                  </a:lnTo>
                  <a:lnTo>
                    <a:pt x="16686" y="1833"/>
                  </a:lnTo>
                  <a:lnTo>
                    <a:pt x="17607" y="2445"/>
                  </a:lnTo>
                  <a:lnTo>
                    <a:pt x="18323" y="3056"/>
                  </a:lnTo>
                  <a:lnTo>
                    <a:pt x="19040" y="3871"/>
                  </a:lnTo>
                  <a:lnTo>
                    <a:pt x="19757" y="4686"/>
                  </a:lnTo>
                  <a:lnTo>
                    <a:pt x="20166" y="5705"/>
                  </a:lnTo>
                  <a:lnTo>
                    <a:pt x="20678" y="6520"/>
                  </a:lnTo>
                  <a:lnTo>
                    <a:pt x="21088" y="7641"/>
                  </a:lnTo>
                  <a:lnTo>
                    <a:pt x="21394" y="8558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681840" y="2931120"/>
              <a:ext cx="525960" cy="52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809"/>
                  </a:lnTo>
                  <a:lnTo>
                    <a:pt x="21443" y="12897"/>
                  </a:lnTo>
                  <a:lnTo>
                    <a:pt x="21286" y="13985"/>
                  </a:lnTo>
                  <a:lnTo>
                    <a:pt x="20817" y="14917"/>
                  </a:lnTo>
                  <a:lnTo>
                    <a:pt x="20347" y="15850"/>
                  </a:lnTo>
                  <a:lnTo>
                    <a:pt x="19721" y="16937"/>
                  </a:lnTo>
                  <a:lnTo>
                    <a:pt x="19095" y="17559"/>
                  </a:lnTo>
                  <a:lnTo>
                    <a:pt x="18469" y="18336"/>
                  </a:lnTo>
                  <a:lnTo>
                    <a:pt x="17686" y="19113"/>
                  </a:lnTo>
                  <a:lnTo>
                    <a:pt x="16904" y="19735"/>
                  </a:lnTo>
                  <a:lnTo>
                    <a:pt x="15965" y="20201"/>
                  </a:lnTo>
                  <a:lnTo>
                    <a:pt x="15182" y="20667"/>
                  </a:lnTo>
                  <a:lnTo>
                    <a:pt x="13930" y="21133"/>
                  </a:lnTo>
                  <a:lnTo>
                    <a:pt x="12991" y="21444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4"/>
                  </a:lnTo>
                  <a:lnTo>
                    <a:pt x="7669" y="21133"/>
                  </a:lnTo>
                  <a:lnTo>
                    <a:pt x="6573" y="20667"/>
                  </a:lnTo>
                  <a:lnTo>
                    <a:pt x="5634" y="20201"/>
                  </a:lnTo>
                  <a:lnTo>
                    <a:pt x="4851" y="19735"/>
                  </a:lnTo>
                  <a:lnTo>
                    <a:pt x="3912" y="19113"/>
                  </a:lnTo>
                  <a:lnTo>
                    <a:pt x="3130" y="18336"/>
                  </a:lnTo>
                  <a:lnTo>
                    <a:pt x="2504" y="17559"/>
                  </a:lnTo>
                  <a:lnTo>
                    <a:pt x="1878" y="16937"/>
                  </a:lnTo>
                  <a:lnTo>
                    <a:pt x="1252" y="15850"/>
                  </a:lnTo>
                  <a:lnTo>
                    <a:pt x="939" y="14917"/>
                  </a:lnTo>
                  <a:lnTo>
                    <a:pt x="469" y="13985"/>
                  </a:lnTo>
                  <a:lnTo>
                    <a:pt x="156" y="12897"/>
                  </a:lnTo>
                  <a:lnTo>
                    <a:pt x="0" y="11809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634"/>
                  </a:lnTo>
                  <a:lnTo>
                    <a:pt x="156" y="8701"/>
                  </a:lnTo>
                  <a:lnTo>
                    <a:pt x="469" y="7614"/>
                  </a:lnTo>
                  <a:lnTo>
                    <a:pt x="939" y="6526"/>
                  </a:lnTo>
                  <a:lnTo>
                    <a:pt x="1252" y="5594"/>
                  </a:lnTo>
                  <a:lnTo>
                    <a:pt x="1878" y="4661"/>
                  </a:lnTo>
                  <a:lnTo>
                    <a:pt x="2504" y="3729"/>
                  </a:lnTo>
                  <a:lnTo>
                    <a:pt x="3130" y="3263"/>
                  </a:lnTo>
                  <a:lnTo>
                    <a:pt x="3912" y="2330"/>
                  </a:lnTo>
                  <a:lnTo>
                    <a:pt x="4851" y="1709"/>
                  </a:lnTo>
                  <a:lnTo>
                    <a:pt x="5634" y="1087"/>
                  </a:lnTo>
                  <a:lnTo>
                    <a:pt x="6573" y="932"/>
                  </a:lnTo>
                  <a:lnTo>
                    <a:pt x="7669" y="466"/>
                  </a:lnTo>
                  <a:lnTo>
                    <a:pt x="8608" y="155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5"/>
                  </a:lnTo>
                  <a:lnTo>
                    <a:pt x="13930" y="466"/>
                  </a:lnTo>
                  <a:lnTo>
                    <a:pt x="15182" y="932"/>
                  </a:lnTo>
                  <a:lnTo>
                    <a:pt x="15965" y="1087"/>
                  </a:lnTo>
                  <a:lnTo>
                    <a:pt x="16904" y="1709"/>
                  </a:lnTo>
                  <a:lnTo>
                    <a:pt x="17686" y="2330"/>
                  </a:lnTo>
                  <a:lnTo>
                    <a:pt x="18469" y="3263"/>
                  </a:lnTo>
                  <a:lnTo>
                    <a:pt x="19095" y="3729"/>
                  </a:lnTo>
                  <a:lnTo>
                    <a:pt x="19721" y="4661"/>
                  </a:lnTo>
                  <a:lnTo>
                    <a:pt x="20347" y="5594"/>
                  </a:lnTo>
                  <a:lnTo>
                    <a:pt x="20817" y="6526"/>
                  </a:lnTo>
                  <a:lnTo>
                    <a:pt x="21286" y="7614"/>
                  </a:lnTo>
                  <a:lnTo>
                    <a:pt x="21443" y="8701"/>
                  </a:lnTo>
                  <a:lnTo>
                    <a:pt x="21600" y="9634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0" y="388800"/>
            <a:ext cx="1477440" cy="1477800"/>
            <a:chOff x="0" y="388800"/>
            <a:chExt cx="1477440" cy="1477800"/>
          </a:xfrm>
        </p:grpSpPr>
        <p:sp>
          <p:nvSpPr>
            <p:cNvPr id="91" name="Freeform 11"/>
            <p:cNvSpPr/>
            <p:nvPr/>
          </p:nvSpPr>
          <p:spPr>
            <a:xfrm>
              <a:off x="0" y="38880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56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154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64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64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56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71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96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55"/>
                  </a:lnTo>
                  <a:lnTo>
                    <a:pt x="1018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356" y="0"/>
                  </a:lnTo>
                  <a:lnTo>
                    <a:pt x="11857" y="55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96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154" y="7571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86120" y="574920"/>
              <a:ext cx="1108080" cy="110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5"/>
                  </a:moveTo>
                  <a:lnTo>
                    <a:pt x="21600" y="10725"/>
                  </a:lnTo>
                  <a:lnTo>
                    <a:pt x="21525" y="11768"/>
                  </a:lnTo>
                  <a:lnTo>
                    <a:pt x="21303" y="12810"/>
                  </a:lnTo>
                  <a:lnTo>
                    <a:pt x="21006" y="13928"/>
                  </a:lnTo>
                  <a:lnTo>
                    <a:pt x="20709" y="14896"/>
                  </a:lnTo>
                  <a:lnTo>
                    <a:pt x="20263" y="15864"/>
                  </a:lnTo>
                  <a:lnTo>
                    <a:pt x="19669" y="16758"/>
                  </a:lnTo>
                  <a:lnTo>
                    <a:pt x="19076" y="17577"/>
                  </a:lnTo>
                  <a:lnTo>
                    <a:pt x="18333" y="18397"/>
                  </a:lnTo>
                  <a:lnTo>
                    <a:pt x="17591" y="18992"/>
                  </a:lnTo>
                  <a:lnTo>
                    <a:pt x="16849" y="19663"/>
                  </a:lnTo>
                  <a:lnTo>
                    <a:pt x="15810" y="20259"/>
                  </a:lnTo>
                  <a:lnTo>
                    <a:pt x="14919" y="20631"/>
                  </a:lnTo>
                  <a:lnTo>
                    <a:pt x="13954" y="21004"/>
                  </a:lnTo>
                  <a:lnTo>
                    <a:pt x="12915" y="21302"/>
                  </a:lnTo>
                  <a:lnTo>
                    <a:pt x="11876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02"/>
                  </a:lnTo>
                  <a:lnTo>
                    <a:pt x="7571" y="21004"/>
                  </a:lnTo>
                  <a:lnTo>
                    <a:pt x="6605" y="20631"/>
                  </a:lnTo>
                  <a:lnTo>
                    <a:pt x="5566" y="20259"/>
                  </a:lnTo>
                  <a:lnTo>
                    <a:pt x="4676" y="19663"/>
                  </a:lnTo>
                  <a:lnTo>
                    <a:pt x="3933" y="18992"/>
                  </a:lnTo>
                  <a:lnTo>
                    <a:pt x="3117" y="18397"/>
                  </a:lnTo>
                  <a:lnTo>
                    <a:pt x="2449" y="17577"/>
                  </a:lnTo>
                  <a:lnTo>
                    <a:pt x="1781" y="16758"/>
                  </a:lnTo>
                  <a:lnTo>
                    <a:pt x="1261" y="15864"/>
                  </a:lnTo>
                  <a:lnTo>
                    <a:pt x="816" y="14896"/>
                  </a:lnTo>
                  <a:lnTo>
                    <a:pt x="445" y="13928"/>
                  </a:lnTo>
                  <a:lnTo>
                    <a:pt x="222" y="12810"/>
                  </a:lnTo>
                  <a:lnTo>
                    <a:pt x="0" y="11768"/>
                  </a:lnTo>
                  <a:lnTo>
                    <a:pt x="0" y="10725"/>
                  </a:lnTo>
                  <a:lnTo>
                    <a:pt x="0" y="10725"/>
                  </a:lnTo>
                  <a:lnTo>
                    <a:pt x="0" y="9682"/>
                  </a:lnTo>
                  <a:lnTo>
                    <a:pt x="222" y="8565"/>
                  </a:lnTo>
                  <a:lnTo>
                    <a:pt x="445" y="7597"/>
                  </a:lnTo>
                  <a:lnTo>
                    <a:pt x="816" y="6554"/>
                  </a:lnTo>
                  <a:lnTo>
                    <a:pt x="1261" y="5585"/>
                  </a:lnTo>
                  <a:lnTo>
                    <a:pt x="1781" y="4692"/>
                  </a:lnTo>
                  <a:lnTo>
                    <a:pt x="2449" y="3873"/>
                  </a:lnTo>
                  <a:lnTo>
                    <a:pt x="3117" y="3053"/>
                  </a:lnTo>
                  <a:lnTo>
                    <a:pt x="3933" y="2457"/>
                  </a:lnTo>
                  <a:lnTo>
                    <a:pt x="4676" y="1787"/>
                  </a:lnTo>
                  <a:lnTo>
                    <a:pt x="5566" y="1265"/>
                  </a:lnTo>
                  <a:lnTo>
                    <a:pt x="6605" y="819"/>
                  </a:lnTo>
                  <a:lnTo>
                    <a:pt x="7571" y="446"/>
                  </a:lnTo>
                  <a:lnTo>
                    <a:pt x="8536" y="148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76" y="0"/>
                  </a:lnTo>
                  <a:lnTo>
                    <a:pt x="12915" y="148"/>
                  </a:lnTo>
                  <a:lnTo>
                    <a:pt x="13954" y="446"/>
                  </a:lnTo>
                  <a:lnTo>
                    <a:pt x="14919" y="819"/>
                  </a:lnTo>
                  <a:lnTo>
                    <a:pt x="15810" y="1265"/>
                  </a:lnTo>
                  <a:lnTo>
                    <a:pt x="16849" y="1787"/>
                  </a:lnTo>
                  <a:lnTo>
                    <a:pt x="17591" y="2457"/>
                  </a:lnTo>
                  <a:lnTo>
                    <a:pt x="18333" y="3053"/>
                  </a:lnTo>
                  <a:lnTo>
                    <a:pt x="19076" y="3873"/>
                  </a:lnTo>
                  <a:lnTo>
                    <a:pt x="19669" y="4692"/>
                  </a:lnTo>
                  <a:lnTo>
                    <a:pt x="20263" y="5585"/>
                  </a:lnTo>
                  <a:lnTo>
                    <a:pt x="20709" y="6554"/>
                  </a:lnTo>
                  <a:lnTo>
                    <a:pt x="21006" y="7597"/>
                  </a:lnTo>
                  <a:lnTo>
                    <a:pt x="21303" y="8565"/>
                  </a:lnTo>
                  <a:lnTo>
                    <a:pt x="21525" y="9682"/>
                  </a:lnTo>
                  <a:lnTo>
                    <a:pt x="21600" y="10725"/>
                  </a:lnTo>
                  <a:lnTo>
                    <a:pt x="21600" y="1072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77640" y="766440"/>
              <a:ext cx="7218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2" y="12959"/>
                  </a:lnTo>
                  <a:lnTo>
                    <a:pt x="21031" y="13982"/>
                  </a:lnTo>
                  <a:lnTo>
                    <a:pt x="20690" y="15119"/>
                  </a:lnTo>
                  <a:lnTo>
                    <a:pt x="20235" y="15915"/>
                  </a:lnTo>
                  <a:lnTo>
                    <a:pt x="19780" y="16825"/>
                  </a:lnTo>
                  <a:lnTo>
                    <a:pt x="19098" y="17620"/>
                  </a:lnTo>
                  <a:lnTo>
                    <a:pt x="18303" y="18416"/>
                  </a:lnTo>
                  <a:lnTo>
                    <a:pt x="17620" y="19212"/>
                  </a:lnTo>
                  <a:lnTo>
                    <a:pt x="16711" y="19780"/>
                  </a:lnTo>
                  <a:lnTo>
                    <a:pt x="15915" y="20349"/>
                  </a:lnTo>
                  <a:lnTo>
                    <a:pt x="15006" y="20804"/>
                  </a:lnTo>
                  <a:lnTo>
                    <a:pt x="13982" y="21145"/>
                  </a:lnTo>
                  <a:lnTo>
                    <a:pt x="12846" y="21372"/>
                  </a:lnTo>
                  <a:lnTo>
                    <a:pt x="11936" y="21600"/>
                  </a:lnTo>
                  <a:lnTo>
                    <a:pt x="10686" y="21600"/>
                  </a:lnTo>
                  <a:lnTo>
                    <a:pt x="10686" y="21600"/>
                  </a:lnTo>
                  <a:lnTo>
                    <a:pt x="9662" y="21600"/>
                  </a:lnTo>
                  <a:lnTo>
                    <a:pt x="8526" y="21372"/>
                  </a:lnTo>
                  <a:lnTo>
                    <a:pt x="7503" y="21145"/>
                  </a:lnTo>
                  <a:lnTo>
                    <a:pt x="6479" y="20804"/>
                  </a:lnTo>
                  <a:lnTo>
                    <a:pt x="5570" y="20349"/>
                  </a:lnTo>
                  <a:lnTo>
                    <a:pt x="4660" y="19780"/>
                  </a:lnTo>
                  <a:lnTo>
                    <a:pt x="3978" y="19212"/>
                  </a:lnTo>
                  <a:lnTo>
                    <a:pt x="3069" y="18416"/>
                  </a:lnTo>
                  <a:lnTo>
                    <a:pt x="2273" y="17620"/>
                  </a:lnTo>
                  <a:lnTo>
                    <a:pt x="1818" y="16825"/>
                  </a:lnTo>
                  <a:lnTo>
                    <a:pt x="1250" y="15915"/>
                  </a:lnTo>
                  <a:lnTo>
                    <a:pt x="681" y="15119"/>
                  </a:lnTo>
                  <a:lnTo>
                    <a:pt x="454" y="13982"/>
                  </a:lnTo>
                  <a:lnTo>
                    <a:pt x="227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7" y="8639"/>
                  </a:lnTo>
                  <a:lnTo>
                    <a:pt x="454" y="7616"/>
                  </a:lnTo>
                  <a:lnTo>
                    <a:pt x="681" y="6593"/>
                  </a:lnTo>
                  <a:lnTo>
                    <a:pt x="1250" y="5570"/>
                  </a:lnTo>
                  <a:lnTo>
                    <a:pt x="1818" y="4774"/>
                  </a:lnTo>
                  <a:lnTo>
                    <a:pt x="2273" y="3978"/>
                  </a:lnTo>
                  <a:lnTo>
                    <a:pt x="3069" y="3182"/>
                  </a:lnTo>
                  <a:lnTo>
                    <a:pt x="3978" y="2387"/>
                  </a:lnTo>
                  <a:lnTo>
                    <a:pt x="4660" y="1818"/>
                  </a:lnTo>
                  <a:lnTo>
                    <a:pt x="5570" y="1364"/>
                  </a:lnTo>
                  <a:lnTo>
                    <a:pt x="6479" y="795"/>
                  </a:lnTo>
                  <a:lnTo>
                    <a:pt x="7503" y="568"/>
                  </a:lnTo>
                  <a:lnTo>
                    <a:pt x="8526" y="227"/>
                  </a:lnTo>
                  <a:lnTo>
                    <a:pt x="9662" y="0"/>
                  </a:lnTo>
                  <a:lnTo>
                    <a:pt x="10686" y="0"/>
                  </a:lnTo>
                  <a:lnTo>
                    <a:pt x="10686" y="0"/>
                  </a:lnTo>
                  <a:lnTo>
                    <a:pt x="11936" y="0"/>
                  </a:lnTo>
                  <a:lnTo>
                    <a:pt x="12846" y="227"/>
                  </a:lnTo>
                  <a:lnTo>
                    <a:pt x="13982" y="568"/>
                  </a:lnTo>
                  <a:lnTo>
                    <a:pt x="15006" y="795"/>
                  </a:lnTo>
                  <a:lnTo>
                    <a:pt x="15915" y="1364"/>
                  </a:lnTo>
                  <a:lnTo>
                    <a:pt x="16711" y="1818"/>
                  </a:lnTo>
                  <a:lnTo>
                    <a:pt x="17620" y="2387"/>
                  </a:lnTo>
                  <a:lnTo>
                    <a:pt x="18303" y="3182"/>
                  </a:lnTo>
                  <a:lnTo>
                    <a:pt x="19098" y="3978"/>
                  </a:lnTo>
                  <a:lnTo>
                    <a:pt x="19780" y="4774"/>
                  </a:lnTo>
                  <a:lnTo>
                    <a:pt x="20235" y="5570"/>
                  </a:lnTo>
                  <a:lnTo>
                    <a:pt x="20690" y="6593"/>
                  </a:lnTo>
                  <a:lnTo>
                    <a:pt x="21031" y="7616"/>
                  </a:lnTo>
                  <a:lnTo>
                    <a:pt x="21372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Freeform 14"/>
          <p:cNvSpPr/>
          <p:nvPr/>
        </p:nvSpPr>
        <p:spPr>
          <a:xfrm>
            <a:off x="0" y="4027320"/>
            <a:ext cx="682560" cy="69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40"/>
                </a:moveTo>
                <a:lnTo>
                  <a:pt x="21600" y="10740"/>
                </a:lnTo>
                <a:lnTo>
                  <a:pt x="21479" y="11921"/>
                </a:lnTo>
                <a:lnTo>
                  <a:pt x="21358" y="12865"/>
                </a:lnTo>
                <a:lnTo>
                  <a:pt x="21117" y="14045"/>
                </a:lnTo>
                <a:lnTo>
                  <a:pt x="20634" y="14990"/>
                </a:lnTo>
                <a:lnTo>
                  <a:pt x="20272" y="15934"/>
                </a:lnTo>
                <a:lnTo>
                  <a:pt x="19669" y="16760"/>
                </a:lnTo>
                <a:lnTo>
                  <a:pt x="19065" y="17586"/>
                </a:lnTo>
                <a:lnTo>
                  <a:pt x="18462" y="18412"/>
                </a:lnTo>
                <a:lnTo>
                  <a:pt x="17617" y="19121"/>
                </a:lnTo>
                <a:lnTo>
                  <a:pt x="16773" y="19711"/>
                </a:lnTo>
                <a:lnTo>
                  <a:pt x="15928" y="20183"/>
                </a:lnTo>
                <a:lnTo>
                  <a:pt x="14963" y="20655"/>
                </a:lnTo>
                <a:lnTo>
                  <a:pt x="13997" y="21127"/>
                </a:lnTo>
                <a:lnTo>
                  <a:pt x="12911" y="21363"/>
                </a:lnTo>
                <a:lnTo>
                  <a:pt x="11946" y="21481"/>
                </a:lnTo>
                <a:lnTo>
                  <a:pt x="10860" y="21600"/>
                </a:lnTo>
                <a:lnTo>
                  <a:pt x="10860" y="21600"/>
                </a:lnTo>
                <a:lnTo>
                  <a:pt x="9653" y="21481"/>
                </a:lnTo>
                <a:lnTo>
                  <a:pt x="8567" y="21363"/>
                </a:lnTo>
                <a:lnTo>
                  <a:pt x="7601" y="21127"/>
                </a:lnTo>
                <a:lnTo>
                  <a:pt x="6636" y="20655"/>
                </a:lnTo>
                <a:lnTo>
                  <a:pt x="5550" y="20183"/>
                </a:lnTo>
                <a:lnTo>
                  <a:pt x="4705" y="19711"/>
                </a:lnTo>
                <a:lnTo>
                  <a:pt x="3861" y="19121"/>
                </a:lnTo>
                <a:lnTo>
                  <a:pt x="3016" y="18412"/>
                </a:lnTo>
                <a:lnTo>
                  <a:pt x="2413" y="17586"/>
                </a:lnTo>
                <a:lnTo>
                  <a:pt x="1809" y="16760"/>
                </a:lnTo>
                <a:lnTo>
                  <a:pt x="1206" y="15934"/>
                </a:lnTo>
                <a:lnTo>
                  <a:pt x="844" y="14990"/>
                </a:lnTo>
                <a:lnTo>
                  <a:pt x="482" y="14045"/>
                </a:lnTo>
                <a:lnTo>
                  <a:pt x="241" y="12865"/>
                </a:lnTo>
                <a:lnTo>
                  <a:pt x="0" y="11921"/>
                </a:lnTo>
                <a:lnTo>
                  <a:pt x="0" y="10740"/>
                </a:lnTo>
                <a:lnTo>
                  <a:pt x="0" y="10740"/>
                </a:lnTo>
                <a:lnTo>
                  <a:pt x="0" y="9678"/>
                </a:lnTo>
                <a:lnTo>
                  <a:pt x="241" y="8498"/>
                </a:lnTo>
                <a:lnTo>
                  <a:pt x="482" y="7553"/>
                </a:lnTo>
                <a:lnTo>
                  <a:pt x="844" y="6491"/>
                </a:lnTo>
                <a:lnTo>
                  <a:pt x="1206" y="5547"/>
                </a:lnTo>
                <a:lnTo>
                  <a:pt x="1809" y="4603"/>
                </a:lnTo>
                <a:lnTo>
                  <a:pt x="2413" y="3894"/>
                </a:lnTo>
                <a:lnTo>
                  <a:pt x="3016" y="3068"/>
                </a:lnTo>
                <a:lnTo>
                  <a:pt x="3861" y="2360"/>
                </a:lnTo>
                <a:lnTo>
                  <a:pt x="4705" y="1770"/>
                </a:lnTo>
                <a:lnTo>
                  <a:pt x="5550" y="1180"/>
                </a:lnTo>
                <a:lnTo>
                  <a:pt x="6636" y="707"/>
                </a:lnTo>
                <a:lnTo>
                  <a:pt x="7601" y="353"/>
                </a:lnTo>
                <a:lnTo>
                  <a:pt x="8567" y="235"/>
                </a:lnTo>
                <a:lnTo>
                  <a:pt x="9653" y="0"/>
                </a:lnTo>
                <a:lnTo>
                  <a:pt x="10860" y="0"/>
                </a:lnTo>
                <a:lnTo>
                  <a:pt x="10860" y="0"/>
                </a:lnTo>
                <a:lnTo>
                  <a:pt x="11946" y="0"/>
                </a:lnTo>
                <a:lnTo>
                  <a:pt x="12911" y="235"/>
                </a:lnTo>
                <a:lnTo>
                  <a:pt x="13997" y="353"/>
                </a:lnTo>
                <a:lnTo>
                  <a:pt x="14963" y="707"/>
                </a:lnTo>
                <a:lnTo>
                  <a:pt x="15928" y="1180"/>
                </a:lnTo>
                <a:lnTo>
                  <a:pt x="16773" y="1770"/>
                </a:lnTo>
                <a:lnTo>
                  <a:pt x="17617" y="2360"/>
                </a:lnTo>
                <a:lnTo>
                  <a:pt x="18462" y="3068"/>
                </a:lnTo>
                <a:lnTo>
                  <a:pt x="19065" y="3894"/>
                </a:lnTo>
                <a:lnTo>
                  <a:pt x="19669" y="4603"/>
                </a:lnTo>
                <a:lnTo>
                  <a:pt x="20272" y="5547"/>
                </a:lnTo>
                <a:lnTo>
                  <a:pt x="20634" y="6491"/>
                </a:lnTo>
                <a:lnTo>
                  <a:pt x="21117" y="7553"/>
                </a:lnTo>
                <a:lnTo>
                  <a:pt x="21358" y="8498"/>
                </a:lnTo>
                <a:lnTo>
                  <a:pt x="21479" y="9678"/>
                </a:lnTo>
                <a:lnTo>
                  <a:pt x="21600" y="10740"/>
                </a:lnTo>
                <a:lnTo>
                  <a:pt x="21600" y="1074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95400" y="4122720"/>
            <a:ext cx="513720" cy="522000"/>
            <a:chOff x="95400" y="4122720"/>
            <a:chExt cx="513720" cy="522000"/>
          </a:xfrm>
        </p:grpSpPr>
        <p:sp>
          <p:nvSpPr>
            <p:cNvPr id="96" name="Freeform 16"/>
            <p:cNvSpPr/>
            <p:nvPr/>
          </p:nvSpPr>
          <p:spPr>
            <a:xfrm>
              <a:off x="95400" y="4122720"/>
              <a:ext cx="513720" cy="52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0"/>
                  </a:moveTo>
                  <a:lnTo>
                    <a:pt x="21600" y="10720"/>
                  </a:lnTo>
                  <a:lnTo>
                    <a:pt x="21600" y="11667"/>
                  </a:lnTo>
                  <a:lnTo>
                    <a:pt x="21279" y="12928"/>
                  </a:lnTo>
                  <a:lnTo>
                    <a:pt x="21119" y="13874"/>
                  </a:lnTo>
                  <a:lnTo>
                    <a:pt x="20639" y="14977"/>
                  </a:lnTo>
                  <a:lnTo>
                    <a:pt x="20159" y="15923"/>
                  </a:lnTo>
                  <a:lnTo>
                    <a:pt x="19679" y="16712"/>
                  </a:lnTo>
                  <a:lnTo>
                    <a:pt x="19039" y="17500"/>
                  </a:lnTo>
                  <a:lnTo>
                    <a:pt x="18399" y="18288"/>
                  </a:lnTo>
                  <a:lnTo>
                    <a:pt x="17599" y="19077"/>
                  </a:lnTo>
                  <a:lnTo>
                    <a:pt x="16639" y="19707"/>
                  </a:lnTo>
                  <a:lnTo>
                    <a:pt x="15999" y="20180"/>
                  </a:lnTo>
                  <a:lnTo>
                    <a:pt x="14879" y="20653"/>
                  </a:lnTo>
                  <a:lnTo>
                    <a:pt x="13919" y="21126"/>
                  </a:lnTo>
                  <a:lnTo>
                    <a:pt x="12959" y="21284"/>
                  </a:lnTo>
                  <a:lnTo>
                    <a:pt x="11839" y="21600"/>
                  </a:lnTo>
                  <a:lnTo>
                    <a:pt x="10719" y="21600"/>
                  </a:lnTo>
                  <a:lnTo>
                    <a:pt x="10719" y="21600"/>
                  </a:lnTo>
                  <a:lnTo>
                    <a:pt x="9599" y="21600"/>
                  </a:lnTo>
                  <a:lnTo>
                    <a:pt x="8639" y="21284"/>
                  </a:lnTo>
                  <a:lnTo>
                    <a:pt x="7519" y="21126"/>
                  </a:lnTo>
                  <a:lnTo>
                    <a:pt x="6559" y="20653"/>
                  </a:lnTo>
                  <a:lnTo>
                    <a:pt x="5599" y="20180"/>
                  </a:lnTo>
                  <a:lnTo>
                    <a:pt x="4639" y="19707"/>
                  </a:lnTo>
                  <a:lnTo>
                    <a:pt x="3839" y="19077"/>
                  </a:lnTo>
                  <a:lnTo>
                    <a:pt x="3039" y="18288"/>
                  </a:lnTo>
                  <a:lnTo>
                    <a:pt x="2399" y="17500"/>
                  </a:lnTo>
                  <a:lnTo>
                    <a:pt x="1759" y="16712"/>
                  </a:lnTo>
                  <a:lnTo>
                    <a:pt x="1279" y="15923"/>
                  </a:lnTo>
                  <a:lnTo>
                    <a:pt x="799" y="14977"/>
                  </a:lnTo>
                  <a:lnTo>
                    <a:pt x="479" y="13874"/>
                  </a:lnTo>
                  <a:lnTo>
                    <a:pt x="159" y="12928"/>
                  </a:lnTo>
                  <a:lnTo>
                    <a:pt x="0" y="11667"/>
                  </a:lnTo>
                  <a:lnTo>
                    <a:pt x="0" y="10720"/>
                  </a:lnTo>
                  <a:lnTo>
                    <a:pt x="0" y="10720"/>
                  </a:lnTo>
                  <a:lnTo>
                    <a:pt x="0" y="9617"/>
                  </a:lnTo>
                  <a:lnTo>
                    <a:pt x="159" y="8513"/>
                  </a:lnTo>
                  <a:lnTo>
                    <a:pt x="479" y="7567"/>
                  </a:lnTo>
                  <a:lnTo>
                    <a:pt x="799" y="6463"/>
                  </a:lnTo>
                  <a:lnTo>
                    <a:pt x="1279" y="5675"/>
                  </a:lnTo>
                  <a:lnTo>
                    <a:pt x="1759" y="4572"/>
                  </a:lnTo>
                  <a:lnTo>
                    <a:pt x="2399" y="3783"/>
                  </a:lnTo>
                  <a:lnTo>
                    <a:pt x="3039" y="2995"/>
                  </a:lnTo>
                  <a:lnTo>
                    <a:pt x="3839" y="2364"/>
                  </a:lnTo>
                  <a:lnTo>
                    <a:pt x="4639" y="1734"/>
                  </a:lnTo>
                  <a:lnTo>
                    <a:pt x="5599" y="1261"/>
                  </a:lnTo>
                  <a:lnTo>
                    <a:pt x="6559" y="630"/>
                  </a:lnTo>
                  <a:lnTo>
                    <a:pt x="7519" y="315"/>
                  </a:lnTo>
                  <a:lnTo>
                    <a:pt x="8639" y="157"/>
                  </a:lnTo>
                  <a:lnTo>
                    <a:pt x="9599" y="0"/>
                  </a:lnTo>
                  <a:lnTo>
                    <a:pt x="10719" y="0"/>
                  </a:lnTo>
                  <a:lnTo>
                    <a:pt x="10719" y="0"/>
                  </a:lnTo>
                  <a:lnTo>
                    <a:pt x="11839" y="0"/>
                  </a:lnTo>
                  <a:lnTo>
                    <a:pt x="12959" y="157"/>
                  </a:lnTo>
                  <a:lnTo>
                    <a:pt x="13919" y="315"/>
                  </a:lnTo>
                  <a:lnTo>
                    <a:pt x="14879" y="630"/>
                  </a:lnTo>
                  <a:lnTo>
                    <a:pt x="15999" y="1261"/>
                  </a:lnTo>
                  <a:lnTo>
                    <a:pt x="16639" y="1734"/>
                  </a:lnTo>
                  <a:lnTo>
                    <a:pt x="17599" y="2364"/>
                  </a:lnTo>
                  <a:lnTo>
                    <a:pt x="18399" y="2995"/>
                  </a:lnTo>
                  <a:lnTo>
                    <a:pt x="19039" y="3783"/>
                  </a:lnTo>
                  <a:lnTo>
                    <a:pt x="19679" y="4572"/>
                  </a:lnTo>
                  <a:lnTo>
                    <a:pt x="20159" y="5675"/>
                  </a:lnTo>
                  <a:lnTo>
                    <a:pt x="20639" y="6463"/>
                  </a:lnTo>
                  <a:lnTo>
                    <a:pt x="21119" y="7567"/>
                  </a:lnTo>
                  <a:lnTo>
                    <a:pt x="21279" y="8513"/>
                  </a:lnTo>
                  <a:lnTo>
                    <a:pt x="21600" y="9617"/>
                  </a:lnTo>
                  <a:lnTo>
                    <a:pt x="21600" y="10720"/>
                  </a:lnTo>
                  <a:lnTo>
                    <a:pt x="21600" y="1072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197640" y="4224960"/>
              <a:ext cx="33084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2027"/>
                  </a:lnTo>
                  <a:lnTo>
                    <a:pt x="21351" y="12763"/>
                  </a:lnTo>
                  <a:lnTo>
                    <a:pt x="21103" y="13990"/>
                  </a:lnTo>
                  <a:lnTo>
                    <a:pt x="20606" y="14972"/>
                  </a:lnTo>
                  <a:lnTo>
                    <a:pt x="20110" y="15954"/>
                  </a:lnTo>
                  <a:lnTo>
                    <a:pt x="19613" y="16690"/>
                  </a:lnTo>
                  <a:lnTo>
                    <a:pt x="18868" y="17672"/>
                  </a:lnTo>
                  <a:lnTo>
                    <a:pt x="18372" y="18408"/>
                  </a:lnTo>
                  <a:lnTo>
                    <a:pt x="17627" y="19145"/>
                  </a:lnTo>
                  <a:lnTo>
                    <a:pt x="16882" y="19881"/>
                  </a:lnTo>
                  <a:lnTo>
                    <a:pt x="15889" y="20127"/>
                  </a:lnTo>
                  <a:lnTo>
                    <a:pt x="14896" y="20618"/>
                  </a:lnTo>
                  <a:lnTo>
                    <a:pt x="13903" y="21108"/>
                  </a:lnTo>
                  <a:lnTo>
                    <a:pt x="12910" y="21354"/>
                  </a:lnTo>
                  <a:lnTo>
                    <a:pt x="11668" y="21600"/>
                  </a:lnTo>
                  <a:lnTo>
                    <a:pt x="10675" y="21600"/>
                  </a:lnTo>
                  <a:lnTo>
                    <a:pt x="10675" y="21600"/>
                  </a:lnTo>
                  <a:lnTo>
                    <a:pt x="9682" y="21600"/>
                  </a:lnTo>
                  <a:lnTo>
                    <a:pt x="8689" y="21354"/>
                  </a:lnTo>
                  <a:lnTo>
                    <a:pt x="7448" y="21108"/>
                  </a:lnTo>
                  <a:lnTo>
                    <a:pt x="6455" y="20618"/>
                  </a:lnTo>
                  <a:lnTo>
                    <a:pt x="5710" y="20127"/>
                  </a:lnTo>
                  <a:lnTo>
                    <a:pt x="4717" y="19881"/>
                  </a:lnTo>
                  <a:lnTo>
                    <a:pt x="3724" y="19145"/>
                  </a:lnTo>
                  <a:lnTo>
                    <a:pt x="2979" y="18408"/>
                  </a:lnTo>
                  <a:lnTo>
                    <a:pt x="2234" y="17672"/>
                  </a:lnTo>
                  <a:lnTo>
                    <a:pt x="1489" y="16690"/>
                  </a:lnTo>
                  <a:lnTo>
                    <a:pt x="1241" y="15954"/>
                  </a:lnTo>
                  <a:lnTo>
                    <a:pt x="744" y="14972"/>
                  </a:lnTo>
                  <a:lnTo>
                    <a:pt x="496" y="13990"/>
                  </a:lnTo>
                  <a:lnTo>
                    <a:pt x="248" y="12763"/>
                  </a:lnTo>
                  <a:lnTo>
                    <a:pt x="0" y="12027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2"/>
                  </a:lnTo>
                  <a:lnTo>
                    <a:pt x="248" y="8590"/>
                  </a:lnTo>
                  <a:lnTo>
                    <a:pt x="496" y="7608"/>
                  </a:lnTo>
                  <a:lnTo>
                    <a:pt x="744" y="6381"/>
                  </a:lnTo>
                  <a:lnTo>
                    <a:pt x="1241" y="5645"/>
                  </a:lnTo>
                  <a:lnTo>
                    <a:pt x="1489" y="4663"/>
                  </a:lnTo>
                  <a:lnTo>
                    <a:pt x="2234" y="3681"/>
                  </a:lnTo>
                  <a:lnTo>
                    <a:pt x="2979" y="3190"/>
                  </a:lnTo>
                  <a:lnTo>
                    <a:pt x="3724" y="2208"/>
                  </a:lnTo>
                  <a:lnTo>
                    <a:pt x="4717" y="1718"/>
                  </a:lnTo>
                  <a:lnTo>
                    <a:pt x="5710" y="1227"/>
                  </a:lnTo>
                  <a:lnTo>
                    <a:pt x="6455" y="736"/>
                  </a:lnTo>
                  <a:lnTo>
                    <a:pt x="7448" y="490"/>
                  </a:lnTo>
                  <a:lnTo>
                    <a:pt x="8689" y="245"/>
                  </a:lnTo>
                  <a:lnTo>
                    <a:pt x="9682" y="0"/>
                  </a:lnTo>
                  <a:lnTo>
                    <a:pt x="10675" y="0"/>
                  </a:lnTo>
                  <a:lnTo>
                    <a:pt x="10675" y="0"/>
                  </a:lnTo>
                  <a:lnTo>
                    <a:pt x="11668" y="0"/>
                  </a:lnTo>
                  <a:lnTo>
                    <a:pt x="12910" y="245"/>
                  </a:lnTo>
                  <a:lnTo>
                    <a:pt x="13903" y="490"/>
                  </a:lnTo>
                  <a:lnTo>
                    <a:pt x="14896" y="736"/>
                  </a:lnTo>
                  <a:lnTo>
                    <a:pt x="15889" y="1227"/>
                  </a:lnTo>
                  <a:lnTo>
                    <a:pt x="16882" y="1718"/>
                  </a:lnTo>
                  <a:lnTo>
                    <a:pt x="17627" y="2208"/>
                  </a:lnTo>
                  <a:lnTo>
                    <a:pt x="18372" y="3190"/>
                  </a:lnTo>
                  <a:lnTo>
                    <a:pt x="18868" y="3681"/>
                  </a:lnTo>
                  <a:lnTo>
                    <a:pt x="19613" y="4663"/>
                  </a:lnTo>
                  <a:lnTo>
                    <a:pt x="20110" y="5645"/>
                  </a:lnTo>
                  <a:lnTo>
                    <a:pt x="20606" y="6381"/>
                  </a:lnTo>
                  <a:lnTo>
                    <a:pt x="21103" y="7608"/>
                  </a:lnTo>
                  <a:lnTo>
                    <a:pt x="21351" y="8590"/>
                  </a:lnTo>
                  <a:lnTo>
                    <a:pt x="21600" y="957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F4B7-87A2-405B-865F-76539B7D7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240" y="3240"/>
            <a:ext cx="9140400" cy="257040"/>
            <a:chOff x="3240" y="3240"/>
            <a:chExt cx="9140400" cy="257040"/>
          </a:xfrm>
        </p:grpSpPr>
        <p:sp>
          <p:nvSpPr>
            <p:cNvPr id="140" name="Text Box 3"/>
            <p:cNvSpPr/>
            <p:nvPr/>
          </p:nvSpPr>
          <p:spPr>
            <a:xfrm>
              <a:off x="3240" y="3240"/>
              <a:ext cx="9140400" cy="257040"/>
            </a:xfrm>
            <a:prstGeom prst="rect">
              <a:avLst/>
            </a:pr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4"/>
            <p:cNvSpPr/>
            <p:nvPr/>
          </p:nvSpPr>
          <p:spPr>
            <a:xfrm>
              <a:off x="1305000" y="3240"/>
              <a:ext cx="343080" cy="2570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1648440" y="3240"/>
              <a:ext cx="704520" cy="2570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"/>
            <p:cNvSpPr/>
            <p:nvPr/>
          </p:nvSpPr>
          <p:spPr>
            <a:xfrm>
              <a:off x="2346480" y="3240"/>
              <a:ext cx="228240" cy="257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8859-C629-48D3-B254-AE93404E8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8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Line 5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783E-1360-4363-B414-25898C95D42F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隶书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83600" cy="6864480"/>
            <a:chOff x="0" y="0"/>
            <a:chExt cx="9183600" cy="6864480"/>
          </a:xfrm>
        </p:grpSpPr>
        <p:sp>
          <p:nvSpPr>
            <p:cNvPr id="231" name="AutoShape 3"/>
            <p:cNvSpPr/>
            <p:nvPr/>
          </p:nvSpPr>
          <p:spPr>
            <a:xfrm>
              <a:off x="0" y="0"/>
              <a:ext cx="9183600" cy="68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0" y="0"/>
              <a:ext cx="9151920" cy="686448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5"/>
            <p:cNvSpPr/>
            <p:nvPr/>
          </p:nvSpPr>
          <p:spPr>
            <a:xfrm>
              <a:off x="560520" y="47160"/>
              <a:ext cx="4171680" cy="3357000"/>
            </a:xfrm>
            <a:custGeom>
              <a:avLst/>
              <a:gdLst/>
              <a:ahLst/>
              <a:rect l="l" t="t" r="r" b="b"/>
              <a:pathLst>
                <a:path w="7884" h="6345">
                  <a:moveTo>
                    <a:pt x="2819" y="327"/>
                  </a:moveTo>
                  <a:lnTo>
                    <a:pt x="2979" y="277"/>
                  </a:lnTo>
                  <a:lnTo>
                    <a:pt x="3142" y="230"/>
                  </a:lnTo>
                  <a:lnTo>
                    <a:pt x="3305" y="189"/>
                  </a:lnTo>
                  <a:lnTo>
                    <a:pt x="3469" y="152"/>
                  </a:lnTo>
                  <a:lnTo>
                    <a:pt x="3633" y="118"/>
                  </a:lnTo>
                  <a:lnTo>
                    <a:pt x="3798" y="89"/>
                  </a:lnTo>
                  <a:lnTo>
                    <a:pt x="3964" y="64"/>
                  </a:lnTo>
                  <a:lnTo>
                    <a:pt x="4131" y="43"/>
                  </a:lnTo>
                  <a:lnTo>
                    <a:pt x="4297" y="27"/>
                  </a:lnTo>
                  <a:lnTo>
                    <a:pt x="4464" y="14"/>
                  </a:lnTo>
                  <a:lnTo>
                    <a:pt x="4631" y="5"/>
                  </a:lnTo>
                  <a:lnTo>
                    <a:pt x="4798" y="1"/>
                  </a:lnTo>
                  <a:lnTo>
                    <a:pt x="4964" y="0"/>
                  </a:lnTo>
                  <a:lnTo>
                    <a:pt x="5130" y="3"/>
                  </a:lnTo>
                  <a:lnTo>
                    <a:pt x="5296" y="11"/>
                  </a:lnTo>
                  <a:lnTo>
                    <a:pt x="5460" y="22"/>
                  </a:lnTo>
                  <a:lnTo>
                    <a:pt x="5624" y="36"/>
                  </a:lnTo>
                  <a:lnTo>
                    <a:pt x="5787" y="54"/>
                  </a:lnTo>
                  <a:lnTo>
                    <a:pt x="5949" y="77"/>
                  </a:lnTo>
                  <a:lnTo>
                    <a:pt x="6109" y="102"/>
                  </a:lnTo>
                  <a:lnTo>
                    <a:pt x="6268" y="132"/>
                  </a:lnTo>
                  <a:lnTo>
                    <a:pt x="6425" y="165"/>
                  </a:lnTo>
                  <a:lnTo>
                    <a:pt x="6582" y="202"/>
                  </a:lnTo>
                  <a:lnTo>
                    <a:pt x="6736" y="242"/>
                  </a:lnTo>
                  <a:lnTo>
                    <a:pt x="6888" y="285"/>
                  </a:lnTo>
                  <a:lnTo>
                    <a:pt x="7037" y="332"/>
                  </a:lnTo>
                  <a:lnTo>
                    <a:pt x="7185" y="383"/>
                  </a:lnTo>
                  <a:lnTo>
                    <a:pt x="7330" y="437"/>
                  </a:lnTo>
                  <a:lnTo>
                    <a:pt x="7473" y="495"/>
                  </a:lnTo>
                  <a:lnTo>
                    <a:pt x="7613" y="555"/>
                  </a:lnTo>
                  <a:lnTo>
                    <a:pt x="7750" y="620"/>
                  </a:lnTo>
                  <a:lnTo>
                    <a:pt x="7884" y="687"/>
                  </a:lnTo>
                  <a:lnTo>
                    <a:pt x="7755" y="636"/>
                  </a:lnTo>
                  <a:lnTo>
                    <a:pt x="7625" y="587"/>
                  </a:lnTo>
                  <a:lnTo>
                    <a:pt x="7493" y="542"/>
                  </a:lnTo>
                  <a:lnTo>
                    <a:pt x="7358" y="499"/>
                  </a:lnTo>
                  <a:lnTo>
                    <a:pt x="7222" y="459"/>
                  </a:lnTo>
                  <a:lnTo>
                    <a:pt x="7084" y="422"/>
                  </a:lnTo>
                  <a:lnTo>
                    <a:pt x="6945" y="388"/>
                  </a:lnTo>
                  <a:lnTo>
                    <a:pt x="6804" y="357"/>
                  </a:lnTo>
                  <a:lnTo>
                    <a:pt x="6662" y="329"/>
                  </a:lnTo>
                  <a:lnTo>
                    <a:pt x="6519" y="303"/>
                  </a:lnTo>
                  <a:lnTo>
                    <a:pt x="6374" y="281"/>
                  </a:lnTo>
                  <a:lnTo>
                    <a:pt x="6229" y="260"/>
                  </a:lnTo>
                  <a:lnTo>
                    <a:pt x="6083" y="244"/>
                  </a:lnTo>
                  <a:lnTo>
                    <a:pt x="5936" y="231"/>
                  </a:lnTo>
                  <a:lnTo>
                    <a:pt x="5788" y="220"/>
                  </a:lnTo>
                  <a:lnTo>
                    <a:pt x="5640" y="213"/>
                  </a:lnTo>
                  <a:lnTo>
                    <a:pt x="5490" y="208"/>
                  </a:lnTo>
                  <a:lnTo>
                    <a:pt x="5342" y="207"/>
                  </a:lnTo>
                  <a:lnTo>
                    <a:pt x="5192" y="209"/>
                  </a:lnTo>
                  <a:lnTo>
                    <a:pt x="5042" y="215"/>
                  </a:lnTo>
                  <a:lnTo>
                    <a:pt x="4893" y="224"/>
                  </a:lnTo>
                  <a:lnTo>
                    <a:pt x="4743" y="234"/>
                  </a:lnTo>
                  <a:lnTo>
                    <a:pt x="4592" y="250"/>
                  </a:lnTo>
                  <a:lnTo>
                    <a:pt x="4444" y="268"/>
                  </a:lnTo>
                  <a:lnTo>
                    <a:pt x="4294" y="289"/>
                  </a:lnTo>
                  <a:lnTo>
                    <a:pt x="4145" y="314"/>
                  </a:lnTo>
                  <a:lnTo>
                    <a:pt x="3997" y="342"/>
                  </a:lnTo>
                  <a:lnTo>
                    <a:pt x="3849" y="373"/>
                  </a:lnTo>
                  <a:lnTo>
                    <a:pt x="3703" y="408"/>
                  </a:lnTo>
                  <a:lnTo>
                    <a:pt x="3556" y="447"/>
                  </a:lnTo>
                  <a:lnTo>
                    <a:pt x="3411" y="488"/>
                  </a:lnTo>
                  <a:lnTo>
                    <a:pt x="3267" y="534"/>
                  </a:lnTo>
                  <a:lnTo>
                    <a:pt x="3041" y="613"/>
                  </a:lnTo>
                  <a:lnTo>
                    <a:pt x="2824" y="699"/>
                  </a:lnTo>
                  <a:lnTo>
                    <a:pt x="2615" y="791"/>
                  </a:lnTo>
                  <a:lnTo>
                    <a:pt x="2414" y="890"/>
                  </a:lnTo>
                  <a:lnTo>
                    <a:pt x="2222" y="995"/>
                  </a:lnTo>
                  <a:lnTo>
                    <a:pt x="2040" y="1106"/>
                  </a:lnTo>
                  <a:lnTo>
                    <a:pt x="1866" y="1222"/>
                  </a:lnTo>
                  <a:lnTo>
                    <a:pt x="1703" y="1343"/>
                  </a:lnTo>
                  <a:lnTo>
                    <a:pt x="1548" y="1470"/>
                  </a:lnTo>
                  <a:lnTo>
                    <a:pt x="1402" y="1601"/>
                  </a:lnTo>
                  <a:lnTo>
                    <a:pt x="1267" y="1737"/>
                  </a:lnTo>
                  <a:lnTo>
                    <a:pt x="1141" y="1876"/>
                  </a:lnTo>
                  <a:lnTo>
                    <a:pt x="1025" y="2020"/>
                  </a:lnTo>
                  <a:lnTo>
                    <a:pt x="918" y="2167"/>
                  </a:lnTo>
                  <a:lnTo>
                    <a:pt x="823" y="2316"/>
                  </a:lnTo>
                  <a:lnTo>
                    <a:pt x="738" y="2469"/>
                  </a:lnTo>
                  <a:lnTo>
                    <a:pt x="664" y="2625"/>
                  </a:lnTo>
                  <a:lnTo>
                    <a:pt x="600" y="2783"/>
                  </a:lnTo>
                  <a:lnTo>
                    <a:pt x="548" y="2943"/>
                  </a:lnTo>
                  <a:lnTo>
                    <a:pt x="505" y="3105"/>
                  </a:lnTo>
                  <a:lnTo>
                    <a:pt x="475" y="3268"/>
                  </a:lnTo>
                  <a:lnTo>
                    <a:pt x="455" y="3433"/>
                  </a:lnTo>
                  <a:lnTo>
                    <a:pt x="448" y="3597"/>
                  </a:lnTo>
                  <a:lnTo>
                    <a:pt x="451" y="3763"/>
                  </a:lnTo>
                  <a:lnTo>
                    <a:pt x="467" y="3929"/>
                  </a:lnTo>
                  <a:lnTo>
                    <a:pt x="494" y="4096"/>
                  </a:lnTo>
                  <a:lnTo>
                    <a:pt x="534" y="4262"/>
                  </a:lnTo>
                  <a:lnTo>
                    <a:pt x="585" y="4427"/>
                  </a:lnTo>
                  <a:lnTo>
                    <a:pt x="649" y="4592"/>
                  </a:lnTo>
                  <a:lnTo>
                    <a:pt x="726" y="4755"/>
                  </a:lnTo>
                  <a:lnTo>
                    <a:pt x="817" y="4918"/>
                  </a:lnTo>
                  <a:lnTo>
                    <a:pt x="918" y="5077"/>
                  </a:lnTo>
                  <a:lnTo>
                    <a:pt x="952" y="5126"/>
                  </a:lnTo>
                  <a:lnTo>
                    <a:pt x="987" y="5174"/>
                  </a:lnTo>
                  <a:lnTo>
                    <a:pt x="1022" y="5220"/>
                  </a:lnTo>
                  <a:lnTo>
                    <a:pt x="1058" y="5267"/>
                  </a:lnTo>
                  <a:lnTo>
                    <a:pt x="1095" y="5314"/>
                  </a:lnTo>
                  <a:lnTo>
                    <a:pt x="1134" y="5359"/>
                  </a:lnTo>
                  <a:lnTo>
                    <a:pt x="1173" y="5405"/>
                  </a:lnTo>
                  <a:lnTo>
                    <a:pt x="1214" y="5449"/>
                  </a:lnTo>
                  <a:lnTo>
                    <a:pt x="1255" y="5493"/>
                  </a:lnTo>
                  <a:lnTo>
                    <a:pt x="1296" y="5536"/>
                  </a:lnTo>
                  <a:lnTo>
                    <a:pt x="1338" y="5580"/>
                  </a:lnTo>
                  <a:lnTo>
                    <a:pt x="1383" y="5622"/>
                  </a:lnTo>
                  <a:lnTo>
                    <a:pt x="1426" y="5663"/>
                  </a:lnTo>
                  <a:lnTo>
                    <a:pt x="1472" y="5704"/>
                  </a:lnTo>
                  <a:lnTo>
                    <a:pt x="1517" y="5744"/>
                  </a:lnTo>
                  <a:lnTo>
                    <a:pt x="1565" y="5785"/>
                  </a:lnTo>
                  <a:lnTo>
                    <a:pt x="1612" y="5825"/>
                  </a:lnTo>
                  <a:lnTo>
                    <a:pt x="1660" y="5863"/>
                  </a:lnTo>
                  <a:lnTo>
                    <a:pt x="1709" y="5902"/>
                  </a:lnTo>
                  <a:lnTo>
                    <a:pt x="1759" y="5939"/>
                  </a:lnTo>
                  <a:lnTo>
                    <a:pt x="1810" y="5977"/>
                  </a:lnTo>
                  <a:lnTo>
                    <a:pt x="1861" y="6012"/>
                  </a:lnTo>
                  <a:lnTo>
                    <a:pt x="1913" y="6048"/>
                  </a:lnTo>
                  <a:lnTo>
                    <a:pt x="1965" y="6084"/>
                  </a:lnTo>
                  <a:lnTo>
                    <a:pt x="2019" y="6119"/>
                  </a:lnTo>
                  <a:lnTo>
                    <a:pt x="2074" y="6153"/>
                  </a:lnTo>
                  <a:lnTo>
                    <a:pt x="2128" y="6187"/>
                  </a:lnTo>
                  <a:lnTo>
                    <a:pt x="2183" y="6220"/>
                  </a:lnTo>
                  <a:lnTo>
                    <a:pt x="2240" y="6252"/>
                  </a:lnTo>
                  <a:lnTo>
                    <a:pt x="2296" y="6284"/>
                  </a:lnTo>
                  <a:lnTo>
                    <a:pt x="2354" y="6315"/>
                  </a:lnTo>
                  <a:lnTo>
                    <a:pt x="2411" y="6345"/>
                  </a:lnTo>
                  <a:lnTo>
                    <a:pt x="2335" y="6313"/>
                  </a:lnTo>
                  <a:lnTo>
                    <a:pt x="2259" y="6280"/>
                  </a:lnTo>
                  <a:lnTo>
                    <a:pt x="2184" y="6247"/>
                  </a:lnTo>
                  <a:lnTo>
                    <a:pt x="2111" y="6212"/>
                  </a:lnTo>
                  <a:lnTo>
                    <a:pt x="2038" y="6176"/>
                  </a:lnTo>
                  <a:lnTo>
                    <a:pt x="1965" y="6139"/>
                  </a:lnTo>
                  <a:lnTo>
                    <a:pt x="1894" y="6101"/>
                  </a:lnTo>
                  <a:lnTo>
                    <a:pt x="1824" y="6063"/>
                  </a:lnTo>
                  <a:lnTo>
                    <a:pt x="1755" y="6023"/>
                  </a:lnTo>
                  <a:lnTo>
                    <a:pt x="1686" y="5983"/>
                  </a:lnTo>
                  <a:lnTo>
                    <a:pt x="1618" y="5942"/>
                  </a:lnTo>
                  <a:lnTo>
                    <a:pt x="1552" y="5900"/>
                  </a:lnTo>
                  <a:lnTo>
                    <a:pt x="1487" y="5856"/>
                  </a:lnTo>
                  <a:lnTo>
                    <a:pt x="1423" y="5812"/>
                  </a:lnTo>
                  <a:lnTo>
                    <a:pt x="1359" y="5767"/>
                  </a:lnTo>
                  <a:lnTo>
                    <a:pt x="1297" y="5722"/>
                  </a:lnTo>
                  <a:lnTo>
                    <a:pt x="1236" y="5675"/>
                  </a:lnTo>
                  <a:lnTo>
                    <a:pt x="1177" y="5627"/>
                  </a:lnTo>
                  <a:lnTo>
                    <a:pt x="1118" y="5578"/>
                  </a:lnTo>
                  <a:lnTo>
                    <a:pt x="1059" y="5529"/>
                  </a:lnTo>
                  <a:lnTo>
                    <a:pt x="1004" y="5479"/>
                  </a:lnTo>
                  <a:lnTo>
                    <a:pt x="949" y="5428"/>
                  </a:lnTo>
                  <a:lnTo>
                    <a:pt x="895" y="5376"/>
                  </a:lnTo>
                  <a:lnTo>
                    <a:pt x="843" y="5322"/>
                  </a:lnTo>
                  <a:lnTo>
                    <a:pt x="792" y="5269"/>
                  </a:lnTo>
                  <a:lnTo>
                    <a:pt x="741" y="5215"/>
                  </a:lnTo>
                  <a:lnTo>
                    <a:pt x="693" y="5160"/>
                  </a:lnTo>
                  <a:lnTo>
                    <a:pt x="645" y="5103"/>
                  </a:lnTo>
                  <a:lnTo>
                    <a:pt x="600" y="5046"/>
                  </a:lnTo>
                  <a:lnTo>
                    <a:pt x="555" y="4988"/>
                  </a:lnTo>
                  <a:lnTo>
                    <a:pt x="512" y="4930"/>
                  </a:lnTo>
                  <a:lnTo>
                    <a:pt x="470" y="4870"/>
                  </a:lnTo>
                  <a:lnTo>
                    <a:pt x="369" y="4711"/>
                  </a:lnTo>
                  <a:lnTo>
                    <a:pt x="279" y="4548"/>
                  </a:lnTo>
                  <a:lnTo>
                    <a:pt x="203" y="4385"/>
                  </a:lnTo>
                  <a:lnTo>
                    <a:pt x="139" y="4220"/>
                  </a:lnTo>
                  <a:lnTo>
                    <a:pt x="87" y="4054"/>
                  </a:lnTo>
                  <a:lnTo>
                    <a:pt x="46" y="3889"/>
                  </a:lnTo>
                  <a:lnTo>
                    <a:pt x="19" y="3722"/>
                  </a:lnTo>
                  <a:lnTo>
                    <a:pt x="4" y="3556"/>
                  </a:lnTo>
                  <a:lnTo>
                    <a:pt x="0" y="3390"/>
                  </a:lnTo>
                  <a:lnTo>
                    <a:pt x="7" y="3225"/>
                  </a:lnTo>
                  <a:lnTo>
                    <a:pt x="27" y="3060"/>
                  </a:lnTo>
                  <a:lnTo>
                    <a:pt x="57" y="2898"/>
                  </a:lnTo>
                  <a:lnTo>
                    <a:pt x="100" y="2736"/>
                  </a:lnTo>
                  <a:lnTo>
                    <a:pt x="153" y="2576"/>
                  </a:lnTo>
                  <a:lnTo>
                    <a:pt x="216" y="2418"/>
                  </a:lnTo>
                  <a:lnTo>
                    <a:pt x="290" y="2262"/>
                  </a:lnTo>
                  <a:lnTo>
                    <a:pt x="375" y="2109"/>
                  </a:lnTo>
                  <a:lnTo>
                    <a:pt x="472" y="1959"/>
                  </a:lnTo>
                  <a:lnTo>
                    <a:pt x="577" y="1813"/>
                  </a:lnTo>
                  <a:lnTo>
                    <a:pt x="693" y="1669"/>
                  </a:lnTo>
                  <a:lnTo>
                    <a:pt x="819" y="1530"/>
                  </a:lnTo>
                  <a:lnTo>
                    <a:pt x="954" y="1394"/>
                  </a:lnTo>
                  <a:lnTo>
                    <a:pt x="1100" y="1263"/>
                  </a:lnTo>
                  <a:lnTo>
                    <a:pt x="1255" y="1136"/>
                  </a:lnTo>
                  <a:lnTo>
                    <a:pt x="1419" y="1014"/>
                  </a:lnTo>
                  <a:lnTo>
                    <a:pt x="1592" y="898"/>
                  </a:lnTo>
                  <a:lnTo>
                    <a:pt x="1775" y="788"/>
                  </a:lnTo>
                  <a:lnTo>
                    <a:pt x="1966" y="682"/>
                  </a:lnTo>
                  <a:lnTo>
                    <a:pt x="2167" y="584"/>
                  </a:lnTo>
                  <a:lnTo>
                    <a:pt x="2376" y="491"/>
                  </a:lnTo>
                  <a:lnTo>
                    <a:pt x="2593" y="406"/>
                  </a:lnTo>
                  <a:lnTo>
                    <a:pt x="2819" y="327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0" y="0"/>
              <a:ext cx="9151920" cy="188640"/>
            </a:xfrm>
            <a:prstGeom prst="rect">
              <a:avLst/>
            </a:prstGeom>
            <a:solidFill>
              <a:srgbClr val="2c4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0" y="0"/>
              <a:ext cx="3749760" cy="188640"/>
            </a:xfrm>
            <a:prstGeom prst="rect">
              <a:avLst/>
            </a:prstGeom>
            <a:solidFill>
              <a:srgbClr val="5d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3957480" y="1428480"/>
              <a:ext cx="4172040" cy="3355200"/>
            </a:xfrm>
            <a:custGeom>
              <a:avLst/>
              <a:gdLst/>
              <a:ahLst/>
              <a:rect l="l" t="t" r="r" b="b"/>
              <a:pathLst>
                <a:path w="7885" h="6344">
                  <a:moveTo>
                    <a:pt x="5065" y="6018"/>
                  </a:moveTo>
                  <a:lnTo>
                    <a:pt x="4905" y="6069"/>
                  </a:lnTo>
                  <a:lnTo>
                    <a:pt x="4742" y="6114"/>
                  </a:lnTo>
                  <a:lnTo>
                    <a:pt x="4579" y="6156"/>
                  </a:lnTo>
                  <a:lnTo>
                    <a:pt x="4416" y="6194"/>
                  </a:lnTo>
                  <a:lnTo>
                    <a:pt x="4251" y="6226"/>
                  </a:lnTo>
                  <a:lnTo>
                    <a:pt x="4086" y="6255"/>
                  </a:lnTo>
                  <a:lnTo>
                    <a:pt x="3920" y="6280"/>
                  </a:lnTo>
                  <a:lnTo>
                    <a:pt x="3753" y="6301"/>
                  </a:lnTo>
                  <a:lnTo>
                    <a:pt x="3587" y="6317"/>
                  </a:lnTo>
                  <a:lnTo>
                    <a:pt x="3420" y="6330"/>
                  </a:lnTo>
                  <a:lnTo>
                    <a:pt x="3253" y="6339"/>
                  </a:lnTo>
                  <a:lnTo>
                    <a:pt x="3086" y="6343"/>
                  </a:lnTo>
                  <a:lnTo>
                    <a:pt x="2920" y="6344"/>
                  </a:lnTo>
                  <a:lnTo>
                    <a:pt x="2754" y="6341"/>
                  </a:lnTo>
                  <a:lnTo>
                    <a:pt x="2588" y="6334"/>
                  </a:lnTo>
                  <a:lnTo>
                    <a:pt x="2424" y="6323"/>
                  </a:lnTo>
                  <a:lnTo>
                    <a:pt x="2260" y="6309"/>
                  </a:lnTo>
                  <a:lnTo>
                    <a:pt x="2098" y="6290"/>
                  </a:lnTo>
                  <a:lnTo>
                    <a:pt x="1935" y="6269"/>
                  </a:lnTo>
                  <a:lnTo>
                    <a:pt x="1776" y="6242"/>
                  </a:lnTo>
                  <a:lnTo>
                    <a:pt x="1616" y="6213"/>
                  </a:lnTo>
                  <a:lnTo>
                    <a:pt x="1459" y="6180"/>
                  </a:lnTo>
                  <a:lnTo>
                    <a:pt x="1303" y="6144"/>
                  </a:lnTo>
                  <a:lnTo>
                    <a:pt x="1149" y="6103"/>
                  </a:lnTo>
                  <a:lnTo>
                    <a:pt x="997" y="6059"/>
                  </a:lnTo>
                  <a:lnTo>
                    <a:pt x="847" y="6012"/>
                  </a:lnTo>
                  <a:lnTo>
                    <a:pt x="700" y="5961"/>
                  </a:lnTo>
                  <a:lnTo>
                    <a:pt x="554" y="5907"/>
                  </a:lnTo>
                  <a:lnTo>
                    <a:pt x="411" y="5850"/>
                  </a:lnTo>
                  <a:lnTo>
                    <a:pt x="271" y="5789"/>
                  </a:lnTo>
                  <a:lnTo>
                    <a:pt x="134" y="5725"/>
                  </a:lnTo>
                  <a:lnTo>
                    <a:pt x="0" y="5658"/>
                  </a:lnTo>
                  <a:lnTo>
                    <a:pt x="129" y="5709"/>
                  </a:lnTo>
                  <a:lnTo>
                    <a:pt x="259" y="5758"/>
                  </a:lnTo>
                  <a:lnTo>
                    <a:pt x="391" y="5803"/>
                  </a:lnTo>
                  <a:lnTo>
                    <a:pt x="526" y="5845"/>
                  </a:lnTo>
                  <a:lnTo>
                    <a:pt x="663" y="5886"/>
                  </a:lnTo>
                  <a:lnTo>
                    <a:pt x="800" y="5922"/>
                  </a:lnTo>
                  <a:lnTo>
                    <a:pt x="939" y="5956"/>
                  </a:lnTo>
                  <a:lnTo>
                    <a:pt x="1080" y="5988"/>
                  </a:lnTo>
                  <a:lnTo>
                    <a:pt x="1222" y="6016"/>
                  </a:lnTo>
                  <a:lnTo>
                    <a:pt x="1366" y="6042"/>
                  </a:lnTo>
                  <a:lnTo>
                    <a:pt x="1510" y="6065"/>
                  </a:lnTo>
                  <a:lnTo>
                    <a:pt x="1655" y="6084"/>
                  </a:lnTo>
                  <a:lnTo>
                    <a:pt x="1802" y="6100"/>
                  </a:lnTo>
                  <a:lnTo>
                    <a:pt x="1948" y="6113"/>
                  </a:lnTo>
                  <a:lnTo>
                    <a:pt x="2097" y="6124"/>
                  </a:lnTo>
                  <a:lnTo>
                    <a:pt x="2244" y="6132"/>
                  </a:lnTo>
                  <a:lnTo>
                    <a:pt x="2394" y="6136"/>
                  </a:lnTo>
                  <a:lnTo>
                    <a:pt x="2542" y="6137"/>
                  </a:lnTo>
                  <a:lnTo>
                    <a:pt x="2692" y="6135"/>
                  </a:lnTo>
                  <a:lnTo>
                    <a:pt x="2842" y="6130"/>
                  </a:lnTo>
                  <a:lnTo>
                    <a:pt x="2991" y="6122"/>
                  </a:lnTo>
                  <a:lnTo>
                    <a:pt x="3141" y="6110"/>
                  </a:lnTo>
                  <a:lnTo>
                    <a:pt x="3291" y="6095"/>
                  </a:lnTo>
                  <a:lnTo>
                    <a:pt x="3441" y="6078"/>
                  </a:lnTo>
                  <a:lnTo>
                    <a:pt x="3590" y="6056"/>
                  </a:lnTo>
                  <a:lnTo>
                    <a:pt x="3739" y="6031"/>
                  </a:lnTo>
                  <a:lnTo>
                    <a:pt x="3887" y="6003"/>
                  </a:lnTo>
                  <a:lnTo>
                    <a:pt x="4035" y="5971"/>
                  </a:lnTo>
                  <a:lnTo>
                    <a:pt x="4181" y="5937"/>
                  </a:lnTo>
                  <a:lnTo>
                    <a:pt x="4328" y="5899"/>
                  </a:lnTo>
                  <a:lnTo>
                    <a:pt x="4473" y="5856"/>
                  </a:lnTo>
                  <a:lnTo>
                    <a:pt x="4617" y="5811"/>
                  </a:lnTo>
                  <a:lnTo>
                    <a:pt x="4843" y="5733"/>
                  </a:lnTo>
                  <a:lnTo>
                    <a:pt x="5060" y="5646"/>
                  </a:lnTo>
                  <a:lnTo>
                    <a:pt x="5269" y="5554"/>
                  </a:lnTo>
                  <a:lnTo>
                    <a:pt x="5470" y="5455"/>
                  </a:lnTo>
                  <a:lnTo>
                    <a:pt x="5661" y="5350"/>
                  </a:lnTo>
                  <a:lnTo>
                    <a:pt x="5844" y="5239"/>
                  </a:lnTo>
                  <a:lnTo>
                    <a:pt x="6018" y="5123"/>
                  </a:lnTo>
                  <a:lnTo>
                    <a:pt x="6182" y="5001"/>
                  </a:lnTo>
                  <a:lnTo>
                    <a:pt x="6337" y="4874"/>
                  </a:lnTo>
                  <a:lnTo>
                    <a:pt x="6482" y="4743"/>
                  </a:lnTo>
                  <a:lnTo>
                    <a:pt x="6618" y="4608"/>
                  </a:lnTo>
                  <a:lnTo>
                    <a:pt x="6743" y="4469"/>
                  </a:lnTo>
                  <a:lnTo>
                    <a:pt x="6859" y="4326"/>
                  </a:lnTo>
                  <a:lnTo>
                    <a:pt x="6966" y="4178"/>
                  </a:lnTo>
                  <a:lnTo>
                    <a:pt x="7061" y="4028"/>
                  </a:lnTo>
                  <a:lnTo>
                    <a:pt x="7146" y="3875"/>
                  </a:lnTo>
                  <a:lnTo>
                    <a:pt x="7221" y="3720"/>
                  </a:lnTo>
                  <a:lnTo>
                    <a:pt x="7285" y="3562"/>
                  </a:lnTo>
                  <a:lnTo>
                    <a:pt x="7337" y="3401"/>
                  </a:lnTo>
                  <a:lnTo>
                    <a:pt x="7379" y="3240"/>
                  </a:lnTo>
                  <a:lnTo>
                    <a:pt x="7409" y="3077"/>
                  </a:lnTo>
                  <a:lnTo>
                    <a:pt x="7429" y="2912"/>
                  </a:lnTo>
                  <a:lnTo>
                    <a:pt x="7437" y="2747"/>
                  </a:lnTo>
                  <a:lnTo>
                    <a:pt x="7433" y="2581"/>
                  </a:lnTo>
                  <a:lnTo>
                    <a:pt x="7417" y="2415"/>
                  </a:lnTo>
                  <a:lnTo>
                    <a:pt x="7390" y="2249"/>
                  </a:lnTo>
                  <a:lnTo>
                    <a:pt x="7350" y="2083"/>
                  </a:lnTo>
                  <a:lnTo>
                    <a:pt x="7299" y="1917"/>
                  </a:lnTo>
                  <a:lnTo>
                    <a:pt x="7235" y="1753"/>
                  </a:lnTo>
                  <a:lnTo>
                    <a:pt x="7158" y="1589"/>
                  </a:lnTo>
                  <a:lnTo>
                    <a:pt x="7068" y="1428"/>
                  </a:lnTo>
                  <a:lnTo>
                    <a:pt x="6966" y="1267"/>
                  </a:lnTo>
                  <a:lnTo>
                    <a:pt x="6932" y="1218"/>
                  </a:lnTo>
                  <a:lnTo>
                    <a:pt x="6897" y="1171"/>
                  </a:lnTo>
                  <a:lnTo>
                    <a:pt x="6863" y="1124"/>
                  </a:lnTo>
                  <a:lnTo>
                    <a:pt x="6826" y="1077"/>
                  </a:lnTo>
                  <a:lnTo>
                    <a:pt x="6789" y="1031"/>
                  </a:lnTo>
                  <a:lnTo>
                    <a:pt x="6750" y="985"/>
                  </a:lnTo>
                  <a:lnTo>
                    <a:pt x="6711" y="941"/>
                  </a:lnTo>
                  <a:lnTo>
                    <a:pt x="6671" y="896"/>
                  </a:lnTo>
                  <a:lnTo>
                    <a:pt x="6630" y="852"/>
                  </a:lnTo>
                  <a:lnTo>
                    <a:pt x="6588" y="808"/>
                  </a:lnTo>
                  <a:lnTo>
                    <a:pt x="6546" y="766"/>
                  </a:lnTo>
                  <a:lnTo>
                    <a:pt x="6502" y="724"/>
                  </a:lnTo>
                  <a:lnTo>
                    <a:pt x="6458" y="681"/>
                  </a:lnTo>
                  <a:lnTo>
                    <a:pt x="6413" y="640"/>
                  </a:lnTo>
                  <a:lnTo>
                    <a:pt x="6367" y="600"/>
                  </a:lnTo>
                  <a:lnTo>
                    <a:pt x="6319" y="560"/>
                  </a:lnTo>
                  <a:lnTo>
                    <a:pt x="6273" y="521"/>
                  </a:lnTo>
                  <a:lnTo>
                    <a:pt x="6224" y="482"/>
                  </a:lnTo>
                  <a:lnTo>
                    <a:pt x="6175" y="444"/>
                  </a:lnTo>
                  <a:lnTo>
                    <a:pt x="6125" y="406"/>
                  </a:lnTo>
                  <a:lnTo>
                    <a:pt x="6074" y="369"/>
                  </a:lnTo>
                  <a:lnTo>
                    <a:pt x="6023" y="332"/>
                  </a:lnTo>
                  <a:lnTo>
                    <a:pt x="5971" y="296"/>
                  </a:lnTo>
                  <a:lnTo>
                    <a:pt x="5919" y="261"/>
                  </a:lnTo>
                  <a:lnTo>
                    <a:pt x="5865" y="226"/>
                  </a:lnTo>
                  <a:lnTo>
                    <a:pt x="5811" y="192"/>
                  </a:lnTo>
                  <a:lnTo>
                    <a:pt x="5756" y="159"/>
                  </a:lnTo>
                  <a:lnTo>
                    <a:pt x="5701" y="125"/>
                  </a:lnTo>
                  <a:lnTo>
                    <a:pt x="5645" y="93"/>
                  </a:lnTo>
                  <a:lnTo>
                    <a:pt x="5588" y="61"/>
                  </a:lnTo>
                  <a:lnTo>
                    <a:pt x="5531" y="31"/>
                  </a:lnTo>
                  <a:lnTo>
                    <a:pt x="5473" y="0"/>
                  </a:lnTo>
                  <a:lnTo>
                    <a:pt x="5549" y="32"/>
                  </a:lnTo>
                  <a:lnTo>
                    <a:pt x="5625" y="64"/>
                  </a:lnTo>
                  <a:lnTo>
                    <a:pt x="5700" y="98"/>
                  </a:lnTo>
                  <a:lnTo>
                    <a:pt x="5774" y="133"/>
                  </a:lnTo>
                  <a:lnTo>
                    <a:pt x="5846" y="168"/>
                  </a:lnTo>
                  <a:lnTo>
                    <a:pt x="5919" y="205"/>
                  </a:lnTo>
                  <a:lnTo>
                    <a:pt x="5990" y="243"/>
                  </a:lnTo>
                  <a:lnTo>
                    <a:pt x="6060" y="282"/>
                  </a:lnTo>
                  <a:lnTo>
                    <a:pt x="6129" y="321"/>
                  </a:lnTo>
                  <a:lnTo>
                    <a:pt x="6198" y="361"/>
                  </a:lnTo>
                  <a:lnTo>
                    <a:pt x="6266" y="403"/>
                  </a:lnTo>
                  <a:lnTo>
                    <a:pt x="6332" y="445"/>
                  </a:lnTo>
                  <a:lnTo>
                    <a:pt x="6397" y="488"/>
                  </a:lnTo>
                  <a:lnTo>
                    <a:pt x="6461" y="533"/>
                  </a:lnTo>
                  <a:lnTo>
                    <a:pt x="6525" y="577"/>
                  </a:lnTo>
                  <a:lnTo>
                    <a:pt x="6587" y="623"/>
                  </a:lnTo>
                  <a:lnTo>
                    <a:pt x="6648" y="671"/>
                  </a:lnTo>
                  <a:lnTo>
                    <a:pt x="6708" y="718"/>
                  </a:lnTo>
                  <a:lnTo>
                    <a:pt x="6766" y="766"/>
                  </a:lnTo>
                  <a:lnTo>
                    <a:pt x="6824" y="816"/>
                  </a:lnTo>
                  <a:lnTo>
                    <a:pt x="6880" y="866"/>
                  </a:lnTo>
                  <a:lnTo>
                    <a:pt x="6935" y="917"/>
                  </a:lnTo>
                  <a:lnTo>
                    <a:pt x="6990" y="969"/>
                  </a:lnTo>
                  <a:lnTo>
                    <a:pt x="7042" y="1022"/>
                  </a:lnTo>
                  <a:lnTo>
                    <a:pt x="7093" y="1075"/>
                  </a:lnTo>
                  <a:lnTo>
                    <a:pt x="7144" y="1131"/>
                  </a:lnTo>
                  <a:lnTo>
                    <a:pt x="7191" y="1186"/>
                  </a:lnTo>
                  <a:lnTo>
                    <a:pt x="7239" y="1241"/>
                  </a:lnTo>
                  <a:lnTo>
                    <a:pt x="7285" y="1299"/>
                  </a:lnTo>
                  <a:lnTo>
                    <a:pt x="7329" y="1356"/>
                  </a:lnTo>
                  <a:lnTo>
                    <a:pt x="7373" y="1415"/>
                  </a:lnTo>
                  <a:lnTo>
                    <a:pt x="7414" y="1474"/>
                  </a:lnTo>
                  <a:lnTo>
                    <a:pt x="7516" y="1635"/>
                  </a:lnTo>
                  <a:lnTo>
                    <a:pt x="7606" y="1797"/>
                  </a:lnTo>
                  <a:lnTo>
                    <a:pt x="7682" y="1961"/>
                  </a:lnTo>
                  <a:lnTo>
                    <a:pt x="7746" y="2124"/>
                  </a:lnTo>
                  <a:lnTo>
                    <a:pt x="7798" y="2290"/>
                  </a:lnTo>
                  <a:lnTo>
                    <a:pt x="7838" y="2456"/>
                  </a:lnTo>
                  <a:lnTo>
                    <a:pt x="7865" y="2622"/>
                  </a:lnTo>
                  <a:lnTo>
                    <a:pt x="7880" y="2788"/>
                  </a:lnTo>
                  <a:lnTo>
                    <a:pt x="7885" y="2954"/>
                  </a:lnTo>
                  <a:lnTo>
                    <a:pt x="7877" y="3119"/>
                  </a:lnTo>
                  <a:lnTo>
                    <a:pt x="7857" y="3284"/>
                  </a:lnTo>
                  <a:lnTo>
                    <a:pt x="7827" y="3447"/>
                  </a:lnTo>
                  <a:lnTo>
                    <a:pt x="7785" y="3608"/>
                  </a:lnTo>
                  <a:lnTo>
                    <a:pt x="7732" y="3769"/>
                  </a:lnTo>
                  <a:lnTo>
                    <a:pt x="7669" y="3927"/>
                  </a:lnTo>
                  <a:lnTo>
                    <a:pt x="7594" y="4082"/>
                  </a:lnTo>
                  <a:lnTo>
                    <a:pt x="7509" y="4235"/>
                  </a:lnTo>
                  <a:lnTo>
                    <a:pt x="7413" y="4385"/>
                  </a:lnTo>
                  <a:lnTo>
                    <a:pt x="7307" y="4533"/>
                  </a:lnTo>
                  <a:lnTo>
                    <a:pt x="7191" y="4676"/>
                  </a:lnTo>
                  <a:lnTo>
                    <a:pt x="7066" y="4815"/>
                  </a:lnTo>
                  <a:lnTo>
                    <a:pt x="6930" y="4950"/>
                  </a:lnTo>
                  <a:lnTo>
                    <a:pt x="6785" y="5082"/>
                  </a:lnTo>
                  <a:lnTo>
                    <a:pt x="6630" y="5209"/>
                  </a:lnTo>
                  <a:lnTo>
                    <a:pt x="6466" y="5330"/>
                  </a:lnTo>
                  <a:lnTo>
                    <a:pt x="6292" y="5446"/>
                  </a:lnTo>
                  <a:lnTo>
                    <a:pt x="6109" y="5557"/>
                  </a:lnTo>
                  <a:lnTo>
                    <a:pt x="5918" y="5662"/>
                  </a:lnTo>
                  <a:lnTo>
                    <a:pt x="5717" y="5761"/>
                  </a:lnTo>
                  <a:lnTo>
                    <a:pt x="5508" y="5853"/>
                  </a:lnTo>
                  <a:lnTo>
                    <a:pt x="5291" y="5940"/>
                  </a:lnTo>
                  <a:lnTo>
                    <a:pt x="5065" y="6018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0" y="0"/>
              <a:ext cx="1978200" cy="188640"/>
            </a:xfrm>
            <a:prstGeom prst="rect">
              <a:avLst/>
            </a:pr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0" y="0"/>
              <a:ext cx="1333440" cy="18864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0" y="0"/>
              <a:ext cx="1047600" cy="188640"/>
            </a:xfrm>
            <a:prstGeom prst="rect">
              <a:avLst/>
            </a:prstGeom>
            <a:solidFill>
              <a:srgbClr val="b6d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12"/>
            <p:cNvSpPr/>
            <p:nvPr/>
          </p:nvSpPr>
          <p:spPr>
            <a:xfrm>
              <a:off x="0" y="6035760"/>
              <a:ext cx="9183600" cy="828360"/>
            </a:xfrm>
            <a:custGeom>
              <a:avLst/>
              <a:gdLst/>
              <a:ahLst/>
              <a:rect l="l" t="t" r="r" b="b"/>
              <a:pathLst>
                <a:path w="17354" h="1566">
                  <a:moveTo>
                    <a:pt x="17354" y="12"/>
                  </a:moveTo>
                  <a:lnTo>
                    <a:pt x="17293" y="1566"/>
                  </a:lnTo>
                  <a:lnTo>
                    <a:pt x="0" y="1566"/>
                  </a:lnTo>
                  <a:lnTo>
                    <a:pt x="511" y="1402"/>
                  </a:lnTo>
                  <a:lnTo>
                    <a:pt x="1007" y="1251"/>
                  </a:lnTo>
                  <a:lnTo>
                    <a:pt x="1490" y="1110"/>
                  </a:lnTo>
                  <a:lnTo>
                    <a:pt x="1961" y="981"/>
                  </a:lnTo>
                  <a:lnTo>
                    <a:pt x="2423" y="862"/>
                  </a:lnTo>
                  <a:lnTo>
                    <a:pt x="2877" y="752"/>
                  </a:lnTo>
                  <a:lnTo>
                    <a:pt x="3325" y="652"/>
                  </a:lnTo>
                  <a:lnTo>
                    <a:pt x="3767" y="561"/>
                  </a:lnTo>
                  <a:lnTo>
                    <a:pt x="4207" y="480"/>
                  </a:lnTo>
                  <a:lnTo>
                    <a:pt x="4645" y="406"/>
                  </a:lnTo>
                  <a:lnTo>
                    <a:pt x="5084" y="340"/>
                  </a:lnTo>
                  <a:lnTo>
                    <a:pt x="5524" y="281"/>
                  </a:lnTo>
                  <a:lnTo>
                    <a:pt x="5968" y="229"/>
                  </a:lnTo>
                  <a:lnTo>
                    <a:pt x="6418" y="185"/>
                  </a:lnTo>
                  <a:lnTo>
                    <a:pt x="6875" y="146"/>
                  </a:lnTo>
                  <a:lnTo>
                    <a:pt x="7340" y="112"/>
                  </a:lnTo>
                  <a:lnTo>
                    <a:pt x="7816" y="85"/>
                  </a:lnTo>
                  <a:lnTo>
                    <a:pt x="8304" y="61"/>
                  </a:lnTo>
                  <a:lnTo>
                    <a:pt x="8807" y="43"/>
                  </a:lnTo>
                  <a:lnTo>
                    <a:pt x="9324" y="29"/>
                  </a:lnTo>
                  <a:lnTo>
                    <a:pt x="9859" y="18"/>
                  </a:lnTo>
                  <a:lnTo>
                    <a:pt x="10412" y="9"/>
                  </a:lnTo>
                  <a:lnTo>
                    <a:pt x="10986" y="5"/>
                  </a:lnTo>
                  <a:lnTo>
                    <a:pt x="11582" y="2"/>
                  </a:lnTo>
                  <a:lnTo>
                    <a:pt x="12203" y="0"/>
                  </a:lnTo>
                  <a:lnTo>
                    <a:pt x="12848" y="2"/>
                  </a:lnTo>
                  <a:lnTo>
                    <a:pt x="13522" y="4"/>
                  </a:lnTo>
                  <a:lnTo>
                    <a:pt x="14224" y="6"/>
                  </a:lnTo>
                  <a:lnTo>
                    <a:pt x="14956" y="8"/>
                  </a:lnTo>
                  <a:lnTo>
                    <a:pt x="15720" y="10"/>
                  </a:lnTo>
                  <a:lnTo>
                    <a:pt x="16520" y="12"/>
                  </a:lnTo>
                  <a:lnTo>
                    <a:pt x="17354" y="12"/>
                  </a:lnTo>
                  <a:close/>
                </a:path>
              </a:pathLst>
            </a:custGeom>
            <a:solidFill>
              <a:srgbClr val="2c4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464D-5D35-4C16-8659-826B6F160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3" name="AutoShap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4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5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17D-437B-47DA-B289-A1B693CC5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2"/>
          <p:cNvSpPr/>
          <p:nvPr/>
        </p:nvSpPr>
        <p:spPr>
          <a:xfrm>
            <a:off x="282600" y="3254400"/>
            <a:ext cx="272880" cy="167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99" y="17819"/>
                </a:moveTo>
                <a:lnTo>
                  <a:pt x="12299" y="17819"/>
                </a:lnTo>
                <a:lnTo>
                  <a:pt x="21600" y="21600"/>
                </a:lnTo>
                <a:lnTo>
                  <a:pt x="21600" y="21600"/>
                </a:lnTo>
                <a:lnTo>
                  <a:pt x="19499" y="20176"/>
                </a:lnTo>
                <a:lnTo>
                  <a:pt x="17399" y="18752"/>
                </a:lnTo>
                <a:lnTo>
                  <a:pt x="14999" y="17181"/>
                </a:lnTo>
                <a:lnTo>
                  <a:pt x="13199" y="15512"/>
                </a:lnTo>
                <a:lnTo>
                  <a:pt x="11099" y="13696"/>
                </a:lnTo>
                <a:lnTo>
                  <a:pt x="10199" y="11732"/>
                </a:lnTo>
                <a:lnTo>
                  <a:pt x="8999" y="9769"/>
                </a:lnTo>
                <a:lnTo>
                  <a:pt x="8399" y="8639"/>
                </a:lnTo>
                <a:lnTo>
                  <a:pt x="7799" y="7510"/>
                </a:lnTo>
                <a:lnTo>
                  <a:pt x="7799" y="7510"/>
                </a:lnTo>
                <a:lnTo>
                  <a:pt x="7499" y="6479"/>
                </a:lnTo>
                <a:lnTo>
                  <a:pt x="7199" y="5400"/>
                </a:lnTo>
                <a:lnTo>
                  <a:pt x="6899" y="4418"/>
                </a:lnTo>
                <a:lnTo>
                  <a:pt x="6899" y="3436"/>
                </a:lnTo>
                <a:lnTo>
                  <a:pt x="6899" y="2503"/>
                </a:lnTo>
                <a:lnTo>
                  <a:pt x="7199" y="1619"/>
                </a:lnTo>
                <a:lnTo>
                  <a:pt x="7499" y="785"/>
                </a:lnTo>
                <a:lnTo>
                  <a:pt x="7799" y="0"/>
                </a:lnTo>
                <a:lnTo>
                  <a:pt x="7799" y="0"/>
                </a:lnTo>
                <a:lnTo>
                  <a:pt x="5999" y="1177"/>
                </a:lnTo>
                <a:lnTo>
                  <a:pt x="4199" y="2307"/>
                </a:lnTo>
                <a:lnTo>
                  <a:pt x="2999" y="3436"/>
                </a:lnTo>
                <a:lnTo>
                  <a:pt x="1799" y="4516"/>
                </a:lnTo>
                <a:lnTo>
                  <a:pt x="899" y="5645"/>
                </a:lnTo>
                <a:lnTo>
                  <a:pt x="299" y="6725"/>
                </a:lnTo>
                <a:lnTo>
                  <a:pt x="0" y="7756"/>
                </a:lnTo>
                <a:lnTo>
                  <a:pt x="0" y="8836"/>
                </a:lnTo>
                <a:lnTo>
                  <a:pt x="299" y="9867"/>
                </a:lnTo>
                <a:lnTo>
                  <a:pt x="899" y="10897"/>
                </a:lnTo>
                <a:lnTo>
                  <a:pt x="1799" y="12027"/>
                </a:lnTo>
                <a:lnTo>
                  <a:pt x="3299" y="13107"/>
                </a:lnTo>
                <a:lnTo>
                  <a:pt x="5099" y="14236"/>
                </a:lnTo>
                <a:lnTo>
                  <a:pt x="7199" y="15414"/>
                </a:lnTo>
                <a:lnTo>
                  <a:pt x="9899" y="16543"/>
                </a:lnTo>
                <a:lnTo>
                  <a:pt x="12299" y="17819"/>
                </a:lnTo>
                <a:lnTo>
                  <a:pt x="12299" y="17819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3"/>
          <p:cNvGrpSpPr/>
          <p:nvPr/>
        </p:nvGrpSpPr>
        <p:grpSpPr>
          <a:xfrm>
            <a:off x="709560" y="4525920"/>
            <a:ext cx="1877760" cy="1877760"/>
            <a:chOff x="709560" y="4525920"/>
            <a:chExt cx="1877760" cy="1877760"/>
          </a:xfrm>
        </p:grpSpPr>
        <p:sp>
          <p:nvSpPr>
            <p:cNvPr id="331" name="Freeform 4"/>
            <p:cNvSpPr/>
            <p:nvPr/>
          </p:nvSpPr>
          <p:spPr>
            <a:xfrm>
              <a:off x="709560" y="4525920"/>
              <a:ext cx="1877760" cy="187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21"/>
                  </a:moveTo>
                  <a:lnTo>
                    <a:pt x="21600" y="10821"/>
                  </a:lnTo>
                  <a:lnTo>
                    <a:pt x="21556" y="11391"/>
                  </a:lnTo>
                  <a:lnTo>
                    <a:pt x="21556" y="11916"/>
                  </a:lnTo>
                  <a:lnTo>
                    <a:pt x="21468" y="12399"/>
                  </a:lnTo>
                  <a:lnTo>
                    <a:pt x="21380" y="12968"/>
                  </a:lnTo>
                  <a:lnTo>
                    <a:pt x="21249" y="13494"/>
                  </a:lnTo>
                  <a:lnTo>
                    <a:pt x="21073" y="13976"/>
                  </a:lnTo>
                  <a:lnTo>
                    <a:pt x="20942" y="14501"/>
                  </a:lnTo>
                  <a:lnTo>
                    <a:pt x="20723" y="15027"/>
                  </a:lnTo>
                  <a:lnTo>
                    <a:pt x="20548" y="15466"/>
                  </a:lnTo>
                  <a:lnTo>
                    <a:pt x="20285" y="15947"/>
                  </a:lnTo>
                  <a:lnTo>
                    <a:pt x="20066" y="16385"/>
                  </a:lnTo>
                  <a:lnTo>
                    <a:pt x="19759" y="16824"/>
                  </a:lnTo>
                  <a:lnTo>
                    <a:pt x="19409" y="17262"/>
                  </a:lnTo>
                  <a:lnTo>
                    <a:pt x="19146" y="17656"/>
                  </a:lnTo>
                  <a:lnTo>
                    <a:pt x="18795" y="18050"/>
                  </a:lnTo>
                  <a:lnTo>
                    <a:pt x="18445" y="18445"/>
                  </a:lnTo>
                  <a:lnTo>
                    <a:pt x="18050" y="18795"/>
                  </a:lnTo>
                  <a:lnTo>
                    <a:pt x="17656" y="19102"/>
                  </a:lnTo>
                  <a:lnTo>
                    <a:pt x="17262" y="19453"/>
                  </a:lnTo>
                  <a:lnTo>
                    <a:pt x="16824" y="19759"/>
                  </a:lnTo>
                  <a:lnTo>
                    <a:pt x="16342" y="20022"/>
                  </a:lnTo>
                  <a:lnTo>
                    <a:pt x="15947" y="20329"/>
                  </a:lnTo>
                  <a:lnTo>
                    <a:pt x="15466" y="20548"/>
                  </a:lnTo>
                  <a:lnTo>
                    <a:pt x="14984" y="20723"/>
                  </a:lnTo>
                  <a:lnTo>
                    <a:pt x="14501" y="20942"/>
                  </a:lnTo>
                  <a:lnTo>
                    <a:pt x="14020" y="21117"/>
                  </a:lnTo>
                  <a:lnTo>
                    <a:pt x="13494" y="21293"/>
                  </a:lnTo>
                  <a:lnTo>
                    <a:pt x="12968" y="21336"/>
                  </a:lnTo>
                  <a:lnTo>
                    <a:pt x="12442" y="21468"/>
                  </a:lnTo>
                  <a:lnTo>
                    <a:pt x="11873" y="21556"/>
                  </a:lnTo>
                  <a:lnTo>
                    <a:pt x="11347" y="21600"/>
                  </a:lnTo>
                  <a:lnTo>
                    <a:pt x="10821" y="21600"/>
                  </a:lnTo>
                  <a:lnTo>
                    <a:pt x="10821" y="21600"/>
                  </a:lnTo>
                  <a:lnTo>
                    <a:pt x="10208" y="21600"/>
                  </a:lnTo>
                  <a:lnTo>
                    <a:pt x="9638" y="21556"/>
                  </a:lnTo>
                  <a:lnTo>
                    <a:pt x="9156" y="21468"/>
                  </a:lnTo>
                  <a:lnTo>
                    <a:pt x="8630" y="21336"/>
                  </a:lnTo>
                  <a:lnTo>
                    <a:pt x="8105" y="21293"/>
                  </a:lnTo>
                  <a:lnTo>
                    <a:pt x="7579" y="21117"/>
                  </a:lnTo>
                  <a:lnTo>
                    <a:pt x="7097" y="20942"/>
                  </a:lnTo>
                  <a:lnTo>
                    <a:pt x="6571" y="20723"/>
                  </a:lnTo>
                  <a:lnTo>
                    <a:pt x="6089" y="20548"/>
                  </a:lnTo>
                  <a:lnTo>
                    <a:pt x="5651" y="20329"/>
                  </a:lnTo>
                  <a:lnTo>
                    <a:pt x="5169" y="20022"/>
                  </a:lnTo>
                  <a:lnTo>
                    <a:pt x="4731" y="19759"/>
                  </a:lnTo>
                  <a:lnTo>
                    <a:pt x="4337" y="19453"/>
                  </a:lnTo>
                  <a:lnTo>
                    <a:pt x="3899" y="19102"/>
                  </a:lnTo>
                  <a:lnTo>
                    <a:pt x="3548" y="18795"/>
                  </a:lnTo>
                  <a:lnTo>
                    <a:pt x="3110" y="18445"/>
                  </a:lnTo>
                  <a:lnTo>
                    <a:pt x="2803" y="18050"/>
                  </a:lnTo>
                  <a:lnTo>
                    <a:pt x="2453" y="17656"/>
                  </a:lnTo>
                  <a:lnTo>
                    <a:pt x="2190" y="17262"/>
                  </a:lnTo>
                  <a:lnTo>
                    <a:pt x="1840" y="16824"/>
                  </a:lnTo>
                  <a:lnTo>
                    <a:pt x="1533" y="16385"/>
                  </a:lnTo>
                  <a:lnTo>
                    <a:pt x="1270" y="15947"/>
                  </a:lnTo>
                  <a:lnTo>
                    <a:pt x="1051" y="15466"/>
                  </a:lnTo>
                  <a:lnTo>
                    <a:pt x="832" y="15027"/>
                  </a:lnTo>
                  <a:lnTo>
                    <a:pt x="656" y="14501"/>
                  </a:lnTo>
                  <a:lnTo>
                    <a:pt x="481" y="13976"/>
                  </a:lnTo>
                  <a:lnTo>
                    <a:pt x="306" y="13494"/>
                  </a:lnTo>
                  <a:lnTo>
                    <a:pt x="218" y="12968"/>
                  </a:lnTo>
                  <a:lnTo>
                    <a:pt x="87" y="12399"/>
                  </a:lnTo>
                  <a:lnTo>
                    <a:pt x="0" y="11916"/>
                  </a:lnTo>
                  <a:lnTo>
                    <a:pt x="0" y="11391"/>
                  </a:lnTo>
                  <a:lnTo>
                    <a:pt x="0" y="10821"/>
                  </a:lnTo>
                  <a:lnTo>
                    <a:pt x="0" y="10821"/>
                  </a:lnTo>
                  <a:lnTo>
                    <a:pt x="0" y="10208"/>
                  </a:lnTo>
                  <a:lnTo>
                    <a:pt x="0" y="9682"/>
                  </a:lnTo>
                  <a:lnTo>
                    <a:pt x="87" y="9156"/>
                  </a:lnTo>
                  <a:lnTo>
                    <a:pt x="218" y="8630"/>
                  </a:lnTo>
                  <a:lnTo>
                    <a:pt x="306" y="8061"/>
                  </a:lnTo>
                  <a:lnTo>
                    <a:pt x="481" y="7579"/>
                  </a:lnTo>
                  <a:lnTo>
                    <a:pt x="656" y="7097"/>
                  </a:lnTo>
                  <a:lnTo>
                    <a:pt x="832" y="6571"/>
                  </a:lnTo>
                  <a:lnTo>
                    <a:pt x="1051" y="6133"/>
                  </a:lnTo>
                  <a:lnTo>
                    <a:pt x="1270" y="5651"/>
                  </a:lnTo>
                  <a:lnTo>
                    <a:pt x="1533" y="5213"/>
                  </a:lnTo>
                  <a:lnTo>
                    <a:pt x="1840" y="4775"/>
                  </a:lnTo>
                  <a:lnTo>
                    <a:pt x="2190" y="4293"/>
                  </a:lnTo>
                  <a:lnTo>
                    <a:pt x="2453" y="3942"/>
                  </a:lnTo>
                  <a:lnTo>
                    <a:pt x="2803" y="3504"/>
                  </a:lnTo>
                  <a:lnTo>
                    <a:pt x="3110" y="3154"/>
                  </a:lnTo>
                  <a:lnTo>
                    <a:pt x="3548" y="2759"/>
                  </a:lnTo>
                  <a:lnTo>
                    <a:pt x="3899" y="2453"/>
                  </a:lnTo>
                  <a:lnTo>
                    <a:pt x="4337" y="2146"/>
                  </a:lnTo>
                  <a:lnTo>
                    <a:pt x="4731" y="1840"/>
                  </a:lnTo>
                  <a:lnTo>
                    <a:pt x="5169" y="1533"/>
                  </a:lnTo>
                  <a:lnTo>
                    <a:pt x="5651" y="1270"/>
                  </a:lnTo>
                  <a:lnTo>
                    <a:pt x="6089" y="1095"/>
                  </a:lnTo>
                  <a:lnTo>
                    <a:pt x="6571" y="876"/>
                  </a:lnTo>
                  <a:lnTo>
                    <a:pt x="7097" y="613"/>
                  </a:lnTo>
                  <a:lnTo>
                    <a:pt x="7579" y="481"/>
                  </a:lnTo>
                  <a:lnTo>
                    <a:pt x="8105" y="350"/>
                  </a:lnTo>
                  <a:lnTo>
                    <a:pt x="8630" y="218"/>
                  </a:lnTo>
                  <a:lnTo>
                    <a:pt x="9156" y="131"/>
                  </a:lnTo>
                  <a:lnTo>
                    <a:pt x="9638" y="43"/>
                  </a:lnTo>
                  <a:lnTo>
                    <a:pt x="10208" y="0"/>
                  </a:lnTo>
                  <a:lnTo>
                    <a:pt x="10821" y="0"/>
                  </a:lnTo>
                  <a:lnTo>
                    <a:pt x="10821" y="0"/>
                  </a:lnTo>
                  <a:lnTo>
                    <a:pt x="11347" y="0"/>
                  </a:lnTo>
                  <a:lnTo>
                    <a:pt x="11873" y="43"/>
                  </a:lnTo>
                  <a:lnTo>
                    <a:pt x="12442" y="131"/>
                  </a:lnTo>
                  <a:lnTo>
                    <a:pt x="12968" y="218"/>
                  </a:lnTo>
                  <a:lnTo>
                    <a:pt x="13494" y="350"/>
                  </a:lnTo>
                  <a:lnTo>
                    <a:pt x="14020" y="481"/>
                  </a:lnTo>
                  <a:lnTo>
                    <a:pt x="14501" y="613"/>
                  </a:lnTo>
                  <a:lnTo>
                    <a:pt x="14984" y="876"/>
                  </a:lnTo>
                  <a:lnTo>
                    <a:pt x="15466" y="1095"/>
                  </a:lnTo>
                  <a:lnTo>
                    <a:pt x="15947" y="1270"/>
                  </a:lnTo>
                  <a:lnTo>
                    <a:pt x="16342" y="1533"/>
                  </a:lnTo>
                  <a:lnTo>
                    <a:pt x="16824" y="1840"/>
                  </a:lnTo>
                  <a:lnTo>
                    <a:pt x="17262" y="2146"/>
                  </a:lnTo>
                  <a:lnTo>
                    <a:pt x="17656" y="2453"/>
                  </a:lnTo>
                  <a:lnTo>
                    <a:pt x="18050" y="2759"/>
                  </a:lnTo>
                  <a:lnTo>
                    <a:pt x="18445" y="3154"/>
                  </a:lnTo>
                  <a:lnTo>
                    <a:pt x="18795" y="3504"/>
                  </a:lnTo>
                  <a:lnTo>
                    <a:pt x="19146" y="3942"/>
                  </a:lnTo>
                  <a:lnTo>
                    <a:pt x="19409" y="4293"/>
                  </a:lnTo>
                  <a:lnTo>
                    <a:pt x="19759" y="4775"/>
                  </a:lnTo>
                  <a:lnTo>
                    <a:pt x="20066" y="5213"/>
                  </a:lnTo>
                  <a:lnTo>
                    <a:pt x="20285" y="5651"/>
                  </a:lnTo>
                  <a:lnTo>
                    <a:pt x="20548" y="6133"/>
                  </a:lnTo>
                  <a:lnTo>
                    <a:pt x="20723" y="6571"/>
                  </a:lnTo>
                  <a:lnTo>
                    <a:pt x="20942" y="7097"/>
                  </a:lnTo>
                  <a:lnTo>
                    <a:pt x="21073" y="7579"/>
                  </a:lnTo>
                  <a:lnTo>
                    <a:pt x="21249" y="8061"/>
                  </a:lnTo>
                  <a:lnTo>
                    <a:pt x="21380" y="8630"/>
                  </a:lnTo>
                  <a:lnTo>
                    <a:pt x="21468" y="9156"/>
                  </a:lnTo>
                  <a:lnTo>
                    <a:pt x="21556" y="9682"/>
                  </a:lnTo>
                  <a:lnTo>
                    <a:pt x="21556" y="10208"/>
                  </a:lnTo>
                  <a:lnTo>
                    <a:pt x="21600" y="10821"/>
                  </a:lnTo>
                  <a:lnTo>
                    <a:pt x="21600" y="1082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941400" y="4766040"/>
              <a:ext cx="1402560" cy="139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70"/>
                  </a:moveTo>
                  <a:lnTo>
                    <a:pt x="21600" y="10770"/>
                  </a:lnTo>
                  <a:lnTo>
                    <a:pt x="21600" y="11888"/>
                  </a:lnTo>
                  <a:lnTo>
                    <a:pt x="21423" y="13006"/>
                  </a:lnTo>
                  <a:lnTo>
                    <a:pt x="21189" y="14007"/>
                  </a:lnTo>
                  <a:lnTo>
                    <a:pt x="20778" y="15007"/>
                  </a:lnTo>
                  <a:lnTo>
                    <a:pt x="20367" y="15949"/>
                  </a:lnTo>
                  <a:lnTo>
                    <a:pt x="19780" y="16832"/>
                  </a:lnTo>
                  <a:lnTo>
                    <a:pt x="19134" y="17656"/>
                  </a:lnTo>
                  <a:lnTo>
                    <a:pt x="18430" y="18421"/>
                  </a:lnTo>
                  <a:lnTo>
                    <a:pt x="17667" y="19127"/>
                  </a:lnTo>
                  <a:lnTo>
                    <a:pt x="16845" y="19775"/>
                  </a:lnTo>
                  <a:lnTo>
                    <a:pt x="15965" y="20305"/>
                  </a:lnTo>
                  <a:lnTo>
                    <a:pt x="15026" y="20775"/>
                  </a:lnTo>
                  <a:lnTo>
                    <a:pt x="14086" y="21129"/>
                  </a:lnTo>
                  <a:lnTo>
                    <a:pt x="12971" y="21364"/>
                  </a:lnTo>
                  <a:lnTo>
                    <a:pt x="1191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84" y="21600"/>
                  </a:lnTo>
                  <a:lnTo>
                    <a:pt x="8628" y="21364"/>
                  </a:lnTo>
                  <a:lnTo>
                    <a:pt x="7571" y="21129"/>
                  </a:lnTo>
                  <a:lnTo>
                    <a:pt x="6632" y="20775"/>
                  </a:lnTo>
                  <a:lnTo>
                    <a:pt x="5634" y="20305"/>
                  </a:lnTo>
                  <a:lnTo>
                    <a:pt x="4754" y="19775"/>
                  </a:lnTo>
                  <a:lnTo>
                    <a:pt x="3932" y="19127"/>
                  </a:lnTo>
                  <a:lnTo>
                    <a:pt x="3169" y="18421"/>
                  </a:lnTo>
                  <a:lnTo>
                    <a:pt x="2523" y="17656"/>
                  </a:lnTo>
                  <a:lnTo>
                    <a:pt x="1819" y="16832"/>
                  </a:lnTo>
                  <a:lnTo>
                    <a:pt x="1291" y="15949"/>
                  </a:lnTo>
                  <a:lnTo>
                    <a:pt x="821" y="15007"/>
                  </a:lnTo>
                  <a:lnTo>
                    <a:pt x="469" y="14007"/>
                  </a:lnTo>
                  <a:lnTo>
                    <a:pt x="234" y="13006"/>
                  </a:lnTo>
                  <a:lnTo>
                    <a:pt x="58" y="11888"/>
                  </a:lnTo>
                  <a:lnTo>
                    <a:pt x="0" y="10770"/>
                  </a:lnTo>
                  <a:lnTo>
                    <a:pt x="0" y="10770"/>
                  </a:lnTo>
                  <a:lnTo>
                    <a:pt x="58" y="9711"/>
                  </a:lnTo>
                  <a:lnTo>
                    <a:pt x="234" y="8592"/>
                  </a:lnTo>
                  <a:lnTo>
                    <a:pt x="469" y="7592"/>
                  </a:lnTo>
                  <a:lnTo>
                    <a:pt x="821" y="6532"/>
                  </a:lnTo>
                  <a:lnTo>
                    <a:pt x="1291" y="5649"/>
                  </a:lnTo>
                  <a:lnTo>
                    <a:pt x="1819" y="4767"/>
                  </a:lnTo>
                  <a:lnTo>
                    <a:pt x="2523" y="3943"/>
                  </a:lnTo>
                  <a:lnTo>
                    <a:pt x="3169" y="3177"/>
                  </a:lnTo>
                  <a:lnTo>
                    <a:pt x="3932" y="2412"/>
                  </a:lnTo>
                  <a:lnTo>
                    <a:pt x="4754" y="1824"/>
                  </a:lnTo>
                  <a:lnTo>
                    <a:pt x="5634" y="1294"/>
                  </a:lnTo>
                  <a:lnTo>
                    <a:pt x="6632" y="764"/>
                  </a:lnTo>
                  <a:lnTo>
                    <a:pt x="7571" y="411"/>
                  </a:lnTo>
                  <a:lnTo>
                    <a:pt x="8628" y="176"/>
                  </a:lnTo>
                  <a:lnTo>
                    <a:pt x="968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15" y="0"/>
                  </a:lnTo>
                  <a:lnTo>
                    <a:pt x="12971" y="176"/>
                  </a:lnTo>
                  <a:lnTo>
                    <a:pt x="14086" y="411"/>
                  </a:lnTo>
                  <a:lnTo>
                    <a:pt x="15026" y="764"/>
                  </a:lnTo>
                  <a:lnTo>
                    <a:pt x="15965" y="1294"/>
                  </a:lnTo>
                  <a:lnTo>
                    <a:pt x="16845" y="1824"/>
                  </a:lnTo>
                  <a:lnTo>
                    <a:pt x="17667" y="2412"/>
                  </a:lnTo>
                  <a:lnTo>
                    <a:pt x="18430" y="3177"/>
                  </a:lnTo>
                  <a:lnTo>
                    <a:pt x="19134" y="3943"/>
                  </a:lnTo>
                  <a:lnTo>
                    <a:pt x="19780" y="4767"/>
                  </a:lnTo>
                  <a:lnTo>
                    <a:pt x="20367" y="5649"/>
                  </a:lnTo>
                  <a:lnTo>
                    <a:pt x="20778" y="6532"/>
                  </a:lnTo>
                  <a:lnTo>
                    <a:pt x="21189" y="7592"/>
                  </a:lnTo>
                  <a:lnTo>
                    <a:pt x="21423" y="8592"/>
                  </a:lnTo>
                  <a:lnTo>
                    <a:pt x="21600" y="9711"/>
                  </a:lnTo>
                  <a:lnTo>
                    <a:pt x="21600" y="10770"/>
                  </a:lnTo>
                  <a:lnTo>
                    <a:pt x="21600" y="1077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1189800" y="5009400"/>
              <a:ext cx="913680" cy="91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09"/>
                  </a:moveTo>
                  <a:lnTo>
                    <a:pt x="21600" y="10709"/>
                  </a:lnTo>
                  <a:lnTo>
                    <a:pt x="21600" y="11789"/>
                  </a:lnTo>
                  <a:lnTo>
                    <a:pt x="21329" y="12869"/>
                  </a:lnTo>
                  <a:lnTo>
                    <a:pt x="21059" y="13949"/>
                  </a:lnTo>
                  <a:lnTo>
                    <a:pt x="20789" y="14939"/>
                  </a:lnTo>
                  <a:lnTo>
                    <a:pt x="20250" y="15839"/>
                  </a:lnTo>
                  <a:lnTo>
                    <a:pt x="19709" y="16739"/>
                  </a:lnTo>
                  <a:lnTo>
                    <a:pt x="19079" y="17550"/>
                  </a:lnTo>
                  <a:lnTo>
                    <a:pt x="18359" y="18449"/>
                  </a:lnTo>
                  <a:lnTo>
                    <a:pt x="17729" y="18989"/>
                  </a:lnTo>
                  <a:lnTo>
                    <a:pt x="16829" y="19709"/>
                  </a:lnTo>
                  <a:lnTo>
                    <a:pt x="15929" y="20339"/>
                  </a:lnTo>
                  <a:lnTo>
                    <a:pt x="15029" y="20699"/>
                  </a:lnTo>
                  <a:lnTo>
                    <a:pt x="13949" y="21059"/>
                  </a:lnTo>
                  <a:lnTo>
                    <a:pt x="12959" y="21329"/>
                  </a:lnTo>
                  <a:lnTo>
                    <a:pt x="11879" y="21509"/>
                  </a:lnTo>
                  <a:lnTo>
                    <a:pt x="10709" y="21600"/>
                  </a:lnTo>
                  <a:lnTo>
                    <a:pt x="10709" y="21600"/>
                  </a:lnTo>
                  <a:lnTo>
                    <a:pt x="9629" y="21509"/>
                  </a:lnTo>
                  <a:lnTo>
                    <a:pt x="8639" y="21329"/>
                  </a:lnTo>
                  <a:lnTo>
                    <a:pt x="7559" y="21059"/>
                  </a:lnTo>
                  <a:lnTo>
                    <a:pt x="6479" y="20699"/>
                  </a:lnTo>
                  <a:lnTo>
                    <a:pt x="5669" y="20339"/>
                  </a:lnTo>
                  <a:lnTo>
                    <a:pt x="4769" y="19709"/>
                  </a:lnTo>
                  <a:lnTo>
                    <a:pt x="3869" y="18989"/>
                  </a:lnTo>
                  <a:lnTo>
                    <a:pt x="3149" y="18449"/>
                  </a:lnTo>
                  <a:lnTo>
                    <a:pt x="2429" y="17550"/>
                  </a:lnTo>
                  <a:lnTo>
                    <a:pt x="1889" y="16739"/>
                  </a:lnTo>
                  <a:lnTo>
                    <a:pt x="1169" y="15839"/>
                  </a:lnTo>
                  <a:lnTo>
                    <a:pt x="719" y="14939"/>
                  </a:lnTo>
                  <a:lnTo>
                    <a:pt x="449" y="13949"/>
                  </a:lnTo>
                  <a:lnTo>
                    <a:pt x="179" y="12869"/>
                  </a:lnTo>
                  <a:lnTo>
                    <a:pt x="0" y="1178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9629"/>
                  </a:lnTo>
                  <a:lnTo>
                    <a:pt x="179" y="8549"/>
                  </a:lnTo>
                  <a:lnTo>
                    <a:pt x="449" y="7469"/>
                  </a:lnTo>
                  <a:lnTo>
                    <a:pt x="719" y="6479"/>
                  </a:lnTo>
                  <a:lnTo>
                    <a:pt x="1169" y="5489"/>
                  </a:lnTo>
                  <a:lnTo>
                    <a:pt x="1889" y="4679"/>
                  </a:lnTo>
                  <a:lnTo>
                    <a:pt x="2429" y="3779"/>
                  </a:lnTo>
                  <a:lnTo>
                    <a:pt x="3149" y="3059"/>
                  </a:lnTo>
                  <a:lnTo>
                    <a:pt x="3869" y="2429"/>
                  </a:lnTo>
                  <a:lnTo>
                    <a:pt x="4769" y="1799"/>
                  </a:lnTo>
                  <a:lnTo>
                    <a:pt x="5669" y="1169"/>
                  </a:lnTo>
                  <a:lnTo>
                    <a:pt x="6479" y="719"/>
                  </a:lnTo>
                  <a:lnTo>
                    <a:pt x="7559" y="359"/>
                  </a:lnTo>
                  <a:lnTo>
                    <a:pt x="8639" y="179"/>
                  </a:lnTo>
                  <a:lnTo>
                    <a:pt x="9629" y="0"/>
                  </a:lnTo>
                  <a:lnTo>
                    <a:pt x="10709" y="0"/>
                  </a:lnTo>
                  <a:lnTo>
                    <a:pt x="10709" y="0"/>
                  </a:lnTo>
                  <a:lnTo>
                    <a:pt x="11879" y="0"/>
                  </a:lnTo>
                  <a:lnTo>
                    <a:pt x="12959" y="179"/>
                  </a:lnTo>
                  <a:lnTo>
                    <a:pt x="13949" y="359"/>
                  </a:lnTo>
                  <a:lnTo>
                    <a:pt x="15029" y="719"/>
                  </a:lnTo>
                  <a:lnTo>
                    <a:pt x="15929" y="1169"/>
                  </a:lnTo>
                  <a:lnTo>
                    <a:pt x="16829" y="1799"/>
                  </a:lnTo>
                  <a:lnTo>
                    <a:pt x="17729" y="2429"/>
                  </a:lnTo>
                  <a:lnTo>
                    <a:pt x="18359" y="3059"/>
                  </a:lnTo>
                  <a:lnTo>
                    <a:pt x="19079" y="3779"/>
                  </a:lnTo>
                  <a:lnTo>
                    <a:pt x="19709" y="4679"/>
                  </a:lnTo>
                  <a:lnTo>
                    <a:pt x="20250" y="5489"/>
                  </a:lnTo>
                  <a:lnTo>
                    <a:pt x="20789" y="6479"/>
                  </a:lnTo>
                  <a:lnTo>
                    <a:pt x="21059" y="7469"/>
                  </a:lnTo>
                  <a:lnTo>
                    <a:pt x="21329" y="8549"/>
                  </a:lnTo>
                  <a:lnTo>
                    <a:pt x="21600" y="9629"/>
                  </a:lnTo>
                  <a:lnTo>
                    <a:pt x="21600" y="10709"/>
                  </a:lnTo>
                  <a:lnTo>
                    <a:pt x="21600" y="10709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7"/>
          <p:cNvGrpSpPr/>
          <p:nvPr/>
        </p:nvGrpSpPr>
        <p:grpSpPr>
          <a:xfrm>
            <a:off x="0" y="3240"/>
            <a:ext cx="1267920" cy="6846480"/>
            <a:chOff x="0" y="3240"/>
            <a:chExt cx="1267920" cy="6846480"/>
          </a:xfrm>
        </p:grpSpPr>
        <p:sp>
          <p:nvSpPr>
            <p:cNvPr id="335" name="Freeform 8"/>
            <p:cNvSpPr/>
            <p:nvPr/>
          </p:nvSpPr>
          <p:spPr>
            <a:xfrm>
              <a:off x="4680" y="7920"/>
              <a:ext cx="962640" cy="684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086" y="11"/>
                  </a:moveTo>
                  <a:lnTo>
                    <a:pt x="14086" y="11"/>
                  </a:lnTo>
                  <a:lnTo>
                    <a:pt x="14599" y="95"/>
                  </a:lnTo>
                  <a:lnTo>
                    <a:pt x="15367" y="228"/>
                  </a:lnTo>
                  <a:lnTo>
                    <a:pt x="16050" y="408"/>
                  </a:lnTo>
                  <a:lnTo>
                    <a:pt x="16562" y="504"/>
                  </a:lnTo>
                  <a:lnTo>
                    <a:pt x="16989" y="625"/>
                  </a:lnTo>
                  <a:lnTo>
                    <a:pt x="17416" y="757"/>
                  </a:lnTo>
                  <a:lnTo>
                    <a:pt x="17928" y="889"/>
                  </a:lnTo>
                  <a:lnTo>
                    <a:pt x="18440" y="1058"/>
                  </a:lnTo>
                  <a:lnTo>
                    <a:pt x="18867" y="1238"/>
                  </a:lnTo>
                  <a:lnTo>
                    <a:pt x="19380" y="1407"/>
                  </a:lnTo>
                  <a:lnTo>
                    <a:pt x="19807" y="1599"/>
                  </a:lnTo>
                  <a:lnTo>
                    <a:pt x="20233" y="1803"/>
                  </a:lnTo>
                  <a:lnTo>
                    <a:pt x="20575" y="2020"/>
                  </a:lnTo>
                  <a:lnTo>
                    <a:pt x="20916" y="2248"/>
                  </a:lnTo>
                  <a:lnTo>
                    <a:pt x="21172" y="2477"/>
                  </a:lnTo>
                  <a:lnTo>
                    <a:pt x="21428" y="2729"/>
                  </a:lnTo>
                  <a:lnTo>
                    <a:pt x="21600" y="3006"/>
                  </a:lnTo>
                  <a:lnTo>
                    <a:pt x="21600" y="3271"/>
                  </a:lnTo>
                  <a:lnTo>
                    <a:pt x="21600" y="3559"/>
                  </a:lnTo>
                  <a:lnTo>
                    <a:pt x="21600" y="3860"/>
                  </a:lnTo>
                  <a:lnTo>
                    <a:pt x="21428" y="4173"/>
                  </a:lnTo>
                  <a:lnTo>
                    <a:pt x="21087" y="4485"/>
                  </a:lnTo>
                  <a:lnTo>
                    <a:pt x="20746" y="4822"/>
                  </a:lnTo>
                  <a:lnTo>
                    <a:pt x="20233" y="5159"/>
                  </a:lnTo>
                  <a:lnTo>
                    <a:pt x="19636" y="5519"/>
                  </a:lnTo>
                  <a:lnTo>
                    <a:pt x="18867" y="5880"/>
                  </a:lnTo>
                  <a:lnTo>
                    <a:pt x="18099" y="6265"/>
                  </a:lnTo>
                  <a:lnTo>
                    <a:pt x="18099" y="6265"/>
                  </a:lnTo>
                  <a:lnTo>
                    <a:pt x="16221" y="6999"/>
                  </a:lnTo>
                  <a:lnTo>
                    <a:pt x="14513" y="7696"/>
                  </a:lnTo>
                  <a:lnTo>
                    <a:pt x="12976" y="8310"/>
                  </a:lnTo>
                  <a:lnTo>
                    <a:pt x="11440" y="8911"/>
                  </a:lnTo>
                  <a:lnTo>
                    <a:pt x="10244" y="9452"/>
                  </a:lnTo>
                  <a:lnTo>
                    <a:pt x="9049" y="9981"/>
                  </a:lnTo>
                  <a:lnTo>
                    <a:pt x="8537" y="10234"/>
                  </a:lnTo>
                  <a:lnTo>
                    <a:pt x="8025" y="10475"/>
                  </a:lnTo>
                  <a:lnTo>
                    <a:pt x="7598" y="10715"/>
                  </a:lnTo>
                  <a:lnTo>
                    <a:pt x="7171" y="10932"/>
                  </a:lnTo>
                  <a:lnTo>
                    <a:pt x="6829" y="11160"/>
                  </a:lnTo>
                  <a:lnTo>
                    <a:pt x="6659" y="11389"/>
                  </a:lnTo>
                  <a:lnTo>
                    <a:pt x="6402" y="11617"/>
                  </a:lnTo>
                  <a:lnTo>
                    <a:pt x="6232" y="11846"/>
                  </a:lnTo>
                  <a:lnTo>
                    <a:pt x="6146" y="12062"/>
                  </a:lnTo>
                  <a:lnTo>
                    <a:pt x="6146" y="12279"/>
                  </a:lnTo>
                  <a:lnTo>
                    <a:pt x="6146" y="12507"/>
                  </a:lnTo>
                  <a:lnTo>
                    <a:pt x="6232" y="12711"/>
                  </a:lnTo>
                  <a:lnTo>
                    <a:pt x="6488" y="12940"/>
                  </a:lnTo>
                  <a:lnTo>
                    <a:pt x="6744" y="13169"/>
                  </a:lnTo>
                  <a:lnTo>
                    <a:pt x="7085" y="13397"/>
                  </a:lnTo>
                  <a:lnTo>
                    <a:pt x="7427" y="13626"/>
                  </a:lnTo>
                  <a:lnTo>
                    <a:pt x="7939" y="13866"/>
                  </a:lnTo>
                  <a:lnTo>
                    <a:pt x="8537" y="14107"/>
                  </a:lnTo>
                  <a:lnTo>
                    <a:pt x="9049" y="14347"/>
                  </a:lnTo>
                  <a:lnTo>
                    <a:pt x="9903" y="14600"/>
                  </a:lnTo>
                  <a:lnTo>
                    <a:pt x="9903" y="14600"/>
                  </a:lnTo>
                  <a:lnTo>
                    <a:pt x="12464" y="15550"/>
                  </a:lnTo>
                  <a:lnTo>
                    <a:pt x="13574" y="15935"/>
                  </a:lnTo>
                  <a:lnTo>
                    <a:pt x="14513" y="16295"/>
                  </a:lnTo>
                  <a:lnTo>
                    <a:pt x="15452" y="16620"/>
                  </a:lnTo>
                  <a:lnTo>
                    <a:pt x="16221" y="16933"/>
                  </a:lnTo>
                  <a:lnTo>
                    <a:pt x="16904" y="17210"/>
                  </a:lnTo>
                  <a:lnTo>
                    <a:pt x="17331" y="17462"/>
                  </a:lnTo>
                  <a:lnTo>
                    <a:pt x="17843" y="17703"/>
                  </a:lnTo>
                  <a:lnTo>
                    <a:pt x="18184" y="17931"/>
                  </a:lnTo>
                  <a:lnTo>
                    <a:pt x="18526" y="18148"/>
                  </a:lnTo>
                  <a:lnTo>
                    <a:pt x="18696" y="18364"/>
                  </a:lnTo>
                  <a:lnTo>
                    <a:pt x="18953" y="18581"/>
                  </a:lnTo>
                  <a:lnTo>
                    <a:pt x="19038" y="18809"/>
                  </a:lnTo>
                  <a:lnTo>
                    <a:pt x="19209" y="19038"/>
                  </a:lnTo>
                  <a:lnTo>
                    <a:pt x="19294" y="19290"/>
                  </a:lnTo>
                  <a:lnTo>
                    <a:pt x="19294" y="19290"/>
                  </a:lnTo>
                  <a:lnTo>
                    <a:pt x="19380" y="19543"/>
                  </a:lnTo>
                  <a:lnTo>
                    <a:pt x="19294" y="19783"/>
                  </a:lnTo>
                  <a:lnTo>
                    <a:pt x="19123" y="20000"/>
                  </a:lnTo>
                  <a:lnTo>
                    <a:pt x="18953" y="20216"/>
                  </a:lnTo>
                  <a:lnTo>
                    <a:pt x="18696" y="20433"/>
                  </a:lnTo>
                  <a:lnTo>
                    <a:pt x="18355" y="20613"/>
                  </a:lnTo>
                  <a:lnTo>
                    <a:pt x="17928" y="20794"/>
                  </a:lnTo>
                  <a:lnTo>
                    <a:pt x="17501" y="20950"/>
                  </a:lnTo>
                  <a:lnTo>
                    <a:pt x="17245" y="21094"/>
                  </a:lnTo>
                  <a:lnTo>
                    <a:pt x="16818" y="21215"/>
                  </a:lnTo>
                  <a:lnTo>
                    <a:pt x="16477" y="21335"/>
                  </a:lnTo>
                  <a:lnTo>
                    <a:pt x="16135" y="21407"/>
                  </a:lnTo>
                  <a:lnTo>
                    <a:pt x="15708" y="21551"/>
                  </a:lnTo>
                  <a:lnTo>
                    <a:pt x="15452" y="21600"/>
                  </a:lnTo>
                  <a:lnTo>
                    <a:pt x="0" y="21587"/>
                  </a:lnTo>
                  <a:lnTo>
                    <a:pt x="85" y="0"/>
                  </a:lnTo>
                  <a:lnTo>
                    <a:pt x="14086" y="1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0" y="3240"/>
              <a:ext cx="784800" cy="684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91" y="0"/>
                  </a:moveTo>
                  <a:lnTo>
                    <a:pt x="9391" y="0"/>
                  </a:lnTo>
                  <a:lnTo>
                    <a:pt x="10017" y="35"/>
                  </a:lnTo>
                  <a:lnTo>
                    <a:pt x="10852" y="108"/>
                  </a:lnTo>
                  <a:lnTo>
                    <a:pt x="11686" y="228"/>
                  </a:lnTo>
                  <a:lnTo>
                    <a:pt x="12730" y="360"/>
                  </a:lnTo>
                  <a:lnTo>
                    <a:pt x="13356" y="444"/>
                  </a:lnTo>
                  <a:lnTo>
                    <a:pt x="13982" y="528"/>
                  </a:lnTo>
                  <a:lnTo>
                    <a:pt x="14504" y="636"/>
                  </a:lnTo>
                  <a:lnTo>
                    <a:pt x="15130" y="745"/>
                  </a:lnTo>
                  <a:lnTo>
                    <a:pt x="15860" y="853"/>
                  </a:lnTo>
                  <a:lnTo>
                    <a:pt x="16486" y="985"/>
                  </a:lnTo>
                  <a:lnTo>
                    <a:pt x="17112" y="1117"/>
                  </a:lnTo>
                  <a:lnTo>
                    <a:pt x="17738" y="1273"/>
                  </a:lnTo>
                  <a:lnTo>
                    <a:pt x="18260" y="1442"/>
                  </a:lnTo>
                  <a:lnTo>
                    <a:pt x="18782" y="1610"/>
                  </a:lnTo>
                  <a:lnTo>
                    <a:pt x="19408" y="1790"/>
                  </a:lnTo>
                  <a:lnTo>
                    <a:pt x="19930" y="1983"/>
                  </a:lnTo>
                  <a:lnTo>
                    <a:pt x="20243" y="2187"/>
                  </a:lnTo>
                  <a:lnTo>
                    <a:pt x="20660" y="2403"/>
                  </a:lnTo>
                  <a:lnTo>
                    <a:pt x="20973" y="2632"/>
                  </a:lnTo>
                  <a:lnTo>
                    <a:pt x="21286" y="2872"/>
                  </a:lnTo>
                  <a:lnTo>
                    <a:pt x="21495" y="3112"/>
                  </a:lnTo>
                  <a:lnTo>
                    <a:pt x="21600" y="3389"/>
                  </a:lnTo>
                  <a:lnTo>
                    <a:pt x="21600" y="3666"/>
                  </a:lnTo>
                  <a:lnTo>
                    <a:pt x="21600" y="3954"/>
                  </a:lnTo>
                  <a:lnTo>
                    <a:pt x="21391" y="4266"/>
                  </a:lnTo>
                  <a:lnTo>
                    <a:pt x="21078" y="4579"/>
                  </a:lnTo>
                  <a:lnTo>
                    <a:pt x="21078" y="4579"/>
                  </a:lnTo>
                  <a:lnTo>
                    <a:pt x="20869" y="4903"/>
                  </a:lnTo>
                  <a:lnTo>
                    <a:pt x="20452" y="5204"/>
                  </a:lnTo>
                  <a:lnTo>
                    <a:pt x="20034" y="5492"/>
                  </a:lnTo>
                  <a:lnTo>
                    <a:pt x="19617" y="5745"/>
                  </a:lnTo>
                  <a:lnTo>
                    <a:pt x="19199" y="6009"/>
                  </a:lnTo>
                  <a:lnTo>
                    <a:pt x="18678" y="6262"/>
                  </a:lnTo>
                  <a:lnTo>
                    <a:pt x="18156" y="6490"/>
                  </a:lnTo>
                  <a:lnTo>
                    <a:pt x="17738" y="6719"/>
                  </a:lnTo>
                  <a:lnTo>
                    <a:pt x="16695" y="7139"/>
                  </a:lnTo>
                  <a:lnTo>
                    <a:pt x="15651" y="7524"/>
                  </a:lnTo>
                  <a:lnTo>
                    <a:pt x="13564" y="8281"/>
                  </a:lnTo>
                  <a:lnTo>
                    <a:pt x="12730" y="8654"/>
                  </a:lnTo>
                  <a:lnTo>
                    <a:pt x="12312" y="8846"/>
                  </a:lnTo>
                  <a:lnTo>
                    <a:pt x="11895" y="9026"/>
                  </a:lnTo>
                  <a:lnTo>
                    <a:pt x="11477" y="9231"/>
                  </a:lnTo>
                  <a:lnTo>
                    <a:pt x="11165" y="9435"/>
                  </a:lnTo>
                  <a:lnTo>
                    <a:pt x="10852" y="9639"/>
                  </a:lnTo>
                  <a:lnTo>
                    <a:pt x="10747" y="9856"/>
                  </a:lnTo>
                  <a:lnTo>
                    <a:pt x="10434" y="10096"/>
                  </a:lnTo>
                  <a:lnTo>
                    <a:pt x="10330" y="10336"/>
                  </a:lnTo>
                  <a:lnTo>
                    <a:pt x="10121" y="10601"/>
                  </a:lnTo>
                  <a:lnTo>
                    <a:pt x="9912" y="10841"/>
                  </a:lnTo>
                  <a:lnTo>
                    <a:pt x="9912" y="11130"/>
                  </a:lnTo>
                  <a:lnTo>
                    <a:pt x="9912" y="11430"/>
                  </a:lnTo>
                  <a:lnTo>
                    <a:pt x="10121" y="11743"/>
                  </a:lnTo>
                  <a:lnTo>
                    <a:pt x="10225" y="12080"/>
                  </a:lnTo>
                  <a:lnTo>
                    <a:pt x="10225" y="12080"/>
                  </a:lnTo>
                  <a:lnTo>
                    <a:pt x="10538" y="12416"/>
                  </a:lnTo>
                  <a:lnTo>
                    <a:pt x="10747" y="12729"/>
                  </a:lnTo>
                  <a:lnTo>
                    <a:pt x="10852" y="13053"/>
                  </a:lnTo>
                  <a:lnTo>
                    <a:pt x="11165" y="13329"/>
                  </a:lnTo>
                  <a:lnTo>
                    <a:pt x="11582" y="13618"/>
                  </a:lnTo>
                  <a:lnTo>
                    <a:pt x="11999" y="13871"/>
                  </a:lnTo>
                  <a:lnTo>
                    <a:pt x="12417" y="14123"/>
                  </a:lnTo>
                  <a:lnTo>
                    <a:pt x="12730" y="14363"/>
                  </a:lnTo>
                  <a:lnTo>
                    <a:pt x="13669" y="14820"/>
                  </a:lnTo>
                  <a:lnTo>
                    <a:pt x="14504" y="15241"/>
                  </a:lnTo>
                  <a:lnTo>
                    <a:pt x="15547" y="15625"/>
                  </a:lnTo>
                  <a:lnTo>
                    <a:pt x="16278" y="15986"/>
                  </a:lnTo>
                  <a:lnTo>
                    <a:pt x="17112" y="16346"/>
                  </a:lnTo>
                  <a:lnTo>
                    <a:pt x="17947" y="16695"/>
                  </a:lnTo>
                  <a:lnTo>
                    <a:pt x="18573" y="17032"/>
                  </a:lnTo>
                  <a:lnTo>
                    <a:pt x="18886" y="17200"/>
                  </a:lnTo>
                  <a:lnTo>
                    <a:pt x="19095" y="17368"/>
                  </a:lnTo>
                  <a:lnTo>
                    <a:pt x="19408" y="17549"/>
                  </a:lnTo>
                  <a:lnTo>
                    <a:pt x="19513" y="17729"/>
                  </a:lnTo>
                  <a:lnTo>
                    <a:pt x="19617" y="17909"/>
                  </a:lnTo>
                  <a:lnTo>
                    <a:pt x="19721" y="18102"/>
                  </a:lnTo>
                  <a:lnTo>
                    <a:pt x="19721" y="18294"/>
                  </a:lnTo>
                  <a:lnTo>
                    <a:pt x="19721" y="18486"/>
                  </a:lnTo>
                  <a:lnTo>
                    <a:pt x="19513" y="18691"/>
                  </a:lnTo>
                  <a:lnTo>
                    <a:pt x="19408" y="18907"/>
                  </a:lnTo>
                  <a:lnTo>
                    <a:pt x="19408" y="18907"/>
                  </a:lnTo>
                  <a:lnTo>
                    <a:pt x="18991" y="19220"/>
                  </a:lnTo>
                  <a:lnTo>
                    <a:pt x="18573" y="19532"/>
                  </a:lnTo>
                  <a:lnTo>
                    <a:pt x="18051" y="19796"/>
                  </a:lnTo>
                  <a:lnTo>
                    <a:pt x="17634" y="20061"/>
                  </a:lnTo>
                  <a:lnTo>
                    <a:pt x="17112" y="20301"/>
                  </a:lnTo>
                  <a:lnTo>
                    <a:pt x="16486" y="20517"/>
                  </a:lnTo>
                  <a:lnTo>
                    <a:pt x="15965" y="20722"/>
                  </a:lnTo>
                  <a:lnTo>
                    <a:pt x="15339" y="20902"/>
                  </a:lnTo>
                  <a:lnTo>
                    <a:pt x="14817" y="21058"/>
                  </a:lnTo>
                  <a:lnTo>
                    <a:pt x="14295" y="21215"/>
                  </a:lnTo>
                  <a:lnTo>
                    <a:pt x="13460" y="21419"/>
                  </a:lnTo>
                  <a:lnTo>
                    <a:pt x="12730" y="21551"/>
                  </a:lnTo>
                  <a:lnTo>
                    <a:pt x="12625" y="21600"/>
                  </a:lnTo>
                  <a:lnTo>
                    <a:pt x="0" y="21587"/>
                  </a:lnTo>
                  <a:lnTo>
                    <a:pt x="104" y="0"/>
                  </a:lnTo>
                  <a:lnTo>
                    <a:pt x="9391" y="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191160" y="631440"/>
              <a:ext cx="1076760" cy="107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760" y="15089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707" y="19148"/>
                  </a:lnTo>
                  <a:lnTo>
                    <a:pt x="16791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140"/>
                  </a:lnTo>
                  <a:lnTo>
                    <a:pt x="12974" y="21446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446"/>
                  </a:lnTo>
                  <a:lnTo>
                    <a:pt x="7556" y="21140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89"/>
                  </a:lnTo>
                  <a:lnTo>
                    <a:pt x="457" y="14016"/>
                  </a:lnTo>
                  <a:lnTo>
                    <a:pt x="228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27"/>
                  </a:lnTo>
                  <a:lnTo>
                    <a:pt x="228" y="8655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748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918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974" y="229"/>
                  </a:lnTo>
                  <a:lnTo>
                    <a:pt x="13967" y="535"/>
                  </a:lnTo>
                  <a:lnTo>
                    <a:pt x="15035" y="918"/>
                  </a:lnTo>
                  <a:lnTo>
                    <a:pt x="15875" y="1301"/>
                  </a:lnTo>
                  <a:lnTo>
                    <a:pt x="16791" y="1838"/>
                  </a:lnTo>
                  <a:lnTo>
                    <a:pt x="17707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748"/>
                  </a:lnTo>
                  <a:lnTo>
                    <a:pt x="20302" y="5667"/>
                  </a:lnTo>
                  <a:lnTo>
                    <a:pt x="20760" y="6587"/>
                  </a:lnTo>
                  <a:lnTo>
                    <a:pt x="21065" y="7582"/>
                  </a:lnTo>
                  <a:lnTo>
                    <a:pt x="21370" y="8655"/>
                  </a:lnTo>
                  <a:lnTo>
                    <a:pt x="21523" y="972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328320" y="765720"/>
              <a:ext cx="803520" cy="80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394" y="12939"/>
                  </a:lnTo>
                  <a:lnTo>
                    <a:pt x="21088" y="14060"/>
                  </a:lnTo>
                  <a:lnTo>
                    <a:pt x="20678" y="15079"/>
                  </a:lnTo>
                  <a:lnTo>
                    <a:pt x="20269" y="15995"/>
                  </a:lnTo>
                  <a:lnTo>
                    <a:pt x="19757" y="16811"/>
                  </a:lnTo>
                  <a:lnTo>
                    <a:pt x="19040" y="17727"/>
                  </a:lnTo>
                  <a:lnTo>
                    <a:pt x="18426" y="18441"/>
                  </a:lnTo>
                  <a:lnTo>
                    <a:pt x="17607" y="19154"/>
                  </a:lnTo>
                  <a:lnTo>
                    <a:pt x="16788" y="19765"/>
                  </a:lnTo>
                  <a:lnTo>
                    <a:pt x="15867" y="20275"/>
                  </a:lnTo>
                  <a:lnTo>
                    <a:pt x="15048" y="20784"/>
                  </a:lnTo>
                  <a:lnTo>
                    <a:pt x="13922" y="21192"/>
                  </a:lnTo>
                  <a:lnTo>
                    <a:pt x="12898" y="21395"/>
                  </a:lnTo>
                  <a:lnTo>
                    <a:pt x="11874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598" y="21395"/>
                  </a:lnTo>
                  <a:lnTo>
                    <a:pt x="7575" y="21192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154"/>
                  </a:lnTo>
                  <a:lnTo>
                    <a:pt x="3070" y="18441"/>
                  </a:lnTo>
                  <a:lnTo>
                    <a:pt x="2354" y="17727"/>
                  </a:lnTo>
                  <a:lnTo>
                    <a:pt x="1842" y="16811"/>
                  </a:lnTo>
                  <a:lnTo>
                    <a:pt x="1330" y="15995"/>
                  </a:lnTo>
                  <a:lnTo>
                    <a:pt x="716" y="15079"/>
                  </a:lnTo>
                  <a:lnTo>
                    <a:pt x="409" y="14060"/>
                  </a:lnTo>
                  <a:lnTo>
                    <a:pt x="204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4" y="8660"/>
                  </a:lnTo>
                  <a:lnTo>
                    <a:pt x="409" y="7641"/>
                  </a:lnTo>
                  <a:lnTo>
                    <a:pt x="716" y="6622"/>
                  </a:lnTo>
                  <a:lnTo>
                    <a:pt x="1330" y="5705"/>
                  </a:lnTo>
                  <a:lnTo>
                    <a:pt x="1842" y="4788"/>
                  </a:lnTo>
                  <a:lnTo>
                    <a:pt x="2354" y="3871"/>
                  </a:lnTo>
                  <a:lnTo>
                    <a:pt x="3070" y="3158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426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598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874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5048" y="815"/>
                  </a:lnTo>
                  <a:lnTo>
                    <a:pt x="15867" y="1426"/>
                  </a:lnTo>
                  <a:lnTo>
                    <a:pt x="16788" y="1833"/>
                  </a:lnTo>
                  <a:lnTo>
                    <a:pt x="17607" y="2445"/>
                  </a:lnTo>
                  <a:lnTo>
                    <a:pt x="18426" y="3158"/>
                  </a:lnTo>
                  <a:lnTo>
                    <a:pt x="19040" y="3871"/>
                  </a:lnTo>
                  <a:lnTo>
                    <a:pt x="19757" y="4788"/>
                  </a:lnTo>
                  <a:lnTo>
                    <a:pt x="20269" y="5705"/>
                  </a:lnTo>
                  <a:lnTo>
                    <a:pt x="20678" y="6622"/>
                  </a:lnTo>
                  <a:lnTo>
                    <a:pt x="21088" y="7641"/>
                  </a:lnTo>
                  <a:lnTo>
                    <a:pt x="21394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469440" y="906840"/>
              <a:ext cx="524880" cy="5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3" y="12897"/>
                  </a:lnTo>
                  <a:lnTo>
                    <a:pt x="21130" y="13985"/>
                  </a:lnTo>
                  <a:lnTo>
                    <a:pt x="20660" y="15073"/>
                  </a:lnTo>
                  <a:lnTo>
                    <a:pt x="20191" y="15850"/>
                  </a:lnTo>
                  <a:lnTo>
                    <a:pt x="19565" y="16937"/>
                  </a:lnTo>
                  <a:lnTo>
                    <a:pt x="19095" y="17714"/>
                  </a:lnTo>
                  <a:lnTo>
                    <a:pt x="18313" y="18336"/>
                  </a:lnTo>
                  <a:lnTo>
                    <a:pt x="17530" y="19113"/>
                  </a:lnTo>
                  <a:lnTo>
                    <a:pt x="16747" y="19735"/>
                  </a:lnTo>
                  <a:lnTo>
                    <a:pt x="15965" y="20356"/>
                  </a:lnTo>
                  <a:lnTo>
                    <a:pt x="15026" y="20822"/>
                  </a:lnTo>
                  <a:lnTo>
                    <a:pt x="13773" y="21133"/>
                  </a:lnTo>
                  <a:lnTo>
                    <a:pt x="12834" y="21444"/>
                  </a:lnTo>
                  <a:lnTo>
                    <a:pt x="11739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547" y="21600"/>
                  </a:lnTo>
                  <a:lnTo>
                    <a:pt x="8452" y="21444"/>
                  </a:lnTo>
                  <a:lnTo>
                    <a:pt x="7513" y="21133"/>
                  </a:lnTo>
                  <a:lnTo>
                    <a:pt x="6417" y="20822"/>
                  </a:lnTo>
                  <a:lnTo>
                    <a:pt x="5634" y="20356"/>
                  </a:lnTo>
                  <a:lnTo>
                    <a:pt x="4695" y="19735"/>
                  </a:lnTo>
                  <a:lnTo>
                    <a:pt x="3756" y="19113"/>
                  </a:lnTo>
                  <a:lnTo>
                    <a:pt x="2973" y="18336"/>
                  </a:lnTo>
                  <a:lnTo>
                    <a:pt x="2347" y="17714"/>
                  </a:lnTo>
                  <a:lnTo>
                    <a:pt x="1721" y="16937"/>
                  </a:lnTo>
                  <a:lnTo>
                    <a:pt x="1095" y="15850"/>
                  </a:lnTo>
                  <a:lnTo>
                    <a:pt x="782" y="15073"/>
                  </a:lnTo>
                  <a:lnTo>
                    <a:pt x="312" y="13985"/>
                  </a:lnTo>
                  <a:lnTo>
                    <a:pt x="156" y="12897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6" y="8701"/>
                  </a:lnTo>
                  <a:lnTo>
                    <a:pt x="312" y="7614"/>
                  </a:lnTo>
                  <a:lnTo>
                    <a:pt x="782" y="6681"/>
                  </a:lnTo>
                  <a:lnTo>
                    <a:pt x="1095" y="5594"/>
                  </a:lnTo>
                  <a:lnTo>
                    <a:pt x="1721" y="4661"/>
                  </a:lnTo>
                  <a:lnTo>
                    <a:pt x="2347" y="3884"/>
                  </a:lnTo>
                  <a:lnTo>
                    <a:pt x="2973" y="3263"/>
                  </a:lnTo>
                  <a:lnTo>
                    <a:pt x="3756" y="2330"/>
                  </a:lnTo>
                  <a:lnTo>
                    <a:pt x="4695" y="1864"/>
                  </a:lnTo>
                  <a:lnTo>
                    <a:pt x="5634" y="1242"/>
                  </a:lnTo>
                  <a:lnTo>
                    <a:pt x="6417" y="932"/>
                  </a:lnTo>
                  <a:lnTo>
                    <a:pt x="7513" y="466"/>
                  </a:lnTo>
                  <a:lnTo>
                    <a:pt x="8452" y="155"/>
                  </a:lnTo>
                  <a:lnTo>
                    <a:pt x="954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739" y="0"/>
                  </a:lnTo>
                  <a:lnTo>
                    <a:pt x="12834" y="155"/>
                  </a:lnTo>
                  <a:lnTo>
                    <a:pt x="13773" y="466"/>
                  </a:lnTo>
                  <a:lnTo>
                    <a:pt x="15026" y="932"/>
                  </a:lnTo>
                  <a:lnTo>
                    <a:pt x="15965" y="1242"/>
                  </a:lnTo>
                  <a:lnTo>
                    <a:pt x="16747" y="1864"/>
                  </a:lnTo>
                  <a:lnTo>
                    <a:pt x="17530" y="2330"/>
                  </a:lnTo>
                  <a:lnTo>
                    <a:pt x="18313" y="3263"/>
                  </a:lnTo>
                  <a:lnTo>
                    <a:pt x="19095" y="3884"/>
                  </a:lnTo>
                  <a:lnTo>
                    <a:pt x="19565" y="4661"/>
                  </a:lnTo>
                  <a:lnTo>
                    <a:pt x="20191" y="5594"/>
                  </a:lnTo>
                  <a:lnTo>
                    <a:pt x="20660" y="6681"/>
                  </a:lnTo>
                  <a:lnTo>
                    <a:pt x="21130" y="7614"/>
                  </a:lnTo>
                  <a:lnTo>
                    <a:pt x="21443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3"/>
          <p:cNvGrpSpPr/>
          <p:nvPr/>
        </p:nvGrpSpPr>
        <p:grpSpPr>
          <a:xfrm>
            <a:off x="5818320" y="503280"/>
            <a:ext cx="1922040" cy="2144160"/>
            <a:chOff x="5818320" y="503280"/>
            <a:chExt cx="1922040" cy="2144160"/>
          </a:xfrm>
        </p:grpSpPr>
        <p:sp>
          <p:nvSpPr>
            <p:cNvPr id="341" name="Freeform 14"/>
            <p:cNvSpPr/>
            <p:nvPr/>
          </p:nvSpPr>
          <p:spPr>
            <a:xfrm>
              <a:off x="6662520" y="1569600"/>
              <a:ext cx="1077840" cy="107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1"/>
                  </a:moveTo>
                  <a:lnTo>
                    <a:pt x="21600" y="10761"/>
                  </a:lnTo>
                  <a:lnTo>
                    <a:pt x="21523" y="11830"/>
                  </a:lnTo>
                  <a:lnTo>
                    <a:pt x="21370" y="12898"/>
                  </a:lnTo>
                  <a:lnTo>
                    <a:pt x="21141" y="13967"/>
                  </a:lnTo>
                  <a:lnTo>
                    <a:pt x="20760" y="15035"/>
                  </a:lnTo>
                  <a:lnTo>
                    <a:pt x="20302" y="15875"/>
                  </a:lnTo>
                  <a:lnTo>
                    <a:pt x="19768" y="16715"/>
                  </a:lnTo>
                  <a:lnTo>
                    <a:pt x="19157" y="17707"/>
                  </a:lnTo>
                  <a:lnTo>
                    <a:pt x="18470" y="18394"/>
                  </a:lnTo>
                  <a:lnTo>
                    <a:pt x="17631" y="19157"/>
                  </a:lnTo>
                  <a:lnTo>
                    <a:pt x="16791" y="19691"/>
                  </a:lnTo>
                  <a:lnTo>
                    <a:pt x="15951" y="20302"/>
                  </a:lnTo>
                  <a:lnTo>
                    <a:pt x="15035" y="20684"/>
                  </a:lnTo>
                  <a:lnTo>
                    <a:pt x="13967" y="21065"/>
                  </a:lnTo>
                  <a:lnTo>
                    <a:pt x="12974" y="21370"/>
                  </a:lnTo>
                  <a:lnTo>
                    <a:pt x="11906" y="21523"/>
                  </a:lnTo>
                  <a:lnTo>
                    <a:pt x="10837" y="21600"/>
                  </a:lnTo>
                  <a:lnTo>
                    <a:pt x="10837" y="21600"/>
                  </a:lnTo>
                  <a:lnTo>
                    <a:pt x="9693" y="21523"/>
                  </a:lnTo>
                  <a:lnTo>
                    <a:pt x="8548" y="21370"/>
                  </a:lnTo>
                  <a:lnTo>
                    <a:pt x="7556" y="21065"/>
                  </a:lnTo>
                  <a:lnTo>
                    <a:pt x="6563" y="20684"/>
                  </a:lnTo>
                  <a:lnTo>
                    <a:pt x="5647" y="20302"/>
                  </a:lnTo>
                  <a:lnTo>
                    <a:pt x="4731" y="19691"/>
                  </a:lnTo>
                  <a:lnTo>
                    <a:pt x="3892" y="19157"/>
                  </a:lnTo>
                  <a:lnTo>
                    <a:pt x="3205" y="18394"/>
                  </a:lnTo>
                  <a:lnTo>
                    <a:pt x="2442" y="17707"/>
                  </a:lnTo>
                  <a:lnTo>
                    <a:pt x="1831" y="16715"/>
                  </a:lnTo>
                  <a:lnTo>
                    <a:pt x="1297" y="15875"/>
                  </a:lnTo>
                  <a:lnTo>
                    <a:pt x="839" y="15035"/>
                  </a:lnTo>
                  <a:lnTo>
                    <a:pt x="534" y="13967"/>
                  </a:lnTo>
                  <a:lnTo>
                    <a:pt x="228" y="12898"/>
                  </a:lnTo>
                  <a:lnTo>
                    <a:pt x="0" y="11830"/>
                  </a:lnTo>
                  <a:lnTo>
                    <a:pt x="0" y="10761"/>
                  </a:lnTo>
                  <a:lnTo>
                    <a:pt x="0" y="10761"/>
                  </a:lnTo>
                  <a:lnTo>
                    <a:pt x="0" y="9616"/>
                  </a:lnTo>
                  <a:lnTo>
                    <a:pt x="228" y="8548"/>
                  </a:lnTo>
                  <a:lnTo>
                    <a:pt x="534" y="7556"/>
                  </a:lnTo>
                  <a:lnTo>
                    <a:pt x="839" y="6487"/>
                  </a:lnTo>
                  <a:lnTo>
                    <a:pt x="1297" y="5571"/>
                  </a:lnTo>
                  <a:lnTo>
                    <a:pt x="1831" y="4731"/>
                  </a:lnTo>
                  <a:lnTo>
                    <a:pt x="2442" y="3892"/>
                  </a:lnTo>
                  <a:lnTo>
                    <a:pt x="3205" y="3129"/>
                  </a:lnTo>
                  <a:lnTo>
                    <a:pt x="3892" y="2442"/>
                  </a:lnTo>
                  <a:lnTo>
                    <a:pt x="4731" y="1755"/>
                  </a:lnTo>
                  <a:lnTo>
                    <a:pt x="5647" y="1297"/>
                  </a:lnTo>
                  <a:lnTo>
                    <a:pt x="6563" y="839"/>
                  </a:lnTo>
                  <a:lnTo>
                    <a:pt x="7556" y="457"/>
                  </a:lnTo>
                  <a:lnTo>
                    <a:pt x="8548" y="152"/>
                  </a:lnTo>
                  <a:lnTo>
                    <a:pt x="9693" y="0"/>
                  </a:lnTo>
                  <a:lnTo>
                    <a:pt x="10837" y="0"/>
                  </a:lnTo>
                  <a:lnTo>
                    <a:pt x="10837" y="0"/>
                  </a:lnTo>
                  <a:lnTo>
                    <a:pt x="11906" y="0"/>
                  </a:lnTo>
                  <a:lnTo>
                    <a:pt x="12974" y="152"/>
                  </a:lnTo>
                  <a:lnTo>
                    <a:pt x="13967" y="457"/>
                  </a:lnTo>
                  <a:lnTo>
                    <a:pt x="15035" y="839"/>
                  </a:lnTo>
                  <a:lnTo>
                    <a:pt x="15951" y="1297"/>
                  </a:lnTo>
                  <a:lnTo>
                    <a:pt x="16791" y="1755"/>
                  </a:lnTo>
                  <a:lnTo>
                    <a:pt x="17631" y="2442"/>
                  </a:lnTo>
                  <a:lnTo>
                    <a:pt x="18470" y="3129"/>
                  </a:lnTo>
                  <a:lnTo>
                    <a:pt x="19157" y="3892"/>
                  </a:lnTo>
                  <a:lnTo>
                    <a:pt x="19768" y="4731"/>
                  </a:lnTo>
                  <a:lnTo>
                    <a:pt x="20302" y="5571"/>
                  </a:lnTo>
                  <a:lnTo>
                    <a:pt x="20760" y="6487"/>
                  </a:lnTo>
                  <a:lnTo>
                    <a:pt x="21141" y="7556"/>
                  </a:lnTo>
                  <a:lnTo>
                    <a:pt x="21370" y="8548"/>
                  </a:lnTo>
                  <a:lnTo>
                    <a:pt x="21523" y="9616"/>
                  </a:lnTo>
                  <a:lnTo>
                    <a:pt x="21600" y="10761"/>
                  </a:lnTo>
                  <a:lnTo>
                    <a:pt x="21600" y="1076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6800400" y="1703880"/>
              <a:ext cx="8074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5" y="12837"/>
                  </a:lnTo>
                  <a:lnTo>
                    <a:pt x="21192" y="13958"/>
                  </a:lnTo>
                  <a:lnTo>
                    <a:pt x="20784" y="14977"/>
                  </a:lnTo>
                  <a:lnTo>
                    <a:pt x="20275" y="15894"/>
                  </a:lnTo>
                  <a:lnTo>
                    <a:pt x="19765" y="16709"/>
                  </a:lnTo>
                  <a:lnTo>
                    <a:pt x="19154" y="17626"/>
                  </a:lnTo>
                  <a:lnTo>
                    <a:pt x="18441" y="18339"/>
                  </a:lnTo>
                  <a:lnTo>
                    <a:pt x="17727" y="19052"/>
                  </a:lnTo>
                  <a:lnTo>
                    <a:pt x="16811" y="19765"/>
                  </a:lnTo>
                  <a:lnTo>
                    <a:pt x="15894" y="20173"/>
                  </a:lnTo>
                  <a:lnTo>
                    <a:pt x="15079" y="20682"/>
                  </a:lnTo>
                  <a:lnTo>
                    <a:pt x="14060" y="21090"/>
                  </a:lnTo>
                  <a:lnTo>
                    <a:pt x="12939" y="21395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395"/>
                  </a:lnTo>
                  <a:lnTo>
                    <a:pt x="7641" y="21090"/>
                  </a:lnTo>
                  <a:lnTo>
                    <a:pt x="6622" y="20682"/>
                  </a:lnTo>
                  <a:lnTo>
                    <a:pt x="5705" y="20173"/>
                  </a:lnTo>
                  <a:lnTo>
                    <a:pt x="4788" y="19765"/>
                  </a:lnTo>
                  <a:lnTo>
                    <a:pt x="3871" y="19052"/>
                  </a:lnTo>
                  <a:lnTo>
                    <a:pt x="3158" y="18339"/>
                  </a:lnTo>
                  <a:lnTo>
                    <a:pt x="2445" y="17626"/>
                  </a:lnTo>
                  <a:lnTo>
                    <a:pt x="1833" y="16709"/>
                  </a:lnTo>
                  <a:lnTo>
                    <a:pt x="1426" y="15894"/>
                  </a:lnTo>
                  <a:lnTo>
                    <a:pt x="815" y="14977"/>
                  </a:lnTo>
                  <a:lnTo>
                    <a:pt x="509" y="13958"/>
                  </a:lnTo>
                  <a:lnTo>
                    <a:pt x="203" y="12837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7"/>
                  </a:lnTo>
                  <a:lnTo>
                    <a:pt x="203" y="8558"/>
                  </a:lnTo>
                  <a:lnTo>
                    <a:pt x="509" y="7539"/>
                  </a:lnTo>
                  <a:lnTo>
                    <a:pt x="815" y="6520"/>
                  </a:lnTo>
                  <a:lnTo>
                    <a:pt x="1426" y="5603"/>
                  </a:lnTo>
                  <a:lnTo>
                    <a:pt x="1833" y="4686"/>
                  </a:lnTo>
                  <a:lnTo>
                    <a:pt x="2445" y="3769"/>
                  </a:lnTo>
                  <a:lnTo>
                    <a:pt x="3158" y="3056"/>
                  </a:lnTo>
                  <a:lnTo>
                    <a:pt x="3871" y="2343"/>
                  </a:lnTo>
                  <a:lnTo>
                    <a:pt x="4788" y="1833"/>
                  </a:lnTo>
                  <a:lnTo>
                    <a:pt x="5705" y="1324"/>
                  </a:lnTo>
                  <a:lnTo>
                    <a:pt x="6622" y="712"/>
                  </a:lnTo>
                  <a:lnTo>
                    <a:pt x="7641" y="407"/>
                  </a:lnTo>
                  <a:lnTo>
                    <a:pt x="8660" y="101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101"/>
                  </a:lnTo>
                  <a:lnTo>
                    <a:pt x="14060" y="407"/>
                  </a:lnTo>
                  <a:lnTo>
                    <a:pt x="15079" y="712"/>
                  </a:lnTo>
                  <a:lnTo>
                    <a:pt x="15894" y="1324"/>
                  </a:lnTo>
                  <a:lnTo>
                    <a:pt x="16811" y="1833"/>
                  </a:lnTo>
                  <a:lnTo>
                    <a:pt x="17727" y="2343"/>
                  </a:lnTo>
                  <a:lnTo>
                    <a:pt x="18441" y="3056"/>
                  </a:lnTo>
                  <a:lnTo>
                    <a:pt x="19154" y="3769"/>
                  </a:lnTo>
                  <a:lnTo>
                    <a:pt x="19765" y="4686"/>
                  </a:lnTo>
                  <a:lnTo>
                    <a:pt x="20275" y="5603"/>
                  </a:lnTo>
                  <a:lnTo>
                    <a:pt x="20784" y="6520"/>
                  </a:lnTo>
                  <a:lnTo>
                    <a:pt x="21192" y="7539"/>
                  </a:lnTo>
                  <a:lnTo>
                    <a:pt x="21395" y="8558"/>
                  </a:lnTo>
                  <a:lnTo>
                    <a:pt x="21600" y="957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6941160" y="1839960"/>
              <a:ext cx="528840" cy="53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4" y="13053"/>
                  </a:lnTo>
                  <a:lnTo>
                    <a:pt x="21133" y="13985"/>
                  </a:lnTo>
                  <a:lnTo>
                    <a:pt x="20667" y="15073"/>
                  </a:lnTo>
                  <a:lnTo>
                    <a:pt x="20356" y="16005"/>
                  </a:lnTo>
                  <a:lnTo>
                    <a:pt x="19735" y="16937"/>
                  </a:lnTo>
                  <a:lnTo>
                    <a:pt x="19113" y="17714"/>
                  </a:lnTo>
                  <a:lnTo>
                    <a:pt x="18336" y="18491"/>
                  </a:lnTo>
                  <a:lnTo>
                    <a:pt x="17714" y="19113"/>
                  </a:lnTo>
                  <a:lnTo>
                    <a:pt x="16937" y="19735"/>
                  </a:lnTo>
                  <a:lnTo>
                    <a:pt x="15850" y="20356"/>
                  </a:lnTo>
                  <a:lnTo>
                    <a:pt x="15073" y="20822"/>
                  </a:lnTo>
                  <a:lnTo>
                    <a:pt x="13985" y="21289"/>
                  </a:lnTo>
                  <a:lnTo>
                    <a:pt x="12897" y="21444"/>
                  </a:lnTo>
                  <a:lnTo>
                    <a:pt x="11965" y="21600"/>
                  </a:lnTo>
                  <a:lnTo>
                    <a:pt x="10722" y="21600"/>
                  </a:lnTo>
                  <a:lnTo>
                    <a:pt x="10722" y="21600"/>
                  </a:lnTo>
                  <a:lnTo>
                    <a:pt x="9789" y="21600"/>
                  </a:lnTo>
                  <a:lnTo>
                    <a:pt x="8701" y="21444"/>
                  </a:lnTo>
                  <a:lnTo>
                    <a:pt x="7614" y="21289"/>
                  </a:lnTo>
                  <a:lnTo>
                    <a:pt x="6681" y="20822"/>
                  </a:lnTo>
                  <a:lnTo>
                    <a:pt x="5594" y="20356"/>
                  </a:lnTo>
                  <a:lnTo>
                    <a:pt x="4661" y="19735"/>
                  </a:lnTo>
                  <a:lnTo>
                    <a:pt x="3884" y="19113"/>
                  </a:lnTo>
                  <a:lnTo>
                    <a:pt x="3263" y="18491"/>
                  </a:lnTo>
                  <a:lnTo>
                    <a:pt x="2330" y="17714"/>
                  </a:lnTo>
                  <a:lnTo>
                    <a:pt x="1709" y="16937"/>
                  </a:lnTo>
                  <a:lnTo>
                    <a:pt x="1242" y="16005"/>
                  </a:lnTo>
                  <a:lnTo>
                    <a:pt x="932" y="15073"/>
                  </a:lnTo>
                  <a:lnTo>
                    <a:pt x="466" y="13985"/>
                  </a:lnTo>
                  <a:lnTo>
                    <a:pt x="155" y="13053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5" y="8701"/>
                  </a:lnTo>
                  <a:lnTo>
                    <a:pt x="466" y="7769"/>
                  </a:lnTo>
                  <a:lnTo>
                    <a:pt x="932" y="6681"/>
                  </a:lnTo>
                  <a:lnTo>
                    <a:pt x="1242" y="5594"/>
                  </a:lnTo>
                  <a:lnTo>
                    <a:pt x="1709" y="4816"/>
                  </a:lnTo>
                  <a:lnTo>
                    <a:pt x="2330" y="3884"/>
                  </a:lnTo>
                  <a:lnTo>
                    <a:pt x="3263" y="3263"/>
                  </a:lnTo>
                  <a:lnTo>
                    <a:pt x="3884" y="2486"/>
                  </a:lnTo>
                  <a:lnTo>
                    <a:pt x="4661" y="1864"/>
                  </a:lnTo>
                  <a:lnTo>
                    <a:pt x="5594" y="1242"/>
                  </a:lnTo>
                  <a:lnTo>
                    <a:pt x="6681" y="932"/>
                  </a:lnTo>
                  <a:lnTo>
                    <a:pt x="7614" y="466"/>
                  </a:lnTo>
                  <a:lnTo>
                    <a:pt x="8701" y="155"/>
                  </a:lnTo>
                  <a:lnTo>
                    <a:pt x="9789" y="0"/>
                  </a:lnTo>
                  <a:lnTo>
                    <a:pt x="10722" y="0"/>
                  </a:lnTo>
                  <a:lnTo>
                    <a:pt x="10722" y="0"/>
                  </a:lnTo>
                  <a:lnTo>
                    <a:pt x="11965" y="0"/>
                  </a:lnTo>
                  <a:lnTo>
                    <a:pt x="12897" y="155"/>
                  </a:lnTo>
                  <a:lnTo>
                    <a:pt x="13985" y="466"/>
                  </a:lnTo>
                  <a:lnTo>
                    <a:pt x="15073" y="932"/>
                  </a:lnTo>
                  <a:lnTo>
                    <a:pt x="15850" y="1242"/>
                  </a:lnTo>
                  <a:lnTo>
                    <a:pt x="16937" y="1864"/>
                  </a:lnTo>
                  <a:lnTo>
                    <a:pt x="17714" y="2486"/>
                  </a:lnTo>
                  <a:lnTo>
                    <a:pt x="18336" y="3263"/>
                  </a:lnTo>
                  <a:lnTo>
                    <a:pt x="19113" y="3884"/>
                  </a:lnTo>
                  <a:lnTo>
                    <a:pt x="19735" y="4816"/>
                  </a:lnTo>
                  <a:lnTo>
                    <a:pt x="20356" y="5594"/>
                  </a:lnTo>
                  <a:lnTo>
                    <a:pt x="20667" y="6681"/>
                  </a:lnTo>
                  <a:lnTo>
                    <a:pt x="21133" y="7769"/>
                  </a:lnTo>
                  <a:lnTo>
                    <a:pt x="21444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5818320" y="503280"/>
              <a:ext cx="1477440" cy="147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00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098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09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744" y="21600"/>
                  </a:lnTo>
                  <a:lnTo>
                    <a:pt x="10744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09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00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15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41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0"/>
                  </a:lnTo>
                  <a:lnTo>
                    <a:pt x="10187" y="0"/>
                  </a:lnTo>
                  <a:lnTo>
                    <a:pt x="10744" y="0"/>
                  </a:lnTo>
                  <a:lnTo>
                    <a:pt x="10744" y="0"/>
                  </a:lnTo>
                  <a:lnTo>
                    <a:pt x="11356" y="0"/>
                  </a:lnTo>
                  <a:lnTo>
                    <a:pt x="11857" y="0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41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098" y="7515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6004440" y="689400"/>
              <a:ext cx="1108080" cy="110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2"/>
                  </a:moveTo>
                  <a:lnTo>
                    <a:pt x="21600" y="10762"/>
                  </a:lnTo>
                  <a:lnTo>
                    <a:pt x="21525" y="11876"/>
                  </a:lnTo>
                  <a:lnTo>
                    <a:pt x="21303" y="12915"/>
                  </a:lnTo>
                  <a:lnTo>
                    <a:pt x="21006" y="13954"/>
                  </a:lnTo>
                  <a:lnTo>
                    <a:pt x="20709" y="14993"/>
                  </a:lnTo>
                  <a:lnTo>
                    <a:pt x="20263" y="15884"/>
                  </a:lnTo>
                  <a:lnTo>
                    <a:pt x="19669" y="16849"/>
                  </a:lnTo>
                  <a:lnTo>
                    <a:pt x="19076" y="17665"/>
                  </a:lnTo>
                  <a:lnTo>
                    <a:pt x="18333" y="18407"/>
                  </a:lnTo>
                  <a:lnTo>
                    <a:pt x="17591" y="19076"/>
                  </a:lnTo>
                  <a:lnTo>
                    <a:pt x="16849" y="19744"/>
                  </a:lnTo>
                  <a:lnTo>
                    <a:pt x="15810" y="20263"/>
                  </a:lnTo>
                  <a:lnTo>
                    <a:pt x="14919" y="20709"/>
                  </a:lnTo>
                  <a:lnTo>
                    <a:pt x="13954" y="21080"/>
                  </a:lnTo>
                  <a:lnTo>
                    <a:pt x="12915" y="21377"/>
                  </a:lnTo>
                  <a:lnTo>
                    <a:pt x="11801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77"/>
                  </a:lnTo>
                  <a:lnTo>
                    <a:pt x="7571" y="21080"/>
                  </a:lnTo>
                  <a:lnTo>
                    <a:pt x="6605" y="20709"/>
                  </a:lnTo>
                  <a:lnTo>
                    <a:pt x="5566" y="20263"/>
                  </a:lnTo>
                  <a:lnTo>
                    <a:pt x="4676" y="19744"/>
                  </a:lnTo>
                  <a:lnTo>
                    <a:pt x="3933" y="19076"/>
                  </a:lnTo>
                  <a:lnTo>
                    <a:pt x="3117" y="18407"/>
                  </a:lnTo>
                  <a:lnTo>
                    <a:pt x="2449" y="17665"/>
                  </a:lnTo>
                  <a:lnTo>
                    <a:pt x="1781" y="16849"/>
                  </a:lnTo>
                  <a:lnTo>
                    <a:pt x="1261" y="15884"/>
                  </a:lnTo>
                  <a:lnTo>
                    <a:pt x="816" y="14993"/>
                  </a:lnTo>
                  <a:lnTo>
                    <a:pt x="445" y="13954"/>
                  </a:lnTo>
                  <a:lnTo>
                    <a:pt x="222" y="12915"/>
                  </a:lnTo>
                  <a:lnTo>
                    <a:pt x="0" y="11876"/>
                  </a:lnTo>
                  <a:lnTo>
                    <a:pt x="0" y="10762"/>
                  </a:lnTo>
                  <a:lnTo>
                    <a:pt x="0" y="10762"/>
                  </a:lnTo>
                  <a:lnTo>
                    <a:pt x="0" y="9723"/>
                  </a:lnTo>
                  <a:lnTo>
                    <a:pt x="222" y="8610"/>
                  </a:lnTo>
                  <a:lnTo>
                    <a:pt x="445" y="7571"/>
                  </a:lnTo>
                  <a:lnTo>
                    <a:pt x="816" y="6605"/>
                  </a:lnTo>
                  <a:lnTo>
                    <a:pt x="1261" y="5640"/>
                  </a:lnTo>
                  <a:lnTo>
                    <a:pt x="1781" y="4750"/>
                  </a:lnTo>
                  <a:lnTo>
                    <a:pt x="2449" y="3933"/>
                  </a:lnTo>
                  <a:lnTo>
                    <a:pt x="3117" y="3191"/>
                  </a:lnTo>
                  <a:lnTo>
                    <a:pt x="3933" y="2449"/>
                  </a:lnTo>
                  <a:lnTo>
                    <a:pt x="4676" y="1855"/>
                  </a:lnTo>
                  <a:lnTo>
                    <a:pt x="5566" y="1261"/>
                  </a:lnTo>
                  <a:lnTo>
                    <a:pt x="6605" y="890"/>
                  </a:lnTo>
                  <a:lnTo>
                    <a:pt x="7571" y="519"/>
                  </a:lnTo>
                  <a:lnTo>
                    <a:pt x="8536" y="222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01" y="0"/>
                  </a:lnTo>
                  <a:lnTo>
                    <a:pt x="12915" y="222"/>
                  </a:lnTo>
                  <a:lnTo>
                    <a:pt x="13954" y="519"/>
                  </a:lnTo>
                  <a:lnTo>
                    <a:pt x="14919" y="890"/>
                  </a:lnTo>
                  <a:lnTo>
                    <a:pt x="15810" y="1261"/>
                  </a:lnTo>
                  <a:lnTo>
                    <a:pt x="16849" y="1855"/>
                  </a:lnTo>
                  <a:lnTo>
                    <a:pt x="17591" y="2449"/>
                  </a:lnTo>
                  <a:lnTo>
                    <a:pt x="18333" y="3191"/>
                  </a:lnTo>
                  <a:lnTo>
                    <a:pt x="19076" y="3933"/>
                  </a:lnTo>
                  <a:lnTo>
                    <a:pt x="19669" y="4750"/>
                  </a:lnTo>
                  <a:lnTo>
                    <a:pt x="20263" y="5640"/>
                  </a:lnTo>
                  <a:lnTo>
                    <a:pt x="20709" y="6605"/>
                  </a:lnTo>
                  <a:lnTo>
                    <a:pt x="21006" y="7571"/>
                  </a:lnTo>
                  <a:lnTo>
                    <a:pt x="21303" y="8610"/>
                  </a:lnTo>
                  <a:lnTo>
                    <a:pt x="21525" y="9723"/>
                  </a:lnTo>
                  <a:lnTo>
                    <a:pt x="21600" y="10762"/>
                  </a:lnTo>
                  <a:lnTo>
                    <a:pt x="21600" y="10762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9"/>
            <p:cNvSpPr/>
            <p:nvPr/>
          </p:nvSpPr>
          <p:spPr>
            <a:xfrm>
              <a:off x="6199200" y="880920"/>
              <a:ext cx="71820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1" y="12959"/>
                  </a:lnTo>
                  <a:lnTo>
                    <a:pt x="21142" y="13982"/>
                  </a:lnTo>
                  <a:lnTo>
                    <a:pt x="20799" y="15119"/>
                  </a:lnTo>
                  <a:lnTo>
                    <a:pt x="20342" y="15915"/>
                  </a:lnTo>
                  <a:lnTo>
                    <a:pt x="19771" y="16825"/>
                  </a:lnTo>
                  <a:lnTo>
                    <a:pt x="19199" y="17620"/>
                  </a:lnTo>
                  <a:lnTo>
                    <a:pt x="18399" y="18416"/>
                  </a:lnTo>
                  <a:lnTo>
                    <a:pt x="17599" y="19098"/>
                  </a:lnTo>
                  <a:lnTo>
                    <a:pt x="16799" y="19780"/>
                  </a:lnTo>
                  <a:lnTo>
                    <a:pt x="15885" y="20349"/>
                  </a:lnTo>
                  <a:lnTo>
                    <a:pt x="15085" y="20804"/>
                  </a:lnTo>
                  <a:lnTo>
                    <a:pt x="14057" y="21145"/>
                  </a:lnTo>
                  <a:lnTo>
                    <a:pt x="12913" y="21372"/>
                  </a:lnTo>
                  <a:lnTo>
                    <a:pt x="11999" y="21600"/>
                  </a:lnTo>
                  <a:lnTo>
                    <a:pt x="10742" y="21600"/>
                  </a:lnTo>
                  <a:lnTo>
                    <a:pt x="10742" y="21600"/>
                  </a:lnTo>
                  <a:lnTo>
                    <a:pt x="9714" y="21600"/>
                  </a:lnTo>
                  <a:lnTo>
                    <a:pt x="8571" y="21372"/>
                  </a:lnTo>
                  <a:lnTo>
                    <a:pt x="7542" y="21145"/>
                  </a:lnTo>
                  <a:lnTo>
                    <a:pt x="6628" y="20804"/>
                  </a:lnTo>
                  <a:lnTo>
                    <a:pt x="5599" y="20349"/>
                  </a:lnTo>
                  <a:lnTo>
                    <a:pt x="4799" y="19780"/>
                  </a:lnTo>
                  <a:lnTo>
                    <a:pt x="3999" y="19098"/>
                  </a:lnTo>
                  <a:lnTo>
                    <a:pt x="3199" y="18416"/>
                  </a:lnTo>
                  <a:lnTo>
                    <a:pt x="2399" y="17620"/>
                  </a:lnTo>
                  <a:lnTo>
                    <a:pt x="1828" y="16825"/>
                  </a:lnTo>
                  <a:lnTo>
                    <a:pt x="1371" y="15915"/>
                  </a:lnTo>
                  <a:lnTo>
                    <a:pt x="799" y="15119"/>
                  </a:lnTo>
                  <a:lnTo>
                    <a:pt x="571" y="13982"/>
                  </a:lnTo>
                  <a:lnTo>
                    <a:pt x="228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8" y="8639"/>
                  </a:lnTo>
                  <a:lnTo>
                    <a:pt x="571" y="7616"/>
                  </a:lnTo>
                  <a:lnTo>
                    <a:pt x="799" y="6593"/>
                  </a:lnTo>
                  <a:lnTo>
                    <a:pt x="1371" y="5570"/>
                  </a:lnTo>
                  <a:lnTo>
                    <a:pt x="1828" y="4774"/>
                  </a:lnTo>
                  <a:lnTo>
                    <a:pt x="2399" y="3978"/>
                  </a:lnTo>
                  <a:lnTo>
                    <a:pt x="3199" y="3182"/>
                  </a:lnTo>
                  <a:lnTo>
                    <a:pt x="3999" y="2387"/>
                  </a:lnTo>
                  <a:lnTo>
                    <a:pt x="4799" y="1818"/>
                  </a:lnTo>
                  <a:lnTo>
                    <a:pt x="5599" y="1364"/>
                  </a:lnTo>
                  <a:lnTo>
                    <a:pt x="6628" y="795"/>
                  </a:lnTo>
                  <a:lnTo>
                    <a:pt x="7542" y="568"/>
                  </a:lnTo>
                  <a:lnTo>
                    <a:pt x="8571" y="227"/>
                  </a:lnTo>
                  <a:lnTo>
                    <a:pt x="9714" y="0"/>
                  </a:lnTo>
                  <a:lnTo>
                    <a:pt x="10742" y="0"/>
                  </a:lnTo>
                  <a:lnTo>
                    <a:pt x="10742" y="0"/>
                  </a:lnTo>
                  <a:lnTo>
                    <a:pt x="11999" y="0"/>
                  </a:lnTo>
                  <a:lnTo>
                    <a:pt x="12913" y="227"/>
                  </a:lnTo>
                  <a:lnTo>
                    <a:pt x="14057" y="568"/>
                  </a:lnTo>
                  <a:lnTo>
                    <a:pt x="15085" y="795"/>
                  </a:lnTo>
                  <a:lnTo>
                    <a:pt x="15885" y="1364"/>
                  </a:lnTo>
                  <a:lnTo>
                    <a:pt x="16799" y="1818"/>
                  </a:lnTo>
                  <a:lnTo>
                    <a:pt x="17599" y="2387"/>
                  </a:lnTo>
                  <a:lnTo>
                    <a:pt x="18399" y="3182"/>
                  </a:lnTo>
                  <a:lnTo>
                    <a:pt x="19199" y="3978"/>
                  </a:lnTo>
                  <a:lnTo>
                    <a:pt x="19771" y="4774"/>
                  </a:lnTo>
                  <a:lnTo>
                    <a:pt x="20342" y="5570"/>
                  </a:lnTo>
                  <a:lnTo>
                    <a:pt x="20799" y="6593"/>
                  </a:lnTo>
                  <a:lnTo>
                    <a:pt x="21142" y="7616"/>
                  </a:lnTo>
                  <a:lnTo>
                    <a:pt x="21371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20"/>
          <p:cNvGrpSpPr/>
          <p:nvPr/>
        </p:nvGrpSpPr>
        <p:grpSpPr>
          <a:xfrm>
            <a:off x="7543800" y="4033800"/>
            <a:ext cx="766440" cy="766440"/>
            <a:chOff x="7543800" y="4033800"/>
            <a:chExt cx="766440" cy="766440"/>
          </a:xfrm>
        </p:grpSpPr>
        <p:sp>
          <p:nvSpPr>
            <p:cNvPr id="348" name="Freeform 21"/>
            <p:cNvSpPr/>
            <p:nvPr/>
          </p:nvSpPr>
          <p:spPr>
            <a:xfrm>
              <a:off x="7543800" y="4033800"/>
              <a:ext cx="76644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5"/>
                  </a:moveTo>
                  <a:lnTo>
                    <a:pt x="21600" y="10745"/>
                  </a:lnTo>
                  <a:lnTo>
                    <a:pt x="21492" y="11820"/>
                  </a:lnTo>
                  <a:lnTo>
                    <a:pt x="21384" y="12895"/>
                  </a:lnTo>
                  <a:lnTo>
                    <a:pt x="21062" y="13969"/>
                  </a:lnTo>
                  <a:lnTo>
                    <a:pt x="20632" y="14937"/>
                  </a:lnTo>
                  <a:lnTo>
                    <a:pt x="20310" y="15904"/>
                  </a:lnTo>
                  <a:lnTo>
                    <a:pt x="19665" y="16763"/>
                  </a:lnTo>
                  <a:lnTo>
                    <a:pt x="19128" y="17623"/>
                  </a:lnTo>
                  <a:lnTo>
                    <a:pt x="18483" y="18375"/>
                  </a:lnTo>
                  <a:lnTo>
                    <a:pt x="17623" y="19128"/>
                  </a:lnTo>
                  <a:lnTo>
                    <a:pt x="16871" y="19665"/>
                  </a:lnTo>
                  <a:lnTo>
                    <a:pt x="15904" y="20202"/>
                  </a:lnTo>
                  <a:lnTo>
                    <a:pt x="15044" y="20632"/>
                  </a:lnTo>
                  <a:lnTo>
                    <a:pt x="13969" y="21062"/>
                  </a:lnTo>
                  <a:lnTo>
                    <a:pt x="13002" y="21384"/>
                  </a:lnTo>
                  <a:lnTo>
                    <a:pt x="11820" y="21492"/>
                  </a:lnTo>
                  <a:lnTo>
                    <a:pt x="10745" y="21600"/>
                  </a:lnTo>
                  <a:lnTo>
                    <a:pt x="10745" y="21600"/>
                  </a:lnTo>
                  <a:lnTo>
                    <a:pt x="9671" y="21492"/>
                  </a:lnTo>
                  <a:lnTo>
                    <a:pt x="8596" y="21384"/>
                  </a:lnTo>
                  <a:lnTo>
                    <a:pt x="7629" y="21062"/>
                  </a:lnTo>
                  <a:lnTo>
                    <a:pt x="6555" y="20632"/>
                  </a:lnTo>
                  <a:lnTo>
                    <a:pt x="5587" y="20202"/>
                  </a:lnTo>
                  <a:lnTo>
                    <a:pt x="4620" y="19665"/>
                  </a:lnTo>
                  <a:lnTo>
                    <a:pt x="3868" y="19128"/>
                  </a:lnTo>
                  <a:lnTo>
                    <a:pt x="3116" y="18375"/>
                  </a:lnTo>
                  <a:lnTo>
                    <a:pt x="2471" y="17623"/>
                  </a:lnTo>
                  <a:lnTo>
                    <a:pt x="1826" y="16763"/>
                  </a:lnTo>
                  <a:lnTo>
                    <a:pt x="1289" y="15904"/>
                  </a:lnTo>
                  <a:lnTo>
                    <a:pt x="859" y="14937"/>
                  </a:lnTo>
                  <a:lnTo>
                    <a:pt x="537" y="13969"/>
                  </a:lnTo>
                  <a:lnTo>
                    <a:pt x="214" y="12895"/>
                  </a:lnTo>
                  <a:lnTo>
                    <a:pt x="0" y="11820"/>
                  </a:lnTo>
                  <a:lnTo>
                    <a:pt x="0" y="10745"/>
                  </a:lnTo>
                  <a:lnTo>
                    <a:pt x="0" y="10745"/>
                  </a:lnTo>
                  <a:lnTo>
                    <a:pt x="0" y="9564"/>
                  </a:lnTo>
                  <a:lnTo>
                    <a:pt x="214" y="8596"/>
                  </a:lnTo>
                  <a:lnTo>
                    <a:pt x="537" y="7522"/>
                  </a:lnTo>
                  <a:lnTo>
                    <a:pt x="859" y="6555"/>
                  </a:lnTo>
                  <a:lnTo>
                    <a:pt x="1289" y="5587"/>
                  </a:lnTo>
                  <a:lnTo>
                    <a:pt x="1826" y="4620"/>
                  </a:lnTo>
                  <a:lnTo>
                    <a:pt x="2471" y="3868"/>
                  </a:lnTo>
                  <a:lnTo>
                    <a:pt x="3116" y="3116"/>
                  </a:lnTo>
                  <a:lnTo>
                    <a:pt x="3868" y="2364"/>
                  </a:lnTo>
                  <a:lnTo>
                    <a:pt x="4620" y="1826"/>
                  </a:lnTo>
                  <a:lnTo>
                    <a:pt x="5587" y="1289"/>
                  </a:lnTo>
                  <a:lnTo>
                    <a:pt x="6555" y="752"/>
                  </a:lnTo>
                  <a:lnTo>
                    <a:pt x="7629" y="429"/>
                  </a:lnTo>
                  <a:lnTo>
                    <a:pt x="8596" y="214"/>
                  </a:lnTo>
                  <a:lnTo>
                    <a:pt x="9671" y="0"/>
                  </a:lnTo>
                  <a:lnTo>
                    <a:pt x="10745" y="0"/>
                  </a:lnTo>
                  <a:lnTo>
                    <a:pt x="10745" y="0"/>
                  </a:lnTo>
                  <a:lnTo>
                    <a:pt x="11820" y="0"/>
                  </a:lnTo>
                  <a:lnTo>
                    <a:pt x="13002" y="214"/>
                  </a:lnTo>
                  <a:lnTo>
                    <a:pt x="13969" y="429"/>
                  </a:lnTo>
                  <a:lnTo>
                    <a:pt x="15044" y="752"/>
                  </a:lnTo>
                  <a:lnTo>
                    <a:pt x="15904" y="1289"/>
                  </a:lnTo>
                  <a:lnTo>
                    <a:pt x="16871" y="1826"/>
                  </a:lnTo>
                  <a:lnTo>
                    <a:pt x="17623" y="2364"/>
                  </a:lnTo>
                  <a:lnTo>
                    <a:pt x="18483" y="3116"/>
                  </a:lnTo>
                  <a:lnTo>
                    <a:pt x="19128" y="3868"/>
                  </a:lnTo>
                  <a:lnTo>
                    <a:pt x="19665" y="4620"/>
                  </a:lnTo>
                  <a:lnTo>
                    <a:pt x="20310" y="5587"/>
                  </a:lnTo>
                  <a:lnTo>
                    <a:pt x="20632" y="6555"/>
                  </a:lnTo>
                  <a:lnTo>
                    <a:pt x="21062" y="7522"/>
                  </a:lnTo>
                  <a:lnTo>
                    <a:pt x="21384" y="8596"/>
                  </a:lnTo>
                  <a:lnTo>
                    <a:pt x="21492" y="9564"/>
                  </a:lnTo>
                  <a:lnTo>
                    <a:pt x="21600" y="10745"/>
                  </a:lnTo>
                  <a:lnTo>
                    <a:pt x="21600" y="10745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2"/>
            <p:cNvSpPr/>
            <p:nvPr/>
          </p:nvSpPr>
          <p:spPr>
            <a:xfrm>
              <a:off x="7636320" y="4129200"/>
              <a:ext cx="574920" cy="57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55"/>
                  </a:moveTo>
                  <a:lnTo>
                    <a:pt x="21600" y="10655"/>
                  </a:lnTo>
                  <a:lnTo>
                    <a:pt x="21600" y="11807"/>
                  </a:lnTo>
                  <a:lnTo>
                    <a:pt x="21313" y="12815"/>
                  </a:lnTo>
                  <a:lnTo>
                    <a:pt x="21027" y="13967"/>
                  </a:lnTo>
                  <a:lnTo>
                    <a:pt x="20598" y="14831"/>
                  </a:lnTo>
                  <a:lnTo>
                    <a:pt x="20169" y="15839"/>
                  </a:lnTo>
                  <a:lnTo>
                    <a:pt x="19740" y="16703"/>
                  </a:lnTo>
                  <a:lnTo>
                    <a:pt x="19024" y="17567"/>
                  </a:lnTo>
                  <a:lnTo>
                    <a:pt x="18309" y="18287"/>
                  </a:lnTo>
                  <a:lnTo>
                    <a:pt x="17737" y="19007"/>
                  </a:lnTo>
                  <a:lnTo>
                    <a:pt x="16736" y="19583"/>
                  </a:lnTo>
                  <a:lnTo>
                    <a:pt x="15877" y="20159"/>
                  </a:lnTo>
                  <a:lnTo>
                    <a:pt x="15019" y="20591"/>
                  </a:lnTo>
                  <a:lnTo>
                    <a:pt x="13875" y="21023"/>
                  </a:lnTo>
                  <a:lnTo>
                    <a:pt x="12874" y="21311"/>
                  </a:lnTo>
                  <a:lnTo>
                    <a:pt x="11872" y="21600"/>
                  </a:lnTo>
                  <a:lnTo>
                    <a:pt x="10728" y="21600"/>
                  </a:lnTo>
                  <a:lnTo>
                    <a:pt x="10728" y="21600"/>
                  </a:lnTo>
                  <a:lnTo>
                    <a:pt x="9583" y="21600"/>
                  </a:lnTo>
                  <a:lnTo>
                    <a:pt x="8582" y="21311"/>
                  </a:lnTo>
                  <a:lnTo>
                    <a:pt x="7581" y="21023"/>
                  </a:lnTo>
                  <a:lnTo>
                    <a:pt x="6579" y="20591"/>
                  </a:lnTo>
                  <a:lnTo>
                    <a:pt x="5721" y="20159"/>
                  </a:lnTo>
                  <a:lnTo>
                    <a:pt x="4720" y="19583"/>
                  </a:lnTo>
                  <a:lnTo>
                    <a:pt x="3719" y="19007"/>
                  </a:lnTo>
                  <a:lnTo>
                    <a:pt x="3146" y="18287"/>
                  </a:lnTo>
                  <a:lnTo>
                    <a:pt x="2431" y="17567"/>
                  </a:lnTo>
                  <a:lnTo>
                    <a:pt x="1716" y="16703"/>
                  </a:lnTo>
                  <a:lnTo>
                    <a:pt x="1287" y="15839"/>
                  </a:lnTo>
                  <a:lnTo>
                    <a:pt x="858" y="14831"/>
                  </a:lnTo>
                  <a:lnTo>
                    <a:pt x="429" y="13967"/>
                  </a:lnTo>
                  <a:lnTo>
                    <a:pt x="143" y="12815"/>
                  </a:lnTo>
                  <a:lnTo>
                    <a:pt x="0" y="11807"/>
                  </a:lnTo>
                  <a:lnTo>
                    <a:pt x="0" y="10655"/>
                  </a:lnTo>
                  <a:lnTo>
                    <a:pt x="0" y="10655"/>
                  </a:lnTo>
                  <a:lnTo>
                    <a:pt x="0" y="9647"/>
                  </a:lnTo>
                  <a:lnTo>
                    <a:pt x="143" y="8495"/>
                  </a:lnTo>
                  <a:lnTo>
                    <a:pt x="429" y="7487"/>
                  </a:lnTo>
                  <a:lnTo>
                    <a:pt x="858" y="6479"/>
                  </a:lnTo>
                  <a:lnTo>
                    <a:pt x="1287" y="5471"/>
                  </a:lnTo>
                  <a:lnTo>
                    <a:pt x="1716" y="4751"/>
                  </a:lnTo>
                  <a:lnTo>
                    <a:pt x="2431" y="3743"/>
                  </a:lnTo>
                  <a:lnTo>
                    <a:pt x="3146" y="3023"/>
                  </a:lnTo>
                  <a:lnTo>
                    <a:pt x="3719" y="2447"/>
                  </a:lnTo>
                  <a:lnTo>
                    <a:pt x="4720" y="1727"/>
                  </a:lnTo>
                  <a:lnTo>
                    <a:pt x="5721" y="1295"/>
                  </a:lnTo>
                  <a:lnTo>
                    <a:pt x="6579" y="719"/>
                  </a:lnTo>
                  <a:lnTo>
                    <a:pt x="7581" y="287"/>
                  </a:lnTo>
                  <a:lnTo>
                    <a:pt x="8582" y="0"/>
                  </a:lnTo>
                  <a:lnTo>
                    <a:pt x="9583" y="0"/>
                  </a:lnTo>
                  <a:lnTo>
                    <a:pt x="10728" y="0"/>
                  </a:lnTo>
                  <a:lnTo>
                    <a:pt x="10728" y="0"/>
                  </a:lnTo>
                  <a:lnTo>
                    <a:pt x="11872" y="0"/>
                  </a:lnTo>
                  <a:lnTo>
                    <a:pt x="12874" y="0"/>
                  </a:lnTo>
                  <a:lnTo>
                    <a:pt x="13875" y="287"/>
                  </a:lnTo>
                  <a:lnTo>
                    <a:pt x="15019" y="719"/>
                  </a:lnTo>
                  <a:lnTo>
                    <a:pt x="15877" y="1295"/>
                  </a:lnTo>
                  <a:lnTo>
                    <a:pt x="16736" y="1727"/>
                  </a:lnTo>
                  <a:lnTo>
                    <a:pt x="17737" y="2447"/>
                  </a:lnTo>
                  <a:lnTo>
                    <a:pt x="18309" y="3023"/>
                  </a:lnTo>
                  <a:lnTo>
                    <a:pt x="19024" y="3743"/>
                  </a:lnTo>
                  <a:lnTo>
                    <a:pt x="19740" y="4751"/>
                  </a:lnTo>
                  <a:lnTo>
                    <a:pt x="20169" y="5471"/>
                  </a:lnTo>
                  <a:lnTo>
                    <a:pt x="20598" y="6479"/>
                  </a:lnTo>
                  <a:lnTo>
                    <a:pt x="21027" y="7487"/>
                  </a:lnTo>
                  <a:lnTo>
                    <a:pt x="21313" y="8495"/>
                  </a:lnTo>
                  <a:lnTo>
                    <a:pt x="21600" y="9647"/>
                  </a:lnTo>
                  <a:lnTo>
                    <a:pt x="21600" y="10655"/>
                  </a:lnTo>
                  <a:lnTo>
                    <a:pt x="21600" y="1065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23"/>
            <p:cNvSpPr/>
            <p:nvPr/>
          </p:nvSpPr>
          <p:spPr>
            <a:xfrm>
              <a:off x="7738920" y="4231800"/>
              <a:ext cx="372600" cy="375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01"/>
                  </a:lnTo>
                  <a:lnTo>
                    <a:pt x="21379" y="13003"/>
                  </a:lnTo>
                  <a:lnTo>
                    <a:pt x="21159" y="14106"/>
                  </a:lnTo>
                  <a:lnTo>
                    <a:pt x="20718" y="14987"/>
                  </a:lnTo>
                  <a:lnTo>
                    <a:pt x="20056" y="16089"/>
                  </a:lnTo>
                  <a:lnTo>
                    <a:pt x="19616" y="16971"/>
                  </a:lnTo>
                  <a:lnTo>
                    <a:pt x="18955" y="17852"/>
                  </a:lnTo>
                  <a:lnTo>
                    <a:pt x="18293" y="18293"/>
                  </a:lnTo>
                  <a:lnTo>
                    <a:pt x="17632" y="19175"/>
                  </a:lnTo>
                  <a:lnTo>
                    <a:pt x="16750" y="19836"/>
                  </a:lnTo>
                  <a:lnTo>
                    <a:pt x="15869" y="20277"/>
                  </a:lnTo>
                  <a:lnTo>
                    <a:pt x="14987" y="20938"/>
                  </a:lnTo>
                  <a:lnTo>
                    <a:pt x="13885" y="21379"/>
                  </a:lnTo>
                  <a:lnTo>
                    <a:pt x="12783" y="21379"/>
                  </a:lnTo>
                  <a:lnTo>
                    <a:pt x="11681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477" y="21600"/>
                  </a:lnTo>
                  <a:lnTo>
                    <a:pt x="8375" y="21379"/>
                  </a:lnTo>
                  <a:lnTo>
                    <a:pt x="7493" y="21379"/>
                  </a:lnTo>
                  <a:lnTo>
                    <a:pt x="6391" y="20938"/>
                  </a:lnTo>
                  <a:lnTo>
                    <a:pt x="5510" y="20277"/>
                  </a:lnTo>
                  <a:lnTo>
                    <a:pt x="4628" y="19836"/>
                  </a:lnTo>
                  <a:lnTo>
                    <a:pt x="3746" y="19175"/>
                  </a:lnTo>
                  <a:lnTo>
                    <a:pt x="3085" y="18293"/>
                  </a:lnTo>
                  <a:lnTo>
                    <a:pt x="2203" y="17852"/>
                  </a:lnTo>
                  <a:lnTo>
                    <a:pt x="1542" y="16971"/>
                  </a:lnTo>
                  <a:lnTo>
                    <a:pt x="1101" y="16089"/>
                  </a:lnTo>
                  <a:lnTo>
                    <a:pt x="661" y="14987"/>
                  </a:lnTo>
                  <a:lnTo>
                    <a:pt x="440" y="14106"/>
                  </a:lnTo>
                  <a:lnTo>
                    <a:pt x="220" y="13003"/>
                  </a:lnTo>
                  <a:lnTo>
                    <a:pt x="0" y="11901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97"/>
                  </a:lnTo>
                  <a:lnTo>
                    <a:pt x="220" y="8595"/>
                  </a:lnTo>
                  <a:lnTo>
                    <a:pt x="440" y="7493"/>
                  </a:lnTo>
                  <a:lnTo>
                    <a:pt x="661" y="6612"/>
                  </a:lnTo>
                  <a:lnTo>
                    <a:pt x="1101" y="5730"/>
                  </a:lnTo>
                  <a:lnTo>
                    <a:pt x="1542" y="4848"/>
                  </a:lnTo>
                  <a:lnTo>
                    <a:pt x="2203" y="3746"/>
                  </a:lnTo>
                  <a:lnTo>
                    <a:pt x="3085" y="3306"/>
                  </a:lnTo>
                  <a:lnTo>
                    <a:pt x="3746" y="2424"/>
                  </a:lnTo>
                  <a:lnTo>
                    <a:pt x="4628" y="1762"/>
                  </a:lnTo>
                  <a:lnTo>
                    <a:pt x="5510" y="1322"/>
                  </a:lnTo>
                  <a:lnTo>
                    <a:pt x="6391" y="881"/>
                  </a:lnTo>
                  <a:lnTo>
                    <a:pt x="7493" y="440"/>
                  </a:lnTo>
                  <a:lnTo>
                    <a:pt x="8375" y="220"/>
                  </a:lnTo>
                  <a:lnTo>
                    <a:pt x="947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681" y="0"/>
                  </a:lnTo>
                  <a:lnTo>
                    <a:pt x="12783" y="220"/>
                  </a:lnTo>
                  <a:lnTo>
                    <a:pt x="13885" y="440"/>
                  </a:lnTo>
                  <a:lnTo>
                    <a:pt x="14987" y="881"/>
                  </a:lnTo>
                  <a:lnTo>
                    <a:pt x="15869" y="1322"/>
                  </a:lnTo>
                  <a:lnTo>
                    <a:pt x="16750" y="1762"/>
                  </a:lnTo>
                  <a:lnTo>
                    <a:pt x="17632" y="2424"/>
                  </a:lnTo>
                  <a:lnTo>
                    <a:pt x="18293" y="3306"/>
                  </a:lnTo>
                  <a:lnTo>
                    <a:pt x="18955" y="3746"/>
                  </a:lnTo>
                  <a:lnTo>
                    <a:pt x="19616" y="4848"/>
                  </a:lnTo>
                  <a:lnTo>
                    <a:pt x="20056" y="5730"/>
                  </a:lnTo>
                  <a:lnTo>
                    <a:pt x="20718" y="6612"/>
                  </a:lnTo>
                  <a:lnTo>
                    <a:pt x="21159" y="7493"/>
                  </a:lnTo>
                  <a:lnTo>
                    <a:pt x="21379" y="8595"/>
                  </a:lnTo>
                  <a:lnTo>
                    <a:pt x="21600" y="969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5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46320" y="1600200"/>
            <a:ext cx="744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913A-87DC-48E0-ABDC-0FCF108BE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f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3240" y="1677960"/>
            <a:ext cx="9140760" cy="382680"/>
            <a:chOff x="3240" y="1677960"/>
            <a:chExt cx="9140760" cy="382680"/>
          </a:xfrm>
        </p:grpSpPr>
        <p:sp>
          <p:nvSpPr>
            <p:cNvPr id="393" name="Text Box 3"/>
            <p:cNvSpPr/>
            <p:nvPr/>
          </p:nvSpPr>
          <p:spPr>
            <a:xfrm>
              <a:off x="3240" y="1793880"/>
              <a:ext cx="9140760" cy="266760"/>
            </a:xfrm>
            <a:prstGeom prst="rect">
              <a:avLst/>
            </a:prstGeom>
            <a:solidFill>
              <a:srgbClr val="00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4"/>
            <p:cNvSpPr/>
            <p:nvPr/>
          </p:nvSpPr>
          <p:spPr>
            <a:xfrm>
              <a:off x="3240" y="1677960"/>
              <a:ext cx="9140760" cy="87480"/>
            </a:xfrm>
            <a:prstGeom prst="rect">
              <a:avLst/>
            </a:pr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5"/>
            <p:cNvSpPr/>
            <p:nvPr/>
          </p:nvSpPr>
          <p:spPr>
            <a:xfrm>
              <a:off x="1305000" y="1793880"/>
              <a:ext cx="342720" cy="2667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6"/>
            <p:cNvSpPr/>
            <p:nvPr/>
          </p:nvSpPr>
          <p:spPr>
            <a:xfrm>
              <a:off x="1647720" y="1793880"/>
              <a:ext cx="704880" cy="266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2346480" y="1793880"/>
              <a:ext cx="228600" cy="26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a4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2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625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60F6-AF8E-4CD2-8410-FF0DBB939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&#33541;&#23627;&#20026;&#31179;&#39118;&#25152;&#30772;&#27468;2.swf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ZR959.WAV"/><Relationship Id="rId3" Type="http://schemas.openxmlformats.org/officeDocument/2006/relationships/audio" Target="../media/cashreg.wav"/><Relationship Id="rId4" Type="http://schemas.openxmlformats.org/officeDocument/2006/relationships/audio" Target="../media/ZR282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&#33541;&#23627;&#20026;&#31179;&#39118;&#25152;&#30772;&#27468;1.exe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图片 1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4"/>
          <p:cNvSpPr/>
          <p:nvPr/>
        </p:nvSpPr>
        <p:spPr>
          <a:xfrm>
            <a:off x="84423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-163080" y="228600"/>
            <a:ext cx="1642680" cy="632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茅屋为秋风所破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1604520" y="4103640"/>
            <a:ext cx="91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-18030"/>
              </a:rPr>
              <a:t>杜甫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1332000" y="638280"/>
            <a:ext cx="655308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 Black"/>
                <a:ea typeface="宋体"/>
              </a:rPr>
              <a:t>一会儿，风停了，乌云像墨一样黑，秋天的天空乌云密布，天也渐近黄昏，黑了下来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 Black"/>
                <a:ea typeface="宋体"/>
              </a:rPr>
              <a:t>盖了多年的被子，又硬又冷，像铁一样，娇惯的儿子因为睡相不好，把被里都蹬破了。因为屋漏，床上没有一块干燥的地方，而雨水还像麻线一样不断流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1332000" y="684360"/>
            <a:ext cx="70866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 Black"/>
                <a:ea typeface="宋体"/>
              </a:rPr>
              <a:t>哪里能得到千万间高大的房屋，普遍地遮蔽天下贫寒的读书人，让他们都喜笑颜开，而高大的房屋在狂风暴雨中也不会倾倒，安稳得像山一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 Black"/>
                <a:ea typeface="宋体"/>
              </a:rPr>
              <a:t>啊！什么时候，我的眼前能一下子出现这样高大的房屋，我自己即使茅屋被狂风吹破，被冻死了也心满意足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-795600" y="1752480"/>
            <a:ext cx="3862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抓情节  入情境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试抓关键词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拟写各段小标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3352680" y="2133720"/>
            <a:ext cx="549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4" descr="shxs033a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160956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1166040" y="304920"/>
            <a:ext cx="18266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ccccff"/>
                </a:solidFill>
                <a:uFillTx/>
                <a:latin typeface="Times New Roman"/>
                <a:ea typeface="方正舒体"/>
                <a:hlinkClick r:id="rId2"/>
              </a:rPr>
              <a:t>听读课文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6" descr="ssh1-6a"/>
          <p:cNvPicPr/>
          <p:nvPr/>
        </p:nvPicPr>
        <p:blipFill>
          <a:blip r:embed="rId3"/>
          <a:srcRect l="41668" t="-660" r="2504" b="12312"/>
          <a:stretch/>
        </p:blipFill>
        <p:spPr>
          <a:xfrm>
            <a:off x="3809880" y="152280"/>
            <a:ext cx="510552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TPBG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3"/>
          <p:cNvSpPr/>
          <p:nvPr/>
        </p:nvSpPr>
        <p:spPr>
          <a:xfrm>
            <a:off x="0" y="0"/>
            <a:ext cx="723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11d7"/>
                </a:solidFill>
                <a:latin typeface="Times New Roman"/>
                <a:ea typeface="华文楷体"/>
              </a:rPr>
              <a:t>     </a:t>
            </a:r>
            <a:r>
              <a:rPr b="1" lang="zh-CN" sz="3600" spc="-1" strike="noStrike">
                <a:solidFill>
                  <a:srgbClr val="2911d7"/>
                </a:solidFill>
                <a:latin typeface="华文新魏"/>
                <a:ea typeface="华文新魏"/>
              </a:rPr>
              <a:t>八月秋高风怒号，卷我屋上三重茅。茅飞渡江洒江郊，高者挂罥长林梢，下者飘转沉塘坳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11d7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2911d7"/>
                </a:solidFill>
                <a:latin typeface="华文新魏"/>
                <a:ea typeface="华文新魏"/>
              </a:rPr>
              <a:t>南村群童欺我老无力，忍能对面为盗贼，公然抱茅入竹去，唇焦口燥呼不得，归来倚杖自叹息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11d7"/>
                </a:solidFill>
                <a:latin typeface="华文新魏"/>
                <a:ea typeface="华文新魏"/>
              </a:rPr>
              <a:t>俄顷风定云墨色，秋天漠漠向昏黑。布衾多年冷似铁，娇儿恶卧踏里裂。床头屋漏无干处，雨脚如麻未断绝。自经丧乱少睡眠，长夜沾湿何由彻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7086600" y="15228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秋风破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6934320" y="2133720"/>
            <a:ext cx="2209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群童盗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7086600" y="464832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破屋漏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心情苦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0" y="2819160"/>
            <a:ext cx="2286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无可奈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7498440" y="5334120"/>
            <a:ext cx="1278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忧思不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R95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R2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3"/>
          <p:cNvSpPr/>
          <p:nvPr/>
        </p:nvSpPr>
        <p:spPr>
          <a:xfrm>
            <a:off x="1762200" y="380880"/>
            <a:ext cx="7381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魏碑简体"/>
              </a:rPr>
              <a:t>安得广厦千万间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魏碑简体"/>
              </a:rPr>
              <a:t>大庇天下寒士俱欢颜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魏碑简体"/>
              </a:rPr>
              <a:t>风雨不动安如山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魏碑简体"/>
              </a:rPr>
              <a:t>呜呼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魏碑简体"/>
              </a:rPr>
              <a:t>何时眼前突兀见此屋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方正魏碑简体"/>
              </a:rPr>
              <a:t>吾庐独破受冻死亦足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0" y="5638680"/>
            <a:ext cx="914400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b36d5"/>
                </a:solidFill>
                <a:latin typeface="Times New Roman"/>
                <a:ea typeface="黑体"/>
              </a:rPr>
              <a:t>诗人推己及人，希冀“广厦千万间”，使“天下寒士俱欢颜”，表达了诗人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关心民生疾苦、忧国忧民</a:t>
            </a:r>
            <a:r>
              <a:rPr b="0" i="1" lang="zh-CN" sz="2800" spc="-1" strike="noStrike">
                <a:solidFill>
                  <a:srgbClr val="0b36d5"/>
                </a:solidFill>
                <a:latin typeface="Times New Roman"/>
                <a:ea typeface="黑体"/>
              </a:rPr>
              <a:t>的深沉情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43000" y="1523520"/>
            <a:ext cx="23623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期盼广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219320" y="2285640"/>
            <a:ext cx="220968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心怀天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shxs033a"/>
          <p:cNvPicPr/>
          <p:nvPr/>
        </p:nvPicPr>
        <p:blipFill>
          <a:blip r:embed="rId1"/>
          <a:stretch/>
        </p:blipFill>
        <p:spPr>
          <a:xfrm>
            <a:off x="0" y="0"/>
            <a:ext cx="3581280" cy="160956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品读探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76280" y="14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Arial"/>
                <a:ea typeface="方正姚体"/>
              </a:rPr>
              <a:t>一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姚体"/>
              </a:rPr>
              <a:t>、高声诵读、领会美点（好句、好词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Arial"/>
                <a:ea typeface="方正姚体"/>
              </a:rPr>
              <a:t>二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姚体"/>
              </a:rPr>
              <a:t>、读出韵味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方正姚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姚体"/>
              </a:rPr>
              <a:t>用心领悟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方正姚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姚体"/>
              </a:rPr>
              <a:t>找出全文主旨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76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品读探究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5920" y="1628640"/>
            <a:ext cx="8229600" cy="452592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新宋体"/>
              </a:rPr>
              <a:t>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这首诗的前三段以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主，没有直接抒情，而是寓情于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之中，说说前三段在叙事中表达了诗人什么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新宋体"/>
              </a:rPr>
              <a:t>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如何理解“忍能对面为盗贼”这句诗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新宋体-18030"/>
              </a:rPr>
              <a:t>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最后一段，诗人直抒心胸臆，写诗人的理想和愿望。这一段与前三段的叙事有何联系？诗人的思想可贵在何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6" descr="shxs033a"/>
          <p:cNvPicPr/>
          <p:nvPr/>
        </p:nvPicPr>
        <p:blipFill>
          <a:blip r:embed="rId1"/>
          <a:stretch/>
        </p:blipFill>
        <p:spPr>
          <a:xfrm>
            <a:off x="0" y="233280"/>
            <a:ext cx="3357720" cy="139536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7"/>
          <p:cNvSpPr/>
          <p:nvPr/>
        </p:nvSpPr>
        <p:spPr>
          <a:xfrm>
            <a:off x="385920" y="593640"/>
            <a:ext cx="23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品读探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8"/>
          <p:cNvSpPr/>
          <p:nvPr/>
        </p:nvSpPr>
        <p:spPr>
          <a:xfrm>
            <a:off x="4693320" y="1568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叙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9"/>
          <p:cNvSpPr/>
          <p:nvPr/>
        </p:nvSpPr>
        <p:spPr>
          <a:xfrm>
            <a:off x="3881880" y="2019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描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shxs033a"/>
          <p:cNvPicPr/>
          <p:nvPr/>
        </p:nvPicPr>
        <p:blipFill>
          <a:blip r:embed="rId1"/>
          <a:stretch/>
        </p:blipFill>
        <p:spPr>
          <a:xfrm>
            <a:off x="0" y="0"/>
            <a:ext cx="3657600" cy="160020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2514600" y="1523880"/>
            <a:ext cx="190512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秋风破屋   心情苦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群童抢茅无可奈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夜沾湿忧思不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838080" y="1981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现实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4267080" y="1981080"/>
            <a:ext cx="609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52f4"/>
                </a:solidFill>
                <a:latin typeface="Times New Roman"/>
                <a:ea typeface="宋体"/>
              </a:rPr>
              <a:t>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52f4"/>
                </a:solidFill>
                <a:latin typeface="Times New Roman"/>
                <a:ea typeface="宋体"/>
              </a:rPr>
              <a:t>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4724280" y="1981080"/>
            <a:ext cx="79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52f4"/>
                </a:solidFill>
                <a:latin typeface="Times New Roman"/>
                <a:ea typeface="宋体"/>
              </a:rPr>
              <a:t>白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52f4"/>
                </a:solidFill>
                <a:latin typeface="Times New Roman"/>
                <a:ea typeface="宋体"/>
              </a:rPr>
              <a:t>黑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5486400" y="1981080"/>
            <a:ext cx="1066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52f4"/>
                </a:solidFill>
                <a:latin typeface="Times New Roman"/>
                <a:ea typeface="宋体"/>
              </a:rPr>
              <a:t>屋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52f4"/>
                </a:solidFill>
                <a:latin typeface="Times New Roman"/>
                <a:ea typeface="宋体"/>
              </a:rPr>
              <a:t>屋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6095880" y="198108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52f4"/>
                </a:solidFill>
                <a:latin typeface="Times New Roman"/>
                <a:ea typeface="宋体"/>
              </a:rPr>
              <a:t>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52f4"/>
                </a:solidFill>
                <a:latin typeface="Times New Roman"/>
                <a:ea typeface="宋体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7010280" y="2133720"/>
            <a:ext cx="106704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自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891360" y="4648320"/>
            <a:ext cx="9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理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6553080" y="4648320"/>
            <a:ext cx="190512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天下寒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3"/>
          <p:cNvSpPr/>
          <p:nvPr/>
        </p:nvSpPr>
        <p:spPr>
          <a:xfrm>
            <a:off x="1371600" y="274320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7543800" y="2819520"/>
            <a:ext cx="0" cy="17524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8001000" y="1143000"/>
            <a:ext cx="83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关心民生忧国忧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6165720" y="2708280"/>
            <a:ext cx="1033560" cy="1770120"/>
          </a:xfrm>
          <a:prstGeom prst="rect">
            <a:avLst/>
          </a:prstGeom>
          <a:solidFill>
            <a:srgbClr val="78f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52f4"/>
                </a:solidFill>
                <a:latin typeface="Times New Roman"/>
                <a:ea typeface="宋体"/>
              </a:rPr>
              <a:t>推己及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1270080" y="2781360"/>
            <a:ext cx="1033560" cy="1549440"/>
          </a:xfrm>
          <a:prstGeom prst="rect">
            <a:avLst/>
          </a:prstGeom>
          <a:solidFill>
            <a:srgbClr val="78f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52f4"/>
                </a:solidFill>
                <a:latin typeface="Times New Roman"/>
                <a:ea typeface="宋体"/>
              </a:rPr>
              <a:t>水到渠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609480" y="533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理清思路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9"/>
          <p:cNvSpPr/>
          <p:nvPr/>
        </p:nvSpPr>
        <p:spPr>
          <a:xfrm>
            <a:off x="2647080" y="4648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广厦千万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142640" y="13716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Picture 4" descr="gg290x150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5"/>
          <p:cNvSpPr/>
          <p:nvPr/>
        </p:nvSpPr>
        <p:spPr>
          <a:xfrm>
            <a:off x="-55800" y="4495680"/>
            <a:ext cx="15210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隶书"/>
              </a:rPr>
              <a:t>拓展延伸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WordArt 6"/>
          <p:cNvSpPr txBox="1"/>
          <p:nvPr/>
        </p:nvSpPr>
        <p:spPr>
          <a:xfrm>
            <a:off x="1752480" y="5105520"/>
            <a:ext cx="6858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</a:rPr>
              <a:t>你能说出杜甫其它有关爱国的诗句吗？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方正姚体"/>
              <a:ea typeface="方正姚体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914400" y="304920"/>
            <a:ext cx="68580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杜甫忧国忧民的诗歌名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3200" spc="-1" strike="noStrike">
                <a:solidFill>
                  <a:srgbClr val="2911d7"/>
                </a:solidFill>
                <a:latin typeface="Times New Roman"/>
                <a:ea typeface="方正隶书简体"/>
              </a:rPr>
              <a:t>国破山河在，城春草木深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1d7"/>
                </a:solidFill>
                <a:latin typeface="Times New Roman"/>
                <a:ea typeface="方正隶书简体"/>
              </a:rPr>
              <a:t>                </a:t>
            </a:r>
            <a:r>
              <a:rPr b="0" lang="zh-CN" sz="3200" spc="-1" strike="noStrike">
                <a:solidFill>
                  <a:srgbClr val="2911d7"/>
                </a:solidFill>
                <a:latin typeface="Times New Roman"/>
                <a:ea typeface="方正隶书简体"/>
              </a:rPr>
              <a:t>朱门酒肉臭，路有冻死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1d7"/>
                </a:solidFill>
                <a:latin typeface="Times New Roman"/>
                <a:ea typeface="方正隶书简体"/>
              </a:rPr>
              <a:t>                </a:t>
            </a:r>
            <a:r>
              <a:rPr b="0" lang="zh-CN" sz="3200" spc="-1" strike="noStrike">
                <a:solidFill>
                  <a:srgbClr val="2911d7"/>
                </a:solidFill>
                <a:latin typeface="Times New Roman"/>
                <a:ea typeface="方正隶书简体"/>
              </a:rPr>
              <a:t>穷年忧黎元，叹息肠内热。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91440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         </a:t>
            </a:r>
            <a:r>
              <a:rPr b="1" i="1" lang="zh-CN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任何一个诗人也不能由于他自己和靠描写他自己而显得伟大 ，是因为他们的痛苦和幸福的根系深深地伸进了社会和历史的土壤里，因为他是社会、朝代、人类的器官和代表。 </a:t>
            </a: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                                          －－</a:t>
            </a:r>
            <a:r>
              <a:rPr b="1" i="1" lang="en-US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〔</a:t>
            </a:r>
            <a:r>
              <a:rPr b="1" i="1" lang="zh-CN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前苏联</a:t>
            </a:r>
            <a:r>
              <a:rPr b="1" i="1" lang="en-US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〕</a:t>
            </a:r>
            <a:r>
              <a:rPr b="1" i="1" lang="zh-CN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别林斯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shxs033a"/>
          <p:cNvPicPr/>
          <p:nvPr/>
        </p:nvPicPr>
        <p:blipFill>
          <a:blip r:embed="rId1"/>
          <a:stretch/>
        </p:blipFill>
        <p:spPr>
          <a:xfrm>
            <a:off x="304920" y="0"/>
            <a:ext cx="3581280" cy="13716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1066680"/>
            <a:ext cx="556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杜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712-770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字子美，因居少陵，自称少陵布衣、少陵野老，因其做左拾遗、检校工部员外郎，称杜拾遗、杜工部，唐代伟大的现实主义诗人。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杜工部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与李白并称“李杜”，又因有别于杜牧，亦称“老杜”。杜甫生活在唐王朝由盛转衰之时，其诗反映社会动乱和人民疾苦，被称为“诗史”</a:t>
            </a:r>
            <a:r>
              <a:rPr b="1" lang="zh-CN" sz="2800" spc="-1" strike="noStrike">
                <a:solidFill>
                  <a:srgbClr val="061e74"/>
                </a:solidFill>
                <a:latin typeface="Times New Roman"/>
                <a:ea typeface="华文楷体"/>
              </a:rPr>
              <a:t>。</a:t>
            </a:r>
            <a:r>
              <a:rPr b="0" lang="zh-CN" sz="2800" spc="-1" strike="noStrike">
                <a:solidFill>
                  <a:srgbClr val="061e74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诗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“沉郁顿挫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语言精炼传神，对后世诗人影响极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被誉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“诗圣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茅屋为秋风所破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选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杜工部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3BL_06"/>
          <p:cNvPicPr/>
          <p:nvPr/>
        </p:nvPicPr>
        <p:blipFill>
          <a:blip r:embed="rId2"/>
          <a:stretch/>
        </p:blipFill>
        <p:spPr>
          <a:xfrm>
            <a:off x="5486400" y="380880"/>
            <a:ext cx="3657600" cy="601992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6"/>
          <p:cNvSpPr/>
          <p:nvPr/>
        </p:nvSpPr>
        <p:spPr>
          <a:xfrm>
            <a:off x="1410120" y="228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作者简介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ssh1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shxs033a"/>
          <p:cNvPicPr/>
          <p:nvPr/>
        </p:nvPicPr>
        <p:blipFill>
          <a:blip r:embed="rId2"/>
          <a:stretch/>
        </p:blipFill>
        <p:spPr>
          <a:xfrm>
            <a:off x="228600" y="0"/>
            <a:ext cx="3429000" cy="12193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4"/>
          <p:cNvSpPr/>
          <p:nvPr/>
        </p:nvSpPr>
        <p:spPr>
          <a:xfrm>
            <a:off x="1213920" y="15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诗词欣赏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1241280" y="324000"/>
            <a:ext cx="6629400" cy="37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9999"/>
                </a:solidFill>
                <a:latin typeface="Times New Roman"/>
                <a:ea typeface="华文琥珀"/>
              </a:rPr>
              <a:t>闻官军收河南河北</a:t>
            </a:r>
            <a:br>
              <a:rPr sz="3600"/>
            </a:b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剑外忽传收蓟北，初闻涕泪满衣裳。 </a:t>
            </a:r>
            <a:br>
              <a:rPr sz="2800"/>
            </a:b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却看妻子愁何在，漫卷诗书喜欲狂。 </a:t>
            </a:r>
            <a:br>
              <a:rPr sz="2800"/>
            </a:b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白首放歌须纵酒，青春作伴好还乡。 </a:t>
            </a:r>
            <a:br>
              <a:rPr sz="2800"/>
            </a:b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即从巴峡穿巫峡，便下襄阳向洛阳。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0" y="27432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zh-CN" sz="2800" spc="-1" strike="noStrike">
                <a:solidFill>
                  <a:srgbClr val="2911d7"/>
                </a:solidFill>
                <a:latin typeface="Times New Roman"/>
                <a:ea typeface="宋体"/>
              </a:rPr>
              <a:t>这首诗作于代宗广德元年（７６３）春。延续七年多的安史之乱终于结束了。诗人在剑南喜闻蓟北光复，想到国家可以重新安定，人民可过安定生活，自己可以携眷还乡，喜极而涕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诗人的“喜”，从另一个方面表现了他忧国忧民的深沉情感。</a:t>
            </a:r>
            <a:r>
              <a:rPr b="0" lang="zh-CN" sz="2800" spc="-1" strike="noStrike">
                <a:solidFill>
                  <a:srgbClr val="2911d7"/>
                </a:solidFill>
                <a:latin typeface="Times New Roman"/>
                <a:ea typeface="宋体"/>
              </a:rPr>
              <a:t>全诗毫无点饰，情真意切。读首诗，我们可以想象作者当时对着妻儿侃侃讲述捷报，手舞足蹈，惊喜欲狂的神态。因此，历代诗论家都极为推崇这首诗，浦起龙在</a:t>
            </a:r>
            <a:r>
              <a:rPr b="0" lang="en-US" sz="2800" spc="-1" strike="noStrike">
                <a:solidFill>
                  <a:srgbClr val="2911d7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2911d7"/>
                </a:solidFill>
                <a:latin typeface="Times New Roman"/>
                <a:ea typeface="宋体"/>
              </a:rPr>
              <a:t>读杜心解</a:t>
            </a:r>
            <a:r>
              <a:rPr b="0" lang="en-US" sz="2800" spc="-1" strike="noStrike">
                <a:solidFill>
                  <a:srgbClr val="2911d7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2911d7"/>
                </a:solidFill>
                <a:latin typeface="Times New Roman"/>
                <a:ea typeface="宋体"/>
              </a:rPr>
              <a:t>中称赞它是杜甫“生平第一首快诗。”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shxs033a"/>
          <p:cNvPicPr/>
          <p:nvPr/>
        </p:nvPicPr>
        <p:blipFill>
          <a:blip r:embed="rId1"/>
          <a:stretch/>
        </p:blipFill>
        <p:spPr>
          <a:xfrm>
            <a:off x="0" y="0"/>
            <a:ext cx="3429000" cy="121932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3"/>
          <p:cNvSpPr/>
          <p:nvPr/>
        </p:nvSpPr>
        <p:spPr>
          <a:xfrm>
            <a:off x="1600200" y="380880"/>
            <a:ext cx="6095880" cy="85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登  高</a:t>
            </a:r>
            <a:br>
              <a:rPr sz="3600"/>
            </a:b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风急天高猿啸哀，渚清沙白鸟飞回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无边落木萧萧下，不尽长江滚滚来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万里悲秋常作客，百年多病独登台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艰难苦恨繁霜鬓，潦倒新停浊酒杯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蜀  相</a:t>
            </a:r>
            <a:br>
              <a:rPr sz="3600"/>
            </a:b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丞相祠堂何处寻？锦官城外柏森森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映阶碧草自春色，隔叶黄鹂空好音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三顾频烦天下计，两朝开济老臣心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出师未捷身先死，长使英雄泪满襟！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4878360" y="7621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609480" y="228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诗歌诵读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ct_zengmen南大门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3"/>
          <p:cNvSpPr/>
          <p:nvPr/>
        </p:nvSpPr>
        <p:spPr>
          <a:xfrm>
            <a:off x="611280" y="620640"/>
            <a:ext cx="7777080" cy="23767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世上疮痍，诗中圣哲，社会病态，振笔疾呼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民间疾苦，笔底波澜，百姓疾苦，震撼人心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56520"/>
                </a:solidFill>
                <a:latin typeface="Times New Roman"/>
              </a:rPr>
              <a:t>　　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郭沫若题成都杜甫草堂诗史堂联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8"/>
          <p:cNvSpPr/>
          <p:nvPr/>
        </p:nvSpPr>
        <p:spPr>
          <a:xfrm>
            <a:off x="5202360" y="10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2" descr="shxs033a"/>
          <p:cNvPicPr/>
          <p:nvPr/>
        </p:nvPicPr>
        <p:blipFill>
          <a:blip r:embed="rId1"/>
          <a:stretch/>
        </p:blipFill>
        <p:spPr>
          <a:xfrm>
            <a:off x="0" y="0"/>
            <a:ext cx="3581280" cy="137160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3"/>
          <p:cNvSpPr/>
          <p:nvPr/>
        </p:nvSpPr>
        <p:spPr>
          <a:xfrm>
            <a:off x="206280" y="95400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杜甫生于士大夫家庭，怀有“致君尧舜上”的理想，却因奸臣李林甫当道，屡试不第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才得一小官，“安史之乱”时被俘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逃出虎口，投奔肃宗，任左拾遗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，关内大饥，遂弃官西行至成都，在西郊浣花溪盖一间茅屋栖身。后遇大风吹破此屋，乃作此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4" descr="mw"/>
          <p:cNvPicPr/>
          <p:nvPr/>
        </p:nvPicPr>
        <p:blipFill>
          <a:blip r:embed="rId2"/>
          <a:stretch/>
        </p:blipFill>
        <p:spPr>
          <a:xfrm>
            <a:off x="3886200" y="228600"/>
            <a:ext cx="5105520" cy="617220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952920" y="228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时代背景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biankuan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914400" y="1523880"/>
            <a:ext cx="6477120" cy="21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歌行体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歌行，古代诗歌的一种。汉魏以下的乐府诗，题名为“歌”或“行”的颇多，二者虽名称不同，其实并无严格区别。后遂有“歌行”一体。其音节、格律一般比较自由，富于变化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dufu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3"/>
          <p:cNvSpPr/>
          <p:nvPr/>
        </p:nvSpPr>
        <p:spPr>
          <a:xfrm>
            <a:off x="1143000" y="1981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2057400" y="37339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980720" y="2437920"/>
            <a:ext cx="2900520" cy="3505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初读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注意停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明了大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Picture 6" descr="dufu11"/>
          <p:cNvPicPr/>
          <p:nvPr/>
        </p:nvPicPr>
        <p:blipFill>
          <a:blip r:embed="rId3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shxs033a"/>
          <p:cNvPicPr/>
          <p:nvPr/>
        </p:nvPicPr>
        <p:blipFill>
          <a:blip r:embed="rId4"/>
          <a:stretch/>
        </p:blipFill>
        <p:spPr>
          <a:xfrm>
            <a:off x="0" y="0"/>
            <a:ext cx="3657600" cy="16002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shxs033a"/>
          <p:cNvPicPr/>
          <p:nvPr/>
        </p:nvPicPr>
        <p:blipFill>
          <a:blip r:embed="rId1"/>
          <a:stretch/>
        </p:blipFill>
        <p:spPr>
          <a:xfrm>
            <a:off x="0" y="0"/>
            <a:ext cx="3124080" cy="119700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0" y="91440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读准下列画线字的读音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怒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挂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林 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布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三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茅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沉塘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12560" y="571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飘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转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82320" y="510552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huǎ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1676520" y="5715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俄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4908240" y="56386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广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4878000" y="50292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2034000" y="51055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qǐ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6174000" y="49528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ià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1"/>
          <p:cNvSpPr/>
          <p:nvPr/>
        </p:nvSpPr>
        <p:spPr>
          <a:xfrm>
            <a:off x="3354840" y="51055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ā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2"/>
          <p:cNvSpPr/>
          <p:nvPr/>
        </p:nvSpPr>
        <p:spPr>
          <a:xfrm>
            <a:off x="3536640" y="571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乱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3"/>
          <p:cNvSpPr/>
          <p:nvPr/>
        </p:nvSpPr>
        <p:spPr>
          <a:xfrm>
            <a:off x="6372000" y="56386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此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34960" y="19051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á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15"/>
          <p:cNvSpPr/>
          <p:nvPr/>
        </p:nvSpPr>
        <p:spPr>
          <a:xfrm>
            <a:off x="2439360" y="1905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uà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3887640" y="19810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á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6631200" y="19810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ì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8"/>
          <p:cNvSpPr/>
          <p:nvPr/>
        </p:nvSpPr>
        <p:spPr>
          <a:xfrm>
            <a:off x="610920" y="35053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9"/>
          <p:cNvSpPr/>
          <p:nvPr/>
        </p:nvSpPr>
        <p:spPr>
          <a:xfrm>
            <a:off x="3507120" y="35812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ó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20"/>
          <p:cNvSpPr/>
          <p:nvPr/>
        </p:nvSpPr>
        <p:spPr>
          <a:xfrm>
            <a:off x="1957680" y="34290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qī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6478920" y="3581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à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2"/>
          <p:cNvSpPr/>
          <p:nvPr/>
        </p:nvSpPr>
        <p:spPr>
          <a:xfrm>
            <a:off x="800640" y="15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扫除障碍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152280" y="228600"/>
            <a:ext cx="838224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感知情感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自己喜欢的方式朗读本诗，想想诗歌表达了作者什么样的思想感情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789120" y="3733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感知内容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4163400" y="4903920"/>
            <a:ext cx="123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借助注释、查阅资料、小组合作翻译课文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你能试着用几个四字词来概括本诗的内容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-88920" y="-128520"/>
            <a:ext cx="181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6" descr="shxs033a"/>
          <p:cNvPicPr/>
          <p:nvPr/>
        </p:nvPicPr>
        <p:blipFill>
          <a:blip r:embed="rId1"/>
          <a:stretch/>
        </p:blipFill>
        <p:spPr>
          <a:xfrm>
            <a:off x="2771640" y="54000"/>
            <a:ext cx="3581640" cy="137160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7"/>
          <p:cNvSpPr/>
          <p:nvPr/>
        </p:nvSpPr>
        <p:spPr>
          <a:xfrm>
            <a:off x="3813120" y="368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阅读感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shxs033a"/>
          <p:cNvPicPr/>
          <p:nvPr/>
        </p:nvPicPr>
        <p:blipFill>
          <a:blip r:embed="rId1"/>
          <a:stretch/>
        </p:blipFill>
        <p:spPr>
          <a:xfrm>
            <a:off x="0" y="0"/>
            <a:ext cx="3429000" cy="121932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3"/>
          <p:cNvSpPr/>
          <p:nvPr/>
        </p:nvSpPr>
        <p:spPr>
          <a:xfrm>
            <a:off x="657360" y="639720"/>
            <a:ext cx="8458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Arial Black"/>
                <a:ea typeface="宋体"/>
              </a:rPr>
              <a:t>八月，秋已深了，狂风怒吼，把我草屋上的几层茅草都卷走了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Arial Black"/>
                <a:ea typeface="宋体"/>
              </a:rPr>
              <a:t>茅草飘飞，飞过江去，散落在江边上，其中飞得高的茅草，挂在高高的枝头，飞得低的茅草，飘飘悠悠，落在深塘的水边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228600" y="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翻译课文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882720" y="728640"/>
            <a:ext cx="82296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cd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d3333"/>
                </a:solidFill>
                <a:latin typeface="Arial Black"/>
                <a:ea typeface="宋体"/>
              </a:rPr>
              <a:t>南村边上的一群顽童，欺负我年老体弱，竟忍心这样当面做</a:t>
            </a:r>
            <a:r>
              <a:rPr b="0" lang="zh-CN" sz="4000" spc="-1" strike="noStrike">
                <a:solidFill>
                  <a:srgbClr val="cd3333"/>
                </a:solidFill>
                <a:latin typeface="Times New Roman"/>
                <a:ea typeface="宋体"/>
              </a:rPr>
              <a:t>“</a:t>
            </a:r>
            <a:r>
              <a:rPr b="0" lang="zh-CN" sz="4000" spc="-1" strike="noStrike">
                <a:solidFill>
                  <a:srgbClr val="cd3333"/>
                </a:solidFill>
                <a:latin typeface="Arial Black"/>
                <a:ea typeface="宋体"/>
              </a:rPr>
              <a:t>贼</a:t>
            </a:r>
            <a:r>
              <a:rPr b="0" lang="zh-CN" sz="4000" spc="-1" strike="noStrike">
                <a:solidFill>
                  <a:srgbClr val="cd3333"/>
                </a:solidFill>
                <a:latin typeface="Times New Roman"/>
                <a:ea typeface="宋体"/>
              </a:rPr>
              <a:t>”</a:t>
            </a:r>
            <a:r>
              <a:rPr b="0" lang="zh-CN" sz="4000" spc="-1" strike="noStrike">
                <a:solidFill>
                  <a:srgbClr val="cd3333"/>
                </a:solidFill>
                <a:latin typeface="Arial Black"/>
                <a:ea typeface="宋体"/>
              </a:rPr>
              <a:t>，公开地抱着散落在地的茅草，溜进竹林里去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cd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d3333"/>
                </a:solidFill>
                <a:latin typeface="Arial Black"/>
                <a:ea typeface="宋体"/>
              </a:rPr>
              <a:t>我喊得唇焦口干也没有效果，只好回来靠着手杖独自叹息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06:01:15Z</dcterms:created>
  <dc:creator>第一PPT模板网-WWW.1PPT.COM第一PPT模板网-WWW.1PPT.COM</dc:creator>
  <dc:description>第一PPT模板网-WWW.1PPT.COM
</dc:description>
  <cp:keywords>第一PPT模板网-WWW.1PPT.COM</cp:keywords>
  <dc:language>en-US</dc:language>
  <cp:lastModifiedBy>Administrator</cp:lastModifiedBy>
  <cp:lastPrinted>1900-01-03T05:48:54Z</cp:lastPrinted>
  <dcterms:modified xsi:type="dcterms:W3CDTF">2017-06-21T01:23:44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