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22.jpeg" ContentType="image/jpeg"/>
  <Override PartName="/ppt/media/image9.png" ContentType="image/png"/>
  <Override PartName="/ppt/media/image20.jpeg" ContentType="image/jpeg"/>
  <Override PartName="/ppt/media/image18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laser.wav" ContentType="audio/x-wav"/>
  <Override PartName="/ppt/media/image12.wmf" ContentType="image/x-wmf"/>
  <Override PartName="/ppt/media/image8.png" ContentType="image/png"/>
  <Override PartName="/ppt/media/image5.png" ContentType="image/png"/>
  <Override PartName="/ppt/media/image26.jpeg" ContentType="image/jpeg"/>
  <Override PartName="/ppt/media/image28.jpeg" ContentType="image/jpeg"/>
  <Override PartName="/ppt/media/image6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4.jpeg" ContentType="image/jpeg"/>
  <Override PartName="/ppt/media/projctor.wav" ContentType="audio/x-wav"/>
  <Override PartName="/ppt/media/type.wav" ContentType="audio/x-wav"/>
  <Override PartName="/ppt/media/image13.wmf" ContentType="image/x-wmf"/>
  <Override PartName="/ppt/media/image27.jpeg" ContentType="image/jpeg"/>
  <Override PartName="/ppt/media/image17.gif" ContentType="image/gif"/>
  <Override PartName="/ppt/media/camera.wav" ContentType="audio/x-wav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44E-D8B3-4997-BF69-1F9D7A87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273-B5EC-40BA-B154-1C97828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7CC-D99A-44F2-990A-C6CBBBE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423-AD9C-4435-A47A-75B4C678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7B5-9806-4832-91F4-0CFD44CF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C1F-3739-46AF-BB00-B258AE9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836-9C0A-42F5-9028-5608B0A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840-17D0-40FB-BB0D-B2C455B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E90-3C48-4125-8E62-77D32009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187-4E51-44B9-867B-C4E991A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928-C300-48D8-86E4-DA75DC5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535-AC1D-4516-BF4B-F33B63B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22C-3F7E-4184-8AAE-7A97CA86F8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35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" Target="slide33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26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380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ff"/>
                </a:solidFill>
                <a:latin typeface="Times New Roman"/>
                <a:ea typeface="隶书"/>
              </a:rPr>
              <a:t>梦游天姥吟留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2895480"/>
            <a:ext cx="2819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李  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李白的一生基本与盛唐时代相始终，盛唐那种繁华、大气、兼容并蓄、自由自在、无拘无束的风气，对李白的思想、气质都产生了深深的影响，当然也直接影响了李白的创作。以致后人评李白有“盛唐之象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9320" y="2387520"/>
            <a:ext cx="6476760" cy="1816200"/>
          </a:xfrm>
          <a:custGeom>
            <a:avLst/>
            <a:gdLst/>
            <a:ahLst/>
            <a:rect l="l" t="t" r="r" b="b"/>
            <a:pathLst>
              <a:path w="4080" h="1144">
                <a:moveTo>
                  <a:pt x="0" y="224"/>
                </a:moveTo>
                <a:cubicBezTo>
                  <a:pt x="52" y="136"/>
                  <a:pt x="104" y="48"/>
                  <a:pt x="288" y="32"/>
                </a:cubicBezTo>
                <a:cubicBezTo>
                  <a:pt x="472" y="16"/>
                  <a:pt x="968" y="0"/>
                  <a:pt x="1104" y="128"/>
                </a:cubicBezTo>
                <a:cubicBezTo>
                  <a:pt x="1240" y="256"/>
                  <a:pt x="1152" y="688"/>
                  <a:pt x="1104" y="800"/>
                </a:cubicBezTo>
                <a:cubicBezTo>
                  <a:pt x="1056" y="912"/>
                  <a:pt x="904" y="800"/>
                  <a:pt x="816" y="800"/>
                </a:cubicBezTo>
                <a:cubicBezTo>
                  <a:pt x="728" y="800"/>
                  <a:pt x="672" y="776"/>
                  <a:pt x="576" y="800"/>
                </a:cubicBezTo>
                <a:cubicBezTo>
                  <a:pt x="480" y="824"/>
                  <a:pt x="184" y="896"/>
                  <a:pt x="240" y="944"/>
                </a:cubicBezTo>
                <a:cubicBezTo>
                  <a:pt x="296" y="992"/>
                  <a:pt x="768" y="1056"/>
                  <a:pt x="912" y="1088"/>
                </a:cubicBezTo>
                <a:cubicBezTo>
                  <a:pt x="1056" y="1120"/>
                  <a:pt x="1024" y="1128"/>
                  <a:pt x="1104" y="1136"/>
                </a:cubicBezTo>
                <a:cubicBezTo>
                  <a:pt x="1184" y="1144"/>
                  <a:pt x="1320" y="1144"/>
                  <a:pt x="1392" y="1136"/>
                </a:cubicBezTo>
                <a:cubicBezTo>
                  <a:pt x="1464" y="1128"/>
                  <a:pt x="1480" y="1112"/>
                  <a:pt x="1536" y="1088"/>
                </a:cubicBezTo>
                <a:cubicBezTo>
                  <a:pt x="1592" y="1064"/>
                  <a:pt x="1680" y="1024"/>
                  <a:pt x="1728" y="992"/>
                </a:cubicBezTo>
                <a:cubicBezTo>
                  <a:pt x="1776" y="960"/>
                  <a:pt x="1776" y="928"/>
                  <a:pt x="1824" y="896"/>
                </a:cubicBezTo>
                <a:cubicBezTo>
                  <a:pt x="1872" y="864"/>
                  <a:pt x="1936" y="824"/>
                  <a:pt x="2016" y="800"/>
                </a:cubicBezTo>
                <a:cubicBezTo>
                  <a:pt x="2096" y="776"/>
                  <a:pt x="2176" y="736"/>
                  <a:pt x="2304" y="752"/>
                </a:cubicBezTo>
                <a:cubicBezTo>
                  <a:pt x="2432" y="768"/>
                  <a:pt x="2672" y="864"/>
                  <a:pt x="2784" y="896"/>
                </a:cubicBezTo>
                <a:cubicBezTo>
                  <a:pt x="2896" y="928"/>
                  <a:pt x="2896" y="936"/>
                  <a:pt x="2976" y="944"/>
                </a:cubicBezTo>
                <a:cubicBezTo>
                  <a:pt x="3056" y="952"/>
                  <a:pt x="3168" y="952"/>
                  <a:pt x="3264" y="944"/>
                </a:cubicBezTo>
                <a:cubicBezTo>
                  <a:pt x="3360" y="936"/>
                  <a:pt x="3472" y="928"/>
                  <a:pt x="3552" y="896"/>
                </a:cubicBezTo>
                <a:cubicBezTo>
                  <a:pt x="3632" y="864"/>
                  <a:pt x="3688" y="776"/>
                  <a:pt x="3744" y="752"/>
                </a:cubicBezTo>
                <a:cubicBezTo>
                  <a:pt x="3800" y="728"/>
                  <a:pt x="3840" y="752"/>
                  <a:pt x="3888" y="752"/>
                </a:cubicBezTo>
                <a:cubicBezTo>
                  <a:pt x="3936" y="752"/>
                  <a:pt x="4000" y="752"/>
                  <a:pt x="4032" y="752"/>
                </a:cubicBezTo>
                <a:cubicBezTo>
                  <a:pt x="4064" y="752"/>
                  <a:pt x="4072" y="752"/>
                  <a:pt x="4080" y="7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206360"/>
            <a:ext cx="3657600" cy="1435320"/>
          </a:xfrm>
          <a:custGeom>
            <a:avLst/>
            <a:gdLst/>
            <a:ahLst/>
            <a:rect l="l" t="t" r="r" b="b"/>
            <a:pathLst>
              <a:path w="2304" h="904">
                <a:moveTo>
                  <a:pt x="0" y="728"/>
                </a:moveTo>
                <a:cubicBezTo>
                  <a:pt x="12" y="724"/>
                  <a:pt x="24" y="720"/>
                  <a:pt x="48" y="632"/>
                </a:cubicBezTo>
                <a:cubicBezTo>
                  <a:pt x="72" y="544"/>
                  <a:pt x="128" y="280"/>
                  <a:pt x="144" y="200"/>
                </a:cubicBezTo>
                <a:cubicBezTo>
                  <a:pt x="160" y="120"/>
                  <a:pt x="144" y="168"/>
                  <a:pt x="144" y="152"/>
                </a:cubicBezTo>
                <a:cubicBezTo>
                  <a:pt x="144" y="136"/>
                  <a:pt x="128" y="120"/>
                  <a:pt x="144" y="104"/>
                </a:cubicBezTo>
                <a:cubicBezTo>
                  <a:pt x="160" y="88"/>
                  <a:pt x="208" y="72"/>
                  <a:pt x="240" y="56"/>
                </a:cubicBezTo>
                <a:cubicBezTo>
                  <a:pt x="272" y="40"/>
                  <a:pt x="304" y="0"/>
                  <a:pt x="336" y="8"/>
                </a:cubicBezTo>
                <a:cubicBezTo>
                  <a:pt x="368" y="16"/>
                  <a:pt x="392" y="72"/>
                  <a:pt x="432" y="104"/>
                </a:cubicBezTo>
                <a:cubicBezTo>
                  <a:pt x="472" y="136"/>
                  <a:pt x="528" y="176"/>
                  <a:pt x="576" y="200"/>
                </a:cubicBezTo>
                <a:cubicBezTo>
                  <a:pt x="624" y="224"/>
                  <a:pt x="680" y="176"/>
                  <a:pt x="720" y="248"/>
                </a:cubicBezTo>
                <a:cubicBezTo>
                  <a:pt x="760" y="320"/>
                  <a:pt x="760" y="528"/>
                  <a:pt x="816" y="632"/>
                </a:cubicBezTo>
                <a:cubicBezTo>
                  <a:pt x="872" y="736"/>
                  <a:pt x="960" y="840"/>
                  <a:pt x="1056" y="872"/>
                </a:cubicBezTo>
                <a:cubicBezTo>
                  <a:pt x="1152" y="904"/>
                  <a:pt x="1304" y="848"/>
                  <a:pt x="1392" y="824"/>
                </a:cubicBezTo>
                <a:cubicBezTo>
                  <a:pt x="1480" y="800"/>
                  <a:pt x="1504" y="760"/>
                  <a:pt x="1584" y="728"/>
                </a:cubicBezTo>
                <a:cubicBezTo>
                  <a:pt x="1664" y="696"/>
                  <a:pt x="1776" y="648"/>
                  <a:pt x="1872" y="632"/>
                </a:cubicBezTo>
                <a:cubicBezTo>
                  <a:pt x="1968" y="616"/>
                  <a:pt x="2096" y="640"/>
                  <a:pt x="2160" y="632"/>
                </a:cubicBezTo>
                <a:cubicBezTo>
                  <a:pt x="2224" y="624"/>
                  <a:pt x="2240" y="600"/>
                  <a:pt x="2256" y="584"/>
                </a:cubicBezTo>
                <a:cubicBezTo>
                  <a:pt x="2272" y="568"/>
                  <a:pt x="2248" y="544"/>
                  <a:pt x="2256" y="536"/>
                </a:cubicBezTo>
                <a:cubicBezTo>
                  <a:pt x="2264" y="528"/>
                  <a:pt x="2284" y="532"/>
                  <a:pt x="2304" y="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960" y="1384200"/>
            <a:ext cx="1320840" cy="4102200"/>
          </a:xfrm>
          <a:custGeom>
            <a:avLst/>
            <a:gdLst/>
            <a:ahLst/>
            <a:rect l="l" t="t" r="r" b="b"/>
            <a:pathLst>
              <a:path w="832" h="2584">
                <a:moveTo>
                  <a:pt x="496" y="280"/>
                </a:moveTo>
                <a:cubicBezTo>
                  <a:pt x="496" y="272"/>
                  <a:pt x="496" y="264"/>
                  <a:pt x="496" y="232"/>
                </a:cubicBezTo>
                <a:cubicBezTo>
                  <a:pt x="496" y="200"/>
                  <a:pt x="552" y="120"/>
                  <a:pt x="496" y="88"/>
                </a:cubicBezTo>
                <a:cubicBezTo>
                  <a:pt x="440" y="56"/>
                  <a:pt x="240" y="0"/>
                  <a:pt x="160" y="40"/>
                </a:cubicBezTo>
                <a:cubicBezTo>
                  <a:pt x="80" y="80"/>
                  <a:pt x="32" y="264"/>
                  <a:pt x="16" y="328"/>
                </a:cubicBezTo>
                <a:cubicBezTo>
                  <a:pt x="0" y="392"/>
                  <a:pt x="24" y="392"/>
                  <a:pt x="64" y="424"/>
                </a:cubicBezTo>
                <a:cubicBezTo>
                  <a:pt x="104" y="456"/>
                  <a:pt x="216" y="464"/>
                  <a:pt x="256" y="520"/>
                </a:cubicBezTo>
                <a:cubicBezTo>
                  <a:pt x="296" y="576"/>
                  <a:pt x="296" y="712"/>
                  <a:pt x="304" y="760"/>
                </a:cubicBezTo>
                <a:cubicBezTo>
                  <a:pt x="312" y="808"/>
                  <a:pt x="304" y="760"/>
                  <a:pt x="304" y="808"/>
                </a:cubicBezTo>
                <a:cubicBezTo>
                  <a:pt x="304" y="856"/>
                  <a:pt x="288" y="968"/>
                  <a:pt x="304" y="1048"/>
                </a:cubicBezTo>
                <a:cubicBezTo>
                  <a:pt x="320" y="1128"/>
                  <a:pt x="416" y="1240"/>
                  <a:pt x="400" y="1288"/>
                </a:cubicBezTo>
                <a:cubicBezTo>
                  <a:pt x="384" y="1336"/>
                  <a:pt x="216" y="1304"/>
                  <a:pt x="208" y="1336"/>
                </a:cubicBezTo>
                <a:cubicBezTo>
                  <a:pt x="200" y="1368"/>
                  <a:pt x="320" y="1448"/>
                  <a:pt x="352" y="1480"/>
                </a:cubicBezTo>
                <a:cubicBezTo>
                  <a:pt x="384" y="1512"/>
                  <a:pt x="360" y="1472"/>
                  <a:pt x="400" y="1528"/>
                </a:cubicBezTo>
                <a:cubicBezTo>
                  <a:pt x="440" y="1584"/>
                  <a:pt x="552" y="1744"/>
                  <a:pt x="592" y="1816"/>
                </a:cubicBezTo>
                <a:cubicBezTo>
                  <a:pt x="632" y="1888"/>
                  <a:pt x="632" y="1904"/>
                  <a:pt x="640" y="1960"/>
                </a:cubicBezTo>
                <a:cubicBezTo>
                  <a:pt x="648" y="2016"/>
                  <a:pt x="640" y="2112"/>
                  <a:pt x="640" y="2152"/>
                </a:cubicBezTo>
                <a:cubicBezTo>
                  <a:pt x="640" y="2192"/>
                  <a:pt x="640" y="2176"/>
                  <a:pt x="640" y="2200"/>
                </a:cubicBezTo>
                <a:cubicBezTo>
                  <a:pt x="640" y="2224"/>
                  <a:pt x="624" y="2248"/>
                  <a:pt x="640" y="2296"/>
                </a:cubicBezTo>
                <a:cubicBezTo>
                  <a:pt x="656" y="2344"/>
                  <a:pt x="712" y="2448"/>
                  <a:pt x="736" y="2488"/>
                </a:cubicBezTo>
                <a:cubicBezTo>
                  <a:pt x="760" y="2528"/>
                  <a:pt x="768" y="2520"/>
                  <a:pt x="784" y="2536"/>
                </a:cubicBezTo>
                <a:cubicBezTo>
                  <a:pt x="800" y="2552"/>
                  <a:pt x="824" y="2576"/>
                  <a:pt x="832" y="2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981080"/>
            <a:ext cx="457200" cy="304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1905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长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91120"/>
            <a:ext cx="1066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590920"/>
            <a:ext cx="698400" cy="1218960"/>
          </a:xfrm>
          <a:custGeom>
            <a:avLst/>
            <a:gdLst/>
            <a:ahLst/>
            <a:rect l="l" t="t" r="r" b="b"/>
            <a:pathLst>
              <a:path w="440" h="768">
                <a:moveTo>
                  <a:pt x="0" y="0"/>
                </a:moveTo>
                <a:cubicBezTo>
                  <a:pt x="164" y="156"/>
                  <a:pt x="328" y="312"/>
                  <a:pt x="384" y="432"/>
                </a:cubicBezTo>
                <a:cubicBezTo>
                  <a:pt x="440" y="552"/>
                  <a:pt x="352" y="672"/>
                  <a:pt x="336" y="720"/>
                </a:cubicBezTo>
                <a:cubicBezTo>
                  <a:pt x="320" y="768"/>
                  <a:pt x="304" y="744"/>
                  <a:pt x="288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8954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汉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2743200"/>
            <a:ext cx="1143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5943600"/>
            <a:ext cx="1524240" cy="4572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6858000" y="59436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10800"/>
                </a:moveTo>
                <a:lnTo>
                  <a:pt x="36668" y="3794"/>
                </a:lnTo>
                <a:lnTo>
                  <a:pt x="36668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45720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次漫游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第二次漫游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62520"/>
            <a:ext cx="75960" cy="7596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江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3657600"/>
            <a:ext cx="583920" cy="304920"/>
          </a:xfrm>
          <a:custGeom>
            <a:avLst/>
            <a:gdLst/>
            <a:ahLst/>
            <a:rect l="l" t="t" r="r" b="b"/>
            <a:pathLst>
              <a:path w="368" h="192">
                <a:moveTo>
                  <a:pt x="24" y="0"/>
                </a:moveTo>
                <a:cubicBezTo>
                  <a:pt x="12" y="56"/>
                  <a:pt x="0" y="112"/>
                  <a:pt x="24" y="144"/>
                </a:cubicBezTo>
                <a:cubicBezTo>
                  <a:pt x="48" y="176"/>
                  <a:pt x="120" y="192"/>
                  <a:pt x="168" y="192"/>
                </a:cubicBezTo>
                <a:cubicBezTo>
                  <a:pt x="216" y="192"/>
                  <a:pt x="280" y="152"/>
                  <a:pt x="312" y="144"/>
                </a:cubicBezTo>
                <a:cubicBezTo>
                  <a:pt x="344" y="136"/>
                  <a:pt x="352" y="160"/>
                  <a:pt x="360" y="144"/>
                </a:cubicBezTo>
                <a:cubicBezTo>
                  <a:pt x="368" y="128"/>
                  <a:pt x="368" y="64"/>
                  <a:pt x="360" y="48"/>
                </a:cubicBezTo>
                <a:cubicBezTo>
                  <a:pt x="352" y="32"/>
                  <a:pt x="344" y="56"/>
                  <a:pt x="312" y="48"/>
                </a:cubicBezTo>
                <a:cubicBezTo>
                  <a:pt x="280" y="40"/>
                  <a:pt x="224" y="20"/>
                  <a:pt x="168" y="0"/>
                </a:cubicBez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581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洞庭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924360"/>
            <a:ext cx="711000" cy="723960"/>
          </a:xfrm>
          <a:custGeom>
            <a:avLst/>
            <a:gdLst/>
            <a:ahLst/>
            <a:rect l="l" t="t" r="r" b="b"/>
            <a:pathLst>
              <a:path w="448" h="456">
                <a:moveTo>
                  <a:pt x="0" y="360"/>
                </a:moveTo>
                <a:cubicBezTo>
                  <a:pt x="48" y="204"/>
                  <a:pt x="96" y="48"/>
                  <a:pt x="144" y="24"/>
                </a:cubicBezTo>
                <a:cubicBezTo>
                  <a:pt x="192" y="0"/>
                  <a:pt x="264" y="176"/>
                  <a:pt x="288" y="216"/>
                </a:cubicBezTo>
                <a:cubicBezTo>
                  <a:pt x="312" y="256"/>
                  <a:pt x="280" y="248"/>
                  <a:pt x="288" y="264"/>
                </a:cubicBezTo>
                <a:cubicBezTo>
                  <a:pt x="296" y="280"/>
                  <a:pt x="312" y="296"/>
                  <a:pt x="336" y="312"/>
                </a:cubicBezTo>
                <a:cubicBezTo>
                  <a:pt x="360" y="328"/>
                  <a:pt x="416" y="336"/>
                  <a:pt x="432" y="360"/>
                </a:cubicBezTo>
                <a:cubicBezTo>
                  <a:pt x="448" y="384"/>
                  <a:pt x="440" y="420"/>
                  <a:pt x="432" y="456"/>
                </a:cubicBezTo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96252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886200"/>
            <a:ext cx="7596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3657600"/>
            <a:ext cx="7632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657600"/>
            <a:ext cx="7596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429000"/>
            <a:ext cx="7632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金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429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扬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3429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淮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200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姑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505320"/>
            <a:ext cx="152640" cy="7596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3526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荆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190400" y="3200400"/>
            <a:ext cx="7596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429000"/>
            <a:ext cx="7632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200400"/>
            <a:ext cx="38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安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895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襄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184480"/>
            <a:ext cx="914400" cy="406440"/>
          </a:xfrm>
          <a:custGeom>
            <a:avLst/>
            <a:gdLst/>
            <a:ahLst/>
            <a:rect l="l" t="t" r="r" b="b"/>
            <a:pathLst>
              <a:path w="576" h="256">
                <a:moveTo>
                  <a:pt x="0" y="256"/>
                </a:moveTo>
                <a:cubicBezTo>
                  <a:pt x="36" y="188"/>
                  <a:pt x="72" y="120"/>
                  <a:pt x="96" y="112"/>
                </a:cubicBezTo>
                <a:cubicBezTo>
                  <a:pt x="120" y="104"/>
                  <a:pt x="120" y="216"/>
                  <a:pt x="144" y="208"/>
                </a:cubicBezTo>
                <a:cubicBezTo>
                  <a:pt x="168" y="200"/>
                  <a:pt x="208" y="80"/>
                  <a:pt x="240" y="64"/>
                </a:cubicBezTo>
                <a:cubicBezTo>
                  <a:pt x="272" y="48"/>
                  <a:pt x="312" y="120"/>
                  <a:pt x="336" y="112"/>
                </a:cubicBezTo>
                <a:cubicBezTo>
                  <a:pt x="360" y="104"/>
                  <a:pt x="344" y="0"/>
                  <a:pt x="384" y="16"/>
                </a:cubicBezTo>
                <a:cubicBezTo>
                  <a:pt x="424" y="32"/>
                  <a:pt x="544" y="176"/>
                  <a:pt x="576" y="208"/>
                </a:cubicBez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终南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124080"/>
            <a:ext cx="7632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10280" y="2666880"/>
            <a:ext cx="76320" cy="76320"/>
          </a:xfrm>
          <a:prstGeom prst="donut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048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洛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2666880"/>
            <a:ext cx="38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齐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42280" y="4191120"/>
            <a:ext cx="406440" cy="393480"/>
          </a:xfrm>
          <a:custGeom>
            <a:avLst/>
            <a:gdLst/>
            <a:ahLst/>
            <a:rect l="l" t="t" r="r" b="b"/>
            <a:pathLst>
              <a:path w="256" h="248">
                <a:moveTo>
                  <a:pt x="64" y="0"/>
                </a:moveTo>
                <a:cubicBezTo>
                  <a:pt x="32" y="76"/>
                  <a:pt x="0" y="152"/>
                  <a:pt x="16" y="192"/>
                </a:cubicBezTo>
                <a:cubicBezTo>
                  <a:pt x="32" y="232"/>
                  <a:pt x="120" y="248"/>
                  <a:pt x="160" y="240"/>
                </a:cubicBezTo>
                <a:cubicBezTo>
                  <a:pt x="200" y="232"/>
                  <a:pt x="256" y="184"/>
                  <a:pt x="256" y="144"/>
                </a:cubicBezTo>
                <a:cubicBezTo>
                  <a:pt x="256" y="104"/>
                  <a:pt x="208" y="52"/>
                  <a:pt x="160" y="0"/>
                </a:cubicBez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4038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镜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762440"/>
            <a:ext cx="685800" cy="571680"/>
          </a:xfrm>
          <a:custGeom>
            <a:avLst/>
            <a:gdLst/>
            <a:ahLst/>
            <a:rect l="l" t="t" r="r" b="b"/>
            <a:pathLst>
              <a:path w="432" h="360">
                <a:moveTo>
                  <a:pt x="0" y="360"/>
                </a:moveTo>
                <a:cubicBezTo>
                  <a:pt x="36" y="296"/>
                  <a:pt x="72" y="232"/>
                  <a:pt x="96" y="216"/>
                </a:cubicBezTo>
                <a:cubicBezTo>
                  <a:pt x="120" y="200"/>
                  <a:pt x="128" y="288"/>
                  <a:pt x="144" y="264"/>
                </a:cubicBezTo>
                <a:cubicBezTo>
                  <a:pt x="160" y="240"/>
                  <a:pt x="176" y="80"/>
                  <a:pt x="192" y="72"/>
                </a:cubicBezTo>
                <a:cubicBezTo>
                  <a:pt x="208" y="64"/>
                  <a:pt x="216" y="224"/>
                  <a:pt x="240" y="216"/>
                </a:cubicBezTo>
                <a:cubicBezTo>
                  <a:pt x="264" y="208"/>
                  <a:pt x="304" y="0"/>
                  <a:pt x="336" y="24"/>
                </a:cubicBezTo>
                <a:cubicBezTo>
                  <a:pt x="368" y="48"/>
                  <a:pt x="400" y="204"/>
                  <a:pt x="432" y="360"/>
                </a:cubicBez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5334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隶书"/>
              </a:rPr>
              <a:t>天姥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505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1148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81280" y="41144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67080" y="3733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809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3962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629400" y="3733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657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238880" y="3504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391160" y="35812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876920" y="3505320"/>
            <a:ext cx="2209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2000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90760" y="3276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2578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27432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0481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742840"/>
            <a:ext cx="4572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666880"/>
            <a:ext cx="914400" cy="19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514240" y="22860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7621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一生漫游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67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课　文　朗　读　　　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1430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5240" y="1390680"/>
          <a:ext cx="6813360" cy="5448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5240" y="1390680"/>
                    <a:ext cx="6813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839080" y="6324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" w="21600" h="37775">
                <a:moveTo>
                  <a:pt x="3794" y="11881"/>
                </a:moveTo>
                <a:lnTo>
                  <a:pt x="17806" y="18887"/>
                </a:lnTo>
                <a:lnTo>
                  <a:pt x="3794" y="258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458200" y="6324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" w="21600" h="37775">
                <a:moveTo>
                  <a:pt x="7301" y="18887"/>
                </a:moveTo>
                <a:lnTo>
                  <a:pt x="17806" y="11881"/>
                </a:lnTo>
                <a:lnTo>
                  <a:pt x="17806" y="25894"/>
                </a:lnTo>
                <a:close/>
              </a:path>
              <a:path fill="darken" w="21600" h="37775">
                <a:moveTo>
                  <a:pt x="3794" y="11881"/>
                </a:moveTo>
                <a:lnTo>
                  <a:pt x="5456" y="11881"/>
                </a:lnTo>
                <a:lnTo>
                  <a:pt x="5456" y="25894"/>
                </a:lnTo>
                <a:lnTo>
                  <a:pt x="3794" y="258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924680" y="6400800"/>
            <a:ext cx="45720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blinds dir="horz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48560" y="448560"/>
            <a:ext cx="2922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　文　朗　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562560"/>
            <a:ext cx="784872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／欲因之梦吴越，一夜飞度／镜湖月。湖月／照我影，送我至／剡溪。谢公宿处／今尚在，渌水荡漾／清猿啼。脚著／谢公屐，身登／青云梯。半壁／见海日，空中／闻天鸡。千岩万转／路不定，迷花倚石／忽已暝。熊咆龙吟／殷岩泉，栗深林兮／惊层巅。云／青青兮／欲雨，水／澹澹兮／生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17806" y="16187"/>
                </a:lnTo>
                <a:lnTo>
                  <a:pt x="3794" y="231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77320" y="6400800"/>
            <a:ext cx="45720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blinds dir="horz"/>
  </p:transition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67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课　文　朗　读　　　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0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1430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1676520"/>
          <a:ext cx="7248240" cy="5759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24824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17806" y="16187"/>
                </a:lnTo>
                <a:lnTo>
                  <a:pt x="3794" y="231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077320" y="6400800"/>
            <a:ext cx="45720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67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课　文　朗　读　　　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80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1430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709040" cy="45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7090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7301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5456" y="9181"/>
                </a:lnTo>
                <a:lnTo>
                  <a:pt x="5456" y="23194"/>
                </a:lnTo>
                <a:lnTo>
                  <a:pt x="3794" y="231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88390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848720" y="6324480"/>
            <a:ext cx="53316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1320" y="914400"/>
            <a:ext cx="3047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</a:rPr>
              <a:t>天姥山，</a:t>
            </a:r>
            <a:r>
              <a:rPr b="0" lang="zh-CN" sz="3200" spc="-1" strike="noStrike">
                <a:solidFill>
                  <a:srgbClr val="090807"/>
                </a:solidFill>
                <a:latin typeface="Times New Roman"/>
              </a:rPr>
              <a:t>道书第１６福地。泛指天台、新昌两县交界的岗陇诸峰，因坐落于天台万马渡畔的“天姥岩”而得名。唐代“诗仙”李白的一首《梦游天姥吟留别》的古风，使它驰誉遐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304920" y="533520"/>
            <a:ext cx="5394240" cy="556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19320" y="6248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天鸡 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095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19720" y="228600"/>
            <a:ext cx="472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807"/>
                </a:solidFill>
                <a:latin typeface="Times New Roman"/>
              </a:rPr>
              <a:t>从白鹤镇万年山片里林村下坡约半里，转过一处可供行人遮阳避雨的山洞，就可以看到高１０余米的天姥岩：头部方正微圆，侧面的眼鼻唇耳的轮廓依稀可辨，脑后的 髻更是历历分明，显出一付慈容可掬的老妇人神态。腹部鼓出，两臂在前面合拱，宽衣广袖，裙裾下露出圆头鞋。可谓身广体胖，华贵雍容，一付非凡的气度。如此浑然天成、形神兼备的杰作，鬼斧神工的大自然恐怕雕不出第二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172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天姥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8088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补　充　注　释　　　　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60112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7301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  <a:path fill="darken" w="21600" h="32375">
                <a:moveTo>
                  <a:pt x="3794" y="9181"/>
                </a:moveTo>
                <a:lnTo>
                  <a:pt x="5456" y="9181"/>
                </a:lnTo>
                <a:lnTo>
                  <a:pt x="5456" y="23194"/>
                </a:lnTo>
                <a:lnTo>
                  <a:pt x="3794" y="231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2480" y="16002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683160"/>
            <a:ext cx="3733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71160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8040" y="213372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905120"/>
            <a:ext cx="28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615040"/>
            <a:ext cx="8001000" cy="257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í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暝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íng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   栗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冥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íng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鸾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uán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j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恍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uǎng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著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371600"/>
            <a:ext cx="4892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71600"/>
            <a:ext cx="609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1295280"/>
            <a:ext cx="488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13716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205740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9810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客谈瀛洲，烟涛微茫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越人语天姥，云霞明灭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姥连天向天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势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岳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赤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台一万八千丈，对此欲倒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东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227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实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3468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找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436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遮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436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超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7640" y="436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遮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3355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有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54424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向东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1447920"/>
            <a:ext cx="426708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43000"/>
            <a:ext cx="4419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简介文体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143000"/>
            <a:ext cx="8534520" cy="24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本诗是一首七言古诗。七言古诗简称“七古”。“古诗”又称“古体诗”，是相对于格律严格的“近体诗”而言。“七言”分两种，一种是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以七字句为基础，杂用四、五、六、九言而构成了形式自由的长短句，这样长短交错，换韵自由，富于变化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，也称为“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歌行体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”；另一种是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每句七字，句式整齐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。今天所学的这首诗属于前一种，即“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歌行体</a:t>
            </a: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欲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梦吴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夜飞度镜湖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湖月照我影，送我至剡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谢公宿处今尚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荡漾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猿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7708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616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6234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凄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31640" y="2060280"/>
            <a:ext cx="64767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著谢公屐，身登青云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半壁见海日，空中闻天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岩万转路不定，迷花倚石忽已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熊咆龙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岩泉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深林兮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层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7315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使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…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战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57315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使…震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45788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天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5731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使…震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青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兮欲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水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澹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兮生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霹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丘峦崩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洞天石扉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訇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青冥浩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见底，日月照耀金银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2705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黑沉沉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5874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947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广阔远大的样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2705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下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634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摇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37137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雷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23400" y="465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形容声音很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霓为衣兮风为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之君兮纷纷而来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瑟兮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，仙之人兮列如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忽魂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魄动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起而长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之枕席，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向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烟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421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运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29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猛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616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616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原来、刚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4005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5298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6660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演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解释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间行乐亦如此，古来万事东流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君去兮何时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放白鹿青崖间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即骑访名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能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摧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腰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权贵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我不得开心颜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36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等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529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低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604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侍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1041480"/>
            <a:ext cx="7315200" cy="57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航海归来的人谈到海中仙山瀛洲，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大海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烟波浩渺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瀛洲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实在难以寻求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越地人  谈到天姥山，  云霞忽明忽暗  有时能够目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天姥山直插云霄遮断天空，  山势高过五岳，遮蔽了赤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那高达一万八千丈的天台山，对它象要拜倒，向东南方向倾斜。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2286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翻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990720"/>
            <a:ext cx="88390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我想依据越人的介绍，梦游吴越，  一夜之间就飞过洒满月光的镜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湖光月色照着我的身影，送我到美丽的剡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谢灵运  住过的地方现今还在，清清的溪水荡漾，猿猴的啼  声凄清。 </a:t>
            </a:r>
            <a:br>
              <a:rPr sz="3200"/>
            </a:b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我脚上穿着谢灵运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穿的那种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木屐，身子登上直入云霄的山路。   。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914400"/>
            <a:ext cx="82296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上到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半山腰就看到从海上升起的太阳 ，还听到空中天鸡的鸣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山岩重叠，不知道拐了多少弯，我迷恋着花，依倚着石，不觉天色已经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熊在怒吼，龙在长吟，像雷鸣般的声音，震响在岩石和泉水中间。使深林战栗，使层巅震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黑云沉沉啊将要下雨，水波摇动啊升起烟雾。 </a:t>
            </a:r>
            <a:br>
              <a:rPr sz="3200"/>
            </a:b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电闪雷鸣，   山峦崩塌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8080" y="8380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仙府的石门，訇的一声从中间打开。青色的天空广大无边望不见底，日月照耀着金银筑成的宫阙。  </a:t>
            </a:r>
            <a:br>
              <a:rPr sz="3200"/>
            </a:b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穿着彩虹做的衣裳乘着风，云中的神仙啊纷纷降下。老虎鼓瑟啊鸾鸟驾车，排列的仙人啊象麻一样难以数清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如此景象令我的魂魄忽然惊动，恍然站起身来，又长叹不已。醒来时身边只有睡过的枕席，刚才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梦中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90807"/>
                </a:solidFill>
                <a:latin typeface="Times New Roman"/>
              </a:rPr>
              <a:t>所见的烟雾云霞消失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723960"/>
            <a:ext cx="7543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人世间行欢作乐也象这样虚幻，自古以来许多事情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像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东流的水一样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一去不复返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。 </a:t>
            </a:r>
            <a:br>
              <a:rPr sz="3600"/>
            </a:b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告别你们离去了什么时候回来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? </a:t>
            </a: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暂且把白鹿放在青青的山崖间，想要行走的时候就骑上它去访问名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哪能低头弯腰去伺候权贵，使我不能够开心开颜。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9080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3124080" cy="9144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解题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7652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吟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指吟咏，即作诗。“留别”，是临行前留下这首诗向朋友话别的意思。所以整个题目的意思就是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用梦游天姥的诗向朋友话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梦游是借“别”表明自己的态度与意向是真。另名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《别东鲁诸公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《梦游天姥山别东鲁诸公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304920"/>
            <a:ext cx="358164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Ⅰ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写作思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62560" y="1676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请找出诗歌中关键性的过渡性语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91600" y="2795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由现实转入梦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00720" y="2797200"/>
            <a:ext cx="12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我欲因之梦吴越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72520" y="37051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由梦境转入现实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16000" y="3886200"/>
            <a:ext cx="261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忽魂悸以魄动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失向来之烟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386240" y="4269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全诗三节各写何内容？归纳层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057400"/>
            <a:ext cx="533520" cy="3200400"/>
          </a:xfrm>
          <a:custGeom>
            <a:avLst/>
            <a:gdLst>
              <a:gd name="textAreaLeft" fmla="*/ 340920 w 533520"/>
              <a:gd name="textAreaRight" fmla="*/ 533880 w 5335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73800" y="162396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由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（起）——  叙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9040" y="3259080"/>
            <a:ext cx="32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景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（见）——  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13800" y="4876920"/>
            <a:ext cx="34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吟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（叹）——  议论、抒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1120" y="2362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9625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552960" y="2362320"/>
            <a:ext cx="182628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思   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03960" y="457200"/>
            <a:ext cx="111024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Ⅱ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、意境赏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2240" y="20462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诗歌记述了哪些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76520" y="2863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描写了哪些意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85080" y="3701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意境有何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9400" y="4464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运用了何种写作手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42280" y="53229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表现了诗人什么样的情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2438280"/>
            <a:ext cx="685800" cy="3353040"/>
          </a:xfrm>
          <a:custGeom>
            <a:avLst/>
            <a:gdLst>
              <a:gd name="textAreaLeft" fmla="*/ 438120 w 685800"/>
              <a:gd name="textAreaRight" fmla="*/ 686160 w 6858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9040" y="3657600"/>
            <a:ext cx="85140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758200" y="40384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海客谈瀛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烟涛微茫信难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52578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越人语天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云霞明灭或可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9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确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76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谈到、说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14479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666880"/>
            <a:ext cx="2438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瀛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天姥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304920" cy="2057400"/>
          </a:xfrm>
          <a:prstGeom prst="downArrow">
            <a:avLst>
              <a:gd name="adj1" fmla="val 50000"/>
              <a:gd name="adj2" fmla="val 1686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2666880"/>
            <a:ext cx="762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352680"/>
            <a:ext cx="304920" cy="2057400"/>
          </a:xfrm>
          <a:prstGeom prst="downArrow">
            <a:avLst>
              <a:gd name="adj1" fmla="val 50000"/>
              <a:gd name="adj2" fmla="val 1686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5486400"/>
            <a:ext cx="8380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4038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陪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6022800" y="48006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天姥连天向天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5486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势拔五岳掩赤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赤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304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山名，在现在浙江天台北，国为山上赤石罗列，远看好像红色的城，所以叫赤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54560" y="51055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天台一万八千丈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对此欲倒东南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1880" y="29988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85360" y="207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瀛洲难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85360" y="4343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天姥可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048120"/>
            <a:ext cx="304560" cy="3047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99240" y="2840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向天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99240" y="3830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拔五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5560" y="4745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掩赤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0480" y="565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倾天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64200" y="4162320"/>
            <a:ext cx="11559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峻拔雄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2971800"/>
            <a:ext cx="381240" cy="3048120"/>
          </a:xfrm>
          <a:custGeom>
            <a:avLst/>
            <a:gdLst>
              <a:gd name="textAreaLeft" fmla="*/ 0 w 381240"/>
              <a:gd name="textAreaRight" fmla="*/ 137520 w 38124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97120" y="2286000"/>
            <a:ext cx="4611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对比、夸张、衬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41120" y="2895480"/>
            <a:ext cx="320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联想对比、以虚衬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64200" y="5554800"/>
            <a:ext cx="11559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热情向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536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318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9032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5576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08240" y="91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33526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48769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188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烟涛微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266688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 rot="20775000">
            <a:off x="3200400" y="4495320"/>
            <a:ext cx="2590920" cy="18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华文行楷"/>
              </a:rPr>
              <a:t>剡溪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华文行楷"/>
              <a:ea typeface="华文行楷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2602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我欲因之梦吴越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一夜飞度镜湖月。湖月照我影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送我至剡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谢公宿处今尚在，渌水荡漾清猿啼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85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一夜之间就飞过了洒满月光的镜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1447920"/>
            <a:ext cx="15238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2362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点明了“梦游”。浪漫之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3352680"/>
            <a:ext cx="50292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清清的溪水荡漾，岸边的猿猴发出凄清的啼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56800" y="38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33320" y="38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6988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9068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0824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5360" y="2971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28600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0616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魂飞剡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1708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3040" y="14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湖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3040" y="1960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渌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3040" y="249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清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16318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85120" y="150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镜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85120" y="2189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剡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1905120"/>
            <a:ext cx="167652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凄清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2809800"/>
            <a:ext cx="16765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心驰神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10920" y="506736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脚著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谢公屐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身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青云梯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28600"/>
            <a:ext cx="6324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课 题 简 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295280"/>
            <a:ext cx="83059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诗题中的“梦游”二字，点明了所写内容是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虚幻</a:t>
            </a: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的，暗示了本诗运用的是一种想像手法。“吟”，表明了本诗是一首“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歌行体</a:t>
            </a: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”的形式。“留别”则表明了写作本诗的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动机</a:t>
            </a: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。不过本诗主要内容并无惜别之感，而是借题发挥，抒写了自己对自由的神仙世界的追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752880" y="5410080"/>
            <a:ext cx="182664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半壁见海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空中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天鸡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360" y="2362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上到半山腰就看到从海上升起的太阳，听见天鸡在空中啼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1632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千岩万转路不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迷花倚石忽已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1676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千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万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迷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重叠的岩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621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山路弯曲不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447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被花迷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山岩千折百转，石道弯弯曲曲，不知道拐了多少个弯，（我）迷恋着花，依倚着石，不觉天色已经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841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策扶老已流憩，时矫首而遐观。云无心以出岫，鸟倦飞而知还。景翳翳以将入，抚孤松而盘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475240" y="5119560"/>
            <a:ext cx="26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熊咆龙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岩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深林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层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14400"/>
            <a:ext cx="1371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10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此处用作动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震响。“殷岩泉”即“岩泉殷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792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战栗，形容词作使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447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震惊，形容词作使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56800" y="38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33320" y="38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6988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9068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08240" y="38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2971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20574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0904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魂飞剡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着屐登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1600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2880" y="139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湖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8288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渌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8288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清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444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镜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4444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剡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981080"/>
            <a:ext cx="1523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凄清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67480" y="1981080"/>
            <a:ext cx="1676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心驰神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327672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084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云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28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海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8288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天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82880" y="48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叠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8288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花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82880" y="58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岩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53920" y="322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青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1584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半壁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1584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空中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7400" y="4800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万转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迷、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740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熊咆龙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3352680"/>
            <a:ext cx="228600" cy="289584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51600" y="4648320"/>
            <a:ext cx="1568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壮美雄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99520" y="4648320"/>
            <a:ext cx="1644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流连忘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77320" y="2666880"/>
            <a:ext cx="228600" cy="1981440"/>
          </a:xfrm>
          <a:prstGeom prst="downArrow">
            <a:avLst>
              <a:gd name="adj1" fmla="val 50000"/>
              <a:gd name="adj2" fmla="val 2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019920" y="3429000"/>
            <a:ext cx="1904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夸张、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9625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18148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云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青青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兮欲雨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水</a:t>
            </a: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澹澹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兮生烟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青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澹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黑沉沉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762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水波摇动的样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21337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蓄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371600" y="3809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列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  <a:ea typeface="方正姚体"/>
              </a:rPr>
              <a:t>霹雳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，丘峦崩摧。洞天石扉，訇然中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4648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青冥浩荡不见底，日月照耀金银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762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霹雳闪电大作，山恋崩裂，轰隆一声，通向神仙洞府的石门打开了，在一望无边、青色透明的天空里，显现出日月照耀着的金银楼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0" y="23760"/>
          <a:ext cx="9372600" cy="69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60"/>
                    <a:ext cx="937260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28600" y="3733920"/>
            <a:ext cx="47242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霓为衣兮风为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云之君兮纷纷而来下。虎鼓瑟兮鸾回车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仙之人兮列如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393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许多神仙纷纷走出来，穿着彩虹做的衣服，骑着风当作马，老虎在奏乐，鸾鸟在拉车，排列的仙人像麻一样数不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2406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他们在干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3886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也许这是一次幸福、欢乐的盛会，所有的与会者都在那里亲切地交谈，兴高采烈地举杯痛饮，像人世间的朋友们欢聚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856800" y="53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33320" y="53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1744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5900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824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3080" y="251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洞天仙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2743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1676520"/>
            <a:ext cx="152640" cy="213336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60120" y="162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6012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514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9216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06560" y="162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霹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065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石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11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月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1112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金银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7304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霓衣风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7304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虎瑟鸾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7304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麻列纷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25146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32767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167652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535120"/>
            <a:ext cx="1523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神奇壮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和穆陆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42080" y="2521080"/>
            <a:ext cx="1501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向往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追求乐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4080" y="315288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501960" y="3679920"/>
            <a:ext cx="9122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天马行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想落山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53280" y="16002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60560" y="1523880"/>
            <a:ext cx="912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想象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8168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0600" y="3124080"/>
            <a:ext cx="91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浪漫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0" y="58680"/>
          <a:ext cx="9448920" cy="696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680"/>
                    <a:ext cx="944892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867280" y="456876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忽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悸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以魄动，恍惊起而长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。惟觉时之枕席，失向来之烟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悸：             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457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心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457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感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295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忽然心惊梦醒，一声长叹，枕席依旧，刚才梦中所见的烟霞云雾却消失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362320"/>
            <a:ext cx="2286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3429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诗在梦境的最高点忽然收住，急转直下，由幻想转到现实，仿佛音乐由响彻云霄的高音，一下子转入了低音，使听者的心情也随着沉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856800" y="53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33320" y="53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744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5900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08240" y="53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33080" y="251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洞天仙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09040" y="480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魂归枕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27432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1676520"/>
            <a:ext cx="152640" cy="213336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2900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60120" y="162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6012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2514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9216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洞天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6560" y="162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霹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065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石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1112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月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1112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金银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73040" y="312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霓衣风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7304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虎瑟鸾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7304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麻列纷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68120" y="436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魂魄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68120" y="4800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起长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68120" y="525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惟枕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36440" y="571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失烟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25146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2767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167652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2535120"/>
            <a:ext cx="15238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神奇壮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和穆陆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42080" y="2521080"/>
            <a:ext cx="15019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向往自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追求乐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080" y="315288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四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501960" y="3679920"/>
            <a:ext cx="9122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天马行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想落山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6120" y="5029200"/>
            <a:ext cx="15778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憎恨现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痛苦惆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153280" y="16002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29600" y="3581280"/>
            <a:ext cx="228600" cy="1143000"/>
          </a:xfrm>
          <a:prstGeom prst="down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52880" y="44956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60560" y="1523880"/>
            <a:ext cx="912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想象夸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90320" y="3124080"/>
            <a:ext cx="9122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浪漫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280" y="914400"/>
          <a:ext cx="280368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2803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048120" y="136440"/>
            <a:ext cx="586728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  </a:t>
            </a: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李白字太白，号青莲居士</a:t>
            </a: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素有</a:t>
            </a:r>
            <a:r>
              <a:rPr b="1" lang="zh-CN" sz="3600" spc="-1" strike="noStrike">
                <a:solidFill>
                  <a:srgbClr val="cc0000"/>
                </a:solidFill>
                <a:latin typeface="方正舒体"/>
                <a:ea typeface="方正舒体"/>
              </a:rPr>
              <a:t>诗仙</a:t>
            </a: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之称，在中国文学史上是最具</a:t>
            </a:r>
            <a:r>
              <a:rPr b="1" lang="zh-CN" sz="3600" spc="-1" strike="noStrike">
                <a:solidFill>
                  <a:srgbClr val="cc0000"/>
                </a:solidFill>
                <a:latin typeface="方正舒体"/>
                <a:ea typeface="方正舒体"/>
              </a:rPr>
              <a:t>浪漫主义</a:t>
            </a:r>
            <a:r>
              <a:rPr b="1" lang="zh-CN" sz="3600" spc="-1" strike="noStrike">
                <a:solidFill>
                  <a:srgbClr val="800080"/>
                </a:solidFill>
                <a:latin typeface="方正舒体"/>
                <a:ea typeface="方正舒体"/>
              </a:rPr>
              <a:t>气息的诗人。李白是继屈原之后，我国古代最伟大的浪漫主义诗人，他感情热烈，性格豪爽，想象丰富，语言清新自然，较多地运用浪漫主义的表现手法，借助非现实的幻想来表现激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410080" y="347184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世间行乐亦如此，古来万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东流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。别君去兮何时还？且放白鹿表崖间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须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行即骑访名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世间赏心乐事也像这样虚幻，自古以来许多事情像东流的水一样一去不复返。告别你们东鲁诸君，不知什么时候才能回来？暂且把白鹿放在青青的山崖间，等到要行走的时候就骑上它去访问名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1981080"/>
            <a:ext cx="2209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2743200"/>
            <a:ext cx="77724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种对人生的伤感情绪和逃避现实的态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了李白思想当中消极的一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4038480"/>
            <a:ext cx="266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寓形宇内复几时，曷不委心任去留？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聊乘化以归尽，乐夫天命复奚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09480" y="1371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5410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隶书"/>
              </a:rPr>
              <a:t>安能摧眉折腰事权贵，使我不得开心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336564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哪能够低头弯腰伺候那些有权有势的人，使我整天不愉快呢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40384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45040" y="3505320"/>
            <a:ext cx="729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对统治者的蔑视和反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67080" y="533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留别。借“梦游天姥”抒发感慨，向东鲁朋友及自己人生过去告别，以诗明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7905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梦游天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121932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5680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3332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17440" y="76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境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59000" y="76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现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08240" y="76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想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6760" y="274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梦游之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2133720"/>
            <a:ext cx="304560" cy="1904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02120" y="200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世事痛苦（及时行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6336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追求乐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12400" y="3733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蔑视权贵（憎恨现实、敢于反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1905120"/>
            <a:ext cx="381240" cy="2286000"/>
          </a:xfrm>
          <a:custGeom>
            <a:avLst/>
            <a:gdLst>
              <a:gd name="textAreaLeft" fmla="*/ 0 w 381240"/>
              <a:gd name="textAreaRight" fmla="*/ 137520 w 3812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67480" y="3581280"/>
            <a:ext cx="1447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豪迈气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4960" y="198108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直抒胸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01000" y="26668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591080" y="4495680"/>
            <a:ext cx="2952720" cy="2184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143000" y="152280"/>
            <a:ext cx="6781680" cy="655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81080" y="54864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165240"/>
            <a:ext cx="5410080" cy="5321160"/>
          </a:xfrm>
          <a:custGeom>
            <a:avLst/>
            <a:gdLst/>
            <a:ahLst/>
            <a:rect l="l" t="t" r="r" b="b"/>
            <a:pathLst>
              <a:path w="3408" h="3352">
                <a:moveTo>
                  <a:pt x="0" y="3304"/>
                </a:moveTo>
                <a:cubicBezTo>
                  <a:pt x="60" y="3156"/>
                  <a:pt x="120" y="3008"/>
                  <a:pt x="192" y="2920"/>
                </a:cubicBezTo>
                <a:cubicBezTo>
                  <a:pt x="264" y="2832"/>
                  <a:pt x="360" y="2816"/>
                  <a:pt x="432" y="2776"/>
                </a:cubicBezTo>
                <a:cubicBezTo>
                  <a:pt x="504" y="2736"/>
                  <a:pt x="520" y="2896"/>
                  <a:pt x="624" y="2680"/>
                </a:cubicBezTo>
                <a:cubicBezTo>
                  <a:pt x="728" y="2464"/>
                  <a:pt x="944" y="1536"/>
                  <a:pt x="1056" y="1480"/>
                </a:cubicBezTo>
                <a:cubicBezTo>
                  <a:pt x="1168" y="1424"/>
                  <a:pt x="1224" y="2416"/>
                  <a:pt x="1296" y="2344"/>
                </a:cubicBezTo>
                <a:cubicBezTo>
                  <a:pt x="1368" y="2272"/>
                  <a:pt x="1424" y="1112"/>
                  <a:pt x="1488" y="1048"/>
                </a:cubicBezTo>
                <a:cubicBezTo>
                  <a:pt x="1552" y="984"/>
                  <a:pt x="1624" y="2008"/>
                  <a:pt x="1680" y="1960"/>
                </a:cubicBezTo>
                <a:cubicBezTo>
                  <a:pt x="1736" y="1912"/>
                  <a:pt x="1752" y="1080"/>
                  <a:pt x="1824" y="760"/>
                </a:cubicBezTo>
                <a:cubicBezTo>
                  <a:pt x="1896" y="440"/>
                  <a:pt x="2024" y="0"/>
                  <a:pt x="2112" y="40"/>
                </a:cubicBezTo>
                <a:cubicBezTo>
                  <a:pt x="2200" y="80"/>
                  <a:pt x="2240" y="864"/>
                  <a:pt x="2352" y="1000"/>
                </a:cubicBezTo>
                <a:cubicBezTo>
                  <a:pt x="2464" y="1136"/>
                  <a:pt x="2672" y="736"/>
                  <a:pt x="2784" y="856"/>
                </a:cubicBezTo>
                <a:cubicBezTo>
                  <a:pt x="2896" y="976"/>
                  <a:pt x="2928" y="1416"/>
                  <a:pt x="3024" y="1720"/>
                </a:cubicBezTo>
                <a:cubicBezTo>
                  <a:pt x="3120" y="2024"/>
                  <a:pt x="3312" y="2408"/>
                  <a:pt x="3360" y="2680"/>
                </a:cubicBezTo>
                <a:cubicBezTo>
                  <a:pt x="3408" y="2952"/>
                  <a:pt x="3360" y="3152"/>
                  <a:pt x="3312" y="3352"/>
                </a:cubicBezTo>
              </a:path>
            </a:pathLst>
          </a:custGeom>
          <a:solidFill>
            <a:srgbClr val="0000ff"/>
          </a:soli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600" y="4876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5257800"/>
            <a:ext cx="304560" cy="30492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05520" y="0"/>
            <a:ext cx="304560" cy="30492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86600" y="5334120"/>
            <a:ext cx="304920" cy="30456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21080" y="76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83400" y="5094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87692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44956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971800"/>
            <a:ext cx="203040" cy="30492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22096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8380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15238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2" idx="0"/>
            <a:endCxn id="508" idx="3"/>
          </p:cNvCxnSpPr>
          <p:nvPr/>
        </p:nvCxnSpPr>
        <p:spPr>
          <a:xfrm flipH="1" flipV="1" rot="5400000">
            <a:off x="1904760" y="4614480"/>
            <a:ext cx="567360" cy="720000"/>
          </a:xfrm>
          <a:prstGeom prst="curvedConnector5">
            <a:avLst>
              <a:gd name="adj1" fmla="val 47047"/>
              <a:gd name="adj2" fmla="val 49974"/>
              <a:gd name="adj3" fmla="val 47047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8" idx="7"/>
            <a:endCxn id="509" idx="6"/>
          </p:cNvCxnSpPr>
          <p:nvPr/>
        </p:nvCxnSpPr>
        <p:spPr>
          <a:xfrm flipH="1" flipV="1" rot="5400000">
            <a:off x="2353680" y="3479040"/>
            <a:ext cx="1405440" cy="694440"/>
          </a:xfrm>
          <a:prstGeom prst="curvedConnector5">
            <a:avLst>
              <a:gd name="adj1" fmla="val 45759"/>
              <a:gd name="adj2" fmla="val 66441"/>
              <a:gd name="adj3" fmla="val 45759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9" idx="4"/>
          </p:cNvCxnSpPr>
          <p:nvPr/>
        </p:nvCxnSpPr>
        <p:spPr>
          <a:xfrm flipH="1" flipV="1" rot="5400000">
            <a:off x="3324600" y="2414880"/>
            <a:ext cx="839160" cy="884880"/>
          </a:xfrm>
          <a:prstGeom prst="curvedConnector5">
            <a:avLst>
              <a:gd name="adj1" fmla="val -87854"/>
              <a:gd name="adj2" fmla="val 48717"/>
              <a:gd name="adj3" fmla="val -87854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6" name=""/>
          <p:cNvCxnSpPr/>
          <p:nvPr/>
        </p:nvCxnSpPr>
        <p:spPr>
          <a:xfrm flipH="1" flipV="1" rot="5400000">
            <a:off x="3968280" y="1364760"/>
            <a:ext cx="1339200" cy="742320"/>
          </a:xfrm>
          <a:prstGeom prst="curvedConnector5">
            <a:avLst>
              <a:gd name="adj1" fmla="val -83732"/>
              <a:gd name="adj2" fmla="val 49975"/>
              <a:gd name="adj3" fmla="val -83732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1" idx="7"/>
          </p:cNvCxnSpPr>
          <p:nvPr/>
        </p:nvCxnSpPr>
        <p:spPr>
          <a:xfrm flipH="1" flipV="1" rot="5400000">
            <a:off x="4707360" y="287280"/>
            <a:ext cx="872280" cy="296280"/>
          </a:xfrm>
          <a:prstGeom prst="curvedConnector5">
            <a:avLst>
              <a:gd name="adj1" fmla="val 51899"/>
              <a:gd name="adj2" fmla="val 50000"/>
              <a:gd name="adj3" fmla="val 51899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03" idx="4"/>
          </p:cNvCxnSpPr>
          <p:nvPr/>
        </p:nvCxnSpPr>
        <p:spPr>
          <a:xfrm flipH="1" rot="16200000">
            <a:off x="5055120" y="506160"/>
            <a:ext cx="1383480" cy="980280"/>
          </a:xfrm>
          <a:prstGeom prst="curvedConnector5">
            <a:avLst>
              <a:gd name="adj1" fmla="val 127433"/>
              <a:gd name="adj2" fmla="val 50000"/>
              <a:gd name="adj3" fmla="val 127433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12" idx="4"/>
            <a:endCxn id="504" idx="0"/>
          </p:cNvCxnSpPr>
          <p:nvPr/>
        </p:nvCxnSpPr>
        <p:spPr>
          <a:xfrm flipH="1" rot="16200000">
            <a:off x="5009760" y="3104640"/>
            <a:ext cx="358236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63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323360" y="405936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魂飞剡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31480" y="25909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着屐登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36320" y="78264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洞天仙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46560" y="1392120"/>
            <a:ext cx="912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魂归枕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7259600">
            <a:off x="25200" y="2412720"/>
            <a:ext cx="1625760" cy="304920"/>
          </a:xfrm>
          <a:custGeom>
            <a:avLst/>
            <a:gdLst>
              <a:gd name="textAreaLeft" fmla="*/ 253800 w 1625760"/>
              <a:gd name="textAreaRight" fmla="*/ 1422720 w 1625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5400600">
            <a:off x="7655400" y="3773880"/>
            <a:ext cx="1633680" cy="333360"/>
          </a:xfrm>
          <a:custGeom>
            <a:avLst/>
            <a:gdLst>
              <a:gd name="textAreaLeft" fmla="*/ 255240 w 1633680"/>
              <a:gd name="textAreaRight" fmla="*/ 1429560 w 163368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77560" y="4745160"/>
            <a:ext cx="912240" cy="459720"/>
          </a:xfrm>
          <a:prstGeom prst="rect">
            <a:avLst/>
          </a:prstGeom>
          <a:solidFill>
            <a:srgbClr val="339966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凄清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26920" y="3886200"/>
            <a:ext cx="9122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壮美雄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36600" y="158760"/>
            <a:ext cx="912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神奇壮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和睦陆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908840" y="23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54480" y="2139840"/>
            <a:ext cx="912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憎恨现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苦闷惆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52120" y="2514600"/>
            <a:ext cx="48564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 rot="439200">
            <a:off x="3504960" y="5421240"/>
            <a:ext cx="243828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华文行楷"/>
              </a:rPr>
              <a:t>留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33" name=""/>
          <p:cNvSpPr/>
          <p:nvPr/>
        </p:nvSpPr>
        <p:spPr>
          <a:xfrm>
            <a:off x="264960" y="5888160"/>
            <a:ext cx="546480" cy="4597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现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68200" y="173160"/>
            <a:ext cx="546480" cy="4597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梦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29160" y="5791320"/>
            <a:ext cx="546480" cy="4597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现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0" y="31680"/>
          <a:ext cx="9372600" cy="696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680"/>
                    <a:ext cx="937260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2971800" y="38088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主   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640" y="1765440"/>
            <a:ext cx="7962840" cy="825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诗描写作者自身对梦境中天姥仙境美景的向往，表现了作者憎恶现实、蔑视权贵、敢于反抗的斗争精神和向往自由、追求乐土的美好愿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362320" y="12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个 性 化 的 浪 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、与一些人写得遇仙人纯系偶然，是仙人对自己的恩宠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不同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，李白开篇就说明他寻访仙境是主动的，是蓄谋已久的，他已探知瀛洲难求，但不肯罢休，再次访得越人，把全部热情投给了天姥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、与一些人只敢觐见一二仙人的奢望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不同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，李白竟调来“如麻”的仙人，一时祥云纷纷日月生辉，分明是仙家盛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、与那些凡夫俗子只敢远远瞻拜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不同</a:t>
            </a:r>
            <a:r>
              <a:rPr b="1" lang="zh-CN" sz="2400" spc="-1" strike="noStrike">
                <a:solidFill>
                  <a:srgbClr val="660066"/>
                </a:solidFill>
                <a:latin typeface="幼圆"/>
                <a:ea typeface="幼圆"/>
              </a:rPr>
              <a:t>，李白让自己登上天姥山后，“洞庭湖天石扉，訇然中开”，反倒是仙境为礼遇作者而隆重敞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4255920"/>
            <a:ext cx="86868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在人间一身傲骨的李白，到了神仙世界孔没有丝毫自惭形秽。这是因为李白认为自己本就属于神仙世界，既然地上人俗世丑陋不堪，“谪仙”当然应该重返仙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81080" y="5902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嫉恶如仇、狂放浪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0" y="28440"/>
          <a:ext cx="9144000" cy="682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44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380880" y="32767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弃我去者昨日之日不可留，乱我心者今日之日多烦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4282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长风万里送秋雁，对此可以酣高楼。蓬莱文章建安骨，中间小谢又清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327672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俱怀逸兴壮思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欲上表天揽明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抽刀断水水更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举杯消愁愁更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人生在世不称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明朝散发弄扁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、解释下列加点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欲因之梦吴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栗深林兮惊层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虎鼓瑟兮风为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失向来之烟霞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安能摧眉折腰事权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势拔五岳掩赤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烟涛微茫信难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、默写出李白要求“民主自由”的名言警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4400" y="25146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62040" y="25146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3200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90920" y="37339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733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87680" y="42670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109960" y="42670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65480" y="42670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876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62040" y="548640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18440" y="1440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代神游天姥山的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64440" y="199548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使……战栗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惊恐，使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09400" y="260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演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45720" y="3138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代上文神异的景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3240" y="3747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低头；服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94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超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79360" y="4967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的确、确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52760" y="596736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安能摧眉折腰事权贵，使我不得开心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延伸巩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26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43360" y="171360"/>
            <a:ext cx="614808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白早年就有济世安邦的抱负， 但他不屑于通过科举登上仕途，而是希望由布衣一跃而成为卿相。因此，他漫游全国各地， 结交名流，以扩大声誉。 天宝元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经友人吴筠推荐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被唐玄宗征召入京。他以为实现自己“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济沧生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安社稷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的政治抱负的时机到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于是高歌“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仰天大笑出门去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辈岂是蓬蒿人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，踌躇满志到了长安。但玄宗只把他看作词臣，并不重用；李白不肯与权贵同流合污，又因醉中命宠臣高力士脱靴，得罪京城权贵，受到排挤，不到三年，被唐玄宗“赐金放还”，由布衣而卿相的梦幻就此破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李白在“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临当欲去时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慷慨泪沾缨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这样极度悲愤惆怅的心情之中离开京城，继续他的漫游生活。此诗是诗人于天宝四年离开东鲁南游吴越时所作，一名《别东鲁诸公》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诚挚地向亲友们表明了自己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蔑视权贵，傲岸不屈，与 宫廷生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彻底绝裂的态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岁时，李白的文章已写得很出色，并开始学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岁时，“仗剑去国”，开始漫游兼求仕的生活（李白没有也不屑于参加科举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岁时，李白受推荐，得唐玄宗赏识被诏入宫，供奉翰林。但唐只把李白当成点缀升平和宫廷生活动御用文人。这不能不使李白感到他的政治理想的破灭。因作风傲岸，李白在朝中屡遭谗毁。李白初步认识到政治集团的腐败后现实的黑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44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岁时，李白被赐金放还。这是他在政治上遭到的一次重大挫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第二年，李白与杜甫、高适在梁、齐、宋、鲁等地游历了一番，离开东鲁南下吴越前，李白写下此诗作别友人，然后，开始了新一次的漫游旅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李白的一生是复杂的，他兼有游侠、隐士、道人、策士、酒徒等类人的气质和行径。他一方面接受儒学“兼济天下”的思想；另一方面又接受道家尤其是庄子遗世独立的思想，追求绝对自由，蔑视世间万物；他还接受游侠思想影响，所以敢于蔑视封建秩序，打破传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但在黑暗现实面前，李白的人生理想始终未能实现，但他又在追求。矛盾、冲突及遭打击后的愤懑、狂放就产生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7:08:55Z</dcterms:created>
  <dc:creator>杨小林</dc:creator>
  <dc:description/>
  <dc:language>en-US</dc:language>
  <cp:lastModifiedBy>ckh</cp:lastModifiedBy>
  <dcterms:modified xsi:type="dcterms:W3CDTF">2006-09-30T14:32:58Z</dcterms:modified>
  <cp:revision>121</cp:revision>
  <dc:subject/>
  <dc:title>PowerPoint 演示文稿</dc:title>
</cp:coreProperties>
</file>