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B77-8FA6-4803-BB66-277140490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DC65-067A-4CFD-9EF5-ACFF589E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533E-FFF4-41BE-A91F-70FC05C5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4B4-354B-42E6-BBB2-D3C86006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76AD-541A-42F3-B145-1C865890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8914-0016-4DDF-8046-E78E7D0F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11C-AEC4-4954-8D35-C3C46393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BBE-285C-49AF-851E-593F002D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2A6D-BA7C-411B-85A0-5B1133D5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099-A434-4BD1-9377-F5147426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FC3C-0AA4-4A73-A908-360AB132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3936-73F4-4137-8446-B07DD5BD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67C1-8653-4F7B-9758-5D53D9498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GM1998_09p79up"/>
          <p:cNvPicPr/>
          <p:nvPr/>
        </p:nvPicPr>
        <p:blipFill>
          <a:blip r:embed="rId1"/>
          <a:srcRect l="0" t="0" r="0" b="3332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2"/>
          <p:cNvSpPr txBox="1"/>
          <p:nvPr/>
        </p:nvSpPr>
        <p:spPr>
          <a:xfrm>
            <a:off x="1447920" y="1981080"/>
            <a:ext cx="6553080" cy="18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ffffff"/>
                </a:solidFill>
                <a:latin typeface="华文行楷"/>
              </a:rPr>
              <a:t>梅岭三章</a:t>
            </a:r>
            <a:endParaRPr b="0" lang="en-US" sz="6000" spc="-1" strike="noStrike">
              <a:ln w="0">
                <a:noFill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2012040" y="7635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如何鉴赏诗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160440" y="2117880"/>
            <a:ext cx="274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诵读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延伸阅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字词鉴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把握思想内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8686800" y="624852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NGM1998_09p79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"/>
          <p:cNvSpPr/>
          <p:nvPr/>
        </p:nvSpPr>
        <p:spPr>
          <a:xfrm>
            <a:off x="1042920" y="1143000"/>
            <a:ext cx="2619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南国烽烟正十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此头须向国门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后死诸君多努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捷报飞来当纸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310360" y="1127160"/>
            <a:ext cx="2619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投身革命即为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血雨腥风应有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取义成仁今日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人间遍种自由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赤壁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1722240" y="609480"/>
            <a:ext cx="24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朗读这两首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22880" y="1568520"/>
            <a:ext cx="22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分两组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55800" y="2544840"/>
            <a:ext cx="30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明确诗歌大体内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474720" y="3459240"/>
            <a:ext cx="10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研讨诗歌语言、思想内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70160" y="4297320"/>
            <a:ext cx="42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自由发表意见，两组相互质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183200" y="5211720"/>
            <a:ext cx="126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两组各选一名代表，宣布研讨结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8686800" y="624852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2103120" y="205740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一首：表现了生死不渝、誓与反动统治血战到底的革命精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167000" y="297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二首：表现了关心国家命运、切盼人民解放的革命精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04920" y="396252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三首：表现了乐观坚定的革命信念和甘为信仰牺牲的大无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精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WordArt 6"/>
          <p:cNvSpPr txBox="1"/>
          <p:nvPr/>
        </p:nvSpPr>
        <p:spPr>
          <a:xfrm>
            <a:off x="304920" y="22860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结论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p:transition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9" descr="桂林山水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"/>
          <p:cNvSpPr/>
          <p:nvPr/>
        </p:nvSpPr>
        <p:spPr>
          <a:xfrm>
            <a:off x="1336680" y="4874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方正粗倩简体"/>
              </a:rPr>
              <a:t>语言特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681000" y="12859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用词准确、形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15720" y="2158920"/>
            <a:ext cx="202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借助想象和幻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3231000" y="29955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直观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3231000" y="3757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含蓄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231000" y="4519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深刻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tu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1479600" y="1700280"/>
            <a:ext cx="5813280" cy="2653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这几首诗并写读书笔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当作人杰，死亦为鬼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今思项羽，不肯过江东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清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这首诗，写一篇鉴赏小论文，字数不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2843280" y="602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6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27" descr="陈毅"/>
          <p:cNvPicPr/>
          <p:nvPr/>
        </p:nvPicPr>
        <p:blipFill>
          <a:blip r:embed="rId2">
            <a:lum contrast="24000"/>
          </a:blip>
          <a:srcRect l="0" t="3407" r="0" b="0"/>
          <a:stretch/>
        </p:blipFill>
        <p:spPr>
          <a:xfrm>
            <a:off x="5029200" y="762120"/>
            <a:ext cx="3048120" cy="4268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030"/>
          <p:cNvSpPr/>
          <p:nvPr/>
        </p:nvSpPr>
        <p:spPr>
          <a:xfrm>
            <a:off x="-887760" y="2023920"/>
            <a:ext cx="62398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粗倩简体"/>
              </a:rPr>
              <a:t>一柱天南百战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方正粗倩简体"/>
              </a:rPr>
              <a:t>将军本色是诗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粗倩简体"/>
              </a:rPr>
              <a:t>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方正粗倩简体"/>
              </a:rPr>
              <a:t>——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方正粗倩简体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271520" y="22860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断头今日意如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创业艰难百战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此去泉台招旧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旌旗十万斩阎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462640" y="22860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南国烽烟正十年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此头须向国门悬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后死诸君多努力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捷报飞来当纸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405240" y="350532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投身革命即为家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血雨腥风应有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取义成仁今日事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间遍种自由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BD14711_"/>
          <p:cNvPicPr/>
          <p:nvPr/>
        </p:nvPicPr>
        <p:blipFill>
          <a:blip r:embed="rId1"/>
          <a:stretch/>
        </p:blipFill>
        <p:spPr>
          <a:xfrm>
            <a:off x="1143000" y="4457880"/>
            <a:ext cx="6858000" cy="114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BD14710_"/>
          <p:cNvPicPr/>
          <p:nvPr/>
        </p:nvPicPr>
        <p:blipFill>
          <a:blip r:embed="rId2"/>
          <a:stretch/>
        </p:blipFill>
        <p:spPr>
          <a:xfrm>
            <a:off x="1143000" y="2971800"/>
            <a:ext cx="6858000" cy="114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BD14711_"/>
          <p:cNvPicPr/>
          <p:nvPr/>
        </p:nvPicPr>
        <p:blipFill>
          <a:blip r:embed="rId3"/>
          <a:stretch/>
        </p:blipFill>
        <p:spPr>
          <a:xfrm>
            <a:off x="1143000" y="1638360"/>
            <a:ext cx="6858000" cy="114120"/>
          </a:xfrm>
          <a:prstGeom prst="rect">
            <a:avLst/>
          </a:prstGeom>
          <a:ln w="0">
            <a:noFill/>
          </a:ln>
        </p:spPr>
      </p:pic>
      <p:sp>
        <p:nvSpPr>
          <p:cNvPr id="53" name="Oval 6">
            <a:hlinkClick r:id="" action="ppaction://hlinkshowjump?jump=nextslide"/>
          </p:cNvPr>
          <p:cNvSpPr/>
          <p:nvPr/>
        </p:nvSpPr>
        <p:spPr>
          <a:xfrm>
            <a:off x="3352680" y="1371600"/>
            <a:ext cx="1752840" cy="6858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精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3429000" y="2666880"/>
            <a:ext cx="1752480" cy="6858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3366"/>
                </a:solidFill>
                <a:latin typeface="Times New Roman"/>
                <a:ea typeface="华文行楷"/>
              </a:rPr>
              <a:t>自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9"/>
          <p:cNvSpPr/>
          <p:nvPr/>
        </p:nvSpPr>
        <p:spPr>
          <a:xfrm>
            <a:off x="3429000" y="4114800"/>
            <a:ext cx="1752480" cy="68580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50000">
                <a:srgbClr val="ffffcc"/>
              </a:gs>
              <a:gs pos="100000">
                <a:srgbClr val="66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5050"/>
                </a:solidFill>
                <a:latin typeface="Times New Roman"/>
                <a:ea typeface="华文行楷"/>
              </a:rPr>
              <a:t>美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3" descr="BD14752_"/>
          <p:cNvPicPr/>
          <p:nvPr/>
        </p:nvPicPr>
        <p:blipFill>
          <a:blip r:embed="rId4"/>
          <a:stretch/>
        </p:blipFill>
        <p:spPr>
          <a:xfrm>
            <a:off x="8229600" y="617220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BD14578_"/>
          <p:cNvPicPr/>
          <p:nvPr/>
        </p:nvPicPr>
        <p:blipFill>
          <a:blip r:embed="rId5"/>
          <a:stretch/>
        </p:blipFill>
        <p:spPr>
          <a:xfrm>
            <a:off x="8077320" y="57913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BD14530_"/>
          <p:cNvPicPr/>
          <p:nvPr/>
        </p:nvPicPr>
        <p:blipFill>
          <a:blip r:embed="rId6"/>
          <a:stretch/>
        </p:blipFill>
        <p:spPr>
          <a:xfrm>
            <a:off x="8534520" y="5638680"/>
            <a:ext cx="136440" cy="136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BD14868_"/>
          <p:cNvPicPr/>
          <p:nvPr/>
        </p:nvPicPr>
        <p:blipFill>
          <a:blip r:embed="rId7"/>
          <a:stretch/>
        </p:blipFill>
        <p:spPr>
          <a:xfrm>
            <a:off x="8534520" y="594360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BD14529_"/>
          <p:cNvPicPr/>
          <p:nvPr/>
        </p:nvPicPr>
        <p:blipFill>
          <a:blip r:embed="rId8"/>
          <a:stretch/>
        </p:blipFill>
        <p:spPr>
          <a:xfrm>
            <a:off x="7772400" y="60199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BD14752_"/>
          <p:cNvPicPr/>
          <p:nvPr/>
        </p:nvPicPr>
        <p:blipFill>
          <a:blip r:embed="rId9"/>
          <a:stretch/>
        </p:blipFill>
        <p:spPr>
          <a:xfrm>
            <a:off x="762120" y="76212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BD14578_"/>
          <p:cNvPicPr/>
          <p:nvPr/>
        </p:nvPicPr>
        <p:blipFill>
          <a:blip r:embed="rId10"/>
          <a:stretch/>
        </p:blipFill>
        <p:spPr>
          <a:xfrm>
            <a:off x="609480" y="380880"/>
            <a:ext cx="171720" cy="171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BD14530_"/>
          <p:cNvPicPr/>
          <p:nvPr/>
        </p:nvPicPr>
        <p:blipFill>
          <a:blip r:embed="rId11"/>
          <a:stretch/>
        </p:blipFill>
        <p:spPr>
          <a:xfrm>
            <a:off x="1066680" y="22860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1" descr="BD14868_"/>
          <p:cNvPicPr/>
          <p:nvPr/>
        </p:nvPicPr>
        <p:blipFill>
          <a:blip r:embed="rId12"/>
          <a:stretch/>
        </p:blipFill>
        <p:spPr>
          <a:xfrm>
            <a:off x="1066680" y="533520"/>
            <a:ext cx="136800" cy="13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2" descr="BD14529_"/>
          <p:cNvPicPr/>
          <p:nvPr/>
        </p:nvPicPr>
        <p:blipFill>
          <a:blip r:embed="rId13"/>
          <a:stretch/>
        </p:blipFill>
        <p:spPr>
          <a:xfrm>
            <a:off x="304920" y="609480"/>
            <a:ext cx="171360" cy="171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4" descr="黄山云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3195720" y="6048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断头今日意如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创业艰难百战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此去泉台招旧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Times New Roman"/>
                <a:ea typeface="隶书"/>
              </a:rPr>
              <a:t>旌旗十万斩阎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756960" y="3352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这首诗的主要内容是什么？表现了老一辈无产阶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革命家怎样的精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50360" y="4384800"/>
            <a:ext cx="304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哪些关键词语能体现这种精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640880" y="514656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朗读指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8">
            <a:hlinkClick r:id="" action="ppaction://hlinkshowjump?jump=previousslide"/>
          </p:cNvPr>
          <p:cNvSpPr/>
          <p:nvPr/>
        </p:nvSpPr>
        <p:spPr>
          <a:xfrm>
            <a:off x="8458200" y="6400800"/>
            <a:ext cx="152280" cy="22860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  <a:path fill="darken" w="21600" h="32400">
                <a:moveTo>
                  <a:pt x="3794" y="16200"/>
                </a:moveTo>
                <a:lnTo>
                  <a:pt x="17806" y="9194"/>
                </a:lnTo>
                <a:lnTo>
                  <a:pt x="17806" y="232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176640" y="76320"/>
            <a:ext cx="261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断头今日意如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创业艰难百战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此去泉台招旧部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旌旗十万斩阎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656720" y="57564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鉴赏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2744640" y="1523880"/>
            <a:ext cx="383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这首诗着重写陈毅身在必死险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回忆艰难创业的征战过程，申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此生不见革命胜利，死后必要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集旧部英魂继续战斗，表现了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死不渝、誓与反动统治血战到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革命精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previousslide"/>
          </p:cNvPr>
          <p:cNvSpPr/>
          <p:nvPr/>
        </p:nvSpPr>
        <p:spPr>
          <a:xfrm>
            <a:off x="8686800" y="66294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3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2"/>
          <p:cNvSpPr/>
          <p:nvPr/>
        </p:nvSpPr>
        <p:spPr>
          <a:xfrm>
            <a:off x="1587960" y="1477800"/>
            <a:ext cx="50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断头今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什么句式？有什么表达效果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926440" y="3581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现环境险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926440" y="4114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诗人英勇面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109320" y="4724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奠定慷慨激越的基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2362320" y="3657600"/>
            <a:ext cx="152280" cy="144792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 rot="756000">
            <a:off x="2209680" y="248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 rot="3147000">
            <a:off x="2574360" y="2574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 rot="5268600">
            <a:off x="2497680" y="257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 rot="7983600">
            <a:off x="2345400" y="2572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 rot="10800000">
            <a:off x="2286360" y="248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 rot="12642000">
            <a:off x="2134440" y="248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 rot="15906600">
            <a:off x="2194920" y="2421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7"/>
          <p:cNvSpPr/>
          <p:nvPr/>
        </p:nvSpPr>
        <p:spPr>
          <a:xfrm rot="17980200">
            <a:off x="2271240" y="2345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8"/>
          <p:cNvSpPr/>
          <p:nvPr/>
        </p:nvSpPr>
        <p:spPr>
          <a:xfrm rot="20372400">
            <a:off x="2210400" y="2406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210040" y="2482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倒装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402920" y="716040"/>
            <a:ext cx="29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①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断头今日意如何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5"/>
                            </p:stCondLst>
                            <p:childTnLst>
                              <p:par>
                                <p:cTn id="3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evt="end">
                                        <p:tn val="32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"/>
                            </p:stCondLst>
                            <p:childTnLst>
                              <p:par>
                                <p:cTn id="3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25"/>
                            </p:stCondLst>
                            <p:childTnLst>
                              <p:par>
                                <p:cTn id="4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evt="end">
                                        <p:tn val="40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"/>
                            </p:stCondLst>
                            <p:childTnLst>
                              <p:par>
                                <p:cTn id="4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5"/>
                            </p:stCondLst>
                            <p:childTnLst>
                              <p:par>
                                <p:cTn id="4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50"/>
                            </p:stCondLst>
                            <p:childTnLst>
                              <p:par>
                                <p:cTn id="5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25"/>
                            </p:stCondLst>
                            <p:childTnLst>
                              <p:par>
                                <p:cTn id="5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evt="end">
                                        <p:tn val="55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"/>
                            </p:stCondLst>
                            <p:childTnLst>
                              <p:par>
                                <p:cTn id="5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75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3" descr="背景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2022480" y="1295280"/>
            <a:ext cx="46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提问：作者为何要设想死后情景？又为何要“斩阎罗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748320" y="205740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天、地、君、亲、师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865240" y="289548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窦娥冤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26440" y="441972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聊斋志异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865240" y="36576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西游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61760" y="51814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阎罗：阴间暴君。影射世上反动统治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628800" y="5867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达斗争到底的决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615680" y="2057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敬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163152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15680" y="441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否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161568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反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8"/>
          <p:cNvSpPr/>
          <p:nvPr/>
        </p:nvSpPr>
        <p:spPr>
          <a:xfrm>
            <a:off x="1905120" y="2514600"/>
            <a:ext cx="75960" cy="380880"/>
          </a:xfrm>
          <a:prstGeom prst="down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9"/>
          <p:cNvSpPr/>
          <p:nvPr/>
        </p:nvSpPr>
        <p:spPr>
          <a:xfrm>
            <a:off x="1905120" y="3276720"/>
            <a:ext cx="75960" cy="533160"/>
          </a:xfrm>
          <a:prstGeom prst="downArrow">
            <a:avLst>
              <a:gd name="adj1" fmla="val 50000"/>
              <a:gd name="adj2" fmla="val 17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0"/>
          <p:cNvSpPr/>
          <p:nvPr/>
        </p:nvSpPr>
        <p:spPr>
          <a:xfrm>
            <a:off x="1905120" y="403848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1769400" y="411120"/>
            <a:ext cx="32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②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方正粗倩简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招旧部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粗倩简体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粗倩简体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斩阎罗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方正粗倩简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2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550600" y="92880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提问：“招”可否换成“收”、“率”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757880" y="16765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收”：收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268720" y="2514600"/>
            <a:ext cx="20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在“搜索”，不合语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681920" y="327672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率”：率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4202640" y="32767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含“聚集”之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666080" y="411480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招”：招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829880" y="4724280"/>
            <a:ext cx="91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间广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声势浩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领导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3"/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9" y="14482"/>
                  <a:pt x="14525" y="14482"/>
                </a:cubicBezTo>
                <a:lnTo>
                  <a:pt x="16187" y="14482"/>
                </a:lnTo>
                <a:cubicBezTo>
                  <a:pt x="17223" y="14482"/>
                  <a:pt x="18024" y="13751"/>
                  <a:pt x="18024" y="12828"/>
                </a:cubicBezTo>
                <a:lnTo>
                  <a:pt x="18024" y="7493"/>
                </a:lnTo>
                <a:lnTo>
                  <a:pt x="16187" y="7493"/>
                </a:lnTo>
                <a:lnTo>
                  <a:pt x="19695" y="3985"/>
                </a:lnTo>
                <a:lnTo>
                  <a:pt x="23368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5" y="18155"/>
                  <a:pt x="16187" y="18155"/>
                </a:cubicBezTo>
                <a:lnTo>
                  <a:pt x="14525" y="18155"/>
                </a:lnTo>
                <a:cubicBezTo>
                  <a:pt x="11757" y="18155"/>
                  <a:pt x="9181" y="15596"/>
                  <a:pt x="9181" y="128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1:04:36Z</dcterms:created>
  <dc:creator>第一PPT模板网-WWW.1PPT.COM</dc:creator>
  <dc:description/>
  <dc:language>en-US</dc:language>
  <cp:lastModifiedBy>Administrator</cp:lastModifiedBy>
  <dcterms:modified xsi:type="dcterms:W3CDTF">2017-05-08T03:35:57Z</dcterms:modified>
  <cp:revision>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