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4F2-45E7-40C5-B76A-B0291743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40A-E305-4B40-9A29-727CB3F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4EC-A5EA-4FAF-A888-6F82B421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F6F-4CDB-42FE-B476-AF3FEA9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E3DE3-6B21-4B90-B99B-7D10D97D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ED930-6D7C-4AD5-987B-2F18E91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CA5B0-5D9E-4EBF-926B-733F7A64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FB037-DE90-45C3-916F-8B6C489B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6A13-EB50-4935-AE80-066483A3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4BF1-3E98-4F2F-98B5-8CDF7C6C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6018D-F3E3-42E8-9243-BD0BF45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6E0-AB0B-4022-80AA-C9956B4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62CA3-242A-43D5-997C-D86733A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1C497-DD37-4785-A2AD-4CBBF07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41544-5276-4DE4-A5C2-6CF1C88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8421C-7167-4316-9A5A-1E25D778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C4780-F268-43D9-84AA-7256A02E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7E0-96BA-44DB-8875-A9E231EC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193-0680-411F-9375-5E95E86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76A-F5ED-4109-9902-E43EF0F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7E5-919B-470A-9413-DAE7831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640-E8D9-4FE7-A657-990DCDB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430-4124-4DDD-AA6B-E9DF1CA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A59-6757-4A39-B925-2D361EE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F8D7-7A68-4E54-A4A5-0EEAAEA803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299-D5CF-4BDE-AED7-BD3EB7DA1B5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35799;&#27468;&#20043;&#34394;&#23454;&#30456;&#29983;&#27861;.doc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360" y="549360"/>
            <a:ext cx="7848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故事导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有一对恋人，星期天去商店想购买一些艺术品装点新房，他们在店里看到了一排维纳斯像。那男的仔细看了一遍，说：“怎么全是次品，没有一只完好的？”站在旁边的售货员听了，忍不住发笑，而那女的听到笑声，便对男的说：“看，人家笑你真笨，有便宜货不知道买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539640" y="189000"/>
            <a:ext cx="8137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断臂美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米洛斯的维纳斯是举世闻名的古希腊后期的雕塑杰作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尊雕像大约是在公元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，由希腊著名雕刻家阿海山纳，在神话的基础上加以想象和创造，用大理石雕刻而成的，但后来失却了。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这尊雕像于</a:t>
            </a: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1820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年在爱琴海南部的米洛斯岛上被一个农夫发现，因此又叫米洛斯的维纳斯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自她被挖掘出以后，双臂就已失去，但这却让人感到一种残缺的美，以“断臂美神”闻名遐迩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长期以来，她一直被认为是迄今被发现的希腊女性雕像中最美的一尊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现陈列于世界上最大的美术博物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的罗浮宫内。这尊维纳斯雕像与胜利女神雕像以及我们熟悉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蒙娜丽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画像一起被誉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罗浮宫三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00000" y="26028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195640" y="981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黑体"/>
              </a:rPr>
              <a:t>本文作者的观点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2200" y="184464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她为了如此迷人，必须失去双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22200" y="2709720"/>
            <a:ext cx="856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围绕这一观点，文章先从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_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面论述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必须失去双臂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 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段），然后又从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_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面论述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不能复原双臂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段），</a:t>
            </a:r>
            <a:r>
              <a:rPr b="0" lang="zh-CN" sz="1800" spc="-1" strike="noStrike">
                <a:solidFill>
                  <a:srgbClr val="ffff99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最后从  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_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面论述了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只能失去双臂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段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7020000" y="2709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932360" y="35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763640" y="4221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775640" y="414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211640" y="486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843280" y="57340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667640" y="198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95280" y="1989000"/>
            <a:ext cx="8244000" cy="581400"/>
          </a:xfrm>
          <a:prstGeom prst="rect">
            <a:avLst/>
          </a:prstGeom>
          <a:noFill/>
          <a:ln cap="sq"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50920" y="26028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>
            <a:hlinkClick r:id="rId1"/>
          </p:cNvPr>
          <p:cNvSpPr/>
          <p:nvPr/>
        </p:nvSpPr>
        <p:spPr>
          <a:xfrm>
            <a:off x="7667640" y="595008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8406"/>
                </a:moveTo>
                <a:lnTo>
                  <a:pt x="16636" y="8406"/>
                </a:lnTo>
                <a:lnTo>
                  <a:pt x="21057" y="3794"/>
                </a:lnTo>
                <a:lnTo>
                  <a:pt x="21057" y="17806"/>
                </a:lnTo>
                <a:lnTo>
                  <a:pt x="16636" y="13194"/>
                </a:lnTo>
                <a:lnTo>
                  <a:pt x="12206" y="13194"/>
                </a:lnTo>
                <a:close/>
              </a:path>
              <a:path fill="darken" w="38424" h="21600">
                <a:moveTo>
                  <a:pt x="22711" y="10800"/>
                </a:moveTo>
                <a:lnTo>
                  <a:pt x="26218" y="10800"/>
                </a:lnTo>
              </a:path>
              <a:path fill="darken" w="38424" h="21600">
                <a:moveTo>
                  <a:pt x="22711" y="8406"/>
                </a:moveTo>
                <a:lnTo>
                  <a:pt x="26218" y="5639"/>
                </a:lnTo>
              </a:path>
              <a:path fill="darken" w="38424" h="21600">
                <a:moveTo>
                  <a:pt x="22711" y="13194"/>
                </a:moveTo>
                <a:lnTo>
                  <a:pt x="26218" y="15961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Arial"/>
                <a:ea typeface="黑体"/>
              </a:rPr>
              <a:t>局部探讨：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为什么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失去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双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速读课文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段，从文中找出表明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者观点的语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0920" y="2852640"/>
            <a:ext cx="7489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这是一次从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Arial"/>
                <a:ea typeface="黑体"/>
              </a:rPr>
              <a:t>特殊转向普遍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的毫不矫揉造作的飞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这是一次借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Arial"/>
                <a:ea typeface="黑体"/>
              </a:rPr>
              <a:t>舍弃部分来获取完整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的偶然追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那失去了的双臂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孕育着具有多样可能性的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生命之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米洛斯的维纳斯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暗示着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可能存在的无数双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秀美的玉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然而这却是向着无比神妙的</a:t>
            </a:r>
            <a:r>
              <a:rPr b="1" i="1" lang="zh-CN" sz="2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整体美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的奋然一跃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5640" y="5734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理由：无臂      丰富的艺术想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490920" y="6093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Arial"/>
                <a:ea typeface="黑体"/>
              </a:rPr>
              <a:t>局部探讨：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为什么</a:t>
            </a:r>
            <a:r>
              <a:rPr b="1" lang="zh-CN" sz="4000" spc="-1" strike="noStrike">
                <a:solidFill>
                  <a:srgbClr val="00ffcc"/>
                </a:solidFill>
                <a:latin typeface="Arial"/>
                <a:ea typeface="华文新魏"/>
              </a:rPr>
              <a:t>不能复原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  <a:ea typeface="黑体"/>
              </a:rPr>
              <a:t>双臂？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97080" y="3068640"/>
            <a:ext cx="8148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方正魏碑简体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0000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在这里成为问题的，已不是艺术效果上的数量的变化，而是质量的变化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71640" y="371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这一方是包孕着不尽梦幻的“无”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而那一方却是受到限制的、不充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“有”，哪怕它是何等的精美绝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04292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速读课文</a:t>
            </a:r>
            <a:r>
              <a:rPr b="1" lang="en-US" sz="3200" spc="-1" strike="noStrike">
                <a:solidFill>
                  <a:srgbClr val="00ff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ffc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ff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段，从文中找出表明作者观点的语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16000" y="5805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理由：有臂      定型的 受限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51280" y="6165720"/>
            <a:ext cx="64764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3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局部探讨：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  <a:ea typeface="黑体"/>
              </a:rPr>
              <a:t>为什么失去的必须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双臂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丢失了双臂，奏响了追求可能存在无数双手的梦幻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56360" y="501336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684360" y="2349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人与世界、他人或者同自己进行千变万化交涉的手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它是这些关系的媒介物，或者是这些千变万化交涉的原则性方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6836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速读课文</a:t>
            </a:r>
            <a:r>
              <a:rPr b="1" lang="en-US" sz="3200" spc="-1" strike="noStrike">
                <a:solidFill>
                  <a:srgbClr val="00ff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ffc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ffcc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段，从文中找出表明作者观点的语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527120" y="576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3780000" y="6237360"/>
            <a:ext cx="64908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861840" y="587700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理由：失臂       千变万化 唤起想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533520" y="685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cc"/>
                </a:solidFill>
                <a:latin typeface="Arial"/>
                <a:ea typeface="黑体"/>
              </a:rPr>
              <a:t>深入思考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清冈卓行强调，维纳斯必须失去双臂才能如此秀丽迷人，那么艺术作品一定要刻意追求残缺美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68360" y="2997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不是。残缺固然蕴藏着巨大的魅力，但这种魅力的前提是雕像其他部分的匀称和谐，也就是残缺主体本身是美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95280" y="692280"/>
            <a:ext cx="8534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小结：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这篇课文是一篇随笔文学，是</a:t>
            </a:r>
            <a:r>
              <a:rPr b="1" lang="zh-CN" sz="3600" spc="-1" strike="noStrike">
                <a:solidFill>
                  <a:srgbClr val="e3e3ff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美文学</a:t>
            </a:r>
            <a:r>
              <a:rPr b="1" lang="zh-CN" sz="3600" spc="-1" strike="noStrike">
                <a:solidFill>
                  <a:srgbClr val="e3e3ff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。不仅文章的内容是关于美的，而且文章本身也是美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作者在阐述自己的美学观点时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文思严密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。在明确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提出观点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后，即从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正面、反面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进行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论述，又从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侧面</a:t>
            </a: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作结，加以强调。从而使文章的核心观点得到较为严密的论证，并产生较强的说服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56908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维纳斯双臂的缺失带给人们无限的想象，这种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“残缺美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美学观点与中国艺术家追求意境的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“虚实相生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法不谋而合。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人但知有画处是画，不知无画处皆画，画之空处全局所关，即虚实相生法。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国艺术家很早就懂得虚实相生的美学原理，并以此创作了大量优秀的作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4360" y="1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黑体"/>
                <a:ea typeface="黑体"/>
              </a:rPr>
              <a:t>拓展延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Picture 4" descr="8bc3a701d43da710728da566"/>
          <p:cNvPicPr/>
          <p:nvPr/>
        </p:nvPicPr>
        <p:blipFill>
          <a:blip r:embed="rId1"/>
          <a:stretch/>
        </p:blipFill>
        <p:spPr>
          <a:xfrm>
            <a:off x="0" y="0"/>
            <a:ext cx="9191520" cy="4221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258920" y="712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30072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寒江独钓图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4292640"/>
            <a:ext cx="9144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寒江独钓图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 ，只画了漂浮于水面的一叶扁舟和一个在船只上独坐垂钓的渔翁，四周除了寥寥几笔的微波之外，几乎全为空白。然而就是这片空白表现出了烟波浩渺的江水和极强的空间感，更突现出一个“独”字，衬托了江上寒意萧瑟的气氛，从而更加集中地刻画了渔翁专心于垂钓的神气，也给欣赏者提供了一种浩渺的意境和广阔的想象余地。这真是“虚实相生，无画处皆成妙境”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画家在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深山藏古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时，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画面上不出现古寺，而只见一个和尚提水在蜿蜒的山道上盘桓而进的情景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ffcc"/>
                </a:solidFill>
                <a:latin typeface="Arial"/>
              </a:rPr>
              <a:t>你还能想到什么例子呢？结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虚实相生</a:t>
            </a:r>
            <a:r>
              <a:rPr b="1" lang="zh-CN" sz="2800" spc="-1" strike="noStrike">
                <a:solidFill>
                  <a:srgbClr val="00ffcc"/>
                </a:solidFill>
                <a:latin typeface="Arial"/>
              </a:rPr>
              <a:t>的理论，仿照例句的形式和内容，把下面的句子补写完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00000" y="3141720"/>
            <a:ext cx="763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画面上不出现一朵花，而只见许多蜜蜂在急驰的马蹄周围飞来飞去的情景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4365720"/>
            <a:ext cx="770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画面上不出现酒家，而只见一面酒旗在翠竹掩映之中若隐若现的情景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00000" y="5661000"/>
            <a:ext cx="777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黑体"/>
              </a:rPr>
              <a:t>画面上不出现青蛙，而只见很多蝌蚪在清澈的山泉中自由自在嬉戏的情景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00000" y="27082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画家在画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踏花归来马蹄香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”时，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826920" y="4005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画家在画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竹锁桥边卖酒家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”时，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71640" y="5229360"/>
            <a:ext cx="35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900000" y="530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画家在画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蛙声十里出山泉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”时，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ao3"/>
          <p:cNvPicPr/>
          <p:nvPr/>
        </p:nvPicPr>
        <p:blipFill>
          <a:blip r:embed="rId1"/>
          <a:stretch/>
        </p:blipFill>
        <p:spPr>
          <a:xfrm>
            <a:off x="0" y="0"/>
            <a:ext cx="304812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wns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ao1"/>
          <p:cNvPicPr/>
          <p:nvPr/>
        </p:nvPicPr>
        <p:blipFill>
          <a:blip r:embed="rId3"/>
          <a:stretch/>
        </p:blipFill>
        <p:spPr>
          <a:xfrm>
            <a:off x="3059280" y="0"/>
            <a:ext cx="2997000" cy="449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7 vues"/>
          <p:cNvPicPr/>
          <p:nvPr/>
        </p:nvPicPr>
        <p:blipFill>
          <a:blip r:embed="rId4"/>
          <a:srcRect l="0" t="0" r="2600" b="37533"/>
          <a:stretch/>
        </p:blipFill>
        <p:spPr>
          <a:xfrm>
            <a:off x="0" y="441972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195640" y="5445000"/>
            <a:ext cx="4825800" cy="703440"/>
          </a:xfrm>
          <a:prstGeom prst="rect">
            <a:avLst/>
          </a:prstGeom>
          <a:solidFill>
            <a:srgbClr val="463416"/>
          </a:soli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罗浮宫的世界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三宝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437000"/>
            <a:ext cx="2808360" cy="520560"/>
          </a:xfrm>
          <a:prstGeom prst="rect">
            <a:avLst/>
          </a:prstGeom>
          <a:solidFill>
            <a:srgbClr val="46341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胜利女神雕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492360" y="4437000"/>
            <a:ext cx="2521080" cy="520560"/>
          </a:xfrm>
          <a:prstGeom prst="rect">
            <a:avLst/>
          </a:prstGeom>
          <a:solidFill>
            <a:srgbClr val="46341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蒙娜莉莎画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372360" y="4437000"/>
            <a:ext cx="2627280" cy="520560"/>
          </a:xfrm>
          <a:prstGeom prst="rect">
            <a:avLst/>
          </a:prstGeom>
          <a:solidFill>
            <a:srgbClr val="46341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维纳斯雕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84360" y="907920"/>
            <a:ext cx="770400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红楼梦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中林黛玉临死前叫到：</a:t>
            </a:r>
            <a:r>
              <a:rPr b="1" i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“宝玉，你好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  <a:ea typeface="黑体"/>
              </a:rPr>
              <a:t>……”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然后就香消玉陨</a:t>
            </a:r>
            <a:r>
              <a:rPr b="1" i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这没说完的话，曹雪芹写的好不好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这句话只说了一半，但恰恰是这半句话，传达了一种极为复杂的感情，可能有愤怒、伤感、毁灭、无奈、谴责、绝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这就是不写之写，以少写多，言有尽而意无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16000" y="357336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53272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去年今日此门中，人面桃花相映红。        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    人面不知何处去，桃花依旧笑春风。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崔护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题督城南庄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松下问童子，言师采药去。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    只在此山中，云深不知处。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唐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贾岛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寻隐者不遇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两首诗如何体现虚实相生之法？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0920" y="4361040"/>
            <a:ext cx="754380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人面不知何处去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“云深不知处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的遗憾造成的空白给人以美的想象，造成一种言有尽而意无穷的艺术效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97964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你还能想到哪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虚实相生的例子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7164360" y="5084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5">
            <a:hlinkClick r:id="rId2" action="ppaction://hlinksldjump"/>
          </p:cNvPr>
          <p:cNvSpPr/>
          <p:nvPr/>
        </p:nvSpPr>
        <p:spPr>
          <a:xfrm>
            <a:off x="8028000" y="508464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10800" y="5369"/>
                </a:moveTo>
                <a:lnTo>
                  <a:pt x="13376" y="7980"/>
                </a:lnTo>
                <a:lnTo>
                  <a:pt x="13376" y="6239"/>
                </a:lnTo>
                <a:lnTo>
                  <a:pt x="15152" y="6239"/>
                </a:lnTo>
                <a:lnTo>
                  <a:pt x="15152" y="9756"/>
                </a:lnTo>
                <a:lnTo>
                  <a:pt x="17763" y="12332"/>
                </a:lnTo>
                <a:lnTo>
                  <a:pt x="16109" y="12332"/>
                </a:lnTo>
                <a:lnTo>
                  <a:pt x="16109" y="19521"/>
                </a:lnTo>
                <a:lnTo>
                  <a:pt x="5491" y="19521"/>
                </a:lnTo>
                <a:lnTo>
                  <a:pt x="5491" y="12332"/>
                </a:lnTo>
                <a:lnTo>
                  <a:pt x="3837" y="12332"/>
                </a:lnTo>
                <a:close/>
              </a:path>
              <a:path fill="darkenLess" w="21600" h="24664">
                <a:moveTo>
                  <a:pt x="13376" y="7980"/>
                </a:moveTo>
                <a:lnTo>
                  <a:pt x="13376" y="6239"/>
                </a:lnTo>
                <a:lnTo>
                  <a:pt x="15152" y="6239"/>
                </a:lnTo>
                <a:lnTo>
                  <a:pt x="15152" y="9756"/>
                </a:lnTo>
                <a:close/>
              </a:path>
              <a:path fill="darkenLess" w="21600" h="24664">
                <a:moveTo>
                  <a:pt x="9877" y="15831"/>
                </a:moveTo>
                <a:lnTo>
                  <a:pt x="11723" y="15831"/>
                </a:lnTo>
                <a:lnTo>
                  <a:pt x="11723" y="19521"/>
                </a:lnTo>
                <a:lnTo>
                  <a:pt x="16109" y="19521"/>
                </a:lnTo>
                <a:lnTo>
                  <a:pt x="16109" y="12332"/>
                </a:lnTo>
                <a:lnTo>
                  <a:pt x="5491" y="12332"/>
                </a:lnTo>
                <a:lnTo>
                  <a:pt x="5491" y="19521"/>
                </a:lnTo>
                <a:lnTo>
                  <a:pt x="9877" y="1952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79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ffcc"/>
                </a:solidFill>
                <a:latin typeface="Arial"/>
                <a:ea typeface="黑体"/>
              </a:rPr>
              <a:t>小结：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  <a:ea typeface="黑体"/>
              </a:rPr>
              <a:t>虚实相生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这种艺术手法除了可以在绘画上应用以外，在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  <a:ea typeface="黑体"/>
              </a:rPr>
              <a:t>文学作品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中也常有体现。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  <a:ea typeface="黑体"/>
              </a:rPr>
              <a:t> “无字处皆其意”，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在文学作品中强调给读者想象的空间， 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  <a:ea typeface="黑体"/>
              </a:rPr>
              <a:t>以少写多，以无胜有，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追求一种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  <a:ea typeface="黑体"/>
              </a:rPr>
              <a:t>言有尽而意无穷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的空白之美。我们在写作中也可借鉴一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 u="sng">
                <a:solidFill>
                  <a:srgbClr val="00ffcc"/>
                </a:solidFill>
                <a:uFillTx/>
                <a:latin typeface="Arial"/>
                <a:ea typeface="隶书"/>
                <a:hlinkClick r:id="rId1"/>
              </a:rPr>
              <a:t>诗歌表现手法之虚实相生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42160" cy="69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试写一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字的短文，谈谈你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残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完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认识，写在周记本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请选择下面两题中的一题完成，写在周记本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96720" y="-3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cc"/>
                </a:solidFill>
                <a:latin typeface="黑体"/>
                <a:ea typeface="黑体"/>
              </a:rPr>
              <a:t>课后作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契诃夫的微型小说</a:t>
            </a:r>
            <a:r>
              <a:rPr b="1" lang="en-US" sz="2800" spc="-1" strike="noStrike">
                <a:solidFill>
                  <a:srgbClr val="00ff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一个丈夫的帐单</a:t>
            </a:r>
            <a:r>
              <a:rPr b="1" lang="en-US" sz="2800" spc="-1" strike="noStrike">
                <a:solidFill>
                  <a:srgbClr val="00ff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“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招聘年轻漂亮女秘书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漂亮女秘书买花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漂亮女秘书共进晚餐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妻子买钻戒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丈母娘买貂皮大衣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招聘中年女秘书的费用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……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篇小说的独到之处是一张静态的帐单，但背后的故事却波澜起伏。后面有大量的空白等着我们补足，而这个补足的过程，就是我们欣赏领悟的过程。这个故事背后可以是：丈夫的花心，妻子的暴怒，丈夫被发现后的丑态百出，先是给妻子买钻戒，后来又搬出丈母娘助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最后，还是以丈夫解聘年轻女秘书，招聘中年女秘书而告终。作者不尽的嘲讽隐寓其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依据小说原文，展开大胆合理的想象，改写成一篇情节曲折的故事，要求符合事情的发展逻辑，切合作者的写作目的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字以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838836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近代著名科幻小说家弗里蒂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布朗曾写过一篇就目前来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堪为世界上最短的科幻小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ff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地球上最后一个人独自坐在房间里</a:t>
            </a:r>
            <a:r>
              <a:rPr b="1" lang="en-US" sz="2800" spc="-1" strike="noStrike">
                <a:solidFill>
                  <a:srgbClr val="00ff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这时</a:t>
            </a:r>
            <a:r>
              <a:rPr b="1" lang="en-US" sz="2800" spc="-1" strike="noStrike">
                <a:solidFill>
                  <a:srgbClr val="00ff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忽然响起了敲门声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ff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篇小说尽管只有一句话，但它同样具备了小说的特点。就小说的三要素而言，有人物（一个人）、有情节（一个人独坐，听到敲门声）、有环境（仅有一人的地球上的某房间里）。科幻，重在科学幻想，其最为显著的特征就是：擅长夸张、制造悬念，给读者设置自由而广阔的联想、想象等思维空间。这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字促使读者追究、探求的问题太多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请展开大胆地想象，把小说续写完整，要求字数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8101080" y="6381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6480" y="1440"/>
          <a:ext cx="9129600" cy="6855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440"/>
                    <a:ext cx="91296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66720"/>
            <a:ext cx="8820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清冈卓行</a:t>
            </a:r>
            <a:r>
              <a:rPr b="1" lang="zh-CN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，（    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诗人，小说家。生于中国大连，毕业于东京大学。曾在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鳄鱼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现代批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杂志上发表过诗作和评论。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诗集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冰凝的火焰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《     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通过戏谑的自我嘲讽来体现批评的精神；还有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诗集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四季写生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评论集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废墟中捡到的镜子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生的变化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另外有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专著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手的变幻</a:t>
            </a:r>
            <a:r>
              <a:rPr b="1" lang="en-US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。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手的变幻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人手的表情，从美术、文学、音乐、电影、摄影等多个方面进行独特的评论。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6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起开始创作</a:t>
            </a:r>
            <a:r>
              <a:rPr b="1" lang="zh-CN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小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作品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《          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淡绿色的季节</a:t>
            </a:r>
            <a:r>
              <a:rPr b="1" lang="en-US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。小说大都取材于自身的体验，富于抒情性和音乐感。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6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清冈卓行因文学上的卓越成就而获得</a:t>
            </a:r>
            <a:r>
              <a:rPr b="1" lang="zh-CN" sz="32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（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24000" y="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积累作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843280" y="620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日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03640" y="19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日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084720" y="4581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早晨的悲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084720" y="5877000"/>
            <a:ext cx="1511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芥川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720" y="-31644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隶书"/>
              </a:rPr>
              <a:t>积累字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隶书"/>
              </a:rPr>
              <a:t>根据拼音写汉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迥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玉笏  出神入化  发掘  标新立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可思议  销魂勾魄  顺理成章   烦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精美绝伦  驰骋  譬如   变幻无穷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隶书"/>
                <a:ea typeface="隶书"/>
              </a:rPr>
              <a:t>给加点字注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攫住  赘言  气氛  矫揉造作  饶有兴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臂膊  回溯  擎着  丰腴  脊背  毋庸赘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匀称  迥然不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68360" y="4797360"/>
            <a:ext cx="8878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为下列形近字注音组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燥 澡 噪 躁    朔 溯     叛  畔  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搂 楼 篓 镂    憾 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隶书"/>
                <a:ea typeface="隶书"/>
              </a:rPr>
              <a:t>解释成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出神入化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形容技艺达到了绝妙的境界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矫揉造作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形容过分做作，极不自然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标新立异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提出新的见解，表示与众不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高贵典雅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地位特殊的人优雅不俗的品质。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毋庸赘言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无须多说话，用不着怀疑，</a:t>
            </a:r>
            <a:r>
              <a:rPr b="1" lang="zh-CN" sz="3000" spc="-1" strike="noStrike">
                <a:solidFill>
                  <a:srgbClr val="ffff66"/>
                </a:solidFill>
                <a:latin typeface="黑体"/>
                <a:ea typeface="黑体"/>
              </a:rPr>
              <a:t>很肯定的意思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不可思议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原有神秘奥妙之意。现多指无法想象，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以理解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cc"/>
                </a:solidFill>
                <a:latin typeface="黑体"/>
                <a:ea typeface="黑体"/>
              </a:rPr>
              <a:t>出乎意料：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指出人意料，（事物的好坏、情况的变化、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数量的大小等）出于与人们的意料，在人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们的意料之外，也可说</a:t>
            </a:r>
            <a:r>
              <a:rPr b="1" lang="zh-CN" sz="3000" spc="-1" strike="noStrike">
                <a:solidFill>
                  <a:srgbClr val="ffff66"/>
                </a:solidFill>
                <a:latin typeface="黑体"/>
                <a:ea typeface="黑体"/>
              </a:rPr>
              <a:t>出人意表</a:t>
            </a: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77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79280" y="57312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一览无遗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眼看去，所有的景物全看见了。形容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筑物的结构没有曲折变化，或诗文内容平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淡，没有回味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销魂勾魄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形容人因十分景仰、倾倒而失去常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奇谈怪论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荒唐不近情理的言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顺理成章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写文章或做事情顺着条理就能做好。也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喻某种情况自然产生某种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迥然不同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形容相差得远，很明显不一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精美绝伦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绝伦：没有比得上的。精致美妙，无与伦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形形色色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形容事物种类繁多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各式各样。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（多含贬义）</a:t>
            </a: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饶有兴趣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般是指很有兴趣地看着一样物体或事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带点瞧不起的意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变幻无穷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变化多种多样，没有穷尽。极言变化之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维纳斯4"/>
          <p:cNvPicPr/>
          <p:nvPr/>
        </p:nvPicPr>
        <p:blipFill>
          <a:blip r:embed="rId1"/>
          <a:stretch/>
        </p:blipFill>
        <p:spPr>
          <a:xfrm>
            <a:off x="6012000" y="189000"/>
            <a:ext cx="3132000" cy="648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venus_de_milo"/>
          <p:cNvPicPr/>
          <p:nvPr/>
        </p:nvPicPr>
        <p:blipFill>
          <a:blip r:embed="rId2"/>
          <a:stretch/>
        </p:blipFill>
        <p:spPr>
          <a:xfrm>
            <a:off x="0" y="189000"/>
            <a:ext cx="3132000" cy="6480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8" name="Rectangle 2"/>
          <p:cNvSpPr/>
          <p:nvPr/>
        </p:nvSpPr>
        <p:spPr>
          <a:xfrm>
            <a:off x="3203640" y="765000"/>
            <a:ext cx="55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隶书"/>
                <a:ea typeface="隶书"/>
              </a:rPr>
              <a:t>简介维纳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03640" y="2209680"/>
            <a:ext cx="2663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罗马神话中的爱神与美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罗浮宫的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首席珍宝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断臂美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神话中的爱神与美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纳斯是罗马神话中的爱神与美神，也是象征丰饶多产的女神。传说她在大海的泡沫中诞生，在三位时光女神和三位美惠女神的陪伴下，来到奥林匹斯山，众神被其美丽容貌所吸引，纷纷向她求爱。宙斯求婚遭到拒绝后，就把她嫁给了丑陋而瘸腿的火神，但她却爱上了战神阿瑞斯，并生下小爱神厄洛斯，也就是丘比特。后来又帮助特洛伊王子拐走斯巴达国王的妻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全希腊最美的女人海伦，引起希腊人远征特洛伊的十年战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35120" y="11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42:28Z</dcterms:modified>
  <cp:revision>1</cp:revision>
  <dc:subject/>
  <dc:title>PowerPoint 演示文稿</dc:title>
</cp:coreProperties>
</file>