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793-0FB2-4A93-BBB3-4D7A3C56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F97-52D7-4C1C-9179-E4ED02E6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5F5-321A-4EFB-B2A4-7E19B3C6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F0A-5549-4302-BED0-D68508F9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10EA-66BC-4F01-A67D-90A93F64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2A0C-0279-4032-AD34-B00724DD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591A-8187-49C9-B9D3-98C78C3E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28F-CE5A-4400-AE83-C36396A7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753F-274B-464A-9B93-C42B4C33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295A-70AB-4E14-88C7-5586F866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9AC8-1D9D-4E39-AEAB-9797E46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CFA-E37E-416E-AF53-24E0ACEC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D363-8252-4DC5-99FB-DF8B8333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5DEC-6495-4787-918F-4A5A5172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B7D3-2D68-405D-95EB-CE85F3E1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9CF7-D41D-43E8-9D79-9466290A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D2C7-C991-424A-92EF-A3812DA2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605-EC0E-42F3-B8C7-F793172E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B79-2D94-4D18-8119-44EA90A5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B13-827E-41A7-A129-394BDF1E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E4C-E237-4F8B-AA2B-9AD9A04E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618-9682-4679-95D8-950E9652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1BD-1274-4262-9EAE-A4D4626E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56F-3069-47F5-8DFF-342AA14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2E3F-76A0-4362-B457-8ABE55C7DC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3B5D-B4D1-43A6-A995-4D359AB0F0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3" descr=""/>
          <p:cNvPicPr/>
          <p:nvPr/>
        </p:nvPicPr>
        <p:blipFill>
          <a:blip r:embed="rId1"/>
          <a:stretch/>
        </p:blipFill>
        <p:spPr>
          <a:xfrm>
            <a:off x="351000" y="127080"/>
            <a:ext cx="8719920" cy="71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4337" descr="还我河山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6145"/>
          <p:cNvSpPr/>
          <p:nvPr/>
        </p:nvSpPr>
        <p:spPr>
          <a:xfrm>
            <a:off x="106200" y="480960"/>
            <a:ext cx="889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当岳飞所向披靡，抗金取得节节胜利之际， 宋高宗于绍兴十年七月十七日连下十二道金牌，强令岳飞班师。   绍兴十一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114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四月二十四日， 秦桧为剪除和谈障碍，诬篾一贯主战的岳飞“谋反”，收买王俊作假证，将岳飞父子和部将张宪关进杭州大理寺。后以“莫须有”的谋反罪名，将岳飞父子和张宪诬害。岳飞宁死不屈，临刑前挥笔写下 “天日昭昭，天日昭昭”八个大字。中国历史上著名的民族英雄、驰骋在抗金战场上的主帅岳飞，就这样被秦桧一伙奸臣夺去了年青而宝贵的生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9218"/>
          <p:cNvSpPr/>
          <p:nvPr/>
        </p:nvSpPr>
        <p:spPr>
          <a:xfrm>
            <a:off x="40006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图片 9219" descr="岳飞5"/>
          <p:cNvPicPr/>
          <p:nvPr/>
        </p:nvPicPr>
        <p:blipFill>
          <a:blip r:embed="rId1"/>
          <a:stretch/>
        </p:blipFill>
        <p:spPr>
          <a:xfrm>
            <a:off x="314280" y="0"/>
            <a:ext cx="4946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9225"/>
          <p:cNvSpPr/>
          <p:nvPr/>
        </p:nvSpPr>
        <p:spPr>
          <a:xfrm>
            <a:off x="3048480" y="189000"/>
            <a:ext cx="5542920" cy="6597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8800" spc="-1" strike="noStrike">
                <a:solidFill>
                  <a:srgbClr val="ff9900"/>
                </a:solidFill>
                <a:latin typeface="Times New Roman"/>
              </a:rPr>
              <a:t>天日昭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8800" spc="-1" strike="noStrike">
                <a:solidFill>
                  <a:srgbClr val="ff9900"/>
                </a:solidFill>
                <a:latin typeface="Times New Roman"/>
              </a:rPr>
              <a:t>天日昭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4097"/>
          <p:cNvSpPr/>
          <p:nvPr/>
        </p:nvSpPr>
        <p:spPr>
          <a:xfrm>
            <a:off x="544680" y="258840"/>
            <a:ext cx="837072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满江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岳 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怒发冲冠，凭栏处、潇潇雨歇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抬望眼、仰天长啸，壮怀激烈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三十功名尘与土，八千里路云和月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莫等闲、白了少年头，空悲切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靖康耻，犹未雪。臣子恨，何时灭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驾长车，踏破贺兰山缺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壮志饥餐胡虏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笑谈渴饮匈奴血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待从头、收拾旧山河，朝天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4099"/>
          <p:cNvSpPr/>
          <p:nvPr/>
        </p:nvSpPr>
        <p:spPr>
          <a:xfrm>
            <a:off x="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626904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三读词作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了解诗意</a:t>
            </a:r>
            <a:br>
              <a:rPr sz="6000"/>
            </a:b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         读出感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自由朗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感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《满江红》上阕、下阕分别表现了作者什么情感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怒发冲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胸中的怒火好似火山一样爆发，词人独自凭栏眺望，想到中原，山河破碎，二帝被掳，生灵涂炭。于是按不住心头之恨而怒发冲冠。一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仰天长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道出了精忠报国的急切心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1880" y="425520"/>
            <a:ext cx="839160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三十功名尘与土，八千里路云和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98040" y="1560600"/>
            <a:ext cx="7759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顾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十功名尘与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回首往昔，当下的功名事业如同尘土，微不足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展望前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千里路云和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展望抗金斗争，    任重道远，须披星戴月，日夜奋战，长期斗争才能获得胜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莫等闲、白了少年头，空悲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是千古名句，既是作者自勉，又用来激励抗金将士，明确指出，抗金不能再等了，等到须发白了，就来不及了，这是对坚持抗金救国的广大军民的巨大鼓舞和鞭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上阕小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抒写作者渴望为国杀敌立功的情怀和抱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0482" descr="yueifei.jpg (11255 字节)"/>
          <p:cNvPicPr/>
          <p:nvPr/>
        </p:nvPicPr>
        <p:blipFill>
          <a:blip r:embed="rId1"/>
          <a:stretch/>
        </p:blipFill>
        <p:spPr>
          <a:xfrm>
            <a:off x="0" y="0"/>
            <a:ext cx="5597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0483"/>
          <p:cNvSpPr/>
          <p:nvPr/>
        </p:nvSpPr>
        <p:spPr>
          <a:xfrm>
            <a:off x="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对象 20484" descr=""/>
          <p:cNvPicPr/>
          <p:nvPr/>
        </p:nvPicPr>
        <p:blipFill>
          <a:blip r:embed="rId2"/>
          <a:stretch/>
        </p:blipFill>
        <p:spPr>
          <a:xfrm>
            <a:off x="5651640" y="2276640"/>
            <a:ext cx="3492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60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靖康耻，犹未雪。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臣子恨，何时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49280" y="1752120"/>
            <a:ext cx="8494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靖康，是宋钦宗的年号。其父宋徽宗，得知金兵入侵的消息，吓的急忙将皇位传给太子（钦宗），想南下避难。钦宗即位，改号靖康。就在这一年底，金兵攻入，掠夺宋宫廷、国库和民间的金银财帛后，于靖康二年四月俘虏徽、钦二帝北撤，北宋自此灭亡。这就是岳飞说的“靖康耻”。岳飞认为，靖康大耻至今未雪，臣子之恨，何时泯灭？用反问句，以加强语气，表现了与敌人的仇恨不共戴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驾长车，踏破贺兰山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带领军队，直捣敌人巢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壮志饥餐胡虏肉，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笑谈渴饮匈奴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2498760"/>
            <a:ext cx="77724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壮志饥餐”和“笑谈渴饮”都是岳飞的激愤之语，夸张手法的运用进一步表达了对金人蹂躏中原，涂炭生灵的切齿之恨和战胜强敌的决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待从头、收拾旧山河，朝天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此收尾，既表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精忠报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思想，同时也再次强调了收复失地的坚定决心，情调激昂，感人肺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下阕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抒发作者雪耻复仇，重整乾坤的豪情壮志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49240" y="188640"/>
            <a:ext cx="760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400" y="1558800"/>
            <a:ext cx="8275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首词，通篇贯穿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岳飞精忠报国的精神和气壮山河的英雄主义气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如果说苏轼的词豪放，那岳飞的词则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雄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它表现了一个爱国将士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凛然正气和崇高境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有了这种正气和境界，才能写出这种千百年传唱不衰的好作品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4097"/>
          <p:cNvSpPr/>
          <p:nvPr/>
        </p:nvSpPr>
        <p:spPr>
          <a:xfrm>
            <a:off x="544680" y="258840"/>
            <a:ext cx="837072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满江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岳 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怒发冲冠，凭栏处、潇潇雨歇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抬望眼、仰天长啸，壮怀激烈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三十功名尘与土，八千里路云和月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莫等闲、白了少年头，空悲切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靖康耻，犹未雪。臣子恨，何时灭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驾长车，踏破贺兰山缺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壮志饥餐胡虏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笑谈渴饮匈奴血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待从头、收拾旧山河，朝天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4099"/>
          <p:cNvSpPr/>
          <p:nvPr/>
        </p:nvSpPr>
        <p:spPr>
          <a:xfrm>
            <a:off x="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内容占位符 3" descr=""/>
          <p:cNvPicPr/>
          <p:nvPr/>
        </p:nvPicPr>
        <p:blipFill>
          <a:blip r:embed="rId1"/>
          <a:stretch/>
        </p:blipFill>
        <p:spPr>
          <a:xfrm>
            <a:off x="7920" y="85680"/>
            <a:ext cx="911232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4120" y="268200"/>
            <a:ext cx="47721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尝试背诵词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4120" y="1284120"/>
            <a:ext cx="80740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对金人入侵后的破碎河山，岳飞悲愤欲绝，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，   、   。    、     ，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他回想起峥嵘岁月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，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可是朝廷一心求和，他心急如焚，在心底呐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：     、        ，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难忘国仇家恨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，  。   ，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希望驰骋战场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，     。     ，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期盼有一天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、       ，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65160" y="85680"/>
            <a:ext cx="904248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96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46340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有感情地朗读全词，把握作者的情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从历史背景中理解词作的思想内容，感受词作悲壮豪迈的风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体会岳飞的英雄气概和爱国思想，培养爱国主义情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7680" y="1361880"/>
            <a:ext cx="58640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初读词作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读准字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2838600" y="506376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4097"/>
          <p:cNvSpPr/>
          <p:nvPr/>
        </p:nvSpPr>
        <p:spPr>
          <a:xfrm>
            <a:off x="544680" y="258840"/>
            <a:ext cx="837072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满江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岳 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，凭栏处、潇潇雨歇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抬望眼、仰天长啸，壮怀激烈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三十功名尘与土，八千里路云和月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莫等闲、白了少年头，空悲切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7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靖康耻，犹未雪。臣子恨，何时灭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驾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，踏破贺兰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壮志饥餐胡虏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笑谈渴饮匈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待从头、收拾旧山河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4099"/>
          <p:cNvSpPr/>
          <p:nvPr/>
        </p:nvSpPr>
        <p:spPr>
          <a:xfrm>
            <a:off x="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3320" y="1726920"/>
            <a:ext cx="51861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再读词作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知人论世</a:t>
            </a:r>
            <a:br>
              <a:rPr sz="6000"/>
            </a:b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        读出节奏   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5121"/>
          <p:cNvSpPr/>
          <p:nvPr/>
        </p:nvSpPr>
        <p:spPr>
          <a:xfrm>
            <a:off x="539640" y="228600"/>
            <a:ext cx="814392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岳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字鹏举，北宋相州汤阴县人。从小天资聪悟， 爱读《左氏春秋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《孙吴兵法》。臂力超人，十一岁随刀枪手陈广学武艺，成为一县无敌的枪手。 后拜周同为师学射箭，练就了能挽弓三百斤，左右开弓箭无虚发的本领。二十岁，首次从军，带兵首战告捷，活捉贼首。二十四岁，转入开封宗泽部，带兵一战汜水关，二战竹芦渡， 清水亭一仗杀得金兵横尸十五里，斩获金军大小军将首一百七十五颗，在建康南面的牛头山设下伏兵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7170"/>
          <p:cNvSpPr/>
          <p:nvPr/>
        </p:nvSpPr>
        <p:spPr>
          <a:xfrm>
            <a:off x="152280" y="304920"/>
            <a:ext cx="8763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击金兵，斩首三千余，生俘三百余，收复了大片国土，岳家军威名大振，人民感恩岳飞，为他建了生祠祭祀。绍兴三年春，岳家军已达一万八千人。同年九月九日，高宗在临安召见岳飞父子，并赐“精忠岳飞”锦旗，授江州建置制置使司等官职。岳飞在江州写下了振铄千古的《满江红》词。绍兴五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113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岳飞奉命平定了洞庭杨幺，仅用八天时间，一举获胜，收编六万降军入岳家军，扩充了抗金力量。并在顺昌、郾城大捷中粉碎了金“拐子马”、“铁浮图”不可战胜的神话，朱仙镇大捷，威振敌胆、金兀术叹呼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“撼山易、撼岳家军难！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1T01:31:59Z</dcterms:created>
  <dc:creator>www.5156edu.com</dc:creator>
  <dc:description/>
  <cp:keywords>www.5156edu.com</cp:keywords>
  <dc:language>en-US</dc:language>
  <cp:lastModifiedBy>微软用户</cp:lastModifiedBy>
  <dcterms:modified xsi:type="dcterms:W3CDTF">2017-07-28T01:13:44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