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EAE-2833-4EEB-AAB5-081C9A09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2BB-89D8-4F93-B9CA-4A0516F4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480-625A-4D3D-B584-4799EBAD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D99-DF3E-4C75-8FBA-17A2BDDF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754-04BD-4C57-812A-3339D968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802-31C8-47C5-B7D6-2DC9B458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BF3-E419-42AD-974A-0C80DAD1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62E-2E57-4D94-92E9-C9FF1C4F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8BC-27A4-4C43-A456-2E74CCB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D94-B911-4970-A993-05DF713F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C4D-BFE4-411C-8CED-8691BF7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FC2-31F9-4FF3-8241-5D782640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72D-6A1C-4C51-BE27-B756FCD70D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29629151.fl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28385;&#27743;&#32418;%20&#21407;&#29256;MTV&#37329;&#26354;%20-%20&#35270;&#39057;%20-%20&#20248;&#37239;&#35270;&#39057;%20-%20&#22312;&#32447;&#35266;&#30475;%20-%20&#28385;&#27743;&#32418;%20&#21407;&#29256;%20MTV&#37329;&#26354;.flv" TargetMode="External"/><Relationship Id="rId2" Type="http://schemas.openxmlformats.org/officeDocument/2006/relationships/hyperlink" Target="file:///&#23556;&#38613;&#33521;&#38596;&#20256;MTV-&#28385;&#27743;&#32418;%20-%20&#35270;&#39057;%20-%20&#37239;6&#35270;&#39057;%20-%20&#22312;&#32447;&#35266;&#30475;%20-%20&#23556;&#38613;&#33521;&#38596;&#20256;%20MTV%20&#32463;&#20856;%20&#28385;&#27743;&#32418;%20&#32599;&#25991;.flv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68360" y="115920"/>
            <a:ext cx="8459640" cy="6248520"/>
            <a:chOff x="468360" y="115920"/>
            <a:chExt cx="8459640" cy="6248520"/>
          </a:xfrm>
        </p:grpSpPr>
        <p:sp>
          <p:nvSpPr>
            <p:cNvPr id="42" name=""/>
            <p:cNvSpPr/>
            <p:nvPr/>
          </p:nvSpPr>
          <p:spPr>
            <a:xfrm>
              <a:off x="468360" y="808200"/>
              <a:ext cx="1008000" cy="28371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满江红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8360" y="3976560"/>
              <a:ext cx="1008000" cy="703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岳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268360" y="115920"/>
              <a:ext cx="6659640" cy="624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由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朗诵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说说满江红上阕、下阕分别表现了作者什么情感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99680" y="189000"/>
            <a:ext cx="9122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诗词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549360"/>
            <a:ext cx="295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怒发冲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2421000"/>
            <a:ext cx="8209080" cy="58140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胸中的怒火好似火山一样爆发。词人独自登楼凭栏眺望，想到中原，山河破碎，二帝被掳，生灵涂炭。于是按不住心头之恨而怒发冲冠。一句“仰天长啸”，道出了精忠报国的急切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200" y="-387360"/>
            <a:ext cx="94345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三十功名尘与土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,  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八千里路云和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123920"/>
            <a:ext cx="8424720" cy="106884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回顾过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     “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三十功名尘与土”，绍兴四年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(1134)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，岳飞正值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30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岁，回首往昔，数十年抗战，艰危险绝，尘满征衣，但对国家的贡献还很小，当下的功名、事业犹如粪土，微不足道。他作为领兵大将，当然是自谦之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4508640"/>
            <a:ext cx="8496360" cy="155628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瞻望前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八千里路云和月”，是展望抗金斗争，任重道远，须披星戴月，日夜奋战，长期斗争才能获得胜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31640" y="-171360"/>
            <a:ext cx="860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莫等闲、白了少年头，空悲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9440" y="2349360"/>
            <a:ext cx="7738920" cy="58140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这是千古名句，既是作者自勉，又用来激励抗金将士，明确指出，抗金不能再等了，等到须发白了，就来不及了。这是对坚持抗金救国的广大军民的巨大鼓舞和鞭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8920" y="2565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抒写作者渴望为国杀敌立功的情怀和抱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01160" y="692280"/>
            <a:ext cx="9122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上片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36360" y="-316080"/>
            <a:ext cx="954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靖康耻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,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犹未雪；臣子恨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,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何时灭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484280"/>
            <a:ext cx="8569080" cy="106884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靖康，是宋钦宗赵桓的年号。其父宋徽宗，得知金兵入侵的消息，吓的急忙将皇位传给太子（钦宗），想南下避难。钦宗即位，改元靖康。就在这一年底，金兵攻入，掠夺宋宫廷、国库和民间的金银财帛后，于靖康二年四月俘虏徽、钦二帝北撤，北宋自此灭亡。这就是岳飞说的“靖康耻”。岳飞认为，靖康大耻至今未雪，臣子之恨，何时泯灭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用反诘句，以加强语气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，表现了与敌人的仇恨不共戴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-171360"/>
            <a:ext cx="842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驾长车踏破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,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贺兰山缺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543480" cy="4608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3141720"/>
            <a:ext cx="4103640" cy="64260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01a5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1c01a5"/>
                </a:solidFill>
                <a:latin typeface="Arial"/>
                <a:ea typeface="黑体"/>
              </a:rPr>
              <a:t>带领军队，驾战车直捣敌人巢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36360" y="-458640"/>
            <a:ext cx="92167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壮士饥餐胡虏肉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,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笑谈渴饮匈奴血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contrast="24000"/>
          </a:blip>
          <a:srcRect l="0" t="0" r="0" b="10960"/>
          <a:stretch/>
        </p:blipFill>
        <p:spPr>
          <a:xfrm>
            <a:off x="4500720" y="1341360"/>
            <a:ext cx="4168440" cy="504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1916280"/>
            <a:ext cx="4176720" cy="155628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      “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壮志饥餐”和“笑谈渴饮”都是岳飞的激愤之语，夸张手法的运用进一步表达了对女真族统治集团蹂躏中原，涂炭生灵的切齿之恨和战胜强敌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-171360"/>
            <a:ext cx="885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黑体"/>
              </a:rPr>
              <a:t>待从头，收拾旧山河，朝天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421000"/>
            <a:ext cx="7272360" cy="106884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1c01a5"/>
                </a:solidFill>
                <a:latin typeface="Arial"/>
                <a:ea typeface="黑体"/>
              </a:rPr>
              <a:t>以此收尾，既表达 “精忠报国” 的思想，同时也再次强调了收复失地的坚定决心，情调激昂，感人肺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76360" y="2635200"/>
            <a:ext cx="6121440" cy="143460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01a5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1c01a5"/>
                </a:solidFill>
                <a:latin typeface="Arial"/>
                <a:ea typeface="黑体"/>
              </a:rPr>
              <a:t>申述作者雪耻复仇</a:t>
            </a:r>
            <a:r>
              <a:rPr b="1" lang="zh-CN" sz="4400" spc="-1" strike="noStrike">
                <a:solidFill>
                  <a:srgbClr val="1c01a5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1c01a5"/>
                </a:solidFill>
                <a:latin typeface="Arial"/>
                <a:ea typeface="黑体"/>
              </a:rPr>
              <a:t>重整乾坤的豪情壮志</a:t>
            </a:r>
            <a:r>
              <a:rPr b="1" lang="zh-CN" sz="4400" spc="-1" strike="noStrike">
                <a:solidFill>
                  <a:srgbClr val="1c01a5"/>
                </a:solidFill>
                <a:latin typeface="Arial"/>
                <a:ea typeface="黑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63000" y="404640"/>
            <a:ext cx="9122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下片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1700280"/>
          <a:ext cx="91440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773360"/>
            <a:ext cx="7488360" cy="64260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01a5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1c01a5"/>
                </a:solidFill>
                <a:latin typeface="Arial"/>
                <a:ea typeface="黑体"/>
              </a:rPr>
              <a:t>这首词，通篇贯穿了岳飞精忠报国的精神和气壮山河的英雄主义气概。如果说苏轼的词豪放，那岳飞的词则是雄壮。它表现了一个爱国将士的凛然正气和崇高境界。有了这种正气和境界，才能写出这种千百年传唱不衰的好作品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4240" y="404640"/>
            <a:ext cx="11210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歌曲</a:t>
            </a:r>
            <a:r>
              <a:rPr b="0" lang="zh-CN" sz="9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欣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79640" y="668160"/>
            <a:ext cx="4824360" cy="52056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01a5"/>
                </a:solidFill>
                <a:latin typeface="Arial"/>
                <a:ea typeface="黑体"/>
              </a:rPr>
              <a:t>珍惜时间、奋发有为的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700280"/>
            <a:ext cx="491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谁道人生无再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门前流水尚能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休将白发唱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黄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花有重开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无再少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劝君莫惜金缕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劝君惜取少年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花开堪折直须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莫待无花空折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628640"/>
            <a:ext cx="29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黄鸡的典故出自白居易的《醉歌》“谁道使君不解歌，听唱黄鸡与白日。黄鸡催晓丑时鸣，白日催年酉前没。”喻指：黄鸡每晨能报晓，故用以喻指时光流逝，更催人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9120" y="980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重山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岳飞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昨夜寒蛩不住鸣，惊回千里梦，已三更。起来独自绕阶行，人悄悄，帘外月胧明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白首为功名，旧山松林老，阻归程。欲将心事付瑶琴，知音少，弦断有谁听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1840" y="26676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外拓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9200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在一个秋天的夜晚，岳飞想到了陷落在金人铁蹄下的半壁江山，想到自己的壮志难酬，不禁伤事忧怀，无法成眠，万般思绪字字泪，写下了《小重山》一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000" y="71280"/>
            <a:ext cx="882036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词的上片着重写景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昨夜寒蛩不住鸣，惊回千里梦，已三更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寒蛩：秋天的蟋蟀。千里梦：梦见千里之外的战场上，抗击金兵收复失地的英勇和壮烈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昨天夜里的蟋蟀一直在鸣叫不止，把诗人从金戈铁马、抗击金兵的梦中惊醒，而此时，已是深夜的三更天了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71280"/>
            <a:ext cx="882036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起来独自绕阶行，人悄悄，帘外月胧明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英雄之梦，勾起了诗人的忧思和痛苦，使他无法安然入睡，于是起身，独自围绕着门前的台阶缓步而行，而此时，所有的人都进入了幸福的梦乡，只有天上的明月散下淡淡的冷光，深秋的月夜，一片渗淡。“众人皆醉我独醒。”诗人的心境是孤独的、凄凉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71280"/>
            <a:ext cx="842472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词的下片着重抒情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冷月、秋寒，鸣叫的蟋蟀，这寂静而凄清的秋夜，使诗人的心绪难平。他想到了自己的远大抱负和壮志难酬的痛苦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15640"/>
            <a:ext cx="8424720" cy="64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白首为功名，旧山松林老，阻归程。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旧山：故乡；功名：在诗人心中并不是普通意义的高官厚禄和光宗耀祖，而是</a:t>
            </a:r>
            <a:r>
              <a:rPr b="1" lang="zh-CN" sz="2800" spc="-1" strike="noStrike">
                <a:solidFill>
                  <a:srgbClr val="1c01a5"/>
                </a:solidFill>
                <a:latin typeface="黑体"/>
                <a:ea typeface="黑体"/>
              </a:rPr>
              <a:t>驱逐金人，收复河山，迎回徽宗、钦宗“二帝”的壮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诗人写下的“三十功名尘与土，八千里路云和月。莫等闲，白了少年头，空悲切。”是“白首为功名”最好的注脚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几十年求索，不经意间岁月流逝，青丝变白发，英雄的壮志却难酬，只剩下“空悲切”。不如意者早还乡，在这个月夜，诗人也想到了故乡，想来</a:t>
            </a:r>
            <a:r>
              <a:rPr b="1" lang="zh-CN" sz="2800" spc="-1" strike="noStrike">
                <a:solidFill>
                  <a:srgbClr val="1c01a5"/>
                </a:solidFill>
                <a:latin typeface="黑体"/>
                <a:ea typeface="黑体"/>
              </a:rPr>
              <a:t>家乡的松树都已经变得老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树犹如此，更别说人了，不能建功立业，回家平静地度过余生也好啊，可是，家乡却陷落在敌人之手，家是</a:t>
            </a:r>
            <a:r>
              <a:rPr b="1" lang="zh-CN" sz="2800" spc="-1" strike="noStrike">
                <a:solidFill>
                  <a:srgbClr val="1c01a5"/>
                </a:solidFill>
                <a:latin typeface="黑体"/>
                <a:ea typeface="黑体"/>
              </a:rPr>
              <a:t>回不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288720"/>
            <a:ext cx="8424720" cy="64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欲将心事付瑶琴，知音少，弦断有谁听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在这里，诗人化用了善于操琴的俞伯牙和他的知音钟子期的典故，表达了自己的苦闷心情。我想把心事付之琴弦，可是却没有知音，就是把琴弦弹断了又有谁来倾听呢？意思是说，我一直主张抗金，收复失地，可偏安一隅的南宋王朝，朝野上下却是一片议和之声，甚至是过着“商女不知亡国恨，隔江犹唱后庭花”的醉生梦死的奢侈生活。诗人又怎能不为国家的未来和命运担忧呢？心情又怎能不沉重呢？英雄的心境真是“这次第，怎一个愁字了得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9200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《小重山》与《满江红》虽风格迥异，却从另一个角度表达了岳飞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隐忧时事的爱国情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85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202040" y="0"/>
            <a:ext cx="9952200" cy="6858000"/>
            <a:chOff x="-1202040" y="0"/>
            <a:chExt cx="9952200" cy="6858000"/>
          </a:xfrm>
        </p:grpSpPr>
        <p:sp>
          <p:nvSpPr>
            <p:cNvPr id="53" name=""/>
            <p:cNvSpPr/>
            <p:nvPr/>
          </p:nvSpPr>
          <p:spPr>
            <a:xfrm>
              <a:off x="-1202040" y="260280"/>
              <a:ext cx="2374920" cy="65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白铁无辜铸佞臣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75240" y="0"/>
              <a:ext cx="237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青山有幸埋忠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跪了492年秦桧起立惹争议"/>
          <p:cNvPicPr/>
          <p:nvPr/>
        </p:nvPicPr>
        <p:blipFill>
          <a:blip r:embed="rId1"/>
          <a:stretch/>
        </p:blipFill>
        <p:spPr>
          <a:xfrm>
            <a:off x="1189080" y="1141560"/>
            <a:ext cx="619128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"/>
            <a:ext cx="914400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岳飞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字鹏举，北宋相州汤阴县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小天资聪悟， 爱读《左氏春秋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《孙吴兵法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臂力超人，十一岁随刀枪手陈广学武艺，成为一县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敌的枪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后拜周同为师学射箭，练就了能挽弓三百斤，左右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弓箭无虚发的本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十岁，首次从军，带兵首战告捷，活捉贼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十四岁，转入开封宗泽部，带兵一战汜水关，二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竹芦渡， 清水亭一仗杀得金兵横尸十五里，斩获金军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军将首一百七十五颗，在建康南面的牛头山设下伏兵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87631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击金兵，斩首三千余，生俘三百余，收复了大片国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岳家军威名大振，人民感恩岳飞，为他建了生祠祭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绍兴三年春，岳家军巳达一万八千人。同年九月九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宗在临安召见岳飞父子，并赐“精忠岳飞”锦旗，授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州建置制置使司等官职。岳飞在江州写下了振铄千古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《满江红》词。绍兴五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113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岳飞奉命平定了洞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杨幺，仅用八天时间，一举获胜，收编六万降军入岳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军，扩充了抗金力量。并在顺昌、郾城大捷中粉碎了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拐子马”、“铁浮图”不可战胜的神话，朱仙镇大捷，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振敌胆、金兀术叹呼“撼山易、撼岳家军难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809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正当岳飞所向披靡，抗金取得节节胜利之际， 宋高宗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绍兴十年七月十七日连下十二道金牌，强令岳飞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师。   绍兴十一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114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四月二十四日， 秦桧为剪除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谈障碍，诬篾一贯主战的岳飞“谋反”，收买王俊作假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将岳飞父子和部将张宪关进杭州大理寺。后以“莫须有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谋反罪名，将岳飞父子和张宪诬害。岳飞宁死不屈，临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前挥笔写下 “天日昭昭，天日昭昭”八个大字。中国历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上著名的民族英雄、驰骋在抗金战场上的主帅岳飞，就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样被秦桧一伙奸臣夺去了年青而宝贵的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34:56Z</dcterms:created>
  <dc:creator>*</dc:creator>
  <dc:description/>
  <dc:language>en-US</dc:language>
  <cp:lastModifiedBy>微软用户</cp:lastModifiedBy>
  <dcterms:modified xsi:type="dcterms:W3CDTF">2009-05-30T01:53:20Z</dcterms:modified>
  <cp:revision>14</cp:revision>
  <dc:subject/>
  <dc:title>幻灯片 1</dc:title>
</cp:coreProperties>
</file>