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7781-DEC7-452C-8852-677A37520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8A3A-EE73-4172-AB2E-D13DF7913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A07C-A0A3-4E46-92AC-59165B672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366A-AC95-454D-807A-371028EF2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35D8-FDF0-4F37-AA25-C7ED602CD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741C-AABC-4B5E-958D-612A41894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D119-3CAE-44C0-A4D5-45C69F13A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D0FB-FA3A-487B-B749-F248B3CB9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B33D-C67C-4DE2-893B-E324E3389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5840-1025-4023-B082-3AAE27E1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1FBA-CCBF-434F-ACC0-3889D09B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AE3D-F28F-4F21-A3E0-747EAE3A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33B9B-501D-4DC9-9160-0A0CD84BD3A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6" dur="1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116000" y="-27000"/>
            <a:ext cx="7102440" cy="68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满江红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岳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Arial"/>
              </a:rPr>
              <a:t>怒发冲冠，凭栏处，潇潇雨歇。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Arial"/>
              </a:rPr>
              <a:t>抬望眼，仰天长啸，壮怀激烈。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Arial"/>
              </a:rPr>
              <a:t>三十功名尘与土，八千里路云和月。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Arial"/>
              </a:rPr>
              <a:t>莫等闲，白了少年头，空悲切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Arial"/>
              </a:rPr>
              <a:t>靖康耻，犹未雪。臣子恨，何时灭。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Arial"/>
              </a:rPr>
              <a:t>驾长车，踏破贺兰山阙。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Arial"/>
              </a:rPr>
              <a:t>壮志饥餐胡虏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，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Arial"/>
              </a:rPr>
              <a:t>笑谈渴饮匈奴血。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Arial"/>
              </a:rPr>
              <a:t>待从头，收拾旧河山，朝天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4290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101080" y="558972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8406"/>
                </a:moveTo>
                <a:lnTo>
                  <a:pt x="8224" y="8406"/>
                </a:lnTo>
                <a:lnTo>
                  <a:pt x="12645" y="3794"/>
                </a:lnTo>
                <a:lnTo>
                  <a:pt x="12645" y="17806"/>
                </a:lnTo>
                <a:lnTo>
                  <a:pt x="8224" y="13194"/>
                </a:lnTo>
                <a:lnTo>
                  <a:pt x="3794" y="13194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17806" y="10800"/>
                </a:lnTo>
              </a:path>
              <a:path fill="darken" w="21600" h="21600">
                <a:moveTo>
                  <a:pt x="14299" y="8406"/>
                </a:moveTo>
                <a:lnTo>
                  <a:pt x="17806" y="5639"/>
                </a:lnTo>
              </a:path>
              <a:path fill="darken" w="21600" h="21600">
                <a:moveTo>
                  <a:pt x="14299" y="13194"/>
                </a:moveTo>
                <a:lnTo>
                  <a:pt x="17806" y="15961"/>
                </a:lnTo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2280" y="0"/>
            <a:ext cx="891540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3300"/>
                </a:solidFill>
                <a:latin typeface="宋体"/>
                <a:ea typeface="黑体"/>
              </a:rPr>
              <a:t>新满江红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登高楼，凭栏远眺，碧空万里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大地茫茫，不禁豪气顿生，仰天长啸：“问苍茫大地，谁是英雄？”大和民族？中华民族？斯拉夫民族？日耳曼民族？大和民族，军国主义、民族主义和复仇主义，闻名于世；中华民族，坚强忠贞，爱国之心，谁人不敬？日耳曼民族，剽悍野蛮，哪个不惧？回顾历史，愤涌心头，百年屈辱，难以言尽。大和，侵我国土，戮我人民，掠我财富；斯拉夫，侵我北疆，掠我矿藏，一百五十万平方公里国土何时归还？日耳曼，烧我圆明园，占我山东，夺我主权。可恨啊！可恨啊！中华之软弱仁义，何时能有大和之歹毒强权，日耳曼之剽悍野蛮，斯拉夫之忠贞爱国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8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8600" y="314280"/>
            <a:ext cx="883908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风云突变，刚才碧空如洗，此时风起云涌，心中尽涌悲凉之意，仰天长叹：中华何时能报南京喋血之仇，雪圆明园被抢之耻，解香港被割之恨？中华何时能居众民族之首，笑傲寰宇？“环视茫茫中国，心中大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我悲，我叹，我恨，我痛，皆有何用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毛泽东少年狂呼：“问苍茫大地，谁主沉浮？”我仅凭栏问中华大地：“谁能之挥我铁甲雄师，冲出国土，它上征服世界之征程？谁人能之挥我海上战舰，海底游龙，游弋与四海五滨？谁能敢立下豪言壮志：我的军队所到之处，便是我中华的领土？！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76320"/>
            <a:ext cx="9144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谁能？谁能？谁能？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我们能！我们能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!!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我们能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我们每一个具有爱国和服愁之心地中国人能，我们每一个里纸浆我们的生命献给共和国的国防事业的人能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看吧，有一天，我们的铁甲雄师、海上战舰、蓝天雄鹰，驰骋疆场，冲锋杀敌。报我仇，雪我耻，消我恨。哈哈！何等激动人心！看那时，饿食大和肉，渴饮倭寇血，何等豪迈！看吧，有一天，我们的理想一定会实现：四方之土上迎风飘扬的，必将是猎猎五星红旗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奋斗吧，勇敢的人！前面就是辉煌，就是胜利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yueifei" descr="yueifei.jpg (11255 字节)"/>
          <p:cNvPicPr/>
          <p:nvPr/>
        </p:nvPicPr>
        <p:blipFill>
          <a:blip r:embed="rId1"/>
          <a:stretch/>
        </p:blipFill>
        <p:spPr>
          <a:xfrm>
            <a:off x="0" y="0"/>
            <a:ext cx="559764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34290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5651640" y="2276640"/>
          <a:ext cx="3492360" cy="201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51640" y="2276640"/>
                    <a:ext cx="3492360" cy="20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8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8600"/>
            <a:ext cx="9144000" cy="64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岳飞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，字鹏举，北宋相州汤阴县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从小天资聪悟， 爱读《左氏春秋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《孙吴兵法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臂力超人，十一岁随刀枪手陈广学武艺，成为一县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敌的枪手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后拜周同为师学射箭，练就了能挽弓三百斤，左右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弓箭无虚发的本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二十岁，首次从军，带兵首战告捷，活捉贼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二十四岁，转入开封宗泽部，带兵一战汜水关，二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竹芦渡， 清水亭一仗杀得金兵横尸十五里，斩获金军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小军将首一百七十五颗，在建康南面的牛头山设下伏兵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280" y="304920"/>
            <a:ext cx="876312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击金兵，斩首三千余，生俘三百余，收复了大片国土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岳家军威名大振，人民感恩岳飞，为他建了生祠祭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绍兴三年春，岳家军巳达一万八千人。同年九月九日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高宗在临安召见岳飞父子，并赐“精忠岳飞”锦旗，授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州建置制置使司等官职。岳飞在江州写下了振铄千古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《满江红》词。绍兴五年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(1135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年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岳飞奉命平定了洞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杨幺，仅用八天时间，一举获胜，收编六万降军入岳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军，扩充了抗金力量。并在顺昌、郾城大捷中粉碎了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拐子马”、“铁浮图”不可战胜的神话，朱仙镇大捷，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振敌胆、金兀术叹呼“撼山易、撼岳家军难！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480960"/>
            <a:ext cx="914400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正当岳飞所向披靡，抗金取得节节胜利之际， 宋高宗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绍兴十年七月十七日连下十二道金牌，强令岳飞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师。   绍兴十一年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(114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年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四月二十四日， 秦桧为剪除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谈障碍，诬篾一贯主战的岳飞“谋反”，收买王俊作假证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将岳飞父子和部将张宪关进杭州大理寺。后以“莫须有”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谋反罪名，将岳飞父子和张宪诬害。岳飞宁死不屈，临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前挥笔写下 “天日昭昭，天日昭昭”八个大字。中国历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上著名的民族英雄、驰骋在抗金战场上的主帅岳飞，就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样被秦桧一伙奸臣夺去了年青而宝贵的生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79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000680" y="27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292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048480" y="189000"/>
            <a:ext cx="5542920" cy="6597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zh-CN" sz="8800" spc="-1" strike="noStrike">
                <a:solidFill>
                  <a:srgbClr val="ff9900"/>
                </a:solidFill>
                <a:latin typeface="Times New Roman"/>
              </a:rPr>
              <a:t>天日昭昭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9900"/>
                </a:solidFill>
                <a:latin typeface="Times New Roman"/>
              </a:rPr>
              <a:t>  </a:t>
            </a:r>
            <a:r>
              <a:rPr b="1" lang="zh-CN" sz="8800" spc="-1" strike="noStrike">
                <a:solidFill>
                  <a:srgbClr val="ff9900"/>
                </a:solidFill>
                <a:latin typeface="Times New Roman"/>
              </a:rPr>
              <a:t>天日昭昭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6" dur="2000" fill="hold"/>
                                        <p:tgtEl>
                                          <p:spTgt spid="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yyg</cp:lastModifiedBy>
  <dcterms:modified xsi:type="dcterms:W3CDTF">2005-03-14T01:01:21Z</dcterms:modified>
  <cp:revision>25</cp:revision>
  <dc:subject/>
  <dc:title>PowerPoint Presentation</dc:title>
</cp:coreProperties>
</file>