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FA97-8AA8-44DD-B0BF-B83686A2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F43-9E1B-4ACB-A280-AFC796AC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414E-FF0E-49C3-AACD-F703E193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046-4FBF-4D17-838F-46A5A0E6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D1BD-C763-4387-930A-CC4883EE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A50-EED2-4FDC-8F9C-B4069D17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A2E0-9543-4608-B61D-7097BE3D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F36E-D6BE-4BC0-8F56-8103C3C3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FF9-2726-4597-8409-499500F6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A92-B4F2-44D2-B16C-C25984C0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D305-70C2-48CC-BD96-6E949318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86D-3C46-469A-828B-EBFA27C4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1FB3-E8AE-495A-A650-DC61F6117B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41221124837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467480" y="380880"/>
            <a:ext cx="5493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99160" y="914400"/>
            <a:ext cx="549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21520" y="457200"/>
            <a:ext cx="2374920" cy="4495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梅花岭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50840" y="4343400"/>
            <a:ext cx="549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98000" y="2590920"/>
            <a:ext cx="1642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全祖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30492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66ff"/>
                </a:solidFill>
                <a:latin typeface="Times New Roman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828800"/>
            <a:ext cx="72388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掌握重点词语，理解文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刻画人物的方法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体会史可法忠贞不渝、宁死不屈的民族气节和浩然正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30492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66ff"/>
                </a:solidFill>
                <a:latin typeface="Times New Roman"/>
              </a:rPr>
              <a:t>朗读活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7524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快速朗读，正字正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1240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酉  殉   硕  殒   恚   麾   瞠  宛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1911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4191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41911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38088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66ff"/>
                </a:solidFill>
                <a:latin typeface="Times New Roman"/>
              </a:rPr>
              <a:t>词语练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371600"/>
            <a:ext cx="80769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经略洪承畴与之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吾誓与城为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汝诸孙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有亲见忠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青衣乌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文少保亦以悟大光明法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66ff"/>
                </a:solidFill>
                <a:latin typeface="Times New Roman"/>
              </a:rPr>
              <a:t>巩固扩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809880"/>
            <a:ext cx="6477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吾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事之《鸿门宴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见相如《廉颇蔺相如列传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赭衣《报任安书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范增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项王《鸿门宴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838188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峰腋寺，作为草堂《庐山草堂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刺寡人之过者，受上赏《邹忌讽齐王纳谏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175248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名词作动词 面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3200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名词作状语 当面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53352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66ff"/>
                </a:solidFill>
                <a:latin typeface="Times New Roman"/>
              </a:rPr>
              <a:t>名句理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05740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督相史忠烈公知势不可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2767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此即忠烈之面目，宛然可遇，是不必问其果解脱否也，而况冒其未死之名哉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38088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66ff"/>
                </a:solidFill>
                <a:latin typeface="Times New Roman"/>
              </a:rPr>
              <a:t>讨论赏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447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章采用何种方式刻画史可法忠烈形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2096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殉国惨况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21337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Times New Roman"/>
              </a:rPr>
              <a:t>正面描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3048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Times New Roman"/>
              </a:rPr>
              <a:t>侧面烘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Times New Roman"/>
              </a:rPr>
              <a:t>反面对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876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章主要突出史可法的形象，为什么以《梅花岭记》为题目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8098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洪孙对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托名起师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22860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（议论）其气浩然常留天地之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3048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9560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304920"/>
            <a:ext cx="510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66ff"/>
                </a:solidFill>
                <a:latin typeface="Times New Roman"/>
              </a:rPr>
              <a:t>各抒己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8288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990000"/>
                </a:solidFill>
                <a:latin typeface="Times New Roman"/>
              </a:rPr>
              <a:t>天地有正气，杂然赋流形。”古往今来，多少英烈正气永存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5053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试列举你所知道的浩然正气的人物，用自己的话语展现出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410080" y="49528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李庆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2362320"/>
            <a:ext cx="66294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大家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1:48:16Z</dcterms:created>
  <dc:creator>kd</dc:creator>
  <dc:description/>
  <dc:language>en-US</dc:language>
  <cp:lastModifiedBy>kd</cp:lastModifiedBy>
  <dcterms:modified xsi:type="dcterms:W3CDTF">2005-03-09T09:03:00Z</dcterms:modified>
  <cp:revision>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01000000000001024120</vt:lpwstr>
  </property>
</Properties>
</file>