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670-B77A-4F8C-88F6-534F857E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70F-FF4C-4BA6-B117-A252BD8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A59-EB2E-4A01-82FF-D8DA277C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606-063A-4B49-8235-D8E941C6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546-3DD8-4616-83D5-315FF7EF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B442-0B0E-483F-BFF1-2299F74D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A58-CC93-4FD1-B14C-43D900F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AFD-923E-4897-B292-E975E793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567-8139-4808-BC06-FF2C9EA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3E5-862D-4CFB-93BF-60858307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4040-7454-4062-94DC-2749C00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710-BE0F-44DB-90E2-1DE4F8D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B31-8998-48C0-982F-F823B1E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9B2B-54A6-485B-B4FD-745B75C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787-A3DF-4D6B-9753-1EDC687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2BCC-D82F-4C75-9949-16E3551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1B68-FAAD-472A-8FA5-F1817868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82D-A389-4A98-8F5E-604AB719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581-AFB5-4E76-BF48-49E26F0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972-D3CA-4591-8271-2ACBBBD1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DA9-099B-4CE8-8C44-F5962F1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89D-D02D-46CE-8A32-B7CC4C0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42A-2AEC-4000-A1F6-80F3337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EDA-F309-4998-B918-A46A75B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D63-32A4-4D0F-AB38-FD5F75D174C1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D65-7797-47B5-B2CE-A4F10185938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隶书"/>
                <a:ea typeface="隶书"/>
              </a:rPr>
              <a:t>卖柑者言</a:t>
            </a:r>
            <a:r>
              <a:rPr b="0" lang="zh-CN" sz="72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明）刘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476280"/>
            <a:ext cx="8497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卖者笑曰：“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业       是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年矣，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赖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吾躯。吾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人取之，未尝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独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足子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所乎？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欺者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矣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独我也乎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吾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未之思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也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112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85264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“饲”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养，养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85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代词）指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508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602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6093000"/>
            <a:ext cx="32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“未思之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（职业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卖柑橘的人笑着说：“我从事这种职业已有好几年了，我依赖这个职业来养活我自己。我卖柑子，别人买它，不曾有人说什么，却唯独不能满足您的要求吗？世上做这种欺骗行为的人不少，难道只有我一个吗？您实在是没有好好思量啊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692280"/>
            <a:ext cx="8893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佩</a:t>
            </a:r>
            <a:r>
              <a:rPr b="1" lang="zh-CN" sz="3600" spc="-1" strike="noStrike" u="sng">
                <a:solidFill>
                  <a:srgbClr val="003399"/>
                </a:solidFill>
                <a:uFillTx/>
                <a:latin typeface="Arial"/>
              </a:rPr>
              <a:t>虎符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坐</a:t>
            </a:r>
            <a:r>
              <a:rPr b="1" lang="zh-CN" sz="3600" spc="-1" strike="noStrike" u="sng">
                <a:solidFill>
                  <a:srgbClr val="003399"/>
                </a:solidFill>
                <a:uFillTx/>
                <a:latin typeface="Arial"/>
              </a:rPr>
              <a:t>皋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者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洸洸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乎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城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也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能授孙、吴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略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耶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峨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大冠、拖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绅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者，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昂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乎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庙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器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也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能建伊、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耶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5080" y="3068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谋略，计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13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武的样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14097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捍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9440" y="3068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高地（戴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508640"/>
            <a:ext cx="25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士大夫束在衣外的大带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79736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宇轩昂的样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479736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才能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50080" y="128268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才能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4720" y="3068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413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现在那些佩带虎形兵符、坐着虎皮椅子的人，一副威武的样子好像是捍卫国家的将才，真的能够传授孙武、吴起的谋略吗？那些头戴高帽，腰上拖着长长的腰带的人，气宇轩昂的样子好像是朝廷的栋梁之才，他们真的能够建立伊尹、皋陶的业绩吗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692280"/>
            <a:ext cx="8281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盗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起而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民困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不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救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吏奸而不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不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理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坐糜    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廪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不知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148428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抵挡，抵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1484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窘，困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314172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败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4724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“靡”，浪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7080" y="49482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官方供给的（粮食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盗贼四起却不知道禁止，百姓陷入困境（他们）却不懂得救助，官吏奸猾却不懂得禁止，法律败坏却不懂得整顿，白白地浪费国家的粮食（他们）却不懂得羞耻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76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坐高堂、骑大马、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醇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者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孰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巍巍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乎可畏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赫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乎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又何往而不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金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外、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败絮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其中也哉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是之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而以察吾柑！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268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1203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119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饱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924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大的样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932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显赫的样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653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59500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之不察”即“不察是”；“察”是“详审、考察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32360" y="292428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值得效法、模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40120" indent="-24012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看那些坐在高堂上，骑着高头大马，喝着香醇的美酒，饱食美食的人，哪一个不是外表威风凛凛值得敬畏，显赫过人让人效仿啊？（我所见到的）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又哪一个何尝不是外表如金似玉、而内心却像破败的棉絮一样呢？现在你不详审这些人，却（这种态度）来详审我卖的柑橘！”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默然无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应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退而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言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类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方生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滑稽之流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岂其愤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疾邪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耶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而托于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柑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讽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耶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沉默了，没有用来回答的话。回来想想他的话，觉得好像是东方朔那样诙谐多讽、机智善辩的人，难道他是对世事表示愤慨。对邪恶表示憎恨的人吗？因而（他是）假托柑橘来讽刺社会现实吗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朗读课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杭有卖果者，善藏柑，涉寒暑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溃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出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，玉质而金色。置于市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十倍，人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予贸得其一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剖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，如有烟扑口鼻，视其中，干若败絮。予怪而问之曰：“若所市于人者，将以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豆奉祭祀、供宾客乎？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外以惑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？甚矣哉，为欺也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卖者笑曰：“吾业是有年矣，吾赖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吾躯。吾售之，人取之，未尝有言；而独不足子所乎？世之为欺者不寡矣，而独我也乎？吾子未之思也！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四、归纳总结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22147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通假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词性活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古今异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93920" y="220500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贾通价（价钱）   糜通靡（浪费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9040" y="350028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若、坐、市、业、而、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86280" y="479736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市、实、业、峨、饫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87400" y="609300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贸、是、子、绅、具、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4360" y="765000"/>
            <a:ext cx="8153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刘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元末明初 政治家、文学家。字伯温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浙江青田人。元末进士，元至正二十年与宋濂同为朱元璋所召，后成为明朝开国功臣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封“诚意伯”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官至御史中丞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谥号“文成”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著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《诚意伯文集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他是元末明初著名的诗文家之一，有些作品反映了社会的动乱和人民的疾苦，客观上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揭露了封建统治的腐朽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他的散文以短篇寓言著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159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作者简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刘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基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11--13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伯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生于元末，自幼聪敏，长大后博览群书，胸怀救时济世之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郁离子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本文选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诚意伯文集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时，向朱元璋进献“十八策”，论天下安危。从此成了朱元璋的主要谋士，宏才大略得到施展。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大明王朝的开国元勋之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嫉恶如仇，刚正不阿，敢于直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久便得罪了丞相李善长、胡惟庸等人，并逐渐失云朱元璋信任。洪武四年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7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刘基请求告老还乡，退出政治舞台，时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一个士大夫，刘基忧国忧民，耿介刚正，从仕元到归隐，从归隐到仕明，从仕明到还乡，从还乡到病卒，刚正不阿，毫不苟且，一身浩然正气，充塞宇间。刘基于元文宗时考上进士，为官清廉。但是元末政治黑暗，文官贪懦，武官虚威，他曾批评监察御史的失职，因而遭排斥，于是弃官回乡。刘基对官场和社会有很深的了解，对那些达官贵人和文人学士也知根知底，所以满怀愤世嫉俗之心，写下如此刺世奇文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根据自己的理解，概括本文内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示：故事源起、论辩过程及作者观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本文由买卖一个坏了的柑橘的小事引起议论，假托卖柑者的一席话，揭露了元末腐败的统治机构，金玉其外败絮其中的社会现象，抒发了作者愤世嫉俗之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买柑——卖柑者言——作者的反思 </a:t>
            </a: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梳理文章议论思路，看看作者是怎样一步步从“买柑”过渡到针砭时政的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15d5"/>
                </a:solidFill>
                <a:latin typeface="Arial"/>
              </a:rPr>
              <a:t>作者是怎样具体描写卖柑者“为欺”的行径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具体描写卖柑者“为欺”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外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出之烨然，玉质而金色。</a:t>
            </a:r>
            <a:r>
              <a:rPr b="1" lang="zh-CN" sz="2800" spc="-1" strike="noStrike">
                <a:solidFill>
                  <a:srgbClr val="f3f824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价格和销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置于市，贾十倍，人争鬻之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实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剖之，如有烟雾扑鼻，视其中，干若败絮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归纳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金玉其外，败絮其中。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遭到批评后，卖柑者反而“笑曰”，体会其“笑”的背后蕴含的心理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卖柑者“笑曰”，说明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以为然</a:t>
            </a: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；“今子是之不察，而以察吾柑，”一句说明他有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激愤，认为作者不识时务</a:t>
            </a:r>
            <a:r>
              <a:rPr b="1" lang="zh-CN" sz="3200" spc="-1" strike="noStrike">
                <a:solidFill>
                  <a:srgbClr val="2c15d5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品读卖柑者为自己所作的辩护，小组讨论，尝试划分层次，并分析三个层次分别揭示的社会现象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卖柑者为自己辩护可划分层次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吾业是有年矣”至“独不足子所乎”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世之为欺者不寡矣”至“吾子未之思也”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今夫佩虎符”至“而以察吾柑”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个层次揭露了社会现象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、“我”做生意多年，并未因此受到任何非议，欺骗有理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、世间欺世盗名的人太多了，岂止“我”一个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、当今文臣武将哪一个不是表里不一、金玉其外，败絮期中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中哪些语句是对文臣武将“金玉其外”的描写？哪些语句是对他们“败絮其中”的描写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金玉其外：“坐高堂、骑大马、醉醇醴而饫肥鲜者，孰不巍巍乎可畏、赫赫乎可象？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败絮其中：“盗起而不知御，民因而不知救，吏奸而不知禁，法致而不知理，坐糜粟而不知耻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朗读课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今夫佩虎符、坐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者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洸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城之具也，果能授孙、吴之略耶？峨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拖长绅者，昂昂乎庙堂之器也，果能建伊、皋之业耶？盗起而不知御，民困而不知救，吏奸而不知禁，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而不知理，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糜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粟而不知耻。观其坐高堂、骑大马、醉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肥鲜者，孰不巍巍乎可畏，赫赫乎可象也！又何往而不金玉其外，败絮其中也哉！今子是之不察，而以察吾柑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予默然无以应。退而思其言，类东方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滑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流。岂其愤世疾邪者耶？而托于柑以讽耶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结：本文由买卖一个坏了的柑橘的小事引起议论，假托卖柑者的一席话，无情揭露了元末统治者腐败弊政，统治者金玉其外，败絮其中的社会现象。这就是一种“托物喻理”的写作手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最后一段中，作者听了卖柑者之言，为什么“默默无以应”呢？这表明了作者怎样的观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”最后之所以被驳得“默默无以应”，就是因为没有看到当时社会之“大欺”，只看到卖柑者之“小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|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欺”，不察不思，就贸然责难人家“甚矣哉，为欺也！”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作者为什么要假借卖柑者的话来针砭时弊呢？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者巧妙地借卖柑者之口来揭露政事腐败，却煞有介事地说：这个卖柑者也许是东方朔一类人，由于“愤世疾邪”而“托于柑以讽”，是由于当时言论不自由，作者欲防止因写此文遭受迫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柑“贾十倍”，为什么人们“争鬻之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烨然”        “玉质”     “金色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外观光泽好、  质感好、   颜色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在如何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如有烟扑口鼻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干若败絮”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541332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Arial"/>
              </a:rPr>
              <a:t>第一部分：不愉快的交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1557360"/>
            <a:ext cx="770436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500280"/>
            <a:ext cx="3673440" cy="144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Arial"/>
              </a:rPr>
              <a:t>第二部分：卖柑者的辩解和反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i="1" lang="zh-CN" sz="5400" spc="-1" strike="noStrike">
                <a:solidFill>
                  <a:srgbClr val="007a77"/>
                </a:solidFill>
                <a:latin typeface="Arial"/>
              </a:rPr>
              <a:t>从两方面来论述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论己之欺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论世之欺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                             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请看——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卖柑者是如何论述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论己之欺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自己只不过为了糊口活命，根本谈不上过分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何况“世之为欺者不寡，而独我也乎？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论世之欺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从几个方面来论述？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773360"/>
          <a:ext cx="8540640" cy="3375000"/>
        </p:xfrm>
        <a:graphic>
          <a:graphicData uri="http://schemas.openxmlformats.org/drawingml/2006/table">
            <a:tbl>
              <a:tblPr/>
              <a:tblGrid>
                <a:gridCol w="1101600"/>
                <a:gridCol w="4592880"/>
                <a:gridCol w="2846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外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质疑（内在）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3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武将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文官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1547640" y="242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佩虎符、坐皋比者，洸洸乎干城之具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2565360"/>
            <a:ext cx="27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果能授孙、吴之略耶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38624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峨大冠、拖长绅者，昂昂乎庙堂之器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3860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果能建伊、皋之业耶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5734080"/>
            <a:ext cx="3382920" cy="863640"/>
          </a:xfrm>
          <a:prstGeom prst="wedgeRectCallout">
            <a:avLst>
              <a:gd name="adj1" fmla="val -9125"/>
              <a:gd name="adj2" fmla="val -11599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玉其外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柑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”和所谓的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干城之具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”、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庙堂之器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”之间有什么相似点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揭露统治者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“败絮其中”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的句子是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盗起而不知御，民困而不知救，吏奸而不知禁，法斁而不知理，坐糜廪粟而不知耻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57336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统治者与“柑”一样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外表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内在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矛盾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的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00360" y="5589720"/>
            <a:ext cx="6048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托柑以讽  比喻说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作者为什么“无以应”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2114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我” 只看到卖柑者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而没看到当时整个社会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不察不思，就贸然责备别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0960" y="476280"/>
            <a:ext cx="36226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注好字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360360"/>
            <a:ext cx="2879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烨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然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贾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十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鬻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衒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笾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以惑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吾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皋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461880"/>
            <a:ext cx="302580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ōu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uà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āo p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你读懂了吗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本文可看作一篇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政治寓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，言在此而意在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本文由买卖一个坏了的柑橘的小事引起议论，假托卖柑者的一席话，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托柑以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无情揭露了元末统治者的腐败弊政，抒发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愤世嫉俗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之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8082000" cy="32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作者用了哪几个词语来写柑子的外观？“贾十倍”为何“人争鬻之”？其内在如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卖柑者是针对前文的什么而论述的？其言可分为哪两层？又是如何来论述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最后一段有什么作用？听了卖柑者之言，“我”为什么“默默无以应”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作者为什么要假托卖柑者来针砭时弊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2133720"/>
            <a:ext cx="769644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文章以“予”与卖柑者对话的形式，采用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托物喻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的手法，通过卖柑者之口，痛快淋漓地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揭露了元代末年统治机构的腐败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79720" y="660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文章主题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写作特色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6867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夹叙夹议，托物喻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比喻和对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辛辣、犀利的语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11280" y="1136520"/>
            <a:ext cx="82818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金玉其外，败絮其中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【解释】它的外表如金似玉，</a:t>
            </a:r>
            <a:br>
              <a:rPr sz="4800"/>
            </a:br>
            <a:r>
              <a:rPr b="0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  它的内部却像破败的棉絮。</a:t>
            </a:r>
            <a:br>
              <a:rPr sz="4800"/>
            </a:br>
            <a:r>
              <a:rPr b="0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形容徒有其表，而实质很糟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五、布置作业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76916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熟背课文第二小节，默写于作业本上，家长签字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905120" y="1676520"/>
            <a:ext cx="4724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3838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洸洸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城之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峨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糜 廪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醉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肥鲜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滑稽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1419120"/>
            <a:ext cx="273672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guā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gà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guā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í  lǐn  s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ǐ  y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gǔ  j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520960" y="404640"/>
            <a:ext cx="36226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注好字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92280"/>
            <a:ext cx="939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杭有卖果者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藏柑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寒暑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溃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烨然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     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而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色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 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贾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十倍，人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鬻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48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善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148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57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彩鲜明的样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3357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介词）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300640"/>
            <a:ext cx="32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“价”，价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52354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5640" y="33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38920" y="148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溃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杭州有一个卖水果的人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善于贮藏柑橘，经过一个冬夏（柑橘）也不会腐烂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拿出它来还是光彩鲜亮，像玉的质地一样，像金子一样的颜色（质地像玉颜色如金）。把柑橘放到市场上，价钱（高出）十倍，人们都争相购买它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333360"/>
            <a:ext cx="8675640" cy="58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予贸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一，剖之，如有烟扑口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，干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败絮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予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怪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曰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所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市  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者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  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实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笾豆奉祭祀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供宾客乎？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衒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外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惑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愚瞽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甚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矣哉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为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欺也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052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易，这里指“买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76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2276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破烂的棉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371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37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塞，装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50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“炫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50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瞎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621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22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到奇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243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37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37242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东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译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买了其中的一个，切开它，像有股烟雾直扑口鼻，再看它的里面，干枯得像破败的棉絮一样。我感到奇怪，便责问卖柑橘的人说：“你卖给别人的橘子，是将要用它来填满盛祭品的器具，祭祀祖先，招待宾客呢？还是要炫耀它的外表来迷惑傻子和瞎子呢？你干这种骗人的勾当，太过分了！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2:36:26Z</dcterms:created>
  <dc:creator> </dc:creator>
  <dc:description/>
  <dc:language>en-US</dc:language>
  <cp:lastModifiedBy>User</cp:lastModifiedBy>
  <dcterms:modified xsi:type="dcterms:W3CDTF">2012-01-10T10:36:47Z</dcterms:modified>
  <cp:revision>82</cp:revision>
  <dc:subject/>
  <dc:title>卖柑者言 </dc:title>
</cp:coreProperties>
</file>