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6A5-D175-4675-BF1F-5A42BF76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D94-6FB4-4E20-AE96-861B392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A2F-7127-425A-A3A8-2BC85149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A42-DB56-4B6B-81DD-19BBA850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AEE-0B20-405D-B957-18350E89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8ACE-F196-4126-8F08-32F3BA69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8483-C2EF-4095-9144-AB913ED4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E2E3-99A1-4953-8410-E5FD0F44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4F86-5322-4938-BC9F-B25F59F4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8CA3-16D1-40DB-ACDF-56FD74BB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904-ABD5-4C11-915A-E19659E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E98-41E9-4646-80AD-4407C195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7A62-2D22-41ED-A0DB-E2D9756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4D5B-66C8-4525-8DBF-D2CBCDB3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FCF-CB30-404A-BBF9-07E31134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5081-EA30-42A8-B9D7-6B70892B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D915-39EA-41FA-8810-4E7E4909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670F-DC6F-4821-B716-FE0D43F6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D68C-E543-48E9-9261-D37E6DE2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931D-4CE4-479D-8134-ABA38596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55B2-89F3-4D91-9C61-055270E2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4A40-537D-4C65-9527-C73958EB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627-E77C-4AB0-B208-C12C174A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52F4-33D8-4D42-9FCB-74A18341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13AD-837D-481C-A037-7C5B98E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6627-0F2B-4867-90FB-EDF0F8C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95A6-43A3-454D-8D06-3411794E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EF1C-131D-4BA8-BE9E-F523BE49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CD66-9772-440C-A176-46EF9FDE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D74D-B399-485C-AD26-023986FA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D15-0DEF-4454-B3CA-72430B7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DB6-98A6-4DA4-B5C7-19D64B6E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F8F-26CC-475A-B599-FCAAF51D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212-8703-4BB6-AD1D-C55A7074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A7D-224C-41CD-8386-95E2026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FC8-D5B9-4ACB-B7FA-20DF329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F64-E16B-4A7F-B1C5-DC977B7C6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78BF-1C37-4378-8BAF-C684292EED3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A5DF-1029-4675-BF1F-77E235634B3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66280" y="260280"/>
            <a:ext cx="2009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梅  花  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16000" y="443700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外公赞颂梅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就是赞颂（              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59080" y="4941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具有梅花精神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20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几千年来，我们中华民族出了许多有气节的人物，他们不管历尽多少磨难、受到怎样的欺凌，从来都是顶天立地，不肯低头折节。他们就像这梅花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18800" y="580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借物喻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58920" y="134136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个中国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无论在怎样的境遇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总要有梅花的秉性才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73640" y="2781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68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0" y="476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独在异乡为异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每逢佳节倍思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213372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草明年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王孙归不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407664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自在飞花轻似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无边丝雨细如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27640" y="55897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思念家乡、思念亲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755640" y="1341360"/>
            <a:ext cx="705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乡的泪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1197000"/>
            <a:ext cx="831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这句话，不禁让他想起离别时的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亲人们的百般叮咛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什么时候回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这句话，让他想起朋友在杨柳岸设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送行后的声声问询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什么时候回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也曾是他登上离国大客轮时自己对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叩问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什么时候回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今身在异国的外祖父，也是一遍又一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问自己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什么时候回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640" y="1413000"/>
            <a:ext cx="741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无奈的泪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77040" y="1052640"/>
            <a:ext cx="488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赤道上吹来的风撩乱了老人平日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理得整整齐齐的银发，我觉得外祖父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下子衰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shuāi)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老了许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船快开了，妈妈狠下心来，拉我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上大客轮。想不到泪眼蒙眬的外祖父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随着上了船，递给我一块手绢——一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雪白的西亚麻布上绣着血色的梅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64120" y="2133720"/>
            <a:ext cx="25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衰（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shuāi)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55840" y="480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1280" y="170028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深情的泪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0" y="1989000"/>
            <a:ext cx="266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840" y="13604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外祖父仿佛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77040" y="1125360"/>
            <a:ext cx="488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赤道上吹来的风撩乱了老人平日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理得整整齐齐的银发，我觉得外祖父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下子衰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shuāi)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老了许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船快开了，妈妈狠下心来，拉我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上大客轮。想不到泪眼蒙眬的外祖父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随着上了船，递给我一块手绢——一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雪白的西亚麻布上绣着血色的梅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765000"/>
            <a:ext cx="867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这梅花，是我们中国最有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的花。旁的花，大抵是春暖花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才开花，她却不一样，愈是寒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愈是风欺雪压，花开得愈精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愈秀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700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1700280"/>
            <a:ext cx="23032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34800" y="227664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3160" y="292428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198900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979640" y="2565360"/>
            <a:ext cx="49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无奈的泪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27280" y="981000"/>
            <a:ext cx="48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思乡的泪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58920" y="4149720"/>
            <a:ext cx="518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深情的泪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6920" y="152280"/>
            <a:ext cx="7274160" cy="6338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763640" y="1628640"/>
            <a:ext cx="54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中国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260280"/>
            <a:ext cx="8819640" cy="6597360"/>
            <a:chOff x="0" y="260280"/>
            <a:chExt cx="8819640" cy="65973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4126680" y="260280"/>
              <a:ext cx="4692960" cy="65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0" y="260280"/>
              <a:ext cx="3641040" cy="512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31840" y="692280"/>
            <a:ext cx="526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采集课文中让你受感动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小练笔：外祖父在风中送家人乘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回国时的情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课后去品读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《故乡》、《乡愁》的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或者思乡的古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9280" y="692280"/>
            <a:ext cx="597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再见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1700280"/>
            <a:ext cx="619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管历经多少磨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管受到怎样的欺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从来都是顶天立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肯低头折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76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梅花的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458136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外祖父喜爱梅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就是喜爱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42000" y="2637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33520" y="39337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508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梅花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27400" y="1268280"/>
            <a:ext cx="292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她是最有（     ）、最有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最有（     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480" y="126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品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85600" y="126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灵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4976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骨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81080" y="3716280"/>
            <a:ext cx="95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这梅花，是我们中国最有名的花。旁的花，大抵是春暖才开花。她却不一样，愈是寒冷，愈是风欺雪压，花开得愈精神、愈秀气。她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最又有品格、最有灵魂、最有骨气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8320" y="476280"/>
            <a:ext cx="3733560" cy="5832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014960" y="533520"/>
            <a:ext cx="9115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苏  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13040" y="692280"/>
            <a:ext cx="39009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受尽屈辱十九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爱国之心永不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350960" y="836640"/>
            <a:ext cx="3900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人生自古谁无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留取丹心照汗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889440" cy="5977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-42480" y="4338720"/>
            <a:ext cx="1642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文天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19280" y="4508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1320" y="549360"/>
            <a:ext cx="3472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毒刑拷打何所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民族气节显忠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615636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抗日英雄赵一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41018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rcRect l="2448" t="0" r="4470" b="0"/>
          <a:stretch/>
        </p:blipFill>
        <p:spPr>
          <a:xfrm>
            <a:off x="1187280" y="549360"/>
            <a:ext cx="4268880" cy="5932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85280" y="457200"/>
            <a:ext cx="26492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侵略者面前低头，就不配做中国人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486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黑体"/>
              </a:rPr>
              <a:t>杨靖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rcRect l="1606" t="4444" r="4189" b="3344"/>
          <a:stretch/>
        </p:blipFill>
        <p:spPr>
          <a:xfrm>
            <a:off x="990720" y="476280"/>
            <a:ext cx="4214520" cy="597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4653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07200" y="692280"/>
            <a:ext cx="2649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宁肯饿死，也不吃美国的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救济面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5562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朱自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56:32Z</dcterms:created>
  <dc:creator>微软用户</dc:creator>
  <dc:description/>
  <dc:language>en-US</dc:language>
  <cp:lastModifiedBy>微软用户</cp:lastModifiedBy>
  <dcterms:modified xsi:type="dcterms:W3CDTF">2015-12-25T04:55:06Z</dcterms:modified>
  <cp:revision>29</cp:revision>
  <dc:subject/>
  <dc:title>幻灯片 1</dc:title>
</cp:coreProperties>
</file>