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chimes.wav" ContentType="audio/x-wav"/>
  <Override PartName="/ppt/media/image6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C2F7-F24B-4ECD-B4F6-45B940CE8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2401-C828-4F43-97B8-67DBB9B5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FD52-4C28-450B-9F29-9E2C8CACF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B41D-64EB-41EE-A2C4-9BA2B8F77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48DA-DA6B-4A52-8BDC-E1827B6C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A615-F4A2-420B-99D6-1FD4F5AD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761F-BE42-42E5-B7B2-DA133701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FA7C-2267-4ED4-9553-310C51E5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A894-D653-43E8-8EF5-A9A821D4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BE95-4F36-43F3-A616-197BF71D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7DFF-E5B7-46DC-8776-0714792D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B3A2-B086-40F1-A1B9-E208B1E8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F4EF-C01B-4991-A5DF-B54A7C8E1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2438280"/>
            <a:ext cx="62485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方正楷体_GBK"/>
              </a:rPr>
              <a:t>梅 花 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0880" y="53352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方正楷体_GBK"/>
              </a:rPr>
              <a:t>鄂教版六年级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语文上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16"/>
          <p:cNvPicPr/>
          <p:nvPr/>
        </p:nvPicPr>
        <p:blipFill>
          <a:blip r:embed="rId1"/>
          <a:stretch/>
        </p:blipFill>
        <p:spPr>
          <a:xfrm>
            <a:off x="152280" y="4572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4" name="矩形 7"/>
          <p:cNvSpPr/>
          <p:nvPr/>
        </p:nvSpPr>
        <p:spPr>
          <a:xfrm>
            <a:off x="3048120" y="63244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梅花魂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2057400" y="2895480"/>
            <a:ext cx="6324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lǚ zàng sāi zāng ch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缕   葬    腮     脏     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diàn mǒ là  shū qiáo juàn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玷    抹   腊    梳    侨     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读一读"/>
          <p:cNvPicPr/>
          <p:nvPr/>
        </p:nvPicPr>
        <p:blipFill>
          <a:blip r:embed="rId1"/>
          <a:stretch/>
        </p:blipFill>
        <p:spPr>
          <a:xfrm>
            <a:off x="380880" y="228600"/>
            <a:ext cx="2114640" cy="2514600"/>
          </a:xfrm>
          <a:prstGeom prst="rect">
            <a:avLst/>
          </a:prstGeom>
          <a:ln w="0">
            <a:noFill/>
          </a:ln>
        </p:spPr>
      </p:pic>
      <p:sp>
        <p:nvSpPr>
          <p:cNvPr id="82" name="矩形 6"/>
          <p:cNvSpPr/>
          <p:nvPr/>
        </p:nvSpPr>
        <p:spPr>
          <a:xfrm>
            <a:off x="3048120" y="63244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990720" y="2514600"/>
            <a:ext cx="71625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腮边  训斥  玷污  唯独  腊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梳理  华侨  眷恋   缕缕幽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4"/>
          <p:cNvSpPr txBox="1"/>
          <p:nvPr/>
        </p:nvSpPr>
        <p:spPr>
          <a:xfrm>
            <a:off x="1143000" y="1676520"/>
            <a:ext cx="2781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读读写写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3048120" y="63244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3520" y="266652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楷体_GBK"/>
              </a:rPr>
              <a:t>快速默读课文，用简洁的语言来说说作者回忆了外祖父几件事？哪几件与梅花有关？从这些事中你体会到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5"/>
          <p:cNvSpPr txBox="1"/>
          <p:nvPr/>
        </p:nvSpPr>
        <p:spPr>
          <a:xfrm>
            <a:off x="1143000" y="1219320"/>
            <a:ext cx="2781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初读感知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0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五件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外祖父常常教“我”读唐诗宋词，还常流出眼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外祖父对墨梅图分外珍惜，“我”不小心弄脏，他竟大发脾气。还用保险刀片轻轻刮去污迹，又用细绸子慢慢抹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5"/>
          <p:cNvSpPr/>
          <p:nvPr/>
        </p:nvSpPr>
        <p:spPr>
          <a:xfrm>
            <a:off x="3048120" y="63244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22860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外祖父因不能回国而难过得哭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外祖父将最宝贵的墨梅图送给了“我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别那天，外祖父又把绣着梅花的手绢送给“我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5"/>
          <p:cNvSpPr/>
          <p:nvPr/>
        </p:nvSpPr>
        <p:spPr>
          <a:xfrm>
            <a:off x="3048120" y="63244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28240" y="2514240"/>
            <a:ext cx="85345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楷体_GBK"/>
              </a:rPr>
              <a:t>读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方正楷体_GBK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楷体_GBK"/>
              </a:rPr>
              <a:t>独在异乡为异客，每逢佳节倍思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方正楷体_GBK"/>
              </a:rPr>
              <a:t>”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楷体_GBK"/>
              </a:rPr>
              <a:t>青草明年绿，王孙归不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方正楷体_GBK"/>
              </a:rPr>
              <a:t>”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楷体_GBK"/>
              </a:rPr>
              <a:t>自在飞花轻似梦，无边丝雨细如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方正楷体_GBK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楷体_GBK"/>
              </a:rPr>
              <a:t>之类的句子，常有一颗两颗冰凉的泪珠落在我的腮边、手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楷体_GBK"/>
              </a:rPr>
              <a:t>想不到，外公竟像小孩子一样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方正楷体_GBK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楷体_GBK"/>
              </a:rPr>
              <a:t>呜呜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方正楷体_GBK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楷体_GBK"/>
              </a:rPr>
              <a:t>地哭起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方正楷体_GBK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楷体_GBK"/>
              </a:rPr>
              <a:t>想不到泪眼蒙眬的外祖父也随着上了船，递给我一个手绢，一色雪白的细亚麻布上面绣着血色的梅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914400" y="1143000"/>
            <a:ext cx="2781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句子解析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9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240" y="1981080"/>
            <a:ext cx="8534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一幅墨梅图，为什么在外祖父心中这样宝贵，这样的重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梅花是有不畏艰难精神的。这就是梅花的精神，愈是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方正楷体_GBK"/>
                <a:ea typeface="方正楷体_GBK"/>
              </a:rPr>
              <a:t>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）通过梅花，你想到了我们中国历史上的哪些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）说着说着，还是在说梅花的不畏严寒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（是在说有气节的中国人，是在说祖国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）为什么这样宝贵，这样重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（一句话，墨梅图在异国他乡的外祖父心中，就像母亲一样，是在异国他乡的精神寄托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5"/>
          <p:cNvSpPr txBox="1"/>
          <p:nvPr/>
        </p:nvSpPr>
        <p:spPr>
          <a:xfrm>
            <a:off x="838080" y="457200"/>
            <a:ext cx="2781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细读感悟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楷体_GBK"/>
              </a:rPr>
              <a:t>（一）在外祖父心中这样宝贵，这样重要，具有特别意义的墨梅图，为什么在我归国的前一天早晨，郑重地递给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把对祖国的爱带回祖国去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楷体_GBK"/>
              </a:rPr>
              <a:t>（二）也就不难理解外祖父又递给我血色梅花手绢了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方正楷体_GBK"/>
              </a:rPr>
              <a:t>（唯一对祖国的依恋、所有对祖国的牵挂都带回祖国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5"/>
          <p:cNvSpPr txBox="1"/>
          <p:nvPr/>
        </p:nvSpPr>
        <p:spPr>
          <a:xfrm>
            <a:off x="762120" y="380880"/>
            <a:ext cx="2781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阅读质疑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7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联系课文内容，体会文中的思想感情，理解梅花魂的含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了解课文的内容，体会华侨老人眷恋祖国的思想感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4"/>
          <p:cNvSpPr txBox="1"/>
          <p:nvPr/>
        </p:nvSpPr>
        <p:spPr>
          <a:xfrm>
            <a:off x="1143000" y="1676520"/>
            <a:ext cx="2781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学习目标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3048120" y="63244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26665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宋体"/>
              </a:rPr>
              <a:t>再 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16"/>
          <p:cNvPicPr/>
          <p:nvPr/>
        </p:nvPicPr>
        <p:blipFill>
          <a:blip r:embed="rId1"/>
          <a:stretch/>
        </p:blipFill>
        <p:spPr>
          <a:xfrm>
            <a:off x="152280" y="4572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10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429000" y="259056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陈慧瑛</a:t>
            </a:r>
            <a:r>
              <a:rPr b="0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，女作家。祖籍福建省，</a:t>
            </a:r>
            <a:r>
              <a:rPr b="0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946</a:t>
            </a:r>
            <a:r>
              <a:rPr b="0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年生于新加坡。</a:t>
            </a:r>
            <a:r>
              <a:rPr b="0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967</a:t>
            </a:r>
            <a:r>
              <a:rPr b="0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年毕业于厦门大学中文系。主要作品有散文集</a:t>
            </a:r>
            <a:r>
              <a:rPr b="0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无名的星</a:t>
            </a:r>
            <a:r>
              <a:rPr b="0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月是故乡明</a:t>
            </a:r>
            <a:r>
              <a:rPr b="0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芳草天涯</a:t>
            </a:r>
            <a:r>
              <a:rPr b="0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竹叶三君</a:t>
            </a:r>
            <a:r>
              <a:rPr b="0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等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陈慧瑛"/>
          <p:cNvPicPr/>
          <p:nvPr/>
        </p:nvPicPr>
        <p:blipFill>
          <a:blip r:embed="rId1"/>
          <a:stretch/>
        </p:blipFill>
        <p:spPr>
          <a:xfrm>
            <a:off x="304920" y="1523880"/>
            <a:ext cx="2886120" cy="4324320"/>
          </a:xfrm>
          <a:prstGeom prst="rect">
            <a:avLst/>
          </a:prstGeom>
          <a:ln w="0">
            <a:noFill/>
          </a:ln>
        </p:spPr>
      </p:pic>
      <p:sp>
        <p:nvSpPr>
          <p:cNvPr id="51" name="WordArt 6"/>
          <p:cNvSpPr txBox="1"/>
          <p:nvPr/>
        </p:nvSpPr>
        <p:spPr>
          <a:xfrm>
            <a:off x="3809880" y="1295280"/>
            <a:ext cx="2781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作者简介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3048120" y="63244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梅花魂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梅花魂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梅花魂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梅花魂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梅花魂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梅花魂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4-10-20T14:55:58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