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2007-50E4-4B31-B102-62D700B4F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09FF-3B8D-4348-B613-45546070C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4D0F-E7C2-4226-81D8-3D0B9042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92DC-E45A-4128-825B-DAF1902D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" Target="slide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幻灯荷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dd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808200" cy="80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幻灯no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3"/>
          <p:cNvSpPr/>
          <p:nvPr/>
        </p:nvSpPr>
        <p:spPr>
          <a:xfrm>
            <a:off x="914400" y="990720"/>
            <a:ext cx="5486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124080" y="1981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Fude &amp; Fudetat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5661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幻灯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195640" y="242100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99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96360" y="5661000"/>
            <a:ext cx="83808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幻灯梅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d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96080" y="5791320"/>
            <a:ext cx="777960" cy="777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419640" y="1628640"/>
            <a:ext cx="525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件大宝库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ejian.glzy8.com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535000" y="32180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公司署名或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w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66920" y="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【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牡丹亭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306864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汤显祖（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Arial"/>
                <a:ea typeface="黑体"/>
              </a:rPr>
              <a:t>四、思想文化价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19280" y="1413000"/>
            <a:ext cx="5267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丽娘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丽质天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聪慧过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热爱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热爱自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感丰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追求个性解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03640" y="980640"/>
            <a:ext cx="549432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en-US" sz="3200" spc="-1" strike="noStrike">
                <a:solidFill>
                  <a:srgbClr val="fb3109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b3109"/>
                </a:solidFill>
                <a:latin typeface="Arial"/>
              </a:rPr>
              <a:t>牡丹亭</a:t>
            </a:r>
            <a:r>
              <a:rPr b="1" lang="en-US" sz="3200" spc="-1" strike="noStrike">
                <a:solidFill>
                  <a:srgbClr val="fb3109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b3109"/>
                </a:solidFill>
                <a:latin typeface="Arial"/>
              </a:rPr>
              <a:t>的文化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杜丽娘为情而死、因情复生的故事，对摧残情性的封建礼教作了尖锐的批判，倡扬以情抗理，反对程朱理学，肯定和提倡人的自由权利和情感价值，透露出</a:t>
            </a:r>
            <a:r>
              <a:rPr b="1" lang="zh-CN" sz="2800" spc="-1" strike="noStrike" u="sng">
                <a:solidFill>
                  <a:srgbClr val="fb3109"/>
                </a:solidFill>
                <a:uFillTx/>
                <a:latin typeface="Arial"/>
              </a:rPr>
              <a:t>崇尚个性解放、突破禁欲主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时代精神，对于正在兴起的个性解放思潮起了推波助澜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03280" y="1557360"/>
            <a:ext cx="5554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爱与死”是文艺创作永恒的主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黑体"/>
              </a:rPr>
              <a:t>五、艺术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987280" y="1197000"/>
            <a:ext cx="5637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本出在全剧中的艺术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惊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了杜丽娘青春的觉醒，为因梦生病直至伤春而亡的情节提供了可信的依据。这出戏构思新奇，匠心独运，此前的所有笔墨都是为它而巧作安排，此后的情节又都是围绕它而展开。可以说，无此一出，便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牡丹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987280" y="260280"/>
            <a:ext cx="6156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功地刻画人物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层次丰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游园前：矜持娇羞，寂寞苦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游园时：惊诧感慨，悲叹幽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游园后：向往爱情，因爱而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法多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描写人物的外貌、行止来显示人物隐秘的内心世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景物描写，以烘托或反衬人物的情感心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倾诉和间接虚写来突出人物内心情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76720" y="404280"/>
            <a:ext cx="5410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曲词尖新工巧，绚丽多彩，富于诗情画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曲词：无论是写景、抒情、表白与沉思，无不缠绵悱恻，惊心动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修辞：谐音、双关、拟人、比喻、衬托、通感，恰到好处，含蓄优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用典：化用前人诗词曲名句，华美雅丽，声情并茂，不见斧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6059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99"/>
                </a:solidFill>
                <a:latin typeface="Arial"/>
                <a:ea typeface="黑体"/>
              </a:rPr>
              <a:t>知识拓展</a:t>
            </a:r>
            <a:r>
              <a:rPr b="0" lang="en-US" sz="4400" spc="-1" strike="noStrike">
                <a:solidFill>
                  <a:srgbClr val="cc3399"/>
                </a:solidFill>
                <a:latin typeface="Arial"/>
                <a:ea typeface="黑体"/>
              </a:rPr>
              <a:t>——</a:t>
            </a:r>
            <a:r>
              <a:rPr b="0" lang="zh-CN" sz="4400" spc="-1" strike="noStrike">
                <a:solidFill>
                  <a:srgbClr val="cc3399"/>
                </a:solidFill>
                <a:latin typeface="Arial"/>
                <a:ea typeface="黑体"/>
              </a:rPr>
              <a:t>昆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03280" y="1413000"/>
            <a:ext cx="5483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昆曲，发源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世纪苏州昆山的曲唱艺术体系，揉合了唱念做表、舞蹈及武术的表演艺术。昆曲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被联合国教科文组织列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人类口述和非物质遗产代表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。明代人称南戏为“传奇”。明以后，杂剧形渐衰落，“传奇”音乐独主剧坛，兼收杂剧音乐，改名昆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昆曲经典剧目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牡丹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72bOOOPIC9f1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116000" y="2781360"/>
            <a:ext cx="712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※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请观赏电视专题片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世界非物资文化遗产在中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昆曲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3109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fb3109"/>
                </a:solidFill>
                <a:latin typeface="Arial"/>
              </a:rPr>
              <a:t>皂罗袍</a:t>
            </a:r>
            <a:r>
              <a:rPr b="1" lang="en-US" sz="4400" spc="-1" strike="noStrike">
                <a:solidFill>
                  <a:srgbClr val="fb3109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b3109"/>
                </a:solidFill>
                <a:latin typeface="Arial"/>
              </a:rPr>
              <a:t>的</a:t>
            </a:r>
            <a:r>
              <a:rPr b="0" lang="zh-CN" sz="4400" spc="-1" strike="noStrike">
                <a:solidFill>
                  <a:srgbClr val="fb3109"/>
                </a:solidFill>
                <a:latin typeface="Arial"/>
              </a:rPr>
              <a:t>社会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708000" y="1197000"/>
            <a:ext cx="4783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杜丽娘初到园林观赏春光，心情是很激动的。先是一“惊”，惊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姹紫嫣红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喜人景色，更惊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似这般都付于断井颓垣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衰败景象。接着便是“怨”，埋怨爹娘向她瞒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恁般景致”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后又是“叹”，感叹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锦屏人忒看的这韶光贱！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春心的萌动，更是追求美好生活和自由人性的觉醒。这样的呼声代表了禁锢在封建闺房中的千万妇女的心愿，在当时具有反封建的进步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64000" y="333000"/>
            <a:ext cx="512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黛玉素习不大喜看戏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偶然两句吹到耳内，明明白白，一字不落，唱道是：‘原来姹紫嫣红开遍，似这般都付与断井颓垣。’林黛玉听了，倒也十分感慨缠绵，便止住步侧耳细听，又听唱道是：‘良辰美景奈何天，赏心乐事谁家院。’听了这两句，不觉点头自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侧耳时，只听唱道：‘则为你如花美眷，似水流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黛玉听了这两句，不觉心动神摇。又听道：‘你在幽闺自怜’等句，亦发如醉如痴，站立不住，便一蹲身坐在一块山子石上，细嚼‘如花美眷，似水流年’八个字的滋味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ws08061005"/>
          <p:cNvPicPr/>
          <p:nvPr/>
        </p:nvPicPr>
        <p:blipFill>
          <a:blip r:embed="rId1"/>
          <a:stretch/>
        </p:blipFill>
        <p:spPr>
          <a:xfrm>
            <a:off x="0" y="0"/>
            <a:ext cx="3059280" cy="436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cc3399"/>
                </a:solidFill>
                <a:latin typeface="Arial"/>
                <a:ea typeface="黑体"/>
              </a:rPr>
              <a:t>一、汤显祖与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cc3399"/>
                </a:solidFill>
                <a:latin typeface="Arial"/>
                <a:ea typeface="黑体"/>
              </a:rPr>
              <a:t>牡丹亭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  <a:ea typeface="黑体"/>
              </a:rPr>
              <a:t>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34920" y="1700280"/>
            <a:ext cx="4907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汤显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字义仍，号海若、若士，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代首屈一指的伟大戏剧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誉为“东方的莎士比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b31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310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b3109"/>
                </a:solidFill>
                <a:latin typeface="Arial"/>
                <a:ea typeface="楷体_GB2312"/>
              </a:rPr>
              <a:t>情有者理必无，理有者情必无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969cbf447838dad7b2b7dcc7"/>
          <p:cNvPicPr/>
          <p:nvPr/>
        </p:nvPicPr>
        <p:blipFill>
          <a:blip r:embed="rId1"/>
          <a:stretch/>
        </p:blipFill>
        <p:spPr>
          <a:xfrm>
            <a:off x="0" y="0"/>
            <a:ext cx="2916360" cy="3592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4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临川四梦（玉茗堂四梦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玉茗堂开春翠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新词传唱牡丹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伤心拍遍无人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自掐檀痕教小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一生四梦，得意处惟在</a:t>
            </a:r>
            <a:r>
              <a:rPr b="1" lang="zh-CN" sz="3600" spc="-1" strike="noStrike" u="sng">
                <a:solidFill>
                  <a:srgbClr val="fb3109"/>
                </a:solidFill>
                <a:uFillTx/>
                <a:latin typeface="Arial"/>
                <a:ea typeface="楷体_GB2312"/>
              </a:rPr>
              <a:t>牡丹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。”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d15717245bea4d4ad50742f1"/>
          <p:cNvPicPr/>
          <p:nvPr/>
        </p:nvPicPr>
        <p:blipFill>
          <a:blip r:embed="rId1"/>
          <a:stretch/>
        </p:blipFill>
        <p:spPr>
          <a:xfrm>
            <a:off x="5148360" y="260280"/>
            <a:ext cx="3778200" cy="3778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948000" y="-360"/>
            <a:ext cx="1987560" cy="63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下女子有情，宁有如杜丽娘者乎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丽娘者，乃可谓之有情人耳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不知所起，一往而深。生者可以死，死可以生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2011010513320463160"/>
          <p:cNvPicPr/>
          <p:nvPr/>
        </p:nvPicPr>
        <p:blipFill>
          <a:blip r:embed="rId1"/>
          <a:stretch/>
        </p:blipFill>
        <p:spPr>
          <a:xfrm>
            <a:off x="0" y="0"/>
            <a:ext cx="69483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0" y="549000"/>
            <a:ext cx="4572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Arial"/>
                <a:ea typeface="黑体"/>
              </a:rPr>
              <a:t>二、主要人物与情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由情而梦，由梦而死，死而复生，终成眷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南安太守杜宝夫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姐杜丽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师傅陈最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丫鬟春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书生柳梦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闺塾→游园→梦柳→写真→拾画→婚走→团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2011010513320463160"/>
          <p:cNvPicPr/>
          <p:nvPr/>
        </p:nvPicPr>
        <p:blipFill>
          <a:blip r:embed="rId1"/>
          <a:stretch/>
        </p:blipFill>
        <p:spPr>
          <a:xfrm>
            <a:off x="0" y="333360"/>
            <a:ext cx="4681440" cy="4092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U15P112T3D69073F48DT20040524095408"/>
          <p:cNvPicPr/>
          <p:nvPr/>
        </p:nvPicPr>
        <p:blipFill>
          <a:blip r:embed="rId2"/>
          <a:stretch/>
        </p:blipFill>
        <p:spPr>
          <a:xfrm>
            <a:off x="1116000" y="189000"/>
            <a:ext cx="2448000" cy="4653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杜丽娘的青春觉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b31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310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b3109"/>
                </a:solidFill>
                <a:latin typeface="Arial"/>
              </a:rPr>
              <a:t>牡丹亭上三生路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2009091922052110978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72bOOOPIC9f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6000" y="54900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99"/>
                </a:solidFill>
                <a:latin typeface="Arial"/>
                <a:ea typeface="黑体"/>
              </a:rPr>
              <a:t>三、文本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59280" y="1557360"/>
            <a:ext cx="5627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绕池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乌夜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丽娘在游园之前被春光吸引所生发的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步步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丽娘游园前对镜梳妆时的内心活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醉扶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丽娘沉浸于华美服饰和惊人丽质的自我欣赏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张继青 牡丹亭·游园[步步娇·醉扶归].mp3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33006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72bOOOPIC9f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419280" y="1052640"/>
            <a:ext cx="5338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皂罗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丽娘在观看园中景色时由喜转悲和由叹转怨的情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姐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杜丽娘对具体景物的感受，进一步抒发了哀怨之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隔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丽娘观景后的烦闷心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张继青 牡丹亭·游园[皂罗袍·好姐姐].mp3" descr=""/>
          <p:cNvPicPr/>
          <p:nvPr/>
        </p:nvPicPr>
        <p:blipFill>
          <a:blip r:embed="rId2"/>
          <a:stretch/>
        </p:blipFill>
        <p:spPr>
          <a:xfrm>
            <a:off x="6804000" y="371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327709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1:08:58Z</dcterms:created>
  <dc:creator/>
  <dc:description/>
  <cp:keywords/>
  <dc:language>en-US</dc:language>
  <cp:lastModifiedBy>ABC</cp:lastModifiedBy>
  <dcterms:modified xsi:type="dcterms:W3CDTF">2015-12-23T04:02:29Z</dcterms:modified>
  <cp:revision>20</cp:revision>
  <dc:subject/>
  <dc:title>【牡丹亭】</dc:title>
</cp:coreProperties>
</file>