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5F-D410-41B0-9435-D3D6629A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D59-A897-48F6-8294-F02917A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E2B-C5ED-41AE-B14F-CAA51E2A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7E3-6C0E-470C-BE23-0391CEA9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6CFC-84D3-481F-A287-378CA683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D0FE-F1C0-43DB-9CB0-405B6ED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6868-CDF4-486E-AE3B-F604D5F6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842-9F5F-4969-91CB-CC285DD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C88B-21D8-4DDD-8D40-B54302D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1B5-2BE9-4063-9AE6-806B840F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FF03-6539-4F9B-8C93-1C9BB44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12C-1462-46F7-9C3E-9ECD4B7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AC33-9695-41F1-A365-F8980D7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0D1-05AB-4318-9BF0-79FBA6C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A24-051E-4983-B3A2-A1BB5E5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25C-46FF-45B2-9D15-50707A46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C0BD-D7A2-486A-867E-5C0CEFBC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D52-56C6-4CAA-9B53-9F38037F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782-87A5-47EA-8072-D40982C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475-B07E-4BFC-AABF-F2BB1F17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5A3-6255-4783-B482-A9B6C24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1D5-A93A-471D-8F81-C6828B0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48D-5C16-4AF8-A614-0D3BC09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0D2-C45C-446F-BAE7-862DB61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22F1-3D41-4038-8149-EBDE78C832D9}" type="slidenum">
              <a:rPr b="0" lang="zh-CN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43C-4995-4689-BAE1-D05E082BE25C}" type="slidenum">
              <a:rPr b="0" lang="zh-CN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755200" y="649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62064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创艺繁综艺"/>
              </a:rPr>
              <a:t>面朝大海，春暖花开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39152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从明天起，和每一位亲人通信    …………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亲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告诉他们我的幸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那幸福的闪电告诉我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我将告诉每一个人          ………………</a:t>
            </a:r>
            <a:r>
              <a:rPr b="0" lang="zh-CN" sz="2400" spc="-1" strike="noStrike">
                <a:solidFill>
                  <a:srgbClr val="ffff66"/>
                </a:solidFill>
                <a:latin typeface="宋体"/>
              </a:rPr>
              <a:t>每个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给每一条河每一座山取一个温暖的名字 … </a:t>
            </a:r>
            <a:r>
              <a:rPr b="0" lang="zh-CN" sz="2400" spc="-1" strike="noStrike">
                <a:solidFill>
                  <a:srgbClr val="ffff66"/>
                </a:solidFill>
                <a:latin typeface="宋体"/>
              </a:rPr>
              <a:t>一切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陌生人，我也为你祝福      ………………</a:t>
            </a:r>
            <a:r>
              <a:rPr b="0" lang="zh-CN" sz="2400" spc="-1" strike="noStrike">
                <a:solidFill>
                  <a:srgbClr val="ffff66"/>
                </a:solidFill>
                <a:latin typeface="宋体"/>
              </a:rPr>
              <a:t>陌生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66"/>
                </a:solidFill>
                <a:uFillTx/>
                <a:latin typeface="幼圆"/>
                <a:ea typeface="幼圆"/>
              </a:rPr>
              <a:t>愿你</a:t>
            </a: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有一个灿烂的前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66"/>
                </a:solidFill>
                <a:uFillTx/>
                <a:latin typeface="幼圆"/>
                <a:ea typeface="幼圆"/>
              </a:rPr>
              <a:t>愿你</a:t>
            </a: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有情人终成眷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66"/>
                </a:solidFill>
                <a:uFillTx/>
                <a:latin typeface="幼圆"/>
                <a:ea typeface="幼圆"/>
              </a:rPr>
              <a:t>愿你</a:t>
            </a:r>
            <a:r>
              <a:rPr b="1" lang="zh-CN" sz="2400" spc="-1" strike="noStrike">
                <a:solidFill>
                  <a:srgbClr val="ffff66"/>
                </a:solidFill>
                <a:latin typeface="幼圆"/>
                <a:ea typeface="幼圆"/>
              </a:rPr>
              <a:t>在尘世获得幸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我只愿面朝大海，春暖花开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琥珀"/>
              </a:rPr>
              <a:t>……固守清高  孤独骄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04920"/>
            <a:ext cx="133200" cy="5932440"/>
          </a:xfrm>
          <a:custGeom>
            <a:avLst/>
            <a:gdLst>
              <a:gd name="textAreaLeft" fmla="*/ 0 w 133200"/>
              <a:gd name="textAreaRight" fmla="*/ 47880 w 133200"/>
              <a:gd name="textAreaTop" fmla="*/ 154440 h 5932440"/>
              <a:gd name="textAreaBottom" fmla="*/ 5778000 h 593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5146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温暖甜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开阔广博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97880" y="2362320"/>
            <a:ext cx="546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祝福尘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05920" y="281952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28800" y="640080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华文琥珀"/>
              </a:rPr>
              <a:t>——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琥珀"/>
              </a:rPr>
              <a:t>背离尘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219320"/>
            <a:ext cx="769644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面朝大海 （实写）      春暖花开（虚写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空旷                  轻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明丽                  纯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幼圆"/>
                <a:ea typeface="幼圆"/>
              </a:rPr>
              <a:t>不夸饰，也不拙朴，但显示了情感的复杂性，矛盾性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琥珀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572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向往幸福——祝福尘世——背离尘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198520"/>
            <a:ext cx="828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Verdana"/>
              </a:rPr>
              <a:t>面朝大海，春暖花开</a:t>
            </a: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》           </a:t>
            </a:r>
            <a:r>
              <a:rPr b="1" lang="zh-CN" sz="4800" spc="-1" strike="noStrike">
                <a:solidFill>
                  <a:srgbClr val="ffffcc"/>
                </a:solidFill>
                <a:latin typeface="Verdana"/>
                <a:ea typeface="方正舒体"/>
              </a:rPr>
              <a:t>畅想自己将要拥有喂马、劈柴、有一所房子等平凡生活。诗人认为拥有了这些才是幸福的人，表达了诗人对尘世幸福生活的向往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677880"/>
            <a:ext cx="21333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板书设计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286000"/>
            <a:ext cx="76197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向往幸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春暖花开                                    面朝大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温暖甜美            祝福尘世        清新潮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背离尘世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8195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05320"/>
            <a:ext cx="99072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15000" y="3581280"/>
            <a:ext cx="533520" cy="12193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2666880"/>
            <a:ext cx="91440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714640" y="2743200"/>
            <a:ext cx="60948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7280" y="3886200"/>
            <a:ext cx="533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理解诗意：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、</a:t>
            </a: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关于“大海”的象征意义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海子是中国当代诗坛少有的几个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纯粹诗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之一。赏析诗人的思想感情，应从诗歌最主要的意象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大海”的象征含义入手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海子曾写道：“要热爱生活不要热爱自我，要热爱风景而不要仅仅热爱自己的眼睛，这诗歌的全部意思是什么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?……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做一个诗人，你必须热爱人类的秘密，在神圣的黑夜中走遍大地，热爱人类的痛苦和幸福，忍受那些必须忍受的，歌唱那些应该歌唱的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海子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我热爱的诗人    荷尔德林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5084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</a:rPr>
              <a:t>思考回答：根据上述海子其人其言，你认为他有着怎样的胸怀？“大海”能引起你哪些联想？由此看来，“大海”在诗中可能有怎样的象征意义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cc66"/>
                </a:solidFill>
                <a:latin typeface="Times New Roman"/>
              </a:rPr>
              <a:t>一家之言：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海子是一个内心洋溢这“博爱”、“泛爱”的人，“大海”当是博大胸怀的象征，只有宽容博大，才能有“春暖花开”的愉悦心境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海子一向沉迷在个人王国里孤芳自赏，却有着走出自我，进入世俗生活的冲动。“大海”是广阔的世俗生活的象征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896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Verdana"/>
              </a:rPr>
              <a:t>有没有第三种？说说你的看法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0099"/>
                </a:solidFill>
                <a:latin typeface="Times New Roman"/>
              </a:rPr>
              <a:t>理解诗意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、两次“面朝大海，春暖花开”的不同意味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这首诗两次说“面朝大海，春暖花开”，都表达美好的情感，而情味有所不同。第一次说出，是第一章情调的顺向发展，即“喂马，劈柴”等与“面朝大海，春暖花开”在情调上是一致的；第二次说出，是第二、三章情调的逆向发展，即本来顺着“愿你”“愿你”的祝祷，最后应是更昂奋的博爱情怀的展露，可是经由“愿你在尘世获得幸福”出人意料的一转，“我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只愿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面朝大海，春暖花开”，犹言尘世幸福是你们的，他人的，我海子仍旧偏安一隅，独守清高。这后一个“面朝大海，春暖花开”，显示出诗人陷入矛盾境地：刚对世人表露赤诚心怀，很快转过身去，面朝大海，背对大陆，背对众人；在人生观、价值观上既肯定世俗生活，又不甘于堕入尘世成为俗人。诗人心怀始而热情开放，终而收合封闭，这就是这首诗的情感发展的线路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1752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21140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1720" y="390600"/>
            <a:ext cx="5410440" cy="65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2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cc"/>
                </a:solidFill>
                <a:latin typeface="华文新魏"/>
                <a:ea typeface="华文新魏"/>
              </a:rPr>
              <a:t>活在珍贵的人间     </a:t>
            </a:r>
            <a:r>
              <a:rPr b="0" lang="zh-CN" sz="2400" spc="-1" strike="noStrike">
                <a:solidFill>
                  <a:srgbClr val="ccffcc"/>
                </a:solidFill>
                <a:latin typeface="方正舒体"/>
                <a:ea typeface="华文隶书"/>
              </a:rPr>
              <a:t>海</a:t>
            </a:r>
            <a:r>
              <a:rPr b="0" lang="zh-CN" sz="2400" spc="-1" strike="noStrike">
                <a:solidFill>
                  <a:srgbClr val="ccffcc"/>
                </a:solidFill>
                <a:latin typeface="华文新魏"/>
                <a:ea typeface="华文隶书"/>
              </a:rPr>
              <a:t>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活在这珍贵的人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太阳强烈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水波温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一层层白云覆盖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踩在青草上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感到自己是彻底干净的黑土块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活在这珍贵的人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泥土高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扑打面颊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活在这珍贵的人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人类和植物一样幸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隶书"/>
                <a:ea typeface="隶书"/>
              </a:rPr>
              <a:t>爱情和雨水一样幸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5400000">
            <a:off x="5616360" y="1881000"/>
            <a:ext cx="43909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汉鼎繁中变"/>
              </a:rPr>
              <a:t>结束课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汉鼎繁中变"/>
              <a:ea typeface="汉鼎繁中变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66"/>
                </a:solidFill>
                <a:latin typeface="Times New Roman"/>
              </a:rPr>
              <a:t>海子</a:t>
            </a:r>
            <a:r>
              <a:rPr b="0" i="1" lang="zh-CN" sz="4400" spc="-1" strike="noStrike">
                <a:solidFill>
                  <a:srgbClr val="ffcc66"/>
                </a:solidFill>
                <a:latin typeface="Times New Roman"/>
              </a:rPr>
              <a:t>简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海子（１９６４－１９８９），原名查海生，安徽怀宁人。海子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6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月出于安徽省怀宁县，一直在农村长大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79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岁时就考大了北京大学法律系，在大学期间就开始诗歌创作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8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年在北大毕业后分配到北京中国政法大学哲学教研室工作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89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日在山海关卧轨自杀，年方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岁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86320" y="1628640"/>
            <a:ext cx="45036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海子在不到七年的创作生涯里，留下了大量的文学作品，包括诗歌、小说、戏剧、论文等。他所写的二百余首抒情诗和七部长诗影响较大，他的抒情诗有浪漫的、梦幻的色彩，他把自己童年与少年时代的乡村生活，凝结成质朴的世界，赋予麦地、村庄、月亮、天空等意象以新的诗意，使它们与现代社会的个人经验产生了联系。他的诗歌理想和他为此付出的青春与生命的代价，在一定程度上对九十年代的诗歌产生了影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海子一生短暂却成就卓著，是当代学院派新诗人的代表。他自认为主要擅长写长诗，但他的众多的抒情短诗也斐然成章。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面朝大海，春暖花开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就是他的抒情短诗中的佳作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286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海子：他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岁上北大之前，一直生活在农村，在封闭的环境中长大；毕业后又蛰居京郊昌平又生活在封闭的环境中。他似乎拒绝改变他生活 的封闭性。在他的房间里，你找不到电视机、录音机，甚至收音机。海子在贫穷、单调与孤独中写作，他既不会跳舞、游泳，也不会骑自行车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cc66"/>
                </a:solidFill>
                <a:latin typeface="Times New Roman"/>
              </a:rPr>
              <a:t>诗歌内容（</a:t>
            </a: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i="1" lang="zh-CN" sz="4800" spc="-1" strike="noStrike">
                <a:solidFill>
                  <a:srgbClr val="ffcc66"/>
                </a:solidFill>
                <a:latin typeface="Times New Roman"/>
              </a:rPr>
              <a:t>）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从明天起，做一个幸福的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喂马，劈柴，周游世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从明天起，关心粮食和蔬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有一所房子，面朝大海，春暖花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这首诗共三章。第一章虚构一幅自由独立、远离尘世喧嚣的生活图景，一股清新潮润的气息扑面而来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这幅生活图景里有一些清晰的意象（“喂马”“ 劈柴”“ 面朝大海，春暖花开”等，我们姑且视动作为意象），其中“大海”是核心意象。大海对海子既陌生（他出生、成长、读书、工作，都远离大海），又极有诱惑力（他有许多诗都写到大海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在这首诗创造“大海”的意象，透露诗人内心的一些动向。诗人理解的“幸福”生活是平凡人的生活（“关心粮食和蔬菜”），是自由、闲散人的生活（“喂马，劈柴”，“周游世界”），是隐逸诗人的生活（“面朝大海，春暖花开”）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219320"/>
            <a:ext cx="9144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从明天起，做一个幸福的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喂马，劈柴，周游世界         　…………………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幼圆"/>
              </a:rPr>
              <a:t> 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闲散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从明天起，关心粮食和蔬菜　　　……………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平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幼圆"/>
              </a:rPr>
              <a:t>我有一所房子，面朝大海，春暖花开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…… 隐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2590920"/>
            <a:ext cx="549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2209680"/>
            <a:ext cx="75960" cy="1752840"/>
          </a:xfrm>
          <a:custGeom>
            <a:avLst/>
            <a:gdLst>
              <a:gd name="textAreaLeft" fmla="*/ 0 w 75960"/>
              <a:gd name="textAreaRight" fmla="*/ 2736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2743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清新潮润（虚无缥缈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向往幸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1981080"/>
            <a:ext cx="0" cy="83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第二、三章表达对亲情友情的珍惜，一股温暖甜美的气息扑面而来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从明天起，和每一个亲人通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告诉他们我的幸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那幸福的闪电告诉我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将告诉每一个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给每一条河每一座山取一个温暖的名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陌生人，我也为你祝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愿你有一个灿烂的前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愿你有情人终成眷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愿你在尘世获得幸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只愿面朝大海，春暖花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78544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第二章抒发的是亲情，第三章抒发的是友情。从第二章到第三章，情感涉及面次第展开，胸襟逐渐开阔。对“陌生人”的三“愿”中，最后的“愿你在尘世获得幸福”是总括性的，“尘世”二字透露诗人此时此地对于“幸福”的理解。两章四次提到“幸福”，这“幸福”不仅属于海子，更属于全社会的人，表明海子内心此时洋溢着博爱、泛爱之情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海子写诗一向是很“自我”的，沉迷在个人王国里孤芳自赏，如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黎明和黄昏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中说“那是诗人孤独的王座”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中说“秋天深了，王在写诗”。不过这首诗显示出诗人走出狭小的“自我”，走向广大的社会的意向。这两章由描绘意象转为抒发情感，而且由写个人化情感转为社会人情感，进一步肯定世俗生活，但是新的眼光和立场来看待和肯定世俗生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7:59:06Z</dcterms:created>
  <dc:creator>李建平</dc:creator>
  <dc:description/>
  <dc:language>en-US</dc:language>
  <cp:lastModifiedBy>1</cp:lastModifiedBy>
  <dcterms:modified xsi:type="dcterms:W3CDTF">2003-09-07T00:01:02Z</dcterms:modified>
  <cp:revision>45</cp:revision>
  <dc:subject/>
  <dc:title>PowerPoint 演示文稿</dc:title>
</cp:coreProperties>
</file>