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jpeg" ContentType="image/jpeg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104-D40D-4D15-A969-CF892385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355-EFF2-4621-9A90-66258936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02F-A18B-4F4F-AB87-24106A23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437-2739-4955-91FC-87B46E3E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5653-CB07-4DF4-BD47-EBBD4607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3737-8A16-4F7C-BEAF-6DC7C077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1DF0-DB3B-4BFB-866E-A94A90B6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8138-0DF0-4B8F-9926-75AC7A41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4B32-6D7A-49BC-A08B-F7C3C7B6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8E1C-5C7A-4465-B29D-0C5FB64A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27AF-82C2-4A06-9418-0D29336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3C5-6944-4CB7-9618-BE6061EB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CEA0-DE5C-481A-AFF0-3BAFD0E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6323-6916-4C28-A813-4ACFEAFC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18B3-67A4-476C-9A24-2205C2C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F62E-3811-4564-9019-89535A4A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5B29-405D-4257-9CD1-E6F29930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2B7-E611-4668-ADA5-C39B16AA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DC5-1FDD-4332-A268-DA1F1179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C84-C72E-4DFD-87AB-18607649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B20-67ED-4B66-822E-5397A2F3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5E6-816B-412B-92A7-02855BA5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EB0-09CC-4C14-A4F4-5F56449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B72-D0FD-4860-ABF3-ACBB71A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512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矩形 512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矩形 512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矩形 512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矩形 512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矩形 512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矩形 512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9789-8224-4212-8F2E-72AB32B85F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6145"/>
          <p:cNvGrpSpPr/>
          <p:nvPr/>
        </p:nvGrpSpPr>
        <p:grpSpPr>
          <a:xfrm>
            <a:off x="135000" y="1143000"/>
            <a:ext cx="9009000" cy="1052640"/>
            <a:chOff x="135000" y="1143000"/>
            <a:chExt cx="9009000" cy="1052640"/>
          </a:xfrm>
        </p:grpSpPr>
        <p:grpSp>
          <p:nvGrpSpPr>
            <p:cNvPr id="49" name="组合 6146"/>
            <p:cNvGrpSpPr/>
            <p:nvPr/>
          </p:nvGrpSpPr>
          <p:grpSpPr>
            <a:xfrm>
              <a:off x="425520" y="1251000"/>
              <a:ext cx="711360" cy="474840"/>
              <a:chOff x="425520" y="1251000"/>
              <a:chExt cx="711360" cy="474840"/>
            </a:xfrm>
          </p:grpSpPr>
          <p:sp>
            <p:nvSpPr>
              <p:cNvPr id="50" name="矩形 6147"/>
              <p:cNvSpPr/>
              <p:nvPr/>
            </p:nvSpPr>
            <p:spPr>
              <a:xfrm>
                <a:off x="425520" y="12510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矩形 6148"/>
              <p:cNvSpPr/>
              <p:nvPr/>
            </p:nvSpPr>
            <p:spPr>
              <a:xfrm>
                <a:off x="808560" y="1251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组合 6149"/>
            <p:cNvGrpSpPr/>
            <p:nvPr/>
          </p:nvGrpSpPr>
          <p:grpSpPr>
            <a:xfrm>
              <a:off x="549360" y="1673280"/>
              <a:ext cx="737640" cy="474840"/>
              <a:chOff x="549360" y="1673280"/>
              <a:chExt cx="737640" cy="474840"/>
            </a:xfrm>
          </p:grpSpPr>
          <p:sp>
            <p:nvSpPr>
              <p:cNvPr id="53" name="矩形 6150"/>
              <p:cNvSpPr/>
              <p:nvPr/>
            </p:nvSpPr>
            <p:spPr>
              <a:xfrm>
                <a:off x="549360" y="16732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矩形 6151"/>
              <p:cNvSpPr/>
              <p:nvPr/>
            </p:nvSpPr>
            <p:spPr>
              <a:xfrm>
                <a:off x="918000" y="1673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矩形 6152"/>
            <p:cNvSpPr/>
            <p:nvPr/>
          </p:nvSpPr>
          <p:spPr>
            <a:xfrm>
              <a:off x="135000" y="1600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矩形 6153"/>
            <p:cNvSpPr/>
            <p:nvPr/>
          </p:nvSpPr>
          <p:spPr>
            <a:xfrm>
              <a:off x="770040" y="11430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矩形 6154"/>
            <p:cNvSpPr/>
            <p:nvPr/>
          </p:nvSpPr>
          <p:spPr>
            <a:xfrm flipV="1">
              <a:off x="451080" y="1965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82D1-2086-4343-B47F-3A3243CA0781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华文行楷"/>
              </a:rPr>
              <a:t>麦琪的礼物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133720" y="2666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欧</a:t>
            </a:r>
            <a:r>
              <a:rPr b="0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.</a:t>
            </a:r>
            <a:r>
              <a:rPr b="0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亨利（美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矩形 2051"/>
          <p:cNvSpPr/>
          <p:nvPr/>
        </p:nvSpPr>
        <p:spPr>
          <a:xfrm>
            <a:off x="4390920" y="44308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对象 2052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4732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277720" y="685440"/>
            <a:ext cx="24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写作特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精巧的构思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矩形 14340"/>
          <p:cNvSpPr txBox="1"/>
          <p:nvPr/>
        </p:nvSpPr>
        <p:spPr>
          <a:xfrm>
            <a:off x="1676520" y="609480"/>
            <a:ext cx="3581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写作特色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文本框 14341"/>
          <p:cNvSpPr/>
          <p:nvPr/>
        </p:nvSpPr>
        <p:spPr>
          <a:xfrm>
            <a:off x="838080" y="33526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丰富的细节描写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文本框 14342"/>
          <p:cNvSpPr/>
          <p:nvPr/>
        </p:nvSpPr>
        <p:spPr>
          <a:xfrm>
            <a:off x="838080" y="4114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幽默风趣的语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文本框 14343"/>
          <p:cNvSpPr/>
          <p:nvPr/>
        </p:nvSpPr>
        <p:spPr>
          <a:xfrm>
            <a:off x="838080" y="480060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4.</a:t>
            </a:r>
            <a:r>
              <a:rPr b="0" lang="zh-CN" sz="2400" spc="-1" strike="noStrike">
                <a:solidFill>
                  <a:srgbClr val="ffcf01"/>
                </a:solidFill>
                <a:latin typeface="Tahoma"/>
              </a:rPr>
              <a:t>讲故事一样的叙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联机映像占位符 14344" descr="C:\Program Files\Common Files\Microsoft Shared\Clipart\cagcat50\BD05545_.WMF"/>
          <p:cNvPicPr/>
          <p:nvPr/>
        </p:nvPicPr>
        <p:blipFill>
          <a:blip r:embed="rId1"/>
          <a:stretch/>
        </p:blipFill>
        <p:spPr>
          <a:xfrm>
            <a:off x="4724280" y="2201760"/>
            <a:ext cx="38862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5361"/>
          <p:cNvSpPr/>
          <p:nvPr/>
        </p:nvSpPr>
        <p:spPr>
          <a:xfrm>
            <a:off x="1295280" y="990720"/>
            <a:ext cx="603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ahoma"/>
                <a:ea typeface="华文行楷"/>
              </a:rPr>
              <a:t>研读课文，思考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文本框 15362"/>
          <p:cNvSpPr/>
          <p:nvPr/>
        </p:nvSpPr>
        <p:spPr>
          <a:xfrm>
            <a:off x="990720" y="2209680"/>
            <a:ext cx="7483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小说可以说是一部人类社会的百科全书。</a:t>
            </a:r>
            <a:r>
              <a:rPr b="0" lang="en-US" sz="4000" spc="-1" strike="noStrike">
                <a:solidFill>
                  <a:srgbClr val="ff00ff"/>
                </a:solidFill>
                <a:latin typeface="Tahoma"/>
                <a:ea typeface="隶书"/>
              </a:rPr>
              <a:t>《</a:t>
            </a:r>
            <a:r>
              <a:rPr b="0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麦琪的礼物</a:t>
            </a:r>
            <a:r>
              <a:rPr b="0" lang="en-US" sz="4000" spc="-1" strike="noStrike">
                <a:solidFill>
                  <a:srgbClr val="ff00ff"/>
                </a:solidFill>
                <a:latin typeface="Tahoma"/>
                <a:ea typeface="隶书"/>
              </a:rPr>
              <a:t>》</a:t>
            </a:r>
            <a:r>
              <a:rPr b="0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歌颂了纯洁的爱情，</a:t>
            </a:r>
            <a:r>
              <a:rPr b="0" lang="en-US" sz="4000" spc="-1" strike="noStrike">
                <a:solidFill>
                  <a:srgbClr val="ff00ff"/>
                </a:solidFill>
                <a:latin typeface="Tahoma"/>
                <a:ea typeface="隶书"/>
              </a:rPr>
              <a:t>《</a:t>
            </a:r>
            <a:r>
              <a:rPr b="0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我的叔叔于勒</a:t>
            </a:r>
            <a:r>
              <a:rPr b="0" lang="en-US" sz="4000" spc="-1" strike="noStrike">
                <a:solidFill>
                  <a:srgbClr val="ff00ff"/>
                </a:solidFill>
                <a:latin typeface="Tahoma"/>
                <a:ea typeface="隶书"/>
              </a:rPr>
              <a:t>》</a:t>
            </a:r>
            <a:r>
              <a:rPr b="0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则暴露了亲情冷漠的社会弊病；人性既有光明也有阴暗面，对此你是怎样认识的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图片 15363" descr="C:\Program Files\Common Files\Microsoft Shared\Clipart\cagcat50\PE02622_.wmf"/>
          <p:cNvPicPr/>
          <p:nvPr/>
        </p:nvPicPr>
        <p:blipFill>
          <a:blip r:embed="rId1"/>
          <a:stretch/>
        </p:blipFill>
        <p:spPr>
          <a:xfrm>
            <a:off x="6019920" y="533520"/>
            <a:ext cx="2590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6385"/>
          <p:cNvSpPr/>
          <p:nvPr/>
        </p:nvSpPr>
        <p:spPr>
          <a:xfrm>
            <a:off x="1279440" y="1087560"/>
            <a:ext cx="519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布置作业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文本框 16386"/>
          <p:cNvSpPr/>
          <p:nvPr/>
        </p:nvSpPr>
        <p:spPr>
          <a:xfrm>
            <a:off x="533520" y="2057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课外阅读欧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亨利的另一代表作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警察和赞美诗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文本框 16387"/>
          <p:cNvSpPr/>
          <p:nvPr/>
        </p:nvSpPr>
        <p:spPr>
          <a:xfrm>
            <a:off x="533520" y="32767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改写练习：本文是以德拉卖掉心爱的头发为杰姆买回表链为明线叙事的，试以杰姆卖掉表链为德拉买发梳为明线改写小说的情节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图片 16388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6554880" y="3505320"/>
            <a:ext cx="2589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学习目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81240" y="2666520"/>
            <a:ext cx="9296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学习巧用悬念安排故事情节的写法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体会文中的细节描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品味本文幽默风趣的语言风格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对象 1027" descr=""/>
          <p:cNvPicPr/>
          <p:nvPr/>
        </p:nvPicPr>
        <p:blipFill>
          <a:blip r:embed="rId2"/>
          <a:stretch/>
        </p:blipFill>
        <p:spPr>
          <a:xfrm>
            <a:off x="6553080" y="4572000"/>
            <a:ext cx="19828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作者简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7760" y="20570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亨利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62-191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），原名威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锡特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波特，是美国著名的短篇小说家。出生于美国北卡罗来纳州的一个医生家庭。他一生的经历非常丰富。幼年丧母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岁即走向社会，先后做过药房学徒、牧羊工、会计和银行出纳员等。后来他被人控告，涉嫌盗用公款。为了避免受审，他背井离乡到处流浪。后因妻子病重，冒险回家而被捕入狱。贫困的岁月，流浪的生活，监狱的禁闭，以及和各种各样人物的接触，大大丰富了他的创作题材。于是，他在狱中开始以“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亨利”为笔名写短篇小说。一生创作了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多篇短篇小说和一篇长篇小说，代表作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麦琪的礼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警察和赞美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最后的藤叶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等。他的作品以轻松幽默的笔调，描写大都市里小人物的不幸命运和美好品质，揭露上层社会的无耻与专横腐败。艺术上精于构思，往往有曲折的情节和出人意料的结尾，使人回味无穷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联机映像占位符 7174" descr="C:\Program Files\Common Files\Microsoft Shared\Clipart\cagcat50\PE01753_.wmf"/>
          <p:cNvPicPr/>
          <p:nvPr/>
        </p:nvPicPr>
        <p:blipFill>
          <a:blip r:embed="rId2"/>
          <a:stretch/>
        </p:blipFill>
        <p:spPr>
          <a:xfrm>
            <a:off x="320760" y="2286000"/>
            <a:ext cx="2574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掌握下列词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馈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uì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抽噎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ē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吝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ìn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啬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è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鹌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ān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鹑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hún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晦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uì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相形见绌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hù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忐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ǎn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忑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è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不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白皙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xī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玳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瑁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啜（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huò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）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矩形 8196"/>
          <p:cNvSpPr/>
          <p:nvPr/>
        </p:nvSpPr>
        <p:spPr>
          <a:xfrm>
            <a:off x="-2895480" y="3733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得拉冒着落个吝啬的恶名，从掂斤拨两的交易中凑了一块八角七分钱是为什么？暗示了德拉的家境如何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图片 8197" descr="C:\Program Files\Common Files\Microsoft Shared\Clipart\cagcat50\PE03166_.wmf"/>
          <p:cNvPicPr/>
          <p:nvPr/>
        </p:nvPicPr>
        <p:blipFill>
          <a:blip r:embed="rId2"/>
          <a:stretch/>
        </p:blipFill>
        <p:spPr>
          <a:xfrm>
            <a:off x="5943600" y="1523880"/>
            <a:ext cx="3200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ahoma"/>
              </a:rPr>
              <a:t>课文以时间先后为序、以德拉为中心叙事，可分为三部分：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一部分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-22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德拉为丈夫买礼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二部分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3-44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杰姆送德拉礼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三部分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5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议论，画龙点睛地说明德拉和杰姆是麦琪，他们虽牺牲了最宝贵的东西，却拥有世间最宝贵的东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爱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矩形 9219"/>
          <p:cNvSpPr/>
          <p:nvPr/>
        </p:nvSpPr>
        <p:spPr>
          <a:xfrm>
            <a:off x="1533600" y="54021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图片 9220" descr="C:\Program Files\Common Files\Microsoft Shared\Clipart\cagcat50\NA00864_.wmf"/>
          <p:cNvPicPr/>
          <p:nvPr/>
        </p:nvPicPr>
        <p:blipFill>
          <a:blip r:embed="rId2"/>
          <a:stretch/>
        </p:blipFill>
        <p:spPr>
          <a:xfrm>
            <a:off x="3657600" y="5029200"/>
            <a:ext cx="213372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ahoma"/>
              </a:rPr>
              <a:t>速读文章第一部分，思考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76320" y="-1133280"/>
            <a:ext cx="76320" cy="46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文本框 10243"/>
          <p:cNvSpPr/>
          <p:nvPr/>
        </p:nvSpPr>
        <p:spPr>
          <a:xfrm>
            <a:off x="1143000" y="30481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德拉和杰姆各自引以为傲的东西是什么？德拉牺牲了什么来为杰姆买了一样什么圣诞礼物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文本框 10244"/>
          <p:cNvSpPr/>
          <p:nvPr/>
        </p:nvSpPr>
        <p:spPr>
          <a:xfrm>
            <a:off x="245520" y="3733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文本框 10245"/>
          <p:cNvSpPr/>
          <p:nvPr/>
        </p:nvSpPr>
        <p:spPr>
          <a:xfrm>
            <a:off x="1143000" y="3886200"/>
            <a:ext cx="76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小说一开篇就写德拉只有一块八角七分钱，而且是她在掂斤拨两的交易中落个吝啬的恶名中省下的，因为德拉想为丈夫买圣诞礼物。本文开篇设置悬念，给读者以阅读上的等待，吸引读者注意力；也暗示了德拉家境贫寒、经济拮据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文本框 10246"/>
          <p:cNvSpPr/>
          <p:nvPr/>
        </p:nvSpPr>
        <p:spPr>
          <a:xfrm>
            <a:off x="1143000" y="22305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得拉冒着落个吝啬的恶名，从掂斤拨两的交易中凑了一块八角七分钱是    为什么？暗示了德拉的家境如何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文本框 10247"/>
          <p:cNvSpPr/>
          <p:nvPr/>
        </p:nvSpPr>
        <p:spPr>
          <a:xfrm>
            <a:off x="1143000" y="5181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德拉有一头美丽的长发，杰姆有一只三代祖传的金表，足以令他们引以为傲。所以德拉卖掉了自己的头发为杰姆买了一条白金表链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图片 10248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7924680" y="914400"/>
            <a:ext cx="86220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1265"/>
          <p:cNvSpPr/>
          <p:nvPr/>
        </p:nvSpPr>
        <p:spPr>
          <a:xfrm>
            <a:off x="1508040" y="108756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阅读课文第二部分，讨论以下问题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文本框 11266"/>
          <p:cNvSpPr/>
          <p:nvPr/>
        </p:nvSpPr>
        <p:spPr>
          <a:xfrm>
            <a:off x="1143000" y="19810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为什么杰姆回来时有一种德拉捉摸不透的表情？杰姆买回了什么？这样的巧合可信吗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文本框 11267"/>
          <p:cNvSpPr/>
          <p:nvPr/>
        </p:nvSpPr>
        <p:spPr>
          <a:xfrm>
            <a:off x="1143000" y="2743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课文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小节中有这样一句“麦琪带来了珍贵的礼物，但是其中没有那样东西。”联系上下文，说说这“东西”是什么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文本框 11268"/>
          <p:cNvSpPr/>
          <p:nvPr/>
        </p:nvSpPr>
        <p:spPr>
          <a:xfrm>
            <a:off x="0" y="3276720"/>
            <a:ext cx="13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ahoma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文本框 11269"/>
          <p:cNvSpPr/>
          <p:nvPr/>
        </p:nvSpPr>
        <p:spPr>
          <a:xfrm>
            <a:off x="1066680" y="365760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杰姆为他深爱的德拉，牺牲了祖传三代的金表，买回一套美丽的发梳，却没料到德拉已剪掉了美丽的金发，他的礼物变成了无用的东西，所以他的表情十分奇怪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杰姆夫妇虽然贫穷，却深爱对方，都想在圣诞节送给对方最珍贵的礼物，他们为了对方，勇于自我牺牲，无私奉献，所以才会卖掉自己最心爱的东西，给对方买礼物。因此这种巧合在情理之中，是可信的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文本框 11270"/>
          <p:cNvSpPr/>
          <p:nvPr/>
        </p:nvSpPr>
        <p:spPr>
          <a:xfrm>
            <a:off x="1143000" y="54864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圣诞节麦琪赠送礼物，其中没有的那样东西是“爱”、“纯洁的爱”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图片 11271" descr="C:\Program Files\Common Files\Microsoft Shared\Clipart\cagcat50\SO02963_.WMF"/>
          <p:cNvPicPr/>
          <p:nvPr/>
        </p:nvPicPr>
        <p:blipFill>
          <a:blip r:embed="rId1"/>
          <a:stretch/>
        </p:blipFill>
        <p:spPr>
          <a:xfrm>
            <a:off x="6629400" y="4973760"/>
            <a:ext cx="223992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2289"/>
          <p:cNvSpPr/>
          <p:nvPr/>
        </p:nvSpPr>
        <p:spPr>
          <a:xfrm>
            <a:off x="1432080" y="101124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朗读第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小节，讨论以下问题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文本框 12290"/>
          <p:cNvSpPr/>
          <p:nvPr/>
        </p:nvSpPr>
        <p:spPr>
          <a:xfrm>
            <a:off x="990720" y="1905120"/>
            <a:ext cx="74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6600ff"/>
                </a:solidFill>
                <a:latin typeface="Tahoma"/>
              </a:rPr>
              <a:t>小说的故事已叙述完毕，作者为什么还要加上这段议论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文本框 12292"/>
          <p:cNvSpPr/>
          <p:nvPr/>
        </p:nvSpPr>
        <p:spPr>
          <a:xfrm>
            <a:off x="990720" y="2666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6600ff"/>
                </a:solidFill>
                <a:latin typeface="Tahoma"/>
              </a:rPr>
              <a:t>从本段中找出能点明全文主旨的句子，看看表达了作者怎样的感情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文本框 12293"/>
          <p:cNvSpPr/>
          <p:nvPr/>
        </p:nvSpPr>
        <p:spPr>
          <a:xfrm>
            <a:off x="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明确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文本框 12294"/>
          <p:cNvSpPr/>
          <p:nvPr/>
        </p:nvSpPr>
        <p:spPr>
          <a:xfrm>
            <a:off x="1066680" y="37339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本段议论既概括了全文主要内容“那两个住在一间公寓里的笨孩子，极不聪明地为对方牺牲了他们家里最宝贵的东西”，又画龙点睛地点明了全文主旨：“在馈赠礼物的人当中，他们两个是最聪明的。在一切接受礼物的人当中，像他们这样的人也是最聪明的”。因为他们馈赠的和得到的已经不仅是礼物，更是世间最宝贵的东西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真情！表达了作者对他们崇高品行的赞美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图片 12297" descr="C:\Program Files\Common Files\Microsoft Shared\Clipart\cagcat50\BD04924_.WMF"/>
          <p:cNvPicPr/>
          <p:nvPr/>
        </p:nvPicPr>
        <p:blipFill>
          <a:blip r:embed="rId2"/>
          <a:stretch/>
        </p:blipFill>
        <p:spPr>
          <a:xfrm>
            <a:off x="7542360" y="4800600"/>
            <a:ext cx="1601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17409"/>
          <p:cNvSpPr/>
          <p:nvPr/>
        </p:nvSpPr>
        <p:spPr>
          <a:xfrm>
            <a:off x="1432080" y="1163520"/>
            <a:ext cx="46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分析人物形象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文本框 17410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德拉：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她有着让希巴女皇的“珠宝和首饰相形见绌”的金发，    可以想见她的美丽。她对贫苦平淡的生活心静如水，也没有渴望表现自己的骚动。小说细致地描写了她无钱为丈夫买礼物的焦灼心情，她上街卖发买表链的急迫，回家后为了不让丈夫难过精心修饰短发，这一切都深刻细腻地表现了她深厚诚挚的爱情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文本框 17411"/>
          <p:cNvSpPr/>
          <p:nvPr/>
        </p:nvSpPr>
        <p:spPr>
          <a:xfrm>
            <a:off x="609480" y="3581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杰姆：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他在小说中着墨并不算多，作者对他没有什么深入的刻画，只是用“很瘦削，非常严肃”稍加润色。不过从他卖掉祖传金表为妻子买礼物，以及回家后一系列的言行，都表现出他是一位体贴妻子、纯真善良的男人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文本框 17412"/>
          <p:cNvSpPr/>
          <p:nvPr/>
        </p:nvSpPr>
        <p:spPr>
          <a:xfrm>
            <a:off x="1447920" y="4800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德拉和杰姆夫妇是挣扎在社会底层的小人物，但是苦难的生活并没有消磨尽他们纯真的感情。他们勇于自我牺牲，无私奉献，仍保持着纯朴、善良的美德。在人性化的时代，他们是真正有智慧、有勇气的“麦琪”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图片 17413" descr="C:\Program Files\Common Files\Microsoft Shared\Clipart\cagcat50\SY00451_.wmf"/>
          <p:cNvPicPr/>
          <p:nvPr/>
        </p:nvPicPr>
        <p:blipFill>
          <a:blip r:embed="rId1"/>
          <a:stretch/>
        </p:blipFill>
        <p:spPr>
          <a:xfrm>
            <a:off x="7010280" y="48769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03:54:50Z</dcterms:created>
  <dc:creator>马鸿燕</dc:creator>
  <dc:description/>
  <dc:language>en-US</dc:language>
  <cp:lastModifiedBy>admin</cp:lastModifiedBy>
  <dcterms:modified xsi:type="dcterms:W3CDTF">2019-04-04T01:20:39Z</dcterms:modified>
  <cp:revision>14</cp:revision>
  <dc:subject/>
  <dc:title>      麦琪的礼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67</vt:lpwstr>
  </property>
</Properties>
</file>