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387-795A-43D5-A791-01859828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3EA-1303-4334-84CC-9AB822E4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804-1C42-40AA-9F9A-3F2EA010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09A-FF79-42B0-83C8-F700D9D3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7A5B-CA38-4324-A66F-3725C5A6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F3B9-6F3D-44BE-83A6-2C2E2AF1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03A8-590C-42C0-B671-DA52F008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66AB-9BCF-430C-AD0E-AE7310E3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9382-2152-4219-8BD2-F522E3E1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155C-C58C-4504-AC40-1F4D83C0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9EDF-BAC1-495B-930F-60DEDFC4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51A-92EF-4734-9E60-E27CDC96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F014-7C25-4EF3-A34F-3C9C251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914A-0580-490C-9B5B-E51C12C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93CC-F790-48E9-83C5-492E1C42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A583-FDDA-4185-8FEA-30C35283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BE69-3D80-4FAE-B43A-E84961FC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F89-B0B8-4F57-8B3A-5DDF529B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A36-98AE-48FC-BD42-71D429C0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2FB-E207-4C83-ACEE-24D4429D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096-6C72-4A37-9359-416CD096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2BF-A47B-4DAB-8618-D6AA53CF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5C9-93B0-4669-B3E6-68EA56B6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E3C-8BE6-4D48-9F88-1DE5438A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8F11-A2FD-45D4-8DB6-4EF9C6CB60F9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2BF2-AB25-4D9D-9A27-D5F3DFAA51E7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781360" y="30492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方正姚体"/>
              </a:rPr>
              <a:t>荔枝图序</a:t>
            </a:r>
            <a:endParaRPr b="0" i="1" lang="en-US" sz="4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05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白居易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(772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～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846)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：</a:t>
            </a:r>
            <a:r>
              <a:rPr b="1" i="1" lang="zh-CN" sz="2800" spc="-1" strike="noStrike" u="sng">
                <a:solidFill>
                  <a:srgbClr val="00cc99"/>
                </a:solidFill>
                <a:uFillTx/>
                <a:latin typeface="方正姚体"/>
                <a:ea typeface="方正姚体"/>
              </a:rPr>
              <a:t>唐代诗人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，字乐天，</a:t>
            </a:r>
            <a:r>
              <a:rPr b="1" i="1" lang="zh-CN" sz="2800" spc="-1" strike="noStrike" u="sng">
                <a:solidFill>
                  <a:srgbClr val="00cc99"/>
                </a:solidFill>
                <a:uFillTx/>
                <a:latin typeface="方正姚体"/>
                <a:ea typeface="方正姚体"/>
              </a:rPr>
              <a:t>号香山居士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，原籍太原，后迁居下圭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今陕西渭南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。少年时，家境贫困，对社会生活和人民疾苦有较多的接触和了解。曾中进士，任过翰林学士、左拾遗等官。因得罪权贵，贬为江州 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(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今江西省九江市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)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司马。</a:t>
            </a:r>
            <a:r>
              <a:rPr b="1" i="1" lang="zh-CN" sz="2800" spc="-1" strike="noStrike" u="sng">
                <a:solidFill>
                  <a:srgbClr val="00cc99"/>
                </a:solidFill>
                <a:uFillTx/>
                <a:latin typeface="方正姚体"/>
                <a:ea typeface="方正姚体"/>
              </a:rPr>
              <a:t>他是继杜甫之后我国现实主义的伟大诗人，在唐代新乐府运动中作出了卓越贡献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。他的《与元九书》是我国文学批评史上的重要文献。早期所作政治讽刺诗，如《秦中吟》《新乐府》等，揭露了封建政治制度的黑暗，广泛地反映了当时的社会现实。现存有诗近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3000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首，</a:t>
            </a:r>
            <a:r>
              <a:rPr b="1" i="1" lang="zh-CN" sz="2800" spc="-1" strike="noStrike" u="sng">
                <a:solidFill>
                  <a:srgbClr val="00cc99"/>
                </a:solidFill>
                <a:uFillTx/>
                <a:latin typeface="方正姚体"/>
                <a:ea typeface="方正姚体"/>
              </a:rPr>
              <a:t>《长恨歌》《琵琶行》是他的代表作品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。有</a:t>
            </a:r>
            <a:r>
              <a:rPr b="1" i="1" lang="zh-CN" sz="2800" spc="-1" strike="noStrike" u="sng">
                <a:solidFill>
                  <a:srgbClr val="00cc99"/>
                </a:solidFill>
                <a:uFillTx/>
                <a:latin typeface="方正姚体"/>
                <a:ea typeface="方正姚体"/>
              </a:rPr>
              <a:t>《白氏长庆集》</a:t>
            </a:r>
            <a:r>
              <a:rPr b="0" lang="zh-CN" sz="2800" spc="-1" strike="noStrike">
                <a:solidFill>
                  <a:srgbClr val="ffffcc"/>
                </a:solidFill>
                <a:latin typeface="方正姚体"/>
                <a:ea typeface="方正姚体"/>
              </a:rPr>
              <a:t>行世。</a:t>
            </a: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002-7-2533pp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429000" cy="2435040"/>
          </a:xfrm>
          <a:prstGeom prst="rect">
            <a:avLst/>
          </a:prstGeom>
          <a:ln w="0">
            <a:noFill/>
          </a:ln>
        </p:spPr>
      </p:pic>
      <p:pic>
        <p:nvPicPr>
          <p:cNvPr id="124" name="g081111b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335304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lycheelms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505320" cy="2666880"/>
          </a:xfrm>
          <a:prstGeom prst="rect">
            <a:avLst/>
          </a:prstGeom>
          <a:ln w="0">
            <a:noFill/>
          </a:ln>
        </p:spPr>
      </p:pic>
      <p:pic>
        <p:nvPicPr>
          <p:cNvPr id="126" name="lz2" descr=""/>
          <p:cNvPicPr/>
          <p:nvPr/>
        </p:nvPicPr>
        <p:blipFill>
          <a:blip r:embed="rId4"/>
          <a:stretch/>
        </p:blipFill>
        <p:spPr>
          <a:xfrm>
            <a:off x="5257800" y="3809880"/>
            <a:ext cx="33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057400" y="838080"/>
            <a:ext cx="5410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给加点的字注音</a:t>
            </a:r>
            <a:endParaRPr b="1" i="1" lang="en-US" sz="40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8" name=""/>
          <p:cNvSpPr/>
          <p:nvPr/>
        </p:nvSpPr>
        <p:spPr>
          <a:xfrm>
            <a:off x="495360" y="3200400"/>
            <a:ext cx="8343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帷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盖         华如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葡萄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枇杷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红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紫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绡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瓤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肉       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醴酪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工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吏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743200"/>
            <a:ext cx="883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wéi                             jǘ             pú  táo            pí pá                  zē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xiāo          ráng                      lǐ lào                   lì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95280" y="838080"/>
            <a:ext cx="6782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解释下列加点的词</a:t>
            </a:r>
            <a:endParaRPr b="1" i="1" lang="en-US" sz="2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66688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华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如橘                       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、春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荣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、实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丹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                 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朵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如葡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、壳如红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缯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             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、浆液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醴酪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其实过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之                   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、若离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本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书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、树形团团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帷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819520"/>
            <a:ext cx="71629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通花                                     开花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丹砂                                      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果实聚成的簇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丝织品的总称                                     甜酒奶酪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它的实际情况胜过                                树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画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周围带有帷帐的伞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" y="685800"/>
            <a:ext cx="2514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译文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8380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荔枝生长在巴州、峡州之间，树的外观圆圆的，像四周带围帐的伞盖。叶子像桂花树的叶子，冬天还是青青的；花像橘树的花一样，春天开；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2708280"/>
            <a:ext cx="883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实（红得）像丹砂，夏天成熟。果实聚成的簇像葡萄，果核像枇杷，壳像红色的丝织品，膜像紫色的生丝，果瓤晶莹洁白像冰雪，汁液酸甜，像甜酒，又像奶酪。大致像这样，其实要胜过于此。（果实）如果要离开树枝，一天过去颜色就变了，两天过去香味就变了，三天过去味道就变了，四五天后，色、香、味全都没有了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　元和十五年夏天，南宾郡太守乐天让官府里的画工画《荔枝图》，并且写了这篇序，是给没见过荔枝，或虽然见过但还没有看到摘下三天以内的荔枝的人们（看的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1000" y="2247840"/>
            <a:ext cx="60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方正舒体"/>
              </a:rPr>
              <a:t>荔枝图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990720"/>
            <a:ext cx="228600" cy="5333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8960 h 5333760"/>
              <a:gd name="textAreaBottom" fmla="*/ 5194800 h 53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762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荔枝的产地                         巴峡间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990720"/>
            <a:ext cx="16002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200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荔枝的生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5791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荔枝保鲜期               四五日外色香味尽去矣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6019920"/>
            <a:ext cx="7617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6324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写作的目的               为不识者与识而不及一二三日者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6553080"/>
            <a:ext cx="7617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1295280"/>
            <a:ext cx="75960" cy="4343400"/>
          </a:xfrm>
          <a:custGeom>
            <a:avLst/>
            <a:gdLst>
              <a:gd name="textAreaLeft" fmla="*/ 48600 w 75960"/>
              <a:gd name="textAreaRight" fmla="*/ 76320 w 7596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219320"/>
            <a:ext cx="4724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树形           如帷盖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叶               如桂冬青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花               如枯春荣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实               如丹夏热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朵               如葡萄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核               如枇杷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壳               如红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膜               如紫绡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瓤肉           如冰雪莹白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浆液           如醴酪甘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1371600"/>
            <a:ext cx="6094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1828800"/>
            <a:ext cx="7621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22860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7432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2004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3657600"/>
            <a:ext cx="6094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1148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572000"/>
            <a:ext cx="7621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5029200"/>
            <a:ext cx="5335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5562720"/>
            <a:ext cx="5335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114800"/>
            <a:ext cx="0" cy="1523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99072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85640" y="4038480"/>
            <a:ext cx="91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由外到内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3000" y="1714680"/>
            <a:ext cx="546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由整体到局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00400" y="190512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cc"/>
                </a:solidFill>
                <a:latin typeface="Times New Roman"/>
              </a:rPr>
              <a:t>再 见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4114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华南师范大学附属康大外语学校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李名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07:40:05Z</dcterms:created>
  <dc:creator>k</dc:creator>
  <dc:description/>
  <dc:language>en-US</dc:language>
  <cp:lastModifiedBy>k</cp:lastModifiedBy>
  <dcterms:modified xsi:type="dcterms:W3CDTF">2004-09-24T06:58:10Z</dcterms:modified>
  <cp:revision>3</cp:revision>
  <dc:subject/>
  <dc:title>PowerPoint 演示文稿</dc:title>
</cp:coreProperties>
</file>