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05BD-1BA0-4753-A1BF-75C54BBB49D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DCB9-DED4-4DF3-AA89-A2F63298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4E9-15EE-4BD9-A6BC-A7CCADC1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0127-6A16-4090-83B3-76C14ECB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BC6-5D6C-481C-BC8E-5F36C71F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1100-8A5C-410B-888F-11491DCD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8A17-139B-45B9-BD25-19D1644A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9FBE-9E2E-4B8F-A2C8-64118FDA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7CDD-B0E4-4291-861E-D07B52BE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60DE-C997-4BAE-94C9-30E369FD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34D0-C8E4-40DE-B233-04826AFB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5482-79FF-4E5B-AE88-3B916A5F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C230-0466-4F10-AB7B-B96137FD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D714-7104-4153-8D73-33748010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9554-63BB-4C26-B288-16BA950E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FBC1-0B27-4285-8672-51D45F3B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687E-6BAB-44CA-9AAC-D3E17D7B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04CA-1C99-4B17-AC5B-73C70AFD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F68D-834A-49FB-8235-AFDF6A7E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084-C850-41D9-BE85-78161CC9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D8BF-2DC2-41D1-85CE-9EACA3A3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E12-75A2-414F-B703-39472114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A3B-E868-495E-A649-740AA920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2F3A-3BBD-42E5-9059-BFF8A673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BDB5-AE7C-48EE-BC6B-6DD30D35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B098-7D8D-4A2A-9A43-86883CCAD9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D8C4-C61C-46AC-9363-9B5DC85726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96200" y="2362320"/>
            <a:ext cx="1460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06360"/>
                </a:solidFill>
                <a:latin typeface="Times New Roman"/>
                <a:ea typeface="华文隶书"/>
              </a:rPr>
              <a:t>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罗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866120" y="1066680"/>
            <a:ext cx="12776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论平地与山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723120" y="1295280"/>
            <a:ext cx="1277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无限风光尽被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80120" y="1752480"/>
            <a:ext cx="12776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采得百花成蜜后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85760" y="1752480"/>
            <a:ext cx="729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谁辛苦为谁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AG00142_" descr=""/>
          <p:cNvPicPr/>
          <p:nvPr/>
        </p:nvPicPr>
        <p:blipFill>
          <a:blip r:embed="rId1"/>
          <a:stretch/>
        </p:blipFill>
        <p:spPr>
          <a:xfrm>
            <a:off x="2666880" y="2352600"/>
            <a:ext cx="3595680" cy="4496040"/>
          </a:xfrm>
          <a:prstGeom prst="rect">
            <a:avLst/>
          </a:prstGeom>
          <a:ln w="0">
            <a:noFill/>
          </a:ln>
        </p:spPr>
      </p:pic>
      <p:pic>
        <p:nvPicPr>
          <p:cNvPr id="339" name="AG00142_" descr=""/>
          <p:cNvPicPr/>
          <p:nvPr/>
        </p:nvPicPr>
        <p:blipFill>
          <a:blip r:embed="rId2"/>
          <a:stretch/>
        </p:blipFill>
        <p:spPr>
          <a:xfrm>
            <a:off x="2666880" y="2352600"/>
            <a:ext cx="3595680" cy="4496040"/>
          </a:xfrm>
          <a:prstGeom prst="rect">
            <a:avLst/>
          </a:prstGeom>
          <a:ln w="0">
            <a:noFill/>
          </a:ln>
        </p:spPr>
      </p:pic>
      <p:pic>
        <p:nvPicPr>
          <p:cNvPr id="340" name="PH01190J" descr=""/>
          <p:cNvPicPr/>
          <p:nvPr/>
        </p:nvPicPr>
        <p:blipFill>
          <a:blip r:embed="rId3"/>
          <a:stretch/>
        </p:blipFill>
        <p:spPr>
          <a:xfrm>
            <a:off x="0" y="0"/>
            <a:ext cx="9829800" cy="6889680"/>
          </a:xfrm>
          <a:prstGeom prst="rect">
            <a:avLst/>
          </a:prstGeom>
          <a:ln w="0">
            <a:noFill/>
          </a:ln>
        </p:spPr>
      </p:pic>
      <p:pic>
        <p:nvPicPr>
          <p:cNvPr id="341" name="AG00142_" descr=""/>
          <p:cNvPicPr/>
          <p:nvPr/>
        </p:nvPicPr>
        <p:blipFill>
          <a:blip r:embed="rId4"/>
          <a:stretch/>
        </p:blipFill>
        <p:spPr>
          <a:xfrm>
            <a:off x="2666880" y="2352600"/>
            <a:ext cx="3595680" cy="44960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cc6600"/>
                </a:solidFill>
                <a:latin typeface="Times New Roman"/>
              </a:rPr>
              <a:t>采得百花成蜜甜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514600" y="1905120"/>
            <a:ext cx="4495680" cy="2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隶书"/>
                <a:ea typeface="隶书"/>
              </a:rPr>
              <a:t>荔 枝 蜜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杨   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1111" descr=""/>
          <p:cNvPicPr/>
          <p:nvPr/>
        </p:nvPicPr>
        <p:blipFill>
          <a:blip r:embed="rId1"/>
          <a:stretch/>
        </p:blipFill>
        <p:spPr>
          <a:xfrm>
            <a:off x="533520" y="1014480"/>
            <a:ext cx="8381880" cy="584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28600" y="1600200"/>
            <a:ext cx="86104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海棠花       被蜜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了一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春水       疙瘩         幻景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黑黝黝          沸沸扬扬          提防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日啖荔枝三百颗，不辞长作岭南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14479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</a:rPr>
              <a:t>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24480" y="15238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</a:rPr>
              <a:t>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1080" y="24382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</a:rPr>
              <a:t>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1447920"/>
            <a:ext cx="70866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总不大喜欢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909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909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909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251460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我不觉动了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358128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我不禁一颤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080" y="4648320"/>
            <a:ext cx="76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梦见自己变成一只小蜜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-439560" y="1905120"/>
            <a:ext cx="1277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感情变化为线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85800" y="12952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写散文要借助联想，课文出现了三次联想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2120" y="2362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由荔枝蜜的甜美想到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2120" y="350532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由蜜蜂沸沸扬扬的情景想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2120" y="47242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由荔枝蜜的酿造者蜜蜂想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2895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生活的甜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47920" y="41148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建设新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0" y="5257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幸福生活的建造者劳动人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" y="1066680"/>
            <a:ext cx="83818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考下列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本文以作者对蜜蜂的思想感情变化为线索组织全文，为什么标题却用“荔枝蜜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怎样理解“蜜蜂是渺小的，蜜蜂却又多么高尚啊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“花鸟草虫，凡是上得画的，那原物往往也叫人喜爱”，句中“往往”能去掉？换为“都”行不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0880" y="1371600"/>
            <a:ext cx="84582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“荔枝也许是世界上最鲜美的水果”，去掉“也许”行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“我不觉动了情”原稿是“我不觉发生了兴趣”，作者为什么这样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“我不禁一颤（想）”，用括号中的词取代“一颤”好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02:36:09Z</dcterms:created>
  <dc:creator>1</dc:creator>
  <dc:description/>
  <dc:language>en-US</dc:language>
  <cp:lastModifiedBy>1</cp:lastModifiedBy>
  <dcterms:modified xsi:type="dcterms:W3CDTF">2001-11-05T03:09:26Z</dcterms:modified>
  <cp:revision>27</cp:revision>
  <dc:subject/>
  <dc:title>PowerPoint 演示文稿</dc:title>
</cp:coreProperties>
</file>