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146-0F81-4CB3-B641-489F7CDC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665-973A-44FC-BE2E-23062DF8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F3B-83C1-45D9-842A-EC224086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A0C-42B8-44F9-A6BF-27B0D86A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DE65-5070-4D99-BB66-149BAFD2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CE40-2E2B-4046-8A6C-27EA168B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E2D2-9F99-4D8D-BF2D-B566A140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46EA-6F8C-4EC1-9C50-304A797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70F1-C159-4351-A9EC-321B2E9A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A7CD-33F9-410F-8C9F-4DEDAAC5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0BD1-44F6-46B3-9F43-409FEBD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E4E-E85A-46AD-AB60-81BF6F0C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66A3-5779-405A-B27E-993DBA4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9F9D-6F49-4F69-8B6B-03FF8168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ADE4-B2AD-4E29-8B44-0CFE1C66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CB09-E0BD-4BA0-B178-B308D8C0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ED90-2C29-49A2-A345-B638067D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4F1-E7C5-44FA-980E-B2EF1DBA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77A-F46F-4C13-A631-CF7AB5CB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591-E371-4799-96BB-70328D32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1E0-4CA1-4595-B4C0-23F5C6B8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CDE-31E9-4533-8786-3487F16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A59-F4F0-409C-9F16-7DEDA3DC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63E-006B-4003-BF57-FD68C95F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855-648D-4D40-881C-5D926E8BA2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3677-A5FF-4A15-A0BF-5DB3CFDACF1E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26"/>
          <p:cNvSpPr txBox="1"/>
          <p:nvPr/>
        </p:nvSpPr>
        <p:spPr>
          <a:xfrm>
            <a:off x="380880" y="762120"/>
            <a:ext cx="65534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导入新课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任意多边形 12292"/>
          <p:cNvSpPr/>
          <p:nvPr/>
        </p:nvSpPr>
        <p:spPr>
          <a:xfrm>
            <a:off x="914400" y="914400"/>
            <a:ext cx="6431040" cy="1906560"/>
          </a:xfrm>
          <a:custGeom>
            <a:avLst/>
            <a:gdLst/>
            <a:ahLst/>
            <a:rect l="l" t="t" r="r" b="b"/>
            <a:pathLst>
              <a:path w="4051" h="1201">
                <a:moveTo>
                  <a:pt x="19" y="401"/>
                </a:moveTo>
                <a:cubicBezTo>
                  <a:pt x="31" y="409"/>
                  <a:pt x="45" y="414"/>
                  <a:pt x="54" y="425"/>
                </a:cubicBezTo>
                <a:cubicBezTo>
                  <a:pt x="101" y="484"/>
                  <a:pt x="0" y="457"/>
                  <a:pt x="113" y="531"/>
                </a:cubicBezTo>
                <a:cubicBezTo>
                  <a:pt x="166" y="566"/>
                  <a:pt x="240" y="593"/>
                  <a:pt x="301" y="613"/>
                </a:cubicBezTo>
                <a:cubicBezTo>
                  <a:pt x="415" y="691"/>
                  <a:pt x="578" y="707"/>
                  <a:pt x="712" y="719"/>
                </a:cubicBezTo>
                <a:cubicBezTo>
                  <a:pt x="833" y="715"/>
                  <a:pt x="955" y="721"/>
                  <a:pt x="1076" y="707"/>
                </a:cubicBezTo>
                <a:cubicBezTo>
                  <a:pt x="1123" y="702"/>
                  <a:pt x="1171" y="601"/>
                  <a:pt x="1171" y="601"/>
                </a:cubicBezTo>
                <a:cubicBezTo>
                  <a:pt x="1179" y="578"/>
                  <a:pt x="1188" y="555"/>
                  <a:pt x="1194" y="531"/>
                </a:cubicBezTo>
                <a:cubicBezTo>
                  <a:pt x="1202" y="500"/>
                  <a:pt x="1218" y="437"/>
                  <a:pt x="1218" y="437"/>
                </a:cubicBezTo>
                <a:cubicBezTo>
                  <a:pt x="1233" y="279"/>
                  <a:pt x="1257" y="49"/>
                  <a:pt x="1441" y="2"/>
                </a:cubicBezTo>
                <a:cubicBezTo>
                  <a:pt x="1582" y="6"/>
                  <a:pt x="1724" y="0"/>
                  <a:pt x="1864" y="14"/>
                </a:cubicBezTo>
                <a:cubicBezTo>
                  <a:pt x="1923" y="20"/>
                  <a:pt x="1935" y="178"/>
                  <a:pt x="1935" y="178"/>
                </a:cubicBezTo>
                <a:cubicBezTo>
                  <a:pt x="1958" y="399"/>
                  <a:pt x="1926" y="634"/>
                  <a:pt x="1993" y="848"/>
                </a:cubicBezTo>
                <a:cubicBezTo>
                  <a:pt x="2007" y="958"/>
                  <a:pt x="2015" y="1002"/>
                  <a:pt x="2076" y="1095"/>
                </a:cubicBezTo>
                <a:cubicBezTo>
                  <a:pt x="2092" y="1118"/>
                  <a:pt x="2123" y="1126"/>
                  <a:pt x="2146" y="1142"/>
                </a:cubicBezTo>
                <a:cubicBezTo>
                  <a:pt x="2187" y="1170"/>
                  <a:pt x="2171" y="1165"/>
                  <a:pt x="2217" y="1177"/>
                </a:cubicBezTo>
                <a:cubicBezTo>
                  <a:pt x="2248" y="1185"/>
                  <a:pt x="2311" y="1201"/>
                  <a:pt x="2311" y="1201"/>
                </a:cubicBezTo>
                <a:cubicBezTo>
                  <a:pt x="2436" y="1197"/>
                  <a:pt x="2562" y="1200"/>
                  <a:pt x="2687" y="1189"/>
                </a:cubicBezTo>
                <a:cubicBezTo>
                  <a:pt x="2735" y="1185"/>
                  <a:pt x="2781" y="1166"/>
                  <a:pt x="2828" y="1154"/>
                </a:cubicBezTo>
                <a:cubicBezTo>
                  <a:pt x="3003" y="1111"/>
                  <a:pt x="3170" y="1044"/>
                  <a:pt x="3345" y="1001"/>
                </a:cubicBezTo>
                <a:cubicBezTo>
                  <a:pt x="3422" y="943"/>
                  <a:pt x="3465" y="940"/>
                  <a:pt x="3557" y="919"/>
                </a:cubicBezTo>
                <a:cubicBezTo>
                  <a:pt x="3691" y="850"/>
                  <a:pt x="3903" y="836"/>
                  <a:pt x="4051" y="836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文本框 12293"/>
          <p:cNvSpPr/>
          <p:nvPr/>
        </p:nvSpPr>
        <p:spPr>
          <a:xfrm>
            <a:off x="3505320" y="9144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曹</a:t>
            </a:r>
            <a:endParaRPr b="0" lang="en-US" sz="9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文本框 12294"/>
          <p:cNvSpPr/>
          <p:nvPr/>
        </p:nvSpPr>
        <p:spPr>
          <a:xfrm>
            <a:off x="4800600" y="9907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兵力雄厚，谋略出众，政治地位优        越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文本框 12295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可与争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任意多边形 12301"/>
          <p:cNvSpPr/>
          <p:nvPr/>
        </p:nvSpPr>
        <p:spPr>
          <a:xfrm>
            <a:off x="-4680" y="3508200"/>
            <a:ext cx="8066160" cy="2538720"/>
          </a:xfrm>
          <a:custGeom>
            <a:avLst/>
            <a:gdLst/>
            <a:ahLst/>
            <a:rect l="l" t="t" r="r" b="b"/>
            <a:pathLst>
              <a:path w="5081" h="1599">
                <a:moveTo>
                  <a:pt x="50" y="0"/>
                </a:moveTo>
                <a:cubicBezTo>
                  <a:pt x="26" y="36"/>
                  <a:pt x="0" y="57"/>
                  <a:pt x="50" y="106"/>
                </a:cubicBezTo>
                <a:cubicBezTo>
                  <a:pt x="108" y="164"/>
                  <a:pt x="163" y="220"/>
                  <a:pt x="215" y="282"/>
                </a:cubicBezTo>
                <a:cubicBezTo>
                  <a:pt x="248" y="321"/>
                  <a:pt x="261" y="363"/>
                  <a:pt x="297" y="400"/>
                </a:cubicBezTo>
                <a:cubicBezTo>
                  <a:pt x="318" y="460"/>
                  <a:pt x="359" y="544"/>
                  <a:pt x="403" y="588"/>
                </a:cubicBezTo>
                <a:cubicBezTo>
                  <a:pt x="407" y="600"/>
                  <a:pt x="408" y="612"/>
                  <a:pt x="414" y="623"/>
                </a:cubicBezTo>
                <a:cubicBezTo>
                  <a:pt x="428" y="648"/>
                  <a:pt x="461" y="694"/>
                  <a:pt x="461" y="694"/>
                </a:cubicBezTo>
                <a:cubicBezTo>
                  <a:pt x="477" y="756"/>
                  <a:pt x="512" y="809"/>
                  <a:pt x="532" y="870"/>
                </a:cubicBezTo>
                <a:cubicBezTo>
                  <a:pt x="573" y="993"/>
                  <a:pt x="584" y="1124"/>
                  <a:pt x="626" y="1246"/>
                </a:cubicBezTo>
                <a:cubicBezTo>
                  <a:pt x="633" y="1329"/>
                  <a:pt x="628" y="1430"/>
                  <a:pt x="673" y="1505"/>
                </a:cubicBezTo>
                <a:cubicBezTo>
                  <a:pt x="687" y="1529"/>
                  <a:pt x="693" y="1568"/>
                  <a:pt x="720" y="1575"/>
                </a:cubicBezTo>
                <a:cubicBezTo>
                  <a:pt x="751" y="1583"/>
                  <a:pt x="783" y="1591"/>
                  <a:pt x="814" y="1599"/>
                </a:cubicBezTo>
                <a:cubicBezTo>
                  <a:pt x="898" y="1513"/>
                  <a:pt x="888" y="1381"/>
                  <a:pt x="920" y="1270"/>
                </a:cubicBezTo>
                <a:cubicBezTo>
                  <a:pt x="957" y="1141"/>
                  <a:pt x="898" y="1323"/>
                  <a:pt x="955" y="1152"/>
                </a:cubicBezTo>
                <a:cubicBezTo>
                  <a:pt x="959" y="1140"/>
                  <a:pt x="967" y="1117"/>
                  <a:pt x="967" y="1117"/>
                </a:cubicBezTo>
                <a:cubicBezTo>
                  <a:pt x="973" y="1062"/>
                  <a:pt x="962" y="1000"/>
                  <a:pt x="990" y="952"/>
                </a:cubicBezTo>
                <a:cubicBezTo>
                  <a:pt x="997" y="940"/>
                  <a:pt x="1014" y="937"/>
                  <a:pt x="1026" y="929"/>
                </a:cubicBezTo>
                <a:cubicBezTo>
                  <a:pt x="1162" y="972"/>
                  <a:pt x="1209" y="883"/>
                  <a:pt x="1320" y="846"/>
                </a:cubicBezTo>
                <a:cubicBezTo>
                  <a:pt x="1366" y="862"/>
                  <a:pt x="1390" y="882"/>
                  <a:pt x="1425" y="917"/>
                </a:cubicBezTo>
                <a:cubicBezTo>
                  <a:pt x="1432" y="917"/>
                  <a:pt x="1660" y="914"/>
                  <a:pt x="1731" y="893"/>
                </a:cubicBezTo>
                <a:cubicBezTo>
                  <a:pt x="1775" y="880"/>
                  <a:pt x="1805" y="848"/>
                  <a:pt x="1849" y="835"/>
                </a:cubicBezTo>
                <a:cubicBezTo>
                  <a:pt x="1900" y="869"/>
                  <a:pt x="1895" y="887"/>
                  <a:pt x="1954" y="917"/>
                </a:cubicBezTo>
                <a:cubicBezTo>
                  <a:pt x="2063" y="1076"/>
                  <a:pt x="1931" y="903"/>
                  <a:pt x="2413" y="964"/>
                </a:cubicBezTo>
                <a:cubicBezTo>
                  <a:pt x="2432" y="966"/>
                  <a:pt x="2434" y="997"/>
                  <a:pt x="2448" y="1011"/>
                </a:cubicBezTo>
                <a:cubicBezTo>
                  <a:pt x="2479" y="1042"/>
                  <a:pt x="2523" y="1091"/>
                  <a:pt x="2566" y="1105"/>
                </a:cubicBezTo>
                <a:cubicBezTo>
                  <a:pt x="2597" y="1115"/>
                  <a:pt x="2628" y="1124"/>
                  <a:pt x="2660" y="1128"/>
                </a:cubicBezTo>
                <a:cubicBezTo>
                  <a:pt x="2723" y="1136"/>
                  <a:pt x="2848" y="1152"/>
                  <a:pt x="2848" y="1152"/>
                </a:cubicBezTo>
                <a:cubicBezTo>
                  <a:pt x="2886" y="1177"/>
                  <a:pt x="2882" y="1180"/>
                  <a:pt x="2930" y="1187"/>
                </a:cubicBezTo>
                <a:cubicBezTo>
                  <a:pt x="2992" y="1197"/>
                  <a:pt x="3118" y="1211"/>
                  <a:pt x="3118" y="1211"/>
                </a:cubicBezTo>
                <a:cubicBezTo>
                  <a:pt x="3156" y="1209"/>
                  <a:pt x="3313" y="1215"/>
                  <a:pt x="3388" y="1187"/>
                </a:cubicBezTo>
                <a:cubicBezTo>
                  <a:pt x="3418" y="1176"/>
                  <a:pt x="3440" y="1146"/>
                  <a:pt x="3471" y="1140"/>
                </a:cubicBezTo>
                <a:cubicBezTo>
                  <a:pt x="3552" y="1125"/>
                  <a:pt x="3636" y="1127"/>
                  <a:pt x="3718" y="1117"/>
                </a:cubicBezTo>
                <a:cubicBezTo>
                  <a:pt x="3835" y="1027"/>
                  <a:pt x="3673" y="1142"/>
                  <a:pt x="3859" y="1058"/>
                </a:cubicBezTo>
                <a:cubicBezTo>
                  <a:pt x="3874" y="1051"/>
                  <a:pt x="3881" y="1033"/>
                  <a:pt x="3894" y="1023"/>
                </a:cubicBezTo>
                <a:cubicBezTo>
                  <a:pt x="3908" y="1013"/>
                  <a:pt x="3925" y="1006"/>
                  <a:pt x="3941" y="999"/>
                </a:cubicBezTo>
                <a:cubicBezTo>
                  <a:pt x="4043" y="958"/>
                  <a:pt x="4162" y="946"/>
                  <a:pt x="4270" y="929"/>
                </a:cubicBezTo>
                <a:cubicBezTo>
                  <a:pt x="4370" y="895"/>
                  <a:pt x="4476" y="891"/>
                  <a:pt x="4576" y="858"/>
                </a:cubicBezTo>
                <a:cubicBezTo>
                  <a:pt x="4720" y="863"/>
                  <a:pt x="4922" y="882"/>
                  <a:pt x="5081" y="882"/>
                </a:cubicBezTo>
              </a:path>
            </a:pathLst>
          </a:custGeom>
          <a:noFill/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文本框 12302"/>
          <p:cNvSpPr/>
          <p:nvPr/>
        </p:nvSpPr>
        <p:spPr>
          <a:xfrm>
            <a:off x="0" y="35053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文本框 12303"/>
          <p:cNvSpPr/>
          <p:nvPr/>
        </p:nvSpPr>
        <p:spPr>
          <a:xfrm>
            <a:off x="3276720" y="57913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抚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椭圆 12304"/>
          <p:cNvSpPr/>
          <p:nvPr/>
        </p:nvSpPr>
        <p:spPr>
          <a:xfrm>
            <a:off x="5638680" y="4572000"/>
            <a:ext cx="350532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文本框 12305"/>
          <p:cNvSpPr/>
          <p:nvPr/>
        </p:nvSpPr>
        <p:spPr>
          <a:xfrm>
            <a:off x="5943600" y="5029200"/>
            <a:ext cx="838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政权地利人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文本框 12306"/>
          <p:cNvSpPr/>
          <p:nvPr/>
        </p:nvSpPr>
        <p:spPr>
          <a:xfrm>
            <a:off x="6705720" y="5181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为援不可图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文本框 12307"/>
          <p:cNvSpPr/>
          <p:nvPr/>
        </p:nvSpPr>
        <p:spPr>
          <a:xfrm>
            <a:off x="6781680" y="38862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</a:rPr>
              <a:t>孙</a:t>
            </a:r>
            <a:endParaRPr b="0" lang="en-US" sz="9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椭圆形标注 12308"/>
          <p:cNvSpPr/>
          <p:nvPr/>
        </p:nvSpPr>
        <p:spPr>
          <a:xfrm>
            <a:off x="3429000" y="4648320"/>
            <a:ext cx="2209680" cy="1371600"/>
          </a:xfrm>
          <a:prstGeom prst="wedgeEllipseCallout">
            <a:avLst>
              <a:gd name="adj1" fmla="val 10847"/>
              <a:gd name="adj2" fmla="val -155787"/>
            </a:avLst>
          </a:prstGeom>
          <a:solidFill>
            <a:srgbClr val="f9dbd3"/>
          </a:soli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文本框 12309"/>
          <p:cNvSpPr/>
          <p:nvPr/>
        </p:nvSpPr>
        <p:spPr>
          <a:xfrm>
            <a:off x="3962520" y="4648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形有利，物产丰富，军事要塞，刘表无能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文本框 12310"/>
          <p:cNvSpPr/>
          <p:nvPr/>
        </p:nvSpPr>
        <p:spPr>
          <a:xfrm>
            <a:off x="3429000" y="480060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荆州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椭圆形标注 12311"/>
          <p:cNvSpPr/>
          <p:nvPr/>
        </p:nvSpPr>
        <p:spPr>
          <a:xfrm>
            <a:off x="1066680" y="4191120"/>
            <a:ext cx="2362320" cy="1523880"/>
          </a:xfrm>
          <a:prstGeom prst="wedgeEllipseCallout">
            <a:avLst>
              <a:gd name="adj1" fmla="val 47310"/>
              <a:gd name="adj2" fmla="val -143856"/>
            </a:avLst>
          </a:prstGeom>
          <a:solidFill>
            <a:srgbClr val="f9dbd3"/>
          </a:soli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文本框 12312"/>
          <p:cNvSpPr/>
          <p:nvPr/>
        </p:nvSpPr>
        <p:spPr>
          <a:xfrm>
            <a:off x="1523880" y="43434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地势险要，易守难攻，天然粮仓，条件优越，政权动摇，民心已失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文本框 12313"/>
          <p:cNvSpPr/>
          <p:nvPr/>
        </p:nvSpPr>
        <p:spPr>
          <a:xfrm>
            <a:off x="1066680" y="42670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益州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文本框 12314"/>
          <p:cNvSpPr/>
          <p:nvPr/>
        </p:nvSpPr>
        <p:spPr>
          <a:xfrm>
            <a:off x="69343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黄河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文本框 12315"/>
          <p:cNvSpPr/>
          <p:nvPr/>
        </p:nvSpPr>
        <p:spPr>
          <a:xfrm>
            <a:off x="3049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长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文本框 12316"/>
          <p:cNvSpPr/>
          <p:nvPr/>
        </p:nvSpPr>
        <p:spPr>
          <a:xfrm>
            <a:off x="6324480" y="37339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联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1" name="矩形 12318" descr=""/>
          <p:cNvPicPr/>
          <p:nvPr/>
        </p:nvPicPr>
        <p:blipFill>
          <a:blip r:embed="rId1"/>
          <a:stretch/>
        </p:blipFill>
        <p:spPr>
          <a:xfrm>
            <a:off x="1971720" y="1819440"/>
            <a:ext cx="4159080" cy="28638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2319"/>
          <p:cNvSpPr/>
          <p:nvPr/>
        </p:nvSpPr>
        <p:spPr>
          <a:xfrm>
            <a:off x="2133720" y="449568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</a:rPr>
              <a:t>刘</a:t>
            </a:r>
            <a:endParaRPr b="0" lang="en-US" sz="9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7169"/>
          <p:cNvSpPr/>
          <p:nvPr/>
        </p:nvSpPr>
        <p:spPr>
          <a:xfrm>
            <a:off x="7238880" y="41911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陈寿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矩形 7171"/>
          <p:cNvSpPr txBox="1"/>
          <p:nvPr/>
        </p:nvSpPr>
        <p:spPr>
          <a:xfrm>
            <a:off x="457200" y="685800"/>
            <a:ext cx="7162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00"/>
                </a:solidFill>
                <a:latin typeface="黑体"/>
              </a:rPr>
              <a:t>隆 中 对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8193"/>
          <p:cNvSpPr/>
          <p:nvPr/>
        </p:nvSpPr>
        <p:spPr>
          <a:xfrm>
            <a:off x="1676520" y="20574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疏通文意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文本框 8194"/>
          <p:cNvSpPr/>
          <p:nvPr/>
        </p:nvSpPr>
        <p:spPr>
          <a:xfrm>
            <a:off x="4648320" y="3352680"/>
            <a:ext cx="2361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生交流，老师点拨质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9217"/>
          <p:cNvSpPr/>
          <p:nvPr/>
        </p:nvSpPr>
        <p:spPr>
          <a:xfrm>
            <a:off x="380880" y="228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理清结构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左大括号 9218"/>
          <p:cNvSpPr/>
          <p:nvPr/>
        </p:nvSpPr>
        <p:spPr>
          <a:xfrm>
            <a:off x="1981080" y="1295280"/>
            <a:ext cx="457200" cy="3962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文本框 9219"/>
          <p:cNvSpPr/>
          <p:nvPr/>
        </p:nvSpPr>
        <p:spPr>
          <a:xfrm>
            <a:off x="2514600" y="1371600"/>
            <a:ext cx="6248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一段（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段）隆中对前，诸葛亮的远             大抱负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二段（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段）徐庶举荐的过程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三段（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3——5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段）隆中刘备问计诸葛亮对策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四段（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段）刘备“鱼之有水”为喻，说明诸葛亮对于他的重要性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2049"/>
          <p:cNvSpPr/>
          <p:nvPr/>
        </p:nvSpPr>
        <p:spPr>
          <a:xfrm>
            <a:off x="228600" y="838080"/>
            <a:ext cx="8686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刘备三次拜访诸葛亮语言、行动分别是什么？表现其什么态度和心情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为什么要先分析曹操？摆了哪些事实？得出什么结论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接着从哪几方面分析孙权？结论是什么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对刘备来说，荆州有哪些有利条件？诸葛亮怎样暗示刘备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诸葛亮认为益州有哪些优越条件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建立根据地后，诸葛亮告诉刘备进一步怎么办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文本框 2050"/>
          <p:cNvSpPr/>
          <p:nvPr/>
        </p:nvSpPr>
        <p:spPr>
          <a:xfrm>
            <a:off x="304920" y="2286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探究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3073"/>
          <p:cNvSpPr/>
          <p:nvPr/>
        </p:nvSpPr>
        <p:spPr>
          <a:xfrm>
            <a:off x="304920" y="533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文本框 3074"/>
          <p:cNvSpPr/>
          <p:nvPr/>
        </p:nvSpPr>
        <p:spPr>
          <a:xfrm>
            <a:off x="30492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明确（原文语句回答）其语言、表明平生抱负，委婉有致，态度谦虚诚恳，流露出对汉室江山的焦虑心情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文本框 3075"/>
          <p:cNvSpPr/>
          <p:nvPr/>
        </p:nvSpPr>
        <p:spPr>
          <a:xfrm>
            <a:off x="380880" y="1295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明确：因为曹操使“主上蒙尘，汉室倾颓”是刘备“信大义于天下”的头号敌人。曹袁并论用事实有力地肯定了曹操谋略出众，兵力雄厚，政治地位优越。得出强弱悬殊，难与敌的结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文本框 3076"/>
          <p:cNvSpPr/>
          <p:nvPr/>
        </p:nvSpPr>
        <p:spPr>
          <a:xfrm>
            <a:off x="457200" y="2666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明确：从政权、地利、人和几方面分析，结论是孙权可结为外援，不可图也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文本框 3077"/>
          <p:cNvSpPr/>
          <p:nvPr/>
        </p:nvSpPr>
        <p:spPr>
          <a:xfrm>
            <a:off x="457200" y="3733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</a:rPr>
              <a:t>明确：地利物产丰富，军事要塞，刘表无能；用反问句方式暗示刘备含蓄而有分寸，巧妙地将荆州可取，勿失良机的信息给了刘备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文本框 3078"/>
          <p:cNvSpPr/>
          <p:nvPr/>
        </p:nvSpPr>
        <p:spPr>
          <a:xfrm>
            <a:off x="380880" y="487692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明确：由于益州四通八达，为兵家必争之地，所以只能做外围，不能做主要的根据地，因此最后分析了益州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有利条件；地势险要，易守难攻；天然粮仓，条件优越；政权动摇，民心已失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4097"/>
          <p:cNvSpPr/>
          <p:nvPr/>
        </p:nvSpPr>
        <p:spPr>
          <a:xfrm>
            <a:off x="457200" y="685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文本框 4099"/>
          <p:cNvSpPr/>
          <p:nvPr/>
        </p:nvSpPr>
        <p:spPr>
          <a:xfrm>
            <a:off x="3049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Times New Roman"/>
              </a:rPr>
              <a:t>明确：根据地解决后，就形成三国鼎立之势，但如何“信大义于天下”“成霸业”“兴汉室”呢？因此诸葛亮进一步为刘备谋划了北伐曹操的战略蓝图。指明了建立根据地以后应该如何行动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文本框 4100"/>
          <p:cNvSpPr/>
          <p:nvPr/>
        </p:nvSpPr>
        <p:spPr>
          <a:xfrm>
            <a:off x="68580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左大括号 4101"/>
          <p:cNvSpPr/>
          <p:nvPr/>
        </p:nvSpPr>
        <p:spPr>
          <a:xfrm>
            <a:off x="1600200" y="243828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文本框 4102"/>
          <p:cNvSpPr/>
          <p:nvPr/>
        </p:nvSpPr>
        <p:spPr>
          <a:xfrm>
            <a:off x="1905120" y="236232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军事上：先保住荆、益二州，积蓄力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民族关系上：西和诸戎，南抚夷越，解除后顾之忧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外交：联合孙权共击曹操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内政：革新政治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文本框 4103"/>
          <p:cNvSpPr/>
          <p:nvPr/>
        </p:nvSpPr>
        <p:spPr>
          <a:xfrm>
            <a:off x="76212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左大括号 4104"/>
          <p:cNvSpPr/>
          <p:nvPr/>
        </p:nvSpPr>
        <p:spPr>
          <a:xfrm>
            <a:off x="1676520" y="4724280"/>
            <a:ext cx="457200" cy="1447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文本框 4105"/>
          <p:cNvSpPr/>
          <p:nvPr/>
        </p:nvSpPr>
        <p:spPr>
          <a:xfrm>
            <a:off x="2057400" y="487692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等待时机，兵分两路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钳形攻势，直取中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文本框 4106"/>
          <p:cNvSpPr/>
          <p:nvPr/>
        </p:nvSpPr>
        <p:spPr>
          <a:xfrm>
            <a:off x="609480" y="6216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诸葛亮的惊人政治军事才能和卓越见识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0241"/>
          <p:cNvSpPr/>
          <p:nvPr/>
        </p:nvSpPr>
        <p:spPr>
          <a:xfrm>
            <a:off x="304920" y="457200"/>
            <a:ext cx="76197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探究人物形象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如何从正面和侧面来表现诸葛亮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左大括号 10242"/>
          <p:cNvSpPr/>
          <p:nvPr/>
        </p:nvSpPr>
        <p:spPr>
          <a:xfrm>
            <a:off x="1676520" y="2362320"/>
            <a:ext cx="533160" cy="2514600"/>
          </a:xfrm>
          <a:custGeom>
            <a:avLst/>
            <a:gdLst>
              <a:gd name="textAreaLeft" fmla="*/ 340560 w 533160"/>
              <a:gd name="textAreaRight" fmla="*/ 533520 w 5331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文本框 10243"/>
          <p:cNvSpPr/>
          <p:nvPr/>
        </p:nvSpPr>
        <p:spPr>
          <a:xfrm>
            <a:off x="2133720" y="2438280"/>
            <a:ext cx="5410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诸葛亮隐居（正面描写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徐庶举荐（侧面描写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刘备与诸葛亮对话（正面描写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关张不悦（侧面描写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1266"/>
          <p:cNvSpPr/>
          <p:nvPr/>
        </p:nvSpPr>
        <p:spPr>
          <a:xfrm>
            <a:off x="1143000" y="1066680"/>
            <a:ext cx="6858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作业练习：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关刘备“三顾茅庐”，诸葛亮“隆中对策”的内容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国演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第三十七、三十八回中也有相关描述，根据自己的积累，谈谈有关诸葛亮或刘备的故事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1:30:27Z</dcterms:created>
  <dc:creator>user</dc:creator>
  <dc:description/>
  <dc:language>en-US</dc:language>
  <cp:lastModifiedBy>admin</cp:lastModifiedBy>
  <dcterms:modified xsi:type="dcterms:W3CDTF">2019-05-09T09:38:28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