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6.png" ContentType="image/png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30.wmf" ContentType="image/x-wmf"/>
  <Override PartName="/ppt/media/image28.wmf" ContentType="image/x-wmf"/>
  <Override PartName="/ppt/media/image70.wmf" ContentType="image/x-wmf"/>
  <Override PartName="/ppt/media/image23.wmf" ContentType="image/x-wmf"/>
  <Override PartName="/ppt/media/image60.wmf" ContentType="image/x-wmf"/>
  <Override PartName="/ppt/media/image18.wmf" ContentType="image/x-wmf"/>
  <Override PartName="/ppt/media/image24.wmf" ContentType="image/x-wmf"/>
  <Override PartName="/ppt/media/image61.wmf" ContentType="image/x-wmf"/>
  <Override PartName="/ppt/media/image21.png" ContentType="image/png"/>
  <Override PartName="/ppt/media/image62.wmf" ContentType="image/x-wmf"/>
  <Override PartName="/ppt/media/image22.png" ContentType="image/png"/>
  <Override PartName="/ppt/media/image26.wmf" ContentType="image/x-wmf"/>
  <Override PartName="/ppt/media/image65.png" ContentType="image/png"/>
  <Override PartName="/ppt/media/image63.wmf" ContentType="image/x-wmf"/>
  <Override PartName="/ppt/media/image27.wmf" ContentType="image/x-wmf"/>
  <Override PartName="/ppt/media/image64.wmf" ContentType="image/x-wmf"/>
  <Override PartName="/ppt/media/image29.wmf" ContentType="image/x-wmf"/>
  <Override PartName="/ppt/media/image1.png" ContentType="image/png"/>
  <Override PartName="/ppt/media/image71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5.png" ContentType="image/png"/>
  <Override PartName="/ppt/media/image74.wmf" ContentType="image/x-wmf"/>
  <Override PartName="/ppt/media/image4.png" ContentType="image/png"/>
  <Override PartName="/ppt/media/image73.wmf" ContentType="image/x-wmf"/>
  <Override PartName="/ppt/media/image3.png" ContentType="image/png"/>
  <Override PartName="/ppt/media/image72.wmf" ContentType="image/x-wmf"/>
  <Override PartName="/ppt/media/image69.wmf" ContentType="image/x-wmf"/>
  <Override PartName="/ppt/media/image32.wmf" ContentType="image/x-wmf"/>
  <Override PartName="/ppt/media/image68.wmf" ContentType="image/x-wmf"/>
  <Override PartName="/ppt/media/image20.wmf" ContentType="image/x-wmf"/>
  <Override PartName="/ppt/media/image57.wmf" ContentType="image/x-wmf"/>
  <Override PartName="/ppt/media/image17.wmf" ContentType="image/x-wmf"/>
  <Override PartName="/ppt/media/image9.wmf" ContentType="image/x-wmf"/>
  <Override PartName="/ppt/media/image39.wmf" ContentType="image/x-wmf"/>
  <Override PartName="/ppt/media/image81.wmf" ContentType="image/x-wmf"/>
  <Override PartName="/ppt/media/image16.wmf" ContentType="image/x-wmf"/>
  <Override PartName="/ppt/media/image8.wmf" ContentType="image/x-wmf"/>
  <Override PartName="/ppt/media/image38.wmf" ContentType="image/x-wmf"/>
  <Override PartName="/ppt/media/image58.png" ContentType="image/png"/>
  <Override PartName="/ppt/media/image80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10.wmf" ContentType="image/x-wmf"/>
  <Override PartName="/ppt/media/image47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E8D1-A4B5-4AA7-B0A5-C53004AB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570-F7DD-4DFC-8E8D-89ACE71B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A8D-2CF3-45E9-818F-53A9D20F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149-4405-4484-B9BE-58B2B55F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A0E-1B1B-4C38-BC37-CA7986F6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97E1-0957-4967-ADDB-66506EEB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0F6E-7E08-4E82-8E27-951F11F3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4FE-6E22-4347-AF5F-DE340AC6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C85-E49A-45C2-8032-153989B8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28D4-8881-46DC-B71B-F8EF5613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0F2-7597-4AAA-A752-B1697CA4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DDE8-D710-4620-80CF-9EA8B440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F182-715D-423B-865D-572510F94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7862760" y="44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第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3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41.xml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41.xml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4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41.xml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1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41.xml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3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41.xml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6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41.xml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8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41.xml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2.wmf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slide" Target="slide16.xml"/><Relationship Id="rId13" Type="http://schemas.openxmlformats.org/officeDocument/2006/relationships/slide" Target="slide41.xml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6.wmf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" Target="slide2.xml"/><Relationship Id="rId12" Type="http://schemas.openxmlformats.org/officeDocument/2006/relationships/slide" Target="slide16.xml"/><Relationship Id="rId13" Type="http://schemas.openxmlformats.org/officeDocument/2006/relationships/slide" Target="slide41.xml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8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41.xml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1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41.xml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3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41.xml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5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41.xml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6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7.wmf"/><Relationship Id="rId3" Type="http://schemas.openxmlformats.org/officeDocument/2006/relationships/image" Target="../media/image5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2.xml"/><Relationship Id="rId7" Type="http://schemas.openxmlformats.org/officeDocument/2006/relationships/slide" Target="slide16.xml"/><Relationship Id="rId8" Type="http://schemas.openxmlformats.org/officeDocument/2006/relationships/slide" Target="slide41.xml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9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0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1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3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4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6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2.xml"/><Relationship Id="rId7" Type="http://schemas.openxmlformats.org/officeDocument/2006/relationships/slide" Target="slide16.xml"/><Relationship Id="rId8" Type="http://schemas.openxmlformats.org/officeDocument/2006/relationships/slide" Target="slide41.xml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8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2.xml"/><Relationship Id="rId8" Type="http://schemas.openxmlformats.org/officeDocument/2006/relationships/slide" Target="slide16.xml"/><Relationship Id="rId9" Type="http://schemas.openxmlformats.org/officeDocument/2006/relationships/slide" Target="slide41.xml"/><Relationship Id="rId10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9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72.wmf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" Target="slide2.xml"/><Relationship Id="rId10" Type="http://schemas.openxmlformats.org/officeDocument/2006/relationships/slide" Target="slide16.xml"/><Relationship Id="rId11" Type="http://schemas.openxmlformats.org/officeDocument/2006/relationships/slide" Target="slide41.xml"/><Relationship Id="rId1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3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4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5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6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7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8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9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0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1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" Target="slide16.xml"/><Relationship Id="rId7" Type="http://schemas.openxmlformats.org/officeDocument/2006/relationships/slide" Target="slide41.xm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Object 42"/>
          <p:cNvGraphicFramePr/>
          <p:nvPr/>
        </p:nvGraphicFramePr>
        <p:xfrm>
          <a:off x="577800" y="774720"/>
          <a:ext cx="8170920" cy="54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774720"/>
                    <a:ext cx="817092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" name="Group 29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45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Group 32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48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49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记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晨读晨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482760" y="631800"/>
          <a:ext cx="829296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31800"/>
                    <a:ext cx="829296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4"/>
          <p:cNvSpPr/>
          <p:nvPr/>
        </p:nvSpPr>
        <p:spPr>
          <a:xfrm>
            <a:off x="2340000" y="1411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闷热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217600" y="2059560"/>
            <a:ext cx="36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违背良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做坏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789280" y="2681640"/>
            <a:ext cx="48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比喻非常顺利，毫无挫折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801880" y="3331080"/>
            <a:ext cx="67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说话时的声音和脸色都显得非常严厉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2819520" y="3978720"/>
            <a:ext cx="64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指生命垂危。也比喻事物近于灭亡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43280" y="46137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从内心里不能忍受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2743200" y="5202720"/>
            <a:ext cx="70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指男女双方家庭的社会地位和经济状况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1042920" y="588528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，结亲很合适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12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215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15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218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219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89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91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395" dur="1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397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记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晨读晨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Object 3"/>
          <p:cNvGraphicFramePr/>
          <p:nvPr/>
        </p:nvGraphicFramePr>
        <p:xfrm>
          <a:off x="482760" y="946080"/>
          <a:ext cx="8292960" cy="54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946080"/>
                    <a:ext cx="829296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5"/>
          <p:cNvSpPr/>
          <p:nvPr/>
        </p:nvSpPr>
        <p:spPr>
          <a:xfrm>
            <a:off x="6372360" y="3932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置疑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859280" y="5058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质疑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8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230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11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233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234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4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6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420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422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记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晨读晨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501480" y="536400"/>
          <a:ext cx="8293320" cy="637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536400"/>
                    <a:ext cx="8293320" cy="637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5"/>
          <p:cNvSpPr/>
          <p:nvPr/>
        </p:nvSpPr>
        <p:spPr>
          <a:xfrm>
            <a:off x="4233960" y="2119680"/>
            <a:ext cx="18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帆风顺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16720" y="312804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时来运转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6654960" y="5144040"/>
            <a:ext cx="18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期而遇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2124000" y="613944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约而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12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247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250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251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46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49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455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457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记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晨读晨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468360" y="981000"/>
          <a:ext cx="8292960" cy="471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81000"/>
                    <a:ext cx="829296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9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260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263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264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460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63" dur="1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65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469" dur="1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471" dur="1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记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晨读晨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Object 3"/>
          <p:cNvGraphicFramePr/>
          <p:nvPr/>
        </p:nvGraphicFramePr>
        <p:xfrm>
          <a:off x="482760" y="476280"/>
          <a:ext cx="8292960" cy="675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76280"/>
                    <a:ext cx="829296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273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276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277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7" dur="1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9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483" dur="1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485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记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晨读晨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3"/>
          <p:cNvGraphicFramePr/>
          <p:nvPr/>
        </p:nvGraphicFramePr>
        <p:xfrm>
          <a:off x="482760" y="838080"/>
          <a:ext cx="829296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838080"/>
                    <a:ext cx="82929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5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286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289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290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91" dur="1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93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497" dur="1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499" dur="1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3" descr="导读边学边思"/>
          <p:cNvPicPr/>
          <p:nvPr/>
        </p:nvPicPr>
        <p:blipFill>
          <a:blip r:embed="rId1"/>
          <a:stretch/>
        </p:blipFill>
        <p:spPr>
          <a:xfrm>
            <a:off x="525600" y="620640"/>
            <a:ext cx="8047080" cy="10051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7" descr="研读研习.TIF"/>
          <p:cNvPicPr/>
          <p:nvPr/>
        </p:nvPicPr>
        <p:blipFill>
          <a:blip r:embed="rId2"/>
          <a:stretch/>
        </p:blipFill>
        <p:spPr>
          <a:xfrm>
            <a:off x="539640" y="1625760"/>
            <a:ext cx="237672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Object 29"/>
          <p:cNvGraphicFramePr/>
          <p:nvPr/>
        </p:nvGraphicFramePr>
        <p:xfrm>
          <a:off x="533520" y="2060640"/>
          <a:ext cx="8280360" cy="4508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9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060640"/>
                    <a:ext cx="828036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Group 30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301" name="图片 2" descr=""/>
            <p:cNvPicPr/>
            <p:nvPr/>
          </p:nvPicPr>
          <p:blipFill>
            <a:blip r:embed="rId5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33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304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305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TextBox 25">
              <a:hlinkClick r:id="rId7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Box 26">
              <a:hlinkClick r:id="rId8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Box 27">
              <a:hlinkClick r:id="rId9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05" dur="1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07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511" dur="1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513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Object 20"/>
          <p:cNvGraphicFramePr/>
          <p:nvPr/>
        </p:nvGraphicFramePr>
        <p:xfrm>
          <a:off x="468360" y="549360"/>
          <a:ext cx="8292960" cy="199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2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8292960" cy="19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21"/>
          <p:cNvGraphicFramePr/>
          <p:nvPr/>
        </p:nvGraphicFramePr>
        <p:xfrm>
          <a:off x="901800" y="2219400"/>
          <a:ext cx="7721640" cy="4305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14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2219400"/>
                    <a:ext cx="7721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5" name="Group 22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316" name="图片 2" descr=""/>
            <p:cNvPicPr/>
            <p:nvPr/>
          </p:nvPicPr>
          <p:blipFill>
            <a:blip r:embed="rId5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25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319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320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TextBox 25">
              <a:hlinkClick r:id="rId7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Box 26">
              <a:hlinkClick r:id="rId8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Box 27">
              <a:hlinkClick r:id="rId9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522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25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27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531" dur="1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533" dur="1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Object 3"/>
          <p:cNvGraphicFramePr/>
          <p:nvPr/>
        </p:nvGraphicFramePr>
        <p:xfrm>
          <a:off x="527040" y="1352520"/>
          <a:ext cx="8292960" cy="45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352520"/>
                    <a:ext cx="829296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8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329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332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333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39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1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545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547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Object 3"/>
          <p:cNvGraphicFramePr/>
          <p:nvPr/>
        </p:nvGraphicFramePr>
        <p:xfrm>
          <a:off x="482760" y="488880"/>
          <a:ext cx="829296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8880"/>
                    <a:ext cx="829296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4"/>
          <p:cNvGraphicFramePr/>
          <p:nvPr/>
        </p:nvGraphicFramePr>
        <p:xfrm>
          <a:off x="1247760" y="2343240"/>
          <a:ext cx="7861320" cy="425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7760" y="2343240"/>
                    <a:ext cx="786132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6"/>
          <p:cNvSpPr/>
          <p:nvPr/>
        </p:nvSpPr>
        <p:spPr>
          <a:xfrm>
            <a:off x="793800" y="21452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Group 7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345" name="图片 2" descr=""/>
            <p:cNvPicPr/>
            <p:nvPr/>
          </p:nvPicPr>
          <p:blipFill>
            <a:blip r:embed="rId5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0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348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349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TextBox 25">
              <a:hlinkClick r:id="rId7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Box 26">
              <a:hlinkClick r:id="rId8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Box 27">
              <a:hlinkClick r:id="rId9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559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62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64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568" dur="1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570" dur="1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导记晨读晨练"/>
          <p:cNvPicPr/>
          <p:nvPr/>
        </p:nvPicPr>
        <p:blipFill>
          <a:blip r:embed="rId1"/>
          <a:stretch/>
        </p:blipFill>
        <p:spPr>
          <a:xfrm>
            <a:off x="554040" y="603360"/>
            <a:ext cx="8194680" cy="1023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天天晨读"/>
          <p:cNvPicPr/>
          <p:nvPr/>
        </p:nvPicPr>
        <p:blipFill>
          <a:blip r:embed="rId2"/>
          <a:stretch/>
        </p:blipFill>
        <p:spPr>
          <a:xfrm>
            <a:off x="568440" y="1639800"/>
            <a:ext cx="1987560" cy="420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记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晨读晨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37"/>
          <p:cNvGraphicFramePr/>
          <p:nvPr/>
        </p:nvGraphicFramePr>
        <p:xfrm>
          <a:off x="598320" y="2087640"/>
          <a:ext cx="8194680" cy="485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" y="2087640"/>
                    <a:ext cx="819468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Group 38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60" name="图片 2" descr=""/>
            <p:cNvPicPr/>
            <p:nvPr/>
          </p:nvPicPr>
          <p:blipFill>
            <a:blip r:embed="rId5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41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63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64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TextBox 25">
              <a:hlinkClick r:id="rId7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Box 26">
              <a:hlinkClick r:id="rId8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Box 27">
              <a:hlinkClick r:id="rId9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26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Object 3"/>
          <p:cNvGraphicFramePr/>
          <p:nvPr/>
        </p:nvGraphicFramePr>
        <p:xfrm>
          <a:off x="662040" y="1741320"/>
          <a:ext cx="8013600" cy="341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1741320"/>
                    <a:ext cx="80136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7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358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361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362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76" dur="1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78" dur="1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582" dur="1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584" dur="1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Object 3"/>
          <p:cNvGraphicFramePr/>
          <p:nvPr/>
        </p:nvGraphicFramePr>
        <p:xfrm>
          <a:off x="482760" y="631800"/>
          <a:ext cx="829296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31800"/>
                    <a:ext cx="829296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4"/>
          <p:cNvGraphicFramePr/>
          <p:nvPr/>
        </p:nvGraphicFramePr>
        <p:xfrm>
          <a:off x="901800" y="2587680"/>
          <a:ext cx="7721640" cy="3073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2587680"/>
                    <a:ext cx="77216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2" name="Group 5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373" name="图片 2" descr=""/>
            <p:cNvPicPr/>
            <p:nvPr/>
          </p:nvPicPr>
          <p:blipFill>
            <a:blip r:embed="rId5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8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376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377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TextBox 25">
              <a:hlinkClick r:id="rId7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TextBox 26">
              <a:hlinkClick r:id="rId8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Box 27">
              <a:hlinkClick r:id="rId9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593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96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98" dur="1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602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604" dur="1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Object 3"/>
          <p:cNvGraphicFramePr/>
          <p:nvPr/>
        </p:nvGraphicFramePr>
        <p:xfrm>
          <a:off x="482760" y="549360"/>
          <a:ext cx="829296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49360"/>
                    <a:ext cx="829296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4"/>
          <p:cNvGraphicFramePr/>
          <p:nvPr/>
        </p:nvGraphicFramePr>
        <p:xfrm>
          <a:off x="1258920" y="1865160"/>
          <a:ext cx="786132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865160"/>
                    <a:ext cx="786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5"/>
          <p:cNvSpPr/>
          <p:nvPr/>
        </p:nvSpPr>
        <p:spPr>
          <a:xfrm>
            <a:off x="852480" y="1653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Group 6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389" name="图片 2" descr=""/>
            <p:cNvPicPr/>
            <p:nvPr/>
          </p:nvPicPr>
          <p:blipFill>
            <a:blip r:embed="rId5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Group 9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392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393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TextBox 25">
              <a:hlinkClick r:id="rId7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Box 26">
              <a:hlinkClick r:id="rId8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Box 27">
              <a:hlinkClick r:id="rId9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616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19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21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625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627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Object 3"/>
          <p:cNvGraphicFramePr/>
          <p:nvPr/>
        </p:nvGraphicFramePr>
        <p:xfrm>
          <a:off x="-25560" y="609480"/>
          <a:ext cx="9347400" cy="647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560" y="609480"/>
                    <a:ext cx="93474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402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405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406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630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33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35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639" dur="1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641" dur="1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Object 3"/>
          <p:cNvGraphicFramePr/>
          <p:nvPr/>
        </p:nvGraphicFramePr>
        <p:xfrm>
          <a:off x="482760" y="476280"/>
          <a:ext cx="829296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76280"/>
                    <a:ext cx="829296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Object 4"/>
          <p:cNvGraphicFramePr/>
          <p:nvPr/>
        </p:nvGraphicFramePr>
        <p:xfrm>
          <a:off x="673200" y="3098880"/>
          <a:ext cx="7861320" cy="3962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00" y="3098880"/>
                    <a:ext cx="78613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Rectangle 5"/>
          <p:cNvSpPr/>
          <p:nvPr/>
        </p:nvSpPr>
        <p:spPr>
          <a:xfrm>
            <a:off x="841320" y="2539080"/>
            <a:ext cx="55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答案  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黑体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存在的矛盾冲突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 　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6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418" name="图片 2" descr=""/>
            <p:cNvPicPr/>
            <p:nvPr/>
          </p:nvPicPr>
          <p:blipFill>
            <a:blip r:embed="rId5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9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421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422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TextBox 25">
              <a:hlinkClick r:id="rId7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TextBox 26">
              <a:hlinkClick r:id="rId8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Box 27">
              <a:hlinkClick r:id="rId9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56" dur="1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58" dur="1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662" dur="1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664" dur="1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Object 3"/>
          <p:cNvGraphicFramePr/>
          <p:nvPr/>
        </p:nvGraphicFramePr>
        <p:xfrm>
          <a:off x="587520" y="1773360"/>
          <a:ext cx="8292960" cy="186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1773360"/>
                    <a:ext cx="8292960" cy="18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4"/>
          <p:cNvGraphicFramePr/>
          <p:nvPr/>
        </p:nvGraphicFramePr>
        <p:xfrm>
          <a:off x="587520" y="3076560"/>
          <a:ext cx="829296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3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7520" y="3076560"/>
                    <a:ext cx="829296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2" name="Group 5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433" name="图片 2" descr=""/>
            <p:cNvPicPr/>
            <p:nvPr/>
          </p:nvPicPr>
          <p:blipFill>
            <a:blip r:embed="rId5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8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436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437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TextBox 25">
              <a:hlinkClick r:id="rId7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TextBox 26">
              <a:hlinkClick r:id="rId8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Box 27">
              <a:hlinkClick r:id="rId9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673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76" dur="1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78" dur="1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682" dur="1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684" dur="1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Object 3"/>
          <p:cNvGraphicFramePr/>
          <p:nvPr/>
        </p:nvGraphicFramePr>
        <p:xfrm>
          <a:off x="482760" y="560520"/>
          <a:ext cx="829296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60520"/>
                    <a:ext cx="829296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4"/>
          <p:cNvGraphicFramePr/>
          <p:nvPr/>
        </p:nvGraphicFramePr>
        <p:xfrm>
          <a:off x="901800" y="1727280"/>
          <a:ext cx="7721640" cy="1917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1727280"/>
                    <a:ext cx="772164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5"/>
          <p:cNvGraphicFramePr/>
          <p:nvPr/>
        </p:nvGraphicFramePr>
        <p:xfrm>
          <a:off x="901800" y="2997360"/>
          <a:ext cx="7721640" cy="1917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4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1800" y="2997360"/>
                    <a:ext cx="772164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6"/>
          <p:cNvGraphicFramePr/>
          <p:nvPr/>
        </p:nvGraphicFramePr>
        <p:xfrm>
          <a:off x="901800" y="4292640"/>
          <a:ext cx="7721640" cy="19051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5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1800" y="4292640"/>
                    <a:ext cx="7721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1" name="Group 7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452" name="图片 2" descr=""/>
            <p:cNvPicPr/>
            <p:nvPr/>
          </p:nvPicPr>
          <p:blipFill>
            <a:blip r:embed="rId9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Group 10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455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456" name="圆角矩形 8" descr=""/>
              <p:cNvPicPr/>
              <p:nvPr/>
            </p:nvPicPr>
            <p:blipFill>
              <a:blip r:embed="rId10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TextBox 25">
              <a:hlinkClick r:id="rId11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Box 26">
              <a:hlinkClick r:id="rId12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TextBox 27">
              <a:hlinkClick r:id="rId13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06" dur="1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08" dur="1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712" dur="1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714" dur="1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Object 3"/>
          <p:cNvGraphicFramePr/>
          <p:nvPr/>
        </p:nvGraphicFramePr>
        <p:xfrm>
          <a:off x="482760" y="549360"/>
          <a:ext cx="829296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49360"/>
                    <a:ext cx="829296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4"/>
          <p:cNvGraphicFramePr/>
          <p:nvPr/>
        </p:nvGraphicFramePr>
        <p:xfrm>
          <a:off x="1090440" y="1582560"/>
          <a:ext cx="7721640" cy="1917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0440" y="1582560"/>
                    <a:ext cx="772164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5"/>
          <p:cNvGraphicFramePr/>
          <p:nvPr/>
        </p:nvGraphicFramePr>
        <p:xfrm>
          <a:off x="1089000" y="3068640"/>
          <a:ext cx="7721640" cy="1917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9000" y="3068640"/>
                    <a:ext cx="772164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6"/>
          <p:cNvGraphicFramePr/>
          <p:nvPr/>
        </p:nvGraphicFramePr>
        <p:xfrm>
          <a:off x="1090440" y="4602240"/>
          <a:ext cx="7721640" cy="20318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90440" y="4602240"/>
                    <a:ext cx="772164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0" name="Group 7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471" name="图片 2" descr=""/>
            <p:cNvPicPr/>
            <p:nvPr/>
          </p:nvPicPr>
          <p:blipFill>
            <a:blip r:embed="rId9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10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474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475" name="圆角矩形 8" descr=""/>
              <p:cNvPicPr/>
              <p:nvPr/>
            </p:nvPicPr>
            <p:blipFill>
              <a:blip r:embed="rId10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TextBox 25">
              <a:hlinkClick r:id="rId11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Box 26">
              <a:hlinkClick r:id="rId12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Box 27">
              <a:hlinkClick r:id="rId13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36" dur="1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38" dur="1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742" dur="1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744" dur="1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Object 3"/>
          <p:cNvGraphicFramePr/>
          <p:nvPr/>
        </p:nvGraphicFramePr>
        <p:xfrm>
          <a:off x="482760" y="536400"/>
          <a:ext cx="829296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36400"/>
                    <a:ext cx="829296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4"/>
          <p:cNvGraphicFramePr/>
          <p:nvPr/>
        </p:nvGraphicFramePr>
        <p:xfrm>
          <a:off x="1092240" y="1928880"/>
          <a:ext cx="7721640" cy="474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8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2240" y="1928880"/>
                    <a:ext cx="77216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5" name="Group 5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486" name="图片 2" descr=""/>
            <p:cNvPicPr/>
            <p:nvPr/>
          </p:nvPicPr>
          <p:blipFill>
            <a:blip r:embed="rId5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8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489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490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TextBox 25">
              <a:hlinkClick r:id="rId7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Box 26">
              <a:hlinkClick r:id="rId8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Box 27">
              <a:hlinkClick r:id="rId9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56" dur="1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58" dur="1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762" dur="1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764" dur="1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Object 3"/>
          <p:cNvGraphicFramePr/>
          <p:nvPr/>
        </p:nvGraphicFramePr>
        <p:xfrm>
          <a:off x="527040" y="1017720"/>
          <a:ext cx="8292960" cy="501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017720"/>
                    <a:ext cx="8292960" cy="50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Rectangle 4"/>
          <p:cNvSpPr/>
          <p:nvPr/>
        </p:nvSpPr>
        <p:spPr>
          <a:xfrm>
            <a:off x="552600" y="1785960"/>
            <a:ext cx="8208720" cy="3743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Group 5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500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Group 8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503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504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767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70" dur="1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72" dur="1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776" dur="1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778" dur="1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记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晨读晨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17"/>
          <p:cNvGraphicFramePr/>
          <p:nvPr/>
        </p:nvGraphicFramePr>
        <p:xfrm>
          <a:off x="482760" y="1403280"/>
          <a:ext cx="829296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403280"/>
                    <a:ext cx="82929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" name="Group 18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73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76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77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6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42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Object 3"/>
          <p:cNvGraphicFramePr/>
          <p:nvPr/>
        </p:nvGraphicFramePr>
        <p:xfrm>
          <a:off x="482760" y="560520"/>
          <a:ext cx="829296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60520"/>
                    <a:ext cx="829296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Object 4"/>
          <p:cNvGraphicFramePr/>
          <p:nvPr/>
        </p:nvGraphicFramePr>
        <p:xfrm>
          <a:off x="1079640" y="2616120"/>
          <a:ext cx="7721640" cy="4229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2616120"/>
                    <a:ext cx="7721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4" name="Group 5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515" name="图片 2" descr=""/>
            <p:cNvPicPr/>
            <p:nvPr/>
          </p:nvPicPr>
          <p:blipFill>
            <a:blip r:embed="rId5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8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518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519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TextBox 25">
              <a:hlinkClick r:id="rId7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Box 26">
              <a:hlinkClick r:id="rId8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TextBox 27">
              <a:hlinkClick r:id="rId9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787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90" dur="1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92" dur="1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796" dur="1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798" dur="1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5" name="Object 3"/>
          <p:cNvGraphicFramePr/>
          <p:nvPr/>
        </p:nvGraphicFramePr>
        <p:xfrm>
          <a:off x="482760" y="558720"/>
          <a:ext cx="8420040" cy="18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58720"/>
                    <a:ext cx="8420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4"/>
          <p:cNvGraphicFramePr/>
          <p:nvPr/>
        </p:nvGraphicFramePr>
        <p:xfrm>
          <a:off x="482760" y="2085840"/>
          <a:ext cx="8420040" cy="457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760" y="2085840"/>
                    <a:ext cx="8420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9" name="Group 5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530" name="图片 2" descr=""/>
            <p:cNvPicPr/>
            <p:nvPr/>
          </p:nvPicPr>
          <p:blipFill>
            <a:blip r:embed="rId5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8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533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534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" name="TextBox 25">
              <a:hlinkClick r:id="rId7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Box 26">
              <a:hlinkClick r:id="rId8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Box 27">
              <a:hlinkClick r:id="rId9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807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10" dur="1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12" dur="1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816" dur="1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818" dur="1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Object 3"/>
          <p:cNvGraphicFramePr/>
          <p:nvPr/>
        </p:nvGraphicFramePr>
        <p:xfrm>
          <a:off x="482760" y="536400"/>
          <a:ext cx="8292960" cy="22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36400"/>
                    <a:ext cx="8292960" cy="22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Object 4"/>
          <p:cNvGraphicFramePr/>
          <p:nvPr/>
        </p:nvGraphicFramePr>
        <p:xfrm>
          <a:off x="495360" y="2000160"/>
          <a:ext cx="8420040" cy="457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360" y="2000160"/>
                    <a:ext cx="8420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4" name="Group 5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545" name="图片 2" descr=""/>
            <p:cNvPicPr/>
            <p:nvPr/>
          </p:nvPicPr>
          <p:blipFill>
            <a:blip r:embed="rId5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Group 8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548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549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TextBox 25">
              <a:hlinkClick r:id="rId7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Box 26">
              <a:hlinkClick r:id="rId8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Box 27">
              <a:hlinkClick r:id="rId9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30" dur="1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32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836" dur="1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838" dur="1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5"/>
          <p:cNvGraphicFramePr/>
          <p:nvPr/>
        </p:nvGraphicFramePr>
        <p:xfrm>
          <a:off x="696960" y="1436760"/>
          <a:ext cx="8051760" cy="350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1436760"/>
                    <a:ext cx="805176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6"/>
          <p:cNvSpPr/>
          <p:nvPr/>
        </p:nvSpPr>
        <p:spPr>
          <a:xfrm>
            <a:off x="557280" y="1452600"/>
            <a:ext cx="8208720" cy="3454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7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559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Group 10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562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563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841" nodeType="clickEffect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44" dur="1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46" dur="1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850" dur="1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852" dur="10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Object 3"/>
          <p:cNvGraphicFramePr/>
          <p:nvPr/>
        </p:nvGraphicFramePr>
        <p:xfrm>
          <a:off x="495360" y="1295280"/>
          <a:ext cx="8292960" cy="514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295280"/>
                    <a:ext cx="829296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1" name="Picture 5" descr="E:\源文件\人教必修4\文内文外.TIF"/>
          <p:cNvPicPr/>
          <p:nvPr/>
        </p:nvPicPr>
        <p:blipFill>
          <a:blip r:embed="rId3"/>
          <a:stretch/>
        </p:blipFill>
        <p:spPr>
          <a:xfrm>
            <a:off x="468360" y="652320"/>
            <a:ext cx="2663640" cy="689040"/>
          </a:xfrm>
          <a:prstGeom prst="rect">
            <a:avLst/>
          </a:prstGeom>
          <a:ln w="0">
            <a:noFill/>
          </a:ln>
        </p:spPr>
      </p:pic>
      <p:grpSp>
        <p:nvGrpSpPr>
          <p:cNvPr id="572" name="Group 7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573" name="图片 2" descr=""/>
            <p:cNvPicPr/>
            <p:nvPr/>
          </p:nvPicPr>
          <p:blipFill>
            <a:blip r:embed="rId4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10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576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577" name="圆角矩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9" name="TextBox 25">
              <a:hlinkClick r:id="rId6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TextBox 26">
              <a:hlinkClick r:id="rId7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Box 27">
              <a:hlinkClick r:id="rId8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855" nodeType="clickEffect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58" dur="1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60" dur="1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864" dur="1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866" dur="1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Object 3"/>
          <p:cNvGraphicFramePr/>
          <p:nvPr/>
        </p:nvGraphicFramePr>
        <p:xfrm>
          <a:off x="482760" y="546120"/>
          <a:ext cx="82929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46120"/>
                    <a:ext cx="82929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5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586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589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590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72" dur="1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74" dur="1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878" dur="1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880" dur="1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Object 3"/>
          <p:cNvGraphicFramePr/>
          <p:nvPr/>
        </p:nvGraphicFramePr>
        <p:xfrm>
          <a:off x="495360" y="557280"/>
          <a:ext cx="829296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557280"/>
                    <a:ext cx="829296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8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599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602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603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883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86" dur="1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88" dur="1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892" dur="1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894" dur="1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Object 3"/>
          <p:cNvGraphicFramePr/>
          <p:nvPr/>
        </p:nvGraphicFramePr>
        <p:xfrm>
          <a:off x="482760" y="1152360"/>
          <a:ext cx="82929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152360"/>
                    <a:ext cx="82929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1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612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615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616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7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897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00" dur="1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02" dur="1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906" dur="1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908" dur="1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2" name="Object 3"/>
          <p:cNvGraphicFramePr/>
          <p:nvPr/>
        </p:nvGraphicFramePr>
        <p:xfrm>
          <a:off x="527040" y="628560"/>
          <a:ext cx="8292960" cy="618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628560"/>
                    <a:ext cx="829296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4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625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628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629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911" nodeType="clickEffect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14" dur="1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16" dur="1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920" dur="1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922" dur="1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" name="Object 3"/>
          <p:cNvGraphicFramePr/>
          <p:nvPr/>
        </p:nvGraphicFramePr>
        <p:xfrm>
          <a:off x="527040" y="722160"/>
          <a:ext cx="8292960" cy="623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722160"/>
                    <a:ext cx="8292960" cy="623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7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638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641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642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3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925" nodeType="clickEffect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28" dur="1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30" dur="1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934" dur="10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936" dur="1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记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晨读晨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324000" y="1484280"/>
          <a:ext cx="8292960" cy="41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292960" cy="41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86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89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90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8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0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54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读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边学边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Object 4"/>
          <p:cNvGraphicFramePr/>
          <p:nvPr/>
        </p:nvGraphicFramePr>
        <p:xfrm>
          <a:off x="495360" y="1844640"/>
          <a:ext cx="8292960" cy="284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844640"/>
                    <a:ext cx="829296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0" name="Group 5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651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8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654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655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6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42" dur="1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44" dur="1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948" dur="1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950" dur="1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导写行读行写"/>
          <p:cNvPicPr/>
          <p:nvPr/>
        </p:nvPicPr>
        <p:blipFill>
          <a:blip r:embed="rId1"/>
          <a:stretch/>
        </p:blipFill>
        <p:spPr>
          <a:xfrm>
            <a:off x="539640" y="549360"/>
            <a:ext cx="7904160" cy="987480"/>
          </a:xfrm>
          <a:prstGeom prst="rect">
            <a:avLst/>
          </a:prstGeom>
          <a:ln w="0">
            <a:noFill/>
          </a:ln>
        </p:spPr>
      </p:pic>
      <p:sp>
        <p:nvSpPr>
          <p:cNvPr id="661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写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行读行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2" name="Object 27"/>
          <p:cNvGraphicFramePr/>
          <p:nvPr/>
        </p:nvGraphicFramePr>
        <p:xfrm>
          <a:off x="520560" y="1386000"/>
          <a:ext cx="8280720" cy="5499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63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0560" y="1386000"/>
                    <a:ext cx="828072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28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665" name="图片 2" descr=""/>
            <p:cNvPicPr/>
            <p:nvPr/>
          </p:nvPicPr>
          <p:blipFill>
            <a:blip r:embed="rId4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31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668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669" name="圆角矩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TextBox 25">
              <a:hlinkClick r:id="rId6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Box 26">
              <a:hlinkClick r:id="rId7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TextBox 27">
              <a:hlinkClick r:id="rId8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953" nodeType="clickEffect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56" dur="1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58" dur="1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962" dur="1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964" dur="1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写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行读行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5" name="Object 20"/>
          <p:cNvGraphicFramePr/>
          <p:nvPr/>
        </p:nvGraphicFramePr>
        <p:xfrm>
          <a:off x="527040" y="1387440"/>
          <a:ext cx="829296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387440"/>
                    <a:ext cx="82929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21"/>
          <p:cNvGraphicFramePr/>
          <p:nvPr/>
        </p:nvGraphicFramePr>
        <p:xfrm>
          <a:off x="527040" y="2617920"/>
          <a:ext cx="8292960" cy="2539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8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7040" y="2617920"/>
                    <a:ext cx="829296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9" name="Group 22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680" name="图片 2" descr=""/>
            <p:cNvPicPr/>
            <p:nvPr/>
          </p:nvPicPr>
          <p:blipFill>
            <a:blip r:embed="rId5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Group 25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683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684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TextBox 25">
              <a:hlinkClick r:id="rId7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TextBox 26">
              <a:hlinkClick r:id="rId8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Box 27">
              <a:hlinkClick r:id="rId9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679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76" dur="1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78" dur="1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evt="onClick">
                          <p:tgtEl>
                            <p:spTgt spid="679"/>
                          </p:tgtEl>
                        </p:cond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982" dur="1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984" dur="1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写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行读行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0" name="Object 3"/>
          <p:cNvGraphicFramePr/>
          <p:nvPr/>
        </p:nvGraphicFramePr>
        <p:xfrm>
          <a:off x="468360" y="609480"/>
          <a:ext cx="829296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09480"/>
                    <a:ext cx="829296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2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693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696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697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987" nodeType="clickEffect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90" dur="1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92" dur="1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996" dur="1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998" dur="1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写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行读行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Object 3"/>
          <p:cNvGraphicFramePr/>
          <p:nvPr/>
        </p:nvGraphicFramePr>
        <p:xfrm>
          <a:off x="482760" y="922320"/>
          <a:ext cx="8292960" cy="309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922320"/>
                    <a:ext cx="829296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5" name="Object 4"/>
          <p:cNvGraphicFramePr/>
          <p:nvPr/>
        </p:nvGraphicFramePr>
        <p:xfrm>
          <a:off x="482760" y="3441600"/>
          <a:ext cx="8292960" cy="1702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760" y="3441600"/>
                    <a:ext cx="829296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Object 5"/>
          <p:cNvGraphicFramePr/>
          <p:nvPr/>
        </p:nvGraphicFramePr>
        <p:xfrm>
          <a:off x="482760" y="4594320"/>
          <a:ext cx="8292960" cy="1701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0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2760" y="4594320"/>
                    <a:ext cx="8292960" cy="17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9" name="Group 6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710" name="图片 2" descr=""/>
            <p:cNvPicPr/>
            <p:nvPr/>
          </p:nvPicPr>
          <p:blipFill>
            <a:blip r:embed="rId7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Group 9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713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714" name="圆角矩形 8" descr=""/>
              <p:cNvPicPr/>
              <p:nvPr/>
            </p:nvPicPr>
            <p:blipFill>
              <a:blip r:embed="rId8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6" name="TextBox 25">
              <a:hlinkClick r:id="rId9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Box 26">
              <a:hlinkClick r:id="rId10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TextBox 27">
              <a:hlinkClick r:id="rId11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709"/>
                    </p:tgtEl>
                  </p:cond>
                </p:stCondLst>
                <p:childTnLst>
                  <p:par>
                    <p:cTn id="1012" nodeType="clickEffect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15" dur="10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17" dur="10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1021" dur="1000" fill="hold"/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1023" dur="10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写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行读行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0" name="Object 3"/>
          <p:cNvGraphicFramePr/>
          <p:nvPr/>
        </p:nvGraphicFramePr>
        <p:xfrm>
          <a:off x="527040" y="1795320"/>
          <a:ext cx="8292960" cy="306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795320"/>
                    <a:ext cx="829296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22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723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726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727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8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restart="whenNotActive" nodeType="interactiveSeq" fill="hold">
                <p:stCondLst>
                  <p:cond evt="onClick">
                    <p:tgtEl>
                      <p:spTgt spid="722"/>
                    </p:tgtEl>
                  </p:cond>
                </p:stCondLst>
                <p:childTnLst>
                  <p:par>
                    <p:cTn id="1026" nodeType="clickEffect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29" dur="1000" fill="hold"/>
                                        <p:tgtEl>
                                          <p:spTgt spid="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31" dur="1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evt="onClick">
                          <p:tgtEl>
                            <p:spTgt spid="722"/>
                          </p:tgtEl>
                        </p:cond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1035" dur="1000" fill="hold"/>
                                        <p:tgtEl>
                                          <p:spTgt spid="7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1037" dur="1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写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行读行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3" name="Object 3"/>
          <p:cNvGraphicFramePr/>
          <p:nvPr/>
        </p:nvGraphicFramePr>
        <p:xfrm>
          <a:off x="468360" y="620640"/>
          <a:ext cx="8280360" cy="612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8036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5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736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739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740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TextBox 25"/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Box 26"/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TextBox 27"/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restart="whenNotActive" nodeType="interactiveSeq" fill="hold">
                <p:stCondLst>
                  <p:cond evt="onClick">
                    <p:tgtEl>
                      <p:spTgt spid="735"/>
                    </p:tgtEl>
                  </p:cond>
                </p:stCondLst>
                <p:childTnLst>
                  <p:par>
                    <p:cTn id="1040" nodeType="clickEffect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43" dur="1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45" dur="1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evt="onClick">
                          <p:tgtEl>
                            <p:spTgt spid="735"/>
                          </p:tgtEl>
                        </p:cond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1049" dur="10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1051" dur="1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写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行读行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6" name="Object 3"/>
          <p:cNvGraphicFramePr/>
          <p:nvPr/>
        </p:nvGraphicFramePr>
        <p:xfrm>
          <a:off x="482760" y="874800"/>
          <a:ext cx="8292960" cy="60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874800"/>
                    <a:ext cx="8292960" cy="60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8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749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752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753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TextBox 25"/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Box 26"/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TextBox 27"/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1054" nodeType="clickEffect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57" dur="1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59" dur="1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1063" dur="10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1065" dur="10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写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行读行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9" name="Object 3"/>
          <p:cNvGraphicFramePr/>
          <p:nvPr/>
        </p:nvGraphicFramePr>
        <p:xfrm>
          <a:off x="468360" y="1038240"/>
          <a:ext cx="8292960" cy="46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38240"/>
                    <a:ext cx="82929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1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762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765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766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7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8" name="TextBox 25"/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TextBox 26"/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TextBox 27"/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restart="whenNotActive" nodeType="interactiveSeq" fill="hold">
                <p:stCondLst>
                  <p:cond evt="onClick">
                    <p:tgtEl>
                      <p:spTgt spid="761"/>
                    </p:tgtEl>
                  </p:cond>
                </p:stCondLst>
                <p:childTnLst>
                  <p:par>
                    <p:cTn id="1068" nodeType="clickEffect" fill="hold">
                      <p:stCondLst>
                        <p:cond evt="onClick">
                          <p:tgtEl>
                            <p:spTgt spid="761"/>
                          </p:tgtEl>
                        </p:cond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71" dur="1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73" dur="1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evt="onClick">
                          <p:tgtEl>
                            <p:spTgt spid="761"/>
                          </p:tgtEl>
                        </p:cond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1077" dur="1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1079" dur="1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写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行读行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2" name="Object 3"/>
          <p:cNvGraphicFramePr/>
          <p:nvPr/>
        </p:nvGraphicFramePr>
        <p:xfrm>
          <a:off x="482760" y="442800"/>
          <a:ext cx="8292960" cy="65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42800"/>
                    <a:ext cx="829296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4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775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778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779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1" name="TextBox 25"/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Box 26"/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Box 27"/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restart="whenNotActive" nodeType="interactiveSeq" fill="hold">
                <p:stCondLst>
                  <p:cond evt="onClick">
                    <p:tgtEl>
                      <p:spTgt spid="774"/>
                    </p:tgtEl>
                  </p:cond>
                </p:stCondLst>
                <p:childTnLst>
                  <p:par>
                    <p:cTn id="1082" nodeType="clickEffect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85" dur="1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87" dur="1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evt="onClick">
                          <p:tgtEl>
                            <p:spTgt spid="774"/>
                          </p:tgtEl>
                        </p:cond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1091" dur="10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1093" dur="1000" fill="hold"/>
                                        <p:tgtEl>
                                          <p:spTgt spid="7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记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晨读晨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520560" y="1139760"/>
          <a:ext cx="8293320" cy="495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1139760"/>
                    <a:ext cx="829332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99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102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103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2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写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行读行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5" name="Object 3"/>
          <p:cNvGraphicFramePr/>
          <p:nvPr/>
        </p:nvGraphicFramePr>
        <p:xfrm>
          <a:off x="482760" y="836640"/>
          <a:ext cx="829296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836640"/>
                    <a:ext cx="829296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7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788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791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792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TextBox 25"/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Box 26"/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Box 27"/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1096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99" dur="100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01" dur="10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1105" dur="100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1107" dur="10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写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行读行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Object 3"/>
          <p:cNvGraphicFramePr/>
          <p:nvPr/>
        </p:nvGraphicFramePr>
        <p:xfrm>
          <a:off x="482760" y="622440"/>
          <a:ext cx="829296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22440"/>
                    <a:ext cx="829296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0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801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804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805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TextBox 25"/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TextBox 26"/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TextBox 27"/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1110" nodeType="clickEffect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13" dur="10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15" dur="1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1119" dur="10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1121" dur="1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写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行读行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1" name="Object 3"/>
          <p:cNvGraphicFramePr/>
          <p:nvPr/>
        </p:nvGraphicFramePr>
        <p:xfrm>
          <a:off x="520560" y="1628640"/>
          <a:ext cx="829332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1628640"/>
                    <a:ext cx="829332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3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814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817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818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TextBox 25"/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TextBox 26"/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Box 27"/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restart="whenNotActive" nodeType="interactiveSeq" fill="hold">
                <p:stCondLst>
                  <p:cond evt="onClick">
                    <p:tgtEl>
                      <p:spTgt spid="813"/>
                    </p:tgtEl>
                  </p:cond>
                </p:stCondLst>
                <p:childTnLst>
                  <p:par>
                    <p:cTn id="1124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27" dur="1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29" dur="1000" fill="hold"/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evt="onClick">
                          <p:tgtEl>
                            <p:spTgt spid="813"/>
                          </p:tgtEl>
                        </p:cond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1133" dur="1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1135" dur="1000" fill="hold"/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写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行读行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4" name="Object 3"/>
          <p:cNvGraphicFramePr/>
          <p:nvPr/>
        </p:nvGraphicFramePr>
        <p:xfrm>
          <a:off x="527040" y="1208160"/>
          <a:ext cx="8292960" cy="438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1208160"/>
                    <a:ext cx="82929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6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827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8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830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831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2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TextBox 25"/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TextBox 26"/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Box 27"/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1138" nodeType="clickEffect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41" dur="1000" fill="hold"/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43" dur="1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1147" dur="1000" fill="hold"/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1149" dur="1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记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晨读晨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482760" y="620640"/>
          <a:ext cx="829296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20640"/>
                    <a:ext cx="829296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4"/>
          <p:cNvSpPr/>
          <p:nvPr/>
        </p:nvSpPr>
        <p:spPr>
          <a:xfrm>
            <a:off x="2076480" y="262296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è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4884840" y="263592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èi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7591320" y="2635920"/>
            <a:ext cx="9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ì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1979640" y="3270600"/>
            <a:ext cx="10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í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016600" y="32580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ī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7608960" y="3258000"/>
            <a:ext cx="10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ī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246400" y="38851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é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4878360" y="387252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ǎnɡ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7596360" y="387252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hānɡ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944720" y="4529520"/>
            <a:ext cx="15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hě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1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122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125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126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7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133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135" dur="1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记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晨读晨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887400" y="1413000"/>
          <a:ext cx="82929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7400" y="1413000"/>
                    <a:ext cx="82929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4"/>
          <p:cNvSpPr/>
          <p:nvPr/>
        </p:nvSpPr>
        <p:spPr>
          <a:xfrm>
            <a:off x="2327400" y="191520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ì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975040" y="23612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ì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7210440" y="1953000"/>
            <a:ext cx="14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ú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36000" y="2361240"/>
            <a:ext cx="14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ù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411280" y="287388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i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424240" y="3343680"/>
            <a:ext cx="14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iā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6575400" y="2851560"/>
            <a:ext cx="19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ɡ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6558120" y="3296160"/>
            <a:ext cx="19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ǎnɡ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2916360" y="4088160"/>
            <a:ext cx="10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ū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2306520" y="453276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ú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6634080" y="38944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h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6688080" y="4326480"/>
            <a:ext cx="10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ā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6680160" y="4771080"/>
            <a:ext cx="13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hā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7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148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20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151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152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7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9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213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215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记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晨读晨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587520" y="712800"/>
          <a:ext cx="82929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712800"/>
                    <a:ext cx="82929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Group 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161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164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165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1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3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227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229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395280" y="44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导记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晨读晨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743040" y="992160"/>
          <a:ext cx="829296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992160"/>
                    <a:ext cx="829296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4"/>
          <p:cNvSpPr/>
          <p:nvPr/>
        </p:nvSpPr>
        <p:spPr>
          <a:xfrm>
            <a:off x="2124000" y="1530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晌午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111400" y="20008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响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2085840" y="24530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军饷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67560" y="1518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账单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6647040" y="2008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惆怅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667560" y="24325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蚊帐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2079720" y="2958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烦躁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2076480" y="34153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干燥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2076480" y="38725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噪音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6659640" y="2958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缔结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6659640" y="34153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瓜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6642000" y="3834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啼叫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2079720" y="44233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悔恨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2117880" y="48898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教诲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2076480" y="5347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晦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2063880" y="5779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侮辱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6642000" y="4435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绸缎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6647040" y="4867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稠密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6659640" y="5325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啁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6659640" y="5779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凋落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24"/>
          <p:cNvGrpSpPr/>
          <p:nvPr/>
        </p:nvGrpSpPr>
        <p:grpSpPr>
          <a:xfrm>
            <a:off x="-390600" y="2254320"/>
            <a:ext cx="865440" cy="2545920"/>
            <a:chOff x="-390600" y="2254320"/>
            <a:chExt cx="865440" cy="2545920"/>
          </a:xfrm>
        </p:grpSpPr>
        <p:pic>
          <p:nvPicPr>
            <p:cNvPr id="194" name="图片 2" descr=""/>
            <p:cNvPicPr/>
            <p:nvPr/>
          </p:nvPicPr>
          <p:blipFill>
            <a:blip r:embed="rId3"/>
            <a:stretch/>
          </p:blipFill>
          <p:spPr>
            <a:xfrm>
              <a:off x="-60120" y="2254320"/>
              <a:ext cx="534960" cy="24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6"/>
            <p:cNvSpPr/>
            <p:nvPr/>
          </p:nvSpPr>
          <p:spPr>
            <a:xfrm>
              <a:off x="-390600" y="2725920"/>
              <a:ext cx="790200" cy="20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0c0"/>
                  </a:solidFill>
                  <a:latin typeface="方正隶变_GBK"/>
                  <a:ea typeface="方正隶变_GBK"/>
                </a:rPr>
                <a:t>本课栏目开关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27"/>
          <p:cNvGrpSpPr/>
          <p:nvPr/>
        </p:nvGrpSpPr>
        <p:grpSpPr>
          <a:xfrm>
            <a:off x="-2220840" y="2179800"/>
            <a:ext cx="2224080" cy="2649240"/>
            <a:chOff x="-2220840" y="2179800"/>
            <a:chExt cx="2224080" cy="2649240"/>
          </a:xfrm>
        </p:grpSpPr>
        <p:grpSp>
          <p:nvGrpSpPr>
            <p:cNvPr id="197" name="圆角矩形 8"/>
            <p:cNvGrpSpPr/>
            <p:nvPr/>
          </p:nvGrpSpPr>
          <p:grpSpPr>
            <a:xfrm>
              <a:off x="-2157480" y="2179800"/>
              <a:ext cx="2084400" cy="2649240"/>
              <a:chOff x="-2157480" y="2179800"/>
              <a:chExt cx="2084400" cy="2649240"/>
            </a:xfrm>
          </p:grpSpPr>
          <p:pic>
            <p:nvPicPr>
              <p:cNvPr id="198" name="圆角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2157480" y="2179800"/>
                <a:ext cx="2084400" cy="26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-2046600" y="2292840"/>
                <a:ext cx="1859040" cy="242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TextBox 25">
              <a:hlinkClick r:id="rId5" action="ppaction://hlinksldjump"/>
            </p:cNvPr>
            <p:cNvSpPr/>
            <p:nvPr/>
          </p:nvSpPr>
          <p:spPr>
            <a:xfrm>
              <a:off x="-2176560" y="2440800"/>
              <a:ext cx="2087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记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晨读晨练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Box 26">
              <a:hlinkClick r:id="rId6" action="ppaction://hlinksldjump"/>
            </p:cNvPr>
            <p:cNvSpPr/>
            <p:nvPr/>
          </p:nvSpPr>
          <p:spPr>
            <a:xfrm>
              <a:off x="-2220840" y="3165840"/>
              <a:ext cx="216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读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边学边思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Box 27">
              <a:hlinkClick r:id="rId7" action="ppaction://hlinksldjump"/>
            </p:cNvPr>
            <p:cNvSpPr/>
            <p:nvPr/>
          </p:nvSpPr>
          <p:spPr>
            <a:xfrm>
              <a:off x="-2208240" y="3920400"/>
              <a:ext cx="221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导写</a:t>
              </a:r>
              <a:r>
                <a:rPr b="1" lang="en-US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·</a:t>
              </a:r>
              <a:r>
                <a:rPr b="1" lang="zh-CN" sz="1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行读行写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6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38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66 -4.91094E-006 L -0.00034 -4.91094E-006 E">
                                      <p:cBhvr>
                                        <p:cTn id="342" dur="1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931 3.76822E-006 L -0.0007 3.76822E-006 E">
                                      <p:cBhvr>
                                        <p:cTn id="344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1T00:54:36Z</dcterms:created>
  <dc:creator/>
  <dc:description/>
  <cp:keywords/>
  <dc:language>en-US</dc:language>
  <cp:lastModifiedBy>ABC</cp:lastModifiedBy>
  <dcterms:modified xsi:type="dcterms:W3CDTF">2015-12-23T04:02:42Z</dcterms:modified>
  <cp:revision>142</cp:revision>
  <dc:subject/>
  <dc:title>PowerPoint 演示文稿</dc:title>
</cp:coreProperties>
</file>