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DB5B-1793-4E41-9A40-A11195503C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链接相应的教学内容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张之路（作者介绍）——生字音形——朗读课文——情节结构——讨论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情节”两字链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lash.exe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拖动人物摆在适当的位置）；“结构”两字链接〈书信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856-FA0D-475E-8AC1-D6D16B29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E40-90F6-47CA-AC3A-0FF1360A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CD3-6596-47EE-BE7A-89216759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4E5-69C6-4A72-9F68-BB09706E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7FBB-CC4D-458D-9112-8408BC52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3FDB-E2EB-4BAB-9718-F60D7169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32C9-8B91-45BA-AA7E-FC911BA3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C430-E8F3-45EA-A829-919369CF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2928-6D99-4C24-BE55-4D59EFE9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60440" y="261720"/>
            <a:ext cx="731520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A248-9782-452B-8C5E-F6DD6857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50CA-83A4-4E7F-B457-C6207EB3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FAB-11E5-4C04-B93E-6E25898D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C3B-1589-4CAC-B85F-D2932193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1D6F-61C5-4E5F-B0F7-5BCCA0B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C9F5-3217-43D6-9E13-CD7B9E36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03B1-ACD0-4065-A3D6-FDF521F8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6CE-26EA-4CBD-9203-E319237B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00E-4C2F-4185-A3A5-E0230F68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072-CFCB-41F6-B51F-65122CC6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E7B-0599-4283-B812-7E3F5E3E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0440" y="261720"/>
            <a:ext cx="731520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568-720A-44AC-B54C-D9C2CAC7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2EB-D9B5-408F-8D70-CC6A853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57F-0C1E-43C2-9332-B4E9A40E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FA6-67E3-4A9D-AF7D-4F170F7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AA0B-1315-4CB5-9D0F-CED4587CDF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C530-67E7-4B9D-8E4F-7FF1C24FE2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35640" y="37893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张之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00" y="6305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七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羚羊木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探索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0080" y="2637000"/>
            <a:ext cx="10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怎样才能避免这类不愉快的事情发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0920" y="36360"/>
            <a:ext cx="100800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20720" y="304812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生活中让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一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少一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24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通过这篇课文，你学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探索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36360"/>
            <a:ext cx="100800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0200" y="285264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可以补充想象你需要的情节，但要合情合理并与原文呼应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情真意切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符合书信格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700280"/>
            <a:ext cx="66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你是故事中的一个人物，请你给故事中最想说声“对不起”的人写一封信，表达歉意，抚平创伤，增进感情，为原文加一个别有意味的结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探索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36360"/>
            <a:ext cx="1008000" cy="101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2166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怦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1668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21668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46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逮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3386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27240" y="263700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882880" y="26370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356000" y="26370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867280" y="26370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403960" y="3860640"/>
            <a:ext cx="320400" cy="171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1587600" y="3933720"/>
            <a:ext cx="320400" cy="17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7920" y="4484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逮着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60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颤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5148360" y="5057640"/>
            <a:ext cx="320400" cy="171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514520" y="4941720"/>
            <a:ext cx="320760" cy="17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64500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50028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1557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p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484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459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z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46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4529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ǎ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386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z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60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c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166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21668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53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m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7308720" y="263700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164360" y="1459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u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引入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395280" y="189000"/>
            <a:ext cx="942840" cy="942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36720" y="21081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角色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89548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要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语气、语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引入 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942840" cy="942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11280" y="1125360"/>
            <a:ext cx="90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只羚羊哪儿去了？</a:t>
            </a:r>
            <a:r>
              <a:rPr b="1" lang="zh-CN" sz="2000" spc="-1" strike="noStrike">
                <a:solidFill>
                  <a:srgbClr val="b34c0d"/>
                </a:solidFill>
                <a:latin typeface="楷体_GB2312"/>
                <a:ea typeface="楷体_GB2312"/>
              </a:rPr>
              <a:t>（突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不是说给我了吗？</a:t>
            </a:r>
            <a:r>
              <a:rPr b="1" lang="zh-CN" sz="2000" spc="-1" strike="noStrike">
                <a:solidFill>
                  <a:srgbClr val="b34c0d"/>
                </a:solidFill>
                <a:latin typeface="楷体_GB2312"/>
                <a:ea typeface="楷体_GB2312"/>
              </a:rPr>
              <a:t>（小声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知道给你了，可是现在它在哪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把它收起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在哪儿了？拿来我看看。要说实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不是拿出去卖啦？</a:t>
            </a:r>
            <a:r>
              <a:rPr b="1" lang="zh-CN" sz="2000" spc="-1" strike="noStrike">
                <a:solidFill>
                  <a:srgbClr val="b34c0d"/>
                </a:solidFill>
                <a:latin typeface="楷体_GB2312"/>
                <a:ea typeface="楷体_GB2312"/>
              </a:rPr>
              <a:t>（十分严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卖……我送人了。</a:t>
            </a:r>
            <a:r>
              <a:rPr b="1" lang="zh-CN" sz="2000" spc="-1" strike="noStrike">
                <a:solidFill>
                  <a:srgbClr val="b34c0d"/>
                </a:solidFill>
                <a:latin typeface="楷体_GB2312"/>
                <a:ea typeface="楷体_GB2312"/>
              </a:rPr>
              <a:t>（声音发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给谁了？告诉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给万芳了，她是我最好的朋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现在就去把它要回来！那么贵重的东西怎么能随便送人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要不我和你一起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讨论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12000"/>
          </a:blip>
          <a:srcRect l="0" t="10018" r="7606" b="0"/>
          <a:stretch/>
        </p:blipFill>
        <p:spPr>
          <a:xfrm>
            <a:off x="5722920" y="1046160"/>
            <a:ext cx="2736720" cy="339084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120600"/>
            <a:ext cx="860400" cy="86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1560" y="1674720"/>
            <a:ext cx="80028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！</a:t>
            </a:r>
            <a:r>
              <a:rPr b="1" lang="zh-CN" sz="2000" spc="-1" strike="noStrike">
                <a:solidFill>
                  <a:srgbClr val="b34c0d"/>
                </a:solidFill>
                <a:latin typeface="楷体_GB2312"/>
                <a:ea typeface="楷体_GB2312"/>
              </a:rPr>
              <a:t>（哭着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：小朋友之间不是不可以送东西，但是，要看什么样的东西。这样贵重的东西不像一块点心一盒糖，怎么能自作主张呢？</a:t>
            </a:r>
            <a:r>
              <a:rPr b="1" lang="zh-CN" sz="2000" spc="-1" strike="noStrike">
                <a:solidFill>
                  <a:srgbClr val="b34c0d"/>
                </a:solidFill>
                <a:latin typeface="楷体_GB2312"/>
                <a:ea typeface="楷体_GB2312"/>
              </a:rPr>
              <a:t>（声音平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已经给我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：“是的，这是爸爸给你的，可并没有允许你拿去送人啊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讨论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20600"/>
            <a:ext cx="860400" cy="8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204156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羚羊木雕发生了什么事情？请同学们用简要的语言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讨论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120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26920" y="2924280"/>
            <a:ext cx="735516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19280" y="2060640"/>
            <a:ext cx="4360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正方：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羚羊木雕该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反方：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羚羊木雕不该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3716280"/>
            <a:ext cx="394308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组：正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组：反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讨论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4000" y="120600"/>
            <a:ext cx="860400" cy="860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探索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731880" cy="743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19920" y="2924280"/>
            <a:ext cx="24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你是文中的“我”，你会怎么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50920" y="36360"/>
            <a:ext cx="100800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2300400"/>
            <a:ext cx="74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站在父母的角度，应该怎样处理这件事更妥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0440" y="261720"/>
            <a:ext cx="73152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知识探索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36360"/>
            <a:ext cx="100800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0:42:11Z</dcterms:created>
  <dc:creator/>
  <dc:description>www.1kejian.com</dc:description>
  <dc:language>en-US</dc:language>
  <cp:lastModifiedBy>roon</cp:lastModifiedBy>
  <dcterms:modified xsi:type="dcterms:W3CDTF">2012-11-11T10:46:28Z</dcterms:modified>
  <cp:revision>93</cp:revision>
  <dc:subject>www.1kejian.com</dc:subject>
  <dc:title/>
</cp:coreProperties>
</file>