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chimes.wav" ContentType="audio/x-wav"/>
  <Override PartName="/ppt/media/wind.wav" ContentType="audio/x-wav"/>
  <Override PartName="/ppt/media/image16.jpeg" ContentType="image/jpeg"/>
  <Override PartName="/ppt/media/image6.jpeg" ContentType="image/jpeg"/>
  <Override PartName="/ppt/media/image5.jpeg" ContentType="image/jpeg"/>
  <Override PartName="/ppt/media/laser.wav" ContentType="audio/x-wav"/>
  <Override PartName="/ppt/media/image4.jpeg" ContentType="image/jpeg"/>
  <Override PartName="/ppt/media/suction.wav" ContentType="audio/x-wav"/>
  <Override PartName="/ppt/media/image3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click.wav" ContentType="audio/x-wav"/>
  <Override PartName="/ppt/media/image17.jpeg" ContentType="image/jpeg"/>
  <Override PartName="/ppt/media/image15.jpeg" ContentType="image/jpeg"/>
  <Override PartName="/ppt/media/type.wav" ContentType="audio/x-wav"/>
  <Override PartName="/ppt/media/image2.jpeg" ContentType="image/jpeg"/>
  <Override PartName="/ppt/media/push.wav" ContentType="audio/x-wav"/>
  <Override PartName="/ppt/media/image14.jpeg" ContentType="image/jpeg"/>
  <Override PartName="/ppt/media/image13.jpeg" ContentType="image/jpeg"/>
  <Override PartName="/ppt/media/arrow.wav" ContentType="audio/x-wav"/>
  <Override PartName="/ppt/media/cashreg.wav" ContentType="audio/x-wav"/>
  <Override PartName="/ppt/media/image12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<Relationship Id="rId32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1-09-06T10:10:04.635000000" idx="1">
    <p:pos x="4504" y="3235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B7E8-ECB1-410B-9587-7071DEC3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DF3D-9996-4E9B-A982-4222DCFC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F5563-5F59-4DF8-A799-C7C46BD0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BA46D-3440-4592-A950-B5379589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78E23-7C68-44F7-A996-92DB04B8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F52B8-08CB-4583-AE69-8CD57618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72923-EB6E-4F0D-A0C2-DD3C3AD2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0B0AB-3B5F-405C-844B-E07482DC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3564E-1535-45E2-939A-01635618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2FBBD-203D-450E-BC1C-4966B457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2EA32-CA82-4D47-97C1-6708D9EB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62D60-FC34-4470-945B-B220D0D9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1F8-20B4-4AE0-B432-A2B1DA01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ECF71-26F8-41D4-9FE0-4E838CFF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D34A8-9586-419F-855E-4FC25513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56FE3-3A23-45C8-8CB7-68D358C9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3C6E8-055B-4723-9B42-3F3EF906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62420-3941-4DDC-80BD-609728A2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4D62D-B76A-488A-A3D9-F12FA596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F5E8A-59F4-472E-898D-3961AF9F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903B6-2571-43A6-B0AA-0E11A072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8834F-15FD-4069-A12E-09665564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03486-0A85-494A-8567-E9F7697E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C4CE-183D-45CD-83BC-98DF40D0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788F7-A5AA-424D-B7BB-9BF2DC33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90EE6-FC8D-40E4-8536-F6B38FD7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09528-6DE0-445C-BD6E-CF5731F5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8809E-5EDE-41A0-9D71-73088D7D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6B47C-7C78-497E-9011-29CCAF84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C38CF-AE40-471B-91EA-607B19EB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DCED6-686E-41C3-8C10-615C55EF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D1CB2-1E14-4528-BEBD-B1AB3C93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01104-1495-4EDF-B18E-F73DBF88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AA0AD-A74A-49A0-BDE1-9A3CB633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F039-F59C-4EE1-8DE1-2F0EE387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BDFA6-6F69-4919-8856-A711BA0E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6ABCB-706F-4E61-9CFE-EA8AB6A5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8737D-9967-41C0-A067-399901DB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F2F80-DFF2-4CF3-A0D2-C5DAF271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E8DA4-CC7C-4C39-93A4-6FFBA9CB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FF988-E848-41EB-AACB-E9C0644E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34FEB-BCBD-4D49-9CFA-55DF56D5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043FF-9632-43C2-BBE3-7B2C5E34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3331E-1D9E-4511-AB92-7A708E3D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E1DED-0EFC-417F-8472-BC4FBDD9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D45B-D63C-4E1F-AAB3-63A13452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462FE-1956-4C65-B9E1-9426EA87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1702E-180B-404C-AF68-494EB458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95C92-DB27-4090-A779-1EAC3B8F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0CB1F-961A-4F91-A729-148D877E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34D0D-6303-451F-BF9F-AC053CDB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F9B1E-3A97-494C-8AED-D5D30CA2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4E44F-3677-4543-855B-5CF102C8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72C282-C0D4-4653-8E24-9BDF352A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D47C4D-7BEB-42DD-B022-6F8EBD54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768DD8-133C-42C4-9095-FCEF0F0A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0C57-2588-4D01-8540-5DA10F86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F44F10-4B67-419C-A943-EA5BDD37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B1061-A45F-4023-902C-8E03B232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491B68-1D61-42AD-802B-99F550AE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3547CA-FF98-4750-A006-87D33AFF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9BC531-CE4B-4C0C-A216-F8B09D92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CD5336-89F4-418A-BDF3-A7E869CB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77426-4376-43A4-8E03-864BAD4A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C6384A-80CA-41B1-AE0A-F02D042F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F155DB-37C3-4743-96D8-6D93647E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DC2D4C-4735-4307-8020-D3826225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C674-B193-4FB2-9601-27A22A62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C88BD7-A1C4-419A-9385-1250AA1E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16874E-34B8-4247-A0E0-D868AA60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70B6EB-BB32-4E46-B3CC-D0165679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959A30-129F-4026-A160-26C6F182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A20F1B-F072-454D-9DEF-C3A340C5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1B7D72-5DD4-489A-81A3-F4AA3F68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A4FE77-23FD-4653-8FD7-8D12063C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50734B-6877-49E3-9348-4E21FDF4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9815C3-684E-4729-8FDE-10474935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DE3AC6-0774-47F6-89BB-0EA94990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E9B8-2F50-4286-90A1-29011E39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6AB655-C1E9-478E-B3C5-B1019567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D66244-AEF9-4AF2-B78A-9159692E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EB0EE2-A477-462B-92DC-B472E82A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15ED9D-8154-46BC-A6B3-F0EBBBB2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E035E3-0126-45F9-B8BC-6E5055D8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FC45CD-4FC4-425C-857E-A7102CCD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343797-ACB8-47BD-8660-9D6CA107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2C57A-4CAE-41FC-B322-CF867208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28CE34-419D-4295-B158-3337AA8C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7C7046-02F6-417B-AA17-6048C34D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D5A3-C762-4897-B5F6-25998539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EF6E31-3794-4356-B06B-FF0D3565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919C-24FE-4D49-BE4F-0DB2B535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5D7A-60FA-4FE5-8F65-1EFABF8F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BF31-EFAF-49D6-89C7-A55F4219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E5B9-D17A-4F4E-B4B4-22E7B119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C4FB-EE08-4DD5-8D57-BD39B183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3AB1-FC83-4B07-BCA1-BE1B12F0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6682-D43C-4205-9A55-7E81F828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16F91-9667-4903-90EA-54663429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3803E-3766-43F1-8ECD-7A1030CC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7414C-3BC7-46C5-A302-0906D7B0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4CCBA-CA34-4B8A-9EE3-9B07D201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DDB00-D08F-48A7-957E-D1621DA1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D431-AF28-4E90-A191-47BE2CDE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13076-1D4F-489C-9870-5383D198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C5F4E-7BA0-4C32-AC65-DCD6B997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25EE4-744A-4F55-BBFE-21BF50BA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5CA30-9304-4232-8D08-2A1B474C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0B684-7332-48F5-8226-D55BF0AB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08F56-BA76-4644-9B5E-2E26DB44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E8D97-8931-4ED6-9EB8-109883BC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6A5DD-7161-4FA6-8EDE-CFE529A4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8F7E5-FD87-4E9A-A804-8FE16BB7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63186-490D-4052-8CE7-08429B4E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8AE-7DD8-4B1E-BD43-0F3DB9F9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02037-E31A-42B4-B7FD-723E6DC3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AB6AF-0EED-4F4F-88BE-E8135F3C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3B0E9-1B8C-4031-9748-FAAA2A5E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03DA6-5CD3-426F-ABFF-ACF2E688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FC4ED-E45B-4929-B300-7C9177A7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32B04-5E69-4CEE-B2F9-BDA654C7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4ED58-2841-4490-80A0-0F057DD5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4EDF5-131F-4F31-924E-6B42FE4C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E92B4-0DE4-4FDF-AF5E-F7F02FD3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68D31-F6E3-4EF3-946F-5779BC1C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13B-6D43-4E47-993A-5C1493B8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38A83-27FD-453C-8A21-11250782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86FB8-2468-49CC-91CD-A66D5EC5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A6CC6-62F7-4700-A54E-2C5E3AD8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FBAE2-FA39-4C79-927F-34CC51D7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05A96-6E50-441F-ABAF-407623D2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AA7ED-A099-4A67-B71C-D6A65E0D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FEA29-7007-48FF-BE0E-FD46F12C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2957F-9E17-42B2-9141-F7E514FD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96FBE-771C-454A-9060-0E91AE39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5C4F5-8C5E-4DE5-ACB4-0C374382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804-23D1-4F99-BF9C-06222001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B9F13-FF47-41D9-9A74-8B4F25C0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5C498-E289-4A17-AFBD-486F6A37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D27B3-177A-4511-9937-6E0FAFAC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40E36-AA7A-4F4A-9A2E-9F224FF3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753A8-ECE1-4B91-A3F7-D7541662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60A77-A334-4346-8108-A940D22B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4DDB6-EB50-417F-8B42-C9865844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401BA-CCCB-4C75-B3B9-EBFBDE62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98F9E-F7DD-4E79-BF91-001B1E58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F45F0-1717-4100-BA85-FFB406BE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A56-5D43-4A3B-B09B-0ABC6015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95F0D-9986-43A0-95A5-E692F44B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2A552-28B5-4B38-8A4E-20343F18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6ACDC-5057-4B8B-A5FA-43320DA3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B49C09-5E3E-4A5B-AAD9-162015FC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87749B-8A5C-47C3-A654-C9444DE7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7FE5B9-546E-477E-9F62-6DA283E5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2D93AF-5832-4F2C-BE28-B39B312F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2BEE5B-0DEE-459D-B93D-80929294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FBA523-7A25-46A1-9D6B-19E2C19E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8CA6F5-F9EF-4C14-B589-4133F992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058-D621-48D5-BDC9-C2F13691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4A1A71-8F6A-434F-BE46-4B6F1673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8AF2A7-B147-46EA-A125-0B4D22BF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B32EA7-926D-4306-AF14-EF0946E8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D7E15E-14D5-4E07-9967-224C6849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893C52-68EE-4452-8282-B6C19B05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F278B-BFB1-4200-9238-CEBF96F0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11BC8-C103-4C5F-B3A0-F0ECC32E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03606-0396-49F2-AE62-CF8CD384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5178D-9EC6-4553-8EAA-BC14C5A5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37C11-493D-4890-A4B1-C7A64A89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D57A-5364-4EEE-B105-5FDC7EFB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8A690-F8B0-4778-A15A-99CE9422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80230-C43E-40C1-9EB5-B4ED608F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822C9-7B9C-48DB-A362-B3767935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D9548-635B-45CC-BE02-BE1C1015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32581-DE2E-4562-A8CE-F15C8B77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6D36E-DE48-46C9-8925-8C31A4DE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9FDAC-376F-4711-8957-C38D50D5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F1881-11F1-4D8A-A90B-1F6FBEDA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1BD29-C41D-457D-8838-457F6110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6CDAA-07F1-4098-8761-F24256F6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8128-3CD5-48D6-A07B-04401B8EEB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384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530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544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558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572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586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00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614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616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28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29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30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A739-8D4E-4232-8D7B-7AE05176CA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672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686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dt" idx="31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ftr" idx="3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A04A-5499-4659-90EE-439842AA7A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836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dt" idx="3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ftr" idx="3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sldNum" idx="3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03D8-68E2-4571-9757-0E8B790CD4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dt" idx="3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ftr" idx="3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sldNum" idx="3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E3B9-6046-462B-BDA6-25C62E83D3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15CE-3D5B-43D9-9034-4251AA1EE11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7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8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0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0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0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0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0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4AF3-C8E8-4814-82D5-14236FDFA67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05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06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6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0DA1-DA25-4D35-BF5E-CDBEA16C98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4153-D518-4606-A6EF-226B2178A4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0580-2942-48B1-9452-1750AC7B6E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5789-FEAD-4559-8577-D5F25DA1DB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F153-A7D4-476E-8611-E981FE7F5C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8A6C-B58D-4BB0-9ED0-6BF17B735C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06C0-7553-4195-9337-E9541BE22BD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3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3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3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5945-A7D2-424C-BE6A-BAC01DD02B8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5.xml"/><Relationship Id="rId5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304920" y="380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版 四年级 语文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2209680" y="1981080"/>
            <a:ext cx="38862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芦叶船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1523880" y="5105520"/>
            <a:ext cx="5486400" cy="457200"/>
          </a:xfrm>
          <a:prstGeom prst="rect">
            <a:avLst/>
          </a:prstGeom>
        </p:spPr>
        <p:txBody>
          <a:bodyPr wrap="none" fromWordArt="1" lIns="90000" rIns="90000" tIns="46800" bIns="46800" anchor="b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电白县电城镇爵山  吴彩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/>
          </p:nvPr>
        </p:nvSpPr>
        <p:spPr>
          <a:xfrm>
            <a:off x="1143000" y="2514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你喜欢“我”的童年生活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你希望有怎样的童年生活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990720" y="30492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熟读课文，整体感悟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  <p:sndAc>
      <p:stSnd>
        <p:snd r:embed="rId2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/>
          </p:nvPr>
        </p:nvSpPr>
        <p:spPr>
          <a:xfrm>
            <a:off x="620640" y="2436840"/>
            <a:ext cx="8145360" cy="13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cc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那里河道特别多，有横的、竖的，像蜘蛛网一样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295280" y="12193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隶书"/>
              </a:rPr>
              <a:t>理解感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/>
          </p:nvPr>
        </p:nvSpPr>
        <p:spPr>
          <a:xfrm>
            <a:off x="781200" y="2701800"/>
            <a:ext cx="7984800" cy="17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cc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只见这只芦叶船顺着风，顶着浪，越开越远，一会儿就看不见了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990720" y="106668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理解感悟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  <p:sndAc>
      <p:stSnd>
        <p:snd r:embed="rId2" name="cashreg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Comic Sans MS"/>
                <a:ea typeface="隶书"/>
              </a:rPr>
              <a:t>拓展实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课文把怎样做芦叶船、怎样玩芦叶船写得非常生动。你最喜欢玩什么？能用你的笔告诉大家吗？课后同学们写一写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ipe dir="l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ircle/>
    <p:sndAc>
      <p:stSnd>
        <p:snd r:embed="rId2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762120" y="2209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隶书"/>
                <a:ea typeface="隶书"/>
              </a:rPr>
              <a:t>芦苇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0" name="" descr=""/>
          <p:cNvPicPr/>
          <p:nvPr/>
        </p:nvPicPr>
        <p:blipFill>
          <a:blip r:embed="rId2"/>
          <a:stretch/>
        </p:blipFill>
        <p:spPr>
          <a:xfrm>
            <a:off x="2057400" y="838080"/>
            <a:ext cx="685800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3" name="las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2742840" y="4724280"/>
            <a:ext cx="4343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隶书"/>
                <a:ea typeface="隶书"/>
              </a:rPr>
              <a:t>怎么做芦叶船呢</a:t>
            </a:r>
            <a:r>
              <a:rPr b="0" lang="zh-CN" sz="3600" spc="-1" strike="noStrike">
                <a:solidFill>
                  <a:srgbClr val="000099"/>
                </a:solidFill>
                <a:latin typeface="隶书"/>
                <a:ea typeface="隶书"/>
              </a:rPr>
              <a:t>？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7162560" cy="4686480"/>
          </a:xfrm>
          <a:prstGeom prst="rect">
            <a:avLst/>
          </a:prstGeom>
          <a:ln w="0">
            <a:noFill/>
          </a:ln>
        </p:spPr>
      </p:pic>
    </p:spTree>
  </p:cSld>
  <p:transition spd="slow">
    <p:plus/>
    <p:sndAc>
      <p:stSnd>
        <p:snd r:embed="rId3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1261440" y="28947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隶书"/>
              </a:rPr>
              <a:t>芦叶船真好玩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2"/>
          <a:stretch/>
        </p:blipFill>
        <p:spPr>
          <a:xfrm>
            <a:off x="3886200" y="1066680"/>
            <a:ext cx="4743360" cy="4552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/>
          </p:nvPr>
        </p:nvSpPr>
        <p:spPr>
          <a:xfrm>
            <a:off x="301680" y="914040"/>
            <a:ext cx="8540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自读课文，自学生字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自由读，要求读准生字的音，边读边思考：课文讲了一件什么事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学习生字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3733920" y="2361960"/>
            <a:ext cx="5029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喇  港  竖  芦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苇  崇  叭  叠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桅  唾  沫  篷</a:t>
            </a: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u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想一想：课文讲了关于芦叶船的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学们再把自己感兴趣的内容多读几遍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990720" y="30492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熟读课文，整体感悟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/>
          </p:nvPr>
        </p:nvSpPr>
        <p:spPr>
          <a:xfrm>
            <a:off x="838080" y="2514240"/>
            <a:ext cx="746784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同学们说说“我们”放芦叶船时产生过哪些联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什么会产生这些联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219320" y="60948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隶书"/>
              </a:rPr>
              <a:t>熟读课文，整体感悟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2" name="suction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/>
          </p:nvPr>
        </p:nvSpPr>
        <p:spPr>
          <a:xfrm>
            <a:off x="533520" y="2819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讨论：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作者描述的芦叶船的哪些地方给你留下了深刻印象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lu"/>
    <p:sndAc>
      <p:stSnd>
        <p:snd r:embed="rId2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新课标第一网xkb1.com</dc:creator>
  <dc:description>新课标第一网xkb1.com</dc:description>
  <cp:keywords>新课标第一网xkb1.com</cp:keywords>
  <dc:language>en-US</dc:language>
  <cp:lastModifiedBy>新课标第一网</cp:lastModifiedBy>
  <dcterms:modified xsi:type="dcterms:W3CDTF">2011-09-06T02:10:07Z</dcterms:modified>
  <cp:revision>58</cp:revision>
  <dc:subject>新课标第一网xkb1.com</dc:subject>
  <dc:title>新课标第一网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