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D84-F7C8-4FDE-8747-C4EF8AA9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2F7-9E5D-40F0-B58C-2A8160B5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63C-D1EE-4FE0-98AF-0289F1C5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BB6-E5C9-4872-8D60-8C3A66A3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F04-4DA6-4B6F-B844-6BF50EDF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759-3FF4-4D82-8B2A-78C13D31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6E7-E1A1-46E5-851B-8D28DF45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D13-3929-4F18-8E60-5B2D2F39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687-862C-46A7-B395-F9289EAE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DC1-D3BC-41BD-873D-37F3845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C57-A06D-4616-BA68-532ABE7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63F-D7A8-4981-91D1-C359846E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4817-6381-457E-8C8D-1925354D4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5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380880"/>
            <a:ext cx="5029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陆文学自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4192560" y="3352680"/>
            <a:ext cx="10951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陆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8360" y="5029200"/>
            <a:ext cx="41659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广东紫金县尔崧中学高二备课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6094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8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三段译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91440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陆羽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才三岁就成了孤儿，被收养在竟陵大师积公的寺院里。从九岁开始学习写文章，积公给他看佛经及有关脱离世俗束缚的书籍。他回答说：  “我既无兄弟，又无后代。穿僧衣，剃头发，号称为和尚，让儒家之徒听到这种情况，能称为孝吗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我将要接受孔圣人的文章，可以吗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?’’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积公说：“好啊，你想当孝子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!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根本不知道西方佛门的道理，那学问可大呢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!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积公坚持让陆羽学佛教经典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主意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改变，陆羽坚持学儒家经典不动摇。积公由于矫正过去的错爱而变得毫无怜爱之心，用卑贱的工作对他一一进行考验：打扫寺院，清洁僧人的厕所，用脚踩泥用来涂墙壁，背瓦片盖屋顶，放三十头牛。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陵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西湖没有纸可以用来学习写字，陆羽用竹子在牛背上画着写字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8380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有一天，在一位学者处得到张衡的《南都赋》，但不认识赋里的字，只得在放牧的地方模仿小学生，端正坐着展开书卷，嘴巴动动罢了。积公知道了这件事，唯恐陆羽受到佛经以外书籍的影响，离开佛教教义一天比一天远，又把他管束在寺院里，叫他修剪寺院芜杂丛生的草木，并让年龄大的徒弟管束他。有时陆羽心里记着书上的文字，精神恍惚像丢了什么一样，心如死灰，如木头站立，长时间不干活。看管的人以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他懒惰，用鞭子抽打他的背。陆羽因此感叹说：  “唯恐岁月流逝，不理解书。”悲泣不能自禁。看管的人认为他怀恨在心，又用鞭子抽打他的背，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直到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折断鞭子上的刺才停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80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羽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因而厌倦所服的劳役，丢下看管他的头目而离去，卷起衣服投奔戏班，写了三篇《谑谈》。以自身为主要角色，表演木偶“假吏藏珠”之戏。积公追来对他说：  “想你佛道丧失，可惜啊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我们的祖师说过：我的弟子十二个时辰，允许一个时辰学习佛教以外的知识，让他制服异教邪说。因我弟子众多，现在顺从你的愿望，可以抛掉乐工书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8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四段译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唐玄宗天宝年间，楚地人大办宴会于沧浪水边。地方官吏召见陆子，任他为伶人的老师。这时李齐物出任河南府太守，见到陆子，以为不平常，握着他的手，拍着他的背，亲手把自己的诗集授予他。于是汉水、沔水地区的民俗也就不同了。后来陆子背着书来到火门山邹先生的别墅，正值礼部郎中崔国辅出京到竟陵郡任司马，与陆子交游，共三年，赠送白驴、乌犎牛各一头，文槐书套一枚。白驴、乌犎牛，是襄阳太守李憕赠送的；文槐书套，是卢黄门侍郎给的。这些物品都是自己所爱惜的，适合隐士骑坐和收藏，所以特地赠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04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五段译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0666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到唐肃宗至德初年，淮河一带人为避战乱渡过长江，陆子也渡过长江，与吴兴皎然和尚结成为僧俗忘年之交。  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陆子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从小爱好写文章，就多加讽刺或劝渝。见到别人做好事，就好像自己也有做了这样的事。见到别人做不好的事，像自己也做了不好的事而害羞。忠言逆耳，从不回避，因此俗人大多嫉恨他。自从安禄山在中原作乱，他写了《四悲诗》；刘展割据江、淮地区造反，他作了《天之未明赋》，都有感于当时社会现实而心情激动，痛哭流涕。  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陆子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著《君臣契》三卷，  《源解》三十卷，  《江表四姓谱》八卷，  《南北人物志》十卷，  《吴兴历官记》三卷，  《湖州刺史记》一卷，  《茶经》三卷，  《占梦》上中下三卷，一起收藏在粗布袋内。唐肃宗上元二年，先生年方二十九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77320" y="6095880"/>
            <a:ext cx="792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438280" y="1904760"/>
            <a:ext cx="5562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第一段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写作者的概况和为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第二段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写隐居苕溪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第三段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写寄身寺庙的经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第四段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写结交名流的情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第五段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写勤奋著述的成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808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080" y="2133720"/>
            <a:ext cx="1277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陆文学自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2133720"/>
            <a:ext cx="76320" cy="2209680"/>
          </a:xfrm>
          <a:custGeom>
            <a:avLst/>
            <a:gdLst>
              <a:gd name="textAreaLeft" fmla="*/ 48960 w 76320"/>
              <a:gd name="textAreaRight" fmla="*/ 76320 w 763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792000" cy="573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0120" y="2133720"/>
            <a:ext cx="75960" cy="2286000"/>
          </a:xfrm>
          <a:custGeom>
            <a:avLst/>
            <a:gdLst>
              <a:gd name="textAreaLeft" fmla="*/ 0 w 75960"/>
              <a:gd name="textAreaRight" fmla="*/ 27360 w 759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26080" y="1752480"/>
            <a:ext cx="10335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追思经历关心国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文开头说“不知何许人也”或“云字羽，名鸿渐，未知孰是”，有何用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者这所以这样写，是为了表现陆羽扑朔迷离，颇为怪异．客观上具有渲染神秘色彩的作用，可以烘托作者的独特个性，但不应理解为故弄玄虚。作者自幼失去双亲，对自己的家世一无所知，所以说“不知何许人也”，貌似幽默，实为辛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80880"/>
            <a:ext cx="35053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习第一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按传记的一般写法，开头要介绍人物名字、籍贯、身份、性格等基本情况，名和字取自《周易》，谓渐次升高，寄托了作者的抱负和期盼，但“或云”、  “未知”等语，又暗寓命途多舛、前路难测之意。  “貌陋”、  “口吃”，都是缺憾，作者却比之王粲、张载等人，坦然自负，而不动声色。接着从几个侧面，表现作者特立独行的个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9144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第一段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写作者的概况和为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学习第二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段，写隐居苕溪的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第二段写了他的性格特征，可以用哪些词语来概括他的性格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洒脱不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狂人性格：杖击林木，手弄流水，号泣而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独来独往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隐士风范：扁舟往来山寺，独行山里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二段的顺序安排与一般传记不同，从时间上看，这些内容应该放到最后来写，如何理解这种构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429000"/>
          </a:xfrm>
          <a:prstGeom prst="rect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是文学史上第一篇以“自传”为题的传记文，是作者二十九岁时应皎然之约为浙西诗会的诗友而写的，所以它不像一般史传按时间顺序介绍自己的事迹，而侧重表现自己目前的思想性格特点，而这一段和第一段在内容上有着紧密的联系，因此放在一起。以下第三段追述幼年经历，可以看成是对作者性格形成原因的解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6360" y="287280"/>
            <a:ext cx="460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18fa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教   学  导   航</a:t>
            </a:r>
            <a:r>
              <a:rPr b="1" lang="zh-CN" sz="4000" spc="-1" strike="noStrike">
                <a:solidFill>
                  <a:srgbClr val="3818fa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1800" cy="31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2" action="ppaction://hlinksldjump"/>
              </a:rPr>
              <a:t>作者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3" action="ppaction://hlinksldjump"/>
              </a:rPr>
              <a:t>·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4" action="ppaction://hlinksldjump"/>
              </a:rPr>
              <a:t>背景简介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5" action="ppaction://hlinksldjump"/>
              </a:rPr>
              <a:t>预习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6" action="ppaction://hlinksldjump"/>
              </a:rPr>
              <a:t>课文翻译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7" action="ppaction://hlinksldjump"/>
              </a:rPr>
              <a:t>层次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研习课文　　　　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6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8" action="ppaction://hlinksldjump"/>
              </a:rPr>
              <a:t>写作特色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7</a:t>
            </a:r>
            <a:r>
              <a:rPr b="1" lang="zh-CN" sz="3600" spc="-1" strike="noStrike">
                <a:solidFill>
                  <a:srgbClr val="3818fa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9" action="ppaction://hlinksldjump"/>
              </a:rPr>
              <a:t>重难点问题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课外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闭门苦读，结交僧士，说明作者志向高洁，不同流俗。独行山野，诵佛吟诗，流连徘徊，号泣而归，放浪形骸的表现，近似魏晋名士的逍遥世外，而内心隐藏着巨大的痛苦忧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第三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1371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段，写寄身寺庙的经历。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20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完第三段你觉得有哪些细节描写给人印象深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581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动人细节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接受惩罚之痛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学小孩读书之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76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四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5486400" cy="1067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四段，写结交名流的情形。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76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段写了与哪几个人的交往？有什么用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666880"/>
            <a:ext cx="75438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个是太守李齐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个是礼部郎中崔国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给他以器重和赏识的机会，也从侧面烘托了他的少年才俊的风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第五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五段写勤奋著述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一段先写和诗僧皎然的忘年之交，再写自己从小爱好写作的情况，最后罗列了作者的各种作品，  《四悲诗》、  《天之未明赋》皆感时之作，不经意间点明了作者的忧国之心。其他众多著作则反映了作者广泛的兴趣，杰出的才干。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792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作特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个性突出，形象鲜明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陆羽一生历经磨难，  自幼失去父母，寄身寺庙备受折磨，但他从不屈服，在他身上最令人敬佩的就是这种充满自信、敢于挑战的精神，这一点在文中得到了充分的表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善于剪裁，详略得当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出于刻画人物性格的需要，作者对材料的选择非常严格，对自己的苦难身世，仅用“不知何许人也”一带而过，对“以身为伶”的经历，也是放在与积公的恩怨是非中略加点染，战乱之中颠沛流离的过程，更是完全省略。全文紧扣与自己的性格发展密切相关的人和事来写：积公如父，但以苦难磨砺了他；李、崔陌路相逢，却一见如故，提携、帮助了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语言质朴，生动形象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句式短促有力，使文章具有一种冷峻峭拔的风格，与人物的性格和谐相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153280" y="6284880"/>
            <a:ext cx="79236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练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295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命题意图：了解自传与史传的不同，结合陶渊明《五柳先生传》，体会作者关注内在精神，追求充实生命的情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200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参考答案：作者在自传中说“不知何许人也”，  “姓名也未知孰是”，难下定论的名字与陆羽多重互相矛盾的性格互相照应，使人物更具有传奇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9907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第二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命题意图：培养学生的抽象思维能力，通过具体的事例分析人物的奋斗精神和生命的辉煌之间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参考答案：建议以第三段为例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792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4038840" cy="71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写一篇自传，要求能表达出自己求学过程和感受的变化的情况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792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陆羽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陆羽（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733--804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），字鸿渐，一名疾，字季疵，号竟陵子、桑苎翁、东冈子，唐复州竟陵（今湖北天门）人，一生嗜茶，精于茶道，以著世界第一部茶叶专著─《茶经》闻名于世，对中国茶业和世界茶业发展作出了卓越的贡献，被誉为“茶仙”，奉为“茶圣”，祀为“茶神”。他亦工于诗，但传世者不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陆羽一生富有传奇色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他原是个被遗弃的孤儿。唐开元二十三年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73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，陆羽三岁，被竟陵龙盖寺住持僧智积禅师在当地西湖之滨拾得。积公以《易》自筮，为孩子取名，占得《渐》卦，卦辞曰：“鸿渐于陆，其羽可用为仪。”于是按卦词给他定姓为“陆”取名为“羽”，以“鸿渐”为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后来在师父的强迫下学佛经，一无所成，一心向儒，师父惩罚他改正也没用，后逃出佛门，学习演戏，受人常识。对小孩子读书情有独钟，师傅极力想灭之，但无果。后隐居山中，力著《茶经》，足迹踏遍山山水水，为我们留下了宝贵的文化遗产。独来独往。如仙若神。著作很多，但传世甚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《全唐诗》载有陆羽的一首歌，正体现了他的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羡黄金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羡白玉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羡朝入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羡暮登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千羡万羡西江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曾向竟陵城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léi: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种盛酒器具，形状像壶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792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自己朗读课文，给生字生词注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049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预习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819520"/>
            <a:ext cx="8077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自己朗读课文，试翻译全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792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71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陆先生名羽，字鸿渐，不知是哪里人。也有人说他字羽，名鸿渐，不知谁说的对。他有着三国时王粲、晋朝张载那样丑陋的相貌，有汉代司马相如、扬雄那样的口吃病，但为人多才善辩，气量小而性情急躁，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处事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多自己做主。朋友们规劝，就心胸开朗而不疑惑。凡是与别人闲处，心里想往别处去，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往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说一声就离开了。有人怀疑他，说他性情多怒。等到与别人有约，即使相距千里，冰雪满路，虎狼挡道，也不会失期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9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一段译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38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二段译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143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唐肃宗上元初年，在湖州苕溪边建了一座茅屋，闭门读书，不与非同道者相处，而与和尚、隐士整日谈天饮酒。常常驾着一小船往来于山寺之间，随身只带着一条纱巾、一双藤鞋、一件短布衣、一条短裤。往往独自一人走在山野中，朗读佛经，吟咏古诗，用手杖敲打树木，用手拨弄流水，流连徘徊，从早到晚，至天黑，游兴尽了，号啕大哭着回去。所以楚地人相互传说：  “陆先生大概是现代的楚狂接舆吧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j</cp:lastModifiedBy>
  <dcterms:modified xsi:type="dcterms:W3CDTF">2006-03-04T03:50:38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